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5C2-985E-4D41-9B77-B318F749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D4B-BC8E-48C2-BDAA-9850C8EB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D1C-8DA6-4601-A129-0C37E77E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F78-8410-48B2-B5F6-16D9DF00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111-34B0-42DF-BBF8-55D36030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742-821A-4E0F-954A-E7D5BE29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159-44DD-4C0F-944C-9B947F64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14F-2961-4E01-B87D-A93F6973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5E5-91F6-4F6F-88CC-AAC00F3B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FEF-F1D8-4E2E-9995-E103FD11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153-3B9B-479E-8351-96BA342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E1C-9B24-4580-8596-CAD21C3F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E9C9-243E-4F44-BACB-995E407C5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445000"/>
          <a:ext cx="9903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90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8200" y="685800"/>
            <a:ext cx="79880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AGE APPROPRIATE TEACH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1562040"/>
            <a:ext cx="7467120" cy="4439160"/>
            <a:chOff x="990720" y="1562040"/>
            <a:chExt cx="7467120" cy="4439160"/>
          </a:xfrm>
        </p:grpSpPr>
        <p:sp>
          <p:nvSpPr>
            <p:cNvPr id="369" name=""/>
            <p:cNvSpPr/>
            <p:nvPr/>
          </p:nvSpPr>
          <p:spPr>
            <a:xfrm>
              <a:off x="1295280" y="1562040"/>
              <a:ext cx="7162560" cy="44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Toddlers = special body; good and bad touc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Ist grade = good hygiene; washing hands; foundation la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2nd-4th grade = body functions; body parts; sexual molest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with reinforced good &amp; bad touches; my special 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5th-6th grade = facts age; STDs and transmission; where babies come from; 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7th-8th grade = peer pressure; learning about feelings; dialogues of trust; community responsibility &amp; caring; sexual per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9th-10th grade = perception can be more real than fact; attitudes; self-worth and respons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11th-12th grade = dispel misconceptions; pro-activity on unbiblical values; mate values; career choices; risk behavi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990720" y="1563480"/>
              <a:ext cx="203040" cy="162000"/>
              <a:chOff x="990720" y="1563480"/>
              <a:chExt cx="203040" cy="162000"/>
            </a:xfrm>
          </p:grpSpPr>
          <p:sp>
            <p:nvSpPr>
              <p:cNvPr id="371" name=""/>
              <p:cNvSpPr/>
              <p:nvPr/>
            </p:nvSpPr>
            <p:spPr>
              <a:xfrm>
                <a:off x="990720" y="15634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90720" y="15634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990720" y="2085840"/>
              <a:ext cx="203040" cy="162000"/>
              <a:chOff x="990720" y="2085840"/>
              <a:chExt cx="203040" cy="162000"/>
            </a:xfrm>
          </p:grpSpPr>
          <p:sp>
            <p:nvSpPr>
              <p:cNvPr id="374" name=""/>
              <p:cNvSpPr/>
              <p:nvPr/>
            </p:nvSpPr>
            <p:spPr>
              <a:xfrm>
                <a:off x="990720" y="20858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90720" y="20858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990720" y="2590560"/>
              <a:ext cx="203040" cy="162000"/>
              <a:chOff x="990720" y="2590560"/>
              <a:chExt cx="203040" cy="162000"/>
            </a:xfrm>
          </p:grpSpPr>
          <p:sp>
            <p:nvSpPr>
              <p:cNvPr id="377" name=""/>
              <p:cNvSpPr/>
              <p:nvPr/>
            </p:nvSpPr>
            <p:spPr>
              <a:xfrm>
                <a:off x="990720" y="259056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990720" y="259056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990720" y="3323880"/>
              <a:ext cx="203040" cy="162000"/>
              <a:chOff x="990720" y="3323880"/>
              <a:chExt cx="203040" cy="162000"/>
            </a:xfrm>
          </p:grpSpPr>
          <p:sp>
            <p:nvSpPr>
              <p:cNvPr id="380" name=""/>
              <p:cNvSpPr/>
              <p:nvPr/>
            </p:nvSpPr>
            <p:spPr>
              <a:xfrm>
                <a:off x="990720" y="33238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90720" y="33238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990720" y="4066920"/>
              <a:ext cx="203040" cy="162000"/>
              <a:chOff x="990720" y="4066920"/>
              <a:chExt cx="203040" cy="16200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4066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90720" y="4066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990720" y="4829040"/>
              <a:ext cx="203040" cy="162000"/>
              <a:chOff x="990720" y="4829040"/>
              <a:chExt cx="203040" cy="162000"/>
            </a:xfrm>
          </p:grpSpPr>
          <p:sp>
            <p:nvSpPr>
              <p:cNvPr id="386" name=""/>
              <p:cNvSpPr/>
              <p:nvPr/>
            </p:nvSpPr>
            <p:spPr>
              <a:xfrm>
                <a:off x="990720" y="48290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90720" y="48290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990720" y="5533920"/>
              <a:ext cx="203040" cy="162000"/>
              <a:chOff x="990720" y="5533920"/>
              <a:chExt cx="203040" cy="162000"/>
            </a:xfrm>
          </p:grpSpPr>
          <p:sp>
            <p:nvSpPr>
              <p:cNvPr id="389" name=""/>
              <p:cNvSpPr/>
              <p:nvPr/>
            </p:nvSpPr>
            <p:spPr>
              <a:xfrm>
                <a:off x="990720" y="5533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90720" y="5533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50920" y="1052640"/>
            <a:ext cx="5486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YOUTH DESIRE SEXUALITY TEACHING FIRST FROM THEIR PARE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00600" y="1676520"/>
            <a:ext cx="3669840" cy="4268160"/>
            <a:chOff x="4800600" y="1676520"/>
            <a:chExt cx="3669840" cy="4268160"/>
          </a:xfrm>
        </p:grpSpPr>
        <p:sp>
          <p:nvSpPr>
            <p:cNvPr id="393" name=""/>
            <p:cNvSpPr/>
            <p:nvPr/>
          </p:nvSpPr>
          <p:spPr>
            <a:xfrm>
              <a:off x="6761880" y="2149560"/>
              <a:ext cx="1708560" cy="3726720"/>
            </a:xfrm>
            <a:custGeom>
              <a:avLst/>
              <a:gdLst/>
              <a:ahLst/>
              <a:rect l="l" t="t" r="r" b="b"/>
              <a:pathLst>
                <a:path w="3947" h="8718">
                  <a:moveTo>
                    <a:pt x="11" y="5575"/>
                  </a:moveTo>
                  <a:lnTo>
                    <a:pt x="92" y="5702"/>
                  </a:lnTo>
                  <a:lnTo>
                    <a:pt x="138" y="5759"/>
                  </a:lnTo>
                  <a:lnTo>
                    <a:pt x="184" y="5793"/>
                  </a:lnTo>
                  <a:lnTo>
                    <a:pt x="241" y="5839"/>
                  </a:lnTo>
                  <a:lnTo>
                    <a:pt x="287" y="5873"/>
                  </a:lnTo>
                  <a:lnTo>
                    <a:pt x="344" y="5908"/>
                  </a:lnTo>
                  <a:lnTo>
                    <a:pt x="390" y="5943"/>
                  </a:lnTo>
                  <a:lnTo>
                    <a:pt x="436" y="5988"/>
                  </a:lnTo>
                  <a:lnTo>
                    <a:pt x="470" y="6045"/>
                  </a:lnTo>
                  <a:lnTo>
                    <a:pt x="550" y="6103"/>
                  </a:lnTo>
                  <a:lnTo>
                    <a:pt x="642" y="6171"/>
                  </a:lnTo>
                  <a:lnTo>
                    <a:pt x="723" y="6241"/>
                  </a:lnTo>
                  <a:lnTo>
                    <a:pt x="803" y="6310"/>
                  </a:lnTo>
                  <a:lnTo>
                    <a:pt x="883" y="6390"/>
                  </a:lnTo>
                  <a:lnTo>
                    <a:pt x="964" y="6470"/>
                  </a:lnTo>
                  <a:lnTo>
                    <a:pt x="1032" y="6551"/>
                  </a:lnTo>
                  <a:lnTo>
                    <a:pt x="1113" y="6630"/>
                  </a:lnTo>
                  <a:lnTo>
                    <a:pt x="1101" y="7181"/>
                  </a:lnTo>
                  <a:lnTo>
                    <a:pt x="1101" y="7193"/>
                  </a:lnTo>
                  <a:lnTo>
                    <a:pt x="1101" y="7204"/>
                  </a:lnTo>
                  <a:lnTo>
                    <a:pt x="1113" y="7216"/>
                  </a:lnTo>
                  <a:lnTo>
                    <a:pt x="1136" y="7216"/>
                  </a:lnTo>
                  <a:lnTo>
                    <a:pt x="1159" y="7227"/>
                  </a:lnTo>
                  <a:lnTo>
                    <a:pt x="1182" y="7216"/>
                  </a:lnTo>
                  <a:lnTo>
                    <a:pt x="1205" y="7216"/>
                  </a:lnTo>
                  <a:lnTo>
                    <a:pt x="1216" y="7204"/>
                  </a:lnTo>
                  <a:lnTo>
                    <a:pt x="1240" y="7181"/>
                  </a:lnTo>
                  <a:lnTo>
                    <a:pt x="1250" y="7169"/>
                  </a:lnTo>
                  <a:lnTo>
                    <a:pt x="1262" y="7147"/>
                  </a:lnTo>
                  <a:lnTo>
                    <a:pt x="1285" y="7124"/>
                  </a:lnTo>
                  <a:lnTo>
                    <a:pt x="1297" y="7101"/>
                  </a:lnTo>
                  <a:lnTo>
                    <a:pt x="1320" y="7078"/>
                  </a:lnTo>
                  <a:lnTo>
                    <a:pt x="1332" y="7055"/>
                  </a:lnTo>
                  <a:lnTo>
                    <a:pt x="1342" y="7032"/>
                  </a:lnTo>
                  <a:lnTo>
                    <a:pt x="1354" y="7010"/>
                  </a:lnTo>
                  <a:lnTo>
                    <a:pt x="1377" y="6986"/>
                  </a:lnTo>
                  <a:lnTo>
                    <a:pt x="1389" y="6963"/>
                  </a:lnTo>
                  <a:lnTo>
                    <a:pt x="1389" y="6940"/>
                  </a:lnTo>
                  <a:lnTo>
                    <a:pt x="1400" y="6929"/>
                  </a:lnTo>
                  <a:lnTo>
                    <a:pt x="1411" y="6906"/>
                  </a:lnTo>
                  <a:lnTo>
                    <a:pt x="1423" y="6894"/>
                  </a:lnTo>
                  <a:lnTo>
                    <a:pt x="1446" y="6883"/>
                  </a:lnTo>
                  <a:lnTo>
                    <a:pt x="1469" y="6871"/>
                  </a:lnTo>
                  <a:lnTo>
                    <a:pt x="1491" y="6861"/>
                  </a:lnTo>
                  <a:lnTo>
                    <a:pt x="1503" y="6849"/>
                  </a:lnTo>
                  <a:lnTo>
                    <a:pt x="1526" y="6837"/>
                  </a:lnTo>
                  <a:lnTo>
                    <a:pt x="1538" y="6814"/>
                  </a:lnTo>
                  <a:lnTo>
                    <a:pt x="1561" y="6791"/>
                  </a:lnTo>
                  <a:lnTo>
                    <a:pt x="1572" y="6757"/>
                  </a:lnTo>
                  <a:lnTo>
                    <a:pt x="1583" y="6734"/>
                  </a:lnTo>
                  <a:lnTo>
                    <a:pt x="1583" y="6700"/>
                  </a:lnTo>
                  <a:lnTo>
                    <a:pt x="1595" y="6677"/>
                  </a:lnTo>
                  <a:lnTo>
                    <a:pt x="1583" y="6630"/>
                  </a:lnTo>
                  <a:lnTo>
                    <a:pt x="1526" y="6561"/>
                  </a:lnTo>
                  <a:lnTo>
                    <a:pt x="1481" y="6481"/>
                  </a:lnTo>
                  <a:lnTo>
                    <a:pt x="1423" y="6412"/>
                  </a:lnTo>
                  <a:lnTo>
                    <a:pt x="1365" y="6332"/>
                  </a:lnTo>
                  <a:lnTo>
                    <a:pt x="1308" y="6263"/>
                  </a:lnTo>
                  <a:lnTo>
                    <a:pt x="1240" y="6195"/>
                  </a:lnTo>
                  <a:lnTo>
                    <a:pt x="1171" y="6126"/>
                  </a:lnTo>
                  <a:lnTo>
                    <a:pt x="1101" y="6057"/>
                  </a:lnTo>
                  <a:lnTo>
                    <a:pt x="1067" y="5977"/>
                  </a:lnTo>
                  <a:lnTo>
                    <a:pt x="1032" y="5896"/>
                  </a:lnTo>
                  <a:lnTo>
                    <a:pt x="999" y="5816"/>
                  </a:lnTo>
                  <a:lnTo>
                    <a:pt x="952" y="5747"/>
                  </a:lnTo>
                  <a:lnTo>
                    <a:pt x="895" y="5667"/>
                  </a:lnTo>
                  <a:lnTo>
                    <a:pt x="838" y="5610"/>
                  </a:lnTo>
                  <a:lnTo>
                    <a:pt x="769" y="5541"/>
                  </a:lnTo>
                  <a:lnTo>
                    <a:pt x="689" y="5484"/>
                  </a:lnTo>
                  <a:lnTo>
                    <a:pt x="689" y="5472"/>
                  </a:lnTo>
                  <a:lnTo>
                    <a:pt x="677" y="5472"/>
                  </a:lnTo>
                  <a:lnTo>
                    <a:pt x="677" y="5461"/>
                  </a:lnTo>
                  <a:lnTo>
                    <a:pt x="666" y="5461"/>
                  </a:lnTo>
                  <a:lnTo>
                    <a:pt x="666" y="5449"/>
                  </a:lnTo>
                  <a:lnTo>
                    <a:pt x="711" y="5346"/>
                  </a:lnTo>
                  <a:lnTo>
                    <a:pt x="769" y="5265"/>
                  </a:lnTo>
                  <a:lnTo>
                    <a:pt x="850" y="5197"/>
                  </a:lnTo>
                  <a:lnTo>
                    <a:pt x="940" y="5128"/>
                  </a:lnTo>
                  <a:lnTo>
                    <a:pt x="1021" y="5059"/>
                  </a:lnTo>
                  <a:lnTo>
                    <a:pt x="1113" y="4990"/>
                  </a:lnTo>
                  <a:lnTo>
                    <a:pt x="1193" y="4910"/>
                  </a:lnTo>
                  <a:lnTo>
                    <a:pt x="1250" y="4818"/>
                  </a:lnTo>
                  <a:lnTo>
                    <a:pt x="1273" y="4796"/>
                  </a:lnTo>
                  <a:lnTo>
                    <a:pt x="1297" y="4773"/>
                  </a:lnTo>
                  <a:lnTo>
                    <a:pt x="1320" y="4749"/>
                  </a:lnTo>
                  <a:lnTo>
                    <a:pt x="1354" y="4726"/>
                  </a:lnTo>
                  <a:lnTo>
                    <a:pt x="1377" y="4704"/>
                  </a:lnTo>
                  <a:lnTo>
                    <a:pt x="1400" y="4681"/>
                  </a:lnTo>
                  <a:lnTo>
                    <a:pt x="1434" y="4657"/>
                  </a:lnTo>
                  <a:lnTo>
                    <a:pt x="1457" y="4635"/>
                  </a:lnTo>
                  <a:lnTo>
                    <a:pt x="1630" y="5655"/>
                  </a:lnTo>
                  <a:lnTo>
                    <a:pt x="1859" y="5759"/>
                  </a:lnTo>
                  <a:lnTo>
                    <a:pt x="1848" y="5839"/>
                  </a:lnTo>
                  <a:lnTo>
                    <a:pt x="1848" y="5851"/>
                  </a:lnTo>
                  <a:lnTo>
                    <a:pt x="1859" y="5863"/>
                  </a:lnTo>
                  <a:lnTo>
                    <a:pt x="1871" y="5873"/>
                  </a:lnTo>
                  <a:lnTo>
                    <a:pt x="1882" y="5873"/>
                  </a:lnTo>
                  <a:lnTo>
                    <a:pt x="1928" y="6034"/>
                  </a:lnTo>
                  <a:lnTo>
                    <a:pt x="1951" y="6206"/>
                  </a:lnTo>
                  <a:lnTo>
                    <a:pt x="1963" y="6378"/>
                  </a:lnTo>
                  <a:lnTo>
                    <a:pt x="1973" y="6561"/>
                  </a:lnTo>
                  <a:lnTo>
                    <a:pt x="1985" y="6734"/>
                  </a:lnTo>
                  <a:lnTo>
                    <a:pt x="2020" y="6894"/>
                  </a:lnTo>
                  <a:lnTo>
                    <a:pt x="2077" y="7043"/>
                  </a:lnTo>
                  <a:lnTo>
                    <a:pt x="2180" y="7181"/>
                  </a:lnTo>
                  <a:lnTo>
                    <a:pt x="2238" y="7284"/>
                  </a:lnTo>
                  <a:lnTo>
                    <a:pt x="2283" y="7388"/>
                  </a:lnTo>
                  <a:lnTo>
                    <a:pt x="2330" y="7502"/>
                  </a:lnTo>
                  <a:lnTo>
                    <a:pt x="2375" y="7617"/>
                  </a:lnTo>
                  <a:lnTo>
                    <a:pt x="2410" y="7732"/>
                  </a:lnTo>
                  <a:lnTo>
                    <a:pt x="2433" y="7847"/>
                  </a:lnTo>
                  <a:lnTo>
                    <a:pt x="2444" y="7961"/>
                  </a:lnTo>
                  <a:lnTo>
                    <a:pt x="2444" y="8087"/>
                  </a:lnTo>
                  <a:lnTo>
                    <a:pt x="2467" y="8157"/>
                  </a:lnTo>
                  <a:lnTo>
                    <a:pt x="2490" y="8225"/>
                  </a:lnTo>
                  <a:lnTo>
                    <a:pt x="2490" y="8306"/>
                  </a:lnTo>
                  <a:lnTo>
                    <a:pt x="2479" y="8374"/>
                  </a:lnTo>
                  <a:lnTo>
                    <a:pt x="2467" y="8455"/>
                  </a:lnTo>
                  <a:lnTo>
                    <a:pt x="2467" y="8535"/>
                  </a:lnTo>
                  <a:lnTo>
                    <a:pt x="2455" y="8604"/>
                  </a:lnTo>
                  <a:lnTo>
                    <a:pt x="2455" y="8684"/>
                  </a:lnTo>
                  <a:lnTo>
                    <a:pt x="2455" y="8695"/>
                  </a:lnTo>
                  <a:lnTo>
                    <a:pt x="2467" y="8706"/>
                  </a:lnTo>
                  <a:lnTo>
                    <a:pt x="2479" y="8706"/>
                  </a:lnTo>
                  <a:lnTo>
                    <a:pt x="2490" y="8706"/>
                  </a:lnTo>
                  <a:lnTo>
                    <a:pt x="2502" y="8718"/>
                  </a:lnTo>
                  <a:lnTo>
                    <a:pt x="2513" y="8718"/>
                  </a:lnTo>
                  <a:lnTo>
                    <a:pt x="2524" y="8718"/>
                  </a:lnTo>
                  <a:lnTo>
                    <a:pt x="2547" y="8718"/>
                  </a:lnTo>
                  <a:lnTo>
                    <a:pt x="2559" y="8706"/>
                  </a:lnTo>
                  <a:lnTo>
                    <a:pt x="2571" y="8695"/>
                  </a:lnTo>
                  <a:lnTo>
                    <a:pt x="2571" y="8684"/>
                  </a:lnTo>
                  <a:lnTo>
                    <a:pt x="2582" y="8673"/>
                  </a:lnTo>
                  <a:lnTo>
                    <a:pt x="2594" y="8649"/>
                  </a:lnTo>
                  <a:lnTo>
                    <a:pt x="2604" y="8638"/>
                  </a:lnTo>
                  <a:lnTo>
                    <a:pt x="2616" y="8626"/>
                  </a:lnTo>
                  <a:lnTo>
                    <a:pt x="2628" y="8614"/>
                  </a:lnTo>
                  <a:lnTo>
                    <a:pt x="2708" y="8649"/>
                  </a:lnTo>
                  <a:lnTo>
                    <a:pt x="2972" y="8569"/>
                  </a:lnTo>
                  <a:lnTo>
                    <a:pt x="2984" y="8535"/>
                  </a:lnTo>
                  <a:lnTo>
                    <a:pt x="2984" y="8500"/>
                  </a:lnTo>
                  <a:lnTo>
                    <a:pt x="2984" y="8465"/>
                  </a:lnTo>
                  <a:lnTo>
                    <a:pt x="2961" y="8432"/>
                  </a:lnTo>
                  <a:lnTo>
                    <a:pt x="2949" y="8397"/>
                  </a:lnTo>
                  <a:lnTo>
                    <a:pt x="2926" y="8363"/>
                  </a:lnTo>
                  <a:lnTo>
                    <a:pt x="2914" y="8328"/>
                  </a:lnTo>
                  <a:lnTo>
                    <a:pt x="2892" y="8294"/>
                  </a:lnTo>
                  <a:lnTo>
                    <a:pt x="2800" y="8133"/>
                  </a:lnTo>
                  <a:lnTo>
                    <a:pt x="2731" y="7961"/>
                  </a:lnTo>
                  <a:lnTo>
                    <a:pt x="2685" y="7777"/>
                  </a:lnTo>
                  <a:lnTo>
                    <a:pt x="2651" y="7583"/>
                  </a:lnTo>
                  <a:lnTo>
                    <a:pt x="2628" y="7388"/>
                  </a:lnTo>
                  <a:lnTo>
                    <a:pt x="2604" y="7193"/>
                  </a:lnTo>
                  <a:lnTo>
                    <a:pt x="2582" y="7010"/>
                  </a:lnTo>
                  <a:lnTo>
                    <a:pt x="2547" y="6826"/>
                  </a:lnTo>
                  <a:lnTo>
                    <a:pt x="2467" y="6596"/>
                  </a:lnTo>
                  <a:lnTo>
                    <a:pt x="2422" y="6367"/>
                  </a:lnTo>
                  <a:lnTo>
                    <a:pt x="2387" y="6137"/>
                  </a:lnTo>
                  <a:lnTo>
                    <a:pt x="2375" y="5908"/>
                  </a:lnTo>
                  <a:lnTo>
                    <a:pt x="2375" y="5679"/>
                  </a:lnTo>
                  <a:lnTo>
                    <a:pt x="2387" y="5449"/>
                  </a:lnTo>
                  <a:lnTo>
                    <a:pt x="2410" y="5220"/>
                  </a:lnTo>
                  <a:lnTo>
                    <a:pt x="2422" y="4990"/>
                  </a:lnTo>
                  <a:lnTo>
                    <a:pt x="2433" y="4818"/>
                  </a:lnTo>
                  <a:lnTo>
                    <a:pt x="2455" y="4635"/>
                  </a:lnTo>
                  <a:lnTo>
                    <a:pt x="2479" y="4451"/>
                  </a:lnTo>
                  <a:lnTo>
                    <a:pt x="2490" y="4267"/>
                  </a:lnTo>
                  <a:lnTo>
                    <a:pt x="2502" y="4084"/>
                  </a:lnTo>
                  <a:lnTo>
                    <a:pt x="2490" y="3912"/>
                  </a:lnTo>
                  <a:lnTo>
                    <a:pt x="2444" y="3740"/>
                  </a:lnTo>
                  <a:lnTo>
                    <a:pt x="2375" y="3568"/>
                  </a:lnTo>
                  <a:lnTo>
                    <a:pt x="2363" y="3568"/>
                  </a:lnTo>
                  <a:lnTo>
                    <a:pt x="2353" y="3568"/>
                  </a:lnTo>
                  <a:lnTo>
                    <a:pt x="2341" y="3568"/>
                  </a:lnTo>
                  <a:lnTo>
                    <a:pt x="2330" y="3557"/>
                  </a:lnTo>
                  <a:lnTo>
                    <a:pt x="2330" y="3545"/>
                  </a:lnTo>
                  <a:lnTo>
                    <a:pt x="2318" y="3534"/>
                  </a:lnTo>
                  <a:lnTo>
                    <a:pt x="2363" y="3419"/>
                  </a:lnTo>
                  <a:lnTo>
                    <a:pt x="2410" y="3304"/>
                  </a:lnTo>
                  <a:lnTo>
                    <a:pt x="2467" y="3201"/>
                  </a:lnTo>
                  <a:lnTo>
                    <a:pt x="2536" y="3098"/>
                  </a:lnTo>
                  <a:lnTo>
                    <a:pt x="2604" y="3006"/>
                  </a:lnTo>
                  <a:lnTo>
                    <a:pt x="2685" y="2914"/>
                  </a:lnTo>
                  <a:lnTo>
                    <a:pt x="2765" y="2822"/>
                  </a:lnTo>
                  <a:lnTo>
                    <a:pt x="2869" y="2731"/>
                  </a:lnTo>
                  <a:lnTo>
                    <a:pt x="2880" y="2742"/>
                  </a:lnTo>
                  <a:lnTo>
                    <a:pt x="2892" y="2742"/>
                  </a:lnTo>
                  <a:lnTo>
                    <a:pt x="2892" y="2753"/>
                  </a:lnTo>
                  <a:lnTo>
                    <a:pt x="2892" y="2765"/>
                  </a:lnTo>
                  <a:lnTo>
                    <a:pt x="2904" y="2777"/>
                  </a:lnTo>
                  <a:lnTo>
                    <a:pt x="2892" y="2857"/>
                  </a:lnTo>
                  <a:lnTo>
                    <a:pt x="2892" y="2937"/>
                  </a:lnTo>
                  <a:lnTo>
                    <a:pt x="2914" y="3018"/>
                  </a:lnTo>
                  <a:lnTo>
                    <a:pt x="2926" y="3086"/>
                  </a:lnTo>
                  <a:lnTo>
                    <a:pt x="2949" y="3167"/>
                  </a:lnTo>
                  <a:lnTo>
                    <a:pt x="2972" y="3247"/>
                  </a:lnTo>
                  <a:lnTo>
                    <a:pt x="2995" y="3316"/>
                  </a:lnTo>
                  <a:lnTo>
                    <a:pt x="3018" y="3396"/>
                  </a:lnTo>
                  <a:lnTo>
                    <a:pt x="3041" y="3430"/>
                  </a:lnTo>
                  <a:lnTo>
                    <a:pt x="3053" y="3453"/>
                  </a:lnTo>
                  <a:lnTo>
                    <a:pt x="3064" y="3488"/>
                  </a:lnTo>
                  <a:lnTo>
                    <a:pt x="3075" y="3522"/>
                  </a:lnTo>
                  <a:lnTo>
                    <a:pt x="3098" y="3557"/>
                  </a:lnTo>
                  <a:lnTo>
                    <a:pt x="3110" y="3591"/>
                  </a:lnTo>
                  <a:lnTo>
                    <a:pt x="3133" y="3614"/>
                  </a:lnTo>
                  <a:lnTo>
                    <a:pt x="3155" y="3637"/>
                  </a:lnTo>
                  <a:lnTo>
                    <a:pt x="3259" y="3568"/>
                  </a:lnTo>
                  <a:lnTo>
                    <a:pt x="3833" y="2433"/>
                  </a:lnTo>
                  <a:lnTo>
                    <a:pt x="3856" y="2353"/>
                  </a:lnTo>
                  <a:lnTo>
                    <a:pt x="3878" y="2261"/>
                  </a:lnTo>
                  <a:lnTo>
                    <a:pt x="3902" y="2169"/>
                  </a:lnTo>
                  <a:lnTo>
                    <a:pt x="3925" y="2088"/>
                  </a:lnTo>
                  <a:lnTo>
                    <a:pt x="3936" y="1996"/>
                  </a:lnTo>
                  <a:lnTo>
                    <a:pt x="3947" y="1916"/>
                  </a:lnTo>
                  <a:lnTo>
                    <a:pt x="3936" y="1836"/>
                  </a:lnTo>
                  <a:lnTo>
                    <a:pt x="3913" y="1755"/>
                  </a:lnTo>
                  <a:lnTo>
                    <a:pt x="3902" y="1755"/>
                  </a:lnTo>
                  <a:lnTo>
                    <a:pt x="3890" y="1755"/>
                  </a:lnTo>
                  <a:lnTo>
                    <a:pt x="3878" y="1755"/>
                  </a:lnTo>
                  <a:lnTo>
                    <a:pt x="3867" y="1755"/>
                  </a:lnTo>
                  <a:lnTo>
                    <a:pt x="3844" y="1767"/>
                  </a:lnTo>
                  <a:lnTo>
                    <a:pt x="3821" y="1790"/>
                  </a:lnTo>
                  <a:lnTo>
                    <a:pt x="3798" y="1814"/>
                  </a:lnTo>
                  <a:lnTo>
                    <a:pt x="3786" y="1836"/>
                  </a:lnTo>
                  <a:lnTo>
                    <a:pt x="3776" y="1871"/>
                  </a:lnTo>
                  <a:lnTo>
                    <a:pt x="3764" y="1894"/>
                  </a:lnTo>
                  <a:lnTo>
                    <a:pt x="3752" y="1928"/>
                  </a:lnTo>
                  <a:lnTo>
                    <a:pt x="3741" y="1963"/>
                  </a:lnTo>
                  <a:lnTo>
                    <a:pt x="3729" y="1963"/>
                  </a:lnTo>
                  <a:lnTo>
                    <a:pt x="3718" y="1963"/>
                  </a:lnTo>
                  <a:lnTo>
                    <a:pt x="3684" y="1882"/>
                  </a:lnTo>
                  <a:lnTo>
                    <a:pt x="3672" y="1871"/>
                  </a:lnTo>
                  <a:lnTo>
                    <a:pt x="3661" y="1871"/>
                  </a:lnTo>
                  <a:lnTo>
                    <a:pt x="3649" y="1871"/>
                  </a:lnTo>
                  <a:lnTo>
                    <a:pt x="3637" y="1871"/>
                  </a:lnTo>
                  <a:lnTo>
                    <a:pt x="3627" y="1871"/>
                  </a:lnTo>
                  <a:lnTo>
                    <a:pt x="3603" y="2008"/>
                  </a:lnTo>
                  <a:lnTo>
                    <a:pt x="3592" y="2146"/>
                  </a:lnTo>
                  <a:lnTo>
                    <a:pt x="3569" y="2283"/>
                  </a:lnTo>
                  <a:lnTo>
                    <a:pt x="3535" y="2410"/>
                  </a:lnTo>
                  <a:lnTo>
                    <a:pt x="3500" y="2536"/>
                  </a:lnTo>
                  <a:lnTo>
                    <a:pt x="3454" y="2651"/>
                  </a:lnTo>
                  <a:lnTo>
                    <a:pt x="3386" y="2765"/>
                  </a:lnTo>
                  <a:lnTo>
                    <a:pt x="3305" y="2857"/>
                  </a:lnTo>
                  <a:lnTo>
                    <a:pt x="3294" y="2857"/>
                  </a:lnTo>
                  <a:lnTo>
                    <a:pt x="3282" y="2857"/>
                  </a:lnTo>
                  <a:lnTo>
                    <a:pt x="3259" y="2696"/>
                  </a:lnTo>
                  <a:lnTo>
                    <a:pt x="3259" y="2524"/>
                  </a:lnTo>
                  <a:lnTo>
                    <a:pt x="3270" y="2353"/>
                  </a:lnTo>
                  <a:lnTo>
                    <a:pt x="3282" y="2180"/>
                  </a:lnTo>
                  <a:lnTo>
                    <a:pt x="3270" y="2020"/>
                  </a:lnTo>
                  <a:lnTo>
                    <a:pt x="3225" y="1871"/>
                  </a:lnTo>
                  <a:lnTo>
                    <a:pt x="3133" y="1733"/>
                  </a:lnTo>
                  <a:lnTo>
                    <a:pt x="2995" y="1618"/>
                  </a:lnTo>
                  <a:lnTo>
                    <a:pt x="2995" y="1606"/>
                  </a:lnTo>
                  <a:lnTo>
                    <a:pt x="2984" y="1596"/>
                  </a:lnTo>
                  <a:lnTo>
                    <a:pt x="2984" y="1584"/>
                  </a:lnTo>
                  <a:lnTo>
                    <a:pt x="3213" y="1412"/>
                  </a:lnTo>
                  <a:lnTo>
                    <a:pt x="3408" y="1045"/>
                  </a:lnTo>
                  <a:lnTo>
                    <a:pt x="3408" y="1033"/>
                  </a:lnTo>
                  <a:lnTo>
                    <a:pt x="3408" y="1022"/>
                  </a:lnTo>
                  <a:lnTo>
                    <a:pt x="3408" y="1010"/>
                  </a:lnTo>
                  <a:lnTo>
                    <a:pt x="3396" y="1010"/>
                  </a:lnTo>
                  <a:lnTo>
                    <a:pt x="3396" y="998"/>
                  </a:lnTo>
                  <a:lnTo>
                    <a:pt x="3386" y="987"/>
                  </a:lnTo>
                  <a:lnTo>
                    <a:pt x="3386" y="976"/>
                  </a:lnTo>
                  <a:lnTo>
                    <a:pt x="3396" y="953"/>
                  </a:lnTo>
                  <a:lnTo>
                    <a:pt x="3408" y="941"/>
                  </a:lnTo>
                  <a:lnTo>
                    <a:pt x="3419" y="930"/>
                  </a:lnTo>
                  <a:lnTo>
                    <a:pt x="3431" y="918"/>
                  </a:lnTo>
                  <a:lnTo>
                    <a:pt x="3443" y="908"/>
                  </a:lnTo>
                  <a:lnTo>
                    <a:pt x="3454" y="896"/>
                  </a:lnTo>
                  <a:lnTo>
                    <a:pt x="3466" y="884"/>
                  </a:lnTo>
                  <a:lnTo>
                    <a:pt x="3477" y="849"/>
                  </a:lnTo>
                  <a:lnTo>
                    <a:pt x="3500" y="816"/>
                  </a:lnTo>
                  <a:lnTo>
                    <a:pt x="3523" y="769"/>
                  </a:lnTo>
                  <a:lnTo>
                    <a:pt x="3535" y="735"/>
                  </a:lnTo>
                  <a:lnTo>
                    <a:pt x="3557" y="689"/>
                  </a:lnTo>
                  <a:lnTo>
                    <a:pt x="3569" y="643"/>
                  </a:lnTo>
                  <a:lnTo>
                    <a:pt x="3569" y="598"/>
                  </a:lnTo>
                  <a:lnTo>
                    <a:pt x="3569" y="551"/>
                  </a:lnTo>
                  <a:lnTo>
                    <a:pt x="3557" y="540"/>
                  </a:lnTo>
                  <a:lnTo>
                    <a:pt x="3557" y="528"/>
                  </a:lnTo>
                  <a:lnTo>
                    <a:pt x="3545" y="528"/>
                  </a:lnTo>
                  <a:lnTo>
                    <a:pt x="3545" y="517"/>
                  </a:lnTo>
                  <a:lnTo>
                    <a:pt x="3535" y="517"/>
                  </a:lnTo>
                  <a:lnTo>
                    <a:pt x="3500" y="265"/>
                  </a:lnTo>
                  <a:lnTo>
                    <a:pt x="3362" y="173"/>
                  </a:lnTo>
                  <a:lnTo>
                    <a:pt x="3339" y="59"/>
                  </a:lnTo>
                  <a:lnTo>
                    <a:pt x="3282" y="12"/>
                  </a:lnTo>
                  <a:lnTo>
                    <a:pt x="3259" y="12"/>
                  </a:lnTo>
                  <a:lnTo>
                    <a:pt x="3247" y="12"/>
                  </a:lnTo>
                  <a:lnTo>
                    <a:pt x="3236" y="24"/>
                  </a:lnTo>
                  <a:lnTo>
                    <a:pt x="3225" y="24"/>
                  </a:lnTo>
                  <a:lnTo>
                    <a:pt x="3213" y="35"/>
                  </a:lnTo>
                  <a:lnTo>
                    <a:pt x="3202" y="47"/>
                  </a:lnTo>
                  <a:lnTo>
                    <a:pt x="3190" y="47"/>
                  </a:lnTo>
                  <a:lnTo>
                    <a:pt x="3167" y="47"/>
                  </a:lnTo>
                  <a:lnTo>
                    <a:pt x="3155" y="35"/>
                  </a:lnTo>
                  <a:lnTo>
                    <a:pt x="3155" y="24"/>
                  </a:lnTo>
                  <a:lnTo>
                    <a:pt x="3145" y="24"/>
                  </a:lnTo>
                  <a:lnTo>
                    <a:pt x="3145" y="12"/>
                  </a:lnTo>
                  <a:lnTo>
                    <a:pt x="3133" y="12"/>
                  </a:lnTo>
                  <a:lnTo>
                    <a:pt x="2845" y="0"/>
                  </a:lnTo>
                  <a:lnTo>
                    <a:pt x="2835" y="12"/>
                  </a:lnTo>
                  <a:lnTo>
                    <a:pt x="2823" y="24"/>
                  </a:lnTo>
                  <a:lnTo>
                    <a:pt x="2812" y="47"/>
                  </a:lnTo>
                  <a:lnTo>
                    <a:pt x="2812" y="69"/>
                  </a:lnTo>
                  <a:lnTo>
                    <a:pt x="2800" y="92"/>
                  </a:lnTo>
                  <a:lnTo>
                    <a:pt x="2788" y="104"/>
                  </a:lnTo>
                  <a:lnTo>
                    <a:pt x="2777" y="127"/>
                  </a:lnTo>
                  <a:lnTo>
                    <a:pt x="2765" y="139"/>
                  </a:lnTo>
                  <a:lnTo>
                    <a:pt x="2628" y="139"/>
                  </a:lnTo>
                  <a:lnTo>
                    <a:pt x="2616" y="139"/>
                  </a:lnTo>
                  <a:lnTo>
                    <a:pt x="2604" y="150"/>
                  </a:lnTo>
                  <a:lnTo>
                    <a:pt x="2582" y="161"/>
                  </a:lnTo>
                  <a:lnTo>
                    <a:pt x="2571" y="173"/>
                  </a:lnTo>
                  <a:lnTo>
                    <a:pt x="2559" y="184"/>
                  </a:lnTo>
                  <a:lnTo>
                    <a:pt x="2547" y="208"/>
                  </a:lnTo>
                  <a:lnTo>
                    <a:pt x="2536" y="219"/>
                  </a:lnTo>
                  <a:lnTo>
                    <a:pt x="2536" y="242"/>
                  </a:lnTo>
                  <a:lnTo>
                    <a:pt x="2122" y="517"/>
                  </a:lnTo>
                  <a:lnTo>
                    <a:pt x="1985" y="517"/>
                  </a:lnTo>
                  <a:lnTo>
                    <a:pt x="1973" y="528"/>
                  </a:lnTo>
                  <a:lnTo>
                    <a:pt x="1963" y="551"/>
                  </a:lnTo>
                  <a:lnTo>
                    <a:pt x="1963" y="563"/>
                  </a:lnTo>
                  <a:lnTo>
                    <a:pt x="1973" y="586"/>
                  </a:lnTo>
                  <a:lnTo>
                    <a:pt x="1973" y="608"/>
                  </a:lnTo>
                  <a:lnTo>
                    <a:pt x="1985" y="620"/>
                  </a:lnTo>
                  <a:lnTo>
                    <a:pt x="1985" y="643"/>
                  </a:lnTo>
                  <a:lnTo>
                    <a:pt x="1973" y="666"/>
                  </a:lnTo>
                  <a:lnTo>
                    <a:pt x="1963" y="678"/>
                  </a:lnTo>
                  <a:lnTo>
                    <a:pt x="1939" y="678"/>
                  </a:lnTo>
                  <a:lnTo>
                    <a:pt x="1928" y="689"/>
                  </a:lnTo>
                  <a:lnTo>
                    <a:pt x="1905" y="689"/>
                  </a:lnTo>
                  <a:lnTo>
                    <a:pt x="1882" y="678"/>
                  </a:lnTo>
                  <a:lnTo>
                    <a:pt x="1859" y="678"/>
                  </a:lnTo>
                  <a:lnTo>
                    <a:pt x="1848" y="666"/>
                  </a:lnTo>
                  <a:lnTo>
                    <a:pt x="1836" y="655"/>
                  </a:lnTo>
                  <a:lnTo>
                    <a:pt x="1824" y="643"/>
                  </a:lnTo>
                  <a:lnTo>
                    <a:pt x="1813" y="632"/>
                  </a:lnTo>
                  <a:lnTo>
                    <a:pt x="1813" y="620"/>
                  </a:lnTo>
                  <a:lnTo>
                    <a:pt x="1802" y="608"/>
                  </a:lnTo>
                  <a:lnTo>
                    <a:pt x="1790" y="598"/>
                  </a:lnTo>
                  <a:lnTo>
                    <a:pt x="1779" y="586"/>
                  </a:lnTo>
                  <a:lnTo>
                    <a:pt x="1779" y="575"/>
                  </a:lnTo>
                  <a:lnTo>
                    <a:pt x="1756" y="575"/>
                  </a:lnTo>
                  <a:lnTo>
                    <a:pt x="1744" y="563"/>
                  </a:lnTo>
                  <a:lnTo>
                    <a:pt x="1722" y="563"/>
                  </a:lnTo>
                  <a:lnTo>
                    <a:pt x="1698" y="563"/>
                  </a:lnTo>
                  <a:lnTo>
                    <a:pt x="1675" y="563"/>
                  </a:lnTo>
                  <a:lnTo>
                    <a:pt x="1652" y="575"/>
                  </a:lnTo>
                  <a:lnTo>
                    <a:pt x="1630" y="586"/>
                  </a:lnTo>
                  <a:lnTo>
                    <a:pt x="1618" y="598"/>
                  </a:lnTo>
                  <a:lnTo>
                    <a:pt x="1606" y="608"/>
                  </a:lnTo>
                  <a:lnTo>
                    <a:pt x="1606" y="620"/>
                  </a:lnTo>
                  <a:lnTo>
                    <a:pt x="1618" y="632"/>
                  </a:lnTo>
                  <a:lnTo>
                    <a:pt x="1618" y="643"/>
                  </a:lnTo>
                  <a:lnTo>
                    <a:pt x="1630" y="666"/>
                  </a:lnTo>
                  <a:lnTo>
                    <a:pt x="1630" y="678"/>
                  </a:lnTo>
                  <a:lnTo>
                    <a:pt x="1641" y="689"/>
                  </a:lnTo>
                  <a:lnTo>
                    <a:pt x="1641" y="700"/>
                  </a:lnTo>
                  <a:lnTo>
                    <a:pt x="1641" y="712"/>
                  </a:lnTo>
                  <a:lnTo>
                    <a:pt x="1641" y="724"/>
                  </a:lnTo>
                  <a:lnTo>
                    <a:pt x="1641" y="735"/>
                  </a:lnTo>
                  <a:lnTo>
                    <a:pt x="1641" y="747"/>
                  </a:lnTo>
                  <a:lnTo>
                    <a:pt x="1641" y="757"/>
                  </a:lnTo>
                  <a:lnTo>
                    <a:pt x="1698" y="792"/>
                  </a:lnTo>
                  <a:lnTo>
                    <a:pt x="1744" y="816"/>
                  </a:lnTo>
                  <a:lnTo>
                    <a:pt x="1813" y="827"/>
                  </a:lnTo>
                  <a:lnTo>
                    <a:pt x="1871" y="838"/>
                  </a:lnTo>
                  <a:lnTo>
                    <a:pt x="1928" y="838"/>
                  </a:lnTo>
                  <a:lnTo>
                    <a:pt x="1997" y="838"/>
                  </a:lnTo>
                  <a:lnTo>
                    <a:pt x="2054" y="827"/>
                  </a:lnTo>
                  <a:lnTo>
                    <a:pt x="2122" y="804"/>
                  </a:lnTo>
                  <a:lnTo>
                    <a:pt x="2100" y="838"/>
                  </a:lnTo>
                  <a:lnTo>
                    <a:pt x="2089" y="861"/>
                  </a:lnTo>
                  <a:lnTo>
                    <a:pt x="2054" y="896"/>
                  </a:lnTo>
                  <a:lnTo>
                    <a:pt x="2020" y="908"/>
                  </a:lnTo>
                  <a:lnTo>
                    <a:pt x="1985" y="930"/>
                  </a:lnTo>
                  <a:lnTo>
                    <a:pt x="1951" y="941"/>
                  </a:lnTo>
                  <a:lnTo>
                    <a:pt x="1916" y="965"/>
                  </a:lnTo>
                  <a:lnTo>
                    <a:pt x="1882" y="976"/>
                  </a:lnTo>
                  <a:lnTo>
                    <a:pt x="1457" y="861"/>
                  </a:lnTo>
                  <a:lnTo>
                    <a:pt x="1400" y="792"/>
                  </a:lnTo>
                  <a:lnTo>
                    <a:pt x="1332" y="735"/>
                  </a:lnTo>
                  <a:lnTo>
                    <a:pt x="1262" y="689"/>
                  </a:lnTo>
                  <a:lnTo>
                    <a:pt x="1182" y="643"/>
                  </a:lnTo>
                  <a:lnTo>
                    <a:pt x="1091" y="598"/>
                  </a:lnTo>
                  <a:lnTo>
                    <a:pt x="1021" y="540"/>
                  </a:lnTo>
                  <a:lnTo>
                    <a:pt x="940" y="483"/>
                  </a:lnTo>
                  <a:lnTo>
                    <a:pt x="883" y="414"/>
                  </a:lnTo>
                  <a:lnTo>
                    <a:pt x="872" y="368"/>
                  </a:lnTo>
                  <a:lnTo>
                    <a:pt x="860" y="333"/>
                  </a:lnTo>
                  <a:lnTo>
                    <a:pt x="860" y="288"/>
                  </a:lnTo>
                  <a:lnTo>
                    <a:pt x="850" y="253"/>
                  </a:lnTo>
                  <a:lnTo>
                    <a:pt x="850" y="219"/>
                  </a:lnTo>
                  <a:lnTo>
                    <a:pt x="838" y="173"/>
                  </a:lnTo>
                  <a:lnTo>
                    <a:pt x="826" y="139"/>
                  </a:lnTo>
                  <a:lnTo>
                    <a:pt x="815" y="104"/>
                  </a:lnTo>
                  <a:lnTo>
                    <a:pt x="711" y="35"/>
                  </a:lnTo>
                  <a:lnTo>
                    <a:pt x="390" y="24"/>
                  </a:lnTo>
                  <a:lnTo>
                    <a:pt x="379" y="35"/>
                  </a:lnTo>
                  <a:lnTo>
                    <a:pt x="379" y="47"/>
                  </a:lnTo>
                  <a:lnTo>
                    <a:pt x="367" y="59"/>
                  </a:lnTo>
                  <a:lnTo>
                    <a:pt x="367" y="69"/>
                  </a:lnTo>
                  <a:lnTo>
                    <a:pt x="367" y="81"/>
                  </a:lnTo>
                  <a:lnTo>
                    <a:pt x="367" y="92"/>
                  </a:lnTo>
                  <a:lnTo>
                    <a:pt x="367" y="116"/>
                  </a:lnTo>
                  <a:lnTo>
                    <a:pt x="367" y="127"/>
                  </a:lnTo>
                  <a:lnTo>
                    <a:pt x="333" y="208"/>
                  </a:lnTo>
                  <a:lnTo>
                    <a:pt x="390" y="414"/>
                  </a:lnTo>
                  <a:lnTo>
                    <a:pt x="528" y="494"/>
                  </a:lnTo>
                  <a:lnTo>
                    <a:pt x="642" y="598"/>
                  </a:lnTo>
                  <a:lnTo>
                    <a:pt x="746" y="712"/>
                  </a:lnTo>
                  <a:lnTo>
                    <a:pt x="850" y="838"/>
                  </a:lnTo>
                  <a:lnTo>
                    <a:pt x="952" y="953"/>
                  </a:lnTo>
                  <a:lnTo>
                    <a:pt x="1067" y="1067"/>
                  </a:lnTo>
                  <a:lnTo>
                    <a:pt x="1205" y="1148"/>
                  </a:lnTo>
                  <a:lnTo>
                    <a:pt x="1354" y="1194"/>
                  </a:lnTo>
                  <a:lnTo>
                    <a:pt x="1389" y="1228"/>
                  </a:lnTo>
                  <a:lnTo>
                    <a:pt x="1434" y="1251"/>
                  </a:lnTo>
                  <a:lnTo>
                    <a:pt x="1481" y="1274"/>
                  </a:lnTo>
                  <a:lnTo>
                    <a:pt x="1526" y="1286"/>
                  </a:lnTo>
                  <a:lnTo>
                    <a:pt x="1572" y="1308"/>
                  </a:lnTo>
                  <a:lnTo>
                    <a:pt x="1618" y="1331"/>
                  </a:lnTo>
                  <a:lnTo>
                    <a:pt x="1652" y="1365"/>
                  </a:lnTo>
                  <a:lnTo>
                    <a:pt x="1675" y="1412"/>
                  </a:lnTo>
                  <a:lnTo>
                    <a:pt x="1675" y="1423"/>
                  </a:lnTo>
                  <a:lnTo>
                    <a:pt x="1675" y="1435"/>
                  </a:lnTo>
                  <a:lnTo>
                    <a:pt x="1675" y="1446"/>
                  </a:lnTo>
                  <a:lnTo>
                    <a:pt x="1675" y="1457"/>
                  </a:lnTo>
                  <a:lnTo>
                    <a:pt x="1675" y="1469"/>
                  </a:lnTo>
                  <a:lnTo>
                    <a:pt x="1675" y="1481"/>
                  </a:lnTo>
                  <a:lnTo>
                    <a:pt x="1687" y="1481"/>
                  </a:lnTo>
                  <a:lnTo>
                    <a:pt x="1687" y="1492"/>
                  </a:lnTo>
                  <a:lnTo>
                    <a:pt x="1698" y="1492"/>
                  </a:lnTo>
                  <a:lnTo>
                    <a:pt x="1698" y="1504"/>
                  </a:lnTo>
                  <a:lnTo>
                    <a:pt x="1652" y="1549"/>
                  </a:lnTo>
                  <a:lnTo>
                    <a:pt x="1595" y="1596"/>
                  </a:lnTo>
                  <a:lnTo>
                    <a:pt x="1538" y="1653"/>
                  </a:lnTo>
                  <a:lnTo>
                    <a:pt x="1491" y="1710"/>
                  </a:lnTo>
                  <a:lnTo>
                    <a:pt x="1434" y="1767"/>
                  </a:lnTo>
                  <a:lnTo>
                    <a:pt x="1389" y="1836"/>
                  </a:lnTo>
                  <a:lnTo>
                    <a:pt x="1354" y="1904"/>
                  </a:lnTo>
                  <a:lnTo>
                    <a:pt x="1320" y="1974"/>
                  </a:lnTo>
                  <a:lnTo>
                    <a:pt x="1332" y="2008"/>
                  </a:lnTo>
                  <a:lnTo>
                    <a:pt x="1332" y="2031"/>
                  </a:lnTo>
                  <a:lnTo>
                    <a:pt x="1342" y="2055"/>
                  </a:lnTo>
                  <a:lnTo>
                    <a:pt x="1354" y="2077"/>
                  </a:lnTo>
                  <a:lnTo>
                    <a:pt x="1365" y="2100"/>
                  </a:lnTo>
                  <a:lnTo>
                    <a:pt x="1377" y="2123"/>
                  </a:lnTo>
                  <a:lnTo>
                    <a:pt x="1389" y="2146"/>
                  </a:lnTo>
                  <a:lnTo>
                    <a:pt x="1400" y="2169"/>
                  </a:lnTo>
                  <a:lnTo>
                    <a:pt x="1411" y="2169"/>
                  </a:lnTo>
                  <a:lnTo>
                    <a:pt x="1423" y="2180"/>
                  </a:lnTo>
                  <a:lnTo>
                    <a:pt x="1446" y="2180"/>
                  </a:lnTo>
                  <a:lnTo>
                    <a:pt x="1457" y="2192"/>
                  </a:lnTo>
                  <a:lnTo>
                    <a:pt x="1469" y="2204"/>
                  </a:lnTo>
                  <a:lnTo>
                    <a:pt x="1481" y="2214"/>
                  </a:lnTo>
                  <a:lnTo>
                    <a:pt x="1481" y="2226"/>
                  </a:lnTo>
                  <a:lnTo>
                    <a:pt x="1491" y="2249"/>
                  </a:lnTo>
                  <a:lnTo>
                    <a:pt x="1446" y="2375"/>
                  </a:lnTo>
                  <a:lnTo>
                    <a:pt x="1411" y="2502"/>
                  </a:lnTo>
                  <a:lnTo>
                    <a:pt x="1389" y="2628"/>
                  </a:lnTo>
                  <a:lnTo>
                    <a:pt x="1377" y="2753"/>
                  </a:lnTo>
                  <a:lnTo>
                    <a:pt x="1354" y="2892"/>
                  </a:lnTo>
                  <a:lnTo>
                    <a:pt x="1342" y="3018"/>
                  </a:lnTo>
                  <a:lnTo>
                    <a:pt x="1320" y="3155"/>
                  </a:lnTo>
                  <a:lnTo>
                    <a:pt x="1285" y="3281"/>
                  </a:lnTo>
                  <a:lnTo>
                    <a:pt x="1205" y="3361"/>
                  </a:lnTo>
                  <a:lnTo>
                    <a:pt x="1136" y="3453"/>
                  </a:lnTo>
                  <a:lnTo>
                    <a:pt x="1067" y="3534"/>
                  </a:lnTo>
                  <a:lnTo>
                    <a:pt x="999" y="3626"/>
                  </a:lnTo>
                  <a:lnTo>
                    <a:pt x="940" y="3718"/>
                  </a:lnTo>
                  <a:lnTo>
                    <a:pt x="883" y="3820"/>
                  </a:lnTo>
                  <a:lnTo>
                    <a:pt x="815" y="3912"/>
                  </a:lnTo>
                  <a:lnTo>
                    <a:pt x="758" y="4004"/>
                  </a:lnTo>
                  <a:lnTo>
                    <a:pt x="699" y="4118"/>
                  </a:lnTo>
                  <a:lnTo>
                    <a:pt x="631" y="4233"/>
                  </a:lnTo>
                  <a:lnTo>
                    <a:pt x="574" y="4337"/>
                  </a:lnTo>
                  <a:lnTo>
                    <a:pt x="505" y="4440"/>
                  </a:lnTo>
                  <a:lnTo>
                    <a:pt x="448" y="4543"/>
                  </a:lnTo>
                  <a:lnTo>
                    <a:pt x="390" y="4647"/>
                  </a:lnTo>
                  <a:lnTo>
                    <a:pt x="333" y="4761"/>
                  </a:lnTo>
                  <a:lnTo>
                    <a:pt x="276" y="4875"/>
                  </a:lnTo>
                  <a:lnTo>
                    <a:pt x="299" y="4945"/>
                  </a:lnTo>
                  <a:lnTo>
                    <a:pt x="0" y="5553"/>
                  </a:lnTo>
                  <a:lnTo>
                    <a:pt x="11" y="55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12280" y="4312440"/>
              <a:ext cx="590040" cy="834120"/>
            </a:xfrm>
            <a:custGeom>
              <a:avLst/>
              <a:gdLst/>
              <a:ahLst/>
              <a:rect l="l" t="t" r="r" b="b"/>
              <a:pathLst>
                <a:path w="1366" h="1951">
                  <a:moveTo>
                    <a:pt x="11" y="425"/>
                  </a:moveTo>
                  <a:lnTo>
                    <a:pt x="11" y="471"/>
                  </a:lnTo>
                  <a:lnTo>
                    <a:pt x="11" y="504"/>
                  </a:lnTo>
                  <a:lnTo>
                    <a:pt x="23" y="539"/>
                  </a:lnTo>
                  <a:lnTo>
                    <a:pt x="34" y="563"/>
                  </a:lnTo>
                  <a:lnTo>
                    <a:pt x="45" y="596"/>
                  </a:lnTo>
                  <a:lnTo>
                    <a:pt x="57" y="631"/>
                  </a:lnTo>
                  <a:lnTo>
                    <a:pt x="80" y="653"/>
                  </a:lnTo>
                  <a:lnTo>
                    <a:pt x="103" y="677"/>
                  </a:lnTo>
                  <a:lnTo>
                    <a:pt x="172" y="723"/>
                  </a:lnTo>
                  <a:lnTo>
                    <a:pt x="241" y="769"/>
                  </a:lnTo>
                  <a:lnTo>
                    <a:pt x="298" y="814"/>
                  </a:lnTo>
                  <a:lnTo>
                    <a:pt x="355" y="861"/>
                  </a:lnTo>
                  <a:lnTo>
                    <a:pt x="425" y="918"/>
                  </a:lnTo>
                  <a:lnTo>
                    <a:pt x="482" y="963"/>
                  </a:lnTo>
                  <a:lnTo>
                    <a:pt x="551" y="1010"/>
                  </a:lnTo>
                  <a:lnTo>
                    <a:pt x="619" y="1055"/>
                  </a:lnTo>
                  <a:lnTo>
                    <a:pt x="688" y="1112"/>
                  </a:lnTo>
                  <a:lnTo>
                    <a:pt x="768" y="1170"/>
                  </a:lnTo>
                  <a:lnTo>
                    <a:pt x="849" y="1228"/>
                  </a:lnTo>
                  <a:lnTo>
                    <a:pt x="917" y="1296"/>
                  </a:lnTo>
                  <a:lnTo>
                    <a:pt x="986" y="1365"/>
                  </a:lnTo>
                  <a:lnTo>
                    <a:pt x="1044" y="1434"/>
                  </a:lnTo>
                  <a:lnTo>
                    <a:pt x="1101" y="1514"/>
                  </a:lnTo>
                  <a:lnTo>
                    <a:pt x="1135" y="1606"/>
                  </a:lnTo>
                  <a:lnTo>
                    <a:pt x="1125" y="1606"/>
                  </a:lnTo>
                  <a:lnTo>
                    <a:pt x="1125" y="1618"/>
                  </a:lnTo>
                  <a:lnTo>
                    <a:pt x="1113" y="1618"/>
                  </a:lnTo>
                  <a:lnTo>
                    <a:pt x="1101" y="1629"/>
                  </a:lnTo>
                  <a:lnTo>
                    <a:pt x="1090" y="1629"/>
                  </a:lnTo>
                  <a:lnTo>
                    <a:pt x="1090" y="1951"/>
                  </a:lnTo>
                  <a:lnTo>
                    <a:pt x="1227" y="1686"/>
                  </a:lnTo>
                  <a:lnTo>
                    <a:pt x="1239" y="1663"/>
                  </a:lnTo>
                  <a:lnTo>
                    <a:pt x="1250" y="1641"/>
                  </a:lnTo>
                  <a:lnTo>
                    <a:pt x="1262" y="1629"/>
                  </a:lnTo>
                  <a:lnTo>
                    <a:pt x="1285" y="1618"/>
                  </a:lnTo>
                  <a:lnTo>
                    <a:pt x="1308" y="1594"/>
                  </a:lnTo>
                  <a:lnTo>
                    <a:pt x="1331" y="1583"/>
                  </a:lnTo>
                  <a:lnTo>
                    <a:pt x="1342" y="1560"/>
                  </a:lnTo>
                  <a:lnTo>
                    <a:pt x="1366" y="1537"/>
                  </a:lnTo>
                  <a:lnTo>
                    <a:pt x="1354" y="1526"/>
                  </a:lnTo>
                  <a:lnTo>
                    <a:pt x="1342" y="1514"/>
                  </a:lnTo>
                  <a:lnTo>
                    <a:pt x="1331" y="1514"/>
                  </a:lnTo>
                  <a:lnTo>
                    <a:pt x="1319" y="1502"/>
                  </a:lnTo>
                  <a:lnTo>
                    <a:pt x="1250" y="1549"/>
                  </a:lnTo>
                  <a:lnTo>
                    <a:pt x="1239" y="1549"/>
                  </a:lnTo>
                  <a:lnTo>
                    <a:pt x="1239" y="1537"/>
                  </a:lnTo>
                  <a:lnTo>
                    <a:pt x="1227" y="1537"/>
                  </a:lnTo>
                  <a:lnTo>
                    <a:pt x="1158" y="1411"/>
                  </a:lnTo>
                  <a:lnTo>
                    <a:pt x="1113" y="1377"/>
                  </a:lnTo>
                  <a:lnTo>
                    <a:pt x="1056" y="1331"/>
                  </a:lnTo>
                  <a:lnTo>
                    <a:pt x="1009" y="1285"/>
                  </a:lnTo>
                  <a:lnTo>
                    <a:pt x="964" y="1239"/>
                  </a:lnTo>
                  <a:lnTo>
                    <a:pt x="929" y="1193"/>
                  </a:lnTo>
                  <a:lnTo>
                    <a:pt x="884" y="1136"/>
                  </a:lnTo>
                  <a:lnTo>
                    <a:pt x="849" y="1090"/>
                  </a:lnTo>
                  <a:lnTo>
                    <a:pt x="815" y="1044"/>
                  </a:lnTo>
                  <a:lnTo>
                    <a:pt x="539" y="861"/>
                  </a:lnTo>
                  <a:lnTo>
                    <a:pt x="539" y="849"/>
                  </a:lnTo>
                  <a:lnTo>
                    <a:pt x="539" y="837"/>
                  </a:lnTo>
                  <a:lnTo>
                    <a:pt x="527" y="837"/>
                  </a:lnTo>
                  <a:lnTo>
                    <a:pt x="527" y="826"/>
                  </a:lnTo>
                  <a:lnTo>
                    <a:pt x="527" y="814"/>
                  </a:lnTo>
                  <a:lnTo>
                    <a:pt x="539" y="814"/>
                  </a:lnTo>
                  <a:lnTo>
                    <a:pt x="539" y="804"/>
                  </a:lnTo>
                  <a:lnTo>
                    <a:pt x="551" y="792"/>
                  </a:lnTo>
                  <a:lnTo>
                    <a:pt x="562" y="780"/>
                  </a:lnTo>
                  <a:lnTo>
                    <a:pt x="574" y="780"/>
                  </a:lnTo>
                  <a:lnTo>
                    <a:pt x="584" y="769"/>
                  </a:lnTo>
                  <a:lnTo>
                    <a:pt x="596" y="769"/>
                  </a:lnTo>
                  <a:lnTo>
                    <a:pt x="608" y="769"/>
                  </a:lnTo>
                  <a:lnTo>
                    <a:pt x="619" y="780"/>
                  </a:lnTo>
                  <a:lnTo>
                    <a:pt x="631" y="780"/>
                  </a:lnTo>
                  <a:lnTo>
                    <a:pt x="643" y="792"/>
                  </a:lnTo>
                  <a:lnTo>
                    <a:pt x="654" y="804"/>
                  </a:lnTo>
                  <a:lnTo>
                    <a:pt x="665" y="814"/>
                  </a:lnTo>
                  <a:lnTo>
                    <a:pt x="676" y="826"/>
                  </a:lnTo>
                  <a:lnTo>
                    <a:pt x="688" y="849"/>
                  </a:lnTo>
                  <a:lnTo>
                    <a:pt x="711" y="861"/>
                  </a:lnTo>
                  <a:lnTo>
                    <a:pt x="723" y="872"/>
                  </a:lnTo>
                  <a:lnTo>
                    <a:pt x="745" y="884"/>
                  </a:lnTo>
                  <a:lnTo>
                    <a:pt x="757" y="884"/>
                  </a:lnTo>
                  <a:lnTo>
                    <a:pt x="757" y="872"/>
                  </a:lnTo>
                  <a:lnTo>
                    <a:pt x="757" y="861"/>
                  </a:lnTo>
                  <a:lnTo>
                    <a:pt x="745" y="861"/>
                  </a:lnTo>
                  <a:lnTo>
                    <a:pt x="643" y="700"/>
                  </a:lnTo>
                  <a:lnTo>
                    <a:pt x="608" y="677"/>
                  </a:lnTo>
                  <a:lnTo>
                    <a:pt x="574" y="643"/>
                  </a:lnTo>
                  <a:lnTo>
                    <a:pt x="551" y="608"/>
                  </a:lnTo>
                  <a:lnTo>
                    <a:pt x="516" y="574"/>
                  </a:lnTo>
                  <a:lnTo>
                    <a:pt x="494" y="539"/>
                  </a:lnTo>
                  <a:lnTo>
                    <a:pt x="470" y="504"/>
                  </a:lnTo>
                  <a:lnTo>
                    <a:pt x="459" y="459"/>
                  </a:lnTo>
                  <a:lnTo>
                    <a:pt x="435" y="413"/>
                  </a:lnTo>
                  <a:lnTo>
                    <a:pt x="584" y="184"/>
                  </a:lnTo>
                  <a:lnTo>
                    <a:pt x="584" y="172"/>
                  </a:lnTo>
                  <a:lnTo>
                    <a:pt x="584" y="161"/>
                  </a:lnTo>
                  <a:lnTo>
                    <a:pt x="574" y="161"/>
                  </a:lnTo>
                  <a:lnTo>
                    <a:pt x="275" y="23"/>
                  </a:lnTo>
                  <a:lnTo>
                    <a:pt x="275" y="12"/>
                  </a:lnTo>
                  <a:lnTo>
                    <a:pt x="275" y="0"/>
                  </a:lnTo>
                  <a:lnTo>
                    <a:pt x="264" y="0"/>
                  </a:lnTo>
                  <a:lnTo>
                    <a:pt x="229" y="12"/>
                  </a:lnTo>
                  <a:lnTo>
                    <a:pt x="194" y="35"/>
                  </a:lnTo>
                  <a:lnTo>
                    <a:pt x="172" y="69"/>
                  </a:lnTo>
                  <a:lnTo>
                    <a:pt x="149" y="115"/>
                  </a:lnTo>
                  <a:lnTo>
                    <a:pt x="126" y="149"/>
                  </a:lnTo>
                  <a:lnTo>
                    <a:pt x="103" y="196"/>
                  </a:lnTo>
                  <a:lnTo>
                    <a:pt x="80" y="241"/>
                  </a:lnTo>
                  <a:lnTo>
                    <a:pt x="57" y="275"/>
                  </a:lnTo>
                  <a:lnTo>
                    <a:pt x="57" y="298"/>
                  </a:lnTo>
                  <a:lnTo>
                    <a:pt x="45" y="310"/>
                  </a:lnTo>
                  <a:lnTo>
                    <a:pt x="45" y="333"/>
                  </a:lnTo>
                  <a:lnTo>
                    <a:pt x="34" y="345"/>
                  </a:lnTo>
                  <a:lnTo>
                    <a:pt x="34" y="367"/>
                  </a:lnTo>
                  <a:lnTo>
                    <a:pt x="23" y="379"/>
                  </a:lnTo>
                  <a:lnTo>
                    <a:pt x="11" y="390"/>
                  </a:lnTo>
                  <a:lnTo>
                    <a:pt x="0" y="402"/>
                  </a:lnTo>
                  <a:lnTo>
                    <a:pt x="11" y="425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50880" y="3616560"/>
              <a:ext cx="794520" cy="979560"/>
            </a:xfrm>
            <a:custGeom>
              <a:avLst/>
              <a:gdLst/>
              <a:ahLst/>
              <a:rect l="l" t="t" r="r" b="b"/>
              <a:pathLst>
                <a:path w="1836" h="2294">
                  <a:moveTo>
                    <a:pt x="0" y="1376"/>
                  </a:moveTo>
                  <a:lnTo>
                    <a:pt x="0" y="1515"/>
                  </a:lnTo>
                  <a:lnTo>
                    <a:pt x="12" y="1526"/>
                  </a:lnTo>
                  <a:lnTo>
                    <a:pt x="22" y="1526"/>
                  </a:lnTo>
                  <a:lnTo>
                    <a:pt x="34" y="1537"/>
                  </a:lnTo>
                  <a:lnTo>
                    <a:pt x="46" y="1537"/>
                  </a:lnTo>
                  <a:lnTo>
                    <a:pt x="57" y="1537"/>
                  </a:lnTo>
                  <a:lnTo>
                    <a:pt x="69" y="1537"/>
                  </a:lnTo>
                  <a:lnTo>
                    <a:pt x="81" y="1549"/>
                  </a:lnTo>
                  <a:lnTo>
                    <a:pt x="92" y="1560"/>
                  </a:lnTo>
                  <a:lnTo>
                    <a:pt x="104" y="1572"/>
                  </a:lnTo>
                  <a:lnTo>
                    <a:pt x="104" y="1584"/>
                  </a:lnTo>
                  <a:lnTo>
                    <a:pt x="114" y="1584"/>
                  </a:lnTo>
                  <a:lnTo>
                    <a:pt x="114" y="1595"/>
                  </a:lnTo>
                  <a:lnTo>
                    <a:pt x="149" y="1606"/>
                  </a:lnTo>
                  <a:lnTo>
                    <a:pt x="183" y="1629"/>
                  </a:lnTo>
                  <a:lnTo>
                    <a:pt x="218" y="1652"/>
                  </a:lnTo>
                  <a:lnTo>
                    <a:pt x="263" y="1664"/>
                  </a:lnTo>
                  <a:lnTo>
                    <a:pt x="298" y="1686"/>
                  </a:lnTo>
                  <a:lnTo>
                    <a:pt x="333" y="1698"/>
                  </a:lnTo>
                  <a:lnTo>
                    <a:pt x="367" y="1698"/>
                  </a:lnTo>
                  <a:lnTo>
                    <a:pt x="414" y="1676"/>
                  </a:lnTo>
                  <a:lnTo>
                    <a:pt x="494" y="1617"/>
                  </a:lnTo>
                  <a:lnTo>
                    <a:pt x="585" y="1549"/>
                  </a:lnTo>
                  <a:lnTo>
                    <a:pt x="655" y="1480"/>
                  </a:lnTo>
                  <a:lnTo>
                    <a:pt x="735" y="1400"/>
                  </a:lnTo>
                  <a:lnTo>
                    <a:pt x="804" y="1319"/>
                  </a:lnTo>
                  <a:lnTo>
                    <a:pt x="872" y="1239"/>
                  </a:lnTo>
                  <a:lnTo>
                    <a:pt x="941" y="1159"/>
                  </a:lnTo>
                  <a:lnTo>
                    <a:pt x="1021" y="1090"/>
                  </a:lnTo>
                  <a:lnTo>
                    <a:pt x="998" y="986"/>
                  </a:lnTo>
                  <a:lnTo>
                    <a:pt x="998" y="976"/>
                  </a:lnTo>
                  <a:lnTo>
                    <a:pt x="1010" y="964"/>
                  </a:lnTo>
                  <a:lnTo>
                    <a:pt x="1021" y="964"/>
                  </a:lnTo>
                  <a:lnTo>
                    <a:pt x="1033" y="953"/>
                  </a:lnTo>
                  <a:lnTo>
                    <a:pt x="1045" y="953"/>
                  </a:lnTo>
                  <a:lnTo>
                    <a:pt x="1055" y="964"/>
                  </a:lnTo>
                  <a:lnTo>
                    <a:pt x="1067" y="964"/>
                  </a:lnTo>
                  <a:lnTo>
                    <a:pt x="1079" y="976"/>
                  </a:lnTo>
                  <a:lnTo>
                    <a:pt x="1090" y="986"/>
                  </a:lnTo>
                  <a:lnTo>
                    <a:pt x="1136" y="1067"/>
                  </a:lnTo>
                  <a:lnTo>
                    <a:pt x="1125" y="1159"/>
                  </a:lnTo>
                  <a:lnTo>
                    <a:pt x="1125" y="1251"/>
                  </a:lnTo>
                  <a:lnTo>
                    <a:pt x="1136" y="1343"/>
                  </a:lnTo>
                  <a:lnTo>
                    <a:pt x="1147" y="1435"/>
                  </a:lnTo>
                  <a:lnTo>
                    <a:pt x="1159" y="1526"/>
                  </a:lnTo>
                  <a:lnTo>
                    <a:pt x="1170" y="1617"/>
                  </a:lnTo>
                  <a:lnTo>
                    <a:pt x="1182" y="1709"/>
                  </a:lnTo>
                  <a:lnTo>
                    <a:pt x="1194" y="1801"/>
                  </a:lnTo>
                  <a:lnTo>
                    <a:pt x="1205" y="1859"/>
                  </a:lnTo>
                  <a:lnTo>
                    <a:pt x="1205" y="1916"/>
                  </a:lnTo>
                  <a:lnTo>
                    <a:pt x="1216" y="1974"/>
                  </a:lnTo>
                  <a:lnTo>
                    <a:pt x="1216" y="2031"/>
                  </a:lnTo>
                  <a:lnTo>
                    <a:pt x="1228" y="2076"/>
                  </a:lnTo>
                  <a:lnTo>
                    <a:pt x="1251" y="2123"/>
                  </a:lnTo>
                  <a:lnTo>
                    <a:pt x="1274" y="2168"/>
                  </a:lnTo>
                  <a:lnTo>
                    <a:pt x="1308" y="2203"/>
                  </a:lnTo>
                  <a:lnTo>
                    <a:pt x="1354" y="2214"/>
                  </a:lnTo>
                  <a:lnTo>
                    <a:pt x="1388" y="2225"/>
                  </a:lnTo>
                  <a:lnTo>
                    <a:pt x="1423" y="2237"/>
                  </a:lnTo>
                  <a:lnTo>
                    <a:pt x="1457" y="2249"/>
                  </a:lnTo>
                  <a:lnTo>
                    <a:pt x="1503" y="2249"/>
                  </a:lnTo>
                  <a:lnTo>
                    <a:pt x="1537" y="2249"/>
                  </a:lnTo>
                  <a:lnTo>
                    <a:pt x="1572" y="2237"/>
                  </a:lnTo>
                  <a:lnTo>
                    <a:pt x="1595" y="2225"/>
                  </a:lnTo>
                  <a:lnTo>
                    <a:pt x="1607" y="2225"/>
                  </a:lnTo>
                  <a:lnTo>
                    <a:pt x="1618" y="2237"/>
                  </a:lnTo>
                  <a:lnTo>
                    <a:pt x="1618" y="2249"/>
                  </a:lnTo>
                  <a:lnTo>
                    <a:pt x="1618" y="2260"/>
                  </a:lnTo>
                  <a:lnTo>
                    <a:pt x="1607" y="2272"/>
                  </a:lnTo>
                  <a:lnTo>
                    <a:pt x="1607" y="2282"/>
                  </a:lnTo>
                  <a:lnTo>
                    <a:pt x="1618" y="2282"/>
                  </a:lnTo>
                  <a:lnTo>
                    <a:pt x="1618" y="2294"/>
                  </a:lnTo>
                  <a:lnTo>
                    <a:pt x="1767" y="2237"/>
                  </a:lnTo>
                  <a:lnTo>
                    <a:pt x="1778" y="2225"/>
                  </a:lnTo>
                  <a:lnTo>
                    <a:pt x="1778" y="2214"/>
                  </a:lnTo>
                  <a:lnTo>
                    <a:pt x="1778" y="2203"/>
                  </a:lnTo>
                  <a:lnTo>
                    <a:pt x="1767" y="2192"/>
                  </a:lnTo>
                  <a:lnTo>
                    <a:pt x="1756" y="2180"/>
                  </a:lnTo>
                  <a:lnTo>
                    <a:pt x="1744" y="2168"/>
                  </a:lnTo>
                  <a:lnTo>
                    <a:pt x="1733" y="2157"/>
                  </a:lnTo>
                  <a:lnTo>
                    <a:pt x="1733" y="2145"/>
                  </a:lnTo>
                  <a:lnTo>
                    <a:pt x="1744" y="1262"/>
                  </a:lnTo>
                  <a:lnTo>
                    <a:pt x="1744" y="1251"/>
                  </a:lnTo>
                  <a:lnTo>
                    <a:pt x="1733" y="1251"/>
                  </a:lnTo>
                  <a:lnTo>
                    <a:pt x="1733" y="1239"/>
                  </a:lnTo>
                  <a:lnTo>
                    <a:pt x="1721" y="1239"/>
                  </a:lnTo>
                  <a:lnTo>
                    <a:pt x="1710" y="1227"/>
                  </a:lnTo>
                  <a:lnTo>
                    <a:pt x="1698" y="1227"/>
                  </a:lnTo>
                  <a:lnTo>
                    <a:pt x="1686" y="1217"/>
                  </a:lnTo>
                  <a:lnTo>
                    <a:pt x="1676" y="1227"/>
                  </a:lnTo>
                  <a:lnTo>
                    <a:pt x="1653" y="1227"/>
                  </a:lnTo>
                  <a:lnTo>
                    <a:pt x="1641" y="1239"/>
                  </a:lnTo>
                  <a:lnTo>
                    <a:pt x="1629" y="1239"/>
                  </a:lnTo>
                  <a:lnTo>
                    <a:pt x="1618" y="1251"/>
                  </a:lnTo>
                  <a:lnTo>
                    <a:pt x="1595" y="1251"/>
                  </a:lnTo>
                  <a:lnTo>
                    <a:pt x="1584" y="1262"/>
                  </a:lnTo>
                  <a:lnTo>
                    <a:pt x="1561" y="1251"/>
                  </a:lnTo>
                  <a:lnTo>
                    <a:pt x="1549" y="1251"/>
                  </a:lnTo>
                  <a:lnTo>
                    <a:pt x="1549" y="1239"/>
                  </a:lnTo>
                  <a:lnTo>
                    <a:pt x="1549" y="1227"/>
                  </a:lnTo>
                  <a:lnTo>
                    <a:pt x="1676" y="1078"/>
                  </a:lnTo>
                  <a:lnTo>
                    <a:pt x="1435" y="1170"/>
                  </a:lnTo>
                  <a:lnTo>
                    <a:pt x="1423" y="1170"/>
                  </a:lnTo>
                  <a:lnTo>
                    <a:pt x="1412" y="1170"/>
                  </a:lnTo>
                  <a:lnTo>
                    <a:pt x="1400" y="1159"/>
                  </a:lnTo>
                  <a:lnTo>
                    <a:pt x="1388" y="1159"/>
                  </a:lnTo>
                  <a:lnTo>
                    <a:pt x="1388" y="1147"/>
                  </a:lnTo>
                  <a:lnTo>
                    <a:pt x="1388" y="1136"/>
                  </a:lnTo>
                  <a:lnTo>
                    <a:pt x="1400" y="1113"/>
                  </a:lnTo>
                  <a:lnTo>
                    <a:pt x="1412" y="1090"/>
                  </a:lnTo>
                  <a:lnTo>
                    <a:pt x="1435" y="1067"/>
                  </a:lnTo>
                  <a:lnTo>
                    <a:pt x="1457" y="1044"/>
                  </a:lnTo>
                  <a:lnTo>
                    <a:pt x="1480" y="1021"/>
                  </a:lnTo>
                  <a:lnTo>
                    <a:pt x="1503" y="1010"/>
                  </a:lnTo>
                  <a:lnTo>
                    <a:pt x="1527" y="986"/>
                  </a:lnTo>
                  <a:lnTo>
                    <a:pt x="1549" y="953"/>
                  </a:lnTo>
                  <a:lnTo>
                    <a:pt x="1584" y="941"/>
                  </a:lnTo>
                  <a:lnTo>
                    <a:pt x="1618" y="918"/>
                  </a:lnTo>
                  <a:lnTo>
                    <a:pt x="1664" y="895"/>
                  </a:lnTo>
                  <a:lnTo>
                    <a:pt x="1698" y="872"/>
                  </a:lnTo>
                  <a:lnTo>
                    <a:pt x="1721" y="861"/>
                  </a:lnTo>
                  <a:lnTo>
                    <a:pt x="1756" y="837"/>
                  </a:lnTo>
                  <a:lnTo>
                    <a:pt x="1790" y="803"/>
                  </a:lnTo>
                  <a:lnTo>
                    <a:pt x="1825" y="780"/>
                  </a:lnTo>
                  <a:lnTo>
                    <a:pt x="1836" y="678"/>
                  </a:lnTo>
                  <a:lnTo>
                    <a:pt x="1710" y="345"/>
                  </a:lnTo>
                  <a:lnTo>
                    <a:pt x="1366" y="321"/>
                  </a:lnTo>
                  <a:lnTo>
                    <a:pt x="1251" y="264"/>
                  </a:lnTo>
                  <a:lnTo>
                    <a:pt x="1194" y="253"/>
                  </a:lnTo>
                  <a:lnTo>
                    <a:pt x="1136" y="241"/>
                  </a:lnTo>
                  <a:lnTo>
                    <a:pt x="1090" y="229"/>
                  </a:lnTo>
                  <a:lnTo>
                    <a:pt x="1033" y="207"/>
                  </a:lnTo>
                  <a:lnTo>
                    <a:pt x="987" y="184"/>
                  </a:lnTo>
                  <a:lnTo>
                    <a:pt x="941" y="149"/>
                  </a:lnTo>
                  <a:lnTo>
                    <a:pt x="906" y="115"/>
                  </a:lnTo>
                  <a:lnTo>
                    <a:pt x="872" y="70"/>
                  </a:lnTo>
                  <a:lnTo>
                    <a:pt x="861" y="58"/>
                  </a:lnTo>
                  <a:lnTo>
                    <a:pt x="861" y="46"/>
                  </a:lnTo>
                  <a:lnTo>
                    <a:pt x="861" y="35"/>
                  </a:lnTo>
                  <a:lnTo>
                    <a:pt x="849" y="23"/>
                  </a:lnTo>
                  <a:lnTo>
                    <a:pt x="849" y="12"/>
                  </a:lnTo>
                  <a:lnTo>
                    <a:pt x="849" y="0"/>
                  </a:lnTo>
                  <a:lnTo>
                    <a:pt x="723" y="115"/>
                  </a:lnTo>
                  <a:lnTo>
                    <a:pt x="608" y="253"/>
                  </a:lnTo>
                  <a:lnTo>
                    <a:pt x="504" y="390"/>
                  </a:lnTo>
                  <a:lnTo>
                    <a:pt x="424" y="539"/>
                  </a:lnTo>
                  <a:lnTo>
                    <a:pt x="333" y="688"/>
                  </a:lnTo>
                  <a:lnTo>
                    <a:pt x="253" y="837"/>
                  </a:lnTo>
                  <a:lnTo>
                    <a:pt x="161" y="998"/>
                  </a:lnTo>
                  <a:lnTo>
                    <a:pt x="69" y="1136"/>
                  </a:lnTo>
                  <a:lnTo>
                    <a:pt x="57" y="1170"/>
                  </a:lnTo>
                  <a:lnTo>
                    <a:pt x="46" y="1205"/>
                  </a:lnTo>
                  <a:lnTo>
                    <a:pt x="34" y="1239"/>
                  </a:lnTo>
                  <a:lnTo>
                    <a:pt x="34" y="1262"/>
                  </a:lnTo>
                  <a:lnTo>
                    <a:pt x="22" y="1296"/>
                  </a:lnTo>
                  <a:lnTo>
                    <a:pt x="22" y="1319"/>
                  </a:lnTo>
                  <a:lnTo>
                    <a:pt x="12" y="1354"/>
                  </a:lnTo>
                  <a:lnTo>
                    <a:pt x="0" y="1376"/>
                  </a:lnTo>
                  <a:close/>
                </a:path>
              </a:pathLst>
            </a:custGeom>
            <a:solidFill>
              <a:srgbClr val="dd3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55920" y="2194200"/>
              <a:ext cx="401400" cy="367200"/>
            </a:xfrm>
            <a:custGeom>
              <a:avLst/>
              <a:gdLst/>
              <a:ahLst/>
              <a:rect l="l" t="t" r="r" b="b"/>
              <a:pathLst>
                <a:path w="929" h="861">
                  <a:moveTo>
                    <a:pt x="10" y="23"/>
                  </a:moveTo>
                  <a:lnTo>
                    <a:pt x="69" y="138"/>
                  </a:lnTo>
                  <a:lnTo>
                    <a:pt x="69" y="149"/>
                  </a:lnTo>
                  <a:lnTo>
                    <a:pt x="69" y="161"/>
                  </a:lnTo>
                  <a:lnTo>
                    <a:pt x="57" y="161"/>
                  </a:lnTo>
                  <a:lnTo>
                    <a:pt x="45" y="172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10" y="184"/>
                  </a:lnTo>
                  <a:lnTo>
                    <a:pt x="10" y="196"/>
                  </a:lnTo>
                  <a:lnTo>
                    <a:pt x="0" y="206"/>
                  </a:lnTo>
                  <a:lnTo>
                    <a:pt x="10" y="241"/>
                  </a:lnTo>
                  <a:lnTo>
                    <a:pt x="34" y="264"/>
                  </a:lnTo>
                  <a:lnTo>
                    <a:pt x="57" y="287"/>
                  </a:lnTo>
                  <a:lnTo>
                    <a:pt x="92" y="310"/>
                  </a:lnTo>
                  <a:lnTo>
                    <a:pt x="114" y="321"/>
                  </a:lnTo>
                  <a:lnTo>
                    <a:pt x="149" y="345"/>
                  </a:lnTo>
                  <a:lnTo>
                    <a:pt x="183" y="355"/>
                  </a:lnTo>
                  <a:lnTo>
                    <a:pt x="206" y="379"/>
                  </a:lnTo>
                  <a:lnTo>
                    <a:pt x="551" y="792"/>
                  </a:lnTo>
                  <a:lnTo>
                    <a:pt x="745" y="861"/>
                  </a:lnTo>
                  <a:lnTo>
                    <a:pt x="745" y="849"/>
                  </a:lnTo>
                  <a:lnTo>
                    <a:pt x="745" y="837"/>
                  </a:lnTo>
                  <a:lnTo>
                    <a:pt x="745" y="826"/>
                  </a:lnTo>
                  <a:lnTo>
                    <a:pt x="745" y="814"/>
                  </a:lnTo>
                  <a:lnTo>
                    <a:pt x="757" y="804"/>
                  </a:lnTo>
                  <a:lnTo>
                    <a:pt x="768" y="792"/>
                  </a:lnTo>
                  <a:lnTo>
                    <a:pt x="780" y="792"/>
                  </a:lnTo>
                  <a:lnTo>
                    <a:pt x="792" y="792"/>
                  </a:lnTo>
                  <a:lnTo>
                    <a:pt x="802" y="792"/>
                  </a:lnTo>
                  <a:lnTo>
                    <a:pt x="814" y="792"/>
                  </a:lnTo>
                  <a:lnTo>
                    <a:pt x="825" y="792"/>
                  </a:lnTo>
                  <a:lnTo>
                    <a:pt x="837" y="792"/>
                  </a:lnTo>
                  <a:lnTo>
                    <a:pt x="849" y="804"/>
                  </a:lnTo>
                  <a:lnTo>
                    <a:pt x="860" y="814"/>
                  </a:lnTo>
                  <a:lnTo>
                    <a:pt x="884" y="826"/>
                  </a:lnTo>
                  <a:lnTo>
                    <a:pt x="894" y="826"/>
                  </a:lnTo>
                  <a:lnTo>
                    <a:pt x="906" y="837"/>
                  </a:lnTo>
                  <a:lnTo>
                    <a:pt x="917" y="849"/>
                  </a:lnTo>
                  <a:lnTo>
                    <a:pt x="929" y="861"/>
                  </a:lnTo>
                  <a:lnTo>
                    <a:pt x="917" y="804"/>
                  </a:lnTo>
                  <a:lnTo>
                    <a:pt x="884" y="757"/>
                  </a:lnTo>
                  <a:lnTo>
                    <a:pt x="849" y="712"/>
                  </a:lnTo>
                  <a:lnTo>
                    <a:pt x="802" y="665"/>
                  </a:lnTo>
                  <a:lnTo>
                    <a:pt x="757" y="631"/>
                  </a:lnTo>
                  <a:lnTo>
                    <a:pt x="700" y="596"/>
                  </a:lnTo>
                  <a:lnTo>
                    <a:pt x="653" y="562"/>
                  </a:lnTo>
                  <a:lnTo>
                    <a:pt x="596" y="539"/>
                  </a:lnTo>
                  <a:lnTo>
                    <a:pt x="573" y="528"/>
                  </a:lnTo>
                  <a:lnTo>
                    <a:pt x="551" y="516"/>
                  </a:lnTo>
                  <a:lnTo>
                    <a:pt x="527" y="504"/>
                  </a:lnTo>
                  <a:lnTo>
                    <a:pt x="504" y="504"/>
                  </a:lnTo>
                  <a:lnTo>
                    <a:pt x="482" y="494"/>
                  </a:lnTo>
                  <a:lnTo>
                    <a:pt x="459" y="494"/>
                  </a:lnTo>
                  <a:lnTo>
                    <a:pt x="435" y="482"/>
                  </a:lnTo>
                  <a:lnTo>
                    <a:pt x="412" y="471"/>
                  </a:lnTo>
                  <a:lnTo>
                    <a:pt x="390" y="424"/>
                  </a:lnTo>
                  <a:lnTo>
                    <a:pt x="367" y="367"/>
                  </a:lnTo>
                  <a:lnTo>
                    <a:pt x="355" y="298"/>
                  </a:lnTo>
                  <a:lnTo>
                    <a:pt x="343" y="229"/>
                  </a:lnTo>
                  <a:lnTo>
                    <a:pt x="321" y="172"/>
                  </a:lnTo>
                  <a:lnTo>
                    <a:pt x="298" y="115"/>
                  </a:lnTo>
                  <a:lnTo>
                    <a:pt x="263" y="57"/>
                  </a:lnTo>
                  <a:lnTo>
                    <a:pt x="229" y="23"/>
                  </a:lnTo>
                  <a:lnTo>
                    <a:pt x="1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54080" y="2739600"/>
              <a:ext cx="614160" cy="974160"/>
            </a:xfrm>
            <a:custGeom>
              <a:avLst/>
              <a:gdLst/>
              <a:ahLst/>
              <a:rect l="l" t="t" r="r" b="b"/>
              <a:pathLst>
                <a:path w="1423" h="2282">
                  <a:moveTo>
                    <a:pt x="0" y="2042"/>
                  </a:moveTo>
                  <a:lnTo>
                    <a:pt x="0" y="2065"/>
                  </a:lnTo>
                  <a:lnTo>
                    <a:pt x="12" y="2076"/>
                  </a:lnTo>
                  <a:lnTo>
                    <a:pt x="24" y="2099"/>
                  </a:lnTo>
                  <a:lnTo>
                    <a:pt x="46" y="2111"/>
                  </a:lnTo>
                  <a:lnTo>
                    <a:pt x="58" y="2123"/>
                  </a:lnTo>
                  <a:lnTo>
                    <a:pt x="81" y="2133"/>
                  </a:lnTo>
                  <a:lnTo>
                    <a:pt x="92" y="2157"/>
                  </a:lnTo>
                  <a:lnTo>
                    <a:pt x="104" y="2168"/>
                  </a:lnTo>
                  <a:lnTo>
                    <a:pt x="620" y="2282"/>
                  </a:lnTo>
                  <a:lnTo>
                    <a:pt x="620" y="2272"/>
                  </a:lnTo>
                  <a:lnTo>
                    <a:pt x="608" y="2272"/>
                  </a:lnTo>
                  <a:lnTo>
                    <a:pt x="608" y="2260"/>
                  </a:lnTo>
                  <a:lnTo>
                    <a:pt x="598" y="2260"/>
                  </a:lnTo>
                  <a:lnTo>
                    <a:pt x="598" y="2249"/>
                  </a:lnTo>
                  <a:lnTo>
                    <a:pt x="586" y="2249"/>
                  </a:lnTo>
                  <a:lnTo>
                    <a:pt x="586" y="2237"/>
                  </a:lnTo>
                  <a:lnTo>
                    <a:pt x="586" y="2225"/>
                  </a:lnTo>
                  <a:lnTo>
                    <a:pt x="586" y="2214"/>
                  </a:lnTo>
                  <a:lnTo>
                    <a:pt x="666" y="2053"/>
                  </a:lnTo>
                  <a:lnTo>
                    <a:pt x="655" y="2019"/>
                  </a:lnTo>
                  <a:lnTo>
                    <a:pt x="643" y="1984"/>
                  </a:lnTo>
                  <a:lnTo>
                    <a:pt x="643" y="1950"/>
                  </a:lnTo>
                  <a:lnTo>
                    <a:pt x="643" y="1904"/>
                  </a:lnTo>
                  <a:lnTo>
                    <a:pt x="655" y="1870"/>
                  </a:lnTo>
                  <a:lnTo>
                    <a:pt x="678" y="1824"/>
                  </a:lnTo>
                  <a:lnTo>
                    <a:pt x="689" y="1778"/>
                  </a:lnTo>
                  <a:lnTo>
                    <a:pt x="700" y="1743"/>
                  </a:lnTo>
                  <a:lnTo>
                    <a:pt x="700" y="1733"/>
                  </a:lnTo>
                  <a:lnTo>
                    <a:pt x="689" y="1733"/>
                  </a:lnTo>
                  <a:lnTo>
                    <a:pt x="689" y="1721"/>
                  </a:lnTo>
                  <a:lnTo>
                    <a:pt x="517" y="1594"/>
                  </a:lnTo>
                  <a:lnTo>
                    <a:pt x="506" y="1584"/>
                  </a:lnTo>
                  <a:lnTo>
                    <a:pt x="506" y="1572"/>
                  </a:lnTo>
                  <a:lnTo>
                    <a:pt x="494" y="1572"/>
                  </a:lnTo>
                  <a:lnTo>
                    <a:pt x="494" y="1560"/>
                  </a:lnTo>
                  <a:lnTo>
                    <a:pt x="494" y="1549"/>
                  </a:lnTo>
                  <a:lnTo>
                    <a:pt x="483" y="1537"/>
                  </a:lnTo>
                  <a:lnTo>
                    <a:pt x="483" y="1525"/>
                  </a:lnTo>
                  <a:lnTo>
                    <a:pt x="700" y="1480"/>
                  </a:lnTo>
                  <a:lnTo>
                    <a:pt x="712" y="1480"/>
                  </a:lnTo>
                  <a:lnTo>
                    <a:pt x="724" y="1492"/>
                  </a:lnTo>
                  <a:lnTo>
                    <a:pt x="735" y="1503"/>
                  </a:lnTo>
                  <a:lnTo>
                    <a:pt x="735" y="1515"/>
                  </a:lnTo>
                  <a:lnTo>
                    <a:pt x="735" y="1525"/>
                  </a:lnTo>
                  <a:lnTo>
                    <a:pt x="747" y="1525"/>
                  </a:lnTo>
                  <a:lnTo>
                    <a:pt x="781" y="1549"/>
                  </a:lnTo>
                  <a:lnTo>
                    <a:pt x="815" y="1549"/>
                  </a:lnTo>
                  <a:lnTo>
                    <a:pt x="849" y="1537"/>
                  </a:lnTo>
                  <a:lnTo>
                    <a:pt x="884" y="1537"/>
                  </a:lnTo>
                  <a:lnTo>
                    <a:pt x="930" y="1515"/>
                  </a:lnTo>
                  <a:lnTo>
                    <a:pt x="965" y="1503"/>
                  </a:lnTo>
                  <a:lnTo>
                    <a:pt x="1010" y="1492"/>
                  </a:lnTo>
                  <a:lnTo>
                    <a:pt x="1045" y="1480"/>
                  </a:lnTo>
                  <a:lnTo>
                    <a:pt x="1229" y="1262"/>
                  </a:lnTo>
                  <a:lnTo>
                    <a:pt x="1194" y="1182"/>
                  </a:lnTo>
                  <a:lnTo>
                    <a:pt x="1171" y="1102"/>
                  </a:lnTo>
                  <a:lnTo>
                    <a:pt x="1171" y="1021"/>
                  </a:lnTo>
                  <a:lnTo>
                    <a:pt x="1182" y="929"/>
                  </a:lnTo>
                  <a:lnTo>
                    <a:pt x="1206" y="849"/>
                  </a:lnTo>
                  <a:lnTo>
                    <a:pt x="1239" y="769"/>
                  </a:lnTo>
                  <a:lnTo>
                    <a:pt x="1274" y="688"/>
                  </a:lnTo>
                  <a:lnTo>
                    <a:pt x="1298" y="608"/>
                  </a:lnTo>
                  <a:lnTo>
                    <a:pt x="1423" y="425"/>
                  </a:lnTo>
                  <a:lnTo>
                    <a:pt x="1412" y="425"/>
                  </a:lnTo>
                  <a:lnTo>
                    <a:pt x="1400" y="437"/>
                  </a:lnTo>
                  <a:lnTo>
                    <a:pt x="1378" y="437"/>
                  </a:lnTo>
                  <a:lnTo>
                    <a:pt x="1366" y="447"/>
                  </a:lnTo>
                  <a:lnTo>
                    <a:pt x="1343" y="459"/>
                  </a:lnTo>
                  <a:lnTo>
                    <a:pt x="1331" y="470"/>
                  </a:lnTo>
                  <a:lnTo>
                    <a:pt x="1309" y="459"/>
                  </a:lnTo>
                  <a:lnTo>
                    <a:pt x="1286" y="447"/>
                  </a:lnTo>
                  <a:lnTo>
                    <a:pt x="1194" y="482"/>
                  </a:lnTo>
                  <a:lnTo>
                    <a:pt x="1090" y="527"/>
                  </a:lnTo>
                  <a:lnTo>
                    <a:pt x="988" y="574"/>
                  </a:lnTo>
                  <a:lnTo>
                    <a:pt x="873" y="619"/>
                  </a:lnTo>
                  <a:lnTo>
                    <a:pt x="769" y="654"/>
                  </a:lnTo>
                  <a:lnTo>
                    <a:pt x="666" y="654"/>
                  </a:lnTo>
                  <a:lnTo>
                    <a:pt x="563" y="643"/>
                  </a:lnTo>
                  <a:lnTo>
                    <a:pt x="471" y="586"/>
                  </a:lnTo>
                  <a:lnTo>
                    <a:pt x="448" y="539"/>
                  </a:lnTo>
                  <a:lnTo>
                    <a:pt x="448" y="494"/>
                  </a:lnTo>
                  <a:lnTo>
                    <a:pt x="448" y="447"/>
                  </a:lnTo>
                  <a:lnTo>
                    <a:pt x="459" y="402"/>
                  </a:lnTo>
                  <a:lnTo>
                    <a:pt x="471" y="356"/>
                  </a:lnTo>
                  <a:lnTo>
                    <a:pt x="483" y="298"/>
                  </a:lnTo>
                  <a:lnTo>
                    <a:pt x="506" y="253"/>
                  </a:lnTo>
                  <a:lnTo>
                    <a:pt x="517" y="207"/>
                  </a:lnTo>
                  <a:lnTo>
                    <a:pt x="666" y="0"/>
                  </a:lnTo>
                  <a:lnTo>
                    <a:pt x="586" y="58"/>
                  </a:lnTo>
                  <a:lnTo>
                    <a:pt x="494" y="115"/>
                  </a:lnTo>
                  <a:lnTo>
                    <a:pt x="402" y="184"/>
                  </a:lnTo>
                  <a:lnTo>
                    <a:pt x="310" y="253"/>
                  </a:lnTo>
                  <a:lnTo>
                    <a:pt x="230" y="333"/>
                  </a:lnTo>
                  <a:lnTo>
                    <a:pt x="150" y="413"/>
                  </a:lnTo>
                  <a:lnTo>
                    <a:pt x="92" y="505"/>
                  </a:lnTo>
                  <a:lnTo>
                    <a:pt x="35" y="608"/>
                  </a:lnTo>
                  <a:lnTo>
                    <a:pt x="92" y="735"/>
                  </a:lnTo>
                  <a:lnTo>
                    <a:pt x="116" y="746"/>
                  </a:lnTo>
                  <a:lnTo>
                    <a:pt x="126" y="757"/>
                  </a:lnTo>
                  <a:lnTo>
                    <a:pt x="150" y="780"/>
                  </a:lnTo>
                  <a:lnTo>
                    <a:pt x="161" y="792"/>
                  </a:lnTo>
                  <a:lnTo>
                    <a:pt x="184" y="815"/>
                  </a:lnTo>
                  <a:lnTo>
                    <a:pt x="196" y="837"/>
                  </a:lnTo>
                  <a:lnTo>
                    <a:pt x="218" y="860"/>
                  </a:lnTo>
                  <a:lnTo>
                    <a:pt x="230" y="884"/>
                  </a:lnTo>
                  <a:lnTo>
                    <a:pt x="196" y="952"/>
                  </a:lnTo>
                  <a:lnTo>
                    <a:pt x="161" y="1033"/>
                  </a:lnTo>
                  <a:lnTo>
                    <a:pt x="138" y="1113"/>
                  </a:lnTo>
                  <a:lnTo>
                    <a:pt x="104" y="1193"/>
                  </a:lnTo>
                  <a:lnTo>
                    <a:pt x="92" y="1274"/>
                  </a:lnTo>
                  <a:lnTo>
                    <a:pt x="69" y="1365"/>
                  </a:lnTo>
                  <a:lnTo>
                    <a:pt x="69" y="1445"/>
                  </a:lnTo>
                  <a:lnTo>
                    <a:pt x="58" y="1525"/>
                  </a:lnTo>
                  <a:lnTo>
                    <a:pt x="69" y="1572"/>
                  </a:lnTo>
                  <a:lnTo>
                    <a:pt x="69" y="1606"/>
                  </a:lnTo>
                  <a:lnTo>
                    <a:pt x="69" y="1641"/>
                  </a:lnTo>
                  <a:lnTo>
                    <a:pt x="58" y="1675"/>
                  </a:lnTo>
                  <a:lnTo>
                    <a:pt x="35" y="1709"/>
                  </a:lnTo>
                  <a:lnTo>
                    <a:pt x="24" y="1743"/>
                  </a:lnTo>
                  <a:lnTo>
                    <a:pt x="12" y="1778"/>
                  </a:lnTo>
                  <a:lnTo>
                    <a:pt x="0" y="1801"/>
                  </a:lnTo>
                  <a:lnTo>
                    <a:pt x="0" y="1824"/>
                  </a:lnTo>
                  <a:lnTo>
                    <a:pt x="12" y="1835"/>
                  </a:lnTo>
                  <a:lnTo>
                    <a:pt x="12" y="1847"/>
                  </a:lnTo>
                  <a:lnTo>
                    <a:pt x="24" y="1858"/>
                  </a:lnTo>
                  <a:lnTo>
                    <a:pt x="35" y="1870"/>
                  </a:lnTo>
                  <a:lnTo>
                    <a:pt x="46" y="1882"/>
                  </a:lnTo>
                  <a:lnTo>
                    <a:pt x="58" y="1893"/>
                  </a:lnTo>
                  <a:lnTo>
                    <a:pt x="58" y="1904"/>
                  </a:lnTo>
                  <a:lnTo>
                    <a:pt x="0" y="2019"/>
                  </a:lnTo>
                  <a:lnTo>
                    <a:pt x="0" y="20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92240" y="2556720"/>
              <a:ext cx="308160" cy="162360"/>
            </a:xfrm>
            <a:custGeom>
              <a:avLst/>
              <a:gdLst/>
              <a:ahLst/>
              <a:rect l="l" t="t" r="r" b="b"/>
              <a:pathLst>
                <a:path w="712" h="378">
                  <a:moveTo>
                    <a:pt x="0" y="23"/>
                  </a:moveTo>
                  <a:lnTo>
                    <a:pt x="12" y="34"/>
                  </a:lnTo>
                  <a:lnTo>
                    <a:pt x="12" y="45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12" y="80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12" y="114"/>
                  </a:lnTo>
                  <a:lnTo>
                    <a:pt x="345" y="367"/>
                  </a:lnTo>
                  <a:lnTo>
                    <a:pt x="356" y="367"/>
                  </a:lnTo>
                  <a:lnTo>
                    <a:pt x="356" y="355"/>
                  </a:lnTo>
                  <a:lnTo>
                    <a:pt x="367" y="355"/>
                  </a:lnTo>
                  <a:lnTo>
                    <a:pt x="379" y="344"/>
                  </a:lnTo>
                  <a:lnTo>
                    <a:pt x="391" y="333"/>
                  </a:lnTo>
                  <a:lnTo>
                    <a:pt x="402" y="344"/>
                  </a:lnTo>
                  <a:lnTo>
                    <a:pt x="414" y="344"/>
                  </a:lnTo>
                  <a:lnTo>
                    <a:pt x="425" y="344"/>
                  </a:lnTo>
                  <a:lnTo>
                    <a:pt x="425" y="355"/>
                  </a:lnTo>
                  <a:lnTo>
                    <a:pt x="436" y="355"/>
                  </a:lnTo>
                  <a:lnTo>
                    <a:pt x="448" y="367"/>
                  </a:lnTo>
                  <a:lnTo>
                    <a:pt x="448" y="378"/>
                  </a:lnTo>
                  <a:lnTo>
                    <a:pt x="459" y="378"/>
                  </a:lnTo>
                  <a:lnTo>
                    <a:pt x="712" y="241"/>
                  </a:lnTo>
                  <a:lnTo>
                    <a:pt x="494" y="184"/>
                  </a:lnTo>
                  <a:lnTo>
                    <a:pt x="482" y="184"/>
                  </a:lnTo>
                  <a:lnTo>
                    <a:pt x="471" y="184"/>
                  </a:lnTo>
                  <a:lnTo>
                    <a:pt x="459" y="172"/>
                  </a:lnTo>
                  <a:lnTo>
                    <a:pt x="459" y="161"/>
                  </a:lnTo>
                  <a:lnTo>
                    <a:pt x="448" y="161"/>
                  </a:lnTo>
                  <a:lnTo>
                    <a:pt x="448" y="149"/>
                  </a:lnTo>
                  <a:lnTo>
                    <a:pt x="436" y="149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97720" y="2430360"/>
              <a:ext cx="129600" cy="54360"/>
            </a:xfrm>
            <a:custGeom>
              <a:avLst/>
              <a:gdLst/>
              <a:ahLst/>
              <a:rect l="l" t="t" r="r" b="b"/>
              <a:pathLst>
                <a:path w="299" h="126">
                  <a:moveTo>
                    <a:pt x="0" y="11"/>
                  </a:moveTo>
                  <a:lnTo>
                    <a:pt x="12" y="11"/>
                  </a:lnTo>
                  <a:lnTo>
                    <a:pt x="12" y="23"/>
                  </a:lnTo>
                  <a:lnTo>
                    <a:pt x="12" y="34"/>
                  </a:lnTo>
                  <a:lnTo>
                    <a:pt x="12" y="45"/>
                  </a:lnTo>
                  <a:lnTo>
                    <a:pt x="24" y="57"/>
                  </a:lnTo>
                  <a:lnTo>
                    <a:pt x="24" y="69"/>
                  </a:lnTo>
                  <a:lnTo>
                    <a:pt x="58" y="80"/>
                  </a:lnTo>
                  <a:lnTo>
                    <a:pt x="81" y="102"/>
                  </a:lnTo>
                  <a:lnTo>
                    <a:pt x="115" y="114"/>
                  </a:lnTo>
                  <a:lnTo>
                    <a:pt x="150" y="126"/>
                  </a:lnTo>
                  <a:lnTo>
                    <a:pt x="195" y="126"/>
                  </a:lnTo>
                  <a:lnTo>
                    <a:pt x="230" y="126"/>
                  </a:lnTo>
                  <a:lnTo>
                    <a:pt x="265" y="114"/>
                  </a:lnTo>
                  <a:lnTo>
                    <a:pt x="299" y="102"/>
                  </a:lnTo>
                  <a:lnTo>
                    <a:pt x="253" y="114"/>
                  </a:lnTo>
                  <a:lnTo>
                    <a:pt x="218" y="114"/>
                  </a:lnTo>
                  <a:lnTo>
                    <a:pt x="173" y="114"/>
                  </a:lnTo>
                  <a:lnTo>
                    <a:pt x="138" y="102"/>
                  </a:lnTo>
                  <a:lnTo>
                    <a:pt x="104" y="80"/>
                  </a:lnTo>
                  <a:lnTo>
                    <a:pt x="69" y="57"/>
                  </a:lnTo>
                  <a:lnTo>
                    <a:pt x="34" y="23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7720" y="2640600"/>
              <a:ext cx="401400" cy="328320"/>
            </a:xfrm>
            <a:custGeom>
              <a:avLst/>
              <a:gdLst/>
              <a:ahLst/>
              <a:rect l="l" t="t" r="r" b="b"/>
              <a:pathLst>
                <a:path w="930" h="768">
                  <a:moveTo>
                    <a:pt x="0" y="711"/>
                  </a:moveTo>
                  <a:lnTo>
                    <a:pt x="0" y="723"/>
                  </a:lnTo>
                  <a:lnTo>
                    <a:pt x="11" y="723"/>
                  </a:lnTo>
                  <a:lnTo>
                    <a:pt x="11" y="734"/>
                  </a:lnTo>
                  <a:lnTo>
                    <a:pt x="11" y="746"/>
                  </a:lnTo>
                  <a:lnTo>
                    <a:pt x="23" y="756"/>
                  </a:lnTo>
                  <a:lnTo>
                    <a:pt x="138" y="768"/>
                  </a:lnTo>
                  <a:lnTo>
                    <a:pt x="264" y="768"/>
                  </a:lnTo>
                  <a:lnTo>
                    <a:pt x="378" y="746"/>
                  </a:lnTo>
                  <a:lnTo>
                    <a:pt x="493" y="699"/>
                  </a:lnTo>
                  <a:lnTo>
                    <a:pt x="608" y="654"/>
                  </a:lnTo>
                  <a:lnTo>
                    <a:pt x="711" y="597"/>
                  </a:lnTo>
                  <a:lnTo>
                    <a:pt x="826" y="550"/>
                  </a:lnTo>
                  <a:lnTo>
                    <a:pt x="930" y="505"/>
                  </a:lnTo>
                  <a:lnTo>
                    <a:pt x="574" y="597"/>
                  </a:lnTo>
                  <a:lnTo>
                    <a:pt x="517" y="654"/>
                  </a:lnTo>
                  <a:lnTo>
                    <a:pt x="505" y="654"/>
                  </a:lnTo>
                  <a:lnTo>
                    <a:pt x="493" y="654"/>
                  </a:lnTo>
                  <a:lnTo>
                    <a:pt x="493" y="642"/>
                  </a:lnTo>
                  <a:lnTo>
                    <a:pt x="482" y="642"/>
                  </a:lnTo>
                  <a:lnTo>
                    <a:pt x="470" y="642"/>
                  </a:lnTo>
                  <a:lnTo>
                    <a:pt x="458" y="654"/>
                  </a:lnTo>
                  <a:lnTo>
                    <a:pt x="448" y="666"/>
                  </a:lnTo>
                  <a:lnTo>
                    <a:pt x="436" y="666"/>
                  </a:lnTo>
                  <a:lnTo>
                    <a:pt x="425" y="676"/>
                  </a:lnTo>
                  <a:lnTo>
                    <a:pt x="413" y="676"/>
                  </a:lnTo>
                  <a:lnTo>
                    <a:pt x="390" y="676"/>
                  </a:lnTo>
                  <a:lnTo>
                    <a:pt x="378" y="676"/>
                  </a:lnTo>
                  <a:lnTo>
                    <a:pt x="367" y="666"/>
                  </a:lnTo>
                  <a:lnTo>
                    <a:pt x="356" y="666"/>
                  </a:lnTo>
                  <a:lnTo>
                    <a:pt x="344" y="654"/>
                  </a:lnTo>
                  <a:lnTo>
                    <a:pt x="333" y="642"/>
                  </a:lnTo>
                  <a:lnTo>
                    <a:pt x="321" y="631"/>
                  </a:lnTo>
                  <a:lnTo>
                    <a:pt x="309" y="619"/>
                  </a:lnTo>
                  <a:lnTo>
                    <a:pt x="298" y="607"/>
                  </a:lnTo>
                  <a:lnTo>
                    <a:pt x="309" y="585"/>
                  </a:lnTo>
                  <a:lnTo>
                    <a:pt x="309" y="574"/>
                  </a:lnTo>
                  <a:lnTo>
                    <a:pt x="321" y="550"/>
                  </a:lnTo>
                  <a:lnTo>
                    <a:pt x="333" y="539"/>
                  </a:lnTo>
                  <a:lnTo>
                    <a:pt x="344" y="516"/>
                  </a:lnTo>
                  <a:lnTo>
                    <a:pt x="367" y="505"/>
                  </a:lnTo>
                  <a:lnTo>
                    <a:pt x="378" y="493"/>
                  </a:lnTo>
                  <a:lnTo>
                    <a:pt x="401" y="482"/>
                  </a:lnTo>
                  <a:lnTo>
                    <a:pt x="860" y="401"/>
                  </a:lnTo>
                  <a:lnTo>
                    <a:pt x="850" y="401"/>
                  </a:lnTo>
                  <a:lnTo>
                    <a:pt x="838" y="390"/>
                  </a:lnTo>
                  <a:lnTo>
                    <a:pt x="826" y="390"/>
                  </a:lnTo>
                  <a:lnTo>
                    <a:pt x="815" y="378"/>
                  </a:lnTo>
                  <a:lnTo>
                    <a:pt x="815" y="367"/>
                  </a:lnTo>
                  <a:lnTo>
                    <a:pt x="803" y="356"/>
                  </a:lnTo>
                  <a:lnTo>
                    <a:pt x="791" y="344"/>
                  </a:lnTo>
                  <a:lnTo>
                    <a:pt x="791" y="333"/>
                  </a:lnTo>
                  <a:lnTo>
                    <a:pt x="826" y="264"/>
                  </a:lnTo>
                  <a:lnTo>
                    <a:pt x="826" y="252"/>
                  </a:lnTo>
                  <a:lnTo>
                    <a:pt x="826" y="241"/>
                  </a:lnTo>
                  <a:lnTo>
                    <a:pt x="826" y="229"/>
                  </a:lnTo>
                  <a:lnTo>
                    <a:pt x="758" y="207"/>
                  </a:lnTo>
                  <a:lnTo>
                    <a:pt x="677" y="126"/>
                  </a:lnTo>
                  <a:lnTo>
                    <a:pt x="631" y="0"/>
                  </a:lnTo>
                  <a:lnTo>
                    <a:pt x="550" y="23"/>
                  </a:lnTo>
                  <a:lnTo>
                    <a:pt x="470" y="68"/>
                  </a:lnTo>
                  <a:lnTo>
                    <a:pt x="390" y="115"/>
                  </a:lnTo>
                  <a:lnTo>
                    <a:pt x="321" y="160"/>
                  </a:lnTo>
                  <a:lnTo>
                    <a:pt x="252" y="217"/>
                  </a:lnTo>
                  <a:lnTo>
                    <a:pt x="195" y="287"/>
                  </a:lnTo>
                  <a:lnTo>
                    <a:pt x="138" y="356"/>
                  </a:lnTo>
                  <a:lnTo>
                    <a:pt x="80" y="436"/>
                  </a:lnTo>
                  <a:lnTo>
                    <a:pt x="68" y="470"/>
                  </a:lnTo>
                  <a:lnTo>
                    <a:pt x="46" y="505"/>
                  </a:lnTo>
                  <a:lnTo>
                    <a:pt x="34" y="539"/>
                  </a:lnTo>
                  <a:lnTo>
                    <a:pt x="23" y="574"/>
                  </a:lnTo>
                  <a:lnTo>
                    <a:pt x="11" y="607"/>
                  </a:lnTo>
                  <a:lnTo>
                    <a:pt x="11" y="642"/>
                  </a:lnTo>
                  <a:lnTo>
                    <a:pt x="0" y="676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2280" y="4645800"/>
              <a:ext cx="366840" cy="1170720"/>
            </a:xfrm>
            <a:custGeom>
              <a:avLst/>
              <a:gdLst/>
              <a:ahLst/>
              <a:rect l="l" t="t" r="r" b="b"/>
              <a:pathLst>
                <a:path w="850" h="2742">
                  <a:moveTo>
                    <a:pt x="12" y="24"/>
                  </a:moveTo>
                  <a:lnTo>
                    <a:pt x="23" y="115"/>
                  </a:lnTo>
                  <a:lnTo>
                    <a:pt x="35" y="206"/>
                  </a:lnTo>
                  <a:lnTo>
                    <a:pt x="46" y="298"/>
                  </a:lnTo>
                  <a:lnTo>
                    <a:pt x="46" y="390"/>
                  </a:lnTo>
                  <a:lnTo>
                    <a:pt x="58" y="482"/>
                  </a:lnTo>
                  <a:lnTo>
                    <a:pt x="58" y="573"/>
                  </a:lnTo>
                  <a:lnTo>
                    <a:pt x="58" y="677"/>
                  </a:lnTo>
                  <a:lnTo>
                    <a:pt x="46" y="769"/>
                  </a:lnTo>
                  <a:lnTo>
                    <a:pt x="115" y="987"/>
                  </a:lnTo>
                  <a:lnTo>
                    <a:pt x="195" y="1193"/>
                  </a:lnTo>
                  <a:lnTo>
                    <a:pt x="287" y="1388"/>
                  </a:lnTo>
                  <a:lnTo>
                    <a:pt x="378" y="1583"/>
                  </a:lnTo>
                  <a:lnTo>
                    <a:pt x="459" y="1778"/>
                  </a:lnTo>
                  <a:lnTo>
                    <a:pt x="528" y="1985"/>
                  </a:lnTo>
                  <a:lnTo>
                    <a:pt x="574" y="2202"/>
                  </a:lnTo>
                  <a:lnTo>
                    <a:pt x="574" y="2432"/>
                  </a:lnTo>
                  <a:lnTo>
                    <a:pt x="586" y="2477"/>
                  </a:lnTo>
                  <a:lnTo>
                    <a:pt x="574" y="2512"/>
                  </a:lnTo>
                  <a:lnTo>
                    <a:pt x="574" y="2558"/>
                  </a:lnTo>
                  <a:lnTo>
                    <a:pt x="562" y="2593"/>
                  </a:lnTo>
                  <a:lnTo>
                    <a:pt x="562" y="2626"/>
                  </a:lnTo>
                  <a:lnTo>
                    <a:pt x="551" y="2673"/>
                  </a:lnTo>
                  <a:lnTo>
                    <a:pt x="551" y="2707"/>
                  </a:lnTo>
                  <a:lnTo>
                    <a:pt x="562" y="2742"/>
                  </a:lnTo>
                  <a:lnTo>
                    <a:pt x="574" y="2730"/>
                  </a:lnTo>
                  <a:lnTo>
                    <a:pt x="574" y="2718"/>
                  </a:lnTo>
                  <a:lnTo>
                    <a:pt x="586" y="2707"/>
                  </a:lnTo>
                  <a:lnTo>
                    <a:pt x="597" y="2707"/>
                  </a:lnTo>
                  <a:lnTo>
                    <a:pt x="609" y="2696"/>
                  </a:lnTo>
                  <a:lnTo>
                    <a:pt x="619" y="2684"/>
                  </a:lnTo>
                  <a:lnTo>
                    <a:pt x="827" y="2684"/>
                  </a:lnTo>
                  <a:lnTo>
                    <a:pt x="838" y="2684"/>
                  </a:lnTo>
                  <a:lnTo>
                    <a:pt x="838" y="2673"/>
                  </a:lnTo>
                  <a:lnTo>
                    <a:pt x="838" y="2661"/>
                  </a:lnTo>
                  <a:lnTo>
                    <a:pt x="838" y="2650"/>
                  </a:lnTo>
                  <a:lnTo>
                    <a:pt x="850" y="2638"/>
                  </a:lnTo>
                  <a:lnTo>
                    <a:pt x="850" y="2626"/>
                  </a:lnTo>
                  <a:lnTo>
                    <a:pt x="850" y="2616"/>
                  </a:lnTo>
                  <a:lnTo>
                    <a:pt x="838" y="2604"/>
                  </a:lnTo>
                  <a:lnTo>
                    <a:pt x="746" y="2569"/>
                  </a:lnTo>
                  <a:lnTo>
                    <a:pt x="735" y="2558"/>
                  </a:lnTo>
                  <a:lnTo>
                    <a:pt x="735" y="2546"/>
                  </a:lnTo>
                  <a:lnTo>
                    <a:pt x="723" y="2535"/>
                  </a:lnTo>
                  <a:lnTo>
                    <a:pt x="735" y="2524"/>
                  </a:lnTo>
                  <a:lnTo>
                    <a:pt x="735" y="2512"/>
                  </a:lnTo>
                  <a:lnTo>
                    <a:pt x="746" y="2501"/>
                  </a:lnTo>
                  <a:lnTo>
                    <a:pt x="758" y="2489"/>
                  </a:lnTo>
                  <a:lnTo>
                    <a:pt x="758" y="2477"/>
                  </a:lnTo>
                  <a:lnTo>
                    <a:pt x="758" y="2467"/>
                  </a:lnTo>
                  <a:lnTo>
                    <a:pt x="700" y="2432"/>
                  </a:lnTo>
                  <a:lnTo>
                    <a:pt x="700" y="2420"/>
                  </a:lnTo>
                  <a:lnTo>
                    <a:pt x="700" y="2409"/>
                  </a:lnTo>
                  <a:lnTo>
                    <a:pt x="711" y="2409"/>
                  </a:lnTo>
                  <a:lnTo>
                    <a:pt x="723" y="2397"/>
                  </a:lnTo>
                  <a:lnTo>
                    <a:pt x="735" y="2386"/>
                  </a:lnTo>
                  <a:lnTo>
                    <a:pt x="746" y="2375"/>
                  </a:lnTo>
                  <a:lnTo>
                    <a:pt x="746" y="2363"/>
                  </a:lnTo>
                  <a:lnTo>
                    <a:pt x="735" y="2351"/>
                  </a:lnTo>
                  <a:lnTo>
                    <a:pt x="723" y="2351"/>
                  </a:lnTo>
                  <a:lnTo>
                    <a:pt x="711" y="2351"/>
                  </a:lnTo>
                  <a:lnTo>
                    <a:pt x="689" y="2351"/>
                  </a:lnTo>
                  <a:lnTo>
                    <a:pt x="678" y="2351"/>
                  </a:lnTo>
                  <a:lnTo>
                    <a:pt x="654" y="2351"/>
                  </a:lnTo>
                  <a:lnTo>
                    <a:pt x="643" y="2340"/>
                  </a:lnTo>
                  <a:lnTo>
                    <a:pt x="619" y="2340"/>
                  </a:lnTo>
                  <a:lnTo>
                    <a:pt x="619" y="2328"/>
                  </a:lnTo>
                  <a:lnTo>
                    <a:pt x="609" y="2328"/>
                  </a:lnTo>
                  <a:lnTo>
                    <a:pt x="597" y="2318"/>
                  </a:lnTo>
                  <a:lnTo>
                    <a:pt x="597" y="2306"/>
                  </a:lnTo>
                  <a:lnTo>
                    <a:pt x="586" y="2294"/>
                  </a:lnTo>
                  <a:lnTo>
                    <a:pt x="586" y="2283"/>
                  </a:lnTo>
                  <a:lnTo>
                    <a:pt x="597" y="2110"/>
                  </a:lnTo>
                  <a:lnTo>
                    <a:pt x="586" y="2099"/>
                  </a:lnTo>
                  <a:lnTo>
                    <a:pt x="574" y="2087"/>
                  </a:lnTo>
                  <a:lnTo>
                    <a:pt x="562" y="2087"/>
                  </a:lnTo>
                  <a:lnTo>
                    <a:pt x="562" y="2077"/>
                  </a:lnTo>
                  <a:lnTo>
                    <a:pt x="539" y="1881"/>
                  </a:lnTo>
                  <a:lnTo>
                    <a:pt x="517" y="1687"/>
                  </a:lnTo>
                  <a:lnTo>
                    <a:pt x="494" y="1503"/>
                  </a:lnTo>
                  <a:lnTo>
                    <a:pt x="459" y="1308"/>
                  </a:lnTo>
                  <a:lnTo>
                    <a:pt x="425" y="1112"/>
                  </a:lnTo>
                  <a:lnTo>
                    <a:pt x="390" y="918"/>
                  </a:lnTo>
                  <a:lnTo>
                    <a:pt x="356" y="722"/>
                  </a:lnTo>
                  <a:lnTo>
                    <a:pt x="321" y="528"/>
                  </a:lnTo>
                  <a:lnTo>
                    <a:pt x="287" y="471"/>
                  </a:lnTo>
                  <a:lnTo>
                    <a:pt x="253" y="402"/>
                  </a:lnTo>
                  <a:lnTo>
                    <a:pt x="241" y="332"/>
                  </a:lnTo>
                  <a:lnTo>
                    <a:pt x="229" y="275"/>
                  </a:lnTo>
                  <a:lnTo>
                    <a:pt x="229" y="206"/>
                  </a:lnTo>
                  <a:lnTo>
                    <a:pt x="218" y="138"/>
                  </a:lnTo>
                  <a:lnTo>
                    <a:pt x="207" y="69"/>
                  </a:lnTo>
                  <a:lnTo>
                    <a:pt x="195" y="0"/>
                  </a:lnTo>
                  <a:lnTo>
                    <a:pt x="0" y="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1440" y="2587320"/>
              <a:ext cx="19080" cy="187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1" y="45"/>
                  </a:moveTo>
                  <a:lnTo>
                    <a:pt x="23" y="45"/>
                  </a:lnTo>
                  <a:lnTo>
                    <a:pt x="35" y="45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46" y="23"/>
                  </a:lnTo>
                  <a:lnTo>
                    <a:pt x="46" y="11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35" y="11"/>
                  </a:lnTo>
                  <a:lnTo>
                    <a:pt x="23" y="11"/>
                  </a:lnTo>
                  <a:lnTo>
                    <a:pt x="23" y="23"/>
                  </a:lnTo>
                  <a:lnTo>
                    <a:pt x="11" y="23"/>
                  </a:lnTo>
                  <a:lnTo>
                    <a:pt x="11" y="35"/>
                  </a:lnTo>
                  <a:lnTo>
                    <a:pt x="0" y="35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57200" y="4674600"/>
              <a:ext cx="29160" cy="88920"/>
            </a:xfrm>
            <a:custGeom>
              <a:avLst/>
              <a:gdLst/>
              <a:ahLst/>
              <a:rect l="l" t="t" r="r" b="b"/>
              <a:pathLst>
                <a:path w="69" h="206">
                  <a:moveTo>
                    <a:pt x="0" y="12"/>
                  </a:moveTo>
                  <a:lnTo>
                    <a:pt x="69" y="206"/>
                  </a:lnTo>
                  <a:lnTo>
                    <a:pt x="69" y="12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6360" y="2537640"/>
              <a:ext cx="29160" cy="23760"/>
            </a:xfrm>
            <a:custGeom>
              <a:avLst/>
              <a:gdLst/>
              <a:ahLst/>
              <a:rect l="l" t="t" r="r" b="b"/>
              <a:pathLst>
                <a:path w="69" h="57">
                  <a:moveTo>
                    <a:pt x="0" y="57"/>
                  </a:moveTo>
                  <a:lnTo>
                    <a:pt x="69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35" y="10"/>
                  </a:lnTo>
                  <a:lnTo>
                    <a:pt x="23" y="22"/>
                  </a:lnTo>
                  <a:lnTo>
                    <a:pt x="12" y="33"/>
                  </a:lnTo>
                  <a:lnTo>
                    <a:pt x="12" y="4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05440" y="2561760"/>
              <a:ext cx="39960" cy="3888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12" y="68"/>
                  </a:moveTo>
                  <a:lnTo>
                    <a:pt x="23" y="80"/>
                  </a:lnTo>
                  <a:lnTo>
                    <a:pt x="34" y="80"/>
                  </a:lnTo>
                  <a:lnTo>
                    <a:pt x="46" y="80"/>
                  </a:lnTo>
                  <a:lnTo>
                    <a:pt x="46" y="92"/>
                  </a:lnTo>
                  <a:lnTo>
                    <a:pt x="69" y="92"/>
                  </a:lnTo>
                  <a:lnTo>
                    <a:pt x="69" y="80"/>
                  </a:lnTo>
                  <a:lnTo>
                    <a:pt x="81" y="68"/>
                  </a:lnTo>
                  <a:lnTo>
                    <a:pt x="81" y="57"/>
                  </a:lnTo>
                  <a:lnTo>
                    <a:pt x="92" y="45"/>
                  </a:lnTo>
                  <a:lnTo>
                    <a:pt x="92" y="33"/>
                  </a:lnTo>
                  <a:lnTo>
                    <a:pt x="92" y="11"/>
                  </a:lnTo>
                  <a:lnTo>
                    <a:pt x="92" y="0"/>
                  </a:lnTo>
                  <a:lnTo>
                    <a:pt x="69" y="0"/>
                  </a:lnTo>
                  <a:lnTo>
                    <a:pt x="58" y="11"/>
                  </a:lnTo>
                  <a:lnTo>
                    <a:pt x="46" y="11"/>
                  </a:lnTo>
                  <a:lnTo>
                    <a:pt x="46" y="22"/>
                  </a:lnTo>
                  <a:lnTo>
                    <a:pt x="34" y="33"/>
                  </a:lnTo>
                  <a:lnTo>
                    <a:pt x="23" y="33"/>
                  </a:lnTo>
                  <a:lnTo>
                    <a:pt x="12" y="57"/>
                  </a:lnTo>
                  <a:lnTo>
                    <a:pt x="0" y="68"/>
                  </a:lnTo>
                  <a:lnTo>
                    <a:pt x="12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40000" y="2331000"/>
              <a:ext cx="55080" cy="43920"/>
            </a:xfrm>
            <a:custGeom>
              <a:avLst/>
              <a:gdLst/>
              <a:ahLst/>
              <a:rect l="l" t="t" r="r" b="b"/>
              <a:pathLst>
                <a:path w="126" h="103">
                  <a:moveTo>
                    <a:pt x="0" y="103"/>
                  </a:moveTo>
                  <a:lnTo>
                    <a:pt x="126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5480" y="2449080"/>
              <a:ext cx="39600" cy="2556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0" y="57"/>
                  </a:moveTo>
                  <a:lnTo>
                    <a:pt x="11" y="57"/>
                  </a:lnTo>
                  <a:lnTo>
                    <a:pt x="92" y="24"/>
                  </a:lnTo>
                  <a:lnTo>
                    <a:pt x="92" y="12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35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0" y="3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85000" y="2508480"/>
              <a:ext cx="55080" cy="4788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0" y="115"/>
                  </a:moveTo>
                  <a:lnTo>
                    <a:pt x="127" y="0"/>
                  </a:lnTo>
                  <a:lnTo>
                    <a:pt x="104" y="11"/>
                  </a:lnTo>
                  <a:lnTo>
                    <a:pt x="92" y="23"/>
                  </a:lnTo>
                  <a:lnTo>
                    <a:pt x="70" y="35"/>
                  </a:lnTo>
                  <a:lnTo>
                    <a:pt x="47" y="46"/>
                  </a:lnTo>
                  <a:lnTo>
                    <a:pt x="24" y="70"/>
                  </a:lnTo>
                  <a:lnTo>
                    <a:pt x="12" y="80"/>
                  </a:lnTo>
                  <a:lnTo>
                    <a:pt x="0" y="9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64920" y="2435400"/>
              <a:ext cx="29160" cy="18360"/>
            </a:xfrm>
            <a:custGeom>
              <a:avLst/>
              <a:gdLst/>
              <a:ahLst/>
              <a:rect l="l" t="t" r="r" b="b"/>
              <a:pathLst>
                <a:path w="69" h="46">
                  <a:moveTo>
                    <a:pt x="12" y="46"/>
                  </a:moveTo>
                  <a:lnTo>
                    <a:pt x="69" y="12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47" y="12"/>
                  </a:lnTo>
                  <a:lnTo>
                    <a:pt x="35" y="12"/>
                  </a:lnTo>
                  <a:lnTo>
                    <a:pt x="24" y="23"/>
                  </a:lnTo>
                  <a:lnTo>
                    <a:pt x="12" y="23"/>
                  </a:lnTo>
                  <a:lnTo>
                    <a:pt x="12" y="3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89040" y="2248920"/>
              <a:ext cx="15120" cy="2880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35"/>
                  </a:moveTo>
                  <a:lnTo>
                    <a:pt x="0" y="46"/>
                  </a:lnTo>
                  <a:lnTo>
                    <a:pt x="12" y="58"/>
                  </a:lnTo>
                  <a:lnTo>
                    <a:pt x="12" y="70"/>
                  </a:lnTo>
                  <a:lnTo>
                    <a:pt x="24" y="70"/>
                  </a:lnTo>
                  <a:lnTo>
                    <a:pt x="35" y="58"/>
                  </a:lnTo>
                  <a:lnTo>
                    <a:pt x="35" y="46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35" y="12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2" y="2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89040" y="2900160"/>
              <a:ext cx="437760" cy="642600"/>
            </a:xfrm>
            <a:custGeom>
              <a:avLst/>
              <a:gdLst/>
              <a:ahLst/>
              <a:rect l="l" t="t" r="r" b="b"/>
              <a:pathLst>
                <a:path w="1011" h="1504">
                  <a:moveTo>
                    <a:pt x="0" y="678"/>
                  </a:moveTo>
                  <a:lnTo>
                    <a:pt x="47" y="769"/>
                  </a:lnTo>
                  <a:lnTo>
                    <a:pt x="265" y="598"/>
                  </a:lnTo>
                  <a:lnTo>
                    <a:pt x="265" y="586"/>
                  </a:lnTo>
                  <a:lnTo>
                    <a:pt x="265" y="574"/>
                  </a:lnTo>
                  <a:lnTo>
                    <a:pt x="265" y="563"/>
                  </a:lnTo>
                  <a:lnTo>
                    <a:pt x="265" y="551"/>
                  </a:lnTo>
                  <a:lnTo>
                    <a:pt x="265" y="540"/>
                  </a:lnTo>
                  <a:lnTo>
                    <a:pt x="253" y="528"/>
                  </a:lnTo>
                  <a:lnTo>
                    <a:pt x="241" y="528"/>
                  </a:lnTo>
                  <a:lnTo>
                    <a:pt x="231" y="528"/>
                  </a:lnTo>
                  <a:lnTo>
                    <a:pt x="219" y="528"/>
                  </a:lnTo>
                  <a:lnTo>
                    <a:pt x="208" y="540"/>
                  </a:lnTo>
                  <a:lnTo>
                    <a:pt x="196" y="551"/>
                  </a:lnTo>
                  <a:lnTo>
                    <a:pt x="184" y="551"/>
                  </a:lnTo>
                  <a:lnTo>
                    <a:pt x="173" y="551"/>
                  </a:lnTo>
                  <a:lnTo>
                    <a:pt x="116" y="506"/>
                  </a:lnTo>
                  <a:lnTo>
                    <a:pt x="116" y="494"/>
                  </a:lnTo>
                  <a:lnTo>
                    <a:pt x="127" y="482"/>
                  </a:lnTo>
                  <a:lnTo>
                    <a:pt x="139" y="471"/>
                  </a:lnTo>
                  <a:lnTo>
                    <a:pt x="139" y="459"/>
                  </a:lnTo>
                  <a:lnTo>
                    <a:pt x="151" y="449"/>
                  </a:lnTo>
                  <a:lnTo>
                    <a:pt x="161" y="449"/>
                  </a:lnTo>
                  <a:lnTo>
                    <a:pt x="173" y="437"/>
                  </a:lnTo>
                  <a:lnTo>
                    <a:pt x="310" y="425"/>
                  </a:lnTo>
                  <a:lnTo>
                    <a:pt x="414" y="506"/>
                  </a:lnTo>
                  <a:lnTo>
                    <a:pt x="380" y="574"/>
                  </a:lnTo>
                  <a:lnTo>
                    <a:pt x="391" y="586"/>
                  </a:lnTo>
                  <a:lnTo>
                    <a:pt x="391" y="598"/>
                  </a:lnTo>
                  <a:lnTo>
                    <a:pt x="402" y="598"/>
                  </a:lnTo>
                  <a:lnTo>
                    <a:pt x="414" y="598"/>
                  </a:lnTo>
                  <a:lnTo>
                    <a:pt x="425" y="598"/>
                  </a:lnTo>
                  <a:lnTo>
                    <a:pt x="425" y="608"/>
                  </a:lnTo>
                  <a:lnTo>
                    <a:pt x="437" y="608"/>
                  </a:lnTo>
                  <a:lnTo>
                    <a:pt x="414" y="712"/>
                  </a:lnTo>
                  <a:lnTo>
                    <a:pt x="402" y="804"/>
                  </a:lnTo>
                  <a:lnTo>
                    <a:pt x="402" y="918"/>
                  </a:lnTo>
                  <a:lnTo>
                    <a:pt x="414" y="1022"/>
                  </a:lnTo>
                  <a:lnTo>
                    <a:pt x="425" y="1125"/>
                  </a:lnTo>
                  <a:lnTo>
                    <a:pt x="449" y="1228"/>
                  </a:lnTo>
                  <a:lnTo>
                    <a:pt x="471" y="1343"/>
                  </a:lnTo>
                  <a:lnTo>
                    <a:pt x="494" y="1446"/>
                  </a:lnTo>
                  <a:lnTo>
                    <a:pt x="551" y="1423"/>
                  </a:lnTo>
                  <a:lnTo>
                    <a:pt x="563" y="1423"/>
                  </a:lnTo>
                  <a:lnTo>
                    <a:pt x="574" y="1435"/>
                  </a:lnTo>
                  <a:lnTo>
                    <a:pt x="586" y="1446"/>
                  </a:lnTo>
                  <a:lnTo>
                    <a:pt x="598" y="1457"/>
                  </a:lnTo>
                  <a:lnTo>
                    <a:pt x="609" y="1469"/>
                  </a:lnTo>
                  <a:lnTo>
                    <a:pt x="609" y="1480"/>
                  </a:lnTo>
                  <a:lnTo>
                    <a:pt x="621" y="1492"/>
                  </a:lnTo>
                  <a:lnTo>
                    <a:pt x="621" y="1504"/>
                  </a:lnTo>
                  <a:lnTo>
                    <a:pt x="690" y="1435"/>
                  </a:lnTo>
                  <a:lnTo>
                    <a:pt x="747" y="1355"/>
                  </a:lnTo>
                  <a:lnTo>
                    <a:pt x="792" y="1274"/>
                  </a:lnTo>
                  <a:lnTo>
                    <a:pt x="839" y="1194"/>
                  </a:lnTo>
                  <a:lnTo>
                    <a:pt x="884" y="1102"/>
                  </a:lnTo>
                  <a:lnTo>
                    <a:pt x="919" y="1010"/>
                  </a:lnTo>
                  <a:lnTo>
                    <a:pt x="965" y="918"/>
                  </a:lnTo>
                  <a:lnTo>
                    <a:pt x="1011" y="827"/>
                  </a:lnTo>
                  <a:lnTo>
                    <a:pt x="999" y="815"/>
                  </a:lnTo>
                  <a:lnTo>
                    <a:pt x="999" y="804"/>
                  </a:lnTo>
                  <a:lnTo>
                    <a:pt x="988" y="804"/>
                  </a:lnTo>
                  <a:lnTo>
                    <a:pt x="621" y="1400"/>
                  </a:lnTo>
                  <a:lnTo>
                    <a:pt x="609" y="1400"/>
                  </a:lnTo>
                  <a:lnTo>
                    <a:pt x="609" y="1412"/>
                  </a:lnTo>
                  <a:lnTo>
                    <a:pt x="598" y="1412"/>
                  </a:lnTo>
                  <a:lnTo>
                    <a:pt x="586" y="1412"/>
                  </a:lnTo>
                  <a:lnTo>
                    <a:pt x="574" y="1412"/>
                  </a:lnTo>
                  <a:lnTo>
                    <a:pt x="563" y="1412"/>
                  </a:lnTo>
                  <a:lnTo>
                    <a:pt x="551" y="1412"/>
                  </a:lnTo>
                  <a:lnTo>
                    <a:pt x="551" y="1400"/>
                  </a:lnTo>
                  <a:lnTo>
                    <a:pt x="541" y="1400"/>
                  </a:lnTo>
                  <a:lnTo>
                    <a:pt x="541" y="1388"/>
                  </a:lnTo>
                  <a:lnTo>
                    <a:pt x="541" y="1377"/>
                  </a:lnTo>
                  <a:lnTo>
                    <a:pt x="529" y="1365"/>
                  </a:lnTo>
                  <a:lnTo>
                    <a:pt x="563" y="1320"/>
                  </a:lnTo>
                  <a:lnTo>
                    <a:pt x="586" y="1263"/>
                  </a:lnTo>
                  <a:lnTo>
                    <a:pt x="598" y="1194"/>
                  </a:lnTo>
                  <a:lnTo>
                    <a:pt x="598" y="1125"/>
                  </a:lnTo>
                  <a:lnTo>
                    <a:pt x="586" y="1056"/>
                  </a:lnTo>
                  <a:lnTo>
                    <a:pt x="586" y="987"/>
                  </a:lnTo>
                  <a:lnTo>
                    <a:pt x="574" y="918"/>
                  </a:lnTo>
                  <a:lnTo>
                    <a:pt x="563" y="849"/>
                  </a:lnTo>
                  <a:lnTo>
                    <a:pt x="574" y="769"/>
                  </a:lnTo>
                  <a:lnTo>
                    <a:pt x="574" y="700"/>
                  </a:lnTo>
                  <a:lnTo>
                    <a:pt x="586" y="632"/>
                  </a:lnTo>
                  <a:lnTo>
                    <a:pt x="586" y="563"/>
                  </a:lnTo>
                  <a:lnTo>
                    <a:pt x="598" y="494"/>
                  </a:lnTo>
                  <a:lnTo>
                    <a:pt x="598" y="425"/>
                  </a:lnTo>
                  <a:lnTo>
                    <a:pt x="598" y="357"/>
                  </a:lnTo>
                  <a:lnTo>
                    <a:pt x="598" y="288"/>
                  </a:lnTo>
                  <a:lnTo>
                    <a:pt x="598" y="241"/>
                  </a:lnTo>
                  <a:lnTo>
                    <a:pt x="586" y="196"/>
                  </a:lnTo>
                  <a:lnTo>
                    <a:pt x="563" y="161"/>
                  </a:lnTo>
                  <a:lnTo>
                    <a:pt x="529" y="127"/>
                  </a:lnTo>
                  <a:lnTo>
                    <a:pt x="506" y="104"/>
                  </a:lnTo>
                  <a:lnTo>
                    <a:pt x="471" y="81"/>
                  </a:lnTo>
                  <a:lnTo>
                    <a:pt x="449" y="47"/>
                  </a:lnTo>
                  <a:lnTo>
                    <a:pt x="437" y="12"/>
                  </a:lnTo>
                  <a:lnTo>
                    <a:pt x="425" y="12"/>
                  </a:lnTo>
                  <a:lnTo>
                    <a:pt x="414" y="0"/>
                  </a:lnTo>
                  <a:lnTo>
                    <a:pt x="402" y="0"/>
                  </a:lnTo>
                  <a:lnTo>
                    <a:pt x="380" y="0"/>
                  </a:lnTo>
                  <a:lnTo>
                    <a:pt x="368" y="0"/>
                  </a:lnTo>
                  <a:lnTo>
                    <a:pt x="357" y="12"/>
                  </a:lnTo>
                  <a:lnTo>
                    <a:pt x="345" y="12"/>
                  </a:lnTo>
                  <a:lnTo>
                    <a:pt x="333" y="24"/>
                  </a:lnTo>
                  <a:lnTo>
                    <a:pt x="265" y="92"/>
                  </a:lnTo>
                  <a:lnTo>
                    <a:pt x="219" y="173"/>
                  </a:lnTo>
                  <a:lnTo>
                    <a:pt x="161" y="241"/>
                  </a:lnTo>
                  <a:lnTo>
                    <a:pt x="116" y="322"/>
                  </a:lnTo>
                  <a:lnTo>
                    <a:pt x="81" y="402"/>
                  </a:lnTo>
                  <a:lnTo>
                    <a:pt x="47" y="494"/>
                  </a:lnTo>
                  <a:lnTo>
                    <a:pt x="24" y="574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5440" y="2435400"/>
              <a:ext cx="236880" cy="278640"/>
            </a:xfrm>
            <a:custGeom>
              <a:avLst/>
              <a:gdLst/>
              <a:ahLst/>
              <a:rect l="l" t="t" r="r" b="b"/>
              <a:pathLst>
                <a:path w="551" h="654">
                  <a:moveTo>
                    <a:pt x="0" y="574"/>
                  </a:moveTo>
                  <a:lnTo>
                    <a:pt x="22" y="585"/>
                  </a:lnTo>
                  <a:lnTo>
                    <a:pt x="45" y="597"/>
                  </a:lnTo>
                  <a:lnTo>
                    <a:pt x="69" y="608"/>
                  </a:lnTo>
                  <a:lnTo>
                    <a:pt x="102" y="620"/>
                  </a:lnTo>
                  <a:lnTo>
                    <a:pt x="126" y="631"/>
                  </a:lnTo>
                  <a:lnTo>
                    <a:pt x="149" y="631"/>
                  </a:lnTo>
                  <a:lnTo>
                    <a:pt x="161" y="642"/>
                  </a:lnTo>
                  <a:lnTo>
                    <a:pt x="171" y="654"/>
                  </a:lnTo>
                  <a:lnTo>
                    <a:pt x="263" y="585"/>
                  </a:lnTo>
                  <a:lnTo>
                    <a:pt x="275" y="585"/>
                  </a:lnTo>
                  <a:lnTo>
                    <a:pt x="286" y="574"/>
                  </a:lnTo>
                  <a:lnTo>
                    <a:pt x="298" y="574"/>
                  </a:lnTo>
                  <a:lnTo>
                    <a:pt x="310" y="562"/>
                  </a:lnTo>
                  <a:lnTo>
                    <a:pt x="320" y="562"/>
                  </a:lnTo>
                  <a:lnTo>
                    <a:pt x="332" y="550"/>
                  </a:lnTo>
                  <a:lnTo>
                    <a:pt x="355" y="540"/>
                  </a:lnTo>
                  <a:lnTo>
                    <a:pt x="435" y="493"/>
                  </a:lnTo>
                  <a:lnTo>
                    <a:pt x="447" y="482"/>
                  </a:lnTo>
                  <a:lnTo>
                    <a:pt x="459" y="471"/>
                  </a:lnTo>
                  <a:lnTo>
                    <a:pt x="470" y="448"/>
                  </a:lnTo>
                  <a:lnTo>
                    <a:pt x="481" y="424"/>
                  </a:lnTo>
                  <a:lnTo>
                    <a:pt x="493" y="401"/>
                  </a:lnTo>
                  <a:lnTo>
                    <a:pt x="504" y="379"/>
                  </a:lnTo>
                  <a:lnTo>
                    <a:pt x="504" y="356"/>
                  </a:lnTo>
                  <a:lnTo>
                    <a:pt x="504" y="344"/>
                  </a:lnTo>
                  <a:lnTo>
                    <a:pt x="493" y="344"/>
                  </a:lnTo>
                  <a:lnTo>
                    <a:pt x="481" y="344"/>
                  </a:lnTo>
                  <a:lnTo>
                    <a:pt x="459" y="344"/>
                  </a:lnTo>
                  <a:lnTo>
                    <a:pt x="447" y="344"/>
                  </a:lnTo>
                  <a:lnTo>
                    <a:pt x="435" y="344"/>
                  </a:lnTo>
                  <a:lnTo>
                    <a:pt x="424" y="344"/>
                  </a:lnTo>
                  <a:lnTo>
                    <a:pt x="424" y="332"/>
                  </a:lnTo>
                  <a:lnTo>
                    <a:pt x="412" y="332"/>
                  </a:lnTo>
                  <a:lnTo>
                    <a:pt x="401" y="321"/>
                  </a:lnTo>
                  <a:lnTo>
                    <a:pt x="367" y="310"/>
                  </a:lnTo>
                  <a:lnTo>
                    <a:pt x="355" y="310"/>
                  </a:lnTo>
                  <a:lnTo>
                    <a:pt x="343" y="310"/>
                  </a:lnTo>
                  <a:lnTo>
                    <a:pt x="343" y="299"/>
                  </a:lnTo>
                  <a:lnTo>
                    <a:pt x="332" y="287"/>
                  </a:lnTo>
                  <a:lnTo>
                    <a:pt x="320" y="275"/>
                  </a:lnTo>
                  <a:lnTo>
                    <a:pt x="320" y="264"/>
                  </a:lnTo>
                  <a:lnTo>
                    <a:pt x="320" y="252"/>
                  </a:lnTo>
                  <a:lnTo>
                    <a:pt x="332" y="252"/>
                  </a:lnTo>
                  <a:lnTo>
                    <a:pt x="343" y="242"/>
                  </a:lnTo>
                  <a:lnTo>
                    <a:pt x="355" y="242"/>
                  </a:lnTo>
                  <a:lnTo>
                    <a:pt x="367" y="242"/>
                  </a:lnTo>
                  <a:lnTo>
                    <a:pt x="378" y="242"/>
                  </a:lnTo>
                  <a:lnTo>
                    <a:pt x="390" y="242"/>
                  </a:lnTo>
                  <a:lnTo>
                    <a:pt x="539" y="275"/>
                  </a:lnTo>
                  <a:lnTo>
                    <a:pt x="551" y="150"/>
                  </a:lnTo>
                  <a:lnTo>
                    <a:pt x="171" y="0"/>
                  </a:lnTo>
                  <a:lnTo>
                    <a:pt x="161" y="0"/>
                  </a:lnTo>
                  <a:lnTo>
                    <a:pt x="149" y="12"/>
                  </a:lnTo>
                  <a:lnTo>
                    <a:pt x="137" y="23"/>
                  </a:lnTo>
                  <a:lnTo>
                    <a:pt x="137" y="34"/>
                  </a:lnTo>
                  <a:lnTo>
                    <a:pt x="126" y="46"/>
                  </a:lnTo>
                  <a:lnTo>
                    <a:pt x="126" y="58"/>
                  </a:lnTo>
                  <a:lnTo>
                    <a:pt x="114" y="69"/>
                  </a:lnTo>
                  <a:lnTo>
                    <a:pt x="102" y="81"/>
                  </a:lnTo>
                  <a:lnTo>
                    <a:pt x="241" y="103"/>
                  </a:lnTo>
                  <a:lnTo>
                    <a:pt x="343" y="172"/>
                  </a:lnTo>
                  <a:lnTo>
                    <a:pt x="343" y="195"/>
                  </a:lnTo>
                  <a:lnTo>
                    <a:pt x="332" y="218"/>
                  </a:lnTo>
                  <a:lnTo>
                    <a:pt x="320" y="242"/>
                  </a:lnTo>
                  <a:lnTo>
                    <a:pt x="298" y="264"/>
                  </a:lnTo>
                  <a:lnTo>
                    <a:pt x="286" y="287"/>
                  </a:lnTo>
                  <a:lnTo>
                    <a:pt x="263" y="299"/>
                  </a:lnTo>
                  <a:lnTo>
                    <a:pt x="251" y="310"/>
                  </a:lnTo>
                  <a:lnTo>
                    <a:pt x="241" y="310"/>
                  </a:lnTo>
                  <a:lnTo>
                    <a:pt x="286" y="230"/>
                  </a:lnTo>
                  <a:lnTo>
                    <a:pt x="194" y="230"/>
                  </a:lnTo>
                  <a:lnTo>
                    <a:pt x="69" y="161"/>
                  </a:lnTo>
                  <a:lnTo>
                    <a:pt x="34" y="275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14960" y="2606400"/>
              <a:ext cx="74160" cy="68040"/>
            </a:xfrm>
            <a:custGeom>
              <a:avLst/>
              <a:gdLst/>
              <a:ahLst/>
              <a:rect l="l" t="t" r="r" b="b"/>
              <a:pathLst>
                <a:path w="172" h="161">
                  <a:moveTo>
                    <a:pt x="92" y="161"/>
                  </a:moveTo>
                  <a:lnTo>
                    <a:pt x="80" y="149"/>
                  </a:lnTo>
                  <a:lnTo>
                    <a:pt x="68" y="149"/>
                  </a:lnTo>
                  <a:lnTo>
                    <a:pt x="45" y="139"/>
                  </a:lnTo>
                  <a:lnTo>
                    <a:pt x="33" y="127"/>
                  </a:lnTo>
                  <a:lnTo>
                    <a:pt x="22" y="115"/>
                  </a:lnTo>
                  <a:lnTo>
                    <a:pt x="11" y="104"/>
                  </a:lnTo>
                  <a:lnTo>
                    <a:pt x="0" y="92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1" y="12"/>
                  </a:lnTo>
                  <a:lnTo>
                    <a:pt x="22" y="0"/>
                  </a:lnTo>
                  <a:lnTo>
                    <a:pt x="45" y="12"/>
                  </a:lnTo>
                  <a:lnTo>
                    <a:pt x="57" y="23"/>
                  </a:lnTo>
                  <a:lnTo>
                    <a:pt x="80" y="35"/>
                  </a:lnTo>
                  <a:lnTo>
                    <a:pt x="102" y="58"/>
                  </a:lnTo>
                  <a:lnTo>
                    <a:pt x="125" y="70"/>
                  </a:lnTo>
                  <a:lnTo>
                    <a:pt x="149" y="81"/>
                  </a:lnTo>
                  <a:lnTo>
                    <a:pt x="160" y="104"/>
                  </a:lnTo>
                  <a:lnTo>
                    <a:pt x="172" y="115"/>
                  </a:lnTo>
                  <a:lnTo>
                    <a:pt x="172" y="127"/>
                  </a:lnTo>
                  <a:lnTo>
                    <a:pt x="172" y="139"/>
                  </a:lnTo>
                  <a:lnTo>
                    <a:pt x="160" y="139"/>
                  </a:lnTo>
                  <a:lnTo>
                    <a:pt x="149" y="139"/>
                  </a:lnTo>
                  <a:lnTo>
                    <a:pt x="137" y="149"/>
                  </a:lnTo>
                  <a:lnTo>
                    <a:pt x="125" y="149"/>
                  </a:lnTo>
                  <a:lnTo>
                    <a:pt x="102" y="149"/>
                  </a:lnTo>
                  <a:lnTo>
                    <a:pt x="92" y="1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65360" y="2233440"/>
              <a:ext cx="63720" cy="118080"/>
            </a:xfrm>
            <a:custGeom>
              <a:avLst/>
              <a:gdLst/>
              <a:ahLst/>
              <a:rect l="l" t="t" r="r" b="b"/>
              <a:pathLst>
                <a:path w="149" h="275">
                  <a:moveTo>
                    <a:pt x="0" y="46"/>
                  </a:moveTo>
                  <a:lnTo>
                    <a:pt x="0" y="57"/>
                  </a:lnTo>
                  <a:lnTo>
                    <a:pt x="11" y="69"/>
                  </a:lnTo>
                  <a:lnTo>
                    <a:pt x="11" y="80"/>
                  </a:lnTo>
                  <a:lnTo>
                    <a:pt x="23" y="80"/>
                  </a:lnTo>
                  <a:lnTo>
                    <a:pt x="35" y="80"/>
                  </a:lnTo>
                  <a:lnTo>
                    <a:pt x="46" y="80"/>
                  </a:lnTo>
                  <a:lnTo>
                    <a:pt x="46" y="92"/>
                  </a:lnTo>
                  <a:lnTo>
                    <a:pt x="58" y="92"/>
                  </a:lnTo>
                  <a:lnTo>
                    <a:pt x="149" y="275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11" y="23"/>
                  </a:lnTo>
                  <a:lnTo>
                    <a:pt x="11" y="34"/>
                  </a:lnTo>
                  <a:lnTo>
                    <a:pt x="0" y="3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9960" y="2595960"/>
              <a:ext cx="45000" cy="3096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12" y="12"/>
                  </a:moveTo>
                  <a:lnTo>
                    <a:pt x="12" y="22"/>
                  </a:lnTo>
                  <a:lnTo>
                    <a:pt x="23" y="34"/>
                  </a:lnTo>
                  <a:lnTo>
                    <a:pt x="35" y="45"/>
                  </a:lnTo>
                  <a:lnTo>
                    <a:pt x="47" y="45"/>
                  </a:lnTo>
                  <a:lnTo>
                    <a:pt x="58" y="57"/>
                  </a:lnTo>
                  <a:lnTo>
                    <a:pt x="58" y="69"/>
                  </a:lnTo>
                  <a:lnTo>
                    <a:pt x="70" y="69"/>
                  </a:lnTo>
                  <a:lnTo>
                    <a:pt x="80" y="69"/>
                  </a:lnTo>
                  <a:lnTo>
                    <a:pt x="92" y="69"/>
                  </a:lnTo>
                  <a:lnTo>
                    <a:pt x="104" y="69"/>
                  </a:lnTo>
                  <a:lnTo>
                    <a:pt x="104" y="57"/>
                  </a:lnTo>
                  <a:lnTo>
                    <a:pt x="104" y="45"/>
                  </a:lnTo>
                  <a:lnTo>
                    <a:pt x="92" y="34"/>
                  </a:lnTo>
                  <a:lnTo>
                    <a:pt x="92" y="22"/>
                  </a:lnTo>
                  <a:lnTo>
                    <a:pt x="80" y="22"/>
                  </a:lnTo>
                  <a:lnTo>
                    <a:pt x="70" y="12"/>
                  </a:lnTo>
                  <a:lnTo>
                    <a:pt x="58" y="12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3600" y="2199240"/>
              <a:ext cx="25560" cy="54360"/>
            </a:xfrm>
            <a:custGeom>
              <a:avLst/>
              <a:gdLst/>
              <a:ahLst/>
              <a:rect l="l" t="t" r="r" b="b"/>
              <a:pathLst>
                <a:path w="57" h="126">
                  <a:moveTo>
                    <a:pt x="0" y="23"/>
                  </a:moveTo>
                  <a:lnTo>
                    <a:pt x="57" y="126"/>
                  </a:lnTo>
                  <a:lnTo>
                    <a:pt x="57" y="114"/>
                  </a:lnTo>
                  <a:lnTo>
                    <a:pt x="57" y="103"/>
                  </a:lnTo>
                  <a:lnTo>
                    <a:pt x="57" y="80"/>
                  </a:lnTo>
                  <a:lnTo>
                    <a:pt x="57" y="57"/>
                  </a:lnTo>
                  <a:lnTo>
                    <a:pt x="45" y="45"/>
                  </a:lnTo>
                  <a:lnTo>
                    <a:pt x="45" y="23"/>
                  </a:lnTo>
                  <a:lnTo>
                    <a:pt x="34" y="1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69040" y="2180520"/>
              <a:ext cx="13680" cy="160200"/>
            </a:xfrm>
            <a:custGeom>
              <a:avLst/>
              <a:gdLst/>
              <a:ahLst/>
              <a:rect l="l" t="t" r="r" b="b"/>
              <a:pathLst>
                <a:path w="35" h="380">
                  <a:moveTo>
                    <a:pt x="0" y="23"/>
                  </a:moveTo>
                  <a:lnTo>
                    <a:pt x="35" y="380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03600" y="2635560"/>
              <a:ext cx="24120" cy="306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0" y="34"/>
                  </a:moveTo>
                  <a:lnTo>
                    <a:pt x="12" y="45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23" y="69"/>
                  </a:lnTo>
                  <a:lnTo>
                    <a:pt x="35" y="69"/>
                  </a:lnTo>
                  <a:lnTo>
                    <a:pt x="47" y="69"/>
                  </a:lnTo>
                  <a:lnTo>
                    <a:pt x="47" y="57"/>
                  </a:lnTo>
                  <a:lnTo>
                    <a:pt x="47" y="45"/>
                  </a:lnTo>
                  <a:lnTo>
                    <a:pt x="57" y="45"/>
                  </a:lnTo>
                  <a:lnTo>
                    <a:pt x="57" y="34"/>
                  </a:lnTo>
                  <a:lnTo>
                    <a:pt x="57" y="22"/>
                  </a:lnTo>
                  <a:lnTo>
                    <a:pt x="57" y="11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3" y="11"/>
                  </a:lnTo>
                  <a:lnTo>
                    <a:pt x="12" y="11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27720" y="2708640"/>
              <a:ext cx="10440" cy="154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5"/>
                  </a:moveTo>
                  <a:lnTo>
                    <a:pt x="12" y="23"/>
                  </a:lnTo>
                  <a:lnTo>
                    <a:pt x="12" y="12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42200" y="2278080"/>
              <a:ext cx="20520" cy="117720"/>
            </a:xfrm>
            <a:custGeom>
              <a:avLst/>
              <a:gdLst/>
              <a:ahLst/>
              <a:rect l="l" t="t" r="r" b="b"/>
              <a:pathLst>
                <a:path w="47" h="275">
                  <a:moveTo>
                    <a:pt x="0" y="275"/>
                  </a:moveTo>
                  <a:lnTo>
                    <a:pt x="12" y="263"/>
                  </a:lnTo>
                  <a:lnTo>
                    <a:pt x="47" y="33"/>
                  </a:lnTo>
                  <a:lnTo>
                    <a:pt x="47" y="22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24" y="1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47240" y="2430360"/>
              <a:ext cx="29160" cy="57600"/>
            </a:xfrm>
            <a:custGeom>
              <a:avLst/>
              <a:gdLst/>
              <a:ahLst/>
              <a:rect l="l" t="t" r="r" b="b"/>
              <a:pathLst>
                <a:path w="69" h="137">
                  <a:moveTo>
                    <a:pt x="0" y="137"/>
                  </a:moveTo>
                  <a:lnTo>
                    <a:pt x="12" y="126"/>
                  </a:lnTo>
                  <a:lnTo>
                    <a:pt x="23" y="114"/>
                  </a:lnTo>
                  <a:lnTo>
                    <a:pt x="23" y="102"/>
                  </a:lnTo>
                  <a:lnTo>
                    <a:pt x="35" y="92"/>
                  </a:lnTo>
                  <a:lnTo>
                    <a:pt x="46" y="69"/>
                  </a:lnTo>
                  <a:lnTo>
                    <a:pt x="57" y="57"/>
                  </a:lnTo>
                  <a:lnTo>
                    <a:pt x="57" y="34"/>
                  </a:lnTo>
                  <a:lnTo>
                    <a:pt x="69" y="23"/>
                  </a:lnTo>
                  <a:lnTo>
                    <a:pt x="69" y="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42640" y="3023280"/>
              <a:ext cx="68760" cy="126360"/>
            </a:xfrm>
            <a:custGeom>
              <a:avLst/>
              <a:gdLst/>
              <a:ahLst/>
              <a:rect l="l" t="t" r="r" b="b"/>
              <a:pathLst>
                <a:path w="161" h="298">
                  <a:moveTo>
                    <a:pt x="0" y="126"/>
                  </a:moveTo>
                  <a:lnTo>
                    <a:pt x="35" y="298"/>
                  </a:lnTo>
                  <a:lnTo>
                    <a:pt x="57" y="263"/>
                  </a:lnTo>
                  <a:lnTo>
                    <a:pt x="80" y="229"/>
                  </a:lnTo>
                  <a:lnTo>
                    <a:pt x="103" y="194"/>
                  </a:lnTo>
                  <a:lnTo>
                    <a:pt x="127" y="161"/>
                  </a:lnTo>
                  <a:lnTo>
                    <a:pt x="149" y="126"/>
                  </a:lnTo>
                  <a:lnTo>
                    <a:pt x="161" y="91"/>
                  </a:lnTo>
                  <a:lnTo>
                    <a:pt x="161" y="45"/>
                  </a:lnTo>
                  <a:lnTo>
                    <a:pt x="161" y="0"/>
                  </a:lnTo>
                  <a:lnTo>
                    <a:pt x="80" y="45"/>
                  </a:lnTo>
                  <a:lnTo>
                    <a:pt x="69" y="45"/>
                  </a:lnTo>
                  <a:lnTo>
                    <a:pt x="57" y="45"/>
                  </a:lnTo>
                  <a:lnTo>
                    <a:pt x="46" y="45"/>
                  </a:lnTo>
                  <a:lnTo>
                    <a:pt x="35" y="45"/>
                  </a:lnTo>
                  <a:lnTo>
                    <a:pt x="23" y="57"/>
                  </a:lnTo>
                  <a:lnTo>
                    <a:pt x="12" y="69"/>
                  </a:lnTo>
                  <a:lnTo>
                    <a:pt x="12" y="80"/>
                  </a:lnTo>
                  <a:lnTo>
                    <a:pt x="12" y="91"/>
                  </a:lnTo>
                  <a:lnTo>
                    <a:pt x="0" y="103"/>
                  </a:lnTo>
                  <a:lnTo>
                    <a:pt x="0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0000" y="2616480"/>
              <a:ext cx="63720" cy="44280"/>
            </a:xfrm>
            <a:custGeom>
              <a:avLst/>
              <a:gdLst/>
              <a:ahLst/>
              <a:rect l="l" t="t" r="r" b="b"/>
              <a:pathLst>
                <a:path w="149" h="104">
                  <a:moveTo>
                    <a:pt x="149" y="92"/>
                  </a:moveTo>
                  <a:lnTo>
                    <a:pt x="11" y="0"/>
                  </a:lnTo>
                  <a:lnTo>
                    <a:pt x="0" y="12"/>
                  </a:lnTo>
                  <a:lnTo>
                    <a:pt x="126" y="104"/>
                  </a:lnTo>
                  <a:lnTo>
                    <a:pt x="138" y="104"/>
                  </a:lnTo>
                  <a:lnTo>
                    <a:pt x="149" y="104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09920" y="2669400"/>
              <a:ext cx="23760" cy="972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7" y="24"/>
                  </a:moveTo>
                  <a:lnTo>
                    <a:pt x="0" y="0"/>
                  </a:lnTo>
                  <a:lnTo>
                    <a:pt x="12" y="24"/>
                  </a:lnTo>
                  <a:lnTo>
                    <a:pt x="57" y="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7680" y="3131280"/>
              <a:ext cx="191880" cy="122760"/>
            </a:xfrm>
            <a:custGeom>
              <a:avLst/>
              <a:gdLst/>
              <a:ahLst/>
              <a:rect l="l" t="t" r="r" b="b"/>
              <a:pathLst>
                <a:path w="447" h="287">
                  <a:moveTo>
                    <a:pt x="0" y="58"/>
                  </a:moveTo>
                  <a:lnTo>
                    <a:pt x="46" y="195"/>
                  </a:lnTo>
                  <a:lnTo>
                    <a:pt x="68" y="217"/>
                  </a:lnTo>
                  <a:lnTo>
                    <a:pt x="103" y="241"/>
                  </a:lnTo>
                  <a:lnTo>
                    <a:pt x="149" y="252"/>
                  </a:lnTo>
                  <a:lnTo>
                    <a:pt x="183" y="264"/>
                  </a:lnTo>
                  <a:lnTo>
                    <a:pt x="229" y="275"/>
                  </a:lnTo>
                  <a:lnTo>
                    <a:pt x="275" y="287"/>
                  </a:lnTo>
                  <a:lnTo>
                    <a:pt x="321" y="287"/>
                  </a:lnTo>
                  <a:lnTo>
                    <a:pt x="366" y="287"/>
                  </a:lnTo>
                  <a:lnTo>
                    <a:pt x="366" y="275"/>
                  </a:lnTo>
                  <a:lnTo>
                    <a:pt x="366" y="264"/>
                  </a:lnTo>
                  <a:lnTo>
                    <a:pt x="378" y="252"/>
                  </a:lnTo>
                  <a:lnTo>
                    <a:pt x="378" y="241"/>
                  </a:lnTo>
                  <a:lnTo>
                    <a:pt x="447" y="207"/>
                  </a:lnTo>
                  <a:lnTo>
                    <a:pt x="125" y="138"/>
                  </a:lnTo>
                  <a:lnTo>
                    <a:pt x="80" y="11"/>
                  </a:lnTo>
                  <a:lnTo>
                    <a:pt x="68" y="11"/>
                  </a:lnTo>
                  <a:lnTo>
                    <a:pt x="57" y="0"/>
                  </a:lnTo>
                  <a:lnTo>
                    <a:pt x="0" y="4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00600" y="1676520"/>
              <a:ext cx="1649520" cy="4268160"/>
            </a:xfrm>
            <a:custGeom>
              <a:avLst/>
              <a:gdLst/>
              <a:ahLst/>
              <a:rect l="l" t="t" r="r" b="b"/>
              <a:pathLst>
                <a:path w="3814" h="9989">
                  <a:moveTo>
                    <a:pt x="3814" y="7098"/>
                  </a:moveTo>
                  <a:lnTo>
                    <a:pt x="3814" y="6992"/>
                  </a:lnTo>
                  <a:lnTo>
                    <a:pt x="3800" y="6979"/>
                  </a:lnTo>
                  <a:lnTo>
                    <a:pt x="3774" y="6966"/>
                  </a:lnTo>
                  <a:lnTo>
                    <a:pt x="3761" y="6953"/>
                  </a:lnTo>
                  <a:lnTo>
                    <a:pt x="3748" y="6940"/>
                  </a:lnTo>
                  <a:lnTo>
                    <a:pt x="3721" y="6927"/>
                  </a:lnTo>
                  <a:lnTo>
                    <a:pt x="3695" y="6913"/>
                  </a:lnTo>
                  <a:lnTo>
                    <a:pt x="3682" y="6913"/>
                  </a:lnTo>
                  <a:lnTo>
                    <a:pt x="3656" y="6887"/>
                  </a:lnTo>
                  <a:lnTo>
                    <a:pt x="3642" y="6887"/>
                  </a:lnTo>
                  <a:lnTo>
                    <a:pt x="3629" y="6874"/>
                  </a:lnTo>
                  <a:lnTo>
                    <a:pt x="3616" y="6861"/>
                  </a:lnTo>
                  <a:lnTo>
                    <a:pt x="3616" y="6848"/>
                  </a:lnTo>
                  <a:lnTo>
                    <a:pt x="3511" y="6783"/>
                  </a:lnTo>
                  <a:lnTo>
                    <a:pt x="3353" y="6730"/>
                  </a:lnTo>
                  <a:lnTo>
                    <a:pt x="3196" y="6625"/>
                  </a:lnTo>
                  <a:lnTo>
                    <a:pt x="3169" y="6559"/>
                  </a:lnTo>
                  <a:lnTo>
                    <a:pt x="3103" y="6519"/>
                  </a:lnTo>
                  <a:lnTo>
                    <a:pt x="3143" y="6257"/>
                  </a:lnTo>
                  <a:lnTo>
                    <a:pt x="3235" y="5993"/>
                  </a:lnTo>
                  <a:lnTo>
                    <a:pt x="3326" y="5731"/>
                  </a:lnTo>
                  <a:lnTo>
                    <a:pt x="3445" y="5468"/>
                  </a:lnTo>
                  <a:lnTo>
                    <a:pt x="3537" y="5218"/>
                  </a:lnTo>
                  <a:lnTo>
                    <a:pt x="3603" y="4955"/>
                  </a:lnTo>
                  <a:lnTo>
                    <a:pt x="3629" y="4693"/>
                  </a:lnTo>
                  <a:lnTo>
                    <a:pt x="3603" y="4442"/>
                  </a:lnTo>
                  <a:lnTo>
                    <a:pt x="2906" y="4482"/>
                  </a:lnTo>
                  <a:lnTo>
                    <a:pt x="2893" y="4482"/>
                  </a:lnTo>
                  <a:lnTo>
                    <a:pt x="2893" y="4469"/>
                  </a:lnTo>
                  <a:lnTo>
                    <a:pt x="2879" y="4455"/>
                  </a:lnTo>
                  <a:lnTo>
                    <a:pt x="2866" y="4442"/>
                  </a:lnTo>
                  <a:lnTo>
                    <a:pt x="2853" y="4442"/>
                  </a:lnTo>
                  <a:lnTo>
                    <a:pt x="2840" y="4442"/>
                  </a:lnTo>
                  <a:lnTo>
                    <a:pt x="2039" y="4587"/>
                  </a:lnTo>
                  <a:lnTo>
                    <a:pt x="2039" y="4574"/>
                  </a:lnTo>
                  <a:lnTo>
                    <a:pt x="2051" y="4561"/>
                  </a:lnTo>
                  <a:lnTo>
                    <a:pt x="2117" y="4482"/>
                  </a:lnTo>
                  <a:lnTo>
                    <a:pt x="2103" y="4376"/>
                  </a:lnTo>
                  <a:lnTo>
                    <a:pt x="2130" y="4259"/>
                  </a:lnTo>
                  <a:lnTo>
                    <a:pt x="2169" y="4140"/>
                  </a:lnTo>
                  <a:lnTo>
                    <a:pt x="2222" y="4035"/>
                  </a:lnTo>
                  <a:lnTo>
                    <a:pt x="2275" y="3930"/>
                  </a:lnTo>
                  <a:lnTo>
                    <a:pt x="2327" y="3811"/>
                  </a:lnTo>
                  <a:lnTo>
                    <a:pt x="2367" y="3694"/>
                  </a:lnTo>
                  <a:lnTo>
                    <a:pt x="2380" y="3575"/>
                  </a:lnTo>
                  <a:lnTo>
                    <a:pt x="2406" y="3509"/>
                  </a:lnTo>
                  <a:lnTo>
                    <a:pt x="2406" y="3443"/>
                  </a:lnTo>
                  <a:lnTo>
                    <a:pt x="2406" y="3377"/>
                  </a:lnTo>
                  <a:lnTo>
                    <a:pt x="2406" y="3325"/>
                  </a:lnTo>
                  <a:lnTo>
                    <a:pt x="2393" y="3260"/>
                  </a:lnTo>
                  <a:lnTo>
                    <a:pt x="2393" y="3194"/>
                  </a:lnTo>
                  <a:lnTo>
                    <a:pt x="2380" y="3128"/>
                  </a:lnTo>
                  <a:lnTo>
                    <a:pt x="2380" y="3062"/>
                  </a:lnTo>
                  <a:lnTo>
                    <a:pt x="2367" y="3062"/>
                  </a:lnTo>
                  <a:lnTo>
                    <a:pt x="2367" y="3049"/>
                  </a:lnTo>
                  <a:lnTo>
                    <a:pt x="2354" y="3049"/>
                  </a:lnTo>
                  <a:lnTo>
                    <a:pt x="2354" y="3036"/>
                  </a:lnTo>
                  <a:lnTo>
                    <a:pt x="2354" y="3023"/>
                  </a:lnTo>
                  <a:lnTo>
                    <a:pt x="2354" y="3010"/>
                  </a:lnTo>
                  <a:lnTo>
                    <a:pt x="2354" y="2997"/>
                  </a:lnTo>
                  <a:lnTo>
                    <a:pt x="2367" y="2997"/>
                  </a:lnTo>
                  <a:lnTo>
                    <a:pt x="2367" y="2983"/>
                  </a:lnTo>
                  <a:lnTo>
                    <a:pt x="2380" y="2970"/>
                  </a:lnTo>
                  <a:lnTo>
                    <a:pt x="2393" y="2970"/>
                  </a:lnTo>
                  <a:lnTo>
                    <a:pt x="2406" y="2957"/>
                  </a:lnTo>
                  <a:lnTo>
                    <a:pt x="2419" y="2957"/>
                  </a:lnTo>
                  <a:lnTo>
                    <a:pt x="2419" y="2944"/>
                  </a:lnTo>
                  <a:lnTo>
                    <a:pt x="2551" y="2825"/>
                  </a:lnTo>
                  <a:lnTo>
                    <a:pt x="2591" y="2747"/>
                  </a:lnTo>
                  <a:lnTo>
                    <a:pt x="2591" y="2760"/>
                  </a:lnTo>
                  <a:lnTo>
                    <a:pt x="2604" y="2760"/>
                  </a:lnTo>
                  <a:lnTo>
                    <a:pt x="2617" y="2760"/>
                  </a:lnTo>
                  <a:lnTo>
                    <a:pt x="2630" y="2760"/>
                  </a:lnTo>
                  <a:lnTo>
                    <a:pt x="2642" y="2760"/>
                  </a:lnTo>
                  <a:lnTo>
                    <a:pt x="2657" y="2760"/>
                  </a:lnTo>
                  <a:lnTo>
                    <a:pt x="2670" y="2537"/>
                  </a:lnTo>
                  <a:lnTo>
                    <a:pt x="2735" y="2510"/>
                  </a:lnTo>
                  <a:lnTo>
                    <a:pt x="2740" y="2500"/>
                  </a:lnTo>
                  <a:lnTo>
                    <a:pt x="2745" y="2491"/>
                  </a:lnTo>
                  <a:lnTo>
                    <a:pt x="2749" y="2481"/>
                  </a:lnTo>
                  <a:lnTo>
                    <a:pt x="2755" y="2471"/>
                  </a:lnTo>
                  <a:lnTo>
                    <a:pt x="2759" y="2461"/>
                  </a:lnTo>
                  <a:lnTo>
                    <a:pt x="2765" y="2451"/>
                  </a:lnTo>
                  <a:lnTo>
                    <a:pt x="2770" y="2441"/>
                  </a:lnTo>
                  <a:lnTo>
                    <a:pt x="2774" y="2431"/>
                  </a:lnTo>
                  <a:lnTo>
                    <a:pt x="2787" y="2431"/>
                  </a:lnTo>
                  <a:lnTo>
                    <a:pt x="2800" y="2431"/>
                  </a:lnTo>
                  <a:lnTo>
                    <a:pt x="2815" y="2415"/>
                  </a:lnTo>
                  <a:lnTo>
                    <a:pt x="2829" y="2397"/>
                  </a:lnTo>
                  <a:lnTo>
                    <a:pt x="2842" y="2377"/>
                  </a:lnTo>
                  <a:lnTo>
                    <a:pt x="2855" y="2356"/>
                  </a:lnTo>
                  <a:lnTo>
                    <a:pt x="2867" y="2334"/>
                  </a:lnTo>
                  <a:lnTo>
                    <a:pt x="2879" y="2310"/>
                  </a:lnTo>
                  <a:lnTo>
                    <a:pt x="2890" y="2285"/>
                  </a:lnTo>
                  <a:lnTo>
                    <a:pt x="2899" y="2258"/>
                  </a:lnTo>
                  <a:lnTo>
                    <a:pt x="2907" y="2232"/>
                  </a:lnTo>
                  <a:lnTo>
                    <a:pt x="2914" y="2204"/>
                  </a:lnTo>
                  <a:lnTo>
                    <a:pt x="2918" y="2176"/>
                  </a:lnTo>
                  <a:lnTo>
                    <a:pt x="2921" y="2147"/>
                  </a:lnTo>
                  <a:lnTo>
                    <a:pt x="2923" y="2118"/>
                  </a:lnTo>
                  <a:lnTo>
                    <a:pt x="2923" y="2088"/>
                  </a:lnTo>
                  <a:lnTo>
                    <a:pt x="2920" y="2058"/>
                  </a:lnTo>
                  <a:lnTo>
                    <a:pt x="2916" y="2027"/>
                  </a:lnTo>
                  <a:lnTo>
                    <a:pt x="2908" y="1997"/>
                  </a:lnTo>
                  <a:lnTo>
                    <a:pt x="2899" y="1968"/>
                  </a:lnTo>
                  <a:lnTo>
                    <a:pt x="2887" y="1938"/>
                  </a:lnTo>
                  <a:lnTo>
                    <a:pt x="2872" y="1908"/>
                  </a:lnTo>
                  <a:lnTo>
                    <a:pt x="2853" y="1879"/>
                  </a:lnTo>
                  <a:lnTo>
                    <a:pt x="2833" y="1850"/>
                  </a:lnTo>
                  <a:lnTo>
                    <a:pt x="2808" y="1822"/>
                  </a:lnTo>
                  <a:lnTo>
                    <a:pt x="2781" y="1795"/>
                  </a:lnTo>
                  <a:lnTo>
                    <a:pt x="2749" y="1769"/>
                  </a:lnTo>
                  <a:lnTo>
                    <a:pt x="2715" y="1744"/>
                  </a:lnTo>
                  <a:lnTo>
                    <a:pt x="2676" y="1719"/>
                  </a:lnTo>
                  <a:lnTo>
                    <a:pt x="2634" y="1697"/>
                  </a:lnTo>
                  <a:lnTo>
                    <a:pt x="2587" y="1675"/>
                  </a:lnTo>
                  <a:lnTo>
                    <a:pt x="2537" y="1656"/>
                  </a:lnTo>
                  <a:lnTo>
                    <a:pt x="2482" y="1637"/>
                  </a:lnTo>
                  <a:lnTo>
                    <a:pt x="2422" y="1620"/>
                  </a:lnTo>
                  <a:lnTo>
                    <a:pt x="2642" y="1366"/>
                  </a:lnTo>
                  <a:lnTo>
                    <a:pt x="2682" y="1314"/>
                  </a:lnTo>
                  <a:lnTo>
                    <a:pt x="2721" y="1262"/>
                  </a:lnTo>
                  <a:lnTo>
                    <a:pt x="2761" y="1209"/>
                  </a:lnTo>
                  <a:lnTo>
                    <a:pt x="2800" y="1157"/>
                  </a:lnTo>
                  <a:lnTo>
                    <a:pt x="2853" y="1117"/>
                  </a:lnTo>
                  <a:lnTo>
                    <a:pt x="2879" y="1051"/>
                  </a:lnTo>
                  <a:lnTo>
                    <a:pt x="2919" y="999"/>
                  </a:lnTo>
                  <a:lnTo>
                    <a:pt x="2945" y="959"/>
                  </a:lnTo>
                  <a:lnTo>
                    <a:pt x="2972" y="919"/>
                  </a:lnTo>
                  <a:lnTo>
                    <a:pt x="2998" y="880"/>
                  </a:lnTo>
                  <a:lnTo>
                    <a:pt x="3024" y="840"/>
                  </a:lnTo>
                  <a:lnTo>
                    <a:pt x="3051" y="801"/>
                  </a:lnTo>
                  <a:lnTo>
                    <a:pt x="3077" y="776"/>
                  </a:lnTo>
                  <a:lnTo>
                    <a:pt x="3103" y="736"/>
                  </a:lnTo>
                  <a:lnTo>
                    <a:pt x="3143" y="697"/>
                  </a:lnTo>
                  <a:lnTo>
                    <a:pt x="3143" y="683"/>
                  </a:lnTo>
                  <a:lnTo>
                    <a:pt x="3143" y="670"/>
                  </a:lnTo>
                  <a:lnTo>
                    <a:pt x="3156" y="657"/>
                  </a:lnTo>
                  <a:lnTo>
                    <a:pt x="3156" y="644"/>
                  </a:lnTo>
                  <a:lnTo>
                    <a:pt x="3156" y="631"/>
                  </a:lnTo>
                  <a:lnTo>
                    <a:pt x="3169" y="618"/>
                  </a:lnTo>
                  <a:lnTo>
                    <a:pt x="3169" y="604"/>
                  </a:lnTo>
                  <a:lnTo>
                    <a:pt x="3182" y="591"/>
                  </a:lnTo>
                  <a:lnTo>
                    <a:pt x="3484" y="525"/>
                  </a:lnTo>
                  <a:lnTo>
                    <a:pt x="3537" y="301"/>
                  </a:lnTo>
                  <a:lnTo>
                    <a:pt x="3550" y="301"/>
                  </a:lnTo>
                  <a:lnTo>
                    <a:pt x="3563" y="301"/>
                  </a:lnTo>
                  <a:lnTo>
                    <a:pt x="3577" y="288"/>
                  </a:lnTo>
                  <a:lnTo>
                    <a:pt x="3590" y="288"/>
                  </a:lnTo>
                  <a:lnTo>
                    <a:pt x="3590" y="276"/>
                  </a:lnTo>
                  <a:lnTo>
                    <a:pt x="3603" y="276"/>
                  </a:lnTo>
                  <a:lnTo>
                    <a:pt x="3603" y="263"/>
                  </a:lnTo>
                  <a:lnTo>
                    <a:pt x="3537" y="197"/>
                  </a:lnTo>
                  <a:lnTo>
                    <a:pt x="3550" y="52"/>
                  </a:lnTo>
                  <a:lnTo>
                    <a:pt x="3537" y="26"/>
                  </a:lnTo>
                  <a:lnTo>
                    <a:pt x="3524" y="13"/>
                  </a:lnTo>
                  <a:lnTo>
                    <a:pt x="3498" y="13"/>
                  </a:lnTo>
                  <a:lnTo>
                    <a:pt x="3471" y="13"/>
                  </a:lnTo>
                  <a:lnTo>
                    <a:pt x="3445" y="13"/>
                  </a:lnTo>
                  <a:lnTo>
                    <a:pt x="3418" y="13"/>
                  </a:lnTo>
                  <a:lnTo>
                    <a:pt x="3392" y="13"/>
                  </a:lnTo>
                  <a:lnTo>
                    <a:pt x="3366" y="0"/>
                  </a:lnTo>
                  <a:lnTo>
                    <a:pt x="3353" y="0"/>
                  </a:lnTo>
                  <a:lnTo>
                    <a:pt x="3326" y="13"/>
                  </a:lnTo>
                  <a:lnTo>
                    <a:pt x="3301" y="13"/>
                  </a:lnTo>
                  <a:lnTo>
                    <a:pt x="3288" y="13"/>
                  </a:lnTo>
                  <a:lnTo>
                    <a:pt x="3275" y="13"/>
                  </a:lnTo>
                  <a:lnTo>
                    <a:pt x="3248" y="26"/>
                  </a:lnTo>
                  <a:lnTo>
                    <a:pt x="3235" y="26"/>
                  </a:lnTo>
                  <a:lnTo>
                    <a:pt x="3222" y="39"/>
                  </a:lnTo>
                  <a:lnTo>
                    <a:pt x="3196" y="144"/>
                  </a:lnTo>
                  <a:lnTo>
                    <a:pt x="3156" y="263"/>
                  </a:lnTo>
                  <a:lnTo>
                    <a:pt x="3117" y="354"/>
                  </a:lnTo>
                  <a:lnTo>
                    <a:pt x="3064" y="460"/>
                  </a:lnTo>
                  <a:lnTo>
                    <a:pt x="2998" y="539"/>
                  </a:lnTo>
                  <a:lnTo>
                    <a:pt x="2919" y="618"/>
                  </a:lnTo>
                  <a:lnTo>
                    <a:pt x="2840" y="683"/>
                  </a:lnTo>
                  <a:lnTo>
                    <a:pt x="2735" y="736"/>
                  </a:lnTo>
                  <a:lnTo>
                    <a:pt x="2708" y="736"/>
                  </a:lnTo>
                  <a:lnTo>
                    <a:pt x="2682" y="749"/>
                  </a:lnTo>
                  <a:lnTo>
                    <a:pt x="2657" y="762"/>
                  </a:lnTo>
                  <a:lnTo>
                    <a:pt x="2630" y="776"/>
                  </a:lnTo>
                  <a:lnTo>
                    <a:pt x="2604" y="789"/>
                  </a:lnTo>
                  <a:lnTo>
                    <a:pt x="2578" y="814"/>
                  </a:lnTo>
                  <a:lnTo>
                    <a:pt x="2551" y="827"/>
                  </a:lnTo>
                  <a:lnTo>
                    <a:pt x="2525" y="840"/>
                  </a:lnTo>
                  <a:lnTo>
                    <a:pt x="2485" y="867"/>
                  </a:lnTo>
                  <a:lnTo>
                    <a:pt x="2446" y="906"/>
                  </a:lnTo>
                  <a:lnTo>
                    <a:pt x="2406" y="959"/>
                  </a:lnTo>
                  <a:lnTo>
                    <a:pt x="2367" y="999"/>
                  </a:lnTo>
                  <a:lnTo>
                    <a:pt x="2340" y="1051"/>
                  </a:lnTo>
                  <a:lnTo>
                    <a:pt x="2301" y="1104"/>
                  </a:lnTo>
                  <a:lnTo>
                    <a:pt x="2275" y="1157"/>
                  </a:lnTo>
                  <a:lnTo>
                    <a:pt x="2248" y="1209"/>
                  </a:lnTo>
                  <a:lnTo>
                    <a:pt x="2196" y="1209"/>
                  </a:lnTo>
                  <a:lnTo>
                    <a:pt x="2063" y="1356"/>
                  </a:lnTo>
                  <a:lnTo>
                    <a:pt x="1955" y="1461"/>
                  </a:lnTo>
                  <a:lnTo>
                    <a:pt x="1857" y="1557"/>
                  </a:lnTo>
                  <a:lnTo>
                    <a:pt x="1765" y="1644"/>
                  </a:lnTo>
                  <a:lnTo>
                    <a:pt x="1683" y="1723"/>
                  </a:lnTo>
                  <a:lnTo>
                    <a:pt x="1538" y="1856"/>
                  </a:lnTo>
                  <a:lnTo>
                    <a:pt x="1422" y="1961"/>
                  </a:lnTo>
                  <a:lnTo>
                    <a:pt x="1372" y="2007"/>
                  </a:lnTo>
                  <a:lnTo>
                    <a:pt x="1328" y="2048"/>
                  </a:lnTo>
                  <a:lnTo>
                    <a:pt x="1288" y="2085"/>
                  </a:lnTo>
                  <a:lnTo>
                    <a:pt x="1254" y="2118"/>
                  </a:lnTo>
                  <a:lnTo>
                    <a:pt x="1224" y="2148"/>
                  </a:lnTo>
                  <a:lnTo>
                    <a:pt x="1197" y="2177"/>
                  </a:lnTo>
                  <a:lnTo>
                    <a:pt x="1174" y="2205"/>
                  </a:lnTo>
                  <a:lnTo>
                    <a:pt x="1155" y="2232"/>
                  </a:lnTo>
                  <a:lnTo>
                    <a:pt x="1137" y="2259"/>
                  </a:lnTo>
                  <a:lnTo>
                    <a:pt x="1123" y="2288"/>
                  </a:lnTo>
                  <a:lnTo>
                    <a:pt x="1110" y="2318"/>
                  </a:lnTo>
                  <a:lnTo>
                    <a:pt x="1098" y="2349"/>
                  </a:lnTo>
                  <a:lnTo>
                    <a:pt x="1089" y="2384"/>
                  </a:lnTo>
                  <a:lnTo>
                    <a:pt x="1079" y="2421"/>
                  </a:lnTo>
                  <a:lnTo>
                    <a:pt x="1069" y="2465"/>
                  </a:lnTo>
                  <a:lnTo>
                    <a:pt x="1061" y="2511"/>
                  </a:lnTo>
                  <a:lnTo>
                    <a:pt x="1039" y="2622"/>
                  </a:lnTo>
                  <a:lnTo>
                    <a:pt x="1013" y="2761"/>
                  </a:lnTo>
                  <a:lnTo>
                    <a:pt x="998" y="2842"/>
                  </a:lnTo>
                  <a:lnTo>
                    <a:pt x="980" y="2932"/>
                  </a:lnTo>
                  <a:lnTo>
                    <a:pt x="958" y="3032"/>
                  </a:lnTo>
                  <a:lnTo>
                    <a:pt x="933" y="3141"/>
                  </a:lnTo>
                  <a:lnTo>
                    <a:pt x="815" y="3260"/>
                  </a:lnTo>
                  <a:lnTo>
                    <a:pt x="684" y="3364"/>
                  </a:lnTo>
                  <a:lnTo>
                    <a:pt x="539" y="3470"/>
                  </a:lnTo>
                  <a:lnTo>
                    <a:pt x="394" y="3588"/>
                  </a:lnTo>
                  <a:lnTo>
                    <a:pt x="262" y="3707"/>
                  </a:lnTo>
                  <a:lnTo>
                    <a:pt x="144" y="3837"/>
                  </a:lnTo>
                  <a:lnTo>
                    <a:pt x="66" y="3996"/>
                  </a:lnTo>
                  <a:lnTo>
                    <a:pt x="26" y="4180"/>
                  </a:lnTo>
                  <a:lnTo>
                    <a:pt x="26" y="4193"/>
                  </a:lnTo>
                  <a:lnTo>
                    <a:pt x="26" y="4219"/>
                  </a:lnTo>
                  <a:lnTo>
                    <a:pt x="13" y="4233"/>
                  </a:lnTo>
                  <a:lnTo>
                    <a:pt x="13" y="4246"/>
                  </a:lnTo>
                  <a:lnTo>
                    <a:pt x="13" y="4259"/>
                  </a:lnTo>
                  <a:lnTo>
                    <a:pt x="0" y="4284"/>
                  </a:lnTo>
                  <a:lnTo>
                    <a:pt x="0" y="4297"/>
                  </a:lnTo>
                  <a:lnTo>
                    <a:pt x="0" y="4311"/>
                  </a:lnTo>
                  <a:lnTo>
                    <a:pt x="0" y="4324"/>
                  </a:lnTo>
                  <a:lnTo>
                    <a:pt x="13" y="4324"/>
                  </a:lnTo>
                  <a:lnTo>
                    <a:pt x="13" y="4337"/>
                  </a:lnTo>
                  <a:lnTo>
                    <a:pt x="53" y="4337"/>
                  </a:lnTo>
                  <a:lnTo>
                    <a:pt x="91" y="4350"/>
                  </a:lnTo>
                  <a:lnTo>
                    <a:pt x="131" y="4363"/>
                  </a:lnTo>
                  <a:lnTo>
                    <a:pt x="170" y="4376"/>
                  </a:lnTo>
                  <a:lnTo>
                    <a:pt x="210" y="4376"/>
                  </a:lnTo>
                  <a:lnTo>
                    <a:pt x="249" y="4376"/>
                  </a:lnTo>
                  <a:lnTo>
                    <a:pt x="289" y="4363"/>
                  </a:lnTo>
                  <a:lnTo>
                    <a:pt x="328" y="4350"/>
                  </a:lnTo>
                  <a:lnTo>
                    <a:pt x="328" y="4337"/>
                  </a:lnTo>
                  <a:lnTo>
                    <a:pt x="328" y="4324"/>
                  </a:lnTo>
                  <a:lnTo>
                    <a:pt x="328" y="4311"/>
                  </a:lnTo>
                  <a:lnTo>
                    <a:pt x="341" y="4246"/>
                  </a:lnTo>
                  <a:lnTo>
                    <a:pt x="368" y="4180"/>
                  </a:lnTo>
                  <a:lnTo>
                    <a:pt x="394" y="4114"/>
                  </a:lnTo>
                  <a:lnTo>
                    <a:pt x="434" y="4061"/>
                  </a:lnTo>
                  <a:lnTo>
                    <a:pt x="486" y="4009"/>
                  </a:lnTo>
                  <a:lnTo>
                    <a:pt x="539" y="3956"/>
                  </a:lnTo>
                  <a:lnTo>
                    <a:pt x="579" y="3903"/>
                  </a:lnTo>
                  <a:lnTo>
                    <a:pt x="631" y="3851"/>
                  </a:lnTo>
                  <a:lnTo>
                    <a:pt x="658" y="3837"/>
                  </a:lnTo>
                  <a:lnTo>
                    <a:pt x="684" y="3824"/>
                  </a:lnTo>
                  <a:lnTo>
                    <a:pt x="709" y="3811"/>
                  </a:lnTo>
                  <a:lnTo>
                    <a:pt x="737" y="3798"/>
                  </a:lnTo>
                  <a:lnTo>
                    <a:pt x="762" y="3786"/>
                  </a:lnTo>
                  <a:lnTo>
                    <a:pt x="775" y="3773"/>
                  </a:lnTo>
                  <a:lnTo>
                    <a:pt x="801" y="3746"/>
                  </a:lnTo>
                  <a:lnTo>
                    <a:pt x="828" y="3733"/>
                  </a:lnTo>
                  <a:lnTo>
                    <a:pt x="815" y="3877"/>
                  </a:lnTo>
                  <a:lnTo>
                    <a:pt x="788" y="4035"/>
                  </a:lnTo>
                  <a:lnTo>
                    <a:pt x="749" y="4193"/>
                  </a:lnTo>
                  <a:lnTo>
                    <a:pt x="709" y="4350"/>
                  </a:lnTo>
                  <a:lnTo>
                    <a:pt x="684" y="4508"/>
                  </a:lnTo>
                  <a:lnTo>
                    <a:pt x="658" y="4653"/>
                  </a:lnTo>
                  <a:lnTo>
                    <a:pt x="658" y="4810"/>
                  </a:lnTo>
                  <a:lnTo>
                    <a:pt x="684" y="4968"/>
                  </a:lnTo>
                  <a:lnTo>
                    <a:pt x="749" y="4995"/>
                  </a:lnTo>
                  <a:lnTo>
                    <a:pt x="722" y="5113"/>
                  </a:lnTo>
                  <a:lnTo>
                    <a:pt x="697" y="5245"/>
                  </a:lnTo>
                  <a:lnTo>
                    <a:pt x="658" y="5362"/>
                  </a:lnTo>
                  <a:lnTo>
                    <a:pt x="631" y="5494"/>
                  </a:lnTo>
                  <a:lnTo>
                    <a:pt x="618" y="5613"/>
                  </a:lnTo>
                  <a:lnTo>
                    <a:pt x="618" y="5744"/>
                  </a:lnTo>
                  <a:lnTo>
                    <a:pt x="644" y="5862"/>
                  </a:lnTo>
                  <a:lnTo>
                    <a:pt x="722" y="5993"/>
                  </a:lnTo>
                  <a:lnTo>
                    <a:pt x="737" y="6059"/>
                  </a:lnTo>
                  <a:lnTo>
                    <a:pt x="737" y="6112"/>
                  </a:lnTo>
                  <a:lnTo>
                    <a:pt x="749" y="6178"/>
                  </a:lnTo>
                  <a:lnTo>
                    <a:pt x="762" y="6244"/>
                  </a:lnTo>
                  <a:lnTo>
                    <a:pt x="775" y="6295"/>
                  </a:lnTo>
                  <a:lnTo>
                    <a:pt x="788" y="6348"/>
                  </a:lnTo>
                  <a:lnTo>
                    <a:pt x="815" y="6401"/>
                  </a:lnTo>
                  <a:lnTo>
                    <a:pt x="841" y="6453"/>
                  </a:lnTo>
                  <a:lnTo>
                    <a:pt x="867" y="6546"/>
                  </a:lnTo>
                  <a:lnTo>
                    <a:pt x="894" y="6638"/>
                  </a:lnTo>
                  <a:lnTo>
                    <a:pt x="920" y="6730"/>
                  </a:lnTo>
                  <a:lnTo>
                    <a:pt x="946" y="6808"/>
                  </a:lnTo>
                  <a:lnTo>
                    <a:pt x="973" y="6900"/>
                  </a:lnTo>
                  <a:lnTo>
                    <a:pt x="986" y="6992"/>
                  </a:lnTo>
                  <a:lnTo>
                    <a:pt x="986" y="7085"/>
                  </a:lnTo>
                  <a:lnTo>
                    <a:pt x="986" y="7177"/>
                  </a:lnTo>
                  <a:lnTo>
                    <a:pt x="986" y="7190"/>
                  </a:lnTo>
                  <a:lnTo>
                    <a:pt x="986" y="7203"/>
                  </a:lnTo>
                  <a:lnTo>
                    <a:pt x="999" y="7203"/>
                  </a:lnTo>
                  <a:lnTo>
                    <a:pt x="1012" y="7216"/>
                  </a:lnTo>
                  <a:lnTo>
                    <a:pt x="1144" y="7203"/>
                  </a:lnTo>
                  <a:lnTo>
                    <a:pt x="1183" y="7243"/>
                  </a:lnTo>
                  <a:lnTo>
                    <a:pt x="1210" y="7281"/>
                  </a:lnTo>
                  <a:lnTo>
                    <a:pt x="1223" y="7334"/>
                  </a:lnTo>
                  <a:lnTo>
                    <a:pt x="1249" y="7387"/>
                  </a:lnTo>
                  <a:lnTo>
                    <a:pt x="1249" y="7452"/>
                  </a:lnTo>
                  <a:lnTo>
                    <a:pt x="1262" y="7505"/>
                  </a:lnTo>
                  <a:lnTo>
                    <a:pt x="1262" y="7571"/>
                  </a:lnTo>
                  <a:lnTo>
                    <a:pt x="1262" y="7624"/>
                  </a:lnTo>
                  <a:lnTo>
                    <a:pt x="1262" y="7637"/>
                  </a:lnTo>
                  <a:lnTo>
                    <a:pt x="1249" y="7650"/>
                  </a:lnTo>
                  <a:lnTo>
                    <a:pt x="1249" y="7663"/>
                  </a:lnTo>
                  <a:lnTo>
                    <a:pt x="1236" y="7676"/>
                  </a:lnTo>
                  <a:lnTo>
                    <a:pt x="1236" y="7690"/>
                  </a:lnTo>
                  <a:lnTo>
                    <a:pt x="1223" y="7690"/>
                  </a:lnTo>
                  <a:lnTo>
                    <a:pt x="1065" y="7860"/>
                  </a:lnTo>
                  <a:lnTo>
                    <a:pt x="946" y="8057"/>
                  </a:lnTo>
                  <a:lnTo>
                    <a:pt x="854" y="8268"/>
                  </a:lnTo>
                  <a:lnTo>
                    <a:pt x="775" y="8491"/>
                  </a:lnTo>
                  <a:lnTo>
                    <a:pt x="684" y="8702"/>
                  </a:lnTo>
                  <a:lnTo>
                    <a:pt x="579" y="8911"/>
                  </a:lnTo>
                  <a:lnTo>
                    <a:pt x="434" y="9096"/>
                  </a:lnTo>
                  <a:lnTo>
                    <a:pt x="249" y="9254"/>
                  </a:lnTo>
                  <a:lnTo>
                    <a:pt x="236" y="9279"/>
                  </a:lnTo>
                  <a:lnTo>
                    <a:pt x="223" y="9306"/>
                  </a:lnTo>
                  <a:lnTo>
                    <a:pt x="210" y="9319"/>
                  </a:lnTo>
                  <a:lnTo>
                    <a:pt x="197" y="9345"/>
                  </a:lnTo>
                  <a:lnTo>
                    <a:pt x="170" y="9358"/>
                  </a:lnTo>
                  <a:lnTo>
                    <a:pt x="157" y="9385"/>
                  </a:lnTo>
                  <a:lnTo>
                    <a:pt x="131" y="9398"/>
                  </a:lnTo>
                  <a:lnTo>
                    <a:pt x="118" y="9411"/>
                  </a:lnTo>
                  <a:lnTo>
                    <a:pt x="91" y="9437"/>
                  </a:lnTo>
                  <a:lnTo>
                    <a:pt x="78" y="9477"/>
                  </a:lnTo>
                  <a:lnTo>
                    <a:pt x="66" y="9516"/>
                  </a:lnTo>
                  <a:lnTo>
                    <a:pt x="66" y="9569"/>
                  </a:lnTo>
                  <a:lnTo>
                    <a:pt x="66" y="9609"/>
                  </a:lnTo>
                  <a:lnTo>
                    <a:pt x="78" y="9648"/>
                  </a:lnTo>
                  <a:lnTo>
                    <a:pt x="104" y="9688"/>
                  </a:lnTo>
                  <a:lnTo>
                    <a:pt x="118" y="9727"/>
                  </a:lnTo>
                  <a:lnTo>
                    <a:pt x="197" y="9780"/>
                  </a:lnTo>
                  <a:lnTo>
                    <a:pt x="262" y="9805"/>
                  </a:lnTo>
                  <a:lnTo>
                    <a:pt x="355" y="9845"/>
                  </a:lnTo>
                  <a:lnTo>
                    <a:pt x="434" y="9871"/>
                  </a:lnTo>
                  <a:lnTo>
                    <a:pt x="526" y="9897"/>
                  </a:lnTo>
                  <a:lnTo>
                    <a:pt x="605" y="9924"/>
                  </a:lnTo>
                  <a:lnTo>
                    <a:pt x="697" y="9950"/>
                  </a:lnTo>
                  <a:lnTo>
                    <a:pt x="775" y="9989"/>
                  </a:lnTo>
                  <a:lnTo>
                    <a:pt x="828" y="9989"/>
                  </a:lnTo>
                  <a:lnTo>
                    <a:pt x="880" y="9989"/>
                  </a:lnTo>
                  <a:lnTo>
                    <a:pt x="946" y="9976"/>
                  </a:lnTo>
                  <a:lnTo>
                    <a:pt x="999" y="9976"/>
                  </a:lnTo>
                  <a:lnTo>
                    <a:pt x="1052" y="9963"/>
                  </a:lnTo>
                  <a:lnTo>
                    <a:pt x="1104" y="9950"/>
                  </a:lnTo>
                  <a:lnTo>
                    <a:pt x="1144" y="9924"/>
                  </a:lnTo>
                  <a:lnTo>
                    <a:pt x="1197" y="9897"/>
                  </a:lnTo>
                  <a:lnTo>
                    <a:pt x="1091" y="9674"/>
                  </a:lnTo>
                  <a:lnTo>
                    <a:pt x="946" y="9674"/>
                  </a:lnTo>
                  <a:lnTo>
                    <a:pt x="933" y="9661"/>
                  </a:lnTo>
                  <a:lnTo>
                    <a:pt x="920" y="9648"/>
                  </a:lnTo>
                  <a:lnTo>
                    <a:pt x="907" y="9635"/>
                  </a:lnTo>
                  <a:lnTo>
                    <a:pt x="894" y="9609"/>
                  </a:lnTo>
                  <a:lnTo>
                    <a:pt x="894" y="9582"/>
                  </a:lnTo>
                  <a:lnTo>
                    <a:pt x="880" y="9569"/>
                  </a:lnTo>
                  <a:lnTo>
                    <a:pt x="880" y="9543"/>
                  </a:lnTo>
                  <a:lnTo>
                    <a:pt x="880" y="9516"/>
                  </a:lnTo>
                  <a:lnTo>
                    <a:pt x="867" y="9490"/>
                  </a:lnTo>
                  <a:lnTo>
                    <a:pt x="854" y="9477"/>
                  </a:lnTo>
                  <a:lnTo>
                    <a:pt x="841" y="9477"/>
                  </a:lnTo>
                  <a:lnTo>
                    <a:pt x="815" y="9464"/>
                  </a:lnTo>
                  <a:lnTo>
                    <a:pt x="801" y="9450"/>
                  </a:lnTo>
                  <a:lnTo>
                    <a:pt x="775" y="9437"/>
                  </a:lnTo>
                  <a:lnTo>
                    <a:pt x="762" y="9411"/>
                  </a:lnTo>
                  <a:lnTo>
                    <a:pt x="749" y="9398"/>
                  </a:lnTo>
                  <a:lnTo>
                    <a:pt x="854" y="9175"/>
                  </a:lnTo>
                  <a:lnTo>
                    <a:pt x="986" y="8977"/>
                  </a:lnTo>
                  <a:lnTo>
                    <a:pt x="1118" y="8793"/>
                  </a:lnTo>
                  <a:lnTo>
                    <a:pt x="1262" y="8610"/>
                  </a:lnTo>
                  <a:lnTo>
                    <a:pt x="1419" y="8425"/>
                  </a:lnTo>
                  <a:lnTo>
                    <a:pt x="1564" y="8242"/>
                  </a:lnTo>
                  <a:lnTo>
                    <a:pt x="1709" y="8057"/>
                  </a:lnTo>
                  <a:lnTo>
                    <a:pt x="1828" y="7860"/>
                  </a:lnTo>
                  <a:lnTo>
                    <a:pt x="1867" y="7820"/>
                  </a:lnTo>
                  <a:lnTo>
                    <a:pt x="1894" y="7782"/>
                  </a:lnTo>
                  <a:lnTo>
                    <a:pt x="1907" y="7742"/>
                  </a:lnTo>
                  <a:lnTo>
                    <a:pt x="1920" y="7703"/>
                  </a:lnTo>
                  <a:lnTo>
                    <a:pt x="1907" y="7663"/>
                  </a:lnTo>
                  <a:lnTo>
                    <a:pt x="1907" y="7611"/>
                  </a:lnTo>
                  <a:lnTo>
                    <a:pt x="1907" y="7571"/>
                  </a:lnTo>
                  <a:lnTo>
                    <a:pt x="1907" y="7532"/>
                  </a:lnTo>
                  <a:lnTo>
                    <a:pt x="1920" y="7373"/>
                  </a:lnTo>
                  <a:lnTo>
                    <a:pt x="1920" y="7230"/>
                  </a:lnTo>
                  <a:lnTo>
                    <a:pt x="1933" y="7085"/>
                  </a:lnTo>
                  <a:lnTo>
                    <a:pt x="1933" y="6927"/>
                  </a:lnTo>
                  <a:lnTo>
                    <a:pt x="1946" y="6783"/>
                  </a:lnTo>
                  <a:lnTo>
                    <a:pt x="1946" y="6638"/>
                  </a:lnTo>
                  <a:lnTo>
                    <a:pt x="1933" y="6493"/>
                  </a:lnTo>
                  <a:lnTo>
                    <a:pt x="1933" y="6335"/>
                  </a:lnTo>
                  <a:lnTo>
                    <a:pt x="1933" y="6309"/>
                  </a:lnTo>
                  <a:lnTo>
                    <a:pt x="1933" y="6270"/>
                  </a:lnTo>
                  <a:lnTo>
                    <a:pt x="1933" y="6231"/>
                  </a:lnTo>
                  <a:lnTo>
                    <a:pt x="1933" y="6204"/>
                  </a:lnTo>
                  <a:lnTo>
                    <a:pt x="1933" y="6165"/>
                  </a:lnTo>
                  <a:lnTo>
                    <a:pt x="1933" y="6138"/>
                  </a:lnTo>
                  <a:lnTo>
                    <a:pt x="1920" y="6099"/>
                  </a:lnTo>
                  <a:lnTo>
                    <a:pt x="1920" y="6073"/>
                  </a:lnTo>
                  <a:lnTo>
                    <a:pt x="1946" y="5941"/>
                  </a:lnTo>
                  <a:lnTo>
                    <a:pt x="2024" y="5875"/>
                  </a:lnTo>
                  <a:lnTo>
                    <a:pt x="2090" y="5822"/>
                  </a:lnTo>
                  <a:lnTo>
                    <a:pt x="2169" y="5771"/>
                  </a:lnTo>
                  <a:lnTo>
                    <a:pt x="2248" y="5718"/>
                  </a:lnTo>
                  <a:lnTo>
                    <a:pt x="2327" y="5665"/>
                  </a:lnTo>
                  <a:lnTo>
                    <a:pt x="2419" y="5639"/>
                  </a:lnTo>
                  <a:lnTo>
                    <a:pt x="2512" y="5613"/>
                  </a:lnTo>
                  <a:lnTo>
                    <a:pt x="2617" y="5586"/>
                  </a:lnTo>
                  <a:lnTo>
                    <a:pt x="2630" y="5586"/>
                  </a:lnTo>
                  <a:lnTo>
                    <a:pt x="2630" y="5573"/>
                  </a:lnTo>
                  <a:lnTo>
                    <a:pt x="2630" y="5560"/>
                  </a:lnTo>
                  <a:lnTo>
                    <a:pt x="2695" y="5468"/>
                  </a:lnTo>
                  <a:lnTo>
                    <a:pt x="2695" y="5441"/>
                  </a:lnTo>
                  <a:lnTo>
                    <a:pt x="2708" y="5415"/>
                  </a:lnTo>
                  <a:lnTo>
                    <a:pt x="2735" y="5389"/>
                  </a:lnTo>
                  <a:lnTo>
                    <a:pt x="2748" y="5375"/>
                  </a:lnTo>
                  <a:lnTo>
                    <a:pt x="2774" y="5349"/>
                  </a:lnTo>
                  <a:lnTo>
                    <a:pt x="2800" y="5336"/>
                  </a:lnTo>
                  <a:lnTo>
                    <a:pt x="2827" y="5323"/>
                  </a:lnTo>
                  <a:lnTo>
                    <a:pt x="2840" y="5310"/>
                  </a:lnTo>
                  <a:lnTo>
                    <a:pt x="2853" y="5310"/>
                  </a:lnTo>
                  <a:lnTo>
                    <a:pt x="2866" y="5310"/>
                  </a:lnTo>
                  <a:lnTo>
                    <a:pt x="2866" y="5296"/>
                  </a:lnTo>
                  <a:lnTo>
                    <a:pt x="2879" y="5296"/>
                  </a:lnTo>
                  <a:lnTo>
                    <a:pt x="2840" y="5389"/>
                  </a:lnTo>
                  <a:lnTo>
                    <a:pt x="2814" y="5481"/>
                  </a:lnTo>
                  <a:lnTo>
                    <a:pt x="2800" y="5586"/>
                  </a:lnTo>
                  <a:lnTo>
                    <a:pt x="2800" y="5692"/>
                  </a:lnTo>
                  <a:lnTo>
                    <a:pt x="2787" y="5784"/>
                  </a:lnTo>
                  <a:lnTo>
                    <a:pt x="2800" y="5888"/>
                  </a:lnTo>
                  <a:lnTo>
                    <a:pt x="2800" y="5993"/>
                  </a:lnTo>
                  <a:lnTo>
                    <a:pt x="2800" y="6099"/>
                  </a:lnTo>
                  <a:lnTo>
                    <a:pt x="2787" y="6231"/>
                  </a:lnTo>
                  <a:lnTo>
                    <a:pt x="2761" y="6335"/>
                  </a:lnTo>
                  <a:lnTo>
                    <a:pt x="2735" y="6453"/>
                  </a:lnTo>
                  <a:lnTo>
                    <a:pt x="2695" y="6559"/>
                  </a:lnTo>
                  <a:lnTo>
                    <a:pt x="2670" y="6664"/>
                  </a:lnTo>
                  <a:lnTo>
                    <a:pt x="2630" y="6756"/>
                  </a:lnTo>
                  <a:lnTo>
                    <a:pt x="2604" y="6874"/>
                  </a:lnTo>
                  <a:lnTo>
                    <a:pt x="2578" y="6979"/>
                  </a:lnTo>
                  <a:lnTo>
                    <a:pt x="2564" y="6992"/>
                  </a:lnTo>
                  <a:lnTo>
                    <a:pt x="2564" y="7006"/>
                  </a:lnTo>
                  <a:lnTo>
                    <a:pt x="2564" y="7019"/>
                  </a:lnTo>
                  <a:lnTo>
                    <a:pt x="2551" y="7032"/>
                  </a:lnTo>
                  <a:lnTo>
                    <a:pt x="2551" y="7045"/>
                  </a:lnTo>
                  <a:lnTo>
                    <a:pt x="2551" y="7058"/>
                  </a:lnTo>
                  <a:lnTo>
                    <a:pt x="2538" y="7085"/>
                  </a:lnTo>
                  <a:lnTo>
                    <a:pt x="2525" y="7098"/>
                  </a:lnTo>
                  <a:lnTo>
                    <a:pt x="2538" y="7111"/>
                  </a:lnTo>
                  <a:lnTo>
                    <a:pt x="2538" y="7124"/>
                  </a:lnTo>
                  <a:lnTo>
                    <a:pt x="2538" y="7137"/>
                  </a:lnTo>
                  <a:lnTo>
                    <a:pt x="2551" y="7151"/>
                  </a:lnTo>
                  <a:lnTo>
                    <a:pt x="2564" y="7151"/>
                  </a:lnTo>
                  <a:lnTo>
                    <a:pt x="2591" y="7164"/>
                  </a:lnTo>
                  <a:lnTo>
                    <a:pt x="2604" y="7164"/>
                  </a:lnTo>
                  <a:lnTo>
                    <a:pt x="2630" y="7164"/>
                  </a:lnTo>
                  <a:lnTo>
                    <a:pt x="2657" y="7164"/>
                  </a:lnTo>
                  <a:lnTo>
                    <a:pt x="2682" y="7164"/>
                  </a:lnTo>
                  <a:lnTo>
                    <a:pt x="2695" y="7164"/>
                  </a:lnTo>
                  <a:lnTo>
                    <a:pt x="2721" y="7164"/>
                  </a:lnTo>
                  <a:lnTo>
                    <a:pt x="2853" y="7177"/>
                  </a:lnTo>
                  <a:lnTo>
                    <a:pt x="2985" y="7190"/>
                  </a:lnTo>
                  <a:lnTo>
                    <a:pt x="3117" y="7177"/>
                  </a:lnTo>
                  <a:lnTo>
                    <a:pt x="3248" y="7177"/>
                  </a:lnTo>
                  <a:lnTo>
                    <a:pt x="3379" y="7164"/>
                  </a:lnTo>
                  <a:lnTo>
                    <a:pt x="3498" y="7151"/>
                  </a:lnTo>
                  <a:lnTo>
                    <a:pt x="3629" y="7137"/>
                  </a:lnTo>
                  <a:lnTo>
                    <a:pt x="3761" y="7124"/>
                  </a:lnTo>
                  <a:lnTo>
                    <a:pt x="3774" y="7124"/>
                  </a:lnTo>
                  <a:lnTo>
                    <a:pt x="3787" y="7124"/>
                  </a:lnTo>
                  <a:lnTo>
                    <a:pt x="3800" y="7111"/>
                  </a:lnTo>
                  <a:lnTo>
                    <a:pt x="3814" y="7111"/>
                  </a:lnTo>
                  <a:lnTo>
                    <a:pt x="3814" y="70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67360" y="4529520"/>
              <a:ext cx="392760" cy="184320"/>
            </a:xfrm>
            <a:custGeom>
              <a:avLst/>
              <a:gdLst/>
              <a:ahLst/>
              <a:rect l="l" t="t" r="r" b="b"/>
              <a:pathLst>
                <a:path w="908" h="434">
                  <a:moveTo>
                    <a:pt x="908" y="395"/>
                  </a:moveTo>
                  <a:lnTo>
                    <a:pt x="671" y="355"/>
                  </a:lnTo>
                  <a:lnTo>
                    <a:pt x="671" y="329"/>
                  </a:lnTo>
                  <a:lnTo>
                    <a:pt x="671" y="302"/>
                  </a:lnTo>
                  <a:lnTo>
                    <a:pt x="671" y="276"/>
                  </a:lnTo>
                  <a:lnTo>
                    <a:pt x="684" y="263"/>
                  </a:lnTo>
                  <a:lnTo>
                    <a:pt x="697" y="236"/>
                  </a:lnTo>
                  <a:lnTo>
                    <a:pt x="710" y="223"/>
                  </a:lnTo>
                  <a:lnTo>
                    <a:pt x="723" y="197"/>
                  </a:lnTo>
                  <a:lnTo>
                    <a:pt x="737" y="171"/>
                  </a:lnTo>
                  <a:lnTo>
                    <a:pt x="723" y="171"/>
                  </a:lnTo>
                  <a:lnTo>
                    <a:pt x="710" y="184"/>
                  </a:lnTo>
                  <a:lnTo>
                    <a:pt x="697" y="184"/>
                  </a:lnTo>
                  <a:lnTo>
                    <a:pt x="684" y="197"/>
                  </a:lnTo>
                  <a:lnTo>
                    <a:pt x="671" y="210"/>
                  </a:lnTo>
                  <a:lnTo>
                    <a:pt x="658" y="223"/>
                  </a:lnTo>
                  <a:lnTo>
                    <a:pt x="644" y="236"/>
                  </a:lnTo>
                  <a:lnTo>
                    <a:pt x="631" y="250"/>
                  </a:lnTo>
                  <a:lnTo>
                    <a:pt x="618" y="276"/>
                  </a:lnTo>
                  <a:lnTo>
                    <a:pt x="606" y="302"/>
                  </a:lnTo>
                  <a:lnTo>
                    <a:pt x="593" y="329"/>
                  </a:lnTo>
                  <a:lnTo>
                    <a:pt x="580" y="342"/>
                  </a:lnTo>
                  <a:lnTo>
                    <a:pt x="566" y="368"/>
                  </a:lnTo>
                  <a:lnTo>
                    <a:pt x="540" y="381"/>
                  </a:lnTo>
                  <a:lnTo>
                    <a:pt x="514" y="395"/>
                  </a:lnTo>
                  <a:lnTo>
                    <a:pt x="487" y="395"/>
                  </a:lnTo>
                  <a:lnTo>
                    <a:pt x="461" y="408"/>
                  </a:lnTo>
                  <a:lnTo>
                    <a:pt x="448" y="408"/>
                  </a:lnTo>
                  <a:lnTo>
                    <a:pt x="435" y="408"/>
                  </a:lnTo>
                  <a:lnTo>
                    <a:pt x="422" y="421"/>
                  </a:lnTo>
                  <a:lnTo>
                    <a:pt x="408" y="421"/>
                  </a:lnTo>
                  <a:lnTo>
                    <a:pt x="395" y="421"/>
                  </a:lnTo>
                  <a:lnTo>
                    <a:pt x="382" y="421"/>
                  </a:lnTo>
                  <a:lnTo>
                    <a:pt x="369" y="421"/>
                  </a:lnTo>
                  <a:lnTo>
                    <a:pt x="356" y="421"/>
                  </a:lnTo>
                  <a:lnTo>
                    <a:pt x="343" y="408"/>
                  </a:lnTo>
                  <a:lnTo>
                    <a:pt x="329" y="408"/>
                  </a:lnTo>
                  <a:lnTo>
                    <a:pt x="316" y="395"/>
                  </a:lnTo>
                  <a:lnTo>
                    <a:pt x="303" y="381"/>
                  </a:lnTo>
                  <a:lnTo>
                    <a:pt x="303" y="368"/>
                  </a:lnTo>
                  <a:lnTo>
                    <a:pt x="290" y="355"/>
                  </a:lnTo>
                  <a:lnTo>
                    <a:pt x="448" y="0"/>
                  </a:lnTo>
                  <a:lnTo>
                    <a:pt x="422" y="0"/>
                  </a:lnTo>
                  <a:lnTo>
                    <a:pt x="395" y="0"/>
                  </a:lnTo>
                  <a:lnTo>
                    <a:pt x="382" y="14"/>
                  </a:lnTo>
                  <a:lnTo>
                    <a:pt x="356" y="27"/>
                  </a:lnTo>
                  <a:lnTo>
                    <a:pt x="329" y="40"/>
                  </a:lnTo>
                  <a:lnTo>
                    <a:pt x="316" y="66"/>
                  </a:lnTo>
                  <a:lnTo>
                    <a:pt x="303" y="93"/>
                  </a:lnTo>
                  <a:lnTo>
                    <a:pt x="277" y="106"/>
                  </a:lnTo>
                  <a:lnTo>
                    <a:pt x="263" y="131"/>
                  </a:lnTo>
                  <a:lnTo>
                    <a:pt x="263" y="157"/>
                  </a:lnTo>
                  <a:lnTo>
                    <a:pt x="250" y="171"/>
                  </a:lnTo>
                  <a:lnTo>
                    <a:pt x="250" y="197"/>
                  </a:lnTo>
                  <a:lnTo>
                    <a:pt x="250" y="223"/>
                  </a:lnTo>
                  <a:lnTo>
                    <a:pt x="250" y="236"/>
                  </a:lnTo>
                  <a:lnTo>
                    <a:pt x="250" y="263"/>
                  </a:lnTo>
                  <a:lnTo>
                    <a:pt x="250" y="289"/>
                  </a:lnTo>
                  <a:lnTo>
                    <a:pt x="0" y="395"/>
                  </a:lnTo>
                  <a:lnTo>
                    <a:pt x="66" y="408"/>
                  </a:lnTo>
                  <a:lnTo>
                    <a:pt x="145" y="421"/>
                  </a:lnTo>
                  <a:lnTo>
                    <a:pt x="224" y="421"/>
                  </a:lnTo>
                  <a:lnTo>
                    <a:pt x="303" y="421"/>
                  </a:lnTo>
                  <a:lnTo>
                    <a:pt x="382" y="421"/>
                  </a:lnTo>
                  <a:lnTo>
                    <a:pt x="461" y="421"/>
                  </a:lnTo>
                  <a:lnTo>
                    <a:pt x="540" y="434"/>
                  </a:lnTo>
                  <a:lnTo>
                    <a:pt x="618" y="434"/>
                  </a:lnTo>
                  <a:lnTo>
                    <a:pt x="658" y="434"/>
                  </a:lnTo>
                  <a:lnTo>
                    <a:pt x="697" y="421"/>
                  </a:lnTo>
                  <a:lnTo>
                    <a:pt x="737" y="421"/>
                  </a:lnTo>
                  <a:lnTo>
                    <a:pt x="789" y="408"/>
                  </a:lnTo>
                  <a:lnTo>
                    <a:pt x="816" y="408"/>
                  </a:lnTo>
                  <a:lnTo>
                    <a:pt x="855" y="408"/>
                  </a:lnTo>
                  <a:lnTo>
                    <a:pt x="882" y="395"/>
                  </a:lnTo>
                  <a:lnTo>
                    <a:pt x="908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20160" y="4636800"/>
              <a:ext cx="45000" cy="10440"/>
            </a:xfrm>
            <a:custGeom>
              <a:avLst/>
              <a:gdLst/>
              <a:ahLst/>
              <a:rect l="l" t="t" r="r" b="b"/>
              <a:pathLst>
                <a:path w="105" h="26">
                  <a:moveTo>
                    <a:pt x="92" y="13"/>
                  </a:moveTo>
                  <a:lnTo>
                    <a:pt x="79" y="13"/>
                  </a:lnTo>
                  <a:lnTo>
                    <a:pt x="66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26"/>
                  </a:lnTo>
                  <a:lnTo>
                    <a:pt x="26" y="26"/>
                  </a:lnTo>
                  <a:lnTo>
                    <a:pt x="39" y="26"/>
                  </a:lnTo>
                  <a:lnTo>
                    <a:pt x="52" y="26"/>
                  </a:lnTo>
                  <a:lnTo>
                    <a:pt x="79" y="26"/>
                  </a:lnTo>
                  <a:lnTo>
                    <a:pt x="92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92" y="1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50080" y="3602880"/>
              <a:ext cx="410040" cy="1033560"/>
            </a:xfrm>
            <a:custGeom>
              <a:avLst/>
              <a:gdLst/>
              <a:ahLst/>
              <a:rect l="l" t="t" r="r" b="b"/>
              <a:pathLst>
                <a:path w="946" h="2419">
                  <a:moveTo>
                    <a:pt x="946" y="224"/>
                  </a:moveTo>
                  <a:lnTo>
                    <a:pt x="893" y="13"/>
                  </a:lnTo>
                  <a:lnTo>
                    <a:pt x="814" y="13"/>
                  </a:lnTo>
                  <a:lnTo>
                    <a:pt x="735" y="0"/>
                  </a:lnTo>
                  <a:lnTo>
                    <a:pt x="644" y="0"/>
                  </a:lnTo>
                  <a:lnTo>
                    <a:pt x="565" y="13"/>
                  </a:lnTo>
                  <a:lnTo>
                    <a:pt x="473" y="27"/>
                  </a:lnTo>
                  <a:lnTo>
                    <a:pt x="394" y="40"/>
                  </a:lnTo>
                  <a:lnTo>
                    <a:pt x="315" y="66"/>
                  </a:lnTo>
                  <a:lnTo>
                    <a:pt x="249" y="106"/>
                  </a:lnTo>
                  <a:lnTo>
                    <a:pt x="104" y="526"/>
                  </a:lnTo>
                  <a:lnTo>
                    <a:pt x="486" y="315"/>
                  </a:lnTo>
                  <a:lnTo>
                    <a:pt x="499" y="315"/>
                  </a:lnTo>
                  <a:lnTo>
                    <a:pt x="512" y="328"/>
                  </a:lnTo>
                  <a:lnTo>
                    <a:pt x="525" y="328"/>
                  </a:lnTo>
                  <a:lnTo>
                    <a:pt x="525" y="342"/>
                  </a:lnTo>
                  <a:lnTo>
                    <a:pt x="539" y="355"/>
                  </a:lnTo>
                  <a:lnTo>
                    <a:pt x="539" y="368"/>
                  </a:lnTo>
                  <a:lnTo>
                    <a:pt x="394" y="605"/>
                  </a:lnTo>
                  <a:lnTo>
                    <a:pt x="328" y="750"/>
                  </a:lnTo>
                  <a:lnTo>
                    <a:pt x="275" y="894"/>
                  </a:lnTo>
                  <a:lnTo>
                    <a:pt x="236" y="1052"/>
                  </a:lnTo>
                  <a:lnTo>
                    <a:pt x="222" y="1210"/>
                  </a:lnTo>
                  <a:lnTo>
                    <a:pt x="209" y="1367"/>
                  </a:lnTo>
                  <a:lnTo>
                    <a:pt x="196" y="1538"/>
                  </a:lnTo>
                  <a:lnTo>
                    <a:pt x="170" y="1696"/>
                  </a:lnTo>
                  <a:lnTo>
                    <a:pt x="157" y="1866"/>
                  </a:lnTo>
                  <a:lnTo>
                    <a:pt x="222" y="1644"/>
                  </a:lnTo>
                  <a:lnTo>
                    <a:pt x="236" y="1644"/>
                  </a:lnTo>
                  <a:lnTo>
                    <a:pt x="249" y="1644"/>
                  </a:lnTo>
                  <a:lnTo>
                    <a:pt x="262" y="1644"/>
                  </a:lnTo>
                  <a:lnTo>
                    <a:pt x="275" y="1657"/>
                  </a:lnTo>
                  <a:lnTo>
                    <a:pt x="288" y="1657"/>
                  </a:lnTo>
                  <a:lnTo>
                    <a:pt x="209" y="2077"/>
                  </a:lnTo>
                  <a:lnTo>
                    <a:pt x="209" y="2090"/>
                  </a:lnTo>
                  <a:lnTo>
                    <a:pt x="222" y="2090"/>
                  </a:lnTo>
                  <a:lnTo>
                    <a:pt x="236" y="2104"/>
                  </a:lnTo>
                  <a:lnTo>
                    <a:pt x="249" y="2104"/>
                  </a:lnTo>
                  <a:lnTo>
                    <a:pt x="249" y="2117"/>
                  </a:lnTo>
                  <a:lnTo>
                    <a:pt x="262" y="2117"/>
                  </a:lnTo>
                  <a:lnTo>
                    <a:pt x="262" y="2130"/>
                  </a:lnTo>
                  <a:lnTo>
                    <a:pt x="262" y="2143"/>
                  </a:lnTo>
                  <a:lnTo>
                    <a:pt x="262" y="2156"/>
                  </a:lnTo>
                  <a:lnTo>
                    <a:pt x="249" y="2169"/>
                  </a:lnTo>
                  <a:lnTo>
                    <a:pt x="249" y="2183"/>
                  </a:lnTo>
                  <a:lnTo>
                    <a:pt x="236" y="2196"/>
                  </a:lnTo>
                  <a:lnTo>
                    <a:pt x="222" y="2196"/>
                  </a:lnTo>
                  <a:lnTo>
                    <a:pt x="209" y="2196"/>
                  </a:lnTo>
                  <a:lnTo>
                    <a:pt x="209" y="2209"/>
                  </a:lnTo>
                  <a:lnTo>
                    <a:pt x="183" y="2196"/>
                  </a:lnTo>
                  <a:lnTo>
                    <a:pt x="170" y="2196"/>
                  </a:lnTo>
                  <a:lnTo>
                    <a:pt x="157" y="2183"/>
                  </a:lnTo>
                  <a:lnTo>
                    <a:pt x="143" y="2156"/>
                  </a:lnTo>
                  <a:lnTo>
                    <a:pt x="130" y="2143"/>
                  </a:lnTo>
                  <a:lnTo>
                    <a:pt x="130" y="2130"/>
                  </a:lnTo>
                  <a:lnTo>
                    <a:pt x="117" y="2104"/>
                  </a:lnTo>
                  <a:lnTo>
                    <a:pt x="117" y="2077"/>
                  </a:lnTo>
                  <a:lnTo>
                    <a:pt x="0" y="2419"/>
                  </a:lnTo>
                  <a:lnTo>
                    <a:pt x="13" y="2419"/>
                  </a:lnTo>
                  <a:lnTo>
                    <a:pt x="38" y="2419"/>
                  </a:lnTo>
                  <a:lnTo>
                    <a:pt x="51" y="2419"/>
                  </a:lnTo>
                  <a:lnTo>
                    <a:pt x="78" y="2419"/>
                  </a:lnTo>
                  <a:lnTo>
                    <a:pt x="104" y="2419"/>
                  </a:lnTo>
                  <a:lnTo>
                    <a:pt x="130" y="2419"/>
                  </a:lnTo>
                  <a:lnTo>
                    <a:pt x="143" y="2419"/>
                  </a:lnTo>
                  <a:lnTo>
                    <a:pt x="170" y="2419"/>
                  </a:lnTo>
                  <a:lnTo>
                    <a:pt x="183" y="2379"/>
                  </a:lnTo>
                  <a:lnTo>
                    <a:pt x="209" y="2340"/>
                  </a:lnTo>
                  <a:lnTo>
                    <a:pt x="222" y="2287"/>
                  </a:lnTo>
                  <a:lnTo>
                    <a:pt x="249" y="2248"/>
                  </a:lnTo>
                  <a:lnTo>
                    <a:pt x="275" y="2196"/>
                  </a:lnTo>
                  <a:lnTo>
                    <a:pt x="301" y="2156"/>
                  </a:lnTo>
                  <a:lnTo>
                    <a:pt x="341" y="2130"/>
                  </a:lnTo>
                  <a:lnTo>
                    <a:pt x="381" y="2104"/>
                  </a:lnTo>
                  <a:lnTo>
                    <a:pt x="381" y="2090"/>
                  </a:lnTo>
                  <a:lnTo>
                    <a:pt x="367" y="2090"/>
                  </a:lnTo>
                  <a:lnTo>
                    <a:pt x="367" y="2077"/>
                  </a:lnTo>
                  <a:lnTo>
                    <a:pt x="354" y="2077"/>
                  </a:lnTo>
                  <a:lnTo>
                    <a:pt x="354" y="2064"/>
                  </a:lnTo>
                  <a:lnTo>
                    <a:pt x="354" y="2051"/>
                  </a:lnTo>
                  <a:lnTo>
                    <a:pt x="341" y="2038"/>
                  </a:lnTo>
                  <a:lnTo>
                    <a:pt x="354" y="2038"/>
                  </a:lnTo>
                  <a:lnTo>
                    <a:pt x="301" y="1985"/>
                  </a:lnTo>
                  <a:lnTo>
                    <a:pt x="328" y="1919"/>
                  </a:lnTo>
                  <a:lnTo>
                    <a:pt x="341" y="1853"/>
                  </a:lnTo>
                  <a:lnTo>
                    <a:pt x="354" y="1801"/>
                  </a:lnTo>
                  <a:lnTo>
                    <a:pt x="367" y="1736"/>
                  </a:lnTo>
                  <a:lnTo>
                    <a:pt x="381" y="1670"/>
                  </a:lnTo>
                  <a:lnTo>
                    <a:pt x="394" y="1604"/>
                  </a:lnTo>
                  <a:lnTo>
                    <a:pt x="394" y="1538"/>
                  </a:lnTo>
                  <a:lnTo>
                    <a:pt x="381" y="1472"/>
                  </a:lnTo>
                  <a:lnTo>
                    <a:pt x="381" y="1459"/>
                  </a:lnTo>
                  <a:lnTo>
                    <a:pt x="381" y="1446"/>
                  </a:lnTo>
                  <a:lnTo>
                    <a:pt x="381" y="1433"/>
                  </a:lnTo>
                  <a:lnTo>
                    <a:pt x="381" y="1420"/>
                  </a:lnTo>
                  <a:lnTo>
                    <a:pt x="381" y="1406"/>
                  </a:lnTo>
                  <a:lnTo>
                    <a:pt x="367" y="1393"/>
                  </a:lnTo>
                  <a:lnTo>
                    <a:pt x="354" y="1380"/>
                  </a:lnTo>
                  <a:lnTo>
                    <a:pt x="341" y="1367"/>
                  </a:lnTo>
                  <a:lnTo>
                    <a:pt x="328" y="1354"/>
                  </a:lnTo>
                  <a:lnTo>
                    <a:pt x="315" y="1341"/>
                  </a:lnTo>
                  <a:lnTo>
                    <a:pt x="301" y="1327"/>
                  </a:lnTo>
                  <a:lnTo>
                    <a:pt x="341" y="1288"/>
                  </a:lnTo>
                  <a:lnTo>
                    <a:pt x="381" y="1263"/>
                  </a:lnTo>
                  <a:lnTo>
                    <a:pt x="407" y="1223"/>
                  </a:lnTo>
                  <a:lnTo>
                    <a:pt x="446" y="1184"/>
                  </a:lnTo>
                  <a:lnTo>
                    <a:pt x="486" y="1144"/>
                  </a:lnTo>
                  <a:lnTo>
                    <a:pt x="499" y="1105"/>
                  </a:lnTo>
                  <a:lnTo>
                    <a:pt x="525" y="1052"/>
                  </a:lnTo>
                  <a:lnTo>
                    <a:pt x="525" y="986"/>
                  </a:lnTo>
                  <a:lnTo>
                    <a:pt x="565" y="920"/>
                  </a:lnTo>
                  <a:lnTo>
                    <a:pt x="591" y="841"/>
                  </a:lnTo>
                  <a:lnTo>
                    <a:pt x="618" y="775"/>
                  </a:lnTo>
                  <a:lnTo>
                    <a:pt x="644" y="697"/>
                  </a:lnTo>
                  <a:lnTo>
                    <a:pt x="682" y="631"/>
                  </a:lnTo>
                  <a:lnTo>
                    <a:pt x="709" y="552"/>
                  </a:lnTo>
                  <a:lnTo>
                    <a:pt x="735" y="487"/>
                  </a:lnTo>
                  <a:lnTo>
                    <a:pt x="775" y="421"/>
                  </a:lnTo>
                  <a:lnTo>
                    <a:pt x="788" y="407"/>
                  </a:lnTo>
                  <a:lnTo>
                    <a:pt x="801" y="407"/>
                  </a:lnTo>
                  <a:lnTo>
                    <a:pt x="814" y="407"/>
                  </a:lnTo>
                  <a:lnTo>
                    <a:pt x="827" y="407"/>
                  </a:lnTo>
                  <a:lnTo>
                    <a:pt x="827" y="394"/>
                  </a:lnTo>
                  <a:lnTo>
                    <a:pt x="841" y="394"/>
                  </a:lnTo>
                  <a:lnTo>
                    <a:pt x="841" y="381"/>
                  </a:lnTo>
                  <a:lnTo>
                    <a:pt x="854" y="381"/>
                  </a:lnTo>
                  <a:lnTo>
                    <a:pt x="854" y="368"/>
                  </a:lnTo>
                  <a:lnTo>
                    <a:pt x="867" y="355"/>
                  </a:lnTo>
                  <a:lnTo>
                    <a:pt x="880" y="355"/>
                  </a:lnTo>
                  <a:lnTo>
                    <a:pt x="893" y="342"/>
                  </a:lnTo>
                  <a:lnTo>
                    <a:pt x="906" y="342"/>
                  </a:lnTo>
                  <a:lnTo>
                    <a:pt x="946" y="22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49160" y="4563720"/>
              <a:ext cx="79560" cy="66600"/>
            </a:xfrm>
            <a:custGeom>
              <a:avLst/>
              <a:gdLst/>
              <a:ahLst/>
              <a:rect l="l" t="t" r="r" b="b"/>
              <a:pathLst>
                <a:path w="184" h="157">
                  <a:moveTo>
                    <a:pt x="184" y="52"/>
                  </a:moveTo>
                  <a:lnTo>
                    <a:pt x="118" y="0"/>
                  </a:lnTo>
                  <a:lnTo>
                    <a:pt x="92" y="14"/>
                  </a:lnTo>
                  <a:lnTo>
                    <a:pt x="65" y="14"/>
                  </a:lnTo>
                  <a:lnTo>
                    <a:pt x="52" y="39"/>
                  </a:lnTo>
                  <a:lnTo>
                    <a:pt x="39" y="52"/>
                  </a:lnTo>
                  <a:lnTo>
                    <a:pt x="26" y="78"/>
                  </a:lnTo>
                  <a:lnTo>
                    <a:pt x="26" y="105"/>
                  </a:lnTo>
                  <a:lnTo>
                    <a:pt x="13" y="131"/>
                  </a:lnTo>
                  <a:lnTo>
                    <a:pt x="0" y="157"/>
                  </a:lnTo>
                  <a:lnTo>
                    <a:pt x="105" y="157"/>
                  </a:lnTo>
                  <a:lnTo>
                    <a:pt x="105" y="144"/>
                  </a:lnTo>
                  <a:lnTo>
                    <a:pt x="118" y="131"/>
                  </a:lnTo>
                  <a:lnTo>
                    <a:pt x="131" y="118"/>
                  </a:lnTo>
                  <a:lnTo>
                    <a:pt x="144" y="118"/>
                  </a:lnTo>
                  <a:lnTo>
                    <a:pt x="158" y="105"/>
                  </a:lnTo>
                  <a:lnTo>
                    <a:pt x="158" y="92"/>
                  </a:lnTo>
                  <a:lnTo>
                    <a:pt x="171" y="65"/>
                  </a:lnTo>
                  <a:lnTo>
                    <a:pt x="184" y="5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01000" y="4782240"/>
              <a:ext cx="10440" cy="33840"/>
            </a:xfrm>
            <a:custGeom>
              <a:avLst/>
              <a:gdLst/>
              <a:ahLst/>
              <a:rect l="l" t="t" r="r" b="b"/>
              <a:pathLst>
                <a:path w="26" h="78">
                  <a:moveTo>
                    <a:pt x="26" y="78"/>
                  </a:moveTo>
                  <a:lnTo>
                    <a:pt x="0" y="0"/>
                  </a:lnTo>
                  <a:lnTo>
                    <a:pt x="13" y="52"/>
                  </a:lnTo>
                  <a:lnTo>
                    <a:pt x="26" y="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21080" y="1743120"/>
              <a:ext cx="990360" cy="1471680"/>
            </a:xfrm>
            <a:custGeom>
              <a:avLst/>
              <a:gdLst/>
              <a:ahLst/>
              <a:rect l="l" t="t" r="r" b="b"/>
              <a:pathLst>
                <a:path w="2288" h="3443">
                  <a:moveTo>
                    <a:pt x="2288" y="92"/>
                  </a:moveTo>
                  <a:lnTo>
                    <a:pt x="2288" y="0"/>
                  </a:lnTo>
                  <a:lnTo>
                    <a:pt x="2262" y="92"/>
                  </a:lnTo>
                  <a:lnTo>
                    <a:pt x="2223" y="183"/>
                  </a:lnTo>
                  <a:lnTo>
                    <a:pt x="2170" y="275"/>
                  </a:lnTo>
                  <a:lnTo>
                    <a:pt x="2130" y="354"/>
                  </a:lnTo>
                  <a:lnTo>
                    <a:pt x="2065" y="433"/>
                  </a:lnTo>
                  <a:lnTo>
                    <a:pt x="1999" y="512"/>
                  </a:lnTo>
                  <a:lnTo>
                    <a:pt x="1920" y="578"/>
                  </a:lnTo>
                  <a:lnTo>
                    <a:pt x="1827" y="618"/>
                  </a:lnTo>
                  <a:lnTo>
                    <a:pt x="1788" y="643"/>
                  </a:lnTo>
                  <a:lnTo>
                    <a:pt x="1748" y="656"/>
                  </a:lnTo>
                  <a:lnTo>
                    <a:pt x="1722" y="669"/>
                  </a:lnTo>
                  <a:lnTo>
                    <a:pt x="1684" y="682"/>
                  </a:lnTo>
                  <a:lnTo>
                    <a:pt x="1657" y="709"/>
                  </a:lnTo>
                  <a:lnTo>
                    <a:pt x="1631" y="722"/>
                  </a:lnTo>
                  <a:lnTo>
                    <a:pt x="1605" y="735"/>
                  </a:lnTo>
                  <a:lnTo>
                    <a:pt x="1578" y="761"/>
                  </a:lnTo>
                  <a:lnTo>
                    <a:pt x="1539" y="788"/>
                  </a:lnTo>
                  <a:lnTo>
                    <a:pt x="1499" y="827"/>
                  </a:lnTo>
                  <a:lnTo>
                    <a:pt x="1460" y="867"/>
                  </a:lnTo>
                  <a:lnTo>
                    <a:pt x="1433" y="906"/>
                  </a:lnTo>
                  <a:lnTo>
                    <a:pt x="1407" y="959"/>
                  </a:lnTo>
                  <a:lnTo>
                    <a:pt x="1381" y="999"/>
                  </a:lnTo>
                  <a:lnTo>
                    <a:pt x="1354" y="1038"/>
                  </a:lnTo>
                  <a:lnTo>
                    <a:pt x="1341" y="1091"/>
                  </a:lnTo>
                  <a:lnTo>
                    <a:pt x="815" y="1617"/>
                  </a:lnTo>
                  <a:lnTo>
                    <a:pt x="802" y="1630"/>
                  </a:lnTo>
                  <a:lnTo>
                    <a:pt x="776" y="1642"/>
                  </a:lnTo>
                  <a:lnTo>
                    <a:pt x="749" y="1655"/>
                  </a:lnTo>
                  <a:lnTo>
                    <a:pt x="736" y="1668"/>
                  </a:lnTo>
                  <a:lnTo>
                    <a:pt x="723" y="1695"/>
                  </a:lnTo>
                  <a:lnTo>
                    <a:pt x="710" y="1708"/>
                  </a:lnTo>
                  <a:lnTo>
                    <a:pt x="697" y="1734"/>
                  </a:lnTo>
                  <a:lnTo>
                    <a:pt x="670" y="1747"/>
                  </a:lnTo>
                  <a:lnTo>
                    <a:pt x="591" y="1787"/>
                  </a:lnTo>
                  <a:lnTo>
                    <a:pt x="526" y="1840"/>
                  </a:lnTo>
                  <a:lnTo>
                    <a:pt x="460" y="1879"/>
                  </a:lnTo>
                  <a:lnTo>
                    <a:pt x="407" y="1945"/>
                  </a:lnTo>
                  <a:lnTo>
                    <a:pt x="355" y="2011"/>
                  </a:lnTo>
                  <a:lnTo>
                    <a:pt x="316" y="2077"/>
                  </a:lnTo>
                  <a:lnTo>
                    <a:pt x="276" y="2141"/>
                  </a:lnTo>
                  <a:lnTo>
                    <a:pt x="250" y="2220"/>
                  </a:lnTo>
                  <a:lnTo>
                    <a:pt x="250" y="2247"/>
                  </a:lnTo>
                  <a:lnTo>
                    <a:pt x="237" y="2273"/>
                  </a:lnTo>
                  <a:lnTo>
                    <a:pt x="237" y="2286"/>
                  </a:lnTo>
                  <a:lnTo>
                    <a:pt x="237" y="2313"/>
                  </a:lnTo>
                  <a:lnTo>
                    <a:pt x="237" y="2326"/>
                  </a:lnTo>
                  <a:lnTo>
                    <a:pt x="237" y="2339"/>
                  </a:lnTo>
                  <a:lnTo>
                    <a:pt x="237" y="2365"/>
                  </a:lnTo>
                  <a:lnTo>
                    <a:pt x="237" y="2379"/>
                  </a:lnTo>
                  <a:lnTo>
                    <a:pt x="197" y="2444"/>
                  </a:lnTo>
                  <a:lnTo>
                    <a:pt x="171" y="2510"/>
                  </a:lnTo>
                  <a:lnTo>
                    <a:pt x="131" y="2589"/>
                  </a:lnTo>
                  <a:lnTo>
                    <a:pt x="105" y="2667"/>
                  </a:lnTo>
                  <a:lnTo>
                    <a:pt x="79" y="2733"/>
                  </a:lnTo>
                  <a:lnTo>
                    <a:pt x="52" y="2825"/>
                  </a:lnTo>
                  <a:lnTo>
                    <a:pt x="39" y="2904"/>
                  </a:lnTo>
                  <a:lnTo>
                    <a:pt x="26" y="2983"/>
                  </a:lnTo>
                  <a:lnTo>
                    <a:pt x="26" y="3036"/>
                  </a:lnTo>
                  <a:lnTo>
                    <a:pt x="13" y="3089"/>
                  </a:lnTo>
                  <a:lnTo>
                    <a:pt x="13" y="3140"/>
                  </a:lnTo>
                  <a:lnTo>
                    <a:pt x="13" y="3193"/>
                  </a:lnTo>
                  <a:lnTo>
                    <a:pt x="0" y="3246"/>
                  </a:lnTo>
                  <a:lnTo>
                    <a:pt x="0" y="3298"/>
                  </a:lnTo>
                  <a:lnTo>
                    <a:pt x="0" y="3351"/>
                  </a:lnTo>
                  <a:lnTo>
                    <a:pt x="0" y="3404"/>
                  </a:lnTo>
                  <a:lnTo>
                    <a:pt x="39" y="3430"/>
                  </a:lnTo>
                  <a:lnTo>
                    <a:pt x="92" y="3430"/>
                  </a:lnTo>
                  <a:lnTo>
                    <a:pt x="145" y="3443"/>
                  </a:lnTo>
                  <a:lnTo>
                    <a:pt x="197" y="3430"/>
                  </a:lnTo>
                  <a:lnTo>
                    <a:pt x="250" y="3430"/>
                  </a:lnTo>
                  <a:lnTo>
                    <a:pt x="303" y="3417"/>
                  </a:lnTo>
                  <a:lnTo>
                    <a:pt x="355" y="3391"/>
                  </a:lnTo>
                  <a:lnTo>
                    <a:pt x="395" y="3364"/>
                  </a:lnTo>
                  <a:lnTo>
                    <a:pt x="486" y="3259"/>
                  </a:lnTo>
                  <a:lnTo>
                    <a:pt x="565" y="3140"/>
                  </a:lnTo>
                  <a:lnTo>
                    <a:pt x="618" y="3010"/>
                  </a:lnTo>
                  <a:lnTo>
                    <a:pt x="670" y="2891"/>
                  </a:lnTo>
                  <a:lnTo>
                    <a:pt x="697" y="2746"/>
                  </a:lnTo>
                  <a:lnTo>
                    <a:pt x="723" y="2616"/>
                  </a:lnTo>
                  <a:lnTo>
                    <a:pt x="736" y="2484"/>
                  </a:lnTo>
                  <a:lnTo>
                    <a:pt x="736" y="2352"/>
                  </a:lnTo>
                  <a:lnTo>
                    <a:pt x="710" y="2418"/>
                  </a:lnTo>
                  <a:lnTo>
                    <a:pt x="684" y="2484"/>
                  </a:lnTo>
                  <a:lnTo>
                    <a:pt x="657" y="2563"/>
                  </a:lnTo>
                  <a:lnTo>
                    <a:pt x="631" y="2641"/>
                  </a:lnTo>
                  <a:lnTo>
                    <a:pt x="605" y="2707"/>
                  </a:lnTo>
                  <a:lnTo>
                    <a:pt x="565" y="2773"/>
                  </a:lnTo>
                  <a:lnTo>
                    <a:pt x="526" y="2839"/>
                  </a:lnTo>
                  <a:lnTo>
                    <a:pt x="460" y="2891"/>
                  </a:lnTo>
                  <a:lnTo>
                    <a:pt x="460" y="2904"/>
                  </a:lnTo>
                  <a:lnTo>
                    <a:pt x="446" y="2918"/>
                  </a:lnTo>
                  <a:lnTo>
                    <a:pt x="433" y="2931"/>
                  </a:lnTo>
                  <a:lnTo>
                    <a:pt x="433" y="2944"/>
                  </a:lnTo>
                  <a:lnTo>
                    <a:pt x="420" y="2970"/>
                  </a:lnTo>
                  <a:lnTo>
                    <a:pt x="395" y="2983"/>
                  </a:lnTo>
                  <a:lnTo>
                    <a:pt x="382" y="2997"/>
                  </a:lnTo>
                  <a:lnTo>
                    <a:pt x="368" y="2997"/>
                  </a:lnTo>
                  <a:lnTo>
                    <a:pt x="355" y="2997"/>
                  </a:lnTo>
                  <a:lnTo>
                    <a:pt x="342" y="2997"/>
                  </a:lnTo>
                  <a:lnTo>
                    <a:pt x="342" y="2983"/>
                  </a:lnTo>
                  <a:lnTo>
                    <a:pt x="329" y="2983"/>
                  </a:lnTo>
                  <a:lnTo>
                    <a:pt x="329" y="2970"/>
                  </a:lnTo>
                  <a:lnTo>
                    <a:pt x="329" y="2957"/>
                  </a:lnTo>
                  <a:lnTo>
                    <a:pt x="329" y="2944"/>
                  </a:lnTo>
                  <a:lnTo>
                    <a:pt x="342" y="2931"/>
                  </a:lnTo>
                  <a:lnTo>
                    <a:pt x="342" y="2918"/>
                  </a:lnTo>
                  <a:lnTo>
                    <a:pt x="355" y="2904"/>
                  </a:lnTo>
                  <a:lnTo>
                    <a:pt x="355" y="2891"/>
                  </a:lnTo>
                  <a:lnTo>
                    <a:pt x="368" y="2865"/>
                  </a:lnTo>
                  <a:lnTo>
                    <a:pt x="368" y="2839"/>
                  </a:lnTo>
                  <a:lnTo>
                    <a:pt x="382" y="2786"/>
                  </a:lnTo>
                  <a:lnTo>
                    <a:pt x="382" y="2746"/>
                  </a:lnTo>
                  <a:lnTo>
                    <a:pt x="395" y="2694"/>
                  </a:lnTo>
                  <a:lnTo>
                    <a:pt x="395" y="2654"/>
                  </a:lnTo>
                  <a:lnTo>
                    <a:pt x="407" y="2602"/>
                  </a:lnTo>
                  <a:lnTo>
                    <a:pt x="420" y="2550"/>
                  </a:lnTo>
                  <a:lnTo>
                    <a:pt x="433" y="2510"/>
                  </a:lnTo>
                  <a:lnTo>
                    <a:pt x="446" y="2458"/>
                  </a:lnTo>
                  <a:lnTo>
                    <a:pt x="460" y="2405"/>
                  </a:lnTo>
                  <a:lnTo>
                    <a:pt x="460" y="2352"/>
                  </a:lnTo>
                  <a:lnTo>
                    <a:pt x="473" y="2313"/>
                  </a:lnTo>
                  <a:lnTo>
                    <a:pt x="473" y="2260"/>
                  </a:lnTo>
                  <a:lnTo>
                    <a:pt x="473" y="2220"/>
                  </a:lnTo>
                  <a:lnTo>
                    <a:pt x="460" y="2181"/>
                  </a:lnTo>
                  <a:lnTo>
                    <a:pt x="433" y="2141"/>
                  </a:lnTo>
                  <a:lnTo>
                    <a:pt x="499" y="2063"/>
                  </a:lnTo>
                  <a:lnTo>
                    <a:pt x="565" y="1984"/>
                  </a:lnTo>
                  <a:lnTo>
                    <a:pt x="644" y="1919"/>
                  </a:lnTo>
                  <a:lnTo>
                    <a:pt x="710" y="1840"/>
                  </a:lnTo>
                  <a:lnTo>
                    <a:pt x="776" y="1760"/>
                  </a:lnTo>
                  <a:lnTo>
                    <a:pt x="842" y="1681"/>
                  </a:lnTo>
                  <a:lnTo>
                    <a:pt x="894" y="1603"/>
                  </a:lnTo>
                  <a:lnTo>
                    <a:pt x="934" y="1524"/>
                  </a:lnTo>
                  <a:lnTo>
                    <a:pt x="947" y="1524"/>
                  </a:lnTo>
                  <a:lnTo>
                    <a:pt x="947" y="1511"/>
                  </a:lnTo>
                  <a:lnTo>
                    <a:pt x="960" y="1511"/>
                  </a:lnTo>
                  <a:lnTo>
                    <a:pt x="960" y="1498"/>
                  </a:lnTo>
                  <a:lnTo>
                    <a:pt x="973" y="1498"/>
                  </a:lnTo>
                  <a:lnTo>
                    <a:pt x="973" y="1485"/>
                  </a:lnTo>
                  <a:lnTo>
                    <a:pt x="987" y="1485"/>
                  </a:lnTo>
                  <a:lnTo>
                    <a:pt x="1000" y="1485"/>
                  </a:lnTo>
                  <a:lnTo>
                    <a:pt x="1000" y="1498"/>
                  </a:lnTo>
                  <a:lnTo>
                    <a:pt x="1013" y="1498"/>
                  </a:lnTo>
                  <a:lnTo>
                    <a:pt x="1026" y="1511"/>
                  </a:lnTo>
                  <a:lnTo>
                    <a:pt x="1026" y="1538"/>
                  </a:lnTo>
                  <a:lnTo>
                    <a:pt x="1026" y="1564"/>
                  </a:lnTo>
                  <a:lnTo>
                    <a:pt x="1013" y="1577"/>
                  </a:lnTo>
                  <a:lnTo>
                    <a:pt x="1000" y="1603"/>
                  </a:lnTo>
                  <a:lnTo>
                    <a:pt x="987" y="1630"/>
                  </a:lnTo>
                  <a:lnTo>
                    <a:pt x="973" y="1642"/>
                  </a:lnTo>
                  <a:lnTo>
                    <a:pt x="960" y="1668"/>
                  </a:lnTo>
                  <a:lnTo>
                    <a:pt x="1000" y="1655"/>
                  </a:lnTo>
                  <a:lnTo>
                    <a:pt x="1038" y="1642"/>
                  </a:lnTo>
                  <a:lnTo>
                    <a:pt x="1078" y="1617"/>
                  </a:lnTo>
                  <a:lnTo>
                    <a:pt x="1117" y="1577"/>
                  </a:lnTo>
                  <a:lnTo>
                    <a:pt x="1144" y="1551"/>
                  </a:lnTo>
                  <a:lnTo>
                    <a:pt x="1183" y="1511"/>
                  </a:lnTo>
                  <a:lnTo>
                    <a:pt x="1209" y="1472"/>
                  </a:lnTo>
                  <a:lnTo>
                    <a:pt x="1236" y="1432"/>
                  </a:lnTo>
                  <a:lnTo>
                    <a:pt x="1249" y="1406"/>
                  </a:lnTo>
                  <a:lnTo>
                    <a:pt x="1262" y="1380"/>
                  </a:lnTo>
                  <a:lnTo>
                    <a:pt x="1275" y="1366"/>
                  </a:lnTo>
                  <a:lnTo>
                    <a:pt x="1288" y="1340"/>
                  </a:lnTo>
                  <a:lnTo>
                    <a:pt x="1302" y="1314"/>
                  </a:lnTo>
                  <a:lnTo>
                    <a:pt x="1315" y="1301"/>
                  </a:lnTo>
                  <a:lnTo>
                    <a:pt x="1328" y="1287"/>
                  </a:lnTo>
                  <a:lnTo>
                    <a:pt x="1341" y="1261"/>
                  </a:lnTo>
                  <a:lnTo>
                    <a:pt x="1354" y="1248"/>
                  </a:lnTo>
                  <a:lnTo>
                    <a:pt x="1354" y="1235"/>
                  </a:lnTo>
                  <a:lnTo>
                    <a:pt x="1354" y="1221"/>
                  </a:lnTo>
                  <a:lnTo>
                    <a:pt x="1341" y="1221"/>
                  </a:lnTo>
                  <a:lnTo>
                    <a:pt x="1341" y="1208"/>
                  </a:lnTo>
                  <a:lnTo>
                    <a:pt x="1539" y="946"/>
                  </a:lnTo>
                  <a:lnTo>
                    <a:pt x="1618" y="972"/>
                  </a:lnTo>
                  <a:lnTo>
                    <a:pt x="1735" y="867"/>
                  </a:lnTo>
                  <a:lnTo>
                    <a:pt x="1801" y="814"/>
                  </a:lnTo>
                  <a:lnTo>
                    <a:pt x="1854" y="761"/>
                  </a:lnTo>
                  <a:lnTo>
                    <a:pt x="1906" y="682"/>
                  </a:lnTo>
                  <a:lnTo>
                    <a:pt x="1959" y="618"/>
                  </a:lnTo>
                  <a:lnTo>
                    <a:pt x="2012" y="539"/>
                  </a:lnTo>
                  <a:lnTo>
                    <a:pt x="2065" y="473"/>
                  </a:lnTo>
                  <a:lnTo>
                    <a:pt x="2130" y="394"/>
                  </a:lnTo>
                  <a:lnTo>
                    <a:pt x="2209" y="328"/>
                  </a:lnTo>
                  <a:lnTo>
                    <a:pt x="2223" y="302"/>
                  </a:lnTo>
                  <a:lnTo>
                    <a:pt x="2236" y="275"/>
                  </a:lnTo>
                  <a:lnTo>
                    <a:pt x="2249" y="249"/>
                  </a:lnTo>
                  <a:lnTo>
                    <a:pt x="2262" y="209"/>
                  </a:lnTo>
                  <a:lnTo>
                    <a:pt x="2262" y="183"/>
                  </a:lnTo>
                  <a:lnTo>
                    <a:pt x="2275" y="143"/>
                  </a:lnTo>
                  <a:lnTo>
                    <a:pt x="2288" y="118"/>
                  </a:lnTo>
                  <a:lnTo>
                    <a:pt x="2288" y="9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06600" y="3614760"/>
              <a:ext cx="905040" cy="1015560"/>
            </a:xfrm>
            <a:custGeom>
              <a:avLst/>
              <a:gdLst/>
              <a:ahLst/>
              <a:rect l="l" t="t" r="r" b="b"/>
              <a:pathLst>
                <a:path w="2091" h="2378">
                  <a:moveTo>
                    <a:pt x="2091" y="0"/>
                  </a:moveTo>
                  <a:lnTo>
                    <a:pt x="1986" y="0"/>
                  </a:lnTo>
                  <a:lnTo>
                    <a:pt x="1882" y="13"/>
                  </a:lnTo>
                  <a:lnTo>
                    <a:pt x="1790" y="39"/>
                  </a:lnTo>
                  <a:lnTo>
                    <a:pt x="1697" y="79"/>
                  </a:lnTo>
                  <a:lnTo>
                    <a:pt x="1605" y="118"/>
                  </a:lnTo>
                  <a:lnTo>
                    <a:pt x="1526" y="171"/>
                  </a:lnTo>
                  <a:lnTo>
                    <a:pt x="1460" y="237"/>
                  </a:lnTo>
                  <a:lnTo>
                    <a:pt x="1394" y="301"/>
                  </a:lnTo>
                  <a:lnTo>
                    <a:pt x="1355" y="354"/>
                  </a:lnTo>
                  <a:lnTo>
                    <a:pt x="1315" y="394"/>
                  </a:lnTo>
                  <a:lnTo>
                    <a:pt x="1290" y="446"/>
                  </a:lnTo>
                  <a:lnTo>
                    <a:pt x="1264" y="486"/>
                  </a:lnTo>
                  <a:lnTo>
                    <a:pt x="1237" y="525"/>
                  </a:lnTo>
                  <a:lnTo>
                    <a:pt x="1198" y="565"/>
                  </a:lnTo>
                  <a:lnTo>
                    <a:pt x="1158" y="604"/>
                  </a:lnTo>
                  <a:lnTo>
                    <a:pt x="1119" y="644"/>
                  </a:lnTo>
                  <a:lnTo>
                    <a:pt x="1106" y="644"/>
                  </a:lnTo>
                  <a:lnTo>
                    <a:pt x="1092" y="631"/>
                  </a:lnTo>
                  <a:lnTo>
                    <a:pt x="1079" y="631"/>
                  </a:lnTo>
                  <a:lnTo>
                    <a:pt x="1066" y="618"/>
                  </a:lnTo>
                  <a:lnTo>
                    <a:pt x="1066" y="604"/>
                  </a:lnTo>
                  <a:lnTo>
                    <a:pt x="1264" y="237"/>
                  </a:lnTo>
                  <a:lnTo>
                    <a:pt x="1251" y="250"/>
                  </a:lnTo>
                  <a:lnTo>
                    <a:pt x="1237" y="250"/>
                  </a:lnTo>
                  <a:lnTo>
                    <a:pt x="1224" y="262"/>
                  </a:lnTo>
                  <a:lnTo>
                    <a:pt x="1211" y="262"/>
                  </a:lnTo>
                  <a:lnTo>
                    <a:pt x="1198" y="275"/>
                  </a:lnTo>
                  <a:lnTo>
                    <a:pt x="1198" y="288"/>
                  </a:lnTo>
                  <a:lnTo>
                    <a:pt x="1185" y="301"/>
                  </a:lnTo>
                  <a:lnTo>
                    <a:pt x="1171" y="315"/>
                  </a:lnTo>
                  <a:lnTo>
                    <a:pt x="697" y="380"/>
                  </a:lnTo>
                  <a:lnTo>
                    <a:pt x="684" y="380"/>
                  </a:lnTo>
                  <a:lnTo>
                    <a:pt x="671" y="394"/>
                  </a:lnTo>
                  <a:lnTo>
                    <a:pt x="659" y="407"/>
                  </a:lnTo>
                  <a:lnTo>
                    <a:pt x="185" y="473"/>
                  </a:lnTo>
                  <a:lnTo>
                    <a:pt x="185" y="486"/>
                  </a:lnTo>
                  <a:lnTo>
                    <a:pt x="185" y="499"/>
                  </a:lnTo>
                  <a:lnTo>
                    <a:pt x="198" y="512"/>
                  </a:lnTo>
                  <a:lnTo>
                    <a:pt x="198" y="525"/>
                  </a:lnTo>
                  <a:lnTo>
                    <a:pt x="198" y="539"/>
                  </a:lnTo>
                  <a:lnTo>
                    <a:pt x="185" y="539"/>
                  </a:lnTo>
                  <a:lnTo>
                    <a:pt x="185" y="552"/>
                  </a:lnTo>
                  <a:lnTo>
                    <a:pt x="171" y="552"/>
                  </a:lnTo>
                  <a:lnTo>
                    <a:pt x="79" y="683"/>
                  </a:lnTo>
                  <a:lnTo>
                    <a:pt x="28" y="827"/>
                  </a:lnTo>
                  <a:lnTo>
                    <a:pt x="0" y="972"/>
                  </a:lnTo>
                  <a:lnTo>
                    <a:pt x="13" y="1130"/>
                  </a:lnTo>
                  <a:lnTo>
                    <a:pt x="28" y="1300"/>
                  </a:lnTo>
                  <a:lnTo>
                    <a:pt x="66" y="1458"/>
                  </a:lnTo>
                  <a:lnTo>
                    <a:pt x="106" y="1617"/>
                  </a:lnTo>
                  <a:lnTo>
                    <a:pt x="132" y="1774"/>
                  </a:lnTo>
                  <a:lnTo>
                    <a:pt x="132" y="1787"/>
                  </a:lnTo>
                  <a:lnTo>
                    <a:pt x="132" y="1800"/>
                  </a:lnTo>
                  <a:lnTo>
                    <a:pt x="145" y="1800"/>
                  </a:lnTo>
                  <a:lnTo>
                    <a:pt x="145" y="1813"/>
                  </a:lnTo>
                  <a:lnTo>
                    <a:pt x="158" y="1813"/>
                  </a:lnTo>
                  <a:lnTo>
                    <a:pt x="171" y="1813"/>
                  </a:lnTo>
                  <a:lnTo>
                    <a:pt x="185" y="1826"/>
                  </a:lnTo>
                  <a:lnTo>
                    <a:pt x="316" y="2378"/>
                  </a:lnTo>
                  <a:lnTo>
                    <a:pt x="382" y="2378"/>
                  </a:lnTo>
                  <a:lnTo>
                    <a:pt x="448" y="2365"/>
                  </a:lnTo>
                  <a:lnTo>
                    <a:pt x="514" y="2352"/>
                  </a:lnTo>
                  <a:lnTo>
                    <a:pt x="567" y="2326"/>
                  </a:lnTo>
                  <a:lnTo>
                    <a:pt x="632" y="2299"/>
                  </a:lnTo>
                  <a:lnTo>
                    <a:pt x="697" y="2260"/>
                  </a:lnTo>
                  <a:lnTo>
                    <a:pt x="750" y="2235"/>
                  </a:lnTo>
                  <a:lnTo>
                    <a:pt x="803" y="2195"/>
                  </a:lnTo>
                  <a:lnTo>
                    <a:pt x="816" y="2182"/>
                  </a:lnTo>
                  <a:lnTo>
                    <a:pt x="816" y="2169"/>
                  </a:lnTo>
                  <a:lnTo>
                    <a:pt x="816" y="2156"/>
                  </a:lnTo>
                  <a:lnTo>
                    <a:pt x="869" y="2037"/>
                  </a:lnTo>
                  <a:lnTo>
                    <a:pt x="855" y="2037"/>
                  </a:lnTo>
                  <a:lnTo>
                    <a:pt x="842" y="2037"/>
                  </a:lnTo>
                  <a:lnTo>
                    <a:pt x="829" y="2050"/>
                  </a:lnTo>
                  <a:lnTo>
                    <a:pt x="829" y="2077"/>
                  </a:lnTo>
                  <a:lnTo>
                    <a:pt x="816" y="2090"/>
                  </a:lnTo>
                  <a:lnTo>
                    <a:pt x="816" y="2103"/>
                  </a:lnTo>
                  <a:lnTo>
                    <a:pt x="803" y="2116"/>
                  </a:lnTo>
                  <a:lnTo>
                    <a:pt x="790" y="2116"/>
                  </a:lnTo>
                  <a:lnTo>
                    <a:pt x="776" y="2116"/>
                  </a:lnTo>
                  <a:lnTo>
                    <a:pt x="776" y="2129"/>
                  </a:lnTo>
                  <a:lnTo>
                    <a:pt x="763" y="2129"/>
                  </a:lnTo>
                  <a:lnTo>
                    <a:pt x="750" y="2129"/>
                  </a:lnTo>
                  <a:lnTo>
                    <a:pt x="750" y="2116"/>
                  </a:lnTo>
                  <a:lnTo>
                    <a:pt x="737" y="2116"/>
                  </a:lnTo>
                  <a:lnTo>
                    <a:pt x="724" y="2116"/>
                  </a:lnTo>
                  <a:lnTo>
                    <a:pt x="908" y="1038"/>
                  </a:lnTo>
                  <a:lnTo>
                    <a:pt x="908" y="1025"/>
                  </a:lnTo>
                  <a:lnTo>
                    <a:pt x="921" y="1025"/>
                  </a:lnTo>
                  <a:lnTo>
                    <a:pt x="921" y="1012"/>
                  </a:lnTo>
                  <a:lnTo>
                    <a:pt x="934" y="1012"/>
                  </a:lnTo>
                  <a:lnTo>
                    <a:pt x="934" y="999"/>
                  </a:lnTo>
                  <a:lnTo>
                    <a:pt x="948" y="999"/>
                  </a:lnTo>
                  <a:lnTo>
                    <a:pt x="961" y="999"/>
                  </a:lnTo>
                  <a:lnTo>
                    <a:pt x="974" y="999"/>
                  </a:lnTo>
                  <a:lnTo>
                    <a:pt x="987" y="999"/>
                  </a:lnTo>
                  <a:lnTo>
                    <a:pt x="987" y="1012"/>
                  </a:lnTo>
                  <a:lnTo>
                    <a:pt x="1000" y="1012"/>
                  </a:lnTo>
                  <a:lnTo>
                    <a:pt x="1000" y="1025"/>
                  </a:lnTo>
                  <a:lnTo>
                    <a:pt x="1027" y="1274"/>
                  </a:lnTo>
                  <a:lnTo>
                    <a:pt x="1185" y="867"/>
                  </a:lnTo>
                  <a:lnTo>
                    <a:pt x="1185" y="854"/>
                  </a:lnTo>
                  <a:lnTo>
                    <a:pt x="1198" y="854"/>
                  </a:lnTo>
                  <a:lnTo>
                    <a:pt x="1198" y="840"/>
                  </a:lnTo>
                  <a:lnTo>
                    <a:pt x="1211" y="840"/>
                  </a:lnTo>
                  <a:lnTo>
                    <a:pt x="1224" y="840"/>
                  </a:lnTo>
                  <a:lnTo>
                    <a:pt x="1237" y="840"/>
                  </a:lnTo>
                  <a:lnTo>
                    <a:pt x="1251" y="840"/>
                  </a:lnTo>
                  <a:lnTo>
                    <a:pt x="1264" y="854"/>
                  </a:lnTo>
                  <a:lnTo>
                    <a:pt x="1277" y="867"/>
                  </a:lnTo>
                  <a:lnTo>
                    <a:pt x="1277" y="880"/>
                  </a:lnTo>
                  <a:lnTo>
                    <a:pt x="1264" y="880"/>
                  </a:lnTo>
                  <a:lnTo>
                    <a:pt x="1264" y="893"/>
                  </a:lnTo>
                  <a:lnTo>
                    <a:pt x="1264" y="906"/>
                  </a:lnTo>
                  <a:lnTo>
                    <a:pt x="1264" y="919"/>
                  </a:lnTo>
                  <a:lnTo>
                    <a:pt x="1290" y="999"/>
                  </a:lnTo>
                  <a:lnTo>
                    <a:pt x="1750" y="710"/>
                  </a:lnTo>
                  <a:lnTo>
                    <a:pt x="1869" y="644"/>
                  </a:lnTo>
                  <a:lnTo>
                    <a:pt x="1869" y="631"/>
                  </a:lnTo>
                  <a:lnTo>
                    <a:pt x="1869" y="618"/>
                  </a:lnTo>
                  <a:lnTo>
                    <a:pt x="1882" y="604"/>
                  </a:lnTo>
                  <a:lnTo>
                    <a:pt x="1882" y="591"/>
                  </a:lnTo>
                  <a:lnTo>
                    <a:pt x="1895" y="578"/>
                  </a:lnTo>
                  <a:lnTo>
                    <a:pt x="1908" y="578"/>
                  </a:lnTo>
                  <a:lnTo>
                    <a:pt x="1921" y="578"/>
                  </a:lnTo>
                  <a:lnTo>
                    <a:pt x="1921" y="565"/>
                  </a:lnTo>
                  <a:lnTo>
                    <a:pt x="1933" y="565"/>
                  </a:lnTo>
                  <a:lnTo>
                    <a:pt x="1948" y="565"/>
                  </a:lnTo>
                  <a:lnTo>
                    <a:pt x="2091" y="0"/>
                  </a:lnTo>
                  <a:close/>
                </a:path>
              </a:pathLst>
            </a:custGeom>
            <a:solidFill>
              <a:srgbClr val="43a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1040" y="2568600"/>
              <a:ext cx="266400" cy="353880"/>
            </a:xfrm>
            <a:custGeom>
              <a:avLst/>
              <a:gdLst/>
              <a:ahLst/>
              <a:rect l="l" t="t" r="r" b="b"/>
              <a:pathLst>
                <a:path w="618" h="827">
                  <a:moveTo>
                    <a:pt x="618" y="118"/>
                  </a:moveTo>
                  <a:lnTo>
                    <a:pt x="605" y="52"/>
                  </a:lnTo>
                  <a:lnTo>
                    <a:pt x="579" y="26"/>
                  </a:lnTo>
                  <a:lnTo>
                    <a:pt x="554" y="13"/>
                  </a:lnTo>
                  <a:lnTo>
                    <a:pt x="514" y="0"/>
                  </a:lnTo>
                  <a:lnTo>
                    <a:pt x="475" y="0"/>
                  </a:lnTo>
                  <a:lnTo>
                    <a:pt x="448" y="0"/>
                  </a:lnTo>
                  <a:lnTo>
                    <a:pt x="409" y="0"/>
                  </a:lnTo>
                  <a:lnTo>
                    <a:pt x="369" y="13"/>
                  </a:lnTo>
                  <a:lnTo>
                    <a:pt x="343" y="26"/>
                  </a:lnTo>
                  <a:lnTo>
                    <a:pt x="316" y="52"/>
                  </a:lnTo>
                  <a:lnTo>
                    <a:pt x="290" y="66"/>
                  </a:lnTo>
                  <a:lnTo>
                    <a:pt x="264" y="79"/>
                  </a:lnTo>
                  <a:lnTo>
                    <a:pt x="237" y="92"/>
                  </a:lnTo>
                  <a:lnTo>
                    <a:pt x="211" y="105"/>
                  </a:lnTo>
                  <a:lnTo>
                    <a:pt x="185" y="118"/>
                  </a:lnTo>
                  <a:lnTo>
                    <a:pt x="158" y="145"/>
                  </a:lnTo>
                  <a:lnTo>
                    <a:pt x="145" y="158"/>
                  </a:lnTo>
                  <a:lnTo>
                    <a:pt x="145" y="184"/>
                  </a:lnTo>
                  <a:lnTo>
                    <a:pt x="145" y="196"/>
                  </a:lnTo>
                  <a:lnTo>
                    <a:pt x="145" y="209"/>
                  </a:lnTo>
                  <a:lnTo>
                    <a:pt x="145" y="236"/>
                  </a:lnTo>
                  <a:lnTo>
                    <a:pt x="145" y="249"/>
                  </a:lnTo>
                  <a:lnTo>
                    <a:pt x="132" y="275"/>
                  </a:lnTo>
                  <a:lnTo>
                    <a:pt x="119" y="288"/>
                  </a:lnTo>
                  <a:lnTo>
                    <a:pt x="106" y="302"/>
                  </a:lnTo>
                  <a:lnTo>
                    <a:pt x="93" y="302"/>
                  </a:lnTo>
                  <a:lnTo>
                    <a:pt x="79" y="302"/>
                  </a:lnTo>
                  <a:lnTo>
                    <a:pt x="66" y="288"/>
                  </a:lnTo>
                  <a:lnTo>
                    <a:pt x="53" y="275"/>
                  </a:lnTo>
                  <a:lnTo>
                    <a:pt x="40" y="262"/>
                  </a:lnTo>
                  <a:lnTo>
                    <a:pt x="27" y="262"/>
                  </a:lnTo>
                  <a:lnTo>
                    <a:pt x="14" y="262"/>
                  </a:lnTo>
                  <a:lnTo>
                    <a:pt x="14" y="275"/>
                  </a:lnTo>
                  <a:lnTo>
                    <a:pt x="0" y="288"/>
                  </a:lnTo>
                  <a:lnTo>
                    <a:pt x="0" y="302"/>
                  </a:lnTo>
                  <a:lnTo>
                    <a:pt x="14" y="315"/>
                  </a:lnTo>
                  <a:lnTo>
                    <a:pt x="14" y="328"/>
                  </a:lnTo>
                  <a:lnTo>
                    <a:pt x="0" y="328"/>
                  </a:lnTo>
                  <a:lnTo>
                    <a:pt x="79" y="420"/>
                  </a:lnTo>
                  <a:lnTo>
                    <a:pt x="93" y="420"/>
                  </a:lnTo>
                  <a:lnTo>
                    <a:pt x="106" y="420"/>
                  </a:lnTo>
                  <a:lnTo>
                    <a:pt x="106" y="433"/>
                  </a:lnTo>
                  <a:lnTo>
                    <a:pt x="119" y="447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19" y="499"/>
                  </a:lnTo>
                  <a:lnTo>
                    <a:pt x="106" y="512"/>
                  </a:lnTo>
                  <a:lnTo>
                    <a:pt x="106" y="526"/>
                  </a:lnTo>
                  <a:lnTo>
                    <a:pt x="93" y="539"/>
                  </a:lnTo>
                  <a:lnTo>
                    <a:pt x="185" y="788"/>
                  </a:lnTo>
                  <a:lnTo>
                    <a:pt x="198" y="788"/>
                  </a:lnTo>
                  <a:lnTo>
                    <a:pt x="211" y="801"/>
                  </a:lnTo>
                  <a:lnTo>
                    <a:pt x="224" y="814"/>
                  </a:lnTo>
                  <a:lnTo>
                    <a:pt x="237" y="827"/>
                  </a:lnTo>
                  <a:lnTo>
                    <a:pt x="251" y="827"/>
                  </a:lnTo>
                  <a:lnTo>
                    <a:pt x="264" y="827"/>
                  </a:lnTo>
                  <a:lnTo>
                    <a:pt x="277" y="827"/>
                  </a:lnTo>
                  <a:lnTo>
                    <a:pt x="290" y="827"/>
                  </a:lnTo>
                  <a:lnTo>
                    <a:pt x="303" y="814"/>
                  </a:lnTo>
                  <a:lnTo>
                    <a:pt x="316" y="801"/>
                  </a:lnTo>
                  <a:lnTo>
                    <a:pt x="330" y="788"/>
                  </a:lnTo>
                  <a:lnTo>
                    <a:pt x="343" y="762"/>
                  </a:lnTo>
                  <a:lnTo>
                    <a:pt x="356" y="762"/>
                  </a:lnTo>
                  <a:lnTo>
                    <a:pt x="356" y="748"/>
                  </a:lnTo>
                  <a:lnTo>
                    <a:pt x="356" y="735"/>
                  </a:lnTo>
                  <a:lnTo>
                    <a:pt x="356" y="709"/>
                  </a:lnTo>
                  <a:lnTo>
                    <a:pt x="343" y="697"/>
                  </a:lnTo>
                  <a:lnTo>
                    <a:pt x="316" y="670"/>
                  </a:lnTo>
                  <a:lnTo>
                    <a:pt x="303" y="644"/>
                  </a:lnTo>
                  <a:lnTo>
                    <a:pt x="290" y="631"/>
                  </a:lnTo>
                  <a:lnTo>
                    <a:pt x="290" y="618"/>
                  </a:lnTo>
                  <a:lnTo>
                    <a:pt x="303" y="605"/>
                  </a:lnTo>
                  <a:lnTo>
                    <a:pt x="303" y="618"/>
                  </a:lnTo>
                  <a:lnTo>
                    <a:pt x="316" y="618"/>
                  </a:lnTo>
                  <a:lnTo>
                    <a:pt x="330" y="631"/>
                  </a:lnTo>
                  <a:lnTo>
                    <a:pt x="356" y="644"/>
                  </a:lnTo>
                  <a:lnTo>
                    <a:pt x="382" y="657"/>
                  </a:lnTo>
                  <a:lnTo>
                    <a:pt x="396" y="670"/>
                  </a:lnTo>
                  <a:lnTo>
                    <a:pt x="409" y="684"/>
                  </a:lnTo>
                  <a:lnTo>
                    <a:pt x="422" y="684"/>
                  </a:lnTo>
                  <a:lnTo>
                    <a:pt x="448" y="605"/>
                  </a:lnTo>
                  <a:lnTo>
                    <a:pt x="501" y="618"/>
                  </a:lnTo>
                  <a:lnTo>
                    <a:pt x="539" y="460"/>
                  </a:lnTo>
                  <a:lnTo>
                    <a:pt x="356" y="354"/>
                  </a:lnTo>
                  <a:lnTo>
                    <a:pt x="343" y="341"/>
                  </a:lnTo>
                  <a:lnTo>
                    <a:pt x="343" y="328"/>
                  </a:lnTo>
                  <a:lnTo>
                    <a:pt x="343" y="315"/>
                  </a:lnTo>
                  <a:lnTo>
                    <a:pt x="343" y="302"/>
                  </a:lnTo>
                  <a:lnTo>
                    <a:pt x="356" y="302"/>
                  </a:lnTo>
                  <a:lnTo>
                    <a:pt x="356" y="288"/>
                  </a:lnTo>
                  <a:lnTo>
                    <a:pt x="356" y="275"/>
                  </a:lnTo>
                  <a:lnTo>
                    <a:pt x="488" y="262"/>
                  </a:lnTo>
                  <a:lnTo>
                    <a:pt x="501" y="275"/>
                  </a:lnTo>
                  <a:lnTo>
                    <a:pt x="514" y="288"/>
                  </a:lnTo>
                  <a:lnTo>
                    <a:pt x="514" y="302"/>
                  </a:lnTo>
                  <a:lnTo>
                    <a:pt x="527" y="315"/>
                  </a:lnTo>
                  <a:lnTo>
                    <a:pt x="539" y="341"/>
                  </a:lnTo>
                  <a:lnTo>
                    <a:pt x="539" y="354"/>
                  </a:lnTo>
                  <a:lnTo>
                    <a:pt x="554" y="368"/>
                  </a:lnTo>
                  <a:lnTo>
                    <a:pt x="567" y="394"/>
                  </a:lnTo>
                  <a:lnTo>
                    <a:pt x="618" y="118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85560" y="2445480"/>
              <a:ext cx="27360" cy="1044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65" y="0"/>
                  </a:moveTo>
                  <a:lnTo>
                    <a:pt x="0" y="2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18840" y="2782440"/>
              <a:ext cx="659520" cy="1000080"/>
            </a:xfrm>
            <a:custGeom>
              <a:avLst/>
              <a:gdLst/>
              <a:ahLst/>
              <a:rect l="l" t="t" r="r" b="b"/>
              <a:pathLst>
                <a:path w="1524" h="2340">
                  <a:moveTo>
                    <a:pt x="1524" y="696"/>
                  </a:moveTo>
                  <a:lnTo>
                    <a:pt x="1524" y="684"/>
                  </a:lnTo>
                  <a:lnTo>
                    <a:pt x="1498" y="736"/>
                  </a:lnTo>
                  <a:lnTo>
                    <a:pt x="1472" y="788"/>
                  </a:lnTo>
                  <a:lnTo>
                    <a:pt x="1445" y="841"/>
                  </a:lnTo>
                  <a:lnTo>
                    <a:pt x="1419" y="881"/>
                  </a:lnTo>
                  <a:lnTo>
                    <a:pt x="1393" y="933"/>
                  </a:lnTo>
                  <a:lnTo>
                    <a:pt x="1353" y="973"/>
                  </a:lnTo>
                  <a:lnTo>
                    <a:pt x="1302" y="1012"/>
                  </a:lnTo>
                  <a:lnTo>
                    <a:pt x="1249" y="1039"/>
                  </a:lnTo>
                  <a:lnTo>
                    <a:pt x="1236" y="1039"/>
                  </a:lnTo>
                  <a:lnTo>
                    <a:pt x="1223" y="1039"/>
                  </a:lnTo>
                  <a:lnTo>
                    <a:pt x="1209" y="1039"/>
                  </a:lnTo>
                  <a:lnTo>
                    <a:pt x="1196" y="1039"/>
                  </a:lnTo>
                  <a:lnTo>
                    <a:pt x="1157" y="907"/>
                  </a:lnTo>
                  <a:lnTo>
                    <a:pt x="1143" y="788"/>
                  </a:lnTo>
                  <a:lnTo>
                    <a:pt x="1130" y="658"/>
                  </a:lnTo>
                  <a:lnTo>
                    <a:pt x="1143" y="526"/>
                  </a:lnTo>
                  <a:lnTo>
                    <a:pt x="1143" y="394"/>
                  </a:lnTo>
                  <a:lnTo>
                    <a:pt x="1130" y="263"/>
                  </a:lnTo>
                  <a:lnTo>
                    <a:pt x="1117" y="132"/>
                  </a:lnTo>
                  <a:lnTo>
                    <a:pt x="1078" y="0"/>
                  </a:lnTo>
                  <a:lnTo>
                    <a:pt x="1064" y="0"/>
                  </a:lnTo>
                  <a:lnTo>
                    <a:pt x="1051" y="0"/>
                  </a:lnTo>
                  <a:lnTo>
                    <a:pt x="1051" y="145"/>
                  </a:lnTo>
                  <a:lnTo>
                    <a:pt x="1038" y="289"/>
                  </a:lnTo>
                  <a:lnTo>
                    <a:pt x="999" y="421"/>
                  </a:lnTo>
                  <a:lnTo>
                    <a:pt x="959" y="552"/>
                  </a:lnTo>
                  <a:lnTo>
                    <a:pt x="906" y="684"/>
                  </a:lnTo>
                  <a:lnTo>
                    <a:pt x="841" y="802"/>
                  </a:lnTo>
                  <a:lnTo>
                    <a:pt x="762" y="920"/>
                  </a:lnTo>
                  <a:lnTo>
                    <a:pt x="669" y="1026"/>
                  </a:lnTo>
                  <a:lnTo>
                    <a:pt x="618" y="1052"/>
                  </a:lnTo>
                  <a:lnTo>
                    <a:pt x="565" y="1065"/>
                  </a:lnTo>
                  <a:lnTo>
                    <a:pt x="499" y="1078"/>
                  </a:lnTo>
                  <a:lnTo>
                    <a:pt x="446" y="1091"/>
                  </a:lnTo>
                  <a:lnTo>
                    <a:pt x="394" y="1091"/>
                  </a:lnTo>
                  <a:lnTo>
                    <a:pt x="341" y="1078"/>
                  </a:lnTo>
                  <a:lnTo>
                    <a:pt x="288" y="1078"/>
                  </a:lnTo>
                  <a:lnTo>
                    <a:pt x="236" y="1065"/>
                  </a:lnTo>
                  <a:lnTo>
                    <a:pt x="183" y="1144"/>
                  </a:lnTo>
                  <a:lnTo>
                    <a:pt x="157" y="1248"/>
                  </a:lnTo>
                  <a:lnTo>
                    <a:pt x="130" y="1341"/>
                  </a:lnTo>
                  <a:lnTo>
                    <a:pt x="104" y="1446"/>
                  </a:lnTo>
                  <a:lnTo>
                    <a:pt x="91" y="1551"/>
                  </a:lnTo>
                  <a:lnTo>
                    <a:pt x="78" y="1657"/>
                  </a:lnTo>
                  <a:lnTo>
                    <a:pt x="51" y="1748"/>
                  </a:lnTo>
                  <a:lnTo>
                    <a:pt x="25" y="1853"/>
                  </a:lnTo>
                  <a:lnTo>
                    <a:pt x="12" y="1906"/>
                  </a:lnTo>
                  <a:lnTo>
                    <a:pt x="12" y="1959"/>
                  </a:lnTo>
                  <a:lnTo>
                    <a:pt x="12" y="2011"/>
                  </a:lnTo>
                  <a:lnTo>
                    <a:pt x="12" y="2077"/>
                  </a:lnTo>
                  <a:lnTo>
                    <a:pt x="12" y="2130"/>
                  </a:lnTo>
                  <a:lnTo>
                    <a:pt x="12" y="2183"/>
                  </a:lnTo>
                  <a:lnTo>
                    <a:pt x="0" y="2234"/>
                  </a:lnTo>
                  <a:lnTo>
                    <a:pt x="0" y="2287"/>
                  </a:lnTo>
                  <a:lnTo>
                    <a:pt x="0" y="2300"/>
                  </a:lnTo>
                  <a:lnTo>
                    <a:pt x="12" y="2300"/>
                  </a:lnTo>
                  <a:lnTo>
                    <a:pt x="25" y="2313"/>
                  </a:lnTo>
                  <a:lnTo>
                    <a:pt x="38" y="2313"/>
                  </a:lnTo>
                  <a:lnTo>
                    <a:pt x="51" y="2326"/>
                  </a:lnTo>
                  <a:lnTo>
                    <a:pt x="64" y="2326"/>
                  </a:lnTo>
                  <a:lnTo>
                    <a:pt x="78" y="2326"/>
                  </a:lnTo>
                  <a:lnTo>
                    <a:pt x="91" y="2340"/>
                  </a:lnTo>
                  <a:lnTo>
                    <a:pt x="143" y="2300"/>
                  </a:lnTo>
                  <a:lnTo>
                    <a:pt x="209" y="2274"/>
                  </a:lnTo>
                  <a:lnTo>
                    <a:pt x="288" y="2261"/>
                  </a:lnTo>
                  <a:lnTo>
                    <a:pt x="354" y="2261"/>
                  </a:lnTo>
                  <a:lnTo>
                    <a:pt x="433" y="2247"/>
                  </a:lnTo>
                  <a:lnTo>
                    <a:pt x="499" y="2247"/>
                  </a:lnTo>
                  <a:lnTo>
                    <a:pt x="578" y="2234"/>
                  </a:lnTo>
                  <a:lnTo>
                    <a:pt x="656" y="2221"/>
                  </a:lnTo>
                  <a:lnTo>
                    <a:pt x="682" y="2221"/>
                  </a:lnTo>
                  <a:lnTo>
                    <a:pt x="709" y="2221"/>
                  </a:lnTo>
                  <a:lnTo>
                    <a:pt x="748" y="2221"/>
                  </a:lnTo>
                  <a:lnTo>
                    <a:pt x="775" y="2208"/>
                  </a:lnTo>
                  <a:lnTo>
                    <a:pt x="801" y="2208"/>
                  </a:lnTo>
                  <a:lnTo>
                    <a:pt x="827" y="2208"/>
                  </a:lnTo>
                  <a:lnTo>
                    <a:pt x="867" y="2208"/>
                  </a:lnTo>
                  <a:lnTo>
                    <a:pt x="893" y="2196"/>
                  </a:lnTo>
                  <a:lnTo>
                    <a:pt x="656" y="1499"/>
                  </a:lnTo>
                  <a:lnTo>
                    <a:pt x="656" y="1486"/>
                  </a:lnTo>
                  <a:lnTo>
                    <a:pt x="669" y="1486"/>
                  </a:lnTo>
                  <a:lnTo>
                    <a:pt x="682" y="1486"/>
                  </a:lnTo>
                  <a:lnTo>
                    <a:pt x="696" y="1472"/>
                  </a:lnTo>
                  <a:lnTo>
                    <a:pt x="709" y="1486"/>
                  </a:lnTo>
                  <a:lnTo>
                    <a:pt x="722" y="1486"/>
                  </a:lnTo>
                  <a:lnTo>
                    <a:pt x="735" y="1486"/>
                  </a:lnTo>
                  <a:lnTo>
                    <a:pt x="735" y="1499"/>
                  </a:lnTo>
                  <a:lnTo>
                    <a:pt x="814" y="1722"/>
                  </a:lnTo>
                  <a:lnTo>
                    <a:pt x="709" y="1039"/>
                  </a:lnTo>
                  <a:lnTo>
                    <a:pt x="722" y="1026"/>
                  </a:lnTo>
                  <a:lnTo>
                    <a:pt x="735" y="1026"/>
                  </a:lnTo>
                  <a:lnTo>
                    <a:pt x="748" y="1026"/>
                  </a:lnTo>
                  <a:lnTo>
                    <a:pt x="762" y="1026"/>
                  </a:lnTo>
                  <a:lnTo>
                    <a:pt x="775" y="1026"/>
                  </a:lnTo>
                  <a:lnTo>
                    <a:pt x="788" y="1039"/>
                  </a:lnTo>
                  <a:lnTo>
                    <a:pt x="972" y="1814"/>
                  </a:lnTo>
                  <a:lnTo>
                    <a:pt x="893" y="920"/>
                  </a:lnTo>
                  <a:lnTo>
                    <a:pt x="906" y="920"/>
                  </a:lnTo>
                  <a:lnTo>
                    <a:pt x="906" y="907"/>
                  </a:lnTo>
                  <a:lnTo>
                    <a:pt x="920" y="907"/>
                  </a:lnTo>
                  <a:lnTo>
                    <a:pt x="933" y="907"/>
                  </a:lnTo>
                  <a:lnTo>
                    <a:pt x="946" y="907"/>
                  </a:lnTo>
                  <a:lnTo>
                    <a:pt x="959" y="907"/>
                  </a:lnTo>
                  <a:lnTo>
                    <a:pt x="972" y="907"/>
                  </a:lnTo>
                  <a:lnTo>
                    <a:pt x="972" y="920"/>
                  </a:lnTo>
                  <a:lnTo>
                    <a:pt x="985" y="920"/>
                  </a:lnTo>
                  <a:lnTo>
                    <a:pt x="999" y="920"/>
                  </a:lnTo>
                  <a:lnTo>
                    <a:pt x="999" y="933"/>
                  </a:lnTo>
                  <a:lnTo>
                    <a:pt x="985" y="1052"/>
                  </a:lnTo>
                  <a:lnTo>
                    <a:pt x="999" y="1157"/>
                  </a:lnTo>
                  <a:lnTo>
                    <a:pt x="1012" y="1275"/>
                  </a:lnTo>
                  <a:lnTo>
                    <a:pt x="1038" y="1393"/>
                  </a:lnTo>
                  <a:lnTo>
                    <a:pt x="1064" y="1499"/>
                  </a:lnTo>
                  <a:lnTo>
                    <a:pt x="1091" y="1617"/>
                  </a:lnTo>
                  <a:lnTo>
                    <a:pt x="1117" y="1735"/>
                  </a:lnTo>
                  <a:lnTo>
                    <a:pt x="1130" y="1853"/>
                  </a:lnTo>
                  <a:lnTo>
                    <a:pt x="1183" y="1748"/>
                  </a:lnTo>
                  <a:lnTo>
                    <a:pt x="1236" y="1630"/>
                  </a:lnTo>
                  <a:lnTo>
                    <a:pt x="1287" y="1512"/>
                  </a:lnTo>
                  <a:lnTo>
                    <a:pt x="1340" y="1380"/>
                  </a:lnTo>
                  <a:lnTo>
                    <a:pt x="1380" y="1235"/>
                  </a:lnTo>
                  <a:lnTo>
                    <a:pt x="1432" y="1105"/>
                  </a:lnTo>
                  <a:lnTo>
                    <a:pt x="1472" y="960"/>
                  </a:lnTo>
                  <a:lnTo>
                    <a:pt x="1511" y="828"/>
                  </a:lnTo>
                  <a:lnTo>
                    <a:pt x="1511" y="815"/>
                  </a:lnTo>
                  <a:lnTo>
                    <a:pt x="1511" y="788"/>
                  </a:lnTo>
                  <a:lnTo>
                    <a:pt x="1511" y="775"/>
                  </a:lnTo>
                  <a:lnTo>
                    <a:pt x="1511" y="749"/>
                  </a:lnTo>
                  <a:lnTo>
                    <a:pt x="1511" y="736"/>
                  </a:lnTo>
                  <a:lnTo>
                    <a:pt x="1511" y="723"/>
                  </a:lnTo>
                  <a:lnTo>
                    <a:pt x="1524" y="709"/>
                  </a:lnTo>
                  <a:lnTo>
                    <a:pt x="1524" y="696"/>
                  </a:lnTo>
                  <a:close/>
                </a:path>
              </a:pathLst>
            </a:custGeom>
            <a:solidFill>
              <a:srgbClr val="dd3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53800" y="2944800"/>
              <a:ext cx="96840" cy="235440"/>
            </a:xfrm>
            <a:custGeom>
              <a:avLst/>
              <a:gdLst/>
              <a:ahLst/>
              <a:rect l="l" t="t" r="r" b="b"/>
              <a:pathLst>
                <a:path w="223" h="552">
                  <a:moveTo>
                    <a:pt x="223" y="171"/>
                  </a:moveTo>
                  <a:lnTo>
                    <a:pt x="223" y="158"/>
                  </a:lnTo>
                  <a:lnTo>
                    <a:pt x="223" y="145"/>
                  </a:lnTo>
                  <a:lnTo>
                    <a:pt x="223" y="132"/>
                  </a:lnTo>
                  <a:lnTo>
                    <a:pt x="223" y="119"/>
                  </a:lnTo>
                  <a:lnTo>
                    <a:pt x="223" y="106"/>
                  </a:lnTo>
                  <a:lnTo>
                    <a:pt x="209" y="106"/>
                  </a:lnTo>
                  <a:lnTo>
                    <a:pt x="196" y="106"/>
                  </a:lnTo>
                  <a:lnTo>
                    <a:pt x="183" y="106"/>
                  </a:lnTo>
                  <a:lnTo>
                    <a:pt x="183" y="92"/>
                  </a:lnTo>
                  <a:lnTo>
                    <a:pt x="170" y="92"/>
                  </a:lnTo>
                  <a:lnTo>
                    <a:pt x="157" y="92"/>
                  </a:lnTo>
                  <a:lnTo>
                    <a:pt x="157" y="79"/>
                  </a:lnTo>
                  <a:lnTo>
                    <a:pt x="157" y="66"/>
                  </a:lnTo>
                  <a:lnTo>
                    <a:pt x="157" y="53"/>
                  </a:lnTo>
                  <a:lnTo>
                    <a:pt x="157" y="40"/>
                  </a:lnTo>
                  <a:lnTo>
                    <a:pt x="144" y="27"/>
                  </a:lnTo>
                  <a:lnTo>
                    <a:pt x="144" y="13"/>
                  </a:lnTo>
                  <a:lnTo>
                    <a:pt x="130" y="13"/>
                  </a:lnTo>
                  <a:lnTo>
                    <a:pt x="117" y="27"/>
                  </a:lnTo>
                  <a:lnTo>
                    <a:pt x="104" y="40"/>
                  </a:lnTo>
                  <a:lnTo>
                    <a:pt x="91" y="40"/>
                  </a:lnTo>
                  <a:lnTo>
                    <a:pt x="13" y="0"/>
                  </a:lnTo>
                  <a:lnTo>
                    <a:pt x="0" y="53"/>
                  </a:lnTo>
                  <a:lnTo>
                    <a:pt x="0" y="119"/>
                  </a:lnTo>
                  <a:lnTo>
                    <a:pt x="0" y="185"/>
                  </a:lnTo>
                  <a:lnTo>
                    <a:pt x="0" y="250"/>
                  </a:lnTo>
                  <a:lnTo>
                    <a:pt x="0" y="315"/>
                  </a:lnTo>
                  <a:lnTo>
                    <a:pt x="0" y="381"/>
                  </a:lnTo>
                  <a:lnTo>
                    <a:pt x="0" y="447"/>
                  </a:lnTo>
                  <a:lnTo>
                    <a:pt x="0" y="513"/>
                  </a:lnTo>
                  <a:lnTo>
                    <a:pt x="0" y="526"/>
                  </a:lnTo>
                  <a:lnTo>
                    <a:pt x="0" y="539"/>
                  </a:lnTo>
                  <a:lnTo>
                    <a:pt x="0" y="552"/>
                  </a:lnTo>
                  <a:lnTo>
                    <a:pt x="26" y="539"/>
                  </a:lnTo>
                  <a:lnTo>
                    <a:pt x="51" y="526"/>
                  </a:lnTo>
                  <a:lnTo>
                    <a:pt x="78" y="500"/>
                  </a:lnTo>
                  <a:lnTo>
                    <a:pt x="104" y="473"/>
                  </a:lnTo>
                  <a:lnTo>
                    <a:pt x="117" y="447"/>
                  </a:lnTo>
                  <a:lnTo>
                    <a:pt x="130" y="421"/>
                  </a:lnTo>
                  <a:lnTo>
                    <a:pt x="144" y="394"/>
                  </a:lnTo>
                  <a:lnTo>
                    <a:pt x="170" y="355"/>
                  </a:lnTo>
                  <a:lnTo>
                    <a:pt x="170" y="328"/>
                  </a:lnTo>
                  <a:lnTo>
                    <a:pt x="183" y="303"/>
                  </a:lnTo>
                  <a:lnTo>
                    <a:pt x="183" y="277"/>
                  </a:lnTo>
                  <a:lnTo>
                    <a:pt x="196" y="250"/>
                  </a:lnTo>
                  <a:lnTo>
                    <a:pt x="196" y="237"/>
                  </a:lnTo>
                  <a:lnTo>
                    <a:pt x="209" y="211"/>
                  </a:lnTo>
                  <a:lnTo>
                    <a:pt x="209" y="185"/>
                  </a:lnTo>
                  <a:lnTo>
                    <a:pt x="223" y="171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66040" y="3091680"/>
              <a:ext cx="32400" cy="49320"/>
            </a:xfrm>
            <a:custGeom>
              <a:avLst/>
              <a:gdLst/>
              <a:ahLst/>
              <a:rect l="l" t="t" r="r" b="b"/>
              <a:pathLst>
                <a:path w="78" h="118">
                  <a:moveTo>
                    <a:pt x="78" y="39"/>
                  </a:moveTo>
                  <a:lnTo>
                    <a:pt x="78" y="26"/>
                  </a:lnTo>
                  <a:lnTo>
                    <a:pt x="65" y="26"/>
                  </a:lnTo>
                  <a:lnTo>
                    <a:pt x="65" y="13"/>
                  </a:lnTo>
                  <a:lnTo>
                    <a:pt x="52" y="13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40" y="13"/>
                  </a:lnTo>
                  <a:lnTo>
                    <a:pt x="25" y="13"/>
                  </a:lnTo>
                  <a:lnTo>
                    <a:pt x="12" y="13"/>
                  </a:lnTo>
                  <a:lnTo>
                    <a:pt x="12" y="26"/>
                  </a:lnTo>
                  <a:lnTo>
                    <a:pt x="12" y="39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9"/>
                  </a:lnTo>
                  <a:lnTo>
                    <a:pt x="12" y="92"/>
                  </a:lnTo>
                  <a:lnTo>
                    <a:pt x="12" y="105"/>
                  </a:lnTo>
                  <a:lnTo>
                    <a:pt x="12" y="118"/>
                  </a:lnTo>
                  <a:lnTo>
                    <a:pt x="25" y="118"/>
                  </a:lnTo>
                  <a:lnTo>
                    <a:pt x="40" y="118"/>
                  </a:lnTo>
                  <a:lnTo>
                    <a:pt x="40" y="105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1120" y="2737800"/>
              <a:ext cx="57240" cy="167400"/>
            </a:xfrm>
            <a:custGeom>
              <a:avLst/>
              <a:gdLst/>
              <a:ahLst/>
              <a:rect l="l" t="t" r="r" b="b"/>
              <a:pathLst>
                <a:path w="131" h="394">
                  <a:moveTo>
                    <a:pt x="119" y="276"/>
                  </a:moveTo>
                  <a:lnTo>
                    <a:pt x="104" y="290"/>
                  </a:lnTo>
                  <a:lnTo>
                    <a:pt x="91" y="290"/>
                  </a:lnTo>
                  <a:lnTo>
                    <a:pt x="79" y="290"/>
                  </a:lnTo>
                  <a:lnTo>
                    <a:pt x="66" y="263"/>
                  </a:lnTo>
                  <a:lnTo>
                    <a:pt x="66" y="250"/>
                  </a:lnTo>
                  <a:lnTo>
                    <a:pt x="66" y="224"/>
                  </a:lnTo>
                  <a:lnTo>
                    <a:pt x="79" y="211"/>
                  </a:lnTo>
                  <a:lnTo>
                    <a:pt x="79" y="197"/>
                  </a:lnTo>
                  <a:lnTo>
                    <a:pt x="91" y="171"/>
                  </a:lnTo>
                  <a:lnTo>
                    <a:pt x="104" y="158"/>
                  </a:lnTo>
                  <a:lnTo>
                    <a:pt x="119" y="145"/>
                  </a:lnTo>
                  <a:lnTo>
                    <a:pt x="91" y="0"/>
                  </a:lnTo>
                  <a:lnTo>
                    <a:pt x="79" y="13"/>
                  </a:lnTo>
                  <a:lnTo>
                    <a:pt x="66" y="13"/>
                  </a:lnTo>
                  <a:lnTo>
                    <a:pt x="53" y="26"/>
                  </a:lnTo>
                  <a:lnTo>
                    <a:pt x="40" y="26"/>
                  </a:lnTo>
                  <a:lnTo>
                    <a:pt x="26" y="39"/>
                  </a:lnTo>
                  <a:lnTo>
                    <a:pt x="26" y="53"/>
                  </a:lnTo>
                  <a:lnTo>
                    <a:pt x="13" y="66"/>
                  </a:lnTo>
                  <a:lnTo>
                    <a:pt x="0" y="79"/>
                  </a:lnTo>
                  <a:lnTo>
                    <a:pt x="40" y="394"/>
                  </a:lnTo>
                  <a:lnTo>
                    <a:pt x="131" y="290"/>
                  </a:lnTo>
                  <a:lnTo>
                    <a:pt x="119" y="290"/>
                  </a:lnTo>
                  <a:lnTo>
                    <a:pt x="119" y="276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01600" y="2658960"/>
              <a:ext cx="29160" cy="172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0"/>
                  </a:moveTo>
                  <a:lnTo>
                    <a:pt x="0" y="4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77400" y="2372040"/>
              <a:ext cx="101880" cy="33840"/>
            </a:xfrm>
            <a:custGeom>
              <a:avLst/>
              <a:gdLst/>
              <a:ahLst/>
              <a:rect l="l" t="t" r="r" b="b"/>
              <a:pathLst>
                <a:path w="237" h="79">
                  <a:moveTo>
                    <a:pt x="224" y="0"/>
                  </a:moveTo>
                  <a:lnTo>
                    <a:pt x="0" y="79"/>
                  </a:lnTo>
                  <a:lnTo>
                    <a:pt x="237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19760" y="4731120"/>
              <a:ext cx="649080" cy="1068120"/>
            </a:xfrm>
            <a:custGeom>
              <a:avLst/>
              <a:gdLst/>
              <a:ahLst/>
              <a:rect l="l" t="t" r="r" b="b"/>
              <a:pathLst>
                <a:path w="1499" h="2497">
                  <a:moveTo>
                    <a:pt x="1499" y="143"/>
                  </a:moveTo>
                  <a:lnTo>
                    <a:pt x="1499" y="130"/>
                  </a:lnTo>
                  <a:lnTo>
                    <a:pt x="1486" y="105"/>
                  </a:lnTo>
                  <a:lnTo>
                    <a:pt x="1486" y="92"/>
                  </a:lnTo>
                  <a:lnTo>
                    <a:pt x="1486" y="79"/>
                  </a:lnTo>
                  <a:lnTo>
                    <a:pt x="1486" y="52"/>
                  </a:lnTo>
                  <a:lnTo>
                    <a:pt x="1486" y="39"/>
                  </a:lnTo>
                  <a:lnTo>
                    <a:pt x="1499" y="26"/>
                  </a:lnTo>
                  <a:lnTo>
                    <a:pt x="1499" y="0"/>
                  </a:lnTo>
                  <a:lnTo>
                    <a:pt x="1486" y="0"/>
                  </a:lnTo>
                  <a:lnTo>
                    <a:pt x="1473" y="0"/>
                  </a:lnTo>
                  <a:lnTo>
                    <a:pt x="1460" y="13"/>
                  </a:lnTo>
                  <a:lnTo>
                    <a:pt x="1446" y="13"/>
                  </a:lnTo>
                  <a:lnTo>
                    <a:pt x="1433" y="13"/>
                  </a:lnTo>
                  <a:lnTo>
                    <a:pt x="1420" y="13"/>
                  </a:lnTo>
                  <a:lnTo>
                    <a:pt x="1407" y="0"/>
                  </a:lnTo>
                  <a:lnTo>
                    <a:pt x="1394" y="0"/>
                  </a:lnTo>
                  <a:lnTo>
                    <a:pt x="1039" y="157"/>
                  </a:lnTo>
                  <a:lnTo>
                    <a:pt x="1039" y="170"/>
                  </a:lnTo>
                  <a:lnTo>
                    <a:pt x="1052" y="170"/>
                  </a:lnTo>
                  <a:lnTo>
                    <a:pt x="1052" y="183"/>
                  </a:lnTo>
                  <a:lnTo>
                    <a:pt x="1052" y="196"/>
                  </a:lnTo>
                  <a:lnTo>
                    <a:pt x="1065" y="209"/>
                  </a:lnTo>
                  <a:lnTo>
                    <a:pt x="1052" y="565"/>
                  </a:lnTo>
                  <a:lnTo>
                    <a:pt x="986" y="643"/>
                  </a:lnTo>
                  <a:lnTo>
                    <a:pt x="907" y="735"/>
                  </a:lnTo>
                  <a:lnTo>
                    <a:pt x="828" y="814"/>
                  </a:lnTo>
                  <a:lnTo>
                    <a:pt x="763" y="906"/>
                  </a:lnTo>
                  <a:lnTo>
                    <a:pt x="697" y="1012"/>
                  </a:lnTo>
                  <a:lnTo>
                    <a:pt x="644" y="1117"/>
                  </a:lnTo>
                  <a:lnTo>
                    <a:pt x="618" y="1235"/>
                  </a:lnTo>
                  <a:lnTo>
                    <a:pt x="591" y="1353"/>
                  </a:lnTo>
                  <a:lnTo>
                    <a:pt x="591" y="1366"/>
                  </a:lnTo>
                  <a:lnTo>
                    <a:pt x="591" y="1380"/>
                  </a:lnTo>
                  <a:lnTo>
                    <a:pt x="604" y="1380"/>
                  </a:lnTo>
                  <a:lnTo>
                    <a:pt x="604" y="1393"/>
                  </a:lnTo>
                  <a:lnTo>
                    <a:pt x="604" y="1406"/>
                  </a:lnTo>
                  <a:lnTo>
                    <a:pt x="552" y="1511"/>
                  </a:lnTo>
                  <a:lnTo>
                    <a:pt x="486" y="1617"/>
                  </a:lnTo>
                  <a:lnTo>
                    <a:pt x="408" y="1721"/>
                  </a:lnTo>
                  <a:lnTo>
                    <a:pt x="329" y="1813"/>
                  </a:lnTo>
                  <a:lnTo>
                    <a:pt x="237" y="1919"/>
                  </a:lnTo>
                  <a:lnTo>
                    <a:pt x="158" y="2011"/>
                  </a:lnTo>
                  <a:lnTo>
                    <a:pt x="92" y="2128"/>
                  </a:lnTo>
                  <a:lnTo>
                    <a:pt x="39" y="2247"/>
                  </a:lnTo>
                  <a:lnTo>
                    <a:pt x="26" y="2260"/>
                  </a:lnTo>
                  <a:lnTo>
                    <a:pt x="13" y="2273"/>
                  </a:lnTo>
                  <a:lnTo>
                    <a:pt x="13" y="2286"/>
                  </a:lnTo>
                  <a:lnTo>
                    <a:pt x="13" y="2299"/>
                  </a:lnTo>
                  <a:lnTo>
                    <a:pt x="0" y="2313"/>
                  </a:lnTo>
                  <a:lnTo>
                    <a:pt x="13" y="2313"/>
                  </a:lnTo>
                  <a:lnTo>
                    <a:pt x="13" y="2326"/>
                  </a:lnTo>
                  <a:lnTo>
                    <a:pt x="26" y="2326"/>
                  </a:lnTo>
                  <a:lnTo>
                    <a:pt x="39" y="2326"/>
                  </a:lnTo>
                  <a:lnTo>
                    <a:pt x="39" y="2339"/>
                  </a:lnTo>
                  <a:lnTo>
                    <a:pt x="52" y="2339"/>
                  </a:lnTo>
                  <a:lnTo>
                    <a:pt x="52" y="2352"/>
                  </a:lnTo>
                  <a:lnTo>
                    <a:pt x="52" y="2365"/>
                  </a:lnTo>
                  <a:lnTo>
                    <a:pt x="26" y="2431"/>
                  </a:lnTo>
                  <a:lnTo>
                    <a:pt x="26" y="2444"/>
                  </a:lnTo>
                  <a:lnTo>
                    <a:pt x="39" y="2458"/>
                  </a:lnTo>
                  <a:lnTo>
                    <a:pt x="39" y="2471"/>
                  </a:lnTo>
                  <a:lnTo>
                    <a:pt x="52" y="2484"/>
                  </a:lnTo>
                  <a:lnTo>
                    <a:pt x="65" y="2484"/>
                  </a:lnTo>
                  <a:lnTo>
                    <a:pt x="79" y="2497"/>
                  </a:lnTo>
                  <a:lnTo>
                    <a:pt x="184" y="2431"/>
                  </a:lnTo>
                  <a:lnTo>
                    <a:pt x="158" y="2405"/>
                  </a:lnTo>
                  <a:lnTo>
                    <a:pt x="145" y="2379"/>
                  </a:lnTo>
                  <a:lnTo>
                    <a:pt x="131" y="2352"/>
                  </a:lnTo>
                  <a:lnTo>
                    <a:pt x="118" y="2313"/>
                  </a:lnTo>
                  <a:lnTo>
                    <a:pt x="118" y="2273"/>
                  </a:lnTo>
                  <a:lnTo>
                    <a:pt x="131" y="2247"/>
                  </a:lnTo>
                  <a:lnTo>
                    <a:pt x="145" y="2207"/>
                  </a:lnTo>
                  <a:lnTo>
                    <a:pt x="171" y="2168"/>
                  </a:lnTo>
                  <a:lnTo>
                    <a:pt x="184" y="2168"/>
                  </a:lnTo>
                  <a:lnTo>
                    <a:pt x="197" y="2168"/>
                  </a:lnTo>
                  <a:lnTo>
                    <a:pt x="210" y="2168"/>
                  </a:lnTo>
                  <a:lnTo>
                    <a:pt x="210" y="2181"/>
                  </a:lnTo>
                  <a:lnTo>
                    <a:pt x="224" y="2181"/>
                  </a:lnTo>
                  <a:lnTo>
                    <a:pt x="237" y="2181"/>
                  </a:lnTo>
                  <a:lnTo>
                    <a:pt x="303" y="2090"/>
                  </a:lnTo>
                  <a:lnTo>
                    <a:pt x="355" y="1984"/>
                  </a:lnTo>
                  <a:lnTo>
                    <a:pt x="408" y="1879"/>
                  </a:lnTo>
                  <a:lnTo>
                    <a:pt x="461" y="1774"/>
                  </a:lnTo>
                  <a:lnTo>
                    <a:pt x="512" y="1668"/>
                  </a:lnTo>
                  <a:lnTo>
                    <a:pt x="565" y="1577"/>
                  </a:lnTo>
                  <a:lnTo>
                    <a:pt x="631" y="1472"/>
                  </a:lnTo>
                  <a:lnTo>
                    <a:pt x="697" y="1393"/>
                  </a:lnTo>
                  <a:lnTo>
                    <a:pt x="736" y="1340"/>
                  </a:lnTo>
                  <a:lnTo>
                    <a:pt x="763" y="1300"/>
                  </a:lnTo>
                  <a:lnTo>
                    <a:pt x="789" y="1248"/>
                  </a:lnTo>
                  <a:lnTo>
                    <a:pt x="815" y="1195"/>
                  </a:lnTo>
                  <a:lnTo>
                    <a:pt x="842" y="1156"/>
                  </a:lnTo>
                  <a:lnTo>
                    <a:pt x="868" y="1117"/>
                  </a:lnTo>
                  <a:lnTo>
                    <a:pt x="894" y="1078"/>
                  </a:lnTo>
                  <a:lnTo>
                    <a:pt x="934" y="1038"/>
                  </a:lnTo>
                  <a:lnTo>
                    <a:pt x="947" y="1038"/>
                  </a:lnTo>
                  <a:lnTo>
                    <a:pt x="960" y="1038"/>
                  </a:lnTo>
                  <a:lnTo>
                    <a:pt x="973" y="1038"/>
                  </a:lnTo>
                  <a:lnTo>
                    <a:pt x="986" y="1051"/>
                  </a:lnTo>
                  <a:lnTo>
                    <a:pt x="1000" y="1064"/>
                  </a:lnTo>
                  <a:lnTo>
                    <a:pt x="1000" y="1078"/>
                  </a:lnTo>
                  <a:lnTo>
                    <a:pt x="868" y="1327"/>
                  </a:lnTo>
                  <a:lnTo>
                    <a:pt x="934" y="1248"/>
                  </a:lnTo>
                  <a:lnTo>
                    <a:pt x="1000" y="1156"/>
                  </a:lnTo>
                  <a:lnTo>
                    <a:pt x="1052" y="1064"/>
                  </a:lnTo>
                  <a:lnTo>
                    <a:pt x="1117" y="959"/>
                  </a:lnTo>
                  <a:lnTo>
                    <a:pt x="1170" y="867"/>
                  </a:lnTo>
                  <a:lnTo>
                    <a:pt x="1236" y="761"/>
                  </a:lnTo>
                  <a:lnTo>
                    <a:pt x="1315" y="682"/>
                  </a:lnTo>
                  <a:lnTo>
                    <a:pt x="1394" y="591"/>
                  </a:lnTo>
                  <a:lnTo>
                    <a:pt x="1407" y="539"/>
                  </a:lnTo>
                  <a:lnTo>
                    <a:pt x="1433" y="486"/>
                  </a:lnTo>
                  <a:lnTo>
                    <a:pt x="1446" y="420"/>
                  </a:lnTo>
                  <a:lnTo>
                    <a:pt x="1460" y="367"/>
                  </a:lnTo>
                  <a:lnTo>
                    <a:pt x="1473" y="315"/>
                  </a:lnTo>
                  <a:lnTo>
                    <a:pt x="1486" y="249"/>
                  </a:lnTo>
                  <a:lnTo>
                    <a:pt x="1486" y="196"/>
                  </a:lnTo>
                  <a:lnTo>
                    <a:pt x="1499" y="14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66080" y="4573800"/>
              <a:ext cx="233280" cy="152280"/>
            </a:xfrm>
            <a:custGeom>
              <a:avLst/>
              <a:gdLst/>
              <a:ahLst/>
              <a:rect l="l" t="t" r="r" b="b"/>
              <a:pathLst>
                <a:path w="539" h="354">
                  <a:moveTo>
                    <a:pt x="539" y="91"/>
                  </a:moveTo>
                  <a:lnTo>
                    <a:pt x="539" y="0"/>
                  </a:lnTo>
                  <a:lnTo>
                    <a:pt x="0" y="223"/>
                  </a:lnTo>
                  <a:lnTo>
                    <a:pt x="13" y="354"/>
                  </a:lnTo>
                  <a:lnTo>
                    <a:pt x="434" y="249"/>
                  </a:lnTo>
                  <a:lnTo>
                    <a:pt x="539" y="104"/>
                  </a:lnTo>
                  <a:lnTo>
                    <a:pt x="539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15680" y="5866200"/>
              <a:ext cx="39600" cy="4428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79" y="0"/>
                  </a:moveTo>
                  <a:lnTo>
                    <a:pt x="13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13" y="92"/>
                  </a:lnTo>
                  <a:lnTo>
                    <a:pt x="13" y="105"/>
                  </a:lnTo>
                  <a:lnTo>
                    <a:pt x="26" y="105"/>
                  </a:lnTo>
                  <a:lnTo>
                    <a:pt x="26" y="92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39" y="92"/>
                  </a:lnTo>
                  <a:lnTo>
                    <a:pt x="26" y="79"/>
                  </a:lnTo>
                  <a:lnTo>
                    <a:pt x="13" y="66"/>
                  </a:lnTo>
                  <a:lnTo>
                    <a:pt x="26" y="53"/>
                  </a:lnTo>
                  <a:lnTo>
                    <a:pt x="26" y="40"/>
                  </a:lnTo>
                  <a:lnTo>
                    <a:pt x="39" y="40"/>
                  </a:lnTo>
                  <a:lnTo>
                    <a:pt x="39" y="26"/>
                  </a:lnTo>
                  <a:lnTo>
                    <a:pt x="52" y="26"/>
                  </a:lnTo>
                  <a:lnTo>
                    <a:pt x="65" y="13"/>
                  </a:lnTo>
                  <a:lnTo>
                    <a:pt x="79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3360" y="2720520"/>
              <a:ext cx="10080" cy="2196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6" y="0"/>
                  </a:moveTo>
                  <a:lnTo>
                    <a:pt x="26" y="14"/>
                  </a:lnTo>
                  <a:lnTo>
                    <a:pt x="13" y="14"/>
                  </a:lnTo>
                  <a:lnTo>
                    <a:pt x="13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3" y="40"/>
                  </a:lnTo>
                  <a:lnTo>
                    <a:pt x="13" y="27"/>
                  </a:lnTo>
                  <a:lnTo>
                    <a:pt x="26" y="27"/>
                  </a:lnTo>
                  <a:lnTo>
                    <a:pt x="26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23880" y="5848920"/>
              <a:ext cx="69480" cy="61560"/>
            </a:xfrm>
            <a:custGeom>
              <a:avLst/>
              <a:gdLst/>
              <a:ahLst/>
              <a:rect l="l" t="t" r="r" b="b"/>
              <a:pathLst>
                <a:path w="158" h="143">
                  <a:moveTo>
                    <a:pt x="145" y="0"/>
                  </a:moveTo>
                  <a:lnTo>
                    <a:pt x="131" y="0"/>
                  </a:lnTo>
                  <a:lnTo>
                    <a:pt x="0" y="117"/>
                  </a:lnTo>
                  <a:lnTo>
                    <a:pt x="13" y="130"/>
                  </a:lnTo>
                  <a:lnTo>
                    <a:pt x="26" y="130"/>
                  </a:lnTo>
                  <a:lnTo>
                    <a:pt x="39" y="143"/>
                  </a:lnTo>
                  <a:lnTo>
                    <a:pt x="52" y="143"/>
                  </a:lnTo>
                  <a:lnTo>
                    <a:pt x="66" y="143"/>
                  </a:lnTo>
                  <a:lnTo>
                    <a:pt x="79" y="130"/>
                  </a:lnTo>
                  <a:lnTo>
                    <a:pt x="158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0200" y="3084840"/>
              <a:ext cx="353160" cy="427320"/>
            </a:xfrm>
            <a:custGeom>
              <a:avLst/>
              <a:gdLst/>
              <a:ahLst/>
              <a:rect l="l" t="t" r="r" b="b"/>
              <a:pathLst>
                <a:path w="816" h="999">
                  <a:moveTo>
                    <a:pt x="816" y="0"/>
                  </a:moveTo>
                  <a:lnTo>
                    <a:pt x="803" y="0"/>
                  </a:lnTo>
                  <a:lnTo>
                    <a:pt x="710" y="53"/>
                  </a:lnTo>
                  <a:lnTo>
                    <a:pt x="631" y="119"/>
                  </a:lnTo>
                  <a:lnTo>
                    <a:pt x="540" y="198"/>
                  </a:lnTo>
                  <a:lnTo>
                    <a:pt x="448" y="264"/>
                  </a:lnTo>
                  <a:lnTo>
                    <a:pt x="356" y="343"/>
                  </a:lnTo>
                  <a:lnTo>
                    <a:pt x="264" y="422"/>
                  </a:lnTo>
                  <a:lnTo>
                    <a:pt x="185" y="500"/>
                  </a:lnTo>
                  <a:lnTo>
                    <a:pt x="106" y="579"/>
                  </a:lnTo>
                  <a:lnTo>
                    <a:pt x="79" y="618"/>
                  </a:lnTo>
                  <a:lnTo>
                    <a:pt x="66" y="658"/>
                  </a:lnTo>
                  <a:lnTo>
                    <a:pt x="53" y="711"/>
                  </a:lnTo>
                  <a:lnTo>
                    <a:pt x="40" y="750"/>
                  </a:lnTo>
                  <a:lnTo>
                    <a:pt x="27" y="803"/>
                  </a:lnTo>
                  <a:lnTo>
                    <a:pt x="13" y="856"/>
                  </a:lnTo>
                  <a:lnTo>
                    <a:pt x="0" y="895"/>
                  </a:lnTo>
                  <a:lnTo>
                    <a:pt x="0" y="948"/>
                  </a:lnTo>
                  <a:lnTo>
                    <a:pt x="0" y="961"/>
                  </a:lnTo>
                  <a:lnTo>
                    <a:pt x="0" y="974"/>
                  </a:lnTo>
                  <a:lnTo>
                    <a:pt x="145" y="999"/>
                  </a:lnTo>
                  <a:lnTo>
                    <a:pt x="158" y="986"/>
                  </a:lnTo>
                  <a:lnTo>
                    <a:pt x="171" y="961"/>
                  </a:lnTo>
                  <a:lnTo>
                    <a:pt x="171" y="935"/>
                  </a:lnTo>
                  <a:lnTo>
                    <a:pt x="171" y="908"/>
                  </a:lnTo>
                  <a:lnTo>
                    <a:pt x="171" y="882"/>
                  </a:lnTo>
                  <a:lnTo>
                    <a:pt x="171" y="856"/>
                  </a:lnTo>
                  <a:lnTo>
                    <a:pt x="158" y="829"/>
                  </a:lnTo>
                  <a:lnTo>
                    <a:pt x="158" y="803"/>
                  </a:lnTo>
                  <a:lnTo>
                    <a:pt x="145" y="790"/>
                  </a:lnTo>
                  <a:lnTo>
                    <a:pt x="145" y="777"/>
                  </a:lnTo>
                  <a:lnTo>
                    <a:pt x="145" y="763"/>
                  </a:lnTo>
                  <a:lnTo>
                    <a:pt x="145" y="750"/>
                  </a:lnTo>
                  <a:lnTo>
                    <a:pt x="145" y="737"/>
                  </a:lnTo>
                  <a:lnTo>
                    <a:pt x="145" y="724"/>
                  </a:lnTo>
                  <a:lnTo>
                    <a:pt x="618" y="382"/>
                  </a:lnTo>
                  <a:lnTo>
                    <a:pt x="789" y="303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79240" y="5804640"/>
              <a:ext cx="79200" cy="51480"/>
            </a:xfrm>
            <a:custGeom>
              <a:avLst/>
              <a:gdLst/>
              <a:ahLst/>
              <a:rect l="l" t="t" r="r" b="b"/>
              <a:pathLst>
                <a:path w="184" h="119">
                  <a:moveTo>
                    <a:pt x="171" y="0"/>
                  </a:moveTo>
                  <a:lnTo>
                    <a:pt x="14" y="66"/>
                  </a:lnTo>
                  <a:lnTo>
                    <a:pt x="14" y="79"/>
                  </a:lnTo>
                  <a:lnTo>
                    <a:pt x="0" y="92"/>
                  </a:lnTo>
                  <a:lnTo>
                    <a:pt x="14" y="106"/>
                  </a:lnTo>
                  <a:lnTo>
                    <a:pt x="14" y="119"/>
                  </a:lnTo>
                  <a:lnTo>
                    <a:pt x="27" y="119"/>
                  </a:lnTo>
                  <a:lnTo>
                    <a:pt x="40" y="119"/>
                  </a:lnTo>
                  <a:lnTo>
                    <a:pt x="53" y="119"/>
                  </a:lnTo>
                  <a:lnTo>
                    <a:pt x="65" y="119"/>
                  </a:lnTo>
                  <a:lnTo>
                    <a:pt x="184" y="27"/>
                  </a:lnTo>
                  <a:lnTo>
                    <a:pt x="171" y="27"/>
                  </a:lnTo>
                  <a:lnTo>
                    <a:pt x="171" y="13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54320" y="5754960"/>
              <a:ext cx="169560" cy="116280"/>
            </a:xfrm>
            <a:custGeom>
              <a:avLst/>
              <a:gdLst/>
              <a:ahLst/>
              <a:rect l="l" t="t" r="r" b="b"/>
              <a:pathLst>
                <a:path w="394" h="275">
                  <a:moveTo>
                    <a:pt x="394" y="13"/>
                  </a:moveTo>
                  <a:lnTo>
                    <a:pt x="394" y="0"/>
                  </a:lnTo>
                  <a:lnTo>
                    <a:pt x="342" y="13"/>
                  </a:lnTo>
                  <a:lnTo>
                    <a:pt x="289" y="26"/>
                  </a:lnTo>
                  <a:lnTo>
                    <a:pt x="237" y="52"/>
                  </a:lnTo>
                  <a:lnTo>
                    <a:pt x="197" y="92"/>
                  </a:lnTo>
                  <a:lnTo>
                    <a:pt x="145" y="118"/>
                  </a:lnTo>
                  <a:lnTo>
                    <a:pt x="105" y="158"/>
                  </a:lnTo>
                  <a:lnTo>
                    <a:pt x="52" y="197"/>
                  </a:lnTo>
                  <a:lnTo>
                    <a:pt x="0" y="224"/>
                  </a:lnTo>
                  <a:lnTo>
                    <a:pt x="184" y="275"/>
                  </a:lnTo>
                  <a:lnTo>
                    <a:pt x="184" y="262"/>
                  </a:lnTo>
                  <a:lnTo>
                    <a:pt x="184" y="249"/>
                  </a:lnTo>
                  <a:lnTo>
                    <a:pt x="171" y="249"/>
                  </a:lnTo>
                  <a:lnTo>
                    <a:pt x="171" y="237"/>
                  </a:lnTo>
                  <a:lnTo>
                    <a:pt x="184" y="210"/>
                  </a:lnTo>
                  <a:lnTo>
                    <a:pt x="210" y="171"/>
                  </a:lnTo>
                  <a:lnTo>
                    <a:pt x="224" y="145"/>
                  </a:lnTo>
                  <a:lnTo>
                    <a:pt x="250" y="105"/>
                  </a:lnTo>
                  <a:lnTo>
                    <a:pt x="276" y="92"/>
                  </a:lnTo>
                  <a:lnTo>
                    <a:pt x="316" y="66"/>
                  </a:lnTo>
                  <a:lnTo>
                    <a:pt x="354" y="52"/>
                  </a:lnTo>
                  <a:lnTo>
                    <a:pt x="394" y="39"/>
                  </a:lnTo>
                  <a:lnTo>
                    <a:pt x="394" y="26"/>
                  </a:lnTo>
                  <a:lnTo>
                    <a:pt x="39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57480" y="5737680"/>
              <a:ext cx="62280" cy="9396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45" y="211"/>
                  </a:moveTo>
                  <a:lnTo>
                    <a:pt x="131" y="211"/>
                  </a:lnTo>
                  <a:lnTo>
                    <a:pt x="131" y="198"/>
                  </a:lnTo>
                  <a:lnTo>
                    <a:pt x="118" y="185"/>
                  </a:lnTo>
                  <a:lnTo>
                    <a:pt x="105" y="171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66"/>
                  </a:lnTo>
                  <a:lnTo>
                    <a:pt x="0" y="92"/>
                  </a:lnTo>
                  <a:lnTo>
                    <a:pt x="13" y="119"/>
                  </a:lnTo>
                  <a:lnTo>
                    <a:pt x="26" y="132"/>
                  </a:lnTo>
                  <a:lnTo>
                    <a:pt x="39" y="158"/>
                  </a:lnTo>
                  <a:lnTo>
                    <a:pt x="52" y="171"/>
                  </a:lnTo>
                  <a:lnTo>
                    <a:pt x="66" y="185"/>
                  </a:lnTo>
                  <a:lnTo>
                    <a:pt x="79" y="198"/>
                  </a:lnTo>
                  <a:lnTo>
                    <a:pt x="92" y="198"/>
                  </a:lnTo>
                  <a:lnTo>
                    <a:pt x="105" y="211"/>
                  </a:lnTo>
                  <a:lnTo>
                    <a:pt x="118" y="211"/>
                  </a:lnTo>
                  <a:lnTo>
                    <a:pt x="131" y="224"/>
                  </a:lnTo>
                  <a:lnTo>
                    <a:pt x="145" y="224"/>
                  </a:lnTo>
                  <a:lnTo>
                    <a:pt x="145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15720" y="768240"/>
            <a:ext cx="860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02444"/>
                </a:solidFill>
                <a:latin typeface="Geometr231 Hv BT"/>
              </a:rPr>
              <a:t>HOW CAN THE CHURCH HELP GIRLS &amp; BO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3400" y="1905120"/>
            <a:ext cx="407880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1. Give Biblical teach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2. Provide group activ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3. Involve youth in church lif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4. Talk about relevant issu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5. Foster good commun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85280" y="1905120"/>
            <a:ext cx="366732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6. Involve par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7. Spot probl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8. Allow for matur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9. Never criticise you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10. Role model and instru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2797200" y="2225520"/>
            <a:ext cx="3470040" cy="3489120"/>
            <a:chOff x="2797200" y="2225520"/>
            <a:chExt cx="3470040" cy="3489120"/>
          </a:xfrm>
        </p:grpSpPr>
        <p:sp>
          <p:nvSpPr>
            <p:cNvPr id="455" name=""/>
            <p:cNvSpPr/>
            <p:nvPr/>
          </p:nvSpPr>
          <p:spPr>
            <a:xfrm>
              <a:off x="2797200" y="2225520"/>
              <a:ext cx="3470040" cy="348912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  <a:close/>
                </a:path>
              </a:pathLst>
            </a:custGeom>
            <a:solidFill>
              <a:srgbClr val="f1e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97200" y="2225520"/>
              <a:ext cx="3470040" cy="348912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54680" y="5476320"/>
              <a:ext cx="77760" cy="47160"/>
            </a:xfrm>
            <a:custGeom>
              <a:avLst/>
              <a:gdLst/>
              <a:ahLst/>
              <a:rect l="l" t="t" r="r" b="b"/>
              <a:pathLst>
                <a:path w="137" h="84">
                  <a:moveTo>
                    <a:pt x="125" y="11"/>
                  </a:moveTo>
                  <a:lnTo>
                    <a:pt x="125" y="0"/>
                  </a:lnTo>
                  <a:lnTo>
                    <a:pt x="0" y="32"/>
                  </a:lnTo>
                  <a:lnTo>
                    <a:pt x="12" y="84"/>
                  </a:lnTo>
                  <a:lnTo>
                    <a:pt x="137" y="5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24520" y="5459040"/>
              <a:ext cx="77040" cy="4716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16" y="0"/>
                  </a:moveTo>
                  <a:lnTo>
                    <a:pt x="125" y="0"/>
                  </a:lnTo>
                  <a:lnTo>
                    <a:pt x="0" y="42"/>
                  </a:lnTo>
                  <a:lnTo>
                    <a:pt x="12" y="83"/>
                  </a:lnTo>
                  <a:lnTo>
                    <a:pt x="137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91480" y="5437080"/>
              <a:ext cx="77040" cy="5256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3" y="0"/>
                  </a:moveTo>
                  <a:lnTo>
                    <a:pt x="0" y="42"/>
                  </a:lnTo>
                  <a:lnTo>
                    <a:pt x="21" y="94"/>
                  </a:lnTo>
                  <a:lnTo>
                    <a:pt x="144" y="4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57360" y="5409360"/>
              <a:ext cx="74520" cy="49680"/>
            </a:xfrm>
            <a:custGeom>
              <a:avLst/>
              <a:gdLst/>
              <a:ahLst/>
              <a:rect l="l" t="t" r="r" b="b"/>
              <a:pathLst>
                <a:path w="136" h="93">
                  <a:moveTo>
                    <a:pt x="116" y="0"/>
                  </a:moveTo>
                  <a:lnTo>
                    <a:pt x="0" y="51"/>
                  </a:lnTo>
                  <a:lnTo>
                    <a:pt x="21" y="93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21440" y="5378760"/>
              <a:ext cx="74520" cy="52560"/>
            </a:xfrm>
            <a:custGeom>
              <a:avLst/>
              <a:gdLst/>
              <a:ahLst/>
              <a:rect l="l" t="t" r="r" b="b"/>
              <a:pathLst>
                <a:path w="134" h="94">
                  <a:moveTo>
                    <a:pt x="113" y="0"/>
                  </a:moveTo>
                  <a:lnTo>
                    <a:pt x="0" y="52"/>
                  </a:lnTo>
                  <a:lnTo>
                    <a:pt x="20" y="94"/>
                  </a:lnTo>
                  <a:lnTo>
                    <a:pt x="134" y="4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85160" y="5340240"/>
              <a:ext cx="74520" cy="6336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04" y="11"/>
                  </a:moveTo>
                  <a:lnTo>
                    <a:pt x="104" y="0"/>
                  </a:lnTo>
                  <a:lnTo>
                    <a:pt x="0" y="73"/>
                  </a:lnTo>
                  <a:lnTo>
                    <a:pt x="21" y="115"/>
                  </a:lnTo>
                  <a:lnTo>
                    <a:pt x="137" y="52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43480" y="5303880"/>
              <a:ext cx="74520" cy="6408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16" y="0"/>
                  </a:moveTo>
                  <a:lnTo>
                    <a:pt x="0" y="73"/>
                  </a:lnTo>
                  <a:lnTo>
                    <a:pt x="33" y="114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07200" y="5265000"/>
              <a:ext cx="69120" cy="640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93" y="0"/>
                  </a:moveTo>
                  <a:lnTo>
                    <a:pt x="0" y="73"/>
                  </a:lnTo>
                  <a:lnTo>
                    <a:pt x="20" y="115"/>
                  </a:lnTo>
                  <a:lnTo>
                    <a:pt x="124" y="4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60120" y="5223240"/>
              <a:ext cx="74520" cy="64080"/>
            </a:xfrm>
            <a:custGeom>
              <a:avLst/>
              <a:gdLst/>
              <a:ahLst/>
              <a:rect l="l" t="t" r="r" b="b"/>
              <a:pathLst>
                <a:path w="135" h="115">
                  <a:moveTo>
                    <a:pt x="104" y="0"/>
                  </a:moveTo>
                  <a:lnTo>
                    <a:pt x="0" y="73"/>
                  </a:lnTo>
                  <a:lnTo>
                    <a:pt x="31" y="115"/>
                  </a:lnTo>
                  <a:lnTo>
                    <a:pt x="135" y="42"/>
                  </a:lnTo>
                  <a:lnTo>
                    <a:pt x="135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15200" y="5171040"/>
              <a:ext cx="69120" cy="6912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93" y="0"/>
                  </a:moveTo>
                  <a:lnTo>
                    <a:pt x="0" y="93"/>
                  </a:lnTo>
                  <a:lnTo>
                    <a:pt x="31" y="124"/>
                  </a:lnTo>
                  <a:lnTo>
                    <a:pt x="125" y="4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68120" y="5126400"/>
              <a:ext cx="74520" cy="69120"/>
            </a:xfrm>
            <a:custGeom>
              <a:avLst/>
              <a:gdLst/>
              <a:ahLst/>
              <a:rect l="l" t="t" r="r" b="b"/>
              <a:pathLst>
                <a:path w="136" h="124">
                  <a:moveTo>
                    <a:pt x="94" y="0"/>
                  </a:moveTo>
                  <a:lnTo>
                    <a:pt x="0" y="83"/>
                  </a:lnTo>
                  <a:lnTo>
                    <a:pt x="32" y="124"/>
                  </a:lnTo>
                  <a:lnTo>
                    <a:pt x="136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21040" y="507384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4" y="0"/>
                  </a:moveTo>
                  <a:lnTo>
                    <a:pt x="0" y="94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68200" y="5020920"/>
              <a:ext cx="66600" cy="6948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82" y="0"/>
                  </a:moveTo>
                  <a:lnTo>
                    <a:pt x="0" y="93"/>
                  </a:lnTo>
                  <a:lnTo>
                    <a:pt x="41" y="125"/>
                  </a:lnTo>
                  <a:lnTo>
                    <a:pt x="124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2120" y="4962960"/>
              <a:ext cx="69480" cy="770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3" y="0"/>
                  </a:moveTo>
                  <a:lnTo>
                    <a:pt x="0" y="105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59640" y="4907520"/>
              <a:ext cx="69480" cy="7452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74" y="0"/>
                  </a:moveTo>
                  <a:lnTo>
                    <a:pt x="0" y="104"/>
                  </a:lnTo>
                  <a:lnTo>
                    <a:pt x="42" y="136"/>
                  </a:lnTo>
                  <a:lnTo>
                    <a:pt x="125" y="2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98520" y="484344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4">
                  <a:moveTo>
                    <a:pt x="72" y="0"/>
                  </a:moveTo>
                  <a:lnTo>
                    <a:pt x="83" y="0"/>
                  </a:lnTo>
                  <a:lnTo>
                    <a:pt x="0" y="113"/>
                  </a:lnTo>
                  <a:lnTo>
                    <a:pt x="51" y="134"/>
                  </a:lnTo>
                  <a:lnTo>
                    <a:pt x="125" y="3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39920" y="4780080"/>
              <a:ext cx="64080" cy="8028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74" y="11"/>
                  </a:moveTo>
                  <a:lnTo>
                    <a:pt x="74" y="0"/>
                  </a:lnTo>
                  <a:lnTo>
                    <a:pt x="0" y="115"/>
                  </a:lnTo>
                  <a:lnTo>
                    <a:pt x="53" y="146"/>
                  </a:lnTo>
                  <a:lnTo>
                    <a:pt x="116" y="3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81680" y="4716000"/>
              <a:ext cx="55080" cy="8028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2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4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14800" y="464652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1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5" y="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2520" y="457740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4">
                  <a:moveTo>
                    <a:pt x="54" y="0"/>
                  </a:moveTo>
                  <a:lnTo>
                    <a:pt x="0" y="124"/>
                  </a:lnTo>
                  <a:lnTo>
                    <a:pt x="54" y="144"/>
                  </a:lnTo>
                  <a:lnTo>
                    <a:pt x="105" y="2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73480" y="4508280"/>
              <a:ext cx="49680" cy="8028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40" y="0"/>
                  </a:moveTo>
                  <a:lnTo>
                    <a:pt x="0" y="125"/>
                  </a:lnTo>
                  <a:lnTo>
                    <a:pt x="51" y="145"/>
                  </a:lnTo>
                  <a:lnTo>
                    <a:pt x="92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95440" y="4438440"/>
              <a:ext cx="52560" cy="8028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42" y="0"/>
                  </a:moveTo>
                  <a:lnTo>
                    <a:pt x="0" y="125"/>
                  </a:lnTo>
                  <a:lnTo>
                    <a:pt x="52" y="145"/>
                  </a:lnTo>
                  <a:lnTo>
                    <a:pt x="94" y="1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17400" y="4363560"/>
              <a:ext cx="47160" cy="8028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3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83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6840" y="4288680"/>
              <a:ext cx="44640" cy="80280"/>
            </a:xfrm>
            <a:custGeom>
              <a:avLst/>
              <a:gdLst/>
              <a:ahLst/>
              <a:rect l="l" t="t" r="r" b="b"/>
              <a:pathLst>
                <a:path w="83" h="145">
                  <a:moveTo>
                    <a:pt x="31" y="0"/>
                  </a:moveTo>
                  <a:lnTo>
                    <a:pt x="0" y="134"/>
                  </a:lnTo>
                  <a:lnTo>
                    <a:pt x="52" y="145"/>
                  </a:lnTo>
                  <a:lnTo>
                    <a:pt x="83" y="1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53760" y="4213800"/>
              <a:ext cx="38160" cy="802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2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7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64560" y="4133520"/>
              <a:ext cx="4140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21" y="0"/>
                  </a:moveTo>
                  <a:lnTo>
                    <a:pt x="0" y="145"/>
                  </a:lnTo>
                  <a:lnTo>
                    <a:pt x="52" y="145"/>
                  </a:lnTo>
                  <a:lnTo>
                    <a:pt x="73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76080" y="4058640"/>
              <a:ext cx="35640" cy="802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0" y="0"/>
                  </a:moveTo>
                  <a:lnTo>
                    <a:pt x="0" y="135"/>
                  </a:lnTo>
                  <a:lnTo>
                    <a:pt x="52" y="145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81480" y="3978000"/>
              <a:ext cx="29880" cy="802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81480" y="3897720"/>
              <a:ext cx="29880" cy="802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76080" y="3817800"/>
              <a:ext cx="35640" cy="79560"/>
            </a:xfrm>
            <a:custGeom>
              <a:avLst/>
              <a:gdLst/>
              <a:ahLst/>
              <a:rect l="l" t="t" r="r" b="b"/>
              <a:pathLst>
                <a:path w="62" h="146">
                  <a:moveTo>
                    <a:pt x="0" y="0"/>
                  </a:moveTo>
                  <a:lnTo>
                    <a:pt x="10" y="146"/>
                  </a:lnTo>
                  <a:lnTo>
                    <a:pt x="62" y="146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64560" y="3737160"/>
              <a:ext cx="4140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21" y="145"/>
                  </a:lnTo>
                  <a:lnTo>
                    <a:pt x="73" y="14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53760" y="3662280"/>
              <a:ext cx="3816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0" y="0"/>
                  </a:lnTo>
                  <a:lnTo>
                    <a:pt x="21" y="145"/>
                  </a:lnTo>
                  <a:lnTo>
                    <a:pt x="73" y="13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6840" y="3587400"/>
              <a:ext cx="44640" cy="7956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0" y="11"/>
                  </a:moveTo>
                  <a:lnTo>
                    <a:pt x="31" y="146"/>
                  </a:lnTo>
                  <a:lnTo>
                    <a:pt x="83" y="136"/>
                  </a:lnTo>
                  <a:lnTo>
                    <a:pt x="5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7400" y="3507120"/>
              <a:ext cx="47160" cy="85320"/>
            </a:xfrm>
            <a:custGeom>
              <a:avLst/>
              <a:gdLst/>
              <a:ahLst/>
              <a:rect l="l" t="t" r="r" b="b"/>
              <a:pathLst>
                <a:path w="83" h="156">
                  <a:moveTo>
                    <a:pt x="0" y="21"/>
                  </a:moveTo>
                  <a:lnTo>
                    <a:pt x="31" y="156"/>
                  </a:lnTo>
                  <a:lnTo>
                    <a:pt x="83" y="14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95440" y="3432240"/>
              <a:ext cx="52560" cy="8532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21"/>
                  </a:moveTo>
                  <a:lnTo>
                    <a:pt x="42" y="156"/>
                  </a:lnTo>
                  <a:lnTo>
                    <a:pt x="94" y="13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73480" y="3362400"/>
              <a:ext cx="49680" cy="8028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0" y="21"/>
                  </a:moveTo>
                  <a:lnTo>
                    <a:pt x="40" y="146"/>
                  </a:lnTo>
                  <a:lnTo>
                    <a:pt x="92" y="125"/>
                  </a:lnTo>
                  <a:lnTo>
                    <a:pt x="5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42520" y="329328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21"/>
                  </a:moveTo>
                  <a:lnTo>
                    <a:pt x="54" y="145"/>
                  </a:lnTo>
                  <a:lnTo>
                    <a:pt x="105" y="124"/>
                  </a:lnTo>
                  <a:lnTo>
                    <a:pt x="5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14800" y="322416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0" y="30"/>
                  </a:moveTo>
                  <a:lnTo>
                    <a:pt x="0" y="21"/>
                  </a:lnTo>
                  <a:lnTo>
                    <a:pt x="51" y="146"/>
                  </a:lnTo>
                  <a:lnTo>
                    <a:pt x="105" y="125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81680" y="3160080"/>
              <a:ext cx="55080" cy="8028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20"/>
                  </a:moveTo>
                  <a:lnTo>
                    <a:pt x="62" y="144"/>
                  </a:lnTo>
                  <a:lnTo>
                    <a:pt x="104" y="114"/>
                  </a:lnTo>
                  <a:lnTo>
                    <a:pt x="4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39920" y="3096360"/>
              <a:ext cx="64080" cy="7452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11" y="21"/>
                  </a:moveTo>
                  <a:lnTo>
                    <a:pt x="0" y="21"/>
                  </a:lnTo>
                  <a:lnTo>
                    <a:pt x="74" y="135"/>
                  </a:lnTo>
                  <a:lnTo>
                    <a:pt x="116" y="115"/>
                  </a:lnTo>
                  <a:lnTo>
                    <a:pt x="53" y="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98520" y="303300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83" y="135"/>
                  </a:lnTo>
                  <a:lnTo>
                    <a:pt x="125" y="114"/>
                  </a:lnTo>
                  <a:lnTo>
                    <a:pt x="5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59640" y="2974320"/>
              <a:ext cx="69480" cy="7452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74" y="135"/>
                  </a:lnTo>
                  <a:lnTo>
                    <a:pt x="125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17880" y="2918880"/>
              <a:ext cx="64080" cy="7452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31"/>
                  </a:moveTo>
                  <a:lnTo>
                    <a:pt x="72" y="135"/>
                  </a:lnTo>
                  <a:lnTo>
                    <a:pt x="114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68200" y="2860560"/>
              <a:ext cx="74520" cy="745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0" y="42"/>
                  </a:moveTo>
                  <a:lnTo>
                    <a:pt x="93" y="135"/>
                  </a:lnTo>
                  <a:lnTo>
                    <a:pt x="135" y="104"/>
                  </a:lnTo>
                  <a:lnTo>
                    <a:pt x="4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21040" y="2807640"/>
              <a:ext cx="69120" cy="752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0" y="42"/>
                  </a:moveTo>
                  <a:lnTo>
                    <a:pt x="0" y="31"/>
                  </a:lnTo>
                  <a:lnTo>
                    <a:pt x="84" y="136"/>
                  </a:lnTo>
                  <a:lnTo>
                    <a:pt x="125" y="9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68120" y="2763720"/>
              <a:ext cx="69120" cy="6660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0" y="30"/>
                  </a:moveTo>
                  <a:lnTo>
                    <a:pt x="94" y="124"/>
                  </a:lnTo>
                  <a:lnTo>
                    <a:pt x="125" y="82"/>
                  </a:lnTo>
                  <a:lnTo>
                    <a:pt x="3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15200" y="2710800"/>
              <a:ext cx="69120" cy="6912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42"/>
                  </a:moveTo>
                  <a:lnTo>
                    <a:pt x="93" y="125"/>
                  </a:lnTo>
                  <a:lnTo>
                    <a:pt x="125" y="95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60120" y="2669400"/>
              <a:ext cx="74520" cy="6336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0" y="31"/>
                  </a:moveTo>
                  <a:lnTo>
                    <a:pt x="104" y="114"/>
                  </a:lnTo>
                  <a:lnTo>
                    <a:pt x="135" y="72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01440" y="2624760"/>
              <a:ext cx="74520" cy="6084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2" y="52"/>
                  </a:moveTo>
                  <a:lnTo>
                    <a:pt x="0" y="42"/>
                  </a:lnTo>
                  <a:lnTo>
                    <a:pt x="105" y="114"/>
                  </a:lnTo>
                  <a:lnTo>
                    <a:pt x="136" y="83"/>
                  </a:lnTo>
                  <a:lnTo>
                    <a:pt x="32" y="0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43480" y="2588760"/>
              <a:ext cx="74520" cy="6408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0" y="42"/>
                  </a:moveTo>
                  <a:lnTo>
                    <a:pt x="116" y="115"/>
                  </a:lnTo>
                  <a:lnTo>
                    <a:pt x="136" y="63"/>
                  </a:lnTo>
                  <a:lnTo>
                    <a:pt x="3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85160" y="2555640"/>
              <a:ext cx="74520" cy="550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42"/>
                  </a:moveTo>
                  <a:lnTo>
                    <a:pt x="104" y="104"/>
                  </a:lnTo>
                  <a:lnTo>
                    <a:pt x="137" y="62"/>
                  </a:lnTo>
                  <a:lnTo>
                    <a:pt x="2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21440" y="2519640"/>
              <a:ext cx="74520" cy="5760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0" y="53"/>
                  </a:moveTo>
                  <a:lnTo>
                    <a:pt x="113" y="105"/>
                  </a:lnTo>
                  <a:lnTo>
                    <a:pt x="134" y="63"/>
                  </a:lnTo>
                  <a:lnTo>
                    <a:pt x="2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57360" y="2491920"/>
              <a:ext cx="74520" cy="57600"/>
            </a:xfrm>
            <a:custGeom>
              <a:avLst/>
              <a:gdLst/>
              <a:ahLst/>
              <a:rect l="l" t="t" r="r" b="b"/>
              <a:pathLst>
                <a:path w="136" h="104">
                  <a:moveTo>
                    <a:pt x="0" y="51"/>
                  </a:moveTo>
                  <a:lnTo>
                    <a:pt x="116" y="104"/>
                  </a:lnTo>
                  <a:lnTo>
                    <a:pt x="136" y="51"/>
                  </a:lnTo>
                  <a:lnTo>
                    <a:pt x="2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94000" y="2469240"/>
              <a:ext cx="74520" cy="5004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51"/>
                  </a:moveTo>
                  <a:lnTo>
                    <a:pt x="114" y="92"/>
                  </a:lnTo>
                  <a:lnTo>
                    <a:pt x="135" y="41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4520" y="2444760"/>
              <a:ext cx="77040" cy="52560"/>
            </a:xfrm>
            <a:custGeom>
              <a:avLst/>
              <a:gdLst/>
              <a:ahLst/>
              <a:rect l="l" t="t" r="r" b="b"/>
              <a:pathLst>
                <a:path w="137" h="93">
                  <a:moveTo>
                    <a:pt x="0" y="51"/>
                  </a:moveTo>
                  <a:lnTo>
                    <a:pt x="125" y="93"/>
                  </a:lnTo>
                  <a:lnTo>
                    <a:pt x="137" y="42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54680" y="2427840"/>
              <a:ext cx="77760" cy="4464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2" y="32"/>
                  </a:moveTo>
                  <a:lnTo>
                    <a:pt x="0" y="53"/>
                  </a:lnTo>
                  <a:lnTo>
                    <a:pt x="125" y="83"/>
                  </a:lnTo>
                  <a:lnTo>
                    <a:pt x="137" y="32"/>
                  </a:lnTo>
                  <a:lnTo>
                    <a:pt x="12" y="0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82600" y="2635920"/>
              <a:ext cx="646560" cy="252936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82600" y="2635920"/>
              <a:ext cx="646560" cy="252936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10320" y="3631680"/>
              <a:ext cx="3037680" cy="121752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10320" y="3631680"/>
              <a:ext cx="3037680" cy="121752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95960" y="3015720"/>
              <a:ext cx="676800" cy="42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95960" y="3015720"/>
              <a:ext cx="676800" cy="42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54680" y="3033000"/>
              <a:ext cx="676800" cy="42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4680" y="3033000"/>
              <a:ext cx="676800" cy="42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246840" y="801720"/>
            <a:ext cx="26524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MA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ONE OF ME!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410120" y="801720"/>
            <a:ext cx="63208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I AM SPECIAL BECAUSE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MADE ME WONDERFU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857680" y="2286000"/>
            <a:ext cx="3431520" cy="3454200"/>
            <a:chOff x="2857680" y="2286000"/>
            <a:chExt cx="3431520" cy="3454200"/>
          </a:xfrm>
        </p:grpSpPr>
        <p:sp>
          <p:nvSpPr>
            <p:cNvPr id="524" name=""/>
            <p:cNvSpPr/>
            <p:nvPr/>
          </p:nvSpPr>
          <p:spPr>
            <a:xfrm>
              <a:off x="2857680" y="2286000"/>
              <a:ext cx="3431520" cy="345420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7680" y="2286000"/>
              <a:ext cx="3431520" cy="345420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93200" y="5505840"/>
              <a:ext cx="74160" cy="45360"/>
            </a:xfrm>
            <a:custGeom>
              <a:avLst/>
              <a:gdLst/>
              <a:ahLst/>
              <a:rect l="l" t="t" r="r" b="b"/>
              <a:pathLst>
                <a:path w="265" h="164">
                  <a:moveTo>
                    <a:pt x="244" y="21"/>
                  </a:moveTo>
                  <a:lnTo>
                    <a:pt x="244" y="0"/>
                  </a:lnTo>
                  <a:lnTo>
                    <a:pt x="0" y="62"/>
                  </a:lnTo>
                  <a:lnTo>
                    <a:pt x="22" y="164"/>
                  </a:lnTo>
                  <a:lnTo>
                    <a:pt x="265" y="101"/>
                  </a:lnTo>
                  <a:lnTo>
                    <a:pt x="244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61240" y="5488920"/>
              <a:ext cx="75600" cy="4536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225" y="0"/>
                  </a:moveTo>
                  <a:lnTo>
                    <a:pt x="245" y="0"/>
                  </a:lnTo>
                  <a:lnTo>
                    <a:pt x="0" y="82"/>
                  </a:lnTo>
                  <a:lnTo>
                    <a:pt x="21" y="162"/>
                  </a:lnTo>
                  <a:lnTo>
                    <a:pt x="266" y="101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24960" y="5465160"/>
              <a:ext cx="79560" cy="52200"/>
            </a:xfrm>
            <a:custGeom>
              <a:avLst/>
              <a:gdLst/>
              <a:ahLst/>
              <a:rect l="l" t="t" r="r" b="b"/>
              <a:pathLst>
                <a:path w="285" h="183">
                  <a:moveTo>
                    <a:pt x="243" y="0"/>
                  </a:moveTo>
                  <a:lnTo>
                    <a:pt x="0" y="82"/>
                  </a:lnTo>
                  <a:lnTo>
                    <a:pt x="41" y="183"/>
                  </a:lnTo>
                  <a:lnTo>
                    <a:pt x="285" y="82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92640" y="5436720"/>
              <a:ext cx="74160" cy="52200"/>
            </a:xfrm>
            <a:custGeom>
              <a:avLst/>
              <a:gdLst/>
              <a:ahLst/>
              <a:rect l="l" t="t" r="r" b="b"/>
              <a:pathLst>
                <a:path w="264" h="183">
                  <a:moveTo>
                    <a:pt x="225" y="0"/>
                  </a:moveTo>
                  <a:lnTo>
                    <a:pt x="0" y="101"/>
                  </a:lnTo>
                  <a:lnTo>
                    <a:pt x="42" y="183"/>
                  </a:lnTo>
                  <a:lnTo>
                    <a:pt x="264" y="8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56720" y="5407920"/>
              <a:ext cx="74160" cy="52200"/>
            </a:xfrm>
            <a:custGeom>
              <a:avLst/>
              <a:gdLst/>
              <a:ahLst/>
              <a:rect l="l" t="t" r="r" b="b"/>
              <a:pathLst>
                <a:path w="263" h="184">
                  <a:moveTo>
                    <a:pt x="222" y="0"/>
                  </a:moveTo>
                  <a:lnTo>
                    <a:pt x="0" y="102"/>
                  </a:lnTo>
                  <a:lnTo>
                    <a:pt x="39" y="184"/>
                  </a:lnTo>
                  <a:lnTo>
                    <a:pt x="263" y="8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19360" y="5369400"/>
              <a:ext cx="74160" cy="6228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203" y="21"/>
                  </a:moveTo>
                  <a:lnTo>
                    <a:pt x="203" y="0"/>
                  </a:lnTo>
                  <a:lnTo>
                    <a:pt x="0" y="141"/>
                  </a:lnTo>
                  <a:lnTo>
                    <a:pt x="41" y="223"/>
                  </a:lnTo>
                  <a:lnTo>
                    <a:pt x="265" y="101"/>
                  </a:lnTo>
                  <a:lnTo>
                    <a:pt x="20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76240" y="5333760"/>
              <a:ext cx="74160" cy="6228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3" y="0"/>
                  </a:moveTo>
                  <a:lnTo>
                    <a:pt x="0" y="142"/>
                  </a:lnTo>
                  <a:lnTo>
                    <a:pt x="62" y="222"/>
                  </a:lnTo>
                  <a:lnTo>
                    <a:pt x="265" y="8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39240" y="5295240"/>
              <a:ext cx="68760" cy="6228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84" y="0"/>
                  </a:moveTo>
                  <a:lnTo>
                    <a:pt x="0" y="143"/>
                  </a:lnTo>
                  <a:lnTo>
                    <a:pt x="42" y="225"/>
                  </a:lnTo>
                  <a:lnTo>
                    <a:pt x="245" y="8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1080" y="5254560"/>
              <a:ext cx="72360" cy="62280"/>
            </a:xfrm>
            <a:custGeom>
              <a:avLst/>
              <a:gdLst/>
              <a:ahLst/>
              <a:rect l="l" t="t" r="r" b="b"/>
              <a:pathLst>
                <a:path w="263" h="225">
                  <a:moveTo>
                    <a:pt x="202" y="0"/>
                  </a:moveTo>
                  <a:lnTo>
                    <a:pt x="0" y="143"/>
                  </a:lnTo>
                  <a:lnTo>
                    <a:pt x="61" y="225"/>
                  </a:lnTo>
                  <a:lnTo>
                    <a:pt x="263" y="82"/>
                  </a:lnTo>
                  <a:lnTo>
                    <a:pt x="263" y="6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46880" y="5202000"/>
              <a:ext cx="69120" cy="69120"/>
            </a:xfrm>
            <a:custGeom>
              <a:avLst/>
              <a:gdLst/>
              <a:ahLst/>
              <a:rect l="l" t="t" r="r" b="b"/>
              <a:pathLst>
                <a:path w="244" h="243">
                  <a:moveTo>
                    <a:pt x="182" y="0"/>
                  </a:moveTo>
                  <a:lnTo>
                    <a:pt x="0" y="182"/>
                  </a:lnTo>
                  <a:lnTo>
                    <a:pt x="61" y="243"/>
                  </a:lnTo>
                  <a:lnTo>
                    <a:pt x="244" y="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97640" y="5156640"/>
              <a:ext cx="75960" cy="69120"/>
            </a:xfrm>
            <a:custGeom>
              <a:avLst/>
              <a:gdLst/>
              <a:ahLst/>
              <a:rect l="l" t="t" r="r" b="b"/>
              <a:pathLst>
                <a:path w="265" h="243">
                  <a:moveTo>
                    <a:pt x="183" y="0"/>
                  </a:moveTo>
                  <a:lnTo>
                    <a:pt x="0" y="162"/>
                  </a:lnTo>
                  <a:lnTo>
                    <a:pt x="62" y="243"/>
                  </a:lnTo>
                  <a:lnTo>
                    <a:pt x="265" y="8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9840" y="5106240"/>
              <a:ext cx="69120" cy="7416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164" y="0"/>
                  </a:moveTo>
                  <a:lnTo>
                    <a:pt x="0" y="183"/>
                  </a:lnTo>
                  <a:lnTo>
                    <a:pt x="82" y="265"/>
                  </a:lnTo>
                  <a:lnTo>
                    <a:pt x="243" y="6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95560" y="5055480"/>
              <a:ext cx="69120" cy="67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161" y="0"/>
                  </a:moveTo>
                  <a:lnTo>
                    <a:pt x="0" y="182"/>
                  </a:lnTo>
                  <a:lnTo>
                    <a:pt x="79" y="244"/>
                  </a:lnTo>
                  <a:lnTo>
                    <a:pt x="243" y="61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40920" y="499824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162" y="0"/>
                  </a:moveTo>
                  <a:lnTo>
                    <a:pt x="0" y="204"/>
                  </a:lnTo>
                  <a:lnTo>
                    <a:pt x="82" y="265"/>
                  </a:lnTo>
                  <a:lnTo>
                    <a:pt x="244" y="6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6640" y="4941000"/>
              <a:ext cx="69120" cy="7416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142" y="0"/>
                  </a:moveTo>
                  <a:lnTo>
                    <a:pt x="0" y="203"/>
                  </a:lnTo>
                  <a:lnTo>
                    <a:pt x="82" y="265"/>
                  </a:lnTo>
                  <a:lnTo>
                    <a:pt x="245" y="4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26960" y="487872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2">
                  <a:moveTo>
                    <a:pt x="143" y="0"/>
                  </a:moveTo>
                  <a:lnTo>
                    <a:pt x="162" y="0"/>
                  </a:lnTo>
                  <a:lnTo>
                    <a:pt x="0" y="222"/>
                  </a:lnTo>
                  <a:lnTo>
                    <a:pt x="103" y="262"/>
                  </a:lnTo>
                  <a:lnTo>
                    <a:pt x="244" y="6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7640" y="4814280"/>
              <a:ext cx="62280" cy="81000"/>
            </a:xfrm>
            <a:custGeom>
              <a:avLst/>
              <a:gdLst/>
              <a:ahLst/>
              <a:rect l="l" t="t" r="r" b="b"/>
              <a:pathLst>
                <a:path w="225" h="285">
                  <a:moveTo>
                    <a:pt x="143" y="21"/>
                  </a:moveTo>
                  <a:lnTo>
                    <a:pt x="143" y="0"/>
                  </a:lnTo>
                  <a:lnTo>
                    <a:pt x="0" y="225"/>
                  </a:lnTo>
                  <a:lnTo>
                    <a:pt x="101" y="285"/>
                  </a:lnTo>
                  <a:lnTo>
                    <a:pt x="225" y="61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06160" y="4752000"/>
              <a:ext cx="57240" cy="7884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121" y="0"/>
                  </a:moveTo>
                  <a:lnTo>
                    <a:pt x="0" y="243"/>
                  </a:lnTo>
                  <a:lnTo>
                    <a:pt x="82" y="283"/>
                  </a:lnTo>
                  <a:lnTo>
                    <a:pt x="202" y="3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41800" y="4684680"/>
              <a:ext cx="57240" cy="7884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1" y="0"/>
                  </a:moveTo>
                  <a:lnTo>
                    <a:pt x="0" y="244"/>
                  </a:lnTo>
                  <a:lnTo>
                    <a:pt x="81" y="283"/>
                  </a:lnTo>
                  <a:lnTo>
                    <a:pt x="204" y="4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68800" y="4615200"/>
              <a:ext cx="59040" cy="7884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3" y="0"/>
                  </a:moveTo>
                  <a:lnTo>
                    <a:pt x="0" y="243"/>
                  </a:lnTo>
                  <a:lnTo>
                    <a:pt x="103" y="283"/>
                  </a:lnTo>
                  <a:lnTo>
                    <a:pt x="204" y="39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9400" y="4547520"/>
              <a:ext cx="50400" cy="7956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80" y="0"/>
                  </a:moveTo>
                  <a:lnTo>
                    <a:pt x="0" y="244"/>
                  </a:lnTo>
                  <a:lnTo>
                    <a:pt x="101" y="283"/>
                  </a:lnTo>
                  <a:lnTo>
                    <a:pt x="181" y="3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21000" y="4478760"/>
              <a:ext cx="50400" cy="7884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82" y="0"/>
                  </a:moveTo>
                  <a:lnTo>
                    <a:pt x="0" y="243"/>
                  </a:lnTo>
                  <a:lnTo>
                    <a:pt x="101" y="282"/>
                  </a:lnTo>
                  <a:lnTo>
                    <a:pt x="183" y="1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44760" y="4404600"/>
              <a:ext cx="45360" cy="78840"/>
            </a:xfrm>
            <a:custGeom>
              <a:avLst/>
              <a:gdLst/>
              <a:ahLst/>
              <a:rect l="l" t="t" r="r" b="b"/>
              <a:pathLst>
                <a:path w="161" h="285">
                  <a:moveTo>
                    <a:pt x="60" y="0"/>
                  </a:moveTo>
                  <a:lnTo>
                    <a:pt x="0" y="266"/>
                  </a:lnTo>
                  <a:lnTo>
                    <a:pt x="101" y="285"/>
                  </a:lnTo>
                  <a:lnTo>
                    <a:pt x="161" y="2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61680" y="4330080"/>
              <a:ext cx="45360" cy="79560"/>
            </a:xfrm>
            <a:custGeom>
              <a:avLst/>
              <a:gdLst/>
              <a:ahLst/>
              <a:rect l="l" t="t" r="r" b="b"/>
              <a:pathLst>
                <a:path w="162" h="284">
                  <a:moveTo>
                    <a:pt x="61" y="0"/>
                  </a:moveTo>
                  <a:lnTo>
                    <a:pt x="0" y="263"/>
                  </a:lnTo>
                  <a:lnTo>
                    <a:pt x="101" y="284"/>
                  </a:lnTo>
                  <a:lnTo>
                    <a:pt x="162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78600" y="4255920"/>
              <a:ext cx="40320" cy="7956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40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4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0480" y="4176720"/>
              <a:ext cx="38520" cy="78840"/>
            </a:xfrm>
            <a:custGeom>
              <a:avLst/>
              <a:gdLst/>
              <a:ahLst/>
              <a:rect l="l" t="t" r="r" b="b"/>
              <a:pathLst>
                <a:path w="143" h="283">
                  <a:moveTo>
                    <a:pt x="42" y="0"/>
                  </a:moveTo>
                  <a:lnTo>
                    <a:pt x="0" y="283"/>
                  </a:lnTo>
                  <a:lnTo>
                    <a:pt x="102" y="283"/>
                  </a:lnTo>
                  <a:lnTo>
                    <a:pt x="143" y="1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00200" y="4100760"/>
              <a:ext cx="33480" cy="80640"/>
            </a:xfrm>
            <a:custGeom>
              <a:avLst/>
              <a:gdLst/>
              <a:ahLst/>
              <a:rect l="l" t="t" r="r" b="b"/>
              <a:pathLst>
                <a:path w="120" h="284">
                  <a:moveTo>
                    <a:pt x="19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07400" y="4021200"/>
              <a:ext cx="26640" cy="7956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07400" y="3942000"/>
              <a:ext cx="26640" cy="7884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00200" y="3861360"/>
              <a:ext cx="33480" cy="80640"/>
            </a:xfrm>
            <a:custGeom>
              <a:avLst/>
              <a:gdLst/>
              <a:ahLst/>
              <a:rect l="l" t="t" r="r" b="b"/>
              <a:pathLst>
                <a:path w="120" h="285">
                  <a:moveTo>
                    <a:pt x="0" y="0"/>
                  </a:moveTo>
                  <a:lnTo>
                    <a:pt x="19" y="285"/>
                  </a:lnTo>
                  <a:lnTo>
                    <a:pt x="120" y="285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0480" y="3781800"/>
              <a:ext cx="38520" cy="79560"/>
            </a:xfrm>
            <a:custGeom>
              <a:avLst/>
              <a:gdLst/>
              <a:ahLst/>
              <a:rect l="l" t="t" r="r" b="b"/>
              <a:pathLst>
                <a:path w="143" h="284">
                  <a:moveTo>
                    <a:pt x="0" y="19"/>
                  </a:moveTo>
                  <a:lnTo>
                    <a:pt x="42" y="284"/>
                  </a:lnTo>
                  <a:lnTo>
                    <a:pt x="143" y="284"/>
                  </a:lnTo>
                  <a:lnTo>
                    <a:pt x="10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78600" y="3707640"/>
              <a:ext cx="40320" cy="7956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0" y="20"/>
                  </a:moveTo>
                  <a:lnTo>
                    <a:pt x="0" y="0"/>
                  </a:lnTo>
                  <a:lnTo>
                    <a:pt x="40" y="283"/>
                  </a:lnTo>
                  <a:lnTo>
                    <a:pt x="142" y="264"/>
                  </a:lnTo>
                  <a:lnTo>
                    <a:pt x="10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61680" y="3633480"/>
              <a:ext cx="45360" cy="79560"/>
            </a:xfrm>
            <a:custGeom>
              <a:avLst/>
              <a:gdLst/>
              <a:ahLst/>
              <a:rect l="l" t="t" r="r" b="b"/>
              <a:pathLst>
                <a:path w="162" h="285">
                  <a:moveTo>
                    <a:pt x="0" y="21"/>
                  </a:moveTo>
                  <a:lnTo>
                    <a:pt x="61" y="285"/>
                  </a:lnTo>
                  <a:lnTo>
                    <a:pt x="162" y="265"/>
                  </a:lnTo>
                  <a:lnTo>
                    <a:pt x="10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44760" y="3552840"/>
              <a:ext cx="45360" cy="8568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0" y="40"/>
                  </a:moveTo>
                  <a:lnTo>
                    <a:pt x="60" y="305"/>
                  </a:lnTo>
                  <a:lnTo>
                    <a:pt x="161" y="284"/>
                  </a:lnTo>
                  <a:lnTo>
                    <a:pt x="101" y="21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21000" y="3480120"/>
              <a:ext cx="50400" cy="83880"/>
            </a:xfrm>
            <a:custGeom>
              <a:avLst/>
              <a:gdLst/>
              <a:ahLst/>
              <a:rect l="l" t="t" r="r" b="b"/>
              <a:pathLst>
                <a:path w="183" h="304">
                  <a:moveTo>
                    <a:pt x="0" y="42"/>
                  </a:moveTo>
                  <a:lnTo>
                    <a:pt x="82" y="304"/>
                  </a:lnTo>
                  <a:lnTo>
                    <a:pt x="183" y="264"/>
                  </a:lnTo>
                  <a:lnTo>
                    <a:pt x="101" y="19"/>
                  </a:lnTo>
                  <a:lnTo>
                    <a:pt x="10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99400" y="3410640"/>
              <a:ext cx="50400" cy="78840"/>
            </a:xfrm>
            <a:custGeom>
              <a:avLst/>
              <a:gdLst/>
              <a:ahLst/>
              <a:rect l="l" t="t" r="r" b="b"/>
              <a:pathLst>
                <a:path w="181" h="285">
                  <a:moveTo>
                    <a:pt x="0" y="40"/>
                  </a:moveTo>
                  <a:lnTo>
                    <a:pt x="80" y="285"/>
                  </a:lnTo>
                  <a:lnTo>
                    <a:pt x="181" y="243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68800" y="3341520"/>
              <a:ext cx="59040" cy="8100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41"/>
                  </a:moveTo>
                  <a:lnTo>
                    <a:pt x="103" y="284"/>
                  </a:lnTo>
                  <a:lnTo>
                    <a:pt x="204" y="244"/>
                  </a:lnTo>
                  <a:lnTo>
                    <a:pt x="103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41800" y="3274200"/>
              <a:ext cx="57240" cy="7884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60"/>
                  </a:moveTo>
                  <a:lnTo>
                    <a:pt x="0" y="40"/>
                  </a:lnTo>
                  <a:lnTo>
                    <a:pt x="101" y="284"/>
                  </a:lnTo>
                  <a:lnTo>
                    <a:pt x="204" y="243"/>
                  </a:lnTo>
                  <a:lnTo>
                    <a:pt x="81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06160" y="3211920"/>
              <a:ext cx="57240" cy="7884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0" y="38"/>
                  </a:moveTo>
                  <a:lnTo>
                    <a:pt x="121" y="283"/>
                  </a:lnTo>
                  <a:lnTo>
                    <a:pt x="202" y="223"/>
                  </a:lnTo>
                  <a:lnTo>
                    <a:pt x="8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67640" y="3147480"/>
              <a:ext cx="62280" cy="7416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19" y="40"/>
                  </a:moveTo>
                  <a:lnTo>
                    <a:pt x="0" y="40"/>
                  </a:lnTo>
                  <a:lnTo>
                    <a:pt x="143" y="262"/>
                  </a:lnTo>
                  <a:lnTo>
                    <a:pt x="225" y="224"/>
                  </a:lnTo>
                  <a:lnTo>
                    <a:pt x="101" y="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26960" y="308520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0" y="63"/>
                  </a:moveTo>
                  <a:lnTo>
                    <a:pt x="162" y="265"/>
                  </a:lnTo>
                  <a:lnTo>
                    <a:pt x="244" y="225"/>
                  </a:lnTo>
                  <a:lnTo>
                    <a:pt x="10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86640" y="3027960"/>
              <a:ext cx="69120" cy="7416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0" y="62"/>
                  </a:moveTo>
                  <a:lnTo>
                    <a:pt x="142" y="265"/>
                  </a:lnTo>
                  <a:lnTo>
                    <a:pt x="245" y="202"/>
                  </a:lnTo>
                  <a:lnTo>
                    <a:pt x="8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47760" y="2970360"/>
              <a:ext cx="62280" cy="7596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0" y="61"/>
                  </a:moveTo>
                  <a:lnTo>
                    <a:pt x="141" y="265"/>
                  </a:lnTo>
                  <a:lnTo>
                    <a:pt x="223" y="203"/>
                  </a:lnTo>
                  <a:lnTo>
                    <a:pt x="8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95560" y="2914920"/>
              <a:ext cx="74160" cy="7200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0" y="82"/>
                  </a:moveTo>
                  <a:lnTo>
                    <a:pt x="182" y="264"/>
                  </a:lnTo>
                  <a:lnTo>
                    <a:pt x="264" y="203"/>
                  </a:lnTo>
                  <a:lnTo>
                    <a:pt x="79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49840" y="2862720"/>
              <a:ext cx="69120" cy="7416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0" y="82"/>
                  </a:moveTo>
                  <a:lnTo>
                    <a:pt x="0" y="61"/>
                  </a:lnTo>
                  <a:lnTo>
                    <a:pt x="164" y="265"/>
                  </a:lnTo>
                  <a:lnTo>
                    <a:pt x="243" y="183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97640" y="2817000"/>
              <a:ext cx="69120" cy="6912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0" y="60"/>
                  </a:moveTo>
                  <a:lnTo>
                    <a:pt x="183" y="243"/>
                  </a:lnTo>
                  <a:lnTo>
                    <a:pt x="243" y="161"/>
                  </a:lnTo>
                  <a:lnTo>
                    <a:pt x="6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46880" y="2764800"/>
              <a:ext cx="69120" cy="69120"/>
            </a:xfrm>
            <a:custGeom>
              <a:avLst/>
              <a:gdLst/>
              <a:ahLst/>
              <a:rect l="l" t="t" r="r" b="b"/>
              <a:pathLst>
                <a:path w="244" h="245">
                  <a:moveTo>
                    <a:pt x="0" y="82"/>
                  </a:moveTo>
                  <a:lnTo>
                    <a:pt x="182" y="245"/>
                  </a:lnTo>
                  <a:lnTo>
                    <a:pt x="244" y="185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91080" y="2726280"/>
              <a:ext cx="72360" cy="6228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0" y="62"/>
                  </a:moveTo>
                  <a:lnTo>
                    <a:pt x="202" y="223"/>
                  </a:lnTo>
                  <a:lnTo>
                    <a:pt x="263" y="141"/>
                  </a:lnTo>
                  <a:lnTo>
                    <a:pt x="61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32400" y="2680560"/>
              <a:ext cx="75600" cy="62280"/>
            </a:xfrm>
            <a:custGeom>
              <a:avLst/>
              <a:gdLst/>
              <a:ahLst/>
              <a:rect l="l" t="t" r="r" b="b"/>
              <a:pathLst>
                <a:path w="266" h="225">
                  <a:moveTo>
                    <a:pt x="21" y="103"/>
                  </a:moveTo>
                  <a:lnTo>
                    <a:pt x="0" y="82"/>
                  </a:lnTo>
                  <a:lnTo>
                    <a:pt x="205" y="225"/>
                  </a:lnTo>
                  <a:lnTo>
                    <a:pt x="266" y="163"/>
                  </a:lnTo>
                  <a:lnTo>
                    <a:pt x="63" y="0"/>
                  </a:lnTo>
                  <a:lnTo>
                    <a:pt x="21" y="10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76240" y="2644920"/>
              <a:ext cx="74160" cy="64080"/>
            </a:xfrm>
            <a:custGeom>
              <a:avLst/>
              <a:gdLst/>
              <a:ahLst/>
              <a:rect l="l" t="t" r="r" b="b"/>
              <a:pathLst>
                <a:path w="265" h="225">
                  <a:moveTo>
                    <a:pt x="0" y="82"/>
                  </a:moveTo>
                  <a:lnTo>
                    <a:pt x="223" y="225"/>
                  </a:lnTo>
                  <a:lnTo>
                    <a:pt x="265" y="122"/>
                  </a:lnTo>
                  <a:lnTo>
                    <a:pt x="62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19360" y="2611440"/>
              <a:ext cx="74160" cy="57240"/>
            </a:xfrm>
            <a:custGeom>
              <a:avLst/>
              <a:gdLst/>
              <a:ahLst/>
              <a:rect l="l" t="t" r="r" b="b"/>
              <a:pathLst>
                <a:path w="265" h="203">
                  <a:moveTo>
                    <a:pt x="0" y="82"/>
                  </a:moveTo>
                  <a:lnTo>
                    <a:pt x="203" y="203"/>
                  </a:lnTo>
                  <a:lnTo>
                    <a:pt x="265" y="121"/>
                  </a:lnTo>
                  <a:lnTo>
                    <a:pt x="4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6720" y="2577600"/>
              <a:ext cx="74160" cy="57240"/>
            </a:xfrm>
            <a:custGeom>
              <a:avLst/>
              <a:gdLst/>
              <a:ahLst/>
              <a:rect l="l" t="t" r="r" b="b"/>
              <a:pathLst>
                <a:path w="263" h="205">
                  <a:moveTo>
                    <a:pt x="0" y="104"/>
                  </a:moveTo>
                  <a:lnTo>
                    <a:pt x="222" y="205"/>
                  </a:lnTo>
                  <a:lnTo>
                    <a:pt x="263" y="123"/>
                  </a:lnTo>
                  <a:lnTo>
                    <a:pt x="39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92640" y="2549160"/>
              <a:ext cx="74160" cy="57240"/>
            </a:xfrm>
            <a:custGeom>
              <a:avLst/>
              <a:gdLst/>
              <a:ahLst/>
              <a:rect l="l" t="t" r="r" b="b"/>
              <a:pathLst>
                <a:path w="264" h="205">
                  <a:moveTo>
                    <a:pt x="0" y="101"/>
                  </a:moveTo>
                  <a:lnTo>
                    <a:pt x="225" y="205"/>
                  </a:lnTo>
                  <a:lnTo>
                    <a:pt x="264" y="101"/>
                  </a:lnTo>
                  <a:lnTo>
                    <a:pt x="42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30360" y="2525400"/>
              <a:ext cx="74160" cy="5220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0" y="102"/>
                  </a:moveTo>
                  <a:lnTo>
                    <a:pt x="223" y="181"/>
                  </a:lnTo>
                  <a:lnTo>
                    <a:pt x="265" y="80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61240" y="2503440"/>
              <a:ext cx="75600" cy="50400"/>
            </a:xfrm>
            <a:custGeom>
              <a:avLst/>
              <a:gdLst/>
              <a:ahLst/>
              <a:rect l="l" t="t" r="r" b="b"/>
              <a:pathLst>
                <a:path w="266" h="184">
                  <a:moveTo>
                    <a:pt x="0" y="102"/>
                  </a:moveTo>
                  <a:lnTo>
                    <a:pt x="245" y="184"/>
                  </a:lnTo>
                  <a:lnTo>
                    <a:pt x="266" y="82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93200" y="2486520"/>
              <a:ext cx="74160" cy="45360"/>
            </a:xfrm>
            <a:custGeom>
              <a:avLst/>
              <a:gdLst/>
              <a:ahLst/>
              <a:rect l="l" t="t" r="r" b="b"/>
              <a:pathLst>
                <a:path w="265" h="162">
                  <a:moveTo>
                    <a:pt x="22" y="60"/>
                  </a:moveTo>
                  <a:lnTo>
                    <a:pt x="0" y="101"/>
                  </a:lnTo>
                  <a:lnTo>
                    <a:pt x="244" y="162"/>
                  </a:lnTo>
                  <a:lnTo>
                    <a:pt x="265" y="60"/>
                  </a:lnTo>
                  <a:lnTo>
                    <a:pt x="22" y="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41280" y="2692440"/>
              <a:ext cx="639720" cy="250452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1280" y="2692440"/>
              <a:ext cx="639720" cy="250452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69720" y="3678840"/>
              <a:ext cx="3001680" cy="120420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69720" y="3678840"/>
              <a:ext cx="3001680" cy="120420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49240" y="3068280"/>
              <a:ext cx="667800" cy="4165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49240" y="3068280"/>
              <a:ext cx="667800" cy="4165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93200" y="3085200"/>
              <a:ext cx="668160" cy="4165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93200" y="3085200"/>
              <a:ext cx="668160" cy="4165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9800" y="3260880"/>
              <a:ext cx="399960" cy="3996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1" y="0"/>
                  </a:moveTo>
                  <a:lnTo>
                    <a:pt x="748" y="1"/>
                  </a:lnTo>
                  <a:lnTo>
                    <a:pt x="783" y="4"/>
                  </a:lnTo>
                  <a:lnTo>
                    <a:pt x="819" y="8"/>
                  </a:lnTo>
                  <a:lnTo>
                    <a:pt x="855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8" y="56"/>
                  </a:lnTo>
                  <a:lnTo>
                    <a:pt x="1020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9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60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7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80" y="467"/>
                  </a:lnTo>
                  <a:lnTo>
                    <a:pt x="1390" y="500"/>
                  </a:lnTo>
                  <a:lnTo>
                    <a:pt x="1400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9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9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400" y="889"/>
                  </a:lnTo>
                  <a:lnTo>
                    <a:pt x="1390" y="922"/>
                  </a:lnTo>
                  <a:lnTo>
                    <a:pt x="1380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7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60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9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20" y="1352"/>
                  </a:lnTo>
                  <a:lnTo>
                    <a:pt x="988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5" y="1408"/>
                  </a:lnTo>
                  <a:lnTo>
                    <a:pt x="819" y="1414"/>
                  </a:lnTo>
                  <a:lnTo>
                    <a:pt x="783" y="1419"/>
                  </a:lnTo>
                  <a:lnTo>
                    <a:pt x="748" y="1421"/>
                  </a:lnTo>
                  <a:lnTo>
                    <a:pt x="711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4" y="1400"/>
                  </a:lnTo>
                  <a:lnTo>
                    <a:pt x="501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3" y="1319"/>
                  </a:lnTo>
                  <a:lnTo>
                    <a:pt x="314" y="1301"/>
                  </a:lnTo>
                  <a:lnTo>
                    <a:pt x="287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6" y="1189"/>
                  </a:lnTo>
                  <a:lnTo>
                    <a:pt x="163" y="1163"/>
                  </a:lnTo>
                  <a:lnTo>
                    <a:pt x="142" y="1136"/>
                  </a:lnTo>
                  <a:lnTo>
                    <a:pt x="122" y="1109"/>
                  </a:lnTo>
                  <a:lnTo>
                    <a:pt x="104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5" y="854"/>
                  </a:lnTo>
                  <a:lnTo>
                    <a:pt x="9" y="820"/>
                  </a:lnTo>
                  <a:lnTo>
                    <a:pt x="4" y="784"/>
                  </a:lnTo>
                  <a:lnTo>
                    <a:pt x="2" y="747"/>
                  </a:lnTo>
                  <a:lnTo>
                    <a:pt x="0" y="712"/>
                  </a:lnTo>
                  <a:lnTo>
                    <a:pt x="2" y="675"/>
                  </a:lnTo>
                  <a:lnTo>
                    <a:pt x="4" y="639"/>
                  </a:lnTo>
                  <a:lnTo>
                    <a:pt x="9" y="604"/>
                  </a:lnTo>
                  <a:lnTo>
                    <a:pt x="15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4" y="343"/>
                  </a:lnTo>
                  <a:lnTo>
                    <a:pt x="122" y="314"/>
                  </a:lnTo>
                  <a:lnTo>
                    <a:pt x="142" y="286"/>
                  </a:lnTo>
                  <a:lnTo>
                    <a:pt x="163" y="259"/>
                  </a:lnTo>
                  <a:lnTo>
                    <a:pt x="186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7" y="141"/>
                  </a:lnTo>
                  <a:lnTo>
                    <a:pt x="314" y="122"/>
                  </a:lnTo>
                  <a:lnTo>
                    <a:pt x="343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1" y="32"/>
                  </a:lnTo>
                  <a:lnTo>
                    <a:pt x="534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6760" y="3260880"/>
              <a:ext cx="399600" cy="3996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0" y="0"/>
                  </a:moveTo>
                  <a:lnTo>
                    <a:pt x="747" y="1"/>
                  </a:lnTo>
                  <a:lnTo>
                    <a:pt x="784" y="4"/>
                  </a:lnTo>
                  <a:lnTo>
                    <a:pt x="818" y="8"/>
                  </a:lnTo>
                  <a:lnTo>
                    <a:pt x="854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7" y="56"/>
                  </a:lnTo>
                  <a:lnTo>
                    <a:pt x="1019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8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59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6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79" y="467"/>
                  </a:lnTo>
                  <a:lnTo>
                    <a:pt x="1390" y="500"/>
                  </a:lnTo>
                  <a:lnTo>
                    <a:pt x="1399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8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8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399" y="889"/>
                  </a:lnTo>
                  <a:lnTo>
                    <a:pt x="1390" y="922"/>
                  </a:lnTo>
                  <a:lnTo>
                    <a:pt x="1379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6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59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8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19" y="1352"/>
                  </a:lnTo>
                  <a:lnTo>
                    <a:pt x="987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4" y="1408"/>
                  </a:lnTo>
                  <a:lnTo>
                    <a:pt x="818" y="1414"/>
                  </a:lnTo>
                  <a:lnTo>
                    <a:pt x="784" y="1419"/>
                  </a:lnTo>
                  <a:lnTo>
                    <a:pt x="747" y="1421"/>
                  </a:lnTo>
                  <a:lnTo>
                    <a:pt x="710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3" y="1400"/>
                  </a:lnTo>
                  <a:lnTo>
                    <a:pt x="500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2" y="1319"/>
                  </a:lnTo>
                  <a:lnTo>
                    <a:pt x="314" y="1301"/>
                  </a:lnTo>
                  <a:lnTo>
                    <a:pt x="286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5" y="1189"/>
                  </a:lnTo>
                  <a:lnTo>
                    <a:pt x="163" y="1163"/>
                  </a:lnTo>
                  <a:lnTo>
                    <a:pt x="141" y="1136"/>
                  </a:lnTo>
                  <a:lnTo>
                    <a:pt x="121" y="1109"/>
                  </a:lnTo>
                  <a:lnTo>
                    <a:pt x="103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4" y="854"/>
                  </a:lnTo>
                  <a:lnTo>
                    <a:pt x="8" y="820"/>
                  </a:lnTo>
                  <a:lnTo>
                    <a:pt x="4" y="784"/>
                  </a:lnTo>
                  <a:lnTo>
                    <a:pt x="1" y="747"/>
                  </a:lnTo>
                  <a:lnTo>
                    <a:pt x="0" y="712"/>
                  </a:lnTo>
                  <a:lnTo>
                    <a:pt x="1" y="675"/>
                  </a:lnTo>
                  <a:lnTo>
                    <a:pt x="4" y="639"/>
                  </a:lnTo>
                  <a:lnTo>
                    <a:pt x="8" y="604"/>
                  </a:lnTo>
                  <a:lnTo>
                    <a:pt x="14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3" y="343"/>
                  </a:lnTo>
                  <a:lnTo>
                    <a:pt x="121" y="314"/>
                  </a:lnTo>
                  <a:lnTo>
                    <a:pt x="141" y="286"/>
                  </a:lnTo>
                  <a:lnTo>
                    <a:pt x="163" y="259"/>
                  </a:lnTo>
                  <a:lnTo>
                    <a:pt x="185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6" y="141"/>
                  </a:lnTo>
                  <a:lnTo>
                    <a:pt x="314" y="122"/>
                  </a:lnTo>
                  <a:lnTo>
                    <a:pt x="342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0" y="32"/>
                  </a:lnTo>
                  <a:lnTo>
                    <a:pt x="533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343600" y="758880"/>
            <a:ext cx="42314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LOVES 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JUST THE WAY I 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841480" y="2216160"/>
            <a:ext cx="3471840" cy="3498840"/>
            <a:chOff x="2841480" y="2216160"/>
            <a:chExt cx="3471840" cy="3498840"/>
          </a:xfrm>
        </p:grpSpPr>
        <p:sp>
          <p:nvSpPr>
            <p:cNvPr id="594" name=""/>
            <p:cNvSpPr/>
            <p:nvPr/>
          </p:nvSpPr>
          <p:spPr>
            <a:xfrm>
              <a:off x="2841480" y="2216160"/>
              <a:ext cx="3471840" cy="349884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41480" y="2216160"/>
              <a:ext cx="3471840" cy="349884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02200" y="5478480"/>
              <a:ext cx="74520" cy="45720"/>
            </a:xfrm>
            <a:custGeom>
              <a:avLst/>
              <a:gdLst/>
              <a:ahLst/>
              <a:rect l="l" t="t" r="r" b="b"/>
              <a:pathLst>
                <a:path w="238" h="147">
                  <a:moveTo>
                    <a:pt x="218" y="20"/>
                  </a:moveTo>
                  <a:lnTo>
                    <a:pt x="218" y="0"/>
                  </a:lnTo>
                  <a:lnTo>
                    <a:pt x="0" y="56"/>
                  </a:lnTo>
                  <a:lnTo>
                    <a:pt x="20" y="147"/>
                  </a:lnTo>
                  <a:lnTo>
                    <a:pt x="238" y="91"/>
                  </a:lnTo>
                  <a:lnTo>
                    <a:pt x="218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70600" y="5460840"/>
              <a:ext cx="75960" cy="46080"/>
            </a:xfrm>
            <a:custGeom>
              <a:avLst/>
              <a:gdLst/>
              <a:ahLst/>
              <a:rect l="l" t="t" r="r" b="b"/>
              <a:pathLst>
                <a:path w="239" h="145">
                  <a:moveTo>
                    <a:pt x="202" y="0"/>
                  </a:moveTo>
                  <a:lnTo>
                    <a:pt x="220" y="0"/>
                  </a:lnTo>
                  <a:lnTo>
                    <a:pt x="0" y="74"/>
                  </a:lnTo>
                  <a:lnTo>
                    <a:pt x="20" y="145"/>
                  </a:lnTo>
                  <a:lnTo>
                    <a:pt x="239" y="9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5400" y="5438520"/>
              <a:ext cx="81000" cy="50760"/>
            </a:xfrm>
            <a:custGeom>
              <a:avLst/>
              <a:gdLst/>
              <a:ahLst/>
              <a:rect l="l" t="t" r="r" b="b"/>
              <a:pathLst>
                <a:path w="255" h="164">
                  <a:moveTo>
                    <a:pt x="218" y="0"/>
                  </a:moveTo>
                  <a:lnTo>
                    <a:pt x="0" y="73"/>
                  </a:lnTo>
                  <a:lnTo>
                    <a:pt x="37" y="164"/>
                  </a:lnTo>
                  <a:lnTo>
                    <a:pt x="255" y="7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03800" y="5408640"/>
              <a:ext cx="76320" cy="52200"/>
            </a:xfrm>
            <a:custGeom>
              <a:avLst/>
              <a:gdLst/>
              <a:ahLst/>
              <a:rect l="l" t="t" r="r" b="b"/>
              <a:pathLst>
                <a:path w="236" h="164">
                  <a:moveTo>
                    <a:pt x="201" y="0"/>
                  </a:moveTo>
                  <a:lnTo>
                    <a:pt x="0" y="91"/>
                  </a:lnTo>
                  <a:lnTo>
                    <a:pt x="37" y="164"/>
                  </a:lnTo>
                  <a:lnTo>
                    <a:pt x="236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68960" y="5379840"/>
              <a:ext cx="74520" cy="52560"/>
            </a:xfrm>
            <a:custGeom>
              <a:avLst/>
              <a:gdLst/>
              <a:ahLst/>
              <a:rect l="l" t="t" r="r" b="b"/>
              <a:pathLst>
                <a:path w="237" h="164">
                  <a:moveTo>
                    <a:pt x="200" y="0"/>
                  </a:moveTo>
                  <a:lnTo>
                    <a:pt x="0" y="91"/>
                  </a:lnTo>
                  <a:lnTo>
                    <a:pt x="35" y="164"/>
                  </a:lnTo>
                  <a:lnTo>
                    <a:pt x="237" y="7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32320" y="5340240"/>
              <a:ext cx="74880" cy="6336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181" y="18"/>
                  </a:moveTo>
                  <a:lnTo>
                    <a:pt x="181" y="0"/>
                  </a:lnTo>
                  <a:lnTo>
                    <a:pt x="0" y="127"/>
                  </a:lnTo>
                  <a:lnTo>
                    <a:pt x="37" y="201"/>
                  </a:lnTo>
                  <a:lnTo>
                    <a:pt x="237" y="91"/>
                  </a:lnTo>
                  <a:lnTo>
                    <a:pt x="181" y="1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89560" y="5305320"/>
              <a:ext cx="74520" cy="63360"/>
            </a:xfrm>
            <a:custGeom>
              <a:avLst/>
              <a:gdLst/>
              <a:ahLst/>
              <a:rect l="l" t="t" r="r" b="b"/>
              <a:pathLst>
                <a:path w="238" h="200">
                  <a:moveTo>
                    <a:pt x="201" y="0"/>
                  </a:moveTo>
                  <a:lnTo>
                    <a:pt x="0" y="127"/>
                  </a:lnTo>
                  <a:lnTo>
                    <a:pt x="56" y="200"/>
                  </a:lnTo>
                  <a:lnTo>
                    <a:pt x="238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52920" y="5263920"/>
              <a:ext cx="69840" cy="65160"/>
            </a:xfrm>
            <a:custGeom>
              <a:avLst/>
              <a:gdLst/>
              <a:ahLst/>
              <a:rect l="l" t="t" r="r" b="b"/>
              <a:pathLst>
                <a:path w="218" h="201">
                  <a:moveTo>
                    <a:pt x="164" y="0"/>
                  </a:moveTo>
                  <a:lnTo>
                    <a:pt x="0" y="128"/>
                  </a:lnTo>
                  <a:lnTo>
                    <a:pt x="37" y="201"/>
                  </a:lnTo>
                  <a:lnTo>
                    <a:pt x="218" y="7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05480" y="5224320"/>
              <a:ext cx="74520" cy="6336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182" y="0"/>
                  </a:moveTo>
                  <a:lnTo>
                    <a:pt x="0" y="127"/>
                  </a:lnTo>
                  <a:lnTo>
                    <a:pt x="54" y="201"/>
                  </a:lnTo>
                  <a:lnTo>
                    <a:pt x="236" y="73"/>
                  </a:lnTo>
                  <a:lnTo>
                    <a:pt x="236" y="5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62720" y="5171760"/>
              <a:ext cx="69840" cy="698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163" y="0"/>
                  </a:moveTo>
                  <a:lnTo>
                    <a:pt x="0" y="165"/>
                  </a:lnTo>
                  <a:lnTo>
                    <a:pt x="54" y="219"/>
                  </a:lnTo>
                  <a:lnTo>
                    <a:pt x="219" y="7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14920" y="5126040"/>
              <a:ext cx="74520" cy="69840"/>
            </a:xfrm>
            <a:custGeom>
              <a:avLst/>
              <a:gdLst/>
              <a:ahLst/>
              <a:rect l="l" t="t" r="r" b="b"/>
              <a:pathLst>
                <a:path w="237" h="219">
                  <a:moveTo>
                    <a:pt x="164" y="0"/>
                  </a:moveTo>
                  <a:lnTo>
                    <a:pt x="0" y="145"/>
                  </a:lnTo>
                  <a:lnTo>
                    <a:pt x="56" y="219"/>
                  </a:lnTo>
                  <a:lnTo>
                    <a:pt x="237" y="7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67480" y="5073480"/>
              <a:ext cx="68040" cy="7632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146" y="0"/>
                  </a:moveTo>
                  <a:lnTo>
                    <a:pt x="0" y="165"/>
                  </a:lnTo>
                  <a:lnTo>
                    <a:pt x="73" y="238"/>
                  </a:lnTo>
                  <a:lnTo>
                    <a:pt x="219" y="5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5022720"/>
              <a:ext cx="69840" cy="6840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46" y="0"/>
                  </a:moveTo>
                  <a:lnTo>
                    <a:pt x="0" y="162"/>
                  </a:lnTo>
                  <a:lnTo>
                    <a:pt x="73" y="218"/>
                  </a:lnTo>
                  <a:lnTo>
                    <a:pt x="219" y="5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59280" y="4964040"/>
              <a:ext cx="70200" cy="74520"/>
            </a:xfrm>
            <a:custGeom>
              <a:avLst/>
              <a:gdLst/>
              <a:ahLst/>
              <a:rect l="l" t="t" r="r" b="b"/>
              <a:pathLst>
                <a:path w="218" h="237">
                  <a:moveTo>
                    <a:pt x="145" y="0"/>
                  </a:moveTo>
                  <a:lnTo>
                    <a:pt x="0" y="183"/>
                  </a:lnTo>
                  <a:lnTo>
                    <a:pt x="73" y="237"/>
                  </a:lnTo>
                  <a:lnTo>
                    <a:pt x="218" y="5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05360" y="490536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9">
                  <a:moveTo>
                    <a:pt x="127" y="0"/>
                  </a:moveTo>
                  <a:lnTo>
                    <a:pt x="0" y="183"/>
                  </a:lnTo>
                  <a:lnTo>
                    <a:pt x="73" y="239"/>
                  </a:lnTo>
                  <a:lnTo>
                    <a:pt x="218" y="37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45320" y="4843440"/>
              <a:ext cx="69840" cy="74520"/>
            </a:xfrm>
            <a:custGeom>
              <a:avLst/>
              <a:gdLst/>
              <a:ahLst/>
              <a:rect l="l" t="t" r="r" b="b"/>
              <a:pathLst>
                <a:path w="218" h="236">
                  <a:moveTo>
                    <a:pt x="128" y="0"/>
                  </a:moveTo>
                  <a:lnTo>
                    <a:pt x="145" y="0"/>
                  </a:lnTo>
                  <a:lnTo>
                    <a:pt x="0" y="199"/>
                  </a:lnTo>
                  <a:lnTo>
                    <a:pt x="91" y="236"/>
                  </a:lnTo>
                  <a:lnTo>
                    <a:pt x="218" y="54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86360" y="4778280"/>
              <a:ext cx="63720" cy="81000"/>
            </a:xfrm>
            <a:custGeom>
              <a:avLst/>
              <a:gdLst/>
              <a:ahLst/>
              <a:rect l="l" t="t" r="r" b="b"/>
              <a:pathLst>
                <a:path w="200" h="255">
                  <a:moveTo>
                    <a:pt x="127" y="19"/>
                  </a:moveTo>
                  <a:lnTo>
                    <a:pt x="127" y="0"/>
                  </a:lnTo>
                  <a:lnTo>
                    <a:pt x="0" y="201"/>
                  </a:lnTo>
                  <a:lnTo>
                    <a:pt x="90" y="255"/>
                  </a:lnTo>
                  <a:lnTo>
                    <a:pt x="200" y="54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25960" y="4714560"/>
              <a:ext cx="59040" cy="8100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109" y="0"/>
                  </a:moveTo>
                  <a:lnTo>
                    <a:pt x="0" y="219"/>
                  </a:lnTo>
                  <a:lnTo>
                    <a:pt x="73" y="254"/>
                  </a:lnTo>
                  <a:lnTo>
                    <a:pt x="182" y="3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61240" y="4646520"/>
              <a:ext cx="58680" cy="79200"/>
            </a:xfrm>
            <a:custGeom>
              <a:avLst/>
              <a:gdLst/>
              <a:ahLst/>
              <a:rect l="l" t="t" r="r" b="b"/>
              <a:pathLst>
                <a:path w="183" h="253">
                  <a:moveTo>
                    <a:pt x="91" y="0"/>
                  </a:moveTo>
                  <a:lnTo>
                    <a:pt x="0" y="218"/>
                  </a:lnTo>
                  <a:lnTo>
                    <a:pt x="73" y="253"/>
                  </a:lnTo>
                  <a:lnTo>
                    <a:pt x="183" y="3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89680" y="45766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4">
                  <a:moveTo>
                    <a:pt x="92" y="0"/>
                  </a:moveTo>
                  <a:lnTo>
                    <a:pt x="0" y="219"/>
                  </a:lnTo>
                  <a:lnTo>
                    <a:pt x="92" y="254"/>
                  </a:lnTo>
                  <a:lnTo>
                    <a:pt x="183" y="35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19920" y="4506840"/>
              <a:ext cx="50760" cy="81000"/>
            </a:xfrm>
            <a:custGeom>
              <a:avLst/>
              <a:gdLst/>
              <a:ahLst/>
              <a:rect l="l" t="t" r="r" b="b"/>
              <a:pathLst>
                <a:path w="162" h="254">
                  <a:moveTo>
                    <a:pt x="72" y="0"/>
                  </a:moveTo>
                  <a:lnTo>
                    <a:pt x="0" y="219"/>
                  </a:lnTo>
                  <a:lnTo>
                    <a:pt x="91" y="254"/>
                  </a:lnTo>
                  <a:lnTo>
                    <a:pt x="16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41880" y="4438440"/>
              <a:ext cx="52560" cy="79560"/>
            </a:xfrm>
            <a:custGeom>
              <a:avLst/>
              <a:gdLst/>
              <a:ahLst/>
              <a:rect l="l" t="t" r="r" b="b"/>
              <a:pathLst>
                <a:path w="164" h="253">
                  <a:moveTo>
                    <a:pt x="73" y="0"/>
                  </a:moveTo>
                  <a:lnTo>
                    <a:pt x="0" y="218"/>
                  </a:lnTo>
                  <a:lnTo>
                    <a:pt x="90" y="253"/>
                  </a:lnTo>
                  <a:lnTo>
                    <a:pt x="164" y="1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66000" y="4362480"/>
              <a:ext cx="45720" cy="8064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54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4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83280" y="4287600"/>
              <a:ext cx="46080" cy="8100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54" y="0"/>
                  </a:moveTo>
                  <a:lnTo>
                    <a:pt x="0" y="236"/>
                  </a:lnTo>
                  <a:lnTo>
                    <a:pt x="91" y="255"/>
                  </a:lnTo>
                  <a:lnTo>
                    <a:pt x="146" y="1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9120" y="4211640"/>
              <a:ext cx="41400" cy="8064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37" y="0"/>
                  </a:moveTo>
                  <a:lnTo>
                    <a:pt x="0" y="238"/>
                  </a:lnTo>
                  <a:lnTo>
                    <a:pt x="92" y="255"/>
                  </a:lnTo>
                  <a:lnTo>
                    <a:pt x="12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11720" y="4130640"/>
              <a:ext cx="39960" cy="8100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37" y="0"/>
                  </a:moveTo>
                  <a:lnTo>
                    <a:pt x="0" y="254"/>
                  </a:lnTo>
                  <a:lnTo>
                    <a:pt x="92" y="254"/>
                  </a:lnTo>
                  <a:lnTo>
                    <a:pt x="128" y="1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22880" y="4055760"/>
              <a:ext cx="34920" cy="8100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18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09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29360" y="3975120"/>
              <a:ext cx="28440" cy="8064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29360" y="3894120"/>
              <a:ext cx="28440" cy="8100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22880" y="3813120"/>
              <a:ext cx="34920" cy="8100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0" y="0"/>
                  </a:moveTo>
                  <a:lnTo>
                    <a:pt x="18" y="255"/>
                  </a:lnTo>
                  <a:lnTo>
                    <a:pt x="109" y="25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11720" y="3732120"/>
              <a:ext cx="39960" cy="81000"/>
            </a:xfrm>
            <a:custGeom>
              <a:avLst/>
              <a:gdLst/>
              <a:ahLst/>
              <a:rect l="l" t="t" r="r" b="b"/>
              <a:pathLst>
                <a:path w="128" h="256">
                  <a:moveTo>
                    <a:pt x="0" y="19"/>
                  </a:moveTo>
                  <a:lnTo>
                    <a:pt x="37" y="256"/>
                  </a:lnTo>
                  <a:lnTo>
                    <a:pt x="128" y="256"/>
                  </a:lnTo>
                  <a:lnTo>
                    <a:pt x="9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9120" y="3657600"/>
              <a:ext cx="41400" cy="80640"/>
            </a:xfrm>
            <a:custGeom>
              <a:avLst/>
              <a:gdLst/>
              <a:ahLst/>
              <a:rect l="l" t="t" r="r" b="b"/>
              <a:pathLst>
                <a:path w="129" h="254">
                  <a:moveTo>
                    <a:pt x="0" y="17"/>
                  </a:moveTo>
                  <a:lnTo>
                    <a:pt x="0" y="0"/>
                  </a:lnTo>
                  <a:lnTo>
                    <a:pt x="37" y="254"/>
                  </a:lnTo>
                  <a:lnTo>
                    <a:pt x="129" y="235"/>
                  </a:lnTo>
                  <a:lnTo>
                    <a:pt x="9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83280" y="3581280"/>
              <a:ext cx="46080" cy="8100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0" y="20"/>
                  </a:moveTo>
                  <a:lnTo>
                    <a:pt x="54" y="255"/>
                  </a:lnTo>
                  <a:lnTo>
                    <a:pt x="146" y="238"/>
                  </a:lnTo>
                  <a:lnTo>
                    <a:pt x="9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66000" y="3500280"/>
              <a:ext cx="45720" cy="87480"/>
            </a:xfrm>
            <a:custGeom>
              <a:avLst/>
              <a:gdLst/>
              <a:ahLst/>
              <a:rect l="l" t="t" r="r" b="b"/>
              <a:pathLst>
                <a:path w="145" h="276">
                  <a:moveTo>
                    <a:pt x="0" y="37"/>
                  </a:moveTo>
                  <a:lnTo>
                    <a:pt x="54" y="276"/>
                  </a:lnTo>
                  <a:lnTo>
                    <a:pt x="145" y="256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41880" y="3425760"/>
              <a:ext cx="52560" cy="85680"/>
            </a:xfrm>
            <a:custGeom>
              <a:avLst/>
              <a:gdLst/>
              <a:ahLst/>
              <a:rect l="l" t="t" r="r" b="b"/>
              <a:pathLst>
                <a:path w="164" h="272">
                  <a:moveTo>
                    <a:pt x="0" y="36"/>
                  </a:moveTo>
                  <a:lnTo>
                    <a:pt x="73" y="272"/>
                  </a:lnTo>
                  <a:lnTo>
                    <a:pt x="164" y="235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19920" y="3355920"/>
              <a:ext cx="50760" cy="8100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0" y="37"/>
                  </a:moveTo>
                  <a:lnTo>
                    <a:pt x="72" y="256"/>
                  </a:lnTo>
                  <a:lnTo>
                    <a:pt x="162" y="2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89680" y="32860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37"/>
                  </a:moveTo>
                  <a:lnTo>
                    <a:pt x="92" y="255"/>
                  </a:lnTo>
                  <a:lnTo>
                    <a:pt x="183" y="218"/>
                  </a:lnTo>
                  <a:lnTo>
                    <a:pt x="9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61240" y="32176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54"/>
                  </a:moveTo>
                  <a:lnTo>
                    <a:pt x="0" y="36"/>
                  </a:lnTo>
                  <a:lnTo>
                    <a:pt x="91" y="255"/>
                  </a:lnTo>
                  <a:lnTo>
                    <a:pt x="183" y="218"/>
                  </a:lnTo>
                  <a:lnTo>
                    <a:pt x="7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25960" y="3154320"/>
              <a:ext cx="59040" cy="8100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0" y="35"/>
                  </a:moveTo>
                  <a:lnTo>
                    <a:pt x="109" y="254"/>
                  </a:lnTo>
                  <a:lnTo>
                    <a:pt x="182" y="200"/>
                  </a:lnTo>
                  <a:lnTo>
                    <a:pt x="7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86360" y="3090600"/>
              <a:ext cx="63720" cy="7488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17" y="37"/>
                  </a:moveTo>
                  <a:lnTo>
                    <a:pt x="0" y="37"/>
                  </a:lnTo>
                  <a:lnTo>
                    <a:pt x="127" y="236"/>
                  </a:lnTo>
                  <a:lnTo>
                    <a:pt x="200" y="201"/>
                  </a:lnTo>
                  <a:lnTo>
                    <a:pt x="9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45320" y="302580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6"/>
                  </a:moveTo>
                  <a:lnTo>
                    <a:pt x="145" y="238"/>
                  </a:lnTo>
                  <a:lnTo>
                    <a:pt x="218" y="201"/>
                  </a:lnTo>
                  <a:lnTo>
                    <a:pt x="91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05360" y="296856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5"/>
                  </a:moveTo>
                  <a:lnTo>
                    <a:pt x="127" y="238"/>
                  </a:lnTo>
                  <a:lnTo>
                    <a:pt x="218" y="182"/>
                  </a:lnTo>
                  <a:lnTo>
                    <a:pt x="7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64320" y="2911320"/>
              <a:ext cx="65160" cy="74520"/>
            </a:xfrm>
            <a:custGeom>
              <a:avLst/>
              <a:gdLst/>
              <a:ahLst/>
              <a:rect l="l" t="t" r="r" b="b"/>
              <a:pathLst>
                <a:path w="201" h="237">
                  <a:moveTo>
                    <a:pt x="0" y="54"/>
                  </a:moveTo>
                  <a:lnTo>
                    <a:pt x="128" y="237"/>
                  </a:lnTo>
                  <a:lnTo>
                    <a:pt x="201" y="182"/>
                  </a:lnTo>
                  <a:lnTo>
                    <a:pt x="7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13560" y="2852640"/>
              <a:ext cx="74520" cy="7452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0" y="74"/>
                  </a:moveTo>
                  <a:lnTo>
                    <a:pt x="163" y="236"/>
                  </a:lnTo>
                  <a:lnTo>
                    <a:pt x="237" y="182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67480" y="2800080"/>
              <a:ext cx="68040" cy="7632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0" y="73"/>
                  </a:moveTo>
                  <a:lnTo>
                    <a:pt x="0" y="54"/>
                  </a:lnTo>
                  <a:lnTo>
                    <a:pt x="146" y="238"/>
                  </a:lnTo>
                  <a:lnTo>
                    <a:pt x="219" y="164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14920" y="2754000"/>
              <a:ext cx="68400" cy="698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0" y="55"/>
                  </a:moveTo>
                  <a:lnTo>
                    <a:pt x="164" y="219"/>
                  </a:lnTo>
                  <a:lnTo>
                    <a:pt x="218" y="146"/>
                  </a:lnTo>
                  <a:lnTo>
                    <a:pt x="5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62720" y="2701800"/>
              <a:ext cx="69840" cy="698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73"/>
                  </a:moveTo>
                  <a:lnTo>
                    <a:pt x="163" y="219"/>
                  </a:lnTo>
                  <a:lnTo>
                    <a:pt x="219" y="164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05480" y="2662200"/>
              <a:ext cx="74520" cy="6336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0" y="56"/>
                  </a:moveTo>
                  <a:lnTo>
                    <a:pt x="182" y="201"/>
                  </a:lnTo>
                  <a:lnTo>
                    <a:pt x="236" y="128"/>
                  </a:lnTo>
                  <a:lnTo>
                    <a:pt x="5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46800" y="2616120"/>
              <a:ext cx="75960" cy="63360"/>
            </a:xfrm>
            <a:custGeom>
              <a:avLst/>
              <a:gdLst/>
              <a:ahLst/>
              <a:rect l="l" t="t" r="r" b="b"/>
              <a:pathLst>
                <a:path w="237" h="200">
                  <a:moveTo>
                    <a:pt x="19" y="90"/>
                  </a:moveTo>
                  <a:lnTo>
                    <a:pt x="0" y="73"/>
                  </a:lnTo>
                  <a:lnTo>
                    <a:pt x="183" y="200"/>
                  </a:lnTo>
                  <a:lnTo>
                    <a:pt x="237" y="144"/>
                  </a:lnTo>
                  <a:lnTo>
                    <a:pt x="56" y="0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89560" y="2581200"/>
              <a:ext cx="74520" cy="63360"/>
            </a:xfrm>
            <a:custGeom>
              <a:avLst/>
              <a:gdLst/>
              <a:ahLst/>
              <a:rect l="l" t="t" r="r" b="b"/>
              <a:pathLst>
                <a:path w="238" h="201">
                  <a:moveTo>
                    <a:pt x="0" y="74"/>
                  </a:moveTo>
                  <a:lnTo>
                    <a:pt x="201" y="201"/>
                  </a:lnTo>
                  <a:lnTo>
                    <a:pt x="238" y="111"/>
                  </a:lnTo>
                  <a:lnTo>
                    <a:pt x="5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32320" y="2546280"/>
              <a:ext cx="74880" cy="5868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0" y="74"/>
                  </a:moveTo>
                  <a:lnTo>
                    <a:pt x="181" y="183"/>
                  </a:lnTo>
                  <a:lnTo>
                    <a:pt x="237" y="109"/>
                  </a:lnTo>
                  <a:lnTo>
                    <a:pt x="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68960" y="2511360"/>
              <a:ext cx="74520" cy="58680"/>
            </a:xfrm>
            <a:custGeom>
              <a:avLst/>
              <a:gdLst/>
              <a:ahLst/>
              <a:rect l="l" t="t" r="r" b="b"/>
              <a:pathLst>
                <a:path w="237" h="184">
                  <a:moveTo>
                    <a:pt x="0" y="93"/>
                  </a:moveTo>
                  <a:lnTo>
                    <a:pt x="200" y="184"/>
                  </a:lnTo>
                  <a:lnTo>
                    <a:pt x="237" y="110"/>
                  </a:lnTo>
                  <a:lnTo>
                    <a:pt x="35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3800" y="2482560"/>
              <a:ext cx="76320" cy="5904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91"/>
                  </a:moveTo>
                  <a:lnTo>
                    <a:pt x="201" y="184"/>
                  </a:lnTo>
                  <a:lnTo>
                    <a:pt x="236" y="91"/>
                  </a:lnTo>
                  <a:lnTo>
                    <a:pt x="37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40440" y="2460600"/>
              <a:ext cx="75960" cy="50760"/>
            </a:xfrm>
            <a:custGeom>
              <a:avLst/>
              <a:gdLst/>
              <a:ahLst/>
              <a:rect l="l" t="t" r="r" b="b"/>
              <a:pathLst>
                <a:path w="237" h="162">
                  <a:moveTo>
                    <a:pt x="0" y="91"/>
                  </a:moveTo>
                  <a:lnTo>
                    <a:pt x="200" y="162"/>
                  </a:lnTo>
                  <a:lnTo>
                    <a:pt x="237" y="71"/>
                  </a:lnTo>
                  <a:lnTo>
                    <a:pt x="1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70600" y="2436840"/>
              <a:ext cx="75960" cy="52200"/>
            </a:xfrm>
            <a:custGeom>
              <a:avLst/>
              <a:gdLst/>
              <a:ahLst/>
              <a:rect l="l" t="t" r="r" b="b"/>
              <a:pathLst>
                <a:path w="239" h="165">
                  <a:moveTo>
                    <a:pt x="0" y="91"/>
                  </a:moveTo>
                  <a:lnTo>
                    <a:pt x="220" y="165"/>
                  </a:lnTo>
                  <a:lnTo>
                    <a:pt x="239" y="74"/>
                  </a:lnTo>
                  <a:lnTo>
                    <a:pt x="2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02200" y="2419200"/>
              <a:ext cx="74520" cy="46080"/>
            </a:xfrm>
            <a:custGeom>
              <a:avLst/>
              <a:gdLst/>
              <a:ahLst/>
              <a:rect l="l" t="t" r="r" b="b"/>
              <a:pathLst>
                <a:path w="238" h="145">
                  <a:moveTo>
                    <a:pt x="20" y="54"/>
                  </a:moveTo>
                  <a:lnTo>
                    <a:pt x="0" y="91"/>
                  </a:lnTo>
                  <a:lnTo>
                    <a:pt x="218" y="145"/>
                  </a:lnTo>
                  <a:lnTo>
                    <a:pt x="238" y="54"/>
                  </a:lnTo>
                  <a:lnTo>
                    <a:pt x="20" y="0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25800" y="2627280"/>
              <a:ext cx="647640" cy="253980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25800" y="2627280"/>
              <a:ext cx="647640" cy="253980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054240" y="3628800"/>
              <a:ext cx="3040200" cy="173520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54240" y="3628800"/>
              <a:ext cx="3040200" cy="173520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40240" y="3009600"/>
              <a:ext cx="676080" cy="42084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40240" y="3009600"/>
              <a:ext cx="676080" cy="42084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02200" y="3025800"/>
              <a:ext cx="676440" cy="42372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2200" y="3025800"/>
              <a:ext cx="676440" cy="42372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89520" y="3373200"/>
              <a:ext cx="403200" cy="40500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8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5" y="13"/>
                  </a:lnTo>
                  <a:lnTo>
                    <a:pt x="797" y="20"/>
                  </a:lnTo>
                  <a:lnTo>
                    <a:pt x="826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0" y="77"/>
                  </a:lnTo>
                  <a:lnTo>
                    <a:pt x="968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6" y="166"/>
                  </a:lnTo>
                  <a:lnTo>
                    <a:pt x="1088" y="187"/>
                  </a:lnTo>
                  <a:lnTo>
                    <a:pt x="1108" y="209"/>
                  </a:lnTo>
                  <a:lnTo>
                    <a:pt x="1129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7" y="334"/>
                  </a:lnTo>
                  <a:lnTo>
                    <a:pt x="1211" y="361"/>
                  </a:lnTo>
                  <a:lnTo>
                    <a:pt x="1225" y="390"/>
                  </a:lnTo>
                  <a:lnTo>
                    <a:pt x="1236" y="418"/>
                  </a:lnTo>
                  <a:lnTo>
                    <a:pt x="1246" y="448"/>
                  </a:lnTo>
                  <a:lnTo>
                    <a:pt x="1254" y="479"/>
                  </a:lnTo>
                  <a:lnTo>
                    <a:pt x="1261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3" y="605"/>
                  </a:lnTo>
                  <a:lnTo>
                    <a:pt x="1274" y="638"/>
                  </a:lnTo>
                  <a:lnTo>
                    <a:pt x="1273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1" y="766"/>
                  </a:lnTo>
                  <a:lnTo>
                    <a:pt x="1254" y="797"/>
                  </a:lnTo>
                  <a:lnTo>
                    <a:pt x="1246" y="827"/>
                  </a:lnTo>
                  <a:lnTo>
                    <a:pt x="1236" y="857"/>
                  </a:lnTo>
                  <a:lnTo>
                    <a:pt x="1225" y="886"/>
                  </a:lnTo>
                  <a:lnTo>
                    <a:pt x="1211" y="914"/>
                  </a:lnTo>
                  <a:lnTo>
                    <a:pt x="1197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9" y="1044"/>
                  </a:lnTo>
                  <a:lnTo>
                    <a:pt x="1108" y="1066"/>
                  </a:lnTo>
                  <a:lnTo>
                    <a:pt x="1088" y="1089"/>
                  </a:lnTo>
                  <a:lnTo>
                    <a:pt x="1066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8" y="1183"/>
                  </a:lnTo>
                  <a:lnTo>
                    <a:pt x="940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6" y="1247"/>
                  </a:lnTo>
                  <a:lnTo>
                    <a:pt x="797" y="1256"/>
                  </a:lnTo>
                  <a:lnTo>
                    <a:pt x="765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8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1" y="1268"/>
                  </a:lnTo>
                  <a:lnTo>
                    <a:pt x="509" y="1263"/>
                  </a:lnTo>
                  <a:lnTo>
                    <a:pt x="479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4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2" y="1129"/>
                  </a:lnTo>
                  <a:lnTo>
                    <a:pt x="208" y="1110"/>
                  </a:lnTo>
                  <a:lnTo>
                    <a:pt x="187" y="1089"/>
                  </a:lnTo>
                  <a:lnTo>
                    <a:pt x="166" y="1066"/>
                  </a:lnTo>
                  <a:lnTo>
                    <a:pt x="145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3" y="914"/>
                  </a:lnTo>
                  <a:lnTo>
                    <a:pt x="50" y="886"/>
                  </a:lnTo>
                  <a:lnTo>
                    <a:pt x="38" y="857"/>
                  </a:lnTo>
                  <a:lnTo>
                    <a:pt x="28" y="827"/>
                  </a:lnTo>
                  <a:lnTo>
                    <a:pt x="20" y="797"/>
                  </a:lnTo>
                  <a:lnTo>
                    <a:pt x="13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1" y="670"/>
                  </a:lnTo>
                  <a:lnTo>
                    <a:pt x="0" y="638"/>
                  </a:lnTo>
                  <a:lnTo>
                    <a:pt x="1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3" y="509"/>
                  </a:lnTo>
                  <a:lnTo>
                    <a:pt x="20" y="479"/>
                  </a:lnTo>
                  <a:lnTo>
                    <a:pt x="28" y="448"/>
                  </a:lnTo>
                  <a:lnTo>
                    <a:pt x="38" y="418"/>
                  </a:lnTo>
                  <a:lnTo>
                    <a:pt x="50" y="390"/>
                  </a:lnTo>
                  <a:lnTo>
                    <a:pt x="63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5" y="233"/>
                  </a:lnTo>
                  <a:lnTo>
                    <a:pt x="166" y="209"/>
                  </a:lnTo>
                  <a:lnTo>
                    <a:pt x="187" y="187"/>
                  </a:lnTo>
                  <a:lnTo>
                    <a:pt x="208" y="166"/>
                  </a:lnTo>
                  <a:lnTo>
                    <a:pt x="232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4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9" y="20"/>
                  </a:lnTo>
                  <a:lnTo>
                    <a:pt x="509" y="13"/>
                  </a:lnTo>
                  <a:lnTo>
                    <a:pt x="541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2440" y="3373200"/>
              <a:ext cx="403200" cy="40500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7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6" y="13"/>
                  </a:lnTo>
                  <a:lnTo>
                    <a:pt x="796" y="20"/>
                  </a:lnTo>
                  <a:lnTo>
                    <a:pt x="827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1" y="77"/>
                  </a:lnTo>
                  <a:lnTo>
                    <a:pt x="967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5" y="166"/>
                  </a:lnTo>
                  <a:lnTo>
                    <a:pt x="1088" y="187"/>
                  </a:lnTo>
                  <a:lnTo>
                    <a:pt x="1109" y="209"/>
                  </a:lnTo>
                  <a:lnTo>
                    <a:pt x="1128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8" y="334"/>
                  </a:lnTo>
                  <a:lnTo>
                    <a:pt x="1212" y="361"/>
                  </a:lnTo>
                  <a:lnTo>
                    <a:pt x="1224" y="390"/>
                  </a:lnTo>
                  <a:lnTo>
                    <a:pt x="1235" y="418"/>
                  </a:lnTo>
                  <a:lnTo>
                    <a:pt x="1246" y="448"/>
                  </a:lnTo>
                  <a:lnTo>
                    <a:pt x="1255" y="479"/>
                  </a:lnTo>
                  <a:lnTo>
                    <a:pt x="1262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4" y="605"/>
                  </a:lnTo>
                  <a:lnTo>
                    <a:pt x="1274" y="638"/>
                  </a:lnTo>
                  <a:lnTo>
                    <a:pt x="1274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2" y="766"/>
                  </a:lnTo>
                  <a:lnTo>
                    <a:pt x="1255" y="797"/>
                  </a:lnTo>
                  <a:lnTo>
                    <a:pt x="1246" y="827"/>
                  </a:lnTo>
                  <a:lnTo>
                    <a:pt x="1235" y="857"/>
                  </a:lnTo>
                  <a:lnTo>
                    <a:pt x="1224" y="886"/>
                  </a:lnTo>
                  <a:lnTo>
                    <a:pt x="1212" y="914"/>
                  </a:lnTo>
                  <a:lnTo>
                    <a:pt x="1198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8" y="1044"/>
                  </a:lnTo>
                  <a:lnTo>
                    <a:pt x="1109" y="1066"/>
                  </a:lnTo>
                  <a:lnTo>
                    <a:pt x="1088" y="1089"/>
                  </a:lnTo>
                  <a:lnTo>
                    <a:pt x="1065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7" y="1183"/>
                  </a:lnTo>
                  <a:lnTo>
                    <a:pt x="941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7" y="1247"/>
                  </a:lnTo>
                  <a:lnTo>
                    <a:pt x="796" y="1256"/>
                  </a:lnTo>
                  <a:lnTo>
                    <a:pt x="766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7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0" y="1268"/>
                  </a:lnTo>
                  <a:lnTo>
                    <a:pt x="509" y="1263"/>
                  </a:lnTo>
                  <a:lnTo>
                    <a:pt x="478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3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3" y="1129"/>
                  </a:lnTo>
                  <a:lnTo>
                    <a:pt x="209" y="1110"/>
                  </a:lnTo>
                  <a:lnTo>
                    <a:pt x="187" y="1089"/>
                  </a:lnTo>
                  <a:lnTo>
                    <a:pt x="165" y="1066"/>
                  </a:lnTo>
                  <a:lnTo>
                    <a:pt x="146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2" y="914"/>
                  </a:lnTo>
                  <a:lnTo>
                    <a:pt x="50" y="886"/>
                  </a:lnTo>
                  <a:lnTo>
                    <a:pt x="39" y="857"/>
                  </a:lnTo>
                  <a:lnTo>
                    <a:pt x="29" y="827"/>
                  </a:lnTo>
                  <a:lnTo>
                    <a:pt x="20" y="797"/>
                  </a:lnTo>
                  <a:lnTo>
                    <a:pt x="12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0" y="670"/>
                  </a:lnTo>
                  <a:lnTo>
                    <a:pt x="0" y="638"/>
                  </a:lnTo>
                  <a:lnTo>
                    <a:pt x="0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2" y="509"/>
                  </a:lnTo>
                  <a:lnTo>
                    <a:pt x="20" y="479"/>
                  </a:lnTo>
                  <a:lnTo>
                    <a:pt x="29" y="448"/>
                  </a:lnTo>
                  <a:lnTo>
                    <a:pt x="39" y="418"/>
                  </a:lnTo>
                  <a:lnTo>
                    <a:pt x="50" y="390"/>
                  </a:lnTo>
                  <a:lnTo>
                    <a:pt x="62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6" y="233"/>
                  </a:lnTo>
                  <a:lnTo>
                    <a:pt x="165" y="209"/>
                  </a:lnTo>
                  <a:lnTo>
                    <a:pt x="187" y="187"/>
                  </a:lnTo>
                  <a:lnTo>
                    <a:pt x="209" y="166"/>
                  </a:lnTo>
                  <a:lnTo>
                    <a:pt x="233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3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8" y="20"/>
                  </a:lnTo>
                  <a:lnTo>
                    <a:pt x="509" y="13"/>
                  </a:lnTo>
                  <a:lnTo>
                    <a:pt x="540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133720" y="2971800"/>
            <a:ext cx="1966680" cy="1981080"/>
            <a:chOff x="2133720" y="2971800"/>
            <a:chExt cx="1966680" cy="1981080"/>
          </a:xfrm>
        </p:grpSpPr>
        <p:sp>
          <p:nvSpPr>
            <p:cNvPr id="663" name=""/>
            <p:cNvSpPr/>
            <p:nvPr/>
          </p:nvSpPr>
          <p:spPr>
            <a:xfrm>
              <a:off x="2133720" y="2971800"/>
              <a:ext cx="1966680" cy="198108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33720" y="2971800"/>
              <a:ext cx="1966680" cy="198108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57720" y="4818960"/>
              <a:ext cx="42120" cy="25560"/>
            </a:xfrm>
            <a:custGeom>
              <a:avLst/>
              <a:gdLst/>
              <a:ahLst/>
              <a:rect l="l" t="t" r="r" b="b"/>
              <a:pathLst>
                <a:path w="238" h="147">
                  <a:moveTo>
                    <a:pt x="218" y="20"/>
                  </a:moveTo>
                  <a:lnTo>
                    <a:pt x="218" y="0"/>
                  </a:lnTo>
                  <a:lnTo>
                    <a:pt x="0" y="56"/>
                  </a:lnTo>
                  <a:lnTo>
                    <a:pt x="20" y="147"/>
                  </a:lnTo>
                  <a:lnTo>
                    <a:pt x="238" y="91"/>
                  </a:lnTo>
                  <a:lnTo>
                    <a:pt x="218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96240" y="4808880"/>
              <a:ext cx="42840" cy="25920"/>
            </a:xfrm>
            <a:custGeom>
              <a:avLst/>
              <a:gdLst/>
              <a:ahLst/>
              <a:rect l="l" t="t" r="r" b="b"/>
              <a:pathLst>
                <a:path w="239" h="145">
                  <a:moveTo>
                    <a:pt x="202" y="0"/>
                  </a:moveTo>
                  <a:lnTo>
                    <a:pt x="220" y="0"/>
                  </a:lnTo>
                  <a:lnTo>
                    <a:pt x="0" y="74"/>
                  </a:lnTo>
                  <a:lnTo>
                    <a:pt x="20" y="145"/>
                  </a:lnTo>
                  <a:lnTo>
                    <a:pt x="239" y="9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32960" y="4796280"/>
              <a:ext cx="45720" cy="28440"/>
            </a:xfrm>
            <a:custGeom>
              <a:avLst/>
              <a:gdLst/>
              <a:ahLst/>
              <a:rect l="l" t="t" r="r" b="b"/>
              <a:pathLst>
                <a:path w="255" h="164">
                  <a:moveTo>
                    <a:pt x="218" y="0"/>
                  </a:moveTo>
                  <a:lnTo>
                    <a:pt x="0" y="73"/>
                  </a:lnTo>
                  <a:lnTo>
                    <a:pt x="37" y="164"/>
                  </a:lnTo>
                  <a:lnTo>
                    <a:pt x="255" y="7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71840" y="4779360"/>
              <a:ext cx="43200" cy="29520"/>
            </a:xfrm>
            <a:custGeom>
              <a:avLst/>
              <a:gdLst/>
              <a:ahLst/>
              <a:rect l="l" t="t" r="r" b="b"/>
              <a:pathLst>
                <a:path w="236" h="164">
                  <a:moveTo>
                    <a:pt x="201" y="0"/>
                  </a:moveTo>
                  <a:lnTo>
                    <a:pt x="0" y="91"/>
                  </a:lnTo>
                  <a:lnTo>
                    <a:pt x="37" y="164"/>
                  </a:lnTo>
                  <a:lnTo>
                    <a:pt x="236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08560" y="4763160"/>
              <a:ext cx="42120" cy="29520"/>
            </a:xfrm>
            <a:custGeom>
              <a:avLst/>
              <a:gdLst/>
              <a:ahLst/>
              <a:rect l="l" t="t" r="r" b="b"/>
              <a:pathLst>
                <a:path w="237" h="164">
                  <a:moveTo>
                    <a:pt x="200" y="0"/>
                  </a:moveTo>
                  <a:lnTo>
                    <a:pt x="0" y="91"/>
                  </a:lnTo>
                  <a:lnTo>
                    <a:pt x="35" y="164"/>
                  </a:lnTo>
                  <a:lnTo>
                    <a:pt x="237" y="7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44560" y="4740480"/>
              <a:ext cx="42120" cy="3564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181" y="18"/>
                  </a:moveTo>
                  <a:lnTo>
                    <a:pt x="181" y="0"/>
                  </a:lnTo>
                  <a:lnTo>
                    <a:pt x="0" y="127"/>
                  </a:lnTo>
                  <a:lnTo>
                    <a:pt x="37" y="201"/>
                  </a:lnTo>
                  <a:lnTo>
                    <a:pt x="237" y="91"/>
                  </a:lnTo>
                  <a:lnTo>
                    <a:pt x="181" y="1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76960" y="4721040"/>
              <a:ext cx="42120" cy="35640"/>
            </a:xfrm>
            <a:custGeom>
              <a:avLst/>
              <a:gdLst/>
              <a:ahLst/>
              <a:rect l="l" t="t" r="r" b="b"/>
              <a:pathLst>
                <a:path w="238" h="200">
                  <a:moveTo>
                    <a:pt x="201" y="0"/>
                  </a:moveTo>
                  <a:lnTo>
                    <a:pt x="0" y="127"/>
                  </a:lnTo>
                  <a:lnTo>
                    <a:pt x="56" y="200"/>
                  </a:lnTo>
                  <a:lnTo>
                    <a:pt x="238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12960" y="4697280"/>
              <a:ext cx="39240" cy="36720"/>
            </a:xfrm>
            <a:custGeom>
              <a:avLst/>
              <a:gdLst/>
              <a:ahLst/>
              <a:rect l="l" t="t" r="r" b="b"/>
              <a:pathLst>
                <a:path w="218" h="201">
                  <a:moveTo>
                    <a:pt x="164" y="0"/>
                  </a:moveTo>
                  <a:lnTo>
                    <a:pt x="0" y="128"/>
                  </a:lnTo>
                  <a:lnTo>
                    <a:pt x="37" y="201"/>
                  </a:lnTo>
                  <a:lnTo>
                    <a:pt x="218" y="7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42840" y="4674960"/>
              <a:ext cx="42120" cy="3564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182" y="0"/>
                  </a:moveTo>
                  <a:lnTo>
                    <a:pt x="0" y="127"/>
                  </a:lnTo>
                  <a:lnTo>
                    <a:pt x="54" y="201"/>
                  </a:lnTo>
                  <a:lnTo>
                    <a:pt x="236" y="73"/>
                  </a:lnTo>
                  <a:lnTo>
                    <a:pt x="236" y="5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75240" y="4645080"/>
              <a:ext cx="39240" cy="392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163" y="0"/>
                  </a:moveTo>
                  <a:lnTo>
                    <a:pt x="0" y="165"/>
                  </a:lnTo>
                  <a:lnTo>
                    <a:pt x="54" y="219"/>
                  </a:lnTo>
                  <a:lnTo>
                    <a:pt x="219" y="7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04760" y="4619520"/>
              <a:ext cx="42120" cy="39240"/>
            </a:xfrm>
            <a:custGeom>
              <a:avLst/>
              <a:gdLst/>
              <a:ahLst/>
              <a:rect l="l" t="t" r="r" b="b"/>
              <a:pathLst>
                <a:path w="237" h="219">
                  <a:moveTo>
                    <a:pt x="164" y="0"/>
                  </a:moveTo>
                  <a:lnTo>
                    <a:pt x="0" y="145"/>
                  </a:lnTo>
                  <a:lnTo>
                    <a:pt x="56" y="219"/>
                  </a:lnTo>
                  <a:lnTo>
                    <a:pt x="237" y="7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34640" y="4589640"/>
              <a:ext cx="38520" cy="4320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146" y="0"/>
                  </a:moveTo>
                  <a:lnTo>
                    <a:pt x="0" y="165"/>
                  </a:lnTo>
                  <a:lnTo>
                    <a:pt x="73" y="238"/>
                  </a:lnTo>
                  <a:lnTo>
                    <a:pt x="219" y="5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60560" y="4560840"/>
              <a:ext cx="39240" cy="3852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46" y="0"/>
                  </a:moveTo>
                  <a:lnTo>
                    <a:pt x="0" y="162"/>
                  </a:lnTo>
                  <a:lnTo>
                    <a:pt x="73" y="218"/>
                  </a:lnTo>
                  <a:lnTo>
                    <a:pt x="219" y="5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86480" y="4527720"/>
              <a:ext cx="39600" cy="42120"/>
            </a:xfrm>
            <a:custGeom>
              <a:avLst/>
              <a:gdLst/>
              <a:ahLst/>
              <a:rect l="l" t="t" r="r" b="b"/>
              <a:pathLst>
                <a:path w="218" h="237">
                  <a:moveTo>
                    <a:pt x="145" y="0"/>
                  </a:moveTo>
                  <a:lnTo>
                    <a:pt x="0" y="183"/>
                  </a:lnTo>
                  <a:lnTo>
                    <a:pt x="73" y="237"/>
                  </a:lnTo>
                  <a:lnTo>
                    <a:pt x="218" y="5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760" y="449424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9">
                  <a:moveTo>
                    <a:pt x="127" y="0"/>
                  </a:moveTo>
                  <a:lnTo>
                    <a:pt x="0" y="183"/>
                  </a:lnTo>
                  <a:lnTo>
                    <a:pt x="73" y="239"/>
                  </a:lnTo>
                  <a:lnTo>
                    <a:pt x="218" y="37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35080" y="4459320"/>
              <a:ext cx="39240" cy="42120"/>
            </a:xfrm>
            <a:custGeom>
              <a:avLst/>
              <a:gdLst/>
              <a:ahLst/>
              <a:rect l="l" t="t" r="r" b="b"/>
              <a:pathLst>
                <a:path w="218" h="236">
                  <a:moveTo>
                    <a:pt x="128" y="0"/>
                  </a:moveTo>
                  <a:lnTo>
                    <a:pt x="145" y="0"/>
                  </a:lnTo>
                  <a:lnTo>
                    <a:pt x="0" y="199"/>
                  </a:lnTo>
                  <a:lnTo>
                    <a:pt x="91" y="236"/>
                  </a:lnTo>
                  <a:lnTo>
                    <a:pt x="218" y="54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58480" y="4422600"/>
              <a:ext cx="36000" cy="45720"/>
            </a:xfrm>
            <a:custGeom>
              <a:avLst/>
              <a:gdLst/>
              <a:ahLst/>
              <a:rect l="l" t="t" r="r" b="b"/>
              <a:pathLst>
                <a:path w="200" h="255">
                  <a:moveTo>
                    <a:pt x="127" y="19"/>
                  </a:moveTo>
                  <a:lnTo>
                    <a:pt x="127" y="0"/>
                  </a:lnTo>
                  <a:lnTo>
                    <a:pt x="0" y="201"/>
                  </a:lnTo>
                  <a:lnTo>
                    <a:pt x="90" y="255"/>
                  </a:lnTo>
                  <a:lnTo>
                    <a:pt x="200" y="54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80800" y="4386240"/>
              <a:ext cx="33120" cy="4572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109" y="0"/>
                  </a:moveTo>
                  <a:lnTo>
                    <a:pt x="0" y="219"/>
                  </a:lnTo>
                  <a:lnTo>
                    <a:pt x="73" y="254"/>
                  </a:lnTo>
                  <a:lnTo>
                    <a:pt x="182" y="3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00960" y="4347720"/>
              <a:ext cx="33120" cy="44640"/>
            </a:xfrm>
            <a:custGeom>
              <a:avLst/>
              <a:gdLst/>
              <a:ahLst/>
              <a:rect l="l" t="t" r="r" b="b"/>
              <a:pathLst>
                <a:path w="183" h="253">
                  <a:moveTo>
                    <a:pt x="91" y="0"/>
                  </a:moveTo>
                  <a:lnTo>
                    <a:pt x="0" y="218"/>
                  </a:lnTo>
                  <a:lnTo>
                    <a:pt x="73" y="253"/>
                  </a:lnTo>
                  <a:lnTo>
                    <a:pt x="183" y="3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917160" y="430812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4">
                  <a:moveTo>
                    <a:pt x="92" y="0"/>
                  </a:moveTo>
                  <a:lnTo>
                    <a:pt x="0" y="219"/>
                  </a:lnTo>
                  <a:lnTo>
                    <a:pt x="92" y="254"/>
                  </a:lnTo>
                  <a:lnTo>
                    <a:pt x="183" y="35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34080" y="4268880"/>
              <a:ext cx="28440" cy="45720"/>
            </a:xfrm>
            <a:custGeom>
              <a:avLst/>
              <a:gdLst/>
              <a:ahLst/>
              <a:rect l="l" t="t" r="r" b="b"/>
              <a:pathLst>
                <a:path w="162" h="254">
                  <a:moveTo>
                    <a:pt x="72" y="0"/>
                  </a:moveTo>
                  <a:lnTo>
                    <a:pt x="0" y="219"/>
                  </a:lnTo>
                  <a:lnTo>
                    <a:pt x="91" y="254"/>
                  </a:lnTo>
                  <a:lnTo>
                    <a:pt x="16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46680" y="4230000"/>
              <a:ext cx="29520" cy="45000"/>
            </a:xfrm>
            <a:custGeom>
              <a:avLst/>
              <a:gdLst/>
              <a:ahLst/>
              <a:rect l="l" t="t" r="r" b="b"/>
              <a:pathLst>
                <a:path w="164" h="253">
                  <a:moveTo>
                    <a:pt x="73" y="0"/>
                  </a:moveTo>
                  <a:lnTo>
                    <a:pt x="0" y="218"/>
                  </a:lnTo>
                  <a:lnTo>
                    <a:pt x="90" y="253"/>
                  </a:lnTo>
                  <a:lnTo>
                    <a:pt x="164" y="1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60360" y="4187160"/>
              <a:ext cx="25560" cy="4536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54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4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970080" y="4144680"/>
              <a:ext cx="25920" cy="4572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54" y="0"/>
                  </a:moveTo>
                  <a:lnTo>
                    <a:pt x="0" y="236"/>
                  </a:lnTo>
                  <a:lnTo>
                    <a:pt x="91" y="255"/>
                  </a:lnTo>
                  <a:lnTo>
                    <a:pt x="146" y="1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79080" y="4101480"/>
              <a:ext cx="23400" cy="4536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37" y="0"/>
                  </a:moveTo>
                  <a:lnTo>
                    <a:pt x="0" y="238"/>
                  </a:lnTo>
                  <a:lnTo>
                    <a:pt x="92" y="255"/>
                  </a:lnTo>
                  <a:lnTo>
                    <a:pt x="12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86280" y="4055760"/>
              <a:ext cx="22320" cy="4572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37" y="0"/>
                  </a:moveTo>
                  <a:lnTo>
                    <a:pt x="0" y="254"/>
                  </a:lnTo>
                  <a:lnTo>
                    <a:pt x="92" y="254"/>
                  </a:lnTo>
                  <a:lnTo>
                    <a:pt x="128" y="1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2400" y="4013280"/>
              <a:ext cx="19440" cy="4572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18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09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96000" y="3967560"/>
              <a:ext cx="15840" cy="4536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96000" y="3921840"/>
              <a:ext cx="15840" cy="4572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2400" y="3875760"/>
              <a:ext cx="19440" cy="4572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0" y="0"/>
                  </a:moveTo>
                  <a:lnTo>
                    <a:pt x="18" y="255"/>
                  </a:lnTo>
                  <a:lnTo>
                    <a:pt x="109" y="25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86280" y="3830040"/>
              <a:ext cx="22320" cy="45720"/>
            </a:xfrm>
            <a:custGeom>
              <a:avLst/>
              <a:gdLst/>
              <a:ahLst/>
              <a:rect l="l" t="t" r="r" b="b"/>
              <a:pathLst>
                <a:path w="128" h="256">
                  <a:moveTo>
                    <a:pt x="0" y="19"/>
                  </a:moveTo>
                  <a:lnTo>
                    <a:pt x="37" y="256"/>
                  </a:lnTo>
                  <a:lnTo>
                    <a:pt x="128" y="256"/>
                  </a:lnTo>
                  <a:lnTo>
                    <a:pt x="9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79080" y="3787920"/>
              <a:ext cx="23400" cy="45360"/>
            </a:xfrm>
            <a:custGeom>
              <a:avLst/>
              <a:gdLst/>
              <a:ahLst/>
              <a:rect l="l" t="t" r="r" b="b"/>
              <a:pathLst>
                <a:path w="129" h="254">
                  <a:moveTo>
                    <a:pt x="0" y="17"/>
                  </a:moveTo>
                  <a:lnTo>
                    <a:pt x="0" y="0"/>
                  </a:lnTo>
                  <a:lnTo>
                    <a:pt x="37" y="254"/>
                  </a:lnTo>
                  <a:lnTo>
                    <a:pt x="129" y="235"/>
                  </a:lnTo>
                  <a:lnTo>
                    <a:pt x="9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70080" y="3744720"/>
              <a:ext cx="25920" cy="4572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0" y="20"/>
                  </a:moveTo>
                  <a:lnTo>
                    <a:pt x="54" y="255"/>
                  </a:lnTo>
                  <a:lnTo>
                    <a:pt x="146" y="238"/>
                  </a:lnTo>
                  <a:lnTo>
                    <a:pt x="9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60360" y="3698640"/>
              <a:ext cx="25560" cy="49320"/>
            </a:xfrm>
            <a:custGeom>
              <a:avLst/>
              <a:gdLst/>
              <a:ahLst/>
              <a:rect l="l" t="t" r="r" b="b"/>
              <a:pathLst>
                <a:path w="145" h="276">
                  <a:moveTo>
                    <a:pt x="0" y="37"/>
                  </a:moveTo>
                  <a:lnTo>
                    <a:pt x="54" y="276"/>
                  </a:lnTo>
                  <a:lnTo>
                    <a:pt x="145" y="256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46680" y="3656520"/>
              <a:ext cx="29520" cy="48240"/>
            </a:xfrm>
            <a:custGeom>
              <a:avLst/>
              <a:gdLst/>
              <a:ahLst/>
              <a:rect l="l" t="t" r="r" b="b"/>
              <a:pathLst>
                <a:path w="164" h="272">
                  <a:moveTo>
                    <a:pt x="0" y="36"/>
                  </a:moveTo>
                  <a:lnTo>
                    <a:pt x="73" y="272"/>
                  </a:lnTo>
                  <a:lnTo>
                    <a:pt x="164" y="235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934080" y="3616920"/>
              <a:ext cx="28440" cy="4572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0" y="37"/>
                  </a:moveTo>
                  <a:lnTo>
                    <a:pt x="72" y="256"/>
                  </a:lnTo>
                  <a:lnTo>
                    <a:pt x="162" y="2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17160" y="357732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37"/>
                  </a:moveTo>
                  <a:lnTo>
                    <a:pt x="92" y="255"/>
                  </a:lnTo>
                  <a:lnTo>
                    <a:pt x="183" y="218"/>
                  </a:lnTo>
                  <a:lnTo>
                    <a:pt x="9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00960" y="353880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54"/>
                  </a:moveTo>
                  <a:lnTo>
                    <a:pt x="0" y="36"/>
                  </a:lnTo>
                  <a:lnTo>
                    <a:pt x="91" y="255"/>
                  </a:lnTo>
                  <a:lnTo>
                    <a:pt x="183" y="218"/>
                  </a:lnTo>
                  <a:lnTo>
                    <a:pt x="7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80800" y="3502800"/>
              <a:ext cx="33120" cy="4572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0" y="35"/>
                  </a:moveTo>
                  <a:lnTo>
                    <a:pt x="109" y="254"/>
                  </a:lnTo>
                  <a:lnTo>
                    <a:pt x="182" y="200"/>
                  </a:lnTo>
                  <a:lnTo>
                    <a:pt x="7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58480" y="3466800"/>
              <a:ext cx="36000" cy="4212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17" y="37"/>
                  </a:moveTo>
                  <a:lnTo>
                    <a:pt x="0" y="37"/>
                  </a:lnTo>
                  <a:lnTo>
                    <a:pt x="127" y="236"/>
                  </a:lnTo>
                  <a:lnTo>
                    <a:pt x="200" y="201"/>
                  </a:lnTo>
                  <a:lnTo>
                    <a:pt x="9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35080" y="343008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6"/>
                  </a:moveTo>
                  <a:lnTo>
                    <a:pt x="145" y="238"/>
                  </a:lnTo>
                  <a:lnTo>
                    <a:pt x="218" y="201"/>
                  </a:lnTo>
                  <a:lnTo>
                    <a:pt x="91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12760" y="339768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5"/>
                  </a:moveTo>
                  <a:lnTo>
                    <a:pt x="127" y="238"/>
                  </a:lnTo>
                  <a:lnTo>
                    <a:pt x="218" y="182"/>
                  </a:lnTo>
                  <a:lnTo>
                    <a:pt x="7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89360" y="3365280"/>
              <a:ext cx="36720" cy="42120"/>
            </a:xfrm>
            <a:custGeom>
              <a:avLst/>
              <a:gdLst/>
              <a:ahLst/>
              <a:rect l="l" t="t" r="r" b="b"/>
              <a:pathLst>
                <a:path w="201" h="237">
                  <a:moveTo>
                    <a:pt x="0" y="54"/>
                  </a:moveTo>
                  <a:lnTo>
                    <a:pt x="128" y="237"/>
                  </a:lnTo>
                  <a:lnTo>
                    <a:pt x="201" y="182"/>
                  </a:lnTo>
                  <a:lnTo>
                    <a:pt x="7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60560" y="3332160"/>
              <a:ext cx="42120" cy="4212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0" y="74"/>
                  </a:moveTo>
                  <a:lnTo>
                    <a:pt x="163" y="236"/>
                  </a:lnTo>
                  <a:lnTo>
                    <a:pt x="237" y="182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34640" y="3302280"/>
              <a:ext cx="38520" cy="4320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0" y="73"/>
                  </a:moveTo>
                  <a:lnTo>
                    <a:pt x="0" y="54"/>
                  </a:lnTo>
                  <a:lnTo>
                    <a:pt x="146" y="238"/>
                  </a:lnTo>
                  <a:lnTo>
                    <a:pt x="219" y="164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04760" y="3276000"/>
              <a:ext cx="38520" cy="392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0" y="55"/>
                  </a:moveTo>
                  <a:lnTo>
                    <a:pt x="164" y="219"/>
                  </a:lnTo>
                  <a:lnTo>
                    <a:pt x="218" y="146"/>
                  </a:lnTo>
                  <a:lnTo>
                    <a:pt x="5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75240" y="3246480"/>
              <a:ext cx="39240" cy="392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73"/>
                  </a:moveTo>
                  <a:lnTo>
                    <a:pt x="163" y="219"/>
                  </a:lnTo>
                  <a:lnTo>
                    <a:pt x="219" y="164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42840" y="3224160"/>
              <a:ext cx="42120" cy="3564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0" y="56"/>
                  </a:moveTo>
                  <a:lnTo>
                    <a:pt x="182" y="201"/>
                  </a:lnTo>
                  <a:lnTo>
                    <a:pt x="236" y="128"/>
                  </a:lnTo>
                  <a:lnTo>
                    <a:pt x="5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09360" y="3198240"/>
              <a:ext cx="42840" cy="35640"/>
            </a:xfrm>
            <a:custGeom>
              <a:avLst/>
              <a:gdLst/>
              <a:ahLst/>
              <a:rect l="l" t="t" r="r" b="b"/>
              <a:pathLst>
                <a:path w="237" h="200">
                  <a:moveTo>
                    <a:pt x="19" y="90"/>
                  </a:moveTo>
                  <a:lnTo>
                    <a:pt x="0" y="73"/>
                  </a:lnTo>
                  <a:lnTo>
                    <a:pt x="183" y="200"/>
                  </a:lnTo>
                  <a:lnTo>
                    <a:pt x="237" y="144"/>
                  </a:lnTo>
                  <a:lnTo>
                    <a:pt x="56" y="0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76960" y="3178440"/>
              <a:ext cx="42120" cy="35640"/>
            </a:xfrm>
            <a:custGeom>
              <a:avLst/>
              <a:gdLst/>
              <a:ahLst/>
              <a:rect l="l" t="t" r="r" b="b"/>
              <a:pathLst>
                <a:path w="238" h="201">
                  <a:moveTo>
                    <a:pt x="0" y="74"/>
                  </a:moveTo>
                  <a:lnTo>
                    <a:pt x="201" y="201"/>
                  </a:lnTo>
                  <a:lnTo>
                    <a:pt x="238" y="111"/>
                  </a:lnTo>
                  <a:lnTo>
                    <a:pt x="5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44560" y="3158640"/>
              <a:ext cx="42120" cy="3312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0" y="74"/>
                  </a:moveTo>
                  <a:lnTo>
                    <a:pt x="181" y="183"/>
                  </a:lnTo>
                  <a:lnTo>
                    <a:pt x="237" y="109"/>
                  </a:lnTo>
                  <a:lnTo>
                    <a:pt x="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08560" y="3138840"/>
              <a:ext cx="42120" cy="33120"/>
            </a:xfrm>
            <a:custGeom>
              <a:avLst/>
              <a:gdLst/>
              <a:ahLst/>
              <a:rect l="l" t="t" r="r" b="b"/>
              <a:pathLst>
                <a:path w="237" h="184">
                  <a:moveTo>
                    <a:pt x="0" y="93"/>
                  </a:moveTo>
                  <a:lnTo>
                    <a:pt x="200" y="184"/>
                  </a:lnTo>
                  <a:lnTo>
                    <a:pt x="237" y="110"/>
                  </a:lnTo>
                  <a:lnTo>
                    <a:pt x="35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71840" y="3122640"/>
              <a:ext cx="43200" cy="3312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91"/>
                  </a:moveTo>
                  <a:lnTo>
                    <a:pt x="201" y="184"/>
                  </a:lnTo>
                  <a:lnTo>
                    <a:pt x="236" y="91"/>
                  </a:lnTo>
                  <a:lnTo>
                    <a:pt x="37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35840" y="3110040"/>
              <a:ext cx="42840" cy="28440"/>
            </a:xfrm>
            <a:custGeom>
              <a:avLst/>
              <a:gdLst/>
              <a:ahLst/>
              <a:rect l="l" t="t" r="r" b="b"/>
              <a:pathLst>
                <a:path w="237" h="162">
                  <a:moveTo>
                    <a:pt x="0" y="91"/>
                  </a:moveTo>
                  <a:lnTo>
                    <a:pt x="200" y="162"/>
                  </a:lnTo>
                  <a:lnTo>
                    <a:pt x="237" y="71"/>
                  </a:lnTo>
                  <a:lnTo>
                    <a:pt x="1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96240" y="3096720"/>
              <a:ext cx="42840" cy="29520"/>
            </a:xfrm>
            <a:custGeom>
              <a:avLst/>
              <a:gdLst/>
              <a:ahLst/>
              <a:rect l="l" t="t" r="r" b="b"/>
              <a:pathLst>
                <a:path w="239" h="165">
                  <a:moveTo>
                    <a:pt x="0" y="91"/>
                  </a:moveTo>
                  <a:lnTo>
                    <a:pt x="220" y="165"/>
                  </a:lnTo>
                  <a:lnTo>
                    <a:pt x="239" y="74"/>
                  </a:lnTo>
                  <a:lnTo>
                    <a:pt x="2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57720" y="3086640"/>
              <a:ext cx="42120" cy="25920"/>
            </a:xfrm>
            <a:custGeom>
              <a:avLst/>
              <a:gdLst/>
              <a:ahLst/>
              <a:rect l="l" t="t" r="r" b="b"/>
              <a:pathLst>
                <a:path w="238" h="145">
                  <a:moveTo>
                    <a:pt x="20" y="54"/>
                  </a:moveTo>
                  <a:lnTo>
                    <a:pt x="0" y="91"/>
                  </a:lnTo>
                  <a:lnTo>
                    <a:pt x="218" y="145"/>
                  </a:lnTo>
                  <a:lnTo>
                    <a:pt x="238" y="54"/>
                  </a:lnTo>
                  <a:lnTo>
                    <a:pt x="20" y="0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38120" y="3204360"/>
              <a:ext cx="366840" cy="143784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38120" y="3204360"/>
              <a:ext cx="366840" cy="143784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53960" y="3771360"/>
              <a:ext cx="1722240" cy="98244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53960" y="3771360"/>
              <a:ext cx="1722240" cy="98244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29360" y="3421080"/>
              <a:ext cx="382680" cy="23796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29360" y="3421080"/>
              <a:ext cx="382680" cy="23796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57720" y="3430080"/>
              <a:ext cx="383040" cy="23976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57720" y="3430080"/>
              <a:ext cx="383040" cy="23976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83880" y="3626640"/>
              <a:ext cx="228240" cy="22932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8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5" y="13"/>
                  </a:lnTo>
                  <a:lnTo>
                    <a:pt x="797" y="20"/>
                  </a:lnTo>
                  <a:lnTo>
                    <a:pt x="826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0" y="77"/>
                  </a:lnTo>
                  <a:lnTo>
                    <a:pt x="968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6" y="166"/>
                  </a:lnTo>
                  <a:lnTo>
                    <a:pt x="1088" y="187"/>
                  </a:lnTo>
                  <a:lnTo>
                    <a:pt x="1108" y="209"/>
                  </a:lnTo>
                  <a:lnTo>
                    <a:pt x="1129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7" y="334"/>
                  </a:lnTo>
                  <a:lnTo>
                    <a:pt x="1211" y="361"/>
                  </a:lnTo>
                  <a:lnTo>
                    <a:pt x="1225" y="390"/>
                  </a:lnTo>
                  <a:lnTo>
                    <a:pt x="1236" y="418"/>
                  </a:lnTo>
                  <a:lnTo>
                    <a:pt x="1246" y="448"/>
                  </a:lnTo>
                  <a:lnTo>
                    <a:pt x="1254" y="479"/>
                  </a:lnTo>
                  <a:lnTo>
                    <a:pt x="1261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3" y="605"/>
                  </a:lnTo>
                  <a:lnTo>
                    <a:pt x="1274" y="638"/>
                  </a:lnTo>
                  <a:lnTo>
                    <a:pt x="1273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1" y="766"/>
                  </a:lnTo>
                  <a:lnTo>
                    <a:pt x="1254" y="797"/>
                  </a:lnTo>
                  <a:lnTo>
                    <a:pt x="1246" y="827"/>
                  </a:lnTo>
                  <a:lnTo>
                    <a:pt x="1236" y="857"/>
                  </a:lnTo>
                  <a:lnTo>
                    <a:pt x="1225" y="886"/>
                  </a:lnTo>
                  <a:lnTo>
                    <a:pt x="1211" y="914"/>
                  </a:lnTo>
                  <a:lnTo>
                    <a:pt x="1197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9" y="1044"/>
                  </a:lnTo>
                  <a:lnTo>
                    <a:pt x="1108" y="1066"/>
                  </a:lnTo>
                  <a:lnTo>
                    <a:pt x="1088" y="1089"/>
                  </a:lnTo>
                  <a:lnTo>
                    <a:pt x="1066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8" y="1183"/>
                  </a:lnTo>
                  <a:lnTo>
                    <a:pt x="940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6" y="1247"/>
                  </a:lnTo>
                  <a:lnTo>
                    <a:pt x="797" y="1256"/>
                  </a:lnTo>
                  <a:lnTo>
                    <a:pt x="765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8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1" y="1268"/>
                  </a:lnTo>
                  <a:lnTo>
                    <a:pt x="509" y="1263"/>
                  </a:lnTo>
                  <a:lnTo>
                    <a:pt x="479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4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2" y="1129"/>
                  </a:lnTo>
                  <a:lnTo>
                    <a:pt x="208" y="1110"/>
                  </a:lnTo>
                  <a:lnTo>
                    <a:pt x="187" y="1089"/>
                  </a:lnTo>
                  <a:lnTo>
                    <a:pt x="166" y="1066"/>
                  </a:lnTo>
                  <a:lnTo>
                    <a:pt x="145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3" y="914"/>
                  </a:lnTo>
                  <a:lnTo>
                    <a:pt x="50" y="886"/>
                  </a:lnTo>
                  <a:lnTo>
                    <a:pt x="38" y="857"/>
                  </a:lnTo>
                  <a:lnTo>
                    <a:pt x="28" y="827"/>
                  </a:lnTo>
                  <a:lnTo>
                    <a:pt x="20" y="797"/>
                  </a:lnTo>
                  <a:lnTo>
                    <a:pt x="13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1" y="670"/>
                  </a:lnTo>
                  <a:lnTo>
                    <a:pt x="0" y="638"/>
                  </a:lnTo>
                  <a:lnTo>
                    <a:pt x="1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3" y="509"/>
                  </a:lnTo>
                  <a:lnTo>
                    <a:pt x="20" y="479"/>
                  </a:lnTo>
                  <a:lnTo>
                    <a:pt x="28" y="448"/>
                  </a:lnTo>
                  <a:lnTo>
                    <a:pt x="38" y="418"/>
                  </a:lnTo>
                  <a:lnTo>
                    <a:pt x="50" y="390"/>
                  </a:lnTo>
                  <a:lnTo>
                    <a:pt x="63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5" y="233"/>
                  </a:lnTo>
                  <a:lnTo>
                    <a:pt x="166" y="209"/>
                  </a:lnTo>
                  <a:lnTo>
                    <a:pt x="187" y="187"/>
                  </a:lnTo>
                  <a:lnTo>
                    <a:pt x="208" y="166"/>
                  </a:lnTo>
                  <a:lnTo>
                    <a:pt x="232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4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9" y="20"/>
                  </a:lnTo>
                  <a:lnTo>
                    <a:pt x="509" y="13"/>
                  </a:lnTo>
                  <a:lnTo>
                    <a:pt x="541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21640" y="3626640"/>
              <a:ext cx="228240" cy="22932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7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6" y="13"/>
                  </a:lnTo>
                  <a:lnTo>
                    <a:pt x="796" y="20"/>
                  </a:lnTo>
                  <a:lnTo>
                    <a:pt x="827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1" y="77"/>
                  </a:lnTo>
                  <a:lnTo>
                    <a:pt x="967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5" y="166"/>
                  </a:lnTo>
                  <a:lnTo>
                    <a:pt x="1088" y="187"/>
                  </a:lnTo>
                  <a:lnTo>
                    <a:pt x="1109" y="209"/>
                  </a:lnTo>
                  <a:lnTo>
                    <a:pt x="1128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8" y="334"/>
                  </a:lnTo>
                  <a:lnTo>
                    <a:pt x="1212" y="361"/>
                  </a:lnTo>
                  <a:lnTo>
                    <a:pt x="1224" y="390"/>
                  </a:lnTo>
                  <a:lnTo>
                    <a:pt x="1235" y="418"/>
                  </a:lnTo>
                  <a:lnTo>
                    <a:pt x="1246" y="448"/>
                  </a:lnTo>
                  <a:lnTo>
                    <a:pt x="1255" y="479"/>
                  </a:lnTo>
                  <a:lnTo>
                    <a:pt x="1262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4" y="605"/>
                  </a:lnTo>
                  <a:lnTo>
                    <a:pt x="1274" y="638"/>
                  </a:lnTo>
                  <a:lnTo>
                    <a:pt x="1274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2" y="766"/>
                  </a:lnTo>
                  <a:lnTo>
                    <a:pt x="1255" y="797"/>
                  </a:lnTo>
                  <a:lnTo>
                    <a:pt x="1246" y="827"/>
                  </a:lnTo>
                  <a:lnTo>
                    <a:pt x="1235" y="857"/>
                  </a:lnTo>
                  <a:lnTo>
                    <a:pt x="1224" y="886"/>
                  </a:lnTo>
                  <a:lnTo>
                    <a:pt x="1212" y="914"/>
                  </a:lnTo>
                  <a:lnTo>
                    <a:pt x="1198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8" y="1044"/>
                  </a:lnTo>
                  <a:lnTo>
                    <a:pt x="1109" y="1066"/>
                  </a:lnTo>
                  <a:lnTo>
                    <a:pt x="1088" y="1089"/>
                  </a:lnTo>
                  <a:lnTo>
                    <a:pt x="1065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7" y="1183"/>
                  </a:lnTo>
                  <a:lnTo>
                    <a:pt x="941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7" y="1247"/>
                  </a:lnTo>
                  <a:lnTo>
                    <a:pt x="796" y="1256"/>
                  </a:lnTo>
                  <a:lnTo>
                    <a:pt x="766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7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0" y="1268"/>
                  </a:lnTo>
                  <a:lnTo>
                    <a:pt x="509" y="1263"/>
                  </a:lnTo>
                  <a:lnTo>
                    <a:pt x="478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3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3" y="1129"/>
                  </a:lnTo>
                  <a:lnTo>
                    <a:pt x="209" y="1110"/>
                  </a:lnTo>
                  <a:lnTo>
                    <a:pt x="187" y="1089"/>
                  </a:lnTo>
                  <a:lnTo>
                    <a:pt x="165" y="1066"/>
                  </a:lnTo>
                  <a:lnTo>
                    <a:pt x="146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2" y="914"/>
                  </a:lnTo>
                  <a:lnTo>
                    <a:pt x="50" y="886"/>
                  </a:lnTo>
                  <a:lnTo>
                    <a:pt x="39" y="857"/>
                  </a:lnTo>
                  <a:lnTo>
                    <a:pt x="29" y="827"/>
                  </a:lnTo>
                  <a:lnTo>
                    <a:pt x="20" y="797"/>
                  </a:lnTo>
                  <a:lnTo>
                    <a:pt x="12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0" y="670"/>
                  </a:lnTo>
                  <a:lnTo>
                    <a:pt x="0" y="638"/>
                  </a:lnTo>
                  <a:lnTo>
                    <a:pt x="0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2" y="509"/>
                  </a:lnTo>
                  <a:lnTo>
                    <a:pt x="20" y="479"/>
                  </a:lnTo>
                  <a:lnTo>
                    <a:pt x="29" y="448"/>
                  </a:lnTo>
                  <a:lnTo>
                    <a:pt x="39" y="418"/>
                  </a:lnTo>
                  <a:lnTo>
                    <a:pt x="50" y="390"/>
                  </a:lnTo>
                  <a:lnTo>
                    <a:pt x="62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6" y="233"/>
                  </a:lnTo>
                  <a:lnTo>
                    <a:pt x="165" y="209"/>
                  </a:lnTo>
                  <a:lnTo>
                    <a:pt x="187" y="187"/>
                  </a:lnTo>
                  <a:lnTo>
                    <a:pt x="209" y="166"/>
                  </a:lnTo>
                  <a:lnTo>
                    <a:pt x="233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3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8" y="20"/>
                  </a:lnTo>
                  <a:lnTo>
                    <a:pt x="509" y="13"/>
                  </a:lnTo>
                  <a:lnTo>
                    <a:pt x="540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018040" y="2971800"/>
            <a:ext cx="1992240" cy="2006640"/>
            <a:chOff x="5018040" y="2971800"/>
            <a:chExt cx="1992240" cy="2006640"/>
          </a:xfrm>
        </p:grpSpPr>
        <p:sp>
          <p:nvSpPr>
            <p:cNvPr id="732" name=""/>
            <p:cNvSpPr/>
            <p:nvPr/>
          </p:nvSpPr>
          <p:spPr>
            <a:xfrm>
              <a:off x="5018040" y="2971800"/>
              <a:ext cx="1992240" cy="200664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18040" y="2971800"/>
              <a:ext cx="1992240" cy="200664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57880" y="4842360"/>
              <a:ext cx="42840" cy="26280"/>
            </a:xfrm>
            <a:custGeom>
              <a:avLst/>
              <a:gdLst/>
              <a:ahLst/>
              <a:rect l="l" t="t" r="r" b="b"/>
              <a:pathLst>
                <a:path w="265" h="164">
                  <a:moveTo>
                    <a:pt x="244" y="21"/>
                  </a:moveTo>
                  <a:lnTo>
                    <a:pt x="244" y="0"/>
                  </a:lnTo>
                  <a:lnTo>
                    <a:pt x="0" y="62"/>
                  </a:lnTo>
                  <a:lnTo>
                    <a:pt x="22" y="164"/>
                  </a:lnTo>
                  <a:lnTo>
                    <a:pt x="265" y="101"/>
                  </a:lnTo>
                  <a:lnTo>
                    <a:pt x="244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97120" y="4832280"/>
              <a:ext cx="43920" cy="2628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225" y="0"/>
                  </a:moveTo>
                  <a:lnTo>
                    <a:pt x="245" y="0"/>
                  </a:lnTo>
                  <a:lnTo>
                    <a:pt x="0" y="82"/>
                  </a:lnTo>
                  <a:lnTo>
                    <a:pt x="21" y="162"/>
                  </a:lnTo>
                  <a:lnTo>
                    <a:pt x="266" y="101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34200" y="4818600"/>
              <a:ext cx="46080" cy="30240"/>
            </a:xfrm>
            <a:custGeom>
              <a:avLst/>
              <a:gdLst/>
              <a:ahLst/>
              <a:rect l="l" t="t" r="r" b="b"/>
              <a:pathLst>
                <a:path w="285" h="183">
                  <a:moveTo>
                    <a:pt x="243" y="0"/>
                  </a:moveTo>
                  <a:lnTo>
                    <a:pt x="0" y="82"/>
                  </a:lnTo>
                  <a:lnTo>
                    <a:pt x="41" y="183"/>
                  </a:lnTo>
                  <a:lnTo>
                    <a:pt x="285" y="82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73440" y="4802040"/>
              <a:ext cx="42840" cy="30240"/>
            </a:xfrm>
            <a:custGeom>
              <a:avLst/>
              <a:gdLst/>
              <a:ahLst/>
              <a:rect l="l" t="t" r="r" b="b"/>
              <a:pathLst>
                <a:path w="264" h="183">
                  <a:moveTo>
                    <a:pt x="225" y="0"/>
                  </a:moveTo>
                  <a:lnTo>
                    <a:pt x="0" y="101"/>
                  </a:lnTo>
                  <a:lnTo>
                    <a:pt x="42" y="183"/>
                  </a:lnTo>
                  <a:lnTo>
                    <a:pt x="264" y="8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10520" y="4785120"/>
              <a:ext cx="42840" cy="30240"/>
            </a:xfrm>
            <a:custGeom>
              <a:avLst/>
              <a:gdLst/>
              <a:ahLst/>
              <a:rect l="l" t="t" r="r" b="b"/>
              <a:pathLst>
                <a:path w="263" h="184">
                  <a:moveTo>
                    <a:pt x="222" y="0"/>
                  </a:moveTo>
                  <a:lnTo>
                    <a:pt x="0" y="102"/>
                  </a:lnTo>
                  <a:lnTo>
                    <a:pt x="39" y="184"/>
                  </a:lnTo>
                  <a:lnTo>
                    <a:pt x="263" y="8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47240" y="4762800"/>
              <a:ext cx="42840" cy="3600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203" y="21"/>
                  </a:moveTo>
                  <a:lnTo>
                    <a:pt x="203" y="0"/>
                  </a:lnTo>
                  <a:lnTo>
                    <a:pt x="0" y="141"/>
                  </a:lnTo>
                  <a:lnTo>
                    <a:pt x="41" y="223"/>
                  </a:lnTo>
                  <a:lnTo>
                    <a:pt x="265" y="101"/>
                  </a:lnTo>
                  <a:lnTo>
                    <a:pt x="20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80360" y="4742280"/>
              <a:ext cx="42840" cy="3600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3" y="0"/>
                  </a:moveTo>
                  <a:lnTo>
                    <a:pt x="0" y="142"/>
                  </a:lnTo>
                  <a:lnTo>
                    <a:pt x="62" y="222"/>
                  </a:lnTo>
                  <a:lnTo>
                    <a:pt x="265" y="8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16720" y="4719600"/>
              <a:ext cx="39960" cy="3600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84" y="0"/>
                  </a:moveTo>
                  <a:lnTo>
                    <a:pt x="0" y="143"/>
                  </a:lnTo>
                  <a:lnTo>
                    <a:pt x="42" y="225"/>
                  </a:lnTo>
                  <a:lnTo>
                    <a:pt x="245" y="8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46960" y="4696200"/>
              <a:ext cx="42120" cy="36000"/>
            </a:xfrm>
            <a:custGeom>
              <a:avLst/>
              <a:gdLst/>
              <a:ahLst/>
              <a:rect l="l" t="t" r="r" b="b"/>
              <a:pathLst>
                <a:path w="263" h="225">
                  <a:moveTo>
                    <a:pt x="202" y="0"/>
                  </a:moveTo>
                  <a:lnTo>
                    <a:pt x="0" y="143"/>
                  </a:lnTo>
                  <a:lnTo>
                    <a:pt x="61" y="225"/>
                  </a:lnTo>
                  <a:lnTo>
                    <a:pt x="263" y="82"/>
                  </a:lnTo>
                  <a:lnTo>
                    <a:pt x="263" y="6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79360" y="4665600"/>
              <a:ext cx="39960" cy="39960"/>
            </a:xfrm>
            <a:custGeom>
              <a:avLst/>
              <a:gdLst/>
              <a:ahLst/>
              <a:rect l="l" t="t" r="r" b="b"/>
              <a:pathLst>
                <a:path w="244" h="243">
                  <a:moveTo>
                    <a:pt x="182" y="0"/>
                  </a:moveTo>
                  <a:lnTo>
                    <a:pt x="0" y="182"/>
                  </a:lnTo>
                  <a:lnTo>
                    <a:pt x="61" y="243"/>
                  </a:lnTo>
                  <a:lnTo>
                    <a:pt x="244" y="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08520" y="4639320"/>
              <a:ext cx="43920" cy="39960"/>
            </a:xfrm>
            <a:custGeom>
              <a:avLst/>
              <a:gdLst/>
              <a:ahLst/>
              <a:rect l="l" t="t" r="r" b="b"/>
              <a:pathLst>
                <a:path w="265" h="243">
                  <a:moveTo>
                    <a:pt x="183" y="0"/>
                  </a:moveTo>
                  <a:lnTo>
                    <a:pt x="0" y="162"/>
                  </a:lnTo>
                  <a:lnTo>
                    <a:pt x="62" y="243"/>
                  </a:lnTo>
                  <a:lnTo>
                    <a:pt x="265" y="8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39120" y="4609800"/>
              <a:ext cx="39960" cy="4284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164" y="0"/>
                  </a:moveTo>
                  <a:lnTo>
                    <a:pt x="0" y="183"/>
                  </a:lnTo>
                  <a:lnTo>
                    <a:pt x="82" y="265"/>
                  </a:lnTo>
                  <a:lnTo>
                    <a:pt x="243" y="6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65400" y="4580640"/>
              <a:ext cx="39960" cy="3888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161" y="0"/>
                  </a:moveTo>
                  <a:lnTo>
                    <a:pt x="0" y="182"/>
                  </a:lnTo>
                  <a:lnTo>
                    <a:pt x="79" y="244"/>
                  </a:lnTo>
                  <a:lnTo>
                    <a:pt x="243" y="61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92040" y="454716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162" y="0"/>
                  </a:moveTo>
                  <a:lnTo>
                    <a:pt x="0" y="204"/>
                  </a:lnTo>
                  <a:lnTo>
                    <a:pt x="82" y="265"/>
                  </a:lnTo>
                  <a:lnTo>
                    <a:pt x="244" y="6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18320" y="4514040"/>
              <a:ext cx="39960" cy="4284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142" y="0"/>
                  </a:moveTo>
                  <a:lnTo>
                    <a:pt x="0" y="203"/>
                  </a:lnTo>
                  <a:lnTo>
                    <a:pt x="82" y="265"/>
                  </a:lnTo>
                  <a:lnTo>
                    <a:pt x="245" y="4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41720" y="447768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2">
                  <a:moveTo>
                    <a:pt x="143" y="0"/>
                  </a:moveTo>
                  <a:lnTo>
                    <a:pt x="162" y="0"/>
                  </a:lnTo>
                  <a:lnTo>
                    <a:pt x="0" y="222"/>
                  </a:lnTo>
                  <a:lnTo>
                    <a:pt x="103" y="262"/>
                  </a:lnTo>
                  <a:lnTo>
                    <a:pt x="244" y="6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65480" y="4440600"/>
              <a:ext cx="36000" cy="46800"/>
            </a:xfrm>
            <a:custGeom>
              <a:avLst/>
              <a:gdLst/>
              <a:ahLst/>
              <a:rect l="l" t="t" r="r" b="b"/>
              <a:pathLst>
                <a:path w="225" h="285">
                  <a:moveTo>
                    <a:pt x="143" y="21"/>
                  </a:moveTo>
                  <a:lnTo>
                    <a:pt x="143" y="0"/>
                  </a:lnTo>
                  <a:lnTo>
                    <a:pt x="0" y="225"/>
                  </a:lnTo>
                  <a:lnTo>
                    <a:pt x="101" y="285"/>
                  </a:lnTo>
                  <a:lnTo>
                    <a:pt x="225" y="61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87800" y="4404240"/>
              <a:ext cx="33120" cy="4572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121" y="0"/>
                  </a:moveTo>
                  <a:lnTo>
                    <a:pt x="0" y="243"/>
                  </a:lnTo>
                  <a:lnTo>
                    <a:pt x="82" y="283"/>
                  </a:lnTo>
                  <a:lnTo>
                    <a:pt x="202" y="3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08680" y="4365000"/>
              <a:ext cx="33120" cy="4572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1" y="0"/>
                  </a:moveTo>
                  <a:lnTo>
                    <a:pt x="0" y="244"/>
                  </a:lnTo>
                  <a:lnTo>
                    <a:pt x="81" y="283"/>
                  </a:lnTo>
                  <a:lnTo>
                    <a:pt x="204" y="4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24160" y="4325040"/>
              <a:ext cx="34200" cy="4572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3" y="0"/>
                  </a:moveTo>
                  <a:lnTo>
                    <a:pt x="0" y="243"/>
                  </a:lnTo>
                  <a:lnTo>
                    <a:pt x="103" y="283"/>
                  </a:lnTo>
                  <a:lnTo>
                    <a:pt x="204" y="39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41800" y="4285440"/>
              <a:ext cx="29160" cy="4608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80" y="0"/>
                  </a:moveTo>
                  <a:lnTo>
                    <a:pt x="0" y="244"/>
                  </a:lnTo>
                  <a:lnTo>
                    <a:pt x="101" y="283"/>
                  </a:lnTo>
                  <a:lnTo>
                    <a:pt x="181" y="3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54400" y="4245480"/>
              <a:ext cx="29160" cy="4572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82" y="0"/>
                  </a:moveTo>
                  <a:lnTo>
                    <a:pt x="0" y="243"/>
                  </a:lnTo>
                  <a:lnTo>
                    <a:pt x="101" y="282"/>
                  </a:lnTo>
                  <a:lnTo>
                    <a:pt x="183" y="1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68440" y="4202280"/>
              <a:ext cx="26280" cy="45720"/>
            </a:xfrm>
            <a:custGeom>
              <a:avLst/>
              <a:gdLst/>
              <a:ahLst/>
              <a:rect l="l" t="t" r="r" b="b"/>
              <a:pathLst>
                <a:path w="161" h="285">
                  <a:moveTo>
                    <a:pt x="60" y="0"/>
                  </a:moveTo>
                  <a:lnTo>
                    <a:pt x="0" y="266"/>
                  </a:lnTo>
                  <a:lnTo>
                    <a:pt x="101" y="285"/>
                  </a:lnTo>
                  <a:lnTo>
                    <a:pt x="161" y="2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78160" y="4159080"/>
              <a:ext cx="26280" cy="46080"/>
            </a:xfrm>
            <a:custGeom>
              <a:avLst/>
              <a:gdLst/>
              <a:ahLst/>
              <a:rect l="l" t="t" r="r" b="b"/>
              <a:pathLst>
                <a:path w="162" h="284">
                  <a:moveTo>
                    <a:pt x="61" y="0"/>
                  </a:moveTo>
                  <a:lnTo>
                    <a:pt x="0" y="263"/>
                  </a:lnTo>
                  <a:lnTo>
                    <a:pt x="101" y="284"/>
                  </a:lnTo>
                  <a:lnTo>
                    <a:pt x="162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87880" y="4115880"/>
              <a:ext cx="23400" cy="4608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40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4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94720" y="4070160"/>
              <a:ext cx="22320" cy="45720"/>
            </a:xfrm>
            <a:custGeom>
              <a:avLst/>
              <a:gdLst/>
              <a:ahLst/>
              <a:rect l="l" t="t" r="r" b="b"/>
              <a:pathLst>
                <a:path w="143" h="283">
                  <a:moveTo>
                    <a:pt x="42" y="0"/>
                  </a:moveTo>
                  <a:lnTo>
                    <a:pt x="0" y="283"/>
                  </a:lnTo>
                  <a:lnTo>
                    <a:pt x="102" y="283"/>
                  </a:lnTo>
                  <a:lnTo>
                    <a:pt x="143" y="1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00480" y="4025880"/>
              <a:ext cx="19440" cy="46800"/>
            </a:xfrm>
            <a:custGeom>
              <a:avLst/>
              <a:gdLst/>
              <a:ahLst/>
              <a:rect l="l" t="t" r="r" b="b"/>
              <a:pathLst>
                <a:path w="120" h="284">
                  <a:moveTo>
                    <a:pt x="19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904440" y="3979800"/>
              <a:ext cx="154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04440" y="3933720"/>
              <a:ext cx="15480" cy="4572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00480" y="3886920"/>
              <a:ext cx="19440" cy="46800"/>
            </a:xfrm>
            <a:custGeom>
              <a:avLst/>
              <a:gdLst/>
              <a:ahLst/>
              <a:rect l="l" t="t" r="r" b="b"/>
              <a:pathLst>
                <a:path w="120" h="285">
                  <a:moveTo>
                    <a:pt x="0" y="0"/>
                  </a:moveTo>
                  <a:lnTo>
                    <a:pt x="19" y="285"/>
                  </a:lnTo>
                  <a:lnTo>
                    <a:pt x="120" y="285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94720" y="3840840"/>
              <a:ext cx="22320" cy="46080"/>
            </a:xfrm>
            <a:custGeom>
              <a:avLst/>
              <a:gdLst/>
              <a:ahLst/>
              <a:rect l="l" t="t" r="r" b="b"/>
              <a:pathLst>
                <a:path w="143" h="284">
                  <a:moveTo>
                    <a:pt x="0" y="19"/>
                  </a:moveTo>
                  <a:lnTo>
                    <a:pt x="42" y="284"/>
                  </a:lnTo>
                  <a:lnTo>
                    <a:pt x="143" y="284"/>
                  </a:lnTo>
                  <a:lnTo>
                    <a:pt x="10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7880" y="3797640"/>
              <a:ext cx="23400" cy="4608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0" y="20"/>
                  </a:moveTo>
                  <a:lnTo>
                    <a:pt x="0" y="0"/>
                  </a:lnTo>
                  <a:lnTo>
                    <a:pt x="40" y="283"/>
                  </a:lnTo>
                  <a:lnTo>
                    <a:pt x="142" y="264"/>
                  </a:lnTo>
                  <a:lnTo>
                    <a:pt x="10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78160" y="3754440"/>
              <a:ext cx="26280" cy="46080"/>
            </a:xfrm>
            <a:custGeom>
              <a:avLst/>
              <a:gdLst/>
              <a:ahLst/>
              <a:rect l="l" t="t" r="r" b="b"/>
              <a:pathLst>
                <a:path w="162" h="285">
                  <a:moveTo>
                    <a:pt x="0" y="21"/>
                  </a:moveTo>
                  <a:lnTo>
                    <a:pt x="61" y="285"/>
                  </a:lnTo>
                  <a:lnTo>
                    <a:pt x="162" y="265"/>
                  </a:lnTo>
                  <a:lnTo>
                    <a:pt x="10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68440" y="3707640"/>
              <a:ext cx="26280" cy="4968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0" y="40"/>
                  </a:moveTo>
                  <a:lnTo>
                    <a:pt x="60" y="305"/>
                  </a:lnTo>
                  <a:lnTo>
                    <a:pt x="161" y="284"/>
                  </a:lnTo>
                  <a:lnTo>
                    <a:pt x="101" y="21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54400" y="3665520"/>
              <a:ext cx="29160" cy="48600"/>
            </a:xfrm>
            <a:custGeom>
              <a:avLst/>
              <a:gdLst/>
              <a:ahLst/>
              <a:rect l="l" t="t" r="r" b="b"/>
              <a:pathLst>
                <a:path w="183" h="304">
                  <a:moveTo>
                    <a:pt x="0" y="42"/>
                  </a:moveTo>
                  <a:lnTo>
                    <a:pt x="82" y="304"/>
                  </a:lnTo>
                  <a:lnTo>
                    <a:pt x="183" y="264"/>
                  </a:lnTo>
                  <a:lnTo>
                    <a:pt x="101" y="19"/>
                  </a:lnTo>
                  <a:lnTo>
                    <a:pt x="10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41800" y="3625200"/>
              <a:ext cx="29160" cy="45720"/>
            </a:xfrm>
            <a:custGeom>
              <a:avLst/>
              <a:gdLst/>
              <a:ahLst/>
              <a:rect l="l" t="t" r="r" b="b"/>
              <a:pathLst>
                <a:path w="181" h="285">
                  <a:moveTo>
                    <a:pt x="0" y="40"/>
                  </a:moveTo>
                  <a:lnTo>
                    <a:pt x="80" y="285"/>
                  </a:lnTo>
                  <a:lnTo>
                    <a:pt x="181" y="243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24160" y="3584880"/>
              <a:ext cx="34200" cy="4680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41"/>
                  </a:moveTo>
                  <a:lnTo>
                    <a:pt x="103" y="284"/>
                  </a:lnTo>
                  <a:lnTo>
                    <a:pt x="204" y="244"/>
                  </a:lnTo>
                  <a:lnTo>
                    <a:pt x="103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08680" y="3545640"/>
              <a:ext cx="33120" cy="4572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60"/>
                  </a:moveTo>
                  <a:lnTo>
                    <a:pt x="0" y="40"/>
                  </a:lnTo>
                  <a:lnTo>
                    <a:pt x="101" y="284"/>
                  </a:lnTo>
                  <a:lnTo>
                    <a:pt x="204" y="243"/>
                  </a:lnTo>
                  <a:lnTo>
                    <a:pt x="81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87800" y="3509640"/>
              <a:ext cx="33120" cy="4572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0" y="38"/>
                  </a:moveTo>
                  <a:lnTo>
                    <a:pt x="121" y="283"/>
                  </a:lnTo>
                  <a:lnTo>
                    <a:pt x="202" y="223"/>
                  </a:lnTo>
                  <a:lnTo>
                    <a:pt x="8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5480" y="3472200"/>
              <a:ext cx="36000" cy="428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19" y="40"/>
                  </a:moveTo>
                  <a:lnTo>
                    <a:pt x="0" y="40"/>
                  </a:lnTo>
                  <a:lnTo>
                    <a:pt x="143" y="262"/>
                  </a:lnTo>
                  <a:lnTo>
                    <a:pt x="225" y="224"/>
                  </a:lnTo>
                  <a:lnTo>
                    <a:pt x="101" y="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41720" y="343620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0" y="63"/>
                  </a:moveTo>
                  <a:lnTo>
                    <a:pt x="162" y="265"/>
                  </a:lnTo>
                  <a:lnTo>
                    <a:pt x="244" y="225"/>
                  </a:lnTo>
                  <a:lnTo>
                    <a:pt x="10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18320" y="3402720"/>
              <a:ext cx="39960" cy="4284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0" y="62"/>
                  </a:moveTo>
                  <a:lnTo>
                    <a:pt x="142" y="265"/>
                  </a:lnTo>
                  <a:lnTo>
                    <a:pt x="245" y="202"/>
                  </a:lnTo>
                  <a:lnTo>
                    <a:pt x="8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6000" y="3369240"/>
              <a:ext cx="36000" cy="4392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0" y="61"/>
                  </a:moveTo>
                  <a:lnTo>
                    <a:pt x="141" y="265"/>
                  </a:lnTo>
                  <a:lnTo>
                    <a:pt x="223" y="203"/>
                  </a:lnTo>
                  <a:lnTo>
                    <a:pt x="8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65400" y="3337200"/>
              <a:ext cx="42840" cy="4176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0" y="82"/>
                  </a:moveTo>
                  <a:lnTo>
                    <a:pt x="182" y="264"/>
                  </a:lnTo>
                  <a:lnTo>
                    <a:pt x="264" y="203"/>
                  </a:lnTo>
                  <a:lnTo>
                    <a:pt x="79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39120" y="3306600"/>
              <a:ext cx="39960" cy="4284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0" y="82"/>
                  </a:moveTo>
                  <a:lnTo>
                    <a:pt x="0" y="61"/>
                  </a:lnTo>
                  <a:lnTo>
                    <a:pt x="164" y="265"/>
                  </a:lnTo>
                  <a:lnTo>
                    <a:pt x="243" y="183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08520" y="3280320"/>
              <a:ext cx="39960" cy="3996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0" y="60"/>
                  </a:moveTo>
                  <a:lnTo>
                    <a:pt x="183" y="243"/>
                  </a:lnTo>
                  <a:lnTo>
                    <a:pt x="243" y="161"/>
                  </a:lnTo>
                  <a:lnTo>
                    <a:pt x="6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79360" y="3249720"/>
              <a:ext cx="39960" cy="39960"/>
            </a:xfrm>
            <a:custGeom>
              <a:avLst/>
              <a:gdLst/>
              <a:ahLst/>
              <a:rect l="l" t="t" r="r" b="b"/>
              <a:pathLst>
                <a:path w="244" h="245">
                  <a:moveTo>
                    <a:pt x="0" y="82"/>
                  </a:moveTo>
                  <a:lnTo>
                    <a:pt x="182" y="245"/>
                  </a:lnTo>
                  <a:lnTo>
                    <a:pt x="244" y="185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46960" y="3227400"/>
              <a:ext cx="42120" cy="3600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0" y="62"/>
                  </a:moveTo>
                  <a:lnTo>
                    <a:pt x="202" y="223"/>
                  </a:lnTo>
                  <a:lnTo>
                    <a:pt x="263" y="141"/>
                  </a:lnTo>
                  <a:lnTo>
                    <a:pt x="61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12760" y="3201120"/>
              <a:ext cx="43920" cy="36000"/>
            </a:xfrm>
            <a:custGeom>
              <a:avLst/>
              <a:gdLst/>
              <a:ahLst/>
              <a:rect l="l" t="t" r="r" b="b"/>
              <a:pathLst>
                <a:path w="266" h="225">
                  <a:moveTo>
                    <a:pt x="21" y="103"/>
                  </a:moveTo>
                  <a:lnTo>
                    <a:pt x="0" y="82"/>
                  </a:lnTo>
                  <a:lnTo>
                    <a:pt x="205" y="225"/>
                  </a:lnTo>
                  <a:lnTo>
                    <a:pt x="266" y="163"/>
                  </a:lnTo>
                  <a:lnTo>
                    <a:pt x="63" y="0"/>
                  </a:lnTo>
                  <a:lnTo>
                    <a:pt x="21" y="10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80360" y="3180240"/>
              <a:ext cx="42840" cy="37080"/>
            </a:xfrm>
            <a:custGeom>
              <a:avLst/>
              <a:gdLst/>
              <a:ahLst/>
              <a:rect l="l" t="t" r="r" b="b"/>
              <a:pathLst>
                <a:path w="265" h="225">
                  <a:moveTo>
                    <a:pt x="0" y="82"/>
                  </a:moveTo>
                  <a:lnTo>
                    <a:pt x="223" y="225"/>
                  </a:lnTo>
                  <a:lnTo>
                    <a:pt x="265" y="122"/>
                  </a:lnTo>
                  <a:lnTo>
                    <a:pt x="62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447240" y="3160800"/>
              <a:ext cx="42840" cy="33120"/>
            </a:xfrm>
            <a:custGeom>
              <a:avLst/>
              <a:gdLst/>
              <a:ahLst/>
              <a:rect l="l" t="t" r="r" b="b"/>
              <a:pathLst>
                <a:path w="265" h="203">
                  <a:moveTo>
                    <a:pt x="0" y="82"/>
                  </a:moveTo>
                  <a:lnTo>
                    <a:pt x="203" y="203"/>
                  </a:lnTo>
                  <a:lnTo>
                    <a:pt x="265" y="121"/>
                  </a:lnTo>
                  <a:lnTo>
                    <a:pt x="4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10520" y="3141000"/>
              <a:ext cx="42840" cy="33120"/>
            </a:xfrm>
            <a:custGeom>
              <a:avLst/>
              <a:gdLst/>
              <a:ahLst/>
              <a:rect l="l" t="t" r="r" b="b"/>
              <a:pathLst>
                <a:path w="263" h="205">
                  <a:moveTo>
                    <a:pt x="0" y="104"/>
                  </a:moveTo>
                  <a:lnTo>
                    <a:pt x="222" y="205"/>
                  </a:lnTo>
                  <a:lnTo>
                    <a:pt x="263" y="123"/>
                  </a:lnTo>
                  <a:lnTo>
                    <a:pt x="39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73440" y="3124440"/>
              <a:ext cx="42840" cy="33120"/>
            </a:xfrm>
            <a:custGeom>
              <a:avLst/>
              <a:gdLst/>
              <a:ahLst/>
              <a:rect l="l" t="t" r="r" b="b"/>
              <a:pathLst>
                <a:path w="264" h="205">
                  <a:moveTo>
                    <a:pt x="0" y="101"/>
                  </a:moveTo>
                  <a:lnTo>
                    <a:pt x="225" y="205"/>
                  </a:lnTo>
                  <a:lnTo>
                    <a:pt x="264" y="101"/>
                  </a:lnTo>
                  <a:lnTo>
                    <a:pt x="42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37440" y="3110760"/>
              <a:ext cx="42840" cy="3024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0" y="102"/>
                  </a:moveTo>
                  <a:lnTo>
                    <a:pt x="223" y="181"/>
                  </a:lnTo>
                  <a:lnTo>
                    <a:pt x="265" y="80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97120" y="3098160"/>
              <a:ext cx="43920" cy="29160"/>
            </a:xfrm>
            <a:custGeom>
              <a:avLst/>
              <a:gdLst/>
              <a:ahLst/>
              <a:rect l="l" t="t" r="r" b="b"/>
              <a:pathLst>
                <a:path w="266" h="184">
                  <a:moveTo>
                    <a:pt x="0" y="102"/>
                  </a:moveTo>
                  <a:lnTo>
                    <a:pt x="245" y="184"/>
                  </a:lnTo>
                  <a:lnTo>
                    <a:pt x="266" y="82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57880" y="3088440"/>
              <a:ext cx="42840" cy="26280"/>
            </a:xfrm>
            <a:custGeom>
              <a:avLst/>
              <a:gdLst/>
              <a:ahLst/>
              <a:rect l="l" t="t" r="r" b="b"/>
              <a:pathLst>
                <a:path w="265" h="162">
                  <a:moveTo>
                    <a:pt x="22" y="60"/>
                  </a:moveTo>
                  <a:lnTo>
                    <a:pt x="0" y="101"/>
                  </a:lnTo>
                  <a:lnTo>
                    <a:pt x="244" y="162"/>
                  </a:lnTo>
                  <a:lnTo>
                    <a:pt x="265" y="60"/>
                  </a:lnTo>
                  <a:lnTo>
                    <a:pt x="22" y="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24600" y="3207960"/>
              <a:ext cx="371160" cy="145476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24600" y="3207960"/>
              <a:ext cx="371160" cy="145476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41160" y="3781080"/>
              <a:ext cx="1742400" cy="69948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1160" y="3781080"/>
              <a:ext cx="1742400" cy="69948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19440" y="3426120"/>
              <a:ext cx="387720" cy="2419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19440" y="3426120"/>
              <a:ext cx="387720" cy="2419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57880" y="3436200"/>
              <a:ext cx="387720" cy="2419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57880" y="3436200"/>
              <a:ext cx="387720" cy="2419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17080" y="3538080"/>
              <a:ext cx="232200" cy="2322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1" y="0"/>
                  </a:moveTo>
                  <a:lnTo>
                    <a:pt x="748" y="1"/>
                  </a:lnTo>
                  <a:lnTo>
                    <a:pt x="783" y="4"/>
                  </a:lnTo>
                  <a:lnTo>
                    <a:pt x="819" y="8"/>
                  </a:lnTo>
                  <a:lnTo>
                    <a:pt x="855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8" y="56"/>
                  </a:lnTo>
                  <a:lnTo>
                    <a:pt x="1020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9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60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7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80" y="467"/>
                  </a:lnTo>
                  <a:lnTo>
                    <a:pt x="1390" y="500"/>
                  </a:lnTo>
                  <a:lnTo>
                    <a:pt x="1400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9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9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400" y="889"/>
                  </a:lnTo>
                  <a:lnTo>
                    <a:pt x="1390" y="922"/>
                  </a:lnTo>
                  <a:lnTo>
                    <a:pt x="1380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7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60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9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20" y="1352"/>
                  </a:lnTo>
                  <a:lnTo>
                    <a:pt x="988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5" y="1408"/>
                  </a:lnTo>
                  <a:lnTo>
                    <a:pt x="819" y="1414"/>
                  </a:lnTo>
                  <a:lnTo>
                    <a:pt x="783" y="1419"/>
                  </a:lnTo>
                  <a:lnTo>
                    <a:pt x="748" y="1421"/>
                  </a:lnTo>
                  <a:lnTo>
                    <a:pt x="711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4" y="1400"/>
                  </a:lnTo>
                  <a:lnTo>
                    <a:pt x="501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3" y="1319"/>
                  </a:lnTo>
                  <a:lnTo>
                    <a:pt x="314" y="1301"/>
                  </a:lnTo>
                  <a:lnTo>
                    <a:pt x="287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6" y="1189"/>
                  </a:lnTo>
                  <a:lnTo>
                    <a:pt x="163" y="1163"/>
                  </a:lnTo>
                  <a:lnTo>
                    <a:pt x="142" y="1136"/>
                  </a:lnTo>
                  <a:lnTo>
                    <a:pt x="122" y="1109"/>
                  </a:lnTo>
                  <a:lnTo>
                    <a:pt x="104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5" y="854"/>
                  </a:lnTo>
                  <a:lnTo>
                    <a:pt x="9" y="820"/>
                  </a:lnTo>
                  <a:lnTo>
                    <a:pt x="4" y="784"/>
                  </a:lnTo>
                  <a:lnTo>
                    <a:pt x="2" y="747"/>
                  </a:lnTo>
                  <a:lnTo>
                    <a:pt x="0" y="712"/>
                  </a:lnTo>
                  <a:lnTo>
                    <a:pt x="2" y="675"/>
                  </a:lnTo>
                  <a:lnTo>
                    <a:pt x="4" y="639"/>
                  </a:lnTo>
                  <a:lnTo>
                    <a:pt x="9" y="604"/>
                  </a:lnTo>
                  <a:lnTo>
                    <a:pt x="15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4" y="343"/>
                  </a:lnTo>
                  <a:lnTo>
                    <a:pt x="122" y="314"/>
                  </a:lnTo>
                  <a:lnTo>
                    <a:pt x="142" y="286"/>
                  </a:lnTo>
                  <a:lnTo>
                    <a:pt x="163" y="259"/>
                  </a:lnTo>
                  <a:lnTo>
                    <a:pt x="186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7" y="141"/>
                  </a:lnTo>
                  <a:lnTo>
                    <a:pt x="314" y="122"/>
                  </a:lnTo>
                  <a:lnTo>
                    <a:pt x="343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1" y="32"/>
                  </a:lnTo>
                  <a:lnTo>
                    <a:pt x="534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78680" y="3538080"/>
              <a:ext cx="231840" cy="2322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0" y="0"/>
                  </a:moveTo>
                  <a:lnTo>
                    <a:pt x="747" y="1"/>
                  </a:lnTo>
                  <a:lnTo>
                    <a:pt x="784" y="4"/>
                  </a:lnTo>
                  <a:lnTo>
                    <a:pt x="818" y="8"/>
                  </a:lnTo>
                  <a:lnTo>
                    <a:pt x="854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7" y="56"/>
                  </a:lnTo>
                  <a:lnTo>
                    <a:pt x="1019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8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59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6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79" y="467"/>
                  </a:lnTo>
                  <a:lnTo>
                    <a:pt x="1390" y="500"/>
                  </a:lnTo>
                  <a:lnTo>
                    <a:pt x="1399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8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8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399" y="889"/>
                  </a:lnTo>
                  <a:lnTo>
                    <a:pt x="1390" y="922"/>
                  </a:lnTo>
                  <a:lnTo>
                    <a:pt x="1379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6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59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8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19" y="1352"/>
                  </a:lnTo>
                  <a:lnTo>
                    <a:pt x="987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4" y="1408"/>
                  </a:lnTo>
                  <a:lnTo>
                    <a:pt x="818" y="1414"/>
                  </a:lnTo>
                  <a:lnTo>
                    <a:pt x="784" y="1419"/>
                  </a:lnTo>
                  <a:lnTo>
                    <a:pt x="747" y="1421"/>
                  </a:lnTo>
                  <a:lnTo>
                    <a:pt x="710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3" y="1400"/>
                  </a:lnTo>
                  <a:lnTo>
                    <a:pt x="500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2" y="1319"/>
                  </a:lnTo>
                  <a:lnTo>
                    <a:pt x="314" y="1301"/>
                  </a:lnTo>
                  <a:lnTo>
                    <a:pt x="286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5" y="1189"/>
                  </a:lnTo>
                  <a:lnTo>
                    <a:pt x="163" y="1163"/>
                  </a:lnTo>
                  <a:lnTo>
                    <a:pt x="141" y="1136"/>
                  </a:lnTo>
                  <a:lnTo>
                    <a:pt x="121" y="1109"/>
                  </a:lnTo>
                  <a:lnTo>
                    <a:pt x="103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4" y="854"/>
                  </a:lnTo>
                  <a:lnTo>
                    <a:pt x="8" y="820"/>
                  </a:lnTo>
                  <a:lnTo>
                    <a:pt x="4" y="784"/>
                  </a:lnTo>
                  <a:lnTo>
                    <a:pt x="1" y="747"/>
                  </a:lnTo>
                  <a:lnTo>
                    <a:pt x="0" y="712"/>
                  </a:lnTo>
                  <a:lnTo>
                    <a:pt x="1" y="675"/>
                  </a:lnTo>
                  <a:lnTo>
                    <a:pt x="4" y="639"/>
                  </a:lnTo>
                  <a:lnTo>
                    <a:pt x="8" y="604"/>
                  </a:lnTo>
                  <a:lnTo>
                    <a:pt x="14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3" y="343"/>
                  </a:lnTo>
                  <a:lnTo>
                    <a:pt x="121" y="314"/>
                  </a:lnTo>
                  <a:lnTo>
                    <a:pt x="141" y="286"/>
                  </a:lnTo>
                  <a:lnTo>
                    <a:pt x="163" y="259"/>
                  </a:lnTo>
                  <a:lnTo>
                    <a:pt x="185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6" y="141"/>
                  </a:lnTo>
                  <a:lnTo>
                    <a:pt x="314" y="122"/>
                  </a:lnTo>
                  <a:lnTo>
                    <a:pt x="342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0" y="32"/>
                  </a:lnTo>
                  <a:lnTo>
                    <a:pt x="533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463760" y="687240"/>
            <a:ext cx="6340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HERE IS NOTHING I CAN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O MAKE GOD LOVE ME MO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HERE IS NOTHING I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O MAKE GOD LOVE ME L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540240" y="4019400"/>
            <a:ext cx="1985760" cy="1997280"/>
            <a:chOff x="3540240" y="4019400"/>
            <a:chExt cx="1985760" cy="1997280"/>
          </a:xfrm>
        </p:grpSpPr>
        <p:sp>
          <p:nvSpPr>
            <p:cNvPr id="802" name=""/>
            <p:cNvSpPr/>
            <p:nvPr/>
          </p:nvSpPr>
          <p:spPr>
            <a:xfrm>
              <a:off x="3540240" y="4019400"/>
              <a:ext cx="1985760" cy="199728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  <a:close/>
                </a:path>
              </a:pathLst>
            </a:custGeom>
            <a:solidFill>
              <a:srgbClr val="f1e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40240" y="4019400"/>
              <a:ext cx="1985760" cy="199728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75040" y="5880240"/>
              <a:ext cx="44640" cy="27000"/>
            </a:xfrm>
            <a:custGeom>
              <a:avLst/>
              <a:gdLst/>
              <a:ahLst/>
              <a:rect l="l" t="t" r="r" b="b"/>
              <a:pathLst>
                <a:path w="137" h="84">
                  <a:moveTo>
                    <a:pt x="125" y="11"/>
                  </a:moveTo>
                  <a:lnTo>
                    <a:pt x="125" y="0"/>
                  </a:lnTo>
                  <a:lnTo>
                    <a:pt x="0" y="32"/>
                  </a:lnTo>
                  <a:lnTo>
                    <a:pt x="12" y="84"/>
                  </a:lnTo>
                  <a:lnTo>
                    <a:pt x="137" y="5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15000" y="5870520"/>
              <a:ext cx="44280" cy="2700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16" y="0"/>
                  </a:moveTo>
                  <a:lnTo>
                    <a:pt x="125" y="0"/>
                  </a:lnTo>
                  <a:lnTo>
                    <a:pt x="0" y="42"/>
                  </a:lnTo>
                  <a:lnTo>
                    <a:pt x="12" y="83"/>
                  </a:lnTo>
                  <a:lnTo>
                    <a:pt x="137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53160" y="5857920"/>
              <a:ext cx="44280" cy="3024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3" y="0"/>
                  </a:moveTo>
                  <a:lnTo>
                    <a:pt x="0" y="42"/>
                  </a:lnTo>
                  <a:lnTo>
                    <a:pt x="21" y="94"/>
                  </a:lnTo>
                  <a:lnTo>
                    <a:pt x="144" y="4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90960" y="5842080"/>
              <a:ext cx="42840" cy="28440"/>
            </a:xfrm>
            <a:custGeom>
              <a:avLst/>
              <a:gdLst/>
              <a:ahLst/>
              <a:rect l="l" t="t" r="r" b="b"/>
              <a:pathLst>
                <a:path w="136" h="93">
                  <a:moveTo>
                    <a:pt x="116" y="0"/>
                  </a:moveTo>
                  <a:lnTo>
                    <a:pt x="0" y="51"/>
                  </a:lnTo>
                  <a:lnTo>
                    <a:pt x="21" y="93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27680" y="5824440"/>
              <a:ext cx="42840" cy="30240"/>
            </a:xfrm>
            <a:custGeom>
              <a:avLst/>
              <a:gdLst/>
              <a:ahLst/>
              <a:rect l="l" t="t" r="r" b="b"/>
              <a:pathLst>
                <a:path w="134" h="94">
                  <a:moveTo>
                    <a:pt x="113" y="0"/>
                  </a:moveTo>
                  <a:lnTo>
                    <a:pt x="0" y="52"/>
                  </a:lnTo>
                  <a:lnTo>
                    <a:pt x="20" y="94"/>
                  </a:lnTo>
                  <a:lnTo>
                    <a:pt x="134" y="4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64040" y="5802480"/>
              <a:ext cx="42840" cy="3636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04" y="11"/>
                  </a:moveTo>
                  <a:lnTo>
                    <a:pt x="104" y="0"/>
                  </a:lnTo>
                  <a:lnTo>
                    <a:pt x="0" y="73"/>
                  </a:lnTo>
                  <a:lnTo>
                    <a:pt x="21" y="115"/>
                  </a:lnTo>
                  <a:lnTo>
                    <a:pt x="137" y="52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7520" y="5781600"/>
              <a:ext cx="42840" cy="3672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16" y="0"/>
                  </a:moveTo>
                  <a:lnTo>
                    <a:pt x="0" y="73"/>
                  </a:lnTo>
                  <a:lnTo>
                    <a:pt x="33" y="114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33880" y="5759280"/>
              <a:ext cx="39600" cy="367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93" y="0"/>
                  </a:moveTo>
                  <a:lnTo>
                    <a:pt x="0" y="73"/>
                  </a:lnTo>
                  <a:lnTo>
                    <a:pt x="20" y="115"/>
                  </a:lnTo>
                  <a:lnTo>
                    <a:pt x="124" y="4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64120" y="5735520"/>
              <a:ext cx="42840" cy="36720"/>
            </a:xfrm>
            <a:custGeom>
              <a:avLst/>
              <a:gdLst/>
              <a:ahLst/>
              <a:rect l="l" t="t" r="r" b="b"/>
              <a:pathLst>
                <a:path w="135" h="115">
                  <a:moveTo>
                    <a:pt x="104" y="0"/>
                  </a:moveTo>
                  <a:lnTo>
                    <a:pt x="0" y="73"/>
                  </a:lnTo>
                  <a:lnTo>
                    <a:pt x="31" y="115"/>
                  </a:lnTo>
                  <a:lnTo>
                    <a:pt x="135" y="42"/>
                  </a:lnTo>
                  <a:lnTo>
                    <a:pt x="135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095800" y="5705640"/>
              <a:ext cx="39600" cy="3960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93" y="0"/>
                  </a:moveTo>
                  <a:lnTo>
                    <a:pt x="0" y="93"/>
                  </a:lnTo>
                  <a:lnTo>
                    <a:pt x="31" y="124"/>
                  </a:lnTo>
                  <a:lnTo>
                    <a:pt x="125" y="4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6040" y="5680080"/>
              <a:ext cx="42840" cy="39600"/>
            </a:xfrm>
            <a:custGeom>
              <a:avLst/>
              <a:gdLst/>
              <a:ahLst/>
              <a:rect l="l" t="t" r="r" b="b"/>
              <a:pathLst>
                <a:path w="136" h="124">
                  <a:moveTo>
                    <a:pt x="94" y="0"/>
                  </a:moveTo>
                  <a:lnTo>
                    <a:pt x="0" y="83"/>
                  </a:lnTo>
                  <a:lnTo>
                    <a:pt x="32" y="124"/>
                  </a:lnTo>
                  <a:lnTo>
                    <a:pt x="136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56280" y="564984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4" y="0"/>
                  </a:moveTo>
                  <a:lnTo>
                    <a:pt x="0" y="94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83280" y="5619600"/>
              <a:ext cx="38160" cy="3996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82" y="0"/>
                  </a:moveTo>
                  <a:lnTo>
                    <a:pt x="0" y="93"/>
                  </a:lnTo>
                  <a:lnTo>
                    <a:pt x="41" y="125"/>
                  </a:lnTo>
                  <a:lnTo>
                    <a:pt x="124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08480" y="5586480"/>
              <a:ext cx="39960" cy="4428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3" y="0"/>
                  </a:moveTo>
                  <a:lnTo>
                    <a:pt x="0" y="105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35480" y="5554800"/>
              <a:ext cx="39960" cy="428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74" y="0"/>
                  </a:moveTo>
                  <a:lnTo>
                    <a:pt x="0" y="104"/>
                  </a:lnTo>
                  <a:lnTo>
                    <a:pt x="42" y="136"/>
                  </a:lnTo>
                  <a:lnTo>
                    <a:pt x="125" y="2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57800" y="551808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4">
                  <a:moveTo>
                    <a:pt x="72" y="0"/>
                  </a:moveTo>
                  <a:lnTo>
                    <a:pt x="83" y="0"/>
                  </a:lnTo>
                  <a:lnTo>
                    <a:pt x="0" y="113"/>
                  </a:lnTo>
                  <a:lnTo>
                    <a:pt x="51" y="134"/>
                  </a:lnTo>
                  <a:lnTo>
                    <a:pt x="125" y="3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1560" y="5481720"/>
              <a:ext cx="36720" cy="4608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74" y="11"/>
                  </a:moveTo>
                  <a:lnTo>
                    <a:pt x="74" y="0"/>
                  </a:lnTo>
                  <a:lnTo>
                    <a:pt x="0" y="115"/>
                  </a:lnTo>
                  <a:lnTo>
                    <a:pt x="53" y="146"/>
                  </a:lnTo>
                  <a:lnTo>
                    <a:pt x="116" y="3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5320" y="5445000"/>
              <a:ext cx="31680" cy="4608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2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4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24400" y="540540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1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5" y="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40240" y="536580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4">
                  <a:moveTo>
                    <a:pt x="54" y="0"/>
                  </a:moveTo>
                  <a:lnTo>
                    <a:pt x="0" y="124"/>
                  </a:lnTo>
                  <a:lnTo>
                    <a:pt x="54" y="144"/>
                  </a:lnTo>
                  <a:lnTo>
                    <a:pt x="105" y="2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357880" y="5326200"/>
              <a:ext cx="28440" cy="4608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40" y="0"/>
                  </a:moveTo>
                  <a:lnTo>
                    <a:pt x="0" y="125"/>
                  </a:lnTo>
                  <a:lnTo>
                    <a:pt x="51" y="145"/>
                  </a:lnTo>
                  <a:lnTo>
                    <a:pt x="92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70480" y="5286240"/>
              <a:ext cx="30240" cy="4608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42" y="0"/>
                  </a:moveTo>
                  <a:lnTo>
                    <a:pt x="0" y="125"/>
                  </a:lnTo>
                  <a:lnTo>
                    <a:pt x="52" y="145"/>
                  </a:lnTo>
                  <a:lnTo>
                    <a:pt x="94" y="1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83080" y="5243400"/>
              <a:ext cx="27000" cy="4608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3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83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94240" y="5200560"/>
              <a:ext cx="25560" cy="46080"/>
            </a:xfrm>
            <a:custGeom>
              <a:avLst/>
              <a:gdLst/>
              <a:ahLst/>
              <a:rect l="l" t="t" r="r" b="b"/>
              <a:pathLst>
                <a:path w="83" h="145">
                  <a:moveTo>
                    <a:pt x="31" y="0"/>
                  </a:moveTo>
                  <a:lnTo>
                    <a:pt x="0" y="134"/>
                  </a:lnTo>
                  <a:lnTo>
                    <a:pt x="52" y="145"/>
                  </a:lnTo>
                  <a:lnTo>
                    <a:pt x="83" y="1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3960" y="5157720"/>
              <a:ext cx="21960" cy="460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2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7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10080" y="5111640"/>
              <a:ext cx="237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21" y="0"/>
                  </a:moveTo>
                  <a:lnTo>
                    <a:pt x="0" y="145"/>
                  </a:lnTo>
                  <a:lnTo>
                    <a:pt x="52" y="145"/>
                  </a:lnTo>
                  <a:lnTo>
                    <a:pt x="73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16560" y="5068800"/>
              <a:ext cx="20520" cy="460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0" y="0"/>
                  </a:moveTo>
                  <a:lnTo>
                    <a:pt x="0" y="135"/>
                  </a:lnTo>
                  <a:lnTo>
                    <a:pt x="52" y="145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19800" y="5022720"/>
              <a:ext cx="172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19800" y="4976640"/>
              <a:ext cx="172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16560" y="4930920"/>
              <a:ext cx="20520" cy="45720"/>
            </a:xfrm>
            <a:custGeom>
              <a:avLst/>
              <a:gdLst/>
              <a:ahLst/>
              <a:rect l="l" t="t" r="r" b="b"/>
              <a:pathLst>
                <a:path w="62" h="146">
                  <a:moveTo>
                    <a:pt x="0" y="0"/>
                  </a:moveTo>
                  <a:lnTo>
                    <a:pt x="10" y="146"/>
                  </a:lnTo>
                  <a:lnTo>
                    <a:pt x="62" y="146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10080" y="4884840"/>
              <a:ext cx="237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21" y="145"/>
                  </a:lnTo>
                  <a:lnTo>
                    <a:pt x="73" y="14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03960" y="4842000"/>
              <a:ext cx="219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0" y="0"/>
                  </a:lnTo>
                  <a:lnTo>
                    <a:pt x="21" y="145"/>
                  </a:lnTo>
                  <a:lnTo>
                    <a:pt x="73" y="13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94240" y="4799160"/>
              <a:ext cx="25560" cy="4572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0" y="11"/>
                  </a:moveTo>
                  <a:lnTo>
                    <a:pt x="31" y="146"/>
                  </a:lnTo>
                  <a:lnTo>
                    <a:pt x="83" y="136"/>
                  </a:lnTo>
                  <a:lnTo>
                    <a:pt x="5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83080" y="4753080"/>
              <a:ext cx="27000" cy="48960"/>
            </a:xfrm>
            <a:custGeom>
              <a:avLst/>
              <a:gdLst/>
              <a:ahLst/>
              <a:rect l="l" t="t" r="r" b="b"/>
              <a:pathLst>
                <a:path w="83" h="156">
                  <a:moveTo>
                    <a:pt x="0" y="21"/>
                  </a:moveTo>
                  <a:lnTo>
                    <a:pt x="31" y="156"/>
                  </a:lnTo>
                  <a:lnTo>
                    <a:pt x="83" y="14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70480" y="4710240"/>
              <a:ext cx="30240" cy="4896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21"/>
                  </a:moveTo>
                  <a:lnTo>
                    <a:pt x="42" y="156"/>
                  </a:lnTo>
                  <a:lnTo>
                    <a:pt x="94" y="13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57880" y="4670280"/>
              <a:ext cx="28440" cy="4608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0" y="21"/>
                  </a:moveTo>
                  <a:lnTo>
                    <a:pt x="40" y="146"/>
                  </a:lnTo>
                  <a:lnTo>
                    <a:pt x="92" y="125"/>
                  </a:lnTo>
                  <a:lnTo>
                    <a:pt x="5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0240" y="463068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21"/>
                  </a:moveTo>
                  <a:lnTo>
                    <a:pt x="54" y="145"/>
                  </a:lnTo>
                  <a:lnTo>
                    <a:pt x="105" y="124"/>
                  </a:lnTo>
                  <a:lnTo>
                    <a:pt x="5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24400" y="459108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0" y="30"/>
                  </a:moveTo>
                  <a:lnTo>
                    <a:pt x="0" y="21"/>
                  </a:lnTo>
                  <a:lnTo>
                    <a:pt x="51" y="146"/>
                  </a:lnTo>
                  <a:lnTo>
                    <a:pt x="105" y="125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05320" y="4554360"/>
              <a:ext cx="31680" cy="4608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20"/>
                  </a:moveTo>
                  <a:lnTo>
                    <a:pt x="62" y="144"/>
                  </a:lnTo>
                  <a:lnTo>
                    <a:pt x="104" y="114"/>
                  </a:lnTo>
                  <a:lnTo>
                    <a:pt x="4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81560" y="4518000"/>
              <a:ext cx="36720" cy="4284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11" y="21"/>
                  </a:moveTo>
                  <a:lnTo>
                    <a:pt x="0" y="21"/>
                  </a:lnTo>
                  <a:lnTo>
                    <a:pt x="74" y="135"/>
                  </a:lnTo>
                  <a:lnTo>
                    <a:pt x="116" y="115"/>
                  </a:lnTo>
                  <a:lnTo>
                    <a:pt x="53" y="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57800" y="448164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83" y="135"/>
                  </a:lnTo>
                  <a:lnTo>
                    <a:pt x="125" y="114"/>
                  </a:lnTo>
                  <a:lnTo>
                    <a:pt x="5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35480" y="4448160"/>
              <a:ext cx="39960" cy="4284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74" y="135"/>
                  </a:lnTo>
                  <a:lnTo>
                    <a:pt x="125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211720" y="4416480"/>
              <a:ext cx="36720" cy="4284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31"/>
                  </a:moveTo>
                  <a:lnTo>
                    <a:pt x="72" y="135"/>
                  </a:lnTo>
                  <a:lnTo>
                    <a:pt x="114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83280" y="4383000"/>
              <a:ext cx="42840" cy="42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0" y="42"/>
                  </a:moveTo>
                  <a:lnTo>
                    <a:pt x="93" y="135"/>
                  </a:lnTo>
                  <a:lnTo>
                    <a:pt x="135" y="104"/>
                  </a:lnTo>
                  <a:lnTo>
                    <a:pt x="4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56280" y="4352760"/>
              <a:ext cx="39600" cy="4320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0" y="42"/>
                  </a:moveTo>
                  <a:lnTo>
                    <a:pt x="0" y="31"/>
                  </a:lnTo>
                  <a:lnTo>
                    <a:pt x="84" y="136"/>
                  </a:lnTo>
                  <a:lnTo>
                    <a:pt x="125" y="9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26040" y="4327560"/>
              <a:ext cx="39600" cy="3816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0" y="30"/>
                  </a:moveTo>
                  <a:lnTo>
                    <a:pt x="94" y="124"/>
                  </a:lnTo>
                  <a:lnTo>
                    <a:pt x="125" y="82"/>
                  </a:lnTo>
                  <a:lnTo>
                    <a:pt x="3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95800" y="4297320"/>
              <a:ext cx="39600" cy="3960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42"/>
                  </a:moveTo>
                  <a:lnTo>
                    <a:pt x="93" y="125"/>
                  </a:lnTo>
                  <a:lnTo>
                    <a:pt x="125" y="95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64120" y="4273560"/>
              <a:ext cx="42840" cy="3636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0" y="31"/>
                  </a:moveTo>
                  <a:lnTo>
                    <a:pt x="104" y="114"/>
                  </a:lnTo>
                  <a:lnTo>
                    <a:pt x="135" y="72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30640" y="4248000"/>
              <a:ext cx="42840" cy="3492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2" y="52"/>
                  </a:moveTo>
                  <a:lnTo>
                    <a:pt x="0" y="42"/>
                  </a:lnTo>
                  <a:lnTo>
                    <a:pt x="105" y="114"/>
                  </a:lnTo>
                  <a:lnTo>
                    <a:pt x="136" y="83"/>
                  </a:lnTo>
                  <a:lnTo>
                    <a:pt x="32" y="0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997520" y="4227480"/>
              <a:ext cx="42840" cy="3672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0" y="42"/>
                  </a:moveTo>
                  <a:lnTo>
                    <a:pt x="116" y="115"/>
                  </a:lnTo>
                  <a:lnTo>
                    <a:pt x="136" y="63"/>
                  </a:lnTo>
                  <a:lnTo>
                    <a:pt x="3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64040" y="4208400"/>
              <a:ext cx="42840" cy="316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42"/>
                  </a:moveTo>
                  <a:lnTo>
                    <a:pt x="104" y="104"/>
                  </a:lnTo>
                  <a:lnTo>
                    <a:pt x="137" y="62"/>
                  </a:lnTo>
                  <a:lnTo>
                    <a:pt x="2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27680" y="4187880"/>
              <a:ext cx="42840" cy="3312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0" y="53"/>
                  </a:moveTo>
                  <a:lnTo>
                    <a:pt x="113" y="105"/>
                  </a:lnTo>
                  <a:lnTo>
                    <a:pt x="134" y="63"/>
                  </a:lnTo>
                  <a:lnTo>
                    <a:pt x="2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90960" y="4172040"/>
              <a:ext cx="42840" cy="33120"/>
            </a:xfrm>
            <a:custGeom>
              <a:avLst/>
              <a:gdLst/>
              <a:ahLst/>
              <a:rect l="l" t="t" r="r" b="b"/>
              <a:pathLst>
                <a:path w="136" h="104">
                  <a:moveTo>
                    <a:pt x="0" y="51"/>
                  </a:moveTo>
                  <a:lnTo>
                    <a:pt x="116" y="104"/>
                  </a:lnTo>
                  <a:lnTo>
                    <a:pt x="136" y="51"/>
                  </a:lnTo>
                  <a:lnTo>
                    <a:pt x="2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54600" y="4159080"/>
              <a:ext cx="42840" cy="2880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51"/>
                  </a:moveTo>
                  <a:lnTo>
                    <a:pt x="114" y="92"/>
                  </a:lnTo>
                  <a:lnTo>
                    <a:pt x="135" y="41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15000" y="4145040"/>
              <a:ext cx="44280" cy="30240"/>
            </a:xfrm>
            <a:custGeom>
              <a:avLst/>
              <a:gdLst/>
              <a:ahLst/>
              <a:rect l="l" t="t" r="r" b="b"/>
              <a:pathLst>
                <a:path w="137" h="93">
                  <a:moveTo>
                    <a:pt x="0" y="51"/>
                  </a:moveTo>
                  <a:lnTo>
                    <a:pt x="125" y="93"/>
                  </a:lnTo>
                  <a:lnTo>
                    <a:pt x="137" y="42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75040" y="4135320"/>
              <a:ext cx="44640" cy="2556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2" y="32"/>
                  </a:moveTo>
                  <a:lnTo>
                    <a:pt x="0" y="53"/>
                  </a:lnTo>
                  <a:lnTo>
                    <a:pt x="125" y="83"/>
                  </a:lnTo>
                  <a:lnTo>
                    <a:pt x="137" y="32"/>
                  </a:lnTo>
                  <a:lnTo>
                    <a:pt x="12" y="0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46440" y="4254480"/>
              <a:ext cx="370080" cy="144792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46440" y="4254480"/>
              <a:ext cx="370080" cy="144792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62280" y="4824360"/>
              <a:ext cx="1738440" cy="69696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62280" y="4824360"/>
              <a:ext cx="1738440" cy="69696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40200" y="4471920"/>
              <a:ext cx="387360" cy="24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40200" y="4471920"/>
              <a:ext cx="387360" cy="24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75040" y="4481640"/>
              <a:ext cx="387360" cy="24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75040" y="4481640"/>
              <a:ext cx="387360" cy="24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2363760" y="1066680"/>
            <a:ext cx="4432320" cy="1335240"/>
            <a:chOff x="2363760" y="1066680"/>
            <a:chExt cx="4432320" cy="1335240"/>
          </a:xfrm>
        </p:grpSpPr>
        <p:sp>
          <p:nvSpPr>
            <p:cNvPr id="869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756" y="1266"/>
                  </a:moveTo>
                  <a:lnTo>
                    <a:pt x="1164" y="1266"/>
                  </a:lnTo>
                  <a:lnTo>
                    <a:pt x="959" y="596"/>
                  </a:lnTo>
                  <a:lnTo>
                    <a:pt x="756" y="1266"/>
                  </a:lnTo>
                  <a:close/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515" y="932"/>
                  </a:moveTo>
                  <a:lnTo>
                    <a:pt x="564" y="932"/>
                  </a:lnTo>
                  <a:lnTo>
                    <a:pt x="598" y="931"/>
                  </a:lnTo>
                  <a:lnTo>
                    <a:pt x="630" y="929"/>
                  </a:lnTo>
                  <a:lnTo>
                    <a:pt x="644" y="927"/>
                  </a:lnTo>
                  <a:lnTo>
                    <a:pt x="659" y="923"/>
                  </a:lnTo>
                  <a:lnTo>
                    <a:pt x="673" y="921"/>
                  </a:lnTo>
                  <a:lnTo>
                    <a:pt x="687" y="916"/>
                  </a:lnTo>
                  <a:lnTo>
                    <a:pt x="699" y="912"/>
                  </a:lnTo>
                  <a:lnTo>
                    <a:pt x="711" y="908"/>
                  </a:lnTo>
                  <a:lnTo>
                    <a:pt x="724" y="903"/>
                  </a:lnTo>
                  <a:lnTo>
                    <a:pt x="735" y="898"/>
                  </a:lnTo>
                  <a:lnTo>
                    <a:pt x="746" y="891"/>
                  </a:lnTo>
                  <a:lnTo>
                    <a:pt x="756" y="884"/>
                  </a:lnTo>
                  <a:lnTo>
                    <a:pt x="766" y="877"/>
                  </a:lnTo>
                  <a:lnTo>
                    <a:pt x="775" y="870"/>
                  </a:lnTo>
                  <a:lnTo>
                    <a:pt x="784" y="862"/>
                  </a:lnTo>
                  <a:lnTo>
                    <a:pt x="793" y="853"/>
                  </a:lnTo>
                  <a:lnTo>
                    <a:pt x="800" y="844"/>
                  </a:lnTo>
                  <a:lnTo>
                    <a:pt x="807" y="834"/>
                  </a:lnTo>
                  <a:lnTo>
                    <a:pt x="814" y="825"/>
                  </a:lnTo>
                  <a:lnTo>
                    <a:pt x="820" y="814"/>
                  </a:lnTo>
                  <a:lnTo>
                    <a:pt x="825" y="804"/>
                  </a:lnTo>
                  <a:lnTo>
                    <a:pt x="830" y="791"/>
                  </a:lnTo>
                  <a:lnTo>
                    <a:pt x="834" y="780"/>
                  </a:lnTo>
                  <a:lnTo>
                    <a:pt x="838" y="768"/>
                  </a:lnTo>
                  <a:lnTo>
                    <a:pt x="841" y="756"/>
                  </a:lnTo>
                  <a:lnTo>
                    <a:pt x="843" y="742"/>
                  </a:lnTo>
                  <a:lnTo>
                    <a:pt x="845" y="729"/>
                  </a:lnTo>
                  <a:lnTo>
                    <a:pt x="846" y="716"/>
                  </a:lnTo>
                  <a:lnTo>
                    <a:pt x="848" y="701"/>
                  </a:lnTo>
                  <a:lnTo>
                    <a:pt x="848" y="685"/>
                  </a:lnTo>
                  <a:lnTo>
                    <a:pt x="848" y="671"/>
                  </a:lnTo>
                  <a:lnTo>
                    <a:pt x="846" y="656"/>
                  </a:lnTo>
                  <a:lnTo>
                    <a:pt x="845" y="642"/>
                  </a:lnTo>
                  <a:lnTo>
                    <a:pt x="844" y="629"/>
                  </a:lnTo>
                  <a:lnTo>
                    <a:pt x="841" y="615"/>
                  </a:lnTo>
                  <a:lnTo>
                    <a:pt x="839" y="603"/>
                  </a:lnTo>
                  <a:lnTo>
                    <a:pt x="834" y="589"/>
                  </a:lnTo>
                  <a:lnTo>
                    <a:pt x="831" y="578"/>
                  </a:lnTo>
                  <a:lnTo>
                    <a:pt x="826" y="567"/>
                  </a:lnTo>
                  <a:lnTo>
                    <a:pt x="821" y="556"/>
                  </a:lnTo>
                  <a:lnTo>
                    <a:pt x="815" y="545"/>
                  </a:lnTo>
                  <a:lnTo>
                    <a:pt x="809" y="535"/>
                  </a:lnTo>
                  <a:lnTo>
                    <a:pt x="802" y="526"/>
                  </a:lnTo>
                  <a:lnTo>
                    <a:pt x="795" y="516"/>
                  </a:lnTo>
                  <a:lnTo>
                    <a:pt x="786" y="508"/>
                  </a:lnTo>
                  <a:lnTo>
                    <a:pt x="778" y="499"/>
                  </a:lnTo>
                  <a:lnTo>
                    <a:pt x="769" y="491"/>
                  </a:lnTo>
                  <a:lnTo>
                    <a:pt x="759" y="485"/>
                  </a:lnTo>
                  <a:lnTo>
                    <a:pt x="749" y="478"/>
                  </a:lnTo>
                  <a:lnTo>
                    <a:pt x="739" y="471"/>
                  </a:lnTo>
                  <a:lnTo>
                    <a:pt x="728" y="466"/>
                  </a:lnTo>
                  <a:lnTo>
                    <a:pt x="717" y="460"/>
                  </a:lnTo>
                  <a:lnTo>
                    <a:pt x="706" y="456"/>
                  </a:lnTo>
                  <a:lnTo>
                    <a:pt x="694" y="451"/>
                  </a:lnTo>
                  <a:lnTo>
                    <a:pt x="667" y="444"/>
                  </a:lnTo>
                  <a:lnTo>
                    <a:pt x="640" y="439"/>
                  </a:lnTo>
                  <a:lnTo>
                    <a:pt x="610" y="435"/>
                  </a:lnTo>
                  <a:lnTo>
                    <a:pt x="579" y="434"/>
                  </a:lnTo>
                  <a:lnTo>
                    <a:pt x="515" y="434"/>
                  </a:lnTo>
                  <a:lnTo>
                    <a:pt x="515" y="932"/>
                  </a:lnTo>
                  <a:close/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6" y="552"/>
                  </a:moveTo>
                  <a:lnTo>
                    <a:pt x="981" y="553"/>
                  </a:lnTo>
                  <a:lnTo>
                    <a:pt x="957" y="554"/>
                  </a:lnTo>
                  <a:lnTo>
                    <a:pt x="933" y="557"/>
                  </a:lnTo>
                  <a:lnTo>
                    <a:pt x="910" y="561"/>
                  </a:lnTo>
                  <a:lnTo>
                    <a:pt x="888" y="565"/>
                  </a:lnTo>
                  <a:lnTo>
                    <a:pt x="865" y="572"/>
                  </a:lnTo>
                  <a:lnTo>
                    <a:pt x="843" y="578"/>
                  </a:lnTo>
                  <a:lnTo>
                    <a:pt x="822" y="587"/>
                  </a:lnTo>
                  <a:lnTo>
                    <a:pt x="801" y="596"/>
                  </a:lnTo>
                  <a:lnTo>
                    <a:pt x="780" y="607"/>
                  </a:lnTo>
                  <a:lnTo>
                    <a:pt x="761" y="619"/>
                  </a:lnTo>
                  <a:lnTo>
                    <a:pt x="741" y="631"/>
                  </a:lnTo>
                  <a:lnTo>
                    <a:pt x="722" y="645"/>
                  </a:lnTo>
                  <a:lnTo>
                    <a:pt x="705" y="660"/>
                  </a:lnTo>
                  <a:lnTo>
                    <a:pt x="687" y="677"/>
                  </a:lnTo>
                  <a:lnTo>
                    <a:pt x="670" y="693"/>
                  </a:lnTo>
                  <a:lnTo>
                    <a:pt x="653" y="711"/>
                  </a:lnTo>
                  <a:lnTo>
                    <a:pt x="638" y="730"/>
                  </a:lnTo>
                  <a:lnTo>
                    <a:pt x="623" y="749"/>
                  </a:lnTo>
                  <a:lnTo>
                    <a:pt x="611" y="768"/>
                  </a:lnTo>
                  <a:lnTo>
                    <a:pt x="599" y="788"/>
                  </a:lnTo>
                  <a:lnTo>
                    <a:pt x="587" y="809"/>
                  </a:lnTo>
                  <a:lnTo>
                    <a:pt x="577" y="831"/>
                  </a:lnTo>
                  <a:lnTo>
                    <a:pt x="568" y="852"/>
                  </a:lnTo>
                  <a:lnTo>
                    <a:pt x="561" y="874"/>
                  </a:lnTo>
                  <a:lnTo>
                    <a:pt x="553" y="896"/>
                  </a:lnTo>
                  <a:lnTo>
                    <a:pt x="547" y="920"/>
                  </a:lnTo>
                  <a:lnTo>
                    <a:pt x="543" y="943"/>
                  </a:lnTo>
                  <a:lnTo>
                    <a:pt x="539" y="968"/>
                  </a:lnTo>
                  <a:lnTo>
                    <a:pt x="536" y="992"/>
                  </a:lnTo>
                  <a:lnTo>
                    <a:pt x="535" y="1018"/>
                  </a:lnTo>
                  <a:lnTo>
                    <a:pt x="534" y="1044"/>
                  </a:lnTo>
                  <a:lnTo>
                    <a:pt x="535" y="1069"/>
                  </a:lnTo>
                  <a:lnTo>
                    <a:pt x="536" y="1095"/>
                  </a:lnTo>
                  <a:lnTo>
                    <a:pt x="539" y="1120"/>
                  </a:lnTo>
                  <a:lnTo>
                    <a:pt x="543" y="1144"/>
                  </a:lnTo>
                  <a:lnTo>
                    <a:pt x="547" y="1168"/>
                  </a:lnTo>
                  <a:lnTo>
                    <a:pt x="553" y="1191"/>
                  </a:lnTo>
                  <a:lnTo>
                    <a:pt x="559" y="1213"/>
                  </a:lnTo>
                  <a:lnTo>
                    <a:pt x="568" y="1236"/>
                  </a:lnTo>
                  <a:lnTo>
                    <a:pt x="577" y="1257"/>
                  </a:lnTo>
                  <a:lnTo>
                    <a:pt x="587" y="1278"/>
                  </a:lnTo>
                  <a:lnTo>
                    <a:pt x="597" y="1298"/>
                  </a:lnTo>
                  <a:lnTo>
                    <a:pt x="610" y="1318"/>
                  </a:lnTo>
                  <a:lnTo>
                    <a:pt x="623" y="1338"/>
                  </a:lnTo>
                  <a:lnTo>
                    <a:pt x="638" y="1357"/>
                  </a:lnTo>
                  <a:lnTo>
                    <a:pt x="653" y="1375"/>
                  </a:lnTo>
                  <a:lnTo>
                    <a:pt x="669" y="1393"/>
                  </a:lnTo>
                  <a:lnTo>
                    <a:pt x="687" y="1410"/>
                  </a:lnTo>
                  <a:lnTo>
                    <a:pt x="703" y="1427"/>
                  </a:lnTo>
                  <a:lnTo>
                    <a:pt x="722" y="1441"/>
                  </a:lnTo>
                  <a:lnTo>
                    <a:pt x="741" y="1454"/>
                  </a:lnTo>
                  <a:lnTo>
                    <a:pt x="760" y="1468"/>
                  </a:lnTo>
                  <a:lnTo>
                    <a:pt x="779" y="1479"/>
                  </a:lnTo>
                  <a:lnTo>
                    <a:pt x="801" y="1490"/>
                  </a:lnTo>
                  <a:lnTo>
                    <a:pt x="821" y="1499"/>
                  </a:lnTo>
                  <a:lnTo>
                    <a:pt x="842" y="1507"/>
                  </a:lnTo>
                  <a:lnTo>
                    <a:pt x="864" y="1515"/>
                  </a:lnTo>
                  <a:lnTo>
                    <a:pt x="886" y="1520"/>
                  </a:lnTo>
                  <a:lnTo>
                    <a:pt x="909" y="1526"/>
                  </a:lnTo>
                  <a:lnTo>
                    <a:pt x="932" y="1529"/>
                  </a:lnTo>
                  <a:lnTo>
                    <a:pt x="957" y="1533"/>
                  </a:lnTo>
                  <a:lnTo>
                    <a:pt x="981" y="1534"/>
                  </a:lnTo>
                  <a:lnTo>
                    <a:pt x="1006" y="1535"/>
                  </a:lnTo>
                  <a:lnTo>
                    <a:pt x="1030" y="1534"/>
                  </a:lnTo>
                  <a:lnTo>
                    <a:pt x="1055" y="1533"/>
                  </a:lnTo>
                  <a:lnTo>
                    <a:pt x="1078" y="1529"/>
                  </a:lnTo>
                  <a:lnTo>
                    <a:pt x="1102" y="1526"/>
                  </a:lnTo>
                  <a:lnTo>
                    <a:pt x="1125" y="1520"/>
                  </a:lnTo>
                  <a:lnTo>
                    <a:pt x="1148" y="1515"/>
                  </a:lnTo>
                  <a:lnTo>
                    <a:pt x="1169" y="1507"/>
                  </a:lnTo>
                  <a:lnTo>
                    <a:pt x="1190" y="1499"/>
                  </a:lnTo>
                  <a:lnTo>
                    <a:pt x="1211" y="1490"/>
                  </a:lnTo>
                  <a:lnTo>
                    <a:pt x="1231" y="1479"/>
                  </a:lnTo>
                  <a:lnTo>
                    <a:pt x="1251" y="1468"/>
                  </a:lnTo>
                  <a:lnTo>
                    <a:pt x="1270" y="1454"/>
                  </a:lnTo>
                  <a:lnTo>
                    <a:pt x="1289" y="1441"/>
                  </a:lnTo>
                  <a:lnTo>
                    <a:pt x="1307" y="1425"/>
                  </a:lnTo>
                  <a:lnTo>
                    <a:pt x="1325" y="1410"/>
                  </a:lnTo>
                  <a:lnTo>
                    <a:pt x="1343" y="1393"/>
                  </a:lnTo>
                  <a:lnTo>
                    <a:pt x="1359" y="1375"/>
                  </a:lnTo>
                  <a:lnTo>
                    <a:pt x="1374" y="1356"/>
                  </a:lnTo>
                  <a:lnTo>
                    <a:pt x="1389" y="1337"/>
                  </a:lnTo>
                  <a:lnTo>
                    <a:pt x="1402" y="1318"/>
                  </a:lnTo>
                  <a:lnTo>
                    <a:pt x="1413" y="1298"/>
                  </a:lnTo>
                  <a:lnTo>
                    <a:pt x="1426" y="1277"/>
                  </a:lnTo>
                  <a:lnTo>
                    <a:pt x="1434" y="1256"/>
                  </a:lnTo>
                  <a:lnTo>
                    <a:pt x="1445" y="1235"/>
                  </a:lnTo>
                  <a:lnTo>
                    <a:pt x="1452" y="1212"/>
                  </a:lnTo>
                  <a:lnTo>
                    <a:pt x="1459" y="1190"/>
                  </a:lnTo>
                  <a:lnTo>
                    <a:pt x="1465" y="1167"/>
                  </a:lnTo>
                  <a:lnTo>
                    <a:pt x="1469" y="1143"/>
                  </a:lnTo>
                  <a:lnTo>
                    <a:pt x="1474" y="1119"/>
                  </a:lnTo>
                  <a:lnTo>
                    <a:pt x="1476" y="1094"/>
                  </a:lnTo>
                  <a:lnTo>
                    <a:pt x="1478" y="1069"/>
                  </a:lnTo>
                  <a:lnTo>
                    <a:pt x="1478" y="1044"/>
                  </a:lnTo>
                  <a:lnTo>
                    <a:pt x="1478" y="1018"/>
                  </a:lnTo>
                  <a:lnTo>
                    <a:pt x="1476" y="992"/>
                  </a:lnTo>
                  <a:lnTo>
                    <a:pt x="1474" y="968"/>
                  </a:lnTo>
                  <a:lnTo>
                    <a:pt x="1469" y="944"/>
                  </a:lnTo>
                  <a:lnTo>
                    <a:pt x="1465" y="921"/>
                  </a:lnTo>
                  <a:lnTo>
                    <a:pt x="1459" y="898"/>
                  </a:lnTo>
                  <a:lnTo>
                    <a:pt x="1452" y="875"/>
                  </a:lnTo>
                  <a:lnTo>
                    <a:pt x="1445" y="853"/>
                  </a:lnTo>
                  <a:lnTo>
                    <a:pt x="1434" y="831"/>
                  </a:lnTo>
                  <a:lnTo>
                    <a:pt x="1426" y="811"/>
                  </a:lnTo>
                  <a:lnTo>
                    <a:pt x="1413" y="789"/>
                  </a:lnTo>
                  <a:lnTo>
                    <a:pt x="1402" y="769"/>
                  </a:lnTo>
                  <a:lnTo>
                    <a:pt x="1389" y="750"/>
                  </a:lnTo>
                  <a:lnTo>
                    <a:pt x="1374" y="731"/>
                  </a:lnTo>
                  <a:lnTo>
                    <a:pt x="1359" y="712"/>
                  </a:lnTo>
                  <a:lnTo>
                    <a:pt x="1343" y="694"/>
                  </a:lnTo>
                  <a:lnTo>
                    <a:pt x="1325" y="677"/>
                  </a:lnTo>
                  <a:lnTo>
                    <a:pt x="1307" y="661"/>
                  </a:lnTo>
                  <a:lnTo>
                    <a:pt x="1289" y="645"/>
                  </a:lnTo>
                  <a:lnTo>
                    <a:pt x="1270" y="632"/>
                  </a:lnTo>
                  <a:lnTo>
                    <a:pt x="1251" y="620"/>
                  </a:lnTo>
                  <a:lnTo>
                    <a:pt x="1231" y="607"/>
                  </a:lnTo>
                  <a:lnTo>
                    <a:pt x="1211" y="597"/>
                  </a:lnTo>
                  <a:lnTo>
                    <a:pt x="1190" y="587"/>
                  </a:lnTo>
                  <a:lnTo>
                    <a:pt x="1169" y="579"/>
                  </a:lnTo>
                  <a:lnTo>
                    <a:pt x="1148" y="572"/>
                  </a:lnTo>
                  <a:lnTo>
                    <a:pt x="1125" y="566"/>
                  </a:lnTo>
                  <a:lnTo>
                    <a:pt x="1102" y="561"/>
                  </a:lnTo>
                  <a:lnTo>
                    <a:pt x="1078" y="557"/>
                  </a:lnTo>
                  <a:lnTo>
                    <a:pt x="1055" y="554"/>
                  </a:lnTo>
                  <a:lnTo>
                    <a:pt x="1030" y="553"/>
                  </a:lnTo>
                  <a:lnTo>
                    <a:pt x="1006" y="552"/>
                  </a:lnTo>
                  <a:close/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05320" y="1849320"/>
              <a:ext cx="265320" cy="538200"/>
            </a:xfrm>
            <a:custGeom>
              <a:avLst/>
              <a:gdLst/>
              <a:ahLst/>
              <a:rect l="l" t="t" r="r" b="b"/>
              <a:pathLst>
                <a:path w="1004" h="2034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  <a:close/>
                  <a:moveTo>
                    <a:pt x="287" y="2034"/>
                  </a:moveTo>
                  <a:lnTo>
                    <a:pt x="287" y="1526"/>
                  </a:lnTo>
                  <a:lnTo>
                    <a:pt x="763" y="1526"/>
                  </a:lnTo>
                  <a:lnTo>
                    <a:pt x="763" y="2034"/>
                  </a:lnTo>
                  <a:lnTo>
                    <a:pt x="287" y="20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92440" y="1233360"/>
              <a:ext cx="108000" cy="176400"/>
            </a:xfrm>
            <a:custGeom>
              <a:avLst/>
              <a:gdLst/>
              <a:ahLst/>
              <a:rect l="l" t="t" r="r" b="b"/>
              <a:pathLst>
                <a:path w="408" h="670">
                  <a:moveTo>
                    <a:pt x="0" y="670"/>
                  </a:moveTo>
                  <a:lnTo>
                    <a:pt x="408" y="670"/>
                  </a:lnTo>
                  <a:lnTo>
                    <a:pt x="203" y="0"/>
                  </a:lnTo>
                  <a:lnTo>
                    <a:pt x="0" y="6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29400" y="1190520"/>
              <a:ext cx="88920" cy="131760"/>
            </a:xfrm>
            <a:custGeom>
              <a:avLst/>
              <a:gdLst/>
              <a:ahLst/>
              <a:rect l="l" t="t" r="r" b="b"/>
              <a:pathLst>
                <a:path w="333" h="498">
                  <a:moveTo>
                    <a:pt x="0" y="498"/>
                  </a:moveTo>
                  <a:lnTo>
                    <a:pt x="49" y="498"/>
                  </a:lnTo>
                  <a:lnTo>
                    <a:pt x="83" y="497"/>
                  </a:lnTo>
                  <a:lnTo>
                    <a:pt x="115" y="495"/>
                  </a:lnTo>
                  <a:lnTo>
                    <a:pt x="129" y="493"/>
                  </a:lnTo>
                  <a:lnTo>
                    <a:pt x="144" y="489"/>
                  </a:lnTo>
                  <a:lnTo>
                    <a:pt x="158" y="487"/>
                  </a:lnTo>
                  <a:lnTo>
                    <a:pt x="172" y="482"/>
                  </a:lnTo>
                  <a:lnTo>
                    <a:pt x="184" y="478"/>
                  </a:lnTo>
                  <a:lnTo>
                    <a:pt x="196" y="474"/>
                  </a:lnTo>
                  <a:lnTo>
                    <a:pt x="209" y="469"/>
                  </a:lnTo>
                  <a:lnTo>
                    <a:pt x="220" y="464"/>
                  </a:lnTo>
                  <a:lnTo>
                    <a:pt x="231" y="457"/>
                  </a:lnTo>
                  <a:lnTo>
                    <a:pt x="241" y="450"/>
                  </a:lnTo>
                  <a:lnTo>
                    <a:pt x="251" y="443"/>
                  </a:lnTo>
                  <a:lnTo>
                    <a:pt x="260" y="436"/>
                  </a:lnTo>
                  <a:lnTo>
                    <a:pt x="269" y="428"/>
                  </a:lnTo>
                  <a:lnTo>
                    <a:pt x="278" y="419"/>
                  </a:lnTo>
                  <a:lnTo>
                    <a:pt x="285" y="410"/>
                  </a:lnTo>
                  <a:lnTo>
                    <a:pt x="292" y="400"/>
                  </a:lnTo>
                  <a:lnTo>
                    <a:pt x="299" y="391"/>
                  </a:lnTo>
                  <a:lnTo>
                    <a:pt x="305" y="380"/>
                  </a:lnTo>
                  <a:lnTo>
                    <a:pt x="310" y="370"/>
                  </a:lnTo>
                  <a:lnTo>
                    <a:pt x="315" y="357"/>
                  </a:lnTo>
                  <a:lnTo>
                    <a:pt x="319" y="346"/>
                  </a:lnTo>
                  <a:lnTo>
                    <a:pt x="323" y="334"/>
                  </a:lnTo>
                  <a:lnTo>
                    <a:pt x="326" y="322"/>
                  </a:lnTo>
                  <a:lnTo>
                    <a:pt x="328" y="308"/>
                  </a:lnTo>
                  <a:lnTo>
                    <a:pt x="330" y="295"/>
                  </a:lnTo>
                  <a:lnTo>
                    <a:pt x="331" y="282"/>
                  </a:lnTo>
                  <a:lnTo>
                    <a:pt x="333" y="267"/>
                  </a:lnTo>
                  <a:lnTo>
                    <a:pt x="333" y="251"/>
                  </a:lnTo>
                  <a:lnTo>
                    <a:pt x="333" y="237"/>
                  </a:lnTo>
                  <a:lnTo>
                    <a:pt x="331" y="222"/>
                  </a:lnTo>
                  <a:lnTo>
                    <a:pt x="330" y="208"/>
                  </a:lnTo>
                  <a:lnTo>
                    <a:pt x="329" y="195"/>
                  </a:lnTo>
                  <a:lnTo>
                    <a:pt x="326" y="181"/>
                  </a:lnTo>
                  <a:lnTo>
                    <a:pt x="324" y="169"/>
                  </a:lnTo>
                  <a:lnTo>
                    <a:pt x="319" y="155"/>
                  </a:lnTo>
                  <a:lnTo>
                    <a:pt x="316" y="144"/>
                  </a:lnTo>
                  <a:lnTo>
                    <a:pt x="311" y="133"/>
                  </a:lnTo>
                  <a:lnTo>
                    <a:pt x="306" y="122"/>
                  </a:lnTo>
                  <a:lnTo>
                    <a:pt x="300" y="111"/>
                  </a:lnTo>
                  <a:lnTo>
                    <a:pt x="294" y="101"/>
                  </a:lnTo>
                  <a:lnTo>
                    <a:pt x="287" y="92"/>
                  </a:lnTo>
                  <a:lnTo>
                    <a:pt x="280" y="82"/>
                  </a:lnTo>
                  <a:lnTo>
                    <a:pt x="271" y="74"/>
                  </a:lnTo>
                  <a:lnTo>
                    <a:pt x="263" y="65"/>
                  </a:lnTo>
                  <a:lnTo>
                    <a:pt x="254" y="57"/>
                  </a:lnTo>
                  <a:lnTo>
                    <a:pt x="244" y="51"/>
                  </a:lnTo>
                  <a:lnTo>
                    <a:pt x="234" y="44"/>
                  </a:lnTo>
                  <a:lnTo>
                    <a:pt x="224" y="37"/>
                  </a:lnTo>
                  <a:lnTo>
                    <a:pt x="213" y="32"/>
                  </a:lnTo>
                  <a:lnTo>
                    <a:pt x="202" y="26"/>
                  </a:lnTo>
                  <a:lnTo>
                    <a:pt x="191" y="22"/>
                  </a:lnTo>
                  <a:lnTo>
                    <a:pt x="179" y="17"/>
                  </a:lnTo>
                  <a:lnTo>
                    <a:pt x="152" y="10"/>
                  </a:lnTo>
                  <a:lnTo>
                    <a:pt x="125" y="5"/>
                  </a:lnTo>
                  <a:lnTo>
                    <a:pt x="95" y="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9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87800" y="1995480"/>
              <a:ext cx="249120" cy="258840"/>
            </a:xfrm>
            <a:custGeom>
              <a:avLst/>
              <a:gdLst/>
              <a:ahLst/>
              <a:rect l="l" t="t" r="r" b="b"/>
              <a:pathLst>
                <a:path w="944" h="983">
                  <a:moveTo>
                    <a:pt x="472" y="0"/>
                  </a:moveTo>
                  <a:lnTo>
                    <a:pt x="447" y="1"/>
                  </a:lnTo>
                  <a:lnTo>
                    <a:pt x="423" y="2"/>
                  </a:lnTo>
                  <a:lnTo>
                    <a:pt x="399" y="5"/>
                  </a:lnTo>
                  <a:lnTo>
                    <a:pt x="376" y="9"/>
                  </a:lnTo>
                  <a:lnTo>
                    <a:pt x="354" y="13"/>
                  </a:lnTo>
                  <a:lnTo>
                    <a:pt x="331" y="20"/>
                  </a:lnTo>
                  <a:lnTo>
                    <a:pt x="309" y="26"/>
                  </a:lnTo>
                  <a:lnTo>
                    <a:pt x="288" y="35"/>
                  </a:lnTo>
                  <a:lnTo>
                    <a:pt x="267" y="44"/>
                  </a:lnTo>
                  <a:lnTo>
                    <a:pt x="246" y="55"/>
                  </a:lnTo>
                  <a:lnTo>
                    <a:pt x="227" y="67"/>
                  </a:lnTo>
                  <a:lnTo>
                    <a:pt x="207" y="79"/>
                  </a:lnTo>
                  <a:lnTo>
                    <a:pt x="188" y="93"/>
                  </a:lnTo>
                  <a:lnTo>
                    <a:pt x="171" y="108"/>
                  </a:lnTo>
                  <a:lnTo>
                    <a:pt x="153" y="125"/>
                  </a:lnTo>
                  <a:lnTo>
                    <a:pt x="136" y="141"/>
                  </a:lnTo>
                  <a:lnTo>
                    <a:pt x="119" y="159"/>
                  </a:lnTo>
                  <a:lnTo>
                    <a:pt x="104" y="178"/>
                  </a:lnTo>
                  <a:lnTo>
                    <a:pt x="89" y="197"/>
                  </a:lnTo>
                  <a:lnTo>
                    <a:pt x="77" y="216"/>
                  </a:lnTo>
                  <a:lnTo>
                    <a:pt x="65" y="236"/>
                  </a:lnTo>
                  <a:lnTo>
                    <a:pt x="53" y="257"/>
                  </a:lnTo>
                  <a:lnTo>
                    <a:pt x="43" y="279"/>
                  </a:lnTo>
                  <a:lnTo>
                    <a:pt x="34" y="300"/>
                  </a:lnTo>
                  <a:lnTo>
                    <a:pt x="27" y="322"/>
                  </a:lnTo>
                  <a:lnTo>
                    <a:pt x="19" y="344"/>
                  </a:lnTo>
                  <a:lnTo>
                    <a:pt x="13" y="368"/>
                  </a:lnTo>
                  <a:lnTo>
                    <a:pt x="9" y="391"/>
                  </a:lnTo>
                  <a:lnTo>
                    <a:pt x="5" y="416"/>
                  </a:lnTo>
                  <a:lnTo>
                    <a:pt x="2" y="440"/>
                  </a:lnTo>
                  <a:lnTo>
                    <a:pt x="1" y="466"/>
                  </a:lnTo>
                  <a:lnTo>
                    <a:pt x="0" y="492"/>
                  </a:lnTo>
                  <a:lnTo>
                    <a:pt x="1" y="517"/>
                  </a:lnTo>
                  <a:lnTo>
                    <a:pt x="2" y="543"/>
                  </a:lnTo>
                  <a:lnTo>
                    <a:pt x="5" y="568"/>
                  </a:lnTo>
                  <a:lnTo>
                    <a:pt x="9" y="592"/>
                  </a:lnTo>
                  <a:lnTo>
                    <a:pt x="13" y="616"/>
                  </a:lnTo>
                  <a:lnTo>
                    <a:pt x="19" y="639"/>
                  </a:lnTo>
                  <a:lnTo>
                    <a:pt x="25" y="661"/>
                  </a:lnTo>
                  <a:lnTo>
                    <a:pt x="34" y="684"/>
                  </a:lnTo>
                  <a:lnTo>
                    <a:pt x="43" y="705"/>
                  </a:lnTo>
                  <a:lnTo>
                    <a:pt x="53" y="726"/>
                  </a:lnTo>
                  <a:lnTo>
                    <a:pt x="63" y="746"/>
                  </a:lnTo>
                  <a:lnTo>
                    <a:pt x="76" y="766"/>
                  </a:lnTo>
                  <a:lnTo>
                    <a:pt x="89" y="786"/>
                  </a:lnTo>
                  <a:lnTo>
                    <a:pt x="104" y="805"/>
                  </a:lnTo>
                  <a:lnTo>
                    <a:pt x="119" y="823"/>
                  </a:lnTo>
                  <a:lnTo>
                    <a:pt x="135" y="841"/>
                  </a:lnTo>
                  <a:lnTo>
                    <a:pt x="153" y="858"/>
                  </a:lnTo>
                  <a:lnTo>
                    <a:pt x="169" y="875"/>
                  </a:lnTo>
                  <a:lnTo>
                    <a:pt x="188" y="889"/>
                  </a:lnTo>
                  <a:lnTo>
                    <a:pt x="207" y="902"/>
                  </a:lnTo>
                  <a:lnTo>
                    <a:pt x="226" y="916"/>
                  </a:lnTo>
                  <a:lnTo>
                    <a:pt x="245" y="927"/>
                  </a:lnTo>
                  <a:lnTo>
                    <a:pt x="267" y="938"/>
                  </a:lnTo>
                  <a:lnTo>
                    <a:pt x="287" y="947"/>
                  </a:lnTo>
                  <a:lnTo>
                    <a:pt x="308" y="955"/>
                  </a:lnTo>
                  <a:lnTo>
                    <a:pt x="330" y="963"/>
                  </a:lnTo>
                  <a:lnTo>
                    <a:pt x="352" y="968"/>
                  </a:lnTo>
                  <a:lnTo>
                    <a:pt x="375" y="974"/>
                  </a:lnTo>
                  <a:lnTo>
                    <a:pt x="398" y="977"/>
                  </a:lnTo>
                  <a:lnTo>
                    <a:pt x="423" y="981"/>
                  </a:lnTo>
                  <a:lnTo>
                    <a:pt x="447" y="982"/>
                  </a:lnTo>
                  <a:lnTo>
                    <a:pt x="472" y="983"/>
                  </a:lnTo>
                  <a:lnTo>
                    <a:pt x="496" y="982"/>
                  </a:lnTo>
                  <a:lnTo>
                    <a:pt x="521" y="981"/>
                  </a:lnTo>
                  <a:lnTo>
                    <a:pt x="544" y="977"/>
                  </a:lnTo>
                  <a:lnTo>
                    <a:pt x="568" y="974"/>
                  </a:lnTo>
                  <a:lnTo>
                    <a:pt x="591" y="968"/>
                  </a:lnTo>
                  <a:lnTo>
                    <a:pt x="614" y="963"/>
                  </a:lnTo>
                  <a:lnTo>
                    <a:pt x="635" y="955"/>
                  </a:lnTo>
                  <a:lnTo>
                    <a:pt x="656" y="947"/>
                  </a:lnTo>
                  <a:lnTo>
                    <a:pt x="677" y="938"/>
                  </a:lnTo>
                  <a:lnTo>
                    <a:pt x="697" y="927"/>
                  </a:lnTo>
                  <a:lnTo>
                    <a:pt x="717" y="916"/>
                  </a:lnTo>
                  <a:lnTo>
                    <a:pt x="736" y="902"/>
                  </a:lnTo>
                  <a:lnTo>
                    <a:pt x="755" y="889"/>
                  </a:lnTo>
                  <a:lnTo>
                    <a:pt x="773" y="873"/>
                  </a:lnTo>
                  <a:lnTo>
                    <a:pt x="791" y="858"/>
                  </a:lnTo>
                  <a:lnTo>
                    <a:pt x="809" y="841"/>
                  </a:lnTo>
                  <a:lnTo>
                    <a:pt x="825" y="823"/>
                  </a:lnTo>
                  <a:lnTo>
                    <a:pt x="840" y="804"/>
                  </a:lnTo>
                  <a:lnTo>
                    <a:pt x="855" y="785"/>
                  </a:lnTo>
                  <a:lnTo>
                    <a:pt x="868" y="766"/>
                  </a:lnTo>
                  <a:lnTo>
                    <a:pt x="879" y="746"/>
                  </a:lnTo>
                  <a:lnTo>
                    <a:pt x="892" y="725"/>
                  </a:lnTo>
                  <a:lnTo>
                    <a:pt x="900" y="704"/>
                  </a:lnTo>
                  <a:lnTo>
                    <a:pt x="911" y="683"/>
                  </a:lnTo>
                  <a:lnTo>
                    <a:pt x="918" y="660"/>
                  </a:lnTo>
                  <a:lnTo>
                    <a:pt x="925" y="638"/>
                  </a:lnTo>
                  <a:lnTo>
                    <a:pt x="931" y="615"/>
                  </a:lnTo>
                  <a:lnTo>
                    <a:pt x="935" y="591"/>
                  </a:lnTo>
                  <a:lnTo>
                    <a:pt x="940" y="567"/>
                  </a:lnTo>
                  <a:lnTo>
                    <a:pt x="942" y="542"/>
                  </a:lnTo>
                  <a:lnTo>
                    <a:pt x="944" y="517"/>
                  </a:lnTo>
                  <a:lnTo>
                    <a:pt x="944" y="492"/>
                  </a:lnTo>
                  <a:lnTo>
                    <a:pt x="944" y="466"/>
                  </a:lnTo>
                  <a:lnTo>
                    <a:pt x="942" y="440"/>
                  </a:lnTo>
                  <a:lnTo>
                    <a:pt x="940" y="416"/>
                  </a:lnTo>
                  <a:lnTo>
                    <a:pt x="935" y="392"/>
                  </a:lnTo>
                  <a:lnTo>
                    <a:pt x="931" y="369"/>
                  </a:lnTo>
                  <a:lnTo>
                    <a:pt x="925" y="346"/>
                  </a:lnTo>
                  <a:lnTo>
                    <a:pt x="918" y="323"/>
                  </a:lnTo>
                  <a:lnTo>
                    <a:pt x="911" y="301"/>
                  </a:lnTo>
                  <a:lnTo>
                    <a:pt x="900" y="279"/>
                  </a:lnTo>
                  <a:lnTo>
                    <a:pt x="892" y="259"/>
                  </a:lnTo>
                  <a:lnTo>
                    <a:pt x="879" y="237"/>
                  </a:lnTo>
                  <a:lnTo>
                    <a:pt x="868" y="217"/>
                  </a:lnTo>
                  <a:lnTo>
                    <a:pt x="855" y="198"/>
                  </a:lnTo>
                  <a:lnTo>
                    <a:pt x="840" y="179"/>
                  </a:lnTo>
                  <a:lnTo>
                    <a:pt x="825" y="160"/>
                  </a:lnTo>
                  <a:lnTo>
                    <a:pt x="809" y="142"/>
                  </a:lnTo>
                  <a:lnTo>
                    <a:pt x="791" y="125"/>
                  </a:lnTo>
                  <a:lnTo>
                    <a:pt x="773" y="109"/>
                  </a:lnTo>
                  <a:lnTo>
                    <a:pt x="755" y="93"/>
                  </a:lnTo>
                  <a:lnTo>
                    <a:pt x="736" y="80"/>
                  </a:lnTo>
                  <a:lnTo>
                    <a:pt x="717" y="68"/>
                  </a:lnTo>
                  <a:lnTo>
                    <a:pt x="697" y="55"/>
                  </a:lnTo>
                  <a:lnTo>
                    <a:pt x="677" y="45"/>
                  </a:lnTo>
                  <a:lnTo>
                    <a:pt x="656" y="35"/>
                  </a:lnTo>
                  <a:lnTo>
                    <a:pt x="635" y="27"/>
                  </a:lnTo>
                  <a:lnTo>
                    <a:pt x="614" y="20"/>
                  </a:lnTo>
                  <a:lnTo>
                    <a:pt x="591" y="14"/>
                  </a:lnTo>
                  <a:lnTo>
                    <a:pt x="568" y="9"/>
                  </a:lnTo>
                  <a:lnTo>
                    <a:pt x="544" y="5"/>
                  </a:lnTo>
                  <a:lnTo>
                    <a:pt x="521" y="2"/>
                  </a:lnTo>
                  <a:lnTo>
                    <a:pt x="496" y="1"/>
                  </a:lnTo>
                  <a:lnTo>
                    <a:pt x="47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05320" y="1849320"/>
              <a:ext cx="265320" cy="373320"/>
            </a:xfrm>
            <a:custGeom>
              <a:avLst/>
              <a:gdLst/>
              <a:ahLst/>
              <a:rect l="l" t="t" r="r" b="b"/>
              <a:pathLst>
                <a:path w="1004" h="1409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80200" y="2254320"/>
              <a:ext cx="126720" cy="1332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4633920" y="4319640"/>
            <a:ext cx="404640" cy="485640"/>
            <a:chOff x="4633920" y="4319640"/>
            <a:chExt cx="404640" cy="485640"/>
          </a:xfrm>
        </p:grpSpPr>
        <p:sp>
          <p:nvSpPr>
            <p:cNvPr id="904" name=""/>
            <p:cNvSpPr/>
            <p:nvPr/>
          </p:nvSpPr>
          <p:spPr>
            <a:xfrm>
              <a:off x="4662360" y="4349880"/>
              <a:ext cx="346320" cy="426960"/>
            </a:xfrm>
            <a:custGeom>
              <a:avLst/>
              <a:gdLst/>
              <a:ahLst/>
              <a:rect l="l" t="t" r="r" b="b"/>
              <a:pathLst>
                <a:path w="1310" h="1614">
                  <a:moveTo>
                    <a:pt x="334" y="1614"/>
                  </a:moveTo>
                  <a:lnTo>
                    <a:pt x="281" y="1538"/>
                  </a:lnTo>
                  <a:lnTo>
                    <a:pt x="233" y="1459"/>
                  </a:lnTo>
                  <a:lnTo>
                    <a:pt x="188" y="1379"/>
                  </a:lnTo>
                  <a:lnTo>
                    <a:pt x="150" y="1296"/>
                  </a:lnTo>
                  <a:lnTo>
                    <a:pt x="116" y="1211"/>
                  </a:lnTo>
                  <a:lnTo>
                    <a:pt x="86" y="1127"/>
                  </a:lnTo>
                  <a:lnTo>
                    <a:pt x="60" y="1042"/>
                  </a:lnTo>
                  <a:lnTo>
                    <a:pt x="40" y="957"/>
                  </a:lnTo>
                  <a:lnTo>
                    <a:pt x="23" y="873"/>
                  </a:lnTo>
                  <a:lnTo>
                    <a:pt x="11" y="789"/>
                  </a:lnTo>
                  <a:lnTo>
                    <a:pt x="3" y="708"/>
                  </a:lnTo>
                  <a:lnTo>
                    <a:pt x="0" y="629"/>
                  </a:lnTo>
                  <a:lnTo>
                    <a:pt x="0" y="552"/>
                  </a:lnTo>
                  <a:lnTo>
                    <a:pt x="4" y="477"/>
                  </a:lnTo>
                  <a:lnTo>
                    <a:pt x="13" y="407"/>
                  </a:lnTo>
                  <a:lnTo>
                    <a:pt x="26" y="341"/>
                  </a:lnTo>
                  <a:lnTo>
                    <a:pt x="43" y="278"/>
                  </a:lnTo>
                  <a:lnTo>
                    <a:pt x="63" y="221"/>
                  </a:lnTo>
                  <a:lnTo>
                    <a:pt x="88" y="170"/>
                  </a:lnTo>
                  <a:lnTo>
                    <a:pt x="117" y="124"/>
                  </a:lnTo>
                  <a:lnTo>
                    <a:pt x="148" y="85"/>
                  </a:lnTo>
                  <a:lnTo>
                    <a:pt x="185" y="53"/>
                  </a:lnTo>
                  <a:lnTo>
                    <a:pt x="224" y="27"/>
                  </a:lnTo>
                  <a:lnTo>
                    <a:pt x="267" y="9"/>
                  </a:lnTo>
                  <a:lnTo>
                    <a:pt x="314" y="0"/>
                  </a:lnTo>
                  <a:lnTo>
                    <a:pt x="365" y="0"/>
                  </a:lnTo>
                  <a:lnTo>
                    <a:pt x="418" y="9"/>
                  </a:lnTo>
                  <a:lnTo>
                    <a:pt x="475" y="28"/>
                  </a:lnTo>
                  <a:lnTo>
                    <a:pt x="535" y="56"/>
                  </a:lnTo>
                  <a:lnTo>
                    <a:pt x="599" y="96"/>
                  </a:lnTo>
                  <a:lnTo>
                    <a:pt x="666" y="147"/>
                  </a:lnTo>
                  <a:lnTo>
                    <a:pt x="737" y="209"/>
                  </a:lnTo>
                  <a:lnTo>
                    <a:pt x="830" y="194"/>
                  </a:lnTo>
                  <a:lnTo>
                    <a:pt x="914" y="187"/>
                  </a:lnTo>
                  <a:lnTo>
                    <a:pt x="988" y="187"/>
                  </a:lnTo>
                  <a:lnTo>
                    <a:pt x="1055" y="195"/>
                  </a:lnTo>
                  <a:lnTo>
                    <a:pt x="1115" y="209"/>
                  </a:lnTo>
                  <a:lnTo>
                    <a:pt x="1165" y="230"/>
                  </a:lnTo>
                  <a:lnTo>
                    <a:pt x="1207" y="257"/>
                  </a:lnTo>
                  <a:lnTo>
                    <a:pt x="1242" y="290"/>
                  </a:lnTo>
                  <a:lnTo>
                    <a:pt x="1270" y="327"/>
                  </a:lnTo>
                  <a:lnTo>
                    <a:pt x="1290" y="370"/>
                  </a:lnTo>
                  <a:lnTo>
                    <a:pt x="1303" y="416"/>
                  </a:lnTo>
                  <a:lnTo>
                    <a:pt x="1310" y="467"/>
                  </a:lnTo>
                  <a:lnTo>
                    <a:pt x="1310" y="521"/>
                  </a:lnTo>
                  <a:lnTo>
                    <a:pt x="1303" y="577"/>
                  </a:lnTo>
                  <a:lnTo>
                    <a:pt x="1291" y="637"/>
                  </a:lnTo>
                  <a:lnTo>
                    <a:pt x="1272" y="698"/>
                  </a:lnTo>
                  <a:lnTo>
                    <a:pt x="1247" y="762"/>
                  </a:lnTo>
                  <a:lnTo>
                    <a:pt x="1217" y="825"/>
                  </a:lnTo>
                  <a:lnTo>
                    <a:pt x="1183" y="891"/>
                  </a:lnTo>
                  <a:lnTo>
                    <a:pt x="1142" y="956"/>
                  </a:lnTo>
                  <a:lnTo>
                    <a:pt x="1097" y="1022"/>
                  </a:lnTo>
                  <a:lnTo>
                    <a:pt x="1046" y="1086"/>
                  </a:lnTo>
                  <a:lnTo>
                    <a:pt x="992" y="1151"/>
                  </a:lnTo>
                  <a:lnTo>
                    <a:pt x="934" y="1214"/>
                  </a:lnTo>
                  <a:lnTo>
                    <a:pt x="870" y="1274"/>
                  </a:lnTo>
                  <a:lnTo>
                    <a:pt x="804" y="1333"/>
                  </a:lnTo>
                  <a:lnTo>
                    <a:pt x="734" y="1389"/>
                  </a:lnTo>
                  <a:lnTo>
                    <a:pt x="659" y="1442"/>
                  </a:lnTo>
                  <a:lnTo>
                    <a:pt x="582" y="1491"/>
                  </a:lnTo>
                  <a:lnTo>
                    <a:pt x="502" y="1537"/>
                  </a:lnTo>
                  <a:lnTo>
                    <a:pt x="419" y="1577"/>
                  </a:lnTo>
                  <a:lnTo>
                    <a:pt x="334" y="161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33920" y="4319640"/>
              <a:ext cx="252360" cy="473040"/>
            </a:xfrm>
            <a:custGeom>
              <a:avLst/>
              <a:gdLst/>
              <a:ahLst/>
              <a:rect l="l" t="t" r="r" b="b"/>
              <a:pathLst>
                <a:path w="957" h="1788">
                  <a:moveTo>
                    <a:pt x="825" y="212"/>
                  </a:moveTo>
                  <a:lnTo>
                    <a:pt x="922" y="240"/>
                  </a:lnTo>
                  <a:lnTo>
                    <a:pt x="883" y="204"/>
                  </a:lnTo>
                  <a:lnTo>
                    <a:pt x="845" y="172"/>
                  </a:lnTo>
                  <a:lnTo>
                    <a:pt x="808" y="143"/>
                  </a:lnTo>
                  <a:lnTo>
                    <a:pt x="770" y="115"/>
                  </a:lnTo>
                  <a:lnTo>
                    <a:pt x="733" y="92"/>
                  </a:lnTo>
                  <a:lnTo>
                    <a:pt x="698" y="70"/>
                  </a:lnTo>
                  <a:lnTo>
                    <a:pt x="662" y="51"/>
                  </a:lnTo>
                  <a:lnTo>
                    <a:pt x="625" y="36"/>
                  </a:lnTo>
                  <a:lnTo>
                    <a:pt x="590" y="24"/>
                  </a:lnTo>
                  <a:lnTo>
                    <a:pt x="554" y="13"/>
                  </a:lnTo>
                  <a:lnTo>
                    <a:pt x="518" y="6"/>
                  </a:lnTo>
                  <a:lnTo>
                    <a:pt x="485" y="1"/>
                  </a:lnTo>
                  <a:lnTo>
                    <a:pt x="465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11" y="2"/>
                  </a:lnTo>
                  <a:lnTo>
                    <a:pt x="380" y="7"/>
                  </a:lnTo>
                  <a:lnTo>
                    <a:pt x="346" y="15"/>
                  </a:lnTo>
                  <a:lnTo>
                    <a:pt x="315" y="26"/>
                  </a:lnTo>
                  <a:lnTo>
                    <a:pt x="284" y="39"/>
                  </a:lnTo>
                  <a:lnTo>
                    <a:pt x="256" y="56"/>
                  </a:lnTo>
                  <a:lnTo>
                    <a:pt x="229" y="75"/>
                  </a:lnTo>
                  <a:lnTo>
                    <a:pt x="203" y="96"/>
                  </a:lnTo>
                  <a:lnTo>
                    <a:pt x="180" y="120"/>
                  </a:lnTo>
                  <a:lnTo>
                    <a:pt x="158" y="144"/>
                  </a:lnTo>
                  <a:lnTo>
                    <a:pt x="138" y="171"/>
                  </a:lnTo>
                  <a:lnTo>
                    <a:pt x="120" y="198"/>
                  </a:lnTo>
                  <a:lnTo>
                    <a:pt x="102" y="227"/>
                  </a:lnTo>
                  <a:lnTo>
                    <a:pt x="87" y="258"/>
                  </a:lnTo>
                  <a:lnTo>
                    <a:pt x="73" y="289"/>
                  </a:lnTo>
                  <a:lnTo>
                    <a:pt x="61" y="321"/>
                  </a:lnTo>
                  <a:lnTo>
                    <a:pt x="49" y="355"/>
                  </a:lnTo>
                  <a:lnTo>
                    <a:pt x="39" y="390"/>
                  </a:lnTo>
                  <a:lnTo>
                    <a:pt x="30" y="425"/>
                  </a:lnTo>
                  <a:lnTo>
                    <a:pt x="23" y="462"/>
                  </a:lnTo>
                  <a:lnTo>
                    <a:pt x="16" y="499"/>
                  </a:lnTo>
                  <a:lnTo>
                    <a:pt x="10" y="538"/>
                  </a:lnTo>
                  <a:lnTo>
                    <a:pt x="6" y="577"/>
                  </a:lnTo>
                  <a:lnTo>
                    <a:pt x="4" y="616"/>
                  </a:lnTo>
                  <a:lnTo>
                    <a:pt x="1" y="657"/>
                  </a:lnTo>
                  <a:lnTo>
                    <a:pt x="0" y="699"/>
                  </a:lnTo>
                  <a:lnTo>
                    <a:pt x="0" y="740"/>
                  </a:lnTo>
                  <a:lnTo>
                    <a:pt x="2" y="781"/>
                  </a:lnTo>
                  <a:lnTo>
                    <a:pt x="5" y="825"/>
                  </a:lnTo>
                  <a:lnTo>
                    <a:pt x="8" y="867"/>
                  </a:lnTo>
                  <a:lnTo>
                    <a:pt x="13" y="911"/>
                  </a:lnTo>
                  <a:lnTo>
                    <a:pt x="18" y="955"/>
                  </a:lnTo>
                  <a:lnTo>
                    <a:pt x="26" y="1000"/>
                  </a:lnTo>
                  <a:lnTo>
                    <a:pt x="34" y="1045"/>
                  </a:lnTo>
                  <a:lnTo>
                    <a:pt x="44" y="1089"/>
                  </a:lnTo>
                  <a:lnTo>
                    <a:pt x="54" y="1134"/>
                  </a:lnTo>
                  <a:lnTo>
                    <a:pt x="65" y="1180"/>
                  </a:lnTo>
                  <a:lnTo>
                    <a:pt x="78" y="1224"/>
                  </a:lnTo>
                  <a:lnTo>
                    <a:pt x="92" y="1270"/>
                  </a:lnTo>
                  <a:lnTo>
                    <a:pt x="107" y="1314"/>
                  </a:lnTo>
                  <a:lnTo>
                    <a:pt x="124" y="1359"/>
                  </a:lnTo>
                  <a:lnTo>
                    <a:pt x="142" y="1404"/>
                  </a:lnTo>
                  <a:lnTo>
                    <a:pt x="160" y="1449"/>
                  </a:lnTo>
                  <a:lnTo>
                    <a:pt x="180" y="1492"/>
                  </a:lnTo>
                  <a:lnTo>
                    <a:pt x="202" y="1537"/>
                  </a:lnTo>
                  <a:lnTo>
                    <a:pt x="225" y="1579"/>
                  </a:lnTo>
                  <a:lnTo>
                    <a:pt x="248" y="1623"/>
                  </a:lnTo>
                  <a:lnTo>
                    <a:pt x="274" y="1665"/>
                  </a:lnTo>
                  <a:lnTo>
                    <a:pt x="299" y="1706"/>
                  </a:lnTo>
                  <a:lnTo>
                    <a:pt x="328" y="1748"/>
                  </a:lnTo>
                  <a:lnTo>
                    <a:pt x="357" y="1788"/>
                  </a:lnTo>
                  <a:lnTo>
                    <a:pt x="531" y="1658"/>
                  </a:lnTo>
                  <a:lnTo>
                    <a:pt x="506" y="1624"/>
                  </a:lnTo>
                  <a:lnTo>
                    <a:pt x="481" y="1588"/>
                  </a:lnTo>
                  <a:lnTo>
                    <a:pt x="459" y="1551"/>
                  </a:lnTo>
                  <a:lnTo>
                    <a:pt x="437" y="1515"/>
                  </a:lnTo>
                  <a:lnTo>
                    <a:pt x="415" y="1477"/>
                  </a:lnTo>
                  <a:lnTo>
                    <a:pt x="395" y="1439"/>
                  </a:lnTo>
                  <a:lnTo>
                    <a:pt x="376" y="1400"/>
                  </a:lnTo>
                  <a:lnTo>
                    <a:pt x="360" y="1360"/>
                  </a:lnTo>
                  <a:lnTo>
                    <a:pt x="342" y="1321"/>
                  </a:lnTo>
                  <a:lnTo>
                    <a:pt x="327" y="1282"/>
                  </a:lnTo>
                  <a:lnTo>
                    <a:pt x="313" y="1242"/>
                  </a:lnTo>
                  <a:lnTo>
                    <a:pt x="299" y="1202"/>
                  </a:lnTo>
                  <a:lnTo>
                    <a:pt x="286" y="1163"/>
                  </a:lnTo>
                  <a:lnTo>
                    <a:pt x="275" y="1123"/>
                  </a:lnTo>
                  <a:lnTo>
                    <a:pt x="265" y="1083"/>
                  </a:lnTo>
                  <a:lnTo>
                    <a:pt x="255" y="1042"/>
                  </a:lnTo>
                  <a:lnTo>
                    <a:pt x="247" y="1003"/>
                  </a:lnTo>
                  <a:lnTo>
                    <a:pt x="240" y="963"/>
                  </a:lnTo>
                  <a:lnTo>
                    <a:pt x="234" y="924"/>
                  </a:lnTo>
                  <a:lnTo>
                    <a:pt x="229" y="886"/>
                  </a:lnTo>
                  <a:lnTo>
                    <a:pt x="225" y="847"/>
                  </a:lnTo>
                  <a:lnTo>
                    <a:pt x="221" y="809"/>
                  </a:lnTo>
                  <a:lnTo>
                    <a:pt x="219" y="772"/>
                  </a:lnTo>
                  <a:lnTo>
                    <a:pt x="218" y="736"/>
                  </a:lnTo>
                  <a:lnTo>
                    <a:pt x="218" y="699"/>
                  </a:lnTo>
                  <a:lnTo>
                    <a:pt x="218" y="664"/>
                  </a:lnTo>
                  <a:lnTo>
                    <a:pt x="220" y="630"/>
                  </a:lnTo>
                  <a:lnTo>
                    <a:pt x="222" y="596"/>
                  </a:lnTo>
                  <a:lnTo>
                    <a:pt x="226" y="564"/>
                  </a:lnTo>
                  <a:lnTo>
                    <a:pt x="230" y="532"/>
                  </a:lnTo>
                  <a:lnTo>
                    <a:pt x="236" y="502"/>
                  </a:lnTo>
                  <a:lnTo>
                    <a:pt x="241" y="473"/>
                  </a:lnTo>
                  <a:lnTo>
                    <a:pt x="249" y="446"/>
                  </a:lnTo>
                  <a:lnTo>
                    <a:pt x="256" y="420"/>
                  </a:lnTo>
                  <a:lnTo>
                    <a:pt x="265" y="395"/>
                  </a:lnTo>
                  <a:lnTo>
                    <a:pt x="274" y="372"/>
                  </a:lnTo>
                  <a:lnTo>
                    <a:pt x="284" y="351"/>
                  </a:lnTo>
                  <a:lnTo>
                    <a:pt x="294" y="330"/>
                  </a:lnTo>
                  <a:lnTo>
                    <a:pt x="304" y="313"/>
                  </a:lnTo>
                  <a:lnTo>
                    <a:pt x="315" y="296"/>
                  </a:lnTo>
                  <a:lnTo>
                    <a:pt x="326" y="281"/>
                  </a:lnTo>
                  <a:lnTo>
                    <a:pt x="337" y="268"/>
                  </a:lnTo>
                  <a:lnTo>
                    <a:pt x="348" y="257"/>
                  </a:lnTo>
                  <a:lnTo>
                    <a:pt x="361" y="248"/>
                  </a:lnTo>
                  <a:lnTo>
                    <a:pt x="372" y="240"/>
                  </a:lnTo>
                  <a:lnTo>
                    <a:pt x="384" y="232"/>
                  </a:lnTo>
                  <a:lnTo>
                    <a:pt x="395" y="228"/>
                  </a:lnTo>
                  <a:lnTo>
                    <a:pt x="408" y="223"/>
                  </a:lnTo>
                  <a:lnTo>
                    <a:pt x="420" y="220"/>
                  </a:lnTo>
                  <a:lnTo>
                    <a:pt x="437" y="218"/>
                  </a:lnTo>
                  <a:lnTo>
                    <a:pt x="441" y="218"/>
                  </a:lnTo>
                  <a:lnTo>
                    <a:pt x="449" y="218"/>
                  </a:lnTo>
                  <a:lnTo>
                    <a:pt x="458" y="218"/>
                  </a:lnTo>
                  <a:lnTo>
                    <a:pt x="463" y="218"/>
                  </a:lnTo>
                  <a:lnTo>
                    <a:pt x="483" y="220"/>
                  </a:lnTo>
                  <a:lnTo>
                    <a:pt x="501" y="223"/>
                  </a:lnTo>
                  <a:lnTo>
                    <a:pt x="523" y="230"/>
                  </a:lnTo>
                  <a:lnTo>
                    <a:pt x="545" y="238"/>
                  </a:lnTo>
                  <a:lnTo>
                    <a:pt x="568" y="248"/>
                  </a:lnTo>
                  <a:lnTo>
                    <a:pt x="593" y="261"/>
                  </a:lnTo>
                  <a:lnTo>
                    <a:pt x="620" y="277"/>
                  </a:lnTo>
                  <a:lnTo>
                    <a:pt x="649" y="295"/>
                  </a:lnTo>
                  <a:lnTo>
                    <a:pt x="677" y="316"/>
                  </a:lnTo>
                  <a:lnTo>
                    <a:pt x="708" y="339"/>
                  </a:lnTo>
                  <a:lnTo>
                    <a:pt x="739" y="367"/>
                  </a:lnTo>
                  <a:lnTo>
                    <a:pt x="773" y="396"/>
                  </a:lnTo>
                  <a:lnTo>
                    <a:pt x="869" y="424"/>
                  </a:lnTo>
                  <a:lnTo>
                    <a:pt x="773" y="396"/>
                  </a:lnTo>
                  <a:lnTo>
                    <a:pt x="781" y="405"/>
                  </a:lnTo>
                  <a:lnTo>
                    <a:pt x="792" y="413"/>
                  </a:lnTo>
                  <a:lnTo>
                    <a:pt x="803" y="419"/>
                  </a:lnTo>
                  <a:lnTo>
                    <a:pt x="813" y="423"/>
                  </a:lnTo>
                  <a:lnTo>
                    <a:pt x="823" y="426"/>
                  </a:lnTo>
                  <a:lnTo>
                    <a:pt x="834" y="428"/>
                  </a:lnTo>
                  <a:lnTo>
                    <a:pt x="844" y="429"/>
                  </a:lnTo>
                  <a:lnTo>
                    <a:pt x="854" y="429"/>
                  </a:lnTo>
                  <a:lnTo>
                    <a:pt x="864" y="428"/>
                  </a:lnTo>
                  <a:lnTo>
                    <a:pt x="874" y="424"/>
                  </a:lnTo>
                  <a:lnTo>
                    <a:pt x="884" y="422"/>
                  </a:lnTo>
                  <a:lnTo>
                    <a:pt x="893" y="417"/>
                  </a:lnTo>
                  <a:lnTo>
                    <a:pt x="902" y="412"/>
                  </a:lnTo>
                  <a:lnTo>
                    <a:pt x="910" y="406"/>
                  </a:lnTo>
                  <a:lnTo>
                    <a:pt x="918" y="400"/>
                  </a:lnTo>
                  <a:lnTo>
                    <a:pt x="925" y="393"/>
                  </a:lnTo>
                  <a:lnTo>
                    <a:pt x="932" y="385"/>
                  </a:lnTo>
                  <a:lnTo>
                    <a:pt x="938" y="377"/>
                  </a:lnTo>
                  <a:lnTo>
                    <a:pt x="943" y="368"/>
                  </a:lnTo>
                  <a:lnTo>
                    <a:pt x="948" y="359"/>
                  </a:lnTo>
                  <a:lnTo>
                    <a:pt x="951" y="351"/>
                  </a:lnTo>
                  <a:lnTo>
                    <a:pt x="954" y="340"/>
                  </a:lnTo>
                  <a:lnTo>
                    <a:pt x="956" y="330"/>
                  </a:lnTo>
                  <a:lnTo>
                    <a:pt x="957" y="320"/>
                  </a:lnTo>
                  <a:lnTo>
                    <a:pt x="957" y="310"/>
                  </a:lnTo>
                  <a:lnTo>
                    <a:pt x="956" y="299"/>
                  </a:lnTo>
                  <a:lnTo>
                    <a:pt x="953" y="289"/>
                  </a:lnTo>
                  <a:lnTo>
                    <a:pt x="950" y="279"/>
                  </a:lnTo>
                  <a:lnTo>
                    <a:pt x="944" y="269"/>
                  </a:lnTo>
                  <a:lnTo>
                    <a:pt x="938" y="259"/>
                  </a:lnTo>
                  <a:lnTo>
                    <a:pt x="931" y="249"/>
                  </a:lnTo>
                  <a:lnTo>
                    <a:pt x="922" y="240"/>
                  </a:lnTo>
                  <a:lnTo>
                    <a:pt x="825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22840" y="4368960"/>
              <a:ext cx="315720" cy="436320"/>
            </a:xfrm>
            <a:custGeom>
              <a:avLst/>
              <a:gdLst/>
              <a:ahLst/>
              <a:rect l="l" t="t" r="r" b="b"/>
              <a:pathLst>
                <a:path w="1194" h="1648">
                  <a:moveTo>
                    <a:pt x="22" y="1603"/>
                  </a:moveTo>
                  <a:lnTo>
                    <a:pt x="148" y="1640"/>
                  </a:lnTo>
                  <a:lnTo>
                    <a:pt x="194" y="1621"/>
                  </a:lnTo>
                  <a:lnTo>
                    <a:pt x="239" y="1601"/>
                  </a:lnTo>
                  <a:lnTo>
                    <a:pt x="285" y="1579"/>
                  </a:lnTo>
                  <a:lnTo>
                    <a:pt x="328" y="1557"/>
                  </a:lnTo>
                  <a:lnTo>
                    <a:pt x="372" y="1533"/>
                  </a:lnTo>
                  <a:lnTo>
                    <a:pt x="414" y="1508"/>
                  </a:lnTo>
                  <a:lnTo>
                    <a:pt x="455" y="1482"/>
                  </a:lnTo>
                  <a:lnTo>
                    <a:pt x="496" y="1456"/>
                  </a:lnTo>
                  <a:lnTo>
                    <a:pt x="536" y="1428"/>
                  </a:lnTo>
                  <a:lnTo>
                    <a:pt x="574" y="1400"/>
                  </a:lnTo>
                  <a:lnTo>
                    <a:pt x="612" y="1371"/>
                  </a:lnTo>
                  <a:lnTo>
                    <a:pt x="648" y="1341"/>
                  </a:lnTo>
                  <a:lnTo>
                    <a:pt x="684" y="1309"/>
                  </a:lnTo>
                  <a:lnTo>
                    <a:pt x="719" y="1278"/>
                  </a:lnTo>
                  <a:lnTo>
                    <a:pt x="753" y="1246"/>
                  </a:lnTo>
                  <a:lnTo>
                    <a:pt x="786" y="1213"/>
                  </a:lnTo>
                  <a:lnTo>
                    <a:pt x="817" y="1180"/>
                  </a:lnTo>
                  <a:lnTo>
                    <a:pt x="848" y="1146"/>
                  </a:lnTo>
                  <a:lnTo>
                    <a:pt x="878" y="1113"/>
                  </a:lnTo>
                  <a:lnTo>
                    <a:pt x="906" y="1078"/>
                  </a:lnTo>
                  <a:lnTo>
                    <a:pt x="933" y="1045"/>
                  </a:lnTo>
                  <a:lnTo>
                    <a:pt x="960" y="1009"/>
                  </a:lnTo>
                  <a:lnTo>
                    <a:pt x="984" y="975"/>
                  </a:lnTo>
                  <a:lnTo>
                    <a:pt x="1008" y="940"/>
                  </a:lnTo>
                  <a:lnTo>
                    <a:pt x="1030" y="904"/>
                  </a:lnTo>
                  <a:lnTo>
                    <a:pt x="1051" y="869"/>
                  </a:lnTo>
                  <a:lnTo>
                    <a:pt x="1071" y="833"/>
                  </a:lnTo>
                  <a:lnTo>
                    <a:pt x="1089" y="798"/>
                  </a:lnTo>
                  <a:lnTo>
                    <a:pt x="1107" y="763"/>
                  </a:lnTo>
                  <a:lnTo>
                    <a:pt x="1123" y="728"/>
                  </a:lnTo>
                  <a:lnTo>
                    <a:pt x="1136" y="692"/>
                  </a:lnTo>
                  <a:lnTo>
                    <a:pt x="1150" y="658"/>
                  </a:lnTo>
                  <a:lnTo>
                    <a:pt x="1161" y="622"/>
                  </a:lnTo>
                  <a:lnTo>
                    <a:pt x="1171" y="587"/>
                  </a:lnTo>
                  <a:lnTo>
                    <a:pt x="1179" y="553"/>
                  </a:lnTo>
                  <a:lnTo>
                    <a:pt x="1185" y="518"/>
                  </a:lnTo>
                  <a:lnTo>
                    <a:pt x="1190" y="485"/>
                  </a:lnTo>
                  <a:lnTo>
                    <a:pt x="1193" y="451"/>
                  </a:lnTo>
                  <a:lnTo>
                    <a:pt x="1194" y="417"/>
                  </a:lnTo>
                  <a:lnTo>
                    <a:pt x="1193" y="384"/>
                  </a:lnTo>
                  <a:lnTo>
                    <a:pt x="1190" y="351"/>
                  </a:lnTo>
                  <a:lnTo>
                    <a:pt x="1185" y="318"/>
                  </a:lnTo>
                  <a:lnTo>
                    <a:pt x="1177" y="286"/>
                  </a:lnTo>
                  <a:lnTo>
                    <a:pt x="1166" y="256"/>
                  </a:lnTo>
                  <a:lnTo>
                    <a:pt x="1154" y="225"/>
                  </a:lnTo>
                  <a:lnTo>
                    <a:pt x="1138" y="196"/>
                  </a:lnTo>
                  <a:lnTo>
                    <a:pt x="1119" y="168"/>
                  </a:lnTo>
                  <a:lnTo>
                    <a:pt x="1098" y="141"/>
                  </a:lnTo>
                  <a:lnTo>
                    <a:pt x="1074" y="118"/>
                  </a:lnTo>
                  <a:lnTo>
                    <a:pt x="1048" y="94"/>
                  </a:lnTo>
                  <a:lnTo>
                    <a:pt x="1020" y="75"/>
                  </a:lnTo>
                  <a:lnTo>
                    <a:pt x="989" y="57"/>
                  </a:lnTo>
                  <a:lnTo>
                    <a:pt x="957" y="43"/>
                  </a:lnTo>
                  <a:lnTo>
                    <a:pt x="923" y="29"/>
                  </a:lnTo>
                  <a:lnTo>
                    <a:pt x="887" y="19"/>
                  </a:lnTo>
                  <a:lnTo>
                    <a:pt x="849" y="12"/>
                  </a:lnTo>
                  <a:lnTo>
                    <a:pt x="810" y="6"/>
                  </a:lnTo>
                  <a:lnTo>
                    <a:pt x="770" y="3"/>
                  </a:lnTo>
                  <a:lnTo>
                    <a:pt x="728" y="0"/>
                  </a:lnTo>
                  <a:lnTo>
                    <a:pt x="684" y="1"/>
                  </a:lnTo>
                  <a:lnTo>
                    <a:pt x="638" y="5"/>
                  </a:lnTo>
                  <a:lnTo>
                    <a:pt x="590" y="10"/>
                  </a:lnTo>
                  <a:lnTo>
                    <a:pt x="541" y="17"/>
                  </a:lnTo>
                  <a:lnTo>
                    <a:pt x="490" y="27"/>
                  </a:lnTo>
                  <a:lnTo>
                    <a:pt x="534" y="239"/>
                  </a:lnTo>
                  <a:lnTo>
                    <a:pt x="577" y="231"/>
                  </a:lnTo>
                  <a:lnTo>
                    <a:pt x="618" y="225"/>
                  </a:lnTo>
                  <a:lnTo>
                    <a:pt x="657" y="221"/>
                  </a:lnTo>
                  <a:lnTo>
                    <a:pt x="693" y="219"/>
                  </a:lnTo>
                  <a:lnTo>
                    <a:pt x="727" y="218"/>
                  </a:lnTo>
                  <a:lnTo>
                    <a:pt x="758" y="219"/>
                  </a:lnTo>
                  <a:lnTo>
                    <a:pt x="787" y="221"/>
                  </a:lnTo>
                  <a:lnTo>
                    <a:pt x="811" y="226"/>
                  </a:lnTo>
                  <a:lnTo>
                    <a:pt x="835" y="230"/>
                  </a:lnTo>
                  <a:lnTo>
                    <a:pt x="856" y="236"/>
                  </a:lnTo>
                  <a:lnTo>
                    <a:pt x="874" y="243"/>
                  </a:lnTo>
                  <a:lnTo>
                    <a:pt x="890" y="250"/>
                  </a:lnTo>
                  <a:lnTo>
                    <a:pt x="904" y="258"/>
                  </a:lnTo>
                  <a:lnTo>
                    <a:pt x="916" y="267"/>
                  </a:lnTo>
                  <a:lnTo>
                    <a:pt x="927" y="276"/>
                  </a:lnTo>
                  <a:lnTo>
                    <a:pt x="936" y="286"/>
                  </a:lnTo>
                  <a:lnTo>
                    <a:pt x="944" y="295"/>
                  </a:lnTo>
                  <a:lnTo>
                    <a:pt x="951" y="307"/>
                  </a:lnTo>
                  <a:lnTo>
                    <a:pt x="958" y="318"/>
                  </a:lnTo>
                  <a:lnTo>
                    <a:pt x="963" y="331"/>
                  </a:lnTo>
                  <a:lnTo>
                    <a:pt x="968" y="346"/>
                  </a:lnTo>
                  <a:lnTo>
                    <a:pt x="972" y="362"/>
                  </a:lnTo>
                  <a:lnTo>
                    <a:pt x="974" y="379"/>
                  </a:lnTo>
                  <a:lnTo>
                    <a:pt x="977" y="397"/>
                  </a:lnTo>
                  <a:lnTo>
                    <a:pt x="977" y="417"/>
                  </a:lnTo>
                  <a:lnTo>
                    <a:pt x="977" y="438"/>
                  </a:lnTo>
                  <a:lnTo>
                    <a:pt x="974" y="460"/>
                  </a:lnTo>
                  <a:lnTo>
                    <a:pt x="971" y="484"/>
                  </a:lnTo>
                  <a:lnTo>
                    <a:pt x="967" y="508"/>
                  </a:lnTo>
                  <a:lnTo>
                    <a:pt x="960" y="534"/>
                  </a:lnTo>
                  <a:lnTo>
                    <a:pt x="953" y="559"/>
                  </a:lnTo>
                  <a:lnTo>
                    <a:pt x="944" y="586"/>
                  </a:lnTo>
                  <a:lnTo>
                    <a:pt x="934" y="614"/>
                  </a:lnTo>
                  <a:lnTo>
                    <a:pt x="923" y="642"/>
                  </a:lnTo>
                  <a:lnTo>
                    <a:pt x="910" y="671"/>
                  </a:lnTo>
                  <a:lnTo>
                    <a:pt x="896" y="700"/>
                  </a:lnTo>
                  <a:lnTo>
                    <a:pt x="881" y="730"/>
                  </a:lnTo>
                  <a:lnTo>
                    <a:pt x="864" y="760"/>
                  </a:lnTo>
                  <a:lnTo>
                    <a:pt x="845" y="790"/>
                  </a:lnTo>
                  <a:lnTo>
                    <a:pt x="826" y="821"/>
                  </a:lnTo>
                  <a:lnTo>
                    <a:pt x="806" y="851"/>
                  </a:lnTo>
                  <a:lnTo>
                    <a:pt x="785" y="881"/>
                  </a:lnTo>
                  <a:lnTo>
                    <a:pt x="761" y="912"/>
                  </a:lnTo>
                  <a:lnTo>
                    <a:pt x="738" y="942"/>
                  </a:lnTo>
                  <a:lnTo>
                    <a:pt x="712" y="972"/>
                  </a:lnTo>
                  <a:lnTo>
                    <a:pt x="686" y="1003"/>
                  </a:lnTo>
                  <a:lnTo>
                    <a:pt x="660" y="1032"/>
                  </a:lnTo>
                  <a:lnTo>
                    <a:pt x="631" y="1062"/>
                  </a:lnTo>
                  <a:lnTo>
                    <a:pt x="602" y="1091"/>
                  </a:lnTo>
                  <a:lnTo>
                    <a:pt x="573" y="1119"/>
                  </a:lnTo>
                  <a:lnTo>
                    <a:pt x="541" y="1146"/>
                  </a:lnTo>
                  <a:lnTo>
                    <a:pt x="509" y="1173"/>
                  </a:lnTo>
                  <a:lnTo>
                    <a:pt x="477" y="1200"/>
                  </a:lnTo>
                  <a:lnTo>
                    <a:pt x="443" y="1227"/>
                  </a:lnTo>
                  <a:lnTo>
                    <a:pt x="409" y="1251"/>
                  </a:lnTo>
                  <a:lnTo>
                    <a:pt x="374" y="1276"/>
                  </a:lnTo>
                  <a:lnTo>
                    <a:pt x="338" y="1299"/>
                  </a:lnTo>
                  <a:lnTo>
                    <a:pt x="301" y="1323"/>
                  </a:lnTo>
                  <a:lnTo>
                    <a:pt x="265" y="1344"/>
                  </a:lnTo>
                  <a:lnTo>
                    <a:pt x="227" y="1365"/>
                  </a:lnTo>
                  <a:lnTo>
                    <a:pt x="189" y="1384"/>
                  </a:lnTo>
                  <a:lnTo>
                    <a:pt x="150" y="1403"/>
                  </a:lnTo>
                  <a:lnTo>
                    <a:pt x="109" y="1421"/>
                  </a:lnTo>
                  <a:lnTo>
                    <a:pt x="70" y="1437"/>
                  </a:lnTo>
                  <a:lnTo>
                    <a:pt x="196" y="1473"/>
                  </a:lnTo>
                  <a:lnTo>
                    <a:pt x="70" y="1437"/>
                  </a:lnTo>
                  <a:lnTo>
                    <a:pt x="58" y="1442"/>
                  </a:lnTo>
                  <a:lnTo>
                    <a:pt x="47" y="1449"/>
                  </a:lnTo>
                  <a:lnTo>
                    <a:pt x="37" y="1456"/>
                  </a:lnTo>
                  <a:lnTo>
                    <a:pt x="29" y="1462"/>
                  </a:lnTo>
                  <a:lnTo>
                    <a:pt x="21" y="1471"/>
                  </a:lnTo>
                  <a:lnTo>
                    <a:pt x="16" y="1479"/>
                  </a:lnTo>
                  <a:lnTo>
                    <a:pt x="10" y="1489"/>
                  </a:lnTo>
                  <a:lnTo>
                    <a:pt x="6" y="1498"/>
                  </a:lnTo>
                  <a:lnTo>
                    <a:pt x="3" y="1508"/>
                  </a:lnTo>
                  <a:lnTo>
                    <a:pt x="1" y="1517"/>
                  </a:lnTo>
                  <a:lnTo>
                    <a:pt x="0" y="1528"/>
                  </a:lnTo>
                  <a:lnTo>
                    <a:pt x="0" y="1538"/>
                  </a:lnTo>
                  <a:lnTo>
                    <a:pt x="0" y="1548"/>
                  </a:lnTo>
                  <a:lnTo>
                    <a:pt x="2" y="1558"/>
                  </a:lnTo>
                  <a:lnTo>
                    <a:pt x="5" y="1567"/>
                  </a:lnTo>
                  <a:lnTo>
                    <a:pt x="8" y="1577"/>
                  </a:lnTo>
                  <a:lnTo>
                    <a:pt x="11" y="1586"/>
                  </a:lnTo>
                  <a:lnTo>
                    <a:pt x="17" y="1595"/>
                  </a:lnTo>
                  <a:lnTo>
                    <a:pt x="22" y="1604"/>
                  </a:lnTo>
                  <a:lnTo>
                    <a:pt x="28" y="1612"/>
                  </a:lnTo>
                  <a:lnTo>
                    <a:pt x="36" y="1620"/>
                  </a:lnTo>
                  <a:lnTo>
                    <a:pt x="42" y="1626"/>
                  </a:lnTo>
                  <a:lnTo>
                    <a:pt x="51" y="1632"/>
                  </a:lnTo>
                  <a:lnTo>
                    <a:pt x="60" y="1638"/>
                  </a:lnTo>
                  <a:lnTo>
                    <a:pt x="69" y="1641"/>
                  </a:lnTo>
                  <a:lnTo>
                    <a:pt x="79" y="1644"/>
                  </a:lnTo>
                  <a:lnTo>
                    <a:pt x="89" y="1646"/>
                  </a:lnTo>
                  <a:lnTo>
                    <a:pt x="101" y="1648"/>
                  </a:lnTo>
                  <a:lnTo>
                    <a:pt x="112" y="1648"/>
                  </a:lnTo>
                  <a:lnTo>
                    <a:pt x="123" y="1646"/>
                  </a:lnTo>
                  <a:lnTo>
                    <a:pt x="135" y="1643"/>
                  </a:lnTo>
                  <a:lnTo>
                    <a:pt x="148" y="1640"/>
                  </a:lnTo>
                  <a:lnTo>
                    <a:pt x="22" y="1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111640" y="4044960"/>
            <a:ext cx="473040" cy="563400"/>
            <a:chOff x="5111640" y="4044960"/>
            <a:chExt cx="473040" cy="563400"/>
          </a:xfrm>
        </p:grpSpPr>
        <p:sp>
          <p:nvSpPr>
            <p:cNvPr id="908" name=""/>
            <p:cNvSpPr/>
            <p:nvPr/>
          </p:nvSpPr>
          <p:spPr>
            <a:xfrm>
              <a:off x="5140440" y="4073400"/>
              <a:ext cx="414360" cy="505080"/>
            </a:xfrm>
            <a:custGeom>
              <a:avLst/>
              <a:gdLst/>
              <a:ahLst/>
              <a:rect l="l" t="t" r="r" b="b"/>
              <a:pathLst>
                <a:path w="1569" h="1912">
                  <a:moveTo>
                    <a:pt x="858" y="1912"/>
                  </a:moveTo>
                  <a:lnTo>
                    <a:pt x="768" y="1846"/>
                  </a:lnTo>
                  <a:lnTo>
                    <a:pt x="681" y="1776"/>
                  </a:lnTo>
                  <a:lnTo>
                    <a:pt x="600" y="1700"/>
                  </a:lnTo>
                  <a:lnTo>
                    <a:pt x="523" y="1621"/>
                  </a:lnTo>
                  <a:lnTo>
                    <a:pt x="450" y="1539"/>
                  </a:lnTo>
                  <a:lnTo>
                    <a:pt x="383" y="1453"/>
                  </a:lnTo>
                  <a:lnTo>
                    <a:pt x="321" y="1366"/>
                  </a:lnTo>
                  <a:lnTo>
                    <a:pt x="264" y="1278"/>
                  </a:lnTo>
                  <a:lnTo>
                    <a:pt x="211" y="1188"/>
                  </a:lnTo>
                  <a:lnTo>
                    <a:pt x="164" y="1097"/>
                  </a:lnTo>
                  <a:lnTo>
                    <a:pt x="124" y="1008"/>
                  </a:lnTo>
                  <a:lnTo>
                    <a:pt x="88" y="919"/>
                  </a:lnTo>
                  <a:lnTo>
                    <a:pt x="58" y="830"/>
                  </a:lnTo>
                  <a:lnTo>
                    <a:pt x="35" y="743"/>
                  </a:lnTo>
                  <a:lnTo>
                    <a:pt x="17" y="660"/>
                  </a:lnTo>
                  <a:lnTo>
                    <a:pt x="6" y="579"/>
                  </a:lnTo>
                  <a:lnTo>
                    <a:pt x="0" y="501"/>
                  </a:lnTo>
                  <a:lnTo>
                    <a:pt x="1" y="429"/>
                  </a:lnTo>
                  <a:lnTo>
                    <a:pt x="9" y="359"/>
                  </a:lnTo>
                  <a:lnTo>
                    <a:pt x="24" y="296"/>
                  </a:lnTo>
                  <a:lnTo>
                    <a:pt x="45" y="239"/>
                  </a:lnTo>
                  <a:lnTo>
                    <a:pt x="74" y="188"/>
                  </a:lnTo>
                  <a:lnTo>
                    <a:pt x="109" y="143"/>
                  </a:lnTo>
                  <a:lnTo>
                    <a:pt x="151" y="106"/>
                  </a:lnTo>
                  <a:lnTo>
                    <a:pt x="201" y="77"/>
                  </a:lnTo>
                  <a:lnTo>
                    <a:pt x="258" y="57"/>
                  </a:lnTo>
                  <a:lnTo>
                    <a:pt x="323" y="47"/>
                  </a:lnTo>
                  <a:lnTo>
                    <a:pt x="395" y="45"/>
                  </a:lnTo>
                  <a:lnTo>
                    <a:pt x="476" y="55"/>
                  </a:lnTo>
                  <a:lnTo>
                    <a:pt x="565" y="75"/>
                  </a:lnTo>
                  <a:lnTo>
                    <a:pt x="661" y="106"/>
                  </a:lnTo>
                  <a:lnTo>
                    <a:pt x="766" y="150"/>
                  </a:lnTo>
                  <a:lnTo>
                    <a:pt x="866" y="95"/>
                  </a:lnTo>
                  <a:lnTo>
                    <a:pt x="959" y="54"/>
                  </a:lnTo>
                  <a:lnTo>
                    <a:pt x="1045" y="25"/>
                  </a:lnTo>
                  <a:lnTo>
                    <a:pt x="1124" y="7"/>
                  </a:lnTo>
                  <a:lnTo>
                    <a:pt x="1197" y="0"/>
                  </a:lnTo>
                  <a:lnTo>
                    <a:pt x="1262" y="5"/>
                  </a:lnTo>
                  <a:lnTo>
                    <a:pt x="1322" y="19"/>
                  </a:lnTo>
                  <a:lnTo>
                    <a:pt x="1375" y="43"/>
                  </a:lnTo>
                  <a:lnTo>
                    <a:pt x="1421" y="74"/>
                  </a:lnTo>
                  <a:lnTo>
                    <a:pt x="1461" y="115"/>
                  </a:lnTo>
                  <a:lnTo>
                    <a:pt x="1495" y="163"/>
                  </a:lnTo>
                  <a:lnTo>
                    <a:pt x="1521" y="218"/>
                  </a:lnTo>
                  <a:lnTo>
                    <a:pt x="1543" y="279"/>
                  </a:lnTo>
                  <a:lnTo>
                    <a:pt x="1557" y="347"/>
                  </a:lnTo>
                  <a:lnTo>
                    <a:pt x="1566" y="420"/>
                  </a:lnTo>
                  <a:lnTo>
                    <a:pt x="1569" y="497"/>
                  </a:lnTo>
                  <a:lnTo>
                    <a:pt x="1566" y="578"/>
                  </a:lnTo>
                  <a:lnTo>
                    <a:pt x="1557" y="664"/>
                  </a:lnTo>
                  <a:lnTo>
                    <a:pt x="1543" y="752"/>
                  </a:lnTo>
                  <a:lnTo>
                    <a:pt x="1523" y="843"/>
                  </a:lnTo>
                  <a:lnTo>
                    <a:pt x="1497" y="935"/>
                  </a:lnTo>
                  <a:lnTo>
                    <a:pt x="1464" y="1029"/>
                  </a:lnTo>
                  <a:lnTo>
                    <a:pt x="1428" y="1124"/>
                  </a:lnTo>
                  <a:lnTo>
                    <a:pt x="1385" y="1219"/>
                  </a:lnTo>
                  <a:lnTo>
                    <a:pt x="1337" y="1313"/>
                  </a:lnTo>
                  <a:lnTo>
                    <a:pt x="1285" y="1406"/>
                  </a:lnTo>
                  <a:lnTo>
                    <a:pt x="1226" y="1498"/>
                  </a:lnTo>
                  <a:lnTo>
                    <a:pt x="1162" y="1587"/>
                  </a:lnTo>
                  <a:lnTo>
                    <a:pt x="1094" y="1674"/>
                  </a:lnTo>
                  <a:lnTo>
                    <a:pt x="1020" y="1758"/>
                  </a:lnTo>
                  <a:lnTo>
                    <a:pt x="942" y="1837"/>
                  </a:lnTo>
                  <a:lnTo>
                    <a:pt x="858" y="191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11640" y="4056120"/>
              <a:ext cx="271440" cy="547560"/>
            </a:xfrm>
            <a:custGeom>
              <a:avLst/>
              <a:gdLst/>
              <a:ahLst/>
              <a:rect l="l" t="t" r="r" b="b"/>
              <a:pathLst>
                <a:path w="1029" h="2067">
                  <a:moveTo>
                    <a:pt x="820" y="121"/>
                  </a:moveTo>
                  <a:lnTo>
                    <a:pt x="920" y="115"/>
                  </a:lnTo>
                  <a:lnTo>
                    <a:pt x="863" y="91"/>
                  </a:lnTo>
                  <a:lnTo>
                    <a:pt x="808" y="68"/>
                  </a:lnTo>
                  <a:lnTo>
                    <a:pt x="754" y="51"/>
                  </a:lnTo>
                  <a:lnTo>
                    <a:pt x="703" y="35"/>
                  </a:lnTo>
                  <a:lnTo>
                    <a:pt x="652" y="23"/>
                  </a:lnTo>
                  <a:lnTo>
                    <a:pt x="605" y="13"/>
                  </a:lnTo>
                  <a:lnTo>
                    <a:pt x="579" y="8"/>
                  </a:lnTo>
                  <a:lnTo>
                    <a:pt x="556" y="6"/>
                  </a:lnTo>
                  <a:lnTo>
                    <a:pt x="533" y="4"/>
                  </a:lnTo>
                  <a:lnTo>
                    <a:pt x="510" y="2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44" y="2"/>
                  </a:lnTo>
                  <a:lnTo>
                    <a:pt x="422" y="3"/>
                  </a:lnTo>
                  <a:lnTo>
                    <a:pt x="402" y="6"/>
                  </a:lnTo>
                  <a:lnTo>
                    <a:pt x="380" y="8"/>
                  </a:lnTo>
                  <a:lnTo>
                    <a:pt x="360" y="13"/>
                  </a:lnTo>
                  <a:lnTo>
                    <a:pt x="340" y="17"/>
                  </a:lnTo>
                  <a:lnTo>
                    <a:pt x="320" y="23"/>
                  </a:lnTo>
                  <a:lnTo>
                    <a:pt x="302" y="29"/>
                  </a:lnTo>
                  <a:lnTo>
                    <a:pt x="283" y="36"/>
                  </a:lnTo>
                  <a:lnTo>
                    <a:pt x="264" y="44"/>
                  </a:lnTo>
                  <a:lnTo>
                    <a:pt x="247" y="53"/>
                  </a:lnTo>
                  <a:lnTo>
                    <a:pt x="230" y="62"/>
                  </a:lnTo>
                  <a:lnTo>
                    <a:pt x="213" y="72"/>
                  </a:lnTo>
                  <a:lnTo>
                    <a:pt x="197" y="83"/>
                  </a:lnTo>
                  <a:lnTo>
                    <a:pt x="182" y="94"/>
                  </a:lnTo>
                  <a:lnTo>
                    <a:pt x="167" y="106"/>
                  </a:lnTo>
                  <a:lnTo>
                    <a:pt x="153" y="120"/>
                  </a:lnTo>
                  <a:lnTo>
                    <a:pt x="139" y="133"/>
                  </a:lnTo>
                  <a:lnTo>
                    <a:pt x="126" y="148"/>
                  </a:lnTo>
                  <a:lnTo>
                    <a:pt x="114" y="162"/>
                  </a:lnTo>
                  <a:lnTo>
                    <a:pt x="103" y="177"/>
                  </a:lnTo>
                  <a:lnTo>
                    <a:pt x="91" y="192"/>
                  </a:lnTo>
                  <a:lnTo>
                    <a:pt x="81" y="209"/>
                  </a:lnTo>
                  <a:lnTo>
                    <a:pt x="72" y="225"/>
                  </a:lnTo>
                  <a:lnTo>
                    <a:pt x="64" y="241"/>
                  </a:lnTo>
                  <a:lnTo>
                    <a:pt x="55" y="260"/>
                  </a:lnTo>
                  <a:lnTo>
                    <a:pt x="41" y="294"/>
                  </a:lnTo>
                  <a:lnTo>
                    <a:pt x="29" y="331"/>
                  </a:lnTo>
                  <a:lnTo>
                    <a:pt x="19" y="369"/>
                  </a:lnTo>
                  <a:lnTo>
                    <a:pt x="11" y="407"/>
                  </a:lnTo>
                  <a:lnTo>
                    <a:pt x="5" y="447"/>
                  </a:lnTo>
                  <a:lnTo>
                    <a:pt x="2" y="487"/>
                  </a:lnTo>
                  <a:lnTo>
                    <a:pt x="0" y="528"/>
                  </a:lnTo>
                  <a:lnTo>
                    <a:pt x="1" y="570"/>
                  </a:lnTo>
                  <a:lnTo>
                    <a:pt x="3" y="612"/>
                  </a:lnTo>
                  <a:lnTo>
                    <a:pt x="7" y="655"/>
                  </a:lnTo>
                  <a:lnTo>
                    <a:pt x="12" y="699"/>
                  </a:lnTo>
                  <a:lnTo>
                    <a:pt x="19" y="744"/>
                  </a:lnTo>
                  <a:lnTo>
                    <a:pt x="28" y="788"/>
                  </a:lnTo>
                  <a:lnTo>
                    <a:pt x="39" y="834"/>
                  </a:lnTo>
                  <a:lnTo>
                    <a:pt x="50" y="880"/>
                  </a:lnTo>
                  <a:lnTo>
                    <a:pt x="64" y="927"/>
                  </a:lnTo>
                  <a:lnTo>
                    <a:pt x="79" y="974"/>
                  </a:lnTo>
                  <a:lnTo>
                    <a:pt x="95" y="1020"/>
                  </a:lnTo>
                  <a:lnTo>
                    <a:pt x="113" y="1067"/>
                  </a:lnTo>
                  <a:lnTo>
                    <a:pt x="133" y="1115"/>
                  </a:lnTo>
                  <a:lnTo>
                    <a:pt x="154" y="1162"/>
                  </a:lnTo>
                  <a:lnTo>
                    <a:pt x="176" y="1210"/>
                  </a:lnTo>
                  <a:lnTo>
                    <a:pt x="200" y="1257"/>
                  </a:lnTo>
                  <a:lnTo>
                    <a:pt x="225" y="1305"/>
                  </a:lnTo>
                  <a:lnTo>
                    <a:pt x="252" y="1352"/>
                  </a:lnTo>
                  <a:lnTo>
                    <a:pt x="280" y="1399"/>
                  </a:lnTo>
                  <a:lnTo>
                    <a:pt x="309" y="1446"/>
                  </a:lnTo>
                  <a:lnTo>
                    <a:pt x="340" y="1492"/>
                  </a:lnTo>
                  <a:lnTo>
                    <a:pt x="372" y="1538"/>
                  </a:lnTo>
                  <a:lnTo>
                    <a:pt x="405" y="1584"/>
                  </a:lnTo>
                  <a:lnTo>
                    <a:pt x="440" y="1629"/>
                  </a:lnTo>
                  <a:lnTo>
                    <a:pt x="476" y="1673"/>
                  </a:lnTo>
                  <a:lnTo>
                    <a:pt x="513" y="1717"/>
                  </a:lnTo>
                  <a:lnTo>
                    <a:pt x="552" y="1759"/>
                  </a:lnTo>
                  <a:lnTo>
                    <a:pt x="591" y="1802"/>
                  </a:lnTo>
                  <a:lnTo>
                    <a:pt x="633" y="1843"/>
                  </a:lnTo>
                  <a:lnTo>
                    <a:pt x="675" y="1883"/>
                  </a:lnTo>
                  <a:lnTo>
                    <a:pt x="719" y="1922"/>
                  </a:lnTo>
                  <a:lnTo>
                    <a:pt x="764" y="1960"/>
                  </a:lnTo>
                  <a:lnTo>
                    <a:pt x="810" y="1997"/>
                  </a:lnTo>
                  <a:lnTo>
                    <a:pt x="858" y="2033"/>
                  </a:lnTo>
                  <a:lnTo>
                    <a:pt x="906" y="2067"/>
                  </a:lnTo>
                  <a:lnTo>
                    <a:pt x="1029" y="1888"/>
                  </a:lnTo>
                  <a:lnTo>
                    <a:pt x="985" y="1857"/>
                  </a:lnTo>
                  <a:lnTo>
                    <a:pt x="943" y="1825"/>
                  </a:lnTo>
                  <a:lnTo>
                    <a:pt x="902" y="1793"/>
                  </a:lnTo>
                  <a:lnTo>
                    <a:pt x="861" y="1759"/>
                  </a:lnTo>
                  <a:lnTo>
                    <a:pt x="822" y="1723"/>
                  </a:lnTo>
                  <a:lnTo>
                    <a:pt x="784" y="1688"/>
                  </a:lnTo>
                  <a:lnTo>
                    <a:pt x="748" y="1651"/>
                  </a:lnTo>
                  <a:lnTo>
                    <a:pt x="712" y="1613"/>
                  </a:lnTo>
                  <a:lnTo>
                    <a:pt x="676" y="1574"/>
                  </a:lnTo>
                  <a:lnTo>
                    <a:pt x="643" y="1534"/>
                  </a:lnTo>
                  <a:lnTo>
                    <a:pt x="610" y="1495"/>
                  </a:lnTo>
                  <a:lnTo>
                    <a:pt x="579" y="1453"/>
                  </a:lnTo>
                  <a:lnTo>
                    <a:pt x="549" y="1412"/>
                  </a:lnTo>
                  <a:lnTo>
                    <a:pt x="519" y="1371"/>
                  </a:lnTo>
                  <a:lnTo>
                    <a:pt x="492" y="1328"/>
                  </a:lnTo>
                  <a:lnTo>
                    <a:pt x="465" y="1286"/>
                  </a:lnTo>
                  <a:lnTo>
                    <a:pt x="440" y="1244"/>
                  </a:lnTo>
                  <a:lnTo>
                    <a:pt x="415" y="1201"/>
                  </a:lnTo>
                  <a:lnTo>
                    <a:pt x="393" y="1158"/>
                  </a:lnTo>
                  <a:lnTo>
                    <a:pt x="372" y="1115"/>
                  </a:lnTo>
                  <a:lnTo>
                    <a:pt x="351" y="1073"/>
                  </a:lnTo>
                  <a:lnTo>
                    <a:pt x="332" y="1030"/>
                  </a:lnTo>
                  <a:lnTo>
                    <a:pt x="316" y="988"/>
                  </a:lnTo>
                  <a:lnTo>
                    <a:pt x="299" y="946"/>
                  </a:lnTo>
                  <a:lnTo>
                    <a:pt x="284" y="904"/>
                  </a:lnTo>
                  <a:lnTo>
                    <a:pt x="271" y="863"/>
                  </a:lnTo>
                  <a:lnTo>
                    <a:pt x="260" y="823"/>
                  </a:lnTo>
                  <a:lnTo>
                    <a:pt x="250" y="783"/>
                  </a:lnTo>
                  <a:lnTo>
                    <a:pt x="241" y="745"/>
                  </a:lnTo>
                  <a:lnTo>
                    <a:pt x="233" y="706"/>
                  </a:lnTo>
                  <a:lnTo>
                    <a:pt x="228" y="669"/>
                  </a:lnTo>
                  <a:lnTo>
                    <a:pt x="223" y="632"/>
                  </a:lnTo>
                  <a:lnTo>
                    <a:pt x="220" y="597"/>
                  </a:lnTo>
                  <a:lnTo>
                    <a:pt x="219" y="564"/>
                  </a:lnTo>
                  <a:lnTo>
                    <a:pt x="218" y="532"/>
                  </a:lnTo>
                  <a:lnTo>
                    <a:pt x="219" y="500"/>
                  </a:lnTo>
                  <a:lnTo>
                    <a:pt x="222" y="470"/>
                  </a:lnTo>
                  <a:lnTo>
                    <a:pt x="225" y="442"/>
                  </a:lnTo>
                  <a:lnTo>
                    <a:pt x="231" y="417"/>
                  </a:lnTo>
                  <a:lnTo>
                    <a:pt x="236" y="392"/>
                  </a:lnTo>
                  <a:lnTo>
                    <a:pt x="244" y="369"/>
                  </a:lnTo>
                  <a:lnTo>
                    <a:pt x="254" y="346"/>
                  </a:lnTo>
                  <a:lnTo>
                    <a:pt x="258" y="339"/>
                  </a:lnTo>
                  <a:lnTo>
                    <a:pt x="262" y="330"/>
                  </a:lnTo>
                  <a:lnTo>
                    <a:pt x="268" y="321"/>
                  </a:lnTo>
                  <a:lnTo>
                    <a:pt x="273" y="313"/>
                  </a:lnTo>
                  <a:lnTo>
                    <a:pt x="279" y="305"/>
                  </a:lnTo>
                  <a:lnTo>
                    <a:pt x="284" y="297"/>
                  </a:lnTo>
                  <a:lnTo>
                    <a:pt x="290" y="291"/>
                  </a:lnTo>
                  <a:lnTo>
                    <a:pt x="297" y="283"/>
                  </a:lnTo>
                  <a:lnTo>
                    <a:pt x="302" y="277"/>
                  </a:lnTo>
                  <a:lnTo>
                    <a:pt x="309" y="270"/>
                  </a:lnTo>
                  <a:lnTo>
                    <a:pt x="316" y="265"/>
                  </a:lnTo>
                  <a:lnTo>
                    <a:pt x="324" y="259"/>
                  </a:lnTo>
                  <a:lnTo>
                    <a:pt x="330" y="255"/>
                  </a:lnTo>
                  <a:lnTo>
                    <a:pt x="338" y="250"/>
                  </a:lnTo>
                  <a:lnTo>
                    <a:pt x="347" y="246"/>
                  </a:lnTo>
                  <a:lnTo>
                    <a:pt x="356" y="241"/>
                  </a:lnTo>
                  <a:lnTo>
                    <a:pt x="364" y="237"/>
                  </a:lnTo>
                  <a:lnTo>
                    <a:pt x="374" y="234"/>
                  </a:lnTo>
                  <a:lnTo>
                    <a:pt x="384" y="230"/>
                  </a:lnTo>
                  <a:lnTo>
                    <a:pt x="394" y="228"/>
                  </a:lnTo>
                  <a:lnTo>
                    <a:pt x="405" y="225"/>
                  </a:lnTo>
                  <a:lnTo>
                    <a:pt x="416" y="222"/>
                  </a:lnTo>
                  <a:lnTo>
                    <a:pt x="428" y="221"/>
                  </a:lnTo>
                  <a:lnTo>
                    <a:pt x="442" y="220"/>
                  </a:lnTo>
                  <a:lnTo>
                    <a:pt x="455" y="219"/>
                  </a:lnTo>
                  <a:lnTo>
                    <a:pt x="469" y="218"/>
                  </a:lnTo>
                  <a:lnTo>
                    <a:pt x="484" y="218"/>
                  </a:lnTo>
                  <a:lnTo>
                    <a:pt x="499" y="219"/>
                  </a:lnTo>
                  <a:lnTo>
                    <a:pt x="515" y="220"/>
                  </a:lnTo>
                  <a:lnTo>
                    <a:pt x="532" y="221"/>
                  </a:lnTo>
                  <a:lnTo>
                    <a:pt x="549" y="224"/>
                  </a:lnTo>
                  <a:lnTo>
                    <a:pt x="566" y="226"/>
                  </a:lnTo>
                  <a:lnTo>
                    <a:pt x="605" y="234"/>
                  </a:lnTo>
                  <a:lnTo>
                    <a:pt x="645" y="244"/>
                  </a:lnTo>
                  <a:lnTo>
                    <a:pt x="687" y="257"/>
                  </a:lnTo>
                  <a:lnTo>
                    <a:pt x="732" y="273"/>
                  </a:lnTo>
                  <a:lnTo>
                    <a:pt x="780" y="292"/>
                  </a:lnTo>
                  <a:lnTo>
                    <a:pt x="830" y="313"/>
                  </a:lnTo>
                  <a:lnTo>
                    <a:pt x="930" y="307"/>
                  </a:lnTo>
                  <a:lnTo>
                    <a:pt x="830" y="313"/>
                  </a:lnTo>
                  <a:lnTo>
                    <a:pt x="842" y="317"/>
                  </a:lnTo>
                  <a:lnTo>
                    <a:pt x="854" y="322"/>
                  </a:lnTo>
                  <a:lnTo>
                    <a:pt x="866" y="323"/>
                  </a:lnTo>
                  <a:lnTo>
                    <a:pt x="877" y="324"/>
                  </a:lnTo>
                  <a:lnTo>
                    <a:pt x="887" y="324"/>
                  </a:lnTo>
                  <a:lnTo>
                    <a:pt x="898" y="322"/>
                  </a:lnTo>
                  <a:lnTo>
                    <a:pt x="908" y="320"/>
                  </a:lnTo>
                  <a:lnTo>
                    <a:pt x="918" y="316"/>
                  </a:lnTo>
                  <a:lnTo>
                    <a:pt x="927" y="312"/>
                  </a:lnTo>
                  <a:lnTo>
                    <a:pt x="935" y="306"/>
                  </a:lnTo>
                  <a:lnTo>
                    <a:pt x="943" y="299"/>
                  </a:lnTo>
                  <a:lnTo>
                    <a:pt x="951" y="293"/>
                  </a:lnTo>
                  <a:lnTo>
                    <a:pt x="957" y="285"/>
                  </a:lnTo>
                  <a:lnTo>
                    <a:pt x="963" y="277"/>
                  </a:lnTo>
                  <a:lnTo>
                    <a:pt x="969" y="268"/>
                  </a:lnTo>
                  <a:lnTo>
                    <a:pt x="973" y="259"/>
                  </a:lnTo>
                  <a:lnTo>
                    <a:pt x="978" y="250"/>
                  </a:lnTo>
                  <a:lnTo>
                    <a:pt x="980" y="240"/>
                  </a:lnTo>
                  <a:lnTo>
                    <a:pt x="982" y="230"/>
                  </a:lnTo>
                  <a:lnTo>
                    <a:pt x="984" y="220"/>
                  </a:lnTo>
                  <a:lnTo>
                    <a:pt x="984" y="210"/>
                  </a:lnTo>
                  <a:lnTo>
                    <a:pt x="984" y="200"/>
                  </a:lnTo>
                  <a:lnTo>
                    <a:pt x="982" y="190"/>
                  </a:lnTo>
                  <a:lnTo>
                    <a:pt x="980" y="180"/>
                  </a:lnTo>
                  <a:lnTo>
                    <a:pt x="976" y="171"/>
                  </a:lnTo>
                  <a:lnTo>
                    <a:pt x="972" y="161"/>
                  </a:lnTo>
                  <a:lnTo>
                    <a:pt x="966" y="152"/>
                  </a:lnTo>
                  <a:lnTo>
                    <a:pt x="960" y="144"/>
                  </a:lnTo>
                  <a:lnTo>
                    <a:pt x="951" y="135"/>
                  </a:lnTo>
                  <a:lnTo>
                    <a:pt x="942" y="129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82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27640" y="4044960"/>
              <a:ext cx="257040" cy="563400"/>
            </a:xfrm>
            <a:custGeom>
              <a:avLst/>
              <a:gdLst/>
              <a:ahLst/>
              <a:rect l="l" t="t" r="r" b="b"/>
              <a:pathLst>
                <a:path w="968" h="2130">
                  <a:moveTo>
                    <a:pt x="86" y="2110"/>
                  </a:moveTo>
                  <a:lnTo>
                    <a:pt x="218" y="2104"/>
                  </a:lnTo>
                  <a:lnTo>
                    <a:pt x="262" y="2064"/>
                  </a:lnTo>
                  <a:lnTo>
                    <a:pt x="306" y="2024"/>
                  </a:lnTo>
                  <a:lnTo>
                    <a:pt x="348" y="1982"/>
                  </a:lnTo>
                  <a:lnTo>
                    <a:pt x="389" y="1939"/>
                  </a:lnTo>
                  <a:lnTo>
                    <a:pt x="429" y="1896"/>
                  </a:lnTo>
                  <a:lnTo>
                    <a:pt x="467" y="1852"/>
                  </a:lnTo>
                  <a:lnTo>
                    <a:pt x="502" y="1807"/>
                  </a:lnTo>
                  <a:lnTo>
                    <a:pt x="538" y="1761"/>
                  </a:lnTo>
                  <a:lnTo>
                    <a:pt x="573" y="1714"/>
                  </a:lnTo>
                  <a:lnTo>
                    <a:pt x="605" y="1666"/>
                  </a:lnTo>
                  <a:lnTo>
                    <a:pt x="636" y="1618"/>
                  </a:lnTo>
                  <a:lnTo>
                    <a:pt x="666" y="1570"/>
                  </a:lnTo>
                  <a:lnTo>
                    <a:pt x="694" y="1521"/>
                  </a:lnTo>
                  <a:lnTo>
                    <a:pt x="722" y="1472"/>
                  </a:lnTo>
                  <a:lnTo>
                    <a:pt x="748" y="1423"/>
                  </a:lnTo>
                  <a:lnTo>
                    <a:pt x="772" y="1374"/>
                  </a:lnTo>
                  <a:lnTo>
                    <a:pt x="795" y="1323"/>
                  </a:lnTo>
                  <a:lnTo>
                    <a:pt x="817" y="1274"/>
                  </a:lnTo>
                  <a:lnTo>
                    <a:pt x="837" y="1224"/>
                  </a:lnTo>
                  <a:lnTo>
                    <a:pt x="856" y="1174"/>
                  </a:lnTo>
                  <a:lnTo>
                    <a:pt x="873" y="1125"/>
                  </a:lnTo>
                  <a:lnTo>
                    <a:pt x="890" y="1076"/>
                  </a:lnTo>
                  <a:lnTo>
                    <a:pt x="904" y="1027"/>
                  </a:lnTo>
                  <a:lnTo>
                    <a:pt x="916" y="977"/>
                  </a:lnTo>
                  <a:lnTo>
                    <a:pt x="929" y="929"/>
                  </a:lnTo>
                  <a:lnTo>
                    <a:pt x="939" y="882"/>
                  </a:lnTo>
                  <a:lnTo>
                    <a:pt x="947" y="834"/>
                  </a:lnTo>
                  <a:lnTo>
                    <a:pt x="954" y="787"/>
                  </a:lnTo>
                  <a:lnTo>
                    <a:pt x="960" y="740"/>
                  </a:lnTo>
                  <a:lnTo>
                    <a:pt x="963" y="694"/>
                  </a:lnTo>
                  <a:lnTo>
                    <a:pt x="966" y="649"/>
                  </a:lnTo>
                  <a:lnTo>
                    <a:pt x="968" y="605"/>
                  </a:lnTo>
                  <a:lnTo>
                    <a:pt x="966" y="562"/>
                  </a:lnTo>
                  <a:lnTo>
                    <a:pt x="963" y="519"/>
                  </a:lnTo>
                  <a:lnTo>
                    <a:pt x="960" y="478"/>
                  </a:lnTo>
                  <a:lnTo>
                    <a:pt x="953" y="437"/>
                  </a:lnTo>
                  <a:lnTo>
                    <a:pt x="947" y="397"/>
                  </a:lnTo>
                  <a:lnTo>
                    <a:pt x="937" y="358"/>
                  </a:lnTo>
                  <a:lnTo>
                    <a:pt x="924" y="321"/>
                  </a:lnTo>
                  <a:lnTo>
                    <a:pt x="911" y="284"/>
                  </a:lnTo>
                  <a:lnTo>
                    <a:pt x="895" y="250"/>
                  </a:lnTo>
                  <a:lnTo>
                    <a:pt x="876" y="215"/>
                  </a:lnTo>
                  <a:lnTo>
                    <a:pt x="856" y="184"/>
                  </a:lnTo>
                  <a:lnTo>
                    <a:pt x="835" y="155"/>
                  </a:lnTo>
                  <a:lnTo>
                    <a:pt x="822" y="139"/>
                  </a:lnTo>
                  <a:lnTo>
                    <a:pt x="808" y="125"/>
                  </a:lnTo>
                  <a:lnTo>
                    <a:pt x="795" y="113"/>
                  </a:lnTo>
                  <a:lnTo>
                    <a:pt x="780" y="99"/>
                  </a:lnTo>
                  <a:lnTo>
                    <a:pt x="765" y="87"/>
                  </a:lnTo>
                  <a:lnTo>
                    <a:pt x="750" y="77"/>
                  </a:lnTo>
                  <a:lnTo>
                    <a:pt x="733" y="66"/>
                  </a:lnTo>
                  <a:lnTo>
                    <a:pt x="717" y="56"/>
                  </a:lnTo>
                  <a:lnTo>
                    <a:pt x="700" y="46"/>
                  </a:lnTo>
                  <a:lnTo>
                    <a:pt x="682" y="38"/>
                  </a:lnTo>
                  <a:lnTo>
                    <a:pt x="664" y="31"/>
                  </a:lnTo>
                  <a:lnTo>
                    <a:pt x="645" y="23"/>
                  </a:lnTo>
                  <a:lnTo>
                    <a:pt x="626" y="18"/>
                  </a:lnTo>
                  <a:lnTo>
                    <a:pt x="607" y="13"/>
                  </a:lnTo>
                  <a:lnTo>
                    <a:pt x="587" y="9"/>
                  </a:lnTo>
                  <a:lnTo>
                    <a:pt x="567" y="5"/>
                  </a:lnTo>
                  <a:lnTo>
                    <a:pt x="546" y="3"/>
                  </a:lnTo>
                  <a:lnTo>
                    <a:pt x="526" y="1"/>
                  </a:lnTo>
                  <a:lnTo>
                    <a:pt x="506" y="0"/>
                  </a:lnTo>
                  <a:lnTo>
                    <a:pt x="485" y="0"/>
                  </a:lnTo>
                  <a:lnTo>
                    <a:pt x="462" y="1"/>
                  </a:lnTo>
                  <a:lnTo>
                    <a:pt x="441" y="2"/>
                  </a:lnTo>
                  <a:lnTo>
                    <a:pt x="419" y="4"/>
                  </a:lnTo>
                  <a:lnTo>
                    <a:pt x="396" y="8"/>
                  </a:lnTo>
                  <a:lnTo>
                    <a:pt x="374" y="12"/>
                  </a:lnTo>
                  <a:lnTo>
                    <a:pt x="351" y="17"/>
                  </a:lnTo>
                  <a:lnTo>
                    <a:pt x="328" y="22"/>
                  </a:lnTo>
                  <a:lnTo>
                    <a:pt x="304" y="29"/>
                  </a:lnTo>
                  <a:lnTo>
                    <a:pt x="257" y="43"/>
                  </a:lnTo>
                  <a:lnTo>
                    <a:pt x="209" y="60"/>
                  </a:lnTo>
                  <a:lnTo>
                    <a:pt x="158" y="82"/>
                  </a:lnTo>
                  <a:lnTo>
                    <a:pt x="107" y="106"/>
                  </a:lnTo>
                  <a:lnTo>
                    <a:pt x="55" y="133"/>
                  </a:lnTo>
                  <a:lnTo>
                    <a:pt x="0" y="164"/>
                  </a:lnTo>
                  <a:lnTo>
                    <a:pt x="110" y="350"/>
                  </a:lnTo>
                  <a:lnTo>
                    <a:pt x="158" y="325"/>
                  </a:lnTo>
                  <a:lnTo>
                    <a:pt x="203" y="300"/>
                  </a:lnTo>
                  <a:lnTo>
                    <a:pt x="247" y="280"/>
                  </a:lnTo>
                  <a:lnTo>
                    <a:pt x="287" y="263"/>
                  </a:lnTo>
                  <a:lnTo>
                    <a:pt x="326" y="249"/>
                  </a:lnTo>
                  <a:lnTo>
                    <a:pt x="364" y="236"/>
                  </a:lnTo>
                  <a:lnTo>
                    <a:pt x="381" y="233"/>
                  </a:lnTo>
                  <a:lnTo>
                    <a:pt x="397" y="229"/>
                  </a:lnTo>
                  <a:lnTo>
                    <a:pt x="414" y="225"/>
                  </a:lnTo>
                  <a:lnTo>
                    <a:pt x="430" y="223"/>
                  </a:lnTo>
                  <a:lnTo>
                    <a:pt x="444" y="221"/>
                  </a:lnTo>
                  <a:lnTo>
                    <a:pt x="460" y="219"/>
                  </a:lnTo>
                  <a:lnTo>
                    <a:pt x="473" y="219"/>
                  </a:lnTo>
                  <a:lnTo>
                    <a:pt x="487" y="217"/>
                  </a:lnTo>
                  <a:lnTo>
                    <a:pt x="500" y="217"/>
                  </a:lnTo>
                  <a:lnTo>
                    <a:pt x="514" y="217"/>
                  </a:lnTo>
                  <a:lnTo>
                    <a:pt x="525" y="219"/>
                  </a:lnTo>
                  <a:lnTo>
                    <a:pt x="536" y="220"/>
                  </a:lnTo>
                  <a:lnTo>
                    <a:pt x="547" y="222"/>
                  </a:lnTo>
                  <a:lnTo>
                    <a:pt x="557" y="224"/>
                  </a:lnTo>
                  <a:lnTo>
                    <a:pt x="567" y="226"/>
                  </a:lnTo>
                  <a:lnTo>
                    <a:pt x="576" y="230"/>
                  </a:lnTo>
                  <a:lnTo>
                    <a:pt x="585" y="233"/>
                  </a:lnTo>
                  <a:lnTo>
                    <a:pt x="594" y="236"/>
                  </a:lnTo>
                  <a:lnTo>
                    <a:pt x="603" y="241"/>
                  </a:lnTo>
                  <a:lnTo>
                    <a:pt x="611" y="244"/>
                  </a:lnTo>
                  <a:lnTo>
                    <a:pt x="618" y="249"/>
                  </a:lnTo>
                  <a:lnTo>
                    <a:pt x="625" y="254"/>
                  </a:lnTo>
                  <a:lnTo>
                    <a:pt x="633" y="260"/>
                  </a:lnTo>
                  <a:lnTo>
                    <a:pt x="640" y="265"/>
                  </a:lnTo>
                  <a:lnTo>
                    <a:pt x="646" y="271"/>
                  </a:lnTo>
                  <a:lnTo>
                    <a:pt x="653" y="278"/>
                  </a:lnTo>
                  <a:lnTo>
                    <a:pt x="660" y="284"/>
                  </a:lnTo>
                  <a:lnTo>
                    <a:pt x="664" y="290"/>
                  </a:lnTo>
                  <a:lnTo>
                    <a:pt x="678" y="308"/>
                  </a:lnTo>
                  <a:lnTo>
                    <a:pt x="690" y="326"/>
                  </a:lnTo>
                  <a:lnTo>
                    <a:pt x="700" y="346"/>
                  </a:lnTo>
                  <a:lnTo>
                    <a:pt x="710" y="367"/>
                  </a:lnTo>
                  <a:lnTo>
                    <a:pt x="719" y="390"/>
                  </a:lnTo>
                  <a:lnTo>
                    <a:pt x="727" y="416"/>
                  </a:lnTo>
                  <a:lnTo>
                    <a:pt x="733" y="444"/>
                  </a:lnTo>
                  <a:lnTo>
                    <a:pt x="739" y="472"/>
                  </a:lnTo>
                  <a:lnTo>
                    <a:pt x="743" y="503"/>
                  </a:lnTo>
                  <a:lnTo>
                    <a:pt x="747" y="536"/>
                  </a:lnTo>
                  <a:lnTo>
                    <a:pt x="749" y="569"/>
                  </a:lnTo>
                  <a:lnTo>
                    <a:pt x="750" y="605"/>
                  </a:lnTo>
                  <a:lnTo>
                    <a:pt x="749" y="642"/>
                  </a:lnTo>
                  <a:lnTo>
                    <a:pt x="747" y="680"/>
                  </a:lnTo>
                  <a:lnTo>
                    <a:pt x="743" y="717"/>
                  </a:lnTo>
                  <a:lnTo>
                    <a:pt x="739" y="758"/>
                  </a:lnTo>
                  <a:lnTo>
                    <a:pt x="732" y="798"/>
                  </a:lnTo>
                  <a:lnTo>
                    <a:pt x="726" y="839"/>
                  </a:lnTo>
                  <a:lnTo>
                    <a:pt x="717" y="882"/>
                  </a:lnTo>
                  <a:lnTo>
                    <a:pt x="707" y="925"/>
                  </a:lnTo>
                  <a:lnTo>
                    <a:pt x="694" y="967"/>
                  </a:lnTo>
                  <a:lnTo>
                    <a:pt x="682" y="1012"/>
                  </a:lnTo>
                  <a:lnTo>
                    <a:pt x="668" y="1056"/>
                  </a:lnTo>
                  <a:lnTo>
                    <a:pt x="652" y="1100"/>
                  </a:lnTo>
                  <a:lnTo>
                    <a:pt x="635" y="1145"/>
                  </a:lnTo>
                  <a:lnTo>
                    <a:pt x="616" y="1190"/>
                  </a:lnTo>
                  <a:lnTo>
                    <a:pt x="597" y="1235"/>
                  </a:lnTo>
                  <a:lnTo>
                    <a:pt x="576" y="1280"/>
                  </a:lnTo>
                  <a:lnTo>
                    <a:pt x="554" y="1325"/>
                  </a:lnTo>
                  <a:lnTo>
                    <a:pt x="531" y="1369"/>
                  </a:lnTo>
                  <a:lnTo>
                    <a:pt x="506" y="1414"/>
                  </a:lnTo>
                  <a:lnTo>
                    <a:pt x="480" y="1458"/>
                  </a:lnTo>
                  <a:lnTo>
                    <a:pt x="453" y="1502"/>
                  </a:lnTo>
                  <a:lnTo>
                    <a:pt x="425" y="1546"/>
                  </a:lnTo>
                  <a:lnTo>
                    <a:pt x="395" y="1588"/>
                  </a:lnTo>
                  <a:lnTo>
                    <a:pt x="365" y="1630"/>
                  </a:lnTo>
                  <a:lnTo>
                    <a:pt x="333" y="1672"/>
                  </a:lnTo>
                  <a:lnTo>
                    <a:pt x="299" y="1713"/>
                  </a:lnTo>
                  <a:lnTo>
                    <a:pt x="265" y="1753"/>
                  </a:lnTo>
                  <a:lnTo>
                    <a:pt x="230" y="1792"/>
                  </a:lnTo>
                  <a:lnTo>
                    <a:pt x="193" y="1830"/>
                  </a:lnTo>
                  <a:lnTo>
                    <a:pt x="156" y="1867"/>
                  </a:lnTo>
                  <a:lnTo>
                    <a:pt x="117" y="1903"/>
                  </a:lnTo>
                  <a:lnTo>
                    <a:pt x="77" y="1937"/>
                  </a:lnTo>
                  <a:lnTo>
                    <a:pt x="209" y="1931"/>
                  </a:lnTo>
                  <a:lnTo>
                    <a:pt x="77" y="1937"/>
                  </a:lnTo>
                  <a:lnTo>
                    <a:pt x="67" y="1946"/>
                  </a:lnTo>
                  <a:lnTo>
                    <a:pt x="59" y="1956"/>
                  </a:lnTo>
                  <a:lnTo>
                    <a:pt x="53" y="1965"/>
                  </a:lnTo>
                  <a:lnTo>
                    <a:pt x="47" y="1975"/>
                  </a:lnTo>
                  <a:lnTo>
                    <a:pt x="43" y="1985"/>
                  </a:lnTo>
                  <a:lnTo>
                    <a:pt x="39" y="1995"/>
                  </a:lnTo>
                  <a:lnTo>
                    <a:pt x="38" y="2005"/>
                  </a:lnTo>
                  <a:lnTo>
                    <a:pt x="37" y="2016"/>
                  </a:lnTo>
                  <a:lnTo>
                    <a:pt x="37" y="2027"/>
                  </a:lnTo>
                  <a:lnTo>
                    <a:pt x="38" y="2037"/>
                  </a:lnTo>
                  <a:lnTo>
                    <a:pt x="40" y="2047"/>
                  </a:lnTo>
                  <a:lnTo>
                    <a:pt x="44" y="2056"/>
                  </a:lnTo>
                  <a:lnTo>
                    <a:pt x="48" y="2064"/>
                  </a:lnTo>
                  <a:lnTo>
                    <a:pt x="53" y="2073"/>
                  </a:lnTo>
                  <a:lnTo>
                    <a:pt x="58" y="2082"/>
                  </a:lnTo>
                  <a:lnTo>
                    <a:pt x="65" y="2090"/>
                  </a:lnTo>
                  <a:lnTo>
                    <a:pt x="72" y="2098"/>
                  </a:lnTo>
                  <a:lnTo>
                    <a:pt x="78" y="2105"/>
                  </a:lnTo>
                  <a:lnTo>
                    <a:pt x="87" y="2111"/>
                  </a:lnTo>
                  <a:lnTo>
                    <a:pt x="95" y="2117"/>
                  </a:lnTo>
                  <a:lnTo>
                    <a:pt x="104" y="2121"/>
                  </a:lnTo>
                  <a:lnTo>
                    <a:pt x="114" y="2125"/>
                  </a:lnTo>
                  <a:lnTo>
                    <a:pt x="123" y="2128"/>
                  </a:lnTo>
                  <a:lnTo>
                    <a:pt x="133" y="2130"/>
                  </a:lnTo>
                  <a:lnTo>
                    <a:pt x="143" y="2130"/>
                  </a:lnTo>
                  <a:lnTo>
                    <a:pt x="154" y="2130"/>
                  </a:lnTo>
                  <a:lnTo>
                    <a:pt x="164" y="2129"/>
                  </a:lnTo>
                  <a:lnTo>
                    <a:pt x="175" y="2127"/>
                  </a:lnTo>
                  <a:lnTo>
                    <a:pt x="185" y="2122"/>
                  </a:lnTo>
                  <a:lnTo>
                    <a:pt x="197" y="2118"/>
                  </a:lnTo>
                  <a:lnTo>
                    <a:pt x="207" y="2111"/>
                  </a:lnTo>
                  <a:lnTo>
                    <a:pt x="218" y="2104"/>
                  </a:lnTo>
                  <a:lnTo>
                    <a:pt x="86" y="2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784840" y="3683160"/>
            <a:ext cx="714240" cy="863280"/>
            <a:chOff x="5784840" y="3683160"/>
            <a:chExt cx="714240" cy="863280"/>
          </a:xfrm>
        </p:grpSpPr>
        <p:sp>
          <p:nvSpPr>
            <p:cNvPr id="912" name=""/>
            <p:cNvSpPr/>
            <p:nvPr/>
          </p:nvSpPr>
          <p:spPr>
            <a:xfrm>
              <a:off x="5813280" y="3711600"/>
              <a:ext cx="657360" cy="804960"/>
            </a:xfrm>
            <a:custGeom>
              <a:avLst/>
              <a:gdLst/>
              <a:ahLst/>
              <a:rect l="l" t="t" r="r" b="b"/>
              <a:pathLst>
                <a:path w="2484" h="3043">
                  <a:moveTo>
                    <a:pt x="547" y="3043"/>
                  </a:moveTo>
                  <a:lnTo>
                    <a:pt x="453" y="2895"/>
                  </a:lnTo>
                  <a:lnTo>
                    <a:pt x="369" y="2742"/>
                  </a:lnTo>
                  <a:lnTo>
                    <a:pt x="293" y="2586"/>
                  </a:lnTo>
                  <a:lnTo>
                    <a:pt x="227" y="2427"/>
                  </a:lnTo>
                  <a:lnTo>
                    <a:pt x="169" y="2266"/>
                  </a:lnTo>
                  <a:lnTo>
                    <a:pt x="120" y="2104"/>
                  </a:lnTo>
                  <a:lnTo>
                    <a:pt x="80" y="1941"/>
                  </a:lnTo>
                  <a:lnTo>
                    <a:pt x="48" y="1779"/>
                  </a:lnTo>
                  <a:lnTo>
                    <a:pt x="24" y="1618"/>
                  </a:lnTo>
                  <a:lnTo>
                    <a:pt x="8" y="1461"/>
                  </a:lnTo>
                  <a:lnTo>
                    <a:pt x="0" y="1307"/>
                  </a:lnTo>
                  <a:lnTo>
                    <a:pt x="0" y="1156"/>
                  </a:lnTo>
                  <a:lnTo>
                    <a:pt x="8" y="1011"/>
                  </a:lnTo>
                  <a:lnTo>
                    <a:pt x="23" y="873"/>
                  </a:lnTo>
                  <a:lnTo>
                    <a:pt x="46" y="740"/>
                  </a:lnTo>
                  <a:lnTo>
                    <a:pt x="76" y="616"/>
                  </a:lnTo>
                  <a:lnTo>
                    <a:pt x="113" y="501"/>
                  </a:lnTo>
                  <a:lnTo>
                    <a:pt x="156" y="395"/>
                  </a:lnTo>
                  <a:lnTo>
                    <a:pt x="206" y="300"/>
                  </a:lnTo>
                  <a:lnTo>
                    <a:pt x="264" y="217"/>
                  </a:lnTo>
                  <a:lnTo>
                    <a:pt x="328" y="145"/>
                  </a:lnTo>
                  <a:lnTo>
                    <a:pt x="398" y="86"/>
                  </a:lnTo>
                  <a:lnTo>
                    <a:pt x="475" y="43"/>
                  </a:lnTo>
                  <a:lnTo>
                    <a:pt x="558" y="14"/>
                  </a:lnTo>
                  <a:lnTo>
                    <a:pt x="647" y="0"/>
                  </a:lnTo>
                  <a:lnTo>
                    <a:pt x="742" y="3"/>
                  </a:lnTo>
                  <a:lnTo>
                    <a:pt x="842" y="26"/>
                  </a:lnTo>
                  <a:lnTo>
                    <a:pt x="948" y="65"/>
                  </a:lnTo>
                  <a:lnTo>
                    <a:pt x="1060" y="125"/>
                  </a:lnTo>
                  <a:lnTo>
                    <a:pt x="1177" y="204"/>
                  </a:lnTo>
                  <a:lnTo>
                    <a:pt x="1299" y="306"/>
                  </a:lnTo>
                  <a:lnTo>
                    <a:pt x="1426" y="430"/>
                  </a:lnTo>
                  <a:lnTo>
                    <a:pt x="1602" y="409"/>
                  </a:lnTo>
                  <a:lnTo>
                    <a:pt x="1762" y="402"/>
                  </a:lnTo>
                  <a:lnTo>
                    <a:pt x="1904" y="409"/>
                  </a:lnTo>
                  <a:lnTo>
                    <a:pt x="2029" y="429"/>
                  </a:lnTo>
                  <a:lnTo>
                    <a:pt x="2138" y="461"/>
                  </a:lnTo>
                  <a:lnTo>
                    <a:pt x="2231" y="505"/>
                  </a:lnTo>
                  <a:lnTo>
                    <a:pt x="2309" y="559"/>
                  </a:lnTo>
                  <a:lnTo>
                    <a:pt x="2373" y="624"/>
                  </a:lnTo>
                  <a:lnTo>
                    <a:pt x="2421" y="698"/>
                  </a:lnTo>
                  <a:lnTo>
                    <a:pt x="2455" y="779"/>
                  </a:lnTo>
                  <a:lnTo>
                    <a:pt x="2476" y="867"/>
                  </a:lnTo>
                  <a:lnTo>
                    <a:pt x="2484" y="963"/>
                  </a:lnTo>
                  <a:lnTo>
                    <a:pt x="2480" y="1065"/>
                  </a:lnTo>
                  <a:lnTo>
                    <a:pt x="2463" y="1172"/>
                  </a:lnTo>
                  <a:lnTo>
                    <a:pt x="2434" y="1282"/>
                  </a:lnTo>
                  <a:lnTo>
                    <a:pt x="2394" y="1396"/>
                  </a:lnTo>
                  <a:lnTo>
                    <a:pt x="2342" y="1513"/>
                  </a:lnTo>
                  <a:lnTo>
                    <a:pt x="2280" y="1632"/>
                  </a:lnTo>
                  <a:lnTo>
                    <a:pt x="2208" y="1752"/>
                  </a:lnTo>
                  <a:lnTo>
                    <a:pt x="2127" y="1872"/>
                  </a:lnTo>
                  <a:lnTo>
                    <a:pt x="2035" y="1991"/>
                  </a:lnTo>
                  <a:lnTo>
                    <a:pt x="1936" y="2109"/>
                  </a:lnTo>
                  <a:lnTo>
                    <a:pt x="1828" y="2225"/>
                  </a:lnTo>
                  <a:lnTo>
                    <a:pt x="1712" y="2339"/>
                  </a:lnTo>
                  <a:lnTo>
                    <a:pt x="1588" y="2449"/>
                  </a:lnTo>
                  <a:lnTo>
                    <a:pt x="1456" y="2554"/>
                  </a:lnTo>
                  <a:lnTo>
                    <a:pt x="1319" y="2653"/>
                  </a:lnTo>
                  <a:lnTo>
                    <a:pt x="1175" y="2747"/>
                  </a:lnTo>
                  <a:lnTo>
                    <a:pt x="1025" y="2833"/>
                  </a:lnTo>
                  <a:lnTo>
                    <a:pt x="871" y="2912"/>
                  </a:lnTo>
                  <a:lnTo>
                    <a:pt x="711" y="2982"/>
                  </a:lnTo>
                  <a:lnTo>
                    <a:pt x="547" y="304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84840" y="3683160"/>
              <a:ext cx="434880" cy="849240"/>
            </a:xfrm>
            <a:custGeom>
              <a:avLst/>
              <a:gdLst/>
              <a:ahLst/>
              <a:rect l="l" t="t" r="r" b="b"/>
              <a:pathLst>
                <a:path w="1647" h="3213">
                  <a:moveTo>
                    <a:pt x="1519" y="432"/>
                  </a:moveTo>
                  <a:lnTo>
                    <a:pt x="1614" y="463"/>
                  </a:lnTo>
                  <a:lnTo>
                    <a:pt x="1581" y="429"/>
                  </a:lnTo>
                  <a:lnTo>
                    <a:pt x="1547" y="396"/>
                  </a:lnTo>
                  <a:lnTo>
                    <a:pt x="1515" y="365"/>
                  </a:lnTo>
                  <a:lnTo>
                    <a:pt x="1481" y="335"/>
                  </a:lnTo>
                  <a:lnTo>
                    <a:pt x="1449" y="306"/>
                  </a:lnTo>
                  <a:lnTo>
                    <a:pt x="1417" y="278"/>
                  </a:lnTo>
                  <a:lnTo>
                    <a:pt x="1384" y="252"/>
                  </a:lnTo>
                  <a:lnTo>
                    <a:pt x="1352" y="227"/>
                  </a:lnTo>
                  <a:lnTo>
                    <a:pt x="1321" y="204"/>
                  </a:lnTo>
                  <a:lnTo>
                    <a:pt x="1289" y="182"/>
                  </a:lnTo>
                  <a:lnTo>
                    <a:pt x="1258" y="160"/>
                  </a:lnTo>
                  <a:lnTo>
                    <a:pt x="1227" y="141"/>
                  </a:lnTo>
                  <a:lnTo>
                    <a:pt x="1196" y="123"/>
                  </a:lnTo>
                  <a:lnTo>
                    <a:pt x="1164" y="106"/>
                  </a:lnTo>
                  <a:lnTo>
                    <a:pt x="1134" y="90"/>
                  </a:lnTo>
                  <a:lnTo>
                    <a:pt x="1103" y="76"/>
                  </a:lnTo>
                  <a:lnTo>
                    <a:pt x="1073" y="62"/>
                  </a:lnTo>
                  <a:lnTo>
                    <a:pt x="1043" y="50"/>
                  </a:lnTo>
                  <a:lnTo>
                    <a:pt x="1013" y="40"/>
                  </a:lnTo>
                  <a:lnTo>
                    <a:pt x="983" y="30"/>
                  </a:lnTo>
                  <a:lnTo>
                    <a:pt x="954" y="22"/>
                  </a:lnTo>
                  <a:lnTo>
                    <a:pt x="925" y="15"/>
                  </a:lnTo>
                  <a:lnTo>
                    <a:pt x="894" y="10"/>
                  </a:lnTo>
                  <a:lnTo>
                    <a:pt x="865" y="5"/>
                  </a:lnTo>
                  <a:lnTo>
                    <a:pt x="836" y="2"/>
                  </a:lnTo>
                  <a:lnTo>
                    <a:pt x="807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3"/>
                  </a:lnTo>
                  <a:lnTo>
                    <a:pt x="696" y="6"/>
                  </a:lnTo>
                  <a:lnTo>
                    <a:pt x="669" y="11"/>
                  </a:lnTo>
                  <a:lnTo>
                    <a:pt x="642" y="17"/>
                  </a:lnTo>
                  <a:lnTo>
                    <a:pt x="617" y="24"/>
                  </a:lnTo>
                  <a:lnTo>
                    <a:pt x="591" y="32"/>
                  </a:lnTo>
                  <a:lnTo>
                    <a:pt x="565" y="42"/>
                  </a:lnTo>
                  <a:lnTo>
                    <a:pt x="539" y="53"/>
                  </a:lnTo>
                  <a:lnTo>
                    <a:pt x="516" y="64"/>
                  </a:lnTo>
                  <a:lnTo>
                    <a:pt x="493" y="78"/>
                  </a:lnTo>
                  <a:lnTo>
                    <a:pt x="469" y="91"/>
                  </a:lnTo>
                  <a:lnTo>
                    <a:pt x="447" y="106"/>
                  </a:lnTo>
                  <a:lnTo>
                    <a:pt x="425" y="123"/>
                  </a:lnTo>
                  <a:lnTo>
                    <a:pt x="403" y="139"/>
                  </a:lnTo>
                  <a:lnTo>
                    <a:pt x="383" y="157"/>
                  </a:lnTo>
                  <a:lnTo>
                    <a:pt x="362" y="175"/>
                  </a:lnTo>
                  <a:lnTo>
                    <a:pt x="343" y="195"/>
                  </a:lnTo>
                  <a:lnTo>
                    <a:pt x="324" y="215"/>
                  </a:lnTo>
                  <a:lnTo>
                    <a:pt x="306" y="236"/>
                  </a:lnTo>
                  <a:lnTo>
                    <a:pt x="288" y="259"/>
                  </a:lnTo>
                  <a:lnTo>
                    <a:pt x="272" y="281"/>
                  </a:lnTo>
                  <a:lnTo>
                    <a:pt x="255" y="304"/>
                  </a:lnTo>
                  <a:lnTo>
                    <a:pt x="239" y="328"/>
                  </a:lnTo>
                  <a:lnTo>
                    <a:pt x="224" y="352"/>
                  </a:lnTo>
                  <a:lnTo>
                    <a:pt x="209" y="378"/>
                  </a:lnTo>
                  <a:lnTo>
                    <a:pt x="195" y="404"/>
                  </a:lnTo>
                  <a:lnTo>
                    <a:pt x="181" y="431"/>
                  </a:lnTo>
                  <a:lnTo>
                    <a:pt x="168" y="457"/>
                  </a:lnTo>
                  <a:lnTo>
                    <a:pt x="154" y="486"/>
                  </a:lnTo>
                  <a:lnTo>
                    <a:pt x="143" y="514"/>
                  </a:lnTo>
                  <a:lnTo>
                    <a:pt x="131" y="543"/>
                  </a:lnTo>
                  <a:lnTo>
                    <a:pt x="120" y="573"/>
                  </a:lnTo>
                  <a:lnTo>
                    <a:pt x="110" y="604"/>
                  </a:lnTo>
                  <a:lnTo>
                    <a:pt x="100" y="634"/>
                  </a:lnTo>
                  <a:lnTo>
                    <a:pt x="90" y="665"/>
                  </a:lnTo>
                  <a:lnTo>
                    <a:pt x="81" y="697"/>
                  </a:lnTo>
                  <a:lnTo>
                    <a:pt x="64" y="761"/>
                  </a:lnTo>
                  <a:lnTo>
                    <a:pt x="50" y="828"/>
                  </a:lnTo>
                  <a:lnTo>
                    <a:pt x="36" y="896"/>
                  </a:lnTo>
                  <a:lnTo>
                    <a:pt x="25" y="966"/>
                  </a:lnTo>
                  <a:lnTo>
                    <a:pt x="16" y="1039"/>
                  </a:lnTo>
                  <a:lnTo>
                    <a:pt x="9" y="1111"/>
                  </a:lnTo>
                  <a:lnTo>
                    <a:pt x="5" y="1187"/>
                  </a:lnTo>
                  <a:lnTo>
                    <a:pt x="2" y="1263"/>
                  </a:lnTo>
                  <a:lnTo>
                    <a:pt x="0" y="1340"/>
                  </a:lnTo>
                  <a:lnTo>
                    <a:pt x="2" y="1418"/>
                  </a:lnTo>
                  <a:lnTo>
                    <a:pt x="5" y="1497"/>
                  </a:lnTo>
                  <a:lnTo>
                    <a:pt x="9" y="1578"/>
                  </a:lnTo>
                  <a:lnTo>
                    <a:pt x="17" y="1659"/>
                  </a:lnTo>
                  <a:lnTo>
                    <a:pt x="26" y="1741"/>
                  </a:lnTo>
                  <a:lnTo>
                    <a:pt x="37" y="1823"/>
                  </a:lnTo>
                  <a:lnTo>
                    <a:pt x="51" y="1906"/>
                  </a:lnTo>
                  <a:lnTo>
                    <a:pt x="66" y="1990"/>
                  </a:lnTo>
                  <a:lnTo>
                    <a:pt x="84" y="2073"/>
                  </a:lnTo>
                  <a:lnTo>
                    <a:pt x="104" y="2157"/>
                  </a:lnTo>
                  <a:lnTo>
                    <a:pt x="125" y="2241"/>
                  </a:lnTo>
                  <a:lnTo>
                    <a:pt x="150" y="2324"/>
                  </a:lnTo>
                  <a:lnTo>
                    <a:pt x="176" y="2408"/>
                  </a:lnTo>
                  <a:lnTo>
                    <a:pt x="190" y="2450"/>
                  </a:lnTo>
                  <a:lnTo>
                    <a:pt x="205" y="2492"/>
                  </a:lnTo>
                  <a:lnTo>
                    <a:pt x="220" y="2534"/>
                  </a:lnTo>
                  <a:lnTo>
                    <a:pt x="236" y="2575"/>
                  </a:lnTo>
                  <a:lnTo>
                    <a:pt x="252" y="2617"/>
                  </a:lnTo>
                  <a:lnTo>
                    <a:pt x="268" y="2658"/>
                  </a:lnTo>
                  <a:lnTo>
                    <a:pt x="286" y="2698"/>
                  </a:lnTo>
                  <a:lnTo>
                    <a:pt x="304" y="2740"/>
                  </a:lnTo>
                  <a:lnTo>
                    <a:pt x="323" y="2781"/>
                  </a:lnTo>
                  <a:lnTo>
                    <a:pt x="342" y="2821"/>
                  </a:lnTo>
                  <a:lnTo>
                    <a:pt x="362" y="2861"/>
                  </a:lnTo>
                  <a:lnTo>
                    <a:pt x="382" y="2901"/>
                  </a:lnTo>
                  <a:lnTo>
                    <a:pt x="403" y="2942"/>
                  </a:lnTo>
                  <a:lnTo>
                    <a:pt x="425" y="2981"/>
                  </a:lnTo>
                  <a:lnTo>
                    <a:pt x="447" y="3021"/>
                  </a:lnTo>
                  <a:lnTo>
                    <a:pt x="469" y="3060"/>
                  </a:lnTo>
                  <a:lnTo>
                    <a:pt x="493" y="3098"/>
                  </a:lnTo>
                  <a:lnTo>
                    <a:pt x="517" y="3137"/>
                  </a:lnTo>
                  <a:lnTo>
                    <a:pt x="542" y="3175"/>
                  </a:lnTo>
                  <a:lnTo>
                    <a:pt x="566" y="3213"/>
                  </a:lnTo>
                  <a:lnTo>
                    <a:pt x="747" y="3091"/>
                  </a:lnTo>
                  <a:lnTo>
                    <a:pt x="724" y="3056"/>
                  </a:lnTo>
                  <a:lnTo>
                    <a:pt x="700" y="3021"/>
                  </a:lnTo>
                  <a:lnTo>
                    <a:pt x="678" y="2985"/>
                  </a:lnTo>
                  <a:lnTo>
                    <a:pt x="657" y="2949"/>
                  </a:lnTo>
                  <a:lnTo>
                    <a:pt x="635" y="2913"/>
                  </a:lnTo>
                  <a:lnTo>
                    <a:pt x="615" y="2877"/>
                  </a:lnTo>
                  <a:lnTo>
                    <a:pt x="594" y="2839"/>
                  </a:lnTo>
                  <a:lnTo>
                    <a:pt x="575" y="2802"/>
                  </a:lnTo>
                  <a:lnTo>
                    <a:pt x="556" y="2764"/>
                  </a:lnTo>
                  <a:lnTo>
                    <a:pt x="537" y="2727"/>
                  </a:lnTo>
                  <a:lnTo>
                    <a:pt x="519" y="2689"/>
                  </a:lnTo>
                  <a:lnTo>
                    <a:pt x="503" y="2651"/>
                  </a:lnTo>
                  <a:lnTo>
                    <a:pt x="486" y="2613"/>
                  </a:lnTo>
                  <a:lnTo>
                    <a:pt x="469" y="2574"/>
                  </a:lnTo>
                  <a:lnTo>
                    <a:pt x="454" y="2535"/>
                  </a:lnTo>
                  <a:lnTo>
                    <a:pt x="438" y="2497"/>
                  </a:lnTo>
                  <a:lnTo>
                    <a:pt x="423" y="2458"/>
                  </a:lnTo>
                  <a:lnTo>
                    <a:pt x="410" y="2419"/>
                  </a:lnTo>
                  <a:lnTo>
                    <a:pt x="396" y="2380"/>
                  </a:lnTo>
                  <a:lnTo>
                    <a:pt x="383" y="2342"/>
                  </a:lnTo>
                  <a:lnTo>
                    <a:pt x="358" y="2263"/>
                  </a:lnTo>
                  <a:lnTo>
                    <a:pt x="335" y="2184"/>
                  </a:lnTo>
                  <a:lnTo>
                    <a:pt x="314" y="2106"/>
                  </a:lnTo>
                  <a:lnTo>
                    <a:pt x="296" y="2026"/>
                  </a:lnTo>
                  <a:lnTo>
                    <a:pt x="279" y="1948"/>
                  </a:lnTo>
                  <a:lnTo>
                    <a:pt x="265" y="1870"/>
                  </a:lnTo>
                  <a:lnTo>
                    <a:pt x="253" y="1792"/>
                  </a:lnTo>
                  <a:lnTo>
                    <a:pt x="242" y="1715"/>
                  </a:lnTo>
                  <a:lnTo>
                    <a:pt x="233" y="1638"/>
                  </a:lnTo>
                  <a:lnTo>
                    <a:pt x="227" y="1562"/>
                  </a:lnTo>
                  <a:lnTo>
                    <a:pt x="221" y="1487"/>
                  </a:lnTo>
                  <a:lnTo>
                    <a:pt x="219" y="1413"/>
                  </a:lnTo>
                  <a:lnTo>
                    <a:pt x="218" y="1340"/>
                  </a:lnTo>
                  <a:lnTo>
                    <a:pt x="219" y="1268"/>
                  </a:lnTo>
                  <a:lnTo>
                    <a:pt x="221" y="1197"/>
                  </a:lnTo>
                  <a:lnTo>
                    <a:pt x="226" y="1129"/>
                  </a:lnTo>
                  <a:lnTo>
                    <a:pt x="233" y="1061"/>
                  </a:lnTo>
                  <a:lnTo>
                    <a:pt x="240" y="996"/>
                  </a:lnTo>
                  <a:lnTo>
                    <a:pt x="250" y="933"/>
                  </a:lnTo>
                  <a:lnTo>
                    <a:pt x="262" y="871"/>
                  </a:lnTo>
                  <a:lnTo>
                    <a:pt x="275" y="811"/>
                  </a:lnTo>
                  <a:lnTo>
                    <a:pt x="291" y="753"/>
                  </a:lnTo>
                  <a:lnTo>
                    <a:pt x="298" y="726"/>
                  </a:lnTo>
                  <a:lnTo>
                    <a:pt x="306" y="699"/>
                  </a:lnTo>
                  <a:lnTo>
                    <a:pt x="315" y="673"/>
                  </a:lnTo>
                  <a:lnTo>
                    <a:pt x="324" y="647"/>
                  </a:lnTo>
                  <a:lnTo>
                    <a:pt x="334" y="621"/>
                  </a:lnTo>
                  <a:lnTo>
                    <a:pt x="343" y="597"/>
                  </a:lnTo>
                  <a:lnTo>
                    <a:pt x="354" y="573"/>
                  </a:lnTo>
                  <a:lnTo>
                    <a:pt x="364" y="550"/>
                  </a:lnTo>
                  <a:lnTo>
                    <a:pt x="375" y="528"/>
                  </a:lnTo>
                  <a:lnTo>
                    <a:pt x="387" y="506"/>
                  </a:lnTo>
                  <a:lnTo>
                    <a:pt x="398" y="485"/>
                  </a:lnTo>
                  <a:lnTo>
                    <a:pt x="410" y="465"/>
                  </a:lnTo>
                  <a:lnTo>
                    <a:pt x="422" y="445"/>
                  </a:lnTo>
                  <a:lnTo>
                    <a:pt x="435" y="427"/>
                  </a:lnTo>
                  <a:lnTo>
                    <a:pt x="447" y="409"/>
                  </a:lnTo>
                  <a:lnTo>
                    <a:pt x="459" y="391"/>
                  </a:lnTo>
                  <a:lnTo>
                    <a:pt x="473" y="376"/>
                  </a:lnTo>
                  <a:lnTo>
                    <a:pt x="486" y="360"/>
                  </a:lnTo>
                  <a:lnTo>
                    <a:pt x="499" y="346"/>
                  </a:lnTo>
                  <a:lnTo>
                    <a:pt x="514" y="332"/>
                  </a:lnTo>
                  <a:lnTo>
                    <a:pt x="527" y="319"/>
                  </a:lnTo>
                  <a:lnTo>
                    <a:pt x="542" y="307"/>
                  </a:lnTo>
                  <a:lnTo>
                    <a:pt x="556" y="296"/>
                  </a:lnTo>
                  <a:lnTo>
                    <a:pt x="571" y="284"/>
                  </a:lnTo>
                  <a:lnTo>
                    <a:pt x="585" y="275"/>
                  </a:lnTo>
                  <a:lnTo>
                    <a:pt x="600" y="265"/>
                  </a:lnTo>
                  <a:lnTo>
                    <a:pt x="615" y="258"/>
                  </a:lnTo>
                  <a:lnTo>
                    <a:pt x="631" y="250"/>
                  </a:lnTo>
                  <a:lnTo>
                    <a:pt x="647" y="243"/>
                  </a:lnTo>
                  <a:lnTo>
                    <a:pt x="662" y="237"/>
                  </a:lnTo>
                  <a:lnTo>
                    <a:pt x="678" y="232"/>
                  </a:lnTo>
                  <a:lnTo>
                    <a:pt x="695" y="227"/>
                  </a:lnTo>
                  <a:lnTo>
                    <a:pt x="710" y="224"/>
                  </a:lnTo>
                  <a:lnTo>
                    <a:pt x="728" y="221"/>
                  </a:lnTo>
                  <a:lnTo>
                    <a:pt x="745" y="218"/>
                  </a:lnTo>
                  <a:lnTo>
                    <a:pt x="763" y="217"/>
                  </a:lnTo>
                  <a:lnTo>
                    <a:pt x="781" y="217"/>
                  </a:lnTo>
                  <a:lnTo>
                    <a:pt x="800" y="217"/>
                  </a:lnTo>
                  <a:lnTo>
                    <a:pt x="819" y="218"/>
                  </a:lnTo>
                  <a:lnTo>
                    <a:pt x="839" y="221"/>
                  </a:lnTo>
                  <a:lnTo>
                    <a:pt x="859" y="224"/>
                  </a:lnTo>
                  <a:lnTo>
                    <a:pt x="879" y="227"/>
                  </a:lnTo>
                  <a:lnTo>
                    <a:pt x="900" y="233"/>
                  </a:lnTo>
                  <a:lnTo>
                    <a:pt x="922" y="239"/>
                  </a:lnTo>
                  <a:lnTo>
                    <a:pt x="944" y="245"/>
                  </a:lnTo>
                  <a:lnTo>
                    <a:pt x="967" y="253"/>
                  </a:lnTo>
                  <a:lnTo>
                    <a:pt x="989" y="263"/>
                  </a:lnTo>
                  <a:lnTo>
                    <a:pt x="1014" y="273"/>
                  </a:lnTo>
                  <a:lnTo>
                    <a:pt x="1038" y="284"/>
                  </a:lnTo>
                  <a:lnTo>
                    <a:pt x="1063" y="298"/>
                  </a:lnTo>
                  <a:lnTo>
                    <a:pt x="1087" y="311"/>
                  </a:lnTo>
                  <a:lnTo>
                    <a:pt x="1113" y="327"/>
                  </a:lnTo>
                  <a:lnTo>
                    <a:pt x="1140" y="343"/>
                  </a:lnTo>
                  <a:lnTo>
                    <a:pt x="1167" y="361"/>
                  </a:lnTo>
                  <a:lnTo>
                    <a:pt x="1193" y="380"/>
                  </a:lnTo>
                  <a:lnTo>
                    <a:pt x="1221" y="400"/>
                  </a:lnTo>
                  <a:lnTo>
                    <a:pt x="1249" y="422"/>
                  </a:lnTo>
                  <a:lnTo>
                    <a:pt x="1278" y="445"/>
                  </a:lnTo>
                  <a:lnTo>
                    <a:pt x="1307" y="470"/>
                  </a:lnTo>
                  <a:lnTo>
                    <a:pt x="1336" y="495"/>
                  </a:lnTo>
                  <a:lnTo>
                    <a:pt x="1366" y="523"/>
                  </a:lnTo>
                  <a:lnTo>
                    <a:pt x="1397" y="552"/>
                  </a:lnTo>
                  <a:lnTo>
                    <a:pt x="1427" y="582"/>
                  </a:lnTo>
                  <a:lnTo>
                    <a:pt x="1458" y="614"/>
                  </a:lnTo>
                  <a:lnTo>
                    <a:pt x="1553" y="646"/>
                  </a:lnTo>
                  <a:lnTo>
                    <a:pt x="1458" y="614"/>
                  </a:lnTo>
                  <a:lnTo>
                    <a:pt x="1468" y="622"/>
                  </a:lnTo>
                  <a:lnTo>
                    <a:pt x="1477" y="630"/>
                  </a:lnTo>
                  <a:lnTo>
                    <a:pt x="1487" y="637"/>
                  </a:lnTo>
                  <a:lnTo>
                    <a:pt x="1498" y="641"/>
                  </a:lnTo>
                  <a:lnTo>
                    <a:pt x="1508" y="645"/>
                  </a:lnTo>
                  <a:lnTo>
                    <a:pt x="1518" y="647"/>
                  </a:lnTo>
                  <a:lnTo>
                    <a:pt x="1528" y="648"/>
                  </a:lnTo>
                  <a:lnTo>
                    <a:pt x="1539" y="649"/>
                  </a:lnTo>
                  <a:lnTo>
                    <a:pt x="1550" y="648"/>
                  </a:lnTo>
                  <a:lnTo>
                    <a:pt x="1558" y="646"/>
                  </a:lnTo>
                  <a:lnTo>
                    <a:pt x="1568" y="644"/>
                  </a:lnTo>
                  <a:lnTo>
                    <a:pt x="1579" y="639"/>
                  </a:lnTo>
                  <a:lnTo>
                    <a:pt x="1587" y="635"/>
                  </a:lnTo>
                  <a:lnTo>
                    <a:pt x="1595" y="629"/>
                  </a:lnTo>
                  <a:lnTo>
                    <a:pt x="1604" y="624"/>
                  </a:lnTo>
                  <a:lnTo>
                    <a:pt x="1612" y="617"/>
                  </a:lnTo>
                  <a:lnTo>
                    <a:pt x="1619" y="609"/>
                  </a:lnTo>
                  <a:lnTo>
                    <a:pt x="1625" y="601"/>
                  </a:lnTo>
                  <a:lnTo>
                    <a:pt x="1631" y="593"/>
                  </a:lnTo>
                  <a:lnTo>
                    <a:pt x="1635" y="585"/>
                  </a:lnTo>
                  <a:lnTo>
                    <a:pt x="1640" y="575"/>
                  </a:lnTo>
                  <a:lnTo>
                    <a:pt x="1643" y="566"/>
                  </a:lnTo>
                  <a:lnTo>
                    <a:pt x="1645" y="556"/>
                  </a:lnTo>
                  <a:lnTo>
                    <a:pt x="1647" y="545"/>
                  </a:lnTo>
                  <a:lnTo>
                    <a:pt x="1647" y="535"/>
                  </a:lnTo>
                  <a:lnTo>
                    <a:pt x="1645" y="524"/>
                  </a:lnTo>
                  <a:lnTo>
                    <a:pt x="1644" y="514"/>
                  </a:lnTo>
                  <a:lnTo>
                    <a:pt x="1641" y="504"/>
                  </a:lnTo>
                  <a:lnTo>
                    <a:pt x="1637" y="493"/>
                  </a:lnTo>
                  <a:lnTo>
                    <a:pt x="1630" y="483"/>
                  </a:lnTo>
                  <a:lnTo>
                    <a:pt x="1623" y="473"/>
                  </a:lnTo>
                  <a:lnTo>
                    <a:pt x="1614" y="463"/>
                  </a:lnTo>
                  <a:lnTo>
                    <a:pt x="1519" y="4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29200" y="3789360"/>
              <a:ext cx="569880" cy="757080"/>
            </a:xfrm>
            <a:custGeom>
              <a:avLst/>
              <a:gdLst/>
              <a:ahLst/>
              <a:rect l="l" t="t" r="r" b="b"/>
              <a:pathLst>
                <a:path w="2156" h="2860">
                  <a:moveTo>
                    <a:pt x="19" y="2811"/>
                  </a:moveTo>
                  <a:lnTo>
                    <a:pt x="144" y="2853"/>
                  </a:lnTo>
                  <a:lnTo>
                    <a:pt x="188" y="2839"/>
                  </a:lnTo>
                  <a:lnTo>
                    <a:pt x="230" y="2823"/>
                  </a:lnTo>
                  <a:lnTo>
                    <a:pt x="273" y="2806"/>
                  </a:lnTo>
                  <a:lnTo>
                    <a:pt x="315" y="2790"/>
                  </a:lnTo>
                  <a:lnTo>
                    <a:pt x="356" y="2773"/>
                  </a:lnTo>
                  <a:lnTo>
                    <a:pt x="399" y="2755"/>
                  </a:lnTo>
                  <a:lnTo>
                    <a:pt x="439" y="2736"/>
                  </a:lnTo>
                  <a:lnTo>
                    <a:pt x="480" y="2717"/>
                  </a:lnTo>
                  <a:lnTo>
                    <a:pt x="522" y="2697"/>
                  </a:lnTo>
                  <a:lnTo>
                    <a:pt x="562" y="2677"/>
                  </a:lnTo>
                  <a:lnTo>
                    <a:pt x="601" y="2657"/>
                  </a:lnTo>
                  <a:lnTo>
                    <a:pt x="641" y="2636"/>
                  </a:lnTo>
                  <a:lnTo>
                    <a:pt x="680" y="2613"/>
                  </a:lnTo>
                  <a:lnTo>
                    <a:pt x="719" y="2592"/>
                  </a:lnTo>
                  <a:lnTo>
                    <a:pt x="757" y="2569"/>
                  </a:lnTo>
                  <a:lnTo>
                    <a:pt x="796" y="2545"/>
                  </a:lnTo>
                  <a:lnTo>
                    <a:pt x="870" y="2498"/>
                  </a:lnTo>
                  <a:lnTo>
                    <a:pt x="943" y="2449"/>
                  </a:lnTo>
                  <a:lnTo>
                    <a:pt x="1016" y="2399"/>
                  </a:lnTo>
                  <a:lnTo>
                    <a:pt x="1085" y="2346"/>
                  </a:lnTo>
                  <a:lnTo>
                    <a:pt x="1154" y="2293"/>
                  </a:lnTo>
                  <a:lnTo>
                    <a:pt x="1220" y="2238"/>
                  </a:lnTo>
                  <a:lnTo>
                    <a:pt x="1285" y="2182"/>
                  </a:lnTo>
                  <a:lnTo>
                    <a:pt x="1348" y="2126"/>
                  </a:lnTo>
                  <a:lnTo>
                    <a:pt x="1409" y="2067"/>
                  </a:lnTo>
                  <a:lnTo>
                    <a:pt x="1468" y="2008"/>
                  </a:lnTo>
                  <a:lnTo>
                    <a:pt x="1525" y="1949"/>
                  </a:lnTo>
                  <a:lnTo>
                    <a:pt x="1580" y="1889"/>
                  </a:lnTo>
                  <a:lnTo>
                    <a:pt x="1633" y="1828"/>
                  </a:lnTo>
                  <a:lnTo>
                    <a:pt x="1683" y="1766"/>
                  </a:lnTo>
                  <a:lnTo>
                    <a:pt x="1731" y="1705"/>
                  </a:lnTo>
                  <a:lnTo>
                    <a:pt x="1777" y="1642"/>
                  </a:lnTo>
                  <a:lnTo>
                    <a:pt x="1822" y="1580"/>
                  </a:lnTo>
                  <a:lnTo>
                    <a:pt x="1863" y="1517"/>
                  </a:lnTo>
                  <a:lnTo>
                    <a:pt x="1902" y="1455"/>
                  </a:lnTo>
                  <a:lnTo>
                    <a:pt x="1938" y="1392"/>
                  </a:lnTo>
                  <a:lnTo>
                    <a:pt x="1972" y="1330"/>
                  </a:lnTo>
                  <a:lnTo>
                    <a:pt x="2002" y="1267"/>
                  </a:lnTo>
                  <a:lnTo>
                    <a:pt x="2032" y="1206"/>
                  </a:lnTo>
                  <a:lnTo>
                    <a:pt x="2057" y="1145"/>
                  </a:lnTo>
                  <a:lnTo>
                    <a:pt x="2069" y="1112"/>
                  </a:lnTo>
                  <a:lnTo>
                    <a:pt x="2081" y="1082"/>
                  </a:lnTo>
                  <a:lnTo>
                    <a:pt x="2091" y="1052"/>
                  </a:lnTo>
                  <a:lnTo>
                    <a:pt x="2101" y="1021"/>
                  </a:lnTo>
                  <a:lnTo>
                    <a:pt x="2110" y="991"/>
                  </a:lnTo>
                  <a:lnTo>
                    <a:pt x="2117" y="960"/>
                  </a:lnTo>
                  <a:lnTo>
                    <a:pt x="2125" y="930"/>
                  </a:lnTo>
                  <a:lnTo>
                    <a:pt x="2132" y="901"/>
                  </a:lnTo>
                  <a:lnTo>
                    <a:pt x="2138" y="871"/>
                  </a:lnTo>
                  <a:lnTo>
                    <a:pt x="2143" y="842"/>
                  </a:lnTo>
                  <a:lnTo>
                    <a:pt x="2148" y="813"/>
                  </a:lnTo>
                  <a:lnTo>
                    <a:pt x="2151" y="783"/>
                  </a:lnTo>
                  <a:lnTo>
                    <a:pt x="2153" y="754"/>
                  </a:lnTo>
                  <a:lnTo>
                    <a:pt x="2155" y="726"/>
                  </a:lnTo>
                  <a:lnTo>
                    <a:pt x="2156" y="697"/>
                  </a:lnTo>
                  <a:lnTo>
                    <a:pt x="2156" y="669"/>
                  </a:lnTo>
                  <a:lnTo>
                    <a:pt x="2155" y="641"/>
                  </a:lnTo>
                  <a:lnTo>
                    <a:pt x="2153" y="613"/>
                  </a:lnTo>
                  <a:lnTo>
                    <a:pt x="2151" y="585"/>
                  </a:lnTo>
                  <a:lnTo>
                    <a:pt x="2148" y="559"/>
                  </a:lnTo>
                  <a:lnTo>
                    <a:pt x="2142" y="531"/>
                  </a:lnTo>
                  <a:lnTo>
                    <a:pt x="2136" y="505"/>
                  </a:lnTo>
                  <a:lnTo>
                    <a:pt x="2130" y="478"/>
                  </a:lnTo>
                  <a:lnTo>
                    <a:pt x="2122" y="453"/>
                  </a:lnTo>
                  <a:lnTo>
                    <a:pt x="2113" y="427"/>
                  </a:lnTo>
                  <a:lnTo>
                    <a:pt x="2103" y="401"/>
                  </a:lnTo>
                  <a:lnTo>
                    <a:pt x="2092" y="377"/>
                  </a:lnTo>
                  <a:lnTo>
                    <a:pt x="2079" y="353"/>
                  </a:lnTo>
                  <a:lnTo>
                    <a:pt x="2066" y="330"/>
                  </a:lnTo>
                  <a:lnTo>
                    <a:pt x="2052" y="306"/>
                  </a:lnTo>
                  <a:lnTo>
                    <a:pt x="2036" y="284"/>
                  </a:lnTo>
                  <a:lnTo>
                    <a:pt x="2020" y="263"/>
                  </a:lnTo>
                  <a:lnTo>
                    <a:pt x="2001" y="242"/>
                  </a:lnTo>
                  <a:lnTo>
                    <a:pt x="1982" y="222"/>
                  </a:lnTo>
                  <a:lnTo>
                    <a:pt x="1963" y="203"/>
                  </a:lnTo>
                  <a:lnTo>
                    <a:pt x="1942" y="184"/>
                  </a:lnTo>
                  <a:lnTo>
                    <a:pt x="1920" y="166"/>
                  </a:lnTo>
                  <a:lnTo>
                    <a:pt x="1898" y="149"/>
                  </a:lnTo>
                  <a:lnTo>
                    <a:pt x="1873" y="133"/>
                  </a:lnTo>
                  <a:lnTo>
                    <a:pt x="1848" y="118"/>
                  </a:lnTo>
                  <a:lnTo>
                    <a:pt x="1822" y="103"/>
                  </a:lnTo>
                  <a:lnTo>
                    <a:pt x="1796" y="91"/>
                  </a:lnTo>
                  <a:lnTo>
                    <a:pt x="1767" y="79"/>
                  </a:lnTo>
                  <a:lnTo>
                    <a:pt x="1739" y="66"/>
                  </a:lnTo>
                  <a:lnTo>
                    <a:pt x="1709" y="56"/>
                  </a:lnTo>
                  <a:lnTo>
                    <a:pt x="1679" y="46"/>
                  </a:lnTo>
                  <a:lnTo>
                    <a:pt x="1648" y="37"/>
                  </a:lnTo>
                  <a:lnTo>
                    <a:pt x="1615" y="30"/>
                  </a:lnTo>
                  <a:lnTo>
                    <a:pt x="1582" y="23"/>
                  </a:lnTo>
                  <a:lnTo>
                    <a:pt x="1548" y="17"/>
                  </a:lnTo>
                  <a:lnTo>
                    <a:pt x="1514" y="12"/>
                  </a:lnTo>
                  <a:lnTo>
                    <a:pt x="1478" y="7"/>
                  </a:lnTo>
                  <a:lnTo>
                    <a:pt x="1440" y="4"/>
                  </a:lnTo>
                  <a:lnTo>
                    <a:pt x="1403" y="2"/>
                  </a:lnTo>
                  <a:lnTo>
                    <a:pt x="1364" y="1"/>
                  </a:lnTo>
                  <a:lnTo>
                    <a:pt x="1325" y="0"/>
                  </a:lnTo>
                  <a:lnTo>
                    <a:pt x="1284" y="0"/>
                  </a:lnTo>
                  <a:lnTo>
                    <a:pt x="1242" y="2"/>
                  </a:lnTo>
                  <a:lnTo>
                    <a:pt x="1200" y="4"/>
                  </a:lnTo>
                  <a:lnTo>
                    <a:pt x="1157" y="6"/>
                  </a:lnTo>
                  <a:lnTo>
                    <a:pt x="1112" y="11"/>
                  </a:lnTo>
                  <a:lnTo>
                    <a:pt x="1067" y="16"/>
                  </a:lnTo>
                  <a:lnTo>
                    <a:pt x="1020" y="22"/>
                  </a:lnTo>
                  <a:lnTo>
                    <a:pt x="972" y="30"/>
                  </a:lnTo>
                  <a:lnTo>
                    <a:pt x="1006" y="244"/>
                  </a:lnTo>
                  <a:lnTo>
                    <a:pt x="1049" y="237"/>
                  </a:lnTo>
                  <a:lnTo>
                    <a:pt x="1093" y="232"/>
                  </a:lnTo>
                  <a:lnTo>
                    <a:pt x="1134" y="227"/>
                  </a:lnTo>
                  <a:lnTo>
                    <a:pt x="1174" y="224"/>
                  </a:lnTo>
                  <a:lnTo>
                    <a:pt x="1213" y="220"/>
                  </a:lnTo>
                  <a:lnTo>
                    <a:pt x="1251" y="218"/>
                  </a:lnTo>
                  <a:lnTo>
                    <a:pt x="1288" y="217"/>
                  </a:lnTo>
                  <a:lnTo>
                    <a:pt x="1325" y="217"/>
                  </a:lnTo>
                  <a:lnTo>
                    <a:pt x="1359" y="218"/>
                  </a:lnTo>
                  <a:lnTo>
                    <a:pt x="1392" y="218"/>
                  </a:lnTo>
                  <a:lnTo>
                    <a:pt x="1424" y="220"/>
                  </a:lnTo>
                  <a:lnTo>
                    <a:pt x="1456" y="224"/>
                  </a:lnTo>
                  <a:lnTo>
                    <a:pt x="1485" y="227"/>
                  </a:lnTo>
                  <a:lnTo>
                    <a:pt x="1514" y="232"/>
                  </a:lnTo>
                  <a:lnTo>
                    <a:pt x="1542" y="236"/>
                  </a:lnTo>
                  <a:lnTo>
                    <a:pt x="1568" y="242"/>
                  </a:lnTo>
                  <a:lnTo>
                    <a:pt x="1593" y="248"/>
                  </a:lnTo>
                  <a:lnTo>
                    <a:pt x="1617" y="255"/>
                  </a:lnTo>
                  <a:lnTo>
                    <a:pt x="1641" y="262"/>
                  </a:lnTo>
                  <a:lnTo>
                    <a:pt x="1662" y="270"/>
                  </a:lnTo>
                  <a:lnTo>
                    <a:pt x="1683" y="279"/>
                  </a:lnTo>
                  <a:lnTo>
                    <a:pt x="1703" y="287"/>
                  </a:lnTo>
                  <a:lnTo>
                    <a:pt x="1722" y="296"/>
                  </a:lnTo>
                  <a:lnTo>
                    <a:pt x="1740" y="306"/>
                  </a:lnTo>
                  <a:lnTo>
                    <a:pt x="1757" y="316"/>
                  </a:lnTo>
                  <a:lnTo>
                    <a:pt x="1773" y="327"/>
                  </a:lnTo>
                  <a:lnTo>
                    <a:pt x="1788" y="339"/>
                  </a:lnTo>
                  <a:lnTo>
                    <a:pt x="1802" y="350"/>
                  </a:lnTo>
                  <a:lnTo>
                    <a:pt x="1815" y="361"/>
                  </a:lnTo>
                  <a:lnTo>
                    <a:pt x="1828" y="373"/>
                  </a:lnTo>
                  <a:lnTo>
                    <a:pt x="1840" y="386"/>
                  </a:lnTo>
                  <a:lnTo>
                    <a:pt x="1851" y="399"/>
                  </a:lnTo>
                  <a:lnTo>
                    <a:pt x="1861" y="412"/>
                  </a:lnTo>
                  <a:lnTo>
                    <a:pt x="1871" y="426"/>
                  </a:lnTo>
                  <a:lnTo>
                    <a:pt x="1880" y="440"/>
                  </a:lnTo>
                  <a:lnTo>
                    <a:pt x="1889" y="455"/>
                  </a:lnTo>
                  <a:lnTo>
                    <a:pt x="1895" y="470"/>
                  </a:lnTo>
                  <a:lnTo>
                    <a:pt x="1903" y="486"/>
                  </a:lnTo>
                  <a:lnTo>
                    <a:pt x="1910" y="503"/>
                  </a:lnTo>
                  <a:lnTo>
                    <a:pt x="1915" y="520"/>
                  </a:lnTo>
                  <a:lnTo>
                    <a:pt x="1921" y="536"/>
                  </a:lnTo>
                  <a:lnTo>
                    <a:pt x="1925" y="554"/>
                  </a:lnTo>
                  <a:lnTo>
                    <a:pt x="1929" y="573"/>
                  </a:lnTo>
                  <a:lnTo>
                    <a:pt x="1932" y="591"/>
                  </a:lnTo>
                  <a:lnTo>
                    <a:pt x="1934" y="611"/>
                  </a:lnTo>
                  <a:lnTo>
                    <a:pt x="1937" y="631"/>
                  </a:lnTo>
                  <a:lnTo>
                    <a:pt x="1939" y="651"/>
                  </a:lnTo>
                  <a:lnTo>
                    <a:pt x="1939" y="671"/>
                  </a:lnTo>
                  <a:lnTo>
                    <a:pt x="1939" y="694"/>
                  </a:lnTo>
                  <a:lnTo>
                    <a:pt x="1939" y="715"/>
                  </a:lnTo>
                  <a:lnTo>
                    <a:pt x="1937" y="738"/>
                  </a:lnTo>
                  <a:lnTo>
                    <a:pt x="1934" y="761"/>
                  </a:lnTo>
                  <a:lnTo>
                    <a:pt x="1932" y="784"/>
                  </a:lnTo>
                  <a:lnTo>
                    <a:pt x="1929" y="808"/>
                  </a:lnTo>
                  <a:lnTo>
                    <a:pt x="1924" y="832"/>
                  </a:lnTo>
                  <a:lnTo>
                    <a:pt x="1920" y="855"/>
                  </a:lnTo>
                  <a:lnTo>
                    <a:pt x="1914" y="881"/>
                  </a:lnTo>
                  <a:lnTo>
                    <a:pt x="1908" y="906"/>
                  </a:lnTo>
                  <a:lnTo>
                    <a:pt x="1901" y="931"/>
                  </a:lnTo>
                  <a:lnTo>
                    <a:pt x="1893" y="957"/>
                  </a:lnTo>
                  <a:lnTo>
                    <a:pt x="1884" y="984"/>
                  </a:lnTo>
                  <a:lnTo>
                    <a:pt x="1875" y="1010"/>
                  </a:lnTo>
                  <a:lnTo>
                    <a:pt x="1866" y="1036"/>
                  </a:lnTo>
                  <a:lnTo>
                    <a:pt x="1856" y="1063"/>
                  </a:lnTo>
                  <a:lnTo>
                    <a:pt x="1833" y="1118"/>
                  </a:lnTo>
                  <a:lnTo>
                    <a:pt x="1807" y="1174"/>
                  </a:lnTo>
                  <a:lnTo>
                    <a:pt x="1779" y="1229"/>
                  </a:lnTo>
                  <a:lnTo>
                    <a:pt x="1748" y="1286"/>
                  </a:lnTo>
                  <a:lnTo>
                    <a:pt x="1716" y="1343"/>
                  </a:lnTo>
                  <a:lnTo>
                    <a:pt x="1680" y="1400"/>
                  </a:lnTo>
                  <a:lnTo>
                    <a:pt x="1642" y="1458"/>
                  </a:lnTo>
                  <a:lnTo>
                    <a:pt x="1602" y="1515"/>
                  </a:lnTo>
                  <a:lnTo>
                    <a:pt x="1558" y="1573"/>
                  </a:lnTo>
                  <a:lnTo>
                    <a:pt x="1514" y="1630"/>
                  </a:lnTo>
                  <a:lnTo>
                    <a:pt x="1467" y="1688"/>
                  </a:lnTo>
                  <a:lnTo>
                    <a:pt x="1418" y="1745"/>
                  </a:lnTo>
                  <a:lnTo>
                    <a:pt x="1366" y="1801"/>
                  </a:lnTo>
                  <a:lnTo>
                    <a:pt x="1313" y="1857"/>
                  </a:lnTo>
                  <a:lnTo>
                    <a:pt x="1258" y="1912"/>
                  </a:lnTo>
                  <a:lnTo>
                    <a:pt x="1200" y="1966"/>
                  </a:lnTo>
                  <a:lnTo>
                    <a:pt x="1141" y="2019"/>
                  </a:lnTo>
                  <a:lnTo>
                    <a:pt x="1081" y="2072"/>
                  </a:lnTo>
                  <a:lnTo>
                    <a:pt x="1018" y="2124"/>
                  </a:lnTo>
                  <a:lnTo>
                    <a:pt x="953" y="2173"/>
                  </a:lnTo>
                  <a:lnTo>
                    <a:pt x="888" y="2223"/>
                  </a:lnTo>
                  <a:lnTo>
                    <a:pt x="821" y="2271"/>
                  </a:lnTo>
                  <a:lnTo>
                    <a:pt x="751" y="2316"/>
                  </a:lnTo>
                  <a:lnTo>
                    <a:pt x="681" y="2361"/>
                  </a:lnTo>
                  <a:lnTo>
                    <a:pt x="645" y="2382"/>
                  </a:lnTo>
                  <a:lnTo>
                    <a:pt x="610" y="2403"/>
                  </a:lnTo>
                  <a:lnTo>
                    <a:pt x="574" y="2425"/>
                  </a:lnTo>
                  <a:lnTo>
                    <a:pt x="537" y="2445"/>
                  </a:lnTo>
                  <a:lnTo>
                    <a:pt x="500" y="2465"/>
                  </a:lnTo>
                  <a:lnTo>
                    <a:pt x="462" y="2484"/>
                  </a:lnTo>
                  <a:lnTo>
                    <a:pt x="426" y="2503"/>
                  </a:lnTo>
                  <a:lnTo>
                    <a:pt x="388" y="2521"/>
                  </a:lnTo>
                  <a:lnTo>
                    <a:pt x="350" y="2538"/>
                  </a:lnTo>
                  <a:lnTo>
                    <a:pt x="311" y="2555"/>
                  </a:lnTo>
                  <a:lnTo>
                    <a:pt x="273" y="2573"/>
                  </a:lnTo>
                  <a:lnTo>
                    <a:pt x="234" y="2589"/>
                  </a:lnTo>
                  <a:lnTo>
                    <a:pt x="195" y="2604"/>
                  </a:lnTo>
                  <a:lnTo>
                    <a:pt x="155" y="2619"/>
                  </a:lnTo>
                  <a:lnTo>
                    <a:pt x="115" y="2633"/>
                  </a:lnTo>
                  <a:lnTo>
                    <a:pt x="75" y="2647"/>
                  </a:lnTo>
                  <a:lnTo>
                    <a:pt x="200" y="2689"/>
                  </a:lnTo>
                  <a:lnTo>
                    <a:pt x="75" y="2647"/>
                  </a:lnTo>
                  <a:lnTo>
                    <a:pt x="63" y="2652"/>
                  </a:lnTo>
                  <a:lnTo>
                    <a:pt x="52" y="2658"/>
                  </a:lnTo>
                  <a:lnTo>
                    <a:pt x="42" y="2665"/>
                  </a:lnTo>
                  <a:lnTo>
                    <a:pt x="33" y="2671"/>
                  </a:lnTo>
                  <a:lnTo>
                    <a:pt x="26" y="2679"/>
                  </a:lnTo>
                  <a:lnTo>
                    <a:pt x="19" y="2687"/>
                  </a:lnTo>
                  <a:lnTo>
                    <a:pt x="14" y="2696"/>
                  </a:lnTo>
                  <a:lnTo>
                    <a:pt x="9" y="2705"/>
                  </a:lnTo>
                  <a:lnTo>
                    <a:pt x="5" y="2715"/>
                  </a:lnTo>
                  <a:lnTo>
                    <a:pt x="3" y="2725"/>
                  </a:lnTo>
                  <a:lnTo>
                    <a:pt x="1" y="2735"/>
                  </a:lnTo>
                  <a:lnTo>
                    <a:pt x="0" y="2745"/>
                  </a:lnTo>
                  <a:lnTo>
                    <a:pt x="0" y="2755"/>
                  </a:lnTo>
                  <a:lnTo>
                    <a:pt x="1" y="2765"/>
                  </a:lnTo>
                  <a:lnTo>
                    <a:pt x="4" y="2775"/>
                  </a:lnTo>
                  <a:lnTo>
                    <a:pt x="7" y="2785"/>
                  </a:lnTo>
                  <a:lnTo>
                    <a:pt x="10" y="2794"/>
                  </a:lnTo>
                  <a:lnTo>
                    <a:pt x="15" y="2803"/>
                  </a:lnTo>
                  <a:lnTo>
                    <a:pt x="20" y="2812"/>
                  </a:lnTo>
                  <a:lnTo>
                    <a:pt x="26" y="2820"/>
                  </a:lnTo>
                  <a:lnTo>
                    <a:pt x="33" y="2827"/>
                  </a:lnTo>
                  <a:lnTo>
                    <a:pt x="39" y="2835"/>
                  </a:lnTo>
                  <a:lnTo>
                    <a:pt x="47" y="2841"/>
                  </a:lnTo>
                  <a:lnTo>
                    <a:pt x="56" y="2846"/>
                  </a:lnTo>
                  <a:lnTo>
                    <a:pt x="65" y="2851"/>
                  </a:lnTo>
                  <a:lnTo>
                    <a:pt x="75" y="2855"/>
                  </a:lnTo>
                  <a:lnTo>
                    <a:pt x="85" y="2858"/>
                  </a:lnTo>
                  <a:lnTo>
                    <a:pt x="96" y="2859"/>
                  </a:lnTo>
                  <a:lnTo>
                    <a:pt x="107" y="2860"/>
                  </a:lnTo>
                  <a:lnTo>
                    <a:pt x="119" y="2859"/>
                  </a:lnTo>
                  <a:lnTo>
                    <a:pt x="131" y="2856"/>
                  </a:lnTo>
                  <a:lnTo>
                    <a:pt x="144" y="2853"/>
                  </a:lnTo>
                  <a:lnTo>
                    <a:pt x="19" y="28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608200" y="2444760"/>
            <a:ext cx="2676960" cy="3346560"/>
            <a:chOff x="2608200" y="2444760"/>
            <a:chExt cx="2676960" cy="3346560"/>
          </a:xfrm>
        </p:grpSpPr>
        <p:grpSp>
          <p:nvGrpSpPr>
            <p:cNvPr id="916" name=""/>
            <p:cNvGrpSpPr/>
            <p:nvPr/>
          </p:nvGrpSpPr>
          <p:grpSpPr>
            <a:xfrm>
              <a:off x="2608200" y="3657600"/>
              <a:ext cx="1992240" cy="2133720"/>
              <a:chOff x="2608200" y="3657600"/>
              <a:chExt cx="1992240" cy="2133720"/>
            </a:xfrm>
          </p:grpSpPr>
          <p:sp>
            <p:nvSpPr>
              <p:cNvPr id="917" name=""/>
              <p:cNvSpPr/>
              <p:nvPr/>
            </p:nvSpPr>
            <p:spPr>
              <a:xfrm>
                <a:off x="2608200" y="3657600"/>
                <a:ext cx="1992240" cy="2133720"/>
              </a:xfrm>
              <a:custGeom>
                <a:avLst/>
                <a:gdLst/>
                <a:ahLst/>
                <a:rect l="l" t="t" r="r" b="b"/>
                <a:pathLst>
                  <a:path w="7533" h="8065">
                    <a:moveTo>
                      <a:pt x="162" y="3826"/>
                    </a:moveTo>
                    <a:lnTo>
                      <a:pt x="162" y="3802"/>
                    </a:lnTo>
                    <a:lnTo>
                      <a:pt x="180" y="3784"/>
                    </a:lnTo>
                    <a:lnTo>
                      <a:pt x="222" y="3784"/>
                    </a:lnTo>
                    <a:lnTo>
                      <a:pt x="240" y="3766"/>
                    </a:lnTo>
                    <a:lnTo>
                      <a:pt x="264" y="3766"/>
                    </a:lnTo>
                    <a:lnTo>
                      <a:pt x="281" y="3743"/>
                    </a:lnTo>
                    <a:lnTo>
                      <a:pt x="360" y="3743"/>
                    </a:lnTo>
                    <a:lnTo>
                      <a:pt x="401" y="3725"/>
                    </a:lnTo>
                    <a:lnTo>
                      <a:pt x="539" y="3725"/>
                    </a:lnTo>
                    <a:lnTo>
                      <a:pt x="581" y="3707"/>
                    </a:lnTo>
                    <a:lnTo>
                      <a:pt x="742" y="3707"/>
                    </a:lnTo>
                    <a:lnTo>
                      <a:pt x="778" y="3682"/>
                    </a:lnTo>
                    <a:lnTo>
                      <a:pt x="898" y="3682"/>
                    </a:lnTo>
                    <a:lnTo>
                      <a:pt x="921" y="3665"/>
                    </a:lnTo>
                    <a:lnTo>
                      <a:pt x="999" y="3665"/>
                    </a:lnTo>
                    <a:lnTo>
                      <a:pt x="1040" y="3647"/>
                    </a:lnTo>
                    <a:lnTo>
                      <a:pt x="1059" y="3647"/>
                    </a:lnTo>
                    <a:lnTo>
                      <a:pt x="1101" y="3623"/>
                    </a:lnTo>
                    <a:lnTo>
                      <a:pt x="1136" y="3623"/>
                    </a:lnTo>
                    <a:lnTo>
                      <a:pt x="1179" y="3605"/>
                    </a:lnTo>
                    <a:lnTo>
                      <a:pt x="1197" y="3588"/>
                    </a:lnTo>
                    <a:lnTo>
                      <a:pt x="1238" y="3588"/>
                    </a:lnTo>
                    <a:lnTo>
                      <a:pt x="1280" y="3563"/>
                    </a:lnTo>
                    <a:lnTo>
                      <a:pt x="1298" y="3545"/>
                    </a:lnTo>
                    <a:lnTo>
                      <a:pt x="1339" y="3527"/>
                    </a:lnTo>
                    <a:lnTo>
                      <a:pt x="1357" y="3504"/>
                    </a:lnTo>
                    <a:lnTo>
                      <a:pt x="1400" y="3485"/>
                    </a:lnTo>
                    <a:lnTo>
                      <a:pt x="1418" y="3467"/>
                    </a:lnTo>
                    <a:lnTo>
                      <a:pt x="1460" y="3444"/>
                    </a:lnTo>
                    <a:lnTo>
                      <a:pt x="1478" y="3426"/>
                    </a:lnTo>
                    <a:lnTo>
                      <a:pt x="1519" y="3408"/>
                    </a:lnTo>
                    <a:lnTo>
                      <a:pt x="1537" y="3366"/>
                    </a:lnTo>
                    <a:lnTo>
                      <a:pt x="1555" y="3366"/>
                    </a:lnTo>
                    <a:lnTo>
                      <a:pt x="1597" y="3289"/>
                    </a:lnTo>
                    <a:lnTo>
                      <a:pt x="1615" y="3264"/>
                    </a:lnTo>
                    <a:lnTo>
                      <a:pt x="1656" y="3187"/>
                    </a:lnTo>
                    <a:lnTo>
                      <a:pt x="1699" y="3109"/>
                    </a:lnTo>
                    <a:lnTo>
                      <a:pt x="1717" y="3049"/>
                    </a:lnTo>
                    <a:lnTo>
                      <a:pt x="1758" y="2965"/>
                    </a:lnTo>
                    <a:lnTo>
                      <a:pt x="1776" y="2906"/>
                    </a:lnTo>
                    <a:lnTo>
                      <a:pt x="1795" y="2870"/>
                    </a:lnTo>
                    <a:lnTo>
                      <a:pt x="1818" y="2810"/>
                    </a:lnTo>
                    <a:lnTo>
                      <a:pt x="1836" y="2768"/>
                    </a:lnTo>
                    <a:lnTo>
                      <a:pt x="1877" y="2648"/>
                    </a:lnTo>
                    <a:lnTo>
                      <a:pt x="1896" y="2607"/>
                    </a:lnTo>
                    <a:lnTo>
                      <a:pt x="1896" y="2546"/>
                    </a:lnTo>
                    <a:lnTo>
                      <a:pt x="1938" y="2427"/>
                    </a:lnTo>
                    <a:lnTo>
                      <a:pt x="1956" y="2368"/>
                    </a:lnTo>
                    <a:lnTo>
                      <a:pt x="1973" y="2332"/>
                    </a:lnTo>
                    <a:lnTo>
                      <a:pt x="1998" y="2272"/>
                    </a:lnTo>
                    <a:lnTo>
                      <a:pt x="1998" y="2212"/>
                    </a:lnTo>
                    <a:lnTo>
                      <a:pt x="2034" y="2092"/>
                    </a:lnTo>
                    <a:lnTo>
                      <a:pt x="2075" y="1973"/>
                    </a:lnTo>
                    <a:lnTo>
                      <a:pt x="2093" y="1914"/>
                    </a:lnTo>
                    <a:lnTo>
                      <a:pt x="2093" y="1871"/>
                    </a:lnTo>
                    <a:lnTo>
                      <a:pt x="2135" y="1752"/>
                    </a:lnTo>
                    <a:lnTo>
                      <a:pt x="2153" y="1692"/>
                    </a:lnTo>
                    <a:lnTo>
                      <a:pt x="2171" y="1656"/>
                    </a:lnTo>
                    <a:lnTo>
                      <a:pt x="2212" y="1536"/>
                    </a:lnTo>
                    <a:lnTo>
                      <a:pt x="2231" y="1494"/>
                    </a:lnTo>
                    <a:lnTo>
                      <a:pt x="2255" y="1435"/>
                    </a:lnTo>
                    <a:lnTo>
                      <a:pt x="2272" y="1392"/>
                    </a:lnTo>
                    <a:lnTo>
                      <a:pt x="2290" y="1333"/>
                    </a:lnTo>
                    <a:lnTo>
                      <a:pt x="2333" y="1255"/>
                    </a:lnTo>
                    <a:lnTo>
                      <a:pt x="2351" y="1214"/>
                    </a:lnTo>
                    <a:lnTo>
                      <a:pt x="2374" y="1154"/>
                    </a:lnTo>
                    <a:lnTo>
                      <a:pt x="2410" y="1118"/>
                    </a:lnTo>
                    <a:lnTo>
                      <a:pt x="2452" y="1077"/>
                    </a:lnTo>
                    <a:lnTo>
                      <a:pt x="2493" y="998"/>
                    </a:lnTo>
                    <a:lnTo>
                      <a:pt x="2511" y="956"/>
                    </a:lnTo>
                    <a:lnTo>
                      <a:pt x="2554" y="915"/>
                    </a:lnTo>
                    <a:lnTo>
                      <a:pt x="2572" y="897"/>
                    </a:lnTo>
                    <a:lnTo>
                      <a:pt x="2613" y="855"/>
                    </a:lnTo>
                    <a:lnTo>
                      <a:pt x="2631" y="819"/>
                    </a:lnTo>
                    <a:lnTo>
                      <a:pt x="2673" y="778"/>
                    </a:lnTo>
                    <a:lnTo>
                      <a:pt x="2691" y="760"/>
                    </a:lnTo>
                    <a:lnTo>
                      <a:pt x="2709" y="717"/>
                    </a:lnTo>
                    <a:lnTo>
                      <a:pt x="2751" y="676"/>
                    </a:lnTo>
                    <a:lnTo>
                      <a:pt x="2793" y="657"/>
                    </a:lnTo>
                    <a:lnTo>
                      <a:pt x="2810" y="616"/>
                    </a:lnTo>
                    <a:lnTo>
                      <a:pt x="2853" y="580"/>
                    </a:lnTo>
                    <a:lnTo>
                      <a:pt x="2871" y="555"/>
                    </a:lnTo>
                    <a:lnTo>
                      <a:pt x="2912" y="520"/>
                    </a:lnTo>
                    <a:lnTo>
                      <a:pt x="2930" y="496"/>
                    </a:lnTo>
                    <a:lnTo>
                      <a:pt x="2972" y="461"/>
                    </a:lnTo>
                    <a:lnTo>
                      <a:pt x="3008" y="436"/>
                    </a:lnTo>
                    <a:lnTo>
                      <a:pt x="3031" y="418"/>
                    </a:lnTo>
                    <a:lnTo>
                      <a:pt x="3068" y="377"/>
                    </a:lnTo>
                    <a:lnTo>
                      <a:pt x="3110" y="359"/>
                    </a:lnTo>
                    <a:lnTo>
                      <a:pt x="3127" y="341"/>
                    </a:lnTo>
                    <a:lnTo>
                      <a:pt x="3170" y="299"/>
                    </a:lnTo>
                    <a:lnTo>
                      <a:pt x="3211" y="281"/>
                    </a:lnTo>
                    <a:lnTo>
                      <a:pt x="3229" y="257"/>
                    </a:lnTo>
                    <a:lnTo>
                      <a:pt x="3307" y="221"/>
                    </a:lnTo>
                    <a:lnTo>
                      <a:pt x="3330" y="197"/>
                    </a:lnTo>
                    <a:lnTo>
                      <a:pt x="3409" y="161"/>
                    </a:lnTo>
                    <a:lnTo>
                      <a:pt x="3426" y="137"/>
                    </a:lnTo>
                    <a:lnTo>
                      <a:pt x="3510" y="101"/>
                    </a:lnTo>
                    <a:lnTo>
                      <a:pt x="3546" y="78"/>
                    </a:lnTo>
                    <a:lnTo>
                      <a:pt x="3570" y="60"/>
                    </a:lnTo>
                    <a:lnTo>
                      <a:pt x="3606" y="60"/>
                    </a:lnTo>
                    <a:lnTo>
                      <a:pt x="3647" y="42"/>
                    </a:lnTo>
                    <a:lnTo>
                      <a:pt x="3665" y="42"/>
                    </a:lnTo>
                    <a:lnTo>
                      <a:pt x="3708" y="18"/>
                    </a:lnTo>
                    <a:lnTo>
                      <a:pt x="3749" y="18"/>
                    </a:lnTo>
                    <a:lnTo>
                      <a:pt x="3767" y="0"/>
                    </a:lnTo>
                    <a:lnTo>
                      <a:pt x="4048" y="0"/>
                    </a:lnTo>
                    <a:lnTo>
                      <a:pt x="4084" y="18"/>
                    </a:lnTo>
                    <a:lnTo>
                      <a:pt x="4108" y="18"/>
                    </a:lnTo>
                    <a:lnTo>
                      <a:pt x="4144" y="42"/>
                    </a:lnTo>
                    <a:lnTo>
                      <a:pt x="4168" y="60"/>
                    </a:lnTo>
                    <a:lnTo>
                      <a:pt x="4246" y="101"/>
                    </a:lnTo>
                    <a:lnTo>
                      <a:pt x="4263" y="119"/>
                    </a:lnTo>
                    <a:lnTo>
                      <a:pt x="4347" y="161"/>
                    </a:lnTo>
                    <a:lnTo>
                      <a:pt x="4383" y="179"/>
                    </a:lnTo>
                    <a:lnTo>
                      <a:pt x="4407" y="221"/>
                    </a:lnTo>
                    <a:lnTo>
                      <a:pt x="4443" y="238"/>
                    </a:lnTo>
                    <a:lnTo>
                      <a:pt x="4484" y="281"/>
                    </a:lnTo>
                    <a:lnTo>
                      <a:pt x="4502" y="299"/>
                    </a:lnTo>
                    <a:lnTo>
                      <a:pt x="4545" y="317"/>
                    </a:lnTo>
                    <a:lnTo>
                      <a:pt x="4586" y="359"/>
                    </a:lnTo>
                    <a:lnTo>
                      <a:pt x="4604" y="400"/>
                    </a:lnTo>
                    <a:lnTo>
                      <a:pt x="4646" y="418"/>
                    </a:lnTo>
                    <a:lnTo>
                      <a:pt x="4682" y="461"/>
                    </a:lnTo>
                    <a:lnTo>
                      <a:pt x="4705" y="478"/>
                    </a:lnTo>
                    <a:lnTo>
                      <a:pt x="4742" y="520"/>
                    </a:lnTo>
                    <a:lnTo>
                      <a:pt x="4766" y="538"/>
                    </a:lnTo>
                    <a:lnTo>
                      <a:pt x="4801" y="580"/>
                    </a:lnTo>
                    <a:lnTo>
                      <a:pt x="4844" y="598"/>
                    </a:lnTo>
                    <a:lnTo>
                      <a:pt x="4862" y="639"/>
                    </a:lnTo>
                    <a:lnTo>
                      <a:pt x="4903" y="657"/>
                    </a:lnTo>
                    <a:lnTo>
                      <a:pt x="4921" y="699"/>
                    </a:lnTo>
                    <a:lnTo>
                      <a:pt x="4963" y="717"/>
                    </a:lnTo>
                    <a:lnTo>
                      <a:pt x="5005" y="760"/>
                    </a:lnTo>
                    <a:lnTo>
                      <a:pt x="5022" y="778"/>
                    </a:lnTo>
                    <a:lnTo>
                      <a:pt x="5065" y="795"/>
                    </a:lnTo>
                    <a:lnTo>
                      <a:pt x="5083" y="837"/>
                    </a:lnTo>
                    <a:lnTo>
                      <a:pt x="5124" y="855"/>
                    </a:lnTo>
                    <a:lnTo>
                      <a:pt x="5161" y="897"/>
                    </a:lnTo>
                    <a:lnTo>
                      <a:pt x="5202" y="915"/>
                    </a:lnTo>
                    <a:lnTo>
                      <a:pt x="5220" y="938"/>
                    </a:lnTo>
                    <a:lnTo>
                      <a:pt x="5262" y="938"/>
                    </a:lnTo>
                    <a:lnTo>
                      <a:pt x="5304" y="974"/>
                    </a:lnTo>
                    <a:lnTo>
                      <a:pt x="5364" y="974"/>
                    </a:lnTo>
                    <a:lnTo>
                      <a:pt x="5382" y="998"/>
                    </a:lnTo>
                    <a:lnTo>
                      <a:pt x="5459" y="998"/>
                    </a:lnTo>
                    <a:lnTo>
                      <a:pt x="5483" y="974"/>
                    </a:lnTo>
                    <a:lnTo>
                      <a:pt x="5542" y="974"/>
                    </a:lnTo>
                    <a:lnTo>
                      <a:pt x="5560" y="956"/>
                    </a:lnTo>
                    <a:lnTo>
                      <a:pt x="5579" y="956"/>
                    </a:lnTo>
                    <a:lnTo>
                      <a:pt x="5621" y="915"/>
                    </a:lnTo>
                    <a:lnTo>
                      <a:pt x="5638" y="915"/>
                    </a:lnTo>
                    <a:lnTo>
                      <a:pt x="5681" y="879"/>
                    </a:lnTo>
                    <a:lnTo>
                      <a:pt x="5699" y="855"/>
                    </a:lnTo>
                    <a:lnTo>
                      <a:pt x="5699" y="837"/>
                    </a:lnTo>
                    <a:lnTo>
                      <a:pt x="5740" y="795"/>
                    </a:lnTo>
                    <a:lnTo>
                      <a:pt x="5782" y="760"/>
                    </a:lnTo>
                    <a:lnTo>
                      <a:pt x="5818" y="717"/>
                    </a:lnTo>
                    <a:lnTo>
                      <a:pt x="5842" y="699"/>
                    </a:lnTo>
                    <a:lnTo>
                      <a:pt x="5842" y="676"/>
                    </a:lnTo>
                    <a:lnTo>
                      <a:pt x="5877" y="639"/>
                    </a:lnTo>
                    <a:lnTo>
                      <a:pt x="5920" y="598"/>
                    </a:lnTo>
                    <a:lnTo>
                      <a:pt x="5920" y="580"/>
                    </a:lnTo>
                    <a:lnTo>
                      <a:pt x="5961" y="538"/>
                    </a:lnTo>
                    <a:lnTo>
                      <a:pt x="5998" y="496"/>
                    </a:lnTo>
                    <a:lnTo>
                      <a:pt x="5998" y="478"/>
                    </a:lnTo>
                    <a:lnTo>
                      <a:pt x="6021" y="461"/>
                    </a:lnTo>
                    <a:lnTo>
                      <a:pt x="6039" y="461"/>
                    </a:lnTo>
                    <a:lnTo>
                      <a:pt x="6082" y="418"/>
                    </a:lnTo>
                    <a:lnTo>
                      <a:pt x="6099" y="400"/>
                    </a:lnTo>
                    <a:lnTo>
                      <a:pt x="6117" y="400"/>
                    </a:lnTo>
                    <a:lnTo>
                      <a:pt x="6135" y="377"/>
                    </a:lnTo>
                    <a:lnTo>
                      <a:pt x="6176" y="377"/>
                    </a:lnTo>
                    <a:lnTo>
                      <a:pt x="6194" y="359"/>
                    </a:lnTo>
                    <a:lnTo>
                      <a:pt x="6219" y="377"/>
                    </a:lnTo>
                    <a:lnTo>
                      <a:pt x="6338" y="377"/>
                    </a:lnTo>
                    <a:lnTo>
                      <a:pt x="6356" y="400"/>
                    </a:lnTo>
                    <a:lnTo>
                      <a:pt x="6397" y="400"/>
                    </a:lnTo>
                    <a:lnTo>
                      <a:pt x="6416" y="418"/>
                    </a:lnTo>
                    <a:lnTo>
                      <a:pt x="6434" y="418"/>
                    </a:lnTo>
                    <a:lnTo>
                      <a:pt x="6458" y="436"/>
                    </a:lnTo>
                    <a:lnTo>
                      <a:pt x="6493" y="436"/>
                    </a:lnTo>
                    <a:lnTo>
                      <a:pt x="6518" y="461"/>
                    </a:lnTo>
                    <a:lnTo>
                      <a:pt x="6536" y="461"/>
                    </a:lnTo>
                    <a:lnTo>
                      <a:pt x="6536" y="478"/>
                    </a:lnTo>
                    <a:lnTo>
                      <a:pt x="6554" y="496"/>
                    </a:lnTo>
                    <a:lnTo>
                      <a:pt x="6577" y="496"/>
                    </a:lnTo>
                    <a:lnTo>
                      <a:pt x="6595" y="520"/>
                    </a:lnTo>
                    <a:lnTo>
                      <a:pt x="6613" y="520"/>
                    </a:lnTo>
                    <a:lnTo>
                      <a:pt x="6655" y="555"/>
                    </a:lnTo>
                    <a:lnTo>
                      <a:pt x="6696" y="598"/>
                    </a:lnTo>
                    <a:lnTo>
                      <a:pt x="6732" y="639"/>
                    </a:lnTo>
                    <a:lnTo>
                      <a:pt x="6757" y="657"/>
                    </a:lnTo>
                    <a:lnTo>
                      <a:pt x="6757" y="676"/>
                    </a:lnTo>
                    <a:lnTo>
                      <a:pt x="6792" y="717"/>
                    </a:lnTo>
                    <a:lnTo>
                      <a:pt x="6816" y="735"/>
                    </a:lnTo>
                    <a:lnTo>
                      <a:pt x="6816" y="778"/>
                    </a:lnTo>
                    <a:lnTo>
                      <a:pt x="6853" y="819"/>
                    </a:lnTo>
                    <a:lnTo>
                      <a:pt x="6853" y="837"/>
                    </a:lnTo>
                    <a:lnTo>
                      <a:pt x="6876" y="879"/>
                    </a:lnTo>
                    <a:lnTo>
                      <a:pt x="6894" y="897"/>
                    </a:lnTo>
                    <a:lnTo>
                      <a:pt x="6894" y="915"/>
                    </a:lnTo>
                    <a:lnTo>
                      <a:pt x="6912" y="956"/>
                    </a:lnTo>
                    <a:lnTo>
                      <a:pt x="6912" y="974"/>
                    </a:lnTo>
                    <a:lnTo>
                      <a:pt x="6936" y="1016"/>
                    </a:lnTo>
                    <a:lnTo>
                      <a:pt x="6936" y="1058"/>
                    </a:lnTo>
                    <a:lnTo>
                      <a:pt x="6954" y="1077"/>
                    </a:lnTo>
                    <a:lnTo>
                      <a:pt x="6954" y="1136"/>
                    </a:lnTo>
                    <a:lnTo>
                      <a:pt x="6972" y="1178"/>
                    </a:lnTo>
                    <a:lnTo>
                      <a:pt x="6972" y="1255"/>
                    </a:lnTo>
                    <a:lnTo>
                      <a:pt x="6996" y="1298"/>
                    </a:lnTo>
                    <a:lnTo>
                      <a:pt x="6996" y="1435"/>
                    </a:lnTo>
                    <a:lnTo>
                      <a:pt x="7013" y="1494"/>
                    </a:lnTo>
                    <a:lnTo>
                      <a:pt x="7013" y="2870"/>
                    </a:lnTo>
                    <a:lnTo>
                      <a:pt x="7031" y="2929"/>
                    </a:lnTo>
                    <a:lnTo>
                      <a:pt x="7031" y="3264"/>
                    </a:lnTo>
                    <a:lnTo>
                      <a:pt x="7056" y="3306"/>
                    </a:lnTo>
                    <a:lnTo>
                      <a:pt x="7056" y="3426"/>
                    </a:lnTo>
                    <a:lnTo>
                      <a:pt x="7074" y="3444"/>
                    </a:lnTo>
                    <a:lnTo>
                      <a:pt x="7074" y="3504"/>
                    </a:lnTo>
                    <a:lnTo>
                      <a:pt x="7092" y="3527"/>
                    </a:lnTo>
                    <a:lnTo>
                      <a:pt x="7092" y="3588"/>
                    </a:lnTo>
                    <a:lnTo>
                      <a:pt x="7115" y="3605"/>
                    </a:lnTo>
                    <a:lnTo>
                      <a:pt x="7115" y="3647"/>
                    </a:lnTo>
                    <a:lnTo>
                      <a:pt x="7133" y="3665"/>
                    </a:lnTo>
                    <a:lnTo>
                      <a:pt x="7133" y="3682"/>
                    </a:lnTo>
                    <a:lnTo>
                      <a:pt x="7175" y="3725"/>
                    </a:lnTo>
                    <a:lnTo>
                      <a:pt x="7175" y="3743"/>
                    </a:lnTo>
                    <a:lnTo>
                      <a:pt x="7193" y="3766"/>
                    </a:lnTo>
                    <a:lnTo>
                      <a:pt x="7193" y="3784"/>
                    </a:lnTo>
                    <a:lnTo>
                      <a:pt x="7234" y="3826"/>
                    </a:lnTo>
                    <a:lnTo>
                      <a:pt x="7234" y="3844"/>
                    </a:lnTo>
                    <a:lnTo>
                      <a:pt x="7253" y="3844"/>
                    </a:lnTo>
                    <a:lnTo>
                      <a:pt x="7271" y="3862"/>
                    </a:lnTo>
                    <a:lnTo>
                      <a:pt x="7271" y="3886"/>
                    </a:lnTo>
                    <a:lnTo>
                      <a:pt x="7295" y="3886"/>
                    </a:lnTo>
                    <a:lnTo>
                      <a:pt x="7313" y="3903"/>
                    </a:lnTo>
                    <a:lnTo>
                      <a:pt x="7313" y="3921"/>
                    </a:lnTo>
                    <a:lnTo>
                      <a:pt x="7330" y="3921"/>
                    </a:lnTo>
                    <a:lnTo>
                      <a:pt x="7355" y="3946"/>
                    </a:lnTo>
                    <a:lnTo>
                      <a:pt x="7355" y="3964"/>
                    </a:lnTo>
                    <a:lnTo>
                      <a:pt x="7373" y="3964"/>
                    </a:lnTo>
                    <a:lnTo>
                      <a:pt x="7373" y="3982"/>
                    </a:lnTo>
                    <a:lnTo>
                      <a:pt x="7391" y="3982"/>
                    </a:lnTo>
                    <a:lnTo>
                      <a:pt x="7432" y="4024"/>
                    </a:lnTo>
                    <a:lnTo>
                      <a:pt x="7474" y="4065"/>
                    </a:lnTo>
                    <a:lnTo>
                      <a:pt x="7474" y="4083"/>
                    </a:lnTo>
                    <a:lnTo>
                      <a:pt x="7510" y="4126"/>
                    </a:lnTo>
                    <a:lnTo>
                      <a:pt x="7510" y="4185"/>
                    </a:lnTo>
                    <a:lnTo>
                      <a:pt x="7533" y="4203"/>
                    </a:lnTo>
                    <a:lnTo>
                      <a:pt x="7533" y="4263"/>
                    </a:lnTo>
                    <a:lnTo>
                      <a:pt x="7510" y="4263"/>
                    </a:lnTo>
                    <a:lnTo>
                      <a:pt x="7510" y="4340"/>
                    </a:lnTo>
                    <a:lnTo>
                      <a:pt x="7492" y="4364"/>
                    </a:lnTo>
                    <a:lnTo>
                      <a:pt x="7492" y="4400"/>
                    </a:lnTo>
                    <a:lnTo>
                      <a:pt x="7474" y="4425"/>
                    </a:lnTo>
                    <a:lnTo>
                      <a:pt x="7474" y="4442"/>
                    </a:lnTo>
                    <a:lnTo>
                      <a:pt x="7450" y="4460"/>
                    </a:lnTo>
                    <a:lnTo>
                      <a:pt x="7450" y="4502"/>
                    </a:lnTo>
                    <a:lnTo>
                      <a:pt x="7432" y="4502"/>
                    </a:lnTo>
                    <a:lnTo>
                      <a:pt x="7432" y="4519"/>
                    </a:lnTo>
                    <a:lnTo>
                      <a:pt x="7391" y="4562"/>
                    </a:lnTo>
                    <a:lnTo>
                      <a:pt x="7391" y="4580"/>
                    </a:lnTo>
                    <a:lnTo>
                      <a:pt x="7355" y="4621"/>
                    </a:lnTo>
                    <a:lnTo>
                      <a:pt x="7355" y="4639"/>
                    </a:lnTo>
                    <a:lnTo>
                      <a:pt x="7330" y="4639"/>
                    </a:lnTo>
                    <a:lnTo>
                      <a:pt x="7330" y="4663"/>
                    </a:lnTo>
                    <a:lnTo>
                      <a:pt x="7295" y="4699"/>
                    </a:lnTo>
                    <a:lnTo>
                      <a:pt x="7295" y="4723"/>
                    </a:lnTo>
                    <a:lnTo>
                      <a:pt x="7271" y="4723"/>
                    </a:lnTo>
                    <a:lnTo>
                      <a:pt x="7271" y="4740"/>
                    </a:lnTo>
                    <a:lnTo>
                      <a:pt x="7253" y="4740"/>
                    </a:lnTo>
                    <a:lnTo>
                      <a:pt x="7253" y="4759"/>
                    </a:lnTo>
                    <a:lnTo>
                      <a:pt x="7211" y="4801"/>
                    </a:lnTo>
                    <a:lnTo>
                      <a:pt x="7193" y="4819"/>
                    </a:lnTo>
                    <a:lnTo>
                      <a:pt x="7193" y="4842"/>
                    </a:lnTo>
                    <a:lnTo>
                      <a:pt x="7151" y="4842"/>
                    </a:lnTo>
                    <a:lnTo>
                      <a:pt x="7151" y="4861"/>
                    </a:lnTo>
                    <a:lnTo>
                      <a:pt x="7133" y="4861"/>
                    </a:lnTo>
                    <a:lnTo>
                      <a:pt x="7133" y="4879"/>
                    </a:lnTo>
                    <a:lnTo>
                      <a:pt x="7092" y="4879"/>
                    </a:lnTo>
                    <a:lnTo>
                      <a:pt x="7074" y="4902"/>
                    </a:lnTo>
                    <a:lnTo>
                      <a:pt x="7031" y="4902"/>
                    </a:lnTo>
                    <a:lnTo>
                      <a:pt x="7013" y="4920"/>
                    </a:lnTo>
                    <a:lnTo>
                      <a:pt x="6912" y="4920"/>
                    </a:lnTo>
                    <a:lnTo>
                      <a:pt x="6912" y="4938"/>
                    </a:lnTo>
                    <a:lnTo>
                      <a:pt x="6816" y="4938"/>
                    </a:lnTo>
                    <a:lnTo>
                      <a:pt x="6816" y="4963"/>
                    </a:lnTo>
                    <a:lnTo>
                      <a:pt x="6775" y="4963"/>
                    </a:lnTo>
                    <a:lnTo>
                      <a:pt x="6757" y="4980"/>
                    </a:lnTo>
                    <a:lnTo>
                      <a:pt x="6732" y="4980"/>
                    </a:lnTo>
                    <a:lnTo>
                      <a:pt x="6696" y="5022"/>
                    </a:lnTo>
                    <a:lnTo>
                      <a:pt x="6655" y="5057"/>
                    </a:lnTo>
                    <a:lnTo>
                      <a:pt x="6655" y="5082"/>
                    </a:lnTo>
                    <a:lnTo>
                      <a:pt x="6637" y="5082"/>
                    </a:lnTo>
                    <a:lnTo>
                      <a:pt x="6637" y="5141"/>
                    </a:lnTo>
                    <a:lnTo>
                      <a:pt x="6613" y="5141"/>
                    </a:lnTo>
                    <a:lnTo>
                      <a:pt x="6613" y="5177"/>
                    </a:lnTo>
                    <a:lnTo>
                      <a:pt x="6595" y="5201"/>
                    </a:lnTo>
                    <a:lnTo>
                      <a:pt x="6595" y="5577"/>
                    </a:lnTo>
                    <a:lnTo>
                      <a:pt x="6613" y="5620"/>
                    </a:lnTo>
                    <a:lnTo>
                      <a:pt x="6613" y="5877"/>
                    </a:lnTo>
                    <a:lnTo>
                      <a:pt x="6637" y="5894"/>
                    </a:lnTo>
                    <a:lnTo>
                      <a:pt x="6637" y="6176"/>
                    </a:lnTo>
                    <a:lnTo>
                      <a:pt x="6613" y="6193"/>
                    </a:lnTo>
                    <a:lnTo>
                      <a:pt x="6613" y="6331"/>
                    </a:lnTo>
                    <a:lnTo>
                      <a:pt x="6595" y="6355"/>
                    </a:lnTo>
                    <a:lnTo>
                      <a:pt x="6595" y="6432"/>
                    </a:lnTo>
                    <a:lnTo>
                      <a:pt x="6577" y="6451"/>
                    </a:lnTo>
                    <a:lnTo>
                      <a:pt x="6577" y="6510"/>
                    </a:lnTo>
                    <a:lnTo>
                      <a:pt x="6554" y="6535"/>
                    </a:lnTo>
                    <a:lnTo>
                      <a:pt x="6536" y="6571"/>
                    </a:lnTo>
                    <a:lnTo>
                      <a:pt x="6536" y="6594"/>
                    </a:lnTo>
                    <a:lnTo>
                      <a:pt x="6518" y="6630"/>
                    </a:lnTo>
                    <a:lnTo>
                      <a:pt x="6518" y="6672"/>
                    </a:lnTo>
                    <a:lnTo>
                      <a:pt x="6493" y="6690"/>
                    </a:lnTo>
                    <a:lnTo>
                      <a:pt x="6493" y="6731"/>
                    </a:lnTo>
                    <a:lnTo>
                      <a:pt x="6475" y="6774"/>
                    </a:lnTo>
                    <a:lnTo>
                      <a:pt x="6475" y="6792"/>
                    </a:lnTo>
                    <a:lnTo>
                      <a:pt x="6434" y="6870"/>
                    </a:lnTo>
                    <a:lnTo>
                      <a:pt x="6434" y="6911"/>
                    </a:lnTo>
                    <a:lnTo>
                      <a:pt x="6397" y="6989"/>
                    </a:lnTo>
                    <a:lnTo>
                      <a:pt x="6397" y="7013"/>
                    </a:lnTo>
                    <a:lnTo>
                      <a:pt x="6356" y="7091"/>
                    </a:lnTo>
                    <a:lnTo>
                      <a:pt x="6356" y="7132"/>
                    </a:lnTo>
                    <a:lnTo>
                      <a:pt x="6314" y="7210"/>
                    </a:lnTo>
                    <a:lnTo>
                      <a:pt x="6296" y="7228"/>
                    </a:lnTo>
                    <a:lnTo>
                      <a:pt x="6296" y="7270"/>
                    </a:lnTo>
                    <a:lnTo>
                      <a:pt x="6255" y="7347"/>
                    </a:lnTo>
                    <a:lnTo>
                      <a:pt x="6237" y="7390"/>
                    </a:lnTo>
                    <a:lnTo>
                      <a:pt x="6219" y="7408"/>
                    </a:lnTo>
                    <a:lnTo>
                      <a:pt x="6176" y="7491"/>
                    </a:lnTo>
                    <a:lnTo>
                      <a:pt x="6159" y="7509"/>
                    </a:lnTo>
                    <a:lnTo>
                      <a:pt x="6135" y="7551"/>
                    </a:lnTo>
                    <a:lnTo>
                      <a:pt x="6117" y="7568"/>
                    </a:lnTo>
                    <a:lnTo>
                      <a:pt x="6099" y="7611"/>
                    </a:lnTo>
                    <a:lnTo>
                      <a:pt x="6057" y="7647"/>
                    </a:lnTo>
                    <a:lnTo>
                      <a:pt x="6021" y="7688"/>
                    </a:lnTo>
                    <a:lnTo>
                      <a:pt x="5998" y="7730"/>
                    </a:lnTo>
                    <a:lnTo>
                      <a:pt x="5961" y="7748"/>
                    </a:lnTo>
                    <a:lnTo>
                      <a:pt x="5938" y="7766"/>
                    </a:lnTo>
                    <a:lnTo>
                      <a:pt x="5920" y="7808"/>
                    </a:lnTo>
                    <a:lnTo>
                      <a:pt x="5877" y="7826"/>
                    </a:lnTo>
                    <a:lnTo>
                      <a:pt x="5859" y="7850"/>
                    </a:lnTo>
                    <a:lnTo>
                      <a:pt x="5818" y="7867"/>
                    </a:lnTo>
                    <a:lnTo>
                      <a:pt x="5800" y="7885"/>
                    </a:lnTo>
                    <a:lnTo>
                      <a:pt x="5758" y="7910"/>
                    </a:lnTo>
                    <a:lnTo>
                      <a:pt x="5722" y="7910"/>
                    </a:lnTo>
                    <a:lnTo>
                      <a:pt x="5681" y="7928"/>
                    </a:lnTo>
                    <a:lnTo>
                      <a:pt x="5681" y="7946"/>
                    </a:lnTo>
                    <a:lnTo>
                      <a:pt x="5638" y="7946"/>
                    </a:lnTo>
                    <a:lnTo>
                      <a:pt x="5603" y="7969"/>
                    </a:lnTo>
                    <a:lnTo>
                      <a:pt x="5560" y="7969"/>
                    </a:lnTo>
                    <a:lnTo>
                      <a:pt x="5519" y="7987"/>
                    </a:lnTo>
                    <a:lnTo>
                      <a:pt x="5483" y="7987"/>
                    </a:lnTo>
                    <a:lnTo>
                      <a:pt x="5423" y="8005"/>
                    </a:lnTo>
                    <a:lnTo>
                      <a:pt x="5382" y="8005"/>
                    </a:lnTo>
                    <a:lnTo>
                      <a:pt x="5339" y="8029"/>
                    </a:lnTo>
                    <a:lnTo>
                      <a:pt x="5304" y="8029"/>
                    </a:lnTo>
                    <a:lnTo>
                      <a:pt x="5244" y="8047"/>
                    </a:lnTo>
                    <a:lnTo>
                      <a:pt x="5142" y="8047"/>
                    </a:lnTo>
                    <a:lnTo>
                      <a:pt x="5101" y="8065"/>
                    </a:lnTo>
                    <a:lnTo>
                      <a:pt x="4365" y="8065"/>
                    </a:lnTo>
                    <a:lnTo>
                      <a:pt x="4324" y="8047"/>
                    </a:lnTo>
                    <a:lnTo>
                      <a:pt x="4203" y="8047"/>
                    </a:lnTo>
                    <a:lnTo>
                      <a:pt x="4144" y="8029"/>
                    </a:lnTo>
                    <a:lnTo>
                      <a:pt x="4084" y="8029"/>
                    </a:lnTo>
                    <a:lnTo>
                      <a:pt x="3964" y="7987"/>
                    </a:lnTo>
                    <a:lnTo>
                      <a:pt x="3905" y="7987"/>
                    </a:lnTo>
                    <a:lnTo>
                      <a:pt x="3845" y="7969"/>
                    </a:lnTo>
                    <a:lnTo>
                      <a:pt x="3809" y="7946"/>
                    </a:lnTo>
                    <a:lnTo>
                      <a:pt x="3749" y="7928"/>
                    </a:lnTo>
                    <a:lnTo>
                      <a:pt x="3690" y="7928"/>
                    </a:lnTo>
                    <a:lnTo>
                      <a:pt x="3570" y="7885"/>
                    </a:lnTo>
                    <a:lnTo>
                      <a:pt x="3528" y="7867"/>
                    </a:lnTo>
                    <a:lnTo>
                      <a:pt x="3468" y="7826"/>
                    </a:lnTo>
                    <a:lnTo>
                      <a:pt x="3409" y="7808"/>
                    </a:lnTo>
                    <a:lnTo>
                      <a:pt x="3366" y="7790"/>
                    </a:lnTo>
                    <a:lnTo>
                      <a:pt x="3307" y="7766"/>
                    </a:lnTo>
                    <a:lnTo>
                      <a:pt x="3271" y="7730"/>
                    </a:lnTo>
                    <a:lnTo>
                      <a:pt x="3247" y="7730"/>
                    </a:lnTo>
                    <a:lnTo>
                      <a:pt x="3188" y="7688"/>
                    </a:lnTo>
                    <a:lnTo>
                      <a:pt x="3152" y="7647"/>
                    </a:lnTo>
                    <a:lnTo>
                      <a:pt x="3092" y="7629"/>
                    </a:lnTo>
                    <a:lnTo>
                      <a:pt x="3049" y="7586"/>
                    </a:lnTo>
                    <a:lnTo>
                      <a:pt x="2990" y="7551"/>
                    </a:lnTo>
                    <a:lnTo>
                      <a:pt x="2948" y="7509"/>
                    </a:lnTo>
                    <a:lnTo>
                      <a:pt x="2889" y="7449"/>
                    </a:lnTo>
                    <a:lnTo>
                      <a:pt x="2853" y="7408"/>
                    </a:lnTo>
                    <a:lnTo>
                      <a:pt x="2793" y="7372"/>
                    </a:lnTo>
                    <a:lnTo>
                      <a:pt x="2751" y="7312"/>
                    </a:lnTo>
                    <a:lnTo>
                      <a:pt x="2691" y="7251"/>
                    </a:lnTo>
                    <a:lnTo>
                      <a:pt x="2650" y="7210"/>
                    </a:lnTo>
                    <a:lnTo>
                      <a:pt x="2589" y="7150"/>
                    </a:lnTo>
                    <a:lnTo>
                      <a:pt x="2554" y="7091"/>
                    </a:lnTo>
                    <a:lnTo>
                      <a:pt x="2493" y="7030"/>
                    </a:lnTo>
                    <a:lnTo>
                      <a:pt x="2452" y="6971"/>
                    </a:lnTo>
                    <a:lnTo>
                      <a:pt x="2392" y="6911"/>
                    </a:lnTo>
                    <a:lnTo>
                      <a:pt x="2351" y="6852"/>
                    </a:lnTo>
                    <a:lnTo>
                      <a:pt x="2290" y="6792"/>
                    </a:lnTo>
                    <a:lnTo>
                      <a:pt x="2255" y="6731"/>
                    </a:lnTo>
                    <a:lnTo>
                      <a:pt x="2194" y="6672"/>
                    </a:lnTo>
                    <a:lnTo>
                      <a:pt x="2111" y="6553"/>
                    </a:lnTo>
                    <a:lnTo>
                      <a:pt x="2052" y="6493"/>
                    </a:lnTo>
                    <a:lnTo>
                      <a:pt x="2016" y="6414"/>
                    </a:lnTo>
                    <a:lnTo>
                      <a:pt x="1956" y="6355"/>
                    </a:lnTo>
                    <a:lnTo>
                      <a:pt x="1877" y="6236"/>
                    </a:lnTo>
                    <a:lnTo>
                      <a:pt x="1836" y="6176"/>
                    </a:lnTo>
                    <a:lnTo>
                      <a:pt x="1776" y="6116"/>
                    </a:lnTo>
                    <a:lnTo>
                      <a:pt x="1699" y="5996"/>
                    </a:lnTo>
                    <a:lnTo>
                      <a:pt x="1615" y="5877"/>
                    </a:lnTo>
                    <a:lnTo>
                      <a:pt x="1555" y="5817"/>
                    </a:lnTo>
                    <a:lnTo>
                      <a:pt x="1478" y="5698"/>
                    </a:lnTo>
                    <a:lnTo>
                      <a:pt x="1435" y="5656"/>
                    </a:lnTo>
                    <a:lnTo>
                      <a:pt x="1400" y="5596"/>
                    </a:lnTo>
                    <a:lnTo>
                      <a:pt x="1357" y="5560"/>
                    </a:lnTo>
                    <a:lnTo>
                      <a:pt x="1316" y="5500"/>
                    </a:lnTo>
                    <a:lnTo>
                      <a:pt x="1298" y="5458"/>
                    </a:lnTo>
                    <a:lnTo>
                      <a:pt x="1256" y="5417"/>
                    </a:lnTo>
                    <a:lnTo>
                      <a:pt x="1220" y="5356"/>
                    </a:lnTo>
                    <a:lnTo>
                      <a:pt x="1136" y="5279"/>
                    </a:lnTo>
                    <a:lnTo>
                      <a:pt x="1059" y="5201"/>
                    </a:lnTo>
                    <a:lnTo>
                      <a:pt x="1040" y="5159"/>
                    </a:lnTo>
                    <a:lnTo>
                      <a:pt x="999" y="5141"/>
                    </a:lnTo>
                    <a:lnTo>
                      <a:pt x="981" y="5100"/>
                    </a:lnTo>
                    <a:lnTo>
                      <a:pt x="939" y="5082"/>
                    </a:lnTo>
                    <a:lnTo>
                      <a:pt x="921" y="5057"/>
                    </a:lnTo>
                    <a:lnTo>
                      <a:pt x="880" y="5022"/>
                    </a:lnTo>
                    <a:lnTo>
                      <a:pt x="862" y="4998"/>
                    </a:lnTo>
                    <a:lnTo>
                      <a:pt x="819" y="4980"/>
                    </a:lnTo>
                    <a:lnTo>
                      <a:pt x="778" y="4938"/>
                    </a:lnTo>
                    <a:lnTo>
                      <a:pt x="742" y="4920"/>
                    </a:lnTo>
                    <a:lnTo>
                      <a:pt x="700" y="4879"/>
                    </a:lnTo>
                    <a:lnTo>
                      <a:pt x="682" y="4861"/>
                    </a:lnTo>
                    <a:lnTo>
                      <a:pt x="641" y="4842"/>
                    </a:lnTo>
                    <a:lnTo>
                      <a:pt x="598" y="4801"/>
                    </a:lnTo>
                    <a:lnTo>
                      <a:pt x="563" y="4759"/>
                    </a:lnTo>
                    <a:lnTo>
                      <a:pt x="539" y="4759"/>
                    </a:lnTo>
                    <a:lnTo>
                      <a:pt x="502" y="4723"/>
                    </a:lnTo>
                    <a:lnTo>
                      <a:pt x="479" y="4723"/>
                    </a:lnTo>
                    <a:lnTo>
                      <a:pt x="443" y="4681"/>
                    </a:lnTo>
                    <a:lnTo>
                      <a:pt x="419" y="4681"/>
                    </a:lnTo>
                    <a:lnTo>
                      <a:pt x="383" y="4639"/>
                    </a:lnTo>
                    <a:lnTo>
                      <a:pt x="360" y="4639"/>
                    </a:lnTo>
                    <a:lnTo>
                      <a:pt x="324" y="4603"/>
                    </a:lnTo>
                    <a:lnTo>
                      <a:pt x="299" y="4580"/>
                    </a:lnTo>
                    <a:lnTo>
                      <a:pt x="281" y="4580"/>
                    </a:lnTo>
                    <a:lnTo>
                      <a:pt x="264" y="4562"/>
                    </a:lnTo>
                    <a:lnTo>
                      <a:pt x="264" y="4544"/>
                    </a:lnTo>
                    <a:lnTo>
                      <a:pt x="240" y="4544"/>
                    </a:lnTo>
                    <a:lnTo>
                      <a:pt x="222" y="4519"/>
                    </a:lnTo>
                    <a:lnTo>
                      <a:pt x="222" y="4502"/>
                    </a:lnTo>
                    <a:lnTo>
                      <a:pt x="203" y="4502"/>
                    </a:lnTo>
                    <a:lnTo>
                      <a:pt x="180" y="4484"/>
                    </a:lnTo>
                    <a:lnTo>
                      <a:pt x="180" y="4460"/>
                    </a:lnTo>
                    <a:lnTo>
                      <a:pt x="162" y="4460"/>
                    </a:lnTo>
                    <a:lnTo>
                      <a:pt x="162" y="4442"/>
                    </a:lnTo>
                    <a:lnTo>
                      <a:pt x="120" y="4400"/>
                    </a:lnTo>
                    <a:lnTo>
                      <a:pt x="120" y="4364"/>
                    </a:lnTo>
                    <a:lnTo>
                      <a:pt x="102" y="4364"/>
                    </a:lnTo>
                    <a:lnTo>
                      <a:pt x="102" y="4340"/>
                    </a:lnTo>
                    <a:lnTo>
                      <a:pt x="84" y="4322"/>
                    </a:lnTo>
                    <a:lnTo>
                      <a:pt x="84" y="4304"/>
                    </a:lnTo>
                    <a:lnTo>
                      <a:pt x="60" y="4304"/>
                    </a:lnTo>
                    <a:lnTo>
                      <a:pt x="60" y="4263"/>
                    </a:lnTo>
                    <a:lnTo>
                      <a:pt x="43" y="4263"/>
                    </a:lnTo>
                    <a:lnTo>
                      <a:pt x="43" y="4220"/>
                    </a:lnTo>
                    <a:lnTo>
                      <a:pt x="25" y="4203"/>
                    </a:lnTo>
                    <a:lnTo>
                      <a:pt x="25" y="4161"/>
                    </a:lnTo>
                    <a:lnTo>
                      <a:pt x="0" y="4143"/>
                    </a:lnTo>
                    <a:lnTo>
                      <a:pt x="0" y="4005"/>
                    </a:lnTo>
                    <a:lnTo>
                      <a:pt x="25" y="3982"/>
                    </a:lnTo>
                    <a:lnTo>
                      <a:pt x="25" y="3946"/>
                    </a:lnTo>
                    <a:lnTo>
                      <a:pt x="43" y="3946"/>
                    </a:lnTo>
                    <a:lnTo>
                      <a:pt x="43" y="3921"/>
                    </a:lnTo>
                    <a:lnTo>
                      <a:pt x="60" y="3921"/>
                    </a:lnTo>
                    <a:lnTo>
                      <a:pt x="60" y="3886"/>
                    </a:lnTo>
                    <a:lnTo>
                      <a:pt x="84" y="3886"/>
                    </a:lnTo>
                    <a:lnTo>
                      <a:pt x="120" y="3844"/>
                    </a:lnTo>
                    <a:lnTo>
                      <a:pt x="120" y="3826"/>
                    </a:lnTo>
                    <a:lnTo>
                      <a:pt x="162" y="38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719440" y="3741840"/>
                <a:ext cx="1803240" cy="1969920"/>
              </a:xfrm>
              <a:custGeom>
                <a:avLst/>
                <a:gdLst/>
                <a:ahLst/>
                <a:rect l="l" t="t" r="r" b="b"/>
                <a:pathLst>
                  <a:path w="6815" h="7449">
                    <a:moveTo>
                      <a:pt x="418" y="3545"/>
                    </a:moveTo>
                    <a:lnTo>
                      <a:pt x="479" y="3545"/>
                    </a:lnTo>
                    <a:lnTo>
                      <a:pt x="502" y="3569"/>
                    </a:lnTo>
                    <a:lnTo>
                      <a:pt x="717" y="3569"/>
                    </a:lnTo>
                    <a:lnTo>
                      <a:pt x="742" y="3545"/>
                    </a:lnTo>
                    <a:lnTo>
                      <a:pt x="819" y="3545"/>
                    </a:lnTo>
                    <a:lnTo>
                      <a:pt x="837" y="3527"/>
                    </a:lnTo>
                    <a:lnTo>
                      <a:pt x="879" y="3527"/>
                    </a:lnTo>
                    <a:lnTo>
                      <a:pt x="897" y="3509"/>
                    </a:lnTo>
                    <a:lnTo>
                      <a:pt x="920" y="3509"/>
                    </a:lnTo>
                    <a:lnTo>
                      <a:pt x="956" y="3485"/>
                    </a:lnTo>
                    <a:lnTo>
                      <a:pt x="981" y="3485"/>
                    </a:lnTo>
                    <a:lnTo>
                      <a:pt x="1016" y="3449"/>
                    </a:lnTo>
                    <a:lnTo>
                      <a:pt x="1041" y="3449"/>
                    </a:lnTo>
                    <a:lnTo>
                      <a:pt x="1077" y="3408"/>
                    </a:lnTo>
                    <a:lnTo>
                      <a:pt x="1100" y="3408"/>
                    </a:lnTo>
                    <a:lnTo>
                      <a:pt x="1136" y="3365"/>
                    </a:lnTo>
                    <a:lnTo>
                      <a:pt x="1160" y="3348"/>
                    </a:lnTo>
                    <a:lnTo>
                      <a:pt x="1196" y="3330"/>
                    </a:lnTo>
                    <a:lnTo>
                      <a:pt x="1220" y="3306"/>
                    </a:lnTo>
                    <a:lnTo>
                      <a:pt x="1237" y="3306"/>
                    </a:lnTo>
                    <a:lnTo>
                      <a:pt x="1280" y="3271"/>
                    </a:lnTo>
                    <a:lnTo>
                      <a:pt x="1298" y="3228"/>
                    </a:lnTo>
                    <a:lnTo>
                      <a:pt x="1339" y="3187"/>
                    </a:lnTo>
                    <a:lnTo>
                      <a:pt x="1376" y="3150"/>
                    </a:lnTo>
                    <a:lnTo>
                      <a:pt x="1399" y="3127"/>
                    </a:lnTo>
                    <a:lnTo>
                      <a:pt x="1417" y="3091"/>
                    </a:lnTo>
                    <a:lnTo>
                      <a:pt x="1435" y="3066"/>
                    </a:lnTo>
                    <a:lnTo>
                      <a:pt x="1435" y="3049"/>
                    </a:lnTo>
                    <a:lnTo>
                      <a:pt x="1458" y="3031"/>
                    </a:lnTo>
                    <a:lnTo>
                      <a:pt x="1458" y="2989"/>
                    </a:lnTo>
                    <a:lnTo>
                      <a:pt x="1477" y="2972"/>
                    </a:lnTo>
                    <a:lnTo>
                      <a:pt x="1519" y="2888"/>
                    </a:lnTo>
                    <a:lnTo>
                      <a:pt x="1537" y="2870"/>
                    </a:lnTo>
                    <a:lnTo>
                      <a:pt x="1554" y="2828"/>
                    </a:lnTo>
                    <a:lnTo>
                      <a:pt x="1554" y="2792"/>
                    </a:lnTo>
                    <a:lnTo>
                      <a:pt x="1597" y="2708"/>
                    </a:lnTo>
                    <a:lnTo>
                      <a:pt x="1615" y="2672"/>
                    </a:lnTo>
                    <a:lnTo>
                      <a:pt x="1615" y="2630"/>
                    </a:lnTo>
                    <a:lnTo>
                      <a:pt x="1633" y="2571"/>
                    </a:lnTo>
                    <a:lnTo>
                      <a:pt x="1674" y="2493"/>
                    </a:lnTo>
                    <a:lnTo>
                      <a:pt x="1674" y="2432"/>
                    </a:lnTo>
                    <a:lnTo>
                      <a:pt x="1716" y="2350"/>
                    </a:lnTo>
                    <a:lnTo>
                      <a:pt x="1716" y="2290"/>
                    </a:lnTo>
                    <a:lnTo>
                      <a:pt x="1734" y="2254"/>
                    </a:lnTo>
                    <a:lnTo>
                      <a:pt x="1734" y="2194"/>
                    </a:lnTo>
                    <a:lnTo>
                      <a:pt x="1752" y="2152"/>
                    </a:lnTo>
                    <a:lnTo>
                      <a:pt x="1775" y="2092"/>
                    </a:lnTo>
                    <a:lnTo>
                      <a:pt x="1775" y="2051"/>
                    </a:lnTo>
                    <a:lnTo>
                      <a:pt x="1793" y="1991"/>
                    </a:lnTo>
                    <a:lnTo>
                      <a:pt x="1812" y="1955"/>
                    </a:lnTo>
                    <a:lnTo>
                      <a:pt x="1812" y="1895"/>
                    </a:lnTo>
                    <a:lnTo>
                      <a:pt x="1836" y="1853"/>
                    </a:lnTo>
                    <a:lnTo>
                      <a:pt x="1853" y="1793"/>
                    </a:lnTo>
                    <a:lnTo>
                      <a:pt x="1853" y="1752"/>
                    </a:lnTo>
                    <a:lnTo>
                      <a:pt x="1871" y="1698"/>
                    </a:lnTo>
                    <a:lnTo>
                      <a:pt x="1896" y="1656"/>
                    </a:lnTo>
                    <a:lnTo>
                      <a:pt x="1896" y="1597"/>
                    </a:lnTo>
                    <a:lnTo>
                      <a:pt x="1914" y="1554"/>
                    </a:lnTo>
                    <a:lnTo>
                      <a:pt x="1932" y="1494"/>
                    </a:lnTo>
                    <a:lnTo>
                      <a:pt x="1973" y="1417"/>
                    </a:lnTo>
                    <a:lnTo>
                      <a:pt x="1973" y="1357"/>
                    </a:lnTo>
                    <a:lnTo>
                      <a:pt x="2015" y="1280"/>
                    </a:lnTo>
                    <a:lnTo>
                      <a:pt x="2051" y="1196"/>
                    </a:lnTo>
                    <a:lnTo>
                      <a:pt x="2092" y="1118"/>
                    </a:lnTo>
                    <a:lnTo>
                      <a:pt x="2135" y="1040"/>
                    </a:lnTo>
                    <a:lnTo>
                      <a:pt x="2153" y="998"/>
                    </a:lnTo>
                    <a:lnTo>
                      <a:pt x="2170" y="998"/>
                    </a:lnTo>
                    <a:lnTo>
                      <a:pt x="2212" y="920"/>
                    </a:lnTo>
                    <a:lnTo>
                      <a:pt x="2231" y="897"/>
                    </a:lnTo>
                    <a:lnTo>
                      <a:pt x="2272" y="819"/>
                    </a:lnTo>
                    <a:lnTo>
                      <a:pt x="2314" y="801"/>
                    </a:lnTo>
                    <a:lnTo>
                      <a:pt x="2332" y="760"/>
                    </a:lnTo>
                    <a:lnTo>
                      <a:pt x="2350" y="741"/>
                    </a:lnTo>
                    <a:lnTo>
                      <a:pt x="2374" y="699"/>
                    </a:lnTo>
                    <a:lnTo>
                      <a:pt x="2409" y="681"/>
                    </a:lnTo>
                    <a:lnTo>
                      <a:pt x="2434" y="639"/>
                    </a:lnTo>
                    <a:lnTo>
                      <a:pt x="2452" y="621"/>
                    </a:lnTo>
                    <a:lnTo>
                      <a:pt x="2493" y="580"/>
                    </a:lnTo>
                    <a:lnTo>
                      <a:pt x="2511" y="562"/>
                    </a:lnTo>
                    <a:lnTo>
                      <a:pt x="2553" y="520"/>
                    </a:lnTo>
                    <a:lnTo>
                      <a:pt x="2571" y="502"/>
                    </a:lnTo>
                    <a:lnTo>
                      <a:pt x="2612" y="461"/>
                    </a:lnTo>
                    <a:lnTo>
                      <a:pt x="2691" y="382"/>
                    </a:lnTo>
                    <a:lnTo>
                      <a:pt x="2708" y="359"/>
                    </a:lnTo>
                    <a:lnTo>
                      <a:pt x="2751" y="340"/>
                    </a:lnTo>
                    <a:lnTo>
                      <a:pt x="2769" y="322"/>
                    </a:lnTo>
                    <a:lnTo>
                      <a:pt x="2810" y="281"/>
                    </a:lnTo>
                    <a:lnTo>
                      <a:pt x="2852" y="263"/>
                    </a:lnTo>
                    <a:lnTo>
                      <a:pt x="2870" y="238"/>
                    </a:lnTo>
                    <a:lnTo>
                      <a:pt x="2911" y="221"/>
                    </a:lnTo>
                    <a:lnTo>
                      <a:pt x="2929" y="203"/>
                    </a:lnTo>
                    <a:lnTo>
                      <a:pt x="2972" y="179"/>
                    </a:lnTo>
                    <a:lnTo>
                      <a:pt x="2990" y="161"/>
                    </a:lnTo>
                    <a:lnTo>
                      <a:pt x="3031" y="144"/>
                    </a:lnTo>
                    <a:lnTo>
                      <a:pt x="3049" y="119"/>
                    </a:lnTo>
                    <a:lnTo>
                      <a:pt x="3091" y="101"/>
                    </a:lnTo>
                    <a:lnTo>
                      <a:pt x="3109" y="101"/>
                    </a:lnTo>
                    <a:lnTo>
                      <a:pt x="3187" y="60"/>
                    </a:lnTo>
                    <a:lnTo>
                      <a:pt x="3211" y="60"/>
                    </a:lnTo>
                    <a:lnTo>
                      <a:pt x="3246" y="42"/>
                    </a:lnTo>
                    <a:lnTo>
                      <a:pt x="3271" y="42"/>
                    </a:lnTo>
                    <a:lnTo>
                      <a:pt x="3307" y="24"/>
                    </a:lnTo>
                    <a:lnTo>
                      <a:pt x="3330" y="24"/>
                    </a:lnTo>
                    <a:lnTo>
                      <a:pt x="3366" y="0"/>
                    </a:lnTo>
                    <a:lnTo>
                      <a:pt x="3606" y="0"/>
                    </a:lnTo>
                    <a:lnTo>
                      <a:pt x="3647" y="24"/>
                    </a:lnTo>
                    <a:lnTo>
                      <a:pt x="3689" y="24"/>
                    </a:lnTo>
                    <a:lnTo>
                      <a:pt x="3707" y="42"/>
                    </a:lnTo>
                    <a:lnTo>
                      <a:pt x="3749" y="60"/>
                    </a:lnTo>
                    <a:lnTo>
                      <a:pt x="3766" y="60"/>
                    </a:lnTo>
                    <a:lnTo>
                      <a:pt x="3809" y="83"/>
                    </a:lnTo>
                    <a:lnTo>
                      <a:pt x="3827" y="101"/>
                    </a:lnTo>
                    <a:lnTo>
                      <a:pt x="3905" y="144"/>
                    </a:lnTo>
                    <a:lnTo>
                      <a:pt x="3928" y="179"/>
                    </a:lnTo>
                    <a:lnTo>
                      <a:pt x="3964" y="203"/>
                    </a:lnTo>
                    <a:lnTo>
                      <a:pt x="3988" y="221"/>
                    </a:lnTo>
                    <a:lnTo>
                      <a:pt x="4024" y="238"/>
                    </a:lnTo>
                    <a:lnTo>
                      <a:pt x="4048" y="281"/>
                    </a:lnTo>
                    <a:lnTo>
                      <a:pt x="4083" y="299"/>
                    </a:lnTo>
                    <a:lnTo>
                      <a:pt x="4126" y="340"/>
                    </a:lnTo>
                    <a:lnTo>
                      <a:pt x="4144" y="359"/>
                    </a:lnTo>
                    <a:lnTo>
                      <a:pt x="4185" y="382"/>
                    </a:lnTo>
                    <a:lnTo>
                      <a:pt x="4203" y="418"/>
                    </a:lnTo>
                    <a:lnTo>
                      <a:pt x="4245" y="443"/>
                    </a:lnTo>
                    <a:lnTo>
                      <a:pt x="4286" y="478"/>
                    </a:lnTo>
                    <a:lnTo>
                      <a:pt x="4304" y="502"/>
                    </a:lnTo>
                    <a:lnTo>
                      <a:pt x="4347" y="538"/>
                    </a:lnTo>
                    <a:lnTo>
                      <a:pt x="4365" y="562"/>
                    </a:lnTo>
                    <a:lnTo>
                      <a:pt x="4407" y="580"/>
                    </a:lnTo>
                    <a:lnTo>
                      <a:pt x="4425" y="621"/>
                    </a:lnTo>
                    <a:lnTo>
                      <a:pt x="4466" y="639"/>
                    </a:lnTo>
                    <a:lnTo>
                      <a:pt x="4484" y="657"/>
                    </a:lnTo>
                    <a:lnTo>
                      <a:pt x="4526" y="699"/>
                    </a:lnTo>
                    <a:lnTo>
                      <a:pt x="4544" y="717"/>
                    </a:lnTo>
                    <a:lnTo>
                      <a:pt x="4586" y="741"/>
                    </a:lnTo>
                    <a:lnTo>
                      <a:pt x="4603" y="760"/>
                    </a:lnTo>
                    <a:lnTo>
                      <a:pt x="4646" y="777"/>
                    </a:lnTo>
                    <a:lnTo>
                      <a:pt x="4682" y="819"/>
                    </a:lnTo>
                    <a:lnTo>
                      <a:pt x="4723" y="837"/>
                    </a:lnTo>
                    <a:lnTo>
                      <a:pt x="4742" y="861"/>
                    </a:lnTo>
                    <a:lnTo>
                      <a:pt x="4783" y="879"/>
                    </a:lnTo>
                    <a:lnTo>
                      <a:pt x="4801" y="879"/>
                    </a:lnTo>
                    <a:lnTo>
                      <a:pt x="4825" y="897"/>
                    </a:lnTo>
                    <a:lnTo>
                      <a:pt x="4885" y="897"/>
                    </a:lnTo>
                    <a:lnTo>
                      <a:pt x="4903" y="920"/>
                    </a:lnTo>
                    <a:lnTo>
                      <a:pt x="4963" y="920"/>
                    </a:lnTo>
                    <a:lnTo>
                      <a:pt x="4981" y="897"/>
                    </a:lnTo>
                    <a:lnTo>
                      <a:pt x="5064" y="897"/>
                    </a:lnTo>
                    <a:lnTo>
                      <a:pt x="5082" y="879"/>
                    </a:lnTo>
                    <a:lnTo>
                      <a:pt x="5100" y="879"/>
                    </a:lnTo>
                    <a:lnTo>
                      <a:pt x="5141" y="837"/>
                    </a:lnTo>
                    <a:lnTo>
                      <a:pt x="5184" y="837"/>
                    </a:lnTo>
                    <a:lnTo>
                      <a:pt x="5219" y="801"/>
                    </a:lnTo>
                    <a:lnTo>
                      <a:pt x="5244" y="801"/>
                    </a:lnTo>
                    <a:lnTo>
                      <a:pt x="5280" y="760"/>
                    </a:lnTo>
                    <a:lnTo>
                      <a:pt x="5321" y="717"/>
                    </a:lnTo>
                    <a:lnTo>
                      <a:pt x="5363" y="681"/>
                    </a:lnTo>
                    <a:lnTo>
                      <a:pt x="5399" y="639"/>
                    </a:lnTo>
                    <a:lnTo>
                      <a:pt x="5440" y="598"/>
                    </a:lnTo>
                    <a:lnTo>
                      <a:pt x="5483" y="562"/>
                    </a:lnTo>
                    <a:lnTo>
                      <a:pt x="5519" y="520"/>
                    </a:lnTo>
                    <a:lnTo>
                      <a:pt x="5560" y="478"/>
                    </a:lnTo>
                    <a:lnTo>
                      <a:pt x="5579" y="478"/>
                    </a:lnTo>
                    <a:lnTo>
                      <a:pt x="5579" y="461"/>
                    </a:lnTo>
                    <a:lnTo>
                      <a:pt x="5620" y="418"/>
                    </a:lnTo>
                    <a:lnTo>
                      <a:pt x="5638" y="400"/>
                    </a:lnTo>
                    <a:lnTo>
                      <a:pt x="5663" y="400"/>
                    </a:lnTo>
                    <a:lnTo>
                      <a:pt x="5698" y="359"/>
                    </a:lnTo>
                    <a:lnTo>
                      <a:pt x="5716" y="359"/>
                    </a:lnTo>
                    <a:lnTo>
                      <a:pt x="5740" y="340"/>
                    </a:lnTo>
                    <a:lnTo>
                      <a:pt x="5775" y="340"/>
                    </a:lnTo>
                    <a:lnTo>
                      <a:pt x="5800" y="322"/>
                    </a:lnTo>
                    <a:lnTo>
                      <a:pt x="5818" y="340"/>
                    </a:lnTo>
                    <a:lnTo>
                      <a:pt x="5895" y="340"/>
                    </a:lnTo>
                    <a:lnTo>
                      <a:pt x="5919" y="359"/>
                    </a:lnTo>
                    <a:lnTo>
                      <a:pt x="5955" y="359"/>
                    </a:lnTo>
                    <a:lnTo>
                      <a:pt x="5978" y="382"/>
                    </a:lnTo>
                    <a:lnTo>
                      <a:pt x="5997" y="382"/>
                    </a:lnTo>
                    <a:lnTo>
                      <a:pt x="6039" y="418"/>
                    </a:lnTo>
                    <a:lnTo>
                      <a:pt x="6074" y="461"/>
                    </a:lnTo>
                    <a:lnTo>
                      <a:pt x="6074" y="478"/>
                    </a:lnTo>
                    <a:lnTo>
                      <a:pt x="6099" y="478"/>
                    </a:lnTo>
                    <a:lnTo>
                      <a:pt x="6099" y="502"/>
                    </a:lnTo>
                    <a:lnTo>
                      <a:pt x="6135" y="538"/>
                    </a:lnTo>
                    <a:lnTo>
                      <a:pt x="6135" y="562"/>
                    </a:lnTo>
                    <a:lnTo>
                      <a:pt x="6158" y="580"/>
                    </a:lnTo>
                    <a:lnTo>
                      <a:pt x="6158" y="598"/>
                    </a:lnTo>
                    <a:lnTo>
                      <a:pt x="6194" y="639"/>
                    </a:lnTo>
                    <a:lnTo>
                      <a:pt x="6194" y="699"/>
                    </a:lnTo>
                    <a:lnTo>
                      <a:pt x="6218" y="717"/>
                    </a:lnTo>
                    <a:lnTo>
                      <a:pt x="6218" y="741"/>
                    </a:lnTo>
                    <a:lnTo>
                      <a:pt x="6236" y="760"/>
                    </a:lnTo>
                    <a:lnTo>
                      <a:pt x="6236" y="801"/>
                    </a:lnTo>
                    <a:lnTo>
                      <a:pt x="6254" y="837"/>
                    </a:lnTo>
                    <a:lnTo>
                      <a:pt x="6254" y="879"/>
                    </a:lnTo>
                    <a:lnTo>
                      <a:pt x="6277" y="920"/>
                    </a:lnTo>
                    <a:lnTo>
                      <a:pt x="6277" y="981"/>
                    </a:lnTo>
                    <a:lnTo>
                      <a:pt x="6295" y="998"/>
                    </a:lnTo>
                    <a:lnTo>
                      <a:pt x="6295" y="1100"/>
                    </a:lnTo>
                    <a:lnTo>
                      <a:pt x="6313" y="1118"/>
                    </a:lnTo>
                    <a:lnTo>
                      <a:pt x="6313" y="1339"/>
                    </a:lnTo>
                    <a:lnTo>
                      <a:pt x="6338" y="1375"/>
                    </a:lnTo>
                    <a:lnTo>
                      <a:pt x="6338" y="2589"/>
                    </a:lnTo>
                    <a:lnTo>
                      <a:pt x="6356" y="2630"/>
                    </a:lnTo>
                    <a:lnTo>
                      <a:pt x="6356" y="2989"/>
                    </a:lnTo>
                    <a:lnTo>
                      <a:pt x="6373" y="3031"/>
                    </a:lnTo>
                    <a:lnTo>
                      <a:pt x="6373" y="3150"/>
                    </a:lnTo>
                    <a:lnTo>
                      <a:pt x="6397" y="3168"/>
                    </a:lnTo>
                    <a:lnTo>
                      <a:pt x="6397" y="3246"/>
                    </a:lnTo>
                    <a:lnTo>
                      <a:pt x="6416" y="3271"/>
                    </a:lnTo>
                    <a:lnTo>
                      <a:pt x="6416" y="3306"/>
                    </a:lnTo>
                    <a:lnTo>
                      <a:pt x="6434" y="3330"/>
                    </a:lnTo>
                    <a:lnTo>
                      <a:pt x="6434" y="3348"/>
                    </a:lnTo>
                    <a:lnTo>
                      <a:pt x="6457" y="3365"/>
                    </a:lnTo>
                    <a:lnTo>
                      <a:pt x="6457" y="3408"/>
                    </a:lnTo>
                    <a:lnTo>
                      <a:pt x="6475" y="3426"/>
                    </a:lnTo>
                    <a:lnTo>
                      <a:pt x="6475" y="3449"/>
                    </a:lnTo>
                    <a:lnTo>
                      <a:pt x="6517" y="3485"/>
                    </a:lnTo>
                    <a:lnTo>
                      <a:pt x="6517" y="3509"/>
                    </a:lnTo>
                    <a:lnTo>
                      <a:pt x="6535" y="3527"/>
                    </a:lnTo>
                    <a:lnTo>
                      <a:pt x="6535" y="3545"/>
                    </a:lnTo>
                    <a:lnTo>
                      <a:pt x="6553" y="3545"/>
                    </a:lnTo>
                    <a:lnTo>
                      <a:pt x="6553" y="3569"/>
                    </a:lnTo>
                    <a:lnTo>
                      <a:pt x="6577" y="3586"/>
                    </a:lnTo>
                    <a:lnTo>
                      <a:pt x="6594" y="3586"/>
                    </a:lnTo>
                    <a:lnTo>
                      <a:pt x="6594" y="3604"/>
                    </a:lnTo>
                    <a:lnTo>
                      <a:pt x="6637" y="3647"/>
                    </a:lnTo>
                    <a:lnTo>
                      <a:pt x="6637" y="3665"/>
                    </a:lnTo>
                    <a:lnTo>
                      <a:pt x="6655" y="3665"/>
                    </a:lnTo>
                    <a:lnTo>
                      <a:pt x="6655" y="3688"/>
                    </a:lnTo>
                    <a:lnTo>
                      <a:pt x="6673" y="3688"/>
                    </a:lnTo>
                    <a:lnTo>
                      <a:pt x="6714" y="3725"/>
                    </a:lnTo>
                    <a:lnTo>
                      <a:pt x="6732" y="3748"/>
                    </a:lnTo>
                    <a:lnTo>
                      <a:pt x="6732" y="3766"/>
                    </a:lnTo>
                    <a:lnTo>
                      <a:pt x="6756" y="3766"/>
                    </a:lnTo>
                    <a:lnTo>
                      <a:pt x="6756" y="3784"/>
                    </a:lnTo>
                    <a:lnTo>
                      <a:pt x="6774" y="3784"/>
                    </a:lnTo>
                    <a:lnTo>
                      <a:pt x="6774" y="3809"/>
                    </a:lnTo>
                    <a:lnTo>
                      <a:pt x="6792" y="3826"/>
                    </a:lnTo>
                    <a:lnTo>
                      <a:pt x="6792" y="3868"/>
                    </a:lnTo>
                    <a:lnTo>
                      <a:pt x="6815" y="3886"/>
                    </a:lnTo>
                    <a:lnTo>
                      <a:pt x="6815" y="4083"/>
                    </a:lnTo>
                    <a:lnTo>
                      <a:pt x="6792" y="4083"/>
                    </a:lnTo>
                    <a:lnTo>
                      <a:pt x="6792" y="4125"/>
                    </a:lnTo>
                    <a:lnTo>
                      <a:pt x="6774" y="4143"/>
                    </a:lnTo>
                    <a:lnTo>
                      <a:pt x="6774" y="4167"/>
                    </a:lnTo>
                    <a:lnTo>
                      <a:pt x="6756" y="4185"/>
                    </a:lnTo>
                    <a:lnTo>
                      <a:pt x="6756" y="4202"/>
                    </a:lnTo>
                    <a:lnTo>
                      <a:pt x="6732" y="4202"/>
                    </a:lnTo>
                    <a:lnTo>
                      <a:pt x="6732" y="4227"/>
                    </a:lnTo>
                    <a:lnTo>
                      <a:pt x="6696" y="4263"/>
                    </a:lnTo>
                    <a:lnTo>
                      <a:pt x="6673" y="4286"/>
                    </a:lnTo>
                    <a:lnTo>
                      <a:pt x="6673" y="4304"/>
                    </a:lnTo>
                    <a:lnTo>
                      <a:pt x="6655" y="4304"/>
                    </a:lnTo>
                    <a:lnTo>
                      <a:pt x="6655" y="4322"/>
                    </a:lnTo>
                    <a:lnTo>
                      <a:pt x="6612" y="4322"/>
                    </a:lnTo>
                    <a:lnTo>
                      <a:pt x="6612" y="4346"/>
                    </a:lnTo>
                    <a:lnTo>
                      <a:pt x="6535" y="4346"/>
                    </a:lnTo>
                    <a:lnTo>
                      <a:pt x="6517" y="4364"/>
                    </a:lnTo>
                    <a:lnTo>
                      <a:pt x="6236" y="4364"/>
                    </a:lnTo>
                    <a:lnTo>
                      <a:pt x="6218" y="4382"/>
                    </a:lnTo>
                    <a:lnTo>
                      <a:pt x="6176" y="4382"/>
                    </a:lnTo>
                    <a:lnTo>
                      <a:pt x="6176" y="4406"/>
                    </a:lnTo>
                    <a:lnTo>
                      <a:pt x="6135" y="4406"/>
                    </a:lnTo>
                    <a:lnTo>
                      <a:pt x="6135" y="4423"/>
                    </a:lnTo>
                    <a:lnTo>
                      <a:pt x="6117" y="4423"/>
                    </a:lnTo>
                    <a:lnTo>
                      <a:pt x="6117" y="4442"/>
                    </a:lnTo>
                    <a:lnTo>
                      <a:pt x="6099" y="4442"/>
                    </a:lnTo>
                    <a:lnTo>
                      <a:pt x="6099" y="4466"/>
                    </a:lnTo>
                    <a:lnTo>
                      <a:pt x="6056" y="4502"/>
                    </a:lnTo>
                    <a:lnTo>
                      <a:pt x="6056" y="4544"/>
                    </a:lnTo>
                    <a:lnTo>
                      <a:pt x="6039" y="4544"/>
                    </a:lnTo>
                    <a:lnTo>
                      <a:pt x="6039" y="4585"/>
                    </a:lnTo>
                    <a:lnTo>
                      <a:pt x="6015" y="4621"/>
                    </a:lnTo>
                    <a:lnTo>
                      <a:pt x="6015" y="4740"/>
                    </a:lnTo>
                    <a:lnTo>
                      <a:pt x="5997" y="4765"/>
                    </a:lnTo>
                    <a:lnTo>
                      <a:pt x="5997" y="5039"/>
                    </a:lnTo>
                    <a:lnTo>
                      <a:pt x="6015" y="5082"/>
                    </a:lnTo>
                    <a:lnTo>
                      <a:pt x="6015" y="5679"/>
                    </a:lnTo>
                    <a:lnTo>
                      <a:pt x="5997" y="5721"/>
                    </a:lnTo>
                    <a:lnTo>
                      <a:pt x="5997" y="5817"/>
                    </a:lnTo>
                    <a:lnTo>
                      <a:pt x="5978" y="5835"/>
                    </a:lnTo>
                    <a:lnTo>
                      <a:pt x="5978" y="5919"/>
                    </a:lnTo>
                    <a:lnTo>
                      <a:pt x="5955" y="5937"/>
                    </a:lnTo>
                    <a:lnTo>
                      <a:pt x="5955" y="5996"/>
                    </a:lnTo>
                    <a:lnTo>
                      <a:pt x="5937" y="6014"/>
                    </a:lnTo>
                    <a:lnTo>
                      <a:pt x="5919" y="6056"/>
                    </a:lnTo>
                    <a:lnTo>
                      <a:pt x="5919" y="6074"/>
                    </a:lnTo>
                    <a:lnTo>
                      <a:pt x="5895" y="6115"/>
                    </a:lnTo>
                    <a:lnTo>
                      <a:pt x="5895" y="6134"/>
                    </a:lnTo>
                    <a:lnTo>
                      <a:pt x="5877" y="6176"/>
                    </a:lnTo>
                    <a:lnTo>
                      <a:pt x="5877" y="6218"/>
                    </a:lnTo>
                    <a:lnTo>
                      <a:pt x="5859" y="6236"/>
                    </a:lnTo>
                    <a:lnTo>
                      <a:pt x="5859" y="6277"/>
                    </a:lnTo>
                    <a:lnTo>
                      <a:pt x="5836" y="6313"/>
                    </a:lnTo>
                    <a:lnTo>
                      <a:pt x="5836" y="6337"/>
                    </a:lnTo>
                    <a:lnTo>
                      <a:pt x="5800" y="6414"/>
                    </a:lnTo>
                    <a:lnTo>
                      <a:pt x="5800" y="6457"/>
                    </a:lnTo>
                    <a:lnTo>
                      <a:pt x="5775" y="6475"/>
                    </a:lnTo>
                    <a:lnTo>
                      <a:pt x="5757" y="6516"/>
                    </a:lnTo>
                    <a:lnTo>
                      <a:pt x="5757" y="6553"/>
                    </a:lnTo>
                    <a:lnTo>
                      <a:pt x="5740" y="6576"/>
                    </a:lnTo>
                    <a:lnTo>
                      <a:pt x="5716" y="6612"/>
                    </a:lnTo>
                    <a:lnTo>
                      <a:pt x="5716" y="6654"/>
                    </a:lnTo>
                    <a:lnTo>
                      <a:pt x="5698" y="6672"/>
                    </a:lnTo>
                    <a:lnTo>
                      <a:pt x="5663" y="6756"/>
                    </a:lnTo>
                    <a:lnTo>
                      <a:pt x="5663" y="6774"/>
                    </a:lnTo>
                    <a:lnTo>
                      <a:pt x="5620" y="6851"/>
                    </a:lnTo>
                    <a:lnTo>
                      <a:pt x="5602" y="6875"/>
                    </a:lnTo>
                    <a:lnTo>
                      <a:pt x="5579" y="6911"/>
                    </a:lnTo>
                    <a:lnTo>
                      <a:pt x="5560" y="6934"/>
                    </a:lnTo>
                    <a:lnTo>
                      <a:pt x="5542" y="6971"/>
                    </a:lnTo>
                    <a:lnTo>
                      <a:pt x="5501" y="7013"/>
                    </a:lnTo>
                    <a:lnTo>
                      <a:pt x="5483" y="7055"/>
                    </a:lnTo>
                    <a:lnTo>
                      <a:pt x="5399" y="7132"/>
                    </a:lnTo>
                    <a:lnTo>
                      <a:pt x="5363" y="7174"/>
                    </a:lnTo>
                    <a:lnTo>
                      <a:pt x="5339" y="7192"/>
                    </a:lnTo>
                    <a:lnTo>
                      <a:pt x="5303" y="7210"/>
                    </a:lnTo>
                    <a:lnTo>
                      <a:pt x="5262" y="7251"/>
                    </a:lnTo>
                    <a:lnTo>
                      <a:pt x="5219" y="7269"/>
                    </a:lnTo>
                    <a:lnTo>
                      <a:pt x="5202" y="7294"/>
                    </a:lnTo>
                    <a:lnTo>
                      <a:pt x="5160" y="7294"/>
                    </a:lnTo>
                    <a:lnTo>
                      <a:pt x="5123" y="7312"/>
                    </a:lnTo>
                    <a:lnTo>
                      <a:pt x="5123" y="7330"/>
                    </a:lnTo>
                    <a:lnTo>
                      <a:pt x="5082" y="7330"/>
                    </a:lnTo>
                    <a:lnTo>
                      <a:pt x="5040" y="7353"/>
                    </a:lnTo>
                    <a:lnTo>
                      <a:pt x="5004" y="7353"/>
                    </a:lnTo>
                    <a:lnTo>
                      <a:pt x="4963" y="7371"/>
                    </a:lnTo>
                    <a:lnTo>
                      <a:pt x="4920" y="7371"/>
                    </a:lnTo>
                    <a:lnTo>
                      <a:pt x="4885" y="7390"/>
                    </a:lnTo>
                    <a:lnTo>
                      <a:pt x="4843" y="7390"/>
                    </a:lnTo>
                    <a:lnTo>
                      <a:pt x="4801" y="7413"/>
                    </a:lnTo>
                    <a:lnTo>
                      <a:pt x="4723" y="7413"/>
                    </a:lnTo>
                    <a:lnTo>
                      <a:pt x="4682" y="7431"/>
                    </a:lnTo>
                    <a:lnTo>
                      <a:pt x="4544" y="7431"/>
                    </a:lnTo>
                    <a:lnTo>
                      <a:pt x="4484" y="7449"/>
                    </a:lnTo>
                    <a:lnTo>
                      <a:pt x="3988" y="7449"/>
                    </a:lnTo>
                    <a:lnTo>
                      <a:pt x="3928" y="7431"/>
                    </a:lnTo>
                    <a:lnTo>
                      <a:pt x="3827" y="7431"/>
                    </a:lnTo>
                    <a:lnTo>
                      <a:pt x="3766" y="7413"/>
                    </a:lnTo>
                    <a:lnTo>
                      <a:pt x="3725" y="7413"/>
                    </a:lnTo>
                    <a:lnTo>
                      <a:pt x="3665" y="7390"/>
                    </a:lnTo>
                    <a:lnTo>
                      <a:pt x="3629" y="7390"/>
                    </a:lnTo>
                    <a:lnTo>
                      <a:pt x="3570" y="7371"/>
                    </a:lnTo>
                    <a:lnTo>
                      <a:pt x="3510" y="7371"/>
                    </a:lnTo>
                    <a:lnTo>
                      <a:pt x="3467" y="7353"/>
                    </a:lnTo>
                    <a:lnTo>
                      <a:pt x="3408" y="7330"/>
                    </a:lnTo>
                    <a:lnTo>
                      <a:pt x="3366" y="7330"/>
                    </a:lnTo>
                    <a:lnTo>
                      <a:pt x="3307" y="7312"/>
                    </a:lnTo>
                    <a:lnTo>
                      <a:pt x="3271" y="7294"/>
                    </a:lnTo>
                    <a:lnTo>
                      <a:pt x="3211" y="7269"/>
                    </a:lnTo>
                    <a:lnTo>
                      <a:pt x="3169" y="7251"/>
                    </a:lnTo>
                    <a:lnTo>
                      <a:pt x="3109" y="7234"/>
                    </a:lnTo>
                    <a:lnTo>
                      <a:pt x="3068" y="7210"/>
                    </a:lnTo>
                    <a:lnTo>
                      <a:pt x="3007" y="7192"/>
                    </a:lnTo>
                    <a:lnTo>
                      <a:pt x="2972" y="7150"/>
                    </a:lnTo>
                    <a:lnTo>
                      <a:pt x="2929" y="7132"/>
                    </a:lnTo>
                    <a:lnTo>
                      <a:pt x="2911" y="7132"/>
                    </a:lnTo>
                    <a:lnTo>
                      <a:pt x="2852" y="7091"/>
                    </a:lnTo>
                    <a:lnTo>
                      <a:pt x="2810" y="7073"/>
                    </a:lnTo>
                    <a:lnTo>
                      <a:pt x="2769" y="7030"/>
                    </a:lnTo>
                    <a:lnTo>
                      <a:pt x="2708" y="6995"/>
                    </a:lnTo>
                    <a:lnTo>
                      <a:pt x="2630" y="6911"/>
                    </a:lnTo>
                    <a:lnTo>
                      <a:pt x="2589" y="6875"/>
                    </a:lnTo>
                    <a:lnTo>
                      <a:pt x="2529" y="6833"/>
                    </a:lnTo>
                    <a:lnTo>
                      <a:pt x="2452" y="6756"/>
                    </a:lnTo>
                    <a:lnTo>
                      <a:pt x="2391" y="6696"/>
                    </a:lnTo>
                    <a:lnTo>
                      <a:pt x="2350" y="6654"/>
                    </a:lnTo>
                    <a:lnTo>
                      <a:pt x="2314" y="6594"/>
                    </a:lnTo>
                    <a:lnTo>
                      <a:pt x="2254" y="6535"/>
                    </a:lnTo>
                    <a:lnTo>
                      <a:pt x="2212" y="6493"/>
                    </a:lnTo>
                    <a:lnTo>
                      <a:pt x="2170" y="6432"/>
                    </a:lnTo>
                    <a:lnTo>
                      <a:pt x="2110" y="6373"/>
                    </a:lnTo>
                    <a:lnTo>
                      <a:pt x="2074" y="6337"/>
                    </a:lnTo>
                    <a:lnTo>
                      <a:pt x="1991" y="6218"/>
                    </a:lnTo>
                    <a:lnTo>
                      <a:pt x="1932" y="6158"/>
                    </a:lnTo>
                    <a:lnTo>
                      <a:pt x="1853" y="6038"/>
                    </a:lnTo>
                    <a:lnTo>
                      <a:pt x="1775" y="5919"/>
                    </a:lnTo>
                    <a:lnTo>
                      <a:pt x="1716" y="5859"/>
                    </a:lnTo>
                    <a:lnTo>
                      <a:pt x="1633" y="5739"/>
                    </a:lnTo>
                    <a:lnTo>
                      <a:pt x="1597" y="5698"/>
                    </a:lnTo>
                    <a:lnTo>
                      <a:pt x="1519" y="5577"/>
                    </a:lnTo>
                    <a:lnTo>
                      <a:pt x="1435" y="5458"/>
                    </a:lnTo>
                    <a:lnTo>
                      <a:pt x="1399" y="5422"/>
                    </a:lnTo>
                    <a:lnTo>
                      <a:pt x="1316" y="5303"/>
                    </a:lnTo>
                    <a:lnTo>
                      <a:pt x="1280" y="5260"/>
                    </a:lnTo>
                    <a:lnTo>
                      <a:pt x="1237" y="5201"/>
                    </a:lnTo>
                    <a:lnTo>
                      <a:pt x="1160" y="5123"/>
                    </a:lnTo>
                    <a:lnTo>
                      <a:pt x="1136" y="5064"/>
                    </a:lnTo>
                    <a:lnTo>
                      <a:pt x="1059" y="4980"/>
                    </a:lnTo>
                    <a:lnTo>
                      <a:pt x="1041" y="4945"/>
                    </a:lnTo>
                    <a:lnTo>
                      <a:pt x="956" y="4860"/>
                    </a:lnTo>
                    <a:lnTo>
                      <a:pt x="920" y="4824"/>
                    </a:lnTo>
                    <a:lnTo>
                      <a:pt x="897" y="4783"/>
                    </a:lnTo>
                    <a:lnTo>
                      <a:pt x="861" y="4765"/>
                    </a:lnTo>
                    <a:lnTo>
                      <a:pt x="837" y="4723"/>
                    </a:lnTo>
                    <a:lnTo>
                      <a:pt x="801" y="4705"/>
                    </a:lnTo>
                    <a:lnTo>
                      <a:pt x="778" y="4681"/>
                    </a:lnTo>
                    <a:lnTo>
                      <a:pt x="760" y="4646"/>
                    </a:lnTo>
                    <a:lnTo>
                      <a:pt x="717" y="4621"/>
                    </a:lnTo>
                    <a:lnTo>
                      <a:pt x="682" y="4585"/>
                    </a:lnTo>
                    <a:lnTo>
                      <a:pt x="640" y="4562"/>
                    </a:lnTo>
                    <a:lnTo>
                      <a:pt x="598" y="4525"/>
                    </a:lnTo>
                    <a:lnTo>
                      <a:pt x="562" y="4484"/>
                    </a:lnTo>
                    <a:lnTo>
                      <a:pt x="538" y="4466"/>
                    </a:lnTo>
                    <a:lnTo>
                      <a:pt x="502" y="4442"/>
                    </a:lnTo>
                    <a:lnTo>
                      <a:pt x="461" y="4406"/>
                    </a:lnTo>
                    <a:lnTo>
                      <a:pt x="443" y="4406"/>
                    </a:lnTo>
                    <a:lnTo>
                      <a:pt x="400" y="4364"/>
                    </a:lnTo>
                    <a:lnTo>
                      <a:pt x="359" y="4322"/>
                    </a:lnTo>
                    <a:lnTo>
                      <a:pt x="341" y="4322"/>
                    </a:lnTo>
                    <a:lnTo>
                      <a:pt x="299" y="4286"/>
                    </a:lnTo>
                    <a:lnTo>
                      <a:pt x="281" y="4286"/>
                    </a:lnTo>
                    <a:lnTo>
                      <a:pt x="240" y="4245"/>
                    </a:lnTo>
                    <a:lnTo>
                      <a:pt x="204" y="4202"/>
                    </a:lnTo>
                    <a:lnTo>
                      <a:pt x="179" y="4202"/>
                    </a:lnTo>
                    <a:lnTo>
                      <a:pt x="179" y="4185"/>
                    </a:lnTo>
                    <a:lnTo>
                      <a:pt x="162" y="4185"/>
                    </a:lnTo>
                    <a:lnTo>
                      <a:pt x="120" y="4143"/>
                    </a:lnTo>
                    <a:lnTo>
                      <a:pt x="120" y="4125"/>
                    </a:lnTo>
                    <a:lnTo>
                      <a:pt x="101" y="4125"/>
                    </a:lnTo>
                    <a:lnTo>
                      <a:pt x="101" y="4108"/>
                    </a:lnTo>
                    <a:lnTo>
                      <a:pt x="83" y="4108"/>
                    </a:lnTo>
                    <a:lnTo>
                      <a:pt x="83" y="4065"/>
                    </a:lnTo>
                    <a:lnTo>
                      <a:pt x="60" y="4065"/>
                    </a:lnTo>
                    <a:lnTo>
                      <a:pt x="60" y="4047"/>
                    </a:lnTo>
                    <a:lnTo>
                      <a:pt x="42" y="4023"/>
                    </a:lnTo>
                    <a:lnTo>
                      <a:pt x="42" y="4005"/>
                    </a:lnTo>
                    <a:lnTo>
                      <a:pt x="24" y="4005"/>
                    </a:lnTo>
                    <a:lnTo>
                      <a:pt x="24" y="3964"/>
                    </a:lnTo>
                    <a:lnTo>
                      <a:pt x="0" y="3946"/>
                    </a:lnTo>
                    <a:lnTo>
                      <a:pt x="0" y="3766"/>
                    </a:lnTo>
                    <a:lnTo>
                      <a:pt x="24" y="3748"/>
                    </a:lnTo>
                    <a:lnTo>
                      <a:pt x="24" y="3725"/>
                    </a:lnTo>
                    <a:lnTo>
                      <a:pt x="42" y="3725"/>
                    </a:lnTo>
                    <a:lnTo>
                      <a:pt x="42" y="3707"/>
                    </a:lnTo>
                    <a:lnTo>
                      <a:pt x="83" y="3665"/>
                    </a:lnTo>
                    <a:lnTo>
                      <a:pt x="101" y="3665"/>
                    </a:lnTo>
                    <a:lnTo>
                      <a:pt x="101" y="3647"/>
                    </a:lnTo>
                    <a:lnTo>
                      <a:pt x="120" y="3647"/>
                    </a:lnTo>
                    <a:lnTo>
                      <a:pt x="144" y="3629"/>
                    </a:lnTo>
                    <a:lnTo>
                      <a:pt x="418" y="3545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51280" y="4357800"/>
                <a:ext cx="1438200" cy="869760"/>
              </a:xfrm>
              <a:custGeom>
                <a:avLst/>
                <a:gdLst/>
                <a:ahLst/>
                <a:rect l="l" t="t" r="r" b="b"/>
                <a:pathLst>
                  <a:path w="5434" h="3289">
                    <a:moveTo>
                      <a:pt x="4741" y="222"/>
                    </a:moveTo>
                    <a:lnTo>
                      <a:pt x="4723" y="222"/>
                    </a:lnTo>
                    <a:lnTo>
                      <a:pt x="4723" y="258"/>
                    </a:lnTo>
                    <a:lnTo>
                      <a:pt x="4700" y="281"/>
                    </a:lnTo>
                    <a:lnTo>
                      <a:pt x="4700" y="299"/>
                    </a:lnTo>
                    <a:lnTo>
                      <a:pt x="4663" y="341"/>
                    </a:lnTo>
                    <a:lnTo>
                      <a:pt x="4663" y="377"/>
                    </a:lnTo>
                    <a:lnTo>
                      <a:pt x="4622" y="418"/>
                    </a:lnTo>
                    <a:lnTo>
                      <a:pt x="4604" y="461"/>
                    </a:lnTo>
                    <a:lnTo>
                      <a:pt x="4604" y="479"/>
                    </a:lnTo>
                    <a:lnTo>
                      <a:pt x="4561" y="557"/>
                    </a:lnTo>
                    <a:lnTo>
                      <a:pt x="4544" y="580"/>
                    </a:lnTo>
                    <a:lnTo>
                      <a:pt x="4502" y="658"/>
                    </a:lnTo>
                    <a:lnTo>
                      <a:pt x="4460" y="735"/>
                    </a:lnTo>
                    <a:lnTo>
                      <a:pt x="4442" y="760"/>
                    </a:lnTo>
                    <a:lnTo>
                      <a:pt x="4424" y="796"/>
                    </a:lnTo>
                    <a:lnTo>
                      <a:pt x="4383" y="837"/>
                    </a:lnTo>
                    <a:lnTo>
                      <a:pt x="4340" y="915"/>
                    </a:lnTo>
                    <a:lnTo>
                      <a:pt x="4305" y="999"/>
                    </a:lnTo>
                    <a:lnTo>
                      <a:pt x="4281" y="1017"/>
                    </a:lnTo>
                    <a:lnTo>
                      <a:pt x="4244" y="1095"/>
                    </a:lnTo>
                    <a:lnTo>
                      <a:pt x="4244" y="1136"/>
                    </a:lnTo>
                    <a:lnTo>
                      <a:pt x="4221" y="1154"/>
                    </a:lnTo>
                    <a:lnTo>
                      <a:pt x="4203" y="1196"/>
                    </a:lnTo>
                    <a:lnTo>
                      <a:pt x="4185" y="1214"/>
                    </a:lnTo>
                    <a:lnTo>
                      <a:pt x="4161" y="1255"/>
                    </a:lnTo>
                    <a:lnTo>
                      <a:pt x="4161" y="1273"/>
                    </a:lnTo>
                    <a:lnTo>
                      <a:pt x="4143" y="1316"/>
                    </a:lnTo>
                    <a:lnTo>
                      <a:pt x="4125" y="1334"/>
                    </a:lnTo>
                    <a:lnTo>
                      <a:pt x="4125" y="1376"/>
                    </a:lnTo>
                    <a:lnTo>
                      <a:pt x="4102" y="1394"/>
                    </a:lnTo>
                    <a:lnTo>
                      <a:pt x="4102" y="1478"/>
                    </a:lnTo>
                    <a:lnTo>
                      <a:pt x="4125" y="1478"/>
                    </a:lnTo>
                    <a:lnTo>
                      <a:pt x="4143" y="1453"/>
                    </a:lnTo>
                    <a:lnTo>
                      <a:pt x="4161" y="1453"/>
                    </a:lnTo>
                    <a:lnTo>
                      <a:pt x="4185" y="1435"/>
                    </a:lnTo>
                    <a:lnTo>
                      <a:pt x="4203" y="1435"/>
                    </a:lnTo>
                    <a:lnTo>
                      <a:pt x="4203" y="1417"/>
                    </a:lnTo>
                    <a:lnTo>
                      <a:pt x="4221" y="1417"/>
                    </a:lnTo>
                    <a:lnTo>
                      <a:pt x="4244" y="1394"/>
                    </a:lnTo>
                    <a:lnTo>
                      <a:pt x="4262" y="1394"/>
                    </a:lnTo>
                    <a:lnTo>
                      <a:pt x="4281" y="1376"/>
                    </a:lnTo>
                    <a:lnTo>
                      <a:pt x="4281" y="1357"/>
                    </a:lnTo>
                    <a:lnTo>
                      <a:pt x="4305" y="1357"/>
                    </a:lnTo>
                    <a:lnTo>
                      <a:pt x="4340" y="1316"/>
                    </a:lnTo>
                    <a:lnTo>
                      <a:pt x="4365" y="1316"/>
                    </a:lnTo>
                    <a:lnTo>
                      <a:pt x="4401" y="1273"/>
                    </a:lnTo>
                    <a:lnTo>
                      <a:pt x="4424" y="1255"/>
                    </a:lnTo>
                    <a:lnTo>
                      <a:pt x="4442" y="1255"/>
                    </a:lnTo>
                    <a:lnTo>
                      <a:pt x="4460" y="1238"/>
                    </a:lnTo>
                    <a:lnTo>
                      <a:pt x="4460" y="1214"/>
                    </a:lnTo>
                    <a:lnTo>
                      <a:pt x="4484" y="1214"/>
                    </a:lnTo>
                    <a:lnTo>
                      <a:pt x="4520" y="1178"/>
                    </a:lnTo>
                    <a:lnTo>
                      <a:pt x="4544" y="1178"/>
                    </a:lnTo>
                    <a:lnTo>
                      <a:pt x="4561" y="1154"/>
                    </a:lnTo>
                    <a:lnTo>
                      <a:pt x="4561" y="1136"/>
                    </a:lnTo>
                    <a:lnTo>
                      <a:pt x="4579" y="1136"/>
                    </a:lnTo>
                    <a:lnTo>
                      <a:pt x="4604" y="1118"/>
                    </a:lnTo>
                    <a:lnTo>
                      <a:pt x="4622" y="1118"/>
                    </a:lnTo>
                    <a:lnTo>
                      <a:pt x="4622" y="1095"/>
                    </a:lnTo>
                    <a:lnTo>
                      <a:pt x="4640" y="1095"/>
                    </a:lnTo>
                    <a:lnTo>
                      <a:pt x="4663" y="1077"/>
                    </a:lnTo>
                    <a:lnTo>
                      <a:pt x="4681" y="1095"/>
                    </a:lnTo>
                    <a:lnTo>
                      <a:pt x="4663" y="1095"/>
                    </a:lnTo>
                    <a:lnTo>
                      <a:pt x="4663" y="1136"/>
                    </a:lnTo>
                    <a:lnTo>
                      <a:pt x="4622" y="1178"/>
                    </a:lnTo>
                    <a:lnTo>
                      <a:pt x="4604" y="1196"/>
                    </a:lnTo>
                    <a:lnTo>
                      <a:pt x="4604" y="1214"/>
                    </a:lnTo>
                    <a:lnTo>
                      <a:pt x="4579" y="1238"/>
                    </a:lnTo>
                    <a:lnTo>
                      <a:pt x="4579" y="1255"/>
                    </a:lnTo>
                    <a:lnTo>
                      <a:pt x="4561" y="1255"/>
                    </a:lnTo>
                    <a:lnTo>
                      <a:pt x="4544" y="1273"/>
                    </a:lnTo>
                    <a:lnTo>
                      <a:pt x="4544" y="1298"/>
                    </a:lnTo>
                    <a:lnTo>
                      <a:pt x="4502" y="1334"/>
                    </a:lnTo>
                    <a:lnTo>
                      <a:pt x="4502" y="1357"/>
                    </a:lnTo>
                    <a:lnTo>
                      <a:pt x="4460" y="1394"/>
                    </a:lnTo>
                    <a:lnTo>
                      <a:pt x="4442" y="1417"/>
                    </a:lnTo>
                    <a:lnTo>
                      <a:pt x="4442" y="1435"/>
                    </a:lnTo>
                    <a:lnTo>
                      <a:pt x="4424" y="1453"/>
                    </a:lnTo>
                    <a:lnTo>
                      <a:pt x="4401" y="1453"/>
                    </a:lnTo>
                    <a:lnTo>
                      <a:pt x="4401" y="1478"/>
                    </a:lnTo>
                    <a:lnTo>
                      <a:pt x="4365" y="1513"/>
                    </a:lnTo>
                    <a:lnTo>
                      <a:pt x="4365" y="1537"/>
                    </a:lnTo>
                    <a:lnTo>
                      <a:pt x="4340" y="1555"/>
                    </a:lnTo>
                    <a:lnTo>
                      <a:pt x="4340" y="1572"/>
                    </a:lnTo>
                    <a:lnTo>
                      <a:pt x="4323" y="1572"/>
                    </a:lnTo>
                    <a:lnTo>
                      <a:pt x="4323" y="1597"/>
                    </a:lnTo>
                    <a:lnTo>
                      <a:pt x="4281" y="1633"/>
                    </a:lnTo>
                    <a:lnTo>
                      <a:pt x="4281" y="1674"/>
                    </a:lnTo>
                    <a:lnTo>
                      <a:pt x="4262" y="1674"/>
                    </a:lnTo>
                    <a:lnTo>
                      <a:pt x="4262" y="1692"/>
                    </a:lnTo>
                    <a:lnTo>
                      <a:pt x="4281" y="1716"/>
                    </a:lnTo>
                    <a:lnTo>
                      <a:pt x="4305" y="1716"/>
                    </a:lnTo>
                    <a:lnTo>
                      <a:pt x="4323" y="1692"/>
                    </a:lnTo>
                    <a:lnTo>
                      <a:pt x="4340" y="1692"/>
                    </a:lnTo>
                    <a:lnTo>
                      <a:pt x="4365" y="1674"/>
                    </a:lnTo>
                    <a:lnTo>
                      <a:pt x="4383" y="1674"/>
                    </a:lnTo>
                    <a:lnTo>
                      <a:pt x="4401" y="1656"/>
                    </a:lnTo>
                    <a:lnTo>
                      <a:pt x="4424" y="1656"/>
                    </a:lnTo>
                    <a:lnTo>
                      <a:pt x="4442" y="1633"/>
                    </a:lnTo>
                    <a:lnTo>
                      <a:pt x="4460" y="1633"/>
                    </a:lnTo>
                    <a:lnTo>
                      <a:pt x="4460" y="1615"/>
                    </a:lnTo>
                    <a:lnTo>
                      <a:pt x="4484" y="1615"/>
                    </a:lnTo>
                    <a:lnTo>
                      <a:pt x="4502" y="1597"/>
                    </a:lnTo>
                    <a:lnTo>
                      <a:pt x="4520" y="1597"/>
                    </a:lnTo>
                    <a:lnTo>
                      <a:pt x="4544" y="1572"/>
                    </a:lnTo>
                    <a:lnTo>
                      <a:pt x="4561" y="1572"/>
                    </a:lnTo>
                    <a:lnTo>
                      <a:pt x="4579" y="1555"/>
                    </a:lnTo>
                    <a:lnTo>
                      <a:pt x="4604" y="1555"/>
                    </a:lnTo>
                    <a:lnTo>
                      <a:pt x="4640" y="1513"/>
                    </a:lnTo>
                    <a:lnTo>
                      <a:pt x="4663" y="1513"/>
                    </a:lnTo>
                    <a:lnTo>
                      <a:pt x="4681" y="1495"/>
                    </a:lnTo>
                    <a:lnTo>
                      <a:pt x="4700" y="1495"/>
                    </a:lnTo>
                    <a:lnTo>
                      <a:pt x="4741" y="1453"/>
                    </a:lnTo>
                    <a:lnTo>
                      <a:pt x="4759" y="1453"/>
                    </a:lnTo>
                    <a:lnTo>
                      <a:pt x="4784" y="1435"/>
                    </a:lnTo>
                    <a:lnTo>
                      <a:pt x="4801" y="1435"/>
                    </a:lnTo>
                    <a:lnTo>
                      <a:pt x="4819" y="1417"/>
                    </a:lnTo>
                    <a:lnTo>
                      <a:pt x="4837" y="1417"/>
                    </a:lnTo>
                    <a:lnTo>
                      <a:pt x="4861" y="1394"/>
                    </a:lnTo>
                    <a:lnTo>
                      <a:pt x="4878" y="1394"/>
                    </a:lnTo>
                    <a:lnTo>
                      <a:pt x="4896" y="1376"/>
                    </a:lnTo>
                    <a:lnTo>
                      <a:pt x="4921" y="1376"/>
                    </a:lnTo>
                    <a:lnTo>
                      <a:pt x="4939" y="1357"/>
                    </a:lnTo>
                    <a:lnTo>
                      <a:pt x="5016" y="1357"/>
                    </a:lnTo>
                    <a:lnTo>
                      <a:pt x="5016" y="1334"/>
                    </a:lnTo>
                    <a:lnTo>
                      <a:pt x="5118" y="1334"/>
                    </a:lnTo>
                    <a:lnTo>
                      <a:pt x="5118" y="1357"/>
                    </a:lnTo>
                    <a:lnTo>
                      <a:pt x="5195" y="1357"/>
                    </a:lnTo>
                    <a:lnTo>
                      <a:pt x="5195" y="1376"/>
                    </a:lnTo>
                    <a:lnTo>
                      <a:pt x="5238" y="1376"/>
                    </a:lnTo>
                    <a:lnTo>
                      <a:pt x="5256" y="1394"/>
                    </a:lnTo>
                    <a:lnTo>
                      <a:pt x="5279" y="1394"/>
                    </a:lnTo>
                    <a:lnTo>
                      <a:pt x="5297" y="1417"/>
                    </a:lnTo>
                    <a:lnTo>
                      <a:pt x="5315" y="1417"/>
                    </a:lnTo>
                    <a:lnTo>
                      <a:pt x="5357" y="1453"/>
                    </a:lnTo>
                    <a:lnTo>
                      <a:pt x="5375" y="1453"/>
                    </a:lnTo>
                    <a:lnTo>
                      <a:pt x="5375" y="1478"/>
                    </a:lnTo>
                    <a:lnTo>
                      <a:pt x="5398" y="1478"/>
                    </a:lnTo>
                    <a:lnTo>
                      <a:pt x="5434" y="1513"/>
                    </a:lnTo>
                    <a:lnTo>
                      <a:pt x="5416" y="1513"/>
                    </a:lnTo>
                    <a:lnTo>
                      <a:pt x="5416" y="1495"/>
                    </a:lnTo>
                    <a:lnTo>
                      <a:pt x="5357" y="1495"/>
                    </a:lnTo>
                    <a:lnTo>
                      <a:pt x="5357" y="1478"/>
                    </a:lnTo>
                    <a:lnTo>
                      <a:pt x="5118" y="1478"/>
                    </a:lnTo>
                    <a:lnTo>
                      <a:pt x="5118" y="1495"/>
                    </a:lnTo>
                    <a:lnTo>
                      <a:pt x="5058" y="1495"/>
                    </a:lnTo>
                    <a:lnTo>
                      <a:pt x="5040" y="1513"/>
                    </a:lnTo>
                    <a:lnTo>
                      <a:pt x="5016" y="1513"/>
                    </a:lnTo>
                    <a:lnTo>
                      <a:pt x="4998" y="1537"/>
                    </a:lnTo>
                    <a:lnTo>
                      <a:pt x="4957" y="1537"/>
                    </a:lnTo>
                    <a:lnTo>
                      <a:pt x="4939" y="1555"/>
                    </a:lnTo>
                    <a:lnTo>
                      <a:pt x="4896" y="1555"/>
                    </a:lnTo>
                    <a:lnTo>
                      <a:pt x="4878" y="1572"/>
                    </a:lnTo>
                    <a:lnTo>
                      <a:pt x="4861" y="1572"/>
                    </a:lnTo>
                    <a:lnTo>
                      <a:pt x="4837" y="1597"/>
                    </a:lnTo>
                    <a:lnTo>
                      <a:pt x="4819" y="1597"/>
                    </a:lnTo>
                    <a:lnTo>
                      <a:pt x="4801" y="1615"/>
                    </a:lnTo>
                    <a:lnTo>
                      <a:pt x="4759" y="1615"/>
                    </a:lnTo>
                    <a:lnTo>
                      <a:pt x="4741" y="1633"/>
                    </a:lnTo>
                    <a:lnTo>
                      <a:pt x="4723" y="1633"/>
                    </a:lnTo>
                    <a:lnTo>
                      <a:pt x="4700" y="1656"/>
                    </a:lnTo>
                    <a:lnTo>
                      <a:pt x="4681" y="1656"/>
                    </a:lnTo>
                    <a:lnTo>
                      <a:pt x="4663" y="1674"/>
                    </a:lnTo>
                    <a:lnTo>
                      <a:pt x="4640" y="1674"/>
                    </a:lnTo>
                    <a:lnTo>
                      <a:pt x="4622" y="1692"/>
                    </a:lnTo>
                    <a:lnTo>
                      <a:pt x="4604" y="1692"/>
                    </a:lnTo>
                    <a:lnTo>
                      <a:pt x="4604" y="1716"/>
                    </a:lnTo>
                    <a:lnTo>
                      <a:pt x="4579" y="1716"/>
                    </a:lnTo>
                    <a:lnTo>
                      <a:pt x="4561" y="1734"/>
                    </a:lnTo>
                    <a:lnTo>
                      <a:pt x="4520" y="1734"/>
                    </a:lnTo>
                    <a:lnTo>
                      <a:pt x="4502" y="1752"/>
                    </a:lnTo>
                    <a:lnTo>
                      <a:pt x="4484" y="1752"/>
                    </a:lnTo>
                    <a:lnTo>
                      <a:pt x="4442" y="1794"/>
                    </a:lnTo>
                    <a:lnTo>
                      <a:pt x="4424" y="1794"/>
                    </a:lnTo>
                    <a:lnTo>
                      <a:pt x="4401" y="1812"/>
                    </a:lnTo>
                    <a:lnTo>
                      <a:pt x="4383" y="1812"/>
                    </a:lnTo>
                    <a:lnTo>
                      <a:pt x="4383" y="1836"/>
                    </a:lnTo>
                    <a:lnTo>
                      <a:pt x="4365" y="1836"/>
                    </a:lnTo>
                    <a:lnTo>
                      <a:pt x="4365" y="1854"/>
                    </a:lnTo>
                    <a:lnTo>
                      <a:pt x="4323" y="1854"/>
                    </a:lnTo>
                    <a:lnTo>
                      <a:pt x="4323" y="1896"/>
                    </a:lnTo>
                    <a:lnTo>
                      <a:pt x="4340" y="1896"/>
                    </a:lnTo>
                    <a:lnTo>
                      <a:pt x="4340" y="1914"/>
                    </a:lnTo>
                    <a:lnTo>
                      <a:pt x="4401" y="1914"/>
                    </a:lnTo>
                    <a:lnTo>
                      <a:pt x="4401" y="1932"/>
                    </a:lnTo>
                    <a:lnTo>
                      <a:pt x="4424" y="1932"/>
                    </a:lnTo>
                    <a:lnTo>
                      <a:pt x="4442" y="1955"/>
                    </a:lnTo>
                    <a:lnTo>
                      <a:pt x="4460" y="1955"/>
                    </a:lnTo>
                    <a:lnTo>
                      <a:pt x="4460" y="1973"/>
                    </a:lnTo>
                    <a:lnTo>
                      <a:pt x="4484" y="1973"/>
                    </a:lnTo>
                    <a:lnTo>
                      <a:pt x="4484" y="1991"/>
                    </a:lnTo>
                    <a:lnTo>
                      <a:pt x="4502" y="2015"/>
                    </a:lnTo>
                    <a:lnTo>
                      <a:pt x="4502" y="2033"/>
                    </a:lnTo>
                    <a:lnTo>
                      <a:pt x="4520" y="2051"/>
                    </a:lnTo>
                    <a:lnTo>
                      <a:pt x="4520" y="2092"/>
                    </a:lnTo>
                    <a:lnTo>
                      <a:pt x="4544" y="2092"/>
                    </a:lnTo>
                    <a:lnTo>
                      <a:pt x="4544" y="2135"/>
                    </a:lnTo>
                    <a:lnTo>
                      <a:pt x="4561" y="2135"/>
                    </a:lnTo>
                    <a:lnTo>
                      <a:pt x="4561" y="2171"/>
                    </a:lnTo>
                    <a:lnTo>
                      <a:pt x="4579" y="2194"/>
                    </a:lnTo>
                    <a:lnTo>
                      <a:pt x="4579" y="2213"/>
                    </a:lnTo>
                    <a:lnTo>
                      <a:pt x="4604" y="2231"/>
                    </a:lnTo>
                    <a:lnTo>
                      <a:pt x="4604" y="2272"/>
                    </a:lnTo>
                    <a:lnTo>
                      <a:pt x="4622" y="2272"/>
                    </a:lnTo>
                    <a:lnTo>
                      <a:pt x="4622" y="2315"/>
                    </a:lnTo>
                    <a:lnTo>
                      <a:pt x="4640" y="2332"/>
                    </a:lnTo>
                    <a:lnTo>
                      <a:pt x="4640" y="2350"/>
                    </a:lnTo>
                    <a:lnTo>
                      <a:pt x="4663" y="2374"/>
                    </a:lnTo>
                    <a:lnTo>
                      <a:pt x="4663" y="2409"/>
                    </a:lnTo>
                    <a:lnTo>
                      <a:pt x="4681" y="2434"/>
                    </a:lnTo>
                    <a:lnTo>
                      <a:pt x="4681" y="2470"/>
                    </a:lnTo>
                    <a:lnTo>
                      <a:pt x="4700" y="2470"/>
                    </a:lnTo>
                    <a:lnTo>
                      <a:pt x="4700" y="2529"/>
                    </a:lnTo>
                    <a:lnTo>
                      <a:pt x="4723" y="2553"/>
                    </a:lnTo>
                    <a:lnTo>
                      <a:pt x="4723" y="2571"/>
                    </a:lnTo>
                    <a:lnTo>
                      <a:pt x="4700" y="2571"/>
                    </a:lnTo>
                    <a:lnTo>
                      <a:pt x="4700" y="2553"/>
                    </a:lnTo>
                    <a:lnTo>
                      <a:pt x="4681" y="2553"/>
                    </a:lnTo>
                    <a:lnTo>
                      <a:pt x="4681" y="2529"/>
                    </a:lnTo>
                    <a:lnTo>
                      <a:pt x="4663" y="2529"/>
                    </a:lnTo>
                    <a:lnTo>
                      <a:pt x="4663" y="2511"/>
                    </a:lnTo>
                    <a:lnTo>
                      <a:pt x="4640" y="2511"/>
                    </a:lnTo>
                    <a:lnTo>
                      <a:pt x="4640" y="2493"/>
                    </a:lnTo>
                    <a:lnTo>
                      <a:pt x="4622" y="2470"/>
                    </a:lnTo>
                    <a:lnTo>
                      <a:pt x="4622" y="2452"/>
                    </a:lnTo>
                    <a:lnTo>
                      <a:pt x="4604" y="2452"/>
                    </a:lnTo>
                    <a:lnTo>
                      <a:pt x="4604" y="2434"/>
                    </a:lnTo>
                    <a:lnTo>
                      <a:pt x="4561" y="2392"/>
                    </a:lnTo>
                    <a:lnTo>
                      <a:pt x="4561" y="2374"/>
                    </a:lnTo>
                    <a:lnTo>
                      <a:pt x="4544" y="2374"/>
                    </a:lnTo>
                    <a:lnTo>
                      <a:pt x="4544" y="2350"/>
                    </a:lnTo>
                    <a:lnTo>
                      <a:pt x="4502" y="2315"/>
                    </a:lnTo>
                    <a:lnTo>
                      <a:pt x="4502" y="2290"/>
                    </a:lnTo>
                    <a:lnTo>
                      <a:pt x="4484" y="2290"/>
                    </a:lnTo>
                    <a:lnTo>
                      <a:pt x="4484" y="2272"/>
                    </a:lnTo>
                    <a:lnTo>
                      <a:pt x="4460" y="2272"/>
                    </a:lnTo>
                    <a:lnTo>
                      <a:pt x="4460" y="2254"/>
                    </a:lnTo>
                    <a:lnTo>
                      <a:pt x="4424" y="2213"/>
                    </a:lnTo>
                    <a:lnTo>
                      <a:pt x="4383" y="2171"/>
                    </a:lnTo>
                    <a:lnTo>
                      <a:pt x="4365" y="2153"/>
                    </a:lnTo>
                    <a:lnTo>
                      <a:pt x="4340" y="2153"/>
                    </a:lnTo>
                    <a:lnTo>
                      <a:pt x="4340" y="2135"/>
                    </a:lnTo>
                    <a:lnTo>
                      <a:pt x="4323" y="2135"/>
                    </a:lnTo>
                    <a:lnTo>
                      <a:pt x="4323" y="2111"/>
                    </a:lnTo>
                    <a:lnTo>
                      <a:pt x="4281" y="2111"/>
                    </a:lnTo>
                    <a:lnTo>
                      <a:pt x="4281" y="2092"/>
                    </a:lnTo>
                    <a:lnTo>
                      <a:pt x="4244" y="2092"/>
                    </a:lnTo>
                    <a:lnTo>
                      <a:pt x="4244" y="2075"/>
                    </a:lnTo>
                    <a:lnTo>
                      <a:pt x="4203" y="2075"/>
                    </a:lnTo>
                    <a:lnTo>
                      <a:pt x="4203" y="2051"/>
                    </a:lnTo>
                    <a:lnTo>
                      <a:pt x="4161" y="2051"/>
                    </a:lnTo>
                    <a:lnTo>
                      <a:pt x="4161" y="2033"/>
                    </a:lnTo>
                    <a:lnTo>
                      <a:pt x="4125" y="2033"/>
                    </a:lnTo>
                    <a:lnTo>
                      <a:pt x="4102" y="2015"/>
                    </a:lnTo>
                    <a:lnTo>
                      <a:pt x="4041" y="2015"/>
                    </a:lnTo>
                    <a:lnTo>
                      <a:pt x="4041" y="1991"/>
                    </a:lnTo>
                    <a:lnTo>
                      <a:pt x="4024" y="1991"/>
                    </a:lnTo>
                    <a:lnTo>
                      <a:pt x="4024" y="2015"/>
                    </a:lnTo>
                    <a:lnTo>
                      <a:pt x="4006" y="2015"/>
                    </a:lnTo>
                    <a:lnTo>
                      <a:pt x="4024" y="2033"/>
                    </a:lnTo>
                    <a:lnTo>
                      <a:pt x="4024" y="2051"/>
                    </a:lnTo>
                    <a:lnTo>
                      <a:pt x="4041" y="2051"/>
                    </a:lnTo>
                    <a:lnTo>
                      <a:pt x="4041" y="2075"/>
                    </a:lnTo>
                    <a:lnTo>
                      <a:pt x="4066" y="2075"/>
                    </a:lnTo>
                    <a:lnTo>
                      <a:pt x="4066" y="2092"/>
                    </a:lnTo>
                    <a:lnTo>
                      <a:pt x="4084" y="2111"/>
                    </a:lnTo>
                    <a:lnTo>
                      <a:pt x="4084" y="2135"/>
                    </a:lnTo>
                    <a:lnTo>
                      <a:pt x="4102" y="2135"/>
                    </a:lnTo>
                    <a:lnTo>
                      <a:pt x="4102" y="2153"/>
                    </a:lnTo>
                    <a:lnTo>
                      <a:pt x="4125" y="2153"/>
                    </a:lnTo>
                    <a:lnTo>
                      <a:pt x="4125" y="2171"/>
                    </a:lnTo>
                    <a:lnTo>
                      <a:pt x="4143" y="2194"/>
                    </a:lnTo>
                    <a:lnTo>
                      <a:pt x="4143" y="2213"/>
                    </a:lnTo>
                    <a:lnTo>
                      <a:pt x="4161" y="2213"/>
                    </a:lnTo>
                    <a:lnTo>
                      <a:pt x="4161" y="2231"/>
                    </a:lnTo>
                    <a:lnTo>
                      <a:pt x="4185" y="2254"/>
                    </a:lnTo>
                    <a:lnTo>
                      <a:pt x="4185" y="2272"/>
                    </a:lnTo>
                    <a:lnTo>
                      <a:pt x="4203" y="2290"/>
                    </a:lnTo>
                    <a:lnTo>
                      <a:pt x="4203" y="2332"/>
                    </a:lnTo>
                    <a:lnTo>
                      <a:pt x="4221" y="2332"/>
                    </a:lnTo>
                    <a:lnTo>
                      <a:pt x="4221" y="2374"/>
                    </a:lnTo>
                    <a:lnTo>
                      <a:pt x="4244" y="2374"/>
                    </a:lnTo>
                    <a:lnTo>
                      <a:pt x="4244" y="2409"/>
                    </a:lnTo>
                    <a:lnTo>
                      <a:pt x="4262" y="2434"/>
                    </a:lnTo>
                    <a:lnTo>
                      <a:pt x="4262" y="2470"/>
                    </a:lnTo>
                    <a:lnTo>
                      <a:pt x="4281" y="2493"/>
                    </a:lnTo>
                    <a:lnTo>
                      <a:pt x="4281" y="2511"/>
                    </a:lnTo>
                    <a:lnTo>
                      <a:pt x="4305" y="2529"/>
                    </a:lnTo>
                    <a:lnTo>
                      <a:pt x="4305" y="2589"/>
                    </a:lnTo>
                    <a:lnTo>
                      <a:pt x="4323" y="2614"/>
                    </a:lnTo>
                    <a:lnTo>
                      <a:pt x="4323" y="2649"/>
                    </a:lnTo>
                    <a:lnTo>
                      <a:pt x="4340" y="2673"/>
                    </a:lnTo>
                    <a:lnTo>
                      <a:pt x="4340" y="2769"/>
                    </a:lnTo>
                    <a:lnTo>
                      <a:pt x="4365" y="2792"/>
                    </a:lnTo>
                    <a:lnTo>
                      <a:pt x="4365" y="2828"/>
                    </a:lnTo>
                    <a:lnTo>
                      <a:pt x="4340" y="2852"/>
                    </a:lnTo>
                    <a:lnTo>
                      <a:pt x="4340" y="2972"/>
                    </a:lnTo>
                    <a:lnTo>
                      <a:pt x="4323" y="2972"/>
                    </a:lnTo>
                    <a:lnTo>
                      <a:pt x="4323" y="3032"/>
                    </a:lnTo>
                    <a:lnTo>
                      <a:pt x="4305" y="3050"/>
                    </a:lnTo>
                    <a:lnTo>
                      <a:pt x="4305" y="3109"/>
                    </a:lnTo>
                    <a:lnTo>
                      <a:pt x="4281" y="3109"/>
                    </a:lnTo>
                    <a:lnTo>
                      <a:pt x="4281" y="3152"/>
                    </a:lnTo>
                    <a:lnTo>
                      <a:pt x="4262" y="3152"/>
                    </a:lnTo>
                    <a:lnTo>
                      <a:pt x="4262" y="3187"/>
                    </a:lnTo>
                    <a:lnTo>
                      <a:pt x="4244" y="3187"/>
                    </a:lnTo>
                    <a:lnTo>
                      <a:pt x="4244" y="3008"/>
                    </a:lnTo>
                    <a:lnTo>
                      <a:pt x="4221" y="3008"/>
                    </a:lnTo>
                    <a:lnTo>
                      <a:pt x="4221" y="2929"/>
                    </a:lnTo>
                    <a:lnTo>
                      <a:pt x="4203" y="2929"/>
                    </a:lnTo>
                    <a:lnTo>
                      <a:pt x="4203" y="2888"/>
                    </a:lnTo>
                    <a:lnTo>
                      <a:pt x="4185" y="2870"/>
                    </a:lnTo>
                    <a:lnTo>
                      <a:pt x="4185" y="2852"/>
                    </a:lnTo>
                    <a:lnTo>
                      <a:pt x="4161" y="2828"/>
                    </a:lnTo>
                    <a:lnTo>
                      <a:pt x="4161" y="2810"/>
                    </a:lnTo>
                    <a:lnTo>
                      <a:pt x="4125" y="2769"/>
                    </a:lnTo>
                    <a:lnTo>
                      <a:pt x="4125" y="2751"/>
                    </a:lnTo>
                    <a:lnTo>
                      <a:pt x="4102" y="2733"/>
                    </a:lnTo>
                    <a:lnTo>
                      <a:pt x="4102" y="2708"/>
                    </a:lnTo>
                    <a:lnTo>
                      <a:pt x="4084" y="2691"/>
                    </a:lnTo>
                    <a:lnTo>
                      <a:pt x="4084" y="2673"/>
                    </a:lnTo>
                    <a:lnTo>
                      <a:pt x="4041" y="2631"/>
                    </a:lnTo>
                    <a:lnTo>
                      <a:pt x="4041" y="2614"/>
                    </a:lnTo>
                    <a:lnTo>
                      <a:pt x="4024" y="2589"/>
                    </a:lnTo>
                    <a:lnTo>
                      <a:pt x="4006" y="2553"/>
                    </a:lnTo>
                    <a:lnTo>
                      <a:pt x="4006" y="2529"/>
                    </a:lnTo>
                    <a:lnTo>
                      <a:pt x="3964" y="2493"/>
                    </a:lnTo>
                    <a:lnTo>
                      <a:pt x="3964" y="2470"/>
                    </a:lnTo>
                    <a:lnTo>
                      <a:pt x="3946" y="2452"/>
                    </a:lnTo>
                    <a:lnTo>
                      <a:pt x="3922" y="2409"/>
                    </a:lnTo>
                    <a:lnTo>
                      <a:pt x="3904" y="2392"/>
                    </a:lnTo>
                    <a:lnTo>
                      <a:pt x="3904" y="2374"/>
                    </a:lnTo>
                    <a:lnTo>
                      <a:pt x="3863" y="2332"/>
                    </a:lnTo>
                    <a:lnTo>
                      <a:pt x="3863" y="2315"/>
                    </a:lnTo>
                    <a:lnTo>
                      <a:pt x="3826" y="2272"/>
                    </a:lnTo>
                    <a:lnTo>
                      <a:pt x="3803" y="2231"/>
                    </a:lnTo>
                    <a:lnTo>
                      <a:pt x="3803" y="2213"/>
                    </a:lnTo>
                    <a:lnTo>
                      <a:pt x="3767" y="2171"/>
                    </a:lnTo>
                    <a:lnTo>
                      <a:pt x="3767" y="2153"/>
                    </a:lnTo>
                    <a:lnTo>
                      <a:pt x="3742" y="2153"/>
                    </a:lnTo>
                    <a:lnTo>
                      <a:pt x="3724" y="2135"/>
                    </a:lnTo>
                    <a:lnTo>
                      <a:pt x="3724" y="2111"/>
                    </a:lnTo>
                    <a:lnTo>
                      <a:pt x="3707" y="2092"/>
                    </a:lnTo>
                    <a:lnTo>
                      <a:pt x="3707" y="2075"/>
                    </a:lnTo>
                    <a:lnTo>
                      <a:pt x="3683" y="2075"/>
                    </a:lnTo>
                    <a:lnTo>
                      <a:pt x="3647" y="2033"/>
                    </a:lnTo>
                    <a:lnTo>
                      <a:pt x="3605" y="1991"/>
                    </a:lnTo>
                    <a:lnTo>
                      <a:pt x="3587" y="1991"/>
                    </a:lnTo>
                    <a:lnTo>
                      <a:pt x="3587" y="2015"/>
                    </a:lnTo>
                    <a:lnTo>
                      <a:pt x="3564" y="2015"/>
                    </a:lnTo>
                    <a:lnTo>
                      <a:pt x="3564" y="2075"/>
                    </a:lnTo>
                    <a:lnTo>
                      <a:pt x="3546" y="2075"/>
                    </a:lnTo>
                    <a:lnTo>
                      <a:pt x="3546" y="2529"/>
                    </a:lnTo>
                    <a:lnTo>
                      <a:pt x="3528" y="2529"/>
                    </a:lnTo>
                    <a:lnTo>
                      <a:pt x="3528" y="2691"/>
                    </a:lnTo>
                    <a:lnTo>
                      <a:pt x="3503" y="2708"/>
                    </a:lnTo>
                    <a:lnTo>
                      <a:pt x="3503" y="2888"/>
                    </a:lnTo>
                    <a:lnTo>
                      <a:pt x="3486" y="2888"/>
                    </a:lnTo>
                    <a:lnTo>
                      <a:pt x="3486" y="2912"/>
                    </a:lnTo>
                    <a:lnTo>
                      <a:pt x="3468" y="2888"/>
                    </a:lnTo>
                    <a:lnTo>
                      <a:pt x="3468" y="2589"/>
                    </a:lnTo>
                    <a:lnTo>
                      <a:pt x="3444" y="2571"/>
                    </a:lnTo>
                    <a:lnTo>
                      <a:pt x="3444" y="2231"/>
                    </a:lnTo>
                    <a:lnTo>
                      <a:pt x="3425" y="2213"/>
                    </a:lnTo>
                    <a:lnTo>
                      <a:pt x="3425" y="2092"/>
                    </a:lnTo>
                    <a:lnTo>
                      <a:pt x="3407" y="2075"/>
                    </a:lnTo>
                    <a:lnTo>
                      <a:pt x="3407" y="2015"/>
                    </a:lnTo>
                    <a:lnTo>
                      <a:pt x="3384" y="2015"/>
                    </a:lnTo>
                    <a:lnTo>
                      <a:pt x="3384" y="1991"/>
                    </a:lnTo>
                    <a:lnTo>
                      <a:pt x="3366" y="1973"/>
                    </a:lnTo>
                    <a:lnTo>
                      <a:pt x="3324" y="1973"/>
                    </a:lnTo>
                    <a:lnTo>
                      <a:pt x="3288" y="2015"/>
                    </a:lnTo>
                    <a:lnTo>
                      <a:pt x="3265" y="2015"/>
                    </a:lnTo>
                    <a:lnTo>
                      <a:pt x="3265" y="2033"/>
                    </a:lnTo>
                    <a:lnTo>
                      <a:pt x="3247" y="2033"/>
                    </a:lnTo>
                    <a:lnTo>
                      <a:pt x="3247" y="2051"/>
                    </a:lnTo>
                    <a:lnTo>
                      <a:pt x="3229" y="2051"/>
                    </a:lnTo>
                    <a:lnTo>
                      <a:pt x="3229" y="2075"/>
                    </a:lnTo>
                    <a:lnTo>
                      <a:pt x="3204" y="2075"/>
                    </a:lnTo>
                    <a:lnTo>
                      <a:pt x="3204" y="2092"/>
                    </a:lnTo>
                    <a:lnTo>
                      <a:pt x="3169" y="2135"/>
                    </a:lnTo>
                    <a:lnTo>
                      <a:pt x="3169" y="2153"/>
                    </a:lnTo>
                    <a:lnTo>
                      <a:pt x="3127" y="2194"/>
                    </a:lnTo>
                    <a:lnTo>
                      <a:pt x="3127" y="2213"/>
                    </a:lnTo>
                    <a:lnTo>
                      <a:pt x="3085" y="2254"/>
                    </a:lnTo>
                    <a:lnTo>
                      <a:pt x="3085" y="2272"/>
                    </a:lnTo>
                    <a:lnTo>
                      <a:pt x="3049" y="2315"/>
                    </a:lnTo>
                    <a:lnTo>
                      <a:pt x="3026" y="2332"/>
                    </a:lnTo>
                    <a:lnTo>
                      <a:pt x="3026" y="2350"/>
                    </a:lnTo>
                    <a:lnTo>
                      <a:pt x="3007" y="2374"/>
                    </a:lnTo>
                    <a:lnTo>
                      <a:pt x="3007" y="2392"/>
                    </a:lnTo>
                    <a:lnTo>
                      <a:pt x="2989" y="2392"/>
                    </a:lnTo>
                    <a:lnTo>
                      <a:pt x="2989" y="2409"/>
                    </a:lnTo>
                    <a:lnTo>
                      <a:pt x="2965" y="2434"/>
                    </a:lnTo>
                    <a:lnTo>
                      <a:pt x="2965" y="2452"/>
                    </a:lnTo>
                    <a:lnTo>
                      <a:pt x="2948" y="2452"/>
                    </a:lnTo>
                    <a:lnTo>
                      <a:pt x="2948" y="2493"/>
                    </a:lnTo>
                    <a:lnTo>
                      <a:pt x="2930" y="2493"/>
                    </a:lnTo>
                    <a:lnTo>
                      <a:pt x="2905" y="2511"/>
                    </a:lnTo>
                    <a:lnTo>
                      <a:pt x="2905" y="2529"/>
                    </a:lnTo>
                    <a:lnTo>
                      <a:pt x="2887" y="2553"/>
                    </a:lnTo>
                    <a:lnTo>
                      <a:pt x="2887" y="2571"/>
                    </a:lnTo>
                    <a:lnTo>
                      <a:pt x="2870" y="2589"/>
                    </a:lnTo>
                    <a:lnTo>
                      <a:pt x="2870" y="2614"/>
                    </a:lnTo>
                    <a:lnTo>
                      <a:pt x="2828" y="2649"/>
                    </a:lnTo>
                    <a:lnTo>
                      <a:pt x="2828" y="2673"/>
                    </a:lnTo>
                    <a:lnTo>
                      <a:pt x="2810" y="2691"/>
                    </a:lnTo>
                    <a:lnTo>
                      <a:pt x="2786" y="2733"/>
                    </a:lnTo>
                    <a:lnTo>
                      <a:pt x="2786" y="2751"/>
                    </a:lnTo>
                    <a:lnTo>
                      <a:pt x="2750" y="2792"/>
                    </a:lnTo>
                    <a:lnTo>
                      <a:pt x="2750" y="2810"/>
                    </a:lnTo>
                    <a:lnTo>
                      <a:pt x="2727" y="2852"/>
                    </a:lnTo>
                    <a:lnTo>
                      <a:pt x="2709" y="2870"/>
                    </a:lnTo>
                    <a:lnTo>
                      <a:pt x="2709" y="2888"/>
                    </a:lnTo>
                    <a:lnTo>
                      <a:pt x="2691" y="2929"/>
                    </a:lnTo>
                    <a:lnTo>
                      <a:pt x="2666" y="2948"/>
                    </a:lnTo>
                    <a:lnTo>
                      <a:pt x="2666" y="2972"/>
                    </a:lnTo>
                    <a:lnTo>
                      <a:pt x="2631" y="3008"/>
                    </a:lnTo>
                    <a:lnTo>
                      <a:pt x="2631" y="3050"/>
                    </a:lnTo>
                    <a:lnTo>
                      <a:pt x="2588" y="3091"/>
                    </a:lnTo>
                    <a:lnTo>
                      <a:pt x="2588" y="3109"/>
                    </a:lnTo>
                    <a:lnTo>
                      <a:pt x="2570" y="3127"/>
                    </a:lnTo>
                    <a:lnTo>
                      <a:pt x="2570" y="3152"/>
                    </a:lnTo>
                    <a:lnTo>
                      <a:pt x="2547" y="3169"/>
                    </a:lnTo>
                    <a:lnTo>
                      <a:pt x="2547" y="3187"/>
                    </a:lnTo>
                    <a:lnTo>
                      <a:pt x="2511" y="3229"/>
                    </a:lnTo>
                    <a:lnTo>
                      <a:pt x="2511" y="3246"/>
                    </a:lnTo>
                    <a:lnTo>
                      <a:pt x="2487" y="3246"/>
                    </a:lnTo>
                    <a:lnTo>
                      <a:pt x="2487" y="3289"/>
                    </a:lnTo>
                    <a:lnTo>
                      <a:pt x="2469" y="3289"/>
                    </a:lnTo>
                    <a:lnTo>
                      <a:pt x="2469" y="3211"/>
                    </a:lnTo>
                    <a:lnTo>
                      <a:pt x="2487" y="3187"/>
                    </a:lnTo>
                    <a:lnTo>
                      <a:pt x="2487" y="3152"/>
                    </a:lnTo>
                    <a:lnTo>
                      <a:pt x="2511" y="3109"/>
                    </a:lnTo>
                    <a:lnTo>
                      <a:pt x="2511" y="3091"/>
                    </a:lnTo>
                    <a:lnTo>
                      <a:pt x="2529" y="3050"/>
                    </a:lnTo>
                    <a:lnTo>
                      <a:pt x="2547" y="3032"/>
                    </a:lnTo>
                    <a:lnTo>
                      <a:pt x="2547" y="2990"/>
                    </a:lnTo>
                    <a:lnTo>
                      <a:pt x="2570" y="2948"/>
                    </a:lnTo>
                    <a:lnTo>
                      <a:pt x="2570" y="2912"/>
                    </a:lnTo>
                    <a:lnTo>
                      <a:pt x="2588" y="2888"/>
                    </a:lnTo>
                    <a:lnTo>
                      <a:pt x="2631" y="2810"/>
                    </a:lnTo>
                    <a:lnTo>
                      <a:pt x="2631" y="2769"/>
                    </a:lnTo>
                    <a:lnTo>
                      <a:pt x="2666" y="2691"/>
                    </a:lnTo>
                    <a:lnTo>
                      <a:pt x="2691" y="2649"/>
                    </a:lnTo>
                    <a:lnTo>
                      <a:pt x="2691" y="2614"/>
                    </a:lnTo>
                    <a:lnTo>
                      <a:pt x="2709" y="2553"/>
                    </a:lnTo>
                    <a:lnTo>
                      <a:pt x="2750" y="2470"/>
                    </a:lnTo>
                    <a:lnTo>
                      <a:pt x="2768" y="2434"/>
                    </a:lnTo>
                    <a:lnTo>
                      <a:pt x="2768" y="2392"/>
                    </a:lnTo>
                    <a:lnTo>
                      <a:pt x="2810" y="2315"/>
                    </a:lnTo>
                    <a:lnTo>
                      <a:pt x="2810" y="2272"/>
                    </a:lnTo>
                    <a:lnTo>
                      <a:pt x="2828" y="2231"/>
                    </a:lnTo>
                    <a:lnTo>
                      <a:pt x="2828" y="2194"/>
                    </a:lnTo>
                    <a:lnTo>
                      <a:pt x="2846" y="2153"/>
                    </a:lnTo>
                    <a:lnTo>
                      <a:pt x="2870" y="2135"/>
                    </a:lnTo>
                    <a:lnTo>
                      <a:pt x="2870" y="2051"/>
                    </a:lnTo>
                    <a:lnTo>
                      <a:pt x="2887" y="2033"/>
                    </a:lnTo>
                    <a:lnTo>
                      <a:pt x="2887" y="1973"/>
                    </a:lnTo>
                    <a:lnTo>
                      <a:pt x="2905" y="1955"/>
                    </a:lnTo>
                    <a:lnTo>
                      <a:pt x="2905" y="1854"/>
                    </a:lnTo>
                    <a:lnTo>
                      <a:pt x="2887" y="1836"/>
                    </a:lnTo>
                    <a:lnTo>
                      <a:pt x="2887" y="1812"/>
                    </a:lnTo>
                    <a:lnTo>
                      <a:pt x="2870" y="1812"/>
                    </a:lnTo>
                    <a:lnTo>
                      <a:pt x="2846" y="1794"/>
                    </a:lnTo>
                    <a:lnTo>
                      <a:pt x="2786" y="1794"/>
                    </a:lnTo>
                    <a:lnTo>
                      <a:pt x="2768" y="1812"/>
                    </a:lnTo>
                    <a:lnTo>
                      <a:pt x="2709" y="1812"/>
                    </a:lnTo>
                    <a:lnTo>
                      <a:pt x="2691" y="1836"/>
                    </a:lnTo>
                    <a:lnTo>
                      <a:pt x="2666" y="1836"/>
                    </a:lnTo>
                    <a:lnTo>
                      <a:pt x="2649" y="1854"/>
                    </a:lnTo>
                    <a:lnTo>
                      <a:pt x="2631" y="1854"/>
                    </a:lnTo>
                    <a:lnTo>
                      <a:pt x="2607" y="1871"/>
                    </a:lnTo>
                    <a:lnTo>
                      <a:pt x="2588" y="1871"/>
                    </a:lnTo>
                    <a:lnTo>
                      <a:pt x="2570" y="1896"/>
                    </a:lnTo>
                    <a:lnTo>
                      <a:pt x="2547" y="1896"/>
                    </a:lnTo>
                    <a:lnTo>
                      <a:pt x="2529" y="1914"/>
                    </a:lnTo>
                    <a:lnTo>
                      <a:pt x="2487" y="1932"/>
                    </a:lnTo>
                    <a:lnTo>
                      <a:pt x="2469" y="1932"/>
                    </a:lnTo>
                    <a:lnTo>
                      <a:pt x="2428" y="1973"/>
                    </a:lnTo>
                    <a:lnTo>
                      <a:pt x="2410" y="1973"/>
                    </a:lnTo>
                    <a:lnTo>
                      <a:pt x="2367" y="1991"/>
                    </a:lnTo>
                    <a:lnTo>
                      <a:pt x="2349" y="2015"/>
                    </a:lnTo>
                    <a:lnTo>
                      <a:pt x="2332" y="2015"/>
                    </a:lnTo>
                    <a:lnTo>
                      <a:pt x="2290" y="2051"/>
                    </a:lnTo>
                    <a:lnTo>
                      <a:pt x="2272" y="2051"/>
                    </a:lnTo>
                    <a:lnTo>
                      <a:pt x="2248" y="2075"/>
                    </a:lnTo>
                    <a:lnTo>
                      <a:pt x="2212" y="2092"/>
                    </a:lnTo>
                    <a:lnTo>
                      <a:pt x="2189" y="2092"/>
                    </a:lnTo>
                    <a:lnTo>
                      <a:pt x="2170" y="2111"/>
                    </a:lnTo>
                    <a:lnTo>
                      <a:pt x="2152" y="2111"/>
                    </a:lnTo>
                    <a:lnTo>
                      <a:pt x="2152" y="2135"/>
                    </a:lnTo>
                    <a:lnTo>
                      <a:pt x="2128" y="2135"/>
                    </a:lnTo>
                    <a:lnTo>
                      <a:pt x="2111" y="2153"/>
                    </a:lnTo>
                    <a:lnTo>
                      <a:pt x="2093" y="2153"/>
                    </a:lnTo>
                    <a:lnTo>
                      <a:pt x="2068" y="2171"/>
                    </a:lnTo>
                    <a:lnTo>
                      <a:pt x="2050" y="2171"/>
                    </a:lnTo>
                    <a:lnTo>
                      <a:pt x="2050" y="2194"/>
                    </a:lnTo>
                    <a:lnTo>
                      <a:pt x="2009" y="2194"/>
                    </a:lnTo>
                    <a:lnTo>
                      <a:pt x="1991" y="2213"/>
                    </a:lnTo>
                    <a:lnTo>
                      <a:pt x="1949" y="2213"/>
                    </a:lnTo>
                    <a:lnTo>
                      <a:pt x="1949" y="2231"/>
                    </a:lnTo>
                    <a:lnTo>
                      <a:pt x="1913" y="2231"/>
                    </a:lnTo>
                    <a:lnTo>
                      <a:pt x="1913" y="2254"/>
                    </a:lnTo>
                    <a:lnTo>
                      <a:pt x="1890" y="2254"/>
                    </a:lnTo>
                    <a:lnTo>
                      <a:pt x="1872" y="2272"/>
                    </a:lnTo>
                    <a:lnTo>
                      <a:pt x="1854" y="2272"/>
                    </a:lnTo>
                    <a:lnTo>
                      <a:pt x="1854" y="2290"/>
                    </a:lnTo>
                    <a:lnTo>
                      <a:pt x="1812" y="2290"/>
                    </a:lnTo>
                    <a:lnTo>
                      <a:pt x="1812" y="2315"/>
                    </a:lnTo>
                    <a:lnTo>
                      <a:pt x="1794" y="2315"/>
                    </a:lnTo>
                    <a:lnTo>
                      <a:pt x="1770" y="2332"/>
                    </a:lnTo>
                    <a:lnTo>
                      <a:pt x="1770" y="2315"/>
                    </a:lnTo>
                    <a:lnTo>
                      <a:pt x="1794" y="2315"/>
                    </a:lnTo>
                    <a:lnTo>
                      <a:pt x="1794" y="2290"/>
                    </a:lnTo>
                    <a:lnTo>
                      <a:pt x="1812" y="2272"/>
                    </a:lnTo>
                    <a:lnTo>
                      <a:pt x="1829" y="2272"/>
                    </a:lnTo>
                    <a:lnTo>
                      <a:pt x="1829" y="2254"/>
                    </a:lnTo>
                    <a:lnTo>
                      <a:pt x="1854" y="2231"/>
                    </a:lnTo>
                    <a:lnTo>
                      <a:pt x="1872" y="2231"/>
                    </a:lnTo>
                    <a:lnTo>
                      <a:pt x="1913" y="2194"/>
                    </a:lnTo>
                    <a:lnTo>
                      <a:pt x="1949" y="2153"/>
                    </a:lnTo>
                    <a:lnTo>
                      <a:pt x="1973" y="2153"/>
                    </a:lnTo>
                    <a:lnTo>
                      <a:pt x="2009" y="2111"/>
                    </a:lnTo>
                    <a:lnTo>
                      <a:pt x="2032" y="2092"/>
                    </a:lnTo>
                    <a:lnTo>
                      <a:pt x="2050" y="2092"/>
                    </a:lnTo>
                    <a:lnTo>
                      <a:pt x="2093" y="2075"/>
                    </a:lnTo>
                    <a:lnTo>
                      <a:pt x="2128" y="2033"/>
                    </a:lnTo>
                    <a:lnTo>
                      <a:pt x="2170" y="1991"/>
                    </a:lnTo>
                    <a:lnTo>
                      <a:pt x="2189" y="1973"/>
                    </a:lnTo>
                    <a:lnTo>
                      <a:pt x="2212" y="1973"/>
                    </a:lnTo>
                    <a:lnTo>
                      <a:pt x="2248" y="1932"/>
                    </a:lnTo>
                    <a:lnTo>
                      <a:pt x="2290" y="1896"/>
                    </a:lnTo>
                    <a:lnTo>
                      <a:pt x="2332" y="1854"/>
                    </a:lnTo>
                    <a:lnTo>
                      <a:pt x="2349" y="1854"/>
                    </a:lnTo>
                    <a:lnTo>
                      <a:pt x="2392" y="1812"/>
                    </a:lnTo>
                    <a:lnTo>
                      <a:pt x="2392" y="1794"/>
                    </a:lnTo>
                    <a:lnTo>
                      <a:pt x="2410" y="1794"/>
                    </a:lnTo>
                    <a:lnTo>
                      <a:pt x="2428" y="1777"/>
                    </a:lnTo>
                    <a:lnTo>
                      <a:pt x="2428" y="1752"/>
                    </a:lnTo>
                    <a:lnTo>
                      <a:pt x="2451" y="1752"/>
                    </a:lnTo>
                    <a:lnTo>
                      <a:pt x="2451" y="1734"/>
                    </a:lnTo>
                    <a:lnTo>
                      <a:pt x="2469" y="1716"/>
                    </a:lnTo>
                    <a:lnTo>
                      <a:pt x="2469" y="1692"/>
                    </a:lnTo>
                    <a:lnTo>
                      <a:pt x="2451" y="1674"/>
                    </a:lnTo>
                    <a:lnTo>
                      <a:pt x="2392" y="1674"/>
                    </a:lnTo>
                    <a:lnTo>
                      <a:pt x="2367" y="1656"/>
                    </a:lnTo>
                    <a:lnTo>
                      <a:pt x="2349" y="1674"/>
                    </a:lnTo>
                    <a:lnTo>
                      <a:pt x="2170" y="1674"/>
                    </a:lnTo>
                    <a:lnTo>
                      <a:pt x="2152" y="1692"/>
                    </a:lnTo>
                    <a:lnTo>
                      <a:pt x="2068" y="1692"/>
                    </a:lnTo>
                    <a:lnTo>
                      <a:pt x="2050" y="1716"/>
                    </a:lnTo>
                    <a:lnTo>
                      <a:pt x="1949" y="1716"/>
                    </a:lnTo>
                    <a:lnTo>
                      <a:pt x="1931" y="1734"/>
                    </a:lnTo>
                    <a:lnTo>
                      <a:pt x="1829" y="1734"/>
                    </a:lnTo>
                    <a:lnTo>
                      <a:pt x="1794" y="1752"/>
                    </a:lnTo>
                    <a:lnTo>
                      <a:pt x="1733" y="1752"/>
                    </a:lnTo>
                    <a:lnTo>
                      <a:pt x="1710" y="1777"/>
                    </a:lnTo>
                    <a:lnTo>
                      <a:pt x="1573" y="1777"/>
                    </a:lnTo>
                    <a:lnTo>
                      <a:pt x="1555" y="1794"/>
                    </a:lnTo>
                    <a:lnTo>
                      <a:pt x="1315" y="1794"/>
                    </a:lnTo>
                    <a:lnTo>
                      <a:pt x="1315" y="1812"/>
                    </a:lnTo>
                    <a:lnTo>
                      <a:pt x="1274" y="1794"/>
                    </a:lnTo>
                    <a:lnTo>
                      <a:pt x="873" y="1794"/>
                    </a:lnTo>
                    <a:lnTo>
                      <a:pt x="837" y="1777"/>
                    </a:lnTo>
                    <a:lnTo>
                      <a:pt x="616" y="1777"/>
                    </a:lnTo>
                    <a:lnTo>
                      <a:pt x="579" y="1752"/>
                    </a:lnTo>
                    <a:lnTo>
                      <a:pt x="401" y="1752"/>
                    </a:lnTo>
                    <a:lnTo>
                      <a:pt x="358" y="1734"/>
                    </a:lnTo>
                    <a:lnTo>
                      <a:pt x="239" y="1734"/>
                    </a:lnTo>
                    <a:lnTo>
                      <a:pt x="221" y="1716"/>
                    </a:lnTo>
                    <a:lnTo>
                      <a:pt x="77" y="1716"/>
                    </a:lnTo>
                    <a:lnTo>
                      <a:pt x="59" y="1692"/>
                    </a:lnTo>
                    <a:lnTo>
                      <a:pt x="0" y="1692"/>
                    </a:lnTo>
                    <a:lnTo>
                      <a:pt x="0" y="1674"/>
                    </a:lnTo>
                    <a:lnTo>
                      <a:pt x="957" y="1674"/>
                    </a:lnTo>
                    <a:lnTo>
                      <a:pt x="992" y="1656"/>
                    </a:lnTo>
                    <a:lnTo>
                      <a:pt x="1315" y="1656"/>
                    </a:lnTo>
                    <a:lnTo>
                      <a:pt x="1333" y="1633"/>
                    </a:lnTo>
                    <a:lnTo>
                      <a:pt x="1471" y="1633"/>
                    </a:lnTo>
                    <a:lnTo>
                      <a:pt x="1495" y="1615"/>
                    </a:lnTo>
                    <a:lnTo>
                      <a:pt x="1614" y="1615"/>
                    </a:lnTo>
                    <a:lnTo>
                      <a:pt x="1650" y="1597"/>
                    </a:lnTo>
                    <a:lnTo>
                      <a:pt x="1733" y="1597"/>
                    </a:lnTo>
                    <a:lnTo>
                      <a:pt x="1770" y="1572"/>
                    </a:lnTo>
                    <a:lnTo>
                      <a:pt x="1872" y="1572"/>
                    </a:lnTo>
                    <a:lnTo>
                      <a:pt x="1913" y="1555"/>
                    </a:lnTo>
                    <a:lnTo>
                      <a:pt x="1973" y="1555"/>
                    </a:lnTo>
                    <a:lnTo>
                      <a:pt x="1991" y="1537"/>
                    </a:lnTo>
                    <a:lnTo>
                      <a:pt x="2068" y="1537"/>
                    </a:lnTo>
                    <a:lnTo>
                      <a:pt x="2093" y="1513"/>
                    </a:lnTo>
                    <a:lnTo>
                      <a:pt x="2170" y="1513"/>
                    </a:lnTo>
                    <a:lnTo>
                      <a:pt x="2189" y="1495"/>
                    </a:lnTo>
                    <a:lnTo>
                      <a:pt x="2248" y="1495"/>
                    </a:lnTo>
                    <a:lnTo>
                      <a:pt x="2272" y="1478"/>
                    </a:lnTo>
                    <a:lnTo>
                      <a:pt x="2308" y="1478"/>
                    </a:lnTo>
                    <a:lnTo>
                      <a:pt x="2332" y="1453"/>
                    </a:lnTo>
                    <a:lnTo>
                      <a:pt x="2367" y="1453"/>
                    </a:lnTo>
                    <a:lnTo>
                      <a:pt x="2392" y="1435"/>
                    </a:lnTo>
                    <a:lnTo>
                      <a:pt x="2410" y="1435"/>
                    </a:lnTo>
                    <a:lnTo>
                      <a:pt x="2428" y="1417"/>
                    </a:lnTo>
                    <a:lnTo>
                      <a:pt x="2469" y="1417"/>
                    </a:lnTo>
                    <a:lnTo>
                      <a:pt x="2469" y="1394"/>
                    </a:lnTo>
                    <a:lnTo>
                      <a:pt x="2487" y="1376"/>
                    </a:lnTo>
                    <a:lnTo>
                      <a:pt x="2511" y="1376"/>
                    </a:lnTo>
                    <a:lnTo>
                      <a:pt x="2511" y="1255"/>
                    </a:lnTo>
                    <a:lnTo>
                      <a:pt x="2487" y="1238"/>
                    </a:lnTo>
                    <a:lnTo>
                      <a:pt x="2487" y="1214"/>
                    </a:lnTo>
                    <a:lnTo>
                      <a:pt x="2469" y="1196"/>
                    </a:lnTo>
                    <a:lnTo>
                      <a:pt x="2469" y="1178"/>
                    </a:lnTo>
                    <a:lnTo>
                      <a:pt x="2451" y="1178"/>
                    </a:lnTo>
                    <a:lnTo>
                      <a:pt x="2451" y="1154"/>
                    </a:lnTo>
                    <a:lnTo>
                      <a:pt x="2428" y="1136"/>
                    </a:lnTo>
                    <a:lnTo>
                      <a:pt x="2428" y="1118"/>
                    </a:lnTo>
                    <a:lnTo>
                      <a:pt x="2410" y="1118"/>
                    </a:lnTo>
                    <a:lnTo>
                      <a:pt x="2410" y="1095"/>
                    </a:lnTo>
                    <a:lnTo>
                      <a:pt x="2392" y="1095"/>
                    </a:lnTo>
                    <a:lnTo>
                      <a:pt x="2392" y="1077"/>
                    </a:lnTo>
                    <a:lnTo>
                      <a:pt x="2367" y="1059"/>
                    </a:lnTo>
                    <a:lnTo>
                      <a:pt x="2367" y="1034"/>
                    </a:lnTo>
                    <a:lnTo>
                      <a:pt x="2349" y="1034"/>
                    </a:lnTo>
                    <a:lnTo>
                      <a:pt x="2349" y="999"/>
                    </a:lnTo>
                    <a:lnTo>
                      <a:pt x="2332" y="975"/>
                    </a:lnTo>
                    <a:lnTo>
                      <a:pt x="2332" y="915"/>
                    </a:lnTo>
                    <a:lnTo>
                      <a:pt x="2349" y="897"/>
                    </a:lnTo>
                    <a:lnTo>
                      <a:pt x="2349" y="837"/>
                    </a:lnTo>
                    <a:lnTo>
                      <a:pt x="2367" y="837"/>
                    </a:lnTo>
                    <a:lnTo>
                      <a:pt x="2367" y="819"/>
                    </a:lnTo>
                    <a:lnTo>
                      <a:pt x="2392" y="819"/>
                    </a:lnTo>
                    <a:lnTo>
                      <a:pt x="2392" y="837"/>
                    </a:lnTo>
                    <a:lnTo>
                      <a:pt x="2410" y="837"/>
                    </a:lnTo>
                    <a:lnTo>
                      <a:pt x="2451" y="879"/>
                    </a:lnTo>
                    <a:lnTo>
                      <a:pt x="2451" y="897"/>
                    </a:lnTo>
                    <a:lnTo>
                      <a:pt x="2469" y="897"/>
                    </a:lnTo>
                    <a:lnTo>
                      <a:pt x="2469" y="915"/>
                    </a:lnTo>
                    <a:lnTo>
                      <a:pt x="2487" y="940"/>
                    </a:lnTo>
                    <a:lnTo>
                      <a:pt x="2487" y="957"/>
                    </a:lnTo>
                    <a:lnTo>
                      <a:pt x="2511" y="975"/>
                    </a:lnTo>
                    <a:lnTo>
                      <a:pt x="2511" y="999"/>
                    </a:lnTo>
                    <a:lnTo>
                      <a:pt x="2547" y="1034"/>
                    </a:lnTo>
                    <a:lnTo>
                      <a:pt x="2547" y="1059"/>
                    </a:lnTo>
                    <a:lnTo>
                      <a:pt x="2570" y="1077"/>
                    </a:lnTo>
                    <a:lnTo>
                      <a:pt x="2570" y="1095"/>
                    </a:lnTo>
                    <a:lnTo>
                      <a:pt x="2588" y="1118"/>
                    </a:lnTo>
                    <a:lnTo>
                      <a:pt x="2588" y="1136"/>
                    </a:lnTo>
                    <a:lnTo>
                      <a:pt x="2631" y="1178"/>
                    </a:lnTo>
                    <a:lnTo>
                      <a:pt x="2631" y="1196"/>
                    </a:lnTo>
                    <a:lnTo>
                      <a:pt x="2649" y="1214"/>
                    </a:lnTo>
                    <a:lnTo>
                      <a:pt x="2649" y="1238"/>
                    </a:lnTo>
                    <a:lnTo>
                      <a:pt x="2666" y="1255"/>
                    </a:lnTo>
                    <a:lnTo>
                      <a:pt x="2666" y="1273"/>
                    </a:lnTo>
                    <a:lnTo>
                      <a:pt x="2691" y="1273"/>
                    </a:lnTo>
                    <a:lnTo>
                      <a:pt x="2691" y="1298"/>
                    </a:lnTo>
                    <a:lnTo>
                      <a:pt x="2709" y="1316"/>
                    </a:lnTo>
                    <a:lnTo>
                      <a:pt x="2709" y="1334"/>
                    </a:lnTo>
                    <a:lnTo>
                      <a:pt x="2727" y="1334"/>
                    </a:lnTo>
                    <a:lnTo>
                      <a:pt x="2727" y="1357"/>
                    </a:lnTo>
                    <a:lnTo>
                      <a:pt x="2750" y="1357"/>
                    </a:lnTo>
                    <a:lnTo>
                      <a:pt x="2750" y="1376"/>
                    </a:lnTo>
                    <a:lnTo>
                      <a:pt x="2786" y="1417"/>
                    </a:lnTo>
                    <a:lnTo>
                      <a:pt x="2810" y="1435"/>
                    </a:lnTo>
                    <a:lnTo>
                      <a:pt x="2828" y="1435"/>
                    </a:lnTo>
                    <a:lnTo>
                      <a:pt x="2828" y="1453"/>
                    </a:lnTo>
                    <a:lnTo>
                      <a:pt x="2846" y="1453"/>
                    </a:lnTo>
                    <a:lnTo>
                      <a:pt x="2846" y="1478"/>
                    </a:lnTo>
                    <a:lnTo>
                      <a:pt x="2887" y="1478"/>
                    </a:lnTo>
                    <a:lnTo>
                      <a:pt x="2887" y="1495"/>
                    </a:lnTo>
                    <a:lnTo>
                      <a:pt x="2965" y="1495"/>
                    </a:lnTo>
                    <a:lnTo>
                      <a:pt x="2965" y="1478"/>
                    </a:lnTo>
                    <a:lnTo>
                      <a:pt x="2989" y="1478"/>
                    </a:lnTo>
                    <a:lnTo>
                      <a:pt x="2989" y="1435"/>
                    </a:lnTo>
                    <a:lnTo>
                      <a:pt x="3007" y="1435"/>
                    </a:lnTo>
                    <a:lnTo>
                      <a:pt x="3007" y="1357"/>
                    </a:lnTo>
                    <a:lnTo>
                      <a:pt x="3026" y="1357"/>
                    </a:lnTo>
                    <a:lnTo>
                      <a:pt x="3026" y="1118"/>
                    </a:lnTo>
                    <a:lnTo>
                      <a:pt x="3007" y="1095"/>
                    </a:lnTo>
                    <a:lnTo>
                      <a:pt x="3007" y="879"/>
                    </a:lnTo>
                    <a:lnTo>
                      <a:pt x="2989" y="837"/>
                    </a:lnTo>
                    <a:lnTo>
                      <a:pt x="2989" y="616"/>
                    </a:lnTo>
                    <a:lnTo>
                      <a:pt x="2965" y="580"/>
                    </a:lnTo>
                    <a:lnTo>
                      <a:pt x="2965" y="359"/>
                    </a:lnTo>
                    <a:lnTo>
                      <a:pt x="2948" y="317"/>
                    </a:lnTo>
                    <a:lnTo>
                      <a:pt x="2948" y="0"/>
                    </a:lnTo>
                    <a:lnTo>
                      <a:pt x="2965" y="0"/>
                    </a:lnTo>
                    <a:lnTo>
                      <a:pt x="2965" y="19"/>
                    </a:lnTo>
                    <a:lnTo>
                      <a:pt x="2989" y="42"/>
                    </a:lnTo>
                    <a:lnTo>
                      <a:pt x="2989" y="78"/>
                    </a:lnTo>
                    <a:lnTo>
                      <a:pt x="3007" y="101"/>
                    </a:lnTo>
                    <a:lnTo>
                      <a:pt x="3007" y="162"/>
                    </a:lnTo>
                    <a:lnTo>
                      <a:pt x="3026" y="180"/>
                    </a:lnTo>
                    <a:lnTo>
                      <a:pt x="3026" y="222"/>
                    </a:lnTo>
                    <a:lnTo>
                      <a:pt x="3049" y="258"/>
                    </a:lnTo>
                    <a:lnTo>
                      <a:pt x="3049" y="281"/>
                    </a:lnTo>
                    <a:lnTo>
                      <a:pt x="3067" y="317"/>
                    </a:lnTo>
                    <a:lnTo>
                      <a:pt x="3067" y="401"/>
                    </a:lnTo>
                    <a:lnTo>
                      <a:pt x="3085" y="436"/>
                    </a:lnTo>
                    <a:lnTo>
                      <a:pt x="3085" y="479"/>
                    </a:lnTo>
                    <a:lnTo>
                      <a:pt x="3109" y="539"/>
                    </a:lnTo>
                    <a:lnTo>
                      <a:pt x="3109" y="580"/>
                    </a:lnTo>
                    <a:lnTo>
                      <a:pt x="3127" y="616"/>
                    </a:lnTo>
                    <a:lnTo>
                      <a:pt x="3127" y="658"/>
                    </a:lnTo>
                    <a:lnTo>
                      <a:pt x="3145" y="700"/>
                    </a:lnTo>
                    <a:lnTo>
                      <a:pt x="3145" y="760"/>
                    </a:lnTo>
                    <a:lnTo>
                      <a:pt x="3186" y="837"/>
                    </a:lnTo>
                    <a:lnTo>
                      <a:pt x="3186" y="879"/>
                    </a:lnTo>
                    <a:lnTo>
                      <a:pt x="3204" y="915"/>
                    </a:lnTo>
                    <a:lnTo>
                      <a:pt x="3204" y="957"/>
                    </a:lnTo>
                    <a:lnTo>
                      <a:pt x="3229" y="999"/>
                    </a:lnTo>
                    <a:lnTo>
                      <a:pt x="3229" y="1034"/>
                    </a:lnTo>
                    <a:lnTo>
                      <a:pt x="3247" y="1077"/>
                    </a:lnTo>
                    <a:lnTo>
                      <a:pt x="3247" y="1118"/>
                    </a:lnTo>
                    <a:lnTo>
                      <a:pt x="3265" y="1154"/>
                    </a:lnTo>
                    <a:lnTo>
                      <a:pt x="3265" y="1196"/>
                    </a:lnTo>
                    <a:lnTo>
                      <a:pt x="3288" y="1214"/>
                    </a:lnTo>
                    <a:lnTo>
                      <a:pt x="3288" y="1255"/>
                    </a:lnTo>
                    <a:lnTo>
                      <a:pt x="3306" y="1273"/>
                    </a:lnTo>
                    <a:lnTo>
                      <a:pt x="3306" y="1316"/>
                    </a:lnTo>
                    <a:lnTo>
                      <a:pt x="3324" y="1334"/>
                    </a:lnTo>
                    <a:lnTo>
                      <a:pt x="3324" y="1357"/>
                    </a:lnTo>
                    <a:lnTo>
                      <a:pt x="3366" y="1394"/>
                    </a:lnTo>
                    <a:lnTo>
                      <a:pt x="3384" y="1417"/>
                    </a:lnTo>
                    <a:lnTo>
                      <a:pt x="3407" y="1417"/>
                    </a:lnTo>
                    <a:lnTo>
                      <a:pt x="3407" y="1394"/>
                    </a:lnTo>
                    <a:lnTo>
                      <a:pt x="3425" y="1394"/>
                    </a:lnTo>
                    <a:lnTo>
                      <a:pt x="3425" y="1376"/>
                    </a:lnTo>
                    <a:lnTo>
                      <a:pt x="3444" y="1376"/>
                    </a:lnTo>
                    <a:lnTo>
                      <a:pt x="3444" y="1357"/>
                    </a:lnTo>
                    <a:lnTo>
                      <a:pt x="3468" y="1334"/>
                    </a:lnTo>
                    <a:lnTo>
                      <a:pt x="3468" y="1316"/>
                    </a:lnTo>
                    <a:lnTo>
                      <a:pt x="3486" y="1298"/>
                    </a:lnTo>
                    <a:lnTo>
                      <a:pt x="3486" y="1273"/>
                    </a:lnTo>
                    <a:lnTo>
                      <a:pt x="3503" y="1255"/>
                    </a:lnTo>
                    <a:lnTo>
                      <a:pt x="3503" y="1238"/>
                    </a:lnTo>
                    <a:lnTo>
                      <a:pt x="3528" y="1196"/>
                    </a:lnTo>
                    <a:lnTo>
                      <a:pt x="3528" y="1154"/>
                    </a:lnTo>
                    <a:lnTo>
                      <a:pt x="3546" y="1118"/>
                    </a:lnTo>
                    <a:lnTo>
                      <a:pt x="3546" y="1095"/>
                    </a:lnTo>
                    <a:lnTo>
                      <a:pt x="3564" y="1059"/>
                    </a:lnTo>
                    <a:lnTo>
                      <a:pt x="3564" y="1034"/>
                    </a:lnTo>
                    <a:lnTo>
                      <a:pt x="3587" y="999"/>
                    </a:lnTo>
                    <a:lnTo>
                      <a:pt x="3587" y="957"/>
                    </a:lnTo>
                    <a:lnTo>
                      <a:pt x="3605" y="940"/>
                    </a:lnTo>
                    <a:lnTo>
                      <a:pt x="3605" y="897"/>
                    </a:lnTo>
                    <a:lnTo>
                      <a:pt x="3623" y="879"/>
                    </a:lnTo>
                    <a:lnTo>
                      <a:pt x="3623" y="837"/>
                    </a:lnTo>
                    <a:lnTo>
                      <a:pt x="3647" y="796"/>
                    </a:lnTo>
                    <a:lnTo>
                      <a:pt x="3647" y="735"/>
                    </a:lnTo>
                    <a:lnTo>
                      <a:pt x="3665" y="718"/>
                    </a:lnTo>
                    <a:lnTo>
                      <a:pt x="3665" y="676"/>
                    </a:lnTo>
                    <a:lnTo>
                      <a:pt x="3683" y="658"/>
                    </a:lnTo>
                    <a:lnTo>
                      <a:pt x="3683" y="641"/>
                    </a:lnTo>
                    <a:lnTo>
                      <a:pt x="3707" y="598"/>
                    </a:lnTo>
                    <a:lnTo>
                      <a:pt x="3707" y="557"/>
                    </a:lnTo>
                    <a:lnTo>
                      <a:pt x="3724" y="539"/>
                    </a:lnTo>
                    <a:lnTo>
                      <a:pt x="3724" y="497"/>
                    </a:lnTo>
                    <a:lnTo>
                      <a:pt x="3742" y="497"/>
                    </a:lnTo>
                    <a:lnTo>
                      <a:pt x="3742" y="461"/>
                    </a:lnTo>
                    <a:lnTo>
                      <a:pt x="3785" y="461"/>
                    </a:lnTo>
                    <a:lnTo>
                      <a:pt x="3803" y="479"/>
                    </a:lnTo>
                    <a:lnTo>
                      <a:pt x="3803" y="1178"/>
                    </a:lnTo>
                    <a:lnTo>
                      <a:pt x="3826" y="1214"/>
                    </a:lnTo>
                    <a:lnTo>
                      <a:pt x="3826" y="1316"/>
                    </a:lnTo>
                    <a:lnTo>
                      <a:pt x="3844" y="1334"/>
                    </a:lnTo>
                    <a:lnTo>
                      <a:pt x="3844" y="1357"/>
                    </a:lnTo>
                    <a:lnTo>
                      <a:pt x="3886" y="1394"/>
                    </a:lnTo>
                    <a:lnTo>
                      <a:pt x="3904" y="1394"/>
                    </a:lnTo>
                    <a:lnTo>
                      <a:pt x="3904" y="1376"/>
                    </a:lnTo>
                    <a:lnTo>
                      <a:pt x="3922" y="1376"/>
                    </a:lnTo>
                    <a:lnTo>
                      <a:pt x="3922" y="1357"/>
                    </a:lnTo>
                    <a:lnTo>
                      <a:pt x="3946" y="1357"/>
                    </a:lnTo>
                    <a:lnTo>
                      <a:pt x="3982" y="1316"/>
                    </a:lnTo>
                    <a:lnTo>
                      <a:pt x="4024" y="1273"/>
                    </a:lnTo>
                    <a:lnTo>
                      <a:pt x="4024" y="1255"/>
                    </a:lnTo>
                    <a:lnTo>
                      <a:pt x="4041" y="1238"/>
                    </a:lnTo>
                    <a:lnTo>
                      <a:pt x="4084" y="1196"/>
                    </a:lnTo>
                    <a:lnTo>
                      <a:pt x="4102" y="1178"/>
                    </a:lnTo>
                    <a:lnTo>
                      <a:pt x="4125" y="1136"/>
                    </a:lnTo>
                    <a:lnTo>
                      <a:pt x="4143" y="1118"/>
                    </a:lnTo>
                    <a:lnTo>
                      <a:pt x="4185" y="1034"/>
                    </a:lnTo>
                    <a:lnTo>
                      <a:pt x="4203" y="1017"/>
                    </a:lnTo>
                    <a:lnTo>
                      <a:pt x="4244" y="975"/>
                    </a:lnTo>
                    <a:lnTo>
                      <a:pt x="4281" y="897"/>
                    </a:lnTo>
                    <a:lnTo>
                      <a:pt x="4323" y="819"/>
                    </a:lnTo>
                    <a:lnTo>
                      <a:pt x="4365" y="796"/>
                    </a:lnTo>
                    <a:lnTo>
                      <a:pt x="4401" y="718"/>
                    </a:lnTo>
                    <a:lnTo>
                      <a:pt x="4442" y="641"/>
                    </a:lnTo>
                    <a:lnTo>
                      <a:pt x="4460" y="598"/>
                    </a:lnTo>
                    <a:lnTo>
                      <a:pt x="4484" y="580"/>
                    </a:lnTo>
                    <a:lnTo>
                      <a:pt x="4520" y="539"/>
                    </a:lnTo>
                    <a:lnTo>
                      <a:pt x="4544" y="497"/>
                    </a:lnTo>
                    <a:lnTo>
                      <a:pt x="4561" y="479"/>
                    </a:lnTo>
                    <a:lnTo>
                      <a:pt x="4579" y="436"/>
                    </a:lnTo>
                    <a:lnTo>
                      <a:pt x="4604" y="418"/>
                    </a:lnTo>
                    <a:lnTo>
                      <a:pt x="4604" y="377"/>
                    </a:lnTo>
                    <a:lnTo>
                      <a:pt x="4640" y="341"/>
                    </a:lnTo>
                    <a:lnTo>
                      <a:pt x="4663" y="299"/>
                    </a:lnTo>
                    <a:lnTo>
                      <a:pt x="4681" y="281"/>
                    </a:lnTo>
                    <a:lnTo>
                      <a:pt x="4681" y="258"/>
                    </a:lnTo>
                    <a:lnTo>
                      <a:pt x="4700" y="258"/>
                    </a:lnTo>
                    <a:lnTo>
                      <a:pt x="4700" y="240"/>
                    </a:lnTo>
                    <a:lnTo>
                      <a:pt x="4723" y="222"/>
                    </a:lnTo>
                    <a:lnTo>
                      <a:pt x="4741" y="2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3882960"/>
                <a:ext cx="406440" cy="254160"/>
              </a:xfrm>
              <a:custGeom>
                <a:avLst/>
                <a:gdLst/>
                <a:ahLst/>
                <a:rect l="l" t="t" r="r" b="b"/>
                <a:pathLst>
                  <a:path w="1536" h="956">
                    <a:moveTo>
                      <a:pt x="1536" y="341"/>
                    </a:moveTo>
                    <a:lnTo>
                      <a:pt x="1512" y="323"/>
                    </a:lnTo>
                    <a:lnTo>
                      <a:pt x="1512" y="299"/>
                    </a:lnTo>
                    <a:lnTo>
                      <a:pt x="1495" y="281"/>
                    </a:lnTo>
                    <a:lnTo>
                      <a:pt x="1495" y="263"/>
                    </a:lnTo>
                    <a:lnTo>
                      <a:pt x="1477" y="263"/>
                    </a:lnTo>
                    <a:lnTo>
                      <a:pt x="1477" y="239"/>
                    </a:lnTo>
                    <a:lnTo>
                      <a:pt x="1452" y="239"/>
                    </a:lnTo>
                    <a:lnTo>
                      <a:pt x="1452" y="222"/>
                    </a:lnTo>
                    <a:lnTo>
                      <a:pt x="1417" y="179"/>
                    </a:lnTo>
                    <a:lnTo>
                      <a:pt x="1375" y="143"/>
                    </a:lnTo>
                    <a:lnTo>
                      <a:pt x="1357" y="119"/>
                    </a:lnTo>
                    <a:lnTo>
                      <a:pt x="1333" y="119"/>
                    </a:lnTo>
                    <a:lnTo>
                      <a:pt x="1297" y="83"/>
                    </a:lnTo>
                    <a:lnTo>
                      <a:pt x="1274" y="83"/>
                    </a:lnTo>
                    <a:lnTo>
                      <a:pt x="1256" y="60"/>
                    </a:lnTo>
                    <a:lnTo>
                      <a:pt x="1238" y="60"/>
                    </a:lnTo>
                    <a:lnTo>
                      <a:pt x="1213" y="42"/>
                    </a:lnTo>
                    <a:lnTo>
                      <a:pt x="1196" y="42"/>
                    </a:lnTo>
                    <a:lnTo>
                      <a:pt x="1178" y="24"/>
                    </a:lnTo>
                    <a:lnTo>
                      <a:pt x="1094" y="24"/>
                    </a:lnTo>
                    <a:lnTo>
                      <a:pt x="1076" y="0"/>
                    </a:lnTo>
                    <a:lnTo>
                      <a:pt x="1076" y="24"/>
                    </a:lnTo>
                    <a:lnTo>
                      <a:pt x="975" y="24"/>
                    </a:lnTo>
                    <a:lnTo>
                      <a:pt x="957" y="42"/>
                    </a:lnTo>
                    <a:lnTo>
                      <a:pt x="914" y="42"/>
                    </a:lnTo>
                    <a:lnTo>
                      <a:pt x="896" y="60"/>
                    </a:lnTo>
                    <a:lnTo>
                      <a:pt x="855" y="60"/>
                    </a:lnTo>
                    <a:lnTo>
                      <a:pt x="855" y="83"/>
                    </a:lnTo>
                    <a:lnTo>
                      <a:pt x="819" y="83"/>
                    </a:lnTo>
                    <a:lnTo>
                      <a:pt x="795" y="101"/>
                    </a:lnTo>
                    <a:lnTo>
                      <a:pt x="777" y="101"/>
                    </a:lnTo>
                    <a:lnTo>
                      <a:pt x="736" y="143"/>
                    </a:lnTo>
                    <a:lnTo>
                      <a:pt x="717" y="143"/>
                    </a:lnTo>
                    <a:lnTo>
                      <a:pt x="699" y="161"/>
                    </a:lnTo>
                    <a:lnTo>
                      <a:pt x="675" y="161"/>
                    </a:lnTo>
                    <a:lnTo>
                      <a:pt x="640" y="203"/>
                    </a:lnTo>
                    <a:lnTo>
                      <a:pt x="615" y="203"/>
                    </a:lnTo>
                    <a:lnTo>
                      <a:pt x="597" y="222"/>
                    </a:lnTo>
                    <a:lnTo>
                      <a:pt x="579" y="222"/>
                    </a:lnTo>
                    <a:lnTo>
                      <a:pt x="579" y="239"/>
                    </a:lnTo>
                    <a:lnTo>
                      <a:pt x="556" y="239"/>
                    </a:lnTo>
                    <a:lnTo>
                      <a:pt x="538" y="263"/>
                    </a:lnTo>
                    <a:lnTo>
                      <a:pt x="520" y="263"/>
                    </a:lnTo>
                    <a:lnTo>
                      <a:pt x="520" y="281"/>
                    </a:lnTo>
                    <a:lnTo>
                      <a:pt x="496" y="281"/>
                    </a:lnTo>
                    <a:lnTo>
                      <a:pt x="460" y="323"/>
                    </a:lnTo>
                    <a:lnTo>
                      <a:pt x="437" y="341"/>
                    </a:lnTo>
                    <a:lnTo>
                      <a:pt x="419" y="341"/>
                    </a:lnTo>
                    <a:lnTo>
                      <a:pt x="419" y="359"/>
                    </a:lnTo>
                    <a:lnTo>
                      <a:pt x="401" y="359"/>
                    </a:lnTo>
                    <a:lnTo>
                      <a:pt x="376" y="382"/>
                    </a:lnTo>
                    <a:lnTo>
                      <a:pt x="376" y="400"/>
                    </a:lnTo>
                    <a:lnTo>
                      <a:pt x="359" y="400"/>
                    </a:lnTo>
                    <a:lnTo>
                      <a:pt x="317" y="443"/>
                    </a:lnTo>
                    <a:lnTo>
                      <a:pt x="280" y="478"/>
                    </a:lnTo>
                    <a:lnTo>
                      <a:pt x="257" y="502"/>
                    </a:lnTo>
                    <a:lnTo>
                      <a:pt x="257" y="520"/>
                    </a:lnTo>
                    <a:lnTo>
                      <a:pt x="239" y="520"/>
                    </a:lnTo>
                    <a:lnTo>
                      <a:pt x="239" y="537"/>
                    </a:lnTo>
                    <a:lnTo>
                      <a:pt x="221" y="562"/>
                    </a:lnTo>
                    <a:lnTo>
                      <a:pt x="197" y="562"/>
                    </a:lnTo>
                    <a:lnTo>
                      <a:pt x="197" y="580"/>
                    </a:lnTo>
                    <a:lnTo>
                      <a:pt x="179" y="598"/>
                    </a:lnTo>
                    <a:lnTo>
                      <a:pt x="179" y="621"/>
                    </a:lnTo>
                    <a:lnTo>
                      <a:pt x="161" y="621"/>
                    </a:lnTo>
                    <a:lnTo>
                      <a:pt x="161" y="639"/>
                    </a:lnTo>
                    <a:lnTo>
                      <a:pt x="138" y="658"/>
                    </a:lnTo>
                    <a:lnTo>
                      <a:pt x="138" y="681"/>
                    </a:lnTo>
                    <a:lnTo>
                      <a:pt x="120" y="681"/>
                    </a:lnTo>
                    <a:lnTo>
                      <a:pt x="120" y="699"/>
                    </a:lnTo>
                    <a:lnTo>
                      <a:pt x="77" y="742"/>
                    </a:lnTo>
                    <a:lnTo>
                      <a:pt x="77" y="777"/>
                    </a:lnTo>
                    <a:lnTo>
                      <a:pt x="59" y="777"/>
                    </a:lnTo>
                    <a:lnTo>
                      <a:pt x="59" y="801"/>
                    </a:lnTo>
                    <a:lnTo>
                      <a:pt x="42" y="819"/>
                    </a:lnTo>
                    <a:lnTo>
                      <a:pt x="42" y="837"/>
                    </a:lnTo>
                    <a:lnTo>
                      <a:pt x="18" y="861"/>
                    </a:lnTo>
                    <a:lnTo>
                      <a:pt x="18" y="920"/>
                    </a:lnTo>
                    <a:lnTo>
                      <a:pt x="0" y="920"/>
                    </a:lnTo>
                    <a:lnTo>
                      <a:pt x="0" y="938"/>
                    </a:lnTo>
                    <a:lnTo>
                      <a:pt x="18" y="956"/>
                    </a:lnTo>
                    <a:lnTo>
                      <a:pt x="120" y="956"/>
                    </a:lnTo>
                    <a:lnTo>
                      <a:pt x="138" y="938"/>
                    </a:lnTo>
                    <a:lnTo>
                      <a:pt x="179" y="938"/>
                    </a:lnTo>
                    <a:lnTo>
                      <a:pt x="197" y="920"/>
                    </a:lnTo>
                    <a:lnTo>
                      <a:pt x="239" y="920"/>
                    </a:lnTo>
                    <a:lnTo>
                      <a:pt x="257" y="897"/>
                    </a:lnTo>
                    <a:lnTo>
                      <a:pt x="298" y="897"/>
                    </a:lnTo>
                    <a:lnTo>
                      <a:pt x="317" y="879"/>
                    </a:lnTo>
                    <a:lnTo>
                      <a:pt x="341" y="879"/>
                    </a:lnTo>
                    <a:lnTo>
                      <a:pt x="359" y="861"/>
                    </a:lnTo>
                    <a:lnTo>
                      <a:pt x="376" y="861"/>
                    </a:lnTo>
                    <a:lnTo>
                      <a:pt x="401" y="837"/>
                    </a:lnTo>
                    <a:lnTo>
                      <a:pt x="437" y="837"/>
                    </a:lnTo>
                    <a:lnTo>
                      <a:pt x="460" y="819"/>
                    </a:lnTo>
                    <a:lnTo>
                      <a:pt x="478" y="819"/>
                    </a:lnTo>
                    <a:lnTo>
                      <a:pt x="478" y="801"/>
                    </a:lnTo>
                    <a:lnTo>
                      <a:pt x="538" y="801"/>
                    </a:lnTo>
                    <a:lnTo>
                      <a:pt x="538" y="777"/>
                    </a:lnTo>
                    <a:lnTo>
                      <a:pt x="556" y="777"/>
                    </a:lnTo>
                    <a:lnTo>
                      <a:pt x="579" y="760"/>
                    </a:lnTo>
                    <a:lnTo>
                      <a:pt x="597" y="760"/>
                    </a:lnTo>
                    <a:lnTo>
                      <a:pt x="615" y="742"/>
                    </a:lnTo>
                    <a:lnTo>
                      <a:pt x="640" y="742"/>
                    </a:lnTo>
                    <a:lnTo>
                      <a:pt x="675" y="699"/>
                    </a:lnTo>
                    <a:lnTo>
                      <a:pt x="699" y="699"/>
                    </a:lnTo>
                    <a:lnTo>
                      <a:pt x="699" y="681"/>
                    </a:lnTo>
                    <a:lnTo>
                      <a:pt x="717" y="681"/>
                    </a:lnTo>
                    <a:lnTo>
                      <a:pt x="759" y="639"/>
                    </a:lnTo>
                    <a:lnTo>
                      <a:pt x="777" y="639"/>
                    </a:lnTo>
                    <a:lnTo>
                      <a:pt x="795" y="621"/>
                    </a:lnTo>
                    <a:lnTo>
                      <a:pt x="819" y="621"/>
                    </a:lnTo>
                    <a:lnTo>
                      <a:pt x="819" y="598"/>
                    </a:lnTo>
                    <a:lnTo>
                      <a:pt x="837" y="598"/>
                    </a:lnTo>
                    <a:lnTo>
                      <a:pt x="855" y="580"/>
                    </a:lnTo>
                    <a:lnTo>
                      <a:pt x="879" y="580"/>
                    </a:lnTo>
                    <a:lnTo>
                      <a:pt x="879" y="562"/>
                    </a:lnTo>
                    <a:lnTo>
                      <a:pt x="896" y="562"/>
                    </a:lnTo>
                    <a:lnTo>
                      <a:pt x="914" y="537"/>
                    </a:lnTo>
                    <a:lnTo>
                      <a:pt x="939" y="537"/>
                    </a:lnTo>
                    <a:lnTo>
                      <a:pt x="957" y="520"/>
                    </a:lnTo>
                    <a:lnTo>
                      <a:pt x="1016" y="520"/>
                    </a:lnTo>
                    <a:lnTo>
                      <a:pt x="1016" y="502"/>
                    </a:lnTo>
                    <a:lnTo>
                      <a:pt x="1034" y="502"/>
                    </a:lnTo>
                    <a:lnTo>
                      <a:pt x="1058" y="520"/>
                    </a:lnTo>
                    <a:lnTo>
                      <a:pt x="1094" y="520"/>
                    </a:lnTo>
                    <a:lnTo>
                      <a:pt x="1094" y="537"/>
                    </a:lnTo>
                    <a:lnTo>
                      <a:pt x="1117" y="537"/>
                    </a:lnTo>
                    <a:lnTo>
                      <a:pt x="1154" y="580"/>
                    </a:lnTo>
                    <a:lnTo>
                      <a:pt x="1178" y="598"/>
                    </a:lnTo>
                    <a:lnTo>
                      <a:pt x="1196" y="598"/>
                    </a:lnTo>
                    <a:lnTo>
                      <a:pt x="1196" y="621"/>
                    </a:lnTo>
                    <a:lnTo>
                      <a:pt x="1213" y="621"/>
                    </a:lnTo>
                    <a:lnTo>
                      <a:pt x="1213" y="639"/>
                    </a:lnTo>
                    <a:lnTo>
                      <a:pt x="1238" y="639"/>
                    </a:lnTo>
                    <a:lnTo>
                      <a:pt x="1256" y="658"/>
                    </a:lnTo>
                    <a:lnTo>
                      <a:pt x="1297" y="658"/>
                    </a:lnTo>
                    <a:lnTo>
                      <a:pt x="1297" y="639"/>
                    </a:lnTo>
                    <a:lnTo>
                      <a:pt x="1315" y="639"/>
                    </a:lnTo>
                    <a:lnTo>
                      <a:pt x="1333" y="621"/>
                    </a:lnTo>
                    <a:lnTo>
                      <a:pt x="1357" y="621"/>
                    </a:lnTo>
                    <a:lnTo>
                      <a:pt x="1357" y="598"/>
                    </a:lnTo>
                    <a:lnTo>
                      <a:pt x="1375" y="598"/>
                    </a:lnTo>
                    <a:lnTo>
                      <a:pt x="1375" y="580"/>
                    </a:lnTo>
                    <a:lnTo>
                      <a:pt x="1393" y="580"/>
                    </a:lnTo>
                    <a:lnTo>
                      <a:pt x="1434" y="537"/>
                    </a:lnTo>
                    <a:lnTo>
                      <a:pt x="1434" y="520"/>
                    </a:lnTo>
                    <a:lnTo>
                      <a:pt x="1452" y="520"/>
                    </a:lnTo>
                    <a:lnTo>
                      <a:pt x="1452" y="502"/>
                    </a:lnTo>
                    <a:lnTo>
                      <a:pt x="1477" y="502"/>
                    </a:lnTo>
                    <a:lnTo>
                      <a:pt x="1477" y="478"/>
                    </a:lnTo>
                    <a:lnTo>
                      <a:pt x="1495" y="478"/>
                    </a:lnTo>
                    <a:lnTo>
                      <a:pt x="1495" y="443"/>
                    </a:lnTo>
                    <a:lnTo>
                      <a:pt x="1512" y="443"/>
                    </a:lnTo>
                    <a:lnTo>
                      <a:pt x="1512" y="400"/>
                    </a:lnTo>
                    <a:lnTo>
                      <a:pt x="1536" y="382"/>
                    </a:lnTo>
                    <a:lnTo>
                      <a:pt x="1536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14600" y="5418000"/>
                <a:ext cx="395280" cy="204840"/>
              </a:xfrm>
              <a:custGeom>
                <a:avLst/>
                <a:gdLst/>
                <a:ahLst/>
                <a:rect l="l" t="t" r="r" b="b"/>
                <a:pathLst>
                  <a:path w="1496" h="777">
                    <a:moveTo>
                      <a:pt x="0" y="120"/>
                    </a:moveTo>
                    <a:lnTo>
                      <a:pt x="43" y="156"/>
                    </a:lnTo>
                    <a:lnTo>
                      <a:pt x="43" y="179"/>
                    </a:lnTo>
                    <a:lnTo>
                      <a:pt x="61" y="179"/>
                    </a:lnTo>
                    <a:lnTo>
                      <a:pt x="61" y="198"/>
                    </a:lnTo>
                    <a:lnTo>
                      <a:pt x="78" y="198"/>
                    </a:lnTo>
                    <a:lnTo>
                      <a:pt x="78" y="216"/>
                    </a:lnTo>
                    <a:lnTo>
                      <a:pt x="103" y="216"/>
                    </a:lnTo>
                    <a:lnTo>
                      <a:pt x="139" y="257"/>
                    </a:lnTo>
                    <a:lnTo>
                      <a:pt x="162" y="275"/>
                    </a:lnTo>
                    <a:lnTo>
                      <a:pt x="180" y="275"/>
                    </a:lnTo>
                    <a:lnTo>
                      <a:pt x="180" y="299"/>
                    </a:lnTo>
                    <a:lnTo>
                      <a:pt x="198" y="299"/>
                    </a:lnTo>
                    <a:lnTo>
                      <a:pt x="198" y="317"/>
                    </a:lnTo>
                    <a:lnTo>
                      <a:pt x="222" y="317"/>
                    </a:lnTo>
                    <a:lnTo>
                      <a:pt x="258" y="359"/>
                    </a:lnTo>
                    <a:lnTo>
                      <a:pt x="281" y="359"/>
                    </a:lnTo>
                    <a:lnTo>
                      <a:pt x="317" y="394"/>
                    </a:lnTo>
                    <a:lnTo>
                      <a:pt x="342" y="394"/>
                    </a:lnTo>
                    <a:lnTo>
                      <a:pt x="342" y="419"/>
                    </a:lnTo>
                    <a:lnTo>
                      <a:pt x="360" y="419"/>
                    </a:lnTo>
                    <a:lnTo>
                      <a:pt x="377" y="437"/>
                    </a:lnTo>
                    <a:lnTo>
                      <a:pt x="401" y="437"/>
                    </a:lnTo>
                    <a:lnTo>
                      <a:pt x="419" y="455"/>
                    </a:lnTo>
                    <a:lnTo>
                      <a:pt x="438" y="455"/>
                    </a:lnTo>
                    <a:lnTo>
                      <a:pt x="461" y="478"/>
                    </a:lnTo>
                    <a:lnTo>
                      <a:pt x="479" y="478"/>
                    </a:lnTo>
                    <a:lnTo>
                      <a:pt x="497" y="496"/>
                    </a:lnTo>
                    <a:lnTo>
                      <a:pt x="521" y="496"/>
                    </a:lnTo>
                    <a:lnTo>
                      <a:pt x="539" y="514"/>
                    </a:lnTo>
                    <a:lnTo>
                      <a:pt x="557" y="514"/>
                    </a:lnTo>
                    <a:lnTo>
                      <a:pt x="581" y="538"/>
                    </a:lnTo>
                    <a:lnTo>
                      <a:pt x="598" y="538"/>
                    </a:lnTo>
                    <a:lnTo>
                      <a:pt x="616" y="556"/>
                    </a:lnTo>
                    <a:lnTo>
                      <a:pt x="641" y="556"/>
                    </a:lnTo>
                    <a:lnTo>
                      <a:pt x="659" y="574"/>
                    </a:lnTo>
                    <a:lnTo>
                      <a:pt x="677" y="574"/>
                    </a:lnTo>
                    <a:lnTo>
                      <a:pt x="700" y="597"/>
                    </a:lnTo>
                    <a:lnTo>
                      <a:pt x="718" y="597"/>
                    </a:lnTo>
                    <a:lnTo>
                      <a:pt x="736" y="616"/>
                    </a:lnTo>
                    <a:lnTo>
                      <a:pt x="778" y="616"/>
                    </a:lnTo>
                    <a:lnTo>
                      <a:pt x="796" y="634"/>
                    </a:lnTo>
                    <a:lnTo>
                      <a:pt x="819" y="634"/>
                    </a:lnTo>
                    <a:lnTo>
                      <a:pt x="837" y="658"/>
                    </a:lnTo>
                    <a:lnTo>
                      <a:pt x="880" y="658"/>
                    </a:lnTo>
                    <a:lnTo>
                      <a:pt x="898" y="676"/>
                    </a:lnTo>
                    <a:lnTo>
                      <a:pt x="940" y="676"/>
                    </a:lnTo>
                    <a:lnTo>
                      <a:pt x="940" y="693"/>
                    </a:lnTo>
                    <a:lnTo>
                      <a:pt x="976" y="693"/>
                    </a:lnTo>
                    <a:lnTo>
                      <a:pt x="999" y="718"/>
                    </a:lnTo>
                    <a:lnTo>
                      <a:pt x="1035" y="718"/>
                    </a:lnTo>
                    <a:lnTo>
                      <a:pt x="1059" y="736"/>
                    </a:lnTo>
                    <a:lnTo>
                      <a:pt x="1095" y="736"/>
                    </a:lnTo>
                    <a:lnTo>
                      <a:pt x="1119" y="754"/>
                    </a:lnTo>
                    <a:lnTo>
                      <a:pt x="1214" y="754"/>
                    </a:lnTo>
                    <a:lnTo>
                      <a:pt x="1238" y="777"/>
                    </a:lnTo>
                    <a:lnTo>
                      <a:pt x="1275" y="777"/>
                    </a:lnTo>
                    <a:lnTo>
                      <a:pt x="1275" y="754"/>
                    </a:lnTo>
                    <a:lnTo>
                      <a:pt x="1334" y="754"/>
                    </a:lnTo>
                    <a:lnTo>
                      <a:pt x="1334" y="736"/>
                    </a:lnTo>
                    <a:lnTo>
                      <a:pt x="1358" y="736"/>
                    </a:lnTo>
                    <a:lnTo>
                      <a:pt x="1358" y="718"/>
                    </a:lnTo>
                    <a:lnTo>
                      <a:pt x="1376" y="718"/>
                    </a:lnTo>
                    <a:lnTo>
                      <a:pt x="1418" y="676"/>
                    </a:lnTo>
                    <a:lnTo>
                      <a:pt x="1418" y="658"/>
                    </a:lnTo>
                    <a:lnTo>
                      <a:pt x="1435" y="658"/>
                    </a:lnTo>
                    <a:lnTo>
                      <a:pt x="1435" y="634"/>
                    </a:lnTo>
                    <a:lnTo>
                      <a:pt x="1453" y="616"/>
                    </a:lnTo>
                    <a:lnTo>
                      <a:pt x="1453" y="597"/>
                    </a:lnTo>
                    <a:lnTo>
                      <a:pt x="1478" y="574"/>
                    </a:lnTo>
                    <a:lnTo>
                      <a:pt x="1478" y="538"/>
                    </a:lnTo>
                    <a:lnTo>
                      <a:pt x="1496" y="514"/>
                    </a:lnTo>
                    <a:lnTo>
                      <a:pt x="1496" y="419"/>
                    </a:lnTo>
                    <a:lnTo>
                      <a:pt x="1453" y="376"/>
                    </a:lnTo>
                    <a:lnTo>
                      <a:pt x="1376" y="376"/>
                    </a:lnTo>
                    <a:lnTo>
                      <a:pt x="1376" y="359"/>
                    </a:lnTo>
                    <a:lnTo>
                      <a:pt x="1119" y="359"/>
                    </a:lnTo>
                    <a:lnTo>
                      <a:pt x="1095" y="335"/>
                    </a:lnTo>
                    <a:lnTo>
                      <a:pt x="1035" y="335"/>
                    </a:lnTo>
                    <a:lnTo>
                      <a:pt x="1017" y="317"/>
                    </a:lnTo>
                    <a:lnTo>
                      <a:pt x="976" y="317"/>
                    </a:lnTo>
                    <a:lnTo>
                      <a:pt x="976" y="299"/>
                    </a:lnTo>
                    <a:lnTo>
                      <a:pt x="915" y="299"/>
                    </a:lnTo>
                    <a:lnTo>
                      <a:pt x="915" y="275"/>
                    </a:lnTo>
                    <a:lnTo>
                      <a:pt x="880" y="275"/>
                    </a:lnTo>
                    <a:lnTo>
                      <a:pt x="856" y="257"/>
                    </a:lnTo>
                    <a:lnTo>
                      <a:pt x="837" y="257"/>
                    </a:lnTo>
                    <a:lnTo>
                      <a:pt x="837" y="239"/>
                    </a:lnTo>
                    <a:lnTo>
                      <a:pt x="796" y="239"/>
                    </a:lnTo>
                    <a:lnTo>
                      <a:pt x="778" y="216"/>
                    </a:lnTo>
                    <a:lnTo>
                      <a:pt x="760" y="216"/>
                    </a:lnTo>
                    <a:lnTo>
                      <a:pt x="736" y="198"/>
                    </a:lnTo>
                    <a:lnTo>
                      <a:pt x="718" y="198"/>
                    </a:lnTo>
                    <a:lnTo>
                      <a:pt x="700" y="179"/>
                    </a:lnTo>
                    <a:lnTo>
                      <a:pt x="677" y="179"/>
                    </a:lnTo>
                    <a:lnTo>
                      <a:pt x="659" y="156"/>
                    </a:lnTo>
                    <a:lnTo>
                      <a:pt x="641" y="156"/>
                    </a:lnTo>
                    <a:lnTo>
                      <a:pt x="616" y="138"/>
                    </a:lnTo>
                    <a:lnTo>
                      <a:pt x="598" y="138"/>
                    </a:lnTo>
                    <a:lnTo>
                      <a:pt x="581" y="120"/>
                    </a:lnTo>
                    <a:lnTo>
                      <a:pt x="539" y="120"/>
                    </a:lnTo>
                    <a:lnTo>
                      <a:pt x="539" y="95"/>
                    </a:lnTo>
                    <a:lnTo>
                      <a:pt x="521" y="95"/>
                    </a:lnTo>
                    <a:lnTo>
                      <a:pt x="497" y="77"/>
                    </a:lnTo>
                    <a:lnTo>
                      <a:pt x="461" y="77"/>
                    </a:lnTo>
                    <a:lnTo>
                      <a:pt x="438" y="60"/>
                    </a:lnTo>
                    <a:lnTo>
                      <a:pt x="419" y="60"/>
                    </a:lnTo>
                    <a:lnTo>
                      <a:pt x="401" y="36"/>
                    </a:lnTo>
                    <a:lnTo>
                      <a:pt x="360" y="36"/>
                    </a:lnTo>
                    <a:lnTo>
                      <a:pt x="342" y="18"/>
                    </a:lnTo>
                    <a:lnTo>
                      <a:pt x="258" y="18"/>
                    </a:lnTo>
                    <a:lnTo>
                      <a:pt x="240" y="0"/>
                    </a:lnTo>
                    <a:lnTo>
                      <a:pt x="78" y="0"/>
                    </a:lnTo>
                    <a:lnTo>
                      <a:pt x="61" y="18"/>
                    </a:lnTo>
                    <a:lnTo>
                      <a:pt x="43" y="18"/>
                    </a:lnTo>
                    <a:lnTo>
                      <a:pt x="19" y="36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122720" y="3968640"/>
                <a:ext cx="182520" cy="158760"/>
              </a:xfrm>
              <a:custGeom>
                <a:avLst/>
                <a:gdLst/>
                <a:ahLst/>
                <a:rect l="l" t="t" r="r" b="b"/>
                <a:pathLst>
                  <a:path w="694" h="597">
                    <a:moveTo>
                      <a:pt x="0" y="394"/>
                    </a:moveTo>
                    <a:lnTo>
                      <a:pt x="0" y="335"/>
                    </a:lnTo>
                    <a:lnTo>
                      <a:pt x="18" y="335"/>
                    </a:lnTo>
                    <a:lnTo>
                      <a:pt x="18" y="316"/>
                    </a:lnTo>
                    <a:lnTo>
                      <a:pt x="36" y="316"/>
                    </a:lnTo>
                    <a:lnTo>
                      <a:pt x="36" y="298"/>
                    </a:lnTo>
                    <a:lnTo>
                      <a:pt x="78" y="257"/>
                    </a:lnTo>
                    <a:lnTo>
                      <a:pt x="120" y="214"/>
                    </a:lnTo>
                    <a:lnTo>
                      <a:pt x="137" y="197"/>
                    </a:lnTo>
                    <a:lnTo>
                      <a:pt x="137" y="179"/>
                    </a:lnTo>
                    <a:lnTo>
                      <a:pt x="155" y="179"/>
                    </a:lnTo>
                    <a:lnTo>
                      <a:pt x="155" y="155"/>
                    </a:lnTo>
                    <a:lnTo>
                      <a:pt x="180" y="155"/>
                    </a:lnTo>
                    <a:lnTo>
                      <a:pt x="180" y="137"/>
                    </a:lnTo>
                    <a:lnTo>
                      <a:pt x="198" y="137"/>
                    </a:lnTo>
                    <a:lnTo>
                      <a:pt x="239" y="95"/>
                    </a:lnTo>
                    <a:lnTo>
                      <a:pt x="276" y="59"/>
                    </a:lnTo>
                    <a:lnTo>
                      <a:pt x="299" y="59"/>
                    </a:lnTo>
                    <a:lnTo>
                      <a:pt x="317" y="36"/>
                    </a:lnTo>
                    <a:lnTo>
                      <a:pt x="335" y="36"/>
                    </a:lnTo>
                    <a:lnTo>
                      <a:pt x="335" y="18"/>
                    </a:lnTo>
                    <a:lnTo>
                      <a:pt x="395" y="18"/>
                    </a:lnTo>
                    <a:lnTo>
                      <a:pt x="395" y="0"/>
                    </a:lnTo>
                    <a:lnTo>
                      <a:pt x="413" y="0"/>
                    </a:lnTo>
                    <a:lnTo>
                      <a:pt x="413" y="18"/>
                    </a:lnTo>
                    <a:lnTo>
                      <a:pt x="454" y="18"/>
                    </a:lnTo>
                    <a:lnTo>
                      <a:pt x="472" y="36"/>
                    </a:lnTo>
                    <a:lnTo>
                      <a:pt x="497" y="36"/>
                    </a:lnTo>
                    <a:lnTo>
                      <a:pt x="497" y="59"/>
                    </a:lnTo>
                    <a:lnTo>
                      <a:pt x="533" y="59"/>
                    </a:lnTo>
                    <a:lnTo>
                      <a:pt x="533" y="77"/>
                    </a:lnTo>
                    <a:lnTo>
                      <a:pt x="574" y="120"/>
                    </a:lnTo>
                    <a:lnTo>
                      <a:pt x="592" y="120"/>
                    </a:lnTo>
                    <a:lnTo>
                      <a:pt x="592" y="137"/>
                    </a:lnTo>
                    <a:lnTo>
                      <a:pt x="616" y="155"/>
                    </a:lnTo>
                    <a:lnTo>
                      <a:pt x="616" y="179"/>
                    </a:lnTo>
                    <a:lnTo>
                      <a:pt x="634" y="179"/>
                    </a:lnTo>
                    <a:lnTo>
                      <a:pt x="634" y="197"/>
                    </a:lnTo>
                    <a:lnTo>
                      <a:pt x="652" y="214"/>
                    </a:lnTo>
                    <a:lnTo>
                      <a:pt x="652" y="239"/>
                    </a:lnTo>
                    <a:lnTo>
                      <a:pt x="675" y="257"/>
                    </a:lnTo>
                    <a:lnTo>
                      <a:pt x="675" y="275"/>
                    </a:lnTo>
                    <a:lnTo>
                      <a:pt x="694" y="298"/>
                    </a:lnTo>
                    <a:lnTo>
                      <a:pt x="694" y="394"/>
                    </a:lnTo>
                    <a:lnTo>
                      <a:pt x="675" y="419"/>
                    </a:lnTo>
                    <a:lnTo>
                      <a:pt x="675" y="478"/>
                    </a:lnTo>
                    <a:lnTo>
                      <a:pt x="652" y="478"/>
                    </a:lnTo>
                    <a:lnTo>
                      <a:pt x="652" y="514"/>
                    </a:lnTo>
                    <a:lnTo>
                      <a:pt x="634" y="514"/>
                    </a:lnTo>
                    <a:lnTo>
                      <a:pt x="634" y="556"/>
                    </a:lnTo>
                    <a:lnTo>
                      <a:pt x="616" y="556"/>
                    </a:lnTo>
                    <a:lnTo>
                      <a:pt x="616" y="574"/>
                    </a:lnTo>
                    <a:lnTo>
                      <a:pt x="592" y="574"/>
                    </a:lnTo>
                    <a:lnTo>
                      <a:pt x="592" y="597"/>
                    </a:lnTo>
                    <a:lnTo>
                      <a:pt x="574" y="597"/>
                    </a:lnTo>
                    <a:lnTo>
                      <a:pt x="574" y="574"/>
                    </a:lnTo>
                    <a:lnTo>
                      <a:pt x="556" y="574"/>
                    </a:lnTo>
                    <a:lnTo>
                      <a:pt x="556" y="556"/>
                    </a:lnTo>
                    <a:lnTo>
                      <a:pt x="533" y="556"/>
                    </a:lnTo>
                    <a:lnTo>
                      <a:pt x="533" y="538"/>
                    </a:lnTo>
                    <a:lnTo>
                      <a:pt x="515" y="538"/>
                    </a:lnTo>
                    <a:lnTo>
                      <a:pt x="515" y="496"/>
                    </a:lnTo>
                    <a:lnTo>
                      <a:pt x="497" y="496"/>
                    </a:lnTo>
                    <a:lnTo>
                      <a:pt x="497" y="478"/>
                    </a:lnTo>
                    <a:lnTo>
                      <a:pt x="472" y="478"/>
                    </a:lnTo>
                    <a:lnTo>
                      <a:pt x="472" y="454"/>
                    </a:lnTo>
                    <a:lnTo>
                      <a:pt x="454" y="437"/>
                    </a:lnTo>
                    <a:lnTo>
                      <a:pt x="454" y="419"/>
                    </a:lnTo>
                    <a:lnTo>
                      <a:pt x="437" y="419"/>
                    </a:lnTo>
                    <a:lnTo>
                      <a:pt x="437" y="394"/>
                    </a:lnTo>
                    <a:lnTo>
                      <a:pt x="413" y="394"/>
                    </a:lnTo>
                    <a:lnTo>
                      <a:pt x="413" y="376"/>
                    </a:lnTo>
                    <a:lnTo>
                      <a:pt x="395" y="358"/>
                    </a:lnTo>
                    <a:lnTo>
                      <a:pt x="377" y="358"/>
                    </a:lnTo>
                    <a:lnTo>
                      <a:pt x="360" y="335"/>
                    </a:lnTo>
                    <a:lnTo>
                      <a:pt x="276" y="335"/>
                    </a:lnTo>
                    <a:lnTo>
                      <a:pt x="257" y="358"/>
                    </a:lnTo>
                    <a:lnTo>
                      <a:pt x="180" y="358"/>
                    </a:lnTo>
                    <a:lnTo>
                      <a:pt x="155" y="376"/>
                    </a:lnTo>
                    <a:lnTo>
                      <a:pt x="96" y="376"/>
                    </a:lnTo>
                    <a:lnTo>
                      <a:pt x="96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905280" y="5491080"/>
                <a:ext cx="163440" cy="125640"/>
              </a:xfrm>
              <a:custGeom>
                <a:avLst/>
                <a:gdLst/>
                <a:ahLst/>
                <a:rect l="l" t="t" r="r" b="b"/>
                <a:pathLst>
                  <a:path w="616" h="479">
                    <a:moveTo>
                      <a:pt x="60" y="101"/>
                    </a:moveTo>
                    <a:lnTo>
                      <a:pt x="60" y="84"/>
                    </a:lnTo>
                    <a:lnTo>
                      <a:pt x="78" y="84"/>
                    </a:lnTo>
                    <a:lnTo>
                      <a:pt x="102" y="60"/>
                    </a:lnTo>
                    <a:lnTo>
                      <a:pt x="162" y="60"/>
                    </a:lnTo>
                    <a:lnTo>
                      <a:pt x="180" y="84"/>
                    </a:lnTo>
                    <a:lnTo>
                      <a:pt x="299" y="84"/>
                    </a:lnTo>
                    <a:lnTo>
                      <a:pt x="317" y="101"/>
                    </a:lnTo>
                    <a:lnTo>
                      <a:pt x="377" y="101"/>
                    </a:lnTo>
                    <a:lnTo>
                      <a:pt x="377" y="84"/>
                    </a:lnTo>
                    <a:lnTo>
                      <a:pt x="419" y="84"/>
                    </a:lnTo>
                    <a:lnTo>
                      <a:pt x="419" y="60"/>
                    </a:lnTo>
                    <a:lnTo>
                      <a:pt x="461" y="60"/>
                    </a:lnTo>
                    <a:lnTo>
                      <a:pt x="461" y="42"/>
                    </a:lnTo>
                    <a:lnTo>
                      <a:pt x="479" y="42"/>
                    </a:lnTo>
                    <a:lnTo>
                      <a:pt x="497" y="24"/>
                    </a:lnTo>
                    <a:lnTo>
                      <a:pt x="520" y="24"/>
                    </a:lnTo>
                    <a:lnTo>
                      <a:pt x="520" y="0"/>
                    </a:lnTo>
                    <a:lnTo>
                      <a:pt x="556" y="0"/>
                    </a:lnTo>
                    <a:lnTo>
                      <a:pt x="580" y="24"/>
                    </a:lnTo>
                    <a:lnTo>
                      <a:pt x="580" y="42"/>
                    </a:lnTo>
                    <a:lnTo>
                      <a:pt x="598" y="42"/>
                    </a:lnTo>
                    <a:lnTo>
                      <a:pt x="598" y="119"/>
                    </a:lnTo>
                    <a:lnTo>
                      <a:pt x="616" y="144"/>
                    </a:lnTo>
                    <a:lnTo>
                      <a:pt x="616" y="263"/>
                    </a:lnTo>
                    <a:lnTo>
                      <a:pt x="598" y="281"/>
                    </a:lnTo>
                    <a:lnTo>
                      <a:pt x="598" y="341"/>
                    </a:lnTo>
                    <a:lnTo>
                      <a:pt x="580" y="341"/>
                    </a:lnTo>
                    <a:lnTo>
                      <a:pt x="538" y="383"/>
                    </a:lnTo>
                    <a:lnTo>
                      <a:pt x="520" y="383"/>
                    </a:lnTo>
                    <a:lnTo>
                      <a:pt x="520" y="401"/>
                    </a:lnTo>
                    <a:lnTo>
                      <a:pt x="479" y="401"/>
                    </a:lnTo>
                    <a:lnTo>
                      <a:pt x="479" y="418"/>
                    </a:lnTo>
                    <a:lnTo>
                      <a:pt x="436" y="418"/>
                    </a:lnTo>
                    <a:lnTo>
                      <a:pt x="419" y="443"/>
                    </a:lnTo>
                    <a:lnTo>
                      <a:pt x="359" y="443"/>
                    </a:lnTo>
                    <a:lnTo>
                      <a:pt x="359" y="461"/>
                    </a:lnTo>
                    <a:lnTo>
                      <a:pt x="281" y="461"/>
                    </a:lnTo>
                    <a:lnTo>
                      <a:pt x="281" y="479"/>
                    </a:lnTo>
                    <a:lnTo>
                      <a:pt x="60" y="479"/>
                    </a:lnTo>
                    <a:lnTo>
                      <a:pt x="60" y="461"/>
                    </a:lnTo>
                    <a:lnTo>
                      <a:pt x="42" y="461"/>
                    </a:lnTo>
                    <a:lnTo>
                      <a:pt x="0" y="418"/>
                    </a:lnTo>
                    <a:lnTo>
                      <a:pt x="0" y="180"/>
                    </a:lnTo>
                    <a:lnTo>
                      <a:pt x="18" y="162"/>
                    </a:lnTo>
                    <a:lnTo>
                      <a:pt x="18" y="119"/>
                    </a:lnTo>
                    <a:lnTo>
                      <a:pt x="42" y="119"/>
                    </a:lnTo>
                    <a:lnTo>
                      <a:pt x="42" y="101"/>
                    </a:lnTo>
                    <a:lnTo>
                      <a:pt x="60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3971160" y="2444760"/>
              <a:ext cx="441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380000">
              <a:off x="4722120" y="2751120"/>
              <a:ext cx="3754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8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9920000">
              <a:off x="3119760" y="2608200"/>
              <a:ext cx="36936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7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035160" y="922320"/>
            <a:ext cx="322092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902444"/>
                </a:solidFill>
                <a:latin typeface="Geometr231 Hv BT"/>
              </a:rPr>
              <a:t>LOVE =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596960" y="2349360"/>
            <a:ext cx="5946840" cy="1005840"/>
            <a:chOff x="1596960" y="2349360"/>
            <a:chExt cx="5946840" cy="1005840"/>
          </a:xfrm>
        </p:grpSpPr>
        <p:sp>
          <p:nvSpPr>
            <p:cNvPr id="929" name=""/>
            <p:cNvSpPr/>
            <p:nvPr/>
          </p:nvSpPr>
          <p:spPr>
            <a:xfrm>
              <a:off x="1596960" y="2384280"/>
              <a:ext cx="5946840" cy="946440"/>
            </a:xfrm>
            <a:prstGeom prst="rect">
              <a:avLst/>
            </a:prstGeom>
            <a:solidFill>
              <a:srgbClr val="0092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30480" y="2349360"/>
              <a:ext cx="30913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HONO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596960" y="3554280"/>
            <a:ext cx="5946840" cy="1005840"/>
            <a:chOff x="1596960" y="3554280"/>
            <a:chExt cx="5946840" cy="1005840"/>
          </a:xfrm>
        </p:grpSpPr>
        <p:sp>
          <p:nvSpPr>
            <p:cNvPr id="932" name=""/>
            <p:cNvSpPr/>
            <p:nvPr/>
          </p:nvSpPr>
          <p:spPr>
            <a:xfrm>
              <a:off x="1596960" y="3576600"/>
              <a:ext cx="5946840" cy="946080"/>
            </a:xfrm>
            <a:prstGeom prst="rect">
              <a:avLst/>
            </a:prstGeom>
            <a:solidFill>
              <a:srgbClr val="dc2b1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10560" y="3554280"/>
              <a:ext cx="2527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TRUS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1547640" y="4869000"/>
            <a:ext cx="6180120" cy="1005840"/>
            <a:chOff x="1547640" y="4869000"/>
            <a:chExt cx="6180120" cy="1005840"/>
          </a:xfrm>
        </p:grpSpPr>
        <p:sp>
          <p:nvSpPr>
            <p:cNvPr id="935" name=""/>
            <p:cNvSpPr/>
            <p:nvPr/>
          </p:nvSpPr>
          <p:spPr>
            <a:xfrm>
              <a:off x="1547640" y="4870440"/>
              <a:ext cx="5946840" cy="945720"/>
            </a:xfrm>
            <a:prstGeom prst="rect">
              <a:avLst/>
            </a:prstGeom>
            <a:solidFill>
              <a:srgbClr val="2b0e7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40400" y="4869000"/>
              <a:ext cx="57873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COMMITMEN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3655440" y="835200"/>
            <a:ext cx="1895040" cy="1486800"/>
            <a:chOff x="3655440" y="835200"/>
            <a:chExt cx="1895040" cy="1486800"/>
          </a:xfrm>
        </p:grpSpPr>
        <p:sp>
          <p:nvSpPr>
            <p:cNvPr id="938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3" y="506"/>
                  </a:moveTo>
                  <a:lnTo>
                    <a:pt x="899" y="506"/>
                  </a:lnTo>
                  <a:lnTo>
                    <a:pt x="878" y="508"/>
                  </a:lnTo>
                  <a:lnTo>
                    <a:pt x="855" y="510"/>
                  </a:lnTo>
                  <a:lnTo>
                    <a:pt x="834" y="514"/>
                  </a:lnTo>
                  <a:lnTo>
                    <a:pt x="814" y="518"/>
                  </a:lnTo>
                  <a:lnTo>
                    <a:pt x="793" y="525"/>
                  </a:lnTo>
                  <a:lnTo>
                    <a:pt x="773" y="531"/>
                  </a:lnTo>
                  <a:lnTo>
                    <a:pt x="753" y="539"/>
                  </a:lnTo>
                  <a:lnTo>
                    <a:pt x="734" y="547"/>
                  </a:lnTo>
                  <a:lnTo>
                    <a:pt x="715" y="557"/>
                  </a:lnTo>
                  <a:lnTo>
                    <a:pt x="697" y="567"/>
                  </a:lnTo>
                  <a:lnTo>
                    <a:pt x="680" y="579"/>
                  </a:lnTo>
                  <a:lnTo>
                    <a:pt x="662" y="592"/>
                  </a:lnTo>
                  <a:lnTo>
                    <a:pt x="646" y="605"/>
                  </a:lnTo>
                  <a:lnTo>
                    <a:pt x="630" y="621"/>
                  </a:lnTo>
                  <a:lnTo>
                    <a:pt x="613" y="636"/>
                  </a:lnTo>
                  <a:lnTo>
                    <a:pt x="599" y="652"/>
                  </a:lnTo>
                  <a:lnTo>
                    <a:pt x="585" y="670"/>
                  </a:lnTo>
                  <a:lnTo>
                    <a:pt x="572" y="687"/>
                  </a:lnTo>
                  <a:lnTo>
                    <a:pt x="559" y="705"/>
                  </a:lnTo>
                  <a:lnTo>
                    <a:pt x="548" y="724"/>
                  </a:lnTo>
                  <a:lnTo>
                    <a:pt x="538" y="742"/>
                  </a:lnTo>
                  <a:lnTo>
                    <a:pt x="529" y="761"/>
                  </a:lnTo>
                  <a:lnTo>
                    <a:pt x="520" y="782"/>
                  </a:lnTo>
                  <a:lnTo>
                    <a:pt x="513" y="802"/>
                  </a:lnTo>
                  <a:lnTo>
                    <a:pt x="507" y="823"/>
                  </a:lnTo>
                  <a:lnTo>
                    <a:pt x="501" y="844"/>
                  </a:lnTo>
                  <a:lnTo>
                    <a:pt x="497" y="865"/>
                  </a:lnTo>
                  <a:lnTo>
                    <a:pt x="494" y="888"/>
                  </a:lnTo>
                  <a:lnTo>
                    <a:pt x="492" y="910"/>
                  </a:lnTo>
                  <a:lnTo>
                    <a:pt x="490" y="934"/>
                  </a:lnTo>
                  <a:lnTo>
                    <a:pt x="490" y="957"/>
                  </a:lnTo>
                  <a:lnTo>
                    <a:pt x="490" y="981"/>
                  </a:lnTo>
                  <a:lnTo>
                    <a:pt x="491" y="1004"/>
                  </a:lnTo>
                  <a:lnTo>
                    <a:pt x="494" y="1027"/>
                  </a:lnTo>
                  <a:lnTo>
                    <a:pt x="497" y="1049"/>
                  </a:lnTo>
                  <a:lnTo>
                    <a:pt x="501" y="1071"/>
                  </a:lnTo>
                  <a:lnTo>
                    <a:pt x="507" y="1092"/>
                  </a:lnTo>
                  <a:lnTo>
                    <a:pt x="513" y="1114"/>
                  </a:lnTo>
                  <a:lnTo>
                    <a:pt x="520" y="1133"/>
                  </a:lnTo>
                  <a:lnTo>
                    <a:pt x="529" y="1153"/>
                  </a:lnTo>
                  <a:lnTo>
                    <a:pt x="538" y="1173"/>
                  </a:lnTo>
                  <a:lnTo>
                    <a:pt x="548" y="1191"/>
                  </a:lnTo>
                  <a:lnTo>
                    <a:pt x="559" y="1209"/>
                  </a:lnTo>
                  <a:lnTo>
                    <a:pt x="572" y="1228"/>
                  </a:lnTo>
                  <a:lnTo>
                    <a:pt x="584" y="1245"/>
                  </a:lnTo>
                  <a:lnTo>
                    <a:pt x="598" y="1261"/>
                  </a:lnTo>
                  <a:lnTo>
                    <a:pt x="613" y="1278"/>
                  </a:lnTo>
                  <a:lnTo>
                    <a:pt x="629" y="1294"/>
                  </a:lnTo>
                  <a:lnTo>
                    <a:pt x="645" y="1308"/>
                  </a:lnTo>
                  <a:lnTo>
                    <a:pt x="662" y="1323"/>
                  </a:lnTo>
                  <a:lnTo>
                    <a:pt x="679" y="1335"/>
                  </a:lnTo>
                  <a:lnTo>
                    <a:pt x="697" y="1346"/>
                  </a:lnTo>
                  <a:lnTo>
                    <a:pt x="714" y="1357"/>
                  </a:lnTo>
                  <a:lnTo>
                    <a:pt x="734" y="1367"/>
                  </a:lnTo>
                  <a:lnTo>
                    <a:pt x="752" y="1376"/>
                  </a:lnTo>
                  <a:lnTo>
                    <a:pt x="772" y="1383"/>
                  </a:lnTo>
                  <a:lnTo>
                    <a:pt x="792" y="1389"/>
                  </a:lnTo>
                  <a:lnTo>
                    <a:pt x="812" y="1395"/>
                  </a:lnTo>
                  <a:lnTo>
                    <a:pt x="834" y="1399"/>
                  </a:lnTo>
                  <a:lnTo>
                    <a:pt x="855" y="1403"/>
                  </a:lnTo>
                  <a:lnTo>
                    <a:pt x="877" y="1405"/>
                  </a:lnTo>
                  <a:lnTo>
                    <a:pt x="899" y="1407"/>
                  </a:lnTo>
                  <a:lnTo>
                    <a:pt x="923" y="1407"/>
                  </a:lnTo>
                  <a:lnTo>
                    <a:pt x="945" y="1407"/>
                  </a:lnTo>
                  <a:lnTo>
                    <a:pt x="968" y="1405"/>
                  </a:lnTo>
                  <a:lnTo>
                    <a:pt x="989" y="1403"/>
                  </a:lnTo>
                  <a:lnTo>
                    <a:pt x="1011" y="1399"/>
                  </a:lnTo>
                  <a:lnTo>
                    <a:pt x="1032" y="1395"/>
                  </a:lnTo>
                  <a:lnTo>
                    <a:pt x="1052" y="1389"/>
                  </a:lnTo>
                  <a:lnTo>
                    <a:pt x="1072" y="1383"/>
                  </a:lnTo>
                  <a:lnTo>
                    <a:pt x="1092" y="1375"/>
                  </a:lnTo>
                  <a:lnTo>
                    <a:pt x="1111" y="1367"/>
                  </a:lnTo>
                  <a:lnTo>
                    <a:pt x="1129" y="1357"/>
                  </a:lnTo>
                  <a:lnTo>
                    <a:pt x="1147" y="1346"/>
                  </a:lnTo>
                  <a:lnTo>
                    <a:pt x="1165" y="1335"/>
                  </a:lnTo>
                  <a:lnTo>
                    <a:pt x="1182" y="1322"/>
                  </a:lnTo>
                  <a:lnTo>
                    <a:pt x="1200" y="1308"/>
                  </a:lnTo>
                  <a:lnTo>
                    <a:pt x="1216" y="1293"/>
                  </a:lnTo>
                  <a:lnTo>
                    <a:pt x="1231" y="1278"/>
                  </a:lnTo>
                  <a:lnTo>
                    <a:pt x="1246" y="1261"/>
                  </a:lnTo>
                  <a:lnTo>
                    <a:pt x="1261" y="1244"/>
                  </a:lnTo>
                  <a:lnTo>
                    <a:pt x="1273" y="1227"/>
                  </a:lnTo>
                  <a:lnTo>
                    <a:pt x="1285" y="1209"/>
                  </a:lnTo>
                  <a:lnTo>
                    <a:pt x="1297" y="1191"/>
                  </a:lnTo>
                  <a:lnTo>
                    <a:pt x="1307" y="1172"/>
                  </a:lnTo>
                  <a:lnTo>
                    <a:pt x="1316" y="1152"/>
                  </a:lnTo>
                  <a:lnTo>
                    <a:pt x="1325" y="1133"/>
                  </a:lnTo>
                  <a:lnTo>
                    <a:pt x="1332" y="1112"/>
                  </a:lnTo>
                  <a:lnTo>
                    <a:pt x="1338" y="1092"/>
                  </a:lnTo>
                  <a:lnTo>
                    <a:pt x="1343" y="1071"/>
                  </a:lnTo>
                  <a:lnTo>
                    <a:pt x="1348" y="1049"/>
                  </a:lnTo>
                  <a:lnTo>
                    <a:pt x="1352" y="1027"/>
                  </a:lnTo>
                  <a:lnTo>
                    <a:pt x="1354" y="1004"/>
                  </a:lnTo>
                  <a:lnTo>
                    <a:pt x="1356" y="981"/>
                  </a:lnTo>
                  <a:lnTo>
                    <a:pt x="1356" y="957"/>
                  </a:lnTo>
                  <a:lnTo>
                    <a:pt x="1356" y="934"/>
                  </a:lnTo>
                  <a:lnTo>
                    <a:pt x="1354" y="910"/>
                  </a:lnTo>
                  <a:lnTo>
                    <a:pt x="1352" y="888"/>
                  </a:lnTo>
                  <a:lnTo>
                    <a:pt x="1348" y="867"/>
                  </a:lnTo>
                  <a:lnTo>
                    <a:pt x="1343" y="844"/>
                  </a:lnTo>
                  <a:lnTo>
                    <a:pt x="1338" y="824"/>
                  </a:lnTo>
                  <a:lnTo>
                    <a:pt x="1332" y="802"/>
                  </a:lnTo>
                  <a:lnTo>
                    <a:pt x="1325" y="782"/>
                  </a:lnTo>
                  <a:lnTo>
                    <a:pt x="1316" y="762"/>
                  </a:lnTo>
                  <a:lnTo>
                    <a:pt x="1307" y="743"/>
                  </a:lnTo>
                  <a:lnTo>
                    <a:pt x="1297" y="725"/>
                  </a:lnTo>
                  <a:lnTo>
                    <a:pt x="1285" y="706"/>
                  </a:lnTo>
                  <a:lnTo>
                    <a:pt x="1273" y="688"/>
                  </a:lnTo>
                  <a:lnTo>
                    <a:pt x="1261" y="671"/>
                  </a:lnTo>
                  <a:lnTo>
                    <a:pt x="1246" y="653"/>
                  </a:lnTo>
                  <a:lnTo>
                    <a:pt x="1231" y="637"/>
                  </a:lnTo>
                  <a:lnTo>
                    <a:pt x="1216" y="621"/>
                  </a:lnTo>
                  <a:lnTo>
                    <a:pt x="1200" y="606"/>
                  </a:lnTo>
                  <a:lnTo>
                    <a:pt x="1182" y="593"/>
                  </a:lnTo>
                  <a:lnTo>
                    <a:pt x="1165" y="580"/>
                  </a:lnTo>
                  <a:lnTo>
                    <a:pt x="1147" y="568"/>
                  </a:lnTo>
                  <a:lnTo>
                    <a:pt x="1129" y="557"/>
                  </a:lnTo>
                  <a:lnTo>
                    <a:pt x="1111" y="547"/>
                  </a:lnTo>
                  <a:lnTo>
                    <a:pt x="1092" y="539"/>
                  </a:lnTo>
                  <a:lnTo>
                    <a:pt x="1072" y="531"/>
                  </a:lnTo>
                  <a:lnTo>
                    <a:pt x="1052" y="525"/>
                  </a:lnTo>
                  <a:lnTo>
                    <a:pt x="1032" y="518"/>
                  </a:lnTo>
                  <a:lnTo>
                    <a:pt x="1011" y="514"/>
                  </a:lnTo>
                  <a:lnTo>
                    <a:pt x="989" y="510"/>
                  </a:lnTo>
                  <a:lnTo>
                    <a:pt x="968" y="508"/>
                  </a:lnTo>
                  <a:lnTo>
                    <a:pt x="945" y="506"/>
                  </a:lnTo>
                  <a:lnTo>
                    <a:pt x="923" y="506"/>
                  </a:lnTo>
                  <a:close/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55440" y="1620720"/>
              <a:ext cx="18950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600" spc="-1" strike="noStrike">
                  <a:solidFill>
                    <a:srgbClr val="1f1a17"/>
                  </a:solidFill>
                  <a:latin typeface="Geometr231 Hv BT"/>
                </a:rPr>
                <a:t>IS NOT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14880" y="995400"/>
              <a:ext cx="274680" cy="285840"/>
            </a:xfrm>
            <a:custGeom>
              <a:avLst/>
              <a:gdLst/>
              <a:ahLst/>
              <a:rect l="l" t="t" r="r" b="b"/>
              <a:pathLst>
                <a:path w="866" h="901">
                  <a:moveTo>
                    <a:pt x="433" y="0"/>
                  </a:moveTo>
                  <a:lnTo>
                    <a:pt x="409" y="0"/>
                  </a:lnTo>
                  <a:lnTo>
                    <a:pt x="388" y="2"/>
                  </a:lnTo>
                  <a:lnTo>
                    <a:pt x="365" y="4"/>
                  </a:lnTo>
                  <a:lnTo>
                    <a:pt x="344" y="8"/>
                  </a:lnTo>
                  <a:lnTo>
                    <a:pt x="324" y="12"/>
                  </a:lnTo>
                  <a:lnTo>
                    <a:pt x="303" y="19"/>
                  </a:lnTo>
                  <a:lnTo>
                    <a:pt x="283" y="25"/>
                  </a:lnTo>
                  <a:lnTo>
                    <a:pt x="263" y="33"/>
                  </a:lnTo>
                  <a:lnTo>
                    <a:pt x="244" y="41"/>
                  </a:lnTo>
                  <a:lnTo>
                    <a:pt x="225" y="51"/>
                  </a:lnTo>
                  <a:lnTo>
                    <a:pt x="207" y="61"/>
                  </a:lnTo>
                  <a:lnTo>
                    <a:pt x="190" y="73"/>
                  </a:lnTo>
                  <a:lnTo>
                    <a:pt x="172" y="86"/>
                  </a:lnTo>
                  <a:lnTo>
                    <a:pt x="156" y="99"/>
                  </a:lnTo>
                  <a:lnTo>
                    <a:pt x="140" y="115"/>
                  </a:lnTo>
                  <a:lnTo>
                    <a:pt x="123" y="130"/>
                  </a:lnTo>
                  <a:lnTo>
                    <a:pt x="109" y="146"/>
                  </a:lnTo>
                  <a:lnTo>
                    <a:pt x="95" y="164"/>
                  </a:lnTo>
                  <a:lnTo>
                    <a:pt x="82" y="181"/>
                  </a:lnTo>
                  <a:lnTo>
                    <a:pt x="69" y="199"/>
                  </a:lnTo>
                  <a:lnTo>
                    <a:pt x="58" y="218"/>
                  </a:lnTo>
                  <a:lnTo>
                    <a:pt x="48" y="236"/>
                  </a:lnTo>
                  <a:lnTo>
                    <a:pt x="39" y="255"/>
                  </a:lnTo>
                  <a:lnTo>
                    <a:pt x="30" y="276"/>
                  </a:lnTo>
                  <a:lnTo>
                    <a:pt x="23" y="296"/>
                  </a:lnTo>
                  <a:lnTo>
                    <a:pt x="17" y="317"/>
                  </a:lnTo>
                  <a:lnTo>
                    <a:pt x="11" y="338"/>
                  </a:lnTo>
                  <a:lnTo>
                    <a:pt x="7" y="359"/>
                  </a:lnTo>
                  <a:lnTo>
                    <a:pt x="4" y="382"/>
                  </a:lnTo>
                  <a:lnTo>
                    <a:pt x="2" y="404"/>
                  </a:lnTo>
                  <a:lnTo>
                    <a:pt x="0" y="428"/>
                  </a:lnTo>
                  <a:lnTo>
                    <a:pt x="0" y="451"/>
                  </a:lnTo>
                  <a:lnTo>
                    <a:pt x="0" y="475"/>
                  </a:lnTo>
                  <a:lnTo>
                    <a:pt x="1" y="498"/>
                  </a:lnTo>
                  <a:lnTo>
                    <a:pt x="4" y="521"/>
                  </a:lnTo>
                  <a:lnTo>
                    <a:pt x="7" y="543"/>
                  </a:lnTo>
                  <a:lnTo>
                    <a:pt x="11" y="565"/>
                  </a:lnTo>
                  <a:lnTo>
                    <a:pt x="17" y="586"/>
                  </a:lnTo>
                  <a:lnTo>
                    <a:pt x="23" y="608"/>
                  </a:lnTo>
                  <a:lnTo>
                    <a:pt x="30" y="627"/>
                  </a:lnTo>
                  <a:lnTo>
                    <a:pt x="39" y="647"/>
                  </a:lnTo>
                  <a:lnTo>
                    <a:pt x="48" y="667"/>
                  </a:lnTo>
                  <a:lnTo>
                    <a:pt x="58" y="685"/>
                  </a:lnTo>
                  <a:lnTo>
                    <a:pt x="69" y="703"/>
                  </a:lnTo>
                  <a:lnTo>
                    <a:pt x="82" y="722"/>
                  </a:lnTo>
                  <a:lnTo>
                    <a:pt x="94" y="739"/>
                  </a:lnTo>
                  <a:lnTo>
                    <a:pt x="108" y="755"/>
                  </a:lnTo>
                  <a:lnTo>
                    <a:pt x="123" y="772"/>
                  </a:lnTo>
                  <a:lnTo>
                    <a:pt x="139" y="788"/>
                  </a:lnTo>
                  <a:lnTo>
                    <a:pt x="155" y="802"/>
                  </a:lnTo>
                  <a:lnTo>
                    <a:pt x="172" y="817"/>
                  </a:lnTo>
                  <a:lnTo>
                    <a:pt x="189" y="829"/>
                  </a:lnTo>
                  <a:lnTo>
                    <a:pt x="207" y="840"/>
                  </a:lnTo>
                  <a:lnTo>
                    <a:pt x="224" y="851"/>
                  </a:lnTo>
                  <a:lnTo>
                    <a:pt x="244" y="861"/>
                  </a:lnTo>
                  <a:lnTo>
                    <a:pt x="262" y="870"/>
                  </a:lnTo>
                  <a:lnTo>
                    <a:pt x="282" y="877"/>
                  </a:lnTo>
                  <a:lnTo>
                    <a:pt x="302" y="883"/>
                  </a:lnTo>
                  <a:lnTo>
                    <a:pt x="322" y="889"/>
                  </a:lnTo>
                  <a:lnTo>
                    <a:pt x="344" y="893"/>
                  </a:lnTo>
                  <a:lnTo>
                    <a:pt x="365" y="897"/>
                  </a:lnTo>
                  <a:lnTo>
                    <a:pt x="387" y="899"/>
                  </a:lnTo>
                  <a:lnTo>
                    <a:pt x="409" y="901"/>
                  </a:lnTo>
                  <a:lnTo>
                    <a:pt x="433" y="901"/>
                  </a:lnTo>
                  <a:lnTo>
                    <a:pt x="455" y="901"/>
                  </a:lnTo>
                  <a:lnTo>
                    <a:pt x="478" y="899"/>
                  </a:lnTo>
                  <a:lnTo>
                    <a:pt x="499" y="897"/>
                  </a:lnTo>
                  <a:lnTo>
                    <a:pt x="521" y="893"/>
                  </a:lnTo>
                  <a:lnTo>
                    <a:pt x="542" y="889"/>
                  </a:lnTo>
                  <a:lnTo>
                    <a:pt x="562" y="883"/>
                  </a:lnTo>
                  <a:lnTo>
                    <a:pt x="582" y="877"/>
                  </a:lnTo>
                  <a:lnTo>
                    <a:pt x="602" y="869"/>
                  </a:lnTo>
                  <a:lnTo>
                    <a:pt x="621" y="861"/>
                  </a:lnTo>
                  <a:lnTo>
                    <a:pt x="639" y="851"/>
                  </a:lnTo>
                  <a:lnTo>
                    <a:pt x="657" y="840"/>
                  </a:lnTo>
                  <a:lnTo>
                    <a:pt x="675" y="829"/>
                  </a:lnTo>
                  <a:lnTo>
                    <a:pt x="692" y="816"/>
                  </a:lnTo>
                  <a:lnTo>
                    <a:pt x="710" y="802"/>
                  </a:lnTo>
                  <a:lnTo>
                    <a:pt x="726" y="787"/>
                  </a:lnTo>
                  <a:lnTo>
                    <a:pt x="741" y="772"/>
                  </a:lnTo>
                  <a:lnTo>
                    <a:pt x="756" y="755"/>
                  </a:lnTo>
                  <a:lnTo>
                    <a:pt x="771" y="738"/>
                  </a:lnTo>
                  <a:lnTo>
                    <a:pt x="783" y="721"/>
                  </a:lnTo>
                  <a:lnTo>
                    <a:pt x="795" y="703"/>
                  </a:lnTo>
                  <a:lnTo>
                    <a:pt x="807" y="685"/>
                  </a:lnTo>
                  <a:lnTo>
                    <a:pt x="817" y="666"/>
                  </a:lnTo>
                  <a:lnTo>
                    <a:pt x="826" y="646"/>
                  </a:lnTo>
                  <a:lnTo>
                    <a:pt x="835" y="627"/>
                  </a:lnTo>
                  <a:lnTo>
                    <a:pt x="842" y="606"/>
                  </a:lnTo>
                  <a:lnTo>
                    <a:pt x="848" y="586"/>
                  </a:lnTo>
                  <a:lnTo>
                    <a:pt x="853" y="565"/>
                  </a:lnTo>
                  <a:lnTo>
                    <a:pt x="858" y="543"/>
                  </a:lnTo>
                  <a:lnTo>
                    <a:pt x="862" y="521"/>
                  </a:lnTo>
                  <a:lnTo>
                    <a:pt x="864" y="498"/>
                  </a:lnTo>
                  <a:lnTo>
                    <a:pt x="866" y="475"/>
                  </a:lnTo>
                  <a:lnTo>
                    <a:pt x="866" y="451"/>
                  </a:lnTo>
                  <a:lnTo>
                    <a:pt x="866" y="428"/>
                  </a:lnTo>
                  <a:lnTo>
                    <a:pt x="864" y="404"/>
                  </a:lnTo>
                  <a:lnTo>
                    <a:pt x="862" y="382"/>
                  </a:lnTo>
                  <a:lnTo>
                    <a:pt x="858" y="361"/>
                  </a:lnTo>
                  <a:lnTo>
                    <a:pt x="853" y="338"/>
                  </a:lnTo>
                  <a:lnTo>
                    <a:pt x="848" y="318"/>
                  </a:lnTo>
                  <a:lnTo>
                    <a:pt x="842" y="296"/>
                  </a:lnTo>
                  <a:lnTo>
                    <a:pt x="835" y="276"/>
                  </a:lnTo>
                  <a:lnTo>
                    <a:pt x="826" y="256"/>
                  </a:lnTo>
                  <a:lnTo>
                    <a:pt x="817" y="237"/>
                  </a:lnTo>
                  <a:lnTo>
                    <a:pt x="807" y="219"/>
                  </a:lnTo>
                  <a:lnTo>
                    <a:pt x="795" y="200"/>
                  </a:lnTo>
                  <a:lnTo>
                    <a:pt x="783" y="182"/>
                  </a:lnTo>
                  <a:lnTo>
                    <a:pt x="771" y="165"/>
                  </a:lnTo>
                  <a:lnTo>
                    <a:pt x="756" y="147"/>
                  </a:lnTo>
                  <a:lnTo>
                    <a:pt x="741" y="131"/>
                  </a:lnTo>
                  <a:lnTo>
                    <a:pt x="726" y="115"/>
                  </a:lnTo>
                  <a:lnTo>
                    <a:pt x="710" y="100"/>
                  </a:lnTo>
                  <a:lnTo>
                    <a:pt x="692" y="87"/>
                  </a:lnTo>
                  <a:lnTo>
                    <a:pt x="675" y="74"/>
                  </a:lnTo>
                  <a:lnTo>
                    <a:pt x="657" y="62"/>
                  </a:lnTo>
                  <a:lnTo>
                    <a:pt x="639" y="51"/>
                  </a:lnTo>
                  <a:lnTo>
                    <a:pt x="621" y="41"/>
                  </a:lnTo>
                  <a:lnTo>
                    <a:pt x="602" y="33"/>
                  </a:lnTo>
                  <a:lnTo>
                    <a:pt x="582" y="25"/>
                  </a:lnTo>
                  <a:lnTo>
                    <a:pt x="562" y="19"/>
                  </a:lnTo>
                  <a:lnTo>
                    <a:pt x="542" y="12"/>
                  </a:lnTo>
                  <a:lnTo>
                    <a:pt x="521" y="8"/>
                  </a:lnTo>
                  <a:lnTo>
                    <a:pt x="499" y="4"/>
                  </a:lnTo>
                  <a:lnTo>
                    <a:pt x="478" y="2"/>
                  </a:lnTo>
                  <a:lnTo>
                    <a:pt x="455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98920" y="2514600"/>
            <a:ext cx="1965240" cy="596880"/>
            <a:chOff x="3598920" y="2514600"/>
            <a:chExt cx="1965240" cy="596880"/>
          </a:xfrm>
        </p:grpSpPr>
        <p:sp>
          <p:nvSpPr>
            <p:cNvPr id="949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1004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6888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2592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1004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1004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6888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6888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2592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2592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205080" y="3452760"/>
            <a:ext cx="2730600" cy="2567160"/>
            <a:chOff x="3205080" y="3452760"/>
            <a:chExt cx="2730600" cy="2567160"/>
          </a:xfrm>
        </p:grpSpPr>
        <p:sp>
          <p:nvSpPr>
            <p:cNvPr id="965" name=""/>
            <p:cNvSpPr/>
            <p:nvPr/>
          </p:nvSpPr>
          <p:spPr>
            <a:xfrm>
              <a:off x="3205080" y="5678640"/>
              <a:ext cx="2730600" cy="34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34040" y="3452760"/>
              <a:ext cx="122040" cy="9720"/>
            </a:xfrm>
            <a:custGeom>
              <a:avLst/>
              <a:gdLst/>
              <a:ahLst/>
              <a:rect l="l" t="t" r="r" b="b"/>
              <a:pathLst>
                <a:path w="384" h="29">
                  <a:moveTo>
                    <a:pt x="117" y="0"/>
                  </a:moveTo>
                  <a:lnTo>
                    <a:pt x="199" y="0"/>
                  </a:lnTo>
                  <a:lnTo>
                    <a:pt x="279" y="19"/>
                  </a:lnTo>
                  <a:lnTo>
                    <a:pt x="359" y="19"/>
                  </a:lnTo>
                  <a:lnTo>
                    <a:pt x="384" y="29"/>
                  </a:lnTo>
                  <a:lnTo>
                    <a:pt x="0" y="29"/>
                  </a:lnTo>
                  <a:lnTo>
                    <a:pt x="37" y="1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303800" y="3452760"/>
              <a:ext cx="174600" cy="19080"/>
            </a:xfrm>
            <a:custGeom>
              <a:avLst/>
              <a:gdLst/>
              <a:ahLst/>
              <a:rect l="l" t="t" r="r" b="b"/>
              <a:pathLst>
                <a:path w="554" h="58">
                  <a:moveTo>
                    <a:pt x="215" y="0"/>
                  </a:moveTo>
                  <a:lnTo>
                    <a:pt x="297" y="0"/>
                  </a:lnTo>
                  <a:lnTo>
                    <a:pt x="377" y="19"/>
                  </a:lnTo>
                  <a:lnTo>
                    <a:pt x="457" y="19"/>
                  </a:lnTo>
                  <a:lnTo>
                    <a:pt x="554" y="58"/>
                  </a:lnTo>
                  <a:lnTo>
                    <a:pt x="0" y="58"/>
                  </a:lnTo>
                  <a:lnTo>
                    <a:pt x="54" y="40"/>
                  </a:lnTo>
                  <a:lnTo>
                    <a:pt x="135" y="1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72120" y="3462480"/>
              <a:ext cx="222120" cy="19080"/>
            </a:xfrm>
            <a:custGeom>
              <a:avLst/>
              <a:gdLst/>
              <a:ahLst/>
              <a:rect l="l" t="t" r="r" b="b"/>
              <a:pathLst>
                <a:path w="696" h="58">
                  <a:moveTo>
                    <a:pt x="194" y="0"/>
                  </a:moveTo>
                  <a:lnTo>
                    <a:pt x="578" y="0"/>
                  </a:lnTo>
                  <a:lnTo>
                    <a:pt x="654" y="31"/>
                  </a:lnTo>
                  <a:lnTo>
                    <a:pt x="696" y="58"/>
                  </a:lnTo>
                  <a:lnTo>
                    <a:pt x="0" y="58"/>
                  </a:lnTo>
                  <a:lnTo>
                    <a:pt x="9" y="52"/>
                  </a:lnTo>
                  <a:lnTo>
                    <a:pt x="90" y="31"/>
                  </a:lnTo>
                  <a:lnTo>
                    <a:pt x="150" y="11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57720" y="3471840"/>
              <a:ext cx="257040" cy="19080"/>
            </a:xfrm>
            <a:custGeom>
              <a:avLst/>
              <a:gdLst/>
              <a:ahLst/>
              <a:rect l="l" t="t" r="r" b="b"/>
              <a:pathLst>
                <a:path w="811" h="58">
                  <a:moveTo>
                    <a:pt x="142" y="0"/>
                  </a:moveTo>
                  <a:lnTo>
                    <a:pt x="696" y="0"/>
                  </a:lnTo>
                  <a:lnTo>
                    <a:pt x="700" y="2"/>
                  </a:lnTo>
                  <a:lnTo>
                    <a:pt x="762" y="43"/>
                  </a:lnTo>
                  <a:lnTo>
                    <a:pt x="811" y="58"/>
                  </a:lnTo>
                  <a:lnTo>
                    <a:pt x="0" y="58"/>
                  </a:lnTo>
                  <a:lnTo>
                    <a:pt x="55" y="23"/>
                  </a:lnTo>
                  <a:lnTo>
                    <a:pt x="136" y="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45120" y="3481560"/>
              <a:ext cx="282600" cy="18720"/>
            </a:xfrm>
            <a:custGeom>
              <a:avLst/>
              <a:gdLst/>
              <a:ahLst/>
              <a:rect l="l" t="t" r="r" b="b"/>
              <a:pathLst>
                <a:path w="890" h="59">
                  <a:moveTo>
                    <a:pt x="89" y="0"/>
                  </a:moveTo>
                  <a:lnTo>
                    <a:pt x="785" y="0"/>
                  </a:lnTo>
                  <a:lnTo>
                    <a:pt x="805" y="14"/>
                  </a:lnTo>
                  <a:lnTo>
                    <a:pt x="865" y="33"/>
                  </a:lnTo>
                  <a:lnTo>
                    <a:pt x="890" y="59"/>
                  </a:lnTo>
                  <a:lnTo>
                    <a:pt x="0" y="59"/>
                  </a:lnTo>
                  <a:lnTo>
                    <a:pt x="38" y="3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32160" y="3490920"/>
              <a:ext cx="303480" cy="17280"/>
            </a:xfrm>
            <a:custGeom>
              <a:avLst/>
              <a:gdLst/>
              <a:ahLst/>
              <a:rect l="l" t="t" r="r" b="b"/>
              <a:pathLst>
                <a:path w="956" h="58">
                  <a:moveTo>
                    <a:pt x="80" y="0"/>
                  </a:moveTo>
                  <a:lnTo>
                    <a:pt x="891" y="0"/>
                  </a:lnTo>
                  <a:lnTo>
                    <a:pt x="902" y="4"/>
                  </a:lnTo>
                  <a:lnTo>
                    <a:pt x="956" y="58"/>
                  </a:lnTo>
                  <a:lnTo>
                    <a:pt x="0" y="58"/>
                  </a:lnTo>
                  <a:lnTo>
                    <a:pt x="14" y="45"/>
                  </a:lnTo>
                  <a:lnTo>
                    <a:pt x="75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30720" y="3500280"/>
              <a:ext cx="317520" cy="17640"/>
            </a:xfrm>
            <a:custGeom>
              <a:avLst/>
              <a:gdLst/>
              <a:ahLst/>
              <a:rect l="l" t="t" r="r" b="b"/>
              <a:pathLst>
                <a:path w="1002" h="58">
                  <a:moveTo>
                    <a:pt x="44" y="0"/>
                  </a:moveTo>
                  <a:lnTo>
                    <a:pt x="934" y="0"/>
                  </a:lnTo>
                  <a:lnTo>
                    <a:pt x="969" y="35"/>
                  </a:lnTo>
                  <a:lnTo>
                    <a:pt x="100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35"/>
                  </a:lnTo>
                  <a:lnTo>
                    <a:pt x="21" y="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30720" y="3508200"/>
              <a:ext cx="330120" cy="19080"/>
            </a:xfrm>
            <a:custGeom>
              <a:avLst/>
              <a:gdLst/>
              <a:ahLst/>
              <a:rect l="l" t="t" r="r" b="b"/>
              <a:pathLst>
                <a:path w="1040" h="59">
                  <a:moveTo>
                    <a:pt x="7" y="0"/>
                  </a:moveTo>
                  <a:lnTo>
                    <a:pt x="963" y="0"/>
                  </a:lnTo>
                  <a:lnTo>
                    <a:pt x="969" y="7"/>
                  </a:lnTo>
                  <a:lnTo>
                    <a:pt x="1029" y="48"/>
                  </a:lnTo>
                  <a:lnTo>
                    <a:pt x="1040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26040" y="3517920"/>
              <a:ext cx="344520" cy="19080"/>
            </a:xfrm>
            <a:custGeom>
              <a:avLst/>
              <a:gdLst/>
              <a:ahLst/>
              <a:rect l="l" t="t" r="r" b="b"/>
              <a:pathLst>
                <a:path w="1083" h="58">
                  <a:moveTo>
                    <a:pt x="12" y="0"/>
                  </a:moveTo>
                  <a:lnTo>
                    <a:pt x="1014" y="0"/>
                  </a:lnTo>
                  <a:lnTo>
                    <a:pt x="1041" y="18"/>
                  </a:lnTo>
                  <a:lnTo>
                    <a:pt x="1082" y="57"/>
                  </a:lnTo>
                  <a:lnTo>
                    <a:pt x="1083" y="58"/>
                  </a:lnTo>
                  <a:lnTo>
                    <a:pt x="0" y="58"/>
                  </a:lnTo>
                  <a:lnTo>
                    <a:pt x="12" y="3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221000" y="3527280"/>
              <a:ext cx="355680" cy="19080"/>
            </a:xfrm>
            <a:custGeom>
              <a:avLst/>
              <a:gdLst/>
              <a:ahLst/>
              <a:rect l="l" t="t" r="r" b="b"/>
              <a:pathLst>
                <a:path w="1119" h="59">
                  <a:moveTo>
                    <a:pt x="30" y="0"/>
                  </a:moveTo>
                  <a:lnTo>
                    <a:pt x="1070" y="0"/>
                  </a:lnTo>
                  <a:lnTo>
                    <a:pt x="1100" y="28"/>
                  </a:lnTo>
                  <a:lnTo>
                    <a:pt x="1119" y="59"/>
                  </a:lnTo>
                  <a:lnTo>
                    <a:pt x="0" y="59"/>
                  </a:lnTo>
                  <a:lnTo>
                    <a:pt x="3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14880" y="3537000"/>
              <a:ext cx="36828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35" y="0"/>
                  </a:moveTo>
                  <a:lnTo>
                    <a:pt x="1118" y="0"/>
                  </a:lnTo>
                  <a:lnTo>
                    <a:pt x="1156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10200" y="3546360"/>
              <a:ext cx="377640" cy="17640"/>
            </a:xfrm>
            <a:custGeom>
              <a:avLst/>
              <a:gdLst/>
              <a:ahLst/>
              <a:rect l="l" t="t" r="r" b="b"/>
              <a:pathLst>
                <a:path w="1186" h="58">
                  <a:moveTo>
                    <a:pt x="32" y="0"/>
                  </a:moveTo>
                  <a:lnTo>
                    <a:pt x="1151" y="0"/>
                  </a:lnTo>
                  <a:lnTo>
                    <a:pt x="1173" y="31"/>
                  </a:lnTo>
                  <a:lnTo>
                    <a:pt x="1186" y="58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06960" y="3554280"/>
              <a:ext cx="385560" cy="19080"/>
            </a:xfrm>
            <a:custGeom>
              <a:avLst/>
              <a:gdLst/>
              <a:ahLst/>
              <a:rect l="l" t="t" r="r" b="b"/>
              <a:pathLst>
                <a:path w="1211" h="58">
                  <a:moveTo>
                    <a:pt x="25" y="0"/>
                  </a:moveTo>
                  <a:lnTo>
                    <a:pt x="1181" y="0"/>
                  </a:lnTo>
                  <a:lnTo>
                    <a:pt x="1183" y="3"/>
                  </a:lnTo>
                  <a:lnTo>
                    <a:pt x="1211" y="58"/>
                  </a:lnTo>
                  <a:lnTo>
                    <a:pt x="0" y="58"/>
                  </a:lnTo>
                  <a:lnTo>
                    <a:pt x="12" y="2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05160" y="3564000"/>
              <a:ext cx="392400" cy="19080"/>
            </a:xfrm>
            <a:custGeom>
              <a:avLst/>
              <a:gdLst/>
              <a:ahLst/>
              <a:rect l="l" t="t" r="r" b="b"/>
              <a:pathLst>
                <a:path w="1235" h="58">
                  <a:moveTo>
                    <a:pt x="19" y="0"/>
                  </a:moveTo>
                  <a:lnTo>
                    <a:pt x="1205" y="0"/>
                  </a:lnTo>
                  <a:lnTo>
                    <a:pt x="1233" y="53"/>
                  </a:lnTo>
                  <a:lnTo>
                    <a:pt x="1235" y="58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02280" y="3573360"/>
              <a:ext cx="39816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16" y="0"/>
                  </a:moveTo>
                  <a:lnTo>
                    <a:pt x="1227" y="0"/>
                  </a:lnTo>
                  <a:lnTo>
                    <a:pt x="1240" y="25"/>
                  </a:lnTo>
                  <a:lnTo>
                    <a:pt x="1256" y="59"/>
                  </a:lnTo>
                  <a:lnTo>
                    <a:pt x="0" y="59"/>
                  </a:lnTo>
                  <a:lnTo>
                    <a:pt x="8" y="2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200480" y="3583080"/>
              <a:ext cx="403200" cy="19080"/>
            </a:xfrm>
            <a:custGeom>
              <a:avLst/>
              <a:gdLst/>
              <a:ahLst/>
              <a:rect l="l" t="t" r="r" b="b"/>
              <a:pathLst>
                <a:path w="1273" h="58">
                  <a:moveTo>
                    <a:pt x="15" y="0"/>
                  </a:moveTo>
                  <a:lnTo>
                    <a:pt x="1250" y="0"/>
                  </a:lnTo>
                  <a:lnTo>
                    <a:pt x="1267" y="36"/>
                  </a:lnTo>
                  <a:lnTo>
                    <a:pt x="1273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97240" y="3592440"/>
              <a:ext cx="409680" cy="19080"/>
            </a:xfrm>
            <a:custGeom>
              <a:avLst/>
              <a:gdLst/>
              <a:ahLst/>
              <a:rect l="l" t="t" r="r" b="b"/>
              <a:pathLst>
                <a:path w="1288" h="59">
                  <a:moveTo>
                    <a:pt x="16" y="0"/>
                  </a:moveTo>
                  <a:lnTo>
                    <a:pt x="1272" y="0"/>
                  </a:lnTo>
                  <a:lnTo>
                    <a:pt x="1275" y="7"/>
                  </a:lnTo>
                  <a:lnTo>
                    <a:pt x="1288" y="59"/>
                  </a:lnTo>
                  <a:lnTo>
                    <a:pt x="0" y="59"/>
                  </a:lnTo>
                  <a:lnTo>
                    <a:pt x="4" y="4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4000" y="3602160"/>
              <a:ext cx="414360" cy="17280"/>
            </a:xfrm>
            <a:custGeom>
              <a:avLst/>
              <a:gdLst/>
              <a:ahLst/>
              <a:rect l="l" t="t" r="r" b="b"/>
              <a:pathLst>
                <a:path w="1307" h="58">
                  <a:moveTo>
                    <a:pt x="18" y="0"/>
                  </a:moveTo>
                  <a:lnTo>
                    <a:pt x="1291" y="0"/>
                  </a:lnTo>
                  <a:lnTo>
                    <a:pt x="1307" y="58"/>
                  </a:lnTo>
                  <a:lnTo>
                    <a:pt x="0" y="58"/>
                  </a:lnTo>
                  <a:lnTo>
                    <a:pt x="14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92560" y="3611520"/>
              <a:ext cx="419040" cy="17640"/>
            </a:xfrm>
            <a:custGeom>
              <a:avLst/>
              <a:gdLst/>
              <a:ahLst/>
              <a:rect l="l" t="t" r="r" b="b"/>
              <a:pathLst>
                <a:path w="1322" h="58">
                  <a:moveTo>
                    <a:pt x="16" y="0"/>
                  </a:moveTo>
                  <a:lnTo>
                    <a:pt x="1304" y="0"/>
                  </a:lnTo>
                  <a:lnTo>
                    <a:pt x="1313" y="28"/>
                  </a:lnTo>
                  <a:lnTo>
                    <a:pt x="1322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192560" y="361944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6" y="0"/>
                  </a:moveTo>
                  <a:lnTo>
                    <a:pt x="1313" y="0"/>
                  </a:lnTo>
                  <a:lnTo>
                    <a:pt x="1313" y="0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92560" y="362916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22" y="0"/>
                  </a:lnTo>
                  <a:lnTo>
                    <a:pt x="1332" y="30"/>
                  </a:lnTo>
                  <a:lnTo>
                    <a:pt x="133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92560" y="363852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60">
                  <a:moveTo>
                    <a:pt x="0" y="0"/>
                  </a:moveTo>
                  <a:lnTo>
                    <a:pt x="1331" y="0"/>
                  </a:lnTo>
                  <a:lnTo>
                    <a:pt x="1332" y="2"/>
                  </a:lnTo>
                  <a:lnTo>
                    <a:pt x="1332" y="60"/>
                  </a:lnTo>
                  <a:lnTo>
                    <a:pt x="0" y="60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92560" y="3648240"/>
              <a:ext cx="42228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54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92560" y="3657600"/>
              <a:ext cx="422280" cy="1764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24"/>
                  </a:lnTo>
                  <a:lnTo>
                    <a:pt x="1325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92560" y="366552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0" y="0"/>
                  </a:moveTo>
                  <a:lnTo>
                    <a:pt x="1331" y="0"/>
                  </a:lnTo>
                  <a:lnTo>
                    <a:pt x="132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192560" y="3675240"/>
              <a:ext cx="420840" cy="18720"/>
            </a:xfrm>
            <a:custGeom>
              <a:avLst/>
              <a:gdLst/>
              <a:ahLst/>
              <a:rect l="l" t="t" r="r" b="b"/>
              <a:pathLst>
                <a:path w="1325" h="58">
                  <a:moveTo>
                    <a:pt x="0" y="0"/>
                  </a:moveTo>
                  <a:lnTo>
                    <a:pt x="1325" y="0"/>
                  </a:lnTo>
                  <a:lnTo>
                    <a:pt x="1314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92560" y="3684600"/>
              <a:ext cx="419040" cy="19080"/>
            </a:xfrm>
            <a:custGeom>
              <a:avLst/>
              <a:gdLst/>
              <a:ahLst/>
              <a:rect l="l" t="t" r="r" b="b"/>
              <a:pathLst>
                <a:path w="1320" h="59">
                  <a:moveTo>
                    <a:pt x="0" y="0"/>
                  </a:moveTo>
                  <a:lnTo>
                    <a:pt x="1320" y="0"/>
                  </a:lnTo>
                  <a:lnTo>
                    <a:pt x="1313" y="39"/>
                  </a:lnTo>
                  <a:lnTo>
                    <a:pt x="1302" y="59"/>
                  </a:lnTo>
                  <a:lnTo>
                    <a:pt x="0" y="5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2560" y="3693960"/>
              <a:ext cx="417600" cy="19080"/>
            </a:xfrm>
            <a:custGeom>
              <a:avLst/>
              <a:gdLst/>
              <a:ahLst/>
              <a:rect l="l" t="t" r="r" b="b"/>
              <a:pathLst>
                <a:path w="1314" h="58">
                  <a:moveTo>
                    <a:pt x="0" y="0"/>
                  </a:moveTo>
                  <a:lnTo>
                    <a:pt x="1314" y="0"/>
                  </a:lnTo>
                  <a:lnTo>
                    <a:pt x="1313" y="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92560" y="3703680"/>
              <a:ext cx="412920" cy="19080"/>
            </a:xfrm>
            <a:custGeom>
              <a:avLst/>
              <a:gdLst/>
              <a:ahLst/>
              <a:rect l="l" t="t" r="r" b="b"/>
              <a:pathLst>
                <a:path w="1302" h="59">
                  <a:moveTo>
                    <a:pt x="0" y="0"/>
                  </a:moveTo>
                  <a:lnTo>
                    <a:pt x="1302" y="0"/>
                  </a:lnTo>
                  <a:lnTo>
                    <a:pt x="1272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92560" y="3713040"/>
              <a:ext cx="407880" cy="1764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0" y="0"/>
                  </a:moveTo>
                  <a:lnTo>
                    <a:pt x="1287" y="0"/>
                  </a:lnTo>
                  <a:lnTo>
                    <a:pt x="1272" y="31"/>
                  </a:lnTo>
                  <a:lnTo>
                    <a:pt x="125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92560" y="3722760"/>
              <a:ext cx="403200" cy="17280"/>
            </a:xfrm>
            <a:custGeom>
              <a:avLst/>
              <a:gdLst/>
              <a:ahLst/>
              <a:rect l="l" t="t" r="r" b="b"/>
              <a:pathLst>
                <a:path w="1272" h="58">
                  <a:moveTo>
                    <a:pt x="0" y="0"/>
                  </a:moveTo>
                  <a:lnTo>
                    <a:pt x="1272" y="0"/>
                  </a:lnTo>
                  <a:lnTo>
                    <a:pt x="1272" y="1"/>
                  </a:lnTo>
                  <a:lnTo>
                    <a:pt x="1229" y="58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91120" y="3730680"/>
              <a:ext cx="39852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6" y="0"/>
                  </a:moveTo>
                  <a:lnTo>
                    <a:pt x="1256" y="0"/>
                  </a:lnTo>
                  <a:lnTo>
                    <a:pt x="1217" y="53"/>
                  </a:lnTo>
                  <a:lnTo>
                    <a:pt x="1213" y="59"/>
                  </a:lnTo>
                  <a:lnTo>
                    <a:pt x="0" y="59"/>
                  </a:lnTo>
                  <a:lnTo>
                    <a:pt x="6" y="5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181400" y="3740040"/>
              <a:ext cx="401760" cy="190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35" y="0"/>
                  </a:moveTo>
                  <a:lnTo>
                    <a:pt x="1264" y="0"/>
                  </a:lnTo>
                  <a:lnTo>
                    <a:pt x="1246" y="23"/>
                  </a:lnTo>
                  <a:lnTo>
                    <a:pt x="1220" y="58"/>
                  </a:lnTo>
                  <a:lnTo>
                    <a:pt x="0" y="58"/>
                  </a:lnTo>
                  <a:lnTo>
                    <a:pt x="14" y="43"/>
                  </a:lnTo>
                  <a:lnTo>
                    <a:pt x="35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79960" y="3749760"/>
              <a:ext cx="395280" cy="19080"/>
            </a:xfrm>
            <a:custGeom>
              <a:avLst/>
              <a:gdLst/>
              <a:ahLst/>
              <a:rect l="l" t="t" r="r" b="b"/>
              <a:pathLst>
                <a:path w="1247" h="58">
                  <a:moveTo>
                    <a:pt x="34" y="0"/>
                  </a:moveTo>
                  <a:lnTo>
                    <a:pt x="1247" y="0"/>
                  </a:lnTo>
                  <a:lnTo>
                    <a:pt x="1203" y="58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19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73480" y="3759120"/>
              <a:ext cx="395280" cy="17640"/>
            </a:xfrm>
            <a:custGeom>
              <a:avLst/>
              <a:gdLst/>
              <a:ahLst/>
              <a:rect l="l" t="t" r="r" b="b"/>
              <a:pathLst>
                <a:path w="1245" h="58">
                  <a:moveTo>
                    <a:pt x="25" y="0"/>
                  </a:moveTo>
                  <a:lnTo>
                    <a:pt x="1245" y="0"/>
                  </a:lnTo>
                  <a:lnTo>
                    <a:pt x="1209" y="47"/>
                  </a:lnTo>
                  <a:lnTo>
                    <a:pt x="1198" y="58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0" y="47"/>
                  </a:lnTo>
                  <a:lnTo>
                    <a:pt x="20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73480" y="3768840"/>
              <a:ext cx="387360" cy="17280"/>
            </a:xfrm>
            <a:custGeom>
              <a:avLst/>
              <a:gdLst/>
              <a:ahLst/>
              <a:rect l="l" t="t" r="r" b="b"/>
              <a:pathLst>
                <a:path w="1223" h="59">
                  <a:moveTo>
                    <a:pt x="20" y="0"/>
                  </a:moveTo>
                  <a:lnTo>
                    <a:pt x="1223" y="0"/>
                  </a:lnTo>
                  <a:lnTo>
                    <a:pt x="1209" y="18"/>
                  </a:lnTo>
                  <a:lnTo>
                    <a:pt x="1169" y="59"/>
                  </a:lnTo>
                  <a:lnTo>
                    <a:pt x="0" y="59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73480" y="377676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58">
                  <a:moveTo>
                    <a:pt x="0" y="0"/>
                  </a:moveTo>
                  <a:lnTo>
                    <a:pt x="1198" y="0"/>
                  </a:lnTo>
                  <a:lnTo>
                    <a:pt x="1140" y="58"/>
                  </a:lnTo>
                  <a:lnTo>
                    <a:pt x="29" y="58"/>
                  </a:lnTo>
                  <a:lnTo>
                    <a:pt x="20" y="49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73480" y="3786120"/>
              <a:ext cx="371520" cy="1908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29" y="39"/>
                  </a:lnTo>
                  <a:lnTo>
                    <a:pt x="1120" y="58"/>
                  </a:lnTo>
                  <a:lnTo>
                    <a:pt x="64" y="58"/>
                  </a:lnTo>
                  <a:lnTo>
                    <a:pt x="60" y="39"/>
                  </a:lnTo>
                  <a:lnTo>
                    <a:pt x="39" y="39"/>
                  </a:lnTo>
                  <a:lnTo>
                    <a:pt x="2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83200" y="379584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59">
                  <a:moveTo>
                    <a:pt x="0" y="0"/>
                  </a:moveTo>
                  <a:lnTo>
                    <a:pt x="1111" y="0"/>
                  </a:lnTo>
                  <a:lnTo>
                    <a:pt x="1100" y="11"/>
                  </a:lnTo>
                  <a:lnTo>
                    <a:pt x="1077" y="59"/>
                  </a:lnTo>
                  <a:lnTo>
                    <a:pt x="43" y="59"/>
                  </a:lnTo>
                  <a:lnTo>
                    <a:pt x="31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194000" y="3805200"/>
              <a:ext cx="335160" cy="19080"/>
            </a:xfrm>
            <a:custGeom>
              <a:avLst/>
              <a:gdLst/>
              <a:ahLst/>
              <a:rect l="l" t="t" r="r" b="b"/>
              <a:pathLst>
                <a:path w="1056" h="58">
                  <a:moveTo>
                    <a:pt x="0" y="0"/>
                  </a:moveTo>
                  <a:lnTo>
                    <a:pt x="1056" y="0"/>
                  </a:lnTo>
                  <a:lnTo>
                    <a:pt x="1027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195800" y="3814920"/>
              <a:ext cx="328680" cy="17280"/>
            </a:xfrm>
            <a:custGeom>
              <a:avLst/>
              <a:gdLst/>
              <a:ahLst/>
              <a:rect l="l" t="t" r="r" b="b"/>
              <a:pathLst>
                <a:path w="1034" h="58">
                  <a:moveTo>
                    <a:pt x="0" y="0"/>
                  </a:moveTo>
                  <a:lnTo>
                    <a:pt x="1034" y="0"/>
                  </a:lnTo>
                  <a:lnTo>
                    <a:pt x="1017" y="33"/>
                  </a:lnTo>
                  <a:lnTo>
                    <a:pt x="1014" y="58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8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99040" y="3824280"/>
              <a:ext cx="320400" cy="17640"/>
            </a:xfrm>
            <a:custGeom>
              <a:avLst/>
              <a:gdLst/>
              <a:ahLst/>
              <a:rect l="l" t="t" r="r" b="b"/>
              <a:pathLst>
                <a:path w="1012" h="58">
                  <a:moveTo>
                    <a:pt x="0" y="0"/>
                  </a:moveTo>
                  <a:lnTo>
                    <a:pt x="1012" y="0"/>
                  </a:lnTo>
                  <a:lnTo>
                    <a:pt x="1010" y="4"/>
                  </a:lnTo>
                  <a:lnTo>
                    <a:pt x="1001" y="58"/>
                  </a:lnTo>
                  <a:lnTo>
                    <a:pt x="36" y="58"/>
                  </a:lnTo>
                  <a:lnTo>
                    <a:pt x="41" y="44"/>
                  </a:lnTo>
                  <a:lnTo>
                    <a:pt x="21" y="23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06960" y="383220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58">
                  <a:moveTo>
                    <a:pt x="0" y="0"/>
                  </a:moveTo>
                  <a:lnTo>
                    <a:pt x="980" y="0"/>
                  </a:lnTo>
                  <a:lnTo>
                    <a:pt x="969" y="58"/>
                  </a:lnTo>
                  <a:lnTo>
                    <a:pt x="0" y="58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05160" y="3841920"/>
              <a:ext cx="311400" cy="18720"/>
            </a:xfrm>
            <a:custGeom>
              <a:avLst/>
              <a:gdLst/>
              <a:ahLst/>
              <a:rect l="l" t="t" r="r" b="b"/>
              <a:pathLst>
                <a:path w="980" h="59">
                  <a:moveTo>
                    <a:pt x="15" y="0"/>
                  </a:moveTo>
                  <a:lnTo>
                    <a:pt x="980" y="0"/>
                  </a:lnTo>
                  <a:lnTo>
                    <a:pt x="971" y="59"/>
                  </a:lnTo>
                  <a:lnTo>
                    <a:pt x="25" y="59"/>
                  </a:lnTo>
                  <a:lnTo>
                    <a:pt x="0" y="4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05160" y="3851280"/>
              <a:ext cx="309600" cy="19080"/>
            </a:xfrm>
            <a:custGeom>
              <a:avLst/>
              <a:gdLst/>
              <a:ahLst/>
              <a:rect l="l" t="t" r="r" b="b"/>
              <a:pathLst>
                <a:path w="975" h="59">
                  <a:moveTo>
                    <a:pt x="6" y="0"/>
                  </a:moveTo>
                  <a:lnTo>
                    <a:pt x="975" y="0"/>
                  </a:lnTo>
                  <a:lnTo>
                    <a:pt x="970" y="37"/>
                  </a:lnTo>
                  <a:lnTo>
                    <a:pt x="970" y="59"/>
                  </a:lnTo>
                  <a:lnTo>
                    <a:pt x="39" y="59"/>
                  </a:lnTo>
                  <a:lnTo>
                    <a:pt x="39" y="37"/>
                  </a:lnTo>
                  <a:lnTo>
                    <a:pt x="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13080" y="3860640"/>
              <a:ext cx="300240" cy="19080"/>
            </a:xfrm>
            <a:custGeom>
              <a:avLst/>
              <a:gdLst/>
              <a:ahLst/>
              <a:rect l="l" t="t" r="r" b="b"/>
              <a:pathLst>
                <a:path w="946" h="58">
                  <a:moveTo>
                    <a:pt x="0" y="0"/>
                  </a:moveTo>
                  <a:lnTo>
                    <a:pt x="946" y="0"/>
                  </a:lnTo>
                  <a:lnTo>
                    <a:pt x="945" y="7"/>
                  </a:lnTo>
                  <a:lnTo>
                    <a:pt x="945" y="58"/>
                  </a:lnTo>
                  <a:lnTo>
                    <a:pt x="18" y="58"/>
                  </a:lnTo>
                  <a:lnTo>
                    <a:pt x="14" y="48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18120" y="3870360"/>
              <a:ext cx="295200" cy="17280"/>
            </a:xfrm>
            <a:custGeom>
              <a:avLst/>
              <a:gdLst/>
              <a:ahLst/>
              <a:rect l="l" t="t" r="r" b="b"/>
              <a:pathLst>
                <a:path w="934" h="58">
                  <a:moveTo>
                    <a:pt x="0" y="0"/>
                  </a:moveTo>
                  <a:lnTo>
                    <a:pt x="931" y="0"/>
                  </a:lnTo>
                  <a:lnTo>
                    <a:pt x="931" y="57"/>
                  </a:lnTo>
                  <a:lnTo>
                    <a:pt x="932" y="57"/>
                  </a:lnTo>
                  <a:lnTo>
                    <a:pt x="934" y="58"/>
                  </a:lnTo>
                  <a:lnTo>
                    <a:pt x="14" y="5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18120" y="3879720"/>
              <a:ext cx="315720" cy="17640"/>
            </a:xfrm>
            <a:custGeom>
              <a:avLst/>
              <a:gdLst/>
              <a:ahLst/>
              <a:rect l="l" t="t" r="r" b="b"/>
              <a:pathLst>
                <a:path w="994" h="58">
                  <a:moveTo>
                    <a:pt x="0" y="0"/>
                  </a:moveTo>
                  <a:lnTo>
                    <a:pt x="927" y="0"/>
                  </a:lnTo>
                  <a:lnTo>
                    <a:pt x="927" y="28"/>
                  </a:lnTo>
                  <a:lnTo>
                    <a:pt x="928" y="28"/>
                  </a:lnTo>
                  <a:lnTo>
                    <a:pt x="986" y="52"/>
                  </a:lnTo>
                  <a:lnTo>
                    <a:pt x="994" y="58"/>
                  </a:lnTo>
                  <a:lnTo>
                    <a:pt x="22" y="58"/>
                  </a:lnTo>
                  <a:lnTo>
                    <a:pt x="1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1000" y="3887640"/>
              <a:ext cx="322560" cy="19080"/>
            </a:xfrm>
            <a:custGeom>
              <a:avLst/>
              <a:gdLst/>
              <a:ahLst/>
              <a:rect l="l" t="t" r="r" b="b"/>
              <a:pathLst>
                <a:path w="1014" h="59">
                  <a:moveTo>
                    <a:pt x="0" y="0"/>
                  </a:moveTo>
                  <a:lnTo>
                    <a:pt x="920" y="0"/>
                  </a:lnTo>
                  <a:lnTo>
                    <a:pt x="976" y="23"/>
                  </a:lnTo>
                  <a:lnTo>
                    <a:pt x="996" y="42"/>
                  </a:lnTo>
                  <a:lnTo>
                    <a:pt x="1014" y="59"/>
                  </a:lnTo>
                  <a:lnTo>
                    <a:pt x="26" y="59"/>
                  </a:lnTo>
                  <a:lnTo>
                    <a:pt x="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26040" y="3897360"/>
              <a:ext cx="325440" cy="1908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0" y="0"/>
                  </a:moveTo>
                  <a:lnTo>
                    <a:pt x="972" y="0"/>
                  </a:lnTo>
                  <a:lnTo>
                    <a:pt x="984" y="13"/>
                  </a:lnTo>
                  <a:lnTo>
                    <a:pt x="1027" y="52"/>
                  </a:lnTo>
                  <a:lnTo>
                    <a:pt x="1027" y="58"/>
                  </a:lnTo>
                  <a:lnTo>
                    <a:pt x="79" y="58"/>
                  </a:lnTo>
                  <a:lnTo>
                    <a:pt x="56" y="54"/>
                  </a:lnTo>
                  <a:lnTo>
                    <a:pt x="1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30720" y="3906720"/>
              <a:ext cx="320760" cy="19080"/>
            </a:xfrm>
            <a:custGeom>
              <a:avLst/>
              <a:gdLst/>
              <a:ahLst/>
              <a:rect l="l" t="t" r="r" b="b"/>
              <a:pathLst>
                <a:path w="1013" h="58">
                  <a:moveTo>
                    <a:pt x="0" y="0"/>
                  </a:moveTo>
                  <a:lnTo>
                    <a:pt x="988" y="0"/>
                  </a:lnTo>
                  <a:lnTo>
                    <a:pt x="1013" y="22"/>
                  </a:lnTo>
                  <a:lnTo>
                    <a:pt x="1013" y="58"/>
                  </a:lnTo>
                  <a:lnTo>
                    <a:pt x="202" y="58"/>
                  </a:lnTo>
                  <a:lnTo>
                    <a:pt x="42" y="24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251240" y="3916440"/>
              <a:ext cx="301680" cy="19080"/>
            </a:xfrm>
            <a:custGeom>
              <a:avLst/>
              <a:gdLst/>
              <a:ahLst/>
              <a:rect l="l" t="t" r="r" b="b"/>
              <a:pathLst>
                <a:path w="951" h="59">
                  <a:moveTo>
                    <a:pt x="0" y="0"/>
                  </a:moveTo>
                  <a:lnTo>
                    <a:pt x="948" y="0"/>
                  </a:lnTo>
                  <a:lnTo>
                    <a:pt x="948" y="37"/>
                  </a:lnTo>
                  <a:lnTo>
                    <a:pt x="951" y="59"/>
                  </a:lnTo>
                  <a:lnTo>
                    <a:pt x="254" y="59"/>
                  </a:lnTo>
                  <a:lnTo>
                    <a:pt x="2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94080" y="3925800"/>
              <a:ext cx="260280" cy="17640"/>
            </a:xfrm>
            <a:custGeom>
              <a:avLst/>
              <a:gdLst/>
              <a:ahLst/>
              <a:rect l="l" t="t" r="r" b="b"/>
              <a:pathLst>
                <a:path w="819" h="58">
                  <a:moveTo>
                    <a:pt x="0" y="0"/>
                  </a:moveTo>
                  <a:lnTo>
                    <a:pt x="811" y="0"/>
                  </a:lnTo>
                  <a:lnTo>
                    <a:pt x="811" y="7"/>
                  </a:lnTo>
                  <a:lnTo>
                    <a:pt x="819" y="58"/>
                  </a:lnTo>
                  <a:lnTo>
                    <a:pt x="71" y="58"/>
                  </a:lnTo>
                  <a:lnTo>
                    <a:pt x="1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02000" y="3935520"/>
              <a:ext cx="254160" cy="17280"/>
            </a:xfrm>
            <a:custGeom>
              <a:avLst/>
              <a:gdLst/>
              <a:ahLst/>
              <a:rect l="l" t="t" r="r" b="b"/>
              <a:pathLst>
                <a:path w="798" h="58">
                  <a:moveTo>
                    <a:pt x="92" y="0"/>
                  </a:moveTo>
                  <a:lnTo>
                    <a:pt x="789" y="0"/>
                  </a:lnTo>
                  <a:lnTo>
                    <a:pt x="798" y="58"/>
                  </a:lnTo>
                  <a:lnTo>
                    <a:pt x="0" y="5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87960" y="3943440"/>
              <a:ext cx="268200" cy="19080"/>
            </a:xfrm>
            <a:custGeom>
              <a:avLst/>
              <a:gdLst/>
              <a:ahLst/>
              <a:rect l="l" t="t" r="r" b="b"/>
              <a:pathLst>
                <a:path w="849" h="58">
                  <a:moveTo>
                    <a:pt x="93" y="0"/>
                  </a:moveTo>
                  <a:lnTo>
                    <a:pt x="841" y="0"/>
                  </a:lnTo>
                  <a:lnTo>
                    <a:pt x="849" y="58"/>
                  </a:lnTo>
                  <a:lnTo>
                    <a:pt x="0" y="5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275000" y="3952800"/>
              <a:ext cx="282600" cy="19080"/>
            </a:xfrm>
            <a:custGeom>
              <a:avLst/>
              <a:gdLst/>
              <a:ahLst/>
              <a:rect l="l" t="t" r="r" b="b"/>
              <a:pathLst>
                <a:path w="889" h="59">
                  <a:moveTo>
                    <a:pt x="83" y="0"/>
                  </a:moveTo>
                  <a:lnTo>
                    <a:pt x="881" y="0"/>
                  </a:lnTo>
                  <a:lnTo>
                    <a:pt x="889" y="59"/>
                  </a:lnTo>
                  <a:lnTo>
                    <a:pt x="0" y="59"/>
                  </a:lnTo>
                  <a:lnTo>
                    <a:pt x="20" y="3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65640" y="3962520"/>
              <a:ext cx="293760" cy="19080"/>
            </a:xfrm>
            <a:custGeom>
              <a:avLst/>
              <a:gdLst/>
              <a:ahLst/>
              <a:rect l="l" t="t" r="r" b="b"/>
              <a:pathLst>
                <a:path w="924" h="58">
                  <a:moveTo>
                    <a:pt x="66" y="0"/>
                  </a:moveTo>
                  <a:lnTo>
                    <a:pt x="915" y="0"/>
                  </a:lnTo>
                  <a:lnTo>
                    <a:pt x="924" y="58"/>
                  </a:lnTo>
                  <a:lnTo>
                    <a:pt x="0" y="58"/>
                  </a:lnTo>
                  <a:lnTo>
                    <a:pt x="50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57720" y="397188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58">
                  <a:moveTo>
                    <a:pt x="59" y="0"/>
                  </a:moveTo>
                  <a:lnTo>
                    <a:pt x="948" y="0"/>
                  </a:lnTo>
                  <a:lnTo>
                    <a:pt x="957" y="58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46560" y="3981600"/>
              <a:ext cx="316080" cy="17280"/>
            </a:xfrm>
            <a:custGeom>
              <a:avLst/>
              <a:gdLst/>
              <a:ahLst/>
              <a:rect l="l" t="t" r="r" b="b"/>
              <a:pathLst>
                <a:path w="992" h="59">
                  <a:moveTo>
                    <a:pt x="60" y="0"/>
                  </a:moveTo>
                  <a:lnTo>
                    <a:pt x="984" y="0"/>
                  </a:lnTo>
                  <a:lnTo>
                    <a:pt x="992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237200" y="3990960"/>
              <a:ext cx="326880" cy="1764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61" y="0"/>
                  </a:moveTo>
                  <a:lnTo>
                    <a:pt x="1018" y="0"/>
                  </a:lnTo>
                  <a:lnTo>
                    <a:pt x="1027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27480" y="3998880"/>
              <a:ext cx="336600" cy="19080"/>
            </a:xfrm>
            <a:custGeom>
              <a:avLst/>
              <a:gdLst/>
              <a:ahLst/>
              <a:rect l="l" t="t" r="r" b="b"/>
              <a:pathLst>
                <a:path w="1060" h="59">
                  <a:moveTo>
                    <a:pt x="60" y="0"/>
                  </a:moveTo>
                  <a:lnTo>
                    <a:pt x="1052" y="0"/>
                  </a:lnTo>
                  <a:lnTo>
                    <a:pt x="1058" y="33"/>
                  </a:lnTo>
                  <a:lnTo>
                    <a:pt x="1060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18120" y="4008600"/>
              <a:ext cx="347400" cy="18720"/>
            </a:xfrm>
            <a:custGeom>
              <a:avLst/>
              <a:gdLst/>
              <a:ahLst/>
              <a:rect l="l" t="t" r="r" b="b"/>
              <a:pathLst>
                <a:path w="1093" h="58">
                  <a:moveTo>
                    <a:pt x="60" y="0"/>
                  </a:moveTo>
                  <a:lnTo>
                    <a:pt x="1087" y="0"/>
                  </a:lnTo>
                  <a:lnTo>
                    <a:pt x="1088" y="4"/>
                  </a:lnTo>
                  <a:lnTo>
                    <a:pt x="1093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08400" y="4017960"/>
              <a:ext cx="358920" cy="19080"/>
            </a:xfrm>
            <a:custGeom>
              <a:avLst/>
              <a:gdLst/>
              <a:ahLst/>
              <a:rect l="l" t="t" r="r" b="b"/>
              <a:pathLst>
                <a:path w="1126" h="58">
                  <a:moveTo>
                    <a:pt x="60" y="0"/>
                  </a:moveTo>
                  <a:lnTo>
                    <a:pt x="1120" y="0"/>
                  </a:lnTo>
                  <a:lnTo>
                    <a:pt x="1126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99040" y="4027320"/>
              <a:ext cx="368280" cy="17640"/>
            </a:xfrm>
            <a:custGeom>
              <a:avLst/>
              <a:gdLst/>
              <a:ahLst/>
              <a:rect l="l" t="t" r="r" b="b"/>
              <a:pathLst>
                <a:path w="1159" h="58">
                  <a:moveTo>
                    <a:pt x="60" y="0"/>
                  </a:moveTo>
                  <a:lnTo>
                    <a:pt x="1153" y="0"/>
                  </a:lnTo>
                  <a:lnTo>
                    <a:pt x="1159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89320" y="4037040"/>
              <a:ext cx="379440" cy="17280"/>
            </a:xfrm>
            <a:custGeom>
              <a:avLst/>
              <a:gdLst/>
              <a:ahLst/>
              <a:rect l="l" t="t" r="r" b="b"/>
              <a:pathLst>
                <a:path w="1191" h="58">
                  <a:moveTo>
                    <a:pt x="60" y="0"/>
                  </a:moveTo>
                  <a:lnTo>
                    <a:pt x="1186" y="0"/>
                  </a:lnTo>
                  <a:lnTo>
                    <a:pt x="1191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79960" y="4044960"/>
              <a:ext cx="388800" cy="19080"/>
            </a:xfrm>
            <a:custGeom>
              <a:avLst/>
              <a:gdLst/>
              <a:ahLst/>
              <a:rect l="l" t="t" r="r" b="b"/>
              <a:pathLst>
                <a:path w="1224" h="60">
                  <a:moveTo>
                    <a:pt x="60" y="0"/>
                  </a:moveTo>
                  <a:lnTo>
                    <a:pt x="1219" y="0"/>
                  </a:lnTo>
                  <a:lnTo>
                    <a:pt x="1224" y="60"/>
                  </a:lnTo>
                  <a:lnTo>
                    <a:pt x="0" y="6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170240" y="4054320"/>
              <a:ext cx="400320" cy="19080"/>
            </a:xfrm>
            <a:custGeom>
              <a:avLst/>
              <a:gdLst/>
              <a:ahLst/>
              <a:rect l="l" t="t" r="r" b="b"/>
              <a:pathLst>
                <a:path w="1257" h="58">
                  <a:moveTo>
                    <a:pt x="60" y="0"/>
                  </a:moveTo>
                  <a:lnTo>
                    <a:pt x="1251" y="0"/>
                  </a:lnTo>
                  <a:lnTo>
                    <a:pt x="12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60880" y="4064040"/>
              <a:ext cx="409680" cy="1908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60" y="0"/>
                  </a:moveTo>
                  <a:lnTo>
                    <a:pt x="1284" y="0"/>
                  </a:lnTo>
                  <a:lnTo>
                    <a:pt x="1287" y="2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51160" y="4073400"/>
              <a:ext cx="4194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60" y="0"/>
                  </a:moveTo>
                  <a:lnTo>
                    <a:pt x="1317" y="0"/>
                  </a:lnTo>
                  <a:lnTo>
                    <a:pt x="1317" y="1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41800" y="4083120"/>
              <a:ext cx="4287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60" y="0"/>
                  </a:moveTo>
                  <a:lnTo>
                    <a:pt x="1347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32440" y="4092480"/>
              <a:ext cx="438120" cy="17640"/>
            </a:xfrm>
            <a:custGeom>
              <a:avLst/>
              <a:gdLst/>
              <a:ahLst/>
              <a:rect l="l" t="t" r="r" b="b"/>
              <a:pathLst>
                <a:path w="1378" h="58">
                  <a:moveTo>
                    <a:pt x="61" y="0"/>
                  </a:moveTo>
                  <a:lnTo>
                    <a:pt x="1378" y="0"/>
                  </a:lnTo>
                  <a:lnTo>
                    <a:pt x="1378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22720" y="4102200"/>
              <a:ext cx="447840" cy="17280"/>
            </a:xfrm>
            <a:custGeom>
              <a:avLst/>
              <a:gdLst/>
              <a:ahLst/>
              <a:rect l="l" t="t" r="r" b="b"/>
              <a:pathLst>
                <a:path w="1407" h="58">
                  <a:moveTo>
                    <a:pt x="60" y="0"/>
                  </a:moveTo>
                  <a:lnTo>
                    <a:pt x="1407" y="0"/>
                  </a:lnTo>
                  <a:lnTo>
                    <a:pt x="140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13360" y="4110120"/>
              <a:ext cx="457200" cy="19080"/>
            </a:xfrm>
            <a:custGeom>
              <a:avLst/>
              <a:gdLst/>
              <a:ahLst/>
              <a:rect l="l" t="t" r="r" b="b"/>
              <a:pathLst>
                <a:path w="1437" h="60">
                  <a:moveTo>
                    <a:pt x="59" y="0"/>
                  </a:moveTo>
                  <a:lnTo>
                    <a:pt x="1437" y="0"/>
                  </a:lnTo>
                  <a:lnTo>
                    <a:pt x="1437" y="60"/>
                  </a:lnTo>
                  <a:lnTo>
                    <a:pt x="0" y="6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103640" y="4119480"/>
              <a:ext cx="466920" cy="19080"/>
            </a:xfrm>
            <a:custGeom>
              <a:avLst/>
              <a:gdLst/>
              <a:ahLst/>
              <a:rect l="l" t="t" r="r" b="b"/>
              <a:pathLst>
                <a:path w="1467" h="58">
                  <a:moveTo>
                    <a:pt x="60" y="0"/>
                  </a:moveTo>
                  <a:lnTo>
                    <a:pt x="1467" y="0"/>
                  </a:lnTo>
                  <a:lnTo>
                    <a:pt x="146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094280" y="4129200"/>
              <a:ext cx="476280" cy="19080"/>
            </a:xfrm>
            <a:custGeom>
              <a:avLst/>
              <a:gdLst/>
              <a:ahLst/>
              <a:rect l="l" t="t" r="r" b="b"/>
              <a:pathLst>
                <a:path w="1497" h="58">
                  <a:moveTo>
                    <a:pt x="60" y="0"/>
                  </a:moveTo>
                  <a:lnTo>
                    <a:pt x="1497" y="0"/>
                  </a:lnTo>
                  <a:lnTo>
                    <a:pt x="1497" y="50"/>
                  </a:lnTo>
                  <a:lnTo>
                    <a:pt x="149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084560" y="4138560"/>
              <a:ext cx="486000" cy="17640"/>
            </a:xfrm>
            <a:custGeom>
              <a:avLst/>
              <a:gdLst/>
              <a:ahLst/>
              <a:rect l="l" t="t" r="r" b="b"/>
              <a:pathLst>
                <a:path w="1527" h="58">
                  <a:moveTo>
                    <a:pt x="60" y="0"/>
                  </a:moveTo>
                  <a:lnTo>
                    <a:pt x="1527" y="0"/>
                  </a:lnTo>
                  <a:lnTo>
                    <a:pt x="1527" y="22"/>
                  </a:lnTo>
                  <a:lnTo>
                    <a:pt x="152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75200" y="4148280"/>
              <a:ext cx="495360" cy="17280"/>
            </a:xfrm>
            <a:custGeom>
              <a:avLst/>
              <a:gdLst/>
              <a:ahLst/>
              <a:rect l="l" t="t" r="r" b="b"/>
              <a:pathLst>
                <a:path w="1557" h="58">
                  <a:moveTo>
                    <a:pt x="60" y="0"/>
                  </a:moveTo>
                  <a:lnTo>
                    <a:pt x="1557" y="0"/>
                  </a:lnTo>
                  <a:lnTo>
                    <a:pt x="15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065480" y="4156200"/>
              <a:ext cx="505080" cy="19080"/>
            </a:xfrm>
            <a:custGeom>
              <a:avLst/>
              <a:gdLst/>
              <a:ahLst/>
              <a:rect l="l" t="t" r="r" b="b"/>
              <a:pathLst>
                <a:path w="1587" h="59">
                  <a:moveTo>
                    <a:pt x="60" y="0"/>
                  </a:moveTo>
                  <a:lnTo>
                    <a:pt x="1587" y="0"/>
                  </a:lnTo>
                  <a:lnTo>
                    <a:pt x="1587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059360" y="4165560"/>
              <a:ext cx="511200" cy="19080"/>
            </a:xfrm>
            <a:custGeom>
              <a:avLst/>
              <a:gdLst/>
              <a:ahLst/>
              <a:rect l="l" t="t" r="r" b="b"/>
              <a:pathLst>
                <a:path w="1607" h="58">
                  <a:moveTo>
                    <a:pt x="50" y="0"/>
                  </a:moveTo>
                  <a:lnTo>
                    <a:pt x="1607" y="0"/>
                  </a:lnTo>
                  <a:lnTo>
                    <a:pt x="1607" y="58"/>
                  </a:lnTo>
                  <a:lnTo>
                    <a:pt x="0" y="58"/>
                  </a:lnTo>
                  <a:lnTo>
                    <a:pt x="14" y="3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054320" y="4175280"/>
              <a:ext cx="516240" cy="18720"/>
            </a:xfrm>
            <a:custGeom>
              <a:avLst/>
              <a:gdLst/>
              <a:ahLst/>
              <a:rect l="l" t="t" r="r" b="b"/>
              <a:pathLst>
                <a:path w="1625" h="59">
                  <a:moveTo>
                    <a:pt x="38" y="0"/>
                  </a:moveTo>
                  <a:lnTo>
                    <a:pt x="1625" y="0"/>
                  </a:lnTo>
                  <a:lnTo>
                    <a:pt x="1625" y="59"/>
                  </a:lnTo>
                  <a:lnTo>
                    <a:pt x="0" y="59"/>
                  </a:lnTo>
                  <a:lnTo>
                    <a:pt x="3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48200" y="4184640"/>
              <a:ext cx="522360" cy="19080"/>
            </a:xfrm>
            <a:custGeom>
              <a:avLst/>
              <a:gdLst/>
              <a:ahLst/>
              <a:rect l="l" t="t" r="r" b="b"/>
              <a:pathLst>
                <a:path w="1642" h="58">
                  <a:moveTo>
                    <a:pt x="35" y="0"/>
                  </a:moveTo>
                  <a:lnTo>
                    <a:pt x="1642" y="0"/>
                  </a:lnTo>
                  <a:lnTo>
                    <a:pt x="1642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043520" y="4194000"/>
              <a:ext cx="527040" cy="19080"/>
            </a:xfrm>
            <a:custGeom>
              <a:avLst/>
              <a:gdLst/>
              <a:ahLst/>
              <a:rect l="l" t="t" r="r" b="b"/>
              <a:pathLst>
                <a:path w="1659" h="58">
                  <a:moveTo>
                    <a:pt x="34" y="0"/>
                  </a:moveTo>
                  <a:lnTo>
                    <a:pt x="1659" y="0"/>
                  </a:lnTo>
                  <a:lnTo>
                    <a:pt x="1659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37040" y="4203720"/>
              <a:ext cx="533520" cy="17280"/>
            </a:xfrm>
            <a:custGeom>
              <a:avLst/>
              <a:gdLst/>
              <a:ahLst/>
              <a:rect l="l" t="t" r="r" b="b"/>
              <a:pathLst>
                <a:path w="1677" h="59">
                  <a:moveTo>
                    <a:pt x="35" y="0"/>
                  </a:moveTo>
                  <a:lnTo>
                    <a:pt x="1677" y="0"/>
                  </a:lnTo>
                  <a:lnTo>
                    <a:pt x="1677" y="39"/>
                  </a:lnTo>
                  <a:lnTo>
                    <a:pt x="1675" y="59"/>
                  </a:lnTo>
                  <a:lnTo>
                    <a:pt x="0" y="5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032360" y="4213080"/>
              <a:ext cx="538200" cy="17640"/>
            </a:xfrm>
            <a:custGeom>
              <a:avLst/>
              <a:gdLst/>
              <a:ahLst/>
              <a:rect l="l" t="t" r="r" b="b"/>
              <a:pathLst>
                <a:path w="1694" h="58">
                  <a:moveTo>
                    <a:pt x="35" y="0"/>
                  </a:moveTo>
                  <a:lnTo>
                    <a:pt x="1694" y="0"/>
                  </a:lnTo>
                  <a:lnTo>
                    <a:pt x="1694" y="9"/>
                  </a:lnTo>
                  <a:lnTo>
                    <a:pt x="1689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27320" y="4221000"/>
              <a:ext cx="541440" cy="19080"/>
            </a:xfrm>
            <a:custGeom>
              <a:avLst/>
              <a:gdLst/>
              <a:ahLst/>
              <a:rect l="l" t="t" r="r" b="b"/>
              <a:pathLst>
                <a:path w="1709" h="58">
                  <a:moveTo>
                    <a:pt x="34" y="0"/>
                  </a:moveTo>
                  <a:lnTo>
                    <a:pt x="1709" y="0"/>
                  </a:lnTo>
                  <a:lnTo>
                    <a:pt x="1704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22640" y="4230720"/>
              <a:ext cx="546120" cy="190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28" y="0"/>
                  </a:moveTo>
                  <a:lnTo>
                    <a:pt x="1717" y="0"/>
                  </a:lnTo>
                  <a:lnTo>
                    <a:pt x="1712" y="58"/>
                  </a:lnTo>
                  <a:lnTo>
                    <a:pt x="0" y="58"/>
                  </a:lnTo>
                  <a:lnTo>
                    <a:pt x="9" y="3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19400" y="4240080"/>
              <a:ext cx="547920" cy="19080"/>
            </a:xfrm>
            <a:custGeom>
              <a:avLst/>
              <a:gdLst/>
              <a:ahLst/>
              <a:rect l="l" t="t" r="r" b="b"/>
              <a:pathLst>
                <a:path w="1725" h="59">
                  <a:moveTo>
                    <a:pt x="21" y="0"/>
                  </a:moveTo>
                  <a:lnTo>
                    <a:pt x="1725" y="0"/>
                  </a:lnTo>
                  <a:lnTo>
                    <a:pt x="1719" y="59"/>
                  </a:lnTo>
                  <a:lnTo>
                    <a:pt x="0" y="59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19400" y="4249800"/>
              <a:ext cx="547920" cy="19080"/>
            </a:xfrm>
            <a:custGeom>
              <a:avLst/>
              <a:gdLst/>
              <a:ahLst/>
              <a:rect l="l" t="t" r="r" b="b"/>
              <a:pathLst>
                <a:path w="1723" h="59">
                  <a:moveTo>
                    <a:pt x="11" y="0"/>
                  </a:moveTo>
                  <a:lnTo>
                    <a:pt x="1723" y="0"/>
                  </a:lnTo>
                  <a:lnTo>
                    <a:pt x="1717" y="59"/>
                  </a:lnTo>
                  <a:lnTo>
                    <a:pt x="0" y="5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19400" y="4259160"/>
              <a:ext cx="546120" cy="17640"/>
            </a:xfrm>
            <a:custGeom>
              <a:avLst/>
              <a:gdLst/>
              <a:ahLst/>
              <a:rect l="l" t="t" r="r" b="b"/>
              <a:pathLst>
                <a:path w="1720" h="58">
                  <a:moveTo>
                    <a:pt x="1" y="0"/>
                  </a:moveTo>
                  <a:lnTo>
                    <a:pt x="1720" y="0"/>
                  </a:lnTo>
                  <a:lnTo>
                    <a:pt x="1715" y="58"/>
                  </a:lnTo>
                  <a:lnTo>
                    <a:pt x="0" y="58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19400" y="4268880"/>
              <a:ext cx="546120" cy="172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0" y="0"/>
                  </a:moveTo>
                  <a:lnTo>
                    <a:pt x="1717" y="0"/>
                  </a:lnTo>
                  <a:lnTo>
                    <a:pt x="1714" y="35"/>
                  </a:lnTo>
                  <a:lnTo>
                    <a:pt x="1712" y="58"/>
                  </a:lnTo>
                  <a:lnTo>
                    <a:pt x="5" y="5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019400" y="4276800"/>
              <a:ext cx="544680" cy="19080"/>
            </a:xfrm>
            <a:custGeom>
              <a:avLst/>
              <a:gdLst/>
              <a:ahLst/>
              <a:rect l="l" t="t" r="r" b="b"/>
              <a:pathLst>
                <a:path w="1715" h="58">
                  <a:moveTo>
                    <a:pt x="0" y="0"/>
                  </a:moveTo>
                  <a:lnTo>
                    <a:pt x="1715" y="0"/>
                  </a:lnTo>
                  <a:lnTo>
                    <a:pt x="1714" y="6"/>
                  </a:lnTo>
                  <a:lnTo>
                    <a:pt x="1708" y="58"/>
                  </a:lnTo>
                  <a:lnTo>
                    <a:pt x="12" y="5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21200" y="4286160"/>
              <a:ext cx="542880" cy="19080"/>
            </a:xfrm>
            <a:custGeom>
              <a:avLst/>
              <a:gdLst/>
              <a:ahLst/>
              <a:rect l="l" t="t" r="r" b="b"/>
              <a:pathLst>
                <a:path w="1707" h="58">
                  <a:moveTo>
                    <a:pt x="0" y="0"/>
                  </a:moveTo>
                  <a:lnTo>
                    <a:pt x="1707" y="0"/>
                  </a:lnTo>
                  <a:lnTo>
                    <a:pt x="1700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24440" y="4295880"/>
              <a:ext cx="538200" cy="19080"/>
            </a:xfrm>
            <a:custGeom>
              <a:avLst/>
              <a:gdLst/>
              <a:ahLst/>
              <a:rect l="l" t="t" r="r" b="b"/>
              <a:pathLst>
                <a:path w="1696" h="58">
                  <a:moveTo>
                    <a:pt x="0" y="0"/>
                  </a:moveTo>
                  <a:lnTo>
                    <a:pt x="1696" y="0"/>
                  </a:lnTo>
                  <a:lnTo>
                    <a:pt x="1691" y="58"/>
                  </a:lnTo>
                  <a:lnTo>
                    <a:pt x="1497" y="58"/>
                  </a:lnTo>
                  <a:lnTo>
                    <a:pt x="1318" y="30"/>
                  </a:lnTo>
                  <a:lnTo>
                    <a:pt x="1289" y="58"/>
                  </a:lnTo>
                  <a:lnTo>
                    <a:pt x="21" y="58"/>
                  </a:lnTo>
                  <a:lnTo>
                    <a:pt x="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25880" y="4305240"/>
              <a:ext cx="534960" cy="17640"/>
            </a:xfrm>
            <a:custGeom>
              <a:avLst/>
              <a:gdLst/>
              <a:ahLst/>
              <a:rect l="l" t="t" r="r" b="b"/>
              <a:pathLst>
                <a:path w="1685" h="58">
                  <a:moveTo>
                    <a:pt x="0" y="0"/>
                  </a:moveTo>
                  <a:lnTo>
                    <a:pt x="1685" y="0"/>
                  </a:lnTo>
                  <a:lnTo>
                    <a:pt x="1680" y="58"/>
                  </a:lnTo>
                  <a:lnTo>
                    <a:pt x="1582" y="58"/>
                  </a:lnTo>
                  <a:lnTo>
                    <a:pt x="1554" y="40"/>
                  </a:lnTo>
                  <a:lnTo>
                    <a:pt x="1310" y="1"/>
                  </a:lnTo>
                  <a:lnTo>
                    <a:pt x="1252" y="58"/>
                  </a:lnTo>
                  <a:lnTo>
                    <a:pt x="27" y="5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030560" y="4314960"/>
              <a:ext cx="530280" cy="17280"/>
            </a:xfrm>
            <a:custGeom>
              <a:avLst/>
              <a:gdLst/>
              <a:ahLst/>
              <a:rect l="l" t="t" r="r" b="b"/>
              <a:pathLst>
                <a:path w="1670" h="59">
                  <a:moveTo>
                    <a:pt x="0" y="0"/>
                  </a:moveTo>
                  <a:lnTo>
                    <a:pt x="1268" y="0"/>
                  </a:lnTo>
                  <a:lnTo>
                    <a:pt x="1238" y="30"/>
                  </a:lnTo>
                  <a:lnTo>
                    <a:pt x="1297" y="59"/>
                  </a:lnTo>
                  <a:lnTo>
                    <a:pt x="1022" y="59"/>
                  </a:lnTo>
                  <a:lnTo>
                    <a:pt x="854" y="30"/>
                  </a:lnTo>
                  <a:lnTo>
                    <a:pt x="839" y="59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0" y="0"/>
                  </a:lnTo>
                  <a:close/>
                  <a:moveTo>
                    <a:pt x="1476" y="0"/>
                  </a:moveTo>
                  <a:lnTo>
                    <a:pt x="1670" y="0"/>
                  </a:lnTo>
                  <a:lnTo>
                    <a:pt x="1664" y="59"/>
                  </a:lnTo>
                  <a:lnTo>
                    <a:pt x="1612" y="59"/>
                  </a:lnTo>
                  <a:lnTo>
                    <a:pt x="1541" y="11"/>
                  </a:lnTo>
                  <a:lnTo>
                    <a:pt x="1476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5600" y="4322880"/>
              <a:ext cx="523800" cy="19080"/>
            </a:xfrm>
            <a:custGeom>
              <a:avLst/>
              <a:gdLst/>
              <a:ahLst/>
              <a:rect l="l" t="t" r="r" b="b"/>
              <a:pathLst>
                <a:path w="1653" h="59">
                  <a:moveTo>
                    <a:pt x="0" y="0"/>
                  </a:moveTo>
                  <a:lnTo>
                    <a:pt x="1225" y="0"/>
                  </a:lnTo>
                  <a:lnTo>
                    <a:pt x="1224" y="1"/>
                  </a:lnTo>
                  <a:lnTo>
                    <a:pt x="1341" y="59"/>
                  </a:lnTo>
                  <a:lnTo>
                    <a:pt x="1177" y="59"/>
                  </a:lnTo>
                  <a:lnTo>
                    <a:pt x="840" y="1"/>
                  </a:lnTo>
                  <a:lnTo>
                    <a:pt x="809" y="59"/>
                  </a:lnTo>
                  <a:lnTo>
                    <a:pt x="11" y="59"/>
                  </a:lnTo>
                  <a:lnTo>
                    <a:pt x="11" y="25"/>
                  </a:lnTo>
                  <a:lnTo>
                    <a:pt x="0" y="0"/>
                  </a:lnTo>
                  <a:close/>
                  <a:moveTo>
                    <a:pt x="1555" y="0"/>
                  </a:moveTo>
                  <a:lnTo>
                    <a:pt x="1653" y="0"/>
                  </a:lnTo>
                  <a:lnTo>
                    <a:pt x="1647" y="59"/>
                  </a:lnTo>
                  <a:lnTo>
                    <a:pt x="1641" y="59"/>
                  </a:lnTo>
                  <a:lnTo>
                    <a:pt x="1555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38480" y="4332240"/>
              <a:ext cx="520920" cy="19080"/>
            </a:xfrm>
            <a:custGeom>
              <a:avLst/>
              <a:gdLst/>
              <a:ahLst/>
              <a:rect l="l" t="t" r="r" b="b"/>
              <a:pathLst>
                <a:path w="1639" h="58">
                  <a:moveTo>
                    <a:pt x="0" y="0"/>
                  </a:moveTo>
                  <a:lnTo>
                    <a:pt x="814" y="0"/>
                  </a:lnTo>
                  <a:lnTo>
                    <a:pt x="781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997" y="0"/>
                  </a:moveTo>
                  <a:lnTo>
                    <a:pt x="1272" y="0"/>
                  </a:lnTo>
                  <a:lnTo>
                    <a:pt x="1388" y="58"/>
                  </a:lnTo>
                  <a:lnTo>
                    <a:pt x="1336" y="58"/>
                  </a:lnTo>
                  <a:lnTo>
                    <a:pt x="997" y="0"/>
                  </a:lnTo>
                  <a:close/>
                  <a:moveTo>
                    <a:pt x="1587" y="0"/>
                  </a:moveTo>
                  <a:lnTo>
                    <a:pt x="1639" y="0"/>
                  </a:lnTo>
                  <a:lnTo>
                    <a:pt x="1636" y="33"/>
                  </a:lnTo>
                  <a:lnTo>
                    <a:pt x="1587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38480" y="4341960"/>
              <a:ext cx="519120" cy="19080"/>
            </a:xfrm>
            <a:custGeom>
              <a:avLst/>
              <a:gdLst/>
              <a:ahLst/>
              <a:rect l="l" t="t" r="r" b="b"/>
              <a:pathLst>
                <a:path w="1636" h="58">
                  <a:moveTo>
                    <a:pt x="0" y="0"/>
                  </a:moveTo>
                  <a:lnTo>
                    <a:pt x="798" y="0"/>
                  </a:lnTo>
                  <a:lnTo>
                    <a:pt x="766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1166" y="0"/>
                  </a:moveTo>
                  <a:lnTo>
                    <a:pt x="1330" y="0"/>
                  </a:lnTo>
                  <a:lnTo>
                    <a:pt x="1416" y="43"/>
                  </a:lnTo>
                  <a:lnTo>
                    <a:pt x="1166" y="0"/>
                  </a:lnTo>
                  <a:close/>
                  <a:moveTo>
                    <a:pt x="1630" y="0"/>
                  </a:moveTo>
                  <a:lnTo>
                    <a:pt x="1636" y="0"/>
                  </a:lnTo>
                  <a:lnTo>
                    <a:pt x="1636" y="4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038480" y="4351320"/>
              <a:ext cx="449280" cy="19080"/>
            </a:xfrm>
            <a:custGeom>
              <a:avLst/>
              <a:gdLst/>
              <a:ahLst/>
              <a:rect l="l" t="t" r="r" b="b"/>
              <a:pathLst>
                <a:path w="1416" h="58">
                  <a:moveTo>
                    <a:pt x="0" y="0"/>
                  </a:moveTo>
                  <a:lnTo>
                    <a:pt x="781" y="0"/>
                  </a:lnTo>
                  <a:lnTo>
                    <a:pt x="750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1336" y="0"/>
                  </a:moveTo>
                  <a:lnTo>
                    <a:pt x="1388" y="0"/>
                  </a:lnTo>
                  <a:lnTo>
                    <a:pt x="1416" y="14"/>
                  </a:lnTo>
                  <a:lnTo>
                    <a:pt x="1336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38480" y="4361040"/>
              <a:ext cx="243000" cy="18720"/>
            </a:xfrm>
            <a:custGeom>
              <a:avLst/>
              <a:gdLst/>
              <a:ahLst/>
              <a:rect l="l" t="t" r="r" b="b"/>
              <a:pathLst>
                <a:path w="766" h="59">
                  <a:moveTo>
                    <a:pt x="0" y="0"/>
                  </a:moveTo>
                  <a:lnTo>
                    <a:pt x="766" y="0"/>
                  </a:lnTo>
                  <a:lnTo>
                    <a:pt x="733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38480" y="4370400"/>
              <a:ext cx="238320" cy="17280"/>
            </a:xfrm>
            <a:custGeom>
              <a:avLst/>
              <a:gdLst/>
              <a:ahLst/>
              <a:rect l="l" t="t" r="r" b="b"/>
              <a:pathLst>
                <a:path w="750" h="58">
                  <a:moveTo>
                    <a:pt x="0" y="0"/>
                  </a:moveTo>
                  <a:lnTo>
                    <a:pt x="750" y="0"/>
                  </a:lnTo>
                  <a:lnTo>
                    <a:pt x="71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038480" y="4379760"/>
              <a:ext cx="231840" cy="17640"/>
            </a:xfrm>
            <a:custGeom>
              <a:avLst/>
              <a:gdLst/>
              <a:ahLst/>
              <a:rect l="l" t="t" r="r" b="b"/>
              <a:pathLst>
                <a:path w="733" h="58">
                  <a:moveTo>
                    <a:pt x="0" y="0"/>
                  </a:moveTo>
                  <a:lnTo>
                    <a:pt x="733" y="0"/>
                  </a:lnTo>
                  <a:lnTo>
                    <a:pt x="706" y="50"/>
                  </a:lnTo>
                  <a:lnTo>
                    <a:pt x="721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35600" y="4387680"/>
              <a:ext cx="249120" cy="19080"/>
            </a:xfrm>
            <a:custGeom>
              <a:avLst/>
              <a:gdLst/>
              <a:ahLst/>
              <a:rect l="l" t="t" r="r" b="b"/>
              <a:pathLst>
                <a:path w="783" h="59">
                  <a:moveTo>
                    <a:pt x="7" y="0"/>
                  </a:moveTo>
                  <a:lnTo>
                    <a:pt x="724" y="0"/>
                  </a:lnTo>
                  <a:lnTo>
                    <a:pt x="713" y="22"/>
                  </a:lnTo>
                  <a:lnTo>
                    <a:pt x="783" y="59"/>
                  </a:lnTo>
                  <a:lnTo>
                    <a:pt x="0" y="59"/>
                  </a:lnTo>
                  <a:lnTo>
                    <a:pt x="7" y="4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2360" y="4397400"/>
              <a:ext cx="269640" cy="19080"/>
            </a:xfrm>
            <a:custGeom>
              <a:avLst/>
              <a:gdLst/>
              <a:ahLst/>
              <a:rect l="l" t="t" r="r" b="b"/>
              <a:pathLst>
                <a:path w="851" h="58">
                  <a:moveTo>
                    <a:pt x="18" y="0"/>
                  </a:moveTo>
                  <a:lnTo>
                    <a:pt x="739" y="0"/>
                  </a:lnTo>
                  <a:lnTo>
                    <a:pt x="851" y="58"/>
                  </a:lnTo>
                  <a:lnTo>
                    <a:pt x="0" y="58"/>
                  </a:lnTo>
                  <a:lnTo>
                    <a:pt x="18" y="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29120" y="4406760"/>
              <a:ext cx="290520" cy="19080"/>
            </a:xfrm>
            <a:custGeom>
              <a:avLst/>
              <a:gdLst/>
              <a:ahLst/>
              <a:rect l="l" t="t" r="r" b="b"/>
              <a:pathLst>
                <a:path w="917" h="59">
                  <a:moveTo>
                    <a:pt x="22" y="0"/>
                  </a:moveTo>
                  <a:lnTo>
                    <a:pt x="805" y="0"/>
                  </a:lnTo>
                  <a:lnTo>
                    <a:pt x="917" y="59"/>
                  </a:lnTo>
                  <a:lnTo>
                    <a:pt x="0" y="5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25880" y="4416480"/>
              <a:ext cx="312840" cy="17280"/>
            </a:xfrm>
            <a:custGeom>
              <a:avLst/>
              <a:gdLst/>
              <a:ahLst/>
              <a:rect l="l" t="t" r="r" b="b"/>
              <a:pathLst>
                <a:path w="985" h="58">
                  <a:moveTo>
                    <a:pt x="23" y="0"/>
                  </a:moveTo>
                  <a:lnTo>
                    <a:pt x="874" y="0"/>
                  </a:lnTo>
                  <a:lnTo>
                    <a:pt x="985" y="58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21200" y="4425840"/>
              <a:ext cx="334800" cy="17640"/>
            </a:xfrm>
            <a:custGeom>
              <a:avLst/>
              <a:gdLst/>
              <a:ahLst/>
              <a:rect l="l" t="t" r="r" b="b"/>
              <a:pathLst>
                <a:path w="1055" h="58">
                  <a:moveTo>
                    <a:pt x="27" y="0"/>
                  </a:moveTo>
                  <a:lnTo>
                    <a:pt x="944" y="0"/>
                  </a:lnTo>
                  <a:lnTo>
                    <a:pt x="1055" y="58"/>
                  </a:lnTo>
                  <a:lnTo>
                    <a:pt x="0" y="58"/>
                  </a:lnTo>
                  <a:lnTo>
                    <a:pt x="1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6520" y="4433760"/>
              <a:ext cx="357120" cy="19080"/>
            </a:xfrm>
            <a:custGeom>
              <a:avLst/>
              <a:gdLst/>
              <a:ahLst/>
              <a:rect l="l" t="t" r="r" b="b"/>
              <a:pathLst>
                <a:path w="1125" h="58">
                  <a:moveTo>
                    <a:pt x="30" y="0"/>
                  </a:moveTo>
                  <a:lnTo>
                    <a:pt x="1015" y="0"/>
                  </a:lnTo>
                  <a:lnTo>
                    <a:pt x="1125" y="58"/>
                  </a:lnTo>
                  <a:lnTo>
                    <a:pt x="1065" y="58"/>
                  </a:lnTo>
                  <a:lnTo>
                    <a:pt x="939" y="35"/>
                  </a:lnTo>
                  <a:lnTo>
                    <a:pt x="939" y="58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11480" y="4443480"/>
              <a:ext cx="373320" cy="19080"/>
            </a:xfrm>
            <a:custGeom>
              <a:avLst/>
              <a:gdLst/>
              <a:ahLst/>
              <a:rect l="l" t="t" r="r" b="b"/>
              <a:pathLst>
                <a:path w="1173" h="58">
                  <a:moveTo>
                    <a:pt x="27" y="0"/>
                  </a:moveTo>
                  <a:lnTo>
                    <a:pt x="1082" y="0"/>
                  </a:lnTo>
                  <a:lnTo>
                    <a:pt x="1173" y="47"/>
                  </a:lnTo>
                  <a:lnTo>
                    <a:pt x="951" y="5"/>
                  </a:lnTo>
                  <a:lnTo>
                    <a:pt x="951" y="58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10040" y="4452840"/>
              <a:ext cx="374760" cy="19080"/>
            </a:xfrm>
            <a:custGeom>
              <a:avLst/>
              <a:gdLst/>
              <a:ahLst/>
              <a:rect l="l" t="t" r="r" b="b"/>
              <a:pathLst>
                <a:path w="1181" h="59">
                  <a:moveTo>
                    <a:pt x="20" y="0"/>
                  </a:moveTo>
                  <a:lnTo>
                    <a:pt x="959" y="0"/>
                  </a:lnTo>
                  <a:lnTo>
                    <a:pt x="959" y="38"/>
                  </a:lnTo>
                  <a:lnTo>
                    <a:pt x="1004" y="59"/>
                  </a:lnTo>
                  <a:lnTo>
                    <a:pt x="0" y="59"/>
                  </a:lnTo>
                  <a:lnTo>
                    <a:pt x="10" y="19"/>
                  </a:lnTo>
                  <a:lnTo>
                    <a:pt x="20" y="0"/>
                  </a:lnTo>
                  <a:close/>
                  <a:moveTo>
                    <a:pt x="1085" y="0"/>
                  </a:moveTo>
                  <a:lnTo>
                    <a:pt x="1145" y="0"/>
                  </a:lnTo>
                  <a:lnTo>
                    <a:pt x="1181" y="19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06800" y="4462560"/>
              <a:ext cx="341280" cy="19080"/>
            </a:xfrm>
            <a:custGeom>
              <a:avLst/>
              <a:gdLst/>
              <a:ahLst/>
              <a:rect l="l" t="t" r="r" b="b"/>
              <a:pathLst>
                <a:path w="1075" h="58">
                  <a:moveTo>
                    <a:pt x="15" y="0"/>
                  </a:moveTo>
                  <a:lnTo>
                    <a:pt x="966" y="0"/>
                  </a:lnTo>
                  <a:lnTo>
                    <a:pt x="966" y="8"/>
                  </a:lnTo>
                  <a:lnTo>
                    <a:pt x="1075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06800" y="4471920"/>
              <a:ext cx="362160" cy="19080"/>
            </a:xfrm>
            <a:custGeom>
              <a:avLst/>
              <a:gdLst/>
              <a:ahLst/>
              <a:rect l="l" t="t" r="r" b="b"/>
              <a:pathLst>
                <a:path w="1141" h="59">
                  <a:moveTo>
                    <a:pt x="10" y="0"/>
                  </a:moveTo>
                  <a:lnTo>
                    <a:pt x="1014" y="0"/>
                  </a:lnTo>
                  <a:lnTo>
                    <a:pt x="1141" y="59"/>
                  </a:lnTo>
                  <a:lnTo>
                    <a:pt x="0" y="59"/>
                  </a:lnTo>
                  <a:lnTo>
                    <a:pt x="0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06800" y="4481640"/>
              <a:ext cx="380880" cy="17280"/>
            </a:xfrm>
            <a:custGeom>
              <a:avLst/>
              <a:gdLst/>
              <a:ahLst/>
              <a:rect l="l" t="t" r="r" b="b"/>
              <a:pathLst>
                <a:path w="1204" h="58">
                  <a:moveTo>
                    <a:pt x="3" y="0"/>
                  </a:moveTo>
                  <a:lnTo>
                    <a:pt x="1078" y="0"/>
                  </a:lnTo>
                  <a:lnTo>
                    <a:pt x="1204" y="58"/>
                  </a:lnTo>
                  <a:lnTo>
                    <a:pt x="4" y="58"/>
                  </a:lnTo>
                  <a:lnTo>
                    <a:pt x="0" y="51"/>
                  </a:lnTo>
                  <a:lnTo>
                    <a:pt x="0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06800" y="4491000"/>
              <a:ext cx="401760" cy="17640"/>
            </a:xfrm>
            <a:custGeom>
              <a:avLst/>
              <a:gdLst/>
              <a:ahLst/>
              <a:rect l="l" t="t" r="r" b="b"/>
              <a:pathLst>
                <a:path w="1267" h="58">
                  <a:moveTo>
                    <a:pt x="0" y="0"/>
                  </a:moveTo>
                  <a:lnTo>
                    <a:pt x="1141" y="0"/>
                  </a:lnTo>
                  <a:lnTo>
                    <a:pt x="1267" y="58"/>
                  </a:lnTo>
                  <a:lnTo>
                    <a:pt x="19" y="58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006800" y="4498920"/>
              <a:ext cx="493920" cy="19080"/>
            </a:xfrm>
            <a:custGeom>
              <a:avLst/>
              <a:gdLst/>
              <a:ahLst/>
              <a:rect l="l" t="t" r="r" b="b"/>
              <a:pathLst>
                <a:path w="1551" h="58">
                  <a:moveTo>
                    <a:pt x="0" y="0"/>
                  </a:moveTo>
                  <a:lnTo>
                    <a:pt x="1200" y="0"/>
                  </a:lnTo>
                  <a:lnTo>
                    <a:pt x="1269" y="32"/>
                  </a:lnTo>
                  <a:lnTo>
                    <a:pt x="1551" y="32"/>
                  </a:lnTo>
                  <a:lnTo>
                    <a:pt x="1531" y="58"/>
                  </a:lnTo>
                  <a:lnTo>
                    <a:pt x="31" y="58"/>
                  </a:lnTo>
                  <a:lnTo>
                    <a:pt x="1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11480" y="4508640"/>
              <a:ext cx="489240" cy="19080"/>
            </a:xfrm>
            <a:custGeom>
              <a:avLst/>
              <a:gdLst/>
              <a:ahLst/>
              <a:rect l="l" t="t" r="r" b="b"/>
              <a:pathLst>
                <a:path w="1536" h="58">
                  <a:moveTo>
                    <a:pt x="0" y="0"/>
                  </a:moveTo>
                  <a:lnTo>
                    <a:pt x="1248" y="0"/>
                  </a:lnTo>
                  <a:lnTo>
                    <a:pt x="1254" y="2"/>
                  </a:lnTo>
                  <a:lnTo>
                    <a:pt x="1536" y="2"/>
                  </a:lnTo>
                  <a:lnTo>
                    <a:pt x="1494" y="58"/>
                  </a:lnTo>
                  <a:lnTo>
                    <a:pt x="31" y="58"/>
                  </a:lnTo>
                  <a:lnTo>
                    <a:pt x="24" y="4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17960" y="4518000"/>
              <a:ext cx="476280" cy="19080"/>
            </a:xfrm>
            <a:custGeom>
              <a:avLst/>
              <a:gdLst/>
              <a:ahLst/>
              <a:rect l="l" t="t" r="r" b="b"/>
              <a:pathLst>
                <a:path w="1500" h="60">
                  <a:moveTo>
                    <a:pt x="0" y="0"/>
                  </a:moveTo>
                  <a:lnTo>
                    <a:pt x="1500" y="0"/>
                  </a:lnTo>
                  <a:lnTo>
                    <a:pt x="1458" y="56"/>
                  </a:lnTo>
                  <a:lnTo>
                    <a:pt x="1451" y="60"/>
                  </a:lnTo>
                  <a:lnTo>
                    <a:pt x="32" y="60"/>
                  </a:lnTo>
                  <a:lnTo>
                    <a:pt x="28" y="56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022640" y="4527720"/>
              <a:ext cx="463680" cy="17280"/>
            </a:xfrm>
            <a:custGeom>
              <a:avLst/>
              <a:gdLst/>
              <a:ahLst/>
              <a:rect l="l" t="t" r="r" b="b"/>
              <a:pathLst>
                <a:path w="1463" h="58">
                  <a:moveTo>
                    <a:pt x="0" y="0"/>
                  </a:moveTo>
                  <a:lnTo>
                    <a:pt x="1463" y="0"/>
                  </a:lnTo>
                  <a:lnTo>
                    <a:pt x="1443" y="26"/>
                  </a:lnTo>
                  <a:lnTo>
                    <a:pt x="1383" y="58"/>
                  </a:lnTo>
                  <a:lnTo>
                    <a:pt x="45" y="58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27320" y="4537080"/>
              <a:ext cx="451080" cy="17280"/>
            </a:xfrm>
            <a:custGeom>
              <a:avLst/>
              <a:gdLst/>
              <a:ahLst/>
              <a:rect l="l" t="t" r="r" b="b"/>
              <a:pathLst>
                <a:path w="1419" h="58">
                  <a:moveTo>
                    <a:pt x="0" y="0"/>
                  </a:moveTo>
                  <a:lnTo>
                    <a:pt x="1419" y="0"/>
                  </a:lnTo>
                  <a:lnTo>
                    <a:pt x="1349" y="38"/>
                  </a:lnTo>
                  <a:lnTo>
                    <a:pt x="130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37040" y="4545000"/>
              <a:ext cx="423720" cy="1908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21" y="10"/>
                  </a:lnTo>
                  <a:lnTo>
                    <a:pt x="1239" y="49"/>
                  </a:lnTo>
                  <a:lnTo>
                    <a:pt x="1246" y="58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046400" y="4554360"/>
              <a:ext cx="397080" cy="19080"/>
            </a:xfrm>
            <a:custGeom>
              <a:avLst/>
              <a:gdLst/>
              <a:ahLst/>
              <a:rect l="l" t="t" r="r" b="b"/>
              <a:pathLst>
                <a:path w="1250" h="58">
                  <a:moveTo>
                    <a:pt x="0" y="0"/>
                  </a:moveTo>
                  <a:lnTo>
                    <a:pt x="1250" y="0"/>
                  </a:lnTo>
                  <a:lnTo>
                    <a:pt x="1209" y="19"/>
                  </a:lnTo>
                  <a:lnTo>
                    <a:pt x="12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54320" y="4564080"/>
              <a:ext cx="390600" cy="19080"/>
            </a:xfrm>
            <a:custGeom>
              <a:avLst/>
              <a:gdLst/>
              <a:ahLst/>
              <a:rect l="l" t="t" r="r" b="b"/>
              <a:pathLst>
                <a:path w="1227" h="59">
                  <a:moveTo>
                    <a:pt x="0" y="0"/>
                  </a:moveTo>
                  <a:lnTo>
                    <a:pt x="1187" y="0"/>
                  </a:lnTo>
                  <a:lnTo>
                    <a:pt x="1227" y="59"/>
                  </a:lnTo>
                  <a:lnTo>
                    <a:pt x="56" y="59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064040" y="4573440"/>
              <a:ext cx="387360" cy="19080"/>
            </a:xfrm>
            <a:custGeom>
              <a:avLst/>
              <a:gdLst/>
              <a:ahLst/>
              <a:rect l="l" t="t" r="r" b="b"/>
              <a:pathLst>
                <a:path w="1217" h="58">
                  <a:moveTo>
                    <a:pt x="0" y="0"/>
                  </a:moveTo>
                  <a:lnTo>
                    <a:pt x="1177" y="0"/>
                  </a:lnTo>
                  <a:lnTo>
                    <a:pt x="1217" y="58"/>
                  </a:lnTo>
                  <a:lnTo>
                    <a:pt x="45" y="58"/>
                  </a:lnTo>
                  <a:lnTo>
                    <a:pt x="3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073400" y="4583160"/>
              <a:ext cx="382680" cy="19080"/>
            </a:xfrm>
            <a:custGeom>
              <a:avLst/>
              <a:gdLst/>
              <a:ahLst/>
              <a:rect l="l" t="t" r="r" b="b"/>
              <a:pathLst>
                <a:path w="1208" h="59">
                  <a:moveTo>
                    <a:pt x="0" y="0"/>
                  </a:moveTo>
                  <a:lnTo>
                    <a:pt x="1171" y="0"/>
                  </a:lnTo>
                  <a:lnTo>
                    <a:pt x="1206" y="52"/>
                  </a:lnTo>
                  <a:lnTo>
                    <a:pt x="1208" y="59"/>
                  </a:lnTo>
                  <a:lnTo>
                    <a:pt x="28" y="5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078440" y="4592520"/>
              <a:ext cx="380880" cy="1764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0" y="0"/>
                  </a:moveTo>
                  <a:lnTo>
                    <a:pt x="1172" y="0"/>
                  </a:lnTo>
                  <a:lnTo>
                    <a:pt x="1188" y="23"/>
                  </a:lnTo>
                  <a:lnTo>
                    <a:pt x="1200" y="58"/>
                  </a:lnTo>
                  <a:lnTo>
                    <a:pt x="17" y="58"/>
                  </a:lnTo>
                  <a:lnTo>
                    <a:pt x="17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81320" y="4602240"/>
              <a:ext cx="381240" cy="17280"/>
            </a:xfrm>
            <a:custGeom>
              <a:avLst/>
              <a:gdLst/>
              <a:ahLst/>
              <a:rect l="l" t="t" r="r" b="b"/>
              <a:pathLst>
                <a:path w="1201" h="58">
                  <a:moveTo>
                    <a:pt x="0" y="0"/>
                  </a:moveTo>
                  <a:lnTo>
                    <a:pt x="1180" y="0"/>
                  </a:lnTo>
                  <a:lnTo>
                    <a:pt x="1201" y="58"/>
                  </a:lnTo>
                  <a:lnTo>
                    <a:pt x="7" y="58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83120" y="4610160"/>
              <a:ext cx="382680" cy="190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3" y="0"/>
                  </a:moveTo>
                  <a:lnTo>
                    <a:pt x="1186" y="0"/>
                  </a:lnTo>
                  <a:lnTo>
                    <a:pt x="1207" y="58"/>
                  </a:lnTo>
                  <a:lnTo>
                    <a:pt x="0" y="58"/>
                  </a:lnTo>
                  <a:lnTo>
                    <a:pt x="3" y="4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81320" y="461952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8" y="0"/>
                  </a:moveTo>
                  <a:lnTo>
                    <a:pt x="1202" y="0"/>
                  </a:lnTo>
                  <a:lnTo>
                    <a:pt x="1222" y="58"/>
                  </a:lnTo>
                  <a:lnTo>
                    <a:pt x="0" y="5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079880" y="462924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9">
                  <a:moveTo>
                    <a:pt x="10" y="0"/>
                  </a:moveTo>
                  <a:lnTo>
                    <a:pt x="1217" y="0"/>
                  </a:lnTo>
                  <a:lnTo>
                    <a:pt x="1238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078440" y="4638600"/>
              <a:ext cx="396720" cy="17640"/>
            </a:xfrm>
            <a:custGeom>
              <a:avLst/>
              <a:gdLst/>
              <a:ahLst/>
              <a:rect l="l" t="t" r="r" b="b"/>
              <a:pathLst>
                <a:path w="1251" h="58">
                  <a:moveTo>
                    <a:pt x="10" y="0"/>
                  </a:moveTo>
                  <a:lnTo>
                    <a:pt x="1232" y="0"/>
                  </a:lnTo>
                  <a:lnTo>
                    <a:pt x="1247" y="40"/>
                  </a:lnTo>
                  <a:lnTo>
                    <a:pt x="1251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076640" y="4648320"/>
              <a:ext cx="401760" cy="17280"/>
            </a:xfrm>
            <a:custGeom>
              <a:avLst/>
              <a:gdLst/>
              <a:ahLst/>
              <a:rect l="l" t="t" r="r" b="b"/>
              <a:pathLst>
                <a:path w="1263" h="58">
                  <a:moveTo>
                    <a:pt x="10" y="0"/>
                  </a:moveTo>
                  <a:lnTo>
                    <a:pt x="1248" y="0"/>
                  </a:lnTo>
                  <a:lnTo>
                    <a:pt x="1252" y="11"/>
                  </a:lnTo>
                  <a:lnTo>
                    <a:pt x="1263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075200" y="4656240"/>
              <a:ext cx="404640" cy="19080"/>
            </a:xfrm>
            <a:custGeom>
              <a:avLst/>
              <a:gdLst/>
              <a:ahLst/>
              <a:rect l="l" t="t" r="r" b="b"/>
              <a:pathLst>
                <a:path w="1275" h="58">
                  <a:moveTo>
                    <a:pt x="10" y="0"/>
                  </a:moveTo>
                  <a:lnTo>
                    <a:pt x="1261" y="0"/>
                  </a:lnTo>
                  <a:lnTo>
                    <a:pt x="1275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73400" y="4665600"/>
              <a:ext cx="408240" cy="19080"/>
            </a:xfrm>
            <a:custGeom>
              <a:avLst/>
              <a:gdLst/>
              <a:ahLst/>
              <a:rect l="l" t="t" r="r" b="b"/>
              <a:pathLst>
                <a:path w="1286" h="59">
                  <a:moveTo>
                    <a:pt x="10" y="0"/>
                  </a:moveTo>
                  <a:lnTo>
                    <a:pt x="1273" y="0"/>
                  </a:lnTo>
                  <a:lnTo>
                    <a:pt x="1286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071960" y="4675320"/>
              <a:ext cx="412560" cy="19080"/>
            </a:xfrm>
            <a:custGeom>
              <a:avLst/>
              <a:gdLst/>
              <a:ahLst/>
              <a:rect l="l" t="t" r="r" b="b"/>
              <a:pathLst>
                <a:path w="1299" h="59">
                  <a:moveTo>
                    <a:pt x="11" y="0"/>
                  </a:moveTo>
                  <a:lnTo>
                    <a:pt x="1286" y="0"/>
                  </a:lnTo>
                  <a:lnTo>
                    <a:pt x="1299" y="59"/>
                  </a:lnTo>
                  <a:lnTo>
                    <a:pt x="0" y="5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0520" y="4684680"/>
              <a:ext cx="415800" cy="19080"/>
            </a:xfrm>
            <a:custGeom>
              <a:avLst/>
              <a:gdLst/>
              <a:ahLst/>
              <a:rect l="l" t="t" r="r" b="b"/>
              <a:pathLst>
                <a:path w="1311" h="58">
                  <a:moveTo>
                    <a:pt x="10" y="0"/>
                  </a:moveTo>
                  <a:lnTo>
                    <a:pt x="1296" y="0"/>
                  </a:lnTo>
                  <a:lnTo>
                    <a:pt x="1311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0520" y="4694400"/>
              <a:ext cx="417240" cy="172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4" y="0"/>
                  </a:moveTo>
                  <a:lnTo>
                    <a:pt x="1303" y="0"/>
                  </a:lnTo>
                  <a:lnTo>
                    <a:pt x="1315" y="47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70520" y="4703760"/>
              <a:ext cx="420480" cy="17640"/>
            </a:xfrm>
            <a:custGeom>
              <a:avLst/>
              <a:gdLst/>
              <a:ahLst/>
              <a:rect l="l" t="t" r="r" b="b"/>
              <a:pathLst>
                <a:path w="1323" h="58">
                  <a:moveTo>
                    <a:pt x="0" y="0"/>
                  </a:moveTo>
                  <a:lnTo>
                    <a:pt x="1311" y="0"/>
                  </a:lnTo>
                  <a:lnTo>
                    <a:pt x="1315" y="18"/>
                  </a:lnTo>
                  <a:lnTo>
                    <a:pt x="132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070520" y="4711680"/>
              <a:ext cx="422280" cy="19080"/>
            </a:xfrm>
            <a:custGeom>
              <a:avLst/>
              <a:gdLst/>
              <a:ahLst/>
              <a:rect l="l" t="t" r="r" b="b"/>
              <a:pathLst>
                <a:path w="1329" h="58">
                  <a:moveTo>
                    <a:pt x="0" y="0"/>
                  </a:moveTo>
                  <a:lnTo>
                    <a:pt x="1317" y="0"/>
                  </a:lnTo>
                  <a:lnTo>
                    <a:pt x="1329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70520" y="4721400"/>
              <a:ext cx="423720" cy="18720"/>
            </a:xfrm>
            <a:custGeom>
              <a:avLst/>
              <a:gdLst/>
              <a:ahLst/>
              <a:rect l="l" t="t" r="r" b="b"/>
              <a:pathLst>
                <a:path w="1335" h="59">
                  <a:moveTo>
                    <a:pt x="0" y="0"/>
                  </a:moveTo>
                  <a:lnTo>
                    <a:pt x="1323" y="0"/>
                  </a:lnTo>
                  <a:lnTo>
                    <a:pt x="1335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070520" y="4730760"/>
              <a:ext cx="425160" cy="19080"/>
            </a:xfrm>
            <a:custGeom>
              <a:avLst/>
              <a:gdLst/>
              <a:ahLst/>
              <a:rect l="l" t="t" r="r" b="b"/>
              <a:pathLst>
                <a:path w="1341" h="59">
                  <a:moveTo>
                    <a:pt x="0" y="0"/>
                  </a:moveTo>
                  <a:lnTo>
                    <a:pt x="1329" y="0"/>
                  </a:lnTo>
                  <a:lnTo>
                    <a:pt x="1341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70520" y="474012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35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0520" y="4749840"/>
              <a:ext cx="430200" cy="1728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1" y="0"/>
                  </a:lnTo>
                  <a:lnTo>
                    <a:pt x="1353" y="54"/>
                  </a:lnTo>
                  <a:lnTo>
                    <a:pt x="135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0520" y="4759200"/>
              <a:ext cx="430200" cy="1764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7" y="0"/>
                  </a:lnTo>
                  <a:lnTo>
                    <a:pt x="1353" y="25"/>
                  </a:lnTo>
                  <a:lnTo>
                    <a:pt x="135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070520" y="4767120"/>
              <a:ext cx="428400" cy="19080"/>
            </a:xfrm>
            <a:custGeom>
              <a:avLst/>
              <a:gdLst/>
              <a:ahLst/>
              <a:rect l="l" t="t" r="r" b="b"/>
              <a:pathLst>
                <a:path w="1352" h="59">
                  <a:moveTo>
                    <a:pt x="0" y="0"/>
                  </a:moveTo>
                  <a:lnTo>
                    <a:pt x="1352" y="0"/>
                  </a:lnTo>
                  <a:lnTo>
                    <a:pt x="1347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070520" y="4776840"/>
              <a:ext cx="428400" cy="19080"/>
            </a:xfrm>
            <a:custGeom>
              <a:avLst/>
              <a:gdLst/>
              <a:ahLst/>
              <a:rect l="l" t="t" r="r" b="b"/>
              <a:pathLst>
                <a:path w="1350" h="58">
                  <a:moveTo>
                    <a:pt x="0" y="0"/>
                  </a:moveTo>
                  <a:lnTo>
                    <a:pt x="1350" y="0"/>
                  </a:lnTo>
                  <a:lnTo>
                    <a:pt x="1344" y="58"/>
                  </a:lnTo>
                  <a:lnTo>
                    <a:pt x="2" y="58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070520" y="478620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47" y="0"/>
                  </a:lnTo>
                  <a:lnTo>
                    <a:pt x="134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70520" y="4795920"/>
              <a:ext cx="426960" cy="19080"/>
            </a:xfrm>
            <a:custGeom>
              <a:avLst/>
              <a:gdLst/>
              <a:ahLst/>
              <a:rect l="l" t="t" r="r" b="b"/>
              <a:pathLst>
                <a:path w="1342" h="59">
                  <a:moveTo>
                    <a:pt x="0" y="0"/>
                  </a:moveTo>
                  <a:lnTo>
                    <a:pt x="1342" y="0"/>
                  </a:lnTo>
                  <a:lnTo>
                    <a:pt x="1337" y="59"/>
                  </a:lnTo>
                  <a:lnTo>
                    <a:pt x="5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71960" y="4805280"/>
              <a:ext cx="423720" cy="1764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32" y="58"/>
                  </a:lnTo>
                  <a:lnTo>
                    <a:pt x="6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71960" y="4815000"/>
              <a:ext cx="42372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27" y="58"/>
                  </a:lnTo>
                  <a:lnTo>
                    <a:pt x="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73400" y="4822920"/>
              <a:ext cx="420840" cy="19080"/>
            </a:xfrm>
            <a:custGeom>
              <a:avLst/>
              <a:gdLst/>
              <a:ahLst/>
              <a:rect l="l" t="t" r="r" b="b"/>
              <a:pathLst>
                <a:path w="1326" h="58">
                  <a:moveTo>
                    <a:pt x="0" y="0"/>
                  </a:moveTo>
                  <a:lnTo>
                    <a:pt x="1326" y="0"/>
                  </a:lnTo>
                  <a:lnTo>
                    <a:pt x="1321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073400" y="4832280"/>
              <a:ext cx="420840" cy="19080"/>
            </a:xfrm>
            <a:custGeom>
              <a:avLst/>
              <a:gdLst/>
              <a:ahLst/>
              <a:rect l="l" t="t" r="r" b="b"/>
              <a:pathLst>
                <a:path w="1322" h="59">
                  <a:moveTo>
                    <a:pt x="0" y="0"/>
                  </a:moveTo>
                  <a:lnTo>
                    <a:pt x="1322" y="0"/>
                  </a:lnTo>
                  <a:lnTo>
                    <a:pt x="1316" y="59"/>
                  </a:lnTo>
                  <a:lnTo>
                    <a:pt x="4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75200" y="4842000"/>
              <a:ext cx="4176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0" y="0"/>
                  </a:moveTo>
                  <a:lnTo>
                    <a:pt x="1317" y="0"/>
                  </a:lnTo>
                  <a:lnTo>
                    <a:pt x="131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75200" y="4851360"/>
              <a:ext cx="417600" cy="19080"/>
            </a:xfrm>
            <a:custGeom>
              <a:avLst/>
              <a:gdLst/>
              <a:ahLst/>
              <a:rect l="l" t="t" r="r" b="b"/>
              <a:pathLst>
                <a:path w="1312" h="58">
                  <a:moveTo>
                    <a:pt x="0" y="0"/>
                  </a:moveTo>
                  <a:lnTo>
                    <a:pt x="1312" y="0"/>
                  </a:lnTo>
                  <a:lnTo>
                    <a:pt x="1307" y="58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076640" y="4861080"/>
              <a:ext cx="414360" cy="17280"/>
            </a:xfrm>
            <a:custGeom>
              <a:avLst/>
              <a:gdLst/>
              <a:ahLst/>
              <a:rect l="l" t="t" r="r" b="b"/>
              <a:pathLst>
                <a:path w="1308" h="59">
                  <a:moveTo>
                    <a:pt x="0" y="0"/>
                  </a:moveTo>
                  <a:lnTo>
                    <a:pt x="1308" y="0"/>
                  </a:lnTo>
                  <a:lnTo>
                    <a:pt x="1302" y="59"/>
                  </a:lnTo>
                  <a:lnTo>
                    <a:pt x="7" y="59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76640" y="4870440"/>
              <a:ext cx="414360" cy="17640"/>
            </a:xfrm>
            <a:custGeom>
              <a:avLst/>
              <a:gdLst/>
              <a:ahLst/>
              <a:rect l="l" t="t" r="r" b="b"/>
              <a:pathLst>
                <a:path w="1303" h="58">
                  <a:moveTo>
                    <a:pt x="0" y="0"/>
                  </a:moveTo>
                  <a:lnTo>
                    <a:pt x="1303" y="0"/>
                  </a:lnTo>
                  <a:lnTo>
                    <a:pt x="1298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8440" y="4878360"/>
              <a:ext cx="411120" cy="19080"/>
            </a:xfrm>
            <a:custGeom>
              <a:avLst/>
              <a:gdLst/>
              <a:ahLst/>
              <a:rect l="l" t="t" r="r" b="b"/>
              <a:pathLst>
                <a:path w="1295" h="59">
                  <a:moveTo>
                    <a:pt x="0" y="0"/>
                  </a:moveTo>
                  <a:lnTo>
                    <a:pt x="1295" y="0"/>
                  </a:lnTo>
                  <a:lnTo>
                    <a:pt x="1290" y="59"/>
                  </a:lnTo>
                  <a:lnTo>
                    <a:pt x="1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9880" y="4888080"/>
              <a:ext cx="409680" cy="18720"/>
            </a:xfrm>
            <a:custGeom>
              <a:avLst/>
              <a:gdLst/>
              <a:ahLst/>
              <a:rect l="l" t="t" r="r" b="b"/>
              <a:pathLst>
                <a:path w="1288" h="58">
                  <a:moveTo>
                    <a:pt x="0" y="0"/>
                  </a:moveTo>
                  <a:lnTo>
                    <a:pt x="1288" y="0"/>
                  </a:lnTo>
                  <a:lnTo>
                    <a:pt x="1282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1320" y="4897440"/>
              <a:ext cx="406440" cy="19080"/>
            </a:xfrm>
            <a:custGeom>
              <a:avLst/>
              <a:gdLst/>
              <a:ahLst/>
              <a:rect l="l" t="t" r="r" b="b"/>
              <a:pathLst>
                <a:path w="1279" h="58">
                  <a:moveTo>
                    <a:pt x="0" y="0"/>
                  </a:moveTo>
                  <a:lnTo>
                    <a:pt x="1279" y="0"/>
                  </a:lnTo>
                  <a:lnTo>
                    <a:pt x="1274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83120" y="4906800"/>
              <a:ext cx="403200" cy="17640"/>
            </a:xfrm>
            <a:custGeom>
              <a:avLst/>
              <a:gdLst/>
              <a:ahLst/>
              <a:rect l="l" t="t" r="r" b="b"/>
              <a:pathLst>
                <a:path w="1271" h="58">
                  <a:moveTo>
                    <a:pt x="0" y="0"/>
                  </a:moveTo>
                  <a:lnTo>
                    <a:pt x="1271" y="0"/>
                  </a:lnTo>
                  <a:lnTo>
                    <a:pt x="1265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84560" y="4916520"/>
              <a:ext cx="401760" cy="172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0" y="0"/>
                  </a:moveTo>
                  <a:lnTo>
                    <a:pt x="1264" y="0"/>
                  </a:lnTo>
                  <a:lnTo>
                    <a:pt x="1257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6360" y="4924440"/>
              <a:ext cx="398160" cy="19080"/>
            </a:xfrm>
            <a:custGeom>
              <a:avLst/>
              <a:gdLst/>
              <a:ahLst/>
              <a:rect l="l" t="t" r="r" b="b"/>
              <a:pathLst>
                <a:path w="1255" h="60">
                  <a:moveTo>
                    <a:pt x="0" y="0"/>
                  </a:moveTo>
                  <a:lnTo>
                    <a:pt x="1255" y="0"/>
                  </a:lnTo>
                  <a:lnTo>
                    <a:pt x="1249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87800" y="4933800"/>
              <a:ext cx="396720" cy="19080"/>
            </a:xfrm>
            <a:custGeom>
              <a:avLst/>
              <a:gdLst/>
              <a:ahLst/>
              <a:rect l="l" t="t" r="r" b="b"/>
              <a:pathLst>
                <a:path w="1246" h="58">
                  <a:moveTo>
                    <a:pt x="0" y="0"/>
                  </a:moveTo>
                  <a:lnTo>
                    <a:pt x="1246" y="0"/>
                  </a:lnTo>
                  <a:lnTo>
                    <a:pt x="1241" y="58"/>
                  </a:lnTo>
                  <a:lnTo>
                    <a:pt x="10" y="58"/>
                  </a:lnTo>
                  <a:lnTo>
                    <a:pt x="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89240" y="494352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8">
                  <a:moveTo>
                    <a:pt x="0" y="0"/>
                  </a:moveTo>
                  <a:lnTo>
                    <a:pt x="1238" y="0"/>
                  </a:lnTo>
                  <a:lnTo>
                    <a:pt x="1233" y="58"/>
                  </a:lnTo>
                  <a:lnTo>
                    <a:pt x="11" y="5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91040" y="4952880"/>
              <a:ext cx="392040" cy="19080"/>
            </a:xfrm>
            <a:custGeom>
              <a:avLst/>
              <a:gdLst/>
              <a:ahLst/>
              <a:rect l="l" t="t" r="r" b="b"/>
              <a:pathLst>
                <a:path w="1231" h="58">
                  <a:moveTo>
                    <a:pt x="0" y="0"/>
                  </a:moveTo>
                  <a:lnTo>
                    <a:pt x="1231" y="0"/>
                  </a:lnTo>
                  <a:lnTo>
                    <a:pt x="1226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94280" y="496260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0" y="0"/>
                  </a:moveTo>
                  <a:lnTo>
                    <a:pt x="1222" y="0"/>
                  </a:lnTo>
                  <a:lnTo>
                    <a:pt x="1217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095720" y="4971960"/>
              <a:ext cx="385920" cy="17640"/>
            </a:xfrm>
            <a:custGeom>
              <a:avLst/>
              <a:gdLst/>
              <a:ahLst/>
              <a:rect l="l" t="t" r="r" b="b"/>
              <a:pathLst>
                <a:path w="1215" h="58">
                  <a:moveTo>
                    <a:pt x="0" y="0"/>
                  </a:moveTo>
                  <a:lnTo>
                    <a:pt x="1215" y="0"/>
                  </a:lnTo>
                  <a:lnTo>
                    <a:pt x="1209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097160" y="4981680"/>
              <a:ext cx="382680" cy="172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0" y="0"/>
                  </a:moveTo>
                  <a:lnTo>
                    <a:pt x="1207" y="0"/>
                  </a:lnTo>
                  <a:lnTo>
                    <a:pt x="1201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098960" y="498960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60">
                  <a:moveTo>
                    <a:pt x="0" y="0"/>
                  </a:moveTo>
                  <a:lnTo>
                    <a:pt x="1198" y="0"/>
                  </a:lnTo>
                  <a:lnTo>
                    <a:pt x="1193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00400" y="4998960"/>
              <a:ext cx="378000" cy="19080"/>
            </a:xfrm>
            <a:custGeom>
              <a:avLst/>
              <a:gdLst/>
              <a:ahLst/>
              <a:rect l="l" t="t" r="r" b="b"/>
              <a:pathLst>
                <a:path w="1190" h="58">
                  <a:moveTo>
                    <a:pt x="0" y="0"/>
                  </a:moveTo>
                  <a:lnTo>
                    <a:pt x="1190" y="0"/>
                  </a:lnTo>
                  <a:lnTo>
                    <a:pt x="1185" y="58"/>
                  </a:lnTo>
                  <a:lnTo>
                    <a:pt x="16" y="58"/>
                  </a:lnTo>
                  <a:lnTo>
                    <a:pt x="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02200" y="5008680"/>
              <a:ext cx="374400" cy="19080"/>
            </a:xfrm>
            <a:custGeom>
              <a:avLst/>
              <a:gdLst/>
              <a:ahLst/>
              <a:rect l="l" t="t" r="r" b="b"/>
              <a:pathLst>
                <a:path w="1182" h="58">
                  <a:moveTo>
                    <a:pt x="0" y="0"/>
                  </a:moveTo>
                  <a:lnTo>
                    <a:pt x="1182" y="0"/>
                  </a:lnTo>
                  <a:lnTo>
                    <a:pt x="1176" y="58"/>
                  </a:lnTo>
                  <a:lnTo>
                    <a:pt x="20" y="5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105440" y="5018040"/>
              <a:ext cx="371160" cy="1764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64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08320" y="5027760"/>
              <a:ext cx="36684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0" y="0"/>
                  </a:moveTo>
                  <a:lnTo>
                    <a:pt x="1156" y="0"/>
                  </a:lnTo>
                  <a:lnTo>
                    <a:pt x="1151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11560" y="5035680"/>
              <a:ext cx="363600" cy="19080"/>
            </a:xfrm>
            <a:custGeom>
              <a:avLst/>
              <a:gdLst/>
              <a:ahLst/>
              <a:rect l="l" t="t" r="r" b="b"/>
              <a:pathLst>
                <a:path w="1144" h="59">
                  <a:moveTo>
                    <a:pt x="0" y="0"/>
                  </a:moveTo>
                  <a:lnTo>
                    <a:pt x="1144" y="0"/>
                  </a:lnTo>
                  <a:lnTo>
                    <a:pt x="1138" y="59"/>
                  </a:lnTo>
                  <a:lnTo>
                    <a:pt x="17" y="59"/>
                  </a:lnTo>
                  <a:lnTo>
                    <a:pt x="1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14800" y="5045040"/>
              <a:ext cx="358920" cy="19080"/>
            </a:xfrm>
            <a:custGeom>
              <a:avLst/>
              <a:gdLst/>
              <a:ahLst/>
              <a:rect l="l" t="t" r="r" b="b"/>
              <a:pathLst>
                <a:path w="1131" h="58">
                  <a:moveTo>
                    <a:pt x="0" y="0"/>
                  </a:moveTo>
                  <a:lnTo>
                    <a:pt x="1131" y="0"/>
                  </a:lnTo>
                  <a:lnTo>
                    <a:pt x="1126" y="58"/>
                  </a:lnTo>
                  <a:lnTo>
                    <a:pt x="13" y="58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9160" y="3505320"/>
              <a:ext cx="2422440" cy="2317680"/>
              <a:chOff x="3359160" y="3505320"/>
              <a:chExt cx="2422440" cy="231768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3981600" y="4762440"/>
                <a:ext cx="1800000" cy="1060560"/>
                <a:chOff x="3981600" y="4762440"/>
                <a:chExt cx="1800000" cy="106056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4116240" y="5054760"/>
                  <a:ext cx="357480" cy="18720"/>
                </a:xfrm>
                <a:custGeom>
                  <a:avLst/>
                  <a:gdLst/>
                  <a:ahLst/>
                  <a:rect l="l" t="t" r="r" b="b"/>
                  <a:pathLst>
                    <a:path w="1121" h="59">
                      <a:moveTo>
                        <a:pt x="0" y="0"/>
                      </a:moveTo>
                      <a:lnTo>
                        <a:pt x="1121" y="0"/>
                      </a:lnTo>
                      <a:lnTo>
                        <a:pt x="1116" y="59"/>
                      </a:lnTo>
                      <a:lnTo>
                        <a:pt x="11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119480" y="5064120"/>
                  <a:ext cx="352440" cy="19080"/>
                </a:xfrm>
                <a:custGeom>
                  <a:avLst/>
                  <a:gdLst/>
                  <a:ahLst/>
                  <a:rect l="l" t="t" r="r" b="b"/>
                  <a:pathLst>
                    <a:path w="1113" h="58">
                      <a:moveTo>
                        <a:pt x="0" y="0"/>
                      </a:moveTo>
                      <a:lnTo>
                        <a:pt x="1113" y="0"/>
                      </a:lnTo>
                      <a:lnTo>
                        <a:pt x="110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121280" y="507348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5" h="58">
                      <a:moveTo>
                        <a:pt x="0" y="0"/>
                      </a:moveTo>
                      <a:lnTo>
                        <a:pt x="1105" y="0"/>
                      </a:lnTo>
                      <a:lnTo>
                        <a:pt x="109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122720" y="5083200"/>
                  <a:ext cx="347760" cy="17280"/>
                </a:xfrm>
                <a:custGeom>
                  <a:avLst/>
                  <a:gdLst/>
                  <a:ahLst/>
                  <a:rect l="l" t="t" r="r" b="b"/>
                  <a:pathLst>
                    <a:path w="1096" h="59">
                      <a:moveTo>
                        <a:pt x="0" y="0"/>
                      </a:moveTo>
                      <a:lnTo>
                        <a:pt x="1096" y="0"/>
                      </a:lnTo>
                      <a:lnTo>
                        <a:pt x="1091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124160" y="5092560"/>
                  <a:ext cx="344520" cy="17640"/>
                </a:xfrm>
                <a:custGeom>
                  <a:avLst/>
                  <a:gdLst/>
                  <a:ahLst/>
                  <a:rect l="l" t="t" r="r" b="b"/>
                  <a:pathLst>
                    <a:path w="1089" h="58">
                      <a:moveTo>
                        <a:pt x="0" y="0"/>
                      </a:moveTo>
                      <a:lnTo>
                        <a:pt x="1089" y="0"/>
                      </a:lnTo>
                      <a:lnTo>
                        <a:pt x="108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125960" y="51004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1081" h="58">
                      <a:moveTo>
                        <a:pt x="0" y="0"/>
                      </a:moveTo>
                      <a:lnTo>
                        <a:pt x="1081" y="0"/>
                      </a:lnTo>
                      <a:lnTo>
                        <a:pt x="107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127400" y="511020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1073" h="58">
                      <a:moveTo>
                        <a:pt x="0" y="0"/>
                      </a:moveTo>
                      <a:lnTo>
                        <a:pt x="1073" y="0"/>
                      </a:lnTo>
                      <a:lnTo>
                        <a:pt x="106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129200" y="5119560"/>
                  <a:ext cx="338040" cy="19080"/>
                </a:xfrm>
                <a:custGeom>
                  <a:avLst/>
                  <a:gdLst/>
                  <a:ahLst/>
                  <a:rect l="l" t="t" r="r" b="b"/>
                  <a:pathLst>
                    <a:path w="1066" h="59">
                      <a:moveTo>
                        <a:pt x="0" y="0"/>
                      </a:moveTo>
                      <a:lnTo>
                        <a:pt x="1066" y="0"/>
                      </a:lnTo>
                      <a:lnTo>
                        <a:pt x="1060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130640" y="5129280"/>
                  <a:ext cx="335160" cy="17280"/>
                </a:xfrm>
                <a:custGeom>
                  <a:avLst/>
                  <a:gdLst/>
                  <a:ahLst/>
                  <a:rect l="l" t="t" r="r" b="b"/>
                  <a:pathLst>
                    <a:path w="1058" h="58">
                      <a:moveTo>
                        <a:pt x="0" y="0"/>
                      </a:moveTo>
                      <a:lnTo>
                        <a:pt x="1058" y="0"/>
                      </a:lnTo>
                      <a:lnTo>
                        <a:pt x="1053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132440" y="5138640"/>
                  <a:ext cx="333360" cy="17640"/>
                </a:xfrm>
                <a:custGeom>
                  <a:avLst/>
                  <a:gdLst/>
                  <a:ahLst/>
                  <a:rect l="l" t="t" r="r" b="b"/>
                  <a:pathLst>
                    <a:path w="1050" h="58">
                      <a:moveTo>
                        <a:pt x="0" y="0"/>
                      </a:moveTo>
                      <a:lnTo>
                        <a:pt x="1050" y="0"/>
                      </a:lnTo>
                      <a:lnTo>
                        <a:pt x="1045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133880" y="5146560"/>
                  <a:ext cx="330120" cy="19080"/>
                </a:xfrm>
                <a:custGeom>
                  <a:avLst/>
                  <a:gdLst/>
                  <a:ahLst/>
                  <a:rect l="l" t="t" r="r" b="b"/>
                  <a:pathLst>
                    <a:path w="1042" h="59">
                      <a:moveTo>
                        <a:pt x="0" y="0"/>
                      </a:moveTo>
                      <a:lnTo>
                        <a:pt x="1042" y="0"/>
                      </a:lnTo>
                      <a:lnTo>
                        <a:pt x="103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135320" y="5156280"/>
                  <a:ext cx="328680" cy="19080"/>
                </a:xfrm>
                <a:custGeom>
                  <a:avLst/>
                  <a:gdLst/>
                  <a:ahLst/>
                  <a:rect l="l" t="t" r="r" b="b"/>
                  <a:pathLst>
                    <a:path w="1034" h="58">
                      <a:moveTo>
                        <a:pt x="0" y="0"/>
                      </a:moveTo>
                      <a:lnTo>
                        <a:pt x="1034" y="0"/>
                      </a:lnTo>
                      <a:lnTo>
                        <a:pt x="102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37120" y="5165640"/>
                  <a:ext cx="325440" cy="19080"/>
                </a:xfrm>
                <a:custGeom>
                  <a:avLst/>
                  <a:gdLst/>
                  <a:ahLst/>
                  <a:rect l="l" t="t" r="r" b="b"/>
                  <a:pathLst>
                    <a:path w="1026" h="58">
                      <a:moveTo>
                        <a:pt x="0" y="0"/>
                      </a:moveTo>
                      <a:lnTo>
                        <a:pt x="1026" y="0"/>
                      </a:lnTo>
                      <a:lnTo>
                        <a:pt x="102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38560" y="5175360"/>
                  <a:ext cx="324000" cy="19080"/>
                </a:xfrm>
                <a:custGeom>
                  <a:avLst/>
                  <a:gdLst/>
                  <a:ahLst/>
                  <a:rect l="l" t="t" r="r" b="b"/>
                  <a:pathLst>
                    <a:path w="1019" h="58">
                      <a:moveTo>
                        <a:pt x="0" y="0"/>
                      </a:moveTo>
                      <a:lnTo>
                        <a:pt x="1019" y="0"/>
                      </a:lnTo>
                      <a:lnTo>
                        <a:pt x="101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140360" y="5184720"/>
                  <a:ext cx="320400" cy="17640"/>
                </a:xfrm>
                <a:custGeom>
                  <a:avLst/>
                  <a:gdLst/>
                  <a:ahLst/>
                  <a:rect l="l" t="t" r="r" b="b"/>
                  <a:pathLst>
                    <a:path w="1011" h="58">
                      <a:moveTo>
                        <a:pt x="0" y="0"/>
                      </a:moveTo>
                      <a:lnTo>
                        <a:pt x="1011" y="0"/>
                      </a:lnTo>
                      <a:lnTo>
                        <a:pt x="1006" y="58"/>
                      </a:lnTo>
                      <a:lnTo>
                        <a:pt x="10" y="58"/>
                      </a:lnTo>
                      <a:lnTo>
                        <a:pt x="6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141800" y="5194440"/>
                  <a:ext cx="317520" cy="17280"/>
                </a:xfrm>
                <a:custGeom>
                  <a:avLst/>
                  <a:gdLst/>
                  <a:ahLst/>
                  <a:rect l="l" t="t" r="r" b="b"/>
                  <a:pathLst>
                    <a:path w="1003" h="59">
                      <a:moveTo>
                        <a:pt x="0" y="0"/>
                      </a:moveTo>
                      <a:lnTo>
                        <a:pt x="1003" y="0"/>
                      </a:lnTo>
                      <a:lnTo>
                        <a:pt x="998" y="59"/>
                      </a:lnTo>
                      <a:lnTo>
                        <a:pt x="9" y="59"/>
                      </a:lnTo>
                      <a:lnTo>
                        <a:pt x="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143240" y="5202360"/>
                  <a:ext cx="316080" cy="19080"/>
                </a:xfrm>
                <a:custGeom>
                  <a:avLst/>
                  <a:gdLst/>
                  <a:ahLst/>
                  <a:rect l="l" t="t" r="r" b="b"/>
                  <a:pathLst>
                    <a:path w="996" h="59">
                      <a:moveTo>
                        <a:pt x="0" y="0"/>
                      </a:moveTo>
                      <a:lnTo>
                        <a:pt x="996" y="0"/>
                      </a:lnTo>
                      <a:lnTo>
                        <a:pt x="990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145040" y="5211720"/>
                  <a:ext cx="312840" cy="19080"/>
                </a:xfrm>
                <a:custGeom>
                  <a:avLst/>
                  <a:gdLst/>
                  <a:ahLst/>
                  <a:rect l="l" t="t" r="r" b="b"/>
                  <a:pathLst>
                    <a:path w="989" h="58">
                      <a:moveTo>
                        <a:pt x="0" y="0"/>
                      </a:moveTo>
                      <a:lnTo>
                        <a:pt x="989" y="0"/>
                      </a:lnTo>
                      <a:lnTo>
                        <a:pt x="984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146480" y="5221440"/>
                  <a:ext cx="311400" cy="18720"/>
                </a:xfrm>
                <a:custGeom>
                  <a:avLst/>
                  <a:gdLst/>
                  <a:ahLst/>
                  <a:rect l="l" t="t" r="r" b="b"/>
                  <a:pathLst>
                    <a:path w="981" h="58">
                      <a:moveTo>
                        <a:pt x="0" y="0"/>
                      </a:moveTo>
                      <a:lnTo>
                        <a:pt x="981" y="0"/>
                      </a:lnTo>
                      <a:lnTo>
                        <a:pt x="976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148280" y="5230800"/>
                  <a:ext cx="307800" cy="19080"/>
                </a:xfrm>
                <a:custGeom>
                  <a:avLst/>
                  <a:gdLst/>
                  <a:ahLst/>
                  <a:rect l="l" t="t" r="r" b="b"/>
                  <a:pathLst>
                    <a:path w="974" h="58">
                      <a:moveTo>
                        <a:pt x="0" y="0"/>
                      </a:moveTo>
                      <a:lnTo>
                        <a:pt x="974" y="0"/>
                      </a:lnTo>
                      <a:lnTo>
                        <a:pt x="971" y="29"/>
                      </a:lnTo>
                      <a:lnTo>
                        <a:pt x="969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149720" y="5240160"/>
                  <a:ext cx="306360" cy="19080"/>
                </a:xfrm>
                <a:custGeom>
                  <a:avLst/>
                  <a:gdLst/>
                  <a:ahLst/>
                  <a:rect l="l" t="t" r="r" b="b"/>
                  <a:pathLst>
                    <a:path w="965" h="59">
                      <a:moveTo>
                        <a:pt x="0" y="0"/>
                      </a:moveTo>
                      <a:lnTo>
                        <a:pt x="965" y="0"/>
                      </a:lnTo>
                      <a:lnTo>
                        <a:pt x="965" y="0"/>
                      </a:lnTo>
                      <a:lnTo>
                        <a:pt x="962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151160" y="5249880"/>
                  <a:ext cx="303480" cy="17280"/>
                </a:xfrm>
                <a:custGeom>
                  <a:avLst/>
                  <a:gdLst/>
                  <a:ahLst/>
                  <a:rect l="l" t="t" r="r" b="b"/>
                  <a:pathLst>
                    <a:path w="958" h="58">
                      <a:moveTo>
                        <a:pt x="0" y="0"/>
                      </a:moveTo>
                      <a:lnTo>
                        <a:pt x="958" y="0"/>
                      </a:lnTo>
                      <a:lnTo>
                        <a:pt x="956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152960" y="5259240"/>
                  <a:ext cx="301680" cy="17640"/>
                </a:xfrm>
                <a:custGeom>
                  <a:avLst/>
                  <a:gdLst/>
                  <a:ahLst/>
                  <a:rect l="l" t="t" r="r" b="b"/>
                  <a:pathLst>
                    <a:path w="953" h="58">
                      <a:moveTo>
                        <a:pt x="0" y="0"/>
                      </a:moveTo>
                      <a:lnTo>
                        <a:pt x="953" y="0"/>
                      </a:lnTo>
                      <a:lnTo>
                        <a:pt x="95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154400" y="5267160"/>
                  <a:ext cx="300240" cy="19080"/>
                </a:xfrm>
                <a:custGeom>
                  <a:avLst/>
                  <a:gdLst/>
                  <a:ahLst/>
                  <a:rect l="l" t="t" r="r" b="b"/>
                  <a:pathLst>
                    <a:path w="947" h="59">
                      <a:moveTo>
                        <a:pt x="0" y="0"/>
                      </a:moveTo>
                      <a:lnTo>
                        <a:pt x="947" y="0"/>
                      </a:lnTo>
                      <a:lnTo>
                        <a:pt x="94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156200" y="5276880"/>
                  <a:ext cx="298440" cy="19080"/>
                </a:xfrm>
                <a:custGeom>
                  <a:avLst/>
                  <a:gdLst/>
                  <a:ahLst/>
                  <a:rect l="l" t="t" r="r" b="b"/>
                  <a:pathLst>
                    <a:path w="941" h="58">
                      <a:moveTo>
                        <a:pt x="0" y="0"/>
                      </a:moveTo>
                      <a:lnTo>
                        <a:pt x="941" y="0"/>
                      </a:lnTo>
                      <a:lnTo>
                        <a:pt x="940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157640" y="5286240"/>
                  <a:ext cx="297000" cy="19080"/>
                </a:xfrm>
                <a:custGeom>
                  <a:avLst/>
                  <a:gdLst/>
                  <a:ahLst/>
                  <a:rect l="l" t="t" r="r" b="b"/>
                  <a:pathLst>
                    <a:path w="936" h="59">
                      <a:moveTo>
                        <a:pt x="0" y="0"/>
                      </a:moveTo>
                      <a:lnTo>
                        <a:pt x="936" y="0"/>
                      </a:lnTo>
                      <a:lnTo>
                        <a:pt x="934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159080" y="5295960"/>
                  <a:ext cx="295560" cy="17280"/>
                </a:xfrm>
                <a:custGeom>
                  <a:avLst/>
                  <a:gdLst/>
                  <a:ahLst/>
                  <a:rect l="l" t="t" r="r" b="b"/>
                  <a:pathLst>
                    <a:path w="930" h="58">
                      <a:moveTo>
                        <a:pt x="0" y="0"/>
                      </a:moveTo>
                      <a:lnTo>
                        <a:pt x="930" y="0"/>
                      </a:lnTo>
                      <a:lnTo>
                        <a:pt x="928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159080" y="5305320"/>
                  <a:ext cx="293760" cy="17640"/>
                </a:xfrm>
                <a:custGeom>
                  <a:avLst/>
                  <a:gdLst/>
                  <a:ahLst/>
                  <a:rect l="l" t="t" r="r" b="b"/>
                  <a:pathLst>
                    <a:path w="925" h="58">
                      <a:moveTo>
                        <a:pt x="0" y="0"/>
                      </a:moveTo>
                      <a:lnTo>
                        <a:pt x="925" y="0"/>
                      </a:lnTo>
                      <a:lnTo>
                        <a:pt x="92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160880" y="5313240"/>
                  <a:ext cx="291960" cy="19080"/>
                </a:xfrm>
                <a:custGeom>
                  <a:avLst/>
                  <a:gdLst/>
                  <a:ahLst/>
                  <a:rect l="l" t="t" r="r" b="b"/>
                  <a:pathLst>
                    <a:path w="919" h="58">
                      <a:moveTo>
                        <a:pt x="0" y="0"/>
                      </a:moveTo>
                      <a:lnTo>
                        <a:pt x="919" y="0"/>
                      </a:lnTo>
                      <a:lnTo>
                        <a:pt x="917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162320" y="532296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3" h="58">
                      <a:moveTo>
                        <a:pt x="0" y="0"/>
                      </a:moveTo>
                      <a:lnTo>
                        <a:pt x="913" y="0"/>
                      </a:lnTo>
                      <a:lnTo>
                        <a:pt x="911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165560" y="5332320"/>
                  <a:ext cx="287280" cy="19080"/>
                </a:xfrm>
                <a:custGeom>
                  <a:avLst/>
                  <a:gdLst/>
                  <a:ahLst/>
                  <a:rect l="l" t="t" r="r" b="b"/>
                  <a:pathLst>
                    <a:path w="906" h="59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4" y="59"/>
                      </a:lnTo>
                      <a:lnTo>
                        <a:pt x="8" y="59"/>
                      </a:lnTo>
                      <a:lnTo>
                        <a:pt x="5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167360" y="5342040"/>
                  <a:ext cx="285480" cy="19080"/>
                </a:xfrm>
                <a:custGeom>
                  <a:avLst/>
                  <a:gdLst/>
                  <a:ahLst/>
                  <a:rect l="l" t="t" r="r" b="b"/>
                  <a:pathLst>
                    <a:path w="900" h="58">
                      <a:moveTo>
                        <a:pt x="0" y="0"/>
                      </a:moveTo>
                      <a:lnTo>
                        <a:pt x="900" y="0"/>
                      </a:lnTo>
                      <a:lnTo>
                        <a:pt x="898" y="58"/>
                      </a:lnTo>
                      <a:lnTo>
                        <a:pt x="7" y="58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167360" y="5351400"/>
                  <a:ext cx="284040" cy="19080"/>
                </a:xfrm>
                <a:custGeom>
                  <a:avLst/>
                  <a:gdLst/>
                  <a:ahLst/>
                  <a:rect l="l" t="t" r="r" b="b"/>
                  <a:pathLst>
                    <a:path w="896" h="59">
                      <a:moveTo>
                        <a:pt x="0" y="0"/>
                      </a:moveTo>
                      <a:lnTo>
                        <a:pt x="896" y="0"/>
                      </a:lnTo>
                      <a:lnTo>
                        <a:pt x="895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168800" y="5361120"/>
                  <a:ext cx="282600" cy="17280"/>
                </a:xfrm>
                <a:custGeom>
                  <a:avLst/>
                  <a:gdLst/>
                  <a:ahLst/>
                  <a:rect l="l" t="t" r="r" b="b"/>
                  <a:pathLst>
                    <a:path w="891" h="58">
                      <a:moveTo>
                        <a:pt x="0" y="0"/>
                      </a:moveTo>
                      <a:lnTo>
                        <a:pt x="891" y="0"/>
                      </a:lnTo>
                      <a:lnTo>
                        <a:pt x="890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170240" y="5370480"/>
                  <a:ext cx="281160" cy="17640"/>
                </a:xfrm>
                <a:custGeom>
                  <a:avLst/>
                  <a:gdLst/>
                  <a:ahLst/>
                  <a:rect l="l" t="t" r="r" b="b"/>
                  <a:pathLst>
                    <a:path w="887" h="58">
                      <a:moveTo>
                        <a:pt x="0" y="0"/>
                      </a:moveTo>
                      <a:lnTo>
                        <a:pt x="887" y="0"/>
                      </a:lnTo>
                      <a:lnTo>
                        <a:pt x="885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170240" y="537840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3" h="58">
                      <a:moveTo>
                        <a:pt x="0" y="0"/>
                      </a:moveTo>
                      <a:lnTo>
                        <a:pt x="883" y="0"/>
                      </a:lnTo>
                      <a:lnTo>
                        <a:pt x="881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172040" y="5388120"/>
                  <a:ext cx="279360" cy="19080"/>
                </a:xfrm>
                <a:custGeom>
                  <a:avLst/>
                  <a:gdLst/>
                  <a:ahLst/>
                  <a:rect l="l" t="t" r="r" b="b"/>
                  <a:pathLst>
                    <a:path w="878" h="58">
                      <a:moveTo>
                        <a:pt x="0" y="0"/>
                      </a:moveTo>
                      <a:lnTo>
                        <a:pt x="878" y="0"/>
                      </a:lnTo>
                      <a:lnTo>
                        <a:pt x="87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173480" y="5397480"/>
                  <a:ext cx="277920" cy="19080"/>
                </a:xfrm>
                <a:custGeom>
                  <a:avLst/>
                  <a:gdLst/>
                  <a:ahLst/>
                  <a:rect l="l" t="t" r="r" b="b"/>
                  <a:pathLst>
                    <a:path w="873" h="60">
                      <a:moveTo>
                        <a:pt x="0" y="0"/>
                      </a:moveTo>
                      <a:lnTo>
                        <a:pt x="873" y="0"/>
                      </a:lnTo>
                      <a:lnTo>
                        <a:pt x="871" y="60"/>
                      </a:lnTo>
                      <a:lnTo>
                        <a:pt x="7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175280" y="540720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9" h="58">
                      <a:moveTo>
                        <a:pt x="0" y="0"/>
                      </a:moveTo>
                      <a:lnTo>
                        <a:pt x="869" y="0"/>
                      </a:lnTo>
                      <a:lnTo>
                        <a:pt x="86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175280" y="541656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4" h="58">
                      <a:moveTo>
                        <a:pt x="0" y="0"/>
                      </a:moveTo>
                      <a:lnTo>
                        <a:pt x="864" y="0"/>
                      </a:lnTo>
                      <a:lnTo>
                        <a:pt x="862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176720" y="5424480"/>
                  <a:ext cx="272880" cy="19080"/>
                </a:xfrm>
                <a:custGeom>
                  <a:avLst/>
                  <a:gdLst/>
                  <a:ahLst/>
                  <a:rect l="l" t="t" r="r" b="b"/>
                  <a:pathLst>
                    <a:path w="859" h="58">
                      <a:moveTo>
                        <a:pt x="0" y="0"/>
                      </a:moveTo>
                      <a:lnTo>
                        <a:pt x="859" y="0"/>
                      </a:lnTo>
                      <a:lnTo>
                        <a:pt x="85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178160" y="5433840"/>
                  <a:ext cx="271440" cy="19080"/>
                </a:xfrm>
                <a:custGeom>
                  <a:avLst/>
                  <a:gdLst/>
                  <a:ahLst/>
                  <a:rect l="l" t="t" r="r" b="b"/>
                  <a:pathLst>
                    <a:path w="855" h="58">
                      <a:moveTo>
                        <a:pt x="0" y="0"/>
                      </a:moveTo>
                      <a:lnTo>
                        <a:pt x="855" y="0"/>
                      </a:lnTo>
                      <a:lnTo>
                        <a:pt x="854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179960" y="5443560"/>
                  <a:ext cx="269640" cy="19080"/>
                </a:xfrm>
                <a:custGeom>
                  <a:avLst/>
                  <a:gdLst/>
                  <a:ahLst/>
                  <a:rect l="l" t="t" r="r" b="b"/>
                  <a:pathLst>
                    <a:path w="849" h="59">
                      <a:moveTo>
                        <a:pt x="0" y="0"/>
                      </a:moveTo>
                      <a:lnTo>
                        <a:pt x="849" y="0"/>
                      </a:lnTo>
                      <a:lnTo>
                        <a:pt x="848" y="59"/>
                      </a:lnTo>
                      <a:lnTo>
                        <a:pt x="7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181400" y="5452920"/>
                  <a:ext cx="268200" cy="19080"/>
                </a:xfrm>
                <a:custGeom>
                  <a:avLst/>
                  <a:gdLst/>
                  <a:ahLst/>
                  <a:rect l="l" t="t" r="r" b="b"/>
                  <a:pathLst>
                    <a:path w="845" h="58">
                      <a:moveTo>
                        <a:pt x="0" y="0"/>
                      </a:moveTo>
                      <a:lnTo>
                        <a:pt x="845" y="0"/>
                      </a:lnTo>
                      <a:lnTo>
                        <a:pt x="843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4181400" y="5462640"/>
                  <a:ext cx="266760" cy="19080"/>
                </a:xfrm>
                <a:custGeom>
                  <a:avLst/>
                  <a:gdLst/>
                  <a:ahLst/>
                  <a:rect l="l" t="t" r="r" b="b"/>
                  <a:pathLst>
                    <a:path w="841" h="59">
                      <a:moveTo>
                        <a:pt x="0" y="0"/>
                      </a:moveTo>
                      <a:lnTo>
                        <a:pt x="841" y="0"/>
                      </a:lnTo>
                      <a:lnTo>
                        <a:pt x="839" y="48"/>
                      </a:lnTo>
                      <a:lnTo>
                        <a:pt x="840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183200" y="5472000"/>
                  <a:ext cx="264960" cy="17640"/>
                </a:xfrm>
                <a:custGeom>
                  <a:avLst/>
                  <a:gdLst/>
                  <a:ahLst/>
                  <a:rect l="l" t="t" r="r" b="b"/>
                  <a:pathLst>
                    <a:path w="836" h="58">
                      <a:moveTo>
                        <a:pt x="0" y="0"/>
                      </a:moveTo>
                      <a:lnTo>
                        <a:pt x="836" y="0"/>
                      </a:lnTo>
                      <a:lnTo>
                        <a:pt x="835" y="19"/>
                      </a:lnTo>
                      <a:lnTo>
                        <a:pt x="83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184640" y="5481720"/>
                  <a:ext cx="263520" cy="17280"/>
                </a:xfrm>
                <a:custGeom>
                  <a:avLst/>
                  <a:gdLst/>
                  <a:ahLst/>
                  <a:rect l="l" t="t" r="r" b="b"/>
                  <a:pathLst>
                    <a:path w="833" h="58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833" y="58"/>
                      </a:lnTo>
                      <a:lnTo>
                        <a:pt x="6" y="58"/>
                      </a:lnTo>
                      <a:lnTo>
                        <a:pt x="6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184640" y="5489640"/>
                  <a:ext cx="264960" cy="19080"/>
                </a:xfrm>
                <a:custGeom>
                  <a:avLst/>
                  <a:gdLst/>
                  <a:ahLst/>
                  <a:rect l="l" t="t" r="r" b="b"/>
                  <a:pathLst>
                    <a:path w="831" h="58">
                      <a:moveTo>
                        <a:pt x="0" y="0"/>
                      </a:moveTo>
                      <a:lnTo>
                        <a:pt x="829" y="0"/>
                      </a:lnTo>
                      <a:lnTo>
                        <a:pt x="831" y="58"/>
                      </a:lnTo>
                      <a:lnTo>
                        <a:pt x="4" y="58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186080" y="54990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4186080" y="5508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9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4186080" y="5518080"/>
                  <a:ext cx="263520" cy="1764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4187880" y="552780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4187880" y="5535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4187880" y="554508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187880" y="55548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189320" y="5564160"/>
                  <a:ext cx="26208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189320" y="5573880"/>
                  <a:ext cx="262080" cy="172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4189320" y="5583240"/>
                  <a:ext cx="262080" cy="1764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4189320" y="559116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4191120" y="5600880"/>
                  <a:ext cx="261720" cy="1872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191120" y="561024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4191120" y="561960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4191120" y="562932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4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0" y="58"/>
                      </a:lnTo>
                      <a:lnTo>
                        <a:pt x="6" y="4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4186080" y="5638680"/>
                  <a:ext cx="266760" cy="17640"/>
                </a:xfrm>
                <a:custGeom>
                  <a:avLst/>
                  <a:gdLst/>
                  <a:ahLst/>
                  <a:rect l="l" t="t" r="r" b="b"/>
                  <a:pathLst>
                    <a:path w="842" h="58">
                      <a:moveTo>
                        <a:pt x="18" y="0"/>
                      </a:moveTo>
                      <a:lnTo>
                        <a:pt x="841" y="0"/>
                      </a:lnTo>
                      <a:lnTo>
                        <a:pt x="842" y="58"/>
                      </a:lnTo>
                      <a:lnTo>
                        <a:pt x="0" y="58"/>
                      </a:lnTo>
                      <a:lnTo>
                        <a:pt x="1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4181400" y="5646600"/>
                  <a:ext cx="273240" cy="19080"/>
                </a:xfrm>
                <a:custGeom>
                  <a:avLst/>
                  <a:gdLst/>
                  <a:ahLst/>
                  <a:rect l="l" t="t" r="r" b="b"/>
                  <a:pathLst>
                    <a:path w="857" h="58">
                      <a:moveTo>
                        <a:pt x="27" y="0"/>
                      </a:moveTo>
                      <a:lnTo>
                        <a:pt x="856" y="0"/>
                      </a:lnTo>
                      <a:lnTo>
                        <a:pt x="857" y="58"/>
                      </a:lnTo>
                      <a:lnTo>
                        <a:pt x="0" y="5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4173480" y="565632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4" h="58">
                      <a:moveTo>
                        <a:pt x="40" y="0"/>
                      </a:moveTo>
                      <a:lnTo>
                        <a:pt x="882" y="0"/>
                      </a:lnTo>
                      <a:lnTo>
                        <a:pt x="884" y="58"/>
                      </a:lnTo>
                      <a:lnTo>
                        <a:pt x="0" y="58"/>
                      </a:lnTo>
                      <a:lnTo>
                        <a:pt x="21" y="4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164120" y="566568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7" h="59">
                      <a:moveTo>
                        <a:pt x="58" y="0"/>
                      </a:moveTo>
                      <a:lnTo>
                        <a:pt x="915" y="0"/>
                      </a:lnTo>
                      <a:lnTo>
                        <a:pt x="917" y="59"/>
                      </a:lnTo>
                      <a:lnTo>
                        <a:pt x="0" y="59"/>
                      </a:lnTo>
                      <a:lnTo>
                        <a:pt x="10" y="50"/>
                      </a:lnTo>
                      <a:lnTo>
                        <a:pt x="53" y="1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4152960" y="5675400"/>
                  <a:ext cx="301680" cy="19080"/>
                </a:xfrm>
                <a:custGeom>
                  <a:avLst/>
                  <a:gdLst/>
                  <a:ahLst/>
                  <a:rect l="l" t="t" r="r" b="b"/>
                  <a:pathLst>
                    <a:path w="950" h="59">
                      <a:moveTo>
                        <a:pt x="64" y="0"/>
                      </a:moveTo>
                      <a:lnTo>
                        <a:pt x="948" y="0"/>
                      </a:lnTo>
                      <a:lnTo>
                        <a:pt x="950" y="59"/>
                      </a:lnTo>
                      <a:lnTo>
                        <a:pt x="0" y="59"/>
                      </a:lnTo>
                      <a:lnTo>
                        <a:pt x="42" y="21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143240" y="5684760"/>
                  <a:ext cx="311400" cy="17640"/>
                </a:xfrm>
                <a:custGeom>
                  <a:avLst/>
                  <a:gdLst/>
                  <a:ahLst/>
                  <a:rect l="l" t="t" r="r" b="b"/>
                  <a:pathLst>
                    <a:path w="984" h="58">
                      <a:moveTo>
                        <a:pt x="65" y="0"/>
                      </a:moveTo>
                      <a:lnTo>
                        <a:pt x="982" y="0"/>
                      </a:lnTo>
                      <a:lnTo>
                        <a:pt x="984" y="58"/>
                      </a:lnTo>
                      <a:lnTo>
                        <a:pt x="0" y="58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4132440" y="5694480"/>
                  <a:ext cx="323640" cy="17280"/>
                </a:xfrm>
                <a:custGeom>
                  <a:avLst/>
                  <a:gdLst/>
                  <a:ahLst/>
                  <a:rect l="l" t="t" r="r" b="b"/>
                  <a:pathLst>
                    <a:path w="1020" h="58">
                      <a:moveTo>
                        <a:pt x="67" y="0"/>
                      </a:moveTo>
                      <a:lnTo>
                        <a:pt x="1017" y="0"/>
                      </a:lnTo>
                      <a:lnTo>
                        <a:pt x="1020" y="58"/>
                      </a:lnTo>
                      <a:lnTo>
                        <a:pt x="0" y="58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4121280" y="5702400"/>
                  <a:ext cx="334800" cy="19080"/>
                </a:xfrm>
                <a:custGeom>
                  <a:avLst/>
                  <a:gdLst/>
                  <a:ahLst/>
                  <a:rect l="l" t="t" r="r" b="b"/>
                  <a:pathLst>
                    <a:path w="1052" h="58">
                      <a:moveTo>
                        <a:pt x="66" y="0"/>
                      </a:moveTo>
                      <a:lnTo>
                        <a:pt x="1050" y="0"/>
                      </a:lnTo>
                      <a:lnTo>
                        <a:pt x="1052" y="35"/>
                      </a:lnTo>
                      <a:lnTo>
                        <a:pt x="989" y="35"/>
                      </a:lnTo>
                      <a:lnTo>
                        <a:pt x="994" y="58"/>
                      </a:lnTo>
                      <a:lnTo>
                        <a:pt x="0" y="58"/>
                      </a:lnTo>
                      <a:lnTo>
                        <a:pt x="1" y="57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105440" y="571176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6" h="59">
                      <a:moveTo>
                        <a:pt x="86" y="0"/>
                      </a:moveTo>
                      <a:lnTo>
                        <a:pt x="1106" y="0"/>
                      </a:lnTo>
                      <a:lnTo>
                        <a:pt x="1106" y="6"/>
                      </a:lnTo>
                      <a:lnTo>
                        <a:pt x="1043" y="6"/>
                      </a:lnTo>
                      <a:lnTo>
                        <a:pt x="1054" y="59"/>
                      </a:lnTo>
                      <a:lnTo>
                        <a:pt x="0" y="59"/>
                      </a:lnTo>
                      <a:lnTo>
                        <a:pt x="55" y="28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087800" y="5721480"/>
                  <a:ext cx="353880" cy="19080"/>
                </a:xfrm>
                <a:custGeom>
                  <a:avLst/>
                  <a:gdLst/>
                  <a:ahLst/>
                  <a:rect l="l" t="t" r="r" b="b"/>
                  <a:pathLst>
                    <a:path w="1115" h="58">
                      <a:moveTo>
                        <a:pt x="108" y="0"/>
                      </a:moveTo>
                      <a:lnTo>
                        <a:pt x="1102" y="0"/>
                      </a:lnTo>
                      <a:lnTo>
                        <a:pt x="1115" y="58"/>
                      </a:lnTo>
                      <a:lnTo>
                        <a:pt x="0" y="58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067280" y="5730840"/>
                  <a:ext cx="376200" cy="19080"/>
                </a:xfrm>
                <a:custGeom>
                  <a:avLst/>
                  <a:gdLst/>
                  <a:ahLst/>
                  <a:rect l="l" t="t" r="r" b="b"/>
                  <a:pathLst>
                    <a:path w="1184" h="58">
                      <a:moveTo>
                        <a:pt x="116" y="0"/>
                      </a:moveTo>
                      <a:lnTo>
                        <a:pt x="1170" y="0"/>
                      </a:lnTo>
                      <a:lnTo>
                        <a:pt x="1184" y="58"/>
                      </a:lnTo>
                      <a:lnTo>
                        <a:pt x="0" y="58"/>
                      </a:lnTo>
                      <a:lnTo>
                        <a:pt x="28" y="4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043520" y="5740560"/>
                  <a:ext cx="401400" cy="17280"/>
                </a:xfrm>
                <a:custGeom>
                  <a:avLst/>
                  <a:gdLst/>
                  <a:ahLst/>
                  <a:rect l="l" t="t" r="r" b="b"/>
                  <a:pathLst>
                    <a:path w="1265" h="59">
                      <a:moveTo>
                        <a:pt x="137" y="0"/>
                      </a:moveTo>
                      <a:lnTo>
                        <a:pt x="1252" y="0"/>
                      </a:lnTo>
                      <a:lnTo>
                        <a:pt x="1265" y="59"/>
                      </a:lnTo>
                      <a:lnTo>
                        <a:pt x="0" y="59"/>
                      </a:lnTo>
                      <a:lnTo>
                        <a:pt x="103" y="19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4017960" y="5749920"/>
                  <a:ext cx="430200" cy="17640"/>
                </a:xfrm>
                <a:custGeom>
                  <a:avLst/>
                  <a:gdLst/>
                  <a:ahLst/>
                  <a:rect l="l" t="t" r="r" b="b"/>
                  <a:pathLst>
                    <a:path w="1354" h="58">
                      <a:moveTo>
                        <a:pt x="158" y="0"/>
                      </a:moveTo>
                      <a:lnTo>
                        <a:pt x="1342" y="0"/>
                      </a:lnTo>
                      <a:lnTo>
                        <a:pt x="1354" y="58"/>
                      </a:lnTo>
                      <a:lnTo>
                        <a:pt x="0" y="58"/>
                      </a:lnTo>
                      <a:lnTo>
                        <a:pt x="27" y="51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983040" y="5757840"/>
                  <a:ext cx="466560" cy="19080"/>
                </a:xfrm>
                <a:custGeom>
                  <a:avLst/>
                  <a:gdLst/>
                  <a:ahLst/>
                  <a:rect l="l" t="t" r="r" b="b"/>
                  <a:pathLst>
                    <a:path w="1467" h="59">
                      <a:moveTo>
                        <a:pt x="191" y="0"/>
                      </a:moveTo>
                      <a:lnTo>
                        <a:pt x="1456" y="0"/>
                      </a:lnTo>
                      <a:lnTo>
                        <a:pt x="1464" y="41"/>
                      </a:lnTo>
                      <a:lnTo>
                        <a:pt x="1467" y="59"/>
                      </a:lnTo>
                      <a:lnTo>
                        <a:pt x="0" y="59"/>
                      </a:lnTo>
                      <a:lnTo>
                        <a:pt x="135" y="22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981600" y="5767560"/>
                  <a:ext cx="468000" cy="18720"/>
                </a:xfrm>
                <a:custGeom>
                  <a:avLst/>
                  <a:gdLst/>
                  <a:ahLst/>
                  <a:rect l="l" t="t" r="r" b="b"/>
                  <a:pathLst>
                    <a:path w="1479" h="58">
                      <a:moveTo>
                        <a:pt x="116" y="0"/>
                      </a:moveTo>
                      <a:lnTo>
                        <a:pt x="1470" y="0"/>
                      </a:lnTo>
                      <a:lnTo>
                        <a:pt x="1472" y="12"/>
                      </a:lnTo>
                      <a:lnTo>
                        <a:pt x="1479" y="58"/>
                      </a:lnTo>
                      <a:lnTo>
                        <a:pt x="0" y="58"/>
                      </a:lnTo>
                      <a:lnTo>
                        <a:pt x="0" y="32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981600" y="5776920"/>
                  <a:ext cx="469800" cy="19080"/>
                </a:xfrm>
                <a:custGeom>
                  <a:avLst/>
                  <a:gdLst/>
                  <a:ahLst/>
                  <a:rect l="l" t="t" r="r" b="b"/>
                  <a:pathLst>
                    <a:path w="1483" h="58">
                      <a:moveTo>
                        <a:pt x="8" y="0"/>
                      </a:moveTo>
                      <a:lnTo>
                        <a:pt x="1475" y="0"/>
                      </a:lnTo>
                      <a:lnTo>
                        <a:pt x="1483" y="58"/>
                      </a:lnTo>
                      <a:lnTo>
                        <a:pt x="0" y="58"/>
                      </a:lnTo>
                      <a:lnTo>
                        <a:pt x="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981600" y="5786280"/>
                  <a:ext cx="471240" cy="17640"/>
                </a:xfrm>
                <a:custGeom>
                  <a:avLst/>
                  <a:gdLst/>
                  <a:ahLst/>
                  <a:rect l="l" t="t" r="r" b="b"/>
                  <a:pathLst>
                    <a:path w="1487" h="58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7" y="58"/>
                      </a:lnTo>
                      <a:lnTo>
                        <a:pt x="1" y="58"/>
                      </a:lnTo>
                      <a:lnTo>
                        <a:pt x="0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981600" y="5796000"/>
                  <a:ext cx="473040" cy="17280"/>
                </a:xfrm>
                <a:custGeom>
                  <a:avLst/>
                  <a:gdLst/>
                  <a:ahLst/>
                  <a:rect l="l" t="t" r="r" b="b"/>
                  <a:pathLst>
                    <a:path w="1491" h="58">
                      <a:moveTo>
                        <a:pt x="0" y="0"/>
                      </a:moveTo>
                      <a:lnTo>
                        <a:pt x="1483" y="0"/>
                      </a:lnTo>
                      <a:lnTo>
                        <a:pt x="1491" y="58"/>
                      </a:lnTo>
                      <a:lnTo>
                        <a:pt x="12" y="58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981600" y="5803920"/>
                  <a:ext cx="474480" cy="19080"/>
                </a:xfrm>
                <a:custGeom>
                  <a:avLst/>
                  <a:gdLst/>
                  <a:ahLst/>
                  <a:rect l="l" t="t" r="r" b="b"/>
                  <a:pathLst>
                    <a:path w="1495" h="60">
                      <a:moveTo>
                        <a:pt x="0" y="0"/>
                      </a:moveTo>
                      <a:lnTo>
                        <a:pt x="1486" y="0"/>
                      </a:lnTo>
                      <a:lnTo>
                        <a:pt x="1495" y="60"/>
                      </a:lnTo>
                      <a:lnTo>
                        <a:pt x="21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984480" y="5813280"/>
                  <a:ext cx="471600" cy="9720"/>
                </a:xfrm>
                <a:custGeom>
                  <a:avLst/>
                  <a:gdLst/>
                  <a:ahLst/>
                  <a:rect l="l" t="t" r="r" b="b"/>
                  <a:pathLst>
                    <a:path w="1484" h="30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4" y="30"/>
                      </a:lnTo>
                      <a:lnTo>
                        <a:pt x="10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0e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4746600" y="5813280"/>
                  <a:ext cx="757440" cy="9720"/>
                </a:xfrm>
                <a:custGeom>
                  <a:avLst/>
                  <a:gdLst/>
                  <a:ahLst/>
                  <a:rect l="l" t="t" r="r" b="b"/>
                  <a:pathLst>
                    <a:path w="2384" h="28">
                      <a:moveTo>
                        <a:pt x="2331" y="28"/>
                      </a:moveTo>
                      <a:lnTo>
                        <a:pt x="1486" y="28"/>
                      </a:lnTo>
                      <a:lnTo>
                        <a:pt x="1486" y="9"/>
                      </a:lnTo>
                      <a:lnTo>
                        <a:pt x="1477" y="0"/>
                      </a:lnTo>
                      <a:lnTo>
                        <a:pt x="2384" y="0"/>
                      </a:lnTo>
                      <a:lnTo>
                        <a:pt x="2374" y="9"/>
                      </a:lnTo>
                      <a:lnTo>
                        <a:pt x="2331" y="28"/>
                      </a:lnTo>
                      <a:close/>
                      <a:moveTo>
                        <a:pt x="800" y="28"/>
                      </a:moveTo>
                      <a:lnTo>
                        <a:pt x="32" y="28"/>
                      </a:lnTo>
                      <a:lnTo>
                        <a:pt x="0" y="0"/>
                      </a:lnTo>
                      <a:lnTo>
                        <a:pt x="859" y="0"/>
                      </a:lnTo>
                      <a:lnTo>
                        <a:pt x="800" y="28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743360" y="5803920"/>
                  <a:ext cx="768600" cy="19080"/>
                </a:xfrm>
                <a:custGeom>
                  <a:avLst/>
                  <a:gdLst/>
                  <a:ahLst/>
                  <a:rect l="l" t="t" r="r" b="b"/>
                  <a:pathLst>
                    <a:path w="2424" h="57">
                      <a:moveTo>
                        <a:pt x="2342" y="57"/>
                      </a:moveTo>
                      <a:lnTo>
                        <a:pt x="1497" y="57"/>
                      </a:lnTo>
                      <a:lnTo>
                        <a:pt x="1497" y="38"/>
                      </a:lnTo>
                      <a:lnTo>
                        <a:pt x="1478" y="19"/>
                      </a:lnTo>
                      <a:lnTo>
                        <a:pt x="1487" y="0"/>
                      </a:lnTo>
                      <a:lnTo>
                        <a:pt x="2424" y="0"/>
                      </a:lnTo>
                      <a:lnTo>
                        <a:pt x="2385" y="38"/>
                      </a:lnTo>
                      <a:lnTo>
                        <a:pt x="2342" y="57"/>
                      </a:lnTo>
                      <a:close/>
                      <a:moveTo>
                        <a:pt x="811" y="57"/>
                      </a:moveTo>
                      <a:lnTo>
                        <a:pt x="43" y="5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909" y="0"/>
                      </a:lnTo>
                      <a:lnTo>
                        <a:pt x="893" y="19"/>
                      </a:lnTo>
                      <a:lnTo>
                        <a:pt x="811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4743360" y="5796000"/>
                  <a:ext cx="777960" cy="17280"/>
                </a:xfrm>
                <a:custGeom>
                  <a:avLst/>
                  <a:gdLst/>
                  <a:ahLst/>
                  <a:rect l="l" t="t" r="r" b="b"/>
                  <a:pathLst>
                    <a:path w="2452" h="57">
                      <a:moveTo>
                        <a:pt x="2395" y="57"/>
                      </a:moveTo>
                      <a:lnTo>
                        <a:pt x="1488" y="57"/>
                      </a:lnTo>
                      <a:lnTo>
                        <a:pt x="1478" y="47"/>
                      </a:lnTo>
                      <a:lnTo>
                        <a:pt x="1497" y="8"/>
                      </a:lnTo>
                      <a:lnTo>
                        <a:pt x="1503" y="0"/>
                      </a:lnTo>
                      <a:lnTo>
                        <a:pt x="2452" y="0"/>
                      </a:lnTo>
                      <a:lnTo>
                        <a:pt x="2447" y="8"/>
                      </a:lnTo>
                      <a:lnTo>
                        <a:pt x="2395" y="57"/>
                      </a:lnTo>
                      <a:close/>
                      <a:moveTo>
                        <a:pt x="870" y="57"/>
                      </a:moveTo>
                      <a:lnTo>
                        <a:pt x="11" y="57"/>
                      </a:lnTo>
                      <a:lnTo>
                        <a:pt x="0" y="4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937" y="0"/>
                      </a:lnTo>
                      <a:lnTo>
                        <a:pt x="893" y="47"/>
                      </a:lnTo>
                      <a:lnTo>
                        <a:pt x="87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4743360" y="5786280"/>
                  <a:ext cx="782640" cy="17640"/>
                </a:xfrm>
                <a:custGeom>
                  <a:avLst/>
                  <a:gdLst/>
                  <a:ahLst/>
                  <a:rect l="l" t="t" r="r" b="b"/>
                  <a:pathLst>
                    <a:path w="2469" h="57">
                      <a:moveTo>
                        <a:pt x="2424" y="57"/>
                      </a:moveTo>
                      <a:lnTo>
                        <a:pt x="1487" y="57"/>
                      </a:lnTo>
                      <a:lnTo>
                        <a:pt x="1497" y="37"/>
                      </a:lnTo>
                      <a:lnTo>
                        <a:pt x="1524" y="0"/>
                      </a:lnTo>
                      <a:lnTo>
                        <a:pt x="2469" y="0"/>
                      </a:lnTo>
                      <a:lnTo>
                        <a:pt x="2447" y="37"/>
                      </a:lnTo>
                      <a:lnTo>
                        <a:pt x="2424" y="57"/>
                      </a:lnTo>
                      <a:close/>
                      <a:moveTo>
                        <a:pt x="909" y="57"/>
                      </a:moveTo>
                      <a:lnTo>
                        <a:pt x="0" y="5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30" y="0"/>
                      </a:lnTo>
                      <a:lnTo>
                        <a:pt x="955" y="0"/>
                      </a:lnTo>
                      <a:lnTo>
                        <a:pt x="950" y="13"/>
                      </a:lnTo>
                      <a:lnTo>
                        <a:pt x="909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4743360" y="5776920"/>
                  <a:ext cx="789120" cy="19080"/>
                </a:xfrm>
                <a:custGeom>
                  <a:avLst/>
                  <a:gdLst/>
                  <a:ahLst/>
                  <a:rect l="l" t="t" r="r" b="b"/>
                  <a:pathLst>
                    <a:path w="2488" h="57">
                      <a:moveTo>
                        <a:pt x="2452" y="57"/>
                      </a:moveTo>
                      <a:lnTo>
                        <a:pt x="1503" y="57"/>
                      </a:lnTo>
                      <a:lnTo>
                        <a:pt x="1545" y="0"/>
                      </a:lnTo>
                      <a:lnTo>
                        <a:pt x="2488" y="0"/>
                      </a:lnTo>
                      <a:lnTo>
                        <a:pt x="2452" y="57"/>
                      </a:lnTo>
                      <a:close/>
                      <a:moveTo>
                        <a:pt x="937" y="57"/>
                      </a:moveTo>
                      <a:lnTo>
                        <a:pt x="0" y="57"/>
                      </a:lnTo>
                      <a:lnTo>
                        <a:pt x="0" y="41"/>
                      </a:lnTo>
                      <a:lnTo>
                        <a:pt x="43" y="22"/>
                      </a:lnTo>
                      <a:lnTo>
                        <a:pt x="90" y="0"/>
                      </a:lnTo>
                      <a:lnTo>
                        <a:pt x="964" y="0"/>
                      </a:lnTo>
                      <a:lnTo>
                        <a:pt x="950" y="41"/>
                      </a:lnTo>
                      <a:lnTo>
                        <a:pt x="937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753080" y="5769000"/>
                  <a:ext cx="785880" cy="17280"/>
                </a:xfrm>
                <a:custGeom>
                  <a:avLst/>
                  <a:gdLst/>
                  <a:ahLst/>
                  <a:rect l="l" t="t" r="r" b="b"/>
                  <a:pathLst>
                    <a:path w="2475" h="57">
                      <a:moveTo>
                        <a:pt x="2439" y="57"/>
                      </a:moveTo>
                      <a:lnTo>
                        <a:pt x="1494" y="57"/>
                      </a:lnTo>
                      <a:lnTo>
                        <a:pt x="1536" y="0"/>
                      </a:lnTo>
                      <a:lnTo>
                        <a:pt x="2475" y="0"/>
                      </a:lnTo>
                      <a:lnTo>
                        <a:pt x="2439" y="57"/>
                      </a:lnTo>
                      <a:close/>
                      <a:moveTo>
                        <a:pt x="925" y="57"/>
                      </a:moveTo>
                      <a:lnTo>
                        <a:pt x="0" y="57"/>
                      </a:lnTo>
                      <a:lnTo>
                        <a:pt x="13" y="51"/>
                      </a:lnTo>
                      <a:lnTo>
                        <a:pt x="95" y="12"/>
                      </a:lnTo>
                      <a:lnTo>
                        <a:pt x="123" y="0"/>
                      </a:lnTo>
                      <a:lnTo>
                        <a:pt x="948" y="0"/>
                      </a:lnTo>
                      <a:lnTo>
                        <a:pt x="939" y="12"/>
                      </a:lnTo>
                      <a:lnTo>
                        <a:pt x="925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4772160" y="5759280"/>
                  <a:ext cx="771480" cy="17640"/>
                </a:xfrm>
                <a:custGeom>
                  <a:avLst/>
                  <a:gdLst/>
                  <a:ahLst/>
                  <a:rect l="l" t="t" r="r" b="b"/>
                  <a:pathLst>
                    <a:path w="2433" h="58">
                      <a:moveTo>
                        <a:pt x="2398" y="58"/>
                      </a:moveTo>
                      <a:lnTo>
                        <a:pt x="1455" y="58"/>
                      </a:lnTo>
                      <a:lnTo>
                        <a:pt x="1497" y="0"/>
                      </a:lnTo>
                      <a:lnTo>
                        <a:pt x="2433" y="0"/>
                      </a:lnTo>
                      <a:lnTo>
                        <a:pt x="2398" y="58"/>
                      </a:lnTo>
                      <a:close/>
                      <a:moveTo>
                        <a:pt x="874" y="58"/>
                      </a:moveTo>
                      <a:lnTo>
                        <a:pt x="0" y="58"/>
                      </a:lnTo>
                      <a:lnTo>
                        <a:pt x="35" y="41"/>
                      </a:lnTo>
                      <a:lnTo>
                        <a:pt x="131" y="0"/>
                      </a:lnTo>
                      <a:lnTo>
                        <a:pt x="908" y="0"/>
                      </a:lnTo>
                      <a:lnTo>
                        <a:pt x="879" y="41"/>
                      </a:lnTo>
                      <a:lnTo>
                        <a:pt x="874" y="58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4791240" y="5749920"/>
                  <a:ext cx="758520" cy="19080"/>
                </a:xfrm>
                <a:custGeom>
                  <a:avLst/>
                  <a:gdLst/>
                  <a:ahLst/>
                  <a:rect l="l" t="t" r="r" b="b"/>
                  <a:pathLst>
                    <a:path w="2388" h="57">
                      <a:moveTo>
                        <a:pt x="2352" y="57"/>
                      </a:moveTo>
                      <a:lnTo>
                        <a:pt x="1413" y="57"/>
                      </a:lnTo>
                      <a:lnTo>
                        <a:pt x="1456" y="0"/>
                      </a:lnTo>
                      <a:lnTo>
                        <a:pt x="2388" y="0"/>
                      </a:lnTo>
                      <a:lnTo>
                        <a:pt x="2371" y="26"/>
                      </a:lnTo>
                      <a:lnTo>
                        <a:pt x="2352" y="57"/>
                      </a:lnTo>
                      <a:close/>
                      <a:moveTo>
                        <a:pt x="825" y="57"/>
                      </a:moveTo>
                      <a:lnTo>
                        <a:pt x="0" y="57"/>
                      </a:lnTo>
                      <a:lnTo>
                        <a:pt x="73" y="26"/>
                      </a:lnTo>
                      <a:lnTo>
                        <a:pt x="128" y="0"/>
                      </a:lnTo>
                      <a:lnTo>
                        <a:pt x="870" y="0"/>
                      </a:lnTo>
                      <a:lnTo>
                        <a:pt x="859" y="7"/>
                      </a:lnTo>
                      <a:lnTo>
                        <a:pt x="825" y="57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813200" y="5740560"/>
                  <a:ext cx="741600" cy="18720"/>
                </a:xfrm>
                <a:custGeom>
                  <a:avLst/>
                  <a:gdLst/>
                  <a:ahLst/>
                  <a:rect l="l" t="t" r="r" b="b"/>
                  <a:pathLst>
                    <a:path w="2337" h="57">
                      <a:moveTo>
                        <a:pt x="2302" y="57"/>
                      </a:moveTo>
                      <a:lnTo>
                        <a:pt x="1366" y="57"/>
                      </a:lnTo>
                      <a:lnTo>
                        <a:pt x="1396" y="17"/>
                      </a:lnTo>
                      <a:lnTo>
                        <a:pt x="1404" y="0"/>
                      </a:lnTo>
                      <a:lnTo>
                        <a:pt x="2337" y="0"/>
                      </a:lnTo>
                      <a:lnTo>
                        <a:pt x="2303" y="55"/>
                      </a:lnTo>
                      <a:lnTo>
                        <a:pt x="2302" y="57"/>
                      </a:lnTo>
                      <a:close/>
                      <a:moveTo>
                        <a:pt x="777" y="57"/>
                      </a:moveTo>
                      <a:lnTo>
                        <a:pt x="0" y="57"/>
                      </a:lnTo>
                      <a:lnTo>
                        <a:pt x="5" y="55"/>
                      </a:lnTo>
                      <a:lnTo>
                        <a:pt x="86" y="17"/>
                      </a:lnTo>
                      <a:lnTo>
                        <a:pt x="102" y="0"/>
                      </a:lnTo>
                      <a:lnTo>
                        <a:pt x="845" y="0"/>
                      </a:lnTo>
                      <a:lnTo>
                        <a:pt x="791" y="36"/>
                      </a:lnTo>
                      <a:lnTo>
                        <a:pt x="777" y="57"/>
                      </a:lnTo>
                      <a:close/>
                      <a:moveTo>
                        <a:pt x="1058" y="0"/>
                      </a:moveTo>
                      <a:lnTo>
                        <a:pt x="1094" y="0"/>
                      </a:lnTo>
                      <a:lnTo>
                        <a:pt x="1074" y="17"/>
                      </a:lnTo>
                      <a:lnTo>
                        <a:pt x="1058" y="0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832280" y="5732640"/>
                  <a:ext cx="728640" cy="17280"/>
                </a:xfrm>
                <a:custGeom>
                  <a:avLst/>
                  <a:gdLst/>
                  <a:ahLst/>
                  <a:rect l="l" t="t" r="r" b="b"/>
                  <a:pathLst>
                    <a:path w="2295" h="57">
                      <a:moveTo>
                        <a:pt x="2260" y="57"/>
                      </a:moveTo>
                      <a:lnTo>
                        <a:pt x="1328" y="57"/>
                      </a:lnTo>
                      <a:lnTo>
                        <a:pt x="1336" y="45"/>
                      </a:lnTo>
                      <a:lnTo>
                        <a:pt x="1355" y="3"/>
                      </a:lnTo>
                      <a:lnTo>
                        <a:pt x="1355" y="0"/>
                      </a:lnTo>
                      <a:lnTo>
                        <a:pt x="2295" y="0"/>
                      </a:lnTo>
                      <a:lnTo>
                        <a:pt x="2260" y="57"/>
                      </a:lnTo>
                      <a:close/>
                      <a:moveTo>
                        <a:pt x="742" y="57"/>
                      </a:moveTo>
                      <a:lnTo>
                        <a:pt x="0" y="57"/>
                      </a:lnTo>
                      <a:lnTo>
                        <a:pt x="26" y="45"/>
                      </a:lnTo>
                      <a:lnTo>
                        <a:pt x="68" y="0"/>
                      </a:lnTo>
                      <a:lnTo>
                        <a:pt x="827" y="0"/>
                      </a:lnTo>
                      <a:lnTo>
                        <a:pt x="789" y="25"/>
                      </a:lnTo>
                      <a:lnTo>
                        <a:pt x="742" y="57"/>
                      </a:lnTo>
                      <a:close/>
                      <a:moveTo>
                        <a:pt x="969" y="0"/>
                      </a:moveTo>
                      <a:lnTo>
                        <a:pt x="1068" y="0"/>
                      </a:lnTo>
                      <a:lnTo>
                        <a:pt x="1014" y="45"/>
                      </a:lnTo>
                      <a:lnTo>
                        <a:pt x="969" y="0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844880" y="5722920"/>
                  <a:ext cx="720720" cy="17640"/>
                </a:xfrm>
                <a:custGeom>
                  <a:avLst/>
                  <a:gdLst/>
                  <a:ahLst/>
                  <a:rect l="l" t="t" r="r" b="b"/>
                  <a:pathLst>
                    <a:path w="2267" h="57">
                      <a:moveTo>
                        <a:pt x="2235" y="57"/>
                      </a:moveTo>
                      <a:lnTo>
                        <a:pt x="1302" y="57"/>
                      </a:lnTo>
                      <a:lnTo>
                        <a:pt x="1313" y="32"/>
                      </a:lnTo>
                      <a:lnTo>
                        <a:pt x="1313" y="0"/>
                      </a:lnTo>
                      <a:lnTo>
                        <a:pt x="2267" y="0"/>
                      </a:lnTo>
                      <a:lnTo>
                        <a:pt x="2264" y="12"/>
                      </a:lnTo>
                      <a:lnTo>
                        <a:pt x="2235" y="57"/>
                      </a:lnTo>
                      <a:close/>
                      <a:moveTo>
                        <a:pt x="992" y="57"/>
                      </a:moveTo>
                      <a:lnTo>
                        <a:pt x="956" y="57"/>
                      </a:lnTo>
                      <a:lnTo>
                        <a:pt x="899" y="0"/>
                      </a:lnTo>
                      <a:lnTo>
                        <a:pt x="1060" y="0"/>
                      </a:lnTo>
                      <a:lnTo>
                        <a:pt x="992" y="57"/>
                      </a:lnTo>
                      <a:close/>
                      <a:moveTo>
                        <a:pt x="743" y="57"/>
                      </a:moveTo>
                      <a:lnTo>
                        <a:pt x="0" y="57"/>
                      </a:lnTo>
                      <a:lnTo>
                        <a:pt x="54" y="0"/>
                      </a:lnTo>
                      <a:lnTo>
                        <a:pt x="858" y="0"/>
                      </a:lnTo>
                      <a:lnTo>
                        <a:pt x="810" y="12"/>
                      </a:lnTo>
                      <a:lnTo>
                        <a:pt x="747" y="54"/>
                      </a:lnTo>
                      <a:lnTo>
                        <a:pt x="743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853160" y="5713560"/>
                  <a:ext cx="714240" cy="19080"/>
                </a:xfrm>
                <a:custGeom>
                  <a:avLst/>
                  <a:gdLst/>
                  <a:ahLst/>
                  <a:rect l="l" t="t" r="r" b="b"/>
                  <a:pathLst>
                    <a:path w="2250" h="57">
                      <a:moveTo>
                        <a:pt x="2227" y="57"/>
                      </a:moveTo>
                      <a:lnTo>
                        <a:pt x="1287" y="57"/>
                      </a:lnTo>
                      <a:lnTo>
                        <a:pt x="1287" y="21"/>
                      </a:lnTo>
                      <a:lnTo>
                        <a:pt x="1277" y="0"/>
                      </a:lnTo>
                      <a:lnTo>
                        <a:pt x="2250" y="0"/>
                      </a:lnTo>
                      <a:lnTo>
                        <a:pt x="2238" y="40"/>
                      </a:lnTo>
                      <a:lnTo>
                        <a:pt x="2227" y="57"/>
                      </a:lnTo>
                      <a:close/>
                      <a:moveTo>
                        <a:pt x="1000" y="57"/>
                      </a:moveTo>
                      <a:lnTo>
                        <a:pt x="901" y="57"/>
                      </a:lnTo>
                      <a:lnTo>
                        <a:pt x="865" y="21"/>
                      </a:lnTo>
                      <a:lnTo>
                        <a:pt x="784" y="40"/>
                      </a:lnTo>
                      <a:lnTo>
                        <a:pt x="759" y="57"/>
                      </a:lnTo>
                      <a:lnTo>
                        <a:pt x="0" y="57"/>
                      </a:lnTo>
                      <a:lnTo>
                        <a:pt x="35" y="21"/>
                      </a:lnTo>
                      <a:lnTo>
                        <a:pt x="69" y="0"/>
                      </a:lnTo>
                      <a:lnTo>
                        <a:pt x="1068" y="0"/>
                      </a:lnTo>
                      <a:lnTo>
                        <a:pt x="1000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862520" y="5705640"/>
                  <a:ext cx="708120" cy="17280"/>
                </a:xfrm>
                <a:custGeom>
                  <a:avLst/>
                  <a:gdLst/>
                  <a:ahLst/>
                  <a:rect l="l" t="t" r="r" b="b"/>
                  <a:pathLst>
                    <a:path w="2231" h="57">
                      <a:moveTo>
                        <a:pt x="2213" y="57"/>
                      </a:moveTo>
                      <a:lnTo>
                        <a:pt x="1259" y="57"/>
                      </a:lnTo>
                      <a:lnTo>
                        <a:pt x="1259" y="50"/>
                      </a:lnTo>
                      <a:lnTo>
                        <a:pt x="1240" y="11"/>
                      </a:lnTo>
                      <a:lnTo>
                        <a:pt x="1236" y="0"/>
                      </a:lnTo>
                      <a:lnTo>
                        <a:pt x="2231" y="0"/>
                      </a:lnTo>
                      <a:lnTo>
                        <a:pt x="2213" y="57"/>
                      </a:lnTo>
                      <a:close/>
                      <a:moveTo>
                        <a:pt x="1006" y="57"/>
                      </a:moveTo>
                      <a:lnTo>
                        <a:pt x="845" y="57"/>
                      </a:lnTo>
                      <a:lnTo>
                        <a:pt x="837" y="50"/>
                      </a:lnTo>
                      <a:lnTo>
                        <a:pt x="804" y="57"/>
                      </a:lnTo>
                      <a:lnTo>
                        <a:pt x="0" y="57"/>
                      </a:lnTo>
                      <a:lnTo>
                        <a:pt x="7" y="50"/>
                      </a:lnTo>
                      <a:lnTo>
                        <a:pt x="69" y="11"/>
                      </a:lnTo>
                      <a:lnTo>
                        <a:pt x="76" y="0"/>
                      </a:lnTo>
                      <a:lnTo>
                        <a:pt x="1074" y="0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75120" y="5695920"/>
                  <a:ext cx="698760" cy="17640"/>
                </a:xfrm>
                <a:custGeom>
                  <a:avLst/>
                  <a:gdLst/>
                  <a:ahLst/>
                  <a:rect l="l" t="t" r="r" b="b"/>
                  <a:pathLst>
                    <a:path w="2199" h="58">
                      <a:moveTo>
                        <a:pt x="2181" y="58"/>
                      </a:moveTo>
                      <a:lnTo>
                        <a:pt x="1208" y="58"/>
                      </a:lnTo>
                      <a:lnTo>
                        <a:pt x="1199" y="40"/>
                      </a:lnTo>
                      <a:lnTo>
                        <a:pt x="1181" y="0"/>
                      </a:lnTo>
                      <a:lnTo>
                        <a:pt x="2199" y="0"/>
                      </a:lnTo>
                      <a:lnTo>
                        <a:pt x="2181" y="58"/>
                      </a:lnTo>
                      <a:close/>
                      <a:moveTo>
                        <a:pt x="999" y="58"/>
                      </a:moveTo>
                      <a:lnTo>
                        <a:pt x="0" y="58"/>
                      </a:lnTo>
                      <a:lnTo>
                        <a:pt x="28" y="40"/>
                      </a:lnTo>
                      <a:lnTo>
                        <a:pt x="53" y="0"/>
                      </a:lnTo>
                      <a:lnTo>
                        <a:pt x="1067" y="0"/>
                      </a:lnTo>
                      <a:lnTo>
                        <a:pt x="999" y="58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4886280" y="5686560"/>
                  <a:ext cx="690480" cy="19080"/>
                </a:xfrm>
                <a:custGeom>
                  <a:avLst/>
                  <a:gdLst/>
                  <a:ahLst/>
                  <a:rect l="l" t="t" r="r" b="b"/>
                  <a:pathLst>
                    <a:path w="2174" h="56">
                      <a:moveTo>
                        <a:pt x="2155" y="56"/>
                      </a:moveTo>
                      <a:lnTo>
                        <a:pt x="1160" y="56"/>
                      </a:lnTo>
                      <a:lnTo>
                        <a:pt x="1144" y="24"/>
                      </a:lnTo>
                      <a:lnTo>
                        <a:pt x="1125" y="5"/>
                      </a:lnTo>
                      <a:lnTo>
                        <a:pt x="1114" y="0"/>
                      </a:lnTo>
                      <a:lnTo>
                        <a:pt x="2174" y="0"/>
                      </a:lnTo>
                      <a:lnTo>
                        <a:pt x="2172" y="5"/>
                      </a:lnTo>
                      <a:lnTo>
                        <a:pt x="2155" y="56"/>
                      </a:lnTo>
                      <a:close/>
                      <a:moveTo>
                        <a:pt x="998" y="56"/>
                      </a:moveTo>
                      <a:lnTo>
                        <a:pt x="0" y="56"/>
                      </a:lnTo>
                      <a:lnTo>
                        <a:pt x="32" y="5"/>
                      </a:lnTo>
                      <a:lnTo>
                        <a:pt x="34" y="0"/>
                      </a:lnTo>
                      <a:lnTo>
                        <a:pt x="1066" y="0"/>
                      </a:lnTo>
                      <a:lnTo>
                        <a:pt x="998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892760" y="5678640"/>
                  <a:ext cx="687240" cy="17280"/>
                </a:xfrm>
                <a:custGeom>
                  <a:avLst/>
                  <a:gdLst/>
                  <a:ahLst/>
                  <a:rect l="l" t="t" r="r" b="b"/>
                  <a:pathLst>
                    <a:path w="2165" h="56">
                      <a:moveTo>
                        <a:pt x="2146" y="56"/>
                      </a:moveTo>
                      <a:lnTo>
                        <a:pt x="1128" y="56"/>
                      </a:lnTo>
                      <a:lnTo>
                        <a:pt x="1126" y="53"/>
                      </a:lnTo>
                      <a:lnTo>
                        <a:pt x="1107" y="34"/>
                      </a:lnTo>
                      <a:lnTo>
                        <a:pt x="1065" y="15"/>
                      </a:lnTo>
                      <a:lnTo>
                        <a:pt x="1054" y="0"/>
                      </a:lnTo>
                      <a:lnTo>
                        <a:pt x="2165" y="0"/>
                      </a:lnTo>
                      <a:lnTo>
                        <a:pt x="2154" y="34"/>
                      </a:lnTo>
                      <a:lnTo>
                        <a:pt x="2146" y="56"/>
                      </a:lnTo>
                      <a:close/>
                      <a:moveTo>
                        <a:pt x="1014" y="56"/>
                      </a:moveTo>
                      <a:lnTo>
                        <a:pt x="0" y="56"/>
                      </a:lnTo>
                      <a:lnTo>
                        <a:pt x="14" y="34"/>
                      </a:lnTo>
                      <a:lnTo>
                        <a:pt x="27" y="0"/>
                      </a:lnTo>
                      <a:lnTo>
                        <a:pt x="1054" y="0"/>
                      </a:lnTo>
                      <a:lnTo>
                        <a:pt x="1065" y="15"/>
                      </a:lnTo>
                      <a:lnTo>
                        <a:pt x="1014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4775040" y="5668920"/>
                  <a:ext cx="806760" cy="17640"/>
                </a:xfrm>
                <a:custGeom>
                  <a:avLst/>
                  <a:gdLst/>
                  <a:ahLst/>
                  <a:rect l="l" t="t" r="r" b="b"/>
                  <a:pathLst>
                    <a:path w="2543" h="57">
                      <a:moveTo>
                        <a:pt x="2526" y="57"/>
                      </a:moveTo>
                      <a:lnTo>
                        <a:pt x="1466" y="57"/>
                      </a:lnTo>
                      <a:lnTo>
                        <a:pt x="1435" y="43"/>
                      </a:lnTo>
                      <a:lnTo>
                        <a:pt x="1402" y="0"/>
                      </a:lnTo>
                      <a:lnTo>
                        <a:pt x="2543" y="0"/>
                      </a:lnTo>
                      <a:lnTo>
                        <a:pt x="2526" y="57"/>
                      </a:lnTo>
                      <a:close/>
                      <a:moveTo>
                        <a:pt x="1418" y="57"/>
                      </a:moveTo>
                      <a:lnTo>
                        <a:pt x="386" y="57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1402" y="0"/>
                      </a:lnTo>
                      <a:lnTo>
                        <a:pt x="1435" y="43"/>
                      </a:lnTo>
                      <a:lnTo>
                        <a:pt x="1418" y="57"/>
                      </a:lnTo>
                      <a:close/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770360" y="5659560"/>
                  <a:ext cx="814320" cy="19080"/>
                </a:xfrm>
                <a:custGeom>
                  <a:avLst/>
                  <a:gdLst/>
                  <a:ahLst/>
                  <a:rect l="l" t="t" r="r" b="b"/>
                  <a:pathLst>
                    <a:path w="2568" h="57">
                      <a:moveTo>
                        <a:pt x="2551" y="57"/>
                      </a:moveTo>
                      <a:lnTo>
                        <a:pt x="1440" y="57"/>
                      </a:lnTo>
                      <a:lnTo>
                        <a:pt x="1397" y="0"/>
                      </a:lnTo>
                      <a:lnTo>
                        <a:pt x="2568" y="0"/>
                      </a:lnTo>
                      <a:lnTo>
                        <a:pt x="2551" y="57"/>
                      </a:lnTo>
                      <a:close/>
                      <a:moveTo>
                        <a:pt x="1440" y="57"/>
                      </a:moveTo>
                      <a:lnTo>
                        <a:pt x="413" y="57"/>
                      </a:lnTo>
                      <a:lnTo>
                        <a:pt x="424" y="29"/>
                      </a:lnTo>
                      <a:lnTo>
                        <a:pt x="438" y="0"/>
                      </a:lnTo>
                      <a:lnTo>
                        <a:pt x="1397" y="0"/>
                      </a:lnTo>
                      <a:lnTo>
                        <a:pt x="1440" y="57"/>
                      </a:lnTo>
                      <a:close/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16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64240" y="5651640"/>
                  <a:ext cx="846000" cy="17280"/>
                </a:xfrm>
                <a:custGeom>
                  <a:avLst/>
                  <a:gdLst/>
                  <a:ahLst/>
                  <a:rect l="l" t="t" r="r" b="b"/>
                  <a:pathLst>
                    <a:path w="2663" h="57">
                      <a:moveTo>
                        <a:pt x="2576" y="57"/>
                      </a:moveTo>
                      <a:lnTo>
                        <a:pt x="1435" y="57"/>
                      </a:lnTo>
                      <a:lnTo>
                        <a:pt x="1392" y="0"/>
                      </a:lnTo>
                      <a:lnTo>
                        <a:pt x="2593" y="0"/>
                      </a:lnTo>
                      <a:lnTo>
                        <a:pt x="2576" y="57"/>
                      </a:lnTo>
                      <a:close/>
                      <a:moveTo>
                        <a:pt x="1435" y="57"/>
                      </a:moveTo>
                      <a:lnTo>
                        <a:pt x="441" y="57"/>
                      </a:lnTo>
                      <a:lnTo>
                        <a:pt x="460" y="18"/>
                      </a:lnTo>
                      <a:lnTo>
                        <a:pt x="460" y="0"/>
                      </a:lnTo>
                      <a:lnTo>
                        <a:pt x="1392" y="0"/>
                      </a:lnTo>
                      <a:lnTo>
                        <a:pt x="1435" y="57"/>
                      </a:lnTo>
                      <a:close/>
                      <a:moveTo>
                        <a:pt x="35" y="57"/>
                      </a:moveTo>
                      <a:lnTo>
                        <a:pt x="33" y="57"/>
                      </a:lnTo>
                      <a:lnTo>
                        <a:pt x="0" y="0"/>
                      </a:lnTo>
                      <a:lnTo>
                        <a:pt x="188" y="0"/>
                      </a:lnTo>
                      <a:lnTo>
                        <a:pt x="35" y="57"/>
                      </a:lnTo>
                      <a:close/>
                      <a:moveTo>
                        <a:pt x="2629" y="0"/>
                      </a:moveTo>
                      <a:lnTo>
                        <a:pt x="2663" y="0"/>
                      </a:lnTo>
                      <a:lnTo>
                        <a:pt x="2658" y="18"/>
                      </a:lnTo>
                      <a:lnTo>
                        <a:pt x="2629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759200" y="5641920"/>
                  <a:ext cx="852480" cy="17640"/>
                </a:xfrm>
                <a:custGeom>
                  <a:avLst/>
                  <a:gdLst/>
                  <a:ahLst/>
                  <a:rect l="l" t="t" r="r" b="b"/>
                  <a:pathLst>
                    <a:path w="2687" h="57">
                      <a:moveTo>
                        <a:pt x="2602" y="57"/>
                      </a:moveTo>
                      <a:lnTo>
                        <a:pt x="1431" y="57"/>
                      </a:lnTo>
                      <a:lnTo>
                        <a:pt x="1388" y="0"/>
                      </a:lnTo>
                      <a:lnTo>
                        <a:pt x="2687" y="0"/>
                      </a:lnTo>
                      <a:lnTo>
                        <a:pt x="2675" y="47"/>
                      </a:lnTo>
                      <a:lnTo>
                        <a:pt x="2616" y="8"/>
                      </a:lnTo>
                      <a:lnTo>
                        <a:pt x="2602" y="57"/>
                      </a:lnTo>
                      <a:close/>
                      <a:moveTo>
                        <a:pt x="1431" y="57"/>
                      </a:moveTo>
                      <a:lnTo>
                        <a:pt x="472" y="57"/>
                      </a:lnTo>
                      <a:lnTo>
                        <a:pt x="477" y="47"/>
                      </a:lnTo>
                      <a:lnTo>
                        <a:pt x="477" y="0"/>
                      </a:lnTo>
                      <a:lnTo>
                        <a:pt x="1388" y="0"/>
                      </a:lnTo>
                      <a:lnTo>
                        <a:pt x="1431" y="57"/>
                      </a:lnTo>
                      <a:close/>
                      <a:moveTo>
                        <a:pt x="129" y="57"/>
                      </a:move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281" y="0"/>
                      </a:lnTo>
                      <a:lnTo>
                        <a:pt x="129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754520" y="5632560"/>
                  <a:ext cx="860400" cy="19080"/>
                </a:xfrm>
                <a:custGeom>
                  <a:avLst/>
                  <a:gdLst/>
                  <a:ahLst/>
                  <a:rect l="l" t="t" r="r" b="b"/>
                  <a:pathLst>
                    <a:path w="2711" h="58">
                      <a:moveTo>
                        <a:pt x="2696" y="58"/>
                      </a:moveTo>
                      <a:lnTo>
                        <a:pt x="2662" y="58"/>
                      </a:lnTo>
                      <a:lnTo>
                        <a:pt x="2632" y="37"/>
                      </a:lnTo>
                      <a:lnTo>
                        <a:pt x="2626" y="58"/>
                      </a:lnTo>
                      <a:lnTo>
                        <a:pt x="1425" y="58"/>
                      </a:lnTo>
                      <a:lnTo>
                        <a:pt x="1383" y="0"/>
                      </a:lnTo>
                      <a:lnTo>
                        <a:pt x="2711" y="0"/>
                      </a:lnTo>
                      <a:lnTo>
                        <a:pt x="2696" y="58"/>
                      </a:lnTo>
                      <a:close/>
                      <a:moveTo>
                        <a:pt x="1425" y="58"/>
                      </a:moveTo>
                      <a:lnTo>
                        <a:pt x="493" y="58"/>
                      </a:lnTo>
                      <a:lnTo>
                        <a:pt x="493" y="14"/>
                      </a:lnTo>
                      <a:lnTo>
                        <a:pt x="493" y="0"/>
                      </a:lnTo>
                      <a:lnTo>
                        <a:pt x="1383" y="0"/>
                      </a:lnTo>
                      <a:lnTo>
                        <a:pt x="1425" y="58"/>
                      </a:lnTo>
                      <a:close/>
                      <a:moveTo>
                        <a:pt x="221" y="58"/>
                      </a:moveTo>
                      <a:lnTo>
                        <a:pt x="33" y="58"/>
                      </a:lnTo>
                      <a:lnTo>
                        <a:pt x="0" y="0"/>
                      </a:lnTo>
                      <a:lnTo>
                        <a:pt x="374" y="0"/>
                      </a:lnTo>
                      <a:lnTo>
                        <a:pt x="221" y="58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748040" y="5622840"/>
                  <a:ext cx="868680" cy="19080"/>
                </a:xfrm>
                <a:custGeom>
                  <a:avLst/>
                  <a:gdLst/>
                  <a:ahLst/>
                  <a:rect l="l" t="t" r="r" b="b"/>
                  <a:pathLst>
                    <a:path w="2734" h="57">
                      <a:moveTo>
                        <a:pt x="2719" y="57"/>
                      </a:moveTo>
                      <a:lnTo>
                        <a:pt x="1420" y="57"/>
                      </a:lnTo>
                      <a:lnTo>
                        <a:pt x="1378" y="0"/>
                      </a:lnTo>
                      <a:lnTo>
                        <a:pt x="2734" y="0"/>
                      </a:lnTo>
                      <a:lnTo>
                        <a:pt x="2719" y="57"/>
                      </a:lnTo>
                      <a:close/>
                      <a:moveTo>
                        <a:pt x="1420" y="57"/>
                      </a:moveTo>
                      <a:lnTo>
                        <a:pt x="509" y="57"/>
                      </a:lnTo>
                      <a:lnTo>
                        <a:pt x="509" y="42"/>
                      </a:lnTo>
                      <a:lnTo>
                        <a:pt x="509" y="0"/>
                      </a:lnTo>
                      <a:lnTo>
                        <a:pt x="1378" y="0"/>
                      </a:lnTo>
                      <a:lnTo>
                        <a:pt x="1420" y="57"/>
                      </a:lnTo>
                      <a:close/>
                      <a:moveTo>
                        <a:pt x="313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466" y="0"/>
                      </a:lnTo>
                      <a:lnTo>
                        <a:pt x="313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743360" y="5614920"/>
                  <a:ext cx="876240" cy="17640"/>
                </a:xfrm>
                <a:custGeom>
                  <a:avLst/>
                  <a:gdLst/>
                  <a:ahLst/>
                  <a:rect l="l" t="t" r="r" b="b"/>
                  <a:pathLst>
                    <a:path w="2759" h="57">
                      <a:moveTo>
                        <a:pt x="2745" y="57"/>
                      </a:moveTo>
                      <a:lnTo>
                        <a:pt x="1417" y="57"/>
                      </a:lnTo>
                      <a:lnTo>
                        <a:pt x="1375" y="0"/>
                      </a:lnTo>
                      <a:lnTo>
                        <a:pt x="2759" y="0"/>
                      </a:lnTo>
                      <a:lnTo>
                        <a:pt x="2745" y="57"/>
                      </a:lnTo>
                      <a:close/>
                      <a:moveTo>
                        <a:pt x="1417" y="57"/>
                      </a:moveTo>
                      <a:lnTo>
                        <a:pt x="527" y="57"/>
                      </a:lnTo>
                      <a:lnTo>
                        <a:pt x="527" y="12"/>
                      </a:lnTo>
                      <a:lnTo>
                        <a:pt x="408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75" y="0"/>
                      </a:lnTo>
                      <a:lnTo>
                        <a:pt x="1417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4738680" y="5605560"/>
                  <a:ext cx="882720" cy="17280"/>
                </a:xfrm>
                <a:custGeom>
                  <a:avLst/>
                  <a:gdLst/>
                  <a:ahLst/>
                  <a:rect l="l" t="t" r="r" b="b"/>
                  <a:pathLst>
                    <a:path w="2784" h="57">
                      <a:moveTo>
                        <a:pt x="2768" y="57"/>
                      </a:moveTo>
                      <a:lnTo>
                        <a:pt x="1412" y="57"/>
                      </a:lnTo>
                      <a:lnTo>
                        <a:pt x="1369" y="0"/>
                      </a:lnTo>
                      <a:lnTo>
                        <a:pt x="2784" y="0"/>
                      </a:lnTo>
                      <a:lnTo>
                        <a:pt x="2768" y="57"/>
                      </a:lnTo>
                      <a:close/>
                      <a:moveTo>
                        <a:pt x="1412" y="57"/>
                      </a:moveTo>
                      <a:lnTo>
                        <a:pt x="543" y="57"/>
                      </a:lnTo>
                      <a:lnTo>
                        <a:pt x="543" y="40"/>
                      </a:lnTo>
                      <a:lnTo>
                        <a:pt x="500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69" y="0"/>
                      </a:lnTo>
                      <a:lnTo>
                        <a:pt x="1412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732200" y="5595840"/>
                  <a:ext cx="892440" cy="19080"/>
                </a:xfrm>
                <a:custGeom>
                  <a:avLst/>
                  <a:gdLst/>
                  <a:ahLst/>
                  <a:rect l="l" t="t" r="r" b="b"/>
                  <a:pathLst>
                    <a:path w="2807" h="57">
                      <a:moveTo>
                        <a:pt x="2791" y="57"/>
                      </a:moveTo>
                      <a:lnTo>
                        <a:pt x="1407" y="57"/>
                      </a:lnTo>
                      <a:lnTo>
                        <a:pt x="1364" y="0"/>
                      </a:lnTo>
                      <a:lnTo>
                        <a:pt x="2807" y="0"/>
                      </a:lnTo>
                      <a:lnTo>
                        <a:pt x="2791" y="57"/>
                      </a:lnTo>
                      <a:close/>
                      <a:moveTo>
                        <a:pt x="1407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1364" y="0"/>
                      </a:lnTo>
                      <a:lnTo>
                        <a:pt x="1407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727520" y="5586480"/>
                  <a:ext cx="898560" cy="19080"/>
                </a:xfrm>
                <a:custGeom>
                  <a:avLst/>
                  <a:gdLst/>
                  <a:ahLst/>
                  <a:rect l="l" t="t" r="r" b="b"/>
                  <a:pathLst>
                    <a:path w="2832" h="58">
                      <a:moveTo>
                        <a:pt x="2818" y="58"/>
                      </a:moveTo>
                      <a:lnTo>
                        <a:pt x="1403" y="58"/>
                      </a:lnTo>
                      <a:lnTo>
                        <a:pt x="1360" y="0"/>
                      </a:lnTo>
                      <a:lnTo>
                        <a:pt x="2832" y="0"/>
                      </a:lnTo>
                      <a:lnTo>
                        <a:pt x="2818" y="58"/>
                      </a:lnTo>
                      <a:close/>
                      <a:moveTo>
                        <a:pt x="1403" y="58"/>
                      </a:moveTo>
                      <a:lnTo>
                        <a:pt x="34" y="58"/>
                      </a:lnTo>
                      <a:lnTo>
                        <a:pt x="10" y="18"/>
                      </a:lnTo>
                      <a:lnTo>
                        <a:pt x="0" y="0"/>
                      </a:lnTo>
                      <a:lnTo>
                        <a:pt x="1360" y="0"/>
                      </a:lnTo>
                      <a:lnTo>
                        <a:pt x="1403" y="58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4721400" y="5578560"/>
                  <a:ext cx="907920" cy="17280"/>
                </a:xfrm>
                <a:custGeom>
                  <a:avLst/>
                  <a:gdLst/>
                  <a:ahLst/>
                  <a:rect l="l" t="t" r="r" b="b"/>
                  <a:pathLst>
                    <a:path w="2858" h="57">
                      <a:moveTo>
                        <a:pt x="2843" y="57"/>
                      </a:moveTo>
                      <a:lnTo>
                        <a:pt x="1400" y="57"/>
                      </a:lnTo>
                      <a:lnTo>
                        <a:pt x="1357" y="0"/>
                      </a:lnTo>
                      <a:lnTo>
                        <a:pt x="2858" y="0"/>
                      </a:lnTo>
                      <a:lnTo>
                        <a:pt x="2843" y="57"/>
                      </a:lnTo>
                      <a:close/>
                      <a:moveTo>
                        <a:pt x="1400" y="57"/>
                      </a:moveTo>
                      <a:lnTo>
                        <a:pt x="36" y="57"/>
                      </a:lnTo>
                      <a:lnTo>
                        <a:pt x="28" y="46"/>
                      </a:lnTo>
                      <a:lnTo>
                        <a:pt x="0" y="0"/>
                      </a:lnTo>
                      <a:lnTo>
                        <a:pt x="1357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716360" y="5568840"/>
                  <a:ext cx="914400" cy="17640"/>
                </a:xfrm>
                <a:custGeom>
                  <a:avLst/>
                  <a:gdLst/>
                  <a:ahLst/>
                  <a:rect l="l" t="t" r="r" b="b"/>
                  <a:pathLst>
                    <a:path w="2883" h="57">
                      <a:moveTo>
                        <a:pt x="2868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883" y="0"/>
                      </a:lnTo>
                      <a:lnTo>
                        <a:pt x="2868" y="57"/>
                      </a:lnTo>
                      <a:close/>
                      <a:moveTo>
                        <a:pt x="139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4710240" y="5559480"/>
                  <a:ext cx="923760" cy="19080"/>
                </a:xfrm>
                <a:custGeom>
                  <a:avLst/>
                  <a:gdLst/>
                  <a:ahLst/>
                  <a:rect l="l" t="t" r="r" b="b"/>
                  <a:pathLst>
                    <a:path w="2908" h="57">
                      <a:moveTo>
                        <a:pt x="2894" y="57"/>
                      </a:moveTo>
                      <a:lnTo>
                        <a:pt x="1393" y="57"/>
                      </a:lnTo>
                      <a:lnTo>
                        <a:pt x="1350" y="0"/>
                      </a:lnTo>
                      <a:lnTo>
                        <a:pt x="2908" y="0"/>
                      </a:lnTo>
                      <a:lnTo>
                        <a:pt x="2894" y="57"/>
                      </a:lnTo>
                      <a:close/>
                      <a:moveTo>
                        <a:pt x="139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0" y="0"/>
                      </a:lnTo>
                      <a:lnTo>
                        <a:pt x="1393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703760" y="5551560"/>
                  <a:ext cx="932040" cy="17280"/>
                </a:xfrm>
                <a:custGeom>
                  <a:avLst/>
                  <a:gdLst/>
                  <a:ahLst/>
                  <a:rect l="l" t="t" r="r" b="b"/>
                  <a:pathLst>
                    <a:path w="2934" h="57">
                      <a:moveTo>
                        <a:pt x="2919" y="57"/>
                      </a:moveTo>
                      <a:lnTo>
                        <a:pt x="1389" y="57"/>
                      </a:lnTo>
                      <a:lnTo>
                        <a:pt x="1347" y="0"/>
                      </a:lnTo>
                      <a:lnTo>
                        <a:pt x="2934" y="0"/>
                      </a:lnTo>
                      <a:lnTo>
                        <a:pt x="2919" y="57"/>
                      </a:lnTo>
                      <a:close/>
                      <a:moveTo>
                        <a:pt x="1389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7" y="0"/>
                      </a:lnTo>
                      <a:lnTo>
                        <a:pt x="1389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4699080" y="5541840"/>
                  <a:ext cx="939600" cy="17640"/>
                </a:xfrm>
                <a:custGeom>
                  <a:avLst/>
                  <a:gdLst/>
                  <a:ahLst/>
                  <a:rect l="l" t="t" r="r" b="b"/>
                  <a:pathLst>
                    <a:path w="2960" h="57">
                      <a:moveTo>
                        <a:pt x="2944" y="57"/>
                      </a:moveTo>
                      <a:lnTo>
                        <a:pt x="1386" y="57"/>
                      </a:lnTo>
                      <a:lnTo>
                        <a:pt x="1343" y="0"/>
                      </a:lnTo>
                      <a:lnTo>
                        <a:pt x="2960" y="0"/>
                      </a:lnTo>
                      <a:lnTo>
                        <a:pt x="2944" y="57"/>
                      </a:lnTo>
                      <a:close/>
                      <a:moveTo>
                        <a:pt x="138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3" y="0"/>
                      </a:lnTo>
                      <a:lnTo>
                        <a:pt x="1386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692600" y="5532480"/>
                  <a:ext cx="949320" cy="19080"/>
                </a:xfrm>
                <a:custGeom>
                  <a:avLst/>
                  <a:gdLst/>
                  <a:ahLst/>
                  <a:rect l="l" t="t" r="r" b="b"/>
                  <a:pathLst>
                    <a:path w="2991" h="57">
                      <a:moveTo>
                        <a:pt x="2970" y="57"/>
                      </a:moveTo>
                      <a:lnTo>
                        <a:pt x="1383" y="57"/>
                      </a:lnTo>
                      <a:lnTo>
                        <a:pt x="1340" y="0"/>
                      </a:lnTo>
                      <a:lnTo>
                        <a:pt x="2991" y="0"/>
                      </a:lnTo>
                      <a:lnTo>
                        <a:pt x="2984" y="6"/>
                      </a:lnTo>
                      <a:lnTo>
                        <a:pt x="2970" y="57"/>
                      </a:lnTo>
                      <a:close/>
                      <a:moveTo>
                        <a:pt x="138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0" y="0"/>
                      </a:lnTo>
                      <a:lnTo>
                        <a:pt x="1383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687920" y="5522760"/>
                  <a:ext cx="960480" cy="19080"/>
                </a:xfrm>
                <a:custGeom>
                  <a:avLst/>
                  <a:gdLst/>
                  <a:ahLst/>
                  <a:rect l="l" t="t" r="r" b="b"/>
                  <a:pathLst>
                    <a:path w="3025" h="58">
                      <a:moveTo>
                        <a:pt x="2996" y="58"/>
                      </a:moveTo>
                      <a:lnTo>
                        <a:pt x="1379" y="58"/>
                      </a:lnTo>
                      <a:lnTo>
                        <a:pt x="1337" y="0"/>
                      </a:lnTo>
                      <a:lnTo>
                        <a:pt x="3017" y="0"/>
                      </a:lnTo>
                      <a:lnTo>
                        <a:pt x="3025" y="16"/>
                      </a:lnTo>
                      <a:lnTo>
                        <a:pt x="3002" y="35"/>
                      </a:lnTo>
                      <a:lnTo>
                        <a:pt x="2996" y="58"/>
                      </a:lnTo>
                      <a:close/>
                      <a:moveTo>
                        <a:pt x="1379" y="58"/>
                      </a:moveTo>
                      <a:lnTo>
                        <a:pt x="36" y="58"/>
                      </a:lnTo>
                      <a:lnTo>
                        <a:pt x="0" y="0"/>
                      </a:lnTo>
                      <a:lnTo>
                        <a:pt x="1337" y="0"/>
                      </a:lnTo>
                      <a:lnTo>
                        <a:pt x="1379" y="58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681440" y="5514840"/>
                  <a:ext cx="966960" cy="17640"/>
                </a:xfrm>
                <a:custGeom>
                  <a:avLst/>
                  <a:gdLst/>
                  <a:ahLst/>
                  <a:rect l="l" t="t" r="r" b="b"/>
                  <a:pathLst>
                    <a:path w="3044" h="56">
                      <a:moveTo>
                        <a:pt x="3028" y="56"/>
                      </a:moveTo>
                      <a:lnTo>
                        <a:pt x="1377" y="56"/>
                      </a:lnTo>
                      <a:lnTo>
                        <a:pt x="1335" y="0"/>
                      </a:lnTo>
                      <a:lnTo>
                        <a:pt x="3021" y="0"/>
                      </a:lnTo>
                      <a:lnTo>
                        <a:pt x="3021" y="1"/>
                      </a:lnTo>
                      <a:lnTo>
                        <a:pt x="3044" y="43"/>
                      </a:lnTo>
                      <a:lnTo>
                        <a:pt x="3028" y="56"/>
                      </a:lnTo>
                      <a:close/>
                      <a:moveTo>
                        <a:pt x="1377" y="56"/>
                      </a:moveTo>
                      <a:lnTo>
                        <a:pt x="37" y="56"/>
                      </a:lnTo>
                      <a:lnTo>
                        <a:pt x="17" y="23"/>
                      </a:lnTo>
                      <a:lnTo>
                        <a:pt x="0" y="0"/>
                      </a:lnTo>
                      <a:lnTo>
                        <a:pt x="1335" y="0"/>
                      </a:lnTo>
                      <a:lnTo>
                        <a:pt x="1377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675320" y="5505480"/>
                  <a:ext cx="969840" cy="17280"/>
                </a:xfrm>
                <a:custGeom>
                  <a:avLst/>
                  <a:gdLst/>
                  <a:ahLst/>
                  <a:rect l="l" t="t" r="r" b="b"/>
                  <a:pathLst>
                    <a:path w="3055" h="56">
                      <a:moveTo>
                        <a:pt x="3055" y="56"/>
                      </a:moveTo>
                      <a:lnTo>
                        <a:pt x="1375" y="56"/>
                      </a:lnTo>
                      <a:lnTo>
                        <a:pt x="1332" y="0"/>
                      </a:lnTo>
                      <a:lnTo>
                        <a:pt x="3040" y="0"/>
                      </a:lnTo>
                      <a:lnTo>
                        <a:pt x="3040" y="30"/>
                      </a:lnTo>
                      <a:lnTo>
                        <a:pt x="3055" y="56"/>
                      </a:lnTo>
                      <a:close/>
                      <a:moveTo>
                        <a:pt x="1375" y="56"/>
                      </a:moveTo>
                      <a:lnTo>
                        <a:pt x="38" y="56"/>
                      </a:lnTo>
                      <a:lnTo>
                        <a:pt x="36" y="52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4668840" y="5497560"/>
                  <a:ext cx="971640" cy="17280"/>
                </a:xfrm>
                <a:custGeom>
                  <a:avLst/>
                  <a:gdLst/>
                  <a:ahLst/>
                  <a:rect l="l" t="t" r="r" b="b"/>
                  <a:pathLst>
                    <a:path w="3059" h="57">
                      <a:moveTo>
                        <a:pt x="3059" y="57"/>
                      </a:moveTo>
                      <a:lnTo>
                        <a:pt x="1373" y="57"/>
                      </a:lnTo>
                      <a:lnTo>
                        <a:pt x="1330" y="0"/>
                      </a:lnTo>
                      <a:lnTo>
                        <a:pt x="3039" y="0"/>
                      </a:lnTo>
                      <a:lnTo>
                        <a:pt x="3059" y="19"/>
                      </a:lnTo>
                      <a:lnTo>
                        <a:pt x="3059" y="57"/>
                      </a:lnTo>
                      <a:close/>
                      <a:moveTo>
                        <a:pt x="1373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30" y="0"/>
                      </a:lnTo>
                      <a:lnTo>
                        <a:pt x="1373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662360" y="5487840"/>
                  <a:ext cx="978120" cy="17640"/>
                </a:xfrm>
                <a:custGeom>
                  <a:avLst/>
                  <a:gdLst/>
                  <a:ahLst/>
                  <a:rect l="l" t="t" r="r" b="b"/>
                  <a:pathLst>
                    <a:path w="3078" h="57">
                      <a:moveTo>
                        <a:pt x="3078" y="57"/>
                      </a:moveTo>
                      <a:lnTo>
                        <a:pt x="1370" y="57"/>
                      </a:lnTo>
                      <a:lnTo>
                        <a:pt x="1328" y="0"/>
                      </a:lnTo>
                      <a:lnTo>
                        <a:pt x="3030" y="0"/>
                      </a:lnTo>
                      <a:lnTo>
                        <a:pt x="3078" y="48"/>
                      </a:lnTo>
                      <a:lnTo>
                        <a:pt x="3078" y="57"/>
                      </a:lnTo>
                      <a:close/>
                      <a:moveTo>
                        <a:pt x="1370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0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657680" y="5478480"/>
                  <a:ext cx="976320" cy="19080"/>
                </a:xfrm>
                <a:custGeom>
                  <a:avLst/>
                  <a:gdLst/>
                  <a:ahLst/>
                  <a:rect l="l" t="t" r="r" b="b"/>
                  <a:pathLst>
                    <a:path w="3077" h="57">
                      <a:moveTo>
                        <a:pt x="3077" y="57"/>
                      </a:moveTo>
                      <a:lnTo>
                        <a:pt x="1368" y="57"/>
                      </a:lnTo>
                      <a:lnTo>
                        <a:pt x="1325" y="0"/>
                      </a:lnTo>
                      <a:lnTo>
                        <a:pt x="3020" y="0"/>
                      </a:lnTo>
                      <a:lnTo>
                        <a:pt x="3077" y="57"/>
                      </a:lnTo>
                      <a:close/>
                      <a:moveTo>
                        <a:pt x="1368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5" y="0"/>
                      </a:lnTo>
                      <a:lnTo>
                        <a:pt x="1368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651200" y="5468760"/>
                  <a:ext cx="973440" cy="19080"/>
                </a:xfrm>
                <a:custGeom>
                  <a:avLst/>
                  <a:gdLst/>
                  <a:ahLst/>
                  <a:rect l="l" t="t" r="r" b="b"/>
                  <a:pathLst>
                    <a:path w="3068" h="57">
                      <a:moveTo>
                        <a:pt x="3068" y="57"/>
                      </a:moveTo>
                      <a:lnTo>
                        <a:pt x="1366" y="57"/>
                      </a:lnTo>
                      <a:lnTo>
                        <a:pt x="1323" y="0"/>
                      </a:lnTo>
                      <a:lnTo>
                        <a:pt x="3011" y="0"/>
                      </a:lnTo>
                      <a:lnTo>
                        <a:pt x="3068" y="57"/>
                      </a:lnTo>
                      <a:close/>
                      <a:moveTo>
                        <a:pt x="1366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3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645080" y="5460840"/>
                  <a:ext cx="971640" cy="17640"/>
                </a:xfrm>
                <a:custGeom>
                  <a:avLst/>
                  <a:gdLst/>
                  <a:ahLst/>
                  <a:rect l="l" t="t" r="r" b="b"/>
                  <a:pathLst>
                    <a:path w="3058" h="58">
                      <a:moveTo>
                        <a:pt x="3058" y="58"/>
                      </a:moveTo>
                      <a:lnTo>
                        <a:pt x="1363" y="58"/>
                      </a:lnTo>
                      <a:lnTo>
                        <a:pt x="1320" y="0"/>
                      </a:lnTo>
                      <a:lnTo>
                        <a:pt x="3003" y="0"/>
                      </a:lnTo>
                      <a:lnTo>
                        <a:pt x="3014" y="14"/>
                      </a:lnTo>
                      <a:lnTo>
                        <a:pt x="3058" y="58"/>
                      </a:lnTo>
                      <a:close/>
                      <a:moveTo>
                        <a:pt x="1363" y="58"/>
                      </a:moveTo>
                      <a:lnTo>
                        <a:pt x="38" y="58"/>
                      </a:lnTo>
                      <a:lnTo>
                        <a:pt x="0" y="0"/>
                      </a:lnTo>
                      <a:lnTo>
                        <a:pt x="1320" y="0"/>
                      </a:lnTo>
                      <a:lnTo>
                        <a:pt x="1363" y="58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638600" y="5451480"/>
                  <a:ext cx="968400" cy="17280"/>
                </a:xfrm>
                <a:custGeom>
                  <a:avLst/>
                  <a:gdLst/>
                  <a:ahLst/>
                  <a:rect l="l" t="t" r="r" b="b"/>
                  <a:pathLst>
                    <a:path w="3050" h="57">
                      <a:moveTo>
                        <a:pt x="3050" y="57"/>
                      </a:moveTo>
                      <a:lnTo>
                        <a:pt x="1362" y="57"/>
                      </a:lnTo>
                      <a:lnTo>
                        <a:pt x="1319" y="0"/>
                      </a:lnTo>
                      <a:lnTo>
                        <a:pt x="3000" y="0"/>
                      </a:lnTo>
                      <a:lnTo>
                        <a:pt x="3034" y="42"/>
                      </a:lnTo>
                      <a:lnTo>
                        <a:pt x="3050" y="57"/>
                      </a:lnTo>
                      <a:close/>
                      <a:moveTo>
                        <a:pt x="1362" y="57"/>
                      </a:moveTo>
                      <a:lnTo>
                        <a:pt x="39" y="57"/>
                      </a:lnTo>
                      <a:lnTo>
                        <a:pt x="0" y="0"/>
                      </a:lnTo>
                      <a:lnTo>
                        <a:pt x="1319" y="0"/>
                      </a:lnTo>
                      <a:lnTo>
                        <a:pt x="1362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632480" y="5442120"/>
                  <a:ext cx="96660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59" y="57"/>
                      </a:moveTo>
                      <a:lnTo>
                        <a:pt x="39" y="57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626000" y="543384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1" y="57"/>
                      </a:lnTo>
                      <a:lnTo>
                        <a:pt x="1318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61" y="57"/>
                      </a:moveTo>
                      <a:lnTo>
                        <a:pt x="42" y="57"/>
                      </a:lnTo>
                      <a:lnTo>
                        <a:pt x="29" y="36"/>
                      </a:lnTo>
                      <a:lnTo>
                        <a:pt x="0" y="0"/>
                      </a:lnTo>
                      <a:lnTo>
                        <a:pt x="1318" y="0"/>
                      </a:lnTo>
                      <a:lnTo>
                        <a:pt x="1361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618080" y="542448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4" y="57"/>
                      </a:lnTo>
                      <a:lnTo>
                        <a:pt x="1322" y="0"/>
                      </a:lnTo>
                      <a:lnTo>
                        <a:pt x="2994" y="0"/>
                      </a:lnTo>
                      <a:lnTo>
                        <a:pt x="3000" y="7"/>
                      </a:lnTo>
                      <a:lnTo>
                        <a:pt x="3042" y="57"/>
                      </a:lnTo>
                      <a:close/>
                      <a:moveTo>
                        <a:pt x="1364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2" y="0"/>
                      </a:lnTo>
                      <a:lnTo>
                        <a:pt x="1364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4610160" y="5415120"/>
                  <a:ext cx="96516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6" y="57"/>
                      </a:lnTo>
                      <a:lnTo>
                        <a:pt x="1324" y="0"/>
                      </a:lnTo>
                      <a:lnTo>
                        <a:pt x="2988" y="0"/>
                      </a:lnTo>
                      <a:lnTo>
                        <a:pt x="3023" y="35"/>
                      </a:lnTo>
                      <a:lnTo>
                        <a:pt x="3042" y="57"/>
                      </a:lnTo>
                      <a:close/>
                      <a:moveTo>
                        <a:pt x="1366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4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4602240" y="5405400"/>
                  <a:ext cx="965160" cy="19080"/>
                </a:xfrm>
                <a:custGeom>
                  <a:avLst/>
                  <a:gdLst/>
                  <a:ahLst/>
                  <a:rect l="l" t="t" r="r" b="b"/>
                  <a:pathLst>
                    <a:path w="3041" h="57">
                      <a:moveTo>
                        <a:pt x="3041" y="57"/>
                      </a:moveTo>
                      <a:lnTo>
                        <a:pt x="1369" y="57"/>
                      </a:lnTo>
                      <a:lnTo>
                        <a:pt x="1327" y="0"/>
                      </a:lnTo>
                      <a:lnTo>
                        <a:pt x="2985" y="0"/>
                      </a:lnTo>
                      <a:lnTo>
                        <a:pt x="3041" y="57"/>
                      </a:lnTo>
                      <a:close/>
                      <a:moveTo>
                        <a:pt x="1369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27" y="0"/>
                      </a:lnTo>
                      <a:lnTo>
                        <a:pt x="1369" y="57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595760" y="5397480"/>
                  <a:ext cx="963720" cy="17640"/>
                </a:xfrm>
                <a:custGeom>
                  <a:avLst/>
                  <a:gdLst/>
                  <a:ahLst/>
                  <a:rect l="l" t="t" r="r" b="b"/>
                  <a:pathLst>
                    <a:path w="3035" h="58">
                      <a:moveTo>
                        <a:pt x="3035" y="58"/>
                      </a:moveTo>
                      <a:lnTo>
                        <a:pt x="1371" y="58"/>
                      </a:lnTo>
                      <a:lnTo>
                        <a:pt x="1328" y="0"/>
                      </a:lnTo>
                      <a:lnTo>
                        <a:pt x="2980" y="0"/>
                      </a:lnTo>
                      <a:lnTo>
                        <a:pt x="3035" y="58"/>
                      </a:lnTo>
                      <a:close/>
                      <a:moveTo>
                        <a:pt x="1371" y="58"/>
                      </a:moveTo>
                      <a:lnTo>
                        <a:pt x="47" y="58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1" y="58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587840" y="5388120"/>
                  <a:ext cx="961920" cy="17280"/>
                </a:xfrm>
                <a:custGeom>
                  <a:avLst/>
                  <a:gdLst/>
                  <a:ahLst/>
                  <a:rect l="l" t="t" r="r" b="b"/>
                  <a:pathLst>
                    <a:path w="3032" h="57">
                      <a:moveTo>
                        <a:pt x="3032" y="57"/>
                      </a:moveTo>
                      <a:lnTo>
                        <a:pt x="1374" y="57"/>
                      </a:lnTo>
                      <a:lnTo>
                        <a:pt x="1331" y="0"/>
                      </a:lnTo>
                      <a:lnTo>
                        <a:pt x="2977" y="0"/>
                      </a:lnTo>
                      <a:lnTo>
                        <a:pt x="3032" y="57"/>
                      </a:lnTo>
                      <a:close/>
                      <a:moveTo>
                        <a:pt x="1374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1" y="0"/>
                      </a:lnTo>
                      <a:lnTo>
                        <a:pt x="1374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579920" y="5378400"/>
                  <a:ext cx="961920" cy="19080"/>
                </a:xfrm>
                <a:custGeom>
                  <a:avLst/>
                  <a:gdLst/>
                  <a:ahLst/>
                  <a:rect l="l" t="t" r="r" b="b"/>
                  <a:pathLst>
                    <a:path w="3027" h="57">
                      <a:moveTo>
                        <a:pt x="3027" y="57"/>
                      </a:moveTo>
                      <a:lnTo>
                        <a:pt x="1375" y="57"/>
                      </a:lnTo>
                      <a:lnTo>
                        <a:pt x="1332" y="0"/>
                      </a:lnTo>
                      <a:lnTo>
                        <a:pt x="2952" y="0"/>
                      </a:lnTo>
                      <a:lnTo>
                        <a:pt x="2998" y="27"/>
                      </a:lnTo>
                      <a:lnTo>
                        <a:pt x="3027" y="57"/>
                      </a:lnTo>
                      <a:close/>
                      <a:moveTo>
                        <a:pt x="1375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572000" y="5370480"/>
                  <a:ext cx="960480" cy="17640"/>
                </a:xfrm>
                <a:custGeom>
                  <a:avLst/>
                  <a:gdLst/>
                  <a:ahLst/>
                  <a:rect l="l" t="t" r="r" b="b"/>
                  <a:pathLst>
                    <a:path w="3025" h="57">
                      <a:moveTo>
                        <a:pt x="3025" y="57"/>
                      </a:moveTo>
                      <a:lnTo>
                        <a:pt x="1379" y="57"/>
                      </a:lnTo>
                      <a:lnTo>
                        <a:pt x="1336" y="0"/>
                      </a:lnTo>
                      <a:lnTo>
                        <a:pt x="2927" y="0"/>
                      </a:lnTo>
                      <a:lnTo>
                        <a:pt x="3023" y="55"/>
                      </a:lnTo>
                      <a:lnTo>
                        <a:pt x="3025" y="57"/>
                      </a:lnTo>
                      <a:close/>
                      <a:moveTo>
                        <a:pt x="1379" y="57"/>
                      </a:moveTo>
                      <a:lnTo>
                        <a:pt x="48" y="57"/>
                      </a:lnTo>
                      <a:lnTo>
                        <a:pt x="14" y="16"/>
                      </a:lnTo>
                      <a:lnTo>
                        <a:pt x="0" y="0"/>
                      </a:lnTo>
                      <a:lnTo>
                        <a:pt x="1336" y="0"/>
                      </a:lnTo>
                      <a:lnTo>
                        <a:pt x="1379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564080" y="5361120"/>
                  <a:ext cx="954000" cy="17280"/>
                </a:xfrm>
                <a:custGeom>
                  <a:avLst/>
                  <a:gdLst/>
                  <a:ahLst/>
                  <a:rect l="l" t="t" r="r" b="b"/>
                  <a:pathLst>
                    <a:path w="3002" h="57">
                      <a:moveTo>
                        <a:pt x="3002" y="57"/>
                      </a:moveTo>
                      <a:lnTo>
                        <a:pt x="1382" y="57"/>
                      </a:lnTo>
                      <a:lnTo>
                        <a:pt x="1339" y="0"/>
                      </a:lnTo>
                      <a:lnTo>
                        <a:pt x="2902" y="0"/>
                      </a:lnTo>
                      <a:lnTo>
                        <a:pt x="2904" y="2"/>
                      </a:lnTo>
                      <a:lnTo>
                        <a:pt x="3002" y="57"/>
                      </a:lnTo>
                      <a:close/>
                      <a:moveTo>
                        <a:pt x="1382" y="57"/>
                      </a:moveTo>
                      <a:lnTo>
                        <a:pt x="50" y="57"/>
                      </a:lnTo>
                      <a:lnTo>
                        <a:pt x="39" y="45"/>
                      </a:lnTo>
                      <a:lnTo>
                        <a:pt x="0" y="0"/>
                      </a:lnTo>
                      <a:lnTo>
                        <a:pt x="1339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556160" y="5351400"/>
                  <a:ext cx="946080" cy="19080"/>
                </a:xfrm>
                <a:custGeom>
                  <a:avLst/>
                  <a:gdLst/>
                  <a:ahLst/>
                  <a:rect l="l" t="t" r="r" b="b"/>
                  <a:pathLst>
                    <a:path w="2979" h="57">
                      <a:moveTo>
                        <a:pt x="2979" y="57"/>
                      </a:moveTo>
                      <a:lnTo>
                        <a:pt x="1388" y="57"/>
                      </a:lnTo>
                      <a:lnTo>
                        <a:pt x="1345" y="0"/>
                      </a:lnTo>
                      <a:lnTo>
                        <a:pt x="2892" y="0"/>
                      </a:lnTo>
                      <a:lnTo>
                        <a:pt x="2931" y="30"/>
                      </a:lnTo>
                      <a:lnTo>
                        <a:pt x="2979" y="57"/>
                      </a:lnTo>
                      <a:close/>
                      <a:moveTo>
                        <a:pt x="138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45" y="0"/>
                      </a:lnTo>
                      <a:lnTo>
                        <a:pt x="1388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548240" y="5343480"/>
                  <a:ext cx="938160" cy="17640"/>
                </a:xfrm>
                <a:custGeom>
                  <a:avLst/>
                  <a:gdLst/>
                  <a:ahLst/>
                  <a:rect l="l" t="t" r="r" b="b"/>
                  <a:pathLst>
                    <a:path w="2954" h="56">
                      <a:moveTo>
                        <a:pt x="2954" y="56"/>
                      </a:moveTo>
                      <a:lnTo>
                        <a:pt x="1391" y="56"/>
                      </a:lnTo>
                      <a:lnTo>
                        <a:pt x="1348" y="0"/>
                      </a:lnTo>
                      <a:lnTo>
                        <a:pt x="2880" y="0"/>
                      </a:lnTo>
                      <a:lnTo>
                        <a:pt x="2954" y="56"/>
                      </a:lnTo>
                      <a:close/>
                      <a:moveTo>
                        <a:pt x="1391" y="56"/>
                      </a:moveTo>
                      <a:lnTo>
                        <a:pt x="52" y="56"/>
                      </a:lnTo>
                      <a:lnTo>
                        <a:pt x="0" y="0"/>
                      </a:lnTo>
                      <a:lnTo>
                        <a:pt x="1348" y="0"/>
                      </a:lnTo>
                      <a:lnTo>
                        <a:pt x="1391" y="56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540320" y="5334120"/>
                  <a:ext cx="933480" cy="17280"/>
                </a:xfrm>
                <a:custGeom>
                  <a:avLst/>
                  <a:gdLst/>
                  <a:ahLst/>
                  <a:rect l="l" t="t" r="r" b="b"/>
                  <a:pathLst>
                    <a:path w="2943" h="57">
                      <a:moveTo>
                        <a:pt x="2943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909" y="0"/>
                      </a:lnTo>
                      <a:lnTo>
                        <a:pt x="2882" y="10"/>
                      </a:lnTo>
                      <a:lnTo>
                        <a:pt x="2943" y="57"/>
                      </a:lnTo>
                      <a:close/>
                      <a:moveTo>
                        <a:pt x="1396" y="57"/>
                      </a:moveTo>
                      <a:lnTo>
                        <a:pt x="51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530600" y="5324400"/>
                  <a:ext cx="959040" cy="19080"/>
                </a:xfrm>
                <a:custGeom>
                  <a:avLst/>
                  <a:gdLst/>
                  <a:ahLst/>
                  <a:rect l="l" t="t" r="r" b="b"/>
                  <a:pathLst>
                    <a:path w="3019" h="57">
                      <a:moveTo>
                        <a:pt x="2932" y="57"/>
                      </a:moveTo>
                      <a:lnTo>
                        <a:pt x="1400" y="57"/>
                      </a:lnTo>
                      <a:lnTo>
                        <a:pt x="1359" y="0"/>
                      </a:lnTo>
                      <a:lnTo>
                        <a:pt x="3019" y="0"/>
                      </a:lnTo>
                      <a:lnTo>
                        <a:pt x="2908" y="38"/>
                      </a:lnTo>
                      <a:lnTo>
                        <a:pt x="2932" y="57"/>
                      </a:lnTo>
                      <a:close/>
                      <a:moveTo>
                        <a:pt x="1400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59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522680" y="5315040"/>
                  <a:ext cx="1006560" cy="19080"/>
                </a:xfrm>
                <a:custGeom>
                  <a:avLst/>
                  <a:gdLst/>
                  <a:ahLst/>
                  <a:rect l="l" t="t" r="r" b="b"/>
                  <a:pathLst>
                    <a:path w="3167" h="57">
                      <a:moveTo>
                        <a:pt x="2961" y="57"/>
                      </a:moveTo>
                      <a:lnTo>
                        <a:pt x="1405" y="57"/>
                      </a:lnTo>
                      <a:lnTo>
                        <a:pt x="1363" y="0"/>
                      </a:lnTo>
                      <a:lnTo>
                        <a:pt x="3167" y="0"/>
                      </a:lnTo>
                      <a:lnTo>
                        <a:pt x="3158" y="4"/>
                      </a:lnTo>
                      <a:lnTo>
                        <a:pt x="3057" y="24"/>
                      </a:lnTo>
                      <a:lnTo>
                        <a:pt x="2961" y="57"/>
                      </a:lnTo>
                      <a:close/>
                      <a:moveTo>
                        <a:pt x="1405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63" y="0"/>
                      </a:lnTo>
                      <a:lnTo>
                        <a:pt x="1405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4514760" y="5307120"/>
                  <a:ext cx="1032120" cy="17280"/>
                </a:xfrm>
                <a:custGeom>
                  <a:avLst/>
                  <a:gdLst/>
                  <a:ahLst/>
                  <a:rect l="l" t="t" r="r" b="b"/>
                  <a:pathLst>
                    <a:path w="3249" h="57">
                      <a:moveTo>
                        <a:pt x="3071" y="57"/>
                      </a:moveTo>
                      <a:lnTo>
                        <a:pt x="1411" y="57"/>
                      </a:lnTo>
                      <a:lnTo>
                        <a:pt x="1368" y="0"/>
                      </a:lnTo>
                      <a:lnTo>
                        <a:pt x="3249" y="0"/>
                      </a:lnTo>
                      <a:lnTo>
                        <a:pt x="3184" y="32"/>
                      </a:lnTo>
                      <a:lnTo>
                        <a:pt x="3083" y="52"/>
                      </a:lnTo>
                      <a:lnTo>
                        <a:pt x="3071" y="57"/>
                      </a:lnTo>
                      <a:close/>
                      <a:moveTo>
                        <a:pt x="1411" y="57"/>
                      </a:moveTo>
                      <a:lnTo>
                        <a:pt x="52" y="57"/>
                      </a:lnTo>
                      <a:lnTo>
                        <a:pt x="13" y="13"/>
                      </a:lnTo>
                      <a:lnTo>
                        <a:pt x="0" y="0"/>
                      </a:lnTo>
                      <a:lnTo>
                        <a:pt x="1368" y="0"/>
                      </a:lnTo>
                      <a:lnTo>
                        <a:pt x="1411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4506840" y="5297400"/>
                  <a:ext cx="1057320" cy="17640"/>
                </a:xfrm>
                <a:custGeom>
                  <a:avLst/>
                  <a:gdLst/>
                  <a:ahLst/>
                  <a:rect l="l" t="t" r="r" b="b"/>
                  <a:pathLst>
                    <a:path w="3329" h="57">
                      <a:moveTo>
                        <a:pt x="3218" y="57"/>
                      </a:moveTo>
                      <a:lnTo>
                        <a:pt x="1414" y="57"/>
                      </a:lnTo>
                      <a:lnTo>
                        <a:pt x="1371" y="0"/>
                      </a:lnTo>
                      <a:lnTo>
                        <a:pt x="3329" y="0"/>
                      </a:lnTo>
                      <a:lnTo>
                        <a:pt x="3218" y="57"/>
                      </a:lnTo>
                      <a:close/>
                      <a:moveTo>
                        <a:pt x="1414" y="57"/>
                      </a:moveTo>
                      <a:lnTo>
                        <a:pt x="51" y="57"/>
                      </a:lnTo>
                      <a:lnTo>
                        <a:pt x="38" y="42"/>
                      </a:ln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414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498920" y="5288040"/>
                  <a:ext cx="1084320" cy="19080"/>
                </a:xfrm>
                <a:custGeom>
                  <a:avLst/>
                  <a:gdLst/>
                  <a:ahLst/>
                  <a:rect l="l" t="t" r="r" b="b"/>
                  <a:pathLst>
                    <a:path w="3415" h="58">
                      <a:moveTo>
                        <a:pt x="3301" y="58"/>
                      </a:moveTo>
                      <a:lnTo>
                        <a:pt x="1420" y="58"/>
                      </a:lnTo>
                      <a:lnTo>
                        <a:pt x="1377" y="0"/>
                      </a:lnTo>
                      <a:lnTo>
                        <a:pt x="3415" y="0"/>
                      </a:lnTo>
                      <a:lnTo>
                        <a:pt x="3357" y="29"/>
                      </a:lnTo>
                      <a:lnTo>
                        <a:pt x="3301" y="58"/>
                      </a:lnTo>
                      <a:close/>
                      <a:moveTo>
                        <a:pt x="1420" y="58"/>
                      </a:moveTo>
                      <a:lnTo>
                        <a:pt x="52" y="58"/>
                      </a:lnTo>
                      <a:lnTo>
                        <a:pt x="0" y="0"/>
                      </a:lnTo>
                      <a:lnTo>
                        <a:pt x="1377" y="0"/>
                      </a:lnTo>
                      <a:lnTo>
                        <a:pt x="1420" y="58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491000" y="5280120"/>
                  <a:ext cx="1109880" cy="17280"/>
                </a:xfrm>
                <a:custGeom>
                  <a:avLst/>
                  <a:gdLst/>
                  <a:ahLst/>
                  <a:rect l="l" t="t" r="r" b="b"/>
                  <a:pathLst>
                    <a:path w="3499" h="57">
                      <a:moveTo>
                        <a:pt x="3381" y="57"/>
                      </a:moveTo>
                      <a:lnTo>
                        <a:pt x="1423" y="57"/>
                      </a:lnTo>
                      <a:lnTo>
                        <a:pt x="1380" y="0"/>
                      </a:lnTo>
                      <a:lnTo>
                        <a:pt x="3499" y="0"/>
                      </a:lnTo>
                      <a:lnTo>
                        <a:pt x="3382" y="57"/>
                      </a:lnTo>
                      <a:lnTo>
                        <a:pt x="3381" y="57"/>
                      </a:lnTo>
                      <a:close/>
                      <a:moveTo>
                        <a:pt x="1423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0" y="0"/>
                      </a:lnTo>
                      <a:lnTo>
                        <a:pt x="1423" y="57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4481640" y="5270400"/>
                  <a:ext cx="1135080" cy="17640"/>
                </a:xfrm>
                <a:custGeom>
                  <a:avLst/>
                  <a:gdLst/>
                  <a:ahLst/>
                  <a:rect l="l" t="t" r="r" b="b"/>
                  <a:pathLst>
                    <a:path w="3573" h="57">
                      <a:moveTo>
                        <a:pt x="3467" y="57"/>
                      </a:moveTo>
                      <a:lnTo>
                        <a:pt x="1429" y="57"/>
                      </a:lnTo>
                      <a:lnTo>
                        <a:pt x="1386" y="0"/>
                      </a:lnTo>
                      <a:lnTo>
                        <a:pt x="3573" y="0"/>
                      </a:lnTo>
                      <a:lnTo>
                        <a:pt x="3528" y="28"/>
                      </a:lnTo>
                      <a:lnTo>
                        <a:pt x="3467" y="57"/>
                      </a:lnTo>
                      <a:close/>
                      <a:moveTo>
                        <a:pt x="1429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6" y="0"/>
                      </a:lnTo>
                      <a:lnTo>
                        <a:pt x="1429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473720" y="5261040"/>
                  <a:ext cx="1157040" cy="19080"/>
                </a:xfrm>
                <a:custGeom>
                  <a:avLst/>
                  <a:gdLst/>
                  <a:ahLst/>
                  <a:rect l="l" t="t" r="r" b="b"/>
                  <a:pathLst>
                    <a:path w="3644" h="57">
                      <a:moveTo>
                        <a:pt x="3551" y="57"/>
                      </a:moveTo>
                      <a:lnTo>
                        <a:pt x="1432" y="57"/>
                      </a:lnTo>
                      <a:lnTo>
                        <a:pt x="1389" y="0"/>
                      </a:lnTo>
                      <a:lnTo>
                        <a:pt x="3644" y="0"/>
                      </a:lnTo>
                      <a:lnTo>
                        <a:pt x="3553" y="56"/>
                      </a:lnTo>
                      <a:lnTo>
                        <a:pt x="3551" y="57"/>
                      </a:lnTo>
                      <a:close/>
                      <a:moveTo>
                        <a:pt x="1432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9" y="0"/>
                      </a:lnTo>
                      <a:lnTo>
                        <a:pt x="1432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4465800" y="5251320"/>
                  <a:ext cx="1176120" cy="19080"/>
                </a:xfrm>
                <a:custGeom>
                  <a:avLst/>
                  <a:gdLst/>
                  <a:ahLst/>
                  <a:rect l="l" t="t" r="r" b="b"/>
                  <a:pathLst>
                    <a:path w="3704" h="57">
                      <a:moveTo>
                        <a:pt x="3625" y="57"/>
                      </a:moveTo>
                      <a:lnTo>
                        <a:pt x="1438" y="57"/>
                      </a:lnTo>
                      <a:lnTo>
                        <a:pt x="1395" y="0"/>
                      </a:lnTo>
                      <a:lnTo>
                        <a:pt x="3704" y="0"/>
                      </a:lnTo>
                      <a:lnTo>
                        <a:pt x="3681" y="23"/>
                      </a:lnTo>
                      <a:lnTo>
                        <a:pt x="3625" y="57"/>
                      </a:lnTo>
                      <a:close/>
                      <a:moveTo>
                        <a:pt x="143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5" y="0"/>
                      </a:lnTo>
                      <a:lnTo>
                        <a:pt x="1438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4457880" y="5243400"/>
                  <a:ext cx="1191960" cy="17640"/>
                </a:xfrm>
                <a:custGeom>
                  <a:avLst/>
                  <a:gdLst/>
                  <a:ahLst/>
                  <a:rect l="l" t="t" r="r" b="b"/>
                  <a:pathLst>
                    <a:path w="3757" h="57">
                      <a:moveTo>
                        <a:pt x="3696" y="57"/>
                      </a:moveTo>
                      <a:lnTo>
                        <a:pt x="1441" y="57"/>
                      </a:lnTo>
                      <a:lnTo>
                        <a:pt x="1399" y="0"/>
                      </a:lnTo>
                      <a:lnTo>
                        <a:pt x="3757" y="0"/>
                      </a:lnTo>
                      <a:lnTo>
                        <a:pt x="3706" y="51"/>
                      </a:lnTo>
                      <a:lnTo>
                        <a:pt x="3696" y="57"/>
                      </a:lnTo>
                      <a:close/>
                      <a:moveTo>
                        <a:pt x="1441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9" y="0"/>
                      </a:lnTo>
                      <a:lnTo>
                        <a:pt x="1441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454640" y="5234040"/>
                  <a:ext cx="1204920" cy="17280"/>
                </a:xfrm>
                <a:custGeom>
                  <a:avLst/>
                  <a:gdLst/>
                  <a:ahLst/>
                  <a:rect l="l" t="t" r="r" b="b"/>
                  <a:pathLst>
                    <a:path w="3794" h="57">
                      <a:moveTo>
                        <a:pt x="3737" y="57"/>
                      </a:moveTo>
                      <a:lnTo>
                        <a:pt x="1428" y="57"/>
                      </a:lnTo>
                      <a:lnTo>
                        <a:pt x="1385" y="0"/>
                      </a:lnTo>
                      <a:lnTo>
                        <a:pt x="3794" y="0"/>
                      </a:lnTo>
                      <a:lnTo>
                        <a:pt x="3737" y="57"/>
                      </a:lnTo>
                      <a:close/>
                      <a:moveTo>
                        <a:pt x="1428" y="57"/>
                      </a:moveTo>
                      <a:lnTo>
                        <a:pt x="33" y="57"/>
                      </a:lnTo>
                      <a:lnTo>
                        <a:pt x="0" y="21"/>
                      </a:lnTo>
                      <a:lnTo>
                        <a:pt x="3" y="0"/>
                      </a:lnTo>
                      <a:lnTo>
                        <a:pt x="1385" y="0"/>
                      </a:lnTo>
                      <a:lnTo>
                        <a:pt x="1428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454640" y="5224320"/>
                  <a:ext cx="1214280" cy="19080"/>
                </a:xfrm>
                <a:custGeom>
                  <a:avLst/>
                  <a:gdLst/>
                  <a:ahLst/>
                  <a:rect l="l" t="t" r="r" b="b"/>
                  <a:pathLst>
                    <a:path w="3823" h="58">
                      <a:moveTo>
                        <a:pt x="3765" y="58"/>
                      </a:moveTo>
                      <a:lnTo>
                        <a:pt x="1407" y="58"/>
                      </a:lnTo>
                      <a:lnTo>
                        <a:pt x="1365" y="0"/>
                      </a:lnTo>
                      <a:lnTo>
                        <a:pt x="3823" y="0"/>
                      </a:lnTo>
                      <a:lnTo>
                        <a:pt x="3796" y="27"/>
                      </a:lnTo>
                      <a:lnTo>
                        <a:pt x="3765" y="58"/>
                      </a:lnTo>
                      <a:close/>
                      <a:moveTo>
                        <a:pt x="1407" y="58"/>
                      </a:moveTo>
                      <a:lnTo>
                        <a:pt x="8" y="58"/>
                      </a:lnTo>
                      <a:lnTo>
                        <a:pt x="0" y="50"/>
                      </a:lnTo>
                      <a:lnTo>
                        <a:pt x="6" y="0"/>
                      </a:lnTo>
                      <a:lnTo>
                        <a:pt x="1365" y="0"/>
                      </a:lnTo>
                      <a:lnTo>
                        <a:pt x="1407" y="58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4456080" y="5216400"/>
                  <a:ext cx="1220760" cy="17640"/>
                </a:xfrm>
                <a:custGeom>
                  <a:avLst/>
                  <a:gdLst/>
                  <a:ahLst/>
                  <a:rect l="l" t="t" r="r" b="b"/>
                  <a:pathLst>
                    <a:path w="3848" h="57">
                      <a:moveTo>
                        <a:pt x="3791" y="57"/>
                      </a:moveTo>
                      <a:lnTo>
                        <a:pt x="1382" y="57"/>
                      </a:lnTo>
                      <a:lnTo>
                        <a:pt x="1340" y="0"/>
                      </a:lnTo>
                      <a:lnTo>
                        <a:pt x="3848" y="0"/>
                      </a:lnTo>
                      <a:lnTo>
                        <a:pt x="3793" y="55"/>
                      </a:lnTo>
                      <a:lnTo>
                        <a:pt x="3791" y="57"/>
                      </a:lnTo>
                      <a:close/>
                      <a:moveTo>
                        <a:pt x="138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40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456080" y="5207040"/>
                  <a:ext cx="1230480" cy="17280"/>
                </a:xfrm>
                <a:custGeom>
                  <a:avLst/>
                  <a:gdLst/>
                  <a:ahLst/>
                  <a:rect l="l" t="t" r="r" b="b"/>
                  <a:pathLst>
                    <a:path w="3874" h="57">
                      <a:moveTo>
                        <a:pt x="3817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3874" y="0"/>
                      </a:lnTo>
                      <a:lnTo>
                        <a:pt x="3817" y="57"/>
                      </a:lnTo>
                      <a:close/>
                      <a:moveTo>
                        <a:pt x="135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4457880" y="5197320"/>
                  <a:ext cx="1238040" cy="19080"/>
                </a:xfrm>
                <a:custGeom>
                  <a:avLst/>
                  <a:gdLst/>
                  <a:ahLst/>
                  <a:rect l="l" t="t" r="r" b="b"/>
                  <a:pathLst>
                    <a:path w="3899" h="57">
                      <a:moveTo>
                        <a:pt x="3843" y="57"/>
                      </a:moveTo>
                      <a:lnTo>
                        <a:pt x="1335" y="57"/>
                      </a:lnTo>
                      <a:lnTo>
                        <a:pt x="1292" y="0"/>
                      </a:lnTo>
                      <a:lnTo>
                        <a:pt x="3899" y="0"/>
                      </a:lnTo>
                      <a:lnTo>
                        <a:pt x="3888" y="12"/>
                      </a:lnTo>
                      <a:lnTo>
                        <a:pt x="3843" y="57"/>
                      </a:lnTo>
                      <a:close/>
                      <a:moveTo>
                        <a:pt x="133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92" y="0"/>
                      </a:lnTo>
                      <a:lnTo>
                        <a:pt x="1335" y="57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4457880" y="5189400"/>
                  <a:ext cx="1245960" cy="17640"/>
                </a:xfrm>
                <a:custGeom>
                  <a:avLst/>
                  <a:gdLst/>
                  <a:ahLst/>
                  <a:rect l="l" t="t" r="r" b="b"/>
                  <a:pathLst>
                    <a:path w="3925" h="56">
                      <a:moveTo>
                        <a:pt x="3869" y="56"/>
                      </a:moveTo>
                      <a:lnTo>
                        <a:pt x="1311" y="56"/>
                      </a:lnTo>
                      <a:lnTo>
                        <a:pt x="1268" y="0"/>
                      </a:lnTo>
                      <a:lnTo>
                        <a:pt x="3925" y="0"/>
                      </a:lnTo>
                      <a:lnTo>
                        <a:pt x="3885" y="40"/>
                      </a:lnTo>
                      <a:lnTo>
                        <a:pt x="3869" y="56"/>
                      </a:lnTo>
                      <a:close/>
                      <a:moveTo>
                        <a:pt x="1311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68" y="0"/>
                      </a:lnTo>
                      <a:lnTo>
                        <a:pt x="1311" y="56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459320" y="5180040"/>
                  <a:ext cx="1254240" cy="17280"/>
                </a:xfrm>
                <a:custGeom>
                  <a:avLst/>
                  <a:gdLst/>
                  <a:ahLst/>
                  <a:rect l="l" t="t" r="r" b="b"/>
                  <a:pathLst>
                    <a:path w="3951" h="56">
                      <a:moveTo>
                        <a:pt x="3893" y="56"/>
                      </a:moveTo>
                      <a:lnTo>
                        <a:pt x="1286" y="56"/>
                      </a:lnTo>
                      <a:lnTo>
                        <a:pt x="1243" y="0"/>
                      </a:lnTo>
                      <a:lnTo>
                        <a:pt x="3951" y="0"/>
                      </a:lnTo>
                      <a:lnTo>
                        <a:pt x="3893" y="56"/>
                      </a:lnTo>
                      <a:close/>
                      <a:moveTo>
                        <a:pt x="1286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43" y="0"/>
                      </a:lnTo>
                      <a:lnTo>
                        <a:pt x="1286" y="56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4459320" y="5170320"/>
                  <a:ext cx="1260360" cy="19080"/>
                </a:xfrm>
                <a:custGeom>
                  <a:avLst/>
                  <a:gdLst/>
                  <a:ahLst/>
                  <a:rect l="l" t="t" r="r" b="b"/>
                  <a:pathLst>
                    <a:path w="3970" h="57">
                      <a:moveTo>
                        <a:pt x="3920" y="57"/>
                      </a:moveTo>
                      <a:lnTo>
                        <a:pt x="1263" y="57"/>
                      </a:lnTo>
                      <a:lnTo>
                        <a:pt x="1220" y="0"/>
                      </a:lnTo>
                      <a:lnTo>
                        <a:pt x="3970" y="0"/>
                      </a:lnTo>
                      <a:lnTo>
                        <a:pt x="3962" y="15"/>
                      </a:lnTo>
                      <a:lnTo>
                        <a:pt x="3920" y="57"/>
                      </a:lnTo>
                      <a:close/>
                      <a:moveTo>
                        <a:pt x="126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20" y="0"/>
                      </a:lnTo>
                      <a:lnTo>
                        <a:pt x="1263" y="57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460760" y="5160960"/>
                  <a:ext cx="1263600" cy="19080"/>
                </a:xfrm>
                <a:custGeom>
                  <a:avLst/>
                  <a:gdLst/>
                  <a:ahLst/>
                  <a:rect l="l" t="t" r="r" b="b"/>
                  <a:pathLst>
                    <a:path w="3981" h="58">
                      <a:moveTo>
                        <a:pt x="3946" y="58"/>
                      </a:move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194" y="0"/>
                      </a:lnTo>
                      <a:lnTo>
                        <a:pt x="6" y="0"/>
                      </a:lnTo>
                      <a:lnTo>
                        <a:pt x="0" y="58"/>
                      </a:ln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236" y="0"/>
                      </a:lnTo>
                      <a:lnTo>
                        <a:pt x="3981" y="0"/>
                      </a:lnTo>
                      <a:lnTo>
                        <a:pt x="3959" y="44"/>
                      </a:lnTo>
                      <a:lnTo>
                        <a:pt x="3946" y="58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462560" y="5153040"/>
                  <a:ext cx="1266840" cy="17280"/>
                </a:xfrm>
                <a:custGeom>
                  <a:avLst/>
                  <a:gdLst/>
                  <a:ahLst/>
                  <a:rect l="l" t="t" r="r" b="b"/>
                  <a:pathLst>
                    <a:path w="3994" h="57">
                      <a:moveTo>
                        <a:pt x="3964" y="57"/>
                      </a:move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167" y="0"/>
                      </a:lnTo>
                      <a:lnTo>
                        <a:pt x="5" y="0"/>
                      </a:lnTo>
                      <a:lnTo>
                        <a:pt x="0" y="57"/>
                      </a:ln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260" y="0"/>
                      </a:lnTo>
                      <a:lnTo>
                        <a:pt x="3994" y="0"/>
                      </a:lnTo>
                      <a:lnTo>
                        <a:pt x="3964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4462560" y="5143680"/>
                  <a:ext cx="1271520" cy="172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5" y="57"/>
                      </a:moveTo>
                      <a:lnTo>
                        <a:pt x="1230" y="57"/>
                      </a:lnTo>
                      <a:lnTo>
                        <a:pt x="1283" y="0"/>
                      </a:lnTo>
                      <a:lnTo>
                        <a:pt x="4005" y="0"/>
                      </a:lnTo>
                      <a:lnTo>
                        <a:pt x="3975" y="57"/>
                      </a:lnTo>
                      <a:close/>
                      <a:moveTo>
                        <a:pt x="1188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141" y="0"/>
                      </a:lnTo>
                      <a:lnTo>
                        <a:pt x="1188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4464000" y="5133960"/>
                  <a:ext cx="1274760" cy="19080"/>
                </a:xfrm>
                <a:custGeom>
                  <a:avLst/>
                  <a:gdLst/>
                  <a:ahLst/>
                  <a:rect l="l" t="t" r="r" b="b"/>
                  <a:pathLst>
                    <a:path w="4017" h="57">
                      <a:moveTo>
                        <a:pt x="3989" y="57"/>
                      </a:moveTo>
                      <a:lnTo>
                        <a:pt x="1255" y="57"/>
                      </a:lnTo>
                      <a:lnTo>
                        <a:pt x="1307" y="0"/>
                      </a:lnTo>
                      <a:lnTo>
                        <a:pt x="4017" y="0"/>
                      </a:lnTo>
                      <a:lnTo>
                        <a:pt x="4013" y="9"/>
                      </a:lnTo>
                      <a:lnTo>
                        <a:pt x="3989" y="57"/>
                      </a:lnTo>
                      <a:close/>
                      <a:moveTo>
                        <a:pt x="11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115" y="0"/>
                      </a:lnTo>
                      <a:lnTo>
                        <a:pt x="1162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464000" y="512604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28" h="57">
                      <a:moveTo>
                        <a:pt x="4000" y="57"/>
                      </a:moveTo>
                      <a:lnTo>
                        <a:pt x="1278" y="57"/>
                      </a:lnTo>
                      <a:lnTo>
                        <a:pt x="1330" y="0"/>
                      </a:lnTo>
                      <a:lnTo>
                        <a:pt x="4028" y="0"/>
                      </a:lnTo>
                      <a:lnTo>
                        <a:pt x="4010" y="38"/>
                      </a:lnTo>
                      <a:lnTo>
                        <a:pt x="4000" y="57"/>
                      </a:lnTo>
                      <a:close/>
                      <a:moveTo>
                        <a:pt x="11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089" y="0"/>
                      </a:lnTo>
                      <a:lnTo>
                        <a:pt x="1136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4465800" y="5116680"/>
                  <a:ext cx="1282680" cy="17280"/>
                </a:xfrm>
                <a:custGeom>
                  <a:avLst/>
                  <a:gdLst/>
                  <a:ahLst/>
                  <a:rect l="l" t="t" r="r" b="b"/>
                  <a:pathLst>
                    <a:path w="4039" h="58">
                      <a:moveTo>
                        <a:pt x="4011" y="58"/>
                      </a:moveTo>
                      <a:lnTo>
                        <a:pt x="1301" y="58"/>
                      </a:lnTo>
                      <a:lnTo>
                        <a:pt x="1353" y="0"/>
                      </a:lnTo>
                      <a:lnTo>
                        <a:pt x="4039" y="0"/>
                      </a:lnTo>
                      <a:lnTo>
                        <a:pt x="4011" y="58"/>
                      </a:lnTo>
                      <a:close/>
                      <a:moveTo>
                        <a:pt x="1109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1062" y="0"/>
                      </a:lnTo>
                      <a:lnTo>
                        <a:pt x="1109" y="58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465800" y="5106960"/>
                  <a:ext cx="128556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7">
                      <a:moveTo>
                        <a:pt x="4023" y="57"/>
                      </a:moveTo>
                      <a:lnTo>
                        <a:pt x="1325" y="57"/>
                      </a:lnTo>
                      <a:lnTo>
                        <a:pt x="1377" y="0"/>
                      </a:lnTo>
                      <a:lnTo>
                        <a:pt x="4048" y="0"/>
                      </a:lnTo>
                      <a:lnTo>
                        <a:pt x="4044" y="13"/>
                      </a:lnTo>
                      <a:lnTo>
                        <a:pt x="4023" y="57"/>
                      </a:lnTo>
                      <a:close/>
                      <a:moveTo>
                        <a:pt x="1084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037" y="0"/>
                      </a:lnTo>
                      <a:lnTo>
                        <a:pt x="108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467240" y="509760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34" y="57"/>
                      </a:moveTo>
                      <a:lnTo>
                        <a:pt x="1348" y="57"/>
                      </a:lnTo>
                      <a:lnTo>
                        <a:pt x="1397" y="3"/>
                      </a:lnTo>
                      <a:lnTo>
                        <a:pt x="1013" y="3"/>
                      </a:lnTo>
                      <a:lnTo>
                        <a:pt x="1057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1" y="42"/>
                      </a:lnTo>
                      <a:lnTo>
                        <a:pt x="403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4467240" y="508968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0" h="57">
                      <a:moveTo>
                        <a:pt x="4042" y="57"/>
                      </a:moveTo>
                      <a:lnTo>
                        <a:pt x="1371" y="57"/>
                      </a:lnTo>
                      <a:lnTo>
                        <a:pt x="1394" y="31"/>
                      </a:lnTo>
                      <a:lnTo>
                        <a:pt x="1010" y="31"/>
                      </a:lnTo>
                      <a:lnTo>
                        <a:pt x="1031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0" y="0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4468680" y="5079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8" y="0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468680" y="5070600"/>
                  <a:ext cx="1293840" cy="1908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5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2" y="8"/>
                      </a:lnTo>
                      <a:lnTo>
                        <a:pt x="4055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4470480" y="5062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7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7" y="0"/>
                      </a:lnTo>
                      <a:lnTo>
                        <a:pt x="4069" y="37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4471920" y="5052960"/>
                  <a:ext cx="1295640" cy="17640"/>
                </a:xfrm>
                <a:custGeom>
                  <a:avLst/>
                  <a:gdLst/>
                  <a:ahLst/>
                  <a:rect l="l" t="t" r="r" b="b"/>
                  <a:pathLst>
                    <a:path w="4080" h="58">
                      <a:moveTo>
                        <a:pt x="4067" y="58"/>
                      </a:moveTo>
                      <a:lnTo>
                        <a:pt x="0" y="58"/>
                      </a:lnTo>
                      <a:lnTo>
                        <a:pt x="6" y="0"/>
                      </a:lnTo>
                      <a:lnTo>
                        <a:pt x="4080" y="0"/>
                      </a:lnTo>
                      <a:lnTo>
                        <a:pt x="4067" y="58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471920" y="5043600"/>
                  <a:ext cx="1297080" cy="19080"/>
                </a:xfrm>
                <a:custGeom>
                  <a:avLst/>
                  <a:gdLst/>
                  <a:ahLst/>
                  <a:rect l="l" t="t" r="r" b="b"/>
                  <a:pathLst>
                    <a:path w="4084" h="57">
                      <a:moveTo>
                        <a:pt x="4071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4" y="0"/>
                      </a:lnTo>
                      <a:lnTo>
                        <a:pt x="4071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4473720" y="5033880"/>
                  <a:ext cx="1295280" cy="19080"/>
                </a:xfrm>
                <a:custGeom>
                  <a:avLst/>
                  <a:gdLst/>
                  <a:ahLst/>
                  <a:rect l="l" t="t" r="r" b="b"/>
                  <a:pathLst>
                    <a:path w="4083" h="57">
                      <a:moveTo>
                        <a:pt x="407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3" y="0"/>
                      </a:lnTo>
                      <a:lnTo>
                        <a:pt x="4083" y="22"/>
                      </a:lnTo>
                      <a:lnTo>
                        <a:pt x="4074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473720" y="5025960"/>
                  <a:ext cx="1295280" cy="17640"/>
                </a:xfrm>
                <a:custGeom>
                  <a:avLst/>
                  <a:gdLst/>
                  <a:ahLst/>
                  <a:rect l="l" t="t" r="r" b="b"/>
                  <a:pathLst>
                    <a:path w="4081" h="57">
                      <a:moveTo>
                        <a:pt x="407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81" y="0"/>
                      </a:lnTo>
                      <a:lnTo>
                        <a:pt x="4081" y="50"/>
                      </a:lnTo>
                      <a:lnTo>
                        <a:pt x="4079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475160" y="501660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8" h="56">
                      <a:moveTo>
                        <a:pt x="4078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8" y="0"/>
                      </a:lnTo>
                      <a:lnTo>
                        <a:pt x="4078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475160" y="5008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5" h="56">
                      <a:moveTo>
                        <a:pt x="4075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5" y="0"/>
                      </a:lnTo>
                      <a:lnTo>
                        <a:pt x="4075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4476600" y="4998960"/>
                  <a:ext cx="1292400" cy="1764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7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3" y="57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476600" y="4989600"/>
                  <a:ext cx="1292400" cy="19080"/>
                </a:xfrm>
                <a:custGeom>
                  <a:avLst/>
                  <a:gdLst/>
                  <a:ahLst/>
                  <a:rect l="l" t="t" r="r" b="b"/>
                  <a:pathLst>
                    <a:path w="4070" h="58">
                      <a:moveTo>
                        <a:pt x="4070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70" y="0"/>
                      </a:lnTo>
                      <a:lnTo>
                        <a:pt x="4070" y="58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478400" y="4979880"/>
                  <a:ext cx="1290600" cy="19080"/>
                </a:xfrm>
                <a:custGeom>
                  <a:avLst/>
                  <a:gdLst/>
                  <a:ahLst/>
                  <a:rect l="l" t="t" r="r" b="b"/>
                  <a:pathLst>
                    <a:path w="4067" h="57">
                      <a:moveTo>
                        <a:pt x="406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7" y="0"/>
                      </a:lnTo>
                      <a:lnTo>
                        <a:pt x="4067" y="57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478400" y="4971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5" h="57">
                      <a:moveTo>
                        <a:pt x="406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0" y="0"/>
                      </a:lnTo>
                      <a:lnTo>
                        <a:pt x="4065" y="20"/>
                      </a:lnTo>
                      <a:lnTo>
                        <a:pt x="4065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4479840" y="496260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2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1" y="0"/>
                      </a:lnTo>
                      <a:lnTo>
                        <a:pt x="4062" y="48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4481640" y="495288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5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1" y="0"/>
                      </a:lnTo>
                      <a:lnTo>
                        <a:pt x="4054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4481640" y="494496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6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32" y="0"/>
                      </a:lnTo>
                      <a:lnTo>
                        <a:pt x="4034" y="4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483080" y="4935600"/>
                  <a:ext cx="1281240" cy="17280"/>
                </a:xfrm>
                <a:custGeom>
                  <a:avLst/>
                  <a:gdLst/>
                  <a:ahLst/>
                  <a:rect l="l" t="t" r="r" b="b"/>
                  <a:pathLst>
                    <a:path w="4036" h="57">
                      <a:moveTo>
                        <a:pt x="40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19" y="0"/>
                      </a:lnTo>
                      <a:lnTo>
                        <a:pt x="4031" y="33"/>
                      </a:lnTo>
                      <a:lnTo>
                        <a:pt x="403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483080" y="4925880"/>
                  <a:ext cx="1278000" cy="19080"/>
                </a:xfrm>
                <a:custGeom>
                  <a:avLst/>
                  <a:gdLst/>
                  <a:ahLst/>
                  <a:rect l="l" t="t" r="r" b="b"/>
                  <a:pathLst>
                    <a:path w="4026" h="58">
                      <a:moveTo>
                        <a:pt x="4026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07" y="0"/>
                      </a:lnTo>
                      <a:lnTo>
                        <a:pt x="4026" y="58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484520" y="4916520"/>
                  <a:ext cx="1273320" cy="19080"/>
                </a:xfrm>
                <a:custGeom>
                  <a:avLst/>
                  <a:gdLst/>
                  <a:ahLst/>
                  <a:rect l="l" t="t" r="r" b="b"/>
                  <a:pathLst>
                    <a:path w="4014" h="57">
                      <a:moveTo>
                        <a:pt x="4014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96" y="0"/>
                      </a:lnTo>
                      <a:lnTo>
                        <a:pt x="4014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484520" y="4908600"/>
                  <a:ext cx="1271880" cy="17280"/>
                </a:xfrm>
                <a:custGeom>
                  <a:avLst/>
                  <a:gdLst/>
                  <a:ahLst/>
                  <a:rect l="l" t="t" r="r" b="b"/>
                  <a:pathLst>
                    <a:path w="4002" h="57">
                      <a:moveTo>
                        <a:pt x="4002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84" y="0"/>
                      </a:lnTo>
                      <a:lnTo>
                        <a:pt x="4002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486320" y="4898880"/>
                  <a:ext cx="1266840" cy="17640"/>
                </a:xfrm>
                <a:custGeom>
                  <a:avLst/>
                  <a:gdLst/>
                  <a:ahLst/>
                  <a:rect l="l" t="t" r="r" b="b"/>
                  <a:pathLst>
                    <a:path w="3992" h="57">
                      <a:moveTo>
                        <a:pt x="398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3992" y="0"/>
                      </a:lnTo>
                      <a:lnTo>
                        <a:pt x="3978" y="24"/>
                      </a:lnTo>
                      <a:lnTo>
                        <a:pt x="3980" y="26"/>
                      </a:lnTo>
                      <a:lnTo>
                        <a:pt x="3989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87760" y="4889520"/>
                  <a:ext cx="1271520" cy="190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05" y="0"/>
                      </a:lnTo>
                      <a:lnTo>
                        <a:pt x="3975" y="53"/>
                      </a:lnTo>
                      <a:lnTo>
                        <a:pt x="3977" y="55"/>
                      </a:lnTo>
                      <a:lnTo>
                        <a:pt x="3977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487760" y="4881600"/>
                  <a:ext cx="1276560" cy="17280"/>
                </a:xfrm>
                <a:custGeom>
                  <a:avLst/>
                  <a:gdLst/>
                  <a:ahLst/>
                  <a:rect l="l" t="t" r="r" b="b"/>
                  <a:pathLst>
                    <a:path w="4021" h="57">
                      <a:moveTo>
                        <a:pt x="3987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1" y="0"/>
                      </a:lnTo>
                      <a:lnTo>
                        <a:pt x="3987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4489560" y="487188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34" h="57">
                      <a:moveTo>
                        <a:pt x="4000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4" y="0"/>
                      </a:lnTo>
                      <a:lnTo>
                        <a:pt x="4000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489560" y="486252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8">
                      <a:moveTo>
                        <a:pt x="4015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48" y="0"/>
                      </a:lnTo>
                      <a:lnTo>
                        <a:pt x="4015" y="58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491000" y="485460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52" h="56">
                      <a:moveTo>
                        <a:pt x="4029" y="56"/>
                      </a:moveTo>
                      <a:lnTo>
                        <a:pt x="0" y="56"/>
                      </a:lnTo>
                      <a:lnTo>
                        <a:pt x="6" y="0"/>
                      </a:lnTo>
                      <a:lnTo>
                        <a:pt x="4052" y="0"/>
                      </a:lnTo>
                      <a:lnTo>
                        <a:pt x="4047" y="27"/>
                      </a:lnTo>
                      <a:lnTo>
                        <a:pt x="4029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491000" y="484488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4" h="56">
                      <a:moveTo>
                        <a:pt x="4043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4" y="56"/>
                      </a:lnTo>
                      <a:lnTo>
                        <a:pt x="4043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4492800" y="483552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7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7" y="0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4492800" y="4826160"/>
                  <a:ext cx="1288800" cy="18720"/>
                </a:xfrm>
                <a:custGeom>
                  <a:avLst/>
                  <a:gdLst/>
                  <a:ahLst/>
                  <a:rect l="l" t="t" r="r" b="b"/>
                  <a:pathLst>
                    <a:path w="405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8" y="0"/>
                      </a:lnTo>
                      <a:lnTo>
                        <a:pt x="4058" y="12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4494240" y="4818240"/>
                  <a:ext cx="1287360" cy="17280"/>
                </a:xfrm>
                <a:custGeom>
                  <a:avLst/>
                  <a:gdLst/>
                  <a:ahLst/>
                  <a:rect l="l" t="t" r="r" b="b"/>
                  <a:pathLst>
                    <a:path w="4055" h="58">
                      <a:moveTo>
                        <a:pt x="4052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55" y="0"/>
                      </a:lnTo>
                      <a:lnTo>
                        <a:pt x="4055" y="41"/>
                      </a:lnTo>
                      <a:lnTo>
                        <a:pt x="4052" y="58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4494240" y="480852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2" h="57">
                      <a:moveTo>
                        <a:pt x="405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2" y="0"/>
                      </a:lnTo>
                      <a:lnTo>
                        <a:pt x="4052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495680" y="479916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0" h="57">
                      <a:moveTo>
                        <a:pt x="4050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0" y="0"/>
                      </a:lnTo>
                      <a:lnTo>
                        <a:pt x="4050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495680" y="479124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47" h="57">
                      <a:moveTo>
                        <a:pt x="404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7" y="0"/>
                      </a:lnTo>
                      <a:lnTo>
                        <a:pt x="4047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497480" y="478152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4" h="57">
                      <a:moveTo>
                        <a:pt x="404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7" y="0"/>
                      </a:lnTo>
                      <a:lnTo>
                        <a:pt x="4044" y="13"/>
                      </a:lnTo>
                      <a:lnTo>
                        <a:pt x="4044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4497480" y="4772160"/>
                  <a:ext cx="1284120" cy="19080"/>
                </a:xfrm>
                <a:custGeom>
                  <a:avLst/>
                  <a:gdLst/>
                  <a:ahLst/>
                  <a:rect l="l" t="t" r="r" b="b"/>
                  <a:pathLst>
                    <a:path w="4042" h="57">
                      <a:moveTo>
                        <a:pt x="404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2" y="0"/>
                      </a:lnTo>
                      <a:lnTo>
                        <a:pt x="4023" y="2"/>
                      </a:lnTo>
                      <a:lnTo>
                        <a:pt x="4042" y="41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498920" y="4762440"/>
                  <a:ext cx="1279440" cy="19080"/>
                </a:xfrm>
                <a:custGeom>
                  <a:avLst/>
                  <a:gdLst/>
                  <a:ahLst/>
                  <a:rect l="l" t="t" r="r" b="b"/>
                  <a:pathLst>
                    <a:path w="4032" h="57">
                      <a:moveTo>
                        <a:pt x="4032" y="57"/>
                      </a:moveTo>
                      <a:lnTo>
                        <a:pt x="0" y="57"/>
                      </a:lnTo>
                      <a:lnTo>
                        <a:pt x="5" y="9"/>
                      </a:lnTo>
                      <a:lnTo>
                        <a:pt x="1335" y="9"/>
                      </a:lnTo>
                      <a:lnTo>
                        <a:pt x="1336" y="0"/>
                      </a:lnTo>
                      <a:lnTo>
                        <a:pt x="4005" y="0"/>
                      </a:lnTo>
                      <a:lnTo>
                        <a:pt x="4020" y="31"/>
                      </a:lnTo>
                      <a:lnTo>
                        <a:pt x="4032" y="57"/>
                      </a:lnTo>
                      <a:close/>
                    </a:path>
                  </a:pathLst>
                </a:custGeom>
                <a:solidFill>
                  <a:srgbClr val="4e4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2" name=""/>
              <p:cNvSpPr/>
              <p:nvPr/>
            </p:nvSpPr>
            <p:spPr>
              <a:xfrm>
                <a:off x="4500720" y="4754520"/>
                <a:ext cx="1274760" cy="17640"/>
              </a:xfrm>
              <a:custGeom>
                <a:avLst/>
                <a:gdLst/>
                <a:ahLst/>
                <a:rect l="l" t="t" r="r" b="b"/>
                <a:pathLst>
                  <a:path w="4016" h="58">
                    <a:moveTo>
                      <a:pt x="4016" y="58"/>
                    </a:moveTo>
                    <a:lnTo>
                      <a:pt x="0" y="58"/>
                    </a:lnTo>
                    <a:lnTo>
                      <a:pt x="2" y="38"/>
                    </a:lnTo>
                    <a:lnTo>
                      <a:pt x="1332" y="38"/>
                    </a:lnTo>
                    <a:lnTo>
                      <a:pt x="1337" y="0"/>
                    </a:lnTo>
                    <a:lnTo>
                      <a:pt x="3997" y="0"/>
                    </a:lnTo>
                    <a:lnTo>
                      <a:pt x="3997" y="19"/>
                    </a:lnTo>
                    <a:lnTo>
                      <a:pt x="4016" y="58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923000" y="4745160"/>
                <a:ext cx="847440" cy="17280"/>
              </a:xfrm>
              <a:custGeom>
                <a:avLst/>
                <a:gdLst/>
                <a:ahLst/>
                <a:rect l="l" t="t" r="r" b="b"/>
                <a:pathLst>
                  <a:path w="2669" h="57">
                    <a:moveTo>
                      <a:pt x="2669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4" y="0"/>
                    </a:lnTo>
                    <a:lnTo>
                      <a:pt x="2664" y="8"/>
                    </a:lnTo>
                    <a:lnTo>
                      <a:pt x="2664" y="47"/>
                    </a:lnTo>
                    <a:lnTo>
                      <a:pt x="2669" y="57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24440" y="4735440"/>
                <a:ext cx="844560" cy="19080"/>
              </a:xfrm>
              <a:custGeom>
                <a:avLst/>
                <a:gdLst/>
                <a:ahLst/>
                <a:rect l="l" t="t" r="r" b="b"/>
                <a:pathLst>
                  <a:path w="2660" h="57">
                    <a:moveTo>
                      <a:pt x="2660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0" y="0"/>
                    </a:lnTo>
                    <a:lnTo>
                      <a:pt x="2660" y="37"/>
                    </a:lnTo>
                    <a:lnTo>
                      <a:pt x="2660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25880" y="4727520"/>
                <a:ext cx="843120" cy="17640"/>
              </a:xfrm>
              <a:custGeom>
                <a:avLst/>
                <a:gdLst/>
                <a:ahLst/>
                <a:rect l="l" t="t" r="r" b="b"/>
                <a:pathLst>
                  <a:path w="2656" h="57">
                    <a:moveTo>
                      <a:pt x="2656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56" y="0"/>
                    </a:lnTo>
                    <a:lnTo>
                      <a:pt x="2656" y="3"/>
                    </a:lnTo>
                    <a:lnTo>
                      <a:pt x="2656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21200" y="4718160"/>
                <a:ext cx="847800" cy="17280"/>
              </a:xfrm>
              <a:custGeom>
                <a:avLst/>
                <a:gdLst/>
                <a:ahLst/>
                <a:rect l="l" t="t" r="r" b="b"/>
                <a:pathLst>
                  <a:path w="2668" h="57">
                    <a:moveTo>
                      <a:pt x="2668" y="57"/>
                    </a:moveTo>
                    <a:lnTo>
                      <a:pt x="16" y="57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2668" y="0"/>
                    </a:lnTo>
                    <a:lnTo>
                      <a:pt x="2668" y="32"/>
                    </a:lnTo>
                    <a:lnTo>
                      <a:pt x="2668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05360" y="4708440"/>
                <a:ext cx="863640" cy="19080"/>
              </a:xfrm>
              <a:custGeom>
                <a:avLst/>
                <a:gdLst/>
                <a:ahLst/>
                <a:rect l="l" t="t" r="r" b="b"/>
                <a:pathLst>
                  <a:path w="2721" h="57">
                    <a:moveTo>
                      <a:pt x="2721" y="57"/>
                    </a:moveTo>
                    <a:lnTo>
                      <a:pt x="73" y="57"/>
                    </a:lnTo>
                    <a:lnTo>
                      <a:pt x="75" y="42"/>
                    </a:lnTo>
                    <a:lnTo>
                      <a:pt x="75" y="40"/>
                    </a:lnTo>
                    <a:lnTo>
                      <a:pt x="0" y="0"/>
                    </a:lnTo>
                    <a:lnTo>
                      <a:pt x="2721" y="0"/>
                    </a:lnTo>
                    <a:lnTo>
                      <a:pt x="2721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888080" y="4699080"/>
                <a:ext cx="880920" cy="19080"/>
              </a:xfrm>
              <a:custGeom>
                <a:avLst/>
                <a:gdLst/>
                <a:ahLst/>
                <a:rect l="l" t="t" r="r" b="b"/>
                <a:pathLst>
                  <a:path w="2773" h="57">
                    <a:moveTo>
                      <a:pt x="2773" y="57"/>
                    </a:moveTo>
                    <a:lnTo>
                      <a:pt x="105" y="57"/>
                    </a:lnTo>
                    <a:lnTo>
                      <a:pt x="0" y="0"/>
                    </a:lnTo>
                    <a:lnTo>
                      <a:pt x="2773" y="0"/>
                    </a:lnTo>
                    <a:lnTo>
                      <a:pt x="2773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871880" y="4691160"/>
                <a:ext cx="897120" cy="17280"/>
              </a:xfrm>
              <a:custGeom>
                <a:avLst/>
                <a:gdLst/>
                <a:ahLst/>
                <a:rect l="l" t="t" r="r" b="b"/>
                <a:pathLst>
                  <a:path w="2826" h="58">
                    <a:moveTo>
                      <a:pt x="2826" y="58"/>
                    </a:moveTo>
                    <a:lnTo>
                      <a:pt x="105" y="58"/>
                    </a:lnTo>
                    <a:lnTo>
                      <a:pt x="0" y="0"/>
                    </a:lnTo>
                    <a:lnTo>
                      <a:pt x="2826" y="0"/>
                    </a:lnTo>
                    <a:lnTo>
                      <a:pt x="2826" y="58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854600" y="4681440"/>
                <a:ext cx="914400" cy="17640"/>
              </a:xfrm>
              <a:custGeom>
                <a:avLst/>
                <a:gdLst/>
                <a:ahLst/>
                <a:rect l="l" t="t" r="r" b="b"/>
                <a:pathLst>
                  <a:path w="2879" h="56">
                    <a:moveTo>
                      <a:pt x="2879" y="56"/>
                    </a:moveTo>
                    <a:lnTo>
                      <a:pt x="106" y="56"/>
                    </a:lnTo>
                    <a:lnTo>
                      <a:pt x="0" y="0"/>
                    </a:lnTo>
                    <a:lnTo>
                      <a:pt x="2871" y="0"/>
                    </a:lnTo>
                    <a:lnTo>
                      <a:pt x="2879" y="24"/>
                    </a:lnTo>
                    <a:lnTo>
                      <a:pt x="2879" y="56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835520" y="4672080"/>
                <a:ext cx="933480" cy="19080"/>
              </a:xfrm>
              <a:custGeom>
                <a:avLst/>
                <a:gdLst/>
                <a:ahLst/>
                <a:rect l="l" t="t" r="r" b="b"/>
                <a:pathLst>
                  <a:path w="2940" h="56">
                    <a:moveTo>
                      <a:pt x="2940" y="56"/>
                    </a:moveTo>
                    <a:lnTo>
                      <a:pt x="114" y="56"/>
                    </a:lnTo>
                    <a:lnTo>
                      <a:pt x="32" y="13"/>
                    </a:lnTo>
                    <a:lnTo>
                      <a:pt x="0" y="0"/>
                    </a:lnTo>
                    <a:lnTo>
                      <a:pt x="2924" y="0"/>
                    </a:lnTo>
                    <a:lnTo>
                      <a:pt x="2940" y="53"/>
                    </a:lnTo>
                    <a:lnTo>
                      <a:pt x="2940" y="56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13200" y="4664160"/>
                <a:ext cx="952560" cy="17280"/>
              </a:xfrm>
              <a:custGeom>
                <a:avLst/>
                <a:gdLst/>
                <a:ahLst/>
                <a:rect l="l" t="t" r="r" b="b"/>
                <a:pathLst>
                  <a:path w="3003" h="57">
                    <a:moveTo>
                      <a:pt x="3003" y="57"/>
                    </a:moveTo>
                    <a:lnTo>
                      <a:pt x="132" y="57"/>
                    </a:lnTo>
                    <a:lnTo>
                      <a:pt x="103" y="41"/>
                    </a:lnTo>
                    <a:lnTo>
                      <a:pt x="0" y="0"/>
                    </a:lnTo>
                    <a:lnTo>
                      <a:pt x="2987" y="0"/>
                    </a:lnTo>
                    <a:lnTo>
                      <a:pt x="3003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791240" y="4654440"/>
                <a:ext cx="973080" cy="17640"/>
              </a:xfrm>
              <a:custGeom>
                <a:avLst/>
                <a:gdLst/>
                <a:ahLst/>
                <a:rect l="l" t="t" r="r" b="b"/>
                <a:pathLst>
                  <a:path w="3066" h="57">
                    <a:moveTo>
                      <a:pt x="3066" y="57"/>
                    </a:moveTo>
                    <a:lnTo>
                      <a:pt x="142" y="57"/>
                    </a:lnTo>
                    <a:lnTo>
                      <a:pt x="0" y="0"/>
                    </a:lnTo>
                    <a:lnTo>
                      <a:pt x="3049" y="0"/>
                    </a:lnTo>
                    <a:lnTo>
                      <a:pt x="3066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767120" y="464508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31" h="57">
                    <a:moveTo>
                      <a:pt x="3131" y="57"/>
                    </a:moveTo>
                    <a:lnTo>
                      <a:pt x="144" y="57"/>
                    </a:lnTo>
                    <a:lnTo>
                      <a:pt x="46" y="17"/>
                    </a:lnTo>
                    <a:lnTo>
                      <a:pt x="0" y="0"/>
                    </a:lnTo>
                    <a:lnTo>
                      <a:pt x="3114" y="0"/>
                    </a:lnTo>
                    <a:lnTo>
                      <a:pt x="3131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743360" y="4637160"/>
                <a:ext cx="1014480" cy="17280"/>
              </a:xfrm>
              <a:custGeom>
                <a:avLst/>
                <a:gdLst/>
                <a:ahLst/>
                <a:rect l="l" t="t" r="r" b="b"/>
                <a:pathLst>
                  <a:path w="3199" h="57">
                    <a:moveTo>
                      <a:pt x="3199" y="57"/>
                    </a:moveTo>
                    <a:lnTo>
                      <a:pt x="150" y="57"/>
                    </a:lnTo>
                    <a:lnTo>
                      <a:pt x="123" y="46"/>
                    </a:lnTo>
                    <a:lnTo>
                      <a:pt x="0" y="0"/>
                    </a:lnTo>
                    <a:lnTo>
                      <a:pt x="3173" y="0"/>
                    </a:lnTo>
                    <a:lnTo>
                      <a:pt x="3191" y="26"/>
                    </a:lnTo>
                    <a:lnTo>
                      <a:pt x="3199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724280" y="4627440"/>
                <a:ext cx="1032120" cy="17640"/>
              </a:xfrm>
              <a:custGeom>
                <a:avLst/>
                <a:gdLst/>
                <a:ahLst/>
                <a:rect l="l" t="t" r="r" b="b"/>
                <a:pathLst>
                  <a:path w="3251" h="58">
                    <a:moveTo>
                      <a:pt x="3251" y="58"/>
                    </a:moveTo>
                    <a:lnTo>
                      <a:pt x="137" y="5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3214" y="0"/>
                    </a:lnTo>
                    <a:lnTo>
                      <a:pt x="3251" y="55"/>
                    </a:lnTo>
                    <a:lnTo>
                      <a:pt x="3251" y="58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710240" y="4618080"/>
                <a:ext cx="1039680" cy="19080"/>
              </a:xfrm>
              <a:custGeom>
                <a:avLst/>
                <a:gdLst/>
                <a:ahLst/>
                <a:rect l="l" t="t" r="r" b="b"/>
                <a:pathLst>
                  <a:path w="3276" h="57">
                    <a:moveTo>
                      <a:pt x="3276" y="57"/>
                    </a:moveTo>
                    <a:lnTo>
                      <a:pt x="103" y="57"/>
                    </a:lnTo>
                    <a:lnTo>
                      <a:pt x="64" y="43"/>
                    </a:lnTo>
                    <a:lnTo>
                      <a:pt x="0" y="0"/>
                    </a:lnTo>
                    <a:lnTo>
                      <a:pt x="3237" y="0"/>
                    </a:lnTo>
                    <a:lnTo>
                      <a:pt x="3276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695840" y="4608360"/>
                <a:ext cx="1047600" cy="19080"/>
              </a:xfrm>
              <a:custGeom>
                <a:avLst/>
                <a:gdLst/>
                <a:ahLst/>
                <a:rect l="l" t="t" r="r" b="b"/>
                <a:pathLst>
                  <a:path w="3301" h="57">
                    <a:moveTo>
                      <a:pt x="3301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62" y="0"/>
                    </a:lnTo>
                    <a:lnTo>
                      <a:pt x="3301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683240" y="4600440"/>
                <a:ext cx="1054080" cy="17640"/>
              </a:xfrm>
              <a:custGeom>
                <a:avLst/>
                <a:gdLst/>
                <a:ahLst/>
                <a:rect l="l" t="t" r="r" b="b"/>
                <a:pathLst>
                  <a:path w="3324" h="57">
                    <a:moveTo>
                      <a:pt x="3324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86" y="0"/>
                    </a:lnTo>
                    <a:lnTo>
                      <a:pt x="3300" y="20"/>
                    </a:lnTo>
                    <a:lnTo>
                      <a:pt x="3324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68840" y="4591080"/>
                <a:ext cx="1063800" cy="17280"/>
              </a:xfrm>
              <a:custGeom>
                <a:avLst/>
                <a:gdLst/>
                <a:ahLst/>
                <a:rect l="l" t="t" r="r" b="b"/>
                <a:pathLst>
                  <a:path w="3347" h="57">
                    <a:moveTo>
                      <a:pt x="3347" y="57"/>
                    </a:moveTo>
                    <a:lnTo>
                      <a:pt x="85" y="57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3310" y="0"/>
                    </a:lnTo>
                    <a:lnTo>
                      <a:pt x="3342" y="49"/>
                    </a:lnTo>
                    <a:lnTo>
                      <a:pt x="3347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656240" y="4581360"/>
                <a:ext cx="1069920" cy="19080"/>
              </a:xfrm>
              <a:custGeom>
                <a:avLst/>
                <a:gdLst/>
                <a:ahLst/>
                <a:rect l="l" t="t" r="r" b="b"/>
                <a:pathLst>
                  <a:path w="3368" h="58">
                    <a:moveTo>
                      <a:pt x="3368" y="58"/>
                    </a:moveTo>
                    <a:lnTo>
                      <a:pt x="82" y="58"/>
                    </a:lnTo>
                    <a:lnTo>
                      <a:pt x="52" y="37"/>
                    </a:lnTo>
                    <a:lnTo>
                      <a:pt x="0" y="0"/>
                    </a:lnTo>
                    <a:lnTo>
                      <a:pt x="3331" y="0"/>
                    </a:lnTo>
                    <a:lnTo>
                      <a:pt x="3341" y="16"/>
                    </a:lnTo>
                    <a:lnTo>
                      <a:pt x="3368" y="58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643280" y="4573440"/>
                <a:ext cx="1076400" cy="17640"/>
              </a:xfrm>
              <a:custGeom>
                <a:avLst/>
                <a:gdLst/>
                <a:ahLst/>
                <a:rect l="l" t="t" r="r" b="b"/>
                <a:pathLst>
                  <a:path w="3390" h="57">
                    <a:moveTo>
                      <a:pt x="3390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52" y="0"/>
                    </a:lnTo>
                    <a:lnTo>
                      <a:pt x="3381" y="44"/>
                    </a:lnTo>
                    <a:lnTo>
                      <a:pt x="3390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630680" y="4564080"/>
                <a:ext cx="1082880" cy="17280"/>
              </a:xfrm>
              <a:custGeom>
                <a:avLst/>
                <a:gdLst/>
                <a:ahLst/>
                <a:rect l="l" t="t" r="r" b="b"/>
                <a:pathLst>
                  <a:path w="3411" h="57">
                    <a:moveTo>
                      <a:pt x="3411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73" y="0"/>
                    </a:lnTo>
                    <a:lnTo>
                      <a:pt x="3411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618080" y="4554360"/>
                <a:ext cx="1090440" cy="19080"/>
              </a:xfrm>
              <a:custGeom>
                <a:avLst/>
                <a:gdLst/>
                <a:ahLst/>
                <a:rect l="l" t="t" r="r" b="b"/>
                <a:pathLst>
                  <a:path w="3434" h="57">
                    <a:moveTo>
                      <a:pt x="3434" y="57"/>
                    </a:moveTo>
                    <a:lnTo>
                      <a:pt x="82" y="57"/>
                    </a:lnTo>
                    <a:lnTo>
                      <a:pt x="32" y="21"/>
                    </a:lnTo>
                    <a:lnTo>
                      <a:pt x="0" y="0"/>
                    </a:lnTo>
                    <a:lnTo>
                      <a:pt x="3395" y="0"/>
                    </a:lnTo>
                    <a:lnTo>
                      <a:pt x="3434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603680" y="4545000"/>
                <a:ext cx="1098720" cy="19080"/>
              </a:xfrm>
              <a:custGeom>
                <a:avLst/>
                <a:gdLst/>
                <a:ahLst/>
                <a:rect l="l" t="t" r="r" b="b"/>
                <a:pathLst>
                  <a:path w="3458" h="57">
                    <a:moveTo>
                      <a:pt x="3458" y="57"/>
                    </a:moveTo>
                    <a:lnTo>
                      <a:pt x="85" y="57"/>
                    </a:lnTo>
                    <a:lnTo>
                      <a:pt x="75" y="50"/>
                    </a:lnTo>
                    <a:lnTo>
                      <a:pt x="0" y="0"/>
                    </a:lnTo>
                    <a:lnTo>
                      <a:pt x="3420" y="0"/>
                    </a:lnTo>
                    <a:lnTo>
                      <a:pt x="3458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591080" y="4537080"/>
                <a:ext cx="1104840" cy="17280"/>
              </a:xfrm>
              <a:custGeom>
                <a:avLst/>
                <a:gdLst/>
                <a:ahLst/>
                <a:rect l="l" t="t" r="r" b="b"/>
                <a:pathLst>
                  <a:path w="3481" h="57">
                    <a:moveTo>
                      <a:pt x="3481" y="57"/>
                    </a:moveTo>
                    <a:lnTo>
                      <a:pt x="86" y="57"/>
                    </a:lnTo>
                    <a:lnTo>
                      <a:pt x="0" y="0"/>
                    </a:lnTo>
                    <a:lnTo>
                      <a:pt x="3444" y="0"/>
                    </a:lnTo>
                    <a:lnTo>
                      <a:pt x="3481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589640" y="4527720"/>
                <a:ext cx="1099800" cy="17280"/>
              </a:xfrm>
              <a:custGeom>
                <a:avLst/>
                <a:gdLst/>
                <a:ahLst/>
                <a:rect l="l" t="t" r="r" b="b"/>
                <a:pathLst>
                  <a:path w="3467" h="57">
                    <a:moveTo>
                      <a:pt x="3467" y="57"/>
                    </a:moveTo>
                    <a:lnTo>
                      <a:pt x="47" y="57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429" y="0"/>
                    </a:lnTo>
                    <a:lnTo>
                      <a:pt x="3467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589640" y="4518000"/>
                <a:ext cx="1093680" cy="19080"/>
              </a:xfrm>
              <a:custGeom>
                <a:avLst/>
                <a:gdLst/>
                <a:ahLst/>
                <a:rect l="l" t="t" r="r" b="b"/>
                <a:pathLst>
                  <a:path w="3448" h="57">
                    <a:moveTo>
                      <a:pt x="3448" y="57"/>
                    </a:moveTo>
                    <a:lnTo>
                      <a:pt x="4" y="57"/>
                    </a:lnTo>
                    <a:lnTo>
                      <a:pt x="0" y="55"/>
                    </a:lnTo>
                    <a:lnTo>
                      <a:pt x="15" y="0"/>
                    </a:lnTo>
                    <a:lnTo>
                      <a:pt x="3410" y="0"/>
                    </a:lnTo>
                    <a:lnTo>
                      <a:pt x="3448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408560" y="4510080"/>
                <a:ext cx="1270080" cy="17640"/>
              </a:xfrm>
              <a:custGeom>
                <a:avLst/>
                <a:gdLst/>
                <a:ahLst/>
                <a:rect l="l" t="t" r="r" b="b"/>
                <a:pathLst>
                  <a:path w="3997" h="56">
                    <a:moveTo>
                      <a:pt x="3997" y="56"/>
                    </a:moveTo>
                    <a:lnTo>
                      <a:pt x="574" y="56"/>
                    </a:lnTo>
                    <a:lnTo>
                      <a:pt x="590" y="1"/>
                    </a:lnTo>
                    <a:lnTo>
                      <a:pt x="287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3959" y="0"/>
                    </a:lnTo>
                    <a:lnTo>
                      <a:pt x="3960" y="1"/>
                    </a:lnTo>
                    <a:lnTo>
                      <a:pt x="3997" y="56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389480" y="4500720"/>
                <a:ext cx="1282680" cy="17280"/>
              </a:xfrm>
              <a:custGeom>
                <a:avLst/>
                <a:gdLst/>
                <a:ahLst/>
                <a:rect l="l" t="t" r="r" b="b"/>
                <a:pathLst>
                  <a:path w="4038" h="57">
                    <a:moveTo>
                      <a:pt x="4038" y="57"/>
                    </a:moveTo>
                    <a:lnTo>
                      <a:pt x="643" y="57"/>
                    </a:lnTo>
                    <a:lnTo>
                      <a:pt x="650" y="30"/>
                    </a:lnTo>
                    <a:lnTo>
                      <a:pt x="347" y="30"/>
                    </a:lnTo>
                    <a:lnTo>
                      <a:pt x="65" y="30"/>
                    </a:lnTo>
                    <a:lnTo>
                      <a:pt x="0" y="0"/>
                    </a:lnTo>
                    <a:lnTo>
                      <a:pt x="4002" y="0"/>
                    </a:lnTo>
                    <a:lnTo>
                      <a:pt x="4020" y="30"/>
                    </a:lnTo>
                    <a:lnTo>
                      <a:pt x="4038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370400" y="4491000"/>
                <a:ext cx="1295280" cy="19080"/>
              </a:xfrm>
              <a:custGeom>
                <a:avLst/>
                <a:gdLst/>
                <a:ahLst/>
                <a:rect l="l" t="t" r="r" b="b"/>
                <a:pathLst>
                  <a:path w="4080" h="57">
                    <a:moveTo>
                      <a:pt x="4080" y="57"/>
                    </a:moveTo>
                    <a:lnTo>
                      <a:pt x="121" y="57"/>
                    </a:lnTo>
                    <a:lnTo>
                      <a:pt x="0" y="0"/>
                    </a:lnTo>
                    <a:lnTo>
                      <a:pt x="4046" y="0"/>
                    </a:lnTo>
                    <a:lnTo>
                      <a:pt x="4080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351320" y="4483080"/>
                <a:ext cx="1309680" cy="17640"/>
              </a:xfrm>
              <a:custGeom>
                <a:avLst/>
                <a:gdLst/>
                <a:ahLst/>
                <a:rect l="l" t="t" r="r" b="b"/>
                <a:pathLst>
                  <a:path w="4124" h="57">
                    <a:moveTo>
                      <a:pt x="4124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090" y="0"/>
                    </a:lnTo>
                    <a:lnTo>
                      <a:pt x="4124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332240" y="4473720"/>
                <a:ext cx="1322280" cy="17280"/>
              </a:xfrm>
              <a:custGeom>
                <a:avLst/>
                <a:gdLst/>
                <a:ahLst/>
                <a:rect l="l" t="t" r="r" b="b"/>
                <a:pathLst>
                  <a:path w="4168" h="57">
                    <a:moveTo>
                      <a:pt x="4168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134" y="0"/>
                    </a:lnTo>
                    <a:lnTo>
                      <a:pt x="4168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313160" y="446400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17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207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313160" y="4454640"/>
                <a:ext cx="1330560" cy="19080"/>
              </a:xfrm>
              <a:custGeom>
                <a:avLst/>
                <a:gdLst/>
                <a:ahLst/>
                <a:rect l="l" t="t" r="r" b="b"/>
                <a:pathLst>
                  <a:path w="4190" h="58">
                    <a:moveTo>
                      <a:pt x="4190" y="58"/>
                    </a:moveTo>
                    <a:lnTo>
                      <a:pt x="56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58" y="0"/>
                    </a:lnTo>
                    <a:lnTo>
                      <a:pt x="222" y="12"/>
                    </a:lnTo>
                    <a:lnTo>
                      <a:pt x="199" y="0"/>
                    </a:lnTo>
                    <a:lnTo>
                      <a:pt x="4156" y="0"/>
                    </a:lnTo>
                    <a:lnTo>
                      <a:pt x="4190" y="58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13160" y="4446720"/>
                <a:ext cx="1325520" cy="17280"/>
              </a:xfrm>
              <a:custGeom>
                <a:avLst/>
                <a:gdLst/>
                <a:ahLst/>
                <a:rect l="l" t="t" r="r" b="b"/>
                <a:pathLst>
                  <a:path w="4173" h="57">
                    <a:moveTo>
                      <a:pt x="417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22" y="40"/>
                    </a:lnTo>
                    <a:lnTo>
                      <a:pt x="145" y="0"/>
                    </a:lnTo>
                    <a:lnTo>
                      <a:pt x="4139" y="0"/>
                    </a:lnTo>
                    <a:lnTo>
                      <a:pt x="4173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13160" y="4437000"/>
                <a:ext cx="1320840" cy="17640"/>
              </a:xfrm>
              <a:custGeom>
                <a:avLst/>
                <a:gdLst/>
                <a:ahLst/>
                <a:rect l="l" t="t" r="r" b="b"/>
                <a:pathLst>
                  <a:path w="4156" h="57">
                    <a:moveTo>
                      <a:pt x="4156" y="57"/>
                    </a:moveTo>
                    <a:lnTo>
                      <a:pt x="199" y="57"/>
                    </a:lnTo>
                    <a:lnTo>
                      <a:pt x="90" y="0"/>
                    </a:lnTo>
                    <a:lnTo>
                      <a:pt x="4129" y="0"/>
                    </a:lnTo>
                    <a:lnTo>
                      <a:pt x="4139" y="29"/>
                    </a:lnTo>
                    <a:lnTo>
                      <a:pt x="4156" y="57"/>
                    </a:lnTo>
                    <a:close/>
                    <a:moveTo>
                      <a:pt x="158" y="57"/>
                    </a:moveTo>
                    <a:lnTo>
                      <a:pt x="0" y="57"/>
                    </a:lnTo>
                    <a:lnTo>
                      <a:pt x="0" y="29"/>
                    </a:lnTo>
                    <a:lnTo>
                      <a:pt x="158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313160" y="4427640"/>
                <a:ext cx="1314360" cy="19080"/>
              </a:xfrm>
              <a:custGeom>
                <a:avLst/>
                <a:gdLst/>
                <a:ahLst/>
                <a:rect l="l" t="t" r="r" b="b"/>
                <a:pathLst>
                  <a:path w="4139" h="57">
                    <a:moveTo>
                      <a:pt x="4139" y="57"/>
                    </a:moveTo>
                    <a:lnTo>
                      <a:pt x="145" y="57"/>
                    </a:lnTo>
                    <a:lnTo>
                      <a:pt x="36" y="0"/>
                    </a:lnTo>
                    <a:lnTo>
                      <a:pt x="1562" y="0"/>
                    </a:lnTo>
                    <a:lnTo>
                      <a:pt x="1594" y="16"/>
                    </a:lnTo>
                    <a:lnTo>
                      <a:pt x="1594" y="0"/>
                    </a:lnTo>
                    <a:lnTo>
                      <a:pt x="4119" y="0"/>
                    </a:lnTo>
                    <a:lnTo>
                      <a:pt x="4139" y="57"/>
                    </a:lnTo>
                    <a:lnTo>
                      <a:pt x="4139" y="57"/>
                    </a:lnTo>
                    <a:close/>
                    <a:moveTo>
                      <a:pt x="2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308480" y="4419720"/>
                <a:ext cx="1316160" cy="17280"/>
              </a:xfrm>
              <a:custGeom>
                <a:avLst/>
                <a:gdLst/>
                <a:ahLst/>
                <a:rect l="l" t="t" r="r" b="b"/>
                <a:pathLst>
                  <a:path w="4147" h="57">
                    <a:moveTo>
                      <a:pt x="4147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432" y="6"/>
                    </a:lnTo>
                    <a:lnTo>
                      <a:pt x="1533" y="6"/>
                    </a:lnTo>
                    <a:lnTo>
                      <a:pt x="1612" y="45"/>
                    </a:lnTo>
                    <a:lnTo>
                      <a:pt x="1612" y="0"/>
                    </a:lnTo>
                    <a:lnTo>
                      <a:pt x="4126" y="0"/>
                    </a:lnTo>
                    <a:lnTo>
                      <a:pt x="4147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290840" y="4410000"/>
                <a:ext cx="1330560" cy="17640"/>
              </a:xfrm>
              <a:custGeom>
                <a:avLst/>
                <a:gdLst/>
                <a:ahLst/>
                <a:rect l="l" t="t" r="r" b="b"/>
                <a:pathLst>
                  <a:path w="4191" h="57">
                    <a:moveTo>
                      <a:pt x="4191" y="57"/>
                    </a:moveTo>
                    <a:lnTo>
                      <a:pt x="1666" y="57"/>
                    </a:lnTo>
                    <a:lnTo>
                      <a:pt x="1666" y="0"/>
                    </a:lnTo>
                    <a:lnTo>
                      <a:pt x="4170" y="0"/>
                    </a:lnTo>
                    <a:lnTo>
                      <a:pt x="4191" y="57"/>
                    </a:lnTo>
                    <a:close/>
                    <a:moveTo>
                      <a:pt x="1634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33" y="0"/>
                    </a:lnTo>
                    <a:lnTo>
                      <a:pt x="1486" y="34"/>
                    </a:lnTo>
                    <a:lnTo>
                      <a:pt x="1587" y="34"/>
                    </a:lnTo>
                    <a:lnTo>
                      <a:pt x="1634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273560" y="4400640"/>
                <a:ext cx="1344600" cy="19080"/>
              </a:xfrm>
              <a:custGeom>
                <a:avLst/>
                <a:gdLst/>
                <a:ahLst/>
                <a:rect l="l" t="t" r="r" b="b"/>
                <a:pathLst>
                  <a:path w="4235" h="57">
                    <a:moveTo>
                      <a:pt x="4235" y="57"/>
                    </a:moveTo>
                    <a:lnTo>
                      <a:pt x="1721" y="57"/>
                    </a:lnTo>
                    <a:lnTo>
                      <a:pt x="1721" y="22"/>
                    </a:lnTo>
                    <a:lnTo>
                      <a:pt x="1715" y="0"/>
                    </a:lnTo>
                    <a:lnTo>
                      <a:pt x="4215" y="0"/>
                    </a:lnTo>
                    <a:lnTo>
                      <a:pt x="4235" y="57"/>
                    </a:lnTo>
                    <a:close/>
                    <a:moveTo>
                      <a:pt x="1531" y="57"/>
                    </a:moveTo>
                    <a:lnTo>
                      <a:pt x="109" y="57"/>
                    </a:lnTo>
                    <a:lnTo>
                      <a:pt x="0" y="0"/>
                    </a:lnTo>
                    <a:lnTo>
                      <a:pt x="1457" y="0"/>
                    </a:lnTo>
                    <a:lnTo>
                      <a:pt x="1478" y="22"/>
                    </a:lnTo>
                    <a:lnTo>
                      <a:pt x="1531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262400" y="4390920"/>
                <a:ext cx="1352520" cy="19080"/>
              </a:xfrm>
              <a:custGeom>
                <a:avLst/>
                <a:gdLst/>
                <a:ahLst/>
                <a:rect l="l" t="t" r="r" b="b"/>
                <a:pathLst>
                  <a:path w="4260" h="58">
                    <a:moveTo>
                      <a:pt x="4260" y="58"/>
                    </a:moveTo>
                    <a:lnTo>
                      <a:pt x="1756" y="58"/>
                    </a:lnTo>
                    <a:lnTo>
                      <a:pt x="1756" y="51"/>
                    </a:lnTo>
                    <a:lnTo>
                      <a:pt x="1744" y="0"/>
                    </a:lnTo>
                    <a:lnTo>
                      <a:pt x="4239" y="0"/>
                    </a:lnTo>
                    <a:lnTo>
                      <a:pt x="4260" y="58"/>
                    </a:lnTo>
                    <a:close/>
                    <a:moveTo>
                      <a:pt x="1523" y="58"/>
                    </a:moveTo>
                    <a:lnTo>
                      <a:pt x="90" y="5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64" y="0"/>
                    </a:lnTo>
                    <a:lnTo>
                      <a:pt x="1513" y="51"/>
                    </a:lnTo>
                    <a:lnTo>
                      <a:pt x="1523" y="58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262400" y="4383000"/>
                <a:ext cx="1349280" cy="17640"/>
              </a:xfrm>
              <a:custGeom>
                <a:avLst/>
                <a:gdLst/>
                <a:ahLst/>
                <a:rect l="l" t="t" r="r" b="b"/>
                <a:pathLst>
                  <a:path w="4250" h="57">
                    <a:moveTo>
                      <a:pt x="4250" y="57"/>
                    </a:moveTo>
                    <a:lnTo>
                      <a:pt x="1750" y="57"/>
                    </a:lnTo>
                    <a:lnTo>
                      <a:pt x="1737" y="0"/>
                    </a:lnTo>
                    <a:lnTo>
                      <a:pt x="4228" y="0"/>
                    </a:lnTo>
                    <a:lnTo>
                      <a:pt x="4250" y="57"/>
                    </a:lnTo>
                    <a:close/>
                    <a:moveTo>
                      <a:pt x="1492" y="57"/>
                    </a:moveTo>
                    <a:lnTo>
                      <a:pt x="35" y="57"/>
                    </a:lnTo>
                    <a:lnTo>
                      <a:pt x="0" y="39"/>
                    </a:lnTo>
                    <a:lnTo>
                      <a:pt x="21" y="0"/>
                    </a:lnTo>
                    <a:lnTo>
                      <a:pt x="1400" y="0"/>
                    </a:lnTo>
                    <a:lnTo>
                      <a:pt x="1454" y="17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264200" y="4373640"/>
                <a:ext cx="1344600" cy="17280"/>
              </a:xfrm>
              <a:custGeom>
                <a:avLst/>
                <a:gdLst/>
                <a:ahLst/>
                <a:rect l="l" t="t" r="r" b="b"/>
                <a:pathLst>
                  <a:path w="4234" h="57">
                    <a:moveTo>
                      <a:pt x="4234" y="57"/>
                    </a:moveTo>
                    <a:lnTo>
                      <a:pt x="1739" y="57"/>
                    </a:lnTo>
                    <a:lnTo>
                      <a:pt x="1732" y="27"/>
                    </a:lnTo>
                    <a:lnTo>
                      <a:pt x="1713" y="0"/>
                    </a:lnTo>
                    <a:lnTo>
                      <a:pt x="4213" y="0"/>
                    </a:lnTo>
                    <a:lnTo>
                      <a:pt x="4234" y="57"/>
                    </a:lnTo>
                    <a:close/>
                    <a:moveTo>
                      <a:pt x="1459" y="57"/>
                    </a:moveTo>
                    <a:lnTo>
                      <a:pt x="0" y="57"/>
                    </a:lnTo>
                    <a:lnTo>
                      <a:pt x="32" y="0"/>
                    </a:lnTo>
                    <a:lnTo>
                      <a:pt x="1129" y="0"/>
                    </a:lnTo>
                    <a:lnTo>
                      <a:pt x="1187" y="27"/>
                    </a:lnTo>
                    <a:lnTo>
                      <a:pt x="1205" y="0"/>
                    </a:lnTo>
                    <a:lnTo>
                      <a:pt x="1336" y="0"/>
                    </a:lnTo>
                    <a:lnTo>
                      <a:pt x="1389" y="27"/>
                    </a:lnTo>
                    <a:lnTo>
                      <a:pt x="1449" y="46"/>
                    </a:lnTo>
                    <a:lnTo>
                      <a:pt x="1459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268880" y="436392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716" y="57"/>
                    </a:lnTo>
                    <a:lnTo>
                      <a:pt x="1716" y="55"/>
                    </a:lnTo>
                    <a:lnTo>
                      <a:pt x="1678" y="0"/>
                    </a:lnTo>
                    <a:lnTo>
                      <a:pt x="4187" y="0"/>
                    </a:lnTo>
                    <a:lnTo>
                      <a:pt x="4207" y="57"/>
                    </a:lnTo>
                    <a:close/>
                    <a:moveTo>
                      <a:pt x="1379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1050" y="0"/>
                    </a:lnTo>
                    <a:lnTo>
                      <a:pt x="1171" y="55"/>
                    </a:lnTo>
                    <a:lnTo>
                      <a:pt x="1208" y="0"/>
                    </a:lnTo>
                    <a:lnTo>
                      <a:pt x="1233" y="0"/>
                    </a:lnTo>
                    <a:lnTo>
                      <a:pt x="1291" y="14"/>
                    </a:lnTo>
                    <a:lnTo>
                      <a:pt x="1373" y="55"/>
                    </a:lnTo>
                    <a:lnTo>
                      <a:pt x="1379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273560" y="4356000"/>
                <a:ext cx="1328760" cy="17640"/>
              </a:xfrm>
              <a:custGeom>
                <a:avLst/>
                <a:gdLst/>
                <a:ahLst/>
                <a:rect l="l" t="t" r="r" b="b"/>
                <a:pathLst>
                  <a:path w="4181" h="57">
                    <a:moveTo>
                      <a:pt x="4181" y="57"/>
                    </a:moveTo>
                    <a:lnTo>
                      <a:pt x="1681" y="57"/>
                    </a:lnTo>
                    <a:lnTo>
                      <a:pt x="1659" y="24"/>
                    </a:lnTo>
                    <a:lnTo>
                      <a:pt x="1643" y="0"/>
                    </a:lnTo>
                    <a:lnTo>
                      <a:pt x="4161" y="0"/>
                    </a:lnTo>
                    <a:lnTo>
                      <a:pt x="4181" y="57"/>
                    </a:lnTo>
                    <a:close/>
                    <a:moveTo>
                      <a:pt x="1304" y="57"/>
                    </a:moveTo>
                    <a:lnTo>
                      <a:pt x="1173" y="57"/>
                    </a:lnTo>
                    <a:lnTo>
                      <a:pt x="1195" y="24"/>
                    </a:lnTo>
                    <a:lnTo>
                      <a:pt x="1275" y="43"/>
                    </a:lnTo>
                    <a:lnTo>
                      <a:pt x="1304" y="57"/>
                    </a:lnTo>
                    <a:close/>
                    <a:moveTo>
                      <a:pt x="1097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658" y="0"/>
                    </a:lnTo>
                    <a:lnTo>
                      <a:pt x="671" y="2"/>
                    </a:lnTo>
                    <a:lnTo>
                      <a:pt x="666" y="0"/>
                    </a:lnTo>
                    <a:lnTo>
                      <a:pt x="972" y="0"/>
                    </a:lnTo>
                    <a:lnTo>
                      <a:pt x="1097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278240" y="4346640"/>
                <a:ext cx="1320840" cy="17280"/>
              </a:xfrm>
              <a:custGeom>
                <a:avLst/>
                <a:gdLst/>
                <a:ahLst/>
                <a:rect l="l" t="t" r="r" b="b"/>
                <a:pathLst>
                  <a:path w="4156" h="56">
                    <a:moveTo>
                      <a:pt x="4156" y="56"/>
                    </a:moveTo>
                    <a:lnTo>
                      <a:pt x="1647" y="56"/>
                    </a:lnTo>
                    <a:lnTo>
                      <a:pt x="1644" y="51"/>
                    </a:lnTo>
                    <a:lnTo>
                      <a:pt x="1608" y="0"/>
                    </a:lnTo>
                    <a:lnTo>
                      <a:pt x="4136" y="0"/>
                    </a:lnTo>
                    <a:lnTo>
                      <a:pt x="4156" y="56"/>
                    </a:lnTo>
                    <a:close/>
                    <a:moveTo>
                      <a:pt x="1202" y="56"/>
                    </a:moveTo>
                    <a:lnTo>
                      <a:pt x="1177" y="56"/>
                    </a:lnTo>
                    <a:lnTo>
                      <a:pt x="1180" y="51"/>
                    </a:lnTo>
                    <a:lnTo>
                      <a:pt x="1202" y="56"/>
                    </a:lnTo>
                    <a:close/>
                    <a:moveTo>
                      <a:pt x="1019" y="56"/>
                    </a:moveTo>
                    <a:lnTo>
                      <a:pt x="0" y="56"/>
                    </a:lnTo>
                    <a:lnTo>
                      <a:pt x="32" y="0"/>
                    </a:lnTo>
                    <a:lnTo>
                      <a:pt x="478" y="0"/>
                    </a:lnTo>
                    <a:lnTo>
                      <a:pt x="656" y="29"/>
                    </a:lnTo>
                    <a:lnTo>
                      <a:pt x="594" y="0"/>
                    </a:lnTo>
                    <a:lnTo>
                      <a:pt x="895" y="0"/>
                    </a:lnTo>
                    <a:lnTo>
                      <a:pt x="1019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284720" y="4336920"/>
                <a:ext cx="1311120" cy="19080"/>
              </a:xfrm>
              <a:custGeom>
                <a:avLst/>
                <a:gdLst/>
                <a:ahLst/>
                <a:rect l="l" t="t" r="r" b="b"/>
                <a:pathLst>
                  <a:path w="4130" h="56">
                    <a:moveTo>
                      <a:pt x="4130" y="56"/>
                    </a:moveTo>
                    <a:lnTo>
                      <a:pt x="1612" y="56"/>
                    </a:lnTo>
                    <a:lnTo>
                      <a:pt x="1587" y="20"/>
                    </a:lnTo>
                    <a:lnTo>
                      <a:pt x="1568" y="0"/>
                    </a:lnTo>
                    <a:lnTo>
                      <a:pt x="4109" y="0"/>
                    </a:lnTo>
                    <a:lnTo>
                      <a:pt x="4130" y="56"/>
                    </a:lnTo>
                    <a:close/>
                    <a:moveTo>
                      <a:pt x="941" y="56"/>
                    </a:moveTo>
                    <a:lnTo>
                      <a:pt x="635" y="56"/>
                    </a:lnTo>
                    <a:lnTo>
                      <a:pt x="521" y="0"/>
                    </a:lnTo>
                    <a:lnTo>
                      <a:pt x="831" y="0"/>
                    </a:lnTo>
                    <a:lnTo>
                      <a:pt x="860" y="20"/>
                    </a:lnTo>
                    <a:lnTo>
                      <a:pt x="941" y="56"/>
                    </a:lnTo>
                    <a:close/>
                    <a:moveTo>
                      <a:pt x="627" y="56"/>
                    </a:moveTo>
                    <a:lnTo>
                      <a:pt x="0" y="56"/>
                    </a:lnTo>
                    <a:lnTo>
                      <a:pt x="31" y="0"/>
                    </a:lnTo>
                    <a:lnTo>
                      <a:pt x="296" y="0"/>
                    </a:lnTo>
                    <a:lnTo>
                      <a:pt x="627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89400" y="4329000"/>
                <a:ext cx="1303200" cy="17640"/>
              </a:xfrm>
              <a:custGeom>
                <a:avLst/>
                <a:gdLst/>
                <a:ahLst/>
                <a:rect l="l" t="t" r="r" b="b"/>
                <a:pathLst>
                  <a:path w="4104" h="58">
                    <a:moveTo>
                      <a:pt x="4104" y="58"/>
                    </a:moveTo>
                    <a:lnTo>
                      <a:pt x="1576" y="58"/>
                    </a:lnTo>
                    <a:lnTo>
                      <a:pt x="1571" y="49"/>
                    </a:lnTo>
                    <a:lnTo>
                      <a:pt x="1524" y="0"/>
                    </a:lnTo>
                    <a:lnTo>
                      <a:pt x="4083" y="0"/>
                    </a:lnTo>
                    <a:lnTo>
                      <a:pt x="4104" y="58"/>
                    </a:lnTo>
                    <a:close/>
                    <a:moveTo>
                      <a:pt x="863" y="58"/>
                    </a:moveTo>
                    <a:lnTo>
                      <a:pt x="562" y="58"/>
                    </a:lnTo>
                    <a:lnTo>
                      <a:pt x="448" y="0"/>
                    </a:lnTo>
                    <a:lnTo>
                      <a:pt x="773" y="0"/>
                    </a:lnTo>
                    <a:lnTo>
                      <a:pt x="844" y="49"/>
                    </a:lnTo>
                    <a:lnTo>
                      <a:pt x="863" y="58"/>
                    </a:lnTo>
                    <a:close/>
                    <a:moveTo>
                      <a:pt x="446" y="58"/>
                    </a:moveTo>
                    <a:lnTo>
                      <a:pt x="0" y="58"/>
                    </a:lnTo>
                    <a:lnTo>
                      <a:pt x="31" y="0"/>
                    </a:lnTo>
                    <a:lnTo>
                      <a:pt x="114" y="0"/>
                    </a:lnTo>
                    <a:lnTo>
                      <a:pt x="446" y="58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294080" y="4319640"/>
                <a:ext cx="1293840" cy="17280"/>
              </a:xfrm>
              <a:custGeom>
                <a:avLst/>
                <a:gdLst/>
                <a:ahLst/>
                <a:rect l="l" t="t" r="r" b="b"/>
                <a:pathLst>
                  <a:path w="4078" h="57">
                    <a:moveTo>
                      <a:pt x="4078" y="57"/>
                    </a:moveTo>
                    <a:lnTo>
                      <a:pt x="1537" y="57"/>
                    </a:lnTo>
                    <a:lnTo>
                      <a:pt x="1496" y="15"/>
                    </a:lnTo>
                    <a:lnTo>
                      <a:pt x="1473" y="0"/>
                    </a:lnTo>
                    <a:lnTo>
                      <a:pt x="4058" y="0"/>
                    </a:lnTo>
                    <a:lnTo>
                      <a:pt x="4078" y="57"/>
                    </a:lnTo>
                    <a:close/>
                    <a:moveTo>
                      <a:pt x="800" y="57"/>
                    </a:moveTo>
                    <a:lnTo>
                      <a:pt x="490" y="57"/>
                    </a:lnTo>
                    <a:lnTo>
                      <a:pt x="406" y="15"/>
                    </a:lnTo>
                    <a:lnTo>
                      <a:pt x="422" y="0"/>
                    </a:lnTo>
                    <a:lnTo>
                      <a:pt x="715" y="0"/>
                    </a:lnTo>
                    <a:lnTo>
                      <a:pt x="800" y="57"/>
                    </a:lnTo>
                    <a:close/>
                    <a:moveTo>
                      <a:pt x="265" y="57"/>
                    </a:moveTo>
                    <a:lnTo>
                      <a:pt x="0" y="57"/>
                    </a:lnTo>
                    <a:lnTo>
                      <a:pt x="23" y="15"/>
                    </a:lnTo>
                    <a:lnTo>
                      <a:pt x="265" y="57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299120" y="4309920"/>
                <a:ext cx="1285560" cy="19080"/>
              </a:xfrm>
              <a:custGeom>
                <a:avLst/>
                <a:gdLst/>
                <a:ahLst/>
                <a:rect l="l" t="t" r="r" b="b"/>
                <a:pathLst>
                  <a:path w="4052" h="57">
                    <a:moveTo>
                      <a:pt x="4052" y="57"/>
                    </a:moveTo>
                    <a:lnTo>
                      <a:pt x="1493" y="57"/>
                    </a:lnTo>
                    <a:lnTo>
                      <a:pt x="1480" y="44"/>
                    </a:lnTo>
                    <a:lnTo>
                      <a:pt x="1420" y="3"/>
                    </a:lnTo>
                    <a:lnTo>
                      <a:pt x="1417" y="0"/>
                    </a:lnTo>
                    <a:lnTo>
                      <a:pt x="4031" y="0"/>
                    </a:lnTo>
                    <a:lnTo>
                      <a:pt x="4052" y="57"/>
                    </a:lnTo>
                    <a:close/>
                    <a:moveTo>
                      <a:pt x="742" y="57"/>
                    </a:moveTo>
                    <a:lnTo>
                      <a:pt x="417" y="57"/>
                    </a:lnTo>
                    <a:lnTo>
                      <a:pt x="390" y="44"/>
                    </a:lnTo>
                    <a:lnTo>
                      <a:pt x="434" y="0"/>
                    </a:lnTo>
                    <a:lnTo>
                      <a:pt x="547" y="0"/>
                    </a:lnTo>
                    <a:lnTo>
                      <a:pt x="693" y="25"/>
                    </a:lnTo>
                    <a:lnTo>
                      <a:pt x="742" y="57"/>
                    </a:lnTo>
                    <a:close/>
                    <a:moveTo>
                      <a:pt x="83" y="57"/>
                    </a:moveTo>
                    <a:lnTo>
                      <a:pt x="0" y="57"/>
                    </a:lnTo>
                    <a:lnTo>
                      <a:pt x="7" y="44"/>
                    </a:lnTo>
                    <a:lnTo>
                      <a:pt x="83" y="57"/>
                    </a:lnTo>
                    <a:close/>
                    <a:moveTo>
                      <a:pt x="1303" y="0"/>
                    </a:moveTo>
                    <a:lnTo>
                      <a:pt x="1323" y="0"/>
                    </a:lnTo>
                    <a:lnTo>
                      <a:pt x="1320" y="3"/>
                    </a:lnTo>
                    <a:lnTo>
                      <a:pt x="1303" y="0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427640" y="4302000"/>
                <a:ext cx="1154160" cy="17640"/>
              </a:xfrm>
              <a:custGeom>
                <a:avLst/>
                <a:gdLst/>
                <a:ahLst/>
                <a:rect l="l" t="t" r="r" b="b"/>
                <a:pathLst>
                  <a:path w="3636" h="57">
                    <a:moveTo>
                      <a:pt x="3636" y="57"/>
                    </a:moveTo>
                    <a:lnTo>
                      <a:pt x="1051" y="57"/>
                    </a:lnTo>
                    <a:lnTo>
                      <a:pt x="1014" y="31"/>
                    </a:lnTo>
                    <a:lnTo>
                      <a:pt x="992" y="12"/>
                    </a:lnTo>
                    <a:lnTo>
                      <a:pt x="933" y="12"/>
                    </a:lnTo>
                    <a:lnTo>
                      <a:pt x="914" y="31"/>
                    </a:lnTo>
                    <a:lnTo>
                      <a:pt x="760" y="0"/>
                    </a:lnTo>
                    <a:lnTo>
                      <a:pt x="3615" y="0"/>
                    </a:lnTo>
                    <a:lnTo>
                      <a:pt x="3636" y="57"/>
                    </a:lnTo>
                    <a:close/>
                    <a:moveTo>
                      <a:pt x="293" y="57"/>
                    </a:moveTo>
                    <a:lnTo>
                      <a:pt x="0" y="57"/>
                    </a:lnTo>
                    <a:lnTo>
                      <a:pt x="45" y="12"/>
                    </a:lnTo>
                    <a:lnTo>
                      <a:pt x="287" y="53"/>
                    </a:lnTo>
                    <a:lnTo>
                      <a:pt x="29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437000" y="4292640"/>
                <a:ext cx="1141560" cy="17280"/>
              </a:xfrm>
              <a:custGeom>
                <a:avLst/>
                <a:gdLst/>
                <a:ahLst/>
                <a:rect l="l" t="t" r="r" b="b"/>
                <a:pathLst>
                  <a:path w="3597" h="57">
                    <a:moveTo>
                      <a:pt x="3597" y="57"/>
                    </a:moveTo>
                    <a:lnTo>
                      <a:pt x="983" y="57"/>
                    </a:lnTo>
                    <a:lnTo>
                      <a:pt x="964" y="41"/>
                    </a:lnTo>
                    <a:lnTo>
                      <a:pt x="905" y="41"/>
                    </a:lnTo>
                    <a:lnTo>
                      <a:pt x="889" y="57"/>
                    </a:lnTo>
                    <a:lnTo>
                      <a:pt x="869" y="57"/>
                    </a:lnTo>
                    <a:lnTo>
                      <a:pt x="596" y="0"/>
                    </a:lnTo>
                    <a:lnTo>
                      <a:pt x="3576" y="0"/>
                    </a:lnTo>
                    <a:lnTo>
                      <a:pt x="3597" y="57"/>
                    </a:lnTo>
                    <a:close/>
                    <a:moveTo>
                      <a:pt x="113" y="57"/>
                    </a:moveTo>
                    <a:lnTo>
                      <a:pt x="0" y="57"/>
                    </a:lnTo>
                    <a:lnTo>
                      <a:pt x="17" y="41"/>
                    </a:lnTo>
                    <a:lnTo>
                      <a:pt x="11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581360" y="428292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29" h="58">
                    <a:moveTo>
                      <a:pt x="3129" y="58"/>
                    </a:moveTo>
                    <a:lnTo>
                      <a:pt x="274" y="58"/>
                    </a:lnTo>
                    <a:lnTo>
                      <a:pt x="0" y="0"/>
                    </a:lnTo>
                    <a:lnTo>
                      <a:pt x="3108" y="0"/>
                    </a:lnTo>
                    <a:lnTo>
                      <a:pt x="3111" y="10"/>
                    </a:lnTo>
                    <a:lnTo>
                      <a:pt x="3129" y="58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564080" y="4273560"/>
                <a:ext cx="1008000" cy="19080"/>
              </a:xfrm>
              <a:custGeom>
                <a:avLst/>
                <a:gdLst/>
                <a:ahLst/>
                <a:rect l="l" t="t" r="r" b="b"/>
                <a:pathLst>
                  <a:path w="3175" h="57">
                    <a:moveTo>
                      <a:pt x="3175" y="57"/>
                    </a:moveTo>
                    <a:lnTo>
                      <a:pt x="195" y="57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3154" y="0"/>
                    </a:lnTo>
                    <a:lnTo>
                      <a:pt x="3168" y="38"/>
                    </a:lnTo>
                    <a:lnTo>
                      <a:pt x="317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564080" y="4265640"/>
                <a:ext cx="1004760" cy="17280"/>
              </a:xfrm>
              <a:custGeom>
                <a:avLst/>
                <a:gdLst/>
                <a:ahLst/>
                <a:rect l="l" t="t" r="r" b="b"/>
                <a:pathLst>
                  <a:path w="3165" h="57">
                    <a:moveTo>
                      <a:pt x="3165" y="57"/>
                    </a:moveTo>
                    <a:lnTo>
                      <a:pt x="57" y="57"/>
                    </a:lnTo>
                    <a:lnTo>
                      <a:pt x="0" y="45"/>
                    </a:lnTo>
                    <a:lnTo>
                      <a:pt x="4" y="0"/>
                    </a:lnTo>
                    <a:lnTo>
                      <a:pt x="3144" y="0"/>
                    </a:lnTo>
                    <a:lnTo>
                      <a:pt x="316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564080" y="4255920"/>
                <a:ext cx="1001520" cy="17640"/>
              </a:xfrm>
              <a:custGeom>
                <a:avLst/>
                <a:gdLst/>
                <a:ahLst/>
                <a:rect l="l" t="t" r="r" b="b"/>
                <a:pathLst>
                  <a:path w="3152" h="57">
                    <a:moveTo>
                      <a:pt x="3152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30" y="0"/>
                    </a:lnTo>
                    <a:lnTo>
                      <a:pt x="3152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565520" y="4246560"/>
                <a:ext cx="997200" cy="19080"/>
              </a:xfrm>
              <a:custGeom>
                <a:avLst/>
                <a:gdLst/>
                <a:ahLst/>
                <a:rect l="l" t="t" r="r" b="b"/>
                <a:pathLst>
                  <a:path w="3140" h="57">
                    <a:moveTo>
                      <a:pt x="3140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3117" y="0"/>
                    </a:lnTo>
                    <a:lnTo>
                      <a:pt x="3140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565520" y="4238640"/>
                <a:ext cx="992160" cy="17280"/>
              </a:xfrm>
              <a:custGeom>
                <a:avLst/>
                <a:gdLst/>
                <a:ahLst/>
                <a:rect l="l" t="t" r="r" b="b"/>
                <a:pathLst>
                  <a:path w="3125" h="57">
                    <a:moveTo>
                      <a:pt x="3125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04" y="0"/>
                    </a:lnTo>
                    <a:lnTo>
                      <a:pt x="3125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567320" y="4229280"/>
                <a:ext cx="987480" cy="17280"/>
              </a:xfrm>
              <a:custGeom>
                <a:avLst/>
                <a:gdLst/>
                <a:ahLst/>
                <a:rect l="l" t="t" r="r" b="b"/>
                <a:pathLst>
                  <a:path w="3111" h="57">
                    <a:moveTo>
                      <a:pt x="3111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090" y="0"/>
                    </a:lnTo>
                    <a:lnTo>
                      <a:pt x="3111" y="57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567320" y="4219560"/>
                <a:ext cx="984240" cy="19080"/>
              </a:xfrm>
              <a:custGeom>
                <a:avLst/>
                <a:gdLst/>
                <a:ahLst/>
                <a:rect l="l" t="t" r="r" b="b"/>
                <a:pathLst>
                  <a:path w="3099" h="58">
                    <a:moveTo>
                      <a:pt x="3099" y="58"/>
                    </a:moveTo>
                    <a:lnTo>
                      <a:pt x="0" y="58"/>
                    </a:lnTo>
                    <a:lnTo>
                      <a:pt x="6" y="0"/>
                    </a:lnTo>
                    <a:lnTo>
                      <a:pt x="3077" y="0"/>
                    </a:lnTo>
                    <a:lnTo>
                      <a:pt x="3099" y="58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568760" y="4210200"/>
                <a:ext cx="979560" cy="19080"/>
              </a:xfrm>
              <a:custGeom>
                <a:avLst/>
                <a:gdLst/>
                <a:ahLst/>
                <a:rect l="l" t="t" r="r" b="b"/>
                <a:pathLst>
                  <a:path w="3085" h="57">
                    <a:moveTo>
                      <a:pt x="3085" y="57"/>
                    </a:moveTo>
                    <a:lnTo>
                      <a:pt x="0" y="57"/>
                    </a:lnTo>
                    <a:lnTo>
                      <a:pt x="4" y="15"/>
                    </a:lnTo>
                    <a:lnTo>
                      <a:pt x="4" y="0"/>
                    </a:lnTo>
                    <a:lnTo>
                      <a:pt x="3063" y="0"/>
                    </a:lnTo>
                    <a:lnTo>
                      <a:pt x="3085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570560" y="4202280"/>
                <a:ext cx="974520" cy="17280"/>
              </a:xfrm>
              <a:custGeom>
                <a:avLst/>
                <a:gdLst/>
                <a:ahLst/>
                <a:rect l="l" t="t" r="r" b="b"/>
                <a:pathLst>
                  <a:path w="3071" h="57">
                    <a:moveTo>
                      <a:pt x="3071" y="57"/>
                    </a:moveTo>
                    <a:lnTo>
                      <a:pt x="0" y="57"/>
                    </a:lnTo>
                    <a:lnTo>
                      <a:pt x="1" y="44"/>
                    </a:lnTo>
                    <a:lnTo>
                      <a:pt x="1" y="0"/>
                    </a:lnTo>
                    <a:lnTo>
                      <a:pt x="3049" y="0"/>
                    </a:lnTo>
                    <a:lnTo>
                      <a:pt x="3050" y="3"/>
                    </a:lnTo>
                    <a:lnTo>
                      <a:pt x="3071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570560" y="4192560"/>
                <a:ext cx="971280" cy="17640"/>
              </a:xfrm>
              <a:custGeom>
                <a:avLst/>
                <a:gdLst/>
                <a:ahLst/>
                <a:rect l="l" t="t" r="r" b="b"/>
                <a:pathLst>
                  <a:path w="3059" h="57">
                    <a:moveTo>
                      <a:pt x="305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3049" y="31"/>
                    </a:lnTo>
                    <a:lnTo>
                      <a:pt x="3059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570560" y="4183200"/>
                <a:ext cx="966600" cy="19080"/>
              </a:xfrm>
              <a:custGeom>
                <a:avLst/>
                <a:gdLst/>
                <a:ahLst/>
                <a:rect l="l" t="t" r="r" b="b"/>
                <a:pathLst>
                  <a:path w="3048" h="56">
                    <a:moveTo>
                      <a:pt x="3048" y="56"/>
                    </a:moveTo>
                    <a:lnTo>
                      <a:pt x="0" y="56"/>
                    </a:lnTo>
                    <a:lnTo>
                      <a:pt x="0" y="0"/>
                    </a:lnTo>
                    <a:lnTo>
                      <a:pt x="3029" y="0"/>
                    </a:lnTo>
                    <a:lnTo>
                      <a:pt x="3048" y="56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057560" y="4175280"/>
                <a:ext cx="1478160" cy="17280"/>
              </a:xfrm>
              <a:custGeom>
                <a:avLst/>
                <a:gdLst/>
                <a:ahLst/>
                <a:rect l="l" t="t" r="r" b="b"/>
                <a:pathLst>
                  <a:path w="4652" h="56">
                    <a:moveTo>
                      <a:pt x="4652" y="56"/>
                    </a:moveTo>
                    <a:lnTo>
                      <a:pt x="1613" y="56"/>
                    </a:lnTo>
                    <a:lnTo>
                      <a:pt x="1613" y="0"/>
                    </a:lnTo>
                    <a:lnTo>
                      <a:pt x="4632" y="0"/>
                    </a:lnTo>
                    <a:lnTo>
                      <a:pt x="4652" y="56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037040" y="4165560"/>
                <a:ext cx="1495440" cy="17640"/>
              </a:xfrm>
              <a:custGeom>
                <a:avLst/>
                <a:gdLst/>
                <a:ahLst/>
                <a:rect l="l" t="t" r="r" b="b"/>
                <a:pathLst>
                  <a:path w="4710" h="57">
                    <a:moveTo>
                      <a:pt x="4710" y="57"/>
                    </a:moveTo>
                    <a:lnTo>
                      <a:pt x="1681" y="57"/>
                    </a:lnTo>
                    <a:lnTo>
                      <a:pt x="1681" y="0"/>
                    </a:lnTo>
                    <a:lnTo>
                      <a:pt x="4690" y="0"/>
                    </a:lnTo>
                    <a:lnTo>
                      <a:pt x="4710" y="57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8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014720" y="4156200"/>
                <a:ext cx="1514520" cy="19080"/>
              </a:xfrm>
              <a:custGeom>
                <a:avLst/>
                <a:gdLst/>
                <a:ahLst/>
                <a:rect l="l" t="t" r="r" b="b"/>
                <a:pathLst>
                  <a:path w="4767" h="58">
                    <a:moveTo>
                      <a:pt x="4767" y="58"/>
                    </a:moveTo>
                    <a:lnTo>
                      <a:pt x="1748" y="58"/>
                    </a:lnTo>
                    <a:lnTo>
                      <a:pt x="1748" y="0"/>
                    </a:lnTo>
                    <a:lnTo>
                      <a:pt x="4748" y="0"/>
                    </a:lnTo>
                    <a:lnTo>
                      <a:pt x="4767" y="58"/>
                    </a:lnTo>
                    <a:close/>
                    <a:moveTo>
                      <a:pt x="164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164" y="58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994200" y="4148280"/>
                <a:ext cx="1531800" cy="17280"/>
              </a:xfrm>
              <a:custGeom>
                <a:avLst/>
                <a:gdLst/>
                <a:ahLst/>
                <a:rect l="l" t="t" r="r" b="b"/>
                <a:pathLst>
                  <a:path w="4825" h="57">
                    <a:moveTo>
                      <a:pt x="4825" y="57"/>
                    </a:moveTo>
                    <a:lnTo>
                      <a:pt x="1816" y="57"/>
                    </a:lnTo>
                    <a:lnTo>
                      <a:pt x="1816" y="0"/>
                    </a:lnTo>
                    <a:lnTo>
                      <a:pt x="4807" y="0"/>
                    </a:lnTo>
                    <a:lnTo>
                      <a:pt x="4825" y="57"/>
                    </a:lnTo>
                    <a:close/>
                    <a:moveTo>
                      <a:pt x="261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261" y="57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971880" y="4138560"/>
                <a:ext cx="1550880" cy="17640"/>
              </a:xfrm>
              <a:custGeom>
                <a:avLst/>
                <a:gdLst/>
                <a:ahLst/>
                <a:rect l="l" t="t" r="r" b="b"/>
                <a:pathLst>
                  <a:path w="4883" h="57">
                    <a:moveTo>
                      <a:pt x="4883" y="57"/>
                    </a:moveTo>
                    <a:lnTo>
                      <a:pt x="1883" y="57"/>
                    </a:lnTo>
                    <a:lnTo>
                      <a:pt x="1883" y="22"/>
                    </a:lnTo>
                    <a:lnTo>
                      <a:pt x="1883" y="0"/>
                    </a:lnTo>
                    <a:lnTo>
                      <a:pt x="4864" y="0"/>
                    </a:lnTo>
                    <a:lnTo>
                      <a:pt x="4883" y="57"/>
                    </a:lnTo>
                    <a:close/>
                    <a:moveTo>
                      <a:pt x="357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357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951360" y="4129200"/>
                <a:ext cx="1568520" cy="19080"/>
              </a:xfrm>
              <a:custGeom>
                <a:avLst/>
                <a:gdLst/>
                <a:ahLst/>
                <a:rect l="l" t="t" r="r" b="b"/>
                <a:pathLst>
                  <a:path w="4941" h="57">
                    <a:moveTo>
                      <a:pt x="4941" y="57"/>
                    </a:moveTo>
                    <a:lnTo>
                      <a:pt x="1950" y="57"/>
                    </a:lnTo>
                    <a:lnTo>
                      <a:pt x="1950" y="50"/>
                    </a:lnTo>
                    <a:lnTo>
                      <a:pt x="1950" y="0"/>
                    </a:lnTo>
                    <a:lnTo>
                      <a:pt x="4921" y="0"/>
                    </a:lnTo>
                    <a:lnTo>
                      <a:pt x="4941" y="57"/>
                    </a:lnTo>
                    <a:close/>
                    <a:moveTo>
                      <a:pt x="454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454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929040" y="4119480"/>
                <a:ext cx="1587600" cy="19080"/>
              </a:xfrm>
              <a:custGeom>
                <a:avLst/>
                <a:gdLst/>
                <a:ahLst/>
                <a:rect l="l" t="t" r="r" b="b"/>
                <a:pathLst>
                  <a:path w="4998" h="57">
                    <a:moveTo>
                      <a:pt x="4998" y="57"/>
                    </a:moveTo>
                    <a:lnTo>
                      <a:pt x="2017" y="57"/>
                    </a:lnTo>
                    <a:lnTo>
                      <a:pt x="2017" y="0"/>
                    </a:lnTo>
                    <a:lnTo>
                      <a:pt x="4976" y="0"/>
                    </a:lnTo>
                    <a:lnTo>
                      <a:pt x="4984" y="17"/>
                    </a:lnTo>
                    <a:lnTo>
                      <a:pt x="4998" y="57"/>
                    </a:lnTo>
                    <a:close/>
                    <a:moveTo>
                      <a:pt x="551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609" y="0"/>
                    </a:lnTo>
                    <a:lnTo>
                      <a:pt x="551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908520" y="4111560"/>
                <a:ext cx="1604880" cy="17640"/>
              </a:xfrm>
              <a:custGeom>
                <a:avLst/>
                <a:gdLst/>
                <a:ahLst/>
                <a:rect l="l" t="t" r="r" b="b"/>
                <a:pathLst>
                  <a:path w="5055" h="57">
                    <a:moveTo>
                      <a:pt x="5055" y="57"/>
                    </a:moveTo>
                    <a:lnTo>
                      <a:pt x="2084" y="57"/>
                    </a:lnTo>
                    <a:lnTo>
                      <a:pt x="2084" y="0"/>
                    </a:lnTo>
                    <a:lnTo>
                      <a:pt x="5031" y="0"/>
                    </a:lnTo>
                    <a:lnTo>
                      <a:pt x="5051" y="45"/>
                    </a:lnTo>
                    <a:lnTo>
                      <a:pt x="5055" y="57"/>
                    </a:lnTo>
                    <a:close/>
                    <a:moveTo>
                      <a:pt x="646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46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886200" y="4102200"/>
                <a:ext cx="1623960" cy="17280"/>
              </a:xfrm>
              <a:custGeom>
                <a:avLst/>
                <a:gdLst/>
                <a:ahLst/>
                <a:rect l="l" t="t" r="r" b="b"/>
                <a:pathLst>
                  <a:path w="5111" h="57">
                    <a:moveTo>
                      <a:pt x="5111" y="57"/>
                    </a:moveTo>
                    <a:lnTo>
                      <a:pt x="2152" y="57"/>
                    </a:lnTo>
                    <a:lnTo>
                      <a:pt x="2152" y="0"/>
                    </a:lnTo>
                    <a:lnTo>
                      <a:pt x="5086" y="0"/>
                    </a:lnTo>
                    <a:lnTo>
                      <a:pt x="5111" y="57"/>
                    </a:lnTo>
                    <a:close/>
                    <a:moveTo>
                      <a:pt x="744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803" y="0"/>
                    </a:lnTo>
                    <a:lnTo>
                      <a:pt x="744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865680" y="4092480"/>
                <a:ext cx="1639800" cy="19080"/>
              </a:xfrm>
              <a:custGeom>
                <a:avLst/>
                <a:gdLst/>
                <a:ahLst/>
                <a:rect l="l" t="t" r="r" b="b"/>
                <a:pathLst>
                  <a:path w="5166" h="58">
                    <a:moveTo>
                      <a:pt x="5166" y="58"/>
                    </a:moveTo>
                    <a:lnTo>
                      <a:pt x="2219" y="58"/>
                    </a:lnTo>
                    <a:lnTo>
                      <a:pt x="2219" y="0"/>
                    </a:lnTo>
                    <a:lnTo>
                      <a:pt x="5139" y="0"/>
                    </a:lnTo>
                    <a:lnTo>
                      <a:pt x="5166" y="58"/>
                    </a:lnTo>
                    <a:close/>
                    <a:moveTo>
                      <a:pt x="840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40" y="58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541680" y="4084560"/>
                <a:ext cx="1960560" cy="17640"/>
              </a:xfrm>
              <a:custGeom>
                <a:avLst/>
                <a:gdLst/>
                <a:ahLst/>
                <a:rect l="l" t="t" r="r" b="b"/>
                <a:pathLst>
                  <a:path w="6174" h="57">
                    <a:moveTo>
                      <a:pt x="6174" y="57"/>
                    </a:moveTo>
                    <a:lnTo>
                      <a:pt x="3240" y="57"/>
                    </a:lnTo>
                    <a:lnTo>
                      <a:pt x="3240" y="0"/>
                    </a:lnTo>
                    <a:lnTo>
                      <a:pt x="6147" y="0"/>
                    </a:lnTo>
                    <a:lnTo>
                      <a:pt x="6174" y="57"/>
                    </a:lnTo>
                    <a:close/>
                    <a:moveTo>
                      <a:pt x="1891" y="57"/>
                    </a:moveTo>
                    <a:lnTo>
                      <a:pt x="1088" y="57"/>
                    </a:lnTo>
                    <a:lnTo>
                      <a:pt x="954" y="0"/>
                    </a:lnTo>
                    <a:lnTo>
                      <a:pt x="1949" y="0"/>
                    </a:lnTo>
                    <a:lnTo>
                      <a:pt x="1891" y="57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31" y="11"/>
                    </a:lnTo>
                    <a:lnTo>
                      <a:pt x="1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532320" y="4075200"/>
                <a:ext cx="1965240" cy="17280"/>
              </a:xfrm>
              <a:custGeom>
                <a:avLst/>
                <a:gdLst/>
                <a:ahLst/>
                <a:rect l="l" t="t" r="r" b="b"/>
                <a:pathLst>
                  <a:path w="6189" h="57">
                    <a:moveTo>
                      <a:pt x="6189" y="57"/>
                    </a:moveTo>
                    <a:lnTo>
                      <a:pt x="3269" y="57"/>
                    </a:lnTo>
                    <a:lnTo>
                      <a:pt x="3269" y="0"/>
                    </a:lnTo>
                    <a:lnTo>
                      <a:pt x="6163" y="0"/>
                    </a:lnTo>
                    <a:lnTo>
                      <a:pt x="6189" y="57"/>
                    </a:lnTo>
                    <a:close/>
                    <a:moveTo>
                      <a:pt x="1949" y="57"/>
                    </a:moveTo>
                    <a:lnTo>
                      <a:pt x="1050" y="57"/>
                    </a:lnTo>
                    <a:lnTo>
                      <a:pt x="915" y="0"/>
                    </a:lnTo>
                    <a:lnTo>
                      <a:pt x="2008" y="0"/>
                    </a:lnTo>
                    <a:lnTo>
                      <a:pt x="1949" y="57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21"/>
                    </a:lnTo>
                    <a:lnTo>
                      <a:pt x="60" y="40"/>
                    </a:lnTo>
                    <a:lnTo>
                      <a:pt x="4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522600" y="4065480"/>
                <a:ext cx="1970280" cy="19080"/>
              </a:xfrm>
              <a:custGeom>
                <a:avLst/>
                <a:gdLst/>
                <a:ahLst/>
                <a:rect l="l" t="t" r="r" b="b"/>
                <a:pathLst>
                  <a:path w="6204" h="57">
                    <a:moveTo>
                      <a:pt x="6204" y="57"/>
                    </a:moveTo>
                    <a:lnTo>
                      <a:pt x="3297" y="57"/>
                    </a:lnTo>
                    <a:lnTo>
                      <a:pt x="3297" y="27"/>
                    </a:lnTo>
                    <a:lnTo>
                      <a:pt x="3294" y="0"/>
                    </a:lnTo>
                    <a:lnTo>
                      <a:pt x="6178" y="0"/>
                    </a:lnTo>
                    <a:lnTo>
                      <a:pt x="6204" y="57"/>
                    </a:lnTo>
                    <a:close/>
                    <a:moveTo>
                      <a:pt x="2006" y="57"/>
                    </a:moveTo>
                    <a:lnTo>
                      <a:pt x="1011" y="57"/>
                    </a:lnTo>
                    <a:lnTo>
                      <a:pt x="895" y="8"/>
                    </a:lnTo>
                    <a:lnTo>
                      <a:pt x="887" y="0"/>
                    </a:lnTo>
                    <a:lnTo>
                      <a:pt x="2065" y="0"/>
                    </a:lnTo>
                    <a:lnTo>
                      <a:pt x="2006" y="57"/>
                    </a:lnTo>
                    <a:close/>
                    <a:moveTo>
                      <a:pt x="100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149" y="27"/>
                    </a:lnTo>
                    <a:lnTo>
                      <a:pt x="128" y="27"/>
                    </a:lnTo>
                    <a:lnTo>
                      <a:pt x="109" y="27"/>
                    </a:lnTo>
                    <a:lnTo>
                      <a:pt x="109" y="49"/>
                    </a:lnTo>
                    <a:lnTo>
                      <a:pt x="100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514680" y="4056120"/>
                <a:ext cx="1974960" cy="19080"/>
              </a:xfrm>
              <a:custGeom>
                <a:avLst/>
                <a:gdLst/>
                <a:ahLst/>
                <a:rect l="l" t="t" r="r" b="b"/>
                <a:pathLst>
                  <a:path w="6220" h="57">
                    <a:moveTo>
                      <a:pt x="6220" y="57"/>
                    </a:moveTo>
                    <a:lnTo>
                      <a:pt x="3326" y="57"/>
                    </a:lnTo>
                    <a:lnTo>
                      <a:pt x="3326" y="56"/>
                    </a:lnTo>
                    <a:lnTo>
                      <a:pt x="3321" y="0"/>
                    </a:lnTo>
                    <a:lnTo>
                      <a:pt x="6194" y="0"/>
                    </a:lnTo>
                    <a:lnTo>
                      <a:pt x="6220" y="57"/>
                    </a:lnTo>
                    <a:close/>
                    <a:moveTo>
                      <a:pt x="2065" y="57"/>
                    </a:moveTo>
                    <a:lnTo>
                      <a:pt x="972" y="57"/>
                    </a:lnTo>
                    <a:lnTo>
                      <a:pt x="924" y="37"/>
                    </a:lnTo>
                    <a:lnTo>
                      <a:pt x="888" y="0"/>
                    </a:lnTo>
                    <a:lnTo>
                      <a:pt x="2123" y="0"/>
                    </a:lnTo>
                    <a:lnTo>
                      <a:pt x="2065" y="57"/>
                    </a:lnTo>
                    <a:close/>
                    <a:moveTo>
                      <a:pt x="138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97" y="0"/>
                    </a:lnTo>
                    <a:lnTo>
                      <a:pt x="197" y="15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505320" y="4048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5" h="58">
                    <a:moveTo>
                      <a:pt x="6235" y="58"/>
                    </a:moveTo>
                    <a:lnTo>
                      <a:pt x="3351" y="58"/>
                    </a:lnTo>
                    <a:lnTo>
                      <a:pt x="3346" y="0"/>
                    </a:lnTo>
                    <a:lnTo>
                      <a:pt x="6209" y="0"/>
                    </a:lnTo>
                    <a:lnTo>
                      <a:pt x="6235" y="58"/>
                    </a:lnTo>
                    <a:close/>
                    <a:moveTo>
                      <a:pt x="2122" y="58"/>
                    </a:moveTo>
                    <a:lnTo>
                      <a:pt x="944" y="58"/>
                    </a:lnTo>
                    <a:lnTo>
                      <a:pt x="911" y="25"/>
                    </a:lnTo>
                    <a:lnTo>
                      <a:pt x="911" y="0"/>
                    </a:lnTo>
                    <a:lnTo>
                      <a:pt x="2181" y="0"/>
                    </a:lnTo>
                    <a:lnTo>
                      <a:pt x="2122" y="58"/>
                    </a:lnTo>
                    <a:close/>
                    <a:moveTo>
                      <a:pt x="219" y="58"/>
                    </a:moveTo>
                    <a:lnTo>
                      <a:pt x="57" y="58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25" y="6"/>
                    </a:lnTo>
                    <a:lnTo>
                      <a:pt x="225" y="44"/>
                    </a:lnTo>
                    <a:lnTo>
                      <a:pt x="219" y="58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495600" y="4038480"/>
                <a:ext cx="1984320" cy="17640"/>
              </a:xfrm>
              <a:custGeom>
                <a:avLst/>
                <a:gdLst/>
                <a:ahLst/>
                <a:rect l="l" t="t" r="r" b="b"/>
                <a:pathLst>
                  <a:path w="6251" h="57">
                    <a:moveTo>
                      <a:pt x="6251" y="57"/>
                    </a:moveTo>
                    <a:lnTo>
                      <a:pt x="3378" y="57"/>
                    </a:lnTo>
                    <a:lnTo>
                      <a:pt x="3372" y="0"/>
                    </a:lnTo>
                    <a:lnTo>
                      <a:pt x="6222" y="0"/>
                    </a:lnTo>
                    <a:lnTo>
                      <a:pt x="6230" y="12"/>
                    </a:lnTo>
                    <a:lnTo>
                      <a:pt x="6251" y="57"/>
                    </a:lnTo>
                    <a:close/>
                    <a:moveTo>
                      <a:pt x="2180" y="57"/>
                    </a:moveTo>
                    <a:lnTo>
                      <a:pt x="945" y="57"/>
                    </a:lnTo>
                    <a:lnTo>
                      <a:pt x="940" y="53"/>
                    </a:lnTo>
                    <a:lnTo>
                      <a:pt x="940" y="12"/>
                    </a:lnTo>
                    <a:lnTo>
                      <a:pt x="940" y="0"/>
                    </a:lnTo>
                    <a:lnTo>
                      <a:pt x="2239" y="0"/>
                    </a:lnTo>
                    <a:lnTo>
                      <a:pt x="2180" y="57"/>
                    </a:lnTo>
                    <a:close/>
                    <a:moveTo>
                      <a:pt x="254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322" y="0"/>
                    </a:lnTo>
                    <a:lnTo>
                      <a:pt x="254" y="34"/>
                    </a:lnTo>
                    <a:lnTo>
                      <a:pt x="254" y="57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486240" y="4029120"/>
                <a:ext cx="1990800" cy="19080"/>
              </a:xfrm>
              <a:custGeom>
                <a:avLst/>
                <a:gdLst/>
                <a:ahLst/>
                <a:rect l="l" t="t" r="r" b="b"/>
                <a:pathLst>
                  <a:path w="6267" h="57">
                    <a:moveTo>
                      <a:pt x="6267" y="57"/>
                    </a:moveTo>
                    <a:lnTo>
                      <a:pt x="3404" y="57"/>
                    </a:lnTo>
                    <a:lnTo>
                      <a:pt x="3399" y="0"/>
                    </a:lnTo>
                    <a:lnTo>
                      <a:pt x="6232" y="0"/>
                    </a:lnTo>
                    <a:lnTo>
                      <a:pt x="6259" y="41"/>
                    </a:lnTo>
                    <a:lnTo>
                      <a:pt x="6267" y="57"/>
                    </a:lnTo>
                    <a:close/>
                    <a:moveTo>
                      <a:pt x="2239" y="57"/>
                    </a:moveTo>
                    <a:lnTo>
                      <a:pt x="969" y="57"/>
                    </a:lnTo>
                    <a:lnTo>
                      <a:pt x="969" y="41"/>
                    </a:lnTo>
                    <a:lnTo>
                      <a:pt x="969" y="1"/>
                    </a:lnTo>
                    <a:lnTo>
                      <a:pt x="969" y="0"/>
                    </a:lnTo>
                    <a:lnTo>
                      <a:pt x="2298" y="0"/>
                    </a:lnTo>
                    <a:lnTo>
                      <a:pt x="2239" y="57"/>
                    </a:lnTo>
                    <a:close/>
                    <a:moveTo>
                      <a:pt x="293" y="57"/>
                    </a:moveTo>
                    <a:lnTo>
                      <a:pt x="58" y="57"/>
                    </a:lnTo>
                    <a:lnTo>
                      <a:pt x="0" y="0"/>
                    </a:lnTo>
                    <a:lnTo>
                      <a:pt x="407" y="0"/>
                    </a:lnTo>
                    <a:lnTo>
                      <a:pt x="293" y="57"/>
                    </a:lnTo>
                    <a:close/>
                    <a:moveTo>
                      <a:pt x="485" y="0"/>
                    </a:moveTo>
                    <a:lnTo>
                      <a:pt x="649" y="0"/>
                    </a:lnTo>
                    <a:lnTo>
                      <a:pt x="648" y="1"/>
                    </a:lnTo>
                    <a:lnTo>
                      <a:pt x="546" y="1"/>
                    </a:lnTo>
                    <a:lnTo>
                      <a:pt x="485" y="1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478320" y="4021200"/>
                <a:ext cx="1993680" cy="17280"/>
              </a:xfrm>
              <a:custGeom>
                <a:avLst/>
                <a:gdLst/>
                <a:ahLst/>
                <a:rect l="l" t="t" r="r" b="b"/>
                <a:pathLst>
                  <a:path w="6279" h="56">
                    <a:moveTo>
                      <a:pt x="6279" y="56"/>
                    </a:moveTo>
                    <a:lnTo>
                      <a:pt x="3429" y="56"/>
                    </a:lnTo>
                    <a:lnTo>
                      <a:pt x="3424" y="0"/>
                    </a:lnTo>
                    <a:lnTo>
                      <a:pt x="3737" y="0"/>
                    </a:lnTo>
                    <a:lnTo>
                      <a:pt x="3764" y="9"/>
                    </a:lnTo>
                    <a:lnTo>
                      <a:pt x="3805" y="9"/>
                    </a:lnTo>
                    <a:lnTo>
                      <a:pt x="3848" y="0"/>
                    </a:lnTo>
                    <a:lnTo>
                      <a:pt x="6241" y="0"/>
                    </a:lnTo>
                    <a:lnTo>
                      <a:pt x="6279" y="56"/>
                    </a:lnTo>
                    <a:close/>
                    <a:moveTo>
                      <a:pt x="2296" y="56"/>
                    </a:moveTo>
                    <a:lnTo>
                      <a:pt x="997" y="56"/>
                    </a:lnTo>
                    <a:lnTo>
                      <a:pt x="997" y="28"/>
                    </a:lnTo>
                    <a:lnTo>
                      <a:pt x="901" y="0"/>
                    </a:lnTo>
                    <a:lnTo>
                      <a:pt x="2355" y="0"/>
                    </a:lnTo>
                    <a:lnTo>
                      <a:pt x="2296" y="56"/>
                    </a:lnTo>
                    <a:close/>
                    <a:moveTo>
                      <a:pt x="379" y="56"/>
                    </a:moveTo>
                    <a:lnTo>
                      <a:pt x="57" y="56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676" y="28"/>
                    </a:lnTo>
                    <a:lnTo>
                      <a:pt x="574" y="28"/>
                    </a:lnTo>
                    <a:lnTo>
                      <a:pt x="513" y="28"/>
                    </a:lnTo>
                    <a:lnTo>
                      <a:pt x="473" y="9"/>
                    </a:lnTo>
                    <a:lnTo>
                      <a:pt x="37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473280" y="4011480"/>
                <a:ext cx="1992600" cy="17640"/>
              </a:xfrm>
              <a:custGeom>
                <a:avLst/>
                <a:gdLst/>
                <a:ahLst/>
                <a:rect l="l" t="t" r="r" b="b"/>
                <a:pathLst>
                  <a:path w="6272" h="56">
                    <a:moveTo>
                      <a:pt x="6272" y="56"/>
                    </a:moveTo>
                    <a:lnTo>
                      <a:pt x="3439" y="56"/>
                    </a:lnTo>
                    <a:lnTo>
                      <a:pt x="3433" y="0"/>
                    </a:lnTo>
                    <a:lnTo>
                      <a:pt x="3698" y="0"/>
                    </a:lnTo>
                    <a:lnTo>
                      <a:pt x="3715" y="17"/>
                    </a:lnTo>
                    <a:lnTo>
                      <a:pt x="3776" y="38"/>
                    </a:lnTo>
                    <a:lnTo>
                      <a:pt x="3817" y="38"/>
                    </a:lnTo>
                    <a:lnTo>
                      <a:pt x="3918" y="17"/>
                    </a:lnTo>
                    <a:lnTo>
                      <a:pt x="3899" y="0"/>
                    </a:lnTo>
                    <a:lnTo>
                      <a:pt x="6234" y="0"/>
                    </a:lnTo>
                    <a:lnTo>
                      <a:pt x="6272" y="56"/>
                    </a:lnTo>
                    <a:close/>
                    <a:moveTo>
                      <a:pt x="2338" y="56"/>
                    </a:moveTo>
                    <a:lnTo>
                      <a:pt x="1009" y="56"/>
                    </a:lnTo>
                    <a:lnTo>
                      <a:pt x="817" y="0"/>
                    </a:lnTo>
                    <a:lnTo>
                      <a:pt x="2396" y="0"/>
                    </a:lnTo>
                    <a:lnTo>
                      <a:pt x="2338" y="56"/>
                    </a:lnTo>
                    <a:close/>
                    <a:moveTo>
                      <a:pt x="689" y="56"/>
                    </a:moveTo>
                    <a:lnTo>
                      <a:pt x="525" y="56"/>
                    </a:lnTo>
                    <a:lnTo>
                      <a:pt x="485" y="38"/>
                    </a:lnTo>
                    <a:lnTo>
                      <a:pt x="447" y="56"/>
                    </a:lnTo>
                    <a:lnTo>
                      <a:pt x="40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67" y="17"/>
                    </a:lnTo>
                    <a:lnTo>
                      <a:pt x="68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473280" y="4002120"/>
                <a:ext cx="1986120" cy="19080"/>
              </a:xfrm>
              <a:custGeom>
                <a:avLst/>
                <a:gdLst/>
                <a:ahLst/>
                <a:rect l="l" t="t" r="r" b="b"/>
                <a:pathLst>
                  <a:path w="6253" h="57">
                    <a:moveTo>
                      <a:pt x="6253" y="57"/>
                    </a:moveTo>
                    <a:lnTo>
                      <a:pt x="3860" y="57"/>
                    </a:lnTo>
                    <a:lnTo>
                      <a:pt x="3918" y="45"/>
                    </a:lnTo>
                    <a:lnTo>
                      <a:pt x="3896" y="25"/>
                    </a:lnTo>
                    <a:lnTo>
                      <a:pt x="3896" y="6"/>
                    </a:lnTo>
                    <a:lnTo>
                      <a:pt x="3900" y="0"/>
                    </a:lnTo>
                    <a:lnTo>
                      <a:pt x="6214" y="0"/>
                    </a:lnTo>
                    <a:lnTo>
                      <a:pt x="6253" y="57"/>
                    </a:lnTo>
                    <a:close/>
                    <a:moveTo>
                      <a:pt x="3749" y="57"/>
                    </a:moveTo>
                    <a:lnTo>
                      <a:pt x="3436" y="57"/>
                    </a:lnTo>
                    <a:lnTo>
                      <a:pt x="3433" y="25"/>
                    </a:lnTo>
                    <a:lnTo>
                      <a:pt x="3512" y="6"/>
                    </a:lnTo>
                    <a:lnTo>
                      <a:pt x="3594" y="6"/>
                    </a:lnTo>
                    <a:lnTo>
                      <a:pt x="3675" y="6"/>
                    </a:lnTo>
                    <a:lnTo>
                      <a:pt x="3715" y="45"/>
                    </a:lnTo>
                    <a:lnTo>
                      <a:pt x="3749" y="57"/>
                    </a:lnTo>
                    <a:close/>
                    <a:moveTo>
                      <a:pt x="2367" y="57"/>
                    </a:moveTo>
                    <a:lnTo>
                      <a:pt x="913" y="57"/>
                    </a:lnTo>
                    <a:lnTo>
                      <a:pt x="808" y="25"/>
                    </a:lnTo>
                    <a:lnTo>
                      <a:pt x="767" y="45"/>
                    </a:lnTo>
                    <a:lnTo>
                      <a:pt x="744" y="57"/>
                    </a:lnTo>
                    <a:lnTo>
                      <a:pt x="12" y="57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426" y="0"/>
                    </a:lnTo>
                    <a:lnTo>
                      <a:pt x="2367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473280" y="3994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4" h="57">
                    <a:moveTo>
                      <a:pt x="6234" y="57"/>
                    </a:moveTo>
                    <a:lnTo>
                      <a:pt x="3899" y="57"/>
                    </a:lnTo>
                    <a:lnTo>
                      <a:pt x="3896" y="54"/>
                    </a:lnTo>
                    <a:lnTo>
                      <a:pt x="3896" y="35"/>
                    </a:lnTo>
                    <a:lnTo>
                      <a:pt x="3919" y="0"/>
                    </a:lnTo>
                    <a:lnTo>
                      <a:pt x="6196" y="0"/>
                    </a:lnTo>
                    <a:lnTo>
                      <a:pt x="6234" y="57"/>
                    </a:lnTo>
                    <a:close/>
                    <a:moveTo>
                      <a:pt x="3698" y="57"/>
                    </a:moveTo>
                    <a:lnTo>
                      <a:pt x="3433" y="57"/>
                    </a:lnTo>
                    <a:lnTo>
                      <a:pt x="3433" y="54"/>
                    </a:lnTo>
                    <a:lnTo>
                      <a:pt x="3512" y="35"/>
                    </a:lnTo>
                    <a:lnTo>
                      <a:pt x="3594" y="35"/>
                    </a:lnTo>
                    <a:lnTo>
                      <a:pt x="3675" y="35"/>
                    </a:lnTo>
                    <a:lnTo>
                      <a:pt x="3698" y="57"/>
                    </a:lnTo>
                    <a:close/>
                    <a:moveTo>
                      <a:pt x="2396" y="57"/>
                    </a:moveTo>
                    <a:lnTo>
                      <a:pt x="817" y="57"/>
                    </a:lnTo>
                    <a:lnTo>
                      <a:pt x="808" y="54"/>
                    </a:lnTo>
                    <a:lnTo>
                      <a:pt x="802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455" y="0"/>
                    </a:lnTo>
                    <a:lnTo>
                      <a:pt x="2396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473280" y="3984480"/>
                <a:ext cx="1973520" cy="17640"/>
              </a:xfrm>
              <a:custGeom>
                <a:avLst/>
                <a:gdLst/>
                <a:ahLst/>
                <a:rect l="l" t="t" r="r" b="b"/>
                <a:pathLst>
                  <a:path w="6214" h="58">
                    <a:moveTo>
                      <a:pt x="6214" y="58"/>
                    </a:moveTo>
                    <a:lnTo>
                      <a:pt x="3900" y="58"/>
                    </a:lnTo>
                    <a:lnTo>
                      <a:pt x="3937" y="1"/>
                    </a:lnTo>
                    <a:lnTo>
                      <a:pt x="3933" y="0"/>
                    </a:lnTo>
                    <a:lnTo>
                      <a:pt x="6176" y="0"/>
                    </a:lnTo>
                    <a:lnTo>
                      <a:pt x="6177" y="1"/>
                    </a:lnTo>
                    <a:lnTo>
                      <a:pt x="6214" y="58"/>
                    </a:lnTo>
                    <a:close/>
                    <a:moveTo>
                      <a:pt x="2426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484" y="0"/>
                    </a:lnTo>
                    <a:lnTo>
                      <a:pt x="2426" y="58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73280" y="3975120"/>
                <a:ext cx="1968840" cy="19080"/>
              </a:xfrm>
              <a:custGeom>
                <a:avLst/>
                <a:gdLst/>
                <a:ahLst/>
                <a:rect l="l" t="t" r="r" b="b"/>
                <a:pathLst>
                  <a:path w="6196" h="57">
                    <a:moveTo>
                      <a:pt x="6196" y="57"/>
                    </a:moveTo>
                    <a:lnTo>
                      <a:pt x="3919" y="57"/>
                    </a:lnTo>
                    <a:lnTo>
                      <a:pt x="3937" y="29"/>
                    </a:lnTo>
                    <a:lnTo>
                      <a:pt x="3877" y="10"/>
                    </a:lnTo>
                    <a:lnTo>
                      <a:pt x="3872" y="0"/>
                    </a:lnTo>
                    <a:lnTo>
                      <a:pt x="6157" y="0"/>
                    </a:lnTo>
                    <a:lnTo>
                      <a:pt x="6177" y="29"/>
                    </a:lnTo>
                    <a:lnTo>
                      <a:pt x="6196" y="57"/>
                    </a:lnTo>
                    <a:close/>
                    <a:moveTo>
                      <a:pt x="2455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14" y="0"/>
                    </a:lnTo>
                    <a:lnTo>
                      <a:pt x="2455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73280" y="3965400"/>
                <a:ext cx="1962360" cy="19080"/>
              </a:xfrm>
              <a:custGeom>
                <a:avLst/>
                <a:gdLst/>
                <a:ahLst/>
                <a:rect l="l" t="t" r="r" b="b"/>
                <a:pathLst>
                  <a:path w="6176" h="57">
                    <a:moveTo>
                      <a:pt x="6176" y="57"/>
                    </a:moveTo>
                    <a:lnTo>
                      <a:pt x="3933" y="57"/>
                    </a:lnTo>
                    <a:lnTo>
                      <a:pt x="3877" y="39"/>
                    </a:lnTo>
                    <a:lnTo>
                      <a:pt x="3858" y="0"/>
                    </a:lnTo>
                    <a:lnTo>
                      <a:pt x="6138" y="0"/>
                    </a:lnTo>
                    <a:lnTo>
                      <a:pt x="6176" y="57"/>
                    </a:lnTo>
                    <a:close/>
                    <a:moveTo>
                      <a:pt x="248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43" y="0"/>
                    </a:lnTo>
                    <a:lnTo>
                      <a:pt x="2484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473280" y="3957480"/>
                <a:ext cx="1955880" cy="17640"/>
              </a:xfrm>
              <a:custGeom>
                <a:avLst/>
                <a:gdLst/>
                <a:ahLst/>
                <a:rect l="l" t="t" r="r" b="b"/>
                <a:pathLst>
                  <a:path w="6157" h="57">
                    <a:moveTo>
                      <a:pt x="6157" y="57"/>
                    </a:moveTo>
                    <a:lnTo>
                      <a:pt x="3872" y="57"/>
                    </a:lnTo>
                    <a:lnTo>
                      <a:pt x="3857" y="26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7"/>
                    </a:lnTo>
                    <a:lnTo>
                      <a:pt x="5263" y="0"/>
                    </a:lnTo>
                    <a:lnTo>
                      <a:pt x="6084" y="0"/>
                    </a:lnTo>
                    <a:lnTo>
                      <a:pt x="6137" y="26"/>
                    </a:lnTo>
                    <a:lnTo>
                      <a:pt x="6157" y="57"/>
                    </a:lnTo>
                    <a:close/>
                    <a:moveTo>
                      <a:pt x="251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437" y="0"/>
                    </a:lnTo>
                    <a:lnTo>
                      <a:pt x="2545" y="26"/>
                    </a:lnTo>
                    <a:lnTo>
                      <a:pt x="2514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73280" y="3948120"/>
                <a:ext cx="1949760" cy="17280"/>
              </a:xfrm>
              <a:custGeom>
                <a:avLst/>
                <a:gdLst/>
                <a:ahLst/>
                <a:rect l="l" t="t" r="r" b="b"/>
                <a:pathLst>
                  <a:path w="6138" h="57">
                    <a:moveTo>
                      <a:pt x="6138" y="57"/>
                    </a:moveTo>
                    <a:lnTo>
                      <a:pt x="3858" y="57"/>
                    </a:lnTo>
                    <a:lnTo>
                      <a:pt x="3857" y="55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36"/>
                    </a:lnTo>
                    <a:lnTo>
                      <a:pt x="5321" y="0"/>
                    </a:lnTo>
                    <a:lnTo>
                      <a:pt x="5964" y="0"/>
                    </a:lnTo>
                    <a:lnTo>
                      <a:pt x="6057" y="14"/>
                    </a:lnTo>
                    <a:lnTo>
                      <a:pt x="6137" y="55"/>
                    </a:lnTo>
                    <a:lnTo>
                      <a:pt x="6138" y="57"/>
                    </a:lnTo>
                    <a:close/>
                    <a:moveTo>
                      <a:pt x="254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316" y="0"/>
                    </a:lnTo>
                    <a:lnTo>
                      <a:pt x="2382" y="14"/>
                    </a:lnTo>
                    <a:lnTo>
                      <a:pt x="2545" y="55"/>
                    </a:lnTo>
                    <a:lnTo>
                      <a:pt x="2543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473280" y="3938760"/>
                <a:ext cx="1932120" cy="18720"/>
              </a:xfrm>
              <a:custGeom>
                <a:avLst/>
                <a:gdLst/>
                <a:ahLst/>
                <a:rect l="l" t="t" r="r" b="b"/>
                <a:pathLst>
                  <a:path w="6084" h="57">
                    <a:moveTo>
                      <a:pt x="6084" y="57"/>
                    </a:moveTo>
                    <a:lnTo>
                      <a:pt x="5263" y="57"/>
                    </a:lnTo>
                    <a:lnTo>
                      <a:pt x="5330" y="23"/>
                    </a:lnTo>
                    <a:lnTo>
                      <a:pt x="5390" y="2"/>
                    </a:lnTo>
                    <a:lnTo>
                      <a:pt x="5511" y="2"/>
                    </a:lnTo>
                    <a:lnTo>
                      <a:pt x="5935" y="23"/>
                    </a:lnTo>
                    <a:lnTo>
                      <a:pt x="6057" y="42"/>
                    </a:lnTo>
                    <a:lnTo>
                      <a:pt x="608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437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2187" y="0"/>
                    </a:lnTo>
                    <a:lnTo>
                      <a:pt x="2202" y="2"/>
                    </a:lnTo>
                    <a:lnTo>
                      <a:pt x="2382" y="42"/>
                    </a:lnTo>
                    <a:lnTo>
                      <a:pt x="2437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473280" y="3930480"/>
                <a:ext cx="1893960" cy="17640"/>
              </a:xfrm>
              <a:custGeom>
                <a:avLst/>
                <a:gdLst/>
                <a:ahLst/>
                <a:rect l="l" t="t" r="r" b="b"/>
                <a:pathLst>
                  <a:path w="5964" h="57">
                    <a:moveTo>
                      <a:pt x="5964" y="57"/>
                    </a:moveTo>
                    <a:lnTo>
                      <a:pt x="5321" y="57"/>
                    </a:lnTo>
                    <a:lnTo>
                      <a:pt x="5330" y="52"/>
                    </a:lnTo>
                    <a:lnTo>
                      <a:pt x="5390" y="31"/>
                    </a:lnTo>
                    <a:lnTo>
                      <a:pt x="5511" y="31"/>
                    </a:lnTo>
                    <a:lnTo>
                      <a:pt x="5935" y="52"/>
                    </a:lnTo>
                    <a:lnTo>
                      <a:pt x="596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11"/>
                    </a:lnTo>
                    <a:lnTo>
                      <a:pt x="3820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316" y="57"/>
                    </a:moveTo>
                    <a:lnTo>
                      <a:pt x="0" y="57"/>
                    </a:lnTo>
                    <a:lnTo>
                      <a:pt x="0" y="31"/>
                    </a:lnTo>
                    <a:lnTo>
                      <a:pt x="32" y="0"/>
                    </a:lnTo>
                    <a:lnTo>
                      <a:pt x="2024" y="0"/>
                    </a:lnTo>
                    <a:lnTo>
                      <a:pt x="2202" y="31"/>
                    </a:lnTo>
                    <a:lnTo>
                      <a:pt x="2316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475080" y="3921120"/>
                <a:ext cx="1665360" cy="17640"/>
              </a:xfrm>
              <a:custGeom>
                <a:avLst/>
                <a:gdLst/>
                <a:ahLst/>
                <a:rect l="l" t="t" r="r" b="b"/>
                <a:pathLst>
                  <a:path w="5246" h="58">
                    <a:moveTo>
                      <a:pt x="5246" y="58"/>
                    </a:moveTo>
                    <a:lnTo>
                      <a:pt x="3854" y="58"/>
                    </a:lnTo>
                    <a:lnTo>
                      <a:pt x="3854" y="40"/>
                    </a:lnTo>
                    <a:lnTo>
                      <a:pt x="3792" y="22"/>
                    </a:lnTo>
                    <a:lnTo>
                      <a:pt x="3752" y="0"/>
                    </a:lnTo>
                    <a:lnTo>
                      <a:pt x="5246" y="0"/>
                    </a:lnTo>
                    <a:lnTo>
                      <a:pt x="5246" y="22"/>
                    </a:lnTo>
                    <a:lnTo>
                      <a:pt x="5246" y="58"/>
                    </a:lnTo>
                    <a:close/>
                    <a:moveTo>
                      <a:pt x="2184" y="58"/>
                    </a:moveTo>
                    <a:lnTo>
                      <a:pt x="0" y="58"/>
                    </a:lnTo>
                    <a:lnTo>
                      <a:pt x="37" y="22"/>
                    </a:lnTo>
                    <a:lnTo>
                      <a:pt x="59" y="0"/>
                    </a:lnTo>
                    <a:lnTo>
                      <a:pt x="1859" y="0"/>
                    </a:lnTo>
                    <a:lnTo>
                      <a:pt x="2184" y="58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484440" y="3911760"/>
                <a:ext cx="1656000" cy="18720"/>
              </a:xfrm>
              <a:custGeom>
                <a:avLst/>
                <a:gdLst/>
                <a:ahLst/>
                <a:rect l="l" t="t" r="r" b="b"/>
                <a:pathLst>
                  <a:path w="5217" h="57">
                    <a:moveTo>
                      <a:pt x="5217" y="57"/>
                    </a:moveTo>
                    <a:lnTo>
                      <a:pt x="3788" y="57"/>
                    </a:lnTo>
                    <a:lnTo>
                      <a:pt x="3763" y="50"/>
                    </a:lnTo>
                    <a:lnTo>
                      <a:pt x="3722" y="28"/>
                    </a:lnTo>
                    <a:lnTo>
                      <a:pt x="3703" y="9"/>
                    </a:lnTo>
                    <a:lnTo>
                      <a:pt x="3703" y="0"/>
                    </a:lnTo>
                    <a:lnTo>
                      <a:pt x="5217" y="0"/>
                    </a:lnTo>
                    <a:lnTo>
                      <a:pt x="5217" y="50"/>
                    </a:lnTo>
                    <a:lnTo>
                      <a:pt x="5217" y="57"/>
                    </a:lnTo>
                    <a:close/>
                    <a:moveTo>
                      <a:pt x="1992" y="57"/>
                    </a:moveTo>
                    <a:lnTo>
                      <a:pt x="0" y="57"/>
                    </a:lnTo>
                    <a:lnTo>
                      <a:pt x="8" y="50"/>
                    </a:lnTo>
                    <a:lnTo>
                      <a:pt x="58" y="0"/>
                    </a:lnTo>
                    <a:lnTo>
                      <a:pt x="995" y="0"/>
                    </a:lnTo>
                    <a:lnTo>
                      <a:pt x="1038" y="9"/>
                    </a:lnTo>
                    <a:lnTo>
                      <a:pt x="1038" y="0"/>
                    </a:lnTo>
                    <a:lnTo>
                      <a:pt x="1315" y="0"/>
                    </a:lnTo>
                    <a:lnTo>
                      <a:pt x="1381" y="9"/>
                    </a:lnTo>
                    <a:lnTo>
                      <a:pt x="1503" y="9"/>
                    </a:lnTo>
                    <a:lnTo>
                      <a:pt x="1827" y="28"/>
                    </a:lnTo>
                    <a:lnTo>
                      <a:pt x="1992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494160" y="3902040"/>
                <a:ext cx="1646280" cy="19080"/>
              </a:xfrm>
              <a:custGeom>
                <a:avLst/>
                <a:gdLst/>
                <a:ahLst/>
                <a:rect l="l" t="t" r="r" b="b"/>
                <a:pathLst>
                  <a:path w="5187" h="57">
                    <a:moveTo>
                      <a:pt x="5187" y="57"/>
                    </a:moveTo>
                    <a:lnTo>
                      <a:pt x="3693" y="57"/>
                    </a:lnTo>
                    <a:lnTo>
                      <a:pt x="3692" y="57"/>
                    </a:lnTo>
                    <a:lnTo>
                      <a:pt x="3673" y="38"/>
                    </a:lnTo>
                    <a:lnTo>
                      <a:pt x="3673" y="17"/>
                    </a:lnTo>
                    <a:lnTo>
                      <a:pt x="3677" y="0"/>
                    </a:lnTo>
                    <a:lnTo>
                      <a:pt x="5187" y="0"/>
                    </a:lnTo>
                    <a:lnTo>
                      <a:pt x="5187" y="57"/>
                    </a:lnTo>
                    <a:close/>
                    <a:moveTo>
                      <a:pt x="1800" y="57"/>
                    </a:moveTo>
                    <a:lnTo>
                      <a:pt x="0" y="57"/>
                    </a:lnTo>
                    <a:lnTo>
                      <a:pt x="41" y="17"/>
                    </a:lnTo>
                    <a:lnTo>
                      <a:pt x="7" y="0"/>
                    </a:lnTo>
                    <a:lnTo>
                      <a:pt x="823" y="0"/>
                    </a:lnTo>
                    <a:lnTo>
                      <a:pt x="1008" y="38"/>
                    </a:lnTo>
                    <a:lnTo>
                      <a:pt x="1008" y="0"/>
                    </a:lnTo>
                    <a:lnTo>
                      <a:pt x="1041" y="0"/>
                    </a:lnTo>
                    <a:lnTo>
                      <a:pt x="1190" y="17"/>
                    </a:lnTo>
                    <a:lnTo>
                      <a:pt x="1351" y="38"/>
                    </a:lnTo>
                    <a:lnTo>
                      <a:pt x="1473" y="38"/>
                    </a:lnTo>
                    <a:lnTo>
                      <a:pt x="1797" y="57"/>
                    </a:lnTo>
                    <a:lnTo>
                      <a:pt x="1800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470400" y="3894120"/>
                <a:ext cx="1671480" cy="17640"/>
              </a:xfrm>
              <a:custGeom>
                <a:avLst/>
                <a:gdLst/>
                <a:ahLst/>
                <a:rect l="l" t="t" r="r" b="b"/>
                <a:pathLst>
                  <a:path w="5266" h="57">
                    <a:moveTo>
                      <a:pt x="5260" y="57"/>
                    </a:moveTo>
                    <a:lnTo>
                      <a:pt x="3746" y="57"/>
                    </a:lnTo>
                    <a:lnTo>
                      <a:pt x="3746" y="45"/>
                    </a:lnTo>
                    <a:lnTo>
                      <a:pt x="3758" y="0"/>
                    </a:lnTo>
                    <a:lnTo>
                      <a:pt x="5266" y="0"/>
                    </a:lnTo>
                    <a:lnTo>
                      <a:pt x="5260" y="25"/>
                    </a:lnTo>
                    <a:lnTo>
                      <a:pt x="5260" y="57"/>
                    </a:lnTo>
                    <a:close/>
                    <a:moveTo>
                      <a:pt x="1358" y="57"/>
                    </a:moveTo>
                    <a:lnTo>
                      <a:pt x="1081" y="57"/>
                    </a:lnTo>
                    <a:lnTo>
                      <a:pt x="1081" y="25"/>
                    </a:lnTo>
                    <a:lnTo>
                      <a:pt x="1263" y="45"/>
                    </a:lnTo>
                    <a:lnTo>
                      <a:pt x="1358" y="57"/>
                    </a:lnTo>
                    <a:close/>
                    <a:moveTo>
                      <a:pt x="1038" y="57"/>
                    </a:moveTo>
                    <a:lnTo>
                      <a:pt x="101" y="57"/>
                    </a:lnTo>
                    <a:lnTo>
                      <a:pt x="114" y="45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753" y="0"/>
                    </a:lnTo>
                    <a:lnTo>
                      <a:pt x="1038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433680" y="3884760"/>
                <a:ext cx="1711440" cy="17280"/>
              </a:xfrm>
              <a:custGeom>
                <a:avLst/>
                <a:gdLst/>
                <a:ahLst/>
                <a:rect l="l" t="t" r="r" b="b"/>
                <a:pathLst>
                  <a:path w="5388" h="57">
                    <a:moveTo>
                      <a:pt x="5375" y="57"/>
                    </a:moveTo>
                    <a:lnTo>
                      <a:pt x="3865" y="57"/>
                    </a:lnTo>
                    <a:lnTo>
                      <a:pt x="3881" y="0"/>
                    </a:lnTo>
                    <a:lnTo>
                      <a:pt x="5388" y="0"/>
                    </a:lnTo>
                    <a:lnTo>
                      <a:pt x="5375" y="54"/>
                    </a:lnTo>
                    <a:lnTo>
                      <a:pt x="5375" y="57"/>
                    </a:lnTo>
                    <a:close/>
                    <a:moveTo>
                      <a:pt x="1229" y="57"/>
                    </a:moveTo>
                    <a:lnTo>
                      <a:pt x="1196" y="57"/>
                    </a:lnTo>
                    <a:lnTo>
                      <a:pt x="1196" y="54"/>
                    </a:lnTo>
                    <a:lnTo>
                      <a:pt x="1229" y="57"/>
                    </a:lnTo>
                    <a:close/>
                    <a:moveTo>
                      <a:pt x="1011" y="57"/>
                    </a:moveTo>
                    <a:lnTo>
                      <a:pt x="195" y="57"/>
                    </a:lnTo>
                    <a:lnTo>
                      <a:pt x="147" y="3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726" y="0"/>
                    </a:lnTo>
                    <a:lnTo>
                      <a:pt x="101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416400" y="3875040"/>
                <a:ext cx="1731960" cy="19080"/>
              </a:xfrm>
              <a:custGeom>
                <a:avLst/>
                <a:gdLst/>
                <a:ahLst/>
                <a:rect l="l" t="t" r="r" b="b"/>
                <a:pathLst>
                  <a:path w="5454" h="57">
                    <a:moveTo>
                      <a:pt x="5438" y="57"/>
                    </a:moveTo>
                    <a:lnTo>
                      <a:pt x="3930" y="57"/>
                    </a:lnTo>
                    <a:lnTo>
                      <a:pt x="3945" y="0"/>
                    </a:lnTo>
                    <a:lnTo>
                      <a:pt x="5454" y="0"/>
                    </a:lnTo>
                    <a:lnTo>
                      <a:pt x="5453" y="1"/>
                    </a:lnTo>
                    <a:lnTo>
                      <a:pt x="5438" y="57"/>
                    </a:lnTo>
                    <a:close/>
                    <a:moveTo>
                      <a:pt x="925" y="57"/>
                    </a:moveTo>
                    <a:lnTo>
                      <a:pt x="172" y="57"/>
                    </a:lnTo>
                    <a:lnTo>
                      <a:pt x="82" y="41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925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397320" y="3867120"/>
                <a:ext cx="1754280" cy="17640"/>
              </a:xfrm>
              <a:custGeom>
                <a:avLst/>
                <a:gdLst/>
                <a:ahLst/>
                <a:rect l="l" t="t" r="r" b="b"/>
                <a:pathLst>
                  <a:path w="5525" h="57">
                    <a:moveTo>
                      <a:pt x="5503" y="57"/>
                    </a:moveTo>
                    <a:lnTo>
                      <a:pt x="3996" y="57"/>
                    </a:lnTo>
                    <a:lnTo>
                      <a:pt x="4012" y="0"/>
                    </a:lnTo>
                    <a:lnTo>
                      <a:pt x="5525" y="0"/>
                    </a:lnTo>
                    <a:lnTo>
                      <a:pt x="5511" y="30"/>
                    </a:lnTo>
                    <a:lnTo>
                      <a:pt x="5503" y="57"/>
                    </a:lnTo>
                    <a:close/>
                    <a:moveTo>
                      <a:pt x="841" y="57"/>
                    </a:moveTo>
                    <a:lnTo>
                      <a:pt x="115" y="57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605" y="10"/>
                    </a:lnTo>
                    <a:lnTo>
                      <a:pt x="84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379680" y="3857760"/>
                <a:ext cx="1776600" cy="17280"/>
              </a:xfrm>
              <a:custGeom>
                <a:avLst/>
                <a:gdLst/>
                <a:ahLst/>
                <a:rect l="l" t="t" r="r" b="b"/>
                <a:pathLst>
                  <a:path w="5597" h="58">
                    <a:moveTo>
                      <a:pt x="5570" y="58"/>
                    </a:moveTo>
                    <a:lnTo>
                      <a:pt x="4061" y="58"/>
                    </a:lnTo>
                    <a:lnTo>
                      <a:pt x="4077" y="0"/>
                    </a:lnTo>
                    <a:lnTo>
                      <a:pt x="5597" y="0"/>
                    </a:lnTo>
                    <a:lnTo>
                      <a:pt x="5570" y="58"/>
                    </a:lnTo>
                    <a:close/>
                    <a:moveTo>
                      <a:pt x="756" y="58"/>
                    </a:moveTo>
                    <a:lnTo>
                      <a:pt x="116" y="58"/>
                    </a:lnTo>
                    <a:lnTo>
                      <a:pt x="78" y="39"/>
                    </a:lnTo>
                    <a:lnTo>
                      <a:pt x="0" y="0"/>
                    </a:lnTo>
                    <a:lnTo>
                      <a:pt x="434" y="0"/>
                    </a:lnTo>
                    <a:lnTo>
                      <a:pt x="663" y="39"/>
                    </a:lnTo>
                    <a:lnTo>
                      <a:pt x="756" y="58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359160" y="3848040"/>
                <a:ext cx="1801800" cy="19080"/>
              </a:xfrm>
              <a:custGeom>
                <a:avLst/>
                <a:gdLst/>
                <a:ahLst/>
                <a:rect l="l" t="t" r="r" b="b"/>
                <a:pathLst>
                  <a:path w="5676" h="56">
                    <a:moveTo>
                      <a:pt x="5646" y="56"/>
                    </a:moveTo>
                    <a:lnTo>
                      <a:pt x="4133" y="56"/>
                    </a:lnTo>
                    <a:lnTo>
                      <a:pt x="4148" y="0"/>
                    </a:lnTo>
                    <a:lnTo>
                      <a:pt x="5676" y="0"/>
                    </a:lnTo>
                    <a:lnTo>
                      <a:pt x="5670" y="6"/>
                    </a:lnTo>
                    <a:lnTo>
                      <a:pt x="5646" y="56"/>
                    </a:lnTo>
                    <a:close/>
                    <a:moveTo>
                      <a:pt x="668" y="56"/>
                    </a:moveTo>
                    <a:lnTo>
                      <a:pt x="121" y="56"/>
                    </a:lnTo>
                    <a:lnTo>
                      <a:pt x="19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81" y="0"/>
                    </a:lnTo>
                    <a:lnTo>
                      <a:pt x="484" y="25"/>
                    </a:lnTo>
                    <a:lnTo>
                      <a:pt x="668" y="56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359160" y="3840120"/>
                <a:ext cx="1808280" cy="17640"/>
              </a:xfrm>
              <a:custGeom>
                <a:avLst/>
                <a:gdLst/>
                <a:ahLst/>
                <a:rect l="l" t="t" r="r" b="b"/>
                <a:pathLst>
                  <a:path w="5694" h="56">
                    <a:moveTo>
                      <a:pt x="5660" y="56"/>
                    </a:moveTo>
                    <a:lnTo>
                      <a:pt x="4140" y="56"/>
                    </a:lnTo>
                    <a:lnTo>
                      <a:pt x="4156" y="0"/>
                    </a:lnTo>
                    <a:lnTo>
                      <a:pt x="5694" y="0"/>
                    </a:lnTo>
                    <a:lnTo>
                      <a:pt x="5670" y="35"/>
                    </a:lnTo>
                    <a:lnTo>
                      <a:pt x="5660" y="56"/>
                    </a:lnTo>
                    <a:close/>
                    <a:moveTo>
                      <a:pt x="497" y="56"/>
                    </a:moveTo>
                    <a:lnTo>
                      <a:pt x="63" y="56"/>
                    </a:lnTo>
                    <a:lnTo>
                      <a:pt x="19" y="35"/>
                    </a:lnTo>
                    <a:lnTo>
                      <a:pt x="0" y="35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60" y="0"/>
                    </a:lnTo>
                    <a:lnTo>
                      <a:pt x="484" y="54"/>
                    </a:lnTo>
                    <a:lnTo>
                      <a:pt x="497" y="56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60600" y="3830760"/>
                <a:ext cx="1811520" cy="17280"/>
              </a:xfrm>
              <a:custGeom>
                <a:avLst/>
                <a:gdLst/>
                <a:ahLst/>
                <a:rect l="l" t="t" r="r" b="b"/>
                <a:pathLst>
                  <a:path w="5706" h="57">
                    <a:moveTo>
                      <a:pt x="5670" y="57"/>
                    </a:moveTo>
                    <a:lnTo>
                      <a:pt x="4142" y="57"/>
                    </a:lnTo>
                    <a:lnTo>
                      <a:pt x="4151" y="22"/>
                    </a:lnTo>
                    <a:lnTo>
                      <a:pt x="4173" y="1"/>
                    </a:lnTo>
                    <a:lnTo>
                      <a:pt x="4173" y="0"/>
                    </a:lnTo>
                    <a:lnTo>
                      <a:pt x="5706" y="0"/>
                    </a:lnTo>
                    <a:lnTo>
                      <a:pt x="5705" y="1"/>
                    </a:lnTo>
                    <a:lnTo>
                      <a:pt x="5670" y="57"/>
                    </a:lnTo>
                    <a:close/>
                    <a:moveTo>
                      <a:pt x="275" y="57"/>
                    </a:moveTo>
                    <a:lnTo>
                      <a:pt x="0" y="57"/>
                    </a:lnTo>
                    <a:lnTo>
                      <a:pt x="13" y="42"/>
                    </a:lnTo>
                    <a:lnTo>
                      <a:pt x="13" y="22"/>
                    </a:lnTo>
                    <a:lnTo>
                      <a:pt x="275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365640" y="3821040"/>
                <a:ext cx="1812960" cy="19080"/>
              </a:xfrm>
              <a:custGeom>
                <a:avLst/>
                <a:gdLst/>
                <a:ahLst/>
                <a:rect l="l" t="t" r="r" b="b"/>
                <a:pathLst>
                  <a:path w="5709" h="57">
                    <a:moveTo>
                      <a:pt x="5675" y="57"/>
                    </a:moveTo>
                    <a:lnTo>
                      <a:pt x="4137" y="57"/>
                    </a:lnTo>
                    <a:lnTo>
                      <a:pt x="4138" y="51"/>
                    </a:lnTo>
                    <a:lnTo>
                      <a:pt x="4160" y="30"/>
                    </a:lnTo>
                    <a:lnTo>
                      <a:pt x="4160" y="0"/>
                    </a:lnTo>
                    <a:lnTo>
                      <a:pt x="5709" y="0"/>
                    </a:lnTo>
                    <a:lnTo>
                      <a:pt x="5692" y="30"/>
                    </a:lnTo>
                    <a:lnTo>
                      <a:pt x="5675" y="57"/>
                    </a:lnTo>
                    <a:close/>
                    <a:moveTo>
                      <a:pt x="41" y="57"/>
                    </a:moveTo>
                    <a:lnTo>
                      <a:pt x="0" y="57"/>
                    </a:lnTo>
                    <a:lnTo>
                      <a:pt x="0" y="51"/>
                    </a:lnTo>
                    <a:lnTo>
                      <a:pt x="41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686480" y="3813120"/>
                <a:ext cx="495000" cy="17640"/>
              </a:xfrm>
              <a:custGeom>
                <a:avLst/>
                <a:gdLst/>
                <a:ahLst/>
                <a:rect l="l" t="t" r="r" b="b"/>
                <a:pathLst>
                  <a:path w="1563" h="57">
                    <a:moveTo>
                      <a:pt x="153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63" y="0"/>
                    </a:lnTo>
                    <a:lnTo>
                      <a:pt x="1533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86480" y="3803760"/>
                <a:ext cx="500040" cy="17280"/>
              </a:xfrm>
              <a:custGeom>
                <a:avLst/>
                <a:gdLst/>
                <a:ahLst/>
                <a:rect l="l" t="t" r="r" b="b"/>
                <a:pathLst>
                  <a:path w="1575" h="57">
                    <a:moveTo>
                      <a:pt x="154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75" y="0"/>
                    </a:lnTo>
                    <a:lnTo>
                      <a:pt x="1573" y="8"/>
                    </a:lnTo>
                    <a:lnTo>
                      <a:pt x="1549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686480" y="3794040"/>
                <a:ext cx="501480" cy="19080"/>
              </a:xfrm>
              <a:custGeom>
                <a:avLst/>
                <a:gdLst/>
                <a:ahLst/>
                <a:rect l="l" t="t" r="r" b="b"/>
                <a:pathLst>
                  <a:path w="1582" h="58">
                    <a:moveTo>
                      <a:pt x="1563" y="58"/>
                    </a:moveTo>
                    <a:lnTo>
                      <a:pt x="0" y="5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582" y="0"/>
                    </a:lnTo>
                    <a:lnTo>
                      <a:pt x="1573" y="37"/>
                    </a:lnTo>
                    <a:lnTo>
                      <a:pt x="1563" y="58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84680" y="378468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4" h="57">
                    <a:moveTo>
                      <a:pt x="1581" y="57"/>
                    </a:moveTo>
                    <a:lnTo>
                      <a:pt x="6" y="57"/>
                    </a:lnTo>
                    <a:lnTo>
                      <a:pt x="6" y="44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594" y="0"/>
                    </a:lnTo>
                    <a:lnTo>
                      <a:pt x="1581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678200" y="3776760"/>
                <a:ext cx="514440" cy="172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04" y="57"/>
                    </a:moveTo>
                    <a:lnTo>
                      <a:pt x="22" y="57"/>
                    </a:lnTo>
                    <a:lnTo>
                      <a:pt x="22" y="3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18" y="0"/>
                    </a:lnTo>
                    <a:lnTo>
                      <a:pt x="1614" y="12"/>
                    </a:lnTo>
                    <a:lnTo>
                      <a:pt x="1604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678200" y="3767040"/>
                <a:ext cx="516240" cy="17640"/>
              </a:xfrm>
              <a:custGeom>
                <a:avLst/>
                <a:gdLst/>
                <a:ahLst/>
                <a:rect l="l" t="t" r="r" b="b"/>
                <a:pathLst>
                  <a:path w="1624" h="57">
                    <a:moveTo>
                      <a:pt x="1610" y="57"/>
                    </a:moveTo>
                    <a:lnTo>
                      <a:pt x="16" y="5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24" y="0"/>
                    </a:lnTo>
                    <a:lnTo>
                      <a:pt x="1614" y="40"/>
                    </a:lnTo>
                    <a:lnTo>
                      <a:pt x="1610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678200" y="3757680"/>
                <a:ext cx="517680" cy="190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78200" y="3747960"/>
                <a:ext cx="519120" cy="19080"/>
              </a:xfrm>
              <a:custGeom>
                <a:avLst/>
                <a:gdLst/>
                <a:ahLst/>
                <a:rect l="l" t="t" r="r" b="b"/>
                <a:pathLst>
                  <a:path w="1635" h="58">
                    <a:moveTo>
                      <a:pt x="1624" y="58"/>
                    </a:moveTo>
                    <a:lnTo>
                      <a:pt x="0" y="58"/>
                    </a:lnTo>
                    <a:lnTo>
                      <a:pt x="0" y="17"/>
                    </a:lnTo>
                    <a:lnTo>
                      <a:pt x="7" y="0"/>
                    </a:lnTo>
                    <a:lnTo>
                      <a:pt x="1635" y="0"/>
                    </a:lnTo>
                    <a:lnTo>
                      <a:pt x="1624" y="58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678200" y="3740040"/>
                <a:ext cx="520920" cy="17640"/>
              </a:xfrm>
              <a:custGeom>
                <a:avLst/>
                <a:gdLst/>
                <a:ahLst/>
                <a:rect l="l" t="t" r="r" b="b"/>
                <a:pathLst>
                  <a:path w="1636" h="57">
                    <a:moveTo>
                      <a:pt x="1629" y="57"/>
                    </a:moveTo>
                    <a:lnTo>
                      <a:pt x="0" y="57"/>
                    </a:lnTo>
                    <a:lnTo>
                      <a:pt x="0" y="45"/>
                    </a:lnTo>
                    <a:lnTo>
                      <a:pt x="18" y="0"/>
                    </a:lnTo>
                    <a:lnTo>
                      <a:pt x="1636" y="0"/>
                    </a:lnTo>
                    <a:lnTo>
                      <a:pt x="1636" y="25"/>
                    </a:lnTo>
                    <a:lnTo>
                      <a:pt x="1629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681440" y="3730680"/>
                <a:ext cx="517680" cy="172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28" y="57"/>
                    </a:moveTo>
                    <a:lnTo>
                      <a:pt x="0" y="57"/>
                    </a:lnTo>
                    <a:lnTo>
                      <a:pt x="23" y="0"/>
                    </a:lnTo>
                    <a:lnTo>
                      <a:pt x="1629" y="0"/>
                    </a:lnTo>
                    <a:lnTo>
                      <a:pt x="1629" y="54"/>
                    </a:lnTo>
                    <a:lnTo>
                      <a:pt x="1628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684680" y="3720960"/>
                <a:ext cx="514440" cy="190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618" y="0"/>
                    </a:lnTo>
                    <a:lnTo>
                      <a:pt x="1618" y="2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687920" y="3713040"/>
                <a:ext cx="511200" cy="17640"/>
              </a:xfrm>
              <a:custGeom>
                <a:avLst/>
                <a:gdLst/>
                <a:ahLst/>
                <a:rect l="l" t="t" r="r" b="b"/>
                <a:pathLst>
                  <a:path w="1606" h="57">
                    <a:moveTo>
                      <a:pt x="1606" y="57"/>
                    </a:moveTo>
                    <a:lnTo>
                      <a:pt x="0" y="57"/>
                    </a:lnTo>
                    <a:lnTo>
                      <a:pt x="11" y="31"/>
                    </a:lnTo>
                    <a:lnTo>
                      <a:pt x="16" y="0"/>
                    </a:lnTo>
                    <a:lnTo>
                      <a:pt x="1606" y="0"/>
                    </a:lnTo>
                    <a:lnTo>
                      <a:pt x="1606" y="31"/>
                    </a:lnTo>
                    <a:lnTo>
                      <a:pt x="1606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692600" y="3703680"/>
                <a:ext cx="506520" cy="17280"/>
              </a:xfrm>
              <a:custGeom>
                <a:avLst/>
                <a:gdLst/>
                <a:ahLst/>
                <a:rect l="l" t="t" r="r" b="b"/>
                <a:pathLst>
                  <a:path w="1595" h="57">
                    <a:moveTo>
                      <a:pt x="159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5" y="0"/>
                    </a:lnTo>
                    <a:lnTo>
                      <a:pt x="1595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694400" y="369396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0" h="57">
                    <a:moveTo>
                      <a:pt x="1590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0" y="0"/>
                    </a:lnTo>
                    <a:lnTo>
                      <a:pt x="1590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695840" y="3686040"/>
                <a:ext cx="503280" cy="17640"/>
              </a:xfrm>
              <a:custGeom>
                <a:avLst/>
                <a:gdLst/>
                <a:ahLst/>
                <a:rect l="l" t="t" r="r" b="b"/>
                <a:pathLst>
                  <a:path w="1585" h="57">
                    <a:moveTo>
                      <a:pt x="158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78" y="0"/>
                    </a:lnTo>
                    <a:lnTo>
                      <a:pt x="1585" y="15"/>
                    </a:lnTo>
                    <a:lnTo>
                      <a:pt x="1585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697280" y="3676680"/>
                <a:ext cx="501840" cy="17280"/>
              </a:xfrm>
              <a:custGeom>
                <a:avLst/>
                <a:gdLst/>
                <a:ahLst/>
                <a:rect l="l" t="t" r="r" b="b"/>
                <a:pathLst>
                  <a:path w="1580" h="56">
                    <a:moveTo>
                      <a:pt x="1580" y="56"/>
                    </a:moveTo>
                    <a:lnTo>
                      <a:pt x="0" y="56"/>
                    </a:lnTo>
                    <a:lnTo>
                      <a:pt x="6" y="23"/>
                    </a:lnTo>
                    <a:lnTo>
                      <a:pt x="16" y="0"/>
                    </a:lnTo>
                    <a:lnTo>
                      <a:pt x="1557" y="0"/>
                    </a:lnTo>
                    <a:lnTo>
                      <a:pt x="1580" y="43"/>
                    </a:lnTo>
                    <a:lnTo>
                      <a:pt x="1580" y="56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699080" y="3666960"/>
                <a:ext cx="496800" cy="19080"/>
              </a:xfrm>
              <a:custGeom>
                <a:avLst/>
                <a:gdLst/>
                <a:ahLst/>
                <a:rect l="l" t="t" r="r" b="b"/>
                <a:pathLst>
                  <a:path w="1568" h="57">
                    <a:moveTo>
                      <a:pt x="1568" y="57"/>
                    </a:moveTo>
                    <a:lnTo>
                      <a:pt x="0" y="57"/>
                    </a:lnTo>
                    <a:lnTo>
                      <a:pt x="1" y="52"/>
                    </a:lnTo>
                    <a:lnTo>
                      <a:pt x="21" y="0"/>
                    </a:lnTo>
                    <a:lnTo>
                      <a:pt x="1538" y="0"/>
                    </a:lnTo>
                    <a:lnTo>
                      <a:pt x="1568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702320" y="3659040"/>
                <a:ext cx="488880" cy="17640"/>
              </a:xfrm>
              <a:custGeom>
                <a:avLst/>
                <a:gdLst/>
                <a:ahLst/>
                <a:rect l="l" t="t" r="r" b="b"/>
                <a:pathLst>
                  <a:path w="1541" h="57">
                    <a:moveTo>
                      <a:pt x="15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513" y="0"/>
                    </a:lnTo>
                    <a:lnTo>
                      <a:pt x="1523" y="20"/>
                    </a:lnTo>
                    <a:lnTo>
                      <a:pt x="1541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705200" y="3649680"/>
                <a:ext cx="481320" cy="17280"/>
              </a:xfrm>
              <a:custGeom>
                <a:avLst/>
                <a:gdLst/>
                <a:ahLst/>
                <a:rect l="l" t="t" r="r" b="b"/>
                <a:pathLst>
                  <a:path w="1517" h="57">
                    <a:moveTo>
                      <a:pt x="1517" y="57"/>
                    </a:moveTo>
                    <a:lnTo>
                      <a:pt x="0" y="57"/>
                    </a:lnTo>
                    <a:lnTo>
                      <a:pt x="19" y="8"/>
                    </a:lnTo>
                    <a:lnTo>
                      <a:pt x="24" y="0"/>
                    </a:lnTo>
                    <a:lnTo>
                      <a:pt x="1489" y="0"/>
                    </a:lnTo>
                    <a:lnTo>
                      <a:pt x="1513" y="49"/>
                    </a:lnTo>
                    <a:lnTo>
                      <a:pt x="1517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708440" y="3639960"/>
                <a:ext cx="473040" cy="19080"/>
              </a:xfrm>
              <a:custGeom>
                <a:avLst/>
                <a:gdLst/>
                <a:ahLst/>
                <a:rect l="l" t="t" r="r" b="b"/>
                <a:pathLst>
                  <a:path w="1492" h="57">
                    <a:moveTo>
                      <a:pt x="1492" y="57"/>
                    </a:moveTo>
                    <a:lnTo>
                      <a:pt x="0" y="57"/>
                    </a:lnTo>
                    <a:lnTo>
                      <a:pt x="8" y="36"/>
                    </a:lnTo>
                    <a:lnTo>
                      <a:pt x="31" y="0"/>
                    </a:lnTo>
                    <a:lnTo>
                      <a:pt x="1463" y="0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713120" y="3630600"/>
                <a:ext cx="465480" cy="19080"/>
              </a:xfrm>
              <a:custGeom>
                <a:avLst/>
                <a:gdLst/>
                <a:ahLst/>
                <a:rect l="l" t="t" r="r" b="b"/>
                <a:pathLst>
                  <a:path w="1465" h="57">
                    <a:moveTo>
                      <a:pt x="1465" y="57"/>
                    </a:moveTo>
                    <a:lnTo>
                      <a:pt x="0" y="57"/>
                    </a:lnTo>
                    <a:lnTo>
                      <a:pt x="35" y="0"/>
                    </a:lnTo>
                    <a:lnTo>
                      <a:pt x="1436" y="0"/>
                    </a:lnTo>
                    <a:lnTo>
                      <a:pt x="1465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18160" y="3622680"/>
                <a:ext cx="455400" cy="17280"/>
              </a:xfrm>
              <a:custGeom>
                <a:avLst/>
                <a:gdLst/>
                <a:ahLst/>
                <a:rect l="l" t="t" r="r" b="b"/>
                <a:pathLst>
                  <a:path w="1432" h="58">
                    <a:moveTo>
                      <a:pt x="1432" y="58"/>
                    </a:moveTo>
                    <a:lnTo>
                      <a:pt x="0" y="58"/>
                    </a:lnTo>
                    <a:lnTo>
                      <a:pt x="34" y="0"/>
                    </a:lnTo>
                    <a:lnTo>
                      <a:pt x="1404" y="0"/>
                    </a:lnTo>
                    <a:lnTo>
                      <a:pt x="1432" y="58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724280" y="3613320"/>
                <a:ext cx="444600" cy="17280"/>
              </a:xfrm>
              <a:custGeom>
                <a:avLst/>
                <a:gdLst/>
                <a:ahLst/>
                <a:rect l="l" t="t" r="r" b="b"/>
                <a:pathLst>
                  <a:path w="1401" h="57">
                    <a:moveTo>
                      <a:pt x="1401" y="57"/>
                    </a:moveTo>
                    <a:lnTo>
                      <a:pt x="0" y="57"/>
                    </a:lnTo>
                    <a:lnTo>
                      <a:pt x="21" y="21"/>
                    </a:lnTo>
                    <a:lnTo>
                      <a:pt x="31" y="0"/>
                    </a:lnTo>
                    <a:lnTo>
                      <a:pt x="1372" y="0"/>
                    </a:lnTo>
                    <a:lnTo>
                      <a:pt x="1372" y="1"/>
                    </a:lnTo>
                    <a:lnTo>
                      <a:pt x="1401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729320" y="3603600"/>
                <a:ext cx="434880" cy="19080"/>
              </a:xfrm>
              <a:custGeom>
                <a:avLst/>
                <a:gdLst/>
                <a:ahLst/>
                <a:rect l="l" t="t" r="r" b="b"/>
                <a:pathLst>
                  <a:path w="1370" h="57">
                    <a:moveTo>
                      <a:pt x="1370" y="57"/>
                    </a:moveTo>
                    <a:lnTo>
                      <a:pt x="0" y="57"/>
                    </a:lnTo>
                    <a:lnTo>
                      <a:pt x="4" y="50"/>
                    </a:lnTo>
                    <a:lnTo>
                      <a:pt x="24" y="0"/>
                    </a:lnTo>
                    <a:lnTo>
                      <a:pt x="1346" y="0"/>
                    </a:lnTo>
                    <a:lnTo>
                      <a:pt x="1355" y="30"/>
                    </a:lnTo>
                    <a:lnTo>
                      <a:pt x="1370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734000" y="3595680"/>
                <a:ext cx="425520" cy="17640"/>
              </a:xfrm>
              <a:custGeom>
                <a:avLst/>
                <a:gdLst/>
                <a:ahLst/>
                <a:rect l="l" t="t" r="r" b="b"/>
                <a:pathLst>
                  <a:path w="1341" h="57">
                    <a:moveTo>
                      <a:pt x="13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323" y="0"/>
                    </a:lnTo>
                    <a:lnTo>
                      <a:pt x="1341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37240" y="3586320"/>
                <a:ext cx="419040" cy="17280"/>
              </a:xfrm>
              <a:custGeom>
                <a:avLst/>
                <a:gdLst/>
                <a:ahLst/>
                <a:rect l="l" t="t" r="r" b="b"/>
                <a:pathLst>
                  <a:path w="1322" h="57">
                    <a:moveTo>
                      <a:pt x="1322" y="57"/>
                    </a:moveTo>
                    <a:lnTo>
                      <a:pt x="0" y="5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300" y="0"/>
                    </a:lnTo>
                    <a:lnTo>
                      <a:pt x="1312" y="27"/>
                    </a:lnTo>
                    <a:lnTo>
                      <a:pt x="132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740120" y="3576600"/>
                <a:ext cx="412920" cy="19080"/>
              </a:xfrm>
              <a:custGeom>
                <a:avLst/>
                <a:gdLst/>
                <a:ahLst/>
                <a:rect l="l" t="t" r="r" b="b"/>
                <a:pathLst>
                  <a:path w="1302" h="57">
                    <a:moveTo>
                      <a:pt x="1302" y="57"/>
                    </a:moveTo>
                    <a:lnTo>
                      <a:pt x="0" y="57"/>
                    </a:lnTo>
                    <a:lnTo>
                      <a:pt x="8" y="35"/>
                    </a:lnTo>
                    <a:lnTo>
                      <a:pt x="8" y="0"/>
                    </a:lnTo>
                    <a:lnTo>
                      <a:pt x="1253" y="0"/>
                    </a:lnTo>
                    <a:lnTo>
                      <a:pt x="1282" y="14"/>
                    </a:lnTo>
                    <a:lnTo>
                      <a:pt x="1301" y="55"/>
                    </a:lnTo>
                    <a:lnTo>
                      <a:pt x="130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743360" y="3567240"/>
                <a:ext cx="406440" cy="19080"/>
              </a:xfrm>
              <a:custGeom>
                <a:avLst/>
                <a:gdLst/>
                <a:ahLst/>
                <a:rect l="l" t="t" r="r" b="b"/>
                <a:pathLst>
                  <a:path w="1281" h="57">
                    <a:moveTo>
                      <a:pt x="1281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95" y="0"/>
                    </a:lnTo>
                    <a:lnTo>
                      <a:pt x="1234" y="23"/>
                    </a:lnTo>
                    <a:lnTo>
                      <a:pt x="1274" y="43"/>
                    </a:lnTo>
                    <a:lnTo>
                      <a:pt x="1281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743360" y="3559320"/>
                <a:ext cx="395280" cy="17280"/>
              </a:xfrm>
              <a:custGeom>
                <a:avLst/>
                <a:gdLst/>
                <a:ahLst/>
                <a:rect l="l" t="t" r="r" b="b"/>
                <a:pathLst>
                  <a:path w="1245" h="58">
                    <a:moveTo>
                      <a:pt x="1245" y="58"/>
                    </a:moveTo>
                    <a:lnTo>
                      <a:pt x="0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147" y="0"/>
                    </a:lnTo>
                    <a:lnTo>
                      <a:pt x="1234" y="52"/>
                    </a:lnTo>
                    <a:lnTo>
                      <a:pt x="1245" y="58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743360" y="3549600"/>
                <a:ext cx="379440" cy="17640"/>
              </a:xfrm>
              <a:custGeom>
                <a:avLst/>
                <a:gdLst/>
                <a:ahLst/>
                <a:rect l="l" t="t" r="r" b="b"/>
                <a:pathLst>
                  <a:path w="1195" h="57">
                    <a:moveTo>
                      <a:pt x="1195" y="57"/>
                    </a:moveTo>
                    <a:lnTo>
                      <a:pt x="0" y="57"/>
                    </a:lnTo>
                    <a:lnTo>
                      <a:pt x="0" y="20"/>
                    </a:lnTo>
                    <a:lnTo>
                      <a:pt x="39" y="0"/>
                    </a:lnTo>
                    <a:lnTo>
                      <a:pt x="1072" y="0"/>
                    </a:lnTo>
                    <a:lnTo>
                      <a:pt x="1133" y="20"/>
                    </a:lnTo>
                    <a:lnTo>
                      <a:pt x="1195" y="57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743360" y="3540240"/>
                <a:ext cx="363600" cy="19080"/>
              </a:xfrm>
              <a:custGeom>
                <a:avLst/>
                <a:gdLst/>
                <a:ahLst/>
                <a:rect l="l" t="t" r="r" b="b"/>
                <a:pathLst>
                  <a:path w="1147" h="57">
                    <a:moveTo>
                      <a:pt x="1147" y="57"/>
                    </a:moveTo>
                    <a:lnTo>
                      <a:pt x="0" y="57"/>
                    </a:lnTo>
                    <a:lnTo>
                      <a:pt x="0" y="49"/>
                    </a:lnTo>
                    <a:lnTo>
                      <a:pt x="41" y="28"/>
                    </a:lnTo>
                    <a:lnTo>
                      <a:pt x="69" y="0"/>
                    </a:lnTo>
                    <a:lnTo>
                      <a:pt x="1000" y="0"/>
                    </a:lnTo>
                    <a:lnTo>
                      <a:pt x="1010" y="8"/>
                    </a:lnTo>
                    <a:lnTo>
                      <a:pt x="1133" y="49"/>
                    </a:lnTo>
                    <a:lnTo>
                      <a:pt x="1147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754520" y="3532320"/>
                <a:ext cx="328680" cy="17280"/>
              </a:xfrm>
              <a:custGeom>
                <a:avLst/>
                <a:gdLst/>
                <a:ahLst/>
                <a:rect l="l" t="t" r="r" b="b"/>
                <a:pathLst>
                  <a:path w="1033" h="57">
                    <a:moveTo>
                      <a:pt x="1033" y="57"/>
                    </a:moveTo>
                    <a:lnTo>
                      <a:pt x="0" y="57"/>
                    </a:lnTo>
                    <a:lnTo>
                      <a:pt x="2" y="56"/>
                    </a:lnTo>
                    <a:lnTo>
                      <a:pt x="43" y="15"/>
                    </a:lnTo>
                    <a:lnTo>
                      <a:pt x="83" y="0"/>
                    </a:lnTo>
                    <a:lnTo>
                      <a:pt x="922" y="0"/>
                    </a:lnTo>
                    <a:lnTo>
                      <a:pt x="971" y="36"/>
                    </a:lnTo>
                    <a:lnTo>
                      <a:pt x="1033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764240" y="3522600"/>
                <a:ext cx="296640" cy="17640"/>
              </a:xfrm>
              <a:custGeom>
                <a:avLst/>
                <a:gdLst/>
                <a:ahLst/>
                <a:rect l="l" t="t" r="r" b="b"/>
                <a:pathLst>
                  <a:path w="931" h="57">
                    <a:moveTo>
                      <a:pt x="931" y="57"/>
                    </a:moveTo>
                    <a:lnTo>
                      <a:pt x="0" y="57"/>
                    </a:lnTo>
                    <a:lnTo>
                      <a:pt x="13" y="44"/>
                    </a:lnTo>
                    <a:lnTo>
                      <a:pt x="114" y="5"/>
                    </a:lnTo>
                    <a:lnTo>
                      <a:pt x="138" y="0"/>
                    </a:lnTo>
                    <a:lnTo>
                      <a:pt x="842" y="0"/>
                    </a:lnTo>
                    <a:lnTo>
                      <a:pt x="860" y="5"/>
                    </a:lnTo>
                    <a:lnTo>
                      <a:pt x="931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781520" y="3513240"/>
                <a:ext cx="266760" cy="19080"/>
              </a:xfrm>
              <a:custGeom>
                <a:avLst/>
                <a:gdLst/>
                <a:ahLst/>
                <a:rect l="l" t="t" r="r" b="b"/>
                <a:pathLst>
                  <a:path w="839" h="57">
                    <a:moveTo>
                      <a:pt x="839" y="57"/>
                    </a:moveTo>
                    <a:lnTo>
                      <a:pt x="0" y="57"/>
                    </a:lnTo>
                    <a:lnTo>
                      <a:pt x="61" y="33"/>
                    </a:lnTo>
                    <a:lnTo>
                      <a:pt x="162" y="12"/>
                    </a:lnTo>
                    <a:lnTo>
                      <a:pt x="225" y="0"/>
                    </a:lnTo>
                    <a:lnTo>
                      <a:pt x="685" y="0"/>
                    </a:lnTo>
                    <a:lnTo>
                      <a:pt x="728" y="12"/>
                    </a:lnTo>
                    <a:lnTo>
                      <a:pt x="807" y="33"/>
                    </a:lnTo>
                    <a:lnTo>
                      <a:pt x="839" y="57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808520" y="3505320"/>
                <a:ext cx="223920" cy="17280"/>
              </a:xfrm>
              <a:custGeom>
                <a:avLst/>
                <a:gdLst/>
                <a:ahLst/>
                <a:rect l="l" t="t" r="r" b="b"/>
                <a:pathLst>
                  <a:path w="704" h="56">
                    <a:moveTo>
                      <a:pt x="704" y="56"/>
                    </a:moveTo>
                    <a:lnTo>
                      <a:pt x="0" y="56"/>
                    </a:lnTo>
                    <a:lnTo>
                      <a:pt x="77" y="40"/>
                    </a:lnTo>
                    <a:lnTo>
                      <a:pt x="177" y="20"/>
                    </a:lnTo>
                    <a:lnTo>
                      <a:pt x="360" y="20"/>
                    </a:lnTo>
                    <a:lnTo>
                      <a:pt x="441" y="0"/>
                    </a:lnTo>
                    <a:lnTo>
                      <a:pt x="501" y="0"/>
                    </a:lnTo>
                    <a:lnTo>
                      <a:pt x="643" y="40"/>
                    </a:lnTo>
                    <a:lnTo>
                      <a:pt x="704" y="56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853160" y="3505320"/>
                <a:ext cx="145800" cy="7920"/>
              </a:xfrm>
              <a:custGeom>
                <a:avLst/>
                <a:gdLst/>
                <a:ahLst/>
                <a:rect l="l" t="t" r="r" b="b"/>
                <a:pathLst>
                  <a:path w="460" h="28">
                    <a:moveTo>
                      <a:pt x="460" y="28"/>
                    </a:moveTo>
                    <a:lnTo>
                      <a:pt x="0" y="28"/>
                    </a:lnTo>
                    <a:lnTo>
                      <a:pt x="37" y="20"/>
                    </a:lnTo>
                    <a:lnTo>
                      <a:pt x="220" y="20"/>
                    </a:lnTo>
                    <a:lnTo>
                      <a:pt x="301" y="0"/>
                    </a:lnTo>
                    <a:lnTo>
                      <a:pt x="361" y="0"/>
                    </a:lnTo>
                    <a:lnTo>
                      <a:pt x="46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8120" y="3352680"/>
            <a:ext cx="4724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iving H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"/>
          <p:cNvGrpSpPr/>
          <p:nvPr/>
        </p:nvGrpSpPr>
        <p:grpSpPr>
          <a:xfrm>
            <a:off x="2448360" y="1582560"/>
            <a:ext cx="4444560" cy="4456800"/>
            <a:chOff x="2448360" y="1582560"/>
            <a:chExt cx="4444560" cy="4456800"/>
          </a:xfrm>
        </p:grpSpPr>
        <p:grpSp>
          <p:nvGrpSpPr>
            <p:cNvPr id="1483" name=""/>
            <p:cNvGrpSpPr/>
            <p:nvPr/>
          </p:nvGrpSpPr>
          <p:grpSpPr>
            <a:xfrm>
              <a:off x="2448360" y="2313000"/>
              <a:ext cx="4444560" cy="3726360"/>
              <a:chOff x="2448360" y="2313000"/>
              <a:chExt cx="4444560" cy="3726360"/>
            </a:xfrm>
          </p:grpSpPr>
          <p:sp>
            <p:nvSpPr>
              <p:cNvPr id="1484" name=""/>
              <p:cNvSpPr/>
              <p:nvPr/>
            </p:nvSpPr>
            <p:spPr>
              <a:xfrm>
                <a:off x="2448360" y="5003640"/>
                <a:ext cx="44445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UNLESS YOU CHOOSE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82680" y="5521320"/>
                <a:ext cx="3162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TO MAKE IT SO!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64280" y="4797360"/>
                <a:ext cx="106200" cy="12600"/>
              </a:xfrm>
              <a:custGeom>
                <a:avLst/>
                <a:gdLst/>
                <a:ahLst/>
                <a:rect l="l" t="t" r="r" b="b"/>
                <a:pathLst>
                  <a:path w="401" h="48">
                    <a:moveTo>
                      <a:pt x="0" y="0"/>
                    </a:moveTo>
                    <a:lnTo>
                      <a:pt x="401" y="0"/>
                    </a:lnTo>
                    <a:lnTo>
                      <a:pt x="44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51320" y="478476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612" h="97">
                    <a:moveTo>
                      <a:pt x="0" y="0"/>
                    </a:moveTo>
                    <a:lnTo>
                      <a:pt x="612" y="0"/>
                    </a:lnTo>
                    <a:lnTo>
                      <a:pt x="612" y="26"/>
                    </a:lnTo>
                    <a:lnTo>
                      <a:pt x="92" y="97"/>
                    </a:lnTo>
                    <a:lnTo>
                      <a:pt x="29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202360" y="477216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793" h="96">
                    <a:moveTo>
                      <a:pt x="630" y="96"/>
                    </a:moveTo>
                    <a:lnTo>
                      <a:pt x="229" y="96"/>
                    </a:lnTo>
                    <a:lnTo>
                      <a:pt x="210" y="73"/>
                    </a:lnTo>
                    <a:lnTo>
                      <a:pt x="140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793" y="0"/>
                    </a:lnTo>
                    <a:lnTo>
                      <a:pt x="793" y="73"/>
                    </a:lnTo>
                    <a:lnTo>
                      <a:pt x="630" y="96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192640" y="4759200"/>
                <a:ext cx="220680" cy="25560"/>
              </a:xfrm>
              <a:custGeom>
                <a:avLst/>
                <a:gdLst/>
                <a:ahLst/>
                <a:rect l="l" t="t" r="r" b="b"/>
                <a:pathLst>
                  <a:path w="831" h="95">
                    <a:moveTo>
                      <a:pt x="831" y="95"/>
                    </a:moveTo>
                    <a:lnTo>
                      <a:pt x="219" y="95"/>
                    </a:lnTo>
                    <a:lnTo>
                      <a:pt x="178" y="58"/>
                    </a:lnTo>
                    <a:lnTo>
                      <a:pt x="46" y="58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31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183280" y="4746600"/>
                <a:ext cx="230040" cy="25560"/>
              </a:xfrm>
              <a:custGeom>
                <a:avLst/>
                <a:gdLst/>
                <a:ahLst/>
                <a:rect l="l" t="t" r="r" b="b"/>
                <a:pathLst>
                  <a:path w="868" h="95">
                    <a:moveTo>
                      <a:pt x="868" y="95"/>
                    </a:moveTo>
                    <a:lnTo>
                      <a:pt x="75" y="9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804" y="47"/>
                    </a:lnTo>
                    <a:lnTo>
                      <a:pt x="868" y="47"/>
                    </a:lnTo>
                    <a:lnTo>
                      <a:pt x="868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222800" y="4734000"/>
                <a:ext cx="1190520" cy="25200"/>
              </a:xfrm>
              <a:custGeom>
                <a:avLst/>
                <a:gdLst/>
                <a:ahLst/>
                <a:rect l="l" t="t" r="r" b="b"/>
                <a:pathLst>
                  <a:path w="4498" h="95">
                    <a:moveTo>
                      <a:pt x="4498" y="95"/>
                    </a:moveTo>
                    <a:lnTo>
                      <a:pt x="3667" y="95"/>
                    </a:lnTo>
                    <a:lnTo>
                      <a:pt x="3592" y="0"/>
                    </a:lnTo>
                    <a:lnTo>
                      <a:pt x="4275" y="0"/>
                    </a:lnTo>
                    <a:lnTo>
                      <a:pt x="4301" y="26"/>
                    </a:lnTo>
                    <a:lnTo>
                      <a:pt x="4434" y="95"/>
                    </a:lnTo>
                    <a:lnTo>
                      <a:pt x="4498" y="95"/>
                    </a:lnTo>
                    <a:lnTo>
                      <a:pt x="4498" y="95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39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300" y="0"/>
                    </a:moveTo>
                    <a:lnTo>
                      <a:pt x="3389" y="0"/>
                    </a:lnTo>
                    <a:lnTo>
                      <a:pt x="3389" y="26"/>
                    </a:lnTo>
                    <a:lnTo>
                      <a:pt x="3326" y="26"/>
                    </a:lnTo>
                    <a:lnTo>
                      <a:pt x="3300" y="0"/>
                    </a:lnTo>
                    <a:close/>
                  </a:path>
                </a:pathLst>
              </a:custGeom>
              <a:solidFill>
                <a:srgbClr val="7fc4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97160" y="4721400"/>
                <a:ext cx="1275120" cy="25200"/>
              </a:xfrm>
              <a:custGeom>
                <a:avLst/>
                <a:gdLst/>
                <a:ahLst/>
                <a:rect l="l" t="t" r="r" b="b"/>
                <a:pathLst>
                  <a:path w="4818" h="95">
                    <a:moveTo>
                      <a:pt x="4818" y="95"/>
                    </a:moveTo>
                    <a:lnTo>
                      <a:pt x="4105" y="95"/>
                    </a:lnTo>
                    <a:lnTo>
                      <a:pt x="4030" y="0"/>
                    </a:lnTo>
                    <a:lnTo>
                      <a:pt x="4701" y="0"/>
                    </a:lnTo>
                    <a:lnTo>
                      <a:pt x="4776" y="73"/>
                    </a:lnTo>
                    <a:lnTo>
                      <a:pt x="4818" y="95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19" y="9"/>
                    </a:lnTo>
                    <a:lnTo>
                      <a:pt x="0" y="0"/>
                    </a:lnTo>
                    <a:close/>
                    <a:moveTo>
                      <a:pt x="475" y="0"/>
                    </a:moveTo>
                    <a:lnTo>
                      <a:pt x="998" y="0"/>
                    </a:lnTo>
                    <a:lnTo>
                      <a:pt x="998" y="9"/>
                    </a:lnTo>
                    <a:lnTo>
                      <a:pt x="929" y="9"/>
                    </a:lnTo>
                    <a:lnTo>
                      <a:pt x="866" y="73"/>
                    </a:lnTo>
                    <a:lnTo>
                      <a:pt x="475" y="73"/>
                    </a:lnTo>
                    <a:lnTo>
                      <a:pt x="475" y="0"/>
                    </a:lnTo>
                    <a:close/>
                    <a:moveTo>
                      <a:pt x="3727" y="0"/>
                    </a:moveTo>
                    <a:lnTo>
                      <a:pt x="3864" y="0"/>
                    </a:lnTo>
                    <a:lnTo>
                      <a:pt x="3864" y="73"/>
                    </a:lnTo>
                    <a:lnTo>
                      <a:pt x="3801" y="73"/>
                    </a:lnTo>
                    <a:lnTo>
                      <a:pt x="3737" y="9"/>
                    </a:lnTo>
                    <a:lnTo>
                      <a:pt x="3727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073400" y="4708440"/>
                <a:ext cx="1279800" cy="25560"/>
              </a:xfrm>
              <a:custGeom>
                <a:avLst/>
                <a:gdLst/>
                <a:ahLst/>
                <a:rect l="l" t="t" r="r" b="b"/>
                <a:pathLst>
                  <a:path w="4840" h="95">
                    <a:moveTo>
                      <a:pt x="4840" y="95"/>
                    </a:moveTo>
                    <a:lnTo>
                      <a:pt x="4157" y="95"/>
                    </a:lnTo>
                    <a:lnTo>
                      <a:pt x="4082" y="0"/>
                    </a:lnTo>
                    <a:lnTo>
                      <a:pt x="4742" y="0"/>
                    </a:lnTo>
                    <a:lnTo>
                      <a:pt x="4840" y="95"/>
                    </a:lnTo>
                    <a:close/>
                    <a:moveTo>
                      <a:pt x="3954" y="95"/>
                    </a:moveTo>
                    <a:lnTo>
                      <a:pt x="3865" y="95"/>
                    </a:lnTo>
                    <a:lnTo>
                      <a:pt x="3827" y="57"/>
                    </a:lnTo>
                    <a:lnTo>
                      <a:pt x="3770" y="0"/>
                    </a:lnTo>
                    <a:lnTo>
                      <a:pt x="3954" y="0"/>
                    </a:lnTo>
                    <a:lnTo>
                      <a:pt x="3954" y="95"/>
                    </a:lnTo>
                    <a:close/>
                    <a:moveTo>
                      <a:pt x="981" y="95"/>
                    </a:moveTo>
                    <a:lnTo>
                      <a:pt x="565" y="95"/>
                    </a:lnTo>
                    <a:lnTo>
                      <a:pt x="565" y="0"/>
                    </a:lnTo>
                    <a:lnTo>
                      <a:pt x="1088" y="0"/>
                    </a:lnTo>
                    <a:lnTo>
                      <a:pt x="1088" y="57"/>
                    </a:lnTo>
                    <a:lnTo>
                      <a:pt x="1019" y="57"/>
                    </a:lnTo>
                    <a:lnTo>
                      <a:pt x="981" y="95"/>
                    </a:lnTo>
                    <a:close/>
                    <a:moveTo>
                      <a:pt x="0" y="0"/>
                    </a:moveTo>
                    <a:lnTo>
                      <a:pt x="220" y="0"/>
                    </a:lnTo>
                    <a:lnTo>
                      <a:pt x="10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987720" y="4695840"/>
                <a:ext cx="1352520" cy="25560"/>
              </a:xfrm>
              <a:custGeom>
                <a:avLst/>
                <a:gdLst/>
                <a:ahLst/>
                <a:rect l="l" t="t" r="r" b="b"/>
                <a:pathLst>
                  <a:path w="5113" h="96">
                    <a:moveTo>
                      <a:pt x="5113" y="96"/>
                    </a:moveTo>
                    <a:lnTo>
                      <a:pt x="4442" y="96"/>
                    </a:lnTo>
                    <a:lnTo>
                      <a:pt x="4367" y="0"/>
                    </a:lnTo>
                    <a:lnTo>
                      <a:pt x="5015" y="0"/>
                    </a:lnTo>
                    <a:lnTo>
                      <a:pt x="5113" y="96"/>
                    </a:lnTo>
                    <a:close/>
                    <a:moveTo>
                      <a:pt x="4276" y="96"/>
                    </a:moveTo>
                    <a:lnTo>
                      <a:pt x="4139" y="96"/>
                    </a:lnTo>
                    <a:lnTo>
                      <a:pt x="4080" y="36"/>
                    </a:lnTo>
                    <a:lnTo>
                      <a:pt x="4080" y="0"/>
                    </a:lnTo>
                    <a:lnTo>
                      <a:pt x="4315" y="0"/>
                    </a:lnTo>
                    <a:lnTo>
                      <a:pt x="4276" y="36"/>
                    </a:lnTo>
                    <a:lnTo>
                      <a:pt x="4276" y="96"/>
                    </a:lnTo>
                    <a:close/>
                    <a:moveTo>
                      <a:pt x="1410" y="96"/>
                    </a:moveTo>
                    <a:lnTo>
                      <a:pt x="887" y="96"/>
                    </a:lnTo>
                    <a:lnTo>
                      <a:pt x="887" y="36"/>
                    </a:lnTo>
                    <a:lnTo>
                      <a:pt x="564" y="36"/>
                    </a:lnTo>
                    <a:lnTo>
                      <a:pt x="450" y="96"/>
                    </a:lnTo>
                    <a:lnTo>
                      <a:pt x="412" y="96"/>
                    </a:lnTo>
                    <a:lnTo>
                      <a:pt x="298" y="36"/>
                    </a:lnTo>
                    <a:lnTo>
                      <a:pt x="106" y="36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410" y="96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3680" y="4683240"/>
                <a:ext cx="1353960" cy="25200"/>
              </a:xfrm>
              <a:custGeom>
                <a:avLst/>
                <a:gdLst/>
                <a:ahLst/>
                <a:rect l="l" t="t" r="r" b="b"/>
                <a:pathLst>
                  <a:path w="5122" h="95">
                    <a:moveTo>
                      <a:pt x="5122" y="95"/>
                    </a:moveTo>
                    <a:lnTo>
                      <a:pt x="4462" y="95"/>
                    </a:lnTo>
                    <a:lnTo>
                      <a:pt x="4404" y="19"/>
                    </a:lnTo>
                    <a:lnTo>
                      <a:pt x="4334" y="83"/>
                    </a:lnTo>
                    <a:lnTo>
                      <a:pt x="4334" y="95"/>
                    </a:lnTo>
                    <a:lnTo>
                      <a:pt x="4150" y="95"/>
                    </a:lnTo>
                    <a:lnTo>
                      <a:pt x="4138" y="83"/>
                    </a:lnTo>
                    <a:lnTo>
                      <a:pt x="4138" y="19"/>
                    </a:lnTo>
                    <a:lnTo>
                      <a:pt x="4138" y="0"/>
                    </a:lnTo>
                    <a:lnTo>
                      <a:pt x="5025" y="0"/>
                    </a:lnTo>
                    <a:lnTo>
                      <a:pt x="5122" y="95"/>
                    </a:lnTo>
                    <a:close/>
                    <a:moveTo>
                      <a:pt x="1468" y="95"/>
                    </a:moveTo>
                    <a:lnTo>
                      <a:pt x="945" y="95"/>
                    </a:lnTo>
                    <a:lnTo>
                      <a:pt x="945" y="83"/>
                    </a:lnTo>
                    <a:lnTo>
                      <a:pt x="622" y="83"/>
                    </a:lnTo>
                    <a:lnTo>
                      <a:pt x="600" y="95"/>
                    </a:lnTo>
                    <a:lnTo>
                      <a:pt x="380" y="95"/>
                    </a:lnTo>
                    <a:lnTo>
                      <a:pt x="356" y="83"/>
                    </a:lnTo>
                    <a:lnTo>
                      <a:pt x="164" y="83"/>
                    </a:lnTo>
                    <a:lnTo>
                      <a:pt x="94" y="83"/>
                    </a:lnTo>
                    <a:lnTo>
                      <a:pt x="34" y="22"/>
                    </a:lnTo>
                    <a:lnTo>
                      <a:pt x="0" y="0"/>
                    </a:lnTo>
                    <a:lnTo>
                      <a:pt x="1468" y="0"/>
                    </a:lnTo>
                    <a:lnTo>
                      <a:pt x="1468" y="95"/>
                    </a:lnTo>
                    <a:close/>
                    <a:moveTo>
                      <a:pt x="2497" y="0"/>
                    </a:moveTo>
                    <a:lnTo>
                      <a:pt x="2517" y="0"/>
                    </a:lnTo>
                    <a:lnTo>
                      <a:pt x="2510" y="19"/>
                    </a:lnTo>
                    <a:lnTo>
                      <a:pt x="2497" y="0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954600" y="467028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4495" y="95"/>
                    </a:lnTo>
                    <a:lnTo>
                      <a:pt x="4474" y="67"/>
                    </a:lnTo>
                    <a:lnTo>
                      <a:pt x="4443" y="95"/>
                    </a:lnTo>
                    <a:lnTo>
                      <a:pt x="4208" y="95"/>
                    </a:lnTo>
                    <a:lnTo>
                      <a:pt x="4208" y="67"/>
                    </a:lnTo>
                    <a:lnTo>
                      <a:pt x="4208" y="4"/>
                    </a:lnTo>
                    <a:lnTo>
                      <a:pt x="4204" y="0"/>
                    </a:lnTo>
                    <a:lnTo>
                      <a:pt x="5047" y="0"/>
                    </a:lnTo>
                    <a:lnTo>
                      <a:pt x="5051" y="4"/>
                    </a:lnTo>
                    <a:lnTo>
                      <a:pt x="5143" y="95"/>
                    </a:lnTo>
                    <a:close/>
                    <a:moveTo>
                      <a:pt x="1538" y="95"/>
                    </a:moveTo>
                    <a:lnTo>
                      <a:pt x="128" y="95"/>
                    </a:lnTo>
                    <a:lnTo>
                      <a:pt x="104" y="70"/>
                    </a:lnTo>
                    <a:lnTo>
                      <a:pt x="0" y="0"/>
                    </a:lnTo>
                    <a:lnTo>
                      <a:pt x="1538" y="0"/>
                    </a:lnTo>
                    <a:lnTo>
                      <a:pt x="1538" y="95"/>
                    </a:lnTo>
                    <a:close/>
                    <a:moveTo>
                      <a:pt x="2534" y="0"/>
                    </a:moveTo>
                    <a:lnTo>
                      <a:pt x="2604" y="0"/>
                    </a:lnTo>
                    <a:lnTo>
                      <a:pt x="2580" y="67"/>
                    </a:lnTo>
                    <a:lnTo>
                      <a:pt x="2534" y="0"/>
                    </a:lnTo>
                    <a:close/>
                  </a:path>
                </a:pathLst>
              </a:custGeom>
              <a:solidFill>
                <a:srgbClr val="7dc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935520" y="4657680"/>
                <a:ext cx="1366560" cy="25560"/>
              </a:xfrm>
              <a:custGeom>
                <a:avLst/>
                <a:gdLst/>
                <a:ahLst/>
                <a:rect l="l" t="t" r="r" b="b"/>
                <a:pathLst>
                  <a:path w="5166" h="95">
                    <a:moveTo>
                      <a:pt x="5166" y="95"/>
                    </a:moveTo>
                    <a:lnTo>
                      <a:pt x="4279" y="95"/>
                    </a:lnTo>
                    <a:lnTo>
                      <a:pt x="4279" y="51"/>
                    </a:lnTo>
                    <a:lnTo>
                      <a:pt x="4231" y="0"/>
                    </a:lnTo>
                    <a:lnTo>
                      <a:pt x="5079" y="0"/>
                    </a:lnTo>
                    <a:lnTo>
                      <a:pt x="5122" y="51"/>
                    </a:lnTo>
                    <a:lnTo>
                      <a:pt x="5166" y="95"/>
                    </a:lnTo>
                    <a:close/>
                    <a:moveTo>
                      <a:pt x="2658" y="95"/>
                    </a:moveTo>
                    <a:lnTo>
                      <a:pt x="2638" y="95"/>
                    </a:lnTo>
                    <a:lnTo>
                      <a:pt x="2573" y="0"/>
                    </a:lnTo>
                    <a:lnTo>
                      <a:pt x="2692" y="0"/>
                    </a:lnTo>
                    <a:lnTo>
                      <a:pt x="2658" y="95"/>
                    </a:lnTo>
                    <a:close/>
                    <a:moveTo>
                      <a:pt x="1609" y="95"/>
                    </a:moveTo>
                    <a:lnTo>
                      <a:pt x="141" y="95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09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911760" y="4646520"/>
                <a:ext cx="1377720" cy="23760"/>
              </a:xfrm>
              <a:custGeom>
                <a:avLst/>
                <a:gdLst/>
                <a:ahLst/>
                <a:rect l="l" t="t" r="r" b="b"/>
                <a:pathLst>
                  <a:path w="5207" h="95">
                    <a:moveTo>
                      <a:pt x="5207" y="95"/>
                    </a:moveTo>
                    <a:lnTo>
                      <a:pt x="4364" y="95"/>
                    </a:lnTo>
                    <a:lnTo>
                      <a:pt x="4304" y="30"/>
                    </a:lnTo>
                    <a:lnTo>
                      <a:pt x="4304" y="0"/>
                    </a:lnTo>
                    <a:lnTo>
                      <a:pt x="5138" y="0"/>
                    </a:lnTo>
                    <a:lnTo>
                      <a:pt x="5153" y="30"/>
                    </a:lnTo>
                    <a:lnTo>
                      <a:pt x="5207" y="95"/>
                    </a:lnTo>
                    <a:close/>
                    <a:moveTo>
                      <a:pt x="2764" y="95"/>
                    </a:moveTo>
                    <a:lnTo>
                      <a:pt x="2694" y="95"/>
                    </a:lnTo>
                    <a:lnTo>
                      <a:pt x="2630" y="0"/>
                    </a:lnTo>
                    <a:lnTo>
                      <a:pt x="2797" y="0"/>
                    </a:lnTo>
                    <a:lnTo>
                      <a:pt x="2764" y="95"/>
                    </a:lnTo>
                    <a:close/>
                    <a:moveTo>
                      <a:pt x="1698" y="95"/>
                    </a:moveTo>
                    <a:lnTo>
                      <a:pt x="160" y="95"/>
                    </a:lnTo>
                    <a:lnTo>
                      <a:pt x="68" y="32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8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890880" y="4632480"/>
                <a:ext cx="1389240" cy="25200"/>
              </a:xfrm>
              <a:custGeom>
                <a:avLst/>
                <a:gdLst/>
                <a:ahLst/>
                <a:rect l="l" t="t" r="r" b="b"/>
                <a:pathLst>
                  <a:path w="5245" h="97">
                    <a:moveTo>
                      <a:pt x="5245" y="97"/>
                    </a:moveTo>
                    <a:lnTo>
                      <a:pt x="4397" y="97"/>
                    </a:lnTo>
                    <a:lnTo>
                      <a:pt x="4381" y="79"/>
                    </a:lnTo>
                    <a:lnTo>
                      <a:pt x="4381" y="0"/>
                    </a:lnTo>
                    <a:lnTo>
                      <a:pt x="5193" y="0"/>
                    </a:lnTo>
                    <a:lnTo>
                      <a:pt x="5230" y="79"/>
                    </a:lnTo>
                    <a:lnTo>
                      <a:pt x="5245" y="97"/>
                    </a:lnTo>
                    <a:close/>
                    <a:moveTo>
                      <a:pt x="2858" y="97"/>
                    </a:moveTo>
                    <a:lnTo>
                      <a:pt x="2739" y="97"/>
                    </a:lnTo>
                    <a:lnTo>
                      <a:pt x="2684" y="15"/>
                    </a:lnTo>
                    <a:lnTo>
                      <a:pt x="2684" y="0"/>
                    </a:lnTo>
                    <a:lnTo>
                      <a:pt x="2893" y="0"/>
                    </a:lnTo>
                    <a:lnTo>
                      <a:pt x="2886" y="15"/>
                    </a:lnTo>
                    <a:lnTo>
                      <a:pt x="2858" y="97"/>
                    </a:lnTo>
                    <a:close/>
                    <a:moveTo>
                      <a:pt x="1775" y="97"/>
                    </a:moveTo>
                    <a:lnTo>
                      <a:pt x="166" y="97"/>
                    </a:lnTo>
                    <a:lnTo>
                      <a:pt x="145" y="81"/>
                    </a:lnTo>
                    <a:lnTo>
                      <a:pt x="14" y="18"/>
                    </a:lnTo>
                    <a:lnTo>
                      <a:pt x="0" y="0"/>
                    </a:lnTo>
                    <a:lnTo>
                      <a:pt x="1775" y="0"/>
                    </a:lnTo>
                    <a:lnTo>
                      <a:pt x="1775" y="97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879720" y="4619520"/>
                <a:ext cx="1392480" cy="27000"/>
              </a:xfrm>
              <a:custGeom>
                <a:avLst/>
                <a:gdLst/>
                <a:ahLst/>
                <a:rect l="l" t="t" r="r" b="b"/>
                <a:pathLst>
                  <a:path w="5259" h="96">
                    <a:moveTo>
                      <a:pt x="5259" y="96"/>
                    </a:moveTo>
                    <a:lnTo>
                      <a:pt x="4425" y="96"/>
                    </a:lnTo>
                    <a:lnTo>
                      <a:pt x="4425" y="0"/>
                    </a:lnTo>
                    <a:lnTo>
                      <a:pt x="5214" y="0"/>
                    </a:lnTo>
                    <a:lnTo>
                      <a:pt x="5259" y="96"/>
                    </a:lnTo>
                    <a:close/>
                    <a:moveTo>
                      <a:pt x="2918" y="96"/>
                    </a:moveTo>
                    <a:lnTo>
                      <a:pt x="2751" y="96"/>
                    </a:lnTo>
                    <a:lnTo>
                      <a:pt x="2728" y="62"/>
                    </a:lnTo>
                    <a:lnTo>
                      <a:pt x="2728" y="0"/>
                    </a:lnTo>
                    <a:lnTo>
                      <a:pt x="2961" y="0"/>
                    </a:lnTo>
                    <a:lnTo>
                      <a:pt x="2930" y="62"/>
                    </a:lnTo>
                    <a:lnTo>
                      <a:pt x="2918" y="96"/>
                    </a:lnTo>
                    <a:close/>
                    <a:moveTo>
                      <a:pt x="1819" y="96"/>
                    </a:moveTo>
                    <a:lnTo>
                      <a:pt x="121" y="96"/>
                    </a:lnTo>
                    <a:lnTo>
                      <a:pt x="58" y="65"/>
                    </a:lnTo>
                    <a:lnTo>
                      <a:pt x="0" y="0"/>
                    </a:lnTo>
                    <a:lnTo>
                      <a:pt x="1819" y="0"/>
                    </a:lnTo>
                    <a:lnTo>
                      <a:pt x="1819" y="96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865680" y="4608360"/>
                <a:ext cx="1400040" cy="24120"/>
              </a:xfrm>
              <a:custGeom>
                <a:avLst/>
                <a:gdLst/>
                <a:ahLst/>
                <a:rect l="l" t="t" r="r" b="b"/>
                <a:pathLst>
                  <a:path w="5291" h="95">
                    <a:moveTo>
                      <a:pt x="5291" y="95"/>
                    </a:moveTo>
                    <a:lnTo>
                      <a:pt x="4479" y="95"/>
                    </a:lnTo>
                    <a:lnTo>
                      <a:pt x="4479" y="41"/>
                    </a:lnTo>
                    <a:lnTo>
                      <a:pt x="4479" y="0"/>
                    </a:lnTo>
                    <a:lnTo>
                      <a:pt x="5241" y="0"/>
                    </a:lnTo>
                    <a:lnTo>
                      <a:pt x="5265" y="41"/>
                    </a:lnTo>
                    <a:lnTo>
                      <a:pt x="5291" y="95"/>
                    </a:lnTo>
                    <a:close/>
                    <a:moveTo>
                      <a:pt x="2991" y="95"/>
                    </a:moveTo>
                    <a:lnTo>
                      <a:pt x="2782" y="95"/>
                    </a:lnTo>
                    <a:lnTo>
                      <a:pt x="2782" y="0"/>
                    </a:lnTo>
                    <a:lnTo>
                      <a:pt x="3039" y="0"/>
                    </a:lnTo>
                    <a:lnTo>
                      <a:pt x="2991" y="95"/>
                    </a:lnTo>
                    <a:close/>
                    <a:moveTo>
                      <a:pt x="1873" y="95"/>
                    </a:moveTo>
                    <a:lnTo>
                      <a:pt x="98" y="95"/>
                    </a:lnTo>
                    <a:lnTo>
                      <a:pt x="49" y="43"/>
                    </a:lnTo>
                    <a:lnTo>
                      <a:pt x="0" y="0"/>
                    </a:lnTo>
                    <a:lnTo>
                      <a:pt x="1873" y="0"/>
                    </a:lnTo>
                    <a:lnTo>
                      <a:pt x="187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860640" y="4595760"/>
                <a:ext cx="1398600" cy="23760"/>
              </a:xfrm>
              <a:custGeom>
                <a:avLst/>
                <a:gdLst/>
                <a:ahLst/>
                <a:rect l="l" t="t" r="r" b="b"/>
                <a:pathLst>
                  <a:path w="5288" h="95">
                    <a:moveTo>
                      <a:pt x="5288" y="95"/>
                    </a:moveTo>
                    <a:lnTo>
                      <a:pt x="4499" y="95"/>
                    </a:lnTo>
                    <a:lnTo>
                      <a:pt x="4499" y="88"/>
                    </a:lnTo>
                    <a:lnTo>
                      <a:pt x="4499" y="30"/>
                    </a:lnTo>
                    <a:lnTo>
                      <a:pt x="4499" y="0"/>
                    </a:lnTo>
                    <a:lnTo>
                      <a:pt x="5235" y="0"/>
                    </a:lnTo>
                    <a:lnTo>
                      <a:pt x="5285" y="88"/>
                    </a:lnTo>
                    <a:lnTo>
                      <a:pt x="5288" y="95"/>
                    </a:lnTo>
                    <a:close/>
                    <a:moveTo>
                      <a:pt x="3035" y="95"/>
                    </a:moveTo>
                    <a:lnTo>
                      <a:pt x="2802" y="95"/>
                    </a:lnTo>
                    <a:lnTo>
                      <a:pt x="2802" y="30"/>
                    </a:lnTo>
                    <a:lnTo>
                      <a:pt x="2773" y="0"/>
                    </a:lnTo>
                    <a:lnTo>
                      <a:pt x="3358" y="0"/>
                    </a:lnTo>
                    <a:lnTo>
                      <a:pt x="3328" y="30"/>
                    </a:lnTo>
                    <a:lnTo>
                      <a:pt x="3068" y="30"/>
                    </a:lnTo>
                    <a:lnTo>
                      <a:pt x="3035" y="95"/>
                    </a:lnTo>
                    <a:close/>
                    <a:moveTo>
                      <a:pt x="1893" y="95"/>
                    </a:moveTo>
                    <a:lnTo>
                      <a:pt x="74" y="95"/>
                    </a:lnTo>
                    <a:lnTo>
                      <a:pt x="69" y="9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860640" y="4583160"/>
                <a:ext cx="1392480" cy="25200"/>
              </a:xfrm>
              <a:custGeom>
                <a:avLst/>
                <a:gdLst/>
                <a:ahLst/>
                <a:rect l="l" t="t" r="r" b="b"/>
                <a:pathLst>
                  <a:path w="5261" h="95">
                    <a:moveTo>
                      <a:pt x="5261" y="95"/>
                    </a:moveTo>
                    <a:lnTo>
                      <a:pt x="4499" y="95"/>
                    </a:lnTo>
                    <a:lnTo>
                      <a:pt x="4499" y="78"/>
                    </a:lnTo>
                    <a:lnTo>
                      <a:pt x="4499" y="15"/>
                    </a:lnTo>
                    <a:lnTo>
                      <a:pt x="4499" y="0"/>
                    </a:lnTo>
                    <a:lnTo>
                      <a:pt x="5209" y="0"/>
                    </a:lnTo>
                    <a:lnTo>
                      <a:pt x="5215" y="15"/>
                    </a:lnTo>
                    <a:lnTo>
                      <a:pt x="5261" y="95"/>
                    </a:lnTo>
                    <a:close/>
                    <a:moveTo>
                      <a:pt x="3059" y="95"/>
                    </a:moveTo>
                    <a:lnTo>
                      <a:pt x="2802" y="95"/>
                    </a:lnTo>
                    <a:lnTo>
                      <a:pt x="2802" y="78"/>
                    </a:lnTo>
                    <a:lnTo>
                      <a:pt x="2739" y="15"/>
                    </a:lnTo>
                    <a:lnTo>
                      <a:pt x="2743" y="0"/>
                    </a:lnTo>
                    <a:lnTo>
                      <a:pt x="3404" y="0"/>
                    </a:lnTo>
                    <a:lnTo>
                      <a:pt x="3391" y="15"/>
                    </a:lnTo>
                    <a:lnTo>
                      <a:pt x="3328" y="78"/>
                    </a:lnTo>
                    <a:lnTo>
                      <a:pt x="3068" y="78"/>
                    </a:lnTo>
                    <a:lnTo>
                      <a:pt x="3059" y="95"/>
                    </a:lnTo>
                    <a:close/>
                    <a:moveTo>
                      <a:pt x="1893" y="95"/>
                    </a:moveTo>
                    <a:lnTo>
                      <a:pt x="20" y="95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860640" y="45705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5" h="95">
                    <a:moveTo>
                      <a:pt x="5235" y="95"/>
                    </a:moveTo>
                    <a:lnTo>
                      <a:pt x="4499" y="95"/>
                    </a:lnTo>
                    <a:lnTo>
                      <a:pt x="4499" y="62"/>
                    </a:lnTo>
                    <a:lnTo>
                      <a:pt x="4499" y="0"/>
                    </a:lnTo>
                    <a:lnTo>
                      <a:pt x="5186" y="0"/>
                    </a:lnTo>
                    <a:lnTo>
                      <a:pt x="5215" y="62"/>
                    </a:lnTo>
                    <a:lnTo>
                      <a:pt x="5235" y="95"/>
                    </a:lnTo>
                    <a:close/>
                    <a:moveTo>
                      <a:pt x="3358" y="95"/>
                    </a:moveTo>
                    <a:lnTo>
                      <a:pt x="2773" y="95"/>
                    </a:lnTo>
                    <a:lnTo>
                      <a:pt x="2739" y="62"/>
                    </a:lnTo>
                    <a:lnTo>
                      <a:pt x="2758" y="0"/>
                    </a:lnTo>
                    <a:lnTo>
                      <a:pt x="3447" y="0"/>
                    </a:lnTo>
                    <a:lnTo>
                      <a:pt x="3391" y="62"/>
                    </a:lnTo>
                    <a:lnTo>
                      <a:pt x="3358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60640" y="4557600"/>
                <a:ext cx="1378080" cy="25560"/>
              </a:xfrm>
              <a:custGeom>
                <a:avLst/>
                <a:gdLst/>
                <a:ahLst/>
                <a:rect l="l" t="t" r="r" b="b"/>
                <a:pathLst>
                  <a:path w="5209" h="95">
                    <a:moveTo>
                      <a:pt x="5209" y="95"/>
                    </a:moveTo>
                    <a:lnTo>
                      <a:pt x="4499" y="95"/>
                    </a:lnTo>
                    <a:lnTo>
                      <a:pt x="4499" y="0"/>
                    </a:lnTo>
                    <a:lnTo>
                      <a:pt x="5162" y="0"/>
                    </a:lnTo>
                    <a:lnTo>
                      <a:pt x="5209" y="95"/>
                    </a:lnTo>
                    <a:close/>
                    <a:moveTo>
                      <a:pt x="3404" y="95"/>
                    </a:moveTo>
                    <a:lnTo>
                      <a:pt x="2743" y="95"/>
                    </a:lnTo>
                    <a:lnTo>
                      <a:pt x="2773" y="0"/>
                    </a:lnTo>
                    <a:lnTo>
                      <a:pt x="3537" y="0"/>
                    </a:lnTo>
                    <a:lnTo>
                      <a:pt x="3454" y="39"/>
                    </a:lnTo>
                    <a:lnTo>
                      <a:pt x="3404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39"/>
                    </a:lnTo>
                    <a:lnTo>
                      <a:pt x="69" y="39"/>
                    </a:lnTo>
                    <a:lnTo>
                      <a:pt x="108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860640" y="4545000"/>
                <a:ext cx="1371600" cy="25560"/>
              </a:xfrm>
              <a:custGeom>
                <a:avLst/>
                <a:gdLst/>
                <a:ahLst/>
                <a:rect l="l" t="t" r="r" b="b"/>
                <a:pathLst>
                  <a:path w="5186" h="95">
                    <a:moveTo>
                      <a:pt x="5186" y="95"/>
                    </a:moveTo>
                    <a:lnTo>
                      <a:pt x="4499" y="95"/>
                    </a:lnTo>
                    <a:lnTo>
                      <a:pt x="4499" y="23"/>
                    </a:lnTo>
                    <a:lnTo>
                      <a:pt x="4521" y="0"/>
                    </a:lnTo>
                    <a:lnTo>
                      <a:pt x="5143" y="0"/>
                    </a:lnTo>
                    <a:lnTo>
                      <a:pt x="5152" y="23"/>
                    </a:lnTo>
                    <a:lnTo>
                      <a:pt x="5186" y="95"/>
                    </a:lnTo>
                    <a:close/>
                    <a:moveTo>
                      <a:pt x="3447" y="95"/>
                    </a:moveTo>
                    <a:lnTo>
                      <a:pt x="2758" y="95"/>
                    </a:lnTo>
                    <a:lnTo>
                      <a:pt x="2788" y="0"/>
                    </a:lnTo>
                    <a:lnTo>
                      <a:pt x="3587" y="0"/>
                    </a:lnTo>
                    <a:lnTo>
                      <a:pt x="3587" y="23"/>
                    </a:lnTo>
                    <a:lnTo>
                      <a:pt x="3454" y="86"/>
                    </a:lnTo>
                    <a:lnTo>
                      <a:pt x="3447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86"/>
                    </a:lnTo>
                    <a:lnTo>
                      <a:pt x="69" y="86"/>
                    </a:lnTo>
                    <a:lnTo>
                      <a:pt x="132" y="23"/>
                    </a:lnTo>
                    <a:lnTo>
                      <a:pt x="781" y="23"/>
                    </a:lnTo>
                    <a:lnTo>
                      <a:pt x="78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889440" y="4532400"/>
                <a:ext cx="1336680" cy="25200"/>
              </a:xfrm>
              <a:custGeom>
                <a:avLst/>
                <a:gdLst/>
                <a:ahLst/>
                <a:rect l="l" t="t" r="r" b="b"/>
                <a:pathLst>
                  <a:path w="5054" h="95">
                    <a:moveTo>
                      <a:pt x="5054" y="95"/>
                    </a:moveTo>
                    <a:lnTo>
                      <a:pt x="4391" y="95"/>
                    </a:lnTo>
                    <a:lnTo>
                      <a:pt x="4391" y="71"/>
                    </a:lnTo>
                    <a:lnTo>
                      <a:pt x="4455" y="2"/>
                    </a:lnTo>
                    <a:lnTo>
                      <a:pt x="4455" y="0"/>
                    </a:lnTo>
                    <a:lnTo>
                      <a:pt x="5019" y="0"/>
                    </a:lnTo>
                    <a:lnTo>
                      <a:pt x="5044" y="71"/>
                    </a:lnTo>
                    <a:lnTo>
                      <a:pt x="5054" y="95"/>
                    </a:lnTo>
                    <a:close/>
                    <a:moveTo>
                      <a:pt x="3429" y="95"/>
                    </a:moveTo>
                    <a:lnTo>
                      <a:pt x="2665" y="95"/>
                    </a:lnTo>
                    <a:lnTo>
                      <a:pt x="2694" y="2"/>
                    </a:lnTo>
                    <a:lnTo>
                      <a:pt x="2694" y="0"/>
                    </a:lnTo>
                    <a:lnTo>
                      <a:pt x="3479" y="0"/>
                    </a:lnTo>
                    <a:lnTo>
                      <a:pt x="3479" y="2"/>
                    </a:lnTo>
                    <a:lnTo>
                      <a:pt x="3479" y="71"/>
                    </a:lnTo>
                    <a:lnTo>
                      <a:pt x="3429" y="95"/>
                    </a:lnTo>
                    <a:close/>
                    <a:moveTo>
                      <a:pt x="1785" y="95"/>
                    </a:moveTo>
                    <a:lnTo>
                      <a:pt x="0" y="95"/>
                    </a:lnTo>
                    <a:lnTo>
                      <a:pt x="24" y="71"/>
                    </a:lnTo>
                    <a:lnTo>
                      <a:pt x="673" y="71"/>
                    </a:lnTo>
                    <a:lnTo>
                      <a:pt x="669" y="0"/>
                    </a:lnTo>
                    <a:lnTo>
                      <a:pt x="1785" y="0"/>
                    </a:lnTo>
                    <a:lnTo>
                      <a:pt x="1785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65480" y="4519440"/>
                <a:ext cx="1155960" cy="25560"/>
              </a:xfrm>
              <a:custGeom>
                <a:avLst/>
                <a:gdLst/>
                <a:ahLst/>
                <a:rect l="l" t="t" r="r" b="b"/>
                <a:pathLst>
                  <a:path w="4370" h="95">
                    <a:moveTo>
                      <a:pt x="4370" y="95"/>
                    </a:moveTo>
                    <a:lnTo>
                      <a:pt x="3748" y="95"/>
                    </a:lnTo>
                    <a:lnTo>
                      <a:pt x="3790" y="49"/>
                    </a:lnTo>
                    <a:lnTo>
                      <a:pt x="3790" y="0"/>
                    </a:lnTo>
                    <a:lnTo>
                      <a:pt x="4337" y="0"/>
                    </a:lnTo>
                    <a:lnTo>
                      <a:pt x="4370" y="95"/>
                    </a:lnTo>
                    <a:close/>
                    <a:moveTo>
                      <a:pt x="2814" y="95"/>
                    </a:moveTo>
                    <a:lnTo>
                      <a:pt x="2015" y="95"/>
                    </a:lnTo>
                    <a:lnTo>
                      <a:pt x="2029" y="49"/>
                    </a:lnTo>
                    <a:lnTo>
                      <a:pt x="2029" y="0"/>
                    </a:lnTo>
                    <a:lnTo>
                      <a:pt x="2814" y="0"/>
                    </a:lnTo>
                    <a:lnTo>
                      <a:pt x="2814" y="49"/>
                    </a:lnTo>
                    <a:lnTo>
                      <a:pt x="2814" y="95"/>
                    </a:lnTo>
                    <a:close/>
                    <a:moveTo>
                      <a:pt x="1120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064040" y="4506840"/>
                <a:ext cx="1152360" cy="25560"/>
              </a:xfrm>
              <a:custGeom>
                <a:avLst/>
                <a:gdLst/>
                <a:ahLst/>
                <a:rect l="l" t="t" r="r" b="b"/>
                <a:pathLst>
                  <a:path w="4357" h="95">
                    <a:moveTo>
                      <a:pt x="4357" y="95"/>
                    </a:moveTo>
                    <a:lnTo>
                      <a:pt x="3793" y="95"/>
                    </a:lnTo>
                    <a:lnTo>
                      <a:pt x="3793" y="0"/>
                    </a:lnTo>
                    <a:lnTo>
                      <a:pt x="4322" y="0"/>
                    </a:lnTo>
                    <a:lnTo>
                      <a:pt x="4357" y="95"/>
                    </a:lnTo>
                    <a:close/>
                    <a:moveTo>
                      <a:pt x="2817" y="95"/>
                    </a:moveTo>
                    <a:lnTo>
                      <a:pt x="2032" y="95"/>
                    </a:lnTo>
                    <a:lnTo>
                      <a:pt x="2032" y="0"/>
                    </a:lnTo>
                    <a:lnTo>
                      <a:pt x="2817" y="0"/>
                    </a:lnTo>
                    <a:lnTo>
                      <a:pt x="2817" y="33"/>
                    </a:lnTo>
                    <a:lnTo>
                      <a:pt x="2817" y="95"/>
                    </a:lnTo>
                    <a:close/>
                    <a:moveTo>
                      <a:pt x="112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3" y="0"/>
                    </a:lnTo>
                    <a:lnTo>
                      <a:pt x="1123" y="95"/>
                    </a:lnTo>
                    <a:close/>
                    <a:moveTo>
                      <a:pt x="1539" y="0"/>
                    </a:moveTo>
                    <a:lnTo>
                      <a:pt x="1680" y="0"/>
                    </a:lnTo>
                    <a:lnTo>
                      <a:pt x="1643" y="37"/>
                    </a:lnTo>
                    <a:lnTo>
                      <a:pt x="1579" y="37"/>
                    </a:lnTo>
                    <a:lnTo>
                      <a:pt x="1539" y="0"/>
                    </a:lnTo>
                    <a:close/>
                  </a:path>
                </a:pathLst>
              </a:custGeom>
              <a:solidFill>
                <a:srgbClr val="7bb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062240" y="4494240"/>
                <a:ext cx="1149480" cy="25200"/>
              </a:xfrm>
              <a:custGeom>
                <a:avLst/>
                <a:gdLst/>
                <a:ahLst/>
                <a:rect l="l" t="t" r="r" b="b"/>
                <a:pathLst>
                  <a:path w="4344" h="96">
                    <a:moveTo>
                      <a:pt x="4344" y="96"/>
                    </a:moveTo>
                    <a:lnTo>
                      <a:pt x="3797" y="96"/>
                    </a:lnTo>
                    <a:lnTo>
                      <a:pt x="3797" y="18"/>
                    </a:lnTo>
                    <a:lnTo>
                      <a:pt x="3789" y="0"/>
                    </a:lnTo>
                    <a:lnTo>
                      <a:pt x="4311" y="0"/>
                    </a:lnTo>
                    <a:lnTo>
                      <a:pt x="4317" y="18"/>
                    </a:lnTo>
                    <a:lnTo>
                      <a:pt x="4344" y="96"/>
                    </a:lnTo>
                    <a:close/>
                    <a:moveTo>
                      <a:pt x="2821" y="96"/>
                    </a:moveTo>
                    <a:lnTo>
                      <a:pt x="2036" y="96"/>
                    </a:lnTo>
                    <a:lnTo>
                      <a:pt x="2036" y="18"/>
                    </a:lnTo>
                    <a:lnTo>
                      <a:pt x="2034" y="0"/>
                    </a:lnTo>
                    <a:lnTo>
                      <a:pt x="2806" y="0"/>
                    </a:lnTo>
                    <a:lnTo>
                      <a:pt x="2821" y="18"/>
                    </a:lnTo>
                    <a:lnTo>
                      <a:pt x="2821" y="81"/>
                    </a:lnTo>
                    <a:lnTo>
                      <a:pt x="2821" y="96"/>
                    </a:lnTo>
                    <a:close/>
                    <a:moveTo>
                      <a:pt x="1127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27" y="0"/>
                    </a:lnTo>
                    <a:lnTo>
                      <a:pt x="1127" y="96"/>
                    </a:lnTo>
                    <a:close/>
                    <a:moveTo>
                      <a:pt x="1374" y="0"/>
                    </a:moveTo>
                    <a:lnTo>
                      <a:pt x="1730" y="0"/>
                    </a:lnTo>
                    <a:lnTo>
                      <a:pt x="1710" y="21"/>
                    </a:lnTo>
                    <a:lnTo>
                      <a:pt x="1647" y="85"/>
                    </a:lnTo>
                    <a:lnTo>
                      <a:pt x="1583" y="85"/>
                    </a:lnTo>
                    <a:lnTo>
                      <a:pt x="1514" y="21"/>
                    </a:lnTo>
                    <a:lnTo>
                      <a:pt x="1384" y="21"/>
                    </a:lnTo>
                    <a:lnTo>
                      <a:pt x="1374" y="0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062240" y="4481640"/>
                <a:ext cx="1144800" cy="25200"/>
              </a:xfrm>
              <a:custGeom>
                <a:avLst/>
                <a:gdLst/>
                <a:ahLst/>
                <a:rect l="l" t="t" r="r" b="b"/>
                <a:pathLst>
                  <a:path w="4330" h="95">
                    <a:moveTo>
                      <a:pt x="4330" y="95"/>
                    </a:moveTo>
                    <a:lnTo>
                      <a:pt x="3801" y="95"/>
                    </a:lnTo>
                    <a:lnTo>
                      <a:pt x="3801" y="65"/>
                    </a:lnTo>
                    <a:lnTo>
                      <a:pt x="3770" y="0"/>
                    </a:lnTo>
                    <a:lnTo>
                      <a:pt x="4300" y="0"/>
                    </a:lnTo>
                    <a:lnTo>
                      <a:pt x="4321" y="65"/>
                    </a:lnTo>
                    <a:lnTo>
                      <a:pt x="4330" y="95"/>
                    </a:lnTo>
                    <a:close/>
                    <a:moveTo>
                      <a:pt x="2825" y="95"/>
                    </a:moveTo>
                    <a:lnTo>
                      <a:pt x="2040" y="95"/>
                    </a:lnTo>
                    <a:lnTo>
                      <a:pt x="2040" y="65"/>
                    </a:lnTo>
                    <a:lnTo>
                      <a:pt x="2030" y="0"/>
                    </a:lnTo>
                    <a:lnTo>
                      <a:pt x="2766" y="0"/>
                    </a:lnTo>
                    <a:lnTo>
                      <a:pt x="2825" y="65"/>
                    </a:lnTo>
                    <a:lnTo>
                      <a:pt x="2825" y="95"/>
                    </a:lnTo>
                    <a:close/>
                    <a:moveTo>
                      <a:pt x="1688" y="95"/>
                    </a:moveTo>
                    <a:lnTo>
                      <a:pt x="1547" y="95"/>
                    </a:lnTo>
                    <a:lnTo>
                      <a:pt x="1518" y="68"/>
                    </a:lnTo>
                    <a:lnTo>
                      <a:pt x="1388" y="68"/>
                    </a:lnTo>
                    <a:lnTo>
                      <a:pt x="1355" y="0"/>
                    </a:lnTo>
                    <a:lnTo>
                      <a:pt x="1780" y="0"/>
                    </a:lnTo>
                    <a:lnTo>
                      <a:pt x="1714" y="68"/>
                    </a:lnTo>
                    <a:lnTo>
                      <a:pt x="1688" y="95"/>
                    </a:lnTo>
                    <a:close/>
                    <a:moveTo>
                      <a:pt x="11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131" y="0"/>
                    </a:lnTo>
                    <a:lnTo>
                      <a:pt x="1131" y="95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060800" y="446868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18" h="96">
                    <a:moveTo>
                      <a:pt x="4318" y="96"/>
                    </a:moveTo>
                    <a:lnTo>
                      <a:pt x="3796" y="96"/>
                    </a:lnTo>
                    <a:lnTo>
                      <a:pt x="3749" y="0"/>
                    </a:lnTo>
                    <a:lnTo>
                      <a:pt x="4287" y="0"/>
                    </a:lnTo>
                    <a:lnTo>
                      <a:pt x="4318" y="96"/>
                    </a:lnTo>
                    <a:close/>
                    <a:moveTo>
                      <a:pt x="2813" y="96"/>
                    </a:moveTo>
                    <a:lnTo>
                      <a:pt x="2041" y="96"/>
                    </a:lnTo>
                    <a:lnTo>
                      <a:pt x="2024" y="0"/>
                    </a:lnTo>
                    <a:lnTo>
                      <a:pt x="2520" y="0"/>
                    </a:lnTo>
                    <a:lnTo>
                      <a:pt x="2569" y="44"/>
                    </a:lnTo>
                    <a:lnTo>
                      <a:pt x="2765" y="44"/>
                    </a:lnTo>
                    <a:lnTo>
                      <a:pt x="2813" y="96"/>
                    </a:lnTo>
                    <a:close/>
                    <a:moveTo>
                      <a:pt x="1737" y="96"/>
                    </a:moveTo>
                    <a:lnTo>
                      <a:pt x="1381" y="96"/>
                    </a:lnTo>
                    <a:lnTo>
                      <a:pt x="1336" y="0"/>
                    </a:lnTo>
                    <a:lnTo>
                      <a:pt x="1831" y="0"/>
                    </a:lnTo>
                    <a:lnTo>
                      <a:pt x="1783" y="48"/>
                    </a:lnTo>
                    <a:lnTo>
                      <a:pt x="1737" y="96"/>
                    </a:lnTo>
                    <a:close/>
                    <a:moveTo>
                      <a:pt x="1134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34" y="0"/>
                    </a:lnTo>
                    <a:lnTo>
                      <a:pt x="1134" y="96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060800" y="4456080"/>
                <a:ext cx="1138320" cy="25560"/>
              </a:xfrm>
              <a:custGeom>
                <a:avLst/>
                <a:gdLst/>
                <a:ahLst/>
                <a:rect l="l" t="t" r="r" b="b"/>
                <a:pathLst>
                  <a:path w="4307" h="96">
                    <a:moveTo>
                      <a:pt x="4307" y="96"/>
                    </a:moveTo>
                    <a:lnTo>
                      <a:pt x="3777" y="96"/>
                    </a:lnTo>
                    <a:lnTo>
                      <a:pt x="3744" y="28"/>
                    </a:lnTo>
                    <a:lnTo>
                      <a:pt x="3744" y="0"/>
                    </a:lnTo>
                    <a:lnTo>
                      <a:pt x="4276" y="0"/>
                    </a:lnTo>
                    <a:lnTo>
                      <a:pt x="4307" y="96"/>
                    </a:lnTo>
                    <a:close/>
                    <a:moveTo>
                      <a:pt x="2773" y="96"/>
                    </a:moveTo>
                    <a:lnTo>
                      <a:pt x="2037" y="96"/>
                    </a:lnTo>
                    <a:lnTo>
                      <a:pt x="2021" y="0"/>
                    </a:lnTo>
                    <a:lnTo>
                      <a:pt x="2489" y="0"/>
                    </a:lnTo>
                    <a:lnTo>
                      <a:pt x="2503" y="28"/>
                    </a:lnTo>
                    <a:lnTo>
                      <a:pt x="2573" y="91"/>
                    </a:lnTo>
                    <a:lnTo>
                      <a:pt x="2769" y="91"/>
                    </a:lnTo>
                    <a:lnTo>
                      <a:pt x="2773" y="96"/>
                    </a:lnTo>
                    <a:close/>
                    <a:moveTo>
                      <a:pt x="1787" y="96"/>
                    </a:moveTo>
                    <a:lnTo>
                      <a:pt x="1362" y="96"/>
                    </a:lnTo>
                    <a:lnTo>
                      <a:pt x="1331" y="30"/>
                    </a:lnTo>
                    <a:lnTo>
                      <a:pt x="1138" y="30"/>
                    </a:lnTo>
                    <a:lnTo>
                      <a:pt x="1138" y="96"/>
                    </a:lnTo>
                    <a:lnTo>
                      <a:pt x="7" y="96"/>
                    </a:lnTo>
                    <a:lnTo>
                      <a:pt x="0" y="0"/>
                    </a:lnTo>
                    <a:lnTo>
                      <a:pt x="1851" y="0"/>
                    </a:lnTo>
                    <a:lnTo>
                      <a:pt x="1851" y="30"/>
                    </a:lnTo>
                    <a:lnTo>
                      <a:pt x="1787" y="95"/>
                    </a:lnTo>
                    <a:lnTo>
                      <a:pt x="1787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059360" y="4443480"/>
                <a:ext cx="1136520" cy="25200"/>
              </a:xfrm>
              <a:custGeom>
                <a:avLst/>
                <a:gdLst/>
                <a:ahLst/>
                <a:rect l="l" t="t" r="r" b="b"/>
                <a:pathLst>
                  <a:path w="4294" h="95">
                    <a:moveTo>
                      <a:pt x="4294" y="95"/>
                    </a:moveTo>
                    <a:lnTo>
                      <a:pt x="3756" y="95"/>
                    </a:lnTo>
                    <a:lnTo>
                      <a:pt x="3747" y="76"/>
                    </a:lnTo>
                    <a:lnTo>
                      <a:pt x="3747" y="12"/>
                    </a:lnTo>
                    <a:lnTo>
                      <a:pt x="3747" y="0"/>
                    </a:lnTo>
                    <a:lnTo>
                      <a:pt x="4263" y="0"/>
                    </a:lnTo>
                    <a:lnTo>
                      <a:pt x="4294" y="95"/>
                    </a:lnTo>
                    <a:close/>
                    <a:moveTo>
                      <a:pt x="2527" y="95"/>
                    </a:moveTo>
                    <a:lnTo>
                      <a:pt x="2031" y="95"/>
                    </a:lnTo>
                    <a:lnTo>
                      <a:pt x="2016" y="0"/>
                    </a:lnTo>
                    <a:lnTo>
                      <a:pt x="2468" y="0"/>
                    </a:lnTo>
                    <a:lnTo>
                      <a:pt x="2506" y="76"/>
                    </a:lnTo>
                    <a:lnTo>
                      <a:pt x="2527" y="95"/>
                    </a:lnTo>
                    <a:close/>
                    <a:moveTo>
                      <a:pt x="1838" y="95"/>
                    </a:moveTo>
                    <a:lnTo>
                      <a:pt x="1343" y="95"/>
                    </a:lnTo>
                    <a:lnTo>
                      <a:pt x="1334" y="78"/>
                    </a:lnTo>
                    <a:lnTo>
                      <a:pt x="1141" y="78"/>
                    </a:lnTo>
                    <a:lnTo>
                      <a:pt x="1141" y="95"/>
                    </a:lnTo>
                    <a:lnTo>
                      <a:pt x="7" y="95"/>
                    </a:lnTo>
                    <a:lnTo>
                      <a:pt x="0" y="0"/>
                    </a:lnTo>
                    <a:lnTo>
                      <a:pt x="1854" y="0"/>
                    </a:lnTo>
                    <a:lnTo>
                      <a:pt x="1854" y="78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057560" y="4430880"/>
                <a:ext cx="1133640" cy="25200"/>
              </a:xfrm>
              <a:custGeom>
                <a:avLst/>
                <a:gdLst/>
                <a:ahLst/>
                <a:rect l="l" t="t" r="r" b="b"/>
                <a:pathLst>
                  <a:path w="4283" h="96">
                    <a:moveTo>
                      <a:pt x="4283" y="96"/>
                    </a:moveTo>
                    <a:lnTo>
                      <a:pt x="3751" y="96"/>
                    </a:lnTo>
                    <a:lnTo>
                      <a:pt x="3751" y="60"/>
                    </a:lnTo>
                    <a:lnTo>
                      <a:pt x="3751" y="0"/>
                    </a:lnTo>
                    <a:lnTo>
                      <a:pt x="4252" y="0"/>
                    </a:lnTo>
                    <a:lnTo>
                      <a:pt x="4283" y="96"/>
                    </a:lnTo>
                    <a:close/>
                    <a:moveTo>
                      <a:pt x="2496" y="96"/>
                    </a:moveTo>
                    <a:lnTo>
                      <a:pt x="2028" y="96"/>
                    </a:lnTo>
                    <a:lnTo>
                      <a:pt x="2011" y="0"/>
                    </a:lnTo>
                    <a:lnTo>
                      <a:pt x="2448" y="0"/>
                    </a:lnTo>
                    <a:lnTo>
                      <a:pt x="2496" y="96"/>
                    </a:lnTo>
                    <a:close/>
                    <a:moveTo>
                      <a:pt x="1858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858" y="0"/>
                    </a:lnTo>
                    <a:lnTo>
                      <a:pt x="1858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057560" y="4417920"/>
                <a:ext cx="1130400" cy="25560"/>
              </a:xfrm>
              <a:custGeom>
                <a:avLst/>
                <a:gdLst/>
                <a:ahLst/>
                <a:rect l="l" t="t" r="r" b="b"/>
                <a:pathLst>
                  <a:path w="4270" h="95">
                    <a:moveTo>
                      <a:pt x="4270" y="95"/>
                    </a:moveTo>
                    <a:lnTo>
                      <a:pt x="3754" y="95"/>
                    </a:lnTo>
                    <a:lnTo>
                      <a:pt x="3754" y="44"/>
                    </a:lnTo>
                    <a:lnTo>
                      <a:pt x="3706" y="0"/>
                    </a:lnTo>
                    <a:lnTo>
                      <a:pt x="4239" y="0"/>
                    </a:lnTo>
                    <a:lnTo>
                      <a:pt x="4270" y="95"/>
                    </a:lnTo>
                    <a:close/>
                    <a:moveTo>
                      <a:pt x="2475" y="95"/>
                    </a:moveTo>
                    <a:lnTo>
                      <a:pt x="2023" y="95"/>
                    </a:lnTo>
                    <a:lnTo>
                      <a:pt x="2007" y="0"/>
                    </a:lnTo>
                    <a:lnTo>
                      <a:pt x="2450" y="0"/>
                    </a:lnTo>
                    <a:lnTo>
                      <a:pt x="2450" y="44"/>
                    </a:lnTo>
                    <a:lnTo>
                      <a:pt x="2475" y="95"/>
                    </a:lnTo>
                    <a:close/>
                    <a:moveTo>
                      <a:pt x="186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52" y="0"/>
                    </a:lnTo>
                    <a:lnTo>
                      <a:pt x="1861" y="44"/>
                    </a:lnTo>
                    <a:lnTo>
                      <a:pt x="1861" y="95"/>
                    </a:lnTo>
                    <a:close/>
                  </a:path>
                </a:pathLst>
              </a:custGeom>
              <a:solidFill>
                <a:srgbClr val="7ab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056120" y="4406760"/>
                <a:ext cx="1127160" cy="24120"/>
              </a:xfrm>
              <a:custGeom>
                <a:avLst/>
                <a:gdLst/>
                <a:ahLst/>
                <a:rect l="l" t="t" r="r" b="b"/>
                <a:pathLst>
                  <a:path w="4259" h="95">
                    <a:moveTo>
                      <a:pt x="4259" y="95"/>
                    </a:moveTo>
                    <a:lnTo>
                      <a:pt x="3758" y="95"/>
                    </a:lnTo>
                    <a:lnTo>
                      <a:pt x="3758" y="92"/>
                    </a:lnTo>
                    <a:lnTo>
                      <a:pt x="3689" y="28"/>
                    </a:lnTo>
                    <a:lnTo>
                      <a:pt x="3689" y="0"/>
                    </a:lnTo>
                    <a:lnTo>
                      <a:pt x="4228" y="0"/>
                    </a:lnTo>
                    <a:lnTo>
                      <a:pt x="4259" y="95"/>
                    </a:lnTo>
                    <a:close/>
                    <a:moveTo>
                      <a:pt x="2455" y="95"/>
                    </a:moveTo>
                    <a:lnTo>
                      <a:pt x="2018" y="95"/>
                    </a:lnTo>
                    <a:lnTo>
                      <a:pt x="2003" y="0"/>
                    </a:lnTo>
                    <a:lnTo>
                      <a:pt x="2454" y="0"/>
                    </a:lnTo>
                    <a:lnTo>
                      <a:pt x="2454" y="92"/>
                    </a:lnTo>
                    <a:lnTo>
                      <a:pt x="2455" y="95"/>
                    </a:lnTo>
                    <a:close/>
                    <a:moveTo>
                      <a:pt x="1865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45" y="0"/>
                    </a:lnTo>
                    <a:lnTo>
                      <a:pt x="1865" y="92"/>
                    </a:lnTo>
                    <a:lnTo>
                      <a:pt x="1865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056120" y="4394160"/>
                <a:ext cx="1122480" cy="23760"/>
              </a:xfrm>
              <a:custGeom>
                <a:avLst/>
                <a:gdLst/>
                <a:ahLst/>
                <a:rect l="l" t="t" r="r" b="b"/>
                <a:pathLst>
                  <a:path w="4246" h="95">
                    <a:moveTo>
                      <a:pt x="4246" y="95"/>
                    </a:moveTo>
                    <a:lnTo>
                      <a:pt x="3713" y="95"/>
                    </a:lnTo>
                    <a:lnTo>
                      <a:pt x="3692" y="75"/>
                    </a:lnTo>
                    <a:lnTo>
                      <a:pt x="3692" y="0"/>
                    </a:lnTo>
                    <a:lnTo>
                      <a:pt x="4216" y="0"/>
                    </a:lnTo>
                    <a:lnTo>
                      <a:pt x="4218" y="6"/>
                    </a:lnTo>
                    <a:lnTo>
                      <a:pt x="4246" y="95"/>
                    </a:lnTo>
                    <a:close/>
                    <a:moveTo>
                      <a:pt x="2457" y="95"/>
                    </a:moveTo>
                    <a:lnTo>
                      <a:pt x="2014" y="95"/>
                    </a:lnTo>
                    <a:lnTo>
                      <a:pt x="1998" y="0"/>
                    </a:lnTo>
                    <a:lnTo>
                      <a:pt x="2457" y="0"/>
                    </a:lnTo>
                    <a:lnTo>
                      <a:pt x="2457" y="6"/>
                    </a:lnTo>
                    <a:lnTo>
                      <a:pt x="2457" y="95"/>
                    </a:lnTo>
                    <a:close/>
                    <a:moveTo>
                      <a:pt x="185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37" y="0"/>
                    </a:lnTo>
                    <a:lnTo>
                      <a:pt x="1859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054320" y="4381560"/>
                <a:ext cx="1121040" cy="25200"/>
              </a:xfrm>
              <a:custGeom>
                <a:avLst/>
                <a:gdLst/>
                <a:ahLst/>
                <a:rect l="l" t="t" r="r" b="b"/>
                <a:pathLst>
                  <a:path w="4234" h="95">
                    <a:moveTo>
                      <a:pt x="4234" y="95"/>
                    </a:moveTo>
                    <a:lnTo>
                      <a:pt x="3695" y="95"/>
                    </a:lnTo>
                    <a:lnTo>
                      <a:pt x="3695" y="0"/>
                    </a:lnTo>
                    <a:lnTo>
                      <a:pt x="4207" y="0"/>
                    </a:lnTo>
                    <a:lnTo>
                      <a:pt x="4221" y="54"/>
                    </a:lnTo>
                    <a:lnTo>
                      <a:pt x="4234" y="95"/>
                    </a:lnTo>
                    <a:close/>
                    <a:moveTo>
                      <a:pt x="2460" y="95"/>
                    </a:moveTo>
                    <a:lnTo>
                      <a:pt x="2009" y="95"/>
                    </a:lnTo>
                    <a:lnTo>
                      <a:pt x="1994" y="0"/>
                    </a:lnTo>
                    <a:lnTo>
                      <a:pt x="2460" y="0"/>
                    </a:lnTo>
                    <a:lnTo>
                      <a:pt x="2460" y="54"/>
                    </a:lnTo>
                    <a:lnTo>
                      <a:pt x="2460" y="95"/>
                    </a:lnTo>
                    <a:close/>
                    <a:moveTo>
                      <a:pt x="1851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31" y="0"/>
                    </a:lnTo>
                    <a:lnTo>
                      <a:pt x="1851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054320" y="4368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22" h="95">
                    <a:moveTo>
                      <a:pt x="4222" y="95"/>
                    </a:moveTo>
                    <a:lnTo>
                      <a:pt x="3698" y="95"/>
                    </a:lnTo>
                    <a:lnTo>
                      <a:pt x="3698" y="38"/>
                    </a:lnTo>
                    <a:lnTo>
                      <a:pt x="3664" y="0"/>
                    </a:lnTo>
                    <a:lnTo>
                      <a:pt x="4197" y="0"/>
                    </a:lnTo>
                    <a:lnTo>
                      <a:pt x="4222" y="95"/>
                    </a:lnTo>
                    <a:close/>
                    <a:moveTo>
                      <a:pt x="2463" y="95"/>
                    </a:moveTo>
                    <a:lnTo>
                      <a:pt x="2004" y="95"/>
                    </a:lnTo>
                    <a:lnTo>
                      <a:pt x="1988" y="0"/>
                    </a:lnTo>
                    <a:lnTo>
                      <a:pt x="2463" y="0"/>
                    </a:lnTo>
                    <a:lnTo>
                      <a:pt x="2463" y="38"/>
                    </a:lnTo>
                    <a:lnTo>
                      <a:pt x="2463" y="95"/>
                    </a:lnTo>
                    <a:close/>
                    <a:moveTo>
                      <a:pt x="1843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23" y="0"/>
                    </a:lnTo>
                    <a:lnTo>
                      <a:pt x="1843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052880" y="4356000"/>
                <a:ext cx="1114560" cy="2556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3702" y="95"/>
                    </a:lnTo>
                    <a:lnTo>
                      <a:pt x="3702" y="86"/>
                    </a:lnTo>
                    <a:lnTo>
                      <a:pt x="3639" y="16"/>
                    </a:lnTo>
                    <a:lnTo>
                      <a:pt x="3631" y="0"/>
                    </a:lnTo>
                    <a:lnTo>
                      <a:pt x="4188" y="0"/>
                    </a:lnTo>
                    <a:lnTo>
                      <a:pt x="4214" y="95"/>
                    </a:lnTo>
                    <a:close/>
                    <a:moveTo>
                      <a:pt x="2467" y="95"/>
                    </a:moveTo>
                    <a:lnTo>
                      <a:pt x="2001" y="95"/>
                    </a:lnTo>
                    <a:lnTo>
                      <a:pt x="1984" y="0"/>
                    </a:lnTo>
                    <a:lnTo>
                      <a:pt x="2467" y="0"/>
                    </a:lnTo>
                    <a:lnTo>
                      <a:pt x="2467" y="16"/>
                    </a:lnTo>
                    <a:lnTo>
                      <a:pt x="2467" y="86"/>
                    </a:lnTo>
                    <a:lnTo>
                      <a:pt x="2467" y="95"/>
                    </a:lnTo>
                    <a:close/>
                    <a:moveTo>
                      <a:pt x="1838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17" y="0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051440" y="434340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5" h="95">
                    <a:moveTo>
                      <a:pt x="4205" y="95"/>
                    </a:moveTo>
                    <a:lnTo>
                      <a:pt x="3672" y="95"/>
                    </a:lnTo>
                    <a:lnTo>
                      <a:pt x="3643" y="63"/>
                    </a:lnTo>
                    <a:lnTo>
                      <a:pt x="3611" y="0"/>
                    </a:lnTo>
                    <a:lnTo>
                      <a:pt x="4178" y="0"/>
                    </a:lnTo>
                    <a:lnTo>
                      <a:pt x="4205" y="95"/>
                    </a:lnTo>
                    <a:close/>
                    <a:moveTo>
                      <a:pt x="2471" y="95"/>
                    </a:moveTo>
                    <a:lnTo>
                      <a:pt x="1996" y="95"/>
                    </a:lnTo>
                    <a:lnTo>
                      <a:pt x="1981" y="0"/>
                    </a:lnTo>
                    <a:lnTo>
                      <a:pt x="2471" y="0"/>
                    </a:lnTo>
                    <a:lnTo>
                      <a:pt x="2471" y="63"/>
                    </a:lnTo>
                    <a:lnTo>
                      <a:pt x="2471" y="95"/>
                    </a:lnTo>
                    <a:close/>
                    <a:moveTo>
                      <a:pt x="18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810" y="0"/>
                    </a:lnTo>
                    <a:lnTo>
                      <a:pt x="1831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051440" y="43308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5" h="95">
                    <a:moveTo>
                      <a:pt x="4195" y="95"/>
                    </a:moveTo>
                    <a:lnTo>
                      <a:pt x="3638" y="95"/>
                    </a:lnTo>
                    <a:lnTo>
                      <a:pt x="3590" y="0"/>
                    </a:lnTo>
                    <a:lnTo>
                      <a:pt x="4170" y="0"/>
                    </a:lnTo>
                    <a:lnTo>
                      <a:pt x="4195" y="95"/>
                    </a:lnTo>
                    <a:close/>
                    <a:moveTo>
                      <a:pt x="2474" y="95"/>
                    </a:moveTo>
                    <a:lnTo>
                      <a:pt x="1991" y="95"/>
                    </a:lnTo>
                    <a:lnTo>
                      <a:pt x="1976" y="0"/>
                    </a:lnTo>
                    <a:lnTo>
                      <a:pt x="2474" y="0"/>
                    </a:lnTo>
                    <a:lnTo>
                      <a:pt x="2474" y="95"/>
                    </a:lnTo>
                    <a:close/>
                    <a:moveTo>
                      <a:pt x="182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03" y="0"/>
                    </a:lnTo>
                    <a:lnTo>
                      <a:pt x="1824" y="95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049640" y="4317840"/>
                <a:ext cx="1108080" cy="25560"/>
              </a:xfrm>
              <a:custGeom>
                <a:avLst/>
                <a:gdLst/>
                <a:ahLst/>
                <a:rect l="l" t="t" r="r" b="b"/>
                <a:pathLst>
                  <a:path w="4185" h="97">
                    <a:moveTo>
                      <a:pt x="4185" y="97"/>
                    </a:moveTo>
                    <a:lnTo>
                      <a:pt x="3618" y="97"/>
                    </a:lnTo>
                    <a:lnTo>
                      <a:pt x="3586" y="32"/>
                    </a:lnTo>
                    <a:lnTo>
                      <a:pt x="3586" y="0"/>
                    </a:lnTo>
                    <a:lnTo>
                      <a:pt x="4162" y="0"/>
                    </a:lnTo>
                    <a:lnTo>
                      <a:pt x="4169" y="32"/>
                    </a:lnTo>
                    <a:lnTo>
                      <a:pt x="4185" y="97"/>
                    </a:lnTo>
                    <a:close/>
                    <a:moveTo>
                      <a:pt x="2478" y="97"/>
                    </a:moveTo>
                    <a:lnTo>
                      <a:pt x="1988" y="97"/>
                    </a:lnTo>
                    <a:lnTo>
                      <a:pt x="1971" y="0"/>
                    </a:lnTo>
                    <a:lnTo>
                      <a:pt x="2483" y="0"/>
                    </a:lnTo>
                    <a:lnTo>
                      <a:pt x="2478" y="32"/>
                    </a:lnTo>
                    <a:lnTo>
                      <a:pt x="2478" y="97"/>
                    </a:lnTo>
                    <a:close/>
                    <a:moveTo>
                      <a:pt x="1817" y="97"/>
                    </a:moveTo>
                    <a:lnTo>
                      <a:pt x="7" y="97"/>
                    </a:lnTo>
                    <a:lnTo>
                      <a:pt x="0" y="0"/>
                    </a:lnTo>
                    <a:lnTo>
                      <a:pt x="1797" y="0"/>
                    </a:lnTo>
                    <a:lnTo>
                      <a:pt x="1817" y="97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049640" y="4305240"/>
                <a:ext cx="1104840" cy="25560"/>
              </a:xfrm>
              <a:custGeom>
                <a:avLst/>
                <a:gdLst/>
                <a:ahLst/>
                <a:rect l="l" t="t" r="r" b="b"/>
                <a:pathLst>
                  <a:path w="4177" h="96">
                    <a:moveTo>
                      <a:pt x="4177" y="96"/>
                    </a:moveTo>
                    <a:lnTo>
                      <a:pt x="3597" y="96"/>
                    </a:lnTo>
                    <a:lnTo>
                      <a:pt x="3589" y="79"/>
                    </a:lnTo>
                    <a:lnTo>
                      <a:pt x="3589" y="0"/>
                    </a:lnTo>
                    <a:lnTo>
                      <a:pt x="4154" y="0"/>
                    </a:lnTo>
                    <a:lnTo>
                      <a:pt x="4172" y="79"/>
                    </a:lnTo>
                    <a:lnTo>
                      <a:pt x="4177" y="96"/>
                    </a:lnTo>
                    <a:close/>
                    <a:moveTo>
                      <a:pt x="2481" y="96"/>
                    </a:moveTo>
                    <a:lnTo>
                      <a:pt x="1983" y="96"/>
                    </a:lnTo>
                    <a:lnTo>
                      <a:pt x="1967" y="0"/>
                    </a:lnTo>
                    <a:lnTo>
                      <a:pt x="2494" y="0"/>
                    </a:lnTo>
                    <a:lnTo>
                      <a:pt x="2481" y="79"/>
                    </a:lnTo>
                    <a:lnTo>
                      <a:pt x="2481" y="96"/>
                    </a:lnTo>
                    <a:close/>
                    <a:moveTo>
                      <a:pt x="1810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89" y="0"/>
                    </a:lnTo>
                    <a:lnTo>
                      <a:pt x="1810" y="96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048200" y="42926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593" y="95"/>
                    </a:lnTo>
                    <a:lnTo>
                      <a:pt x="3593" y="0"/>
                    </a:lnTo>
                    <a:lnTo>
                      <a:pt x="3593" y="0"/>
                    </a:lnTo>
                    <a:lnTo>
                      <a:pt x="4147" y="0"/>
                    </a:lnTo>
                    <a:lnTo>
                      <a:pt x="4169" y="95"/>
                    </a:lnTo>
                    <a:close/>
                    <a:moveTo>
                      <a:pt x="2490" y="95"/>
                    </a:moveTo>
                    <a:lnTo>
                      <a:pt x="1978" y="95"/>
                    </a:lnTo>
                    <a:lnTo>
                      <a:pt x="1963" y="0"/>
                    </a:lnTo>
                    <a:lnTo>
                      <a:pt x="2507" y="0"/>
                    </a:lnTo>
                    <a:lnTo>
                      <a:pt x="2490" y="95"/>
                    </a:lnTo>
                    <a:close/>
                    <a:moveTo>
                      <a:pt x="180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84" y="0"/>
                    </a:lnTo>
                    <a:lnTo>
                      <a:pt x="1804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046400" y="4280040"/>
                <a:ext cx="1101960" cy="25200"/>
              </a:xfrm>
              <a:custGeom>
                <a:avLst/>
                <a:gdLst/>
                <a:ahLst/>
                <a:rect l="l" t="t" r="r" b="b"/>
                <a:pathLst>
                  <a:path w="4161" h="95">
                    <a:moveTo>
                      <a:pt x="4161" y="95"/>
                    </a:moveTo>
                    <a:lnTo>
                      <a:pt x="3596" y="95"/>
                    </a:lnTo>
                    <a:lnTo>
                      <a:pt x="3596" y="47"/>
                    </a:lnTo>
                    <a:lnTo>
                      <a:pt x="3573" y="0"/>
                    </a:lnTo>
                    <a:lnTo>
                      <a:pt x="4141" y="0"/>
                    </a:lnTo>
                    <a:lnTo>
                      <a:pt x="4161" y="95"/>
                    </a:lnTo>
                    <a:close/>
                    <a:moveTo>
                      <a:pt x="2501" y="95"/>
                    </a:moveTo>
                    <a:lnTo>
                      <a:pt x="1974" y="95"/>
                    </a:lnTo>
                    <a:lnTo>
                      <a:pt x="1957" y="0"/>
                    </a:lnTo>
                    <a:lnTo>
                      <a:pt x="2518" y="0"/>
                    </a:lnTo>
                    <a:lnTo>
                      <a:pt x="2501" y="95"/>
                    </a:lnTo>
                    <a:close/>
                    <a:moveTo>
                      <a:pt x="179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76" y="0"/>
                    </a:lnTo>
                    <a:lnTo>
                      <a:pt x="1796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046400" y="42670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4" h="95">
                    <a:moveTo>
                      <a:pt x="4154" y="95"/>
                    </a:moveTo>
                    <a:lnTo>
                      <a:pt x="3600" y="95"/>
                    </a:lnTo>
                    <a:lnTo>
                      <a:pt x="3555" y="0"/>
                    </a:lnTo>
                    <a:lnTo>
                      <a:pt x="4134" y="0"/>
                    </a:lnTo>
                    <a:lnTo>
                      <a:pt x="4154" y="95"/>
                    </a:lnTo>
                    <a:close/>
                    <a:moveTo>
                      <a:pt x="2514" y="95"/>
                    </a:moveTo>
                    <a:lnTo>
                      <a:pt x="1970" y="95"/>
                    </a:lnTo>
                    <a:lnTo>
                      <a:pt x="1954" y="0"/>
                    </a:lnTo>
                    <a:lnTo>
                      <a:pt x="2530" y="0"/>
                    </a:lnTo>
                    <a:lnTo>
                      <a:pt x="2514" y="95"/>
                    </a:lnTo>
                    <a:close/>
                    <a:moveTo>
                      <a:pt x="179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9" y="0"/>
                    </a:lnTo>
                    <a:lnTo>
                      <a:pt x="1791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044960" y="42544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48" h="95">
                    <a:moveTo>
                      <a:pt x="4148" y="95"/>
                    </a:moveTo>
                    <a:lnTo>
                      <a:pt x="3580" y="95"/>
                    </a:lnTo>
                    <a:lnTo>
                      <a:pt x="3540" y="9"/>
                    </a:lnTo>
                    <a:lnTo>
                      <a:pt x="3540" y="0"/>
                    </a:lnTo>
                    <a:lnTo>
                      <a:pt x="4129" y="0"/>
                    </a:lnTo>
                    <a:lnTo>
                      <a:pt x="4129" y="9"/>
                    </a:lnTo>
                    <a:lnTo>
                      <a:pt x="4148" y="95"/>
                    </a:lnTo>
                    <a:close/>
                    <a:moveTo>
                      <a:pt x="2525" y="95"/>
                    </a:moveTo>
                    <a:lnTo>
                      <a:pt x="1964" y="95"/>
                    </a:lnTo>
                    <a:lnTo>
                      <a:pt x="1949" y="0"/>
                    </a:lnTo>
                    <a:lnTo>
                      <a:pt x="2540" y="0"/>
                    </a:lnTo>
                    <a:lnTo>
                      <a:pt x="2525" y="95"/>
                    </a:lnTo>
                    <a:close/>
                    <a:moveTo>
                      <a:pt x="178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1" y="0"/>
                    </a:lnTo>
                    <a:lnTo>
                      <a:pt x="1783" y="95"/>
                    </a:lnTo>
                    <a:close/>
                  </a:path>
                </a:pathLst>
              </a:custGeom>
              <a:solidFill>
                <a:srgbClr val="78b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044960" y="4241880"/>
                <a:ext cx="1095480" cy="2520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3562" y="95"/>
                    </a:lnTo>
                    <a:lnTo>
                      <a:pt x="3544" y="57"/>
                    </a:lnTo>
                    <a:lnTo>
                      <a:pt x="3544" y="0"/>
                    </a:lnTo>
                    <a:lnTo>
                      <a:pt x="4133" y="0"/>
                    </a:lnTo>
                    <a:lnTo>
                      <a:pt x="4133" y="57"/>
                    </a:lnTo>
                    <a:lnTo>
                      <a:pt x="4141" y="95"/>
                    </a:lnTo>
                    <a:close/>
                    <a:moveTo>
                      <a:pt x="2537" y="95"/>
                    </a:moveTo>
                    <a:lnTo>
                      <a:pt x="1961" y="95"/>
                    </a:lnTo>
                    <a:lnTo>
                      <a:pt x="1945" y="0"/>
                    </a:lnTo>
                    <a:lnTo>
                      <a:pt x="2553" y="0"/>
                    </a:lnTo>
                    <a:lnTo>
                      <a:pt x="2537" y="95"/>
                    </a:lnTo>
                    <a:close/>
                    <a:moveTo>
                      <a:pt x="177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56" y="0"/>
                    </a:lnTo>
                    <a:lnTo>
                      <a:pt x="1776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043520" y="4229280"/>
                <a:ext cx="1093680" cy="25200"/>
              </a:xfrm>
              <a:custGeom>
                <a:avLst/>
                <a:gdLst/>
                <a:ahLst/>
                <a:rect l="l" t="t" r="r" b="b"/>
                <a:pathLst>
                  <a:path w="4137" h="95">
                    <a:moveTo>
                      <a:pt x="4137" y="95"/>
                    </a:moveTo>
                    <a:lnTo>
                      <a:pt x="3548" y="95"/>
                    </a:lnTo>
                    <a:lnTo>
                      <a:pt x="3548" y="41"/>
                    </a:lnTo>
                    <a:lnTo>
                      <a:pt x="3528" y="0"/>
                    </a:lnTo>
                    <a:lnTo>
                      <a:pt x="4137" y="0"/>
                    </a:lnTo>
                    <a:lnTo>
                      <a:pt x="4137" y="95"/>
                    </a:lnTo>
                    <a:close/>
                    <a:moveTo>
                      <a:pt x="2548" y="95"/>
                    </a:moveTo>
                    <a:lnTo>
                      <a:pt x="1957" y="95"/>
                    </a:lnTo>
                    <a:lnTo>
                      <a:pt x="1942" y="0"/>
                    </a:lnTo>
                    <a:lnTo>
                      <a:pt x="2565" y="0"/>
                    </a:lnTo>
                    <a:lnTo>
                      <a:pt x="2548" y="95"/>
                    </a:lnTo>
                    <a:close/>
                    <a:moveTo>
                      <a:pt x="1769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749" y="0"/>
                    </a:lnTo>
                    <a:lnTo>
                      <a:pt x="1769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041720" y="4216320"/>
                <a:ext cx="1095480" cy="25560"/>
              </a:xfrm>
              <a:custGeom>
                <a:avLst/>
                <a:gdLst/>
                <a:ahLst/>
                <a:rect l="l" t="t" r="r" b="b"/>
                <a:pathLst>
                  <a:path w="4140" h="95">
                    <a:moveTo>
                      <a:pt x="4140" y="95"/>
                    </a:moveTo>
                    <a:lnTo>
                      <a:pt x="3551" y="95"/>
                    </a:lnTo>
                    <a:lnTo>
                      <a:pt x="3551" y="89"/>
                    </a:lnTo>
                    <a:lnTo>
                      <a:pt x="3508" y="0"/>
                    </a:lnTo>
                    <a:lnTo>
                      <a:pt x="4140" y="0"/>
                    </a:lnTo>
                    <a:lnTo>
                      <a:pt x="4140" y="95"/>
                    </a:lnTo>
                    <a:close/>
                    <a:moveTo>
                      <a:pt x="2560" y="95"/>
                    </a:moveTo>
                    <a:lnTo>
                      <a:pt x="1952" y="95"/>
                    </a:lnTo>
                    <a:lnTo>
                      <a:pt x="1936" y="0"/>
                    </a:lnTo>
                    <a:lnTo>
                      <a:pt x="2576" y="0"/>
                    </a:lnTo>
                    <a:lnTo>
                      <a:pt x="2560" y="95"/>
                    </a:lnTo>
                    <a:close/>
                    <a:moveTo>
                      <a:pt x="176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42" y="0"/>
                    </a:lnTo>
                    <a:lnTo>
                      <a:pt x="1763" y="95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041720" y="4205160"/>
                <a:ext cx="1095480" cy="24120"/>
              </a:xfrm>
              <a:custGeom>
                <a:avLst/>
                <a:gdLst/>
                <a:ahLst/>
                <a:rect l="l" t="t" r="r" b="b"/>
                <a:pathLst>
                  <a:path w="4144" h="96">
                    <a:moveTo>
                      <a:pt x="4144" y="96"/>
                    </a:moveTo>
                    <a:lnTo>
                      <a:pt x="3535" y="96"/>
                    </a:lnTo>
                    <a:lnTo>
                      <a:pt x="3491" y="4"/>
                    </a:lnTo>
                    <a:lnTo>
                      <a:pt x="3491" y="0"/>
                    </a:lnTo>
                    <a:lnTo>
                      <a:pt x="4144" y="0"/>
                    </a:lnTo>
                    <a:lnTo>
                      <a:pt x="4144" y="96"/>
                    </a:lnTo>
                    <a:close/>
                    <a:moveTo>
                      <a:pt x="2572" y="96"/>
                    </a:moveTo>
                    <a:lnTo>
                      <a:pt x="1949" y="96"/>
                    </a:lnTo>
                    <a:lnTo>
                      <a:pt x="1933" y="0"/>
                    </a:lnTo>
                    <a:lnTo>
                      <a:pt x="2589" y="0"/>
                    </a:lnTo>
                    <a:lnTo>
                      <a:pt x="2572" y="96"/>
                    </a:lnTo>
                    <a:close/>
                    <a:moveTo>
                      <a:pt x="1756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35" y="0"/>
                    </a:lnTo>
                    <a:lnTo>
                      <a:pt x="1756" y="96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040280" y="4192560"/>
                <a:ext cx="1096920" cy="2376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3515" y="95"/>
                    </a:lnTo>
                    <a:lnTo>
                      <a:pt x="3494" y="51"/>
                    </a:lnTo>
                    <a:lnTo>
                      <a:pt x="3494" y="0"/>
                    </a:lnTo>
                    <a:lnTo>
                      <a:pt x="4147" y="0"/>
                    </a:lnTo>
                    <a:lnTo>
                      <a:pt x="4147" y="95"/>
                    </a:lnTo>
                    <a:close/>
                    <a:moveTo>
                      <a:pt x="2583" y="95"/>
                    </a:moveTo>
                    <a:lnTo>
                      <a:pt x="1943" y="95"/>
                    </a:lnTo>
                    <a:lnTo>
                      <a:pt x="1928" y="0"/>
                    </a:lnTo>
                    <a:lnTo>
                      <a:pt x="2600" y="0"/>
                    </a:lnTo>
                    <a:lnTo>
                      <a:pt x="2583" y="95"/>
                    </a:lnTo>
                    <a:close/>
                    <a:moveTo>
                      <a:pt x="174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49" y="95"/>
                    </a:lnTo>
                    <a:close/>
                  </a:path>
                </a:pathLst>
              </a:custGeom>
              <a:solidFill>
                <a:srgbClr val="77a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40280" y="4179960"/>
                <a:ext cx="1096920" cy="25200"/>
              </a:xfrm>
              <a:custGeom>
                <a:avLst/>
                <a:gdLst/>
                <a:ahLst/>
                <a:rect l="l" t="t" r="r" b="b"/>
                <a:pathLst>
                  <a:path w="4151" h="95">
                    <a:moveTo>
                      <a:pt x="4151" y="95"/>
                    </a:moveTo>
                    <a:lnTo>
                      <a:pt x="3498" y="95"/>
                    </a:lnTo>
                    <a:lnTo>
                      <a:pt x="3498" y="30"/>
                    </a:lnTo>
                    <a:lnTo>
                      <a:pt x="3498" y="0"/>
                    </a:lnTo>
                    <a:lnTo>
                      <a:pt x="4151" y="0"/>
                    </a:lnTo>
                    <a:lnTo>
                      <a:pt x="4151" y="30"/>
                    </a:lnTo>
                    <a:lnTo>
                      <a:pt x="4151" y="95"/>
                    </a:lnTo>
                    <a:close/>
                    <a:moveTo>
                      <a:pt x="2596" y="95"/>
                    </a:moveTo>
                    <a:lnTo>
                      <a:pt x="1940" y="95"/>
                    </a:lnTo>
                    <a:lnTo>
                      <a:pt x="1924" y="0"/>
                    </a:lnTo>
                    <a:lnTo>
                      <a:pt x="2611" y="0"/>
                    </a:lnTo>
                    <a:lnTo>
                      <a:pt x="2596" y="95"/>
                    </a:lnTo>
                    <a:close/>
                    <a:moveTo>
                      <a:pt x="1742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2" y="0"/>
                    </a:lnTo>
                    <a:lnTo>
                      <a:pt x="1742" y="95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038480" y="416736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54" h="96">
                    <a:moveTo>
                      <a:pt x="4154" y="96"/>
                    </a:moveTo>
                    <a:lnTo>
                      <a:pt x="3501" y="96"/>
                    </a:lnTo>
                    <a:lnTo>
                      <a:pt x="3501" y="78"/>
                    </a:lnTo>
                    <a:lnTo>
                      <a:pt x="3501" y="0"/>
                    </a:lnTo>
                    <a:lnTo>
                      <a:pt x="4154" y="0"/>
                    </a:lnTo>
                    <a:lnTo>
                      <a:pt x="4154" y="78"/>
                    </a:lnTo>
                    <a:lnTo>
                      <a:pt x="4154" y="96"/>
                    </a:lnTo>
                    <a:close/>
                    <a:moveTo>
                      <a:pt x="2607" y="96"/>
                    </a:moveTo>
                    <a:lnTo>
                      <a:pt x="1935" y="96"/>
                    </a:lnTo>
                    <a:lnTo>
                      <a:pt x="1919" y="0"/>
                    </a:lnTo>
                    <a:lnTo>
                      <a:pt x="2622" y="0"/>
                    </a:lnTo>
                    <a:lnTo>
                      <a:pt x="2607" y="96"/>
                    </a:lnTo>
                    <a:close/>
                    <a:moveTo>
                      <a:pt x="1735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14" y="0"/>
                    </a:lnTo>
                    <a:lnTo>
                      <a:pt x="1735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038480" y="415440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8" h="96">
                    <a:moveTo>
                      <a:pt x="4158" y="96"/>
                    </a:moveTo>
                    <a:lnTo>
                      <a:pt x="3505" y="96"/>
                    </a:lnTo>
                    <a:lnTo>
                      <a:pt x="3505" y="5"/>
                    </a:lnTo>
                    <a:lnTo>
                      <a:pt x="3480" y="0"/>
                    </a:lnTo>
                    <a:lnTo>
                      <a:pt x="4158" y="0"/>
                    </a:lnTo>
                    <a:lnTo>
                      <a:pt x="4158" y="96"/>
                    </a:lnTo>
                    <a:close/>
                    <a:moveTo>
                      <a:pt x="2618" y="96"/>
                    </a:moveTo>
                    <a:lnTo>
                      <a:pt x="1931" y="96"/>
                    </a:lnTo>
                    <a:lnTo>
                      <a:pt x="1915" y="0"/>
                    </a:lnTo>
                    <a:lnTo>
                      <a:pt x="2635" y="0"/>
                    </a:lnTo>
                    <a:lnTo>
                      <a:pt x="2618" y="96"/>
                    </a:lnTo>
                    <a:close/>
                    <a:moveTo>
                      <a:pt x="1729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29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037040" y="414180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62" h="96">
                    <a:moveTo>
                      <a:pt x="4162" y="96"/>
                    </a:moveTo>
                    <a:lnTo>
                      <a:pt x="3509" y="96"/>
                    </a:lnTo>
                    <a:lnTo>
                      <a:pt x="3509" y="53"/>
                    </a:lnTo>
                    <a:lnTo>
                      <a:pt x="3180" y="0"/>
                    </a:lnTo>
                    <a:lnTo>
                      <a:pt x="4162" y="0"/>
                    </a:lnTo>
                    <a:lnTo>
                      <a:pt x="4162" y="96"/>
                    </a:lnTo>
                    <a:close/>
                    <a:moveTo>
                      <a:pt x="2630" y="96"/>
                    </a:moveTo>
                    <a:lnTo>
                      <a:pt x="1927" y="96"/>
                    </a:lnTo>
                    <a:lnTo>
                      <a:pt x="1911" y="0"/>
                    </a:lnTo>
                    <a:lnTo>
                      <a:pt x="2647" y="0"/>
                    </a:lnTo>
                    <a:lnTo>
                      <a:pt x="2630" y="96"/>
                    </a:lnTo>
                    <a:close/>
                    <a:moveTo>
                      <a:pt x="1722" y="96"/>
                    </a:moveTo>
                    <a:lnTo>
                      <a:pt x="8" y="96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22" y="96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035600" y="412920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3487" y="95"/>
                    </a:lnTo>
                    <a:lnTo>
                      <a:pt x="2879" y="0"/>
                    </a:lnTo>
                    <a:lnTo>
                      <a:pt x="4165" y="0"/>
                    </a:lnTo>
                    <a:lnTo>
                      <a:pt x="4165" y="95"/>
                    </a:lnTo>
                    <a:close/>
                    <a:moveTo>
                      <a:pt x="2642" y="95"/>
                    </a:moveTo>
                    <a:lnTo>
                      <a:pt x="1922" y="95"/>
                    </a:lnTo>
                    <a:lnTo>
                      <a:pt x="1907" y="0"/>
                    </a:lnTo>
                    <a:lnTo>
                      <a:pt x="2658" y="0"/>
                    </a:lnTo>
                    <a:lnTo>
                      <a:pt x="2642" y="95"/>
                    </a:lnTo>
                    <a:close/>
                    <a:moveTo>
                      <a:pt x="171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035600" y="4116240"/>
                <a:ext cx="1101600" cy="2556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187" y="95"/>
                    </a:lnTo>
                    <a:lnTo>
                      <a:pt x="2668" y="15"/>
                    </a:lnTo>
                    <a:lnTo>
                      <a:pt x="2654" y="95"/>
                    </a:lnTo>
                    <a:lnTo>
                      <a:pt x="1918" y="95"/>
                    </a:lnTo>
                    <a:lnTo>
                      <a:pt x="1902" y="0"/>
                    </a:lnTo>
                    <a:lnTo>
                      <a:pt x="4165" y="0"/>
                    </a:lnTo>
                    <a:lnTo>
                      <a:pt x="4169" y="15"/>
                    </a:lnTo>
                    <a:lnTo>
                      <a:pt x="4169" y="95"/>
                    </a:lnTo>
                    <a:close/>
                    <a:moveTo>
                      <a:pt x="170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7" y="0"/>
                    </a:lnTo>
                    <a:lnTo>
                      <a:pt x="1709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033800" y="4103640"/>
                <a:ext cx="1103400" cy="2556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2886" y="95"/>
                    </a:lnTo>
                    <a:lnTo>
                      <a:pt x="2671" y="62"/>
                    </a:lnTo>
                    <a:lnTo>
                      <a:pt x="2665" y="95"/>
                    </a:lnTo>
                    <a:lnTo>
                      <a:pt x="1914" y="95"/>
                    </a:lnTo>
                    <a:lnTo>
                      <a:pt x="1897" y="0"/>
                    </a:lnTo>
                    <a:lnTo>
                      <a:pt x="4155" y="0"/>
                    </a:lnTo>
                    <a:lnTo>
                      <a:pt x="4172" y="62"/>
                    </a:lnTo>
                    <a:lnTo>
                      <a:pt x="4172" y="95"/>
                    </a:lnTo>
                    <a:close/>
                    <a:moveTo>
                      <a:pt x="170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1" y="0"/>
                    </a:lnTo>
                    <a:lnTo>
                      <a:pt x="1701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033800" y="40910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909" y="95"/>
                    </a:lnTo>
                    <a:lnTo>
                      <a:pt x="1894" y="0"/>
                    </a:lnTo>
                    <a:lnTo>
                      <a:pt x="4147" y="0"/>
                    </a:lnTo>
                    <a:lnTo>
                      <a:pt x="4172" y="95"/>
                    </a:lnTo>
                    <a:close/>
                    <a:moveTo>
                      <a:pt x="169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74" y="0"/>
                    </a:lnTo>
                    <a:lnTo>
                      <a:pt x="1694" y="95"/>
                    </a:lnTo>
                    <a:close/>
                  </a:path>
                </a:pathLst>
              </a:custGeom>
              <a:solidFill>
                <a:srgbClr val="76a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032360" y="407844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4" h="95">
                    <a:moveTo>
                      <a:pt x="4164" y="95"/>
                    </a:moveTo>
                    <a:lnTo>
                      <a:pt x="1906" y="95"/>
                    </a:lnTo>
                    <a:lnTo>
                      <a:pt x="1894" y="23"/>
                    </a:lnTo>
                    <a:lnTo>
                      <a:pt x="1863" y="0"/>
                    </a:lnTo>
                    <a:lnTo>
                      <a:pt x="4139" y="0"/>
                    </a:lnTo>
                    <a:lnTo>
                      <a:pt x="4164" y="95"/>
                    </a:lnTo>
                    <a:close/>
                    <a:moveTo>
                      <a:pt x="1690" y="95"/>
                    </a:moveTo>
                    <a:lnTo>
                      <a:pt x="9" y="95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1669" y="0"/>
                    </a:lnTo>
                    <a:lnTo>
                      <a:pt x="1690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030560" y="40654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9" h="95">
                    <a:moveTo>
                      <a:pt x="4159" y="95"/>
                    </a:moveTo>
                    <a:lnTo>
                      <a:pt x="1906" y="95"/>
                    </a:lnTo>
                    <a:lnTo>
                      <a:pt x="1901" y="71"/>
                    </a:lnTo>
                    <a:lnTo>
                      <a:pt x="1807" y="0"/>
                    </a:lnTo>
                    <a:lnTo>
                      <a:pt x="4134" y="0"/>
                    </a:lnTo>
                    <a:lnTo>
                      <a:pt x="4159" y="95"/>
                    </a:lnTo>
                    <a:close/>
                    <a:moveTo>
                      <a:pt x="1686" y="95"/>
                    </a:moveTo>
                    <a:lnTo>
                      <a:pt x="12" y="95"/>
                    </a:lnTo>
                    <a:lnTo>
                      <a:pt x="11" y="71"/>
                    </a:lnTo>
                    <a:lnTo>
                      <a:pt x="0" y="0"/>
                    </a:lnTo>
                    <a:lnTo>
                      <a:pt x="1665" y="0"/>
                    </a:lnTo>
                    <a:lnTo>
                      <a:pt x="1686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027320" y="40528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3" h="95">
                    <a:moveTo>
                      <a:pt x="4153" y="95"/>
                    </a:moveTo>
                    <a:lnTo>
                      <a:pt x="1877" y="95"/>
                    </a:lnTo>
                    <a:lnTo>
                      <a:pt x="1751" y="0"/>
                    </a:lnTo>
                    <a:lnTo>
                      <a:pt x="4128" y="0"/>
                    </a:lnTo>
                    <a:lnTo>
                      <a:pt x="4153" y="95"/>
                    </a:lnTo>
                    <a:close/>
                    <a:moveTo>
                      <a:pt x="1683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83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025880" y="404028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1820" y="95"/>
                    </a:lnTo>
                    <a:lnTo>
                      <a:pt x="1693" y="0"/>
                    </a:lnTo>
                    <a:lnTo>
                      <a:pt x="4131" y="0"/>
                    </a:lnTo>
                    <a:lnTo>
                      <a:pt x="4131" y="33"/>
                    </a:lnTo>
                    <a:lnTo>
                      <a:pt x="4147" y="95"/>
                    </a:lnTo>
                    <a:close/>
                    <a:moveTo>
                      <a:pt x="1678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8" y="0"/>
                    </a:lnTo>
                    <a:lnTo>
                      <a:pt x="1678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024440" y="4027320"/>
                <a:ext cx="1095120" cy="2556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1764" y="95"/>
                    </a:lnTo>
                    <a:lnTo>
                      <a:pt x="1662" y="17"/>
                    </a:lnTo>
                    <a:lnTo>
                      <a:pt x="1659" y="0"/>
                    </a:lnTo>
                    <a:lnTo>
                      <a:pt x="4138" y="0"/>
                    </a:lnTo>
                    <a:lnTo>
                      <a:pt x="4138" y="80"/>
                    </a:lnTo>
                    <a:lnTo>
                      <a:pt x="4141" y="95"/>
                    </a:lnTo>
                    <a:close/>
                    <a:moveTo>
                      <a:pt x="1675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59" y="20"/>
                    </a:lnTo>
                    <a:lnTo>
                      <a:pt x="1675" y="95"/>
                    </a:lnTo>
                    <a:close/>
                  </a:path>
                </a:pathLst>
              </a:custGeom>
              <a:solidFill>
                <a:srgbClr val="73a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022640" y="4014720"/>
                <a:ext cx="1096920" cy="25560"/>
              </a:xfrm>
              <a:custGeom>
                <a:avLst/>
                <a:gdLst/>
                <a:ahLst/>
                <a:rect l="l" t="t" r="r" b="b"/>
                <a:pathLst>
                  <a:path w="4145" h="95">
                    <a:moveTo>
                      <a:pt x="4145" y="95"/>
                    </a:moveTo>
                    <a:lnTo>
                      <a:pt x="1707" y="95"/>
                    </a:lnTo>
                    <a:lnTo>
                      <a:pt x="1669" y="65"/>
                    </a:lnTo>
                    <a:lnTo>
                      <a:pt x="1659" y="0"/>
                    </a:lnTo>
                    <a:lnTo>
                      <a:pt x="4145" y="0"/>
                    </a:lnTo>
                    <a:lnTo>
                      <a:pt x="4145" y="95"/>
                    </a:lnTo>
                    <a:close/>
                    <a:moveTo>
                      <a:pt x="1672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6" y="68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021200" y="4002120"/>
                <a:ext cx="1098360" cy="25200"/>
              </a:xfrm>
              <a:custGeom>
                <a:avLst/>
                <a:gdLst/>
                <a:ahLst/>
                <a:rect l="l" t="t" r="r" b="b"/>
                <a:pathLst>
                  <a:path w="4152" h="97">
                    <a:moveTo>
                      <a:pt x="4152" y="97"/>
                    </a:moveTo>
                    <a:lnTo>
                      <a:pt x="1673" y="97"/>
                    </a:lnTo>
                    <a:lnTo>
                      <a:pt x="1659" y="0"/>
                    </a:lnTo>
                    <a:lnTo>
                      <a:pt x="4152" y="0"/>
                    </a:lnTo>
                    <a:lnTo>
                      <a:pt x="4152" y="97"/>
                    </a:lnTo>
                    <a:close/>
                    <a:moveTo>
                      <a:pt x="1669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7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019400" y="3989520"/>
                <a:ext cx="1100160" cy="25200"/>
              </a:xfrm>
              <a:custGeom>
                <a:avLst/>
                <a:gdLst/>
                <a:ahLst/>
                <a:rect l="l" t="t" r="r" b="b"/>
                <a:pathLst>
                  <a:path w="4159" h="96">
                    <a:moveTo>
                      <a:pt x="4159" y="96"/>
                    </a:moveTo>
                    <a:lnTo>
                      <a:pt x="1673" y="96"/>
                    </a:lnTo>
                    <a:lnTo>
                      <a:pt x="1657" y="0"/>
                    </a:lnTo>
                    <a:lnTo>
                      <a:pt x="4159" y="0"/>
                    </a:lnTo>
                    <a:lnTo>
                      <a:pt x="4159" y="28"/>
                    </a:lnTo>
                    <a:lnTo>
                      <a:pt x="4159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017960" y="3978360"/>
                <a:ext cx="1101600" cy="2376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1672" y="95"/>
                    </a:lnTo>
                    <a:lnTo>
                      <a:pt x="1656" y="0"/>
                    </a:lnTo>
                    <a:lnTo>
                      <a:pt x="4165" y="0"/>
                    </a:lnTo>
                    <a:lnTo>
                      <a:pt x="4165" y="76"/>
                    </a:lnTo>
                    <a:lnTo>
                      <a:pt x="4165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014720" y="3965400"/>
                <a:ext cx="1104840" cy="2412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2" y="0"/>
                    </a:lnTo>
                    <a:lnTo>
                      <a:pt x="4172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013280" y="3952800"/>
                <a:ext cx="1106280" cy="25560"/>
              </a:xfrm>
              <a:custGeom>
                <a:avLst/>
                <a:gdLst/>
                <a:ahLst/>
                <a:rect l="l" t="t" r="r" b="b"/>
                <a:pathLst>
                  <a:path w="4179" h="95">
                    <a:moveTo>
                      <a:pt x="4179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9" y="0"/>
                    </a:lnTo>
                    <a:lnTo>
                      <a:pt x="4179" y="95"/>
                    </a:lnTo>
                    <a:close/>
                    <a:moveTo>
                      <a:pt x="1669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011480" y="3940200"/>
                <a:ext cx="1108080" cy="25200"/>
              </a:xfrm>
              <a:custGeom>
                <a:avLst/>
                <a:gdLst/>
                <a:ahLst/>
                <a:rect l="l" t="t" r="r" b="b"/>
                <a:pathLst>
                  <a:path w="4186" h="96">
                    <a:moveTo>
                      <a:pt x="4186" y="96"/>
                    </a:moveTo>
                    <a:lnTo>
                      <a:pt x="1670" y="96"/>
                    </a:lnTo>
                    <a:lnTo>
                      <a:pt x="1655" y="0"/>
                    </a:lnTo>
                    <a:lnTo>
                      <a:pt x="4186" y="0"/>
                    </a:lnTo>
                    <a:lnTo>
                      <a:pt x="4186" y="29"/>
                    </a:lnTo>
                    <a:lnTo>
                      <a:pt x="4186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2a7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010040" y="39276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4" h="95">
                    <a:moveTo>
                      <a:pt x="4194" y="95"/>
                    </a:moveTo>
                    <a:lnTo>
                      <a:pt x="1671" y="95"/>
                    </a:lnTo>
                    <a:lnTo>
                      <a:pt x="1655" y="0"/>
                    </a:lnTo>
                    <a:lnTo>
                      <a:pt x="4194" y="0"/>
                    </a:lnTo>
                    <a:lnTo>
                      <a:pt x="4194" y="76"/>
                    </a:lnTo>
                    <a:lnTo>
                      <a:pt x="4194" y="95"/>
                    </a:lnTo>
                    <a:close/>
                    <a:moveTo>
                      <a:pt x="167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0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008600" y="3914640"/>
                <a:ext cx="1110960" cy="25560"/>
              </a:xfrm>
              <a:custGeom>
                <a:avLst/>
                <a:gdLst/>
                <a:ahLst/>
                <a:rect l="l" t="t" r="r" b="b"/>
                <a:pathLst>
                  <a:path w="4201" h="95">
                    <a:moveTo>
                      <a:pt x="4201" y="95"/>
                    </a:moveTo>
                    <a:lnTo>
                      <a:pt x="1670" y="95"/>
                    </a:lnTo>
                    <a:lnTo>
                      <a:pt x="1659" y="22"/>
                    </a:lnTo>
                    <a:lnTo>
                      <a:pt x="1670" y="95"/>
                    </a:lnTo>
                    <a:lnTo>
                      <a:pt x="15" y="95"/>
                    </a:lnTo>
                    <a:lnTo>
                      <a:pt x="0" y="0"/>
                    </a:lnTo>
                    <a:lnTo>
                      <a:pt x="4201" y="0"/>
                    </a:lnTo>
                    <a:lnTo>
                      <a:pt x="4201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006800" y="390204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7" h="95">
                    <a:moveTo>
                      <a:pt x="4207" y="95"/>
                    </a:moveTo>
                    <a:lnTo>
                      <a:pt x="1668" y="95"/>
                    </a:lnTo>
                    <a:lnTo>
                      <a:pt x="1665" y="69"/>
                    </a:lnTo>
                    <a:lnTo>
                      <a:pt x="1668" y="95"/>
                    </a:lnTo>
                    <a:lnTo>
                      <a:pt x="13" y="95"/>
                    </a:lnTo>
                    <a:lnTo>
                      <a:pt x="0" y="0"/>
                    </a:lnTo>
                    <a:lnTo>
                      <a:pt x="4207" y="0"/>
                    </a:lnTo>
                    <a:lnTo>
                      <a:pt x="4207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005360" y="3889440"/>
                <a:ext cx="1114200" cy="2520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14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002120" y="3876840"/>
                <a:ext cx="1117440" cy="25200"/>
              </a:xfrm>
              <a:custGeom>
                <a:avLst/>
                <a:gdLst/>
                <a:ahLst/>
                <a:rect l="l" t="t" r="r" b="b"/>
                <a:pathLst>
                  <a:path w="4221" h="95">
                    <a:moveTo>
                      <a:pt x="4221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1" y="0"/>
                    </a:lnTo>
                    <a:lnTo>
                      <a:pt x="4221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000680" y="3863880"/>
                <a:ext cx="1118880" cy="25560"/>
              </a:xfrm>
              <a:custGeom>
                <a:avLst/>
                <a:gdLst/>
                <a:ahLst/>
                <a:rect l="l" t="t" r="r" b="b"/>
                <a:pathLst>
                  <a:path w="4228" h="95">
                    <a:moveTo>
                      <a:pt x="4228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8" y="0"/>
                    </a:lnTo>
                    <a:lnTo>
                      <a:pt x="4228" y="95"/>
                    </a:lnTo>
                    <a:close/>
                  </a:path>
                </a:pathLst>
              </a:custGeom>
              <a:solidFill>
                <a:srgbClr val="71a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998880" y="385128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5" h="97">
                    <a:moveTo>
                      <a:pt x="4235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4235" y="0"/>
                    </a:lnTo>
                    <a:lnTo>
                      <a:pt x="4235" y="97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97440" y="3838680"/>
                <a:ext cx="1122120" cy="25200"/>
              </a:xfrm>
              <a:custGeom>
                <a:avLst/>
                <a:gdLst/>
                <a:ahLst/>
                <a:rect l="l" t="t" r="r" b="b"/>
                <a:pathLst>
                  <a:path w="4242" h="96">
                    <a:moveTo>
                      <a:pt x="4242" y="96"/>
                    </a:moveTo>
                    <a:lnTo>
                      <a:pt x="14" y="96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4242" y="0"/>
                    </a:lnTo>
                    <a:lnTo>
                      <a:pt x="4242" y="96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995640" y="3825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9" h="95">
                    <a:moveTo>
                      <a:pt x="4249" y="95"/>
                    </a:moveTo>
                    <a:lnTo>
                      <a:pt x="14" y="95"/>
                    </a:lnTo>
                    <a:lnTo>
                      <a:pt x="9" y="62"/>
                    </a:lnTo>
                    <a:lnTo>
                      <a:pt x="0" y="0"/>
                    </a:lnTo>
                    <a:lnTo>
                      <a:pt x="4249" y="0"/>
                    </a:lnTo>
                    <a:lnTo>
                      <a:pt x="4249" y="95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992400" y="3813120"/>
                <a:ext cx="1127160" cy="25560"/>
              </a:xfrm>
              <a:custGeom>
                <a:avLst/>
                <a:gdLst/>
                <a:ahLst/>
                <a:rect l="l" t="t" r="r" b="b"/>
                <a:pathLst>
                  <a:path w="4258" h="95">
                    <a:moveTo>
                      <a:pt x="425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4258" y="0"/>
                    </a:lnTo>
                    <a:lnTo>
                      <a:pt x="4258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990960" y="3800520"/>
                <a:ext cx="1128600" cy="25200"/>
              </a:xfrm>
              <a:custGeom>
                <a:avLst/>
                <a:gdLst/>
                <a:ahLst/>
                <a:rect l="l" t="t" r="r" b="b"/>
                <a:pathLst>
                  <a:path w="4266" h="95">
                    <a:moveTo>
                      <a:pt x="42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4266" y="0"/>
                    </a:lnTo>
                    <a:lnTo>
                      <a:pt x="4266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989520" y="3787920"/>
                <a:ext cx="1130040" cy="25200"/>
              </a:xfrm>
              <a:custGeom>
                <a:avLst/>
                <a:gdLst/>
                <a:ahLst/>
                <a:rect l="l" t="t" r="r" b="b"/>
                <a:pathLst>
                  <a:path w="4273" h="95">
                    <a:moveTo>
                      <a:pt x="4273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64" y="10"/>
                    </a:lnTo>
                    <a:lnTo>
                      <a:pt x="1664" y="33"/>
                    </a:lnTo>
                    <a:lnTo>
                      <a:pt x="1664" y="10"/>
                    </a:lnTo>
                    <a:lnTo>
                      <a:pt x="1668" y="0"/>
                    </a:lnTo>
                    <a:lnTo>
                      <a:pt x="4273" y="0"/>
                    </a:lnTo>
                    <a:lnTo>
                      <a:pt x="4273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86280" y="3776760"/>
                <a:ext cx="1133280" cy="23760"/>
              </a:xfrm>
              <a:custGeom>
                <a:avLst/>
                <a:gdLst/>
                <a:ahLst/>
                <a:rect l="l" t="t" r="r" b="b"/>
                <a:pathLst>
                  <a:path w="4281" h="95">
                    <a:moveTo>
                      <a:pt x="4281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72" y="58"/>
                    </a:lnTo>
                    <a:lnTo>
                      <a:pt x="1672" y="81"/>
                    </a:lnTo>
                    <a:lnTo>
                      <a:pt x="1672" y="58"/>
                    </a:lnTo>
                    <a:lnTo>
                      <a:pt x="1691" y="0"/>
                    </a:lnTo>
                    <a:lnTo>
                      <a:pt x="4281" y="0"/>
                    </a:lnTo>
                    <a:lnTo>
                      <a:pt x="4281" y="95"/>
                    </a:lnTo>
                    <a:close/>
                  </a:path>
                </a:pathLst>
              </a:custGeom>
              <a:solidFill>
                <a:srgbClr val="70a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984480" y="3763800"/>
                <a:ext cx="1135080" cy="24120"/>
              </a:xfrm>
              <a:custGeom>
                <a:avLst/>
                <a:gdLst/>
                <a:ahLst/>
                <a:rect l="l" t="t" r="r" b="b"/>
                <a:pathLst>
                  <a:path w="4290" h="95">
                    <a:moveTo>
                      <a:pt x="4290" y="95"/>
                    </a:moveTo>
                    <a:lnTo>
                      <a:pt x="1685" y="95"/>
                    </a:lnTo>
                    <a:lnTo>
                      <a:pt x="1717" y="0"/>
                    </a:lnTo>
                    <a:lnTo>
                      <a:pt x="4290" y="0"/>
                    </a:lnTo>
                    <a:lnTo>
                      <a:pt x="4290" y="95"/>
                    </a:lnTo>
                    <a:close/>
                    <a:moveTo>
                      <a:pt x="1679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9" y="0"/>
                    </a:lnTo>
                    <a:lnTo>
                      <a:pt x="1679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983040" y="375120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7" h="95">
                    <a:moveTo>
                      <a:pt x="4297" y="95"/>
                    </a:moveTo>
                    <a:lnTo>
                      <a:pt x="1707" y="95"/>
                    </a:lnTo>
                    <a:lnTo>
                      <a:pt x="1741" y="0"/>
                    </a:lnTo>
                    <a:lnTo>
                      <a:pt x="4297" y="0"/>
                    </a:lnTo>
                    <a:lnTo>
                      <a:pt x="4297" y="95"/>
                    </a:lnTo>
                    <a:close/>
                    <a:moveTo>
                      <a:pt x="1677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77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79800" y="3738600"/>
                <a:ext cx="1139760" cy="25200"/>
              </a:xfrm>
              <a:custGeom>
                <a:avLst/>
                <a:gdLst/>
                <a:ahLst/>
                <a:rect l="l" t="t" r="r" b="b"/>
                <a:pathLst>
                  <a:path w="4305" h="96">
                    <a:moveTo>
                      <a:pt x="4305" y="96"/>
                    </a:moveTo>
                    <a:lnTo>
                      <a:pt x="1732" y="96"/>
                    </a:lnTo>
                    <a:lnTo>
                      <a:pt x="1765" y="0"/>
                    </a:lnTo>
                    <a:lnTo>
                      <a:pt x="4305" y="0"/>
                    </a:lnTo>
                    <a:lnTo>
                      <a:pt x="4305" y="96"/>
                    </a:lnTo>
                    <a:close/>
                    <a:moveTo>
                      <a:pt x="1674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4" y="96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78360" y="3726000"/>
                <a:ext cx="1141200" cy="25200"/>
              </a:xfrm>
              <a:custGeom>
                <a:avLst/>
                <a:gdLst/>
                <a:ahLst/>
                <a:rect l="l" t="t" r="r" b="b"/>
                <a:pathLst>
                  <a:path w="4314" h="95">
                    <a:moveTo>
                      <a:pt x="4314" y="95"/>
                    </a:moveTo>
                    <a:lnTo>
                      <a:pt x="1758" y="95"/>
                    </a:lnTo>
                    <a:lnTo>
                      <a:pt x="1790" y="0"/>
                    </a:lnTo>
                    <a:lnTo>
                      <a:pt x="4314" y="0"/>
                    </a:lnTo>
                    <a:lnTo>
                      <a:pt x="4314" y="95"/>
                    </a:lnTo>
                    <a:close/>
                    <a:moveTo>
                      <a:pt x="1673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3" y="0"/>
                    </a:lnTo>
                    <a:lnTo>
                      <a:pt x="1673" y="95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76560" y="371304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22" h="95">
                    <a:moveTo>
                      <a:pt x="4322" y="95"/>
                    </a:moveTo>
                    <a:lnTo>
                      <a:pt x="1782" y="95"/>
                    </a:lnTo>
                    <a:lnTo>
                      <a:pt x="1814" y="0"/>
                    </a:lnTo>
                    <a:lnTo>
                      <a:pt x="4322" y="0"/>
                    </a:lnTo>
                    <a:lnTo>
                      <a:pt x="4322" y="95"/>
                    </a:lnTo>
                    <a:close/>
                    <a:moveTo>
                      <a:pt x="1672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2" y="0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73680" y="3700440"/>
                <a:ext cx="1145880" cy="25560"/>
              </a:xfrm>
              <a:custGeom>
                <a:avLst/>
                <a:gdLst/>
                <a:ahLst/>
                <a:rect l="l" t="t" r="r" b="b"/>
                <a:pathLst>
                  <a:path w="4329" h="96">
                    <a:moveTo>
                      <a:pt x="4329" y="96"/>
                    </a:moveTo>
                    <a:lnTo>
                      <a:pt x="1805" y="96"/>
                    </a:lnTo>
                    <a:lnTo>
                      <a:pt x="1838" y="0"/>
                    </a:lnTo>
                    <a:lnTo>
                      <a:pt x="4328" y="0"/>
                    </a:lnTo>
                    <a:lnTo>
                      <a:pt x="4329" y="15"/>
                    </a:lnTo>
                    <a:lnTo>
                      <a:pt x="4329" y="96"/>
                    </a:lnTo>
                    <a:close/>
                    <a:moveTo>
                      <a:pt x="1668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9" y="0"/>
                    </a:lnTo>
                    <a:lnTo>
                      <a:pt x="1668" y="96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971880" y="3687840"/>
                <a:ext cx="1147680" cy="25200"/>
              </a:xfrm>
              <a:custGeom>
                <a:avLst/>
                <a:gdLst/>
                <a:ahLst/>
                <a:rect l="l" t="t" r="r" b="b"/>
                <a:pathLst>
                  <a:path w="4337" h="96">
                    <a:moveTo>
                      <a:pt x="4337" y="96"/>
                    </a:moveTo>
                    <a:lnTo>
                      <a:pt x="1829" y="96"/>
                    </a:lnTo>
                    <a:lnTo>
                      <a:pt x="1861" y="5"/>
                    </a:lnTo>
                    <a:lnTo>
                      <a:pt x="1861" y="0"/>
                    </a:lnTo>
                    <a:lnTo>
                      <a:pt x="4331" y="0"/>
                    </a:lnTo>
                    <a:lnTo>
                      <a:pt x="4337" y="63"/>
                    </a:lnTo>
                    <a:lnTo>
                      <a:pt x="4337" y="96"/>
                    </a:lnTo>
                    <a:close/>
                    <a:moveTo>
                      <a:pt x="1667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7" y="96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970440" y="3675240"/>
                <a:ext cx="1149120" cy="25200"/>
              </a:xfrm>
              <a:custGeom>
                <a:avLst/>
                <a:gdLst/>
                <a:ahLst/>
                <a:rect l="l" t="t" r="r" b="b"/>
                <a:pathLst>
                  <a:path w="4345" h="95">
                    <a:moveTo>
                      <a:pt x="4345" y="95"/>
                    </a:moveTo>
                    <a:lnTo>
                      <a:pt x="1855" y="95"/>
                    </a:lnTo>
                    <a:lnTo>
                      <a:pt x="1870" y="52"/>
                    </a:lnTo>
                    <a:lnTo>
                      <a:pt x="1881" y="0"/>
                    </a:lnTo>
                    <a:lnTo>
                      <a:pt x="4335" y="0"/>
                    </a:lnTo>
                    <a:lnTo>
                      <a:pt x="4345" y="95"/>
                    </a:lnTo>
                    <a:close/>
                    <a:moveTo>
                      <a:pt x="16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6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67200" y="3662280"/>
                <a:ext cx="1150920" cy="25560"/>
              </a:xfrm>
              <a:custGeom>
                <a:avLst/>
                <a:gdLst/>
                <a:ahLst/>
                <a:rect l="l" t="t" r="r" b="b"/>
                <a:pathLst>
                  <a:path w="4347" h="95">
                    <a:moveTo>
                      <a:pt x="4347" y="95"/>
                    </a:moveTo>
                    <a:lnTo>
                      <a:pt x="1877" y="95"/>
                    </a:lnTo>
                    <a:lnTo>
                      <a:pt x="1898" y="0"/>
                    </a:lnTo>
                    <a:lnTo>
                      <a:pt x="4337" y="0"/>
                    </a:lnTo>
                    <a:lnTo>
                      <a:pt x="4347" y="95"/>
                    </a:lnTo>
                    <a:close/>
                    <a:moveTo>
                      <a:pt x="166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43" y="0"/>
                    </a:lnTo>
                    <a:lnTo>
                      <a:pt x="1662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65400" y="3649680"/>
                <a:ext cx="1151280" cy="25560"/>
              </a:xfrm>
              <a:custGeom>
                <a:avLst/>
                <a:gdLst/>
                <a:ahLst/>
                <a:rect l="l" t="t" r="r" b="b"/>
                <a:pathLst>
                  <a:path w="4350" h="96">
                    <a:moveTo>
                      <a:pt x="4350" y="96"/>
                    </a:moveTo>
                    <a:lnTo>
                      <a:pt x="1896" y="96"/>
                    </a:lnTo>
                    <a:lnTo>
                      <a:pt x="1916" y="0"/>
                    </a:lnTo>
                    <a:lnTo>
                      <a:pt x="4341" y="0"/>
                    </a:lnTo>
                    <a:lnTo>
                      <a:pt x="4350" y="96"/>
                    </a:lnTo>
                    <a:close/>
                    <a:moveTo>
                      <a:pt x="1661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1" y="0"/>
                    </a:lnTo>
                    <a:lnTo>
                      <a:pt x="1661" y="96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963960" y="3637080"/>
                <a:ext cx="1150920" cy="25200"/>
              </a:xfrm>
              <a:custGeom>
                <a:avLst/>
                <a:gdLst/>
                <a:ahLst/>
                <a:rect l="l" t="t" r="r" b="b"/>
                <a:pathLst>
                  <a:path w="4353" h="95">
                    <a:moveTo>
                      <a:pt x="4353" y="95"/>
                    </a:moveTo>
                    <a:lnTo>
                      <a:pt x="1914" y="95"/>
                    </a:lnTo>
                    <a:lnTo>
                      <a:pt x="1934" y="0"/>
                    </a:lnTo>
                    <a:lnTo>
                      <a:pt x="4345" y="0"/>
                    </a:lnTo>
                    <a:lnTo>
                      <a:pt x="4353" y="95"/>
                    </a:lnTo>
                    <a:close/>
                    <a:moveTo>
                      <a:pt x="1659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9" y="0"/>
                    </a:lnTo>
                    <a:lnTo>
                      <a:pt x="1659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960720" y="3624120"/>
                <a:ext cx="1152720" cy="25560"/>
              </a:xfrm>
              <a:custGeom>
                <a:avLst/>
                <a:gdLst/>
                <a:ahLst/>
                <a:rect l="l" t="t" r="r" b="b"/>
                <a:pathLst>
                  <a:path w="4356" h="95">
                    <a:moveTo>
                      <a:pt x="4356" y="95"/>
                    </a:moveTo>
                    <a:lnTo>
                      <a:pt x="1931" y="95"/>
                    </a:lnTo>
                    <a:lnTo>
                      <a:pt x="1950" y="0"/>
                    </a:lnTo>
                    <a:lnTo>
                      <a:pt x="4347" y="0"/>
                    </a:lnTo>
                    <a:lnTo>
                      <a:pt x="4356" y="95"/>
                    </a:lnTo>
                    <a:close/>
                    <a:moveTo>
                      <a:pt x="165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7" y="0"/>
                    </a:lnTo>
                    <a:lnTo>
                      <a:pt x="1656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959280" y="3611520"/>
                <a:ext cx="1154160" cy="25560"/>
              </a:xfrm>
              <a:custGeom>
                <a:avLst/>
                <a:gdLst/>
                <a:ahLst/>
                <a:rect l="l" t="t" r="r" b="b"/>
                <a:pathLst>
                  <a:path w="4361" h="95">
                    <a:moveTo>
                      <a:pt x="4361" y="95"/>
                    </a:moveTo>
                    <a:lnTo>
                      <a:pt x="1950" y="95"/>
                    </a:lnTo>
                    <a:lnTo>
                      <a:pt x="1970" y="0"/>
                    </a:lnTo>
                    <a:lnTo>
                      <a:pt x="4352" y="0"/>
                    </a:lnTo>
                    <a:lnTo>
                      <a:pt x="4361" y="95"/>
                    </a:lnTo>
                    <a:close/>
                    <a:moveTo>
                      <a:pt x="1655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5" y="0"/>
                    </a:lnTo>
                    <a:lnTo>
                      <a:pt x="1655" y="95"/>
                    </a:lnTo>
                    <a:close/>
                  </a:path>
                </a:pathLst>
              </a:custGeom>
              <a:solidFill>
                <a:srgbClr val="6d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957480" y="3598920"/>
                <a:ext cx="1154160" cy="25200"/>
              </a:xfrm>
              <a:custGeom>
                <a:avLst/>
                <a:gdLst/>
                <a:ahLst/>
                <a:rect l="l" t="t" r="r" b="b"/>
                <a:pathLst>
                  <a:path w="4364" h="95">
                    <a:moveTo>
                      <a:pt x="4364" y="95"/>
                    </a:moveTo>
                    <a:lnTo>
                      <a:pt x="1967" y="95"/>
                    </a:lnTo>
                    <a:lnTo>
                      <a:pt x="1986" y="9"/>
                    </a:lnTo>
                    <a:lnTo>
                      <a:pt x="1987" y="0"/>
                    </a:lnTo>
                    <a:lnTo>
                      <a:pt x="4355" y="0"/>
                    </a:lnTo>
                    <a:lnTo>
                      <a:pt x="4364" y="95"/>
                    </a:lnTo>
                    <a:close/>
                    <a:moveTo>
                      <a:pt x="165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34" y="0"/>
                    </a:lnTo>
                    <a:lnTo>
                      <a:pt x="1654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954600" y="358632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7" h="95">
                    <a:moveTo>
                      <a:pt x="4367" y="95"/>
                    </a:moveTo>
                    <a:lnTo>
                      <a:pt x="1985" y="95"/>
                    </a:lnTo>
                    <a:lnTo>
                      <a:pt x="1993" y="56"/>
                    </a:lnTo>
                    <a:lnTo>
                      <a:pt x="2002" y="0"/>
                    </a:lnTo>
                    <a:lnTo>
                      <a:pt x="4357" y="0"/>
                    </a:lnTo>
                    <a:lnTo>
                      <a:pt x="4367" y="95"/>
                    </a:lnTo>
                    <a:close/>
                    <a:moveTo>
                      <a:pt x="16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1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952800" y="3575160"/>
                <a:ext cx="1155600" cy="23760"/>
              </a:xfrm>
              <a:custGeom>
                <a:avLst/>
                <a:gdLst/>
                <a:ahLst/>
                <a:rect l="l" t="t" r="r" b="b"/>
                <a:pathLst>
                  <a:path w="4371" h="95">
                    <a:moveTo>
                      <a:pt x="4371" y="95"/>
                    </a:moveTo>
                    <a:lnTo>
                      <a:pt x="2003" y="95"/>
                    </a:lnTo>
                    <a:lnTo>
                      <a:pt x="2019" y="0"/>
                    </a:lnTo>
                    <a:lnTo>
                      <a:pt x="4361" y="0"/>
                    </a:lnTo>
                    <a:lnTo>
                      <a:pt x="4371" y="95"/>
                    </a:lnTo>
                    <a:close/>
                    <a:moveTo>
                      <a:pt x="1650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951360" y="3562200"/>
                <a:ext cx="1157040" cy="24120"/>
              </a:xfrm>
              <a:custGeom>
                <a:avLst/>
                <a:gdLst/>
                <a:ahLst/>
                <a:rect l="l" t="t" r="r" b="b"/>
                <a:pathLst>
                  <a:path w="4374" h="95">
                    <a:moveTo>
                      <a:pt x="4374" y="95"/>
                    </a:moveTo>
                    <a:lnTo>
                      <a:pt x="2019" y="95"/>
                    </a:lnTo>
                    <a:lnTo>
                      <a:pt x="2034" y="0"/>
                    </a:lnTo>
                    <a:lnTo>
                      <a:pt x="4365" y="0"/>
                    </a:lnTo>
                    <a:lnTo>
                      <a:pt x="4374" y="95"/>
                    </a:lnTo>
                    <a:close/>
                    <a:moveTo>
                      <a:pt x="1648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8" y="0"/>
                    </a:lnTo>
                    <a:lnTo>
                      <a:pt x="1648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948120" y="3548160"/>
                <a:ext cx="1158840" cy="27000"/>
              </a:xfrm>
              <a:custGeom>
                <a:avLst/>
                <a:gdLst/>
                <a:ahLst/>
                <a:rect l="l" t="t" r="r" b="b"/>
                <a:pathLst>
                  <a:path w="4377" h="96">
                    <a:moveTo>
                      <a:pt x="4377" y="96"/>
                    </a:moveTo>
                    <a:lnTo>
                      <a:pt x="2035" y="96"/>
                    </a:lnTo>
                    <a:lnTo>
                      <a:pt x="2050" y="0"/>
                    </a:lnTo>
                    <a:lnTo>
                      <a:pt x="4368" y="0"/>
                    </a:lnTo>
                    <a:lnTo>
                      <a:pt x="4377" y="96"/>
                    </a:lnTo>
                    <a:close/>
                    <a:moveTo>
                      <a:pt x="164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626" y="0"/>
                    </a:lnTo>
                    <a:lnTo>
                      <a:pt x="1645" y="96"/>
                    </a:lnTo>
                    <a:close/>
                  </a:path>
                </a:pathLst>
              </a:custGeom>
              <a:solidFill>
                <a:srgbClr val="6c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946680" y="3537000"/>
                <a:ext cx="1158840" cy="25200"/>
              </a:xfrm>
              <a:custGeom>
                <a:avLst/>
                <a:gdLst/>
                <a:ahLst/>
                <a:rect l="l" t="t" r="r" b="b"/>
                <a:pathLst>
                  <a:path w="4380" h="97">
                    <a:moveTo>
                      <a:pt x="4380" y="97"/>
                    </a:moveTo>
                    <a:lnTo>
                      <a:pt x="2049" y="97"/>
                    </a:lnTo>
                    <a:lnTo>
                      <a:pt x="2064" y="0"/>
                    </a:lnTo>
                    <a:lnTo>
                      <a:pt x="4370" y="0"/>
                    </a:lnTo>
                    <a:lnTo>
                      <a:pt x="4380" y="97"/>
                    </a:lnTo>
                    <a:close/>
                    <a:moveTo>
                      <a:pt x="1643" y="97"/>
                    </a:moveTo>
                    <a:lnTo>
                      <a:pt x="15" y="97"/>
                    </a:lnTo>
                    <a:lnTo>
                      <a:pt x="0" y="0"/>
                    </a:lnTo>
                    <a:lnTo>
                      <a:pt x="1623" y="0"/>
                    </a:lnTo>
                    <a:lnTo>
                      <a:pt x="1643" y="97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944880" y="3524400"/>
                <a:ext cx="1158840" cy="23760"/>
              </a:xfrm>
              <a:custGeom>
                <a:avLst/>
                <a:gdLst/>
                <a:ahLst/>
                <a:rect l="l" t="t" r="r" b="b"/>
                <a:pathLst>
                  <a:path w="4384" h="95">
                    <a:moveTo>
                      <a:pt x="4384" y="95"/>
                    </a:moveTo>
                    <a:lnTo>
                      <a:pt x="2066" y="95"/>
                    </a:lnTo>
                    <a:lnTo>
                      <a:pt x="2082" y="0"/>
                    </a:lnTo>
                    <a:lnTo>
                      <a:pt x="4378" y="0"/>
                    </a:lnTo>
                    <a:lnTo>
                      <a:pt x="4378" y="28"/>
                    </a:lnTo>
                    <a:lnTo>
                      <a:pt x="4384" y="95"/>
                    </a:lnTo>
                    <a:close/>
                    <a:moveTo>
                      <a:pt x="164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42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941640" y="35114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87" h="95">
                    <a:moveTo>
                      <a:pt x="4387" y="95"/>
                    </a:moveTo>
                    <a:lnTo>
                      <a:pt x="2081" y="95"/>
                    </a:lnTo>
                    <a:lnTo>
                      <a:pt x="2097" y="0"/>
                    </a:lnTo>
                    <a:lnTo>
                      <a:pt x="4386" y="0"/>
                    </a:lnTo>
                    <a:lnTo>
                      <a:pt x="4386" y="76"/>
                    </a:lnTo>
                    <a:lnTo>
                      <a:pt x="4387" y="95"/>
                    </a:lnTo>
                    <a:close/>
                    <a:moveTo>
                      <a:pt x="1640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1" y="0"/>
                    </a:lnTo>
                    <a:lnTo>
                      <a:pt x="1640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940200" y="34988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3" h="95">
                    <a:moveTo>
                      <a:pt x="4393" y="95"/>
                    </a:moveTo>
                    <a:lnTo>
                      <a:pt x="2097" y="95"/>
                    </a:lnTo>
                    <a:lnTo>
                      <a:pt x="2112" y="0"/>
                    </a:lnTo>
                    <a:lnTo>
                      <a:pt x="4393" y="0"/>
                    </a:lnTo>
                    <a:lnTo>
                      <a:pt x="4393" y="95"/>
                    </a:lnTo>
                    <a:close/>
                    <a:moveTo>
                      <a:pt x="1637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37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938760" y="348624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401" h="95">
                    <a:moveTo>
                      <a:pt x="4401" y="95"/>
                    </a:moveTo>
                    <a:lnTo>
                      <a:pt x="2112" y="95"/>
                    </a:lnTo>
                    <a:lnTo>
                      <a:pt x="2120" y="44"/>
                    </a:lnTo>
                    <a:lnTo>
                      <a:pt x="2120" y="0"/>
                    </a:lnTo>
                    <a:lnTo>
                      <a:pt x="4401" y="0"/>
                    </a:lnTo>
                    <a:lnTo>
                      <a:pt x="4401" y="95"/>
                    </a:lnTo>
                    <a:close/>
                    <a:moveTo>
                      <a:pt x="163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6" y="0"/>
                    </a:lnTo>
                    <a:lnTo>
                      <a:pt x="1636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935520" y="3473280"/>
                <a:ext cx="1166760" cy="25560"/>
              </a:xfrm>
              <a:custGeom>
                <a:avLst/>
                <a:gdLst/>
                <a:ahLst/>
                <a:rect l="l" t="t" r="r" b="b"/>
                <a:pathLst>
                  <a:path w="4410" h="95">
                    <a:moveTo>
                      <a:pt x="4410" y="95"/>
                    </a:moveTo>
                    <a:lnTo>
                      <a:pt x="2129" y="95"/>
                    </a:lnTo>
                    <a:lnTo>
                      <a:pt x="2129" y="91"/>
                    </a:lnTo>
                    <a:lnTo>
                      <a:pt x="2129" y="0"/>
                    </a:lnTo>
                    <a:lnTo>
                      <a:pt x="4410" y="0"/>
                    </a:lnTo>
                    <a:lnTo>
                      <a:pt x="4410" y="95"/>
                    </a:lnTo>
                    <a:close/>
                    <a:moveTo>
                      <a:pt x="163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15" y="0"/>
                    </a:lnTo>
                    <a:lnTo>
                      <a:pt x="1634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933720" y="3460680"/>
                <a:ext cx="1168560" cy="25560"/>
              </a:xfrm>
              <a:custGeom>
                <a:avLst/>
                <a:gdLst/>
                <a:ahLst/>
                <a:rect l="l" t="t" r="r" b="b"/>
                <a:pathLst>
                  <a:path w="4417" h="95">
                    <a:moveTo>
                      <a:pt x="4417" y="95"/>
                    </a:moveTo>
                    <a:lnTo>
                      <a:pt x="2136" y="95"/>
                    </a:lnTo>
                    <a:lnTo>
                      <a:pt x="2136" y="0"/>
                    </a:lnTo>
                    <a:lnTo>
                      <a:pt x="4417" y="0"/>
                    </a:lnTo>
                    <a:lnTo>
                      <a:pt x="4417" y="95"/>
                    </a:lnTo>
                    <a:close/>
                    <a:moveTo>
                      <a:pt x="163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14" y="12"/>
                    </a:lnTo>
                    <a:lnTo>
                      <a:pt x="1632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932280" y="34480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5" h="96">
                    <a:moveTo>
                      <a:pt x="4425" y="96"/>
                    </a:moveTo>
                    <a:lnTo>
                      <a:pt x="2144" y="96"/>
                    </a:lnTo>
                    <a:lnTo>
                      <a:pt x="2144" y="0"/>
                    </a:lnTo>
                    <a:lnTo>
                      <a:pt x="4425" y="0"/>
                    </a:lnTo>
                    <a:lnTo>
                      <a:pt x="4425" y="96"/>
                    </a:lnTo>
                    <a:close/>
                    <a:moveTo>
                      <a:pt x="1630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22" y="60"/>
                    </a:lnTo>
                    <a:lnTo>
                      <a:pt x="1630" y="96"/>
                    </a:lnTo>
                    <a:close/>
                  </a:path>
                </a:pathLst>
              </a:custGeom>
              <a:solidFill>
                <a:srgbClr val="6b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929040" y="343548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433" y="95"/>
                    </a:moveTo>
                    <a:lnTo>
                      <a:pt x="2152" y="95"/>
                    </a:lnTo>
                    <a:lnTo>
                      <a:pt x="2152" y="0"/>
                    </a:lnTo>
                    <a:lnTo>
                      <a:pt x="4433" y="0"/>
                    </a:lnTo>
                    <a:lnTo>
                      <a:pt x="4433" y="95"/>
                    </a:lnTo>
                    <a:close/>
                    <a:moveTo>
                      <a:pt x="163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38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27600" y="3422520"/>
                <a:ext cx="1174680" cy="25560"/>
              </a:xfrm>
              <a:custGeom>
                <a:avLst/>
                <a:gdLst/>
                <a:ahLst/>
                <a:rect l="l" t="t" r="r" b="b"/>
                <a:pathLst>
                  <a:path w="4440" h="95">
                    <a:moveTo>
                      <a:pt x="4440" y="95"/>
                    </a:moveTo>
                    <a:lnTo>
                      <a:pt x="2159" y="95"/>
                    </a:lnTo>
                    <a:lnTo>
                      <a:pt x="2159" y="0"/>
                    </a:lnTo>
                    <a:lnTo>
                      <a:pt x="4440" y="0"/>
                    </a:lnTo>
                    <a:lnTo>
                      <a:pt x="4440" y="95"/>
                    </a:lnTo>
                    <a:close/>
                    <a:moveTo>
                      <a:pt x="167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738" y="0"/>
                    </a:lnTo>
                    <a:lnTo>
                      <a:pt x="1676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925800" y="3409920"/>
                <a:ext cx="1176480" cy="25560"/>
              </a:xfrm>
              <a:custGeom>
                <a:avLst/>
                <a:gdLst/>
                <a:ahLst/>
                <a:rect l="l" t="t" r="r" b="b"/>
                <a:pathLst>
                  <a:path w="4449" h="95">
                    <a:moveTo>
                      <a:pt x="4449" y="95"/>
                    </a:moveTo>
                    <a:lnTo>
                      <a:pt x="2168" y="95"/>
                    </a:lnTo>
                    <a:lnTo>
                      <a:pt x="2168" y="0"/>
                    </a:lnTo>
                    <a:lnTo>
                      <a:pt x="4449" y="0"/>
                    </a:lnTo>
                    <a:lnTo>
                      <a:pt x="4449" y="95"/>
                    </a:lnTo>
                    <a:close/>
                    <a:moveTo>
                      <a:pt x="1716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79" y="0"/>
                    </a:lnTo>
                    <a:lnTo>
                      <a:pt x="1776" y="2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922560" y="3397320"/>
                <a:ext cx="1179720" cy="25200"/>
              </a:xfrm>
              <a:custGeom>
                <a:avLst/>
                <a:gdLst/>
                <a:ahLst/>
                <a:rect l="l" t="t" r="r" b="b"/>
                <a:pathLst>
                  <a:path w="4457" h="95">
                    <a:moveTo>
                      <a:pt x="4457" y="95"/>
                    </a:moveTo>
                    <a:lnTo>
                      <a:pt x="2176" y="95"/>
                    </a:lnTo>
                    <a:lnTo>
                      <a:pt x="2176" y="0"/>
                    </a:lnTo>
                    <a:lnTo>
                      <a:pt x="4457" y="0"/>
                    </a:lnTo>
                    <a:lnTo>
                      <a:pt x="4457" y="95"/>
                    </a:lnTo>
                    <a:close/>
                    <a:moveTo>
                      <a:pt x="1755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818" y="0"/>
                    </a:lnTo>
                    <a:lnTo>
                      <a:pt x="1784" y="50"/>
                    </a:lnTo>
                    <a:lnTo>
                      <a:pt x="1755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921120" y="3384720"/>
                <a:ext cx="1181160" cy="25200"/>
              </a:xfrm>
              <a:custGeom>
                <a:avLst/>
                <a:gdLst/>
                <a:ahLst/>
                <a:rect l="l" t="t" r="r" b="b"/>
                <a:pathLst>
                  <a:path w="4465" h="96">
                    <a:moveTo>
                      <a:pt x="4465" y="96"/>
                    </a:moveTo>
                    <a:lnTo>
                      <a:pt x="2184" y="96"/>
                    </a:lnTo>
                    <a:lnTo>
                      <a:pt x="2184" y="33"/>
                    </a:lnTo>
                    <a:lnTo>
                      <a:pt x="2190" y="0"/>
                    </a:lnTo>
                    <a:lnTo>
                      <a:pt x="4465" y="0"/>
                    </a:lnTo>
                    <a:lnTo>
                      <a:pt x="4465" y="96"/>
                    </a:lnTo>
                    <a:close/>
                    <a:moveTo>
                      <a:pt x="179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795" y="96"/>
                    </a:lnTo>
                    <a:close/>
                  </a:path>
                </a:pathLst>
              </a:custGeom>
              <a:solidFill>
                <a:srgbClr val="699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19680" y="337176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3" h="96">
                    <a:moveTo>
                      <a:pt x="4473" y="96"/>
                    </a:moveTo>
                    <a:lnTo>
                      <a:pt x="2192" y="96"/>
                    </a:lnTo>
                    <a:lnTo>
                      <a:pt x="2192" y="81"/>
                    </a:lnTo>
                    <a:lnTo>
                      <a:pt x="2205" y="0"/>
                    </a:lnTo>
                    <a:lnTo>
                      <a:pt x="4473" y="0"/>
                    </a:lnTo>
                    <a:lnTo>
                      <a:pt x="4473" y="96"/>
                    </a:lnTo>
                    <a:close/>
                    <a:moveTo>
                      <a:pt x="1834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97" y="0"/>
                    </a:lnTo>
                    <a:lnTo>
                      <a:pt x="1834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917880" y="3359160"/>
                <a:ext cx="1184400" cy="25560"/>
              </a:xfrm>
              <a:custGeom>
                <a:avLst/>
                <a:gdLst/>
                <a:ahLst/>
                <a:rect l="l" t="t" r="r" b="b"/>
                <a:pathLst>
                  <a:path w="4481" h="96">
                    <a:moveTo>
                      <a:pt x="4481" y="96"/>
                    </a:moveTo>
                    <a:lnTo>
                      <a:pt x="2206" y="96"/>
                    </a:lnTo>
                    <a:lnTo>
                      <a:pt x="2222" y="0"/>
                    </a:lnTo>
                    <a:lnTo>
                      <a:pt x="4481" y="0"/>
                    </a:lnTo>
                    <a:lnTo>
                      <a:pt x="4481" y="2"/>
                    </a:lnTo>
                    <a:lnTo>
                      <a:pt x="4481" y="96"/>
                    </a:lnTo>
                    <a:close/>
                    <a:moveTo>
                      <a:pt x="1872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935" y="0"/>
                    </a:lnTo>
                    <a:lnTo>
                      <a:pt x="1935" y="2"/>
                    </a:lnTo>
                    <a:lnTo>
                      <a:pt x="1872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914640" y="3346560"/>
                <a:ext cx="1187640" cy="25200"/>
              </a:xfrm>
              <a:custGeom>
                <a:avLst/>
                <a:gdLst/>
                <a:ahLst/>
                <a:rect l="l" t="t" r="r" b="b"/>
                <a:pathLst>
                  <a:path w="4489" h="95">
                    <a:moveTo>
                      <a:pt x="4489" y="95"/>
                    </a:moveTo>
                    <a:lnTo>
                      <a:pt x="2221" y="95"/>
                    </a:lnTo>
                    <a:lnTo>
                      <a:pt x="2238" y="0"/>
                    </a:lnTo>
                    <a:lnTo>
                      <a:pt x="4479" y="0"/>
                    </a:lnTo>
                    <a:lnTo>
                      <a:pt x="4489" y="49"/>
                    </a:lnTo>
                    <a:lnTo>
                      <a:pt x="4489" y="95"/>
                    </a:lnTo>
                    <a:close/>
                    <a:moveTo>
                      <a:pt x="1913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974" y="0"/>
                    </a:lnTo>
                    <a:lnTo>
                      <a:pt x="1943" y="49"/>
                    </a:lnTo>
                    <a:lnTo>
                      <a:pt x="1913" y="95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913200" y="3335400"/>
                <a:ext cx="1189080" cy="23760"/>
              </a:xfrm>
              <a:custGeom>
                <a:avLst/>
                <a:gdLst/>
                <a:ahLst/>
                <a:rect l="l" t="t" r="r" b="b"/>
                <a:pathLst>
                  <a:path w="4496" h="95">
                    <a:moveTo>
                      <a:pt x="4496" y="95"/>
                    </a:moveTo>
                    <a:lnTo>
                      <a:pt x="2237" y="95"/>
                    </a:lnTo>
                    <a:lnTo>
                      <a:pt x="2252" y="0"/>
                    </a:lnTo>
                    <a:lnTo>
                      <a:pt x="4476" y="0"/>
                    </a:lnTo>
                    <a:lnTo>
                      <a:pt x="4496" y="95"/>
                    </a:lnTo>
                    <a:close/>
                    <a:moveTo>
                      <a:pt x="19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2013" y="0"/>
                    </a:lnTo>
                    <a:lnTo>
                      <a:pt x="1950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911760" y="3322800"/>
                <a:ext cx="1188720" cy="23760"/>
              </a:xfrm>
              <a:custGeom>
                <a:avLst/>
                <a:gdLst/>
                <a:ahLst/>
                <a:rect l="l" t="t" r="r" b="b"/>
                <a:pathLst>
                  <a:path w="4492" h="95">
                    <a:moveTo>
                      <a:pt x="4492" y="95"/>
                    </a:moveTo>
                    <a:lnTo>
                      <a:pt x="2251" y="95"/>
                    </a:lnTo>
                    <a:lnTo>
                      <a:pt x="2266" y="0"/>
                    </a:lnTo>
                    <a:lnTo>
                      <a:pt x="4472" y="0"/>
                    </a:lnTo>
                    <a:lnTo>
                      <a:pt x="4492" y="95"/>
                    </a:lnTo>
                    <a:close/>
                    <a:moveTo>
                      <a:pt x="1987" y="95"/>
                    </a:moveTo>
                    <a:lnTo>
                      <a:pt x="13" y="9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051" y="0"/>
                    </a:lnTo>
                    <a:lnTo>
                      <a:pt x="1987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911760" y="3309840"/>
                <a:ext cx="1185840" cy="25560"/>
              </a:xfrm>
              <a:custGeom>
                <a:avLst/>
                <a:gdLst/>
                <a:ahLst/>
                <a:rect l="l" t="t" r="r" b="b"/>
                <a:pathLst>
                  <a:path w="4482" h="95">
                    <a:moveTo>
                      <a:pt x="4482" y="95"/>
                    </a:moveTo>
                    <a:lnTo>
                      <a:pt x="2258" y="95"/>
                    </a:lnTo>
                    <a:lnTo>
                      <a:pt x="2273" y="0"/>
                    </a:lnTo>
                    <a:lnTo>
                      <a:pt x="4463" y="0"/>
                    </a:lnTo>
                    <a:lnTo>
                      <a:pt x="4482" y="95"/>
                    </a:lnTo>
                    <a:close/>
                    <a:moveTo>
                      <a:pt x="2019" y="95"/>
                    </a:moveTo>
                    <a:lnTo>
                      <a:pt x="6" y="95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2082" y="0"/>
                    </a:lnTo>
                    <a:lnTo>
                      <a:pt x="2019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911760" y="329724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2" h="95">
                    <a:moveTo>
                      <a:pt x="4472" y="95"/>
                    </a:moveTo>
                    <a:lnTo>
                      <a:pt x="2266" y="95"/>
                    </a:lnTo>
                    <a:lnTo>
                      <a:pt x="2282" y="0"/>
                    </a:lnTo>
                    <a:lnTo>
                      <a:pt x="4453" y="0"/>
                    </a:lnTo>
                    <a:lnTo>
                      <a:pt x="4472" y="95"/>
                    </a:lnTo>
                    <a:close/>
                    <a:moveTo>
                      <a:pt x="205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01" y="0"/>
                    </a:lnTo>
                    <a:lnTo>
                      <a:pt x="2086" y="41"/>
                    </a:lnTo>
                    <a:lnTo>
                      <a:pt x="2051" y="95"/>
                    </a:lnTo>
                    <a:close/>
                  </a:path>
                </a:pathLst>
              </a:custGeom>
              <a:solidFill>
                <a:srgbClr val="689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911760" y="3284640"/>
                <a:ext cx="1180800" cy="25200"/>
              </a:xfrm>
              <a:custGeom>
                <a:avLst/>
                <a:gdLst/>
                <a:ahLst/>
                <a:rect l="l" t="t" r="r" b="b"/>
                <a:pathLst>
                  <a:path w="4463" h="95">
                    <a:moveTo>
                      <a:pt x="4463" y="95"/>
                    </a:moveTo>
                    <a:lnTo>
                      <a:pt x="2273" y="95"/>
                    </a:lnTo>
                    <a:lnTo>
                      <a:pt x="2285" y="26"/>
                    </a:lnTo>
                    <a:lnTo>
                      <a:pt x="2281" y="0"/>
                    </a:lnTo>
                    <a:lnTo>
                      <a:pt x="4444" y="0"/>
                    </a:lnTo>
                    <a:lnTo>
                      <a:pt x="4463" y="95"/>
                    </a:lnTo>
                    <a:close/>
                    <a:moveTo>
                      <a:pt x="208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18" y="0"/>
                    </a:lnTo>
                    <a:lnTo>
                      <a:pt x="2086" y="89"/>
                    </a:lnTo>
                    <a:lnTo>
                      <a:pt x="2082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911760" y="3271680"/>
                <a:ext cx="1177920" cy="25560"/>
              </a:xfrm>
              <a:custGeom>
                <a:avLst/>
                <a:gdLst/>
                <a:ahLst/>
                <a:rect l="l" t="t" r="r" b="b"/>
                <a:pathLst>
                  <a:path w="4453" h="95">
                    <a:moveTo>
                      <a:pt x="4453" y="95"/>
                    </a:moveTo>
                    <a:lnTo>
                      <a:pt x="2282" y="95"/>
                    </a:lnTo>
                    <a:lnTo>
                      <a:pt x="2285" y="73"/>
                    </a:lnTo>
                    <a:lnTo>
                      <a:pt x="2273" y="0"/>
                    </a:lnTo>
                    <a:lnTo>
                      <a:pt x="4434" y="0"/>
                    </a:lnTo>
                    <a:lnTo>
                      <a:pt x="4453" y="95"/>
                    </a:lnTo>
                    <a:close/>
                    <a:moveTo>
                      <a:pt x="210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34" y="0"/>
                    </a:lnTo>
                    <a:lnTo>
                      <a:pt x="2101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911760" y="3259080"/>
                <a:ext cx="1176120" cy="25560"/>
              </a:xfrm>
              <a:custGeom>
                <a:avLst/>
                <a:gdLst/>
                <a:ahLst/>
                <a:rect l="l" t="t" r="r" b="b"/>
                <a:pathLst>
                  <a:path w="4444" h="95">
                    <a:moveTo>
                      <a:pt x="4444" y="95"/>
                    </a:moveTo>
                    <a:lnTo>
                      <a:pt x="2281" y="95"/>
                    </a:lnTo>
                    <a:lnTo>
                      <a:pt x="2265" y="0"/>
                    </a:lnTo>
                    <a:lnTo>
                      <a:pt x="4424" y="0"/>
                    </a:lnTo>
                    <a:lnTo>
                      <a:pt x="4444" y="95"/>
                    </a:lnTo>
                    <a:close/>
                    <a:moveTo>
                      <a:pt x="211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52" y="0"/>
                    </a:lnTo>
                    <a:lnTo>
                      <a:pt x="2118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911760" y="3246480"/>
                <a:ext cx="1172880" cy="25200"/>
              </a:xfrm>
              <a:custGeom>
                <a:avLst/>
                <a:gdLst/>
                <a:ahLst/>
                <a:rect l="l" t="t" r="r" b="b"/>
                <a:pathLst>
                  <a:path w="4434" h="96">
                    <a:moveTo>
                      <a:pt x="4434" y="96"/>
                    </a:moveTo>
                    <a:lnTo>
                      <a:pt x="2273" y="96"/>
                    </a:lnTo>
                    <a:lnTo>
                      <a:pt x="2258" y="0"/>
                    </a:lnTo>
                    <a:lnTo>
                      <a:pt x="4414" y="0"/>
                    </a:lnTo>
                    <a:lnTo>
                      <a:pt x="4434" y="96"/>
                    </a:lnTo>
                    <a:close/>
                    <a:moveTo>
                      <a:pt x="213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64" y="0"/>
                    </a:lnTo>
                    <a:lnTo>
                      <a:pt x="2155" y="39"/>
                    </a:lnTo>
                    <a:lnTo>
                      <a:pt x="2134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911760" y="32338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4" h="96">
                    <a:moveTo>
                      <a:pt x="4424" y="96"/>
                    </a:moveTo>
                    <a:lnTo>
                      <a:pt x="2265" y="96"/>
                    </a:lnTo>
                    <a:lnTo>
                      <a:pt x="2250" y="0"/>
                    </a:lnTo>
                    <a:lnTo>
                      <a:pt x="4405" y="0"/>
                    </a:lnTo>
                    <a:lnTo>
                      <a:pt x="4424" y="96"/>
                    </a:lnTo>
                    <a:close/>
                    <a:moveTo>
                      <a:pt x="2152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76" y="0"/>
                    </a:lnTo>
                    <a:lnTo>
                      <a:pt x="2155" y="87"/>
                    </a:lnTo>
                    <a:lnTo>
                      <a:pt x="2152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911760" y="3220920"/>
                <a:ext cx="1168200" cy="25560"/>
              </a:xfrm>
              <a:custGeom>
                <a:avLst/>
                <a:gdLst/>
                <a:ahLst/>
                <a:rect l="l" t="t" r="r" b="b"/>
                <a:pathLst>
                  <a:path w="4414" h="96">
                    <a:moveTo>
                      <a:pt x="4414" y="96"/>
                    </a:moveTo>
                    <a:lnTo>
                      <a:pt x="2258" y="96"/>
                    </a:lnTo>
                    <a:lnTo>
                      <a:pt x="2243" y="0"/>
                    </a:lnTo>
                    <a:lnTo>
                      <a:pt x="4395" y="0"/>
                    </a:lnTo>
                    <a:lnTo>
                      <a:pt x="4414" y="96"/>
                    </a:lnTo>
                    <a:close/>
                    <a:moveTo>
                      <a:pt x="216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88" y="0"/>
                    </a:lnTo>
                    <a:lnTo>
                      <a:pt x="2164" y="96"/>
                    </a:lnTo>
                    <a:close/>
                  </a:path>
                </a:pathLst>
              </a:custGeom>
              <a:solidFill>
                <a:srgbClr val="668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911760" y="3208320"/>
                <a:ext cx="1164960" cy="25560"/>
              </a:xfrm>
              <a:custGeom>
                <a:avLst/>
                <a:gdLst/>
                <a:ahLst/>
                <a:rect l="l" t="t" r="r" b="b"/>
                <a:pathLst>
                  <a:path w="4405" h="95">
                    <a:moveTo>
                      <a:pt x="4405" y="95"/>
                    </a:moveTo>
                    <a:lnTo>
                      <a:pt x="2250" y="95"/>
                    </a:lnTo>
                    <a:lnTo>
                      <a:pt x="2234" y="0"/>
                    </a:lnTo>
                    <a:lnTo>
                      <a:pt x="4386" y="0"/>
                    </a:lnTo>
                    <a:lnTo>
                      <a:pt x="4405" y="95"/>
                    </a:lnTo>
                    <a:close/>
                    <a:moveTo>
                      <a:pt x="217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99" y="0"/>
                    </a:lnTo>
                    <a:lnTo>
                      <a:pt x="217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911760" y="319572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395" h="95">
                    <a:moveTo>
                      <a:pt x="4395" y="95"/>
                    </a:moveTo>
                    <a:lnTo>
                      <a:pt x="2243" y="95"/>
                    </a:lnTo>
                    <a:lnTo>
                      <a:pt x="2227" y="0"/>
                    </a:lnTo>
                    <a:lnTo>
                      <a:pt x="4376" y="0"/>
                    </a:lnTo>
                    <a:lnTo>
                      <a:pt x="4395" y="95"/>
                    </a:lnTo>
                    <a:close/>
                    <a:moveTo>
                      <a:pt x="218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210" y="0"/>
                    </a:lnTo>
                    <a:lnTo>
                      <a:pt x="2188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911760" y="3182760"/>
                <a:ext cx="1160280" cy="25560"/>
              </a:xfrm>
              <a:custGeom>
                <a:avLst/>
                <a:gdLst/>
                <a:ahLst/>
                <a:rect l="l" t="t" r="r" b="b"/>
                <a:pathLst>
                  <a:path w="4386" h="95">
                    <a:moveTo>
                      <a:pt x="4386" y="95"/>
                    </a:moveTo>
                    <a:lnTo>
                      <a:pt x="2234" y="95"/>
                    </a:lnTo>
                    <a:lnTo>
                      <a:pt x="2221" y="14"/>
                    </a:lnTo>
                    <a:lnTo>
                      <a:pt x="2219" y="3"/>
                    </a:lnTo>
                    <a:lnTo>
                      <a:pt x="2219" y="14"/>
                    </a:lnTo>
                    <a:lnTo>
                      <a:pt x="2199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8" y="0"/>
                    </a:lnTo>
                    <a:lnTo>
                      <a:pt x="4369" y="14"/>
                    </a:lnTo>
                    <a:lnTo>
                      <a:pt x="438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911760" y="3170160"/>
                <a:ext cx="1157040" cy="25560"/>
              </a:xfrm>
              <a:custGeom>
                <a:avLst/>
                <a:gdLst/>
                <a:ahLst/>
                <a:rect l="l" t="t" r="r" b="b"/>
                <a:pathLst>
                  <a:path w="4376" h="95">
                    <a:moveTo>
                      <a:pt x="4376" y="95"/>
                    </a:moveTo>
                    <a:lnTo>
                      <a:pt x="2227" y="95"/>
                    </a:lnTo>
                    <a:lnTo>
                      <a:pt x="2221" y="62"/>
                    </a:lnTo>
                    <a:lnTo>
                      <a:pt x="2219" y="51"/>
                    </a:lnTo>
                    <a:lnTo>
                      <a:pt x="2219" y="62"/>
                    </a:lnTo>
                    <a:lnTo>
                      <a:pt x="2210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3" y="0"/>
                    </a:lnTo>
                    <a:lnTo>
                      <a:pt x="4369" y="62"/>
                    </a:lnTo>
                    <a:lnTo>
                      <a:pt x="4376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911760" y="315756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8" h="96">
                    <a:moveTo>
                      <a:pt x="4368" y="96"/>
                    </a:moveTo>
                    <a:lnTo>
                      <a:pt x="0" y="96"/>
                    </a:lnTo>
                    <a:lnTo>
                      <a:pt x="0" y="47"/>
                    </a:lnTo>
                    <a:lnTo>
                      <a:pt x="12" y="0"/>
                    </a:lnTo>
                    <a:lnTo>
                      <a:pt x="4358" y="0"/>
                    </a:lnTo>
                    <a:lnTo>
                      <a:pt x="4368" y="96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911760" y="3144960"/>
                <a:ext cx="1153800" cy="25200"/>
              </a:xfrm>
              <a:custGeom>
                <a:avLst/>
                <a:gdLst/>
                <a:ahLst/>
                <a:rect l="l" t="t" r="r" b="b"/>
                <a:pathLst>
                  <a:path w="4363" h="95">
                    <a:moveTo>
                      <a:pt x="4363" y="95"/>
                    </a:moveTo>
                    <a:lnTo>
                      <a:pt x="0" y="95"/>
                    </a:lnTo>
                    <a:lnTo>
                      <a:pt x="0" y="94"/>
                    </a:lnTo>
                    <a:lnTo>
                      <a:pt x="24" y="0"/>
                    </a:lnTo>
                    <a:lnTo>
                      <a:pt x="4353" y="0"/>
                    </a:lnTo>
                    <a:lnTo>
                      <a:pt x="4363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914640" y="3133800"/>
                <a:ext cx="1149480" cy="23760"/>
              </a:xfrm>
              <a:custGeom>
                <a:avLst/>
                <a:gdLst/>
                <a:ahLst/>
                <a:rect l="l" t="t" r="r" b="b"/>
                <a:pathLst>
                  <a:path w="4346" h="95">
                    <a:moveTo>
                      <a:pt x="4346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37" y="0"/>
                    </a:lnTo>
                    <a:lnTo>
                      <a:pt x="4346" y="95"/>
                    </a:lnTo>
                    <a:close/>
                  </a:path>
                </a:pathLst>
              </a:custGeom>
              <a:solidFill>
                <a:srgbClr val="65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917880" y="3121200"/>
                <a:ext cx="1146240" cy="23760"/>
              </a:xfrm>
              <a:custGeom>
                <a:avLst/>
                <a:gdLst/>
                <a:ahLst/>
                <a:rect l="l" t="t" r="r" b="b"/>
                <a:pathLst>
                  <a:path w="4329" h="95">
                    <a:moveTo>
                      <a:pt x="4329" y="95"/>
                    </a:moveTo>
                    <a:lnTo>
                      <a:pt x="0" y="95"/>
                    </a:lnTo>
                    <a:lnTo>
                      <a:pt x="24" y="0"/>
                    </a:lnTo>
                    <a:lnTo>
                      <a:pt x="4320" y="0"/>
                    </a:lnTo>
                    <a:lnTo>
                      <a:pt x="4329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921120" y="3108240"/>
                <a:ext cx="1141560" cy="25560"/>
              </a:xfrm>
              <a:custGeom>
                <a:avLst/>
                <a:gdLst/>
                <a:ahLst/>
                <a:rect l="l" t="t" r="r" b="b"/>
                <a:pathLst>
                  <a:path w="4312" h="95">
                    <a:moveTo>
                      <a:pt x="4312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02" y="0"/>
                    </a:lnTo>
                    <a:lnTo>
                      <a:pt x="4312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924360" y="309564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6" h="95">
                    <a:moveTo>
                      <a:pt x="4296" y="95"/>
                    </a:moveTo>
                    <a:lnTo>
                      <a:pt x="0" y="95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4286" y="0"/>
                    </a:lnTo>
                    <a:lnTo>
                      <a:pt x="4296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927600" y="3083040"/>
                <a:ext cx="1131840" cy="25200"/>
              </a:xfrm>
              <a:custGeom>
                <a:avLst/>
                <a:gdLst/>
                <a:ahLst/>
                <a:rect l="l" t="t" r="r" b="b"/>
                <a:pathLst>
                  <a:path w="4277" h="96">
                    <a:moveTo>
                      <a:pt x="4277" y="96"/>
                    </a:moveTo>
                    <a:lnTo>
                      <a:pt x="0" y="96"/>
                    </a:lnTo>
                    <a:lnTo>
                      <a:pt x="7" y="70"/>
                    </a:lnTo>
                    <a:lnTo>
                      <a:pt x="7" y="0"/>
                    </a:lnTo>
                    <a:lnTo>
                      <a:pt x="4269" y="0"/>
                    </a:lnTo>
                    <a:lnTo>
                      <a:pt x="4277" y="96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929040" y="30700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5" h="97">
                    <a:moveTo>
                      <a:pt x="426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4257" y="0"/>
                    </a:lnTo>
                    <a:lnTo>
                      <a:pt x="4265" y="97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929040" y="30574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2" h="95">
                    <a:moveTo>
                      <a:pt x="426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52" y="0"/>
                    </a:lnTo>
                    <a:lnTo>
                      <a:pt x="4262" y="95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929040" y="3044880"/>
                <a:ext cx="1127160" cy="25200"/>
              </a:xfrm>
              <a:custGeom>
                <a:avLst/>
                <a:gdLst/>
                <a:ahLst/>
                <a:rect l="l" t="t" r="r" b="b"/>
                <a:pathLst>
                  <a:path w="4257" h="95">
                    <a:moveTo>
                      <a:pt x="4257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8" y="0"/>
                    </a:lnTo>
                    <a:lnTo>
                      <a:pt x="4257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929040" y="3032280"/>
                <a:ext cx="1125720" cy="25200"/>
              </a:xfrm>
              <a:custGeom>
                <a:avLst/>
                <a:gdLst/>
                <a:ahLst/>
                <a:rect l="l" t="t" r="r" b="b"/>
                <a:pathLst>
                  <a:path w="4252" h="95">
                    <a:moveTo>
                      <a:pt x="425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3" y="0"/>
                    </a:lnTo>
                    <a:lnTo>
                      <a:pt x="4252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929040" y="30193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8" h="95">
                    <a:moveTo>
                      <a:pt x="424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8" y="0"/>
                    </a:lnTo>
                    <a:lnTo>
                      <a:pt x="4248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929040" y="3006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3" h="95">
                    <a:moveTo>
                      <a:pt x="424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1" y="0"/>
                    </a:lnTo>
                    <a:lnTo>
                      <a:pt x="4236" y="28"/>
                    </a:lnTo>
                    <a:lnTo>
                      <a:pt x="4243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929040" y="2994120"/>
                <a:ext cx="1122480" cy="25200"/>
              </a:xfrm>
              <a:custGeom>
                <a:avLst/>
                <a:gdLst/>
                <a:ahLst/>
                <a:rect l="l" t="t" r="r" b="b"/>
                <a:pathLst>
                  <a:path w="4238" h="95">
                    <a:moveTo>
                      <a:pt x="423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23" y="0"/>
                    </a:lnTo>
                    <a:lnTo>
                      <a:pt x="4236" y="76"/>
                    </a:lnTo>
                    <a:lnTo>
                      <a:pt x="4238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929040" y="298116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1" h="95">
                    <a:moveTo>
                      <a:pt x="423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31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929040" y="2968560"/>
                <a:ext cx="1117800" cy="25560"/>
              </a:xfrm>
              <a:custGeom>
                <a:avLst/>
                <a:gdLst/>
                <a:ahLst/>
                <a:rect l="l" t="t" r="r" b="b"/>
                <a:pathLst>
                  <a:path w="4223" h="95">
                    <a:moveTo>
                      <a:pt x="4223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206" y="0"/>
                    </a:lnTo>
                    <a:lnTo>
                      <a:pt x="4223" y="95"/>
                    </a:lnTo>
                    <a:close/>
                  </a:path>
                </a:pathLst>
              </a:custGeom>
              <a:solidFill>
                <a:srgbClr val="628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929040" y="2955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14" h="96">
                    <a:moveTo>
                      <a:pt x="4214" y="96"/>
                    </a:moveTo>
                    <a:lnTo>
                      <a:pt x="0" y="96"/>
                    </a:lnTo>
                    <a:lnTo>
                      <a:pt x="0" y="8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4198" y="0"/>
                    </a:lnTo>
                    <a:lnTo>
                      <a:pt x="4214" y="96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929040" y="2943360"/>
                <a:ext cx="1114560" cy="25200"/>
              </a:xfrm>
              <a:custGeom>
                <a:avLst/>
                <a:gdLst/>
                <a:ahLst/>
                <a:rect l="l" t="t" r="r" b="b"/>
                <a:pathLst>
                  <a:path w="4206" h="95">
                    <a:moveTo>
                      <a:pt x="4206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88" y="0"/>
                    </a:lnTo>
                    <a:lnTo>
                      <a:pt x="4206" y="95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29040" y="2932200"/>
                <a:ext cx="1111320" cy="23760"/>
              </a:xfrm>
              <a:custGeom>
                <a:avLst/>
                <a:gdLst/>
                <a:ahLst/>
                <a:rect l="l" t="t" r="r" b="b"/>
                <a:pathLst>
                  <a:path w="4198" h="95">
                    <a:moveTo>
                      <a:pt x="4198" y="95"/>
                    </a:moveTo>
                    <a:lnTo>
                      <a:pt x="0" y="95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180" y="0"/>
                    </a:lnTo>
                    <a:lnTo>
                      <a:pt x="4198" y="95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29040" y="2917800"/>
                <a:ext cx="1109520" cy="25560"/>
              </a:xfrm>
              <a:custGeom>
                <a:avLst/>
                <a:gdLst/>
                <a:ahLst/>
                <a:rect l="l" t="t" r="r" b="b"/>
                <a:pathLst>
                  <a:path w="4188" h="96">
                    <a:moveTo>
                      <a:pt x="418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4172" y="0"/>
                    </a:lnTo>
                    <a:lnTo>
                      <a:pt x="4188" y="96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929040" y="29066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0" h="96">
                    <a:moveTo>
                      <a:pt x="4180" y="96"/>
                    </a:moveTo>
                    <a:lnTo>
                      <a:pt x="0" y="9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90" y="0"/>
                    </a:lnTo>
                    <a:lnTo>
                      <a:pt x="4369" y="23"/>
                    </a:lnTo>
                    <a:lnTo>
                      <a:pt x="4300" y="23"/>
                    </a:lnTo>
                    <a:lnTo>
                      <a:pt x="4236" y="23"/>
                    </a:lnTo>
                    <a:lnTo>
                      <a:pt x="4167" y="23"/>
                    </a:lnTo>
                    <a:lnTo>
                      <a:pt x="4180" y="96"/>
                    </a:lnTo>
                    <a:close/>
                  </a:path>
                </a:pathLst>
              </a:custGeom>
              <a:solidFill>
                <a:srgbClr val="61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29040" y="2894040"/>
                <a:ext cx="1173240" cy="2376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172" y="95"/>
                    </a:moveTo>
                    <a:lnTo>
                      <a:pt x="0" y="95"/>
                    </a:lnTo>
                    <a:lnTo>
                      <a:pt x="0" y="7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433" y="0"/>
                    </a:lnTo>
                    <a:lnTo>
                      <a:pt x="4433" y="1"/>
                    </a:lnTo>
                    <a:lnTo>
                      <a:pt x="4369" y="70"/>
                    </a:lnTo>
                    <a:lnTo>
                      <a:pt x="4300" y="70"/>
                    </a:lnTo>
                    <a:lnTo>
                      <a:pt x="4236" y="70"/>
                    </a:lnTo>
                    <a:lnTo>
                      <a:pt x="4167" y="70"/>
                    </a:lnTo>
                    <a:lnTo>
                      <a:pt x="4172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929040" y="288144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390" y="95"/>
                    </a:moveTo>
                    <a:lnTo>
                      <a:pt x="0" y="95"/>
                    </a:lnTo>
                    <a:lnTo>
                      <a:pt x="0" y="49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49"/>
                    </a:lnTo>
                    <a:lnTo>
                      <a:pt x="4390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929040" y="2868480"/>
                <a:ext cx="1173240" cy="25560"/>
              </a:xfrm>
              <a:custGeom>
                <a:avLst/>
                <a:gdLst/>
                <a:ahLst/>
                <a:rect l="l" t="t" r="r" b="b"/>
                <a:pathLst>
                  <a:path w="4433" h="96">
                    <a:moveTo>
                      <a:pt x="4433" y="96"/>
                    </a:moveTo>
                    <a:lnTo>
                      <a:pt x="0" y="96"/>
                    </a:lnTo>
                    <a:lnTo>
                      <a:pt x="63" y="32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32"/>
                    </a:lnTo>
                    <a:lnTo>
                      <a:pt x="4433" y="96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936960" y="2855880"/>
                <a:ext cx="1165320" cy="25560"/>
              </a:xfrm>
              <a:custGeom>
                <a:avLst/>
                <a:gdLst/>
                <a:ahLst/>
                <a:rect l="l" t="t" r="r" b="b"/>
                <a:pathLst>
                  <a:path w="4408" h="95">
                    <a:moveTo>
                      <a:pt x="4408" y="95"/>
                    </a:moveTo>
                    <a:lnTo>
                      <a:pt x="22" y="95"/>
                    </a:lnTo>
                    <a:lnTo>
                      <a:pt x="38" y="79"/>
                    </a:lnTo>
                    <a:lnTo>
                      <a:pt x="0" y="0"/>
                    </a:lnTo>
                    <a:lnTo>
                      <a:pt x="4408" y="0"/>
                    </a:lnTo>
                    <a:lnTo>
                      <a:pt x="4408" y="16"/>
                    </a:lnTo>
                    <a:lnTo>
                      <a:pt x="4408" y="79"/>
                    </a:lnTo>
                    <a:lnTo>
                      <a:pt x="440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930480" y="2843280"/>
                <a:ext cx="1171800" cy="25200"/>
              </a:xfrm>
              <a:custGeom>
                <a:avLst/>
                <a:gdLst/>
                <a:ahLst/>
                <a:rect l="l" t="t" r="r" b="b"/>
                <a:pathLst>
                  <a:path w="4431" h="95">
                    <a:moveTo>
                      <a:pt x="4431" y="95"/>
                    </a:moveTo>
                    <a:lnTo>
                      <a:pt x="45" y="95"/>
                    </a:lnTo>
                    <a:lnTo>
                      <a:pt x="0" y="0"/>
                    </a:lnTo>
                    <a:lnTo>
                      <a:pt x="4431" y="0"/>
                    </a:lnTo>
                    <a:lnTo>
                      <a:pt x="4431" y="64"/>
                    </a:lnTo>
                    <a:lnTo>
                      <a:pt x="4431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841920" y="2830680"/>
                <a:ext cx="1260360" cy="25200"/>
              </a:xfrm>
              <a:custGeom>
                <a:avLst/>
                <a:gdLst/>
                <a:ahLst/>
                <a:rect l="l" t="t" r="r" b="b"/>
                <a:pathLst>
                  <a:path w="4768" h="95">
                    <a:moveTo>
                      <a:pt x="4768" y="95"/>
                    </a:moveTo>
                    <a:lnTo>
                      <a:pt x="360" y="95"/>
                    </a:lnTo>
                    <a:lnTo>
                      <a:pt x="335" y="41"/>
                    </a:lnTo>
                    <a:lnTo>
                      <a:pt x="141" y="41"/>
                    </a:lnTo>
                    <a:lnTo>
                      <a:pt x="0" y="0"/>
                    </a:lnTo>
                    <a:lnTo>
                      <a:pt x="4768" y="0"/>
                    </a:lnTo>
                    <a:lnTo>
                      <a:pt x="4768" y="41"/>
                    </a:lnTo>
                    <a:lnTo>
                      <a:pt x="476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817800" y="28177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55" h="95">
                    <a:moveTo>
                      <a:pt x="4855" y="95"/>
                    </a:moveTo>
                    <a:lnTo>
                      <a:pt x="424" y="95"/>
                    </a:lnTo>
                    <a:lnTo>
                      <a:pt x="422" y="89"/>
                    </a:lnTo>
                    <a:lnTo>
                      <a:pt x="228" y="89"/>
                    </a:lnTo>
                    <a:lnTo>
                      <a:pt x="26" y="29"/>
                    </a:lnTo>
                    <a:lnTo>
                      <a:pt x="0" y="0"/>
                    </a:lnTo>
                    <a:lnTo>
                      <a:pt x="4855" y="0"/>
                    </a:lnTo>
                    <a:lnTo>
                      <a:pt x="4855" y="26"/>
                    </a:lnTo>
                    <a:lnTo>
                      <a:pt x="4855" y="89"/>
                    </a:lnTo>
                    <a:lnTo>
                      <a:pt x="4855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05200" y="2805120"/>
                <a:ext cx="1297080" cy="25560"/>
              </a:xfrm>
              <a:custGeom>
                <a:avLst/>
                <a:gdLst/>
                <a:ahLst/>
                <a:rect l="l" t="t" r="r" b="b"/>
                <a:pathLst>
                  <a:path w="4905" h="95">
                    <a:moveTo>
                      <a:pt x="4905" y="95"/>
                    </a:moveTo>
                    <a:lnTo>
                      <a:pt x="137" y="95"/>
                    </a:lnTo>
                    <a:lnTo>
                      <a:pt x="76" y="7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4905" y="0"/>
                    </a:lnTo>
                    <a:lnTo>
                      <a:pt x="4905" y="73"/>
                    </a:lnTo>
                    <a:lnTo>
                      <a:pt x="4905" y="95"/>
                    </a:lnTo>
                    <a:close/>
                  </a:path>
                </a:pathLst>
              </a:custGeom>
              <a:solidFill>
                <a:srgbClr val="608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778200" y="2792520"/>
                <a:ext cx="1324080" cy="25200"/>
              </a:xfrm>
              <a:custGeom>
                <a:avLst/>
                <a:gdLst/>
                <a:ahLst/>
                <a:rect l="l" t="t" r="r" b="b"/>
                <a:pathLst>
                  <a:path w="5004" h="95">
                    <a:moveTo>
                      <a:pt x="5004" y="95"/>
                    </a:moveTo>
                    <a:lnTo>
                      <a:pt x="149" y="95"/>
                    </a:lnTo>
                    <a:lnTo>
                      <a:pt x="115" y="55"/>
                    </a:lnTo>
                    <a:lnTo>
                      <a:pt x="0" y="0"/>
                    </a:lnTo>
                    <a:lnTo>
                      <a:pt x="5004" y="0"/>
                    </a:lnTo>
                    <a:lnTo>
                      <a:pt x="5004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763800" y="2779560"/>
                <a:ext cx="1382760" cy="25560"/>
              </a:xfrm>
              <a:custGeom>
                <a:avLst/>
                <a:gdLst/>
                <a:ahLst/>
                <a:rect l="l" t="t" r="r" b="b"/>
                <a:pathLst>
                  <a:path w="5226" h="95">
                    <a:moveTo>
                      <a:pt x="5061" y="95"/>
                    </a:moveTo>
                    <a:lnTo>
                      <a:pt x="156" y="95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5226" y="0"/>
                    </a:lnTo>
                    <a:lnTo>
                      <a:pt x="5194" y="35"/>
                    </a:lnTo>
                    <a:lnTo>
                      <a:pt x="4997" y="35"/>
                    </a:lnTo>
                    <a:lnTo>
                      <a:pt x="5061" y="35"/>
                    </a:lnTo>
                    <a:lnTo>
                      <a:pt x="5061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754440" y="2766960"/>
                <a:ext cx="1405080" cy="25560"/>
              </a:xfrm>
              <a:custGeom>
                <a:avLst/>
                <a:gdLst/>
                <a:ahLst/>
                <a:rect l="l" t="t" r="r" b="b"/>
                <a:pathLst>
                  <a:path w="5310" h="96">
                    <a:moveTo>
                      <a:pt x="5098" y="96"/>
                    </a:moveTo>
                    <a:lnTo>
                      <a:pt x="94" y="96"/>
                    </a:lnTo>
                    <a:lnTo>
                      <a:pt x="76" y="8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5310" y="0"/>
                    </a:lnTo>
                    <a:lnTo>
                      <a:pt x="5288" y="21"/>
                    </a:lnTo>
                    <a:lnTo>
                      <a:pt x="5231" y="84"/>
                    </a:lnTo>
                    <a:lnTo>
                      <a:pt x="5034" y="84"/>
                    </a:lnTo>
                    <a:lnTo>
                      <a:pt x="5098" y="84"/>
                    </a:lnTo>
                    <a:lnTo>
                      <a:pt x="5098" y="96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747960" y="2754360"/>
                <a:ext cx="1424160" cy="25200"/>
              </a:xfrm>
              <a:custGeom>
                <a:avLst/>
                <a:gdLst/>
                <a:ahLst/>
                <a:rect l="l" t="t" r="r" b="b"/>
                <a:pathLst>
                  <a:path w="5383" h="97">
                    <a:moveTo>
                      <a:pt x="5287" y="97"/>
                    </a:moveTo>
                    <a:lnTo>
                      <a:pt x="61" y="97"/>
                    </a:lnTo>
                    <a:lnTo>
                      <a:pt x="36" y="72"/>
                    </a:lnTo>
                    <a:lnTo>
                      <a:pt x="0" y="0"/>
                    </a:lnTo>
                    <a:lnTo>
                      <a:pt x="5383" y="0"/>
                    </a:lnTo>
                    <a:lnTo>
                      <a:pt x="5382" y="5"/>
                    </a:lnTo>
                    <a:lnTo>
                      <a:pt x="5312" y="69"/>
                    </a:lnTo>
                    <a:lnTo>
                      <a:pt x="5287" y="97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741840" y="2741760"/>
                <a:ext cx="1436760" cy="25200"/>
              </a:xfrm>
              <a:custGeom>
                <a:avLst/>
                <a:gdLst/>
                <a:ahLst/>
                <a:rect l="l" t="t" r="r" b="b"/>
                <a:pathLst>
                  <a:path w="5432" h="95">
                    <a:moveTo>
                      <a:pt x="5359" y="95"/>
                    </a:moveTo>
                    <a:lnTo>
                      <a:pt x="49" y="95"/>
                    </a:lnTo>
                    <a:lnTo>
                      <a:pt x="0" y="0"/>
                    </a:lnTo>
                    <a:lnTo>
                      <a:pt x="5432" y="0"/>
                    </a:lnTo>
                    <a:lnTo>
                      <a:pt x="5407" y="52"/>
                    </a:lnTo>
                    <a:lnTo>
                      <a:pt x="5359" y="95"/>
                    </a:lnTo>
                    <a:close/>
                  </a:path>
                </a:pathLst>
              </a:custGeom>
              <a:solidFill>
                <a:srgbClr val="5e8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730680" y="272880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2" h="95">
                    <a:moveTo>
                      <a:pt x="5446" y="95"/>
                    </a:moveTo>
                    <a:lnTo>
                      <a:pt x="63" y="95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5492" y="0"/>
                    </a:lnTo>
                    <a:lnTo>
                      <a:pt x="5446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722760" y="271620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01" y="95"/>
                    </a:moveTo>
                    <a:lnTo>
                      <a:pt x="69" y="95"/>
                    </a:lnTo>
                    <a:lnTo>
                      <a:pt x="64" y="8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14"/>
                    </a:lnTo>
                    <a:lnTo>
                      <a:pt x="5501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722760" y="27050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23" y="95"/>
                    </a:moveTo>
                    <a:lnTo>
                      <a:pt x="31" y="9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62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722760" y="26924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4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722760" y="267984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30"/>
                    </a:lnTo>
                    <a:lnTo>
                      <a:pt x="5539" y="94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722760" y="26668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6">
                    <a:moveTo>
                      <a:pt x="5539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5536" y="0"/>
                    </a:lnTo>
                    <a:lnTo>
                      <a:pt x="5539" y="9"/>
                    </a:lnTo>
                    <a:lnTo>
                      <a:pt x="5539" y="78"/>
                    </a:lnTo>
                    <a:lnTo>
                      <a:pt x="5539" y="96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722760" y="26542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23" y="0"/>
                    </a:lnTo>
                    <a:lnTo>
                      <a:pt x="5539" y="5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722760" y="264168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6" h="95">
                    <a:moveTo>
                      <a:pt x="553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10" y="0"/>
                    </a:lnTo>
                    <a:lnTo>
                      <a:pt x="5536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22760" y="2629080"/>
                <a:ext cx="1461960" cy="25200"/>
              </a:xfrm>
              <a:custGeom>
                <a:avLst/>
                <a:gdLst/>
                <a:ahLst/>
                <a:rect l="l" t="t" r="r" b="b"/>
                <a:pathLst>
                  <a:path w="5523" h="95">
                    <a:moveTo>
                      <a:pt x="552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497" y="0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722760" y="2616120"/>
                <a:ext cx="1457280" cy="25560"/>
              </a:xfrm>
              <a:custGeom>
                <a:avLst/>
                <a:gdLst/>
                <a:ahLst/>
                <a:rect l="l" t="t" r="r" b="b"/>
                <a:pathLst>
                  <a:path w="5510" h="96">
                    <a:moveTo>
                      <a:pt x="5510" y="96"/>
                    </a:moveTo>
                    <a:lnTo>
                      <a:pt x="0" y="96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5484" y="0"/>
                    </a:lnTo>
                    <a:lnTo>
                      <a:pt x="5510" y="96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722760" y="260352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7" h="97">
                    <a:moveTo>
                      <a:pt x="5497" y="97"/>
                    </a:moveTo>
                    <a:lnTo>
                      <a:pt x="0" y="97"/>
                    </a:lnTo>
                    <a:lnTo>
                      <a:pt x="0" y="54"/>
                    </a:lnTo>
                    <a:lnTo>
                      <a:pt x="64" y="54"/>
                    </a:lnTo>
                    <a:lnTo>
                      <a:pt x="64" y="0"/>
                    </a:lnTo>
                    <a:lnTo>
                      <a:pt x="5471" y="0"/>
                    </a:lnTo>
                    <a:lnTo>
                      <a:pt x="5497" y="97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740040" y="2590920"/>
                <a:ext cx="1433520" cy="25200"/>
              </a:xfrm>
              <a:custGeom>
                <a:avLst/>
                <a:gdLst/>
                <a:ahLst/>
                <a:rect l="l" t="t" r="r" b="b"/>
                <a:pathLst>
                  <a:path w="5420" h="95">
                    <a:moveTo>
                      <a:pt x="5420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38" y="0"/>
                    </a:lnTo>
                    <a:lnTo>
                      <a:pt x="5394" y="0"/>
                    </a:lnTo>
                    <a:lnTo>
                      <a:pt x="5420" y="95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740040" y="2577960"/>
                <a:ext cx="1430280" cy="25560"/>
              </a:xfrm>
              <a:custGeom>
                <a:avLst/>
                <a:gdLst/>
                <a:ahLst/>
                <a:rect l="l" t="t" r="r" b="b"/>
                <a:pathLst>
                  <a:path w="5407" h="95">
                    <a:moveTo>
                      <a:pt x="5407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66" y="19"/>
                    </a:lnTo>
                    <a:lnTo>
                      <a:pt x="85" y="0"/>
                    </a:lnTo>
                    <a:lnTo>
                      <a:pt x="5381" y="0"/>
                    </a:lnTo>
                    <a:lnTo>
                      <a:pt x="5407" y="95"/>
                    </a:lnTo>
                    <a:close/>
                  </a:path>
                </a:pathLst>
              </a:custGeom>
              <a:solidFill>
                <a:srgbClr val="5b7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749760" y="2565360"/>
                <a:ext cx="1417680" cy="25560"/>
              </a:xfrm>
              <a:custGeom>
                <a:avLst/>
                <a:gdLst/>
                <a:ahLst/>
                <a:rect l="l" t="t" r="r" b="b"/>
                <a:pathLst>
                  <a:path w="5356" h="95">
                    <a:moveTo>
                      <a:pt x="5356" y="95"/>
                    </a:moveTo>
                    <a:lnTo>
                      <a:pt x="0" y="95"/>
                    </a:lnTo>
                    <a:lnTo>
                      <a:pt x="28" y="66"/>
                    </a:lnTo>
                    <a:lnTo>
                      <a:pt x="94" y="0"/>
                    </a:lnTo>
                    <a:lnTo>
                      <a:pt x="5330" y="0"/>
                    </a:lnTo>
                    <a:lnTo>
                      <a:pt x="535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762360" y="2552760"/>
                <a:ext cx="1401840" cy="25200"/>
              </a:xfrm>
              <a:custGeom>
                <a:avLst/>
                <a:gdLst/>
                <a:ahLst/>
                <a:rect l="l" t="t" r="r" b="b"/>
                <a:pathLst>
                  <a:path w="5296" h="95">
                    <a:moveTo>
                      <a:pt x="5296" y="95"/>
                    </a:moveTo>
                    <a:lnTo>
                      <a:pt x="0" y="95"/>
                    </a:lnTo>
                    <a:lnTo>
                      <a:pt x="95" y="0"/>
                    </a:lnTo>
                    <a:lnTo>
                      <a:pt x="5270" y="0"/>
                    </a:lnTo>
                    <a:lnTo>
                      <a:pt x="529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74960" y="25401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6" h="95">
                    <a:moveTo>
                      <a:pt x="5236" y="95"/>
                    </a:moveTo>
                    <a:lnTo>
                      <a:pt x="0" y="95"/>
                    </a:lnTo>
                    <a:lnTo>
                      <a:pt x="67" y="28"/>
                    </a:lnTo>
                    <a:lnTo>
                      <a:pt x="131" y="28"/>
                    </a:lnTo>
                    <a:lnTo>
                      <a:pt x="101" y="0"/>
                    </a:lnTo>
                    <a:lnTo>
                      <a:pt x="5210" y="0"/>
                    </a:lnTo>
                    <a:lnTo>
                      <a:pt x="523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787920" y="2527200"/>
                <a:ext cx="1368360" cy="25560"/>
              </a:xfrm>
              <a:custGeom>
                <a:avLst/>
                <a:gdLst/>
                <a:ahLst/>
                <a:rect l="l" t="t" r="r" b="b"/>
                <a:pathLst>
                  <a:path w="5175" h="95">
                    <a:moveTo>
                      <a:pt x="5175" y="95"/>
                    </a:moveTo>
                    <a:lnTo>
                      <a:pt x="0" y="95"/>
                    </a:lnTo>
                    <a:lnTo>
                      <a:pt x="19" y="76"/>
                    </a:lnTo>
                    <a:lnTo>
                      <a:pt x="83" y="76"/>
                    </a:lnTo>
                    <a:lnTo>
                      <a:pt x="19" y="16"/>
                    </a:lnTo>
                    <a:lnTo>
                      <a:pt x="19" y="0"/>
                    </a:lnTo>
                    <a:lnTo>
                      <a:pt x="5148" y="0"/>
                    </a:lnTo>
                    <a:lnTo>
                      <a:pt x="5175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792600" y="251460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34" y="95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5116" y="0"/>
                    </a:lnTo>
                    <a:lnTo>
                      <a:pt x="5143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792600" y="2503440"/>
                <a:ext cx="1357200" cy="23760"/>
              </a:xfrm>
              <a:custGeom>
                <a:avLst/>
                <a:gdLst/>
                <a:ahLst/>
                <a:rect l="l" t="t" r="r" b="b"/>
                <a:pathLst>
                  <a:path w="5129" h="95">
                    <a:moveTo>
                      <a:pt x="5129" y="95"/>
                    </a:moveTo>
                    <a:lnTo>
                      <a:pt x="0" y="95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5102" y="0"/>
                    </a:lnTo>
                    <a:lnTo>
                      <a:pt x="5129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792600" y="2490840"/>
                <a:ext cx="1352520" cy="23760"/>
              </a:xfrm>
              <a:custGeom>
                <a:avLst/>
                <a:gdLst/>
                <a:ahLst/>
                <a:rect l="l" t="t" r="r" b="b"/>
                <a:pathLst>
                  <a:path w="5116" h="95">
                    <a:moveTo>
                      <a:pt x="5116" y="95"/>
                    </a:moveTo>
                    <a:lnTo>
                      <a:pt x="0" y="95"/>
                    </a:lnTo>
                    <a:lnTo>
                      <a:pt x="0" y="93"/>
                    </a:lnTo>
                    <a:lnTo>
                      <a:pt x="0" y="24"/>
                    </a:lnTo>
                    <a:lnTo>
                      <a:pt x="30" y="0"/>
                    </a:lnTo>
                    <a:lnTo>
                      <a:pt x="5089" y="0"/>
                    </a:lnTo>
                    <a:lnTo>
                      <a:pt x="5116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792600" y="2478240"/>
                <a:ext cx="1349280" cy="25200"/>
              </a:xfrm>
              <a:custGeom>
                <a:avLst/>
                <a:gdLst/>
                <a:ahLst/>
                <a:rect l="l" t="t" r="r" b="b"/>
                <a:pathLst>
                  <a:path w="5102" h="95">
                    <a:moveTo>
                      <a:pt x="5102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87" y="0"/>
                    </a:lnTo>
                    <a:lnTo>
                      <a:pt x="5076" y="0"/>
                    </a:lnTo>
                    <a:lnTo>
                      <a:pt x="5102" y="95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800520" y="2465280"/>
                <a:ext cx="1338120" cy="25560"/>
              </a:xfrm>
              <a:custGeom>
                <a:avLst/>
                <a:gdLst/>
                <a:ahLst/>
                <a:rect l="l" t="t" r="r" b="b"/>
                <a:pathLst>
                  <a:path w="5059" h="96">
                    <a:moveTo>
                      <a:pt x="505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5033" y="0"/>
                    </a:lnTo>
                    <a:lnTo>
                      <a:pt x="5059" y="96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814920" y="2452680"/>
                <a:ext cx="1320480" cy="25560"/>
              </a:xfrm>
              <a:custGeom>
                <a:avLst/>
                <a:gdLst/>
                <a:ahLst/>
                <a:rect l="l" t="t" r="r" b="b"/>
                <a:pathLst>
                  <a:path w="4989" h="96">
                    <a:moveTo>
                      <a:pt x="498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4963" y="0"/>
                    </a:lnTo>
                    <a:lnTo>
                      <a:pt x="498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830760" y="2440080"/>
                <a:ext cx="1301760" cy="25200"/>
              </a:xfrm>
              <a:custGeom>
                <a:avLst/>
                <a:gdLst/>
                <a:ahLst/>
                <a:rect l="l" t="t" r="r" b="b"/>
                <a:pathLst>
                  <a:path w="4919" h="96">
                    <a:moveTo>
                      <a:pt x="4919" y="96"/>
                    </a:moveTo>
                    <a:lnTo>
                      <a:pt x="0" y="96"/>
                    </a:lnTo>
                    <a:lnTo>
                      <a:pt x="113" y="0"/>
                    </a:lnTo>
                    <a:lnTo>
                      <a:pt x="4893" y="0"/>
                    </a:lnTo>
                    <a:lnTo>
                      <a:pt x="491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44800" y="24271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49" h="95">
                    <a:moveTo>
                      <a:pt x="4849" y="95"/>
                    </a:moveTo>
                    <a:lnTo>
                      <a:pt x="0" y="95"/>
                    </a:lnTo>
                    <a:lnTo>
                      <a:pt x="113" y="0"/>
                    </a:lnTo>
                    <a:lnTo>
                      <a:pt x="4823" y="0"/>
                    </a:lnTo>
                    <a:lnTo>
                      <a:pt x="4849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860640" y="2414520"/>
                <a:ext cx="1263960" cy="25560"/>
              </a:xfrm>
              <a:custGeom>
                <a:avLst/>
                <a:gdLst/>
                <a:ahLst/>
                <a:rect l="l" t="t" r="r" b="b"/>
                <a:pathLst>
                  <a:path w="4780" h="95">
                    <a:moveTo>
                      <a:pt x="4780" y="95"/>
                    </a:moveTo>
                    <a:lnTo>
                      <a:pt x="0" y="95"/>
                    </a:lnTo>
                    <a:lnTo>
                      <a:pt x="114" y="0"/>
                    </a:lnTo>
                    <a:lnTo>
                      <a:pt x="4754" y="0"/>
                    </a:lnTo>
                    <a:lnTo>
                      <a:pt x="4780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875040" y="2401920"/>
                <a:ext cx="1246320" cy="25200"/>
              </a:xfrm>
              <a:custGeom>
                <a:avLst/>
                <a:gdLst/>
                <a:ahLst/>
                <a:rect l="l" t="t" r="r" b="b"/>
                <a:pathLst>
                  <a:path w="4710" h="96">
                    <a:moveTo>
                      <a:pt x="4710" y="96"/>
                    </a:moveTo>
                    <a:lnTo>
                      <a:pt x="0" y="96"/>
                    </a:lnTo>
                    <a:lnTo>
                      <a:pt x="75" y="33"/>
                    </a:lnTo>
                    <a:lnTo>
                      <a:pt x="75" y="0"/>
                    </a:lnTo>
                    <a:lnTo>
                      <a:pt x="4684" y="0"/>
                    </a:lnTo>
                    <a:lnTo>
                      <a:pt x="4710" y="96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890880" y="2389320"/>
                <a:ext cx="1227240" cy="25200"/>
              </a:xfrm>
              <a:custGeom>
                <a:avLst/>
                <a:gdLst/>
                <a:ahLst/>
                <a:rect l="l" t="t" r="r" b="b"/>
                <a:pathLst>
                  <a:path w="4640" h="95">
                    <a:moveTo>
                      <a:pt x="4640" y="95"/>
                    </a:moveTo>
                    <a:lnTo>
                      <a:pt x="0" y="95"/>
                    </a:lnTo>
                    <a:lnTo>
                      <a:pt x="18" y="80"/>
                    </a:lnTo>
                    <a:lnTo>
                      <a:pt x="18" y="0"/>
                    </a:lnTo>
                    <a:lnTo>
                      <a:pt x="4614" y="0"/>
                    </a:lnTo>
                    <a:lnTo>
                      <a:pt x="4640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895560" y="2376360"/>
                <a:ext cx="1219320" cy="25560"/>
              </a:xfrm>
              <a:custGeom>
                <a:avLst/>
                <a:gdLst/>
                <a:ahLst/>
                <a:rect l="l" t="t" r="r" b="b"/>
                <a:pathLst>
                  <a:path w="4609" h="95">
                    <a:moveTo>
                      <a:pt x="460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583" y="0"/>
                    </a:lnTo>
                    <a:lnTo>
                      <a:pt x="4609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895560" y="2363760"/>
                <a:ext cx="1216080" cy="25560"/>
              </a:xfrm>
              <a:custGeom>
                <a:avLst/>
                <a:gdLst/>
                <a:ahLst/>
                <a:rect l="l" t="t" r="r" b="b"/>
                <a:pathLst>
                  <a:path w="4596" h="95">
                    <a:moveTo>
                      <a:pt x="4596" y="95"/>
                    </a:moveTo>
                    <a:lnTo>
                      <a:pt x="0" y="9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4570" y="0"/>
                    </a:lnTo>
                    <a:lnTo>
                      <a:pt x="4596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895560" y="2351160"/>
                <a:ext cx="1211400" cy="25200"/>
              </a:xfrm>
              <a:custGeom>
                <a:avLst/>
                <a:gdLst/>
                <a:ahLst/>
                <a:rect l="l" t="t" r="r" b="b"/>
                <a:pathLst>
                  <a:path w="4583" h="95">
                    <a:moveTo>
                      <a:pt x="4583" y="95"/>
                    </a:moveTo>
                    <a:lnTo>
                      <a:pt x="0" y="95"/>
                    </a:lnTo>
                    <a:lnTo>
                      <a:pt x="0" y="9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493" y="0"/>
                    </a:lnTo>
                    <a:lnTo>
                      <a:pt x="4500" y="26"/>
                    </a:lnTo>
                    <a:lnTo>
                      <a:pt x="4564" y="26"/>
                    </a:lnTo>
                    <a:lnTo>
                      <a:pt x="4583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895560" y="2338560"/>
                <a:ext cx="1208160" cy="25200"/>
              </a:xfrm>
              <a:custGeom>
                <a:avLst/>
                <a:gdLst/>
                <a:ahLst/>
                <a:rect l="l" t="t" r="r" b="b"/>
                <a:pathLst>
                  <a:path w="4570" h="95">
                    <a:moveTo>
                      <a:pt x="4570" y="95"/>
                    </a:moveTo>
                    <a:lnTo>
                      <a:pt x="0" y="95"/>
                    </a:lnTo>
                    <a:lnTo>
                      <a:pt x="0" y="77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4091" y="0"/>
                    </a:lnTo>
                    <a:lnTo>
                      <a:pt x="4108" y="10"/>
                    </a:lnTo>
                    <a:lnTo>
                      <a:pt x="4103" y="0"/>
                    </a:lnTo>
                    <a:lnTo>
                      <a:pt x="4481" y="0"/>
                    </a:lnTo>
                    <a:lnTo>
                      <a:pt x="4500" y="73"/>
                    </a:lnTo>
                    <a:lnTo>
                      <a:pt x="4564" y="73"/>
                    </a:lnTo>
                    <a:lnTo>
                      <a:pt x="4570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895560" y="2325600"/>
                <a:ext cx="1187640" cy="25560"/>
              </a:xfrm>
              <a:custGeom>
                <a:avLst/>
                <a:gdLst/>
                <a:ahLst/>
                <a:rect l="l" t="t" r="r" b="b"/>
                <a:pathLst>
                  <a:path w="4493" h="95">
                    <a:moveTo>
                      <a:pt x="4493" y="95"/>
                    </a:moveTo>
                    <a:lnTo>
                      <a:pt x="0" y="95"/>
                    </a:lnTo>
                    <a:lnTo>
                      <a:pt x="0" y="61"/>
                    </a:lnTo>
                    <a:lnTo>
                      <a:pt x="55" y="0"/>
                    </a:lnTo>
                    <a:lnTo>
                      <a:pt x="4021" y="0"/>
                    </a:lnTo>
                    <a:lnTo>
                      <a:pt x="4108" y="58"/>
                    </a:lnTo>
                    <a:lnTo>
                      <a:pt x="4083" y="0"/>
                    </a:lnTo>
                    <a:lnTo>
                      <a:pt x="4468" y="0"/>
                    </a:lnTo>
                    <a:lnTo>
                      <a:pt x="4493" y="95"/>
                    </a:lnTo>
                    <a:close/>
                  </a:path>
                </a:pathLst>
              </a:custGeom>
              <a:solidFill>
                <a:srgbClr val="577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98800" y="2313000"/>
                <a:ext cx="1181160" cy="25560"/>
              </a:xfrm>
              <a:custGeom>
                <a:avLst/>
                <a:gdLst/>
                <a:ahLst/>
                <a:rect l="l" t="t" r="r" b="b"/>
                <a:pathLst>
                  <a:path w="4469" h="95">
                    <a:moveTo>
                      <a:pt x="4469" y="95"/>
                    </a:moveTo>
                    <a:lnTo>
                      <a:pt x="4091" y="95"/>
                    </a:lnTo>
                    <a:lnTo>
                      <a:pt x="4050" y="0"/>
                    </a:lnTo>
                    <a:lnTo>
                      <a:pt x="4443" y="0"/>
                    </a:lnTo>
                    <a:lnTo>
                      <a:pt x="4469" y="95"/>
                    </a:lnTo>
                    <a:close/>
                    <a:moveTo>
                      <a:pt x="4079" y="95"/>
                    </a:moveTo>
                    <a:lnTo>
                      <a:pt x="0" y="95"/>
                    </a:lnTo>
                    <a:lnTo>
                      <a:pt x="50" y="39"/>
                    </a:lnTo>
                    <a:lnTo>
                      <a:pt x="93" y="0"/>
                    </a:lnTo>
                    <a:lnTo>
                      <a:pt x="3939" y="0"/>
                    </a:lnTo>
                    <a:lnTo>
                      <a:pt x="4079" y="95"/>
                    </a:lnTo>
                    <a:close/>
                  </a:path>
                </a:pathLst>
              </a:custGeom>
              <a:solidFill>
                <a:srgbClr val="577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4" name=""/>
            <p:cNvSpPr/>
            <p:nvPr/>
          </p:nvSpPr>
          <p:spPr>
            <a:xfrm>
              <a:off x="3909960" y="2300400"/>
              <a:ext cx="1166760" cy="25200"/>
            </a:xfrm>
            <a:custGeom>
              <a:avLst/>
              <a:gdLst/>
              <a:ahLst/>
              <a:rect l="l" t="t" r="r" b="b"/>
              <a:pathLst>
                <a:path w="4413" h="96">
                  <a:moveTo>
                    <a:pt x="4413" y="96"/>
                  </a:moveTo>
                  <a:lnTo>
                    <a:pt x="4028" y="96"/>
                  </a:lnTo>
                  <a:lnTo>
                    <a:pt x="3986" y="0"/>
                  </a:lnTo>
                  <a:lnTo>
                    <a:pt x="4388" y="0"/>
                  </a:lnTo>
                  <a:lnTo>
                    <a:pt x="4413" y="96"/>
                  </a:lnTo>
                  <a:close/>
                  <a:moveTo>
                    <a:pt x="3966" y="96"/>
                  </a:moveTo>
                  <a:lnTo>
                    <a:pt x="0" y="96"/>
                  </a:lnTo>
                  <a:lnTo>
                    <a:pt x="7" y="88"/>
                  </a:lnTo>
                  <a:lnTo>
                    <a:pt x="76" y="24"/>
                  </a:lnTo>
                  <a:lnTo>
                    <a:pt x="99" y="0"/>
                  </a:lnTo>
                  <a:lnTo>
                    <a:pt x="3836" y="0"/>
                  </a:lnTo>
                  <a:lnTo>
                    <a:pt x="3856" y="21"/>
                  </a:lnTo>
                  <a:lnTo>
                    <a:pt x="3966" y="96"/>
                  </a:lnTo>
                  <a:close/>
                </a:path>
              </a:pathLst>
            </a:custGeom>
            <a:solidFill>
              <a:srgbClr val="577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922560" y="2287440"/>
              <a:ext cx="1150920" cy="25560"/>
            </a:xfrm>
            <a:custGeom>
              <a:avLst/>
              <a:gdLst/>
              <a:ahLst/>
              <a:rect l="l" t="t" r="r" b="b"/>
              <a:pathLst>
                <a:path w="4350" h="97">
                  <a:moveTo>
                    <a:pt x="4350" y="97"/>
                  </a:moveTo>
                  <a:lnTo>
                    <a:pt x="3957" y="97"/>
                  </a:lnTo>
                  <a:lnTo>
                    <a:pt x="3916" y="0"/>
                  </a:lnTo>
                  <a:lnTo>
                    <a:pt x="4262" y="0"/>
                  </a:lnTo>
                  <a:lnTo>
                    <a:pt x="4262" y="5"/>
                  </a:lnTo>
                  <a:lnTo>
                    <a:pt x="4326" y="5"/>
                  </a:lnTo>
                  <a:lnTo>
                    <a:pt x="4350" y="97"/>
                  </a:lnTo>
                  <a:close/>
                  <a:moveTo>
                    <a:pt x="3846" y="97"/>
                  </a:moveTo>
                  <a:lnTo>
                    <a:pt x="0" y="97"/>
                  </a:lnTo>
                  <a:lnTo>
                    <a:pt x="26" y="72"/>
                  </a:lnTo>
                  <a:lnTo>
                    <a:pt x="97" y="0"/>
                  </a:lnTo>
                  <a:lnTo>
                    <a:pt x="3737" y="0"/>
                  </a:lnTo>
                  <a:lnTo>
                    <a:pt x="3806" y="69"/>
                  </a:lnTo>
                  <a:lnTo>
                    <a:pt x="3846" y="97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935520" y="2274840"/>
              <a:ext cx="1135080" cy="25560"/>
            </a:xfrm>
            <a:custGeom>
              <a:avLst/>
              <a:gdLst/>
              <a:ahLst/>
              <a:rect l="l" t="t" r="r" b="b"/>
              <a:pathLst>
                <a:path w="4289" h="95">
                  <a:moveTo>
                    <a:pt x="4289" y="95"/>
                  </a:moveTo>
                  <a:lnTo>
                    <a:pt x="3887" y="95"/>
                  </a:lnTo>
                  <a:lnTo>
                    <a:pt x="3847" y="0"/>
                  </a:lnTo>
                  <a:lnTo>
                    <a:pt x="4213" y="0"/>
                  </a:lnTo>
                  <a:lnTo>
                    <a:pt x="4213" y="52"/>
                  </a:lnTo>
                  <a:lnTo>
                    <a:pt x="4277" y="52"/>
                  </a:lnTo>
                  <a:lnTo>
                    <a:pt x="4289" y="95"/>
                  </a:lnTo>
                  <a:close/>
                  <a:moveTo>
                    <a:pt x="3737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3639" y="0"/>
                  </a:lnTo>
                  <a:lnTo>
                    <a:pt x="3737" y="95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948120" y="2263680"/>
              <a:ext cx="1101600" cy="23760"/>
            </a:xfrm>
            <a:custGeom>
              <a:avLst/>
              <a:gdLst/>
              <a:ahLst/>
              <a:rect l="l" t="t" r="r" b="b"/>
              <a:pathLst>
                <a:path w="4165" h="95">
                  <a:moveTo>
                    <a:pt x="4165" y="95"/>
                  </a:moveTo>
                  <a:lnTo>
                    <a:pt x="3819" y="95"/>
                  </a:lnTo>
                  <a:lnTo>
                    <a:pt x="3778" y="0"/>
                  </a:lnTo>
                  <a:lnTo>
                    <a:pt x="4165" y="0"/>
                  </a:lnTo>
                  <a:lnTo>
                    <a:pt x="4165" y="95"/>
                  </a:lnTo>
                  <a:close/>
                  <a:moveTo>
                    <a:pt x="3640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2079" y="0"/>
                  </a:lnTo>
                  <a:lnTo>
                    <a:pt x="2079" y="43"/>
                  </a:lnTo>
                  <a:lnTo>
                    <a:pt x="2341" y="37"/>
                  </a:lnTo>
                  <a:lnTo>
                    <a:pt x="2328" y="0"/>
                  </a:lnTo>
                  <a:lnTo>
                    <a:pt x="3543" y="0"/>
                  </a:lnTo>
                  <a:lnTo>
                    <a:pt x="3640" y="95"/>
                  </a:lnTo>
                  <a:close/>
                </a:path>
              </a:pathLst>
            </a:custGeom>
            <a:solidFill>
              <a:srgbClr val="567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960720" y="2251080"/>
              <a:ext cx="1089000" cy="23760"/>
            </a:xfrm>
            <a:custGeom>
              <a:avLst/>
              <a:gdLst/>
              <a:ahLst/>
              <a:rect l="l" t="t" r="r" b="b"/>
              <a:pathLst>
                <a:path w="4118" h="95">
                  <a:moveTo>
                    <a:pt x="4118" y="95"/>
                  </a:moveTo>
                  <a:lnTo>
                    <a:pt x="3752" y="95"/>
                  </a:lnTo>
                  <a:lnTo>
                    <a:pt x="3711" y="0"/>
                  </a:lnTo>
                  <a:lnTo>
                    <a:pt x="4118" y="0"/>
                  </a:lnTo>
                  <a:lnTo>
                    <a:pt x="4118" y="95"/>
                  </a:lnTo>
                  <a:close/>
                  <a:moveTo>
                    <a:pt x="3544" y="95"/>
                  </a:moveTo>
                  <a:lnTo>
                    <a:pt x="0" y="95"/>
                  </a:lnTo>
                  <a:lnTo>
                    <a:pt x="97" y="0"/>
                  </a:lnTo>
                  <a:lnTo>
                    <a:pt x="2032" y="0"/>
                  </a:lnTo>
                  <a:lnTo>
                    <a:pt x="2032" y="90"/>
                  </a:lnTo>
                  <a:lnTo>
                    <a:pt x="2294" y="84"/>
                  </a:lnTo>
                  <a:lnTo>
                    <a:pt x="2264" y="0"/>
                  </a:lnTo>
                  <a:lnTo>
                    <a:pt x="3447" y="0"/>
                  </a:lnTo>
                  <a:lnTo>
                    <a:pt x="3544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973680" y="2238480"/>
              <a:ext cx="1076040" cy="25200"/>
            </a:xfrm>
            <a:custGeom>
              <a:avLst/>
              <a:gdLst/>
              <a:ahLst/>
              <a:rect l="l" t="t" r="r" b="b"/>
              <a:pathLst>
                <a:path w="4069" h="95">
                  <a:moveTo>
                    <a:pt x="4069" y="95"/>
                  </a:moveTo>
                  <a:lnTo>
                    <a:pt x="3682" y="95"/>
                  </a:lnTo>
                  <a:lnTo>
                    <a:pt x="3641" y="0"/>
                  </a:lnTo>
                  <a:lnTo>
                    <a:pt x="4069" y="0"/>
                  </a:lnTo>
                  <a:lnTo>
                    <a:pt x="4069" y="95"/>
                  </a:lnTo>
                  <a:close/>
                  <a:moveTo>
                    <a:pt x="3447" y="95"/>
                  </a:moveTo>
                  <a:lnTo>
                    <a:pt x="2232" y="95"/>
                  </a:lnTo>
                  <a:lnTo>
                    <a:pt x="2199" y="0"/>
                  </a:lnTo>
                  <a:lnTo>
                    <a:pt x="3349" y="0"/>
                  </a:lnTo>
                  <a:lnTo>
                    <a:pt x="3447" y="95"/>
                  </a:lnTo>
                  <a:close/>
                  <a:moveTo>
                    <a:pt x="1983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83" y="0"/>
                  </a:lnTo>
                  <a:lnTo>
                    <a:pt x="1983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986280" y="2225520"/>
              <a:ext cx="1063440" cy="25560"/>
            </a:xfrm>
            <a:custGeom>
              <a:avLst/>
              <a:gdLst/>
              <a:ahLst/>
              <a:rect l="l" t="t" r="r" b="b"/>
              <a:pathLst>
                <a:path w="4021" h="95">
                  <a:moveTo>
                    <a:pt x="4021" y="95"/>
                  </a:moveTo>
                  <a:lnTo>
                    <a:pt x="3614" y="95"/>
                  </a:lnTo>
                  <a:lnTo>
                    <a:pt x="3573" y="0"/>
                  </a:lnTo>
                  <a:lnTo>
                    <a:pt x="4021" y="0"/>
                  </a:lnTo>
                  <a:lnTo>
                    <a:pt x="4021" y="95"/>
                  </a:lnTo>
                  <a:close/>
                  <a:moveTo>
                    <a:pt x="3350" y="95"/>
                  </a:moveTo>
                  <a:lnTo>
                    <a:pt x="2167" y="95"/>
                  </a:lnTo>
                  <a:lnTo>
                    <a:pt x="2134" y="0"/>
                  </a:lnTo>
                  <a:lnTo>
                    <a:pt x="3350" y="0"/>
                  </a:lnTo>
                  <a:lnTo>
                    <a:pt x="3300" y="46"/>
                  </a:lnTo>
                  <a:lnTo>
                    <a:pt x="3350" y="95"/>
                  </a:lnTo>
                  <a:close/>
                  <a:moveTo>
                    <a:pt x="1935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35" y="0"/>
                  </a:lnTo>
                  <a:lnTo>
                    <a:pt x="1935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998880" y="2212920"/>
              <a:ext cx="1050840" cy="25560"/>
            </a:xfrm>
            <a:custGeom>
              <a:avLst/>
              <a:gdLst/>
              <a:ahLst/>
              <a:rect l="l" t="t" r="r" b="b"/>
              <a:pathLst>
                <a:path w="3974" h="95">
                  <a:moveTo>
                    <a:pt x="3974" y="95"/>
                  </a:moveTo>
                  <a:lnTo>
                    <a:pt x="3546" y="95"/>
                  </a:lnTo>
                  <a:lnTo>
                    <a:pt x="3518" y="31"/>
                  </a:lnTo>
                  <a:lnTo>
                    <a:pt x="3518" y="0"/>
                  </a:lnTo>
                  <a:lnTo>
                    <a:pt x="3974" y="0"/>
                  </a:lnTo>
                  <a:lnTo>
                    <a:pt x="3974" y="95"/>
                  </a:lnTo>
                  <a:close/>
                  <a:moveTo>
                    <a:pt x="3254" y="95"/>
                  </a:moveTo>
                  <a:lnTo>
                    <a:pt x="2104" y="95"/>
                  </a:lnTo>
                  <a:lnTo>
                    <a:pt x="2081" y="31"/>
                  </a:lnTo>
                  <a:lnTo>
                    <a:pt x="2081" y="0"/>
                  </a:lnTo>
                  <a:lnTo>
                    <a:pt x="3322" y="0"/>
                  </a:lnTo>
                  <a:lnTo>
                    <a:pt x="3322" y="31"/>
                  </a:lnTo>
                  <a:lnTo>
                    <a:pt x="3253" y="94"/>
                  </a:lnTo>
                  <a:lnTo>
                    <a:pt x="3254" y="95"/>
                  </a:lnTo>
                  <a:close/>
                  <a:moveTo>
                    <a:pt x="1888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857" y="0"/>
                  </a:lnTo>
                  <a:lnTo>
                    <a:pt x="1888" y="33"/>
                  </a:lnTo>
                  <a:lnTo>
                    <a:pt x="1888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11480" y="2200320"/>
              <a:ext cx="1038240" cy="25200"/>
            </a:xfrm>
            <a:custGeom>
              <a:avLst/>
              <a:gdLst/>
              <a:ahLst/>
              <a:rect l="l" t="t" r="r" b="b"/>
              <a:pathLst>
                <a:path w="3926" h="96">
                  <a:moveTo>
                    <a:pt x="3926" y="96"/>
                  </a:moveTo>
                  <a:lnTo>
                    <a:pt x="3478" y="96"/>
                  </a:lnTo>
                  <a:lnTo>
                    <a:pt x="3470" y="79"/>
                  </a:lnTo>
                  <a:lnTo>
                    <a:pt x="3470" y="9"/>
                  </a:lnTo>
                  <a:lnTo>
                    <a:pt x="3468" y="0"/>
                  </a:lnTo>
                  <a:lnTo>
                    <a:pt x="3926" y="0"/>
                  </a:lnTo>
                  <a:lnTo>
                    <a:pt x="3926" y="96"/>
                  </a:lnTo>
                  <a:close/>
                  <a:moveTo>
                    <a:pt x="3255" y="96"/>
                  </a:moveTo>
                  <a:lnTo>
                    <a:pt x="2039" y="96"/>
                  </a:lnTo>
                  <a:lnTo>
                    <a:pt x="2033" y="79"/>
                  </a:lnTo>
                  <a:lnTo>
                    <a:pt x="2033" y="0"/>
                  </a:lnTo>
                  <a:lnTo>
                    <a:pt x="3274" y="0"/>
                  </a:lnTo>
                  <a:lnTo>
                    <a:pt x="3274" y="79"/>
                  </a:lnTo>
                  <a:lnTo>
                    <a:pt x="3255" y="96"/>
                  </a:lnTo>
                  <a:close/>
                  <a:moveTo>
                    <a:pt x="1840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776" y="0"/>
                  </a:lnTo>
                  <a:lnTo>
                    <a:pt x="1776" y="12"/>
                  </a:lnTo>
                  <a:lnTo>
                    <a:pt x="1840" y="81"/>
                  </a:lnTo>
                  <a:lnTo>
                    <a:pt x="1840" y="96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024440" y="2187720"/>
              <a:ext cx="1025280" cy="25200"/>
            </a:xfrm>
            <a:custGeom>
              <a:avLst/>
              <a:gdLst/>
              <a:ahLst/>
              <a:rect l="l" t="t" r="r" b="b"/>
              <a:pathLst>
                <a:path w="3878" h="95">
                  <a:moveTo>
                    <a:pt x="3878" y="95"/>
                  </a:moveTo>
                  <a:lnTo>
                    <a:pt x="3422" y="95"/>
                  </a:lnTo>
                  <a:lnTo>
                    <a:pt x="3422" y="56"/>
                  </a:lnTo>
                  <a:lnTo>
                    <a:pt x="3404" y="0"/>
                  </a:lnTo>
                  <a:lnTo>
                    <a:pt x="3878" y="0"/>
                  </a:lnTo>
                  <a:lnTo>
                    <a:pt x="3878" y="95"/>
                  </a:lnTo>
                  <a:close/>
                  <a:moveTo>
                    <a:pt x="3226" y="95"/>
                  </a:moveTo>
                  <a:lnTo>
                    <a:pt x="1985" y="95"/>
                  </a:lnTo>
                  <a:lnTo>
                    <a:pt x="1985" y="0"/>
                  </a:lnTo>
                  <a:lnTo>
                    <a:pt x="3226" y="0"/>
                  </a:lnTo>
                  <a:lnTo>
                    <a:pt x="3226" y="95"/>
                  </a:lnTo>
                  <a:close/>
                  <a:moveTo>
                    <a:pt x="1761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728" y="0"/>
                  </a:lnTo>
                  <a:lnTo>
                    <a:pt x="1728" y="59"/>
                  </a:lnTo>
                  <a:lnTo>
                    <a:pt x="1761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037040" y="2174760"/>
              <a:ext cx="1012680" cy="25560"/>
            </a:xfrm>
            <a:custGeom>
              <a:avLst/>
              <a:gdLst/>
              <a:ahLst/>
              <a:rect l="l" t="t" r="r" b="b"/>
              <a:pathLst>
                <a:path w="3830" h="95">
                  <a:moveTo>
                    <a:pt x="3830" y="95"/>
                  </a:moveTo>
                  <a:lnTo>
                    <a:pt x="3372" y="95"/>
                  </a:lnTo>
                  <a:lnTo>
                    <a:pt x="3341" y="0"/>
                  </a:lnTo>
                  <a:lnTo>
                    <a:pt x="3786" y="0"/>
                  </a:lnTo>
                  <a:lnTo>
                    <a:pt x="3830" y="41"/>
                  </a:lnTo>
                  <a:lnTo>
                    <a:pt x="3830" y="95"/>
                  </a:lnTo>
                  <a:close/>
                  <a:moveTo>
                    <a:pt x="3178" y="95"/>
                  </a:moveTo>
                  <a:lnTo>
                    <a:pt x="1937" y="95"/>
                  </a:lnTo>
                  <a:lnTo>
                    <a:pt x="1937" y="0"/>
                  </a:lnTo>
                  <a:lnTo>
                    <a:pt x="3178" y="0"/>
                  </a:lnTo>
                  <a:lnTo>
                    <a:pt x="3178" y="95"/>
                  </a:lnTo>
                  <a:close/>
                  <a:moveTo>
                    <a:pt x="1680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633" y="0"/>
                  </a:lnTo>
                  <a:lnTo>
                    <a:pt x="1680" y="43"/>
                  </a:lnTo>
                  <a:lnTo>
                    <a:pt x="1680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049640" y="2162160"/>
              <a:ext cx="1000080" cy="25560"/>
            </a:xfrm>
            <a:custGeom>
              <a:avLst/>
              <a:gdLst/>
              <a:ahLst/>
              <a:rect l="l" t="t" r="r" b="b"/>
              <a:pathLst>
                <a:path w="3783" h="95">
                  <a:moveTo>
                    <a:pt x="3783" y="95"/>
                  </a:moveTo>
                  <a:lnTo>
                    <a:pt x="3309" y="95"/>
                  </a:lnTo>
                  <a:lnTo>
                    <a:pt x="3278" y="0"/>
                  </a:lnTo>
                  <a:lnTo>
                    <a:pt x="3714" y="0"/>
                  </a:lnTo>
                  <a:lnTo>
                    <a:pt x="3714" y="24"/>
                  </a:lnTo>
                  <a:lnTo>
                    <a:pt x="3783" y="88"/>
                  </a:lnTo>
                  <a:lnTo>
                    <a:pt x="3783" y="95"/>
                  </a:lnTo>
                  <a:close/>
                  <a:moveTo>
                    <a:pt x="3131" y="95"/>
                  </a:moveTo>
                  <a:lnTo>
                    <a:pt x="1890" y="95"/>
                  </a:lnTo>
                  <a:lnTo>
                    <a:pt x="1890" y="0"/>
                  </a:lnTo>
                  <a:lnTo>
                    <a:pt x="3178" y="0"/>
                  </a:lnTo>
                  <a:lnTo>
                    <a:pt x="3131" y="24"/>
                  </a:lnTo>
                  <a:lnTo>
                    <a:pt x="3131" y="95"/>
                  </a:lnTo>
                  <a:close/>
                  <a:moveTo>
                    <a:pt x="1633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564" y="0"/>
                  </a:lnTo>
                  <a:lnTo>
                    <a:pt x="1564" y="27"/>
                  </a:lnTo>
                  <a:lnTo>
                    <a:pt x="1633" y="90"/>
                  </a:lnTo>
                  <a:lnTo>
                    <a:pt x="1633" y="95"/>
                  </a:lnTo>
                  <a:close/>
                </a:path>
              </a:pathLst>
            </a:custGeom>
            <a:solidFill>
              <a:srgbClr val="55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062240" y="2149560"/>
              <a:ext cx="976320" cy="25200"/>
            </a:xfrm>
            <a:custGeom>
              <a:avLst/>
              <a:gdLst/>
              <a:ahLst/>
              <a:rect l="l" t="t" r="r" b="b"/>
              <a:pathLst>
                <a:path w="3691" h="96">
                  <a:moveTo>
                    <a:pt x="3691" y="96"/>
                  </a:moveTo>
                  <a:lnTo>
                    <a:pt x="3246" y="96"/>
                  </a:lnTo>
                  <a:lnTo>
                    <a:pt x="3216" y="4"/>
                  </a:lnTo>
                  <a:lnTo>
                    <a:pt x="3218" y="0"/>
                  </a:lnTo>
                  <a:lnTo>
                    <a:pt x="3662" y="0"/>
                  </a:lnTo>
                  <a:lnTo>
                    <a:pt x="3666" y="4"/>
                  </a:lnTo>
                  <a:lnTo>
                    <a:pt x="3666" y="73"/>
                  </a:lnTo>
                  <a:lnTo>
                    <a:pt x="3691" y="96"/>
                  </a:lnTo>
                  <a:close/>
                  <a:moveTo>
                    <a:pt x="3083" y="96"/>
                  </a:moveTo>
                  <a:lnTo>
                    <a:pt x="1842" y="96"/>
                  </a:lnTo>
                  <a:lnTo>
                    <a:pt x="1842" y="0"/>
                  </a:lnTo>
                  <a:lnTo>
                    <a:pt x="3218" y="0"/>
                  </a:lnTo>
                  <a:lnTo>
                    <a:pt x="3216" y="4"/>
                  </a:lnTo>
                  <a:lnTo>
                    <a:pt x="3083" y="73"/>
                  </a:lnTo>
                  <a:lnTo>
                    <a:pt x="3083" y="96"/>
                  </a:lnTo>
                  <a:close/>
                  <a:moveTo>
                    <a:pt x="1538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510" y="0"/>
                  </a:lnTo>
                  <a:lnTo>
                    <a:pt x="1516" y="6"/>
                  </a:lnTo>
                  <a:lnTo>
                    <a:pt x="1516" y="76"/>
                  </a:lnTo>
                  <a:lnTo>
                    <a:pt x="153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075200" y="2136600"/>
              <a:ext cx="957240" cy="25560"/>
            </a:xfrm>
            <a:custGeom>
              <a:avLst/>
              <a:gdLst/>
              <a:ahLst/>
              <a:rect l="l" t="t" r="r" b="b"/>
              <a:pathLst>
                <a:path w="3618" h="96">
                  <a:moveTo>
                    <a:pt x="3618" y="96"/>
                  </a:moveTo>
                  <a:lnTo>
                    <a:pt x="3182" y="96"/>
                  </a:lnTo>
                  <a:lnTo>
                    <a:pt x="3168" y="51"/>
                  </a:lnTo>
                  <a:lnTo>
                    <a:pt x="3219" y="0"/>
                  </a:lnTo>
                  <a:lnTo>
                    <a:pt x="3562" y="0"/>
                  </a:lnTo>
                  <a:lnTo>
                    <a:pt x="3618" y="51"/>
                  </a:lnTo>
                  <a:lnTo>
                    <a:pt x="3618" y="96"/>
                  </a:lnTo>
                  <a:close/>
                  <a:moveTo>
                    <a:pt x="3082" y="96"/>
                  </a:moveTo>
                  <a:lnTo>
                    <a:pt x="1794" y="96"/>
                  </a:lnTo>
                  <a:lnTo>
                    <a:pt x="1794" y="0"/>
                  </a:lnTo>
                  <a:lnTo>
                    <a:pt x="3219" y="0"/>
                  </a:lnTo>
                  <a:lnTo>
                    <a:pt x="3168" y="51"/>
                  </a:lnTo>
                  <a:lnTo>
                    <a:pt x="3082" y="96"/>
                  </a:lnTo>
                  <a:close/>
                  <a:moveTo>
                    <a:pt x="1468" y="96"/>
                  </a:moveTo>
                  <a:lnTo>
                    <a:pt x="0" y="96"/>
                  </a:lnTo>
                  <a:lnTo>
                    <a:pt x="95" y="0"/>
                  </a:lnTo>
                  <a:lnTo>
                    <a:pt x="1414" y="0"/>
                  </a:lnTo>
                  <a:lnTo>
                    <a:pt x="1468" y="53"/>
                  </a:lnTo>
                  <a:lnTo>
                    <a:pt x="146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087800" y="2124000"/>
              <a:ext cx="942840" cy="25560"/>
            </a:xfrm>
            <a:custGeom>
              <a:avLst/>
              <a:gdLst/>
              <a:ahLst/>
              <a:rect l="l" t="t" r="r" b="b"/>
              <a:pathLst>
                <a:path w="3566" h="95">
                  <a:moveTo>
                    <a:pt x="3566" y="95"/>
                  </a:moveTo>
                  <a:lnTo>
                    <a:pt x="3122" y="95"/>
                  </a:lnTo>
                  <a:lnTo>
                    <a:pt x="3220" y="0"/>
                  </a:lnTo>
                  <a:lnTo>
                    <a:pt x="3507" y="0"/>
                  </a:lnTo>
                  <a:lnTo>
                    <a:pt x="3507" y="40"/>
                  </a:lnTo>
                  <a:lnTo>
                    <a:pt x="3566" y="95"/>
                  </a:lnTo>
                  <a:close/>
                  <a:moveTo>
                    <a:pt x="3122" y="95"/>
                  </a:moveTo>
                  <a:lnTo>
                    <a:pt x="1746" y="95"/>
                  </a:lnTo>
                  <a:lnTo>
                    <a:pt x="1746" y="40"/>
                  </a:lnTo>
                  <a:lnTo>
                    <a:pt x="1761" y="0"/>
                  </a:lnTo>
                  <a:lnTo>
                    <a:pt x="3220" y="0"/>
                  </a:lnTo>
                  <a:lnTo>
                    <a:pt x="3122" y="95"/>
                  </a:lnTo>
                  <a:close/>
                  <a:moveTo>
                    <a:pt x="1414" y="95"/>
                  </a:moveTo>
                  <a:lnTo>
                    <a:pt x="0" y="95"/>
                  </a:lnTo>
                  <a:lnTo>
                    <a:pt x="54" y="40"/>
                  </a:lnTo>
                  <a:lnTo>
                    <a:pt x="15" y="0"/>
                  </a:lnTo>
                  <a:lnTo>
                    <a:pt x="1319" y="0"/>
                  </a:lnTo>
                  <a:lnTo>
                    <a:pt x="1359" y="40"/>
                  </a:lnTo>
                  <a:lnTo>
                    <a:pt x="1414" y="95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079880" y="2111400"/>
              <a:ext cx="938160" cy="25200"/>
            </a:xfrm>
            <a:custGeom>
              <a:avLst/>
              <a:gdLst/>
              <a:ahLst/>
              <a:rect l="l" t="t" r="r" b="b"/>
              <a:pathLst>
                <a:path w="3546" h="96">
                  <a:moveTo>
                    <a:pt x="3546" y="96"/>
                  </a:moveTo>
                  <a:lnTo>
                    <a:pt x="3203" y="96"/>
                  </a:lnTo>
                  <a:lnTo>
                    <a:pt x="3300" y="0"/>
                  </a:lnTo>
                  <a:lnTo>
                    <a:pt x="3520" y="0"/>
                  </a:lnTo>
                  <a:lnTo>
                    <a:pt x="3539" y="19"/>
                  </a:lnTo>
                  <a:lnTo>
                    <a:pt x="3539" y="88"/>
                  </a:lnTo>
                  <a:lnTo>
                    <a:pt x="3546" y="96"/>
                  </a:lnTo>
                  <a:close/>
                  <a:moveTo>
                    <a:pt x="3203" y="96"/>
                  </a:moveTo>
                  <a:lnTo>
                    <a:pt x="1778" y="96"/>
                  </a:lnTo>
                  <a:lnTo>
                    <a:pt x="1778" y="88"/>
                  </a:lnTo>
                  <a:lnTo>
                    <a:pt x="1809" y="0"/>
                  </a:lnTo>
                  <a:lnTo>
                    <a:pt x="3300" y="0"/>
                  </a:lnTo>
                  <a:lnTo>
                    <a:pt x="3203" y="96"/>
                  </a:lnTo>
                  <a:close/>
                  <a:moveTo>
                    <a:pt x="1398" y="96"/>
                  </a:moveTo>
                  <a:lnTo>
                    <a:pt x="79" y="96"/>
                  </a:lnTo>
                  <a:lnTo>
                    <a:pt x="86" y="88"/>
                  </a:lnTo>
                  <a:lnTo>
                    <a:pt x="0" y="0"/>
                  </a:lnTo>
                  <a:lnTo>
                    <a:pt x="1303" y="0"/>
                  </a:lnTo>
                  <a:lnTo>
                    <a:pt x="1391" y="88"/>
                  </a:lnTo>
                  <a:lnTo>
                    <a:pt x="1398" y="96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067280" y="2098800"/>
              <a:ext cx="949320" cy="25200"/>
            </a:xfrm>
            <a:custGeom>
              <a:avLst/>
              <a:gdLst/>
              <a:ahLst/>
              <a:rect l="l" t="t" r="r" b="b"/>
              <a:pathLst>
                <a:path w="3586" h="95">
                  <a:moveTo>
                    <a:pt x="3586" y="95"/>
                  </a:moveTo>
                  <a:lnTo>
                    <a:pt x="3299" y="95"/>
                  </a:lnTo>
                  <a:lnTo>
                    <a:pt x="3396" y="0"/>
                  </a:lnTo>
                  <a:lnTo>
                    <a:pt x="3459" y="0"/>
                  </a:lnTo>
                  <a:lnTo>
                    <a:pt x="3459" y="2"/>
                  </a:lnTo>
                  <a:lnTo>
                    <a:pt x="3522" y="2"/>
                  </a:lnTo>
                  <a:lnTo>
                    <a:pt x="3586" y="66"/>
                  </a:lnTo>
                  <a:lnTo>
                    <a:pt x="3586" y="95"/>
                  </a:lnTo>
                  <a:close/>
                  <a:moveTo>
                    <a:pt x="3299" y="95"/>
                  </a:moveTo>
                  <a:lnTo>
                    <a:pt x="1840" y="95"/>
                  </a:lnTo>
                  <a:lnTo>
                    <a:pt x="1873" y="0"/>
                  </a:lnTo>
                  <a:lnTo>
                    <a:pt x="3396" y="0"/>
                  </a:lnTo>
                  <a:lnTo>
                    <a:pt x="3299" y="95"/>
                  </a:lnTo>
                  <a:close/>
                  <a:moveTo>
                    <a:pt x="1398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42" y="0"/>
                  </a:lnTo>
                  <a:lnTo>
                    <a:pt x="1242" y="2"/>
                  </a:lnTo>
                  <a:lnTo>
                    <a:pt x="1305" y="2"/>
                  </a:lnTo>
                  <a:lnTo>
                    <a:pt x="1398" y="95"/>
                  </a:lnTo>
                  <a:close/>
                </a:path>
              </a:pathLst>
            </a:custGeom>
            <a:solidFill>
              <a:srgbClr val="536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054320" y="2085840"/>
              <a:ext cx="955800" cy="25560"/>
            </a:xfrm>
            <a:custGeom>
              <a:avLst/>
              <a:gdLst/>
              <a:ahLst/>
              <a:rect l="l" t="t" r="r" b="b"/>
              <a:pathLst>
                <a:path w="3614" h="95">
                  <a:moveTo>
                    <a:pt x="3614" y="95"/>
                  </a:moveTo>
                  <a:lnTo>
                    <a:pt x="3394" y="95"/>
                  </a:lnTo>
                  <a:lnTo>
                    <a:pt x="3492" y="0"/>
                  </a:lnTo>
                  <a:lnTo>
                    <a:pt x="3506" y="0"/>
                  </a:lnTo>
                  <a:lnTo>
                    <a:pt x="3506" y="50"/>
                  </a:lnTo>
                  <a:lnTo>
                    <a:pt x="3569" y="50"/>
                  </a:lnTo>
                  <a:lnTo>
                    <a:pt x="3614" y="95"/>
                  </a:lnTo>
                  <a:close/>
                  <a:moveTo>
                    <a:pt x="3394" y="95"/>
                  </a:moveTo>
                  <a:lnTo>
                    <a:pt x="1903" y="95"/>
                  </a:lnTo>
                  <a:lnTo>
                    <a:pt x="1936" y="0"/>
                  </a:lnTo>
                  <a:lnTo>
                    <a:pt x="3492" y="0"/>
                  </a:lnTo>
                  <a:lnTo>
                    <a:pt x="3394" y="95"/>
                  </a:lnTo>
                  <a:close/>
                  <a:moveTo>
                    <a:pt x="1397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89" y="0"/>
                  </a:lnTo>
                  <a:lnTo>
                    <a:pt x="1289" y="50"/>
                  </a:lnTo>
                  <a:lnTo>
                    <a:pt x="1352" y="50"/>
                  </a:lnTo>
                  <a:lnTo>
                    <a:pt x="1397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051440" y="2073240"/>
              <a:ext cx="930240" cy="255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456" y="95"/>
                  </a:lnTo>
                  <a:lnTo>
                    <a:pt x="3519" y="34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34"/>
                  </a:lnTo>
                  <a:lnTo>
                    <a:pt x="1933" y="95"/>
                  </a:lnTo>
                  <a:lnTo>
                    <a:pt x="3456" y="95"/>
                  </a:lnTo>
                  <a:lnTo>
                    <a:pt x="3519" y="34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60" y="95"/>
                  </a:lnTo>
                  <a:lnTo>
                    <a:pt x="0" y="34"/>
                  </a:lnTo>
                  <a:lnTo>
                    <a:pt x="32" y="0"/>
                  </a:lnTo>
                  <a:lnTo>
                    <a:pt x="1235" y="0"/>
                  </a:lnTo>
                  <a:lnTo>
                    <a:pt x="1302" y="34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51440" y="2062080"/>
              <a:ext cx="930240" cy="237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505" y="95"/>
                  </a:lnTo>
                  <a:lnTo>
                    <a:pt x="3519" y="82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82"/>
                  </a:lnTo>
                  <a:lnTo>
                    <a:pt x="1949" y="95"/>
                  </a:lnTo>
                  <a:lnTo>
                    <a:pt x="3505" y="95"/>
                  </a:lnTo>
                  <a:lnTo>
                    <a:pt x="3519" y="82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13" y="95"/>
                  </a:lnTo>
                  <a:lnTo>
                    <a:pt x="0" y="82"/>
                  </a:lnTo>
                  <a:lnTo>
                    <a:pt x="60" y="16"/>
                  </a:lnTo>
                  <a:lnTo>
                    <a:pt x="53" y="0"/>
                  </a:lnTo>
                  <a:lnTo>
                    <a:pt x="1140" y="0"/>
                  </a:lnTo>
                  <a:lnTo>
                    <a:pt x="1172" y="16"/>
                  </a:lnTo>
                  <a:lnTo>
                    <a:pt x="1302" y="82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59360" y="2049480"/>
              <a:ext cx="922320" cy="23760"/>
            </a:xfrm>
            <a:custGeom>
              <a:avLst/>
              <a:gdLst/>
              <a:ahLst/>
              <a:rect l="l" t="t" r="r" b="b"/>
              <a:pathLst>
                <a:path w="3491" h="95">
                  <a:moveTo>
                    <a:pt x="3491" y="95"/>
                  </a:moveTo>
                  <a:lnTo>
                    <a:pt x="1926" y="95"/>
                  </a:lnTo>
                  <a:lnTo>
                    <a:pt x="1926" y="0"/>
                  </a:lnTo>
                  <a:lnTo>
                    <a:pt x="3491" y="0"/>
                  </a:lnTo>
                  <a:lnTo>
                    <a:pt x="3491" y="95"/>
                  </a:lnTo>
                  <a:close/>
                  <a:moveTo>
                    <a:pt x="1207" y="95"/>
                  </a:moveTo>
                  <a:lnTo>
                    <a:pt x="4" y="95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144" y="63"/>
                  </a:lnTo>
                  <a:lnTo>
                    <a:pt x="1207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052880" y="2036880"/>
              <a:ext cx="928800" cy="25200"/>
            </a:xfrm>
            <a:custGeom>
              <a:avLst/>
              <a:gdLst/>
              <a:ahLst/>
              <a:rect l="l" t="t" r="r" b="b"/>
              <a:pathLst>
                <a:path w="3514" h="95">
                  <a:moveTo>
                    <a:pt x="3514" y="95"/>
                  </a:moveTo>
                  <a:lnTo>
                    <a:pt x="1949" y="95"/>
                  </a:lnTo>
                  <a:lnTo>
                    <a:pt x="1949" y="44"/>
                  </a:lnTo>
                  <a:lnTo>
                    <a:pt x="1949" y="0"/>
                  </a:lnTo>
                  <a:lnTo>
                    <a:pt x="3514" y="0"/>
                  </a:lnTo>
                  <a:lnTo>
                    <a:pt x="3514" y="95"/>
                  </a:lnTo>
                  <a:close/>
                  <a:moveTo>
                    <a:pt x="1135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42" y="0"/>
                  </a:lnTo>
                  <a:lnTo>
                    <a:pt x="971" y="48"/>
                  </a:lnTo>
                  <a:lnTo>
                    <a:pt x="1035" y="48"/>
                  </a:lnTo>
                  <a:lnTo>
                    <a:pt x="1135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046400" y="2023920"/>
              <a:ext cx="935280" cy="25560"/>
            </a:xfrm>
            <a:custGeom>
              <a:avLst/>
              <a:gdLst/>
              <a:ahLst/>
              <a:rect l="l" t="t" r="r" b="b"/>
              <a:pathLst>
                <a:path w="3538" h="95">
                  <a:moveTo>
                    <a:pt x="3538" y="95"/>
                  </a:moveTo>
                  <a:lnTo>
                    <a:pt x="1973" y="95"/>
                  </a:lnTo>
                  <a:lnTo>
                    <a:pt x="1973" y="91"/>
                  </a:lnTo>
                  <a:lnTo>
                    <a:pt x="1973" y="22"/>
                  </a:lnTo>
                  <a:lnTo>
                    <a:pt x="1973" y="0"/>
                  </a:lnTo>
                  <a:lnTo>
                    <a:pt x="3538" y="0"/>
                  </a:lnTo>
                  <a:lnTo>
                    <a:pt x="3538" y="95"/>
                  </a:lnTo>
                  <a:close/>
                  <a:moveTo>
                    <a:pt x="1059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95" y="95"/>
                  </a:lnTo>
                  <a:lnTo>
                    <a:pt x="1059" y="95"/>
                  </a:lnTo>
                  <a:lnTo>
                    <a:pt x="1059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040280" y="2011320"/>
              <a:ext cx="941400" cy="25560"/>
            </a:xfrm>
            <a:custGeom>
              <a:avLst/>
              <a:gdLst/>
              <a:ahLst/>
              <a:rect l="l" t="t" r="r" b="b"/>
              <a:pathLst>
                <a:path w="3562" h="95">
                  <a:moveTo>
                    <a:pt x="3562" y="95"/>
                  </a:moveTo>
                  <a:lnTo>
                    <a:pt x="1997" y="95"/>
                  </a:lnTo>
                  <a:lnTo>
                    <a:pt x="1997" y="70"/>
                  </a:lnTo>
                  <a:lnTo>
                    <a:pt x="1997" y="0"/>
                  </a:lnTo>
                  <a:lnTo>
                    <a:pt x="3562" y="0"/>
                  </a:lnTo>
                  <a:lnTo>
                    <a:pt x="3562" y="95"/>
                  </a:lnTo>
                  <a:close/>
                  <a:moveTo>
                    <a:pt x="990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90" y="95"/>
                  </a:lnTo>
                  <a:close/>
                </a:path>
              </a:pathLst>
            </a:custGeom>
            <a:solidFill>
              <a:srgbClr val="526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033800" y="1998720"/>
              <a:ext cx="947880" cy="25200"/>
            </a:xfrm>
            <a:custGeom>
              <a:avLst/>
              <a:gdLst/>
              <a:ahLst/>
              <a:rect l="l" t="t" r="r" b="b"/>
              <a:pathLst>
                <a:path w="3587" h="95">
                  <a:moveTo>
                    <a:pt x="3587" y="95"/>
                  </a:moveTo>
                  <a:lnTo>
                    <a:pt x="2022" y="95"/>
                  </a:lnTo>
                  <a:lnTo>
                    <a:pt x="2022" y="0"/>
                  </a:lnTo>
                  <a:lnTo>
                    <a:pt x="3587" y="0"/>
                  </a:lnTo>
                  <a:lnTo>
                    <a:pt x="3587" y="95"/>
                  </a:lnTo>
                  <a:close/>
                  <a:moveTo>
                    <a:pt x="986" y="95"/>
                  </a:moveTo>
                  <a:lnTo>
                    <a:pt x="49" y="95"/>
                  </a:lnTo>
                  <a:lnTo>
                    <a:pt x="0" y="0"/>
                  </a:lnTo>
                  <a:lnTo>
                    <a:pt x="927" y="0"/>
                  </a:lnTo>
                  <a:lnTo>
                    <a:pt x="986" y="95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981600" y="1986120"/>
              <a:ext cx="1000080" cy="25200"/>
            </a:xfrm>
            <a:custGeom>
              <a:avLst/>
              <a:gdLst/>
              <a:ahLst/>
              <a:rect l="l" t="t" r="r" b="b"/>
              <a:pathLst>
                <a:path w="3781" h="96">
                  <a:moveTo>
                    <a:pt x="3781" y="96"/>
                  </a:moveTo>
                  <a:lnTo>
                    <a:pt x="2216" y="96"/>
                  </a:lnTo>
                  <a:lnTo>
                    <a:pt x="2216" y="45"/>
                  </a:lnTo>
                  <a:lnTo>
                    <a:pt x="2238" y="0"/>
                  </a:lnTo>
                  <a:lnTo>
                    <a:pt x="3781" y="0"/>
                  </a:lnTo>
                  <a:lnTo>
                    <a:pt x="3781" y="96"/>
                  </a:lnTo>
                  <a:close/>
                  <a:moveTo>
                    <a:pt x="1151" y="96"/>
                  </a:moveTo>
                  <a:lnTo>
                    <a:pt x="219" y="96"/>
                  </a:lnTo>
                  <a:lnTo>
                    <a:pt x="193" y="45"/>
                  </a:lnTo>
                  <a:lnTo>
                    <a:pt x="130" y="45"/>
                  </a:lnTo>
                  <a:lnTo>
                    <a:pt x="60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151" y="96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975120" y="1973160"/>
              <a:ext cx="1006560" cy="25560"/>
            </a:xfrm>
            <a:custGeom>
              <a:avLst/>
              <a:gdLst/>
              <a:ahLst/>
              <a:rect l="l" t="t" r="r" b="b"/>
              <a:pathLst>
                <a:path w="3804" h="97">
                  <a:moveTo>
                    <a:pt x="3804" y="97"/>
                  </a:moveTo>
                  <a:lnTo>
                    <a:pt x="2239" y="97"/>
                  </a:lnTo>
                  <a:lnTo>
                    <a:pt x="2239" y="93"/>
                  </a:lnTo>
                  <a:lnTo>
                    <a:pt x="2283" y="0"/>
                  </a:lnTo>
                  <a:lnTo>
                    <a:pt x="3804" y="0"/>
                  </a:lnTo>
                  <a:lnTo>
                    <a:pt x="3804" y="97"/>
                  </a:lnTo>
                  <a:close/>
                  <a:moveTo>
                    <a:pt x="1144" y="97"/>
                  </a:moveTo>
                  <a:lnTo>
                    <a:pt x="217" y="97"/>
                  </a:lnTo>
                  <a:lnTo>
                    <a:pt x="216" y="93"/>
                  </a:lnTo>
                  <a:lnTo>
                    <a:pt x="153" y="93"/>
                  </a:lnTo>
                  <a:lnTo>
                    <a:pt x="83" y="93"/>
                  </a:lnTo>
                  <a:lnTo>
                    <a:pt x="23" y="93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1086" y="0"/>
                  </a:lnTo>
                  <a:lnTo>
                    <a:pt x="1144" y="97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965400" y="1960560"/>
              <a:ext cx="1019520" cy="25560"/>
            </a:xfrm>
            <a:custGeom>
              <a:avLst/>
              <a:gdLst/>
              <a:ahLst/>
              <a:rect l="l" t="t" r="r" b="b"/>
              <a:pathLst>
                <a:path w="3856" h="95">
                  <a:moveTo>
                    <a:pt x="3844" y="95"/>
                  </a:moveTo>
                  <a:lnTo>
                    <a:pt x="2301" y="95"/>
                  </a:lnTo>
                  <a:lnTo>
                    <a:pt x="2343" y="7"/>
                  </a:lnTo>
                  <a:lnTo>
                    <a:pt x="2348" y="0"/>
                  </a:lnTo>
                  <a:lnTo>
                    <a:pt x="3856" y="0"/>
                  </a:lnTo>
                  <a:lnTo>
                    <a:pt x="3844" y="7"/>
                  </a:lnTo>
                  <a:lnTo>
                    <a:pt x="3844" y="95"/>
                  </a:lnTo>
                  <a:close/>
                  <a:moveTo>
                    <a:pt x="1156" y="95"/>
                  </a:moveTo>
                  <a:lnTo>
                    <a:pt x="63" y="95"/>
                  </a:lnTo>
                  <a:lnTo>
                    <a:pt x="63" y="7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01" y="7"/>
                  </a:lnTo>
                  <a:lnTo>
                    <a:pt x="115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65400" y="1947960"/>
              <a:ext cx="1043280" cy="25200"/>
            </a:xfrm>
            <a:custGeom>
              <a:avLst/>
              <a:gdLst/>
              <a:ahLst/>
              <a:rect l="l" t="t" r="r" b="b"/>
              <a:pathLst>
                <a:path w="3944" h="95">
                  <a:moveTo>
                    <a:pt x="3844" y="95"/>
                  </a:moveTo>
                  <a:lnTo>
                    <a:pt x="2323" y="95"/>
                  </a:lnTo>
                  <a:lnTo>
                    <a:pt x="2343" y="55"/>
                  </a:lnTo>
                  <a:lnTo>
                    <a:pt x="2387" y="0"/>
                  </a:lnTo>
                  <a:lnTo>
                    <a:pt x="3944" y="0"/>
                  </a:lnTo>
                  <a:lnTo>
                    <a:pt x="3844" y="55"/>
                  </a:lnTo>
                  <a:lnTo>
                    <a:pt x="3844" y="95"/>
                  </a:lnTo>
                  <a:close/>
                  <a:moveTo>
                    <a:pt x="1126" y="95"/>
                  </a:moveTo>
                  <a:lnTo>
                    <a:pt x="40" y="95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01" y="55"/>
                  </a:lnTo>
                  <a:lnTo>
                    <a:pt x="112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965400" y="19350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856" y="95"/>
                  </a:moveTo>
                  <a:lnTo>
                    <a:pt x="2348" y="95"/>
                  </a:lnTo>
                  <a:lnTo>
                    <a:pt x="2425" y="0"/>
                  </a:lnTo>
                  <a:lnTo>
                    <a:pt x="3971" y="0"/>
                  </a:lnTo>
                  <a:lnTo>
                    <a:pt x="3971" y="33"/>
                  </a:lnTo>
                  <a:lnTo>
                    <a:pt x="3856" y="95"/>
                  </a:lnTo>
                  <a:close/>
                  <a:moveTo>
                    <a:pt x="110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55" y="0"/>
                  </a:lnTo>
                  <a:lnTo>
                    <a:pt x="1105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965400" y="19224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44" y="95"/>
                  </a:moveTo>
                  <a:lnTo>
                    <a:pt x="2387" y="95"/>
                  </a:lnTo>
                  <a:lnTo>
                    <a:pt x="2463" y="0"/>
                  </a:lnTo>
                  <a:lnTo>
                    <a:pt x="3971" y="0"/>
                  </a:lnTo>
                  <a:lnTo>
                    <a:pt x="3971" y="81"/>
                  </a:lnTo>
                  <a:lnTo>
                    <a:pt x="3944" y="95"/>
                  </a:lnTo>
                  <a:close/>
                  <a:moveTo>
                    <a:pt x="1130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79" y="0"/>
                  </a:lnTo>
                  <a:lnTo>
                    <a:pt x="1171" y="17"/>
                  </a:lnTo>
                  <a:lnTo>
                    <a:pt x="1130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965400" y="19098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425" y="96"/>
                  </a:lnTo>
                  <a:lnTo>
                    <a:pt x="2502" y="0"/>
                  </a:lnTo>
                  <a:lnTo>
                    <a:pt x="3971" y="0"/>
                  </a:lnTo>
                  <a:lnTo>
                    <a:pt x="3971" y="2"/>
                  </a:lnTo>
                  <a:lnTo>
                    <a:pt x="3971" y="96"/>
                  </a:lnTo>
                  <a:close/>
                  <a:moveTo>
                    <a:pt x="1155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201" y="0"/>
                  </a:lnTo>
                  <a:lnTo>
                    <a:pt x="1171" y="65"/>
                  </a:lnTo>
                  <a:lnTo>
                    <a:pt x="1155" y="96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65400" y="18972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463" y="95"/>
                  </a:lnTo>
                  <a:lnTo>
                    <a:pt x="2540" y="0"/>
                  </a:lnTo>
                  <a:lnTo>
                    <a:pt x="3971" y="0"/>
                  </a:lnTo>
                  <a:lnTo>
                    <a:pt x="3971" y="49"/>
                  </a:lnTo>
                  <a:lnTo>
                    <a:pt x="3971" y="95"/>
                  </a:lnTo>
                  <a:close/>
                  <a:moveTo>
                    <a:pt x="117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24" y="0"/>
                  </a:lnTo>
                  <a:lnTo>
                    <a:pt x="1179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65400" y="18842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02" y="95"/>
                  </a:lnTo>
                  <a:lnTo>
                    <a:pt x="2578" y="0"/>
                  </a:lnTo>
                  <a:lnTo>
                    <a:pt x="3971" y="0"/>
                  </a:lnTo>
                  <a:lnTo>
                    <a:pt x="3971" y="95"/>
                  </a:lnTo>
                  <a:close/>
                  <a:moveTo>
                    <a:pt x="120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32" y="30"/>
                  </a:lnTo>
                  <a:lnTo>
                    <a:pt x="1201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65400" y="18716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40" y="95"/>
                  </a:lnTo>
                  <a:lnTo>
                    <a:pt x="2608" y="11"/>
                  </a:lnTo>
                  <a:lnTo>
                    <a:pt x="2619" y="0"/>
                  </a:lnTo>
                  <a:lnTo>
                    <a:pt x="3971" y="0"/>
                  </a:lnTo>
                  <a:lnTo>
                    <a:pt x="3971" y="11"/>
                  </a:lnTo>
                  <a:lnTo>
                    <a:pt x="3971" y="95"/>
                  </a:lnTo>
                  <a:close/>
                  <a:moveTo>
                    <a:pt x="122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32" y="77"/>
                  </a:lnTo>
                  <a:lnTo>
                    <a:pt x="1224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65400" y="18604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78" y="95"/>
                  </a:lnTo>
                  <a:lnTo>
                    <a:pt x="2608" y="59"/>
                  </a:lnTo>
                  <a:lnTo>
                    <a:pt x="2661" y="0"/>
                  </a:lnTo>
                  <a:lnTo>
                    <a:pt x="3971" y="0"/>
                  </a:lnTo>
                  <a:lnTo>
                    <a:pt x="3971" y="59"/>
                  </a:lnTo>
                  <a:lnTo>
                    <a:pt x="3971" y="95"/>
                  </a:lnTo>
                  <a:close/>
                  <a:moveTo>
                    <a:pt x="124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97" y="0"/>
                  </a:lnTo>
                  <a:lnTo>
                    <a:pt x="1247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965400" y="18478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619" y="95"/>
                  </a:lnTo>
                  <a:lnTo>
                    <a:pt x="2672" y="35"/>
                  </a:lnTo>
                  <a:lnTo>
                    <a:pt x="2672" y="0"/>
                  </a:lnTo>
                  <a:lnTo>
                    <a:pt x="3934" y="0"/>
                  </a:lnTo>
                  <a:lnTo>
                    <a:pt x="3971" y="35"/>
                  </a:lnTo>
                  <a:lnTo>
                    <a:pt x="3971" y="95"/>
                  </a:lnTo>
                  <a:close/>
                  <a:moveTo>
                    <a:pt x="1272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40" y="0"/>
                  </a:lnTo>
                  <a:lnTo>
                    <a:pt x="1301" y="39"/>
                  </a:lnTo>
                  <a:lnTo>
                    <a:pt x="1272" y="95"/>
                  </a:lnTo>
                  <a:close/>
                </a:path>
              </a:pathLst>
            </a:custGeom>
            <a:solidFill>
              <a:srgbClr val="4f6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965400" y="1833480"/>
              <a:ext cx="1051200" cy="270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661" y="96"/>
                  </a:lnTo>
                  <a:lnTo>
                    <a:pt x="2672" y="84"/>
                  </a:lnTo>
                  <a:lnTo>
                    <a:pt x="2672" y="21"/>
                  </a:lnTo>
                  <a:lnTo>
                    <a:pt x="2692" y="0"/>
                  </a:lnTo>
                  <a:lnTo>
                    <a:pt x="3884" y="0"/>
                  </a:lnTo>
                  <a:lnTo>
                    <a:pt x="3907" y="21"/>
                  </a:lnTo>
                  <a:lnTo>
                    <a:pt x="3971" y="84"/>
                  </a:lnTo>
                  <a:lnTo>
                    <a:pt x="3971" y="96"/>
                  </a:lnTo>
                  <a:close/>
                  <a:moveTo>
                    <a:pt x="1297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365" y="0"/>
                  </a:lnTo>
                  <a:lnTo>
                    <a:pt x="1365" y="24"/>
                  </a:lnTo>
                  <a:lnTo>
                    <a:pt x="1301" y="88"/>
                  </a:lnTo>
                  <a:lnTo>
                    <a:pt x="1297" y="96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965400" y="1822320"/>
              <a:ext cx="1040040" cy="25560"/>
            </a:xfrm>
            <a:custGeom>
              <a:avLst/>
              <a:gdLst/>
              <a:ahLst/>
              <a:rect l="l" t="t" r="r" b="b"/>
              <a:pathLst>
                <a:path w="3934" h="97">
                  <a:moveTo>
                    <a:pt x="3934" y="97"/>
                  </a:moveTo>
                  <a:lnTo>
                    <a:pt x="2672" y="97"/>
                  </a:lnTo>
                  <a:lnTo>
                    <a:pt x="2672" y="69"/>
                  </a:lnTo>
                  <a:lnTo>
                    <a:pt x="2729" y="11"/>
                  </a:lnTo>
                  <a:lnTo>
                    <a:pt x="2740" y="0"/>
                  </a:lnTo>
                  <a:lnTo>
                    <a:pt x="3844" y="0"/>
                  </a:lnTo>
                  <a:lnTo>
                    <a:pt x="3844" y="11"/>
                  </a:lnTo>
                  <a:lnTo>
                    <a:pt x="3907" y="69"/>
                  </a:lnTo>
                  <a:lnTo>
                    <a:pt x="3934" y="97"/>
                  </a:lnTo>
                  <a:close/>
                  <a:moveTo>
                    <a:pt x="1340" y="97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365" y="0"/>
                  </a:lnTo>
                  <a:lnTo>
                    <a:pt x="1365" y="72"/>
                  </a:lnTo>
                  <a:lnTo>
                    <a:pt x="1340" y="97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965400" y="1809720"/>
              <a:ext cx="1027440" cy="23760"/>
            </a:xfrm>
            <a:custGeom>
              <a:avLst/>
              <a:gdLst/>
              <a:ahLst/>
              <a:rect l="l" t="t" r="r" b="b"/>
              <a:pathLst>
                <a:path w="3884" h="95">
                  <a:moveTo>
                    <a:pt x="3884" y="95"/>
                  </a:moveTo>
                  <a:lnTo>
                    <a:pt x="2692" y="95"/>
                  </a:lnTo>
                  <a:lnTo>
                    <a:pt x="2729" y="58"/>
                  </a:lnTo>
                  <a:lnTo>
                    <a:pt x="2787" y="0"/>
                  </a:lnTo>
                  <a:lnTo>
                    <a:pt x="3844" y="0"/>
                  </a:lnTo>
                  <a:lnTo>
                    <a:pt x="3844" y="58"/>
                  </a:lnTo>
                  <a:lnTo>
                    <a:pt x="3884" y="95"/>
                  </a:lnTo>
                  <a:close/>
                  <a:moveTo>
                    <a:pt x="1365" y="95"/>
                  </a:moveTo>
                  <a:lnTo>
                    <a:pt x="0" y="95"/>
                  </a:lnTo>
                  <a:lnTo>
                    <a:pt x="0" y="58"/>
                  </a:lnTo>
                  <a:lnTo>
                    <a:pt x="27" y="0"/>
                  </a:lnTo>
                  <a:lnTo>
                    <a:pt x="1365" y="0"/>
                  </a:lnTo>
                  <a:lnTo>
                    <a:pt x="1365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65400" y="1797120"/>
              <a:ext cx="1016280" cy="25200"/>
            </a:xfrm>
            <a:custGeom>
              <a:avLst/>
              <a:gdLst/>
              <a:ahLst/>
              <a:rect l="l" t="t" r="r" b="b"/>
              <a:pathLst>
                <a:path w="3840" h="95">
                  <a:moveTo>
                    <a:pt x="3840" y="95"/>
                  </a:moveTo>
                  <a:lnTo>
                    <a:pt x="2736" y="95"/>
                  </a:lnTo>
                  <a:lnTo>
                    <a:pt x="2795" y="37"/>
                  </a:lnTo>
                  <a:lnTo>
                    <a:pt x="2795" y="0"/>
                  </a:lnTo>
                  <a:lnTo>
                    <a:pt x="3737" y="0"/>
                  </a:lnTo>
                  <a:lnTo>
                    <a:pt x="3776" y="37"/>
                  </a:lnTo>
                  <a:lnTo>
                    <a:pt x="3840" y="37"/>
                  </a:lnTo>
                  <a:lnTo>
                    <a:pt x="3840" y="95"/>
                  </a:lnTo>
                  <a:close/>
                  <a:moveTo>
                    <a:pt x="1361" y="95"/>
                  </a:moveTo>
                  <a:lnTo>
                    <a:pt x="0" y="95"/>
                  </a:lnTo>
                  <a:lnTo>
                    <a:pt x="45" y="0"/>
                  </a:lnTo>
                  <a:lnTo>
                    <a:pt x="1361" y="0"/>
                  </a:lnTo>
                  <a:lnTo>
                    <a:pt x="1361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71880" y="1784520"/>
              <a:ext cx="1009800" cy="25200"/>
            </a:xfrm>
            <a:custGeom>
              <a:avLst/>
              <a:gdLst/>
              <a:ahLst/>
              <a:rect l="l" t="t" r="r" b="b"/>
              <a:pathLst>
                <a:path w="3817" h="95">
                  <a:moveTo>
                    <a:pt x="3817" y="95"/>
                  </a:moveTo>
                  <a:lnTo>
                    <a:pt x="2760" y="95"/>
                  </a:lnTo>
                  <a:lnTo>
                    <a:pt x="2772" y="84"/>
                  </a:lnTo>
                  <a:lnTo>
                    <a:pt x="2772" y="21"/>
                  </a:lnTo>
                  <a:lnTo>
                    <a:pt x="2905" y="21"/>
                  </a:lnTo>
                  <a:lnTo>
                    <a:pt x="2924" y="0"/>
                  </a:lnTo>
                  <a:lnTo>
                    <a:pt x="3601" y="0"/>
                  </a:lnTo>
                  <a:lnTo>
                    <a:pt x="3620" y="21"/>
                  </a:lnTo>
                  <a:lnTo>
                    <a:pt x="3684" y="21"/>
                  </a:lnTo>
                  <a:lnTo>
                    <a:pt x="3753" y="84"/>
                  </a:lnTo>
                  <a:lnTo>
                    <a:pt x="3817" y="84"/>
                  </a:lnTo>
                  <a:lnTo>
                    <a:pt x="3817" y="95"/>
                  </a:lnTo>
                  <a:close/>
                  <a:moveTo>
                    <a:pt x="1338" y="95"/>
                  </a:moveTo>
                  <a:lnTo>
                    <a:pt x="0" y="95"/>
                  </a:lnTo>
                  <a:lnTo>
                    <a:pt x="36" y="21"/>
                  </a:lnTo>
                  <a:lnTo>
                    <a:pt x="26" y="0"/>
                  </a:lnTo>
                  <a:lnTo>
                    <a:pt x="1327" y="0"/>
                  </a:lnTo>
                  <a:lnTo>
                    <a:pt x="1338" y="21"/>
                  </a:lnTo>
                  <a:lnTo>
                    <a:pt x="1338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973680" y="1771560"/>
              <a:ext cx="981000" cy="25560"/>
            </a:xfrm>
            <a:custGeom>
              <a:avLst/>
              <a:gdLst/>
              <a:ahLst/>
              <a:rect l="l" t="t" r="r" b="b"/>
              <a:pathLst>
                <a:path w="3712" h="95">
                  <a:moveTo>
                    <a:pt x="3712" y="95"/>
                  </a:moveTo>
                  <a:lnTo>
                    <a:pt x="2770" y="95"/>
                  </a:lnTo>
                  <a:lnTo>
                    <a:pt x="2770" y="69"/>
                  </a:lnTo>
                  <a:lnTo>
                    <a:pt x="2903" y="69"/>
                  </a:lnTo>
                  <a:lnTo>
                    <a:pt x="2965" y="0"/>
                  </a:lnTo>
                  <a:lnTo>
                    <a:pt x="3556" y="0"/>
                  </a:lnTo>
                  <a:lnTo>
                    <a:pt x="3618" y="69"/>
                  </a:lnTo>
                  <a:lnTo>
                    <a:pt x="3682" y="69"/>
                  </a:lnTo>
                  <a:lnTo>
                    <a:pt x="3712" y="95"/>
                  </a:lnTo>
                  <a:close/>
                  <a:moveTo>
                    <a:pt x="1336" y="95"/>
                  </a:moveTo>
                  <a:lnTo>
                    <a:pt x="20" y="95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36" y="69"/>
                  </a:lnTo>
                  <a:lnTo>
                    <a:pt x="1336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967200" y="1758960"/>
              <a:ext cx="957240" cy="25560"/>
            </a:xfrm>
            <a:custGeom>
              <a:avLst/>
              <a:gdLst/>
              <a:ahLst/>
              <a:rect l="l" t="t" r="r" b="b"/>
              <a:pathLst>
                <a:path w="3622" h="95">
                  <a:moveTo>
                    <a:pt x="3622" y="95"/>
                  </a:moveTo>
                  <a:lnTo>
                    <a:pt x="2945" y="95"/>
                  </a:lnTo>
                  <a:lnTo>
                    <a:pt x="2989" y="46"/>
                  </a:lnTo>
                  <a:lnTo>
                    <a:pt x="3052" y="46"/>
                  </a:lnTo>
                  <a:lnTo>
                    <a:pt x="3103" y="0"/>
                  </a:lnTo>
                  <a:lnTo>
                    <a:pt x="3394" y="0"/>
                  </a:lnTo>
                  <a:lnTo>
                    <a:pt x="3445" y="46"/>
                  </a:lnTo>
                  <a:lnTo>
                    <a:pt x="3509" y="46"/>
                  </a:lnTo>
                  <a:lnTo>
                    <a:pt x="3578" y="46"/>
                  </a:lnTo>
                  <a:lnTo>
                    <a:pt x="3622" y="95"/>
                  </a:lnTo>
                  <a:close/>
                  <a:moveTo>
                    <a:pt x="1348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4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965400" y="1746360"/>
              <a:ext cx="947880" cy="25200"/>
            </a:xfrm>
            <a:custGeom>
              <a:avLst/>
              <a:gdLst/>
              <a:ahLst/>
              <a:rect l="l" t="t" r="r" b="b"/>
              <a:pathLst>
                <a:path w="3585" h="95">
                  <a:moveTo>
                    <a:pt x="3585" y="95"/>
                  </a:moveTo>
                  <a:lnTo>
                    <a:pt x="2994" y="95"/>
                  </a:lnTo>
                  <a:lnTo>
                    <a:pt x="2995" y="94"/>
                  </a:lnTo>
                  <a:lnTo>
                    <a:pt x="3058" y="94"/>
                  </a:lnTo>
                  <a:lnTo>
                    <a:pt x="3128" y="31"/>
                  </a:lnTo>
                  <a:lnTo>
                    <a:pt x="3191" y="31"/>
                  </a:lnTo>
                  <a:lnTo>
                    <a:pt x="3261" y="31"/>
                  </a:lnTo>
                  <a:lnTo>
                    <a:pt x="3318" y="31"/>
                  </a:lnTo>
                  <a:lnTo>
                    <a:pt x="3382" y="31"/>
                  </a:lnTo>
                  <a:lnTo>
                    <a:pt x="3451" y="94"/>
                  </a:lnTo>
                  <a:lnTo>
                    <a:pt x="3515" y="94"/>
                  </a:lnTo>
                  <a:lnTo>
                    <a:pt x="3584" y="94"/>
                  </a:lnTo>
                  <a:lnTo>
                    <a:pt x="3585" y="95"/>
                  </a:lnTo>
                  <a:close/>
                  <a:moveTo>
                    <a:pt x="1331" y="95"/>
                  </a:moveTo>
                  <a:lnTo>
                    <a:pt x="29" y="95"/>
                  </a:lnTo>
                  <a:lnTo>
                    <a:pt x="0" y="33"/>
                  </a:lnTo>
                  <a:lnTo>
                    <a:pt x="21" y="0"/>
                  </a:lnTo>
                  <a:lnTo>
                    <a:pt x="1301" y="0"/>
                  </a:lnTo>
                  <a:lnTo>
                    <a:pt x="1301" y="33"/>
                  </a:lnTo>
                  <a:lnTo>
                    <a:pt x="1331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65400" y="1733400"/>
              <a:ext cx="898560" cy="25560"/>
            </a:xfrm>
            <a:custGeom>
              <a:avLst/>
              <a:gdLst/>
              <a:ahLst/>
              <a:rect l="l" t="t" r="r" b="b"/>
              <a:pathLst>
                <a:path w="3400" h="95">
                  <a:moveTo>
                    <a:pt x="3400" y="95"/>
                  </a:moveTo>
                  <a:lnTo>
                    <a:pt x="3109" y="95"/>
                  </a:lnTo>
                  <a:lnTo>
                    <a:pt x="3128" y="78"/>
                  </a:lnTo>
                  <a:lnTo>
                    <a:pt x="3191" y="78"/>
                  </a:lnTo>
                  <a:lnTo>
                    <a:pt x="3261" y="78"/>
                  </a:lnTo>
                  <a:lnTo>
                    <a:pt x="3318" y="78"/>
                  </a:lnTo>
                  <a:lnTo>
                    <a:pt x="3382" y="78"/>
                  </a:lnTo>
                  <a:lnTo>
                    <a:pt x="3400" y="95"/>
                  </a:lnTo>
                  <a:close/>
                  <a:moveTo>
                    <a:pt x="1308" y="95"/>
                  </a:moveTo>
                  <a:lnTo>
                    <a:pt x="6" y="95"/>
                  </a:lnTo>
                  <a:lnTo>
                    <a:pt x="0" y="80"/>
                  </a:lnTo>
                  <a:lnTo>
                    <a:pt x="51" y="0"/>
                  </a:lnTo>
                  <a:lnTo>
                    <a:pt x="1301" y="0"/>
                  </a:lnTo>
                  <a:lnTo>
                    <a:pt x="1301" y="17"/>
                  </a:lnTo>
                  <a:lnTo>
                    <a:pt x="1301" y="80"/>
                  </a:lnTo>
                  <a:lnTo>
                    <a:pt x="130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970440" y="1720800"/>
              <a:ext cx="338040" cy="25560"/>
            </a:xfrm>
            <a:custGeom>
              <a:avLst/>
              <a:gdLst/>
              <a:ahLst/>
              <a:rect l="l" t="t" r="r" b="b"/>
              <a:pathLst>
                <a:path w="1280" h="95">
                  <a:moveTo>
                    <a:pt x="1280" y="95"/>
                  </a:moveTo>
                  <a:lnTo>
                    <a:pt x="0" y="95"/>
                  </a:lnTo>
                  <a:lnTo>
                    <a:pt x="59" y="0"/>
                  </a:lnTo>
                  <a:lnTo>
                    <a:pt x="1280" y="0"/>
                  </a:lnTo>
                  <a:lnTo>
                    <a:pt x="1280" y="65"/>
                  </a:lnTo>
                  <a:lnTo>
                    <a:pt x="1280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78360" y="1708200"/>
              <a:ext cx="330120" cy="25200"/>
            </a:xfrm>
            <a:custGeom>
              <a:avLst/>
              <a:gdLst/>
              <a:ahLst/>
              <a:rect l="l" t="t" r="r" b="b"/>
              <a:pathLst>
                <a:path w="1250" h="96">
                  <a:moveTo>
                    <a:pt x="1250" y="96"/>
                  </a:moveTo>
                  <a:lnTo>
                    <a:pt x="0" y="96"/>
                  </a:lnTo>
                  <a:lnTo>
                    <a:pt x="60" y="0"/>
                  </a:lnTo>
                  <a:lnTo>
                    <a:pt x="1202" y="0"/>
                  </a:lnTo>
                  <a:lnTo>
                    <a:pt x="1250" y="43"/>
                  </a:lnTo>
                  <a:lnTo>
                    <a:pt x="1250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86280" y="1695600"/>
              <a:ext cx="322200" cy="2520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0" y="95"/>
                  </a:lnTo>
                  <a:lnTo>
                    <a:pt x="43" y="27"/>
                  </a:lnTo>
                  <a:lnTo>
                    <a:pt x="43" y="0"/>
                  </a:lnTo>
                  <a:lnTo>
                    <a:pt x="1152" y="0"/>
                  </a:lnTo>
                  <a:lnTo>
                    <a:pt x="1152" y="27"/>
                  </a:lnTo>
                  <a:lnTo>
                    <a:pt x="1221" y="90"/>
                  </a:lnTo>
                  <a:lnTo>
                    <a:pt x="1221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994200" y="1682640"/>
              <a:ext cx="303120" cy="25560"/>
            </a:xfrm>
            <a:custGeom>
              <a:avLst/>
              <a:gdLst/>
              <a:ahLst/>
              <a:rect l="l" t="t" r="r" b="b"/>
              <a:pathLst>
                <a:path w="1142" h="96">
                  <a:moveTo>
                    <a:pt x="1142" y="96"/>
                  </a:moveTo>
                  <a:lnTo>
                    <a:pt x="0" y="96"/>
                  </a:lnTo>
                  <a:lnTo>
                    <a:pt x="12" y="76"/>
                  </a:lnTo>
                  <a:lnTo>
                    <a:pt x="12" y="0"/>
                  </a:lnTo>
                  <a:lnTo>
                    <a:pt x="1121" y="0"/>
                  </a:lnTo>
                  <a:lnTo>
                    <a:pt x="1121" y="7"/>
                  </a:lnTo>
                  <a:lnTo>
                    <a:pt x="1121" y="76"/>
                  </a:lnTo>
                  <a:lnTo>
                    <a:pt x="1142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997440" y="167004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6">
                  <a:moveTo>
                    <a:pt x="1109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109" y="0"/>
                  </a:lnTo>
                  <a:lnTo>
                    <a:pt x="1109" y="54"/>
                  </a:lnTo>
                  <a:lnTo>
                    <a:pt x="1109" y="96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97440" y="1657440"/>
              <a:ext cx="293400" cy="2520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70" y="0"/>
                  </a:lnTo>
                  <a:lnTo>
                    <a:pt x="1109" y="41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97440" y="164448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024" y="0"/>
                  </a:lnTo>
                  <a:lnTo>
                    <a:pt x="1048" y="25"/>
                  </a:lnTo>
                  <a:lnTo>
                    <a:pt x="1109" y="88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97440" y="1631880"/>
              <a:ext cx="282600" cy="25560"/>
            </a:xfrm>
            <a:custGeom>
              <a:avLst/>
              <a:gdLst/>
              <a:ahLst/>
              <a:rect l="l" t="t" r="r" b="b"/>
              <a:pathLst>
                <a:path w="1070" h="95">
                  <a:moveTo>
                    <a:pt x="1070" y="95"/>
                  </a:moveTo>
                  <a:lnTo>
                    <a:pt x="0" y="95"/>
                  </a:lnTo>
                  <a:lnTo>
                    <a:pt x="0" y="73"/>
                  </a:lnTo>
                  <a:lnTo>
                    <a:pt x="70" y="4"/>
                  </a:lnTo>
                  <a:lnTo>
                    <a:pt x="73" y="0"/>
                  </a:lnTo>
                  <a:lnTo>
                    <a:pt x="976" y="0"/>
                  </a:lnTo>
                  <a:lnTo>
                    <a:pt x="978" y="4"/>
                  </a:lnTo>
                  <a:lnTo>
                    <a:pt x="1048" y="73"/>
                  </a:lnTo>
                  <a:lnTo>
                    <a:pt x="1070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003560" y="1620720"/>
              <a:ext cx="265320" cy="23760"/>
            </a:xfrm>
            <a:custGeom>
              <a:avLst/>
              <a:gdLst/>
              <a:ahLst/>
              <a:rect l="l" t="t" r="r" b="b"/>
              <a:pathLst>
                <a:path w="999" h="96">
                  <a:moveTo>
                    <a:pt x="999" y="96"/>
                  </a:moveTo>
                  <a:lnTo>
                    <a:pt x="0" y="96"/>
                  </a:lnTo>
                  <a:lnTo>
                    <a:pt x="45" y="52"/>
                  </a:lnTo>
                  <a:lnTo>
                    <a:pt x="95" y="0"/>
                  </a:lnTo>
                  <a:lnTo>
                    <a:pt x="904" y="0"/>
                  </a:lnTo>
                  <a:lnTo>
                    <a:pt x="953" y="52"/>
                  </a:lnTo>
                  <a:lnTo>
                    <a:pt x="999" y="96"/>
                  </a:lnTo>
                  <a:close/>
                </a:path>
              </a:pathLst>
            </a:custGeom>
            <a:solidFill>
              <a:srgbClr val="4a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6520" y="1608120"/>
              <a:ext cx="239400" cy="23760"/>
            </a:xfrm>
            <a:custGeom>
              <a:avLst/>
              <a:gdLst/>
              <a:ahLst/>
              <a:rect l="l" t="t" r="r" b="b"/>
              <a:pathLst>
                <a:path w="903" h="95">
                  <a:moveTo>
                    <a:pt x="903" y="95"/>
                  </a:moveTo>
                  <a:lnTo>
                    <a:pt x="0" y="95"/>
                  </a:lnTo>
                  <a:lnTo>
                    <a:pt x="60" y="34"/>
                  </a:lnTo>
                  <a:lnTo>
                    <a:pt x="189" y="34"/>
                  </a:lnTo>
                  <a:lnTo>
                    <a:pt x="189" y="0"/>
                  </a:lnTo>
                  <a:lnTo>
                    <a:pt x="744" y="0"/>
                  </a:lnTo>
                  <a:lnTo>
                    <a:pt x="778" y="34"/>
                  </a:lnTo>
                  <a:lnTo>
                    <a:pt x="842" y="34"/>
                  </a:lnTo>
                  <a:lnTo>
                    <a:pt x="903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29120" y="1595520"/>
              <a:ext cx="214200" cy="25200"/>
            </a:xfrm>
            <a:custGeom>
              <a:avLst/>
              <a:gdLst/>
              <a:ahLst/>
              <a:rect l="l" t="t" r="r" b="b"/>
              <a:pathLst>
                <a:path w="809" h="95">
                  <a:moveTo>
                    <a:pt x="809" y="95"/>
                  </a:moveTo>
                  <a:lnTo>
                    <a:pt x="0" y="95"/>
                  </a:lnTo>
                  <a:lnTo>
                    <a:pt x="13" y="82"/>
                  </a:lnTo>
                  <a:lnTo>
                    <a:pt x="142" y="82"/>
                  </a:lnTo>
                  <a:lnTo>
                    <a:pt x="142" y="16"/>
                  </a:lnTo>
                  <a:lnTo>
                    <a:pt x="207" y="16"/>
                  </a:lnTo>
                  <a:lnTo>
                    <a:pt x="275" y="16"/>
                  </a:lnTo>
                  <a:lnTo>
                    <a:pt x="292" y="0"/>
                  </a:lnTo>
                  <a:lnTo>
                    <a:pt x="516" y="0"/>
                  </a:lnTo>
                  <a:lnTo>
                    <a:pt x="533" y="16"/>
                  </a:lnTo>
                  <a:lnTo>
                    <a:pt x="602" y="16"/>
                  </a:lnTo>
                  <a:lnTo>
                    <a:pt x="665" y="16"/>
                  </a:lnTo>
                  <a:lnTo>
                    <a:pt x="731" y="82"/>
                  </a:lnTo>
                  <a:lnTo>
                    <a:pt x="795" y="82"/>
                  </a:lnTo>
                  <a:lnTo>
                    <a:pt x="809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67280" y="1582560"/>
              <a:ext cx="145800" cy="25560"/>
            </a:xfrm>
            <a:custGeom>
              <a:avLst/>
              <a:gdLst/>
              <a:ahLst/>
              <a:rect l="l" t="t" r="r" b="b"/>
              <a:pathLst>
                <a:path w="555" h="95">
                  <a:moveTo>
                    <a:pt x="555" y="95"/>
                  </a:moveTo>
                  <a:lnTo>
                    <a:pt x="0" y="95"/>
                  </a:lnTo>
                  <a:lnTo>
                    <a:pt x="0" y="63"/>
                  </a:lnTo>
                  <a:lnTo>
                    <a:pt x="65" y="63"/>
                  </a:lnTo>
                  <a:lnTo>
                    <a:pt x="133" y="63"/>
                  </a:lnTo>
                  <a:lnTo>
                    <a:pt x="198" y="0"/>
                  </a:lnTo>
                  <a:lnTo>
                    <a:pt x="327" y="0"/>
                  </a:lnTo>
                  <a:lnTo>
                    <a:pt x="391" y="63"/>
                  </a:lnTo>
                  <a:lnTo>
                    <a:pt x="460" y="63"/>
                  </a:lnTo>
                  <a:lnTo>
                    <a:pt x="523" y="63"/>
                  </a:lnTo>
                  <a:lnTo>
                    <a:pt x="555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106880" y="1582560"/>
              <a:ext cx="58680" cy="12960"/>
            </a:xfrm>
            <a:custGeom>
              <a:avLst/>
              <a:gdLst/>
              <a:ahLst/>
              <a:rect l="l" t="t" r="r" b="b"/>
              <a:pathLst>
                <a:path w="224" h="47">
                  <a:moveTo>
                    <a:pt x="224" y="47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77" y="0"/>
                  </a:lnTo>
                  <a:lnTo>
                    <a:pt x="224" y="47"/>
                  </a:lnTo>
                  <a:close/>
                </a:path>
              </a:pathLst>
            </a:custGeom>
            <a:solidFill>
              <a:srgbClr val="49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61040" y="3184560"/>
              <a:ext cx="155520" cy="612720"/>
            </a:xfrm>
            <a:custGeom>
              <a:avLst/>
              <a:gdLst/>
              <a:ahLst/>
              <a:rect l="l" t="t" r="r" b="b"/>
              <a:pathLst>
                <a:path w="586" h="2317">
                  <a:moveTo>
                    <a:pt x="257" y="2294"/>
                  </a:moveTo>
                  <a:lnTo>
                    <a:pt x="390" y="1907"/>
                  </a:lnTo>
                  <a:lnTo>
                    <a:pt x="459" y="1578"/>
                  </a:lnTo>
                  <a:lnTo>
                    <a:pt x="522" y="1184"/>
                  </a:lnTo>
                  <a:lnTo>
                    <a:pt x="522" y="792"/>
                  </a:lnTo>
                  <a:lnTo>
                    <a:pt x="586" y="404"/>
                  </a:lnTo>
                  <a:lnTo>
                    <a:pt x="522" y="11"/>
                  </a:lnTo>
                  <a:lnTo>
                    <a:pt x="520" y="0"/>
                  </a:lnTo>
                  <a:lnTo>
                    <a:pt x="520" y="11"/>
                  </a:lnTo>
                  <a:lnTo>
                    <a:pt x="456" y="274"/>
                  </a:lnTo>
                  <a:lnTo>
                    <a:pt x="387" y="467"/>
                  </a:lnTo>
                  <a:lnTo>
                    <a:pt x="257" y="665"/>
                  </a:lnTo>
                  <a:lnTo>
                    <a:pt x="130" y="857"/>
                  </a:lnTo>
                  <a:lnTo>
                    <a:pt x="0" y="1057"/>
                  </a:lnTo>
                  <a:lnTo>
                    <a:pt x="257" y="2294"/>
                  </a:lnTo>
                  <a:lnTo>
                    <a:pt x="257" y="2317"/>
                  </a:lnTo>
                  <a:lnTo>
                    <a:pt x="257" y="22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722760" y="1582560"/>
              <a:ext cx="1690560" cy="3227400"/>
            </a:xfrm>
            <a:custGeom>
              <a:avLst/>
              <a:gdLst/>
              <a:ahLst/>
              <a:rect l="l" t="t" r="r" b="b"/>
              <a:pathLst>
                <a:path w="6388" h="12198">
                  <a:moveTo>
                    <a:pt x="2933" y="2615"/>
                  </a:moveTo>
                  <a:lnTo>
                    <a:pt x="3195" y="2609"/>
                  </a:lnTo>
                  <a:lnTo>
                    <a:pt x="3126" y="2413"/>
                  </a:lnTo>
                  <a:lnTo>
                    <a:pt x="3126" y="2088"/>
                  </a:lnTo>
                  <a:lnTo>
                    <a:pt x="3195" y="1892"/>
                  </a:lnTo>
                  <a:lnTo>
                    <a:pt x="3195" y="1759"/>
                  </a:lnTo>
                  <a:lnTo>
                    <a:pt x="3195" y="1690"/>
                  </a:lnTo>
                  <a:lnTo>
                    <a:pt x="3195" y="1569"/>
                  </a:lnTo>
                  <a:lnTo>
                    <a:pt x="3259" y="1436"/>
                  </a:lnTo>
                  <a:lnTo>
                    <a:pt x="3524" y="1107"/>
                  </a:lnTo>
                  <a:lnTo>
                    <a:pt x="3588" y="1036"/>
                  </a:lnTo>
                  <a:lnTo>
                    <a:pt x="3588" y="973"/>
                  </a:lnTo>
                  <a:lnTo>
                    <a:pt x="3645" y="915"/>
                  </a:lnTo>
                  <a:lnTo>
                    <a:pt x="3715" y="846"/>
                  </a:lnTo>
                  <a:lnTo>
                    <a:pt x="3715" y="783"/>
                  </a:lnTo>
                  <a:lnTo>
                    <a:pt x="3848" y="783"/>
                  </a:lnTo>
                  <a:lnTo>
                    <a:pt x="3911" y="713"/>
                  </a:lnTo>
                  <a:lnTo>
                    <a:pt x="3974" y="713"/>
                  </a:lnTo>
                  <a:lnTo>
                    <a:pt x="4044" y="650"/>
                  </a:lnTo>
                  <a:lnTo>
                    <a:pt x="4107" y="650"/>
                  </a:lnTo>
                  <a:lnTo>
                    <a:pt x="4177" y="650"/>
                  </a:lnTo>
                  <a:lnTo>
                    <a:pt x="4234" y="650"/>
                  </a:lnTo>
                  <a:lnTo>
                    <a:pt x="4298" y="650"/>
                  </a:lnTo>
                  <a:lnTo>
                    <a:pt x="4367" y="713"/>
                  </a:lnTo>
                  <a:lnTo>
                    <a:pt x="4431" y="713"/>
                  </a:lnTo>
                  <a:lnTo>
                    <a:pt x="4500" y="713"/>
                  </a:lnTo>
                  <a:lnTo>
                    <a:pt x="4563" y="783"/>
                  </a:lnTo>
                  <a:lnTo>
                    <a:pt x="4627" y="783"/>
                  </a:lnTo>
                  <a:lnTo>
                    <a:pt x="4696" y="846"/>
                  </a:lnTo>
                  <a:lnTo>
                    <a:pt x="4760" y="846"/>
                  </a:lnTo>
                  <a:lnTo>
                    <a:pt x="4760" y="915"/>
                  </a:lnTo>
                  <a:lnTo>
                    <a:pt x="4823" y="973"/>
                  </a:lnTo>
                  <a:lnTo>
                    <a:pt x="4887" y="1036"/>
                  </a:lnTo>
                  <a:lnTo>
                    <a:pt x="4887" y="1107"/>
                  </a:lnTo>
                  <a:lnTo>
                    <a:pt x="4887" y="1240"/>
                  </a:lnTo>
                  <a:lnTo>
                    <a:pt x="4887" y="1367"/>
                  </a:lnTo>
                  <a:lnTo>
                    <a:pt x="4760" y="1436"/>
                  </a:lnTo>
                  <a:lnTo>
                    <a:pt x="4760" y="1892"/>
                  </a:lnTo>
                  <a:lnTo>
                    <a:pt x="4500" y="2147"/>
                  </a:lnTo>
                  <a:lnTo>
                    <a:pt x="4367" y="2216"/>
                  </a:lnTo>
                  <a:lnTo>
                    <a:pt x="4367" y="2413"/>
                  </a:lnTo>
                  <a:lnTo>
                    <a:pt x="4298" y="2476"/>
                  </a:lnTo>
                  <a:lnTo>
                    <a:pt x="4563" y="2736"/>
                  </a:lnTo>
                  <a:lnTo>
                    <a:pt x="4760" y="2869"/>
                  </a:lnTo>
                  <a:lnTo>
                    <a:pt x="4563" y="2413"/>
                  </a:lnTo>
                  <a:lnTo>
                    <a:pt x="4563" y="2343"/>
                  </a:lnTo>
                  <a:lnTo>
                    <a:pt x="4500" y="2147"/>
                  </a:lnTo>
                  <a:lnTo>
                    <a:pt x="4760" y="1892"/>
                  </a:lnTo>
                  <a:lnTo>
                    <a:pt x="4760" y="1955"/>
                  </a:lnTo>
                  <a:lnTo>
                    <a:pt x="4823" y="1955"/>
                  </a:lnTo>
                  <a:lnTo>
                    <a:pt x="4887" y="2019"/>
                  </a:lnTo>
                  <a:lnTo>
                    <a:pt x="4887" y="2088"/>
                  </a:lnTo>
                  <a:lnTo>
                    <a:pt x="4950" y="2147"/>
                  </a:lnTo>
                  <a:lnTo>
                    <a:pt x="4950" y="2216"/>
                  </a:lnTo>
                  <a:lnTo>
                    <a:pt x="5019" y="2280"/>
                  </a:lnTo>
                  <a:lnTo>
                    <a:pt x="5019" y="2672"/>
                  </a:lnTo>
                  <a:lnTo>
                    <a:pt x="5083" y="2672"/>
                  </a:lnTo>
                  <a:lnTo>
                    <a:pt x="5152" y="2932"/>
                  </a:lnTo>
                  <a:lnTo>
                    <a:pt x="5216" y="2932"/>
                  </a:lnTo>
                  <a:lnTo>
                    <a:pt x="5539" y="4106"/>
                  </a:lnTo>
                  <a:lnTo>
                    <a:pt x="5539" y="4175"/>
                  </a:lnTo>
                  <a:lnTo>
                    <a:pt x="5539" y="4239"/>
                  </a:lnTo>
                  <a:lnTo>
                    <a:pt x="5539" y="4302"/>
                  </a:lnTo>
                  <a:lnTo>
                    <a:pt x="5476" y="4435"/>
                  </a:lnTo>
                  <a:lnTo>
                    <a:pt x="5406" y="4499"/>
                  </a:lnTo>
                  <a:lnTo>
                    <a:pt x="5349" y="4562"/>
                  </a:lnTo>
                  <a:lnTo>
                    <a:pt x="5152" y="4562"/>
                  </a:lnTo>
                  <a:lnTo>
                    <a:pt x="5216" y="4562"/>
                  </a:lnTo>
                  <a:lnTo>
                    <a:pt x="5216" y="4695"/>
                  </a:lnTo>
                  <a:lnTo>
                    <a:pt x="5216" y="4758"/>
                  </a:lnTo>
                  <a:lnTo>
                    <a:pt x="5216" y="4828"/>
                  </a:lnTo>
                  <a:lnTo>
                    <a:pt x="5216" y="4891"/>
                  </a:lnTo>
                  <a:lnTo>
                    <a:pt x="5216" y="4956"/>
                  </a:lnTo>
                  <a:lnTo>
                    <a:pt x="5152" y="5025"/>
                  </a:lnTo>
                  <a:lnTo>
                    <a:pt x="5083" y="5025"/>
                  </a:lnTo>
                  <a:lnTo>
                    <a:pt x="5019" y="5025"/>
                  </a:lnTo>
                  <a:lnTo>
                    <a:pt x="4950" y="5025"/>
                  </a:lnTo>
                  <a:lnTo>
                    <a:pt x="5019" y="5412"/>
                  </a:lnTo>
                  <a:lnTo>
                    <a:pt x="5083" y="6065"/>
                  </a:lnTo>
                  <a:lnTo>
                    <a:pt x="5216" y="6719"/>
                  </a:lnTo>
                  <a:lnTo>
                    <a:pt x="5216" y="7365"/>
                  </a:lnTo>
                  <a:lnTo>
                    <a:pt x="5279" y="8019"/>
                  </a:lnTo>
                  <a:lnTo>
                    <a:pt x="5279" y="8938"/>
                  </a:lnTo>
                  <a:lnTo>
                    <a:pt x="5279" y="9128"/>
                  </a:lnTo>
                  <a:lnTo>
                    <a:pt x="5279" y="9324"/>
                  </a:lnTo>
                  <a:lnTo>
                    <a:pt x="5349" y="9591"/>
                  </a:lnTo>
                  <a:lnTo>
                    <a:pt x="5349" y="9845"/>
                  </a:lnTo>
                  <a:lnTo>
                    <a:pt x="5349" y="10110"/>
                  </a:lnTo>
                  <a:lnTo>
                    <a:pt x="5406" y="10370"/>
                  </a:lnTo>
                  <a:lnTo>
                    <a:pt x="5476" y="10631"/>
                  </a:lnTo>
                  <a:lnTo>
                    <a:pt x="5603" y="11024"/>
                  </a:lnTo>
                  <a:lnTo>
                    <a:pt x="5672" y="11220"/>
                  </a:lnTo>
                  <a:lnTo>
                    <a:pt x="5735" y="11354"/>
                  </a:lnTo>
                  <a:lnTo>
                    <a:pt x="5805" y="11475"/>
                  </a:lnTo>
                  <a:lnTo>
                    <a:pt x="5868" y="11608"/>
                  </a:lnTo>
                  <a:lnTo>
                    <a:pt x="5926" y="11677"/>
                  </a:lnTo>
                  <a:lnTo>
                    <a:pt x="6191" y="11937"/>
                  </a:lnTo>
                  <a:lnTo>
                    <a:pt x="6324" y="12006"/>
                  </a:lnTo>
                  <a:lnTo>
                    <a:pt x="6388" y="12006"/>
                  </a:lnTo>
                  <a:lnTo>
                    <a:pt x="6388" y="12127"/>
                  </a:lnTo>
                  <a:lnTo>
                    <a:pt x="5868" y="12198"/>
                  </a:lnTo>
                  <a:lnTo>
                    <a:pt x="5805" y="12127"/>
                  </a:lnTo>
                  <a:lnTo>
                    <a:pt x="5735" y="12064"/>
                  </a:lnTo>
                  <a:lnTo>
                    <a:pt x="5603" y="12064"/>
                  </a:lnTo>
                  <a:lnTo>
                    <a:pt x="5349" y="11740"/>
                  </a:lnTo>
                  <a:lnTo>
                    <a:pt x="5279" y="11804"/>
                  </a:lnTo>
                  <a:lnTo>
                    <a:pt x="5279" y="11937"/>
                  </a:lnTo>
                  <a:lnTo>
                    <a:pt x="5216" y="11937"/>
                  </a:lnTo>
                  <a:lnTo>
                    <a:pt x="5152" y="11873"/>
                  </a:lnTo>
                  <a:lnTo>
                    <a:pt x="5083" y="11804"/>
                  </a:lnTo>
                  <a:lnTo>
                    <a:pt x="5083" y="11740"/>
                  </a:lnTo>
                  <a:lnTo>
                    <a:pt x="5083" y="11677"/>
                  </a:lnTo>
                  <a:lnTo>
                    <a:pt x="5019" y="11608"/>
                  </a:lnTo>
                  <a:lnTo>
                    <a:pt x="5019" y="11475"/>
                  </a:lnTo>
                  <a:lnTo>
                    <a:pt x="5019" y="11417"/>
                  </a:lnTo>
                  <a:lnTo>
                    <a:pt x="5019" y="11354"/>
                  </a:lnTo>
                  <a:lnTo>
                    <a:pt x="5019" y="11220"/>
                  </a:lnTo>
                  <a:lnTo>
                    <a:pt x="5083" y="11151"/>
                  </a:lnTo>
                  <a:lnTo>
                    <a:pt x="5083" y="11024"/>
                  </a:lnTo>
                  <a:lnTo>
                    <a:pt x="5019" y="10891"/>
                  </a:lnTo>
                  <a:lnTo>
                    <a:pt x="5019" y="10827"/>
                  </a:lnTo>
                  <a:lnTo>
                    <a:pt x="5019" y="10764"/>
                  </a:lnTo>
                  <a:lnTo>
                    <a:pt x="4950" y="10700"/>
                  </a:lnTo>
                  <a:lnTo>
                    <a:pt x="4950" y="10568"/>
                  </a:lnTo>
                  <a:lnTo>
                    <a:pt x="4887" y="10498"/>
                  </a:lnTo>
                  <a:lnTo>
                    <a:pt x="4823" y="10370"/>
                  </a:lnTo>
                  <a:lnTo>
                    <a:pt x="4823" y="10243"/>
                  </a:lnTo>
                  <a:lnTo>
                    <a:pt x="4760" y="10110"/>
                  </a:lnTo>
                  <a:lnTo>
                    <a:pt x="4760" y="10047"/>
                  </a:lnTo>
                  <a:lnTo>
                    <a:pt x="4696" y="9914"/>
                  </a:lnTo>
                  <a:lnTo>
                    <a:pt x="4696" y="9845"/>
                  </a:lnTo>
                  <a:lnTo>
                    <a:pt x="4696" y="9724"/>
                  </a:lnTo>
                  <a:lnTo>
                    <a:pt x="3848" y="9591"/>
                  </a:lnTo>
                  <a:lnTo>
                    <a:pt x="3715" y="10370"/>
                  </a:lnTo>
                  <a:lnTo>
                    <a:pt x="3715" y="10498"/>
                  </a:lnTo>
                  <a:lnTo>
                    <a:pt x="3715" y="10568"/>
                  </a:lnTo>
                  <a:lnTo>
                    <a:pt x="3715" y="10631"/>
                  </a:lnTo>
                  <a:lnTo>
                    <a:pt x="3715" y="10764"/>
                  </a:lnTo>
                  <a:lnTo>
                    <a:pt x="3778" y="10891"/>
                  </a:lnTo>
                  <a:lnTo>
                    <a:pt x="3848" y="10954"/>
                  </a:lnTo>
                  <a:lnTo>
                    <a:pt x="4044" y="10954"/>
                  </a:lnTo>
                  <a:lnTo>
                    <a:pt x="4107" y="11024"/>
                  </a:lnTo>
                  <a:lnTo>
                    <a:pt x="4107" y="11087"/>
                  </a:lnTo>
                  <a:lnTo>
                    <a:pt x="4107" y="11151"/>
                  </a:lnTo>
                  <a:lnTo>
                    <a:pt x="4107" y="11220"/>
                  </a:lnTo>
                  <a:lnTo>
                    <a:pt x="3974" y="11283"/>
                  </a:lnTo>
                  <a:lnTo>
                    <a:pt x="3911" y="11354"/>
                  </a:lnTo>
                  <a:lnTo>
                    <a:pt x="3848" y="11417"/>
                  </a:lnTo>
                  <a:lnTo>
                    <a:pt x="3588" y="11417"/>
                  </a:lnTo>
                  <a:lnTo>
                    <a:pt x="3524" y="11544"/>
                  </a:lnTo>
                  <a:lnTo>
                    <a:pt x="3455" y="11740"/>
                  </a:lnTo>
                  <a:lnTo>
                    <a:pt x="3322" y="11544"/>
                  </a:lnTo>
                  <a:lnTo>
                    <a:pt x="3322" y="11417"/>
                  </a:lnTo>
                  <a:lnTo>
                    <a:pt x="3259" y="11354"/>
                  </a:lnTo>
                  <a:lnTo>
                    <a:pt x="3322" y="11151"/>
                  </a:lnTo>
                  <a:lnTo>
                    <a:pt x="3322" y="11024"/>
                  </a:lnTo>
                  <a:lnTo>
                    <a:pt x="3062" y="9457"/>
                  </a:lnTo>
                  <a:lnTo>
                    <a:pt x="2803" y="9261"/>
                  </a:lnTo>
                  <a:lnTo>
                    <a:pt x="2737" y="8836"/>
                  </a:lnTo>
                  <a:lnTo>
                    <a:pt x="2800" y="9264"/>
                  </a:lnTo>
                  <a:lnTo>
                    <a:pt x="3126" y="10764"/>
                  </a:lnTo>
                  <a:lnTo>
                    <a:pt x="3126" y="10893"/>
                  </a:lnTo>
                  <a:lnTo>
                    <a:pt x="3062" y="10958"/>
                  </a:lnTo>
                  <a:lnTo>
                    <a:pt x="2996" y="11027"/>
                  </a:lnTo>
                  <a:lnTo>
                    <a:pt x="2933" y="11091"/>
                  </a:lnTo>
                  <a:lnTo>
                    <a:pt x="2869" y="11091"/>
                  </a:lnTo>
                  <a:lnTo>
                    <a:pt x="2800" y="11027"/>
                  </a:lnTo>
                  <a:lnTo>
                    <a:pt x="2670" y="11027"/>
                  </a:lnTo>
                  <a:lnTo>
                    <a:pt x="2606" y="10893"/>
                  </a:lnTo>
                  <a:lnTo>
                    <a:pt x="2413" y="10893"/>
                  </a:lnTo>
                  <a:lnTo>
                    <a:pt x="2413" y="11873"/>
                  </a:lnTo>
                  <a:lnTo>
                    <a:pt x="2344" y="11873"/>
                  </a:lnTo>
                  <a:lnTo>
                    <a:pt x="2281" y="11937"/>
                  </a:lnTo>
                  <a:lnTo>
                    <a:pt x="1890" y="11937"/>
                  </a:lnTo>
                  <a:lnTo>
                    <a:pt x="1890" y="11804"/>
                  </a:lnTo>
                  <a:lnTo>
                    <a:pt x="1567" y="11804"/>
                  </a:lnTo>
                  <a:lnTo>
                    <a:pt x="1434" y="11873"/>
                  </a:lnTo>
                  <a:lnTo>
                    <a:pt x="1301" y="11804"/>
                  </a:lnTo>
                  <a:lnTo>
                    <a:pt x="1109" y="11804"/>
                  </a:lnTo>
                  <a:lnTo>
                    <a:pt x="1039" y="11804"/>
                  </a:lnTo>
                  <a:lnTo>
                    <a:pt x="979" y="11743"/>
                  </a:lnTo>
                  <a:lnTo>
                    <a:pt x="783" y="11610"/>
                  </a:lnTo>
                  <a:lnTo>
                    <a:pt x="652" y="11547"/>
                  </a:lnTo>
                  <a:lnTo>
                    <a:pt x="589" y="11477"/>
                  </a:lnTo>
                  <a:lnTo>
                    <a:pt x="520" y="11417"/>
                  </a:lnTo>
                  <a:lnTo>
                    <a:pt x="520" y="11283"/>
                  </a:lnTo>
                  <a:lnTo>
                    <a:pt x="589" y="11283"/>
                  </a:lnTo>
                  <a:lnTo>
                    <a:pt x="652" y="11220"/>
                  </a:lnTo>
                  <a:lnTo>
                    <a:pt x="1301" y="11220"/>
                  </a:lnTo>
                  <a:lnTo>
                    <a:pt x="1172" y="9457"/>
                  </a:lnTo>
                  <a:lnTo>
                    <a:pt x="1039" y="8542"/>
                  </a:lnTo>
                  <a:lnTo>
                    <a:pt x="714" y="6585"/>
                  </a:lnTo>
                  <a:lnTo>
                    <a:pt x="714" y="6002"/>
                  </a:lnTo>
                  <a:lnTo>
                    <a:pt x="783" y="5739"/>
                  </a:lnTo>
                  <a:lnTo>
                    <a:pt x="783" y="5281"/>
                  </a:lnTo>
                  <a:lnTo>
                    <a:pt x="783" y="5218"/>
                  </a:lnTo>
                  <a:lnTo>
                    <a:pt x="783" y="5154"/>
                  </a:lnTo>
                  <a:lnTo>
                    <a:pt x="783" y="5025"/>
                  </a:lnTo>
                  <a:lnTo>
                    <a:pt x="783" y="4956"/>
                  </a:lnTo>
                  <a:lnTo>
                    <a:pt x="846" y="4891"/>
                  </a:lnTo>
                  <a:lnTo>
                    <a:pt x="783" y="4758"/>
                  </a:lnTo>
                  <a:lnTo>
                    <a:pt x="589" y="4758"/>
                  </a:lnTo>
                  <a:lnTo>
                    <a:pt x="387" y="4698"/>
                  </a:lnTo>
                  <a:lnTo>
                    <a:pt x="327" y="4629"/>
                  </a:lnTo>
                  <a:lnTo>
                    <a:pt x="194" y="4566"/>
                  </a:lnTo>
                  <a:lnTo>
                    <a:pt x="130" y="4502"/>
                  </a:lnTo>
                  <a:lnTo>
                    <a:pt x="64" y="4372"/>
                  </a:lnTo>
                  <a:lnTo>
                    <a:pt x="0" y="4302"/>
                  </a:lnTo>
                  <a:lnTo>
                    <a:pt x="0" y="3912"/>
                  </a:lnTo>
                  <a:lnTo>
                    <a:pt x="64" y="3912"/>
                  </a:lnTo>
                  <a:lnTo>
                    <a:pt x="64" y="3851"/>
                  </a:lnTo>
                  <a:lnTo>
                    <a:pt x="130" y="3782"/>
                  </a:lnTo>
                  <a:lnTo>
                    <a:pt x="263" y="3649"/>
                  </a:lnTo>
                  <a:lnTo>
                    <a:pt x="327" y="3649"/>
                  </a:lnTo>
                  <a:lnTo>
                    <a:pt x="263" y="3589"/>
                  </a:lnTo>
                  <a:lnTo>
                    <a:pt x="263" y="3524"/>
                  </a:lnTo>
                  <a:lnTo>
                    <a:pt x="263" y="3455"/>
                  </a:lnTo>
                  <a:lnTo>
                    <a:pt x="652" y="3129"/>
                  </a:lnTo>
                  <a:lnTo>
                    <a:pt x="652" y="2997"/>
                  </a:lnTo>
                  <a:lnTo>
                    <a:pt x="652" y="2936"/>
                  </a:lnTo>
                  <a:lnTo>
                    <a:pt x="652" y="2872"/>
                  </a:lnTo>
                  <a:lnTo>
                    <a:pt x="714" y="2803"/>
                  </a:lnTo>
                  <a:lnTo>
                    <a:pt x="783" y="2739"/>
                  </a:lnTo>
                  <a:lnTo>
                    <a:pt x="1434" y="2088"/>
                  </a:lnTo>
                  <a:lnTo>
                    <a:pt x="1241" y="1892"/>
                  </a:lnTo>
                  <a:lnTo>
                    <a:pt x="1301" y="1826"/>
                  </a:lnTo>
                  <a:lnTo>
                    <a:pt x="1172" y="1569"/>
                  </a:lnTo>
                  <a:lnTo>
                    <a:pt x="1109" y="1569"/>
                  </a:lnTo>
                  <a:lnTo>
                    <a:pt x="1039" y="1569"/>
                  </a:lnTo>
                  <a:lnTo>
                    <a:pt x="979" y="1569"/>
                  </a:lnTo>
                  <a:lnTo>
                    <a:pt x="979" y="1499"/>
                  </a:lnTo>
                  <a:lnTo>
                    <a:pt x="916" y="1436"/>
                  </a:lnTo>
                  <a:lnTo>
                    <a:pt x="916" y="915"/>
                  </a:lnTo>
                  <a:lnTo>
                    <a:pt x="979" y="783"/>
                  </a:lnTo>
                  <a:lnTo>
                    <a:pt x="916" y="652"/>
                  </a:lnTo>
                  <a:lnTo>
                    <a:pt x="1039" y="456"/>
                  </a:lnTo>
                  <a:lnTo>
                    <a:pt x="1039" y="263"/>
                  </a:lnTo>
                  <a:lnTo>
                    <a:pt x="1109" y="194"/>
                  </a:lnTo>
                  <a:lnTo>
                    <a:pt x="1172" y="129"/>
                  </a:lnTo>
                  <a:lnTo>
                    <a:pt x="1301" y="129"/>
                  </a:lnTo>
                  <a:lnTo>
                    <a:pt x="1301" y="63"/>
                  </a:lnTo>
                  <a:lnTo>
                    <a:pt x="1366" y="63"/>
                  </a:lnTo>
                  <a:lnTo>
                    <a:pt x="1434" y="63"/>
                  </a:lnTo>
                  <a:lnTo>
                    <a:pt x="1499" y="0"/>
                  </a:lnTo>
                  <a:lnTo>
                    <a:pt x="1628" y="0"/>
                  </a:lnTo>
                  <a:lnTo>
                    <a:pt x="1692" y="63"/>
                  </a:lnTo>
                  <a:lnTo>
                    <a:pt x="1761" y="63"/>
                  </a:lnTo>
                  <a:lnTo>
                    <a:pt x="1824" y="63"/>
                  </a:lnTo>
                  <a:lnTo>
                    <a:pt x="1890" y="129"/>
                  </a:lnTo>
                  <a:lnTo>
                    <a:pt x="1954" y="129"/>
                  </a:lnTo>
                  <a:lnTo>
                    <a:pt x="2017" y="194"/>
                  </a:lnTo>
                  <a:lnTo>
                    <a:pt x="2087" y="263"/>
                  </a:lnTo>
                  <a:lnTo>
                    <a:pt x="2148" y="326"/>
                  </a:lnTo>
                  <a:lnTo>
                    <a:pt x="2148" y="387"/>
                  </a:lnTo>
                  <a:lnTo>
                    <a:pt x="2148" y="456"/>
                  </a:lnTo>
                  <a:lnTo>
                    <a:pt x="2217" y="519"/>
                  </a:lnTo>
                  <a:lnTo>
                    <a:pt x="2217" y="589"/>
                  </a:lnTo>
                  <a:lnTo>
                    <a:pt x="2217" y="652"/>
                  </a:lnTo>
                  <a:lnTo>
                    <a:pt x="2281" y="783"/>
                  </a:lnTo>
                  <a:lnTo>
                    <a:pt x="2281" y="976"/>
                  </a:lnTo>
                  <a:lnTo>
                    <a:pt x="2217" y="1040"/>
                  </a:lnTo>
                  <a:lnTo>
                    <a:pt x="2148" y="1173"/>
                  </a:lnTo>
                  <a:lnTo>
                    <a:pt x="2087" y="1303"/>
                  </a:lnTo>
                  <a:lnTo>
                    <a:pt x="2017" y="1436"/>
                  </a:lnTo>
                  <a:lnTo>
                    <a:pt x="2217" y="1763"/>
                  </a:lnTo>
                  <a:lnTo>
                    <a:pt x="2281" y="1763"/>
                  </a:lnTo>
                  <a:lnTo>
                    <a:pt x="2413" y="1826"/>
                  </a:lnTo>
                  <a:lnTo>
                    <a:pt x="2543" y="1892"/>
                  </a:lnTo>
                  <a:lnTo>
                    <a:pt x="2543" y="1955"/>
                  </a:lnTo>
                  <a:lnTo>
                    <a:pt x="2606" y="1955"/>
                  </a:lnTo>
                  <a:lnTo>
                    <a:pt x="2739" y="2088"/>
                  </a:lnTo>
                  <a:lnTo>
                    <a:pt x="2800" y="2149"/>
                  </a:lnTo>
                  <a:lnTo>
                    <a:pt x="2800" y="2219"/>
                  </a:lnTo>
                  <a:lnTo>
                    <a:pt x="2869" y="2282"/>
                  </a:lnTo>
                  <a:lnTo>
                    <a:pt x="2869" y="2346"/>
                  </a:lnTo>
                  <a:lnTo>
                    <a:pt x="2933" y="2415"/>
                  </a:lnTo>
                  <a:lnTo>
                    <a:pt x="2933" y="261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2531880" y="790560"/>
            <a:ext cx="4312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SEX IS NOT DIR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3669120" y="1812960"/>
            <a:ext cx="1902600" cy="5258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500" spc="-1" strike="noStrike">
                <a:solidFill>
                  <a:srgbClr val="00cc00"/>
                </a:solidFill>
                <a:latin typeface="Kabel Ult BT"/>
              </a:rPr>
              <a:t>?</a:t>
            </a:r>
            <a:endParaRPr b="0" lang="en-US" sz="3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2451240" y="844560"/>
            <a:ext cx="4260240" cy="1823400"/>
            <a:chOff x="2451240" y="844560"/>
            <a:chExt cx="4260240" cy="1823400"/>
          </a:xfrm>
        </p:grpSpPr>
        <p:sp>
          <p:nvSpPr>
            <p:cNvPr id="1748" name=""/>
            <p:cNvSpPr/>
            <p:nvPr/>
          </p:nvSpPr>
          <p:spPr>
            <a:xfrm>
              <a:off x="2451240" y="844560"/>
              <a:ext cx="42602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902444"/>
                  </a:solidFill>
                  <a:latin typeface="Geometr231 Hv BT"/>
                </a:rPr>
                <a:t>HOW CAN I LIV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240720" y="1997280"/>
              <a:ext cx="26784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902444"/>
                  </a:solidFill>
                  <a:latin typeface="Geometr231 Hv BT"/>
                </a:rPr>
                <a:t>GET AIDS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080160" y="1515960"/>
              <a:ext cx="29617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LONG AND NOT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1461240" y="914400"/>
            <a:ext cx="6247440" cy="6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LIFE-SKILLS FOR YO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38080" y="1752480"/>
            <a:ext cx="739152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. Know that everyone has sexual feelings, and they are not e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in themsel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2. Understand that single people until old enough to marry,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developing and maturing character and feelings, to be the fu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person God created you to 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3. Know that it is healthy and clever to not have sex while you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rowing up, before getting married. Stay sexually p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4. Do not be alone with persons of the opposite sex. Stay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roups. Keep a large circle of friends until old enough to 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to look for a 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5. Plan your “fun” times. Idle time is the devil’s play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1461240" y="914400"/>
            <a:ext cx="6247440" cy="6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LIFE-SKILLS FOR YO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33520" y="1752480"/>
            <a:ext cx="800100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6. Keep your body and hands to yourself. Practice resp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7. Guard your thoughts... put good things into your mind. Go to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ood places; watch good things; have wholesome friends/activ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8. If married, be accountable to your spouse for your sex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9. Don’t compromise yourself with anyone of the opposite sex 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married. Stay out of temptation’s way... if in doubt DON’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0. Stick to activity that you would only do if your spouse were pres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f1a17"/>
                </a:solidFill>
                <a:latin typeface="Geometr231 Hv BT"/>
              </a:rPr>
              <a:t>BE WISE AS A SERPENT AND HARMLESS AS A DOVE!!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1823760" y="838080"/>
            <a:ext cx="559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HOW TO NOT GET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371600" y="1876320"/>
            <a:ext cx="69343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1. Treat your body as a special gift, don’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give it away to any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2. Wait for sex until you get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3. Don’t let anyone but “YOU” touch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privat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4. Treat others with respect al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415240" y="2176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1761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1781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3680" y="2743200"/>
            <a:ext cx="72518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For you have been my hop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O Sovereign Lord, my confidence since my yout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1a17"/>
                </a:solidFill>
                <a:latin typeface="Times New Roman"/>
              </a:rPr>
              <a:t>Psalm 71: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13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49440" y="852480"/>
            <a:ext cx="574920" cy="555480"/>
          </a:xfrm>
          <a:custGeom>
            <a:avLst/>
            <a:gdLst/>
            <a:ahLst/>
            <a:rect l="l" t="t" r="r" b="b"/>
            <a:pathLst>
              <a:path w="2175" h="2102">
                <a:moveTo>
                  <a:pt x="0" y="2094"/>
                </a:moveTo>
                <a:lnTo>
                  <a:pt x="263" y="0"/>
                </a:lnTo>
                <a:lnTo>
                  <a:pt x="704" y="0"/>
                </a:lnTo>
                <a:lnTo>
                  <a:pt x="1073" y="931"/>
                </a:lnTo>
                <a:lnTo>
                  <a:pt x="1447" y="0"/>
                </a:lnTo>
                <a:lnTo>
                  <a:pt x="1877" y="0"/>
                </a:lnTo>
                <a:lnTo>
                  <a:pt x="2175" y="2094"/>
                </a:lnTo>
                <a:lnTo>
                  <a:pt x="1617" y="2094"/>
                </a:lnTo>
                <a:lnTo>
                  <a:pt x="1499" y="1133"/>
                </a:lnTo>
                <a:lnTo>
                  <a:pt x="1096" y="2102"/>
                </a:lnTo>
                <a:lnTo>
                  <a:pt x="658" y="1133"/>
                </a:lnTo>
                <a:lnTo>
                  <a:pt x="558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308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794" y="1335"/>
                </a:moveTo>
                <a:lnTo>
                  <a:pt x="1224" y="1335"/>
                </a:lnTo>
                <a:lnTo>
                  <a:pt x="1009" y="629"/>
                </a:lnTo>
                <a:lnTo>
                  <a:pt x="794" y="1335"/>
                </a:lnTo>
                <a:close/>
                <a:moveTo>
                  <a:pt x="0" y="2094"/>
                </a:moveTo>
                <a:lnTo>
                  <a:pt x="730" y="0"/>
                </a:lnTo>
                <a:lnTo>
                  <a:pt x="1341" y="0"/>
                </a:lnTo>
                <a:lnTo>
                  <a:pt x="2032" y="2094"/>
                </a:lnTo>
                <a:lnTo>
                  <a:pt x="1458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3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3060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540" y="983"/>
                </a:moveTo>
                <a:lnTo>
                  <a:pt x="592" y="983"/>
                </a:lnTo>
                <a:lnTo>
                  <a:pt x="628" y="983"/>
                </a:lnTo>
                <a:lnTo>
                  <a:pt x="661" y="980"/>
                </a:lnTo>
                <a:lnTo>
                  <a:pt x="677" y="977"/>
                </a:lnTo>
                <a:lnTo>
                  <a:pt x="692" y="975"/>
                </a:lnTo>
                <a:lnTo>
                  <a:pt x="707" y="972"/>
                </a:lnTo>
                <a:lnTo>
                  <a:pt x="721" y="967"/>
                </a:lnTo>
                <a:lnTo>
                  <a:pt x="734" y="963"/>
                </a:lnTo>
                <a:lnTo>
                  <a:pt x="747" y="958"/>
                </a:lnTo>
                <a:lnTo>
                  <a:pt x="760" y="952"/>
                </a:lnTo>
                <a:lnTo>
                  <a:pt x="772" y="947"/>
                </a:lnTo>
                <a:lnTo>
                  <a:pt x="783" y="941"/>
                </a:lnTo>
                <a:lnTo>
                  <a:pt x="795" y="933"/>
                </a:lnTo>
                <a:lnTo>
                  <a:pt x="804" y="925"/>
                </a:lnTo>
                <a:lnTo>
                  <a:pt x="815" y="918"/>
                </a:lnTo>
                <a:lnTo>
                  <a:pt x="823" y="909"/>
                </a:lnTo>
                <a:lnTo>
                  <a:pt x="833" y="900"/>
                </a:lnTo>
                <a:lnTo>
                  <a:pt x="840" y="891"/>
                </a:lnTo>
                <a:lnTo>
                  <a:pt x="848" y="880"/>
                </a:lnTo>
                <a:lnTo>
                  <a:pt x="855" y="870"/>
                </a:lnTo>
                <a:lnTo>
                  <a:pt x="861" y="859"/>
                </a:lnTo>
                <a:lnTo>
                  <a:pt x="867" y="848"/>
                </a:lnTo>
                <a:lnTo>
                  <a:pt x="872" y="836"/>
                </a:lnTo>
                <a:lnTo>
                  <a:pt x="877" y="824"/>
                </a:lnTo>
                <a:lnTo>
                  <a:pt x="880" y="811"/>
                </a:lnTo>
                <a:lnTo>
                  <a:pt x="884" y="798"/>
                </a:lnTo>
                <a:lnTo>
                  <a:pt x="886" y="784"/>
                </a:lnTo>
                <a:lnTo>
                  <a:pt x="889" y="769"/>
                </a:lnTo>
                <a:lnTo>
                  <a:pt x="890" y="755"/>
                </a:lnTo>
                <a:lnTo>
                  <a:pt x="891" y="740"/>
                </a:lnTo>
                <a:lnTo>
                  <a:pt x="891" y="724"/>
                </a:lnTo>
                <a:lnTo>
                  <a:pt x="891" y="708"/>
                </a:lnTo>
                <a:lnTo>
                  <a:pt x="890" y="692"/>
                </a:lnTo>
                <a:lnTo>
                  <a:pt x="889" y="678"/>
                </a:lnTo>
                <a:lnTo>
                  <a:pt x="886" y="664"/>
                </a:lnTo>
                <a:lnTo>
                  <a:pt x="884" y="649"/>
                </a:lnTo>
                <a:lnTo>
                  <a:pt x="880" y="636"/>
                </a:lnTo>
                <a:lnTo>
                  <a:pt x="877" y="623"/>
                </a:lnTo>
                <a:lnTo>
                  <a:pt x="873" y="610"/>
                </a:lnTo>
                <a:lnTo>
                  <a:pt x="867" y="598"/>
                </a:lnTo>
                <a:lnTo>
                  <a:pt x="863" y="586"/>
                </a:lnTo>
                <a:lnTo>
                  <a:pt x="857" y="576"/>
                </a:lnTo>
                <a:lnTo>
                  <a:pt x="849" y="565"/>
                </a:lnTo>
                <a:lnTo>
                  <a:pt x="842" y="554"/>
                </a:lnTo>
                <a:lnTo>
                  <a:pt x="835" y="545"/>
                </a:lnTo>
                <a:lnTo>
                  <a:pt x="827" y="536"/>
                </a:lnTo>
                <a:lnTo>
                  <a:pt x="817" y="527"/>
                </a:lnTo>
                <a:lnTo>
                  <a:pt x="808" y="519"/>
                </a:lnTo>
                <a:lnTo>
                  <a:pt x="798" y="511"/>
                </a:lnTo>
                <a:lnTo>
                  <a:pt x="788" y="504"/>
                </a:lnTo>
                <a:lnTo>
                  <a:pt x="777" y="497"/>
                </a:lnTo>
                <a:lnTo>
                  <a:pt x="765" y="491"/>
                </a:lnTo>
                <a:lnTo>
                  <a:pt x="753" y="485"/>
                </a:lnTo>
                <a:lnTo>
                  <a:pt x="740" y="481"/>
                </a:lnTo>
                <a:lnTo>
                  <a:pt x="728" y="476"/>
                </a:lnTo>
                <a:lnTo>
                  <a:pt x="714" y="472"/>
                </a:lnTo>
                <a:lnTo>
                  <a:pt x="701" y="469"/>
                </a:lnTo>
                <a:lnTo>
                  <a:pt x="687" y="466"/>
                </a:lnTo>
                <a:lnTo>
                  <a:pt x="671" y="464"/>
                </a:lnTo>
                <a:lnTo>
                  <a:pt x="641" y="460"/>
                </a:lnTo>
                <a:lnTo>
                  <a:pt x="607" y="459"/>
                </a:lnTo>
                <a:lnTo>
                  <a:pt x="540" y="459"/>
                </a:lnTo>
                <a:lnTo>
                  <a:pt x="540" y="983"/>
                </a:lnTo>
                <a:close/>
                <a:moveTo>
                  <a:pt x="0" y="2094"/>
                </a:moveTo>
                <a:lnTo>
                  <a:pt x="0" y="0"/>
                </a:lnTo>
                <a:lnTo>
                  <a:pt x="590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29" y="67"/>
                </a:lnTo>
                <a:lnTo>
                  <a:pt x="1064" y="81"/>
                </a:lnTo>
                <a:lnTo>
                  <a:pt x="1099" y="97"/>
                </a:lnTo>
                <a:lnTo>
                  <a:pt x="1131" y="112"/>
                </a:lnTo>
                <a:lnTo>
                  <a:pt x="1163" y="130"/>
                </a:lnTo>
                <a:lnTo>
                  <a:pt x="1191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8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7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1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4" y="1100"/>
                </a:lnTo>
                <a:lnTo>
                  <a:pt x="1228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5" y="1168"/>
                </a:lnTo>
                <a:lnTo>
                  <a:pt x="1106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9104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540" y="983"/>
                </a:moveTo>
                <a:lnTo>
                  <a:pt x="593" y="983"/>
                </a:lnTo>
                <a:lnTo>
                  <a:pt x="627" y="983"/>
                </a:lnTo>
                <a:lnTo>
                  <a:pt x="661" y="980"/>
                </a:lnTo>
                <a:lnTo>
                  <a:pt x="677" y="977"/>
                </a:lnTo>
                <a:lnTo>
                  <a:pt x="693" y="975"/>
                </a:lnTo>
                <a:lnTo>
                  <a:pt x="707" y="972"/>
                </a:lnTo>
                <a:lnTo>
                  <a:pt x="721" y="967"/>
                </a:lnTo>
                <a:lnTo>
                  <a:pt x="734" y="963"/>
                </a:lnTo>
                <a:lnTo>
                  <a:pt x="747" y="958"/>
                </a:lnTo>
                <a:lnTo>
                  <a:pt x="760" y="952"/>
                </a:lnTo>
                <a:lnTo>
                  <a:pt x="772" y="947"/>
                </a:lnTo>
                <a:lnTo>
                  <a:pt x="784" y="941"/>
                </a:lnTo>
                <a:lnTo>
                  <a:pt x="795" y="933"/>
                </a:lnTo>
                <a:lnTo>
                  <a:pt x="804" y="925"/>
                </a:lnTo>
                <a:lnTo>
                  <a:pt x="815" y="918"/>
                </a:lnTo>
                <a:lnTo>
                  <a:pt x="823" y="909"/>
                </a:lnTo>
                <a:lnTo>
                  <a:pt x="833" y="900"/>
                </a:lnTo>
                <a:lnTo>
                  <a:pt x="841" y="891"/>
                </a:lnTo>
                <a:lnTo>
                  <a:pt x="848" y="880"/>
                </a:lnTo>
                <a:lnTo>
                  <a:pt x="855" y="870"/>
                </a:lnTo>
                <a:lnTo>
                  <a:pt x="861" y="859"/>
                </a:lnTo>
                <a:lnTo>
                  <a:pt x="867" y="848"/>
                </a:lnTo>
                <a:lnTo>
                  <a:pt x="872" y="836"/>
                </a:lnTo>
                <a:lnTo>
                  <a:pt x="877" y="824"/>
                </a:lnTo>
                <a:lnTo>
                  <a:pt x="880" y="811"/>
                </a:lnTo>
                <a:lnTo>
                  <a:pt x="884" y="798"/>
                </a:lnTo>
                <a:lnTo>
                  <a:pt x="886" y="784"/>
                </a:lnTo>
                <a:lnTo>
                  <a:pt x="889" y="769"/>
                </a:lnTo>
                <a:lnTo>
                  <a:pt x="890" y="755"/>
                </a:lnTo>
                <a:lnTo>
                  <a:pt x="891" y="740"/>
                </a:lnTo>
                <a:lnTo>
                  <a:pt x="891" y="724"/>
                </a:lnTo>
                <a:lnTo>
                  <a:pt x="891" y="708"/>
                </a:lnTo>
                <a:lnTo>
                  <a:pt x="890" y="692"/>
                </a:lnTo>
                <a:lnTo>
                  <a:pt x="889" y="678"/>
                </a:lnTo>
                <a:lnTo>
                  <a:pt x="886" y="664"/>
                </a:lnTo>
                <a:lnTo>
                  <a:pt x="884" y="649"/>
                </a:lnTo>
                <a:lnTo>
                  <a:pt x="880" y="636"/>
                </a:lnTo>
                <a:lnTo>
                  <a:pt x="877" y="623"/>
                </a:lnTo>
                <a:lnTo>
                  <a:pt x="873" y="610"/>
                </a:lnTo>
                <a:lnTo>
                  <a:pt x="868" y="598"/>
                </a:lnTo>
                <a:lnTo>
                  <a:pt x="862" y="586"/>
                </a:lnTo>
                <a:lnTo>
                  <a:pt x="857" y="576"/>
                </a:lnTo>
                <a:lnTo>
                  <a:pt x="849" y="565"/>
                </a:lnTo>
                <a:lnTo>
                  <a:pt x="842" y="554"/>
                </a:lnTo>
                <a:lnTo>
                  <a:pt x="835" y="545"/>
                </a:lnTo>
                <a:lnTo>
                  <a:pt x="827" y="536"/>
                </a:lnTo>
                <a:lnTo>
                  <a:pt x="817" y="527"/>
                </a:lnTo>
                <a:lnTo>
                  <a:pt x="808" y="519"/>
                </a:lnTo>
                <a:lnTo>
                  <a:pt x="798" y="511"/>
                </a:lnTo>
                <a:lnTo>
                  <a:pt x="788" y="504"/>
                </a:lnTo>
                <a:lnTo>
                  <a:pt x="777" y="497"/>
                </a:lnTo>
                <a:lnTo>
                  <a:pt x="765" y="491"/>
                </a:lnTo>
                <a:lnTo>
                  <a:pt x="753" y="485"/>
                </a:lnTo>
                <a:lnTo>
                  <a:pt x="741" y="481"/>
                </a:lnTo>
                <a:lnTo>
                  <a:pt x="728" y="476"/>
                </a:lnTo>
                <a:lnTo>
                  <a:pt x="714" y="472"/>
                </a:lnTo>
                <a:lnTo>
                  <a:pt x="701" y="469"/>
                </a:lnTo>
                <a:lnTo>
                  <a:pt x="687" y="466"/>
                </a:lnTo>
                <a:lnTo>
                  <a:pt x="671" y="464"/>
                </a:lnTo>
                <a:lnTo>
                  <a:pt x="641" y="460"/>
                </a:lnTo>
                <a:lnTo>
                  <a:pt x="607" y="459"/>
                </a:lnTo>
                <a:lnTo>
                  <a:pt x="540" y="459"/>
                </a:lnTo>
                <a:lnTo>
                  <a:pt x="540" y="983"/>
                </a:lnTo>
                <a:close/>
                <a:moveTo>
                  <a:pt x="0" y="2094"/>
                </a:moveTo>
                <a:lnTo>
                  <a:pt x="0" y="0"/>
                </a:lnTo>
                <a:lnTo>
                  <a:pt x="591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30" y="67"/>
                </a:lnTo>
                <a:lnTo>
                  <a:pt x="1064" y="81"/>
                </a:lnTo>
                <a:lnTo>
                  <a:pt x="1099" y="97"/>
                </a:lnTo>
                <a:lnTo>
                  <a:pt x="1132" y="112"/>
                </a:lnTo>
                <a:lnTo>
                  <a:pt x="1163" y="130"/>
                </a:lnTo>
                <a:lnTo>
                  <a:pt x="1192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9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8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0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5" y="1100"/>
                </a:lnTo>
                <a:lnTo>
                  <a:pt x="1229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6" y="1168"/>
                </a:lnTo>
                <a:lnTo>
                  <a:pt x="1107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6160" y="852480"/>
            <a:ext cx="142920" cy="554040"/>
          </a:xfrm>
          <a:prstGeom prst="rect">
            <a:avLst/>
          </a:pr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5452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795" y="1335"/>
                </a:moveTo>
                <a:lnTo>
                  <a:pt x="1225" y="1335"/>
                </a:lnTo>
                <a:lnTo>
                  <a:pt x="1009" y="629"/>
                </a:lnTo>
                <a:lnTo>
                  <a:pt x="795" y="1335"/>
                </a:lnTo>
                <a:close/>
                <a:moveTo>
                  <a:pt x="0" y="2094"/>
                </a:moveTo>
                <a:lnTo>
                  <a:pt x="731" y="0"/>
                </a:lnTo>
                <a:lnTo>
                  <a:pt x="1341" y="0"/>
                </a:lnTo>
                <a:lnTo>
                  <a:pt x="2032" y="2094"/>
                </a:lnTo>
                <a:lnTo>
                  <a:pt x="1459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4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5320" y="841320"/>
            <a:ext cx="474840" cy="576360"/>
          </a:xfrm>
          <a:custGeom>
            <a:avLst/>
            <a:gdLst/>
            <a:ahLst/>
            <a:rect l="l" t="t" r="r" b="b"/>
            <a:pathLst>
              <a:path w="1797" h="2173">
                <a:moveTo>
                  <a:pt x="1797" y="2050"/>
                </a:moveTo>
                <a:lnTo>
                  <a:pt x="1762" y="2064"/>
                </a:lnTo>
                <a:lnTo>
                  <a:pt x="1727" y="2077"/>
                </a:lnTo>
                <a:lnTo>
                  <a:pt x="1689" y="2090"/>
                </a:lnTo>
                <a:lnTo>
                  <a:pt x="1651" y="2102"/>
                </a:lnTo>
                <a:lnTo>
                  <a:pt x="1610" y="2113"/>
                </a:lnTo>
                <a:lnTo>
                  <a:pt x="1570" y="2123"/>
                </a:lnTo>
                <a:lnTo>
                  <a:pt x="1527" y="2132"/>
                </a:lnTo>
                <a:lnTo>
                  <a:pt x="1485" y="2140"/>
                </a:lnTo>
                <a:lnTo>
                  <a:pt x="1441" y="2148"/>
                </a:lnTo>
                <a:lnTo>
                  <a:pt x="1396" y="2154"/>
                </a:lnTo>
                <a:lnTo>
                  <a:pt x="1350" y="2160"/>
                </a:lnTo>
                <a:lnTo>
                  <a:pt x="1304" y="2165"/>
                </a:lnTo>
                <a:lnTo>
                  <a:pt x="1259" y="2169"/>
                </a:lnTo>
                <a:lnTo>
                  <a:pt x="1212" y="2171"/>
                </a:lnTo>
                <a:lnTo>
                  <a:pt x="1164" y="2172"/>
                </a:lnTo>
                <a:lnTo>
                  <a:pt x="1117" y="2173"/>
                </a:lnTo>
                <a:lnTo>
                  <a:pt x="1052" y="2172"/>
                </a:lnTo>
                <a:lnTo>
                  <a:pt x="990" y="2169"/>
                </a:lnTo>
                <a:lnTo>
                  <a:pt x="960" y="2166"/>
                </a:lnTo>
                <a:lnTo>
                  <a:pt x="929" y="2163"/>
                </a:lnTo>
                <a:lnTo>
                  <a:pt x="899" y="2159"/>
                </a:lnTo>
                <a:lnTo>
                  <a:pt x="871" y="2155"/>
                </a:lnTo>
                <a:lnTo>
                  <a:pt x="841" y="2151"/>
                </a:lnTo>
                <a:lnTo>
                  <a:pt x="814" y="2145"/>
                </a:lnTo>
                <a:lnTo>
                  <a:pt x="785" y="2139"/>
                </a:lnTo>
                <a:lnTo>
                  <a:pt x="758" y="2133"/>
                </a:lnTo>
                <a:lnTo>
                  <a:pt x="731" y="2126"/>
                </a:lnTo>
                <a:lnTo>
                  <a:pt x="705" y="2119"/>
                </a:lnTo>
                <a:lnTo>
                  <a:pt x="677" y="2110"/>
                </a:lnTo>
                <a:lnTo>
                  <a:pt x="652" y="2101"/>
                </a:lnTo>
                <a:lnTo>
                  <a:pt x="626" y="2092"/>
                </a:lnTo>
                <a:lnTo>
                  <a:pt x="601" y="2083"/>
                </a:lnTo>
                <a:lnTo>
                  <a:pt x="578" y="2072"/>
                </a:lnTo>
                <a:lnTo>
                  <a:pt x="553" y="2062"/>
                </a:lnTo>
                <a:lnTo>
                  <a:pt x="530" y="2050"/>
                </a:lnTo>
                <a:lnTo>
                  <a:pt x="506" y="2038"/>
                </a:lnTo>
                <a:lnTo>
                  <a:pt x="484" y="2025"/>
                </a:lnTo>
                <a:lnTo>
                  <a:pt x="461" y="2012"/>
                </a:lnTo>
                <a:lnTo>
                  <a:pt x="440" y="1999"/>
                </a:lnTo>
                <a:lnTo>
                  <a:pt x="417" y="1984"/>
                </a:lnTo>
                <a:lnTo>
                  <a:pt x="397" y="1969"/>
                </a:lnTo>
                <a:lnTo>
                  <a:pt x="376" y="1953"/>
                </a:lnTo>
                <a:lnTo>
                  <a:pt x="356" y="1938"/>
                </a:lnTo>
                <a:lnTo>
                  <a:pt x="337" y="1921"/>
                </a:lnTo>
                <a:lnTo>
                  <a:pt x="317" y="1905"/>
                </a:lnTo>
                <a:lnTo>
                  <a:pt x="299" y="1887"/>
                </a:lnTo>
                <a:lnTo>
                  <a:pt x="280" y="1869"/>
                </a:lnTo>
                <a:lnTo>
                  <a:pt x="262" y="1850"/>
                </a:lnTo>
                <a:lnTo>
                  <a:pt x="244" y="1831"/>
                </a:lnTo>
                <a:lnTo>
                  <a:pt x="228" y="1812"/>
                </a:lnTo>
                <a:lnTo>
                  <a:pt x="212" y="1793"/>
                </a:lnTo>
                <a:lnTo>
                  <a:pt x="197" y="1773"/>
                </a:lnTo>
                <a:lnTo>
                  <a:pt x="181" y="1752"/>
                </a:lnTo>
                <a:lnTo>
                  <a:pt x="167" y="1731"/>
                </a:lnTo>
                <a:lnTo>
                  <a:pt x="154" y="1710"/>
                </a:lnTo>
                <a:lnTo>
                  <a:pt x="141" y="1688"/>
                </a:lnTo>
                <a:lnTo>
                  <a:pt x="128" y="1666"/>
                </a:lnTo>
                <a:lnTo>
                  <a:pt x="116" y="1643"/>
                </a:lnTo>
                <a:lnTo>
                  <a:pt x="104" y="1621"/>
                </a:lnTo>
                <a:lnTo>
                  <a:pt x="93" y="1597"/>
                </a:lnTo>
                <a:lnTo>
                  <a:pt x="84" y="1574"/>
                </a:lnTo>
                <a:lnTo>
                  <a:pt x="74" y="1549"/>
                </a:lnTo>
                <a:lnTo>
                  <a:pt x="65" y="1525"/>
                </a:lnTo>
                <a:lnTo>
                  <a:pt x="57" y="1500"/>
                </a:lnTo>
                <a:lnTo>
                  <a:pt x="48" y="1474"/>
                </a:lnTo>
                <a:lnTo>
                  <a:pt x="41" y="1449"/>
                </a:lnTo>
                <a:lnTo>
                  <a:pt x="34" y="1423"/>
                </a:lnTo>
                <a:lnTo>
                  <a:pt x="28" y="1397"/>
                </a:lnTo>
                <a:lnTo>
                  <a:pt x="22" y="1370"/>
                </a:lnTo>
                <a:lnTo>
                  <a:pt x="17" y="1342"/>
                </a:lnTo>
                <a:lnTo>
                  <a:pt x="14" y="1315"/>
                </a:lnTo>
                <a:lnTo>
                  <a:pt x="9" y="1286"/>
                </a:lnTo>
                <a:lnTo>
                  <a:pt x="7" y="1258"/>
                </a:lnTo>
                <a:lnTo>
                  <a:pt x="3" y="1229"/>
                </a:lnTo>
                <a:lnTo>
                  <a:pt x="2" y="1200"/>
                </a:lnTo>
                <a:lnTo>
                  <a:pt x="1" y="1170"/>
                </a:lnTo>
                <a:lnTo>
                  <a:pt x="0" y="1140"/>
                </a:lnTo>
                <a:lnTo>
                  <a:pt x="0" y="1109"/>
                </a:lnTo>
                <a:lnTo>
                  <a:pt x="0" y="1080"/>
                </a:lnTo>
                <a:lnTo>
                  <a:pt x="1" y="1050"/>
                </a:lnTo>
                <a:lnTo>
                  <a:pt x="2" y="1020"/>
                </a:lnTo>
                <a:lnTo>
                  <a:pt x="4" y="992"/>
                </a:lnTo>
                <a:lnTo>
                  <a:pt x="7" y="963"/>
                </a:lnTo>
                <a:lnTo>
                  <a:pt x="10" y="935"/>
                </a:lnTo>
                <a:lnTo>
                  <a:pt x="14" y="906"/>
                </a:lnTo>
                <a:lnTo>
                  <a:pt x="19" y="879"/>
                </a:lnTo>
                <a:lnTo>
                  <a:pt x="23" y="851"/>
                </a:lnTo>
                <a:lnTo>
                  <a:pt x="29" y="825"/>
                </a:lnTo>
                <a:lnTo>
                  <a:pt x="36" y="798"/>
                </a:lnTo>
                <a:lnTo>
                  <a:pt x="44" y="772"/>
                </a:lnTo>
                <a:lnTo>
                  <a:pt x="51" y="746"/>
                </a:lnTo>
                <a:lnTo>
                  <a:pt x="59" y="719"/>
                </a:lnTo>
                <a:lnTo>
                  <a:pt x="67" y="694"/>
                </a:lnTo>
                <a:lnTo>
                  <a:pt x="77" y="670"/>
                </a:lnTo>
                <a:lnTo>
                  <a:pt x="87" y="645"/>
                </a:lnTo>
                <a:lnTo>
                  <a:pt x="98" y="621"/>
                </a:lnTo>
                <a:lnTo>
                  <a:pt x="109" y="597"/>
                </a:lnTo>
                <a:lnTo>
                  <a:pt x="121" y="573"/>
                </a:lnTo>
                <a:lnTo>
                  <a:pt x="134" y="549"/>
                </a:lnTo>
                <a:lnTo>
                  <a:pt x="147" y="527"/>
                </a:lnTo>
                <a:lnTo>
                  <a:pt x="161" y="504"/>
                </a:lnTo>
                <a:lnTo>
                  <a:pt x="175" y="482"/>
                </a:lnTo>
                <a:lnTo>
                  <a:pt x="190" y="459"/>
                </a:lnTo>
                <a:lnTo>
                  <a:pt x="205" y="438"/>
                </a:lnTo>
                <a:lnTo>
                  <a:pt x="222" y="416"/>
                </a:lnTo>
                <a:lnTo>
                  <a:pt x="238" y="395"/>
                </a:lnTo>
                <a:lnTo>
                  <a:pt x="256" y="375"/>
                </a:lnTo>
                <a:lnTo>
                  <a:pt x="274" y="353"/>
                </a:lnTo>
                <a:lnTo>
                  <a:pt x="293" y="334"/>
                </a:lnTo>
                <a:lnTo>
                  <a:pt x="312" y="314"/>
                </a:lnTo>
                <a:lnTo>
                  <a:pt x="332" y="295"/>
                </a:lnTo>
                <a:lnTo>
                  <a:pt x="351" y="276"/>
                </a:lnTo>
                <a:lnTo>
                  <a:pt x="371" y="258"/>
                </a:lnTo>
                <a:lnTo>
                  <a:pt x="393" y="240"/>
                </a:lnTo>
                <a:lnTo>
                  <a:pt x="414" y="224"/>
                </a:lnTo>
                <a:lnTo>
                  <a:pt x="434" y="207"/>
                </a:lnTo>
                <a:lnTo>
                  <a:pt x="457" y="192"/>
                </a:lnTo>
                <a:lnTo>
                  <a:pt x="478" y="176"/>
                </a:lnTo>
                <a:lnTo>
                  <a:pt x="501" y="162"/>
                </a:lnTo>
                <a:lnTo>
                  <a:pt x="523" y="149"/>
                </a:lnTo>
                <a:lnTo>
                  <a:pt x="546" y="136"/>
                </a:lnTo>
                <a:lnTo>
                  <a:pt x="569" y="123"/>
                </a:lnTo>
                <a:lnTo>
                  <a:pt x="592" y="111"/>
                </a:lnTo>
                <a:lnTo>
                  <a:pt x="616" y="99"/>
                </a:lnTo>
                <a:lnTo>
                  <a:pt x="641" y="88"/>
                </a:lnTo>
                <a:lnTo>
                  <a:pt x="664" y="79"/>
                </a:lnTo>
                <a:lnTo>
                  <a:pt x="689" y="69"/>
                </a:lnTo>
                <a:lnTo>
                  <a:pt x="714" y="60"/>
                </a:lnTo>
                <a:lnTo>
                  <a:pt x="740" y="53"/>
                </a:lnTo>
                <a:lnTo>
                  <a:pt x="765" y="44"/>
                </a:lnTo>
                <a:lnTo>
                  <a:pt x="791" y="37"/>
                </a:lnTo>
                <a:lnTo>
                  <a:pt x="819" y="31"/>
                </a:lnTo>
                <a:lnTo>
                  <a:pt x="845" y="25"/>
                </a:lnTo>
                <a:lnTo>
                  <a:pt x="872" y="19"/>
                </a:lnTo>
                <a:lnTo>
                  <a:pt x="899" y="16"/>
                </a:lnTo>
                <a:lnTo>
                  <a:pt x="927" y="11"/>
                </a:lnTo>
                <a:lnTo>
                  <a:pt x="955" y="7"/>
                </a:lnTo>
                <a:lnTo>
                  <a:pt x="984" y="5"/>
                </a:lnTo>
                <a:lnTo>
                  <a:pt x="1012" y="3"/>
                </a:lnTo>
                <a:lnTo>
                  <a:pt x="1041" y="1"/>
                </a:lnTo>
                <a:lnTo>
                  <a:pt x="1070" y="0"/>
                </a:lnTo>
                <a:lnTo>
                  <a:pt x="1100" y="0"/>
                </a:lnTo>
                <a:lnTo>
                  <a:pt x="1145" y="1"/>
                </a:lnTo>
                <a:lnTo>
                  <a:pt x="1189" y="4"/>
                </a:lnTo>
                <a:lnTo>
                  <a:pt x="1234" y="7"/>
                </a:lnTo>
                <a:lnTo>
                  <a:pt x="1278" y="13"/>
                </a:lnTo>
                <a:lnTo>
                  <a:pt x="1322" y="20"/>
                </a:lnTo>
                <a:lnTo>
                  <a:pt x="1365" y="29"/>
                </a:lnTo>
                <a:lnTo>
                  <a:pt x="1409" y="39"/>
                </a:lnTo>
                <a:lnTo>
                  <a:pt x="1451" y="51"/>
                </a:lnTo>
                <a:lnTo>
                  <a:pt x="1493" y="66"/>
                </a:lnTo>
                <a:lnTo>
                  <a:pt x="1534" y="80"/>
                </a:lnTo>
                <a:lnTo>
                  <a:pt x="1575" y="97"/>
                </a:lnTo>
                <a:lnTo>
                  <a:pt x="1615" y="114"/>
                </a:lnTo>
                <a:lnTo>
                  <a:pt x="1653" y="133"/>
                </a:lnTo>
                <a:lnTo>
                  <a:pt x="1691" y="154"/>
                </a:lnTo>
                <a:lnTo>
                  <a:pt x="1728" y="175"/>
                </a:lnTo>
                <a:lnTo>
                  <a:pt x="1765" y="199"/>
                </a:lnTo>
                <a:lnTo>
                  <a:pt x="1544" y="700"/>
                </a:lnTo>
                <a:lnTo>
                  <a:pt x="1511" y="683"/>
                </a:lnTo>
                <a:lnTo>
                  <a:pt x="1480" y="666"/>
                </a:lnTo>
                <a:lnTo>
                  <a:pt x="1449" y="651"/>
                </a:lnTo>
                <a:lnTo>
                  <a:pt x="1418" y="636"/>
                </a:lnTo>
                <a:lnTo>
                  <a:pt x="1388" y="624"/>
                </a:lnTo>
                <a:lnTo>
                  <a:pt x="1360" y="612"/>
                </a:lnTo>
                <a:lnTo>
                  <a:pt x="1331" y="602"/>
                </a:lnTo>
                <a:lnTo>
                  <a:pt x="1304" y="593"/>
                </a:lnTo>
                <a:lnTo>
                  <a:pt x="1276" y="585"/>
                </a:lnTo>
                <a:lnTo>
                  <a:pt x="1248" y="578"/>
                </a:lnTo>
                <a:lnTo>
                  <a:pt x="1221" y="572"/>
                </a:lnTo>
                <a:lnTo>
                  <a:pt x="1194" y="567"/>
                </a:lnTo>
                <a:lnTo>
                  <a:pt x="1168" y="564"/>
                </a:lnTo>
                <a:lnTo>
                  <a:pt x="1140" y="561"/>
                </a:lnTo>
                <a:lnTo>
                  <a:pt x="1113" y="560"/>
                </a:lnTo>
                <a:lnTo>
                  <a:pt x="1087" y="559"/>
                </a:lnTo>
                <a:lnTo>
                  <a:pt x="1057" y="560"/>
                </a:lnTo>
                <a:lnTo>
                  <a:pt x="1029" y="561"/>
                </a:lnTo>
                <a:lnTo>
                  <a:pt x="1000" y="565"/>
                </a:lnTo>
                <a:lnTo>
                  <a:pt x="973" y="568"/>
                </a:lnTo>
                <a:lnTo>
                  <a:pt x="947" y="574"/>
                </a:lnTo>
                <a:lnTo>
                  <a:pt x="921" y="582"/>
                </a:lnTo>
                <a:lnTo>
                  <a:pt x="896" y="589"/>
                </a:lnTo>
                <a:lnTo>
                  <a:pt x="871" y="598"/>
                </a:lnTo>
                <a:lnTo>
                  <a:pt x="847" y="608"/>
                </a:lnTo>
                <a:lnTo>
                  <a:pt x="823" y="620"/>
                </a:lnTo>
                <a:lnTo>
                  <a:pt x="801" y="633"/>
                </a:lnTo>
                <a:lnTo>
                  <a:pt x="779" y="646"/>
                </a:lnTo>
                <a:lnTo>
                  <a:pt x="758" y="661"/>
                </a:lnTo>
                <a:lnTo>
                  <a:pt x="737" y="678"/>
                </a:lnTo>
                <a:lnTo>
                  <a:pt x="717" y="694"/>
                </a:lnTo>
                <a:lnTo>
                  <a:pt x="698" y="714"/>
                </a:lnTo>
                <a:lnTo>
                  <a:pt x="680" y="734"/>
                </a:lnTo>
                <a:lnTo>
                  <a:pt x="662" y="754"/>
                </a:lnTo>
                <a:lnTo>
                  <a:pt x="645" y="774"/>
                </a:lnTo>
                <a:lnTo>
                  <a:pt x="631" y="796"/>
                </a:lnTo>
                <a:lnTo>
                  <a:pt x="617" y="818"/>
                </a:lnTo>
                <a:lnTo>
                  <a:pt x="605" y="841"/>
                </a:lnTo>
                <a:lnTo>
                  <a:pt x="593" y="864"/>
                </a:lnTo>
                <a:lnTo>
                  <a:pt x="584" y="889"/>
                </a:lnTo>
                <a:lnTo>
                  <a:pt x="574" y="914"/>
                </a:lnTo>
                <a:lnTo>
                  <a:pt x="567" y="939"/>
                </a:lnTo>
                <a:lnTo>
                  <a:pt x="560" y="966"/>
                </a:lnTo>
                <a:lnTo>
                  <a:pt x="555" y="993"/>
                </a:lnTo>
                <a:lnTo>
                  <a:pt x="552" y="1020"/>
                </a:lnTo>
                <a:lnTo>
                  <a:pt x="548" y="1049"/>
                </a:lnTo>
                <a:lnTo>
                  <a:pt x="547" y="1077"/>
                </a:lnTo>
                <a:lnTo>
                  <a:pt x="546" y="1107"/>
                </a:lnTo>
                <a:lnTo>
                  <a:pt x="546" y="1134"/>
                </a:lnTo>
                <a:lnTo>
                  <a:pt x="548" y="1160"/>
                </a:lnTo>
                <a:lnTo>
                  <a:pt x="550" y="1187"/>
                </a:lnTo>
                <a:lnTo>
                  <a:pt x="554" y="1213"/>
                </a:lnTo>
                <a:lnTo>
                  <a:pt x="559" y="1237"/>
                </a:lnTo>
                <a:lnTo>
                  <a:pt x="566" y="1262"/>
                </a:lnTo>
                <a:lnTo>
                  <a:pt x="573" y="1284"/>
                </a:lnTo>
                <a:lnTo>
                  <a:pt x="581" y="1308"/>
                </a:lnTo>
                <a:lnTo>
                  <a:pt x="590" y="1329"/>
                </a:lnTo>
                <a:lnTo>
                  <a:pt x="600" y="1352"/>
                </a:lnTo>
                <a:lnTo>
                  <a:pt x="612" y="1372"/>
                </a:lnTo>
                <a:lnTo>
                  <a:pt x="625" y="1392"/>
                </a:lnTo>
                <a:lnTo>
                  <a:pt x="638" y="1413"/>
                </a:lnTo>
                <a:lnTo>
                  <a:pt x="654" y="1432"/>
                </a:lnTo>
                <a:lnTo>
                  <a:pt x="669" y="1449"/>
                </a:lnTo>
                <a:lnTo>
                  <a:pt x="687" y="1467"/>
                </a:lnTo>
                <a:lnTo>
                  <a:pt x="705" y="1484"/>
                </a:lnTo>
                <a:lnTo>
                  <a:pt x="722" y="1500"/>
                </a:lnTo>
                <a:lnTo>
                  <a:pt x="741" y="1515"/>
                </a:lnTo>
                <a:lnTo>
                  <a:pt x="762" y="1528"/>
                </a:lnTo>
                <a:lnTo>
                  <a:pt x="782" y="1541"/>
                </a:lnTo>
                <a:lnTo>
                  <a:pt x="803" y="1553"/>
                </a:lnTo>
                <a:lnTo>
                  <a:pt x="825" y="1562"/>
                </a:lnTo>
                <a:lnTo>
                  <a:pt x="847" y="1572"/>
                </a:lnTo>
                <a:lnTo>
                  <a:pt x="871" y="1580"/>
                </a:lnTo>
                <a:lnTo>
                  <a:pt x="895" y="1587"/>
                </a:lnTo>
                <a:lnTo>
                  <a:pt x="918" y="1593"/>
                </a:lnTo>
                <a:lnTo>
                  <a:pt x="943" y="1598"/>
                </a:lnTo>
                <a:lnTo>
                  <a:pt x="969" y="1602"/>
                </a:lnTo>
                <a:lnTo>
                  <a:pt x="995" y="1605"/>
                </a:lnTo>
                <a:lnTo>
                  <a:pt x="1022" y="1606"/>
                </a:lnTo>
                <a:lnTo>
                  <a:pt x="1049" y="1606"/>
                </a:lnTo>
                <a:lnTo>
                  <a:pt x="1063" y="1606"/>
                </a:lnTo>
                <a:lnTo>
                  <a:pt x="1077" y="1606"/>
                </a:lnTo>
                <a:lnTo>
                  <a:pt x="1090" y="1605"/>
                </a:lnTo>
                <a:lnTo>
                  <a:pt x="1104" y="1605"/>
                </a:lnTo>
                <a:lnTo>
                  <a:pt x="1118" y="1604"/>
                </a:lnTo>
                <a:lnTo>
                  <a:pt x="1131" y="1602"/>
                </a:lnTo>
                <a:lnTo>
                  <a:pt x="1144" y="1600"/>
                </a:lnTo>
                <a:lnTo>
                  <a:pt x="1157" y="1598"/>
                </a:lnTo>
                <a:lnTo>
                  <a:pt x="1169" y="1596"/>
                </a:lnTo>
                <a:lnTo>
                  <a:pt x="1182" y="1592"/>
                </a:lnTo>
                <a:lnTo>
                  <a:pt x="1195" y="1590"/>
                </a:lnTo>
                <a:lnTo>
                  <a:pt x="1207" y="1586"/>
                </a:lnTo>
                <a:lnTo>
                  <a:pt x="1220" y="1582"/>
                </a:lnTo>
                <a:lnTo>
                  <a:pt x="1232" y="1579"/>
                </a:lnTo>
                <a:lnTo>
                  <a:pt x="1245" y="1574"/>
                </a:lnTo>
                <a:lnTo>
                  <a:pt x="1257" y="1569"/>
                </a:lnTo>
                <a:lnTo>
                  <a:pt x="1257" y="1051"/>
                </a:lnTo>
                <a:lnTo>
                  <a:pt x="1797" y="1051"/>
                </a:lnTo>
                <a:lnTo>
                  <a:pt x="1797" y="205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4400" y="852480"/>
            <a:ext cx="344160" cy="554040"/>
          </a:xfrm>
          <a:custGeom>
            <a:avLst/>
            <a:gdLst/>
            <a:ahLst/>
            <a:rect l="l" t="t" r="r" b="b"/>
            <a:pathLst>
              <a:path w="1306" h="2094">
                <a:moveTo>
                  <a:pt x="1306" y="1517"/>
                </a:moveTo>
                <a:lnTo>
                  <a:pt x="1160" y="2094"/>
                </a:lnTo>
                <a:lnTo>
                  <a:pt x="0" y="2094"/>
                </a:lnTo>
                <a:lnTo>
                  <a:pt x="0" y="0"/>
                </a:lnTo>
                <a:lnTo>
                  <a:pt x="1155" y="0"/>
                </a:lnTo>
                <a:lnTo>
                  <a:pt x="1244" y="557"/>
                </a:lnTo>
                <a:lnTo>
                  <a:pt x="540" y="557"/>
                </a:lnTo>
                <a:lnTo>
                  <a:pt x="540" y="769"/>
                </a:lnTo>
                <a:lnTo>
                  <a:pt x="1011" y="769"/>
                </a:lnTo>
                <a:lnTo>
                  <a:pt x="1011" y="1323"/>
                </a:lnTo>
                <a:lnTo>
                  <a:pt x="540" y="1323"/>
                </a:lnTo>
                <a:lnTo>
                  <a:pt x="540" y="1517"/>
                </a:lnTo>
                <a:lnTo>
                  <a:pt x="1306" y="1517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35720" y="838080"/>
            <a:ext cx="279360" cy="568440"/>
          </a:xfrm>
          <a:custGeom>
            <a:avLst/>
            <a:gdLst/>
            <a:ahLst/>
            <a:rect l="l" t="t" r="r" b="b"/>
            <a:pathLst>
              <a:path w="1058" h="2146">
                <a:moveTo>
                  <a:pt x="302" y="1486"/>
                </a:moveTo>
                <a:lnTo>
                  <a:pt x="302" y="1182"/>
                </a:lnTo>
                <a:lnTo>
                  <a:pt x="302" y="1160"/>
                </a:lnTo>
                <a:lnTo>
                  <a:pt x="303" y="1140"/>
                </a:lnTo>
                <a:lnTo>
                  <a:pt x="304" y="1121"/>
                </a:lnTo>
                <a:lnTo>
                  <a:pt x="305" y="1102"/>
                </a:lnTo>
                <a:lnTo>
                  <a:pt x="308" y="1083"/>
                </a:lnTo>
                <a:lnTo>
                  <a:pt x="310" y="1065"/>
                </a:lnTo>
                <a:lnTo>
                  <a:pt x="314" y="1048"/>
                </a:lnTo>
                <a:lnTo>
                  <a:pt x="317" y="1032"/>
                </a:lnTo>
                <a:lnTo>
                  <a:pt x="322" y="1016"/>
                </a:lnTo>
                <a:lnTo>
                  <a:pt x="327" y="1000"/>
                </a:lnTo>
                <a:lnTo>
                  <a:pt x="333" y="983"/>
                </a:lnTo>
                <a:lnTo>
                  <a:pt x="339" y="968"/>
                </a:lnTo>
                <a:lnTo>
                  <a:pt x="345" y="951"/>
                </a:lnTo>
                <a:lnTo>
                  <a:pt x="353" y="934"/>
                </a:lnTo>
                <a:lnTo>
                  <a:pt x="360" y="918"/>
                </a:lnTo>
                <a:lnTo>
                  <a:pt x="370" y="901"/>
                </a:lnTo>
                <a:lnTo>
                  <a:pt x="373" y="894"/>
                </a:lnTo>
                <a:lnTo>
                  <a:pt x="378" y="884"/>
                </a:lnTo>
                <a:lnTo>
                  <a:pt x="384" y="875"/>
                </a:lnTo>
                <a:lnTo>
                  <a:pt x="390" y="865"/>
                </a:lnTo>
                <a:lnTo>
                  <a:pt x="396" y="855"/>
                </a:lnTo>
                <a:lnTo>
                  <a:pt x="404" y="843"/>
                </a:lnTo>
                <a:lnTo>
                  <a:pt x="411" y="830"/>
                </a:lnTo>
                <a:lnTo>
                  <a:pt x="421" y="817"/>
                </a:lnTo>
                <a:lnTo>
                  <a:pt x="437" y="791"/>
                </a:lnTo>
                <a:lnTo>
                  <a:pt x="453" y="766"/>
                </a:lnTo>
                <a:lnTo>
                  <a:pt x="466" y="742"/>
                </a:lnTo>
                <a:lnTo>
                  <a:pt x="476" y="719"/>
                </a:lnTo>
                <a:lnTo>
                  <a:pt x="483" y="699"/>
                </a:lnTo>
                <a:lnTo>
                  <a:pt x="489" y="681"/>
                </a:lnTo>
                <a:lnTo>
                  <a:pt x="493" y="665"/>
                </a:lnTo>
                <a:lnTo>
                  <a:pt x="494" y="649"/>
                </a:lnTo>
                <a:lnTo>
                  <a:pt x="494" y="637"/>
                </a:lnTo>
                <a:lnTo>
                  <a:pt x="493" y="625"/>
                </a:lnTo>
                <a:lnTo>
                  <a:pt x="491" y="616"/>
                </a:lnTo>
                <a:lnTo>
                  <a:pt x="488" y="605"/>
                </a:lnTo>
                <a:lnTo>
                  <a:pt x="483" y="597"/>
                </a:lnTo>
                <a:lnTo>
                  <a:pt x="480" y="587"/>
                </a:lnTo>
                <a:lnTo>
                  <a:pt x="474" y="580"/>
                </a:lnTo>
                <a:lnTo>
                  <a:pt x="468" y="572"/>
                </a:lnTo>
                <a:lnTo>
                  <a:pt x="461" y="566"/>
                </a:lnTo>
                <a:lnTo>
                  <a:pt x="454" y="560"/>
                </a:lnTo>
                <a:lnTo>
                  <a:pt x="446" y="555"/>
                </a:lnTo>
                <a:lnTo>
                  <a:pt x="436" y="552"/>
                </a:lnTo>
                <a:lnTo>
                  <a:pt x="427" y="548"/>
                </a:lnTo>
                <a:lnTo>
                  <a:pt x="417" y="547"/>
                </a:lnTo>
                <a:lnTo>
                  <a:pt x="406" y="544"/>
                </a:lnTo>
                <a:lnTo>
                  <a:pt x="394" y="544"/>
                </a:lnTo>
                <a:lnTo>
                  <a:pt x="383" y="544"/>
                </a:lnTo>
                <a:lnTo>
                  <a:pt x="372" y="547"/>
                </a:lnTo>
                <a:lnTo>
                  <a:pt x="361" y="549"/>
                </a:lnTo>
                <a:lnTo>
                  <a:pt x="349" y="552"/>
                </a:lnTo>
                <a:lnTo>
                  <a:pt x="339" y="556"/>
                </a:lnTo>
                <a:lnTo>
                  <a:pt x="327" y="561"/>
                </a:lnTo>
                <a:lnTo>
                  <a:pt x="316" y="567"/>
                </a:lnTo>
                <a:lnTo>
                  <a:pt x="305" y="573"/>
                </a:lnTo>
                <a:lnTo>
                  <a:pt x="295" y="581"/>
                </a:lnTo>
                <a:lnTo>
                  <a:pt x="284" y="588"/>
                </a:lnTo>
                <a:lnTo>
                  <a:pt x="275" y="597"/>
                </a:lnTo>
                <a:lnTo>
                  <a:pt x="265" y="606"/>
                </a:lnTo>
                <a:lnTo>
                  <a:pt x="257" y="616"/>
                </a:lnTo>
                <a:lnTo>
                  <a:pt x="248" y="626"/>
                </a:lnTo>
                <a:lnTo>
                  <a:pt x="240" y="637"/>
                </a:lnTo>
                <a:lnTo>
                  <a:pt x="233" y="649"/>
                </a:lnTo>
                <a:lnTo>
                  <a:pt x="0" y="327"/>
                </a:lnTo>
                <a:lnTo>
                  <a:pt x="27" y="288"/>
                </a:lnTo>
                <a:lnTo>
                  <a:pt x="54" y="251"/>
                </a:lnTo>
                <a:lnTo>
                  <a:pt x="82" y="216"/>
                </a:lnTo>
                <a:lnTo>
                  <a:pt x="111" y="184"/>
                </a:lnTo>
                <a:lnTo>
                  <a:pt x="126" y="170"/>
                </a:lnTo>
                <a:lnTo>
                  <a:pt x="142" y="156"/>
                </a:lnTo>
                <a:lnTo>
                  <a:pt x="156" y="141"/>
                </a:lnTo>
                <a:lnTo>
                  <a:pt x="173" y="128"/>
                </a:lnTo>
                <a:lnTo>
                  <a:pt x="188" y="115"/>
                </a:lnTo>
                <a:lnTo>
                  <a:pt x="205" y="103"/>
                </a:lnTo>
                <a:lnTo>
                  <a:pt x="220" y="93"/>
                </a:lnTo>
                <a:lnTo>
                  <a:pt x="237" y="82"/>
                </a:lnTo>
                <a:lnTo>
                  <a:pt x="254" y="73"/>
                </a:lnTo>
                <a:lnTo>
                  <a:pt x="271" y="63"/>
                </a:lnTo>
                <a:lnTo>
                  <a:pt x="289" y="55"/>
                </a:lnTo>
                <a:lnTo>
                  <a:pt x="305" y="46"/>
                </a:lnTo>
                <a:lnTo>
                  <a:pt x="323" y="39"/>
                </a:lnTo>
                <a:lnTo>
                  <a:pt x="341" y="32"/>
                </a:lnTo>
                <a:lnTo>
                  <a:pt x="360" y="26"/>
                </a:lnTo>
                <a:lnTo>
                  <a:pt x="378" y="20"/>
                </a:lnTo>
                <a:lnTo>
                  <a:pt x="396" y="15"/>
                </a:lnTo>
                <a:lnTo>
                  <a:pt x="415" y="12"/>
                </a:lnTo>
                <a:lnTo>
                  <a:pt x="434" y="8"/>
                </a:lnTo>
                <a:lnTo>
                  <a:pt x="453" y="5"/>
                </a:lnTo>
                <a:lnTo>
                  <a:pt x="472" y="2"/>
                </a:lnTo>
                <a:lnTo>
                  <a:pt x="492" y="1"/>
                </a:lnTo>
                <a:lnTo>
                  <a:pt x="511" y="0"/>
                </a:lnTo>
                <a:lnTo>
                  <a:pt x="531" y="0"/>
                </a:lnTo>
                <a:lnTo>
                  <a:pt x="559" y="1"/>
                </a:lnTo>
                <a:lnTo>
                  <a:pt x="587" y="2"/>
                </a:lnTo>
                <a:lnTo>
                  <a:pt x="614" y="6"/>
                </a:lnTo>
                <a:lnTo>
                  <a:pt x="640" y="10"/>
                </a:lnTo>
                <a:lnTo>
                  <a:pt x="665" y="15"/>
                </a:lnTo>
                <a:lnTo>
                  <a:pt x="690" y="21"/>
                </a:lnTo>
                <a:lnTo>
                  <a:pt x="715" y="30"/>
                </a:lnTo>
                <a:lnTo>
                  <a:pt x="739" y="38"/>
                </a:lnTo>
                <a:lnTo>
                  <a:pt x="762" y="49"/>
                </a:lnTo>
                <a:lnTo>
                  <a:pt x="785" y="59"/>
                </a:lnTo>
                <a:lnTo>
                  <a:pt x="806" y="73"/>
                </a:lnTo>
                <a:lnTo>
                  <a:pt x="828" y="86"/>
                </a:lnTo>
                <a:lnTo>
                  <a:pt x="849" y="101"/>
                </a:lnTo>
                <a:lnTo>
                  <a:pt x="869" y="116"/>
                </a:lnTo>
                <a:lnTo>
                  <a:pt x="889" y="134"/>
                </a:lnTo>
                <a:lnTo>
                  <a:pt x="908" y="152"/>
                </a:lnTo>
                <a:lnTo>
                  <a:pt x="926" y="171"/>
                </a:lnTo>
                <a:lnTo>
                  <a:pt x="943" y="191"/>
                </a:lnTo>
                <a:lnTo>
                  <a:pt x="958" y="212"/>
                </a:lnTo>
                <a:lnTo>
                  <a:pt x="974" y="233"/>
                </a:lnTo>
                <a:lnTo>
                  <a:pt x="987" y="254"/>
                </a:lnTo>
                <a:lnTo>
                  <a:pt x="999" y="277"/>
                </a:lnTo>
                <a:lnTo>
                  <a:pt x="1011" y="301"/>
                </a:lnTo>
                <a:lnTo>
                  <a:pt x="1020" y="323"/>
                </a:lnTo>
                <a:lnTo>
                  <a:pt x="1030" y="347"/>
                </a:lnTo>
                <a:lnTo>
                  <a:pt x="1037" y="372"/>
                </a:lnTo>
                <a:lnTo>
                  <a:pt x="1044" y="397"/>
                </a:lnTo>
                <a:lnTo>
                  <a:pt x="1049" y="423"/>
                </a:lnTo>
                <a:lnTo>
                  <a:pt x="1053" y="449"/>
                </a:lnTo>
                <a:lnTo>
                  <a:pt x="1056" y="477"/>
                </a:lnTo>
                <a:lnTo>
                  <a:pt x="1058" y="505"/>
                </a:lnTo>
                <a:lnTo>
                  <a:pt x="1058" y="533"/>
                </a:lnTo>
                <a:lnTo>
                  <a:pt x="1058" y="554"/>
                </a:lnTo>
                <a:lnTo>
                  <a:pt x="1056" y="575"/>
                </a:lnTo>
                <a:lnTo>
                  <a:pt x="1053" y="598"/>
                </a:lnTo>
                <a:lnTo>
                  <a:pt x="1050" y="619"/>
                </a:lnTo>
                <a:lnTo>
                  <a:pt x="1045" y="642"/>
                </a:lnTo>
                <a:lnTo>
                  <a:pt x="1038" y="666"/>
                </a:lnTo>
                <a:lnTo>
                  <a:pt x="1032" y="689"/>
                </a:lnTo>
                <a:lnTo>
                  <a:pt x="1024" y="713"/>
                </a:lnTo>
                <a:lnTo>
                  <a:pt x="1014" y="737"/>
                </a:lnTo>
                <a:lnTo>
                  <a:pt x="1003" y="762"/>
                </a:lnTo>
                <a:lnTo>
                  <a:pt x="993" y="787"/>
                </a:lnTo>
                <a:lnTo>
                  <a:pt x="980" y="812"/>
                </a:lnTo>
                <a:lnTo>
                  <a:pt x="967" y="838"/>
                </a:lnTo>
                <a:lnTo>
                  <a:pt x="952" y="864"/>
                </a:lnTo>
                <a:lnTo>
                  <a:pt x="936" y="890"/>
                </a:lnTo>
                <a:lnTo>
                  <a:pt x="919" y="918"/>
                </a:lnTo>
                <a:lnTo>
                  <a:pt x="911" y="931"/>
                </a:lnTo>
                <a:lnTo>
                  <a:pt x="903" y="944"/>
                </a:lnTo>
                <a:lnTo>
                  <a:pt x="895" y="955"/>
                </a:lnTo>
                <a:lnTo>
                  <a:pt x="889" y="966"/>
                </a:lnTo>
                <a:lnTo>
                  <a:pt x="882" y="976"/>
                </a:lnTo>
                <a:lnTo>
                  <a:pt x="878" y="984"/>
                </a:lnTo>
                <a:lnTo>
                  <a:pt x="873" y="993"/>
                </a:lnTo>
                <a:lnTo>
                  <a:pt x="868" y="1000"/>
                </a:lnTo>
                <a:lnTo>
                  <a:pt x="861" y="1014"/>
                </a:lnTo>
                <a:lnTo>
                  <a:pt x="853" y="1029"/>
                </a:lnTo>
                <a:lnTo>
                  <a:pt x="847" y="1045"/>
                </a:lnTo>
                <a:lnTo>
                  <a:pt x="840" y="1062"/>
                </a:lnTo>
                <a:lnTo>
                  <a:pt x="834" y="1078"/>
                </a:lnTo>
                <a:lnTo>
                  <a:pt x="829" y="1097"/>
                </a:lnTo>
                <a:lnTo>
                  <a:pt x="824" y="1116"/>
                </a:lnTo>
                <a:lnTo>
                  <a:pt x="819" y="1135"/>
                </a:lnTo>
                <a:lnTo>
                  <a:pt x="816" y="1155"/>
                </a:lnTo>
                <a:lnTo>
                  <a:pt x="813" y="1178"/>
                </a:lnTo>
                <a:lnTo>
                  <a:pt x="810" y="1201"/>
                </a:lnTo>
                <a:lnTo>
                  <a:pt x="808" y="1223"/>
                </a:lnTo>
                <a:lnTo>
                  <a:pt x="806" y="1248"/>
                </a:lnTo>
                <a:lnTo>
                  <a:pt x="805" y="1273"/>
                </a:lnTo>
                <a:lnTo>
                  <a:pt x="804" y="1299"/>
                </a:lnTo>
                <a:lnTo>
                  <a:pt x="804" y="1327"/>
                </a:lnTo>
                <a:lnTo>
                  <a:pt x="804" y="1486"/>
                </a:lnTo>
                <a:lnTo>
                  <a:pt x="302" y="1486"/>
                </a:lnTo>
                <a:close/>
                <a:moveTo>
                  <a:pt x="302" y="2146"/>
                </a:moveTo>
                <a:lnTo>
                  <a:pt x="302" y="1610"/>
                </a:lnTo>
                <a:lnTo>
                  <a:pt x="804" y="1610"/>
                </a:lnTo>
                <a:lnTo>
                  <a:pt x="804" y="2146"/>
                </a:lnTo>
                <a:lnTo>
                  <a:pt x="302" y="2146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49440" y="852480"/>
            <a:ext cx="574920" cy="555480"/>
          </a:xfrm>
          <a:custGeom>
            <a:avLst/>
            <a:gdLst/>
            <a:ahLst/>
            <a:rect l="l" t="t" r="r" b="b"/>
            <a:pathLst>
              <a:path w="2175" h="2102">
                <a:moveTo>
                  <a:pt x="0" y="2094"/>
                </a:moveTo>
                <a:lnTo>
                  <a:pt x="263" y="0"/>
                </a:lnTo>
                <a:lnTo>
                  <a:pt x="704" y="0"/>
                </a:lnTo>
                <a:lnTo>
                  <a:pt x="1073" y="931"/>
                </a:lnTo>
                <a:lnTo>
                  <a:pt x="1447" y="0"/>
                </a:lnTo>
                <a:lnTo>
                  <a:pt x="1877" y="0"/>
                </a:lnTo>
                <a:lnTo>
                  <a:pt x="2175" y="2094"/>
                </a:lnTo>
                <a:lnTo>
                  <a:pt x="1617" y="2094"/>
                </a:lnTo>
                <a:lnTo>
                  <a:pt x="1499" y="1133"/>
                </a:lnTo>
                <a:lnTo>
                  <a:pt x="1096" y="2102"/>
                </a:lnTo>
                <a:lnTo>
                  <a:pt x="658" y="1133"/>
                </a:lnTo>
                <a:lnTo>
                  <a:pt x="558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54400" y="1019160"/>
            <a:ext cx="112680" cy="185760"/>
          </a:xfrm>
          <a:custGeom>
            <a:avLst/>
            <a:gdLst/>
            <a:ahLst/>
            <a:rect l="l" t="t" r="r" b="b"/>
            <a:pathLst>
              <a:path w="430" h="706">
                <a:moveTo>
                  <a:pt x="0" y="706"/>
                </a:moveTo>
                <a:lnTo>
                  <a:pt x="430" y="706"/>
                </a:lnTo>
                <a:lnTo>
                  <a:pt x="215" y="0"/>
                </a:lnTo>
                <a:lnTo>
                  <a:pt x="0" y="7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308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0" y="2094"/>
                </a:moveTo>
                <a:lnTo>
                  <a:pt x="730" y="0"/>
                </a:lnTo>
                <a:lnTo>
                  <a:pt x="1341" y="0"/>
                </a:lnTo>
                <a:lnTo>
                  <a:pt x="2032" y="2094"/>
                </a:lnTo>
                <a:lnTo>
                  <a:pt x="1458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3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73520" y="973080"/>
            <a:ext cx="93600" cy="139680"/>
          </a:xfrm>
          <a:custGeom>
            <a:avLst/>
            <a:gdLst/>
            <a:ahLst/>
            <a:rect l="l" t="t" r="r" b="b"/>
            <a:pathLst>
              <a:path w="351" h="524">
                <a:moveTo>
                  <a:pt x="0" y="524"/>
                </a:moveTo>
                <a:lnTo>
                  <a:pt x="52" y="524"/>
                </a:lnTo>
                <a:lnTo>
                  <a:pt x="88" y="524"/>
                </a:lnTo>
                <a:lnTo>
                  <a:pt x="121" y="521"/>
                </a:lnTo>
                <a:lnTo>
                  <a:pt x="137" y="518"/>
                </a:lnTo>
                <a:lnTo>
                  <a:pt x="152" y="516"/>
                </a:lnTo>
                <a:lnTo>
                  <a:pt x="167" y="513"/>
                </a:lnTo>
                <a:lnTo>
                  <a:pt x="181" y="508"/>
                </a:lnTo>
                <a:lnTo>
                  <a:pt x="194" y="504"/>
                </a:lnTo>
                <a:lnTo>
                  <a:pt x="207" y="499"/>
                </a:lnTo>
                <a:lnTo>
                  <a:pt x="220" y="493"/>
                </a:lnTo>
                <a:lnTo>
                  <a:pt x="232" y="488"/>
                </a:lnTo>
                <a:lnTo>
                  <a:pt x="243" y="482"/>
                </a:lnTo>
                <a:lnTo>
                  <a:pt x="255" y="474"/>
                </a:lnTo>
                <a:lnTo>
                  <a:pt x="264" y="466"/>
                </a:lnTo>
                <a:lnTo>
                  <a:pt x="275" y="459"/>
                </a:lnTo>
                <a:lnTo>
                  <a:pt x="283" y="450"/>
                </a:lnTo>
                <a:lnTo>
                  <a:pt x="293" y="441"/>
                </a:lnTo>
                <a:lnTo>
                  <a:pt x="300" y="432"/>
                </a:lnTo>
                <a:lnTo>
                  <a:pt x="308" y="421"/>
                </a:lnTo>
                <a:lnTo>
                  <a:pt x="315" y="411"/>
                </a:lnTo>
                <a:lnTo>
                  <a:pt x="321" y="400"/>
                </a:lnTo>
                <a:lnTo>
                  <a:pt x="327" y="389"/>
                </a:lnTo>
                <a:lnTo>
                  <a:pt x="332" y="377"/>
                </a:lnTo>
                <a:lnTo>
                  <a:pt x="337" y="365"/>
                </a:lnTo>
                <a:lnTo>
                  <a:pt x="340" y="352"/>
                </a:lnTo>
                <a:lnTo>
                  <a:pt x="344" y="339"/>
                </a:lnTo>
                <a:lnTo>
                  <a:pt x="346" y="325"/>
                </a:lnTo>
                <a:lnTo>
                  <a:pt x="349" y="310"/>
                </a:lnTo>
                <a:lnTo>
                  <a:pt x="350" y="296"/>
                </a:lnTo>
                <a:lnTo>
                  <a:pt x="351" y="281"/>
                </a:lnTo>
                <a:lnTo>
                  <a:pt x="351" y="265"/>
                </a:lnTo>
                <a:lnTo>
                  <a:pt x="351" y="249"/>
                </a:lnTo>
                <a:lnTo>
                  <a:pt x="350" y="233"/>
                </a:lnTo>
                <a:lnTo>
                  <a:pt x="349" y="219"/>
                </a:lnTo>
                <a:lnTo>
                  <a:pt x="346" y="205"/>
                </a:lnTo>
                <a:lnTo>
                  <a:pt x="344" y="190"/>
                </a:lnTo>
                <a:lnTo>
                  <a:pt x="340" y="177"/>
                </a:lnTo>
                <a:lnTo>
                  <a:pt x="337" y="164"/>
                </a:lnTo>
                <a:lnTo>
                  <a:pt x="333" y="151"/>
                </a:lnTo>
                <a:lnTo>
                  <a:pt x="327" y="139"/>
                </a:lnTo>
                <a:lnTo>
                  <a:pt x="323" y="127"/>
                </a:lnTo>
                <a:lnTo>
                  <a:pt x="317" y="117"/>
                </a:lnTo>
                <a:lnTo>
                  <a:pt x="309" y="106"/>
                </a:lnTo>
                <a:lnTo>
                  <a:pt x="302" y="95"/>
                </a:lnTo>
                <a:lnTo>
                  <a:pt x="295" y="86"/>
                </a:lnTo>
                <a:lnTo>
                  <a:pt x="287" y="77"/>
                </a:lnTo>
                <a:lnTo>
                  <a:pt x="277" y="68"/>
                </a:lnTo>
                <a:lnTo>
                  <a:pt x="268" y="60"/>
                </a:lnTo>
                <a:lnTo>
                  <a:pt x="258" y="52"/>
                </a:lnTo>
                <a:lnTo>
                  <a:pt x="248" y="45"/>
                </a:lnTo>
                <a:lnTo>
                  <a:pt x="237" y="38"/>
                </a:lnTo>
                <a:lnTo>
                  <a:pt x="225" y="32"/>
                </a:lnTo>
                <a:lnTo>
                  <a:pt x="213" y="26"/>
                </a:lnTo>
                <a:lnTo>
                  <a:pt x="200" y="22"/>
                </a:lnTo>
                <a:lnTo>
                  <a:pt x="188" y="17"/>
                </a:lnTo>
                <a:lnTo>
                  <a:pt x="174" y="13"/>
                </a:lnTo>
                <a:lnTo>
                  <a:pt x="161" y="10"/>
                </a:lnTo>
                <a:lnTo>
                  <a:pt x="147" y="7"/>
                </a:lnTo>
                <a:lnTo>
                  <a:pt x="131" y="5"/>
                </a:lnTo>
                <a:lnTo>
                  <a:pt x="101" y="1"/>
                </a:lnTo>
                <a:lnTo>
                  <a:pt x="67" y="0"/>
                </a:lnTo>
                <a:lnTo>
                  <a:pt x="0" y="0"/>
                </a:lnTo>
                <a:lnTo>
                  <a:pt x="0" y="52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3060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0" y="2094"/>
                </a:moveTo>
                <a:lnTo>
                  <a:pt x="0" y="0"/>
                </a:lnTo>
                <a:lnTo>
                  <a:pt x="590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29" y="67"/>
                </a:lnTo>
                <a:lnTo>
                  <a:pt x="1064" y="81"/>
                </a:lnTo>
                <a:lnTo>
                  <a:pt x="1099" y="97"/>
                </a:lnTo>
                <a:lnTo>
                  <a:pt x="1131" y="112"/>
                </a:lnTo>
                <a:lnTo>
                  <a:pt x="1163" y="130"/>
                </a:lnTo>
                <a:lnTo>
                  <a:pt x="1191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8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7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1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4" y="1100"/>
                </a:lnTo>
                <a:lnTo>
                  <a:pt x="1228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5" y="1168"/>
                </a:lnTo>
                <a:lnTo>
                  <a:pt x="1106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33960" y="973080"/>
            <a:ext cx="91800" cy="139680"/>
          </a:xfrm>
          <a:custGeom>
            <a:avLst/>
            <a:gdLst/>
            <a:ahLst/>
            <a:rect l="l" t="t" r="r" b="b"/>
            <a:pathLst>
              <a:path w="351" h="524">
                <a:moveTo>
                  <a:pt x="0" y="524"/>
                </a:moveTo>
                <a:lnTo>
                  <a:pt x="53" y="524"/>
                </a:lnTo>
                <a:lnTo>
                  <a:pt x="87" y="524"/>
                </a:lnTo>
                <a:lnTo>
                  <a:pt x="121" y="521"/>
                </a:lnTo>
                <a:lnTo>
                  <a:pt x="137" y="518"/>
                </a:lnTo>
                <a:lnTo>
                  <a:pt x="153" y="516"/>
                </a:lnTo>
                <a:lnTo>
                  <a:pt x="167" y="513"/>
                </a:lnTo>
                <a:lnTo>
                  <a:pt x="181" y="508"/>
                </a:lnTo>
                <a:lnTo>
                  <a:pt x="194" y="504"/>
                </a:lnTo>
                <a:lnTo>
                  <a:pt x="207" y="499"/>
                </a:lnTo>
                <a:lnTo>
                  <a:pt x="220" y="493"/>
                </a:lnTo>
                <a:lnTo>
                  <a:pt x="232" y="488"/>
                </a:lnTo>
                <a:lnTo>
                  <a:pt x="244" y="482"/>
                </a:lnTo>
                <a:lnTo>
                  <a:pt x="255" y="474"/>
                </a:lnTo>
                <a:lnTo>
                  <a:pt x="264" y="466"/>
                </a:lnTo>
                <a:lnTo>
                  <a:pt x="275" y="459"/>
                </a:lnTo>
                <a:lnTo>
                  <a:pt x="283" y="450"/>
                </a:lnTo>
                <a:lnTo>
                  <a:pt x="293" y="441"/>
                </a:lnTo>
                <a:lnTo>
                  <a:pt x="301" y="432"/>
                </a:lnTo>
                <a:lnTo>
                  <a:pt x="308" y="421"/>
                </a:lnTo>
                <a:lnTo>
                  <a:pt x="315" y="411"/>
                </a:lnTo>
                <a:lnTo>
                  <a:pt x="321" y="400"/>
                </a:lnTo>
                <a:lnTo>
                  <a:pt x="327" y="389"/>
                </a:lnTo>
                <a:lnTo>
                  <a:pt x="332" y="377"/>
                </a:lnTo>
                <a:lnTo>
                  <a:pt x="337" y="365"/>
                </a:lnTo>
                <a:lnTo>
                  <a:pt x="340" y="352"/>
                </a:lnTo>
                <a:lnTo>
                  <a:pt x="344" y="339"/>
                </a:lnTo>
                <a:lnTo>
                  <a:pt x="346" y="325"/>
                </a:lnTo>
                <a:lnTo>
                  <a:pt x="349" y="310"/>
                </a:lnTo>
                <a:lnTo>
                  <a:pt x="350" y="296"/>
                </a:lnTo>
                <a:lnTo>
                  <a:pt x="351" y="281"/>
                </a:lnTo>
                <a:lnTo>
                  <a:pt x="351" y="265"/>
                </a:lnTo>
                <a:lnTo>
                  <a:pt x="351" y="249"/>
                </a:lnTo>
                <a:lnTo>
                  <a:pt x="350" y="233"/>
                </a:lnTo>
                <a:lnTo>
                  <a:pt x="349" y="219"/>
                </a:lnTo>
                <a:lnTo>
                  <a:pt x="346" y="205"/>
                </a:lnTo>
                <a:lnTo>
                  <a:pt x="344" y="190"/>
                </a:lnTo>
                <a:lnTo>
                  <a:pt x="340" y="177"/>
                </a:lnTo>
                <a:lnTo>
                  <a:pt x="337" y="164"/>
                </a:lnTo>
                <a:lnTo>
                  <a:pt x="333" y="151"/>
                </a:lnTo>
                <a:lnTo>
                  <a:pt x="328" y="139"/>
                </a:lnTo>
                <a:lnTo>
                  <a:pt x="322" y="127"/>
                </a:lnTo>
                <a:lnTo>
                  <a:pt x="317" y="117"/>
                </a:lnTo>
                <a:lnTo>
                  <a:pt x="309" y="106"/>
                </a:lnTo>
                <a:lnTo>
                  <a:pt x="302" y="95"/>
                </a:lnTo>
                <a:lnTo>
                  <a:pt x="295" y="86"/>
                </a:lnTo>
                <a:lnTo>
                  <a:pt x="287" y="77"/>
                </a:lnTo>
                <a:lnTo>
                  <a:pt x="277" y="68"/>
                </a:lnTo>
                <a:lnTo>
                  <a:pt x="268" y="60"/>
                </a:lnTo>
                <a:lnTo>
                  <a:pt x="258" y="52"/>
                </a:lnTo>
                <a:lnTo>
                  <a:pt x="248" y="45"/>
                </a:lnTo>
                <a:lnTo>
                  <a:pt x="237" y="38"/>
                </a:lnTo>
                <a:lnTo>
                  <a:pt x="225" y="32"/>
                </a:lnTo>
                <a:lnTo>
                  <a:pt x="213" y="26"/>
                </a:lnTo>
                <a:lnTo>
                  <a:pt x="201" y="22"/>
                </a:lnTo>
                <a:lnTo>
                  <a:pt x="188" y="17"/>
                </a:lnTo>
                <a:lnTo>
                  <a:pt x="174" y="13"/>
                </a:lnTo>
                <a:lnTo>
                  <a:pt x="161" y="10"/>
                </a:lnTo>
                <a:lnTo>
                  <a:pt x="147" y="7"/>
                </a:lnTo>
                <a:lnTo>
                  <a:pt x="131" y="5"/>
                </a:lnTo>
                <a:lnTo>
                  <a:pt x="101" y="1"/>
                </a:lnTo>
                <a:lnTo>
                  <a:pt x="67" y="0"/>
                </a:lnTo>
                <a:lnTo>
                  <a:pt x="0" y="0"/>
                </a:lnTo>
                <a:lnTo>
                  <a:pt x="0" y="52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9104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0" y="2094"/>
                </a:moveTo>
                <a:lnTo>
                  <a:pt x="0" y="0"/>
                </a:lnTo>
                <a:lnTo>
                  <a:pt x="591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30" y="67"/>
                </a:lnTo>
                <a:lnTo>
                  <a:pt x="1064" y="81"/>
                </a:lnTo>
                <a:lnTo>
                  <a:pt x="1099" y="97"/>
                </a:lnTo>
                <a:lnTo>
                  <a:pt x="1132" y="112"/>
                </a:lnTo>
                <a:lnTo>
                  <a:pt x="1163" y="130"/>
                </a:lnTo>
                <a:lnTo>
                  <a:pt x="1192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9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8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0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5" y="1100"/>
                </a:lnTo>
                <a:lnTo>
                  <a:pt x="1229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6" y="1168"/>
                </a:lnTo>
                <a:lnTo>
                  <a:pt x="1107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56160" y="852480"/>
            <a:ext cx="142920" cy="554040"/>
          </a:xfrm>
          <a:prstGeom prst="rect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65840" y="1019160"/>
            <a:ext cx="112680" cy="185760"/>
          </a:xfrm>
          <a:custGeom>
            <a:avLst/>
            <a:gdLst/>
            <a:ahLst/>
            <a:rect l="l" t="t" r="r" b="b"/>
            <a:pathLst>
              <a:path w="430" h="706">
                <a:moveTo>
                  <a:pt x="0" y="706"/>
                </a:moveTo>
                <a:lnTo>
                  <a:pt x="430" y="706"/>
                </a:lnTo>
                <a:lnTo>
                  <a:pt x="214" y="0"/>
                </a:lnTo>
                <a:lnTo>
                  <a:pt x="0" y="7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5452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0" y="2094"/>
                </a:moveTo>
                <a:lnTo>
                  <a:pt x="731" y="0"/>
                </a:lnTo>
                <a:lnTo>
                  <a:pt x="1341" y="0"/>
                </a:lnTo>
                <a:lnTo>
                  <a:pt x="2032" y="2094"/>
                </a:lnTo>
                <a:lnTo>
                  <a:pt x="1459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4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05320" y="841320"/>
            <a:ext cx="474840" cy="576360"/>
          </a:xfrm>
          <a:custGeom>
            <a:avLst/>
            <a:gdLst/>
            <a:ahLst/>
            <a:rect l="l" t="t" r="r" b="b"/>
            <a:pathLst>
              <a:path w="1797" h="2173">
                <a:moveTo>
                  <a:pt x="1797" y="2050"/>
                </a:moveTo>
                <a:lnTo>
                  <a:pt x="1762" y="2064"/>
                </a:lnTo>
                <a:lnTo>
                  <a:pt x="1727" y="2077"/>
                </a:lnTo>
                <a:lnTo>
                  <a:pt x="1689" y="2090"/>
                </a:lnTo>
                <a:lnTo>
                  <a:pt x="1651" y="2102"/>
                </a:lnTo>
                <a:lnTo>
                  <a:pt x="1610" y="2113"/>
                </a:lnTo>
                <a:lnTo>
                  <a:pt x="1570" y="2123"/>
                </a:lnTo>
                <a:lnTo>
                  <a:pt x="1527" y="2132"/>
                </a:lnTo>
                <a:lnTo>
                  <a:pt x="1485" y="2140"/>
                </a:lnTo>
                <a:lnTo>
                  <a:pt x="1441" y="2148"/>
                </a:lnTo>
                <a:lnTo>
                  <a:pt x="1396" y="2154"/>
                </a:lnTo>
                <a:lnTo>
                  <a:pt x="1350" y="2160"/>
                </a:lnTo>
                <a:lnTo>
                  <a:pt x="1304" y="2165"/>
                </a:lnTo>
                <a:lnTo>
                  <a:pt x="1259" y="2169"/>
                </a:lnTo>
                <a:lnTo>
                  <a:pt x="1212" y="2171"/>
                </a:lnTo>
                <a:lnTo>
                  <a:pt x="1164" y="2172"/>
                </a:lnTo>
                <a:lnTo>
                  <a:pt x="1117" y="2173"/>
                </a:lnTo>
                <a:lnTo>
                  <a:pt x="1052" y="2172"/>
                </a:lnTo>
                <a:lnTo>
                  <a:pt x="990" y="2169"/>
                </a:lnTo>
                <a:lnTo>
                  <a:pt x="960" y="2166"/>
                </a:lnTo>
                <a:lnTo>
                  <a:pt x="929" y="2163"/>
                </a:lnTo>
                <a:lnTo>
                  <a:pt x="899" y="2159"/>
                </a:lnTo>
                <a:lnTo>
                  <a:pt x="871" y="2155"/>
                </a:lnTo>
                <a:lnTo>
                  <a:pt x="841" y="2151"/>
                </a:lnTo>
                <a:lnTo>
                  <a:pt x="814" y="2145"/>
                </a:lnTo>
                <a:lnTo>
                  <a:pt x="785" y="2139"/>
                </a:lnTo>
                <a:lnTo>
                  <a:pt x="758" y="2133"/>
                </a:lnTo>
                <a:lnTo>
                  <a:pt x="731" y="2126"/>
                </a:lnTo>
                <a:lnTo>
                  <a:pt x="705" y="2119"/>
                </a:lnTo>
                <a:lnTo>
                  <a:pt x="677" y="2110"/>
                </a:lnTo>
                <a:lnTo>
                  <a:pt x="652" y="2101"/>
                </a:lnTo>
                <a:lnTo>
                  <a:pt x="626" y="2092"/>
                </a:lnTo>
                <a:lnTo>
                  <a:pt x="601" y="2083"/>
                </a:lnTo>
                <a:lnTo>
                  <a:pt x="578" y="2072"/>
                </a:lnTo>
                <a:lnTo>
                  <a:pt x="553" y="2062"/>
                </a:lnTo>
                <a:lnTo>
                  <a:pt x="530" y="2050"/>
                </a:lnTo>
                <a:lnTo>
                  <a:pt x="506" y="2038"/>
                </a:lnTo>
                <a:lnTo>
                  <a:pt x="484" y="2025"/>
                </a:lnTo>
                <a:lnTo>
                  <a:pt x="461" y="2012"/>
                </a:lnTo>
                <a:lnTo>
                  <a:pt x="440" y="1999"/>
                </a:lnTo>
                <a:lnTo>
                  <a:pt x="417" y="1984"/>
                </a:lnTo>
                <a:lnTo>
                  <a:pt x="397" y="1969"/>
                </a:lnTo>
                <a:lnTo>
                  <a:pt x="376" y="1953"/>
                </a:lnTo>
                <a:lnTo>
                  <a:pt x="356" y="1938"/>
                </a:lnTo>
                <a:lnTo>
                  <a:pt x="337" y="1921"/>
                </a:lnTo>
                <a:lnTo>
                  <a:pt x="317" y="1905"/>
                </a:lnTo>
                <a:lnTo>
                  <a:pt x="299" y="1887"/>
                </a:lnTo>
                <a:lnTo>
                  <a:pt x="280" y="1869"/>
                </a:lnTo>
                <a:lnTo>
                  <a:pt x="262" y="1850"/>
                </a:lnTo>
                <a:lnTo>
                  <a:pt x="244" y="1831"/>
                </a:lnTo>
                <a:lnTo>
                  <a:pt x="228" y="1812"/>
                </a:lnTo>
                <a:lnTo>
                  <a:pt x="212" y="1793"/>
                </a:lnTo>
                <a:lnTo>
                  <a:pt x="197" y="1773"/>
                </a:lnTo>
                <a:lnTo>
                  <a:pt x="181" y="1752"/>
                </a:lnTo>
                <a:lnTo>
                  <a:pt x="167" y="1731"/>
                </a:lnTo>
                <a:lnTo>
                  <a:pt x="154" y="1710"/>
                </a:lnTo>
                <a:lnTo>
                  <a:pt x="141" y="1688"/>
                </a:lnTo>
                <a:lnTo>
                  <a:pt x="128" y="1666"/>
                </a:lnTo>
                <a:lnTo>
                  <a:pt x="116" y="1643"/>
                </a:lnTo>
                <a:lnTo>
                  <a:pt x="104" y="1621"/>
                </a:lnTo>
                <a:lnTo>
                  <a:pt x="93" y="1597"/>
                </a:lnTo>
                <a:lnTo>
                  <a:pt x="84" y="1574"/>
                </a:lnTo>
                <a:lnTo>
                  <a:pt x="74" y="1549"/>
                </a:lnTo>
                <a:lnTo>
                  <a:pt x="65" y="1525"/>
                </a:lnTo>
                <a:lnTo>
                  <a:pt x="57" y="1500"/>
                </a:lnTo>
                <a:lnTo>
                  <a:pt x="48" y="1474"/>
                </a:lnTo>
                <a:lnTo>
                  <a:pt x="41" y="1449"/>
                </a:lnTo>
                <a:lnTo>
                  <a:pt x="34" y="1423"/>
                </a:lnTo>
                <a:lnTo>
                  <a:pt x="28" y="1397"/>
                </a:lnTo>
                <a:lnTo>
                  <a:pt x="22" y="1370"/>
                </a:lnTo>
                <a:lnTo>
                  <a:pt x="17" y="1342"/>
                </a:lnTo>
                <a:lnTo>
                  <a:pt x="14" y="1315"/>
                </a:lnTo>
                <a:lnTo>
                  <a:pt x="9" y="1286"/>
                </a:lnTo>
                <a:lnTo>
                  <a:pt x="7" y="1258"/>
                </a:lnTo>
                <a:lnTo>
                  <a:pt x="3" y="1229"/>
                </a:lnTo>
                <a:lnTo>
                  <a:pt x="2" y="1200"/>
                </a:lnTo>
                <a:lnTo>
                  <a:pt x="1" y="1170"/>
                </a:lnTo>
                <a:lnTo>
                  <a:pt x="0" y="1140"/>
                </a:lnTo>
                <a:lnTo>
                  <a:pt x="0" y="1109"/>
                </a:lnTo>
                <a:lnTo>
                  <a:pt x="0" y="1080"/>
                </a:lnTo>
                <a:lnTo>
                  <a:pt x="1" y="1050"/>
                </a:lnTo>
                <a:lnTo>
                  <a:pt x="2" y="1020"/>
                </a:lnTo>
                <a:lnTo>
                  <a:pt x="4" y="992"/>
                </a:lnTo>
                <a:lnTo>
                  <a:pt x="7" y="963"/>
                </a:lnTo>
                <a:lnTo>
                  <a:pt x="10" y="935"/>
                </a:lnTo>
                <a:lnTo>
                  <a:pt x="14" y="906"/>
                </a:lnTo>
                <a:lnTo>
                  <a:pt x="19" y="879"/>
                </a:lnTo>
                <a:lnTo>
                  <a:pt x="23" y="851"/>
                </a:lnTo>
                <a:lnTo>
                  <a:pt x="29" y="825"/>
                </a:lnTo>
                <a:lnTo>
                  <a:pt x="36" y="798"/>
                </a:lnTo>
                <a:lnTo>
                  <a:pt x="44" y="772"/>
                </a:lnTo>
                <a:lnTo>
                  <a:pt x="51" y="746"/>
                </a:lnTo>
                <a:lnTo>
                  <a:pt x="59" y="719"/>
                </a:lnTo>
                <a:lnTo>
                  <a:pt x="67" y="694"/>
                </a:lnTo>
                <a:lnTo>
                  <a:pt x="77" y="670"/>
                </a:lnTo>
                <a:lnTo>
                  <a:pt x="87" y="645"/>
                </a:lnTo>
                <a:lnTo>
                  <a:pt x="98" y="621"/>
                </a:lnTo>
                <a:lnTo>
                  <a:pt x="109" y="597"/>
                </a:lnTo>
                <a:lnTo>
                  <a:pt x="121" y="573"/>
                </a:lnTo>
                <a:lnTo>
                  <a:pt x="134" y="549"/>
                </a:lnTo>
                <a:lnTo>
                  <a:pt x="147" y="527"/>
                </a:lnTo>
                <a:lnTo>
                  <a:pt x="161" y="504"/>
                </a:lnTo>
                <a:lnTo>
                  <a:pt x="175" y="482"/>
                </a:lnTo>
                <a:lnTo>
                  <a:pt x="190" y="459"/>
                </a:lnTo>
                <a:lnTo>
                  <a:pt x="205" y="438"/>
                </a:lnTo>
                <a:lnTo>
                  <a:pt x="222" y="416"/>
                </a:lnTo>
                <a:lnTo>
                  <a:pt x="238" y="395"/>
                </a:lnTo>
                <a:lnTo>
                  <a:pt x="256" y="375"/>
                </a:lnTo>
                <a:lnTo>
                  <a:pt x="274" y="353"/>
                </a:lnTo>
                <a:lnTo>
                  <a:pt x="293" y="334"/>
                </a:lnTo>
                <a:lnTo>
                  <a:pt x="312" y="314"/>
                </a:lnTo>
                <a:lnTo>
                  <a:pt x="332" y="295"/>
                </a:lnTo>
                <a:lnTo>
                  <a:pt x="351" y="276"/>
                </a:lnTo>
                <a:lnTo>
                  <a:pt x="371" y="258"/>
                </a:lnTo>
                <a:lnTo>
                  <a:pt x="393" y="240"/>
                </a:lnTo>
                <a:lnTo>
                  <a:pt x="414" y="224"/>
                </a:lnTo>
                <a:lnTo>
                  <a:pt x="434" y="207"/>
                </a:lnTo>
                <a:lnTo>
                  <a:pt x="457" y="192"/>
                </a:lnTo>
                <a:lnTo>
                  <a:pt x="478" y="176"/>
                </a:lnTo>
                <a:lnTo>
                  <a:pt x="501" y="162"/>
                </a:lnTo>
                <a:lnTo>
                  <a:pt x="523" y="149"/>
                </a:lnTo>
                <a:lnTo>
                  <a:pt x="546" y="136"/>
                </a:lnTo>
                <a:lnTo>
                  <a:pt x="569" y="123"/>
                </a:lnTo>
                <a:lnTo>
                  <a:pt x="592" y="111"/>
                </a:lnTo>
                <a:lnTo>
                  <a:pt x="616" y="99"/>
                </a:lnTo>
                <a:lnTo>
                  <a:pt x="641" y="88"/>
                </a:lnTo>
                <a:lnTo>
                  <a:pt x="664" y="79"/>
                </a:lnTo>
                <a:lnTo>
                  <a:pt x="689" y="69"/>
                </a:lnTo>
                <a:lnTo>
                  <a:pt x="714" y="60"/>
                </a:lnTo>
                <a:lnTo>
                  <a:pt x="740" y="53"/>
                </a:lnTo>
                <a:lnTo>
                  <a:pt x="765" y="44"/>
                </a:lnTo>
                <a:lnTo>
                  <a:pt x="791" y="37"/>
                </a:lnTo>
                <a:lnTo>
                  <a:pt x="819" y="31"/>
                </a:lnTo>
                <a:lnTo>
                  <a:pt x="845" y="25"/>
                </a:lnTo>
                <a:lnTo>
                  <a:pt x="872" y="19"/>
                </a:lnTo>
                <a:lnTo>
                  <a:pt x="899" y="16"/>
                </a:lnTo>
                <a:lnTo>
                  <a:pt x="927" y="11"/>
                </a:lnTo>
                <a:lnTo>
                  <a:pt x="955" y="7"/>
                </a:lnTo>
                <a:lnTo>
                  <a:pt x="984" y="5"/>
                </a:lnTo>
                <a:lnTo>
                  <a:pt x="1012" y="3"/>
                </a:lnTo>
                <a:lnTo>
                  <a:pt x="1041" y="1"/>
                </a:lnTo>
                <a:lnTo>
                  <a:pt x="1070" y="0"/>
                </a:lnTo>
                <a:lnTo>
                  <a:pt x="1100" y="0"/>
                </a:lnTo>
                <a:lnTo>
                  <a:pt x="1145" y="1"/>
                </a:lnTo>
                <a:lnTo>
                  <a:pt x="1189" y="4"/>
                </a:lnTo>
                <a:lnTo>
                  <a:pt x="1234" y="7"/>
                </a:lnTo>
                <a:lnTo>
                  <a:pt x="1278" y="13"/>
                </a:lnTo>
                <a:lnTo>
                  <a:pt x="1322" y="20"/>
                </a:lnTo>
                <a:lnTo>
                  <a:pt x="1365" y="29"/>
                </a:lnTo>
                <a:lnTo>
                  <a:pt x="1409" y="39"/>
                </a:lnTo>
                <a:lnTo>
                  <a:pt x="1451" y="51"/>
                </a:lnTo>
                <a:lnTo>
                  <a:pt x="1493" y="66"/>
                </a:lnTo>
                <a:lnTo>
                  <a:pt x="1534" y="80"/>
                </a:lnTo>
                <a:lnTo>
                  <a:pt x="1575" y="97"/>
                </a:lnTo>
                <a:lnTo>
                  <a:pt x="1615" y="114"/>
                </a:lnTo>
                <a:lnTo>
                  <a:pt x="1653" y="133"/>
                </a:lnTo>
                <a:lnTo>
                  <a:pt x="1691" y="154"/>
                </a:lnTo>
                <a:lnTo>
                  <a:pt x="1728" y="175"/>
                </a:lnTo>
                <a:lnTo>
                  <a:pt x="1765" y="199"/>
                </a:lnTo>
                <a:lnTo>
                  <a:pt x="1544" y="700"/>
                </a:lnTo>
                <a:lnTo>
                  <a:pt x="1511" y="683"/>
                </a:lnTo>
                <a:lnTo>
                  <a:pt x="1480" y="666"/>
                </a:lnTo>
                <a:lnTo>
                  <a:pt x="1449" y="651"/>
                </a:lnTo>
                <a:lnTo>
                  <a:pt x="1418" y="636"/>
                </a:lnTo>
                <a:lnTo>
                  <a:pt x="1388" y="624"/>
                </a:lnTo>
                <a:lnTo>
                  <a:pt x="1360" y="612"/>
                </a:lnTo>
                <a:lnTo>
                  <a:pt x="1331" y="602"/>
                </a:lnTo>
                <a:lnTo>
                  <a:pt x="1304" y="593"/>
                </a:lnTo>
                <a:lnTo>
                  <a:pt x="1276" y="585"/>
                </a:lnTo>
                <a:lnTo>
                  <a:pt x="1248" y="578"/>
                </a:lnTo>
                <a:lnTo>
                  <a:pt x="1221" y="572"/>
                </a:lnTo>
                <a:lnTo>
                  <a:pt x="1194" y="567"/>
                </a:lnTo>
                <a:lnTo>
                  <a:pt x="1168" y="564"/>
                </a:lnTo>
                <a:lnTo>
                  <a:pt x="1140" y="561"/>
                </a:lnTo>
                <a:lnTo>
                  <a:pt x="1113" y="560"/>
                </a:lnTo>
                <a:lnTo>
                  <a:pt x="1087" y="559"/>
                </a:lnTo>
                <a:lnTo>
                  <a:pt x="1057" y="560"/>
                </a:lnTo>
                <a:lnTo>
                  <a:pt x="1029" y="561"/>
                </a:lnTo>
                <a:lnTo>
                  <a:pt x="1000" y="565"/>
                </a:lnTo>
                <a:lnTo>
                  <a:pt x="973" y="568"/>
                </a:lnTo>
                <a:lnTo>
                  <a:pt x="947" y="574"/>
                </a:lnTo>
                <a:lnTo>
                  <a:pt x="921" y="582"/>
                </a:lnTo>
                <a:lnTo>
                  <a:pt x="896" y="589"/>
                </a:lnTo>
                <a:lnTo>
                  <a:pt x="871" y="598"/>
                </a:lnTo>
                <a:lnTo>
                  <a:pt x="847" y="608"/>
                </a:lnTo>
                <a:lnTo>
                  <a:pt x="823" y="620"/>
                </a:lnTo>
                <a:lnTo>
                  <a:pt x="801" y="633"/>
                </a:lnTo>
                <a:lnTo>
                  <a:pt x="779" y="646"/>
                </a:lnTo>
                <a:lnTo>
                  <a:pt x="758" y="661"/>
                </a:lnTo>
                <a:lnTo>
                  <a:pt x="737" y="678"/>
                </a:lnTo>
                <a:lnTo>
                  <a:pt x="717" y="694"/>
                </a:lnTo>
                <a:lnTo>
                  <a:pt x="698" y="714"/>
                </a:lnTo>
                <a:lnTo>
                  <a:pt x="680" y="734"/>
                </a:lnTo>
                <a:lnTo>
                  <a:pt x="662" y="754"/>
                </a:lnTo>
                <a:lnTo>
                  <a:pt x="645" y="774"/>
                </a:lnTo>
                <a:lnTo>
                  <a:pt x="631" y="796"/>
                </a:lnTo>
                <a:lnTo>
                  <a:pt x="617" y="818"/>
                </a:lnTo>
                <a:lnTo>
                  <a:pt x="605" y="841"/>
                </a:lnTo>
                <a:lnTo>
                  <a:pt x="593" y="864"/>
                </a:lnTo>
                <a:lnTo>
                  <a:pt x="584" y="889"/>
                </a:lnTo>
                <a:lnTo>
                  <a:pt x="574" y="914"/>
                </a:lnTo>
                <a:lnTo>
                  <a:pt x="567" y="939"/>
                </a:lnTo>
                <a:lnTo>
                  <a:pt x="560" y="966"/>
                </a:lnTo>
                <a:lnTo>
                  <a:pt x="555" y="993"/>
                </a:lnTo>
                <a:lnTo>
                  <a:pt x="552" y="1020"/>
                </a:lnTo>
                <a:lnTo>
                  <a:pt x="548" y="1049"/>
                </a:lnTo>
                <a:lnTo>
                  <a:pt x="547" y="1077"/>
                </a:lnTo>
                <a:lnTo>
                  <a:pt x="546" y="1107"/>
                </a:lnTo>
                <a:lnTo>
                  <a:pt x="546" y="1134"/>
                </a:lnTo>
                <a:lnTo>
                  <a:pt x="548" y="1160"/>
                </a:lnTo>
                <a:lnTo>
                  <a:pt x="550" y="1187"/>
                </a:lnTo>
                <a:lnTo>
                  <a:pt x="554" y="1213"/>
                </a:lnTo>
                <a:lnTo>
                  <a:pt x="559" y="1237"/>
                </a:lnTo>
                <a:lnTo>
                  <a:pt x="566" y="1262"/>
                </a:lnTo>
                <a:lnTo>
                  <a:pt x="573" y="1284"/>
                </a:lnTo>
                <a:lnTo>
                  <a:pt x="581" y="1308"/>
                </a:lnTo>
                <a:lnTo>
                  <a:pt x="590" y="1329"/>
                </a:lnTo>
                <a:lnTo>
                  <a:pt x="600" y="1352"/>
                </a:lnTo>
                <a:lnTo>
                  <a:pt x="612" y="1372"/>
                </a:lnTo>
                <a:lnTo>
                  <a:pt x="625" y="1392"/>
                </a:lnTo>
                <a:lnTo>
                  <a:pt x="638" y="1413"/>
                </a:lnTo>
                <a:lnTo>
                  <a:pt x="654" y="1432"/>
                </a:lnTo>
                <a:lnTo>
                  <a:pt x="669" y="1449"/>
                </a:lnTo>
                <a:lnTo>
                  <a:pt x="687" y="1467"/>
                </a:lnTo>
                <a:lnTo>
                  <a:pt x="705" y="1484"/>
                </a:lnTo>
                <a:lnTo>
                  <a:pt x="722" y="1500"/>
                </a:lnTo>
                <a:lnTo>
                  <a:pt x="741" y="1515"/>
                </a:lnTo>
                <a:lnTo>
                  <a:pt x="762" y="1528"/>
                </a:lnTo>
                <a:lnTo>
                  <a:pt x="782" y="1541"/>
                </a:lnTo>
                <a:lnTo>
                  <a:pt x="803" y="1553"/>
                </a:lnTo>
                <a:lnTo>
                  <a:pt x="825" y="1562"/>
                </a:lnTo>
                <a:lnTo>
                  <a:pt x="847" y="1572"/>
                </a:lnTo>
                <a:lnTo>
                  <a:pt x="871" y="1580"/>
                </a:lnTo>
                <a:lnTo>
                  <a:pt x="895" y="1587"/>
                </a:lnTo>
                <a:lnTo>
                  <a:pt x="918" y="1593"/>
                </a:lnTo>
                <a:lnTo>
                  <a:pt x="943" y="1598"/>
                </a:lnTo>
                <a:lnTo>
                  <a:pt x="969" y="1602"/>
                </a:lnTo>
                <a:lnTo>
                  <a:pt x="995" y="1605"/>
                </a:lnTo>
                <a:lnTo>
                  <a:pt x="1022" y="1606"/>
                </a:lnTo>
                <a:lnTo>
                  <a:pt x="1049" y="1606"/>
                </a:lnTo>
                <a:lnTo>
                  <a:pt x="1063" y="1606"/>
                </a:lnTo>
                <a:lnTo>
                  <a:pt x="1077" y="1606"/>
                </a:lnTo>
                <a:lnTo>
                  <a:pt x="1090" y="1605"/>
                </a:lnTo>
                <a:lnTo>
                  <a:pt x="1104" y="1605"/>
                </a:lnTo>
                <a:lnTo>
                  <a:pt x="1118" y="1604"/>
                </a:lnTo>
                <a:lnTo>
                  <a:pt x="1131" y="1602"/>
                </a:lnTo>
                <a:lnTo>
                  <a:pt x="1144" y="1600"/>
                </a:lnTo>
                <a:lnTo>
                  <a:pt x="1157" y="1598"/>
                </a:lnTo>
                <a:lnTo>
                  <a:pt x="1169" y="1596"/>
                </a:lnTo>
                <a:lnTo>
                  <a:pt x="1182" y="1592"/>
                </a:lnTo>
                <a:lnTo>
                  <a:pt x="1195" y="1590"/>
                </a:lnTo>
                <a:lnTo>
                  <a:pt x="1207" y="1586"/>
                </a:lnTo>
                <a:lnTo>
                  <a:pt x="1220" y="1582"/>
                </a:lnTo>
                <a:lnTo>
                  <a:pt x="1232" y="1579"/>
                </a:lnTo>
                <a:lnTo>
                  <a:pt x="1245" y="1574"/>
                </a:lnTo>
                <a:lnTo>
                  <a:pt x="1257" y="1569"/>
                </a:lnTo>
                <a:lnTo>
                  <a:pt x="1257" y="1051"/>
                </a:lnTo>
                <a:lnTo>
                  <a:pt x="1797" y="1051"/>
                </a:lnTo>
                <a:lnTo>
                  <a:pt x="1797" y="205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4400" y="852480"/>
            <a:ext cx="344160" cy="554040"/>
          </a:xfrm>
          <a:custGeom>
            <a:avLst/>
            <a:gdLst/>
            <a:ahLst/>
            <a:rect l="l" t="t" r="r" b="b"/>
            <a:pathLst>
              <a:path w="1306" h="2094">
                <a:moveTo>
                  <a:pt x="1306" y="1517"/>
                </a:moveTo>
                <a:lnTo>
                  <a:pt x="1160" y="2094"/>
                </a:lnTo>
                <a:lnTo>
                  <a:pt x="0" y="2094"/>
                </a:lnTo>
                <a:lnTo>
                  <a:pt x="0" y="0"/>
                </a:lnTo>
                <a:lnTo>
                  <a:pt x="1155" y="0"/>
                </a:lnTo>
                <a:lnTo>
                  <a:pt x="1244" y="557"/>
                </a:lnTo>
                <a:lnTo>
                  <a:pt x="540" y="557"/>
                </a:lnTo>
                <a:lnTo>
                  <a:pt x="540" y="769"/>
                </a:lnTo>
                <a:lnTo>
                  <a:pt x="1011" y="769"/>
                </a:lnTo>
                <a:lnTo>
                  <a:pt x="1011" y="1323"/>
                </a:lnTo>
                <a:lnTo>
                  <a:pt x="540" y="1323"/>
                </a:lnTo>
                <a:lnTo>
                  <a:pt x="540" y="1517"/>
                </a:lnTo>
                <a:lnTo>
                  <a:pt x="1306" y="1517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35720" y="838080"/>
            <a:ext cx="279360" cy="393840"/>
          </a:xfrm>
          <a:custGeom>
            <a:avLst/>
            <a:gdLst/>
            <a:ahLst/>
            <a:rect l="l" t="t" r="r" b="b"/>
            <a:pathLst>
              <a:path w="1058" h="1486">
                <a:moveTo>
                  <a:pt x="302" y="1486"/>
                </a:moveTo>
                <a:lnTo>
                  <a:pt x="302" y="1182"/>
                </a:lnTo>
                <a:lnTo>
                  <a:pt x="302" y="1160"/>
                </a:lnTo>
                <a:lnTo>
                  <a:pt x="303" y="1140"/>
                </a:lnTo>
                <a:lnTo>
                  <a:pt x="304" y="1121"/>
                </a:lnTo>
                <a:lnTo>
                  <a:pt x="305" y="1102"/>
                </a:lnTo>
                <a:lnTo>
                  <a:pt x="308" y="1083"/>
                </a:lnTo>
                <a:lnTo>
                  <a:pt x="310" y="1065"/>
                </a:lnTo>
                <a:lnTo>
                  <a:pt x="314" y="1048"/>
                </a:lnTo>
                <a:lnTo>
                  <a:pt x="317" y="1032"/>
                </a:lnTo>
                <a:lnTo>
                  <a:pt x="322" y="1016"/>
                </a:lnTo>
                <a:lnTo>
                  <a:pt x="327" y="1000"/>
                </a:lnTo>
                <a:lnTo>
                  <a:pt x="333" y="983"/>
                </a:lnTo>
                <a:lnTo>
                  <a:pt x="339" y="968"/>
                </a:lnTo>
                <a:lnTo>
                  <a:pt x="345" y="951"/>
                </a:lnTo>
                <a:lnTo>
                  <a:pt x="353" y="934"/>
                </a:lnTo>
                <a:lnTo>
                  <a:pt x="360" y="918"/>
                </a:lnTo>
                <a:lnTo>
                  <a:pt x="370" y="901"/>
                </a:lnTo>
                <a:lnTo>
                  <a:pt x="373" y="894"/>
                </a:lnTo>
                <a:lnTo>
                  <a:pt x="378" y="884"/>
                </a:lnTo>
                <a:lnTo>
                  <a:pt x="384" y="875"/>
                </a:lnTo>
                <a:lnTo>
                  <a:pt x="390" y="865"/>
                </a:lnTo>
                <a:lnTo>
                  <a:pt x="396" y="855"/>
                </a:lnTo>
                <a:lnTo>
                  <a:pt x="404" y="843"/>
                </a:lnTo>
                <a:lnTo>
                  <a:pt x="411" y="830"/>
                </a:lnTo>
                <a:lnTo>
                  <a:pt x="421" y="817"/>
                </a:lnTo>
                <a:lnTo>
                  <a:pt x="437" y="791"/>
                </a:lnTo>
                <a:lnTo>
                  <a:pt x="453" y="766"/>
                </a:lnTo>
                <a:lnTo>
                  <a:pt x="466" y="742"/>
                </a:lnTo>
                <a:lnTo>
                  <a:pt x="476" y="719"/>
                </a:lnTo>
                <a:lnTo>
                  <a:pt x="483" y="699"/>
                </a:lnTo>
                <a:lnTo>
                  <a:pt x="489" y="681"/>
                </a:lnTo>
                <a:lnTo>
                  <a:pt x="493" y="665"/>
                </a:lnTo>
                <a:lnTo>
                  <a:pt x="494" y="649"/>
                </a:lnTo>
                <a:lnTo>
                  <a:pt x="494" y="637"/>
                </a:lnTo>
                <a:lnTo>
                  <a:pt x="493" y="625"/>
                </a:lnTo>
                <a:lnTo>
                  <a:pt x="491" y="616"/>
                </a:lnTo>
                <a:lnTo>
                  <a:pt x="488" y="605"/>
                </a:lnTo>
                <a:lnTo>
                  <a:pt x="483" y="597"/>
                </a:lnTo>
                <a:lnTo>
                  <a:pt x="480" y="587"/>
                </a:lnTo>
                <a:lnTo>
                  <a:pt x="474" y="580"/>
                </a:lnTo>
                <a:lnTo>
                  <a:pt x="468" y="572"/>
                </a:lnTo>
                <a:lnTo>
                  <a:pt x="461" y="566"/>
                </a:lnTo>
                <a:lnTo>
                  <a:pt x="454" y="560"/>
                </a:lnTo>
                <a:lnTo>
                  <a:pt x="446" y="555"/>
                </a:lnTo>
                <a:lnTo>
                  <a:pt x="436" y="552"/>
                </a:lnTo>
                <a:lnTo>
                  <a:pt x="427" y="548"/>
                </a:lnTo>
                <a:lnTo>
                  <a:pt x="417" y="547"/>
                </a:lnTo>
                <a:lnTo>
                  <a:pt x="406" y="544"/>
                </a:lnTo>
                <a:lnTo>
                  <a:pt x="394" y="544"/>
                </a:lnTo>
                <a:lnTo>
                  <a:pt x="383" y="544"/>
                </a:lnTo>
                <a:lnTo>
                  <a:pt x="372" y="547"/>
                </a:lnTo>
                <a:lnTo>
                  <a:pt x="361" y="549"/>
                </a:lnTo>
                <a:lnTo>
                  <a:pt x="349" y="552"/>
                </a:lnTo>
                <a:lnTo>
                  <a:pt x="339" y="556"/>
                </a:lnTo>
                <a:lnTo>
                  <a:pt x="327" y="561"/>
                </a:lnTo>
                <a:lnTo>
                  <a:pt x="316" y="567"/>
                </a:lnTo>
                <a:lnTo>
                  <a:pt x="305" y="573"/>
                </a:lnTo>
                <a:lnTo>
                  <a:pt x="295" y="581"/>
                </a:lnTo>
                <a:lnTo>
                  <a:pt x="284" y="588"/>
                </a:lnTo>
                <a:lnTo>
                  <a:pt x="275" y="597"/>
                </a:lnTo>
                <a:lnTo>
                  <a:pt x="265" y="606"/>
                </a:lnTo>
                <a:lnTo>
                  <a:pt x="257" y="616"/>
                </a:lnTo>
                <a:lnTo>
                  <a:pt x="248" y="626"/>
                </a:lnTo>
                <a:lnTo>
                  <a:pt x="240" y="637"/>
                </a:lnTo>
                <a:lnTo>
                  <a:pt x="233" y="649"/>
                </a:lnTo>
                <a:lnTo>
                  <a:pt x="0" y="327"/>
                </a:lnTo>
                <a:lnTo>
                  <a:pt x="27" y="288"/>
                </a:lnTo>
                <a:lnTo>
                  <a:pt x="54" y="251"/>
                </a:lnTo>
                <a:lnTo>
                  <a:pt x="82" y="216"/>
                </a:lnTo>
                <a:lnTo>
                  <a:pt x="111" y="184"/>
                </a:lnTo>
                <a:lnTo>
                  <a:pt x="126" y="170"/>
                </a:lnTo>
                <a:lnTo>
                  <a:pt x="142" y="156"/>
                </a:lnTo>
                <a:lnTo>
                  <a:pt x="156" y="141"/>
                </a:lnTo>
                <a:lnTo>
                  <a:pt x="173" y="128"/>
                </a:lnTo>
                <a:lnTo>
                  <a:pt x="188" y="115"/>
                </a:lnTo>
                <a:lnTo>
                  <a:pt x="205" y="103"/>
                </a:lnTo>
                <a:lnTo>
                  <a:pt x="220" y="93"/>
                </a:lnTo>
                <a:lnTo>
                  <a:pt x="237" y="82"/>
                </a:lnTo>
                <a:lnTo>
                  <a:pt x="254" y="73"/>
                </a:lnTo>
                <a:lnTo>
                  <a:pt x="271" y="63"/>
                </a:lnTo>
                <a:lnTo>
                  <a:pt x="289" y="55"/>
                </a:lnTo>
                <a:lnTo>
                  <a:pt x="305" y="46"/>
                </a:lnTo>
                <a:lnTo>
                  <a:pt x="323" y="39"/>
                </a:lnTo>
                <a:lnTo>
                  <a:pt x="341" y="32"/>
                </a:lnTo>
                <a:lnTo>
                  <a:pt x="360" y="26"/>
                </a:lnTo>
                <a:lnTo>
                  <a:pt x="378" y="20"/>
                </a:lnTo>
                <a:lnTo>
                  <a:pt x="396" y="15"/>
                </a:lnTo>
                <a:lnTo>
                  <a:pt x="415" y="12"/>
                </a:lnTo>
                <a:lnTo>
                  <a:pt x="434" y="8"/>
                </a:lnTo>
                <a:lnTo>
                  <a:pt x="453" y="5"/>
                </a:lnTo>
                <a:lnTo>
                  <a:pt x="472" y="2"/>
                </a:lnTo>
                <a:lnTo>
                  <a:pt x="492" y="1"/>
                </a:lnTo>
                <a:lnTo>
                  <a:pt x="511" y="0"/>
                </a:lnTo>
                <a:lnTo>
                  <a:pt x="531" y="0"/>
                </a:lnTo>
                <a:lnTo>
                  <a:pt x="559" y="1"/>
                </a:lnTo>
                <a:lnTo>
                  <a:pt x="587" y="2"/>
                </a:lnTo>
                <a:lnTo>
                  <a:pt x="614" y="6"/>
                </a:lnTo>
                <a:lnTo>
                  <a:pt x="640" y="10"/>
                </a:lnTo>
                <a:lnTo>
                  <a:pt x="665" y="15"/>
                </a:lnTo>
                <a:lnTo>
                  <a:pt x="690" y="21"/>
                </a:lnTo>
                <a:lnTo>
                  <a:pt x="715" y="30"/>
                </a:lnTo>
                <a:lnTo>
                  <a:pt x="739" y="38"/>
                </a:lnTo>
                <a:lnTo>
                  <a:pt x="762" y="49"/>
                </a:lnTo>
                <a:lnTo>
                  <a:pt x="785" y="59"/>
                </a:lnTo>
                <a:lnTo>
                  <a:pt x="806" y="73"/>
                </a:lnTo>
                <a:lnTo>
                  <a:pt x="828" y="86"/>
                </a:lnTo>
                <a:lnTo>
                  <a:pt x="849" y="101"/>
                </a:lnTo>
                <a:lnTo>
                  <a:pt x="869" y="116"/>
                </a:lnTo>
                <a:lnTo>
                  <a:pt x="889" y="134"/>
                </a:lnTo>
                <a:lnTo>
                  <a:pt x="908" y="152"/>
                </a:lnTo>
                <a:lnTo>
                  <a:pt x="926" y="171"/>
                </a:lnTo>
                <a:lnTo>
                  <a:pt x="943" y="191"/>
                </a:lnTo>
                <a:lnTo>
                  <a:pt x="958" y="212"/>
                </a:lnTo>
                <a:lnTo>
                  <a:pt x="974" y="233"/>
                </a:lnTo>
                <a:lnTo>
                  <a:pt x="987" y="254"/>
                </a:lnTo>
                <a:lnTo>
                  <a:pt x="999" y="277"/>
                </a:lnTo>
                <a:lnTo>
                  <a:pt x="1011" y="301"/>
                </a:lnTo>
                <a:lnTo>
                  <a:pt x="1020" y="323"/>
                </a:lnTo>
                <a:lnTo>
                  <a:pt x="1030" y="347"/>
                </a:lnTo>
                <a:lnTo>
                  <a:pt x="1037" y="372"/>
                </a:lnTo>
                <a:lnTo>
                  <a:pt x="1044" y="397"/>
                </a:lnTo>
                <a:lnTo>
                  <a:pt x="1049" y="423"/>
                </a:lnTo>
                <a:lnTo>
                  <a:pt x="1053" y="449"/>
                </a:lnTo>
                <a:lnTo>
                  <a:pt x="1056" y="477"/>
                </a:lnTo>
                <a:lnTo>
                  <a:pt x="1058" y="505"/>
                </a:lnTo>
                <a:lnTo>
                  <a:pt x="1058" y="533"/>
                </a:lnTo>
                <a:lnTo>
                  <a:pt x="1058" y="554"/>
                </a:lnTo>
                <a:lnTo>
                  <a:pt x="1056" y="575"/>
                </a:lnTo>
                <a:lnTo>
                  <a:pt x="1053" y="598"/>
                </a:lnTo>
                <a:lnTo>
                  <a:pt x="1050" y="619"/>
                </a:lnTo>
                <a:lnTo>
                  <a:pt x="1045" y="642"/>
                </a:lnTo>
                <a:lnTo>
                  <a:pt x="1038" y="666"/>
                </a:lnTo>
                <a:lnTo>
                  <a:pt x="1032" y="689"/>
                </a:lnTo>
                <a:lnTo>
                  <a:pt x="1024" y="713"/>
                </a:lnTo>
                <a:lnTo>
                  <a:pt x="1014" y="737"/>
                </a:lnTo>
                <a:lnTo>
                  <a:pt x="1003" y="762"/>
                </a:lnTo>
                <a:lnTo>
                  <a:pt x="993" y="787"/>
                </a:lnTo>
                <a:lnTo>
                  <a:pt x="980" y="812"/>
                </a:lnTo>
                <a:lnTo>
                  <a:pt x="967" y="838"/>
                </a:lnTo>
                <a:lnTo>
                  <a:pt x="952" y="864"/>
                </a:lnTo>
                <a:lnTo>
                  <a:pt x="936" y="890"/>
                </a:lnTo>
                <a:lnTo>
                  <a:pt x="919" y="918"/>
                </a:lnTo>
                <a:lnTo>
                  <a:pt x="911" y="931"/>
                </a:lnTo>
                <a:lnTo>
                  <a:pt x="903" y="944"/>
                </a:lnTo>
                <a:lnTo>
                  <a:pt x="895" y="955"/>
                </a:lnTo>
                <a:lnTo>
                  <a:pt x="889" y="966"/>
                </a:lnTo>
                <a:lnTo>
                  <a:pt x="882" y="976"/>
                </a:lnTo>
                <a:lnTo>
                  <a:pt x="878" y="984"/>
                </a:lnTo>
                <a:lnTo>
                  <a:pt x="873" y="993"/>
                </a:lnTo>
                <a:lnTo>
                  <a:pt x="868" y="1000"/>
                </a:lnTo>
                <a:lnTo>
                  <a:pt x="861" y="1014"/>
                </a:lnTo>
                <a:lnTo>
                  <a:pt x="853" y="1029"/>
                </a:lnTo>
                <a:lnTo>
                  <a:pt x="847" y="1045"/>
                </a:lnTo>
                <a:lnTo>
                  <a:pt x="840" y="1062"/>
                </a:lnTo>
                <a:lnTo>
                  <a:pt x="834" y="1078"/>
                </a:lnTo>
                <a:lnTo>
                  <a:pt x="829" y="1097"/>
                </a:lnTo>
                <a:lnTo>
                  <a:pt x="824" y="1116"/>
                </a:lnTo>
                <a:lnTo>
                  <a:pt x="819" y="1135"/>
                </a:lnTo>
                <a:lnTo>
                  <a:pt x="816" y="1155"/>
                </a:lnTo>
                <a:lnTo>
                  <a:pt x="813" y="1178"/>
                </a:lnTo>
                <a:lnTo>
                  <a:pt x="810" y="1201"/>
                </a:lnTo>
                <a:lnTo>
                  <a:pt x="808" y="1223"/>
                </a:lnTo>
                <a:lnTo>
                  <a:pt x="806" y="1248"/>
                </a:lnTo>
                <a:lnTo>
                  <a:pt x="805" y="1273"/>
                </a:lnTo>
                <a:lnTo>
                  <a:pt x="804" y="1299"/>
                </a:lnTo>
                <a:lnTo>
                  <a:pt x="804" y="1327"/>
                </a:lnTo>
                <a:lnTo>
                  <a:pt x="804" y="1486"/>
                </a:lnTo>
                <a:lnTo>
                  <a:pt x="302" y="148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15280" y="1263600"/>
            <a:ext cx="133200" cy="142920"/>
          </a:xfrm>
          <a:prstGeom prst="rect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56920" y="1817640"/>
            <a:ext cx="4458600" cy="4187160"/>
            <a:chOff x="2356920" y="1817640"/>
            <a:chExt cx="4458600" cy="4187160"/>
          </a:xfrm>
        </p:grpSpPr>
        <p:sp>
          <p:nvSpPr>
            <p:cNvPr id="205" name=""/>
            <p:cNvSpPr/>
            <p:nvPr/>
          </p:nvSpPr>
          <p:spPr>
            <a:xfrm>
              <a:off x="2356920" y="5334120"/>
              <a:ext cx="4458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1f1a17"/>
                  </a:solidFill>
                  <a:latin typeface="Geometr231 Hv BT"/>
                </a:rPr>
                <a:t>OLD-FASHIONE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03720" y="1817640"/>
              <a:ext cx="2514600" cy="3202200"/>
            </a:xfrm>
            <a:custGeom>
              <a:avLst/>
              <a:gdLst/>
              <a:ahLst/>
              <a:rect l="l" t="t" r="r" b="b"/>
              <a:pathLst>
                <a:path w="9507" h="12101">
                  <a:moveTo>
                    <a:pt x="1335" y="12101"/>
                  </a:moveTo>
                  <a:lnTo>
                    <a:pt x="2989" y="11957"/>
                  </a:lnTo>
                  <a:lnTo>
                    <a:pt x="3021" y="11957"/>
                  </a:lnTo>
                  <a:lnTo>
                    <a:pt x="3036" y="11941"/>
                  </a:lnTo>
                  <a:lnTo>
                    <a:pt x="3053" y="11925"/>
                  </a:lnTo>
                  <a:lnTo>
                    <a:pt x="3068" y="11909"/>
                  </a:lnTo>
                  <a:lnTo>
                    <a:pt x="3068" y="11894"/>
                  </a:lnTo>
                  <a:lnTo>
                    <a:pt x="3085" y="11894"/>
                  </a:lnTo>
                  <a:lnTo>
                    <a:pt x="3116" y="11877"/>
                  </a:lnTo>
                  <a:lnTo>
                    <a:pt x="3132" y="11877"/>
                  </a:lnTo>
                  <a:lnTo>
                    <a:pt x="3132" y="11894"/>
                  </a:lnTo>
                  <a:lnTo>
                    <a:pt x="3148" y="11909"/>
                  </a:lnTo>
                  <a:lnTo>
                    <a:pt x="3148" y="11925"/>
                  </a:lnTo>
                  <a:lnTo>
                    <a:pt x="3164" y="11941"/>
                  </a:lnTo>
                  <a:lnTo>
                    <a:pt x="3180" y="11941"/>
                  </a:lnTo>
                  <a:lnTo>
                    <a:pt x="3195" y="11957"/>
                  </a:lnTo>
                  <a:lnTo>
                    <a:pt x="3212" y="11957"/>
                  </a:lnTo>
                  <a:lnTo>
                    <a:pt x="3227" y="11957"/>
                  </a:lnTo>
                  <a:lnTo>
                    <a:pt x="3244" y="11957"/>
                  </a:lnTo>
                  <a:lnTo>
                    <a:pt x="3259" y="11957"/>
                  </a:lnTo>
                  <a:lnTo>
                    <a:pt x="3275" y="11957"/>
                  </a:lnTo>
                  <a:lnTo>
                    <a:pt x="3466" y="11798"/>
                  </a:lnTo>
                  <a:lnTo>
                    <a:pt x="3481" y="11798"/>
                  </a:lnTo>
                  <a:lnTo>
                    <a:pt x="3498" y="11814"/>
                  </a:lnTo>
                  <a:lnTo>
                    <a:pt x="3530" y="11814"/>
                  </a:lnTo>
                  <a:lnTo>
                    <a:pt x="3546" y="11830"/>
                  </a:lnTo>
                  <a:lnTo>
                    <a:pt x="3561" y="11845"/>
                  </a:lnTo>
                  <a:lnTo>
                    <a:pt x="3975" y="11798"/>
                  </a:lnTo>
                  <a:lnTo>
                    <a:pt x="4197" y="11718"/>
                  </a:lnTo>
                  <a:lnTo>
                    <a:pt x="4579" y="11957"/>
                  </a:lnTo>
                  <a:lnTo>
                    <a:pt x="4642" y="11957"/>
                  </a:lnTo>
                  <a:lnTo>
                    <a:pt x="4706" y="11957"/>
                  </a:lnTo>
                  <a:lnTo>
                    <a:pt x="4769" y="11941"/>
                  </a:lnTo>
                  <a:lnTo>
                    <a:pt x="4833" y="11925"/>
                  </a:lnTo>
                  <a:lnTo>
                    <a:pt x="4896" y="11894"/>
                  </a:lnTo>
                  <a:lnTo>
                    <a:pt x="4960" y="11862"/>
                  </a:lnTo>
                  <a:lnTo>
                    <a:pt x="5008" y="11830"/>
                  </a:lnTo>
                  <a:lnTo>
                    <a:pt x="5072" y="11798"/>
                  </a:lnTo>
                  <a:lnTo>
                    <a:pt x="5453" y="11894"/>
                  </a:lnTo>
                  <a:lnTo>
                    <a:pt x="5819" y="11765"/>
                  </a:lnTo>
                  <a:lnTo>
                    <a:pt x="6089" y="11798"/>
                  </a:lnTo>
                  <a:lnTo>
                    <a:pt x="6343" y="11750"/>
                  </a:lnTo>
                  <a:lnTo>
                    <a:pt x="6597" y="11670"/>
                  </a:lnTo>
                  <a:lnTo>
                    <a:pt x="6836" y="11575"/>
                  </a:lnTo>
                  <a:lnTo>
                    <a:pt x="7091" y="11464"/>
                  </a:lnTo>
                  <a:lnTo>
                    <a:pt x="7345" y="11399"/>
                  </a:lnTo>
                  <a:lnTo>
                    <a:pt x="7616" y="11368"/>
                  </a:lnTo>
                  <a:lnTo>
                    <a:pt x="7902" y="11416"/>
                  </a:lnTo>
                  <a:lnTo>
                    <a:pt x="7981" y="11352"/>
                  </a:lnTo>
                  <a:lnTo>
                    <a:pt x="8061" y="11304"/>
                  </a:lnTo>
                  <a:lnTo>
                    <a:pt x="8171" y="11272"/>
                  </a:lnTo>
                  <a:lnTo>
                    <a:pt x="8267" y="11240"/>
                  </a:lnTo>
                  <a:lnTo>
                    <a:pt x="8379" y="11225"/>
                  </a:lnTo>
                  <a:lnTo>
                    <a:pt x="8489" y="11225"/>
                  </a:lnTo>
                  <a:lnTo>
                    <a:pt x="8616" y="11225"/>
                  </a:lnTo>
                  <a:lnTo>
                    <a:pt x="8728" y="11225"/>
                  </a:lnTo>
                  <a:lnTo>
                    <a:pt x="9141" y="10891"/>
                  </a:lnTo>
                  <a:lnTo>
                    <a:pt x="9173" y="10891"/>
                  </a:lnTo>
                  <a:lnTo>
                    <a:pt x="9205" y="10891"/>
                  </a:lnTo>
                  <a:lnTo>
                    <a:pt x="9253" y="10891"/>
                  </a:lnTo>
                  <a:lnTo>
                    <a:pt x="9285" y="10874"/>
                  </a:lnTo>
                  <a:lnTo>
                    <a:pt x="9317" y="10858"/>
                  </a:lnTo>
                  <a:lnTo>
                    <a:pt x="9348" y="10843"/>
                  </a:lnTo>
                  <a:lnTo>
                    <a:pt x="9380" y="10826"/>
                  </a:lnTo>
                  <a:lnTo>
                    <a:pt x="9412" y="10811"/>
                  </a:lnTo>
                  <a:lnTo>
                    <a:pt x="9476" y="10667"/>
                  </a:lnTo>
                  <a:lnTo>
                    <a:pt x="9507" y="10524"/>
                  </a:lnTo>
                  <a:lnTo>
                    <a:pt x="9491" y="10365"/>
                  </a:lnTo>
                  <a:lnTo>
                    <a:pt x="9476" y="10206"/>
                  </a:lnTo>
                  <a:lnTo>
                    <a:pt x="9427" y="10047"/>
                  </a:lnTo>
                  <a:lnTo>
                    <a:pt x="9364" y="9887"/>
                  </a:lnTo>
                  <a:lnTo>
                    <a:pt x="9300" y="9743"/>
                  </a:lnTo>
                  <a:lnTo>
                    <a:pt x="9237" y="9601"/>
                  </a:lnTo>
                  <a:lnTo>
                    <a:pt x="9110" y="9409"/>
                  </a:lnTo>
                  <a:lnTo>
                    <a:pt x="8982" y="9218"/>
                  </a:lnTo>
                  <a:lnTo>
                    <a:pt x="8855" y="9043"/>
                  </a:lnTo>
                  <a:lnTo>
                    <a:pt x="8728" y="8884"/>
                  </a:lnTo>
                  <a:lnTo>
                    <a:pt x="8585" y="8709"/>
                  </a:lnTo>
                  <a:lnTo>
                    <a:pt x="8457" y="8534"/>
                  </a:lnTo>
                  <a:lnTo>
                    <a:pt x="8330" y="8359"/>
                  </a:lnTo>
                  <a:lnTo>
                    <a:pt x="8203" y="8168"/>
                  </a:lnTo>
                  <a:lnTo>
                    <a:pt x="8171" y="8136"/>
                  </a:lnTo>
                  <a:lnTo>
                    <a:pt x="8140" y="8104"/>
                  </a:lnTo>
                  <a:lnTo>
                    <a:pt x="8124" y="8072"/>
                  </a:lnTo>
                  <a:lnTo>
                    <a:pt x="8092" y="8040"/>
                  </a:lnTo>
                  <a:lnTo>
                    <a:pt x="8076" y="8024"/>
                  </a:lnTo>
                  <a:lnTo>
                    <a:pt x="8061" y="7992"/>
                  </a:lnTo>
                  <a:lnTo>
                    <a:pt x="8044" y="7977"/>
                  </a:lnTo>
                  <a:lnTo>
                    <a:pt x="8029" y="7929"/>
                  </a:lnTo>
                  <a:lnTo>
                    <a:pt x="8203" y="7514"/>
                  </a:lnTo>
                  <a:lnTo>
                    <a:pt x="8235" y="7117"/>
                  </a:lnTo>
                  <a:lnTo>
                    <a:pt x="8156" y="6735"/>
                  </a:lnTo>
                  <a:lnTo>
                    <a:pt x="8029" y="6353"/>
                  </a:lnTo>
                  <a:lnTo>
                    <a:pt x="7885" y="5987"/>
                  </a:lnTo>
                  <a:lnTo>
                    <a:pt x="7790" y="5604"/>
                  </a:lnTo>
                  <a:lnTo>
                    <a:pt x="7758" y="5206"/>
                  </a:lnTo>
                  <a:lnTo>
                    <a:pt x="7854" y="4792"/>
                  </a:lnTo>
                  <a:lnTo>
                    <a:pt x="7902" y="4331"/>
                  </a:lnTo>
                  <a:lnTo>
                    <a:pt x="7902" y="3869"/>
                  </a:lnTo>
                  <a:lnTo>
                    <a:pt x="7854" y="3407"/>
                  </a:lnTo>
                  <a:lnTo>
                    <a:pt x="7758" y="2962"/>
                  </a:lnTo>
                  <a:lnTo>
                    <a:pt x="7631" y="2531"/>
                  </a:lnTo>
                  <a:lnTo>
                    <a:pt x="7440" y="2118"/>
                  </a:lnTo>
                  <a:lnTo>
                    <a:pt x="7201" y="1751"/>
                  </a:lnTo>
                  <a:lnTo>
                    <a:pt x="6915" y="1433"/>
                  </a:lnTo>
                  <a:lnTo>
                    <a:pt x="6885" y="1417"/>
                  </a:lnTo>
                  <a:lnTo>
                    <a:pt x="6852" y="1385"/>
                  </a:lnTo>
                  <a:lnTo>
                    <a:pt x="6820" y="1370"/>
                  </a:lnTo>
                  <a:lnTo>
                    <a:pt x="6788" y="1338"/>
                  </a:lnTo>
                  <a:lnTo>
                    <a:pt x="6773" y="1306"/>
                  </a:lnTo>
                  <a:lnTo>
                    <a:pt x="6741" y="1274"/>
                  </a:lnTo>
                  <a:lnTo>
                    <a:pt x="6725" y="1258"/>
                  </a:lnTo>
                  <a:lnTo>
                    <a:pt x="6709" y="1226"/>
                  </a:lnTo>
                  <a:lnTo>
                    <a:pt x="6725" y="1178"/>
                  </a:lnTo>
                  <a:lnTo>
                    <a:pt x="6741" y="1131"/>
                  </a:lnTo>
                  <a:lnTo>
                    <a:pt x="6756" y="1067"/>
                  </a:lnTo>
                  <a:lnTo>
                    <a:pt x="6773" y="1019"/>
                  </a:lnTo>
                  <a:lnTo>
                    <a:pt x="6788" y="955"/>
                  </a:lnTo>
                  <a:lnTo>
                    <a:pt x="6788" y="892"/>
                  </a:lnTo>
                  <a:lnTo>
                    <a:pt x="6773" y="828"/>
                  </a:lnTo>
                  <a:lnTo>
                    <a:pt x="6756" y="765"/>
                  </a:lnTo>
                  <a:lnTo>
                    <a:pt x="6709" y="748"/>
                  </a:lnTo>
                  <a:lnTo>
                    <a:pt x="6677" y="716"/>
                  </a:lnTo>
                  <a:lnTo>
                    <a:pt x="6629" y="685"/>
                  </a:lnTo>
                  <a:lnTo>
                    <a:pt x="6582" y="668"/>
                  </a:lnTo>
                  <a:lnTo>
                    <a:pt x="6534" y="636"/>
                  </a:lnTo>
                  <a:lnTo>
                    <a:pt x="6487" y="621"/>
                  </a:lnTo>
                  <a:lnTo>
                    <a:pt x="6423" y="621"/>
                  </a:lnTo>
                  <a:lnTo>
                    <a:pt x="6375" y="621"/>
                  </a:lnTo>
                  <a:lnTo>
                    <a:pt x="6137" y="875"/>
                  </a:lnTo>
                  <a:lnTo>
                    <a:pt x="6105" y="828"/>
                  </a:lnTo>
                  <a:lnTo>
                    <a:pt x="6089" y="765"/>
                  </a:lnTo>
                  <a:lnTo>
                    <a:pt x="6057" y="701"/>
                  </a:lnTo>
                  <a:lnTo>
                    <a:pt x="6042" y="653"/>
                  </a:lnTo>
                  <a:lnTo>
                    <a:pt x="6010" y="589"/>
                  </a:lnTo>
                  <a:lnTo>
                    <a:pt x="5962" y="541"/>
                  </a:lnTo>
                  <a:lnTo>
                    <a:pt x="5915" y="509"/>
                  </a:lnTo>
                  <a:lnTo>
                    <a:pt x="5866" y="494"/>
                  </a:lnTo>
                  <a:lnTo>
                    <a:pt x="5851" y="477"/>
                  </a:lnTo>
                  <a:lnTo>
                    <a:pt x="5819" y="477"/>
                  </a:lnTo>
                  <a:lnTo>
                    <a:pt x="5803" y="462"/>
                  </a:lnTo>
                  <a:lnTo>
                    <a:pt x="5787" y="446"/>
                  </a:lnTo>
                  <a:lnTo>
                    <a:pt x="5771" y="446"/>
                  </a:lnTo>
                  <a:lnTo>
                    <a:pt x="5597" y="541"/>
                  </a:lnTo>
                  <a:lnTo>
                    <a:pt x="5453" y="812"/>
                  </a:lnTo>
                  <a:lnTo>
                    <a:pt x="5438" y="828"/>
                  </a:lnTo>
                  <a:lnTo>
                    <a:pt x="5421" y="828"/>
                  </a:lnTo>
                  <a:lnTo>
                    <a:pt x="5406" y="844"/>
                  </a:lnTo>
                  <a:lnTo>
                    <a:pt x="5390" y="844"/>
                  </a:lnTo>
                  <a:lnTo>
                    <a:pt x="5373" y="844"/>
                  </a:lnTo>
                  <a:lnTo>
                    <a:pt x="5358" y="860"/>
                  </a:lnTo>
                  <a:lnTo>
                    <a:pt x="5326" y="860"/>
                  </a:lnTo>
                  <a:lnTo>
                    <a:pt x="5311" y="875"/>
                  </a:lnTo>
                  <a:lnTo>
                    <a:pt x="5294" y="875"/>
                  </a:lnTo>
                  <a:lnTo>
                    <a:pt x="5294" y="892"/>
                  </a:lnTo>
                  <a:lnTo>
                    <a:pt x="5279" y="892"/>
                  </a:lnTo>
                  <a:lnTo>
                    <a:pt x="5279" y="907"/>
                  </a:lnTo>
                  <a:lnTo>
                    <a:pt x="5262" y="924"/>
                  </a:lnTo>
                  <a:lnTo>
                    <a:pt x="5246" y="940"/>
                  </a:lnTo>
                  <a:lnTo>
                    <a:pt x="5246" y="955"/>
                  </a:lnTo>
                  <a:lnTo>
                    <a:pt x="5214" y="1274"/>
                  </a:lnTo>
                  <a:lnTo>
                    <a:pt x="5199" y="1290"/>
                  </a:lnTo>
                  <a:lnTo>
                    <a:pt x="5184" y="1306"/>
                  </a:lnTo>
                  <a:lnTo>
                    <a:pt x="5167" y="1306"/>
                  </a:lnTo>
                  <a:lnTo>
                    <a:pt x="5135" y="1306"/>
                  </a:lnTo>
                  <a:lnTo>
                    <a:pt x="5119" y="1306"/>
                  </a:lnTo>
                  <a:lnTo>
                    <a:pt x="5087" y="1290"/>
                  </a:lnTo>
                  <a:lnTo>
                    <a:pt x="5055" y="1290"/>
                  </a:lnTo>
                  <a:lnTo>
                    <a:pt x="5025" y="1274"/>
                  </a:lnTo>
                  <a:lnTo>
                    <a:pt x="4992" y="1274"/>
                  </a:lnTo>
                  <a:lnTo>
                    <a:pt x="4960" y="1290"/>
                  </a:lnTo>
                  <a:lnTo>
                    <a:pt x="4928" y="1306"/>
                  </a:lnTo>
                  <a:lnTo>
                    <a:pt x="4896" y="1321"/>
                  </a:lnTo>
                  <a:lnTo>
                    <a:pt x="4865" y="1353"/>
                  </a:lnTo>
                  <a:lnTo>
                    <a:pt x="4833" y="1385"/>
                  </a:lnTo>
                  <a:lnTo>
                    <a:pt x="4817" y="1433"/>
                  </a:lnTo>
                  <a:lnTo>
                    <a:pt x="4817" y="1465"/>
                  </a:lnTo>
                  <a:lnTo>
                    <a:pt x="4801" y="1512"/>
                  </a:lnTo>
                  <a:lnTo>
                    <a:pt x="4801" y="1545"/>
                  </a:lnTo>
                  <a:lnTo>
                    <a:pt x="4817" y="1592"/>
                  </a:lnTo>
                  <a:lnTo>
                    <a:pt x="4833" y="1624"/>
                  </a:lnTo>
                  <a:lnTo>
                    <a:pt x="4849" y="1672"/>
                  </a:lnTo>
                  <a:lnTo>
                    <a:pt x="4881" y="1704"/>
                  </a:lnTo>
                  <a:lnTo>
                    <a:pt x="4913" y="1736"/>
                  </a:lnTo>
                  <a:lnTo>
                    <a:pt x="4928" y="1767"/>
                  </a:lnTo>
                  <a:lnTo>
                    <a:pt x="5008" y="1799"/>
                  </a:lnTo>
                  <a:lnTo>
                    <a:pt x="5087" y="1816"/>
                  </a:lnTo>
                  <a:lnTo>
                    <a:pt x="5184" y="1831"/>
                  </a:lnTo>
                  <a:lnTo>
                    <a:pt x="5262" y="1847"/>
                  </a:lnTo>
                  <a:lnTo>
                    <a:pt x="5326" y="1879"/>
                  </a:lnTo>
                  <a:lnTo>
                    <a:pt x="5406" y="1911"/>
                  </a:lnTo>
                  <a:lnTo>
                    <a:pt x="5453" y="1974"/>
                  </a:lnTo>
                  <a:lnTo>
                    <a:pt x="5500" y="2053"/>
                  </a:lnTo>
                  <a:lnTo>
                    <a:pt x="5549" y="2611"/>
                  </a:lnTo>
                  <a:lnTo>
                    <a:pt x="5549" y="2628"/>
                  </a:lnTo>
                  <a:lnTo>
                    <a:pt x="5533" y="2658"/>
                  </a:lnTo>
                  <a:lnTo>
                    <a:pt x="5533" y="2675"/>
                  </a:lnTo>
                  <a:lnTo>
                    <a:pt x="5533" y="2691"/>
                  </a:lnTo>
                  <a:lnTo>
                    <a:pt x="5517" y="2707"/>
                  </a:lnTo>
                  <a:lnTo>
                    <a:pt x="5517" y="2738"/>
                  </a:lnTo>
                  <a:lnTo>
                    <a:pt x="5500" y="2738"/>
                  </a:lnTo>
                  <a:lnTo>
                    <a:pt x="5500" y="2755"/>
                  </a:lnTo>
                  <a:lnTo>
                    <a:pt x="5470" y="2770"/>
                  </a:lnTo>
                  <a:lnTo>
                    <a:pt x="5453" y="2787"/>
                  </a:lnTo>
                  <a:lnTo>
                    <a:pt x="5421" y="2787"/>
                  </a:lnTo>
                  <a:lnTo>
                    <a:pt x="5390" y="2787"/>
                  </a:lnTo>
                  <a:lnTo>
                    <a:pt x="5358" y="2802"/>
                  </a:lnTo>
                  <a:lnTo>
                    <a:pt x="5326" y="2802"/>
                  </a:lnTo>
                  <a:lnTo>
                    <a:pt x="5294" y="2802"/>
                  </a:lnTo>
                  <a:lnTo>
                    <a:pt x="5262" y="2802"/>
                  </a:lnTo>
                  <a:lnTo>
                    <a:pt x="5231" y="2818"/>
                  </a:lnTo>
                  <a:lnTo>
                    <a:pt x="5199" y="2818"/>
                  </a:lnTo>
                  <a:lnTo>
                    <a:pt x="5184" y="2850"/>
                  </a:lnTo>
                  <a:lnTo>
                    <a:pt x="5152" y="2866"/>
                  </a:lnTo>
                  <a:lnTo>
                    <a:pt x="5119" y="2897"/>
                  </a:lnTo>
                  <a:lnTo>
                    <a:pt x="5104" y="2914"/>
                  </a:lnTo>
                  <a:lnTo>
                    <a:pt x="5087" y="2945"/>
                  </a:lnTo>
                  <a:lnTo>
                    <a:pt x="5072" y="2994"/>
                  </a:lnTo>
                  <a:lnTo>
                    <a:pt x="5087" y="3009"/>
                  </a:lnTo>
                  <a:lnTo>
                    <a:pt x="5087" y="3041"/>
                  </a:lnTo>
                  <a:lnTo>
                    <a:pt x="5104" y="3057"/>
                  </a:lnTo>
                  <a:lnTo>
                    <a:pt x="5119" y="3073"/>
                  </a:lnTo>
                  <a:lnTo>
                    <a:pt x="5135" y="3089"/>
                  </a:lnTo>
                  <a:lnTo>
                    <a:pt x="5152" y="3121"/>
                  </a:lnTo>
                  <a:lnTo>
                    <a:pt x="5152" y="3136"/>
                  </a:lnTo>
                  <a:lnTo>
                    <a:pt x="5152" y="3168"/>
                  </a:lnTo>
                  <a:lnTo>
                    <a:pt x="4579" y="3599"/>
                  </a:lnTo>
                  <a:lnTo>
                    <a:pt x="4595" y="3758"/>
                  </a:lnTo>
                  <a:lnTo>
                    <a:pt x="4610" y="3933"/>
                  </a:lnTo>
                  <a:lnTo>
                    <a:pt x="4627" y="4108"/>
                  </a:lnTo>
                  <a:lnTo>
                    <a:pt x="4642" y="4283"/>
                  </a:lnTo>
                  <a:lnTo>
                    <a:pt x="4659" y="4458"/>
                  </a:lnTo>
                  <a:lnTo>
                    <a:pt x="4674" y="4618"/>
                  </a:lnTo>
                  <a:lnTo>
                    <a:pt x="4706" y="4809"/>
                  </a:lnTo>
                  <a:lnTo>
                    <a:pt x="4769" y="4984"/>
                  </a:lnTo>
                  <a:lnTo>
                    <a:pt x="4817" y="5365"/>
                  </a:lnTo>
                  <a:lnTo>
                    <a:pt x="4865" y="5748"/>
                  </a:lnTo>
                  <a:lnTo>
                    <a:pt x="4881" y="6130"/>
                  </a:lnTo>
                  <a:lnTo>
                    <a:pt x="4865" y="6512"/>
                  </a:lnTo>
                  <a:lnTo>
                    <a:pt x="4817" y="6894"/>
                  </a:lnTo>
                  <a:lnTo>
                    <a:pt x="4738" y="7260"/>
                  </a:lnTo>
                  <a:lnTo>
                    <a:pt x="4595" y="7611"/>
                  </a:lnTo>
                  <a:lnTo>
                    <a:pt x="4404" y="7929"/>
                  </a:lnTo>
                  <a:lnTo>
                    <a:pt x="4277" y="8199"/>
                  </a:lnTo>
                  <a:lnTo>
                    <a:pt x="4150" y="8455"/>
                  </a:lnTo>
                  <a:lnTo>
                    <a:pt x="4038" y="8709"/>
                  </a:lnTo>
                  <a:lnTo>
                    <a:pt x="3911" y="8948"/>
                  </a:lnTo>
                  <a:lnTo>
                    <a:pt x="3784" y="9203"/>
                  </a:lnTo>
                  <a:lnTo>
                    <a:pt x="3657" y="9441"/>
                  </a:lnTo>
                  <a:lnTo>
                    <a:pt x="3513" y="9665"/>
                  </a:lnTo>
                  <a:lnTo>
                    <a:pt x="3371" y="9903"/>
                  </a:lnTo>
                  <a:lnTo>
                    <a:pt x="3244" y="8216"/>
                  </a:lnTo>
                  <a:lnTo>
                    <a:pt x="3896" y="8009"/>
                  </a:lnTo>
                  <a:lnTo>
                    <a:pt x="3896" y="7690"/>
                  </a:lnTo>
                  <a:lnTo>
                    <a:pt x="3864" y="7372"/>
                  </a:lnTo>
                  <a:lnTo>
                    <a:pt x="3832" y="7053"/>
                  </a:lnTo>
                  <a:lnTo>
                    <a:pt x="3800" y="6735"/>
                  </a:lnTo>
                  <a:lnTo>
                    <a:pt x="3752" y="6416"/>
                  </a:lnTo>
                  <a:lnTo>
                    <a:pt x="3720" y="6082"/>
                  </a:lnTo>
                  <a:lnTo>
                    <a:pt x="3689" y="5763"/>
                  </a:lnTo>
                  <a:lnTo>
                    <a:pt x="3689" y="5445"/>
                  </a:lnTo>
                  <a:lnTo>
                    <a:pt x="3657" y="5206"/>
                  </a:lnTo>
                  <a:lnTo>
                    <a:pt x="3640" y="4967"/>
                  </a:lnTo>
                  <a:lnTo>
                    <a:pt x="3640" y="4729"/>
                  </a:lnTo>
                  <a:lnTo>
                    <a:pt x="3640" y="4506"/>
                  </a:lnTo>
                  <a:lnTo>
                    <a:pt x="3657" y="4267"/>
                  </a:lnTo>
                  <a:lnTo>
                    <a:pt x="3657" y="4045"/>
                  </a:lnTo>
                  <a:lnTo>
                    <a:pt x="3657" y="3821"/>
                  </a:lnTo>
                  <a:lnTo>
                    <a:pt x="3640" y="3599"/>
                  </a:lnTo>
                  <a:lnTo>
                    <a:pt x="3657" y="3502"/>
                  </a:lnTo>
                  <a:lnTo>
                    <a:pt x="3673" y="3439"/>
                  </a:lnTo>
                  <a:lnTo>
                    <a:pt x="3673" y="3360"/>
                  </a:lnTo>
                  <a:lnTo>
                    <a:pt x="3673" y="3280"/>
                  </a:lnTo>
                  <a:lnTo>
                    <a:pt x="3657" y="3216"/>
                  </a:lnTo>
                  <a:lnTo>
                    <a:pt x="3657" y="3136"/>
                  </a:lnTo>
                  <a:lnTo>
                    <a:pt x="3640" y="3073"/>
                  </a:lnTo>
                  <a:lnTo>
                    <a:pt x="3625" y="3009"/>
                  </a:lnTo>
                  <a:lnTo>
                    <a:pt x="2830" y="2962"/>
                  </a:lnTo>
                  <a:lnTo>
                    <a:pt x="2814" y="2977"/>
                  </a:lnTo>
                  <a:lnTo>
                    <a:pt x="2799" y="2994"/>
                  </a:lnTo>
                  <a:lnTo>
                    <a:pt x="2782" y="3009"/>
                  </a:lnTo>
                  <a:lnTo>
                    <a:pt x="2767" y="3009"/>
                  </a:lnTo>
                  <a:lnTo>
                    <a:pt x="2767" y="3025"/>
                  </a:lnTo>
                  <a:lnTo>
                    <a:pt x="2750" y="3041"/>
                  </a:lnTo>
                  <a:lnTo>
                    <a:pt x="2735" y="3041"/>
                  </a:lnTo>
                  <a:lnTo>
                    <a:pt x="2719" y="3057"/>
                  </a:lnTo>
                  <a:lnTo>
                    <a:pt x="2481" y="3089"/>
                  </a:lnTo>
                  <a:lnTo>
                    <a:pt x="2464" y="2945"/>
                  </a:lnTo>
                  <a:lnTo>
                    <a:pt x="2449" y="2802"/>
                  </a:lnTo>
                  <a:lnTo>
                    <a:pt x="2449" y="2643"/>
                  </a:lnTo>
                  <a:lnTo>
                    <a:pt x="2449" y="2468"/>
                  </a:lnTo>
                  <a:lnTo>
                    <a:pt x="2433" y="2292"/>
                  </a:lnTo>
                  <a:lnTo>
                    <a:pt x="2433" y="2118"/>
                  </a:lnTo>
                  <a:lnTo>
                    <a:pt x="2417" y="1943"/>
                  </a:lnTo>
                  <a:lnTo>
                    <a:pt x="2401" y="1784"/>
                  </a:lnTo>
                  <a:lnTo>
                    <a:pt x="3036" y="1624"/>
                  </a:lnTo>
                  <a:lnTo>
                    <a:pt x="3036" y="1608"/>
                  </a:lnTo>
                  <a:lnTo>
                    <a:pt x="3053" y="1608"/>
                  </a:lnTo>
                  <a:lnTo>
                    <a:pt x="3053" y="1592"/>
                  </a:lnTo>
                  <a:lnTo>
                    <a:pt x="3068" y="1592"/>
                  </a:lnTo>
                  <a:lnTo>
                    <a:pt x="3085" y="1592"/>
                  </a:lnTo>
                  <a:lnTo>
                    <a:pt x="3068" y="1577"/>
                  </a:lnTo>
                  <a:lnTo>
                    <a:pt x="3068" y="1545"/>
                  </a:lnTo>
                  <a:lnTo>
                    <a:pt x="2481" y="1497"/>
                  </a:lnTo>
                  <a:lnTo>
                    <a:pt x="2433" y="1353"/>
                  </a:lnTo>
                  <a:lnTo>
                    <a:pt x="2401" y="1178"/>
                  </a:lnTo>
                  <a:lnTo>
                    <a:pt x="2385" y="987"/>
                  </a:lnTo>
                  <a:lnTo>
                    <a:pt x="2401" y="796"/>
                  </a:lnTo>
                  <a:lnTo>
                    <a:pt x="2417" y="589"/>
                  </a:lnTo>
                  <a:lnTo>
                    <a:pt x="2449" y="382"/>
                  </a:lnTo>
                  <a:lnTo>
                    <a:pt x="2464" y="191"/>
                  </a:lnTo>
                  <a:lnTo>
                    <a:pt x="2481" y="0"/>
                  </a:lnTo>
                  <a:lnTo>
                    <a:pt x="1384" y="31"/>
                  </a:lnTo>
                  <a:lnTo>
                    <a:pt x="1526" y="1465"/>
                  </a:lnTo>
                  <a:lnTo>
                    <a:pt x="970" y="1545"/>
                  </a:lnTo>
                  <a:lnTo>
                    <a:pt x="954" y="1560"/>
                  </a:lnTo>
                  <a:lnTo>
                    <a:pt x="939" y="1560"/>
                  </a:lnTo>
                  <a:lnTo>
                    <a:pt x="922" y="1577"/>
                  </a:lnTo>
                  <a:lnTo>
                    <a:pt x="907" y="1592"/>
                  </a:lnTo>
                  <a:lnTo>
                    <a:pt x="890" y="1608"/>
                  </a:lnTo>
                  <a:lnTo>
                    <a:pt x="890" y="1640"/>
                  </a:lnTo>
                  <a:lnTo>
                    <a:pt x="890" y="1656"/>
                  </a:lnTo>
                  <a:lnTo>
                    <a:pt x="907" y="1672"/>
                  </a:lnTo>
                  <a:lnTo>
                    <a:pt x="1526" y="1672"/>
                  </a:lnTo>
                  <a:lnTo>
                    <a:pt x="1526" y="2611"/>
                  </a:lnTo>
                  <a:lnTo>
                    <a:pt x="1559" y="3089"/>
                  </a:lnTo>
                  <a:lnTo>
                    <a:pt x="1526" y="3121"/>
                  </a:lnTo>
                  <a:lnTo>
                    <a:pt x="1479" y="3153"/>
                  </a:lnTo>
                  <a:lnTo>
                    <a:pt x="1431" y="3184"/>
                  </a:lnTo>
                  <a:lnTo>
                    <a:pt x="1367" y="3201"/>
                  </a:lnTo>
                  <a:lnTo>
                    <a:pt x="1304" y="3216"/>
                  </a:lnTo>
                  <a:lnTo>
                    <a:pt x="1240" y="3233"/>
                  </a:lnTo>
                  <a:lnTo>
                    <a:pt x="1161" y="3233"/>
                  </a:lnTo>
                  <a:lnTo>
                    <a:pt x="1098" y="3248"/>
                  </a:lnTo>
                  <a:lnTo>
                    <a:pt x="1002" y="3089"/>
                  </a:lnTo>
                  <a:lnTo>
                    <a:pt x="49" y="3201"/>
                  </a:lnTo>
                  <a:lnTo>
                    <a:pt x="17" y="3821"/>
                  </a:lnTo>
                  <a:lnTo>
                    <a:pt x="0" y="4458"/>
                  </a:lnTo>
                  <a:lnTo>
                    <a:pt x="17" y="5079"/>
                  </a:lnTo>
                  <a:lnTo>
                    <a:pt x="32" y="5716"/>
                  </a:lnTo>
                  <a:lnTo>
                    <a:pt x="64" y="6353"/>
                  </a:lnTo>
                  <a:lnTo>
                    <a:pt x="96" y="6989"/>
                  </a:lnTo>
                  <a:lnTo>
                    <a:pt x="144" y="7626"/>
                  </a:lnTo>
                  <a:lnTo>
                    <a:pt x="191" y="8263"/>
                  </a:lnTo>
                  <a:lnTo>
                    <a:pt x="780" y="8263"/>
                  </a:lnTo>
                  <a:lnTo>
                    <a:pt x="1272" y="12084"/>
                  </a:lnTo>
                  <a:lnTo>
                    <a:pt x="1288" y="12084"/>
                  </a:lnTo>
                  <a:lnTo>
                    <a:pt x="1304" y="12084"/>
                  </a:lnTo>
                  <a:lnTo>
                    <a:pt x="1320" y="12084"/>
                  </a:lnTo>
                  <a:lnTo>
                    <a:pt x="1320" y="12101"/>
                  </a:lnTo>
                  <a:lnTo>
                    <a:pt x="1335" y="12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36840" y="2655720"/>
              <a:ext cx="928800" cy="2313000"/>
            </a:xfrm>
            <a:custGeom>
              <a:avLst/>
              <a:gdLst/>
              <a:ahLst/>
              <a:rect l="l" t="t" r="r" b="b"/>
              <a:pathLst>
                <a:path w="3512" h="8741">
                  <a:moveTo>
                    <a:pt x="1446" y="8741"/>
                  </a:moveTo>
                  <a:lnTo>
                    <a:pt x="3131" y="8502"/>
                  </a:lnTo>
                  <a:lnTo>
                    <a:pt x="3147" y="8041"/>
                  </a:lnTo>
                  <a:lnTo>
                    <a:pt x="3116" y="7579"/>
                  </a:lnTo>
                  <a:lnTo>
                    <a:pt x="3052" y="7117"/>
                  </a:lnTo>
                  <a:lnTo>
                    <a:pt x="3004" y="6655"/>
                  </a:lnTo>
                  <a:lnTo>
                    <a:pt x="2940" y="6194"/>
                  </a:lnTo>
                  <a:lnTo>
                    <a:pt x="2908" y="5733"/>
                  </a:lnTo>
                  <a:lnTo>
                    <a:pt x="2908" y="5287"/>
                  </a:lnTo>
                  <a:lnTo>
                    <a:pt x="2957" y="4841"/>
                  </a:lnTo>
                  <a:lnTo>
                    <a:pt x="3512" y="4745"/>
                  </a:lnTo>
                  <a:lnTo>
                    <a:pt x="3385" y="2277"/>
                  </a:lnTo>
                  <a:lnTo>
                    <a:pt x="3385" y="2261"/>
                  </a:lnTo>
                  <a:lnTo>
                    <a:pt x="3370" y="2245"/>
                  </a:lnTo>
                  <a:lnTo>
                    <a:pt x="3370" y="2229"/>
                  </a:lnTo>
                  <a:lnTo>
                    <a:pt x="3353" y="2229"/>
                  </a:lnTo>
                  <a:lnTo>
                    <a:pt x="3338" y="2229"/>
                  </a:lnTo>
                  <a:lnTo>
                    <a:pt x="3338" y="2214"/>
                  </a:lnTo>
                  <a:lnTo>
                    <a:pt x="3323" y="2197"/>
                  </a:lnTo>
                  <a:lnTo>
                    <a:pt x="3323" y="2182"/>
                  </a:lnTo>
                  <a:lnTo>
                    <a:pt x="3323" y="16"/>
                  </a:lnTo>
                  <a:lnTo>
                    <a:pt x="3258" y="0"/>
                  </a:lnTo>
                  <a:lnTo>
                    <a:pt x="3196" y="0"/>
                  </a:lnTo>
                  <a:lnTo>
                    <a:pt x="3131" y="0"/>
                  </a:lnTo>
                  <a:lnTo>
                    <a:pt x="3084" y="16"/>
                  </a:lnTo>
                  <a:lnTo>
                    <a:pt x="3020" y="33"/>
                  </a:lnTo>
                  <a:lnTo>
                    <a:pt x="2957" y="65"/>
                  </a:lnTo>
                  <a:lnTo>
                    <a:pt x="2893" y="96"/>
                  </a:lnTo>
                  <a:lnTo>
                    <a:pt x="2845" y="128"/>
                  </a:lnTo>
                  <a:lnTo>
                    <a:pt x="2018" y="2819"/>
                  </a:lnTo>
                  <a:lnTo>
                    <a:pt x="2003" y="2834"/>
                  </a:lnTo>
                  <a:lnTo>
                    <a:pt x="1987" y="2834"/>
                  </a:lnTo>
                  <a:lnTo>
                    <a:pt x="1971" y="2850"/>
                  </a:lnTo>
                  <a:lnTo>
                    <a:pt x="1955" y="2850"/>
                  </a:lnTo>
                  <a:lnTo>
                    <a:pt x="1940" y="2850"/>
                  </a:lnTo>
                  <a:lnTo>
                    <a:pt x="1923" y="2834"/>
                  </a:lnTo>
                  <a:lnTo>
                    <a:pt x="1908" y="2834"/>
                  </a:lnTo>
                  <a:lnTo>
                    <a:pt x="1876" y="2819"/>
                  </a:lnTo>
                  <a:lnTo>
                    <a:pt x="1781" y="2468"/>
                  </a:lnTo>
                  <a:lnTo>
                    <a:pt x="1669" y="2102"/>
                  </a:lnTo>
                  <a:lnTo>
                    <a:pt x="1525" y="1768"/>
                  </a:lnTo>
                  <a:lnTo>
                    <a:pt x="1398" y="1433"/>
                  </a:lnTo>
                  <a:lnTo>
                    <a:pt x="1239" y="1099"/>
                  </a:lnTo>
                  <a:lnTo>
                    <a:pt x="1097" y="780"/>
                  </a:lnTo>
                  <a:lnTo>
                    <a:pt x="938" y="462"/>
                  </a:lnTo>
                  <a:lnTo>
                    <a:pt x="779" y="144"/>
                  </a:lnTo>
                  <a:lnTo>
                    <a:pt x="143" y="192"/>
                  </a:lnTo>
                  <a:lnTo>
                    <a:pt x="48" y="414"/>
                  </a:lnTo>
                  <a:lnTo>
                    <a:pt x="0" y="638"/>
                  </a:lnTo>
                  <a:lnTo>
                    <a:pt x="0" y="877"/>
                  </a:lnTo>
                  <a:lnTo>
                    <a:pt x="31" y="1131"/>
                  </a:lnTo>
                  <a:lnTo>
                    <a:pt x="63" y="1385"/>
                  </a:lnTo>
                  <a:lnTo>
                    <a:pt x="80" y="1641"/>
                  </a:lnTo>
                  <a:lnTo>
                    <a:pt x="95" y="1895"/>
                  </a:lnTo>
                  <a:lnTo>
                    <a:pt x="63" y="2134"/>
                  </a:lnTo>
                  <a:lnTo>
                    <a:pt x="63" y="2500"/>
                  </a:lnTo>
                  <a:lnTo>
                    <a:pt x="63" y="2850"/>
                  </a:lnTo>
                  <a:lnTo>
                    <a:pt x="80" y="3201"/>
                  </a:lnTo>
                  <a:lnTo>
                    <a:pt x="95" y="3551"/>
                  </a:lnTo>
                  <a:lnTo>
                    <a:pt x="111" y="3901"/>
                  </a:lnTo>
                  <a:lnTo>
                    <a:pt x="143" y="4251"/>
                  </a:lnTo>
                  <a:lnTo>
                    <a:pt x="190" y="4585"/>
                  </a:lnTo>
                  <a:lnTo>
                    <a:pt x="254" y="4936"/>
                  </a:lnTo>
                  <a:lnTo>
                    <a:pt x="604" y="4841"/>
                  </a:lnTo>
                  <a:lnTo>
                    <a:pt x="620" y="4841"/>
                  </a:lnTo>
                  <a:lnTo>
                    <a:pt x="620" y="4856"/>
                  </a:lnTo>
                  <a:lnTo>
                    <a:pt x="620" y="4872"/>
                  </a:lnTo>
                  <a:lnTo>
                    <a:pt x="635" y="4872"/>
                  </a:lnTo>
                  <a:lnTo>
                    <a:pt x="635" y="4889"/>
                  </a:lnTo>
                  <a:lnTo>
                    <a:pt x="683" y="4889"/>
                  </a:lnTo>
                  <a:lnTo>
                    <a:pt x="699" y="4889"/>
                  </a:lnTo>
                  <a:lnTo>
                    <a:pt x="699" y="4856"/>
                  </a:lnTo>
                  <a:lnTo>
                    <a:pt x="699" y="4824"/>
                  </a:lnTo>
                  <a:lnTo>
                    <a:pt x="699" y="4792"/>
                  </a:lnTo>
                  <a:lnTo>
                    <a:pt x="699" y="4761"/>
                  </a:lnTo>
                  <a:lnTo>
                    <a:pt x="715" y="4745"/>
                  </a:lnTo>
                  <a:lnTo>
                    <a:pt x="747" y="4713"/>
                  </a:lnTo>
                  <a:lnTo>
                    <a:pt x="779" y="4713"/>
                  </a:lnTo>
                  <a:lnTo>
                    <a:pt x="794" y="4713"/>
                  </a:lnTo>
                  <a:lnTo>
                    <a:pt x="811" y="4729"/>
                  </a:lnTo>
                  <a:lnTo>
                    <a:pt x="842" y="4745"/>
                  </a:lnTo>
                  <a:lnTo>
                    <a:pt x="842" y="4777"/>
                  </a:lnTo>
                  <a:lnTo>
                    <a:pt x="858" y="4809"/>
                  </a:lnTo>
                  <a:lnTo>
                    <a:pt x="874" y="4841"/>
                  </a:lnTo>
                  <a:lnTo>
                    <a:pt x="874" y="4856"/>
                  </a:lnTo>
                  <a:lnTo>
                    <a:pt x="858" y="4921"/>
                  </a:lnTo>
                  <a:lnTo>
                    <a:pt x="858" y="4984"/>
                  </a:lnTo>
                  <a:lnTo>
                    <a:pt x="874" y="5031"/>
                  </a:lnTo>
                  <a:lnTo>
                    <a:pt x="874" y="5079"/>
                  </a:lnTo>
                  <a:lnTo>
                    <a:pt x="874" y="5128"/>
                  </a:lnTo>
                  <a:lnTo>
                    <a:pt x="874" y="5175"/>
                  </a:lnTo>
                  <a:lnTo>
                    <a:pt x="858" y="5223"/>
                  </a:lnTo>
                  <a:lnTo>
                    <a:pt x="842" y="5270"/>
                  </a:lnTo>
                  <a:lnTo>
                    <a:pt x="906" y="5557"/>
                  </a:lnTo>
                  <a:lnTo>
                    <a:pt x="938" y="5828"/>
                  </a:lnTo>
                  <a:lnTo>
                    <a:pt x="953" y="6114"/>
                  </a:lnTo>
                  <a:lnTo>
                    <a:pt x="970" y="6401"/>
                  </a:lnTo>
                  <a:lnTo>
                    <a:pt x="985" y="6687"/>
                  </a:lnTo>
                  <a:lnTo>
                    <a:pt x="1017" y="6974"/>
                  </a:lnTo>
                  <a:lnTo>
                    <a:pt x="1049" y="7260"/>
                  </a:lnTo>
                  <a:lnTo>
                    <a:pt x="1097" y="7547"/>
                  </a:lnTo>
                  <a:lnTo>
                    <a:pt x="1128" y="7690"/>
                  </a:lnTo>
                  <a:lnTo>
                    <a:pt x="1144" y="7834"/>
                  </a:lnTo>
                  <a:lnTo>
                    <a:pt x="1176" y="7977"/>
                  </a:lnTo>
                  <a:lnTo>
                    <a:pt x="1192" y="8121"/>
                  </a:lnTo>
                  <a:lnTo>
                    <a:pt x="1224" y="8248"/>
                  </a:lnTo>
                  <a:lnTo>
                    <a:pt x="1239" y="8391"/>
                  </a:lnTo>
                  <a:lnTo>
                    <a:pt x="1271" y="8518"/>
                  </a:lnTo>
                  <a:lnTo>
                    <a:pt x="1303" y="8662"/>
                  </a:lnTo>
                  <a:lnTo>
                    <a:pt x="1303" y="8677"/>
                  </a:lnTo>
                  <a:lnTo>
                    <a:pt x="1319" y="8694"/>
                  </a:lnTo>
                  <a:lnTo>
                    <a:pt x="1336" y="8709"/>
                  </a:lnTo>
                  <a:lnTo>
                    <a:pt x="1351" y="8726"/>
                  </a:lnTo>
                  <a:lnTo>
                    <a:pt x="1366" y="8726"/>
                  </a:lnTo>
                  <a:lnTo>
                    <a:pt x="1398" y="8741"/>
                  </a:lnTo>
                  <a:lnTo>
                    <a:pt x="1415" y="8741"/>
                  </a:lnTo>
                  <a:lnTo>
                    <a:pt x="1446" y="87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11640" y="2579760"/>
              <a:ext cx="1555920" cy="2368440"/>
            </a:xfrm>
            <a:custGeom>
              <a:avLst/>
              <a:gdLst/>
              <a:ahLst/>
              <a:rect l="l" t="t" r="r" b="b"/>
              <a:pathLst>
                <a:path w="5883" h="8948">
                  <a:moveTo>
                    <a:pt x="1225" y="8948"/>
                  </a:moveTo>
                  <a:lnTo>
                    <a:pt x="1240" y="8948"/>
                  </a:lnTo>
                  <a:lnTo>
                    <a:pt x="1256" y="8948"/>
                  </a:lnTo>
                  <a:lnTo>
                    <a:pt x="1272" y="8948"/>
                  </a:lnTo>
                  <a:lnTo>
                    <a:pt x="1288" y="8948"/>
                  </a:lnTo>
                  <a:lnTo>
                    <a:pt x="1304" y="8948"/>
                  </a:lnTo>
                  <a:lnTo>
                    <a:pt x="1320" y="8948"/>
                  </a:lnTo>
                  <a:lnTo>
                    <a:pt x="1335" y="8948"/>
                  </a:lnTo>
                  <a:lnTo>
                    <a:pt x="1542" y="8788"/>
                  </a:lnTo>
                  <a:lnTo>
                    <a:pt x="1972" y="8883"/>
                  </a:lnTo>
                  <a:lnTo>
                    <a:pt x="2385" y="8709"/>
                  </a:lnTo>
                  <a:lnTo>
                    <a:pt x="2640" y="8741"/>
                  </a:lnTo>
                  <a:lnTo>
                    <a:pt x="2894" y="8725"/>
                  </a:lnTo>
                  <a:lnTo>
                    <a:pt x="3132" y="8646"/>
                  </a:lnTo>
                  <a:lnTo>
                    <a:pt x="3371" y="8549"/>
                  </a:lnTo>
                  <a:lnTo>
                    <a:pt x="3610" y="8454"/>
                  </a:lnTo>
                  <a:lnTo>
                    <a:pt x="3864" y="8375"/>
                  </a:lnTo>
                  <a:lnTo>
                    <a:pt x="4133" y="8343"/>
                  </a:lnTo>
                  <a:lnTo>
                    <a:pt x="4420" y="8358"/>
                  </a:lnTo>
                  <a:lnTo>
                    <a:pt x="4500" y="8310"/>
                  </a:lnTo>
                  <a:lnTo>
                    <a:pt x="4563" y="8263"/>
                  </a:lnTo>
                  <a:lnTo>
                    <a:pt x="4642" y="8231"/>
                  </a:lnTo>
                  <a:lnTo>
                    <a:pt x="4706" y="8215"/>
                  </a:lnTo>
                  <a:lnTo>
                    <a:pt x="4786" y="8200"/>
                  </a:lnTo>
                  <a:lnTo>
                    <a:pt x="4865" y="8200"/>
                  </a:lnTo>
                  <a:lnTo>
                    <a:pt x="4928" y="8200"/>
                  </a:lnTo>
                  <a:lnTo>
                    <a:pt x="5023" y="8183"/>
                  </a:lnTo>
                  <a:lnTo>
                    <a:pt x="5040" y="8183"/>
                  </a:lnTo>
                  <a:lnTo>
                    <a:pt x="5055" y="8200"/>
                  </a:lnTo>
                  <a:lnTo>
                    <a:pt x="5072" y="8215"/>
                  </a:lnTo>
                  <a:lnTo>
                    <a:pt x="5087" y="8215"/>
                  </a:lnTo>
                  <a:lnTo>
                    <a:pt x="5103" y="8231"/>
                  </a:lnTo>
                  <a:lnTo>
                    <a:pt x="5135" y="8247"/>
                  </a:lnTo>
                  <a:lnTo>
                    <a:pt x="5167" y="8247"/>
                  </a:lnTo>
                  <a:lnTo>
                    <a:pt x="5851" y="7785"/>
                  </a:lnTo>
                  <a:lnTo>
                    <a:pt x="5883" y="7499"/>
                  </a:lnTo>
                  <a:lnTo>
                    <a:pt x="5835" y="7229"/>
                  </a:lnTo>
                  <a:lnTo>
                    <a:pt x="5739" y="6973"/>
                  </a:lnTo>
                  <a:lnTo>
                    <a:pt x="5612" y="6719"/>
                  </a:lnTo>
                  <a:lnTo>
                    <a:pt x="5468" y="6495"/>
                  </a:lnTo>
                  <a:lnTo>
                    <a:pt x="5294" y="6273"/>
                  </a:lnTo>
                  <a:lnTo>
                    <a:pt x="5135" y="6066"/>
                  </a:lnTo>
                  <a:lnTo>
                    <a:pt x="4992" y="5859"/>
                  </a:lnTo>
                  <a:lnTo>
                    <a:pt x="4801" y="5652"/>
                  </a:lnTo>
                  <a:lnTo>
                    <a:pt x="4627" y="5429"/>
                  </a:lnTo>
                  <a:lnTo>
                    <a:pt x="4483" y="5207"/>
                  </a:lnTo>
                  <a:lnTo>
                    <a:pt x="4341" y="4983"/>
                  </a:lnTo>
                  <a:lnTo>
                    <a:pt x="4197" y="4744"/>
                  </a:lnTo>
                  <a:lnTo>
                    <a:pt x="4055" y="4522"/>
                  </a:lnTo>
                  <a:lnTo>
                    <a:pt x="3911" y="4298"/>
                  </a:lnTo>
                  <a:lnTo>
                    <a:pt x="3737" y="4092"/>
                  </a:lnTo>
                  <a:lnTo>
                    <a:pt x="3625" y="3725"/>
                  </a:lnTo>
                  <a:lnTo>
                    <a:pt x="3545" y="3359"/>
                  </a:lnTo>
                  <a:lnTo>
                    <a:pt x="3481" y="2993"/>
                  </a:lnTo>
                  <a:lnTo>
                    <a:pt x="3418" y="2610"/>
                  </a:lnTo>
                  <a:lnTo>
                    <a:pt x="3371" y="2229"/>
                  </a:lnTo>
                  <a:lnTo>
                    <a:pt x="3291" y="1863"/>
                  </a:lnTo>
                  <a:lnTo>
                    <a:pt x="3212" y="1497"/>
                  </a:lnTo>
                  <a:lnTo>
                    <a:pt x="3100" y="1114"/>
                  </a:lnTo>
                  <a:lnTo>
                    <a:pt x="3116" y="1098"/>
                  </a:lnTo>
                  <a:lnTo>
                    <a:pt x="3132" y="1098"/>
                  </a:lnTo>
                  <a:lnTo>
                    <a:pt x="3148" y="1083"/>
                  </a:lnTo>
                  <a:lnTo>
                    <a:pt x="3180" y="1083"/>
                  </a:lnTo>
                  <a:lnTo>
                    <a:pt x="3195" y="1083"/>
                  </a:lnTo>
                  <a:lnTo>
                    <a:pt x="3212" y="1098"/>
                  </a:lnTo>
                  <a:lnTo>
                    <a:pt x="3227" y="1098"/>
                  </a:lnTo>
                  <a:lnTo>
                    <a:pt x="3243" y="1098"/>
                  </a:lnTo>
                  <a:lnTo>
                    <a:pt x="3259" y="1114"/>
                  </a:lnTo>
                  <a:lnTo>
                    <a:pt x="3275" y="1114"/>
                  </a:lnTo>
                  <a:lnTo>
                    <a:pt x="3530" y="2229"/>
                  </a:lnTo>
                  <a:lnTo>
                    <a:pt x="3625" y="764"/>
                  </a:lnTo>
                  <a:lnTo>
                    <a:pt x="3116" y="207"/>
                  </a:lnTo>
                  <a:lnTo>
                    <a:pt x="3116" y="191"/>
                  </a:lnTo>
                  <a:lnTo>
                    <a:pt x="3132" y="175"/>
                  </a:lnTo>
                  <a:lnTo>
                    <a:pt x="3132" y="159"/>
                  </a:lnTo>
                  <a:lnTo>
                    <a:pt x="3132" y="143"/>
                  </a:lnTo>
                  <a:lnTo>
                    <a:pt x="3148" y="127"/>
                  </a:lnTo>
                  <a:lnTo>
                    <a:pt x="3148" y="95"/>
                  </a:lnTo>
                  <a:lnTo>
                    <a:pt x="3163" y="80"/>
                  </a:lnTo>
                  <a:lnTo>
                    <a:pt x="3180" y="63"/>
                  </a:lnTo>
                  <a:lnTo>
                    <a:pt x="3163" y="47"/>
                  </a:lnTo>
                  <a:lnTo>
                    <a:pt x="3148" y="47"/>
                  </a:lnTo>
                  <a:lnTo>
                    <a:pt x="3132" y="32"/>
                  </a:lnTo>
                  <a:lnTo>
                    <a:pt x="3116" y="32"/>
                  </a:lnTo>
                  <a:lnTo>
                    <a:pt x="3100" y="32"/>
                  </a:lnTo>
                  <a:lnTo>
                    <a:pt x="3068" y="15"/>
                  </a:lnTo>
                  <a:lnTo>
                    <a:pt x="3053" y="15"/>
                  </a:lnTo>
                  <a:lnTo>
                    <a:pt x="3036" y="0"/>
                  </a:lnTo>
                  <a:lnTo>
                    <a:pt x="2560" y="334"/>
                  </a:lnTo>
                  <a:lnTo>
                    <a:pt x="2512" y="334"/>
                  </a:lnTo>
                  <a:lnTo>
                    <a:pt x="2464" y="319"/>
                  </a:lnTo>
                  <a:lnTo>
                    <a:pt x="2417" y="302"/>
                  </a:lnTo>
                  <a:lnTo>
                    <a:pt x="2385" y="271"/>
                  </a:lnTo>
                  <a:lnTo>
                    <a:pt x="2337" y="239"/>
                  </a:lnTo>
                  <a:lnTo>
                    <a:pt x="2305" y="191"/>
                  </a:lnTo>
                  <a:lnTo>
                    <a:pt x="2273" y="159"/>
                  </a:lnTo>
                  <a:lnTo>
                    <a:pt x="2242" y="112"/>
                  </a:lnTo>
                  <a:lnTo>
                    <a:pt x="2210" y="80"/>
                  </a:lnTo>
                  <a:lnTo>
                    <a:pt x="2163" y="63"/>
                  </a:lnTo>
                  <a:lnTo>
                    <a:pt x="2115" y="63"/>
                  </a:lnTo>
                  <a:lnTo>
                    <a:pt x="2066" y="63"/>
                  </a:lnTo>
                  <a:lnTo>
                    <a:pt x="2019" y="63"/>
                  </a:lnTo>
                  <a:lnTo>
                    <a:pt x="1972" y="63"/>
                  </a:lnTo>
                  <a:lnTo>
                    <a:pt x="1924" y="63"/>
                  </a:lnTo>
                  <a:lnTo>
                    <a:pt x="1877" y="63"/>
                  </a:lnTo>
                  <a:lnTo>
                    <a:pt x="1860" y="95"/>
                  </a:lnTo>
                  <a:lnTo>
                    <a:pt x="1877" y="127"/>
                  </a:lnTo>
                  <a:lnTo>
                    <a:pt x="1892" y="159"/>
                  </a:lnTo>
                  <a:lnTo>
                    <a:pt x="1939" y="175"/>
                  </a:lnTo>
                  <a:lnTo>
                    <a:pt x="1987" y="207"/>
                  </a:lnTo>
                  <a:lnTo>
                    <a:pt x="2019" y="239"/>
                  </a:lnTo>
                  <a:lnTo>
                    <a:pt x="2051" y="286"/>
                  </a:lnTo>
                  <a:lnTo>
                    <a:pt x="2066" y="334"/>
                  </a:lnTo>
                  <a:lnTo>
                    <a:pt x="2066" y="351"/>
                  </a:lnTo>
                  <a:lnTo>
                    <a:pt x="2066" y="366"/>
                  </a:lnTo>
                  <a:lnTo>
                    <a:pt x="2051" y="366"/>
                  </a:lnTo>
                  <a:lnTo>
                    <a:pt x="2051" y="382"/>
                  </a:lnTo>
                  <a:lnTo>
                    <a:pt x="2036" y="398"/>
                  </a:lnTo>
                  <a:lnTo>
                    <a:pt x="2019" y="414"/>
                  </a:lnTo>
                  <a:lnTo>
                    <a:pt x="1335" y="717"/>
                  </a:lnTo>
                  <a:lnTo>
                    <a:pt x="1542" y="2898"/>
                  </a:lnTo>
                  <a:lnTo>
                    <a:pt x="1685" y="1163"/>
                  </a:lnTo>
                  <a:lnTo>
                    <a:pt x="1701" y="1163"/>
                  </a:lnTo>
                  <a:lnTo>
                    <a:pt x="1718" y="1163"/>
                  </a:lnTo>
                  <a:lnTo>
                    <a:pt x="1718" y="1146"/>
                  </a:lnTo>
                  <a:lnTo>
                    <a:pt x="1733" y="1146"/>
                  </a:lnTo>
                  <a:lnTo>
                    <a:pt x="1750" y="1146"/>
                  </a:lnTo>
                  <a:lnTo>
                    <a:pt x="1765" y="1146"/>
                  </a:lnTo>
                  <a:lnTo>
                    <a:pt x="1780" y="1146"/>
                  </a:lnTo>
                  <a:lnTo>
                    <a:pt x="1797" y="1146"/>
                  </a:lnTo>
                  <a:lnTo>
                    <a:pt x="1812" y="1163"/>
                  </a:lnTo>
                  <a:lnTo>
                    <a:pt x="1828" y="1178"/>
                  </a:lnTo>
                  <a:lnTo>
                    <a:pt x="1845" y="1193"/>
                  </a:lnTo>
                  <a:lnTo>
                    <a:pt x="1845" y="1210"/>
                  </a:lnTo>
                  <a:lnTo>
                    <a:pt x="1860" y="1242"/>
                  </a:lnTo>
                  <a:lnTo>
                    <a:pt x="1877" y="1258"/>
                  </a:lnTo>
                  <a:lnTo>
                    <a:pt x="1845" y="1990"/>
                  </a:lnTo>
                  <a:lnTo>
                    <a:pt x="1765" y="2690"/>
                  </a:lnTo>
                  <a:lnTo>
                    <a:pt x="1653" y="3407"/>
                  </a:lnTo>
                  <a:lnTo>
                    <a:pt x="1479" y="4092"/>
                  </a:lnTo>
                  <a:lnTo>
                    <a:pt x="1272" y="4761"/>
                  </a:lnTo>
                  <a:lnTo>
                    <a:pt x="1017" y="5414"/>
                  </a:lnTo>
                  <a:lnTo>
                    <a:pt x="700" y="6034"/>
                  </a:lnTo>
                  <a:lnTo>
                    <a:pt x="350" y="6624"/>
                  </a:lnTo>
                  <a:lnTo>
                    <a:pt x="191" y="6846"/>
                  </a:lnTo>
                  <a:lnTo>
                    <a:pt x="79" y="7100"/>
                  </a:lnTo>
                  <a:lnTo>
                    <a:pt x="17" y="7356"/>
                  </a:lnTo>
                  <a:lnTo>
                    <a:pt x="0" y="7610"/>
                  </a:lnTo>
                  <a:lnTo>
                    <a:pt x="17" y="7881"/>
                  </a:lnTo>
                  <a:lnTo>
                    <a:pt x="47" y="8151"/>
                  </a:lnTo>
                  <a:lnTo>
                    <a:pt x="79" y="8438"/>
                  </a:lnTo>
                  <a:lnTo>
                    <a:pt x="127" y="8709"/>
                  </a:lnTo>
                  <a:lnTo>
                    <a:pt x="144" y="8725"/>
                  </a:lnTo>
                  <a:lnTo>
                    <a:pt x="159" y="8741"/>
                  </a:lnTo>
                  <a:lnTo>
                    <a:pt x="191" y="8756"/>
                  </a:lnTo>
                  <a:lnTo>
                    <a:pt x="206" y="8756"/>
                  </a:lnTo>
                  <a:lnTo>
                    <a:pt x="223" y="8773"/>
                  </a:lnTo>
                  <a:lnTo>
                    <a:pt x="255" y="8773"/>
                  </a:lnTo>
                  <a:lnTo>
                    <a:pt x="271" y="8788"/>
                  </a:lnTo>
                  <a:lnTo>
                    <a:pt x="303" y="8788"/>
                  </a:lnTo>
                  <a:lnTo>
                    <a:pt x="398" y="8773"/>
                  </a:lnTo>
                  <a:lnTo>
                    <a:pt x="493" y="8756"/>
                  </a:lnTo>
                  <a:lnTo>
                    <a:pt x="589" y="8725"/>
                  </a:lnTo>
                  <a:lnTo>
                    <a:pt x="684" y="8725"/>
                  </a:lnTo>
                  <a:lnTo>
                    <a:pt x="780" y="8725"/>
                  </a:lnTo>
                  <a:lnTo>
                    <a:pt x="875" y="8725"/>
                  </a:lnTo>
                  <a:lnTo>
                    <a:pt x="954" y="8756"/>
                  </a:lnTo>
                  <a:lnTo>
                    <a:pt x="1034" y="8820"/>
                  </a:lnTo>
                  <a:lnTo>
                    <a:pt x="1066" y="8836"/>
                  </a:lnTo>
                  <a:lnTo>
                    <a:pt x="1097" y="8868"/>
                  </a:lnTo>
                  <a:lnTo>
                    <a:pt x="1113" y="8883"/>
                  </a:lnTo>
                  <a:lnTo>
                    <a:pt x="1129" y="8916"/>
                  </a:lnTo>
                  <a:lnTo>
                    <a:pt x="1145" y="8932"/>
                  </a:lnTo>
                  <a:lnTo>
                    <a:pt x="1161" y="8932"/>
                  </a:lnTo>
                  <a:lnTo>
                    <a:pt x="1176" y="8948"/>
                  </a:lnTo>
                  <a:lnTo>
                    <a:pt x="1208" y="8948"/>
                  </a:lnTo>
                  <a:lnTo>
                    <a:pt x="1225" y="89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98960" y="2260440"/>
              <a:ext cx="428760" cy="1592280"/>
            </a:xfrm>
            <a:custGeom>
              <a:avLst/>
              <a:gdLst/>
              <a:ahLst/>
              <a:rect l="l" t="t" r="r" b="b"/>
              <a:pathLst>
                <a:path w="1622" h="6018">
                  <a:moveTo>
                    <a:pt x="1510" y="6018"/>
                  </a:moveTo>
                  <a:lnTo>
                    <a:pt x="1527" y="6018"/>
                  </a:lnTo>
                  <a:lnTo>
                    <a:pt x="1527" y="6002"/>
                  </a:lnTo>
                  <a:lnTo>
                    <a:pt x="1542" y="6002"/>
                  </a:lnTo>
                  <a:lnTo>
                    <a:pt x="1542" y="5986"/>
                  </a:lnTo>
                  <a:lnTo>
                    <a:pt x="1622" y="5110"/>
                  </a:lnTo>
                  <a:lnTo>
                    <a:pt x="1605" y="5110"/>
                  </a:lnTo>
                  <a:lnTo>
                    <a:pt x="1605" y="5095"/>
                  </a:lnTo>
                  <a:lnTo>
                    <a:pt x="1590" y="5095"/>
                  </a:lnTo>
                  <a:lnTo>
                    <a:pt x="1574" y="5079"/>
                  </a:lnTo>
                  <a:lnTo>
                    <a:pt x="1558" y="5079"/>
                  </a:lnTo>
                  <a:lnTo>
                    <a:pt x="1542" y="5063"/>
                  </a:lnTo>
                  <a:lnTo>
                    <a:pt x="1383" y="4712"/>
                  </a:lnTo>
                  <a:lnTo>
                    <a:pt x="1272" y="4346"/>
                  </a:lnTo>
                  <a:lnTo>
                    <a:pt x="1240" y="3964"/>
                  </a:lnTo>
                  <a:lnTo>
                    <a:pt x="1224" y="3566"/>
                  </a:lnTo>
                  <a:lnTo>
                    <a:pt x="1256" y="3184"/>
                  </a:lnTo>
                  <a:lnTo>
                    <a:pt x="1288" y="2770"/>
                  </a:lnTo>
                  <a:lnTo>
                    <a:pt x="1319" y="2373"/>
                  </a:lnTo>
                  <a:lnTo>
                    <a:pt x="1319" y="1974"/>
                  </a:lnTo>
                  <a:lnTo>
                    <a:pt x="1288" y="1688"/>
                  </a:lnTo>
                  <a:lnTo>
                    <a:pt x="1224" y="1401"/>
                  </a:lnTo>
                  <a:lnTo>
                    <a:pt x="1160" y="1130"/>
                  </a:lnTo>
                  <a:lnTo>
                    <a:pt x="1065" y="876"/>
                  </a:lnTo>
                  <a:lnTo>
                    <a:pt x="953" y="620"/>
                  </a:lnTo>
                  <a:lnTo>
                    <a:pt x="826" y="398"/>
                  </a:lnTo>
                  <a:lnTo>
                    <a:pt x="684" y="175"/>
                  </a:lnTo>
                  <a:lnTo>
                    <a:pt x="508" y="0"/>
                  </a:lnTo>
                  <a:lnTo>
                    <a:pt x="0" y="478"/>
                  </a:lnTo>
                  <a:lnTo>
                    <a:pt x="0" y="939"/>
                  </a:lnTo>
                  <a:lnTo>
                    <a:pt x="16" y="956"/>
                  </a:lnTo>
                  <a:lnTo>
                    <a:pt x="16" y="971"/>
                  </a:lnTo>
                  <a:lnTo>
                    <a:pt x="32" y="971"/>
                  </a:lnTo>
                  <a:lnTo>
                    <a:pt x="48" y="986"/>
                  </a:lnTo>
                  <a:lnTo>
                    <a:pt x="63" y="1003"/>
                  </a:lnTo>
                  <a:lnTo>
                    <a:pt x="413" y="1130"/>
                  </a:lnTo>
                  <a:lnTo>
                    <a:pt x="540" y="1322"/>
                  </a:lnTo>
                  <a:lnTo>
                    <a:pt x="525" y="1337"/>
                  </a:lnTo>
                  <a:lnTo>
                    <a:pt x="508" y="1337"/>
                  </a:lnTo>
                  <a:lnTo>
                    <a:pt x="493" y="1337"/>
                  </a:lnTo>
                  <a:lnTo>
                    <a:pt x="478" y="1337"/>
                  </a:lnTo>
                  <a:lnTo>
                    <a:pt x="445" y="1337"/>
                  </a:lnTo>
                  <a:lnTo>
                    <a:pt x="429" y="1337"/>
                  </a:lnTo>
                  <a:lnTo>
                    <a:pt x="413" y="1353"/>
                  </a:lnTo>
                  <a:lnTo>
                    <a:pt x="398" y="1369"/>
                  </a:lnTo>
                  <a:lnTo>
                    <a:pt x="843" y="1927"/>
                  </a:lnTo>
                  <a:lnTo>
                    <a:pt x="794" y="2452"/>
                  </a:lnTo>
                  <a:lnTo>
                    <a:pt x="764" y="2993"/>
                  </a:lnTo>
                  <a:lnTo>
                    <a:pt x="747" y="3534"/>
                  </a:lnTo>
                  <a:lnTo>
                    <a:pt x="747" y="4076"/>
                  </a:lnTo>
                  <a:lnTo>
                    <a:pt x="811" y="4601"/>
                  </a:lnTo>
                  <a:lnTo>
                    <a:pt x="953" y="5095"/>
                  </a:lnTo>
                  <a:lnTo>
                    <a:pt x="1160" y="5556"/>
                  </a:lnTo>
                  <a:lnTo>
                    <a:pt x="1463" y="5986"/>
                  </a:lnTo>
                  <a:lnTo>
                    <a:pt x="1478" y="6002"/>
                  </a:lnTo>
                  <a:lnTo>
                    <a:pt x="1495" y="6002"/>
                  </a:lnTo>
                  <a:lnTo>
                    <a:pt x="1510" y="60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22680" y="2681280"/>
              <a:ext cx="382680" cy="565200"/>
            </a:xfrm>
            <a:custGeom>
              <a:avLst/>
              <a:gdLst/>
              <a:ahLst/>
              <a:rect l="l" t="t" r="r" b="b"/>
              <a:pathLst>
                <a:path w="1447" h="2133">
                  <a:moveTo>
                    <a:pt x="875" y="2133"/>
                  </a:moveTo>
                  <a:lnTo>
                    <a:pt x="1447" y="16"/>
                  </a:lnTo>
                  <a:lnTo>
                    <a:pt x="1320" y="0"/>
                  </a:lnTo>
                  <a:lnTo>
                    <a:pt x="1209" y="16"/>
                  </a:lnTo>
                  <a:lnTo>
                    <a:pt x="1097" y="64"/>
                  </a:lnTo>
                  <a:lnTo>
                    <a:pt x="987" y="111"/>
                  </a:lnTo>
                  <a:lnTo>
                    <a:pt x="875" y="159"/>
                  </a:lnTo>
                  <a:lnTo>
                    <a:pt x="780" y="191"/>
                  </a:lnTo>
                  <a:lnTo>
                    <a:pt x="669" y="175"/>
                  </a:lnTo>
                  <a:lnTo>
                    <a:pt x="542" y="111"/>
                  </a:lnTo>
                  <a:lnTo>
                    <a:pt x="462" y="79"/>
                  </a:lnTo>
                  <a:lnTo>
                    <a:pt x="398" y="79"/>
                  </a:lnTo>
                  <a:lnTo>
                    <a:pt x="335" y="79"/>
                  </a:lnTo>
                  <a:lnTo>
                    <a:pt x="256" y="96"/>
                  </a:lnTo>
                  <a:lnTo>
                    <a:pt x="191" y="111"/>
                  </a:lnTo>
                  <a:lnTo>
                    <a:pt x="127" y="128"/>
                  </a:lnTo>
                  <a:lnTo>
                    <a:pt x="64" y="143"/>
                  </a:lnTo>
                  <a:lnTo>
                    <a:pt x="0" y="159"/>
                  </a:lnTo>
                  <a:lnTo>
                    <a:pt x="875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19520" y="2757600"/>
              <a:ext cx="193680" cy="142920"/>
            </a:xfrm>
            <a:custGeom>
              <a:avLst/>
              <a:gdLst/>
              <a:ahLst/>
              <a:rect l="l" t="t" r="r" b="b"/>
              <a:pathLst>
                <a:path w="731" h="542">
                  <a:moveTo>
                    <a:pt x="176" y="542"/>
                  </a:moveTo>
                  <a:lnTo>
                    <a:pt x="462" y="366"/>
                  </a:lnTo>
                  <a:lnTo>
                    <a:pt x="477" y="366"/>
                  </a:lnTo>
                  <a:lnTo>
                    <a:pt x="509" y="383"/>
                  </a:lnTo>
                  <a:lnTo>
                    <a:pt x="541" y="398"/>
                  </a:lnTo>
                  <a:lnTo>
                    <a:pt x="557" y="415"/>
                  </a:lnTo>
                  <a:lnTo>
                    <a:pt x="589" y="430"/>
                  </a:lnTo>
                  <a:lnTo>
                    <a:pt x="621" y="446"/>
                  </a:lnTo>
                  <a:lnTo>
                    <a:pt x="652" y="462"/>
                  </a:lnTo>
                  <a:lnTo>
                    <a:pt x="684" y="446"/>
                  </a:lnTo>
                  <a:lnTo>
                    <a:pt x="716" y="415"/>
                  </a:lnTo>
                  <a:lnTo>
                    <a:pt x="731" y="383"/>
                  </a:lnTo>
                  <a:lnTo>
                    <a:pt x="731" y="335"/>
                  </a:lnTo>
                  <a:lnTo>
                    <a:pt x="731" y="288"/>
                  </a:lnTo>
                  <a:lnTo>
                    <a:pt x="731" y="239"/>
                  </a:lnTo>
                  <a:lnTo>
                    <a:pt x="731" y="191"/>
                  </a:lnTo>
                  <a:lnTo>
                    <a:pt x="731" y="144"/>
                  </a:lnTo>
                  <a:lnTo>
                    <a:pt x="731" y="96"/>
                  </a:lnTo>
                  <a:lnTo>
                    <a:pt x="731" y="80"/>
                  </a:lnTo>
                  <a:lnTo>
                    <a:pt x="716" y="64"/>
                  </a:lnTo>
                  <a:lnTo>
                    <a:pt x="716" y="49"/>
                  </a:lnTo>
                  <a:lnTo>
                    <a:pt x="700" y="32"/>
                  </a:lnTo>
                  <a:lnTo>
                    <a:pt x="684" y="17"/>
                  </a:lnTo>
                  <a:lnTo>
                    <a:pt x="652" y="0"/>
                  </a:lnTo>
                  <a:lnTo>
                    <a:pt x="636" y="0"/>
                  </a:lnTo>
                  <a:lnTo>
                    <a:pt x="366" y="176"/>
                  </a:lnTo>
                  <a:lnTo>
                    <a:pt x="96" y="17"/>
                  </a:lnTo>
                  <a:lnTo>
                    <a:pt x="79" y="0"/>
                  </a:lnTo>
                  <a:lnTo>
                    <a:pt x="64" y="0"/>
                  </a:lnTo>
                  <a:lnTo>
                    <a:pt x="49" y="17"/>
                  </a:lnTo>
                  <a:lnTo>
                    <a:pt x="32" y="17"/>
                  </a:lnTo>
                  <a:lnTo>
                    <a:pt x="17" y="32"/>
                  </a:lnTo>
                  <a:lnTo>
                    <a:pt x="17" y="49"/>
                  </a:lnTo>
                  <a:lnTo>
                    <a:pt x="0" y="64"/>
                  </a:lnTo>
                  <a:lnTo>
                    <a:pt x="0" y="96"/>
                  </a:lnTo>
                  <a:lnTo>
                    <a:pt x="112" y="525"/>
                  </a:lnTo>
                  <a:lnTo>
                    <a:pt x="127" y="525"/>
                  </a:lnTo>
                  <a:lnTo>
                    <a:pt x="144" y="525"/>
                  </a:lnTo>
                  <a:lnTo>
                    <a:pt x="159" y="542"/>
                  </a:lnTo>
                  <a:lnTo>
                    <a:pt x="176" y="5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40040" y="2276640"/>
              <a:ext cx="168480" cy="392040"/>
            </a:xfrm>
            <a:custGeom>
              <a:avLst/>
              <a:gdLst/>
              <a:ahLst/>
              <a:rect l="l" t="t" r="r" b="b"/>
              <a:pathLst>
                <a:path w="637" h="1480">
                  <a:moveTo>
                    <a:pt x="287" y="1480"/>
                  </a:moveTo>
                  <a:lnTo>
                    <a:pt x="510" y="1432"/>
                  </a:lnTo>
                  <a:lnTo>
                    <a:pt x="573" y="1273"/>
                  </a:lnTo>
                  <a:lnTo>
                    <a:pt x="621" y="1114"/>
                  </a:lnTo>
                  <a:lnTo>
                    <a:pt x="637" y="939"/>
                  </a:lnTo>
                  <a:lnTo>
                    <a:pt x="621" y="763"/>
                  </a:lnTo>
                  <a:lnTo>
                    <a:pt x="605" y="588"/>
                  </a:lnTo>
                  <a:lnTo>
                    <a:pt x="589" y="397"/>
                  </a:lnTo>
                  <a:lnTo>
                    <a:pt x="573" y="222"/>
                  </a:lnTo>
                  <a:lnTo>
                    <a:pt x="557" y="48"/>
                  </a:lnTo>
                  <a:lnTo>
                    <a:pt x="510" y="15"/>
                  </a:lnTo>
                  <a:lnTo>
                    <a:pt x="462" y="15"/>
                  </a:lnTo>
                  <a:lnTo>
                    <a:pt x="415" y="0"/>
                  </a:lnTo>
                  <a:lnTo>
                    <a:pt x="366" y="0"/>
                  </a:lnTo>
                  <a:lnTo>
                    <a:pt x="303" y="15"/>
                  </a:lnTo>
                  <a:lnTo>
                    <a:pt x="256" y="15"/>
                  </a:lnTo>
                  <a:lnTo>
                    <a:pt x="192" y="15"/>
                  </a:lnTo>
                  <a:lnTo>
                    <a:pt x="144" y="15"/>
                  </a:lnTo>
                  <a:lnTo>
                    <a:pt x="97" y="143"/>
                  </a:lnTo>
                  <a:lnTo>
                    <a:pt x="48" y="286"/>
                  </a:lnTo>
                  <a:lnTo>
                    <a:pt x="17" y="446"/>
                  </a:lnTo>
                  <a:lnTo>
                    <a:pt x="0" y="621"/>
                  </a:lnTo>
                  <a:lnTo>
                    <a:pt x="17" y="795"/>
                  </a:lnTo>
                  <a:lnTo>
                    <a:pt x="33" y="971"/>
                  </a:lnTo>
                  <a:lnTo>
                    <a:pt x="48" y="1130"/>
                  </a:lnTo>
                  <a:lnTo>
                    <a:pt x="97" y="1305"/>
                  </a:lnTo>
                  <a:lnTo>
                    <a:pt x="112" y="1337"/>
                  </a:lnTo>
                  <a:lnTo>
                    <a:pt x="127" y="1368"/>
                  </a:lnTo>
                  <a:lnTo>
                    <a:pt x="144" y="1385"/>
                  </a:lnTo>
                  <a:lnTo>
                    <a:pt x="160" y="1417"/>
                  </a:lnTo>
                  <a:lnTo>
                    <a:pt x="192" y="1432"/>
                  </a:lnTo>
                  <a:lnTo>
                    <a:pt x="207" y="1448"/>
                  </a:lnTo>
                  <a:lnTo>
                    <a:pt x="224" y="1465"/>
                  </a:lnTo>
                  <a:lnTo>
                    <a:pt x="256" y="1480"/>
                  </a:lnTo>
                  <a:lnTo>
                    <a:pt x="271" y="1480"/>
                  </a:lnTo>
                  <a:lnTo>
                    <a:pt x="287" y="14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2247840"/>
              <a:ext cx="158760" cy="354240"/>
            </a:xfrm>
            <a:custGeom>
              <a:avLst/>
              <a:gdLst/>
              <a:ahLst/>
              <a:rect l="l" t="t" r="r" b="b"/>
              <a:pathLst>
                <a:path w="603" h="1338">
                  <a:moveTo>
                    <a:pt x="365" y="1338"/>
                  </a:moveTo>
                  <a:lnTo>
                    <a:pt x="381" y="1338"/>
                  </a:lnTo>
                  <a:lnTo>
                    <a:pt x="396" y="1338"/>
                  </a:lnTo>
                  <a:lnTo>
                    <a:pt x="413" y="1338"/>
                  </a:lnTo>
                  <a:lnTo>
                    <a:pt x="428" y="1338"/>
                  </a:lnTo>
                  <a:lnTo>
                    <a:pt x="428" y="1321"/>
                  </a:lnTo>
                  <a:lnTo>
                    <a:pt x="445" y="1321"/>
                  </a:lnTo>
                  <a:lnTo>
                    <a:pt x="492" y="1178"/>
                  </a:lnTo>
                  <a:lnTo>
                    <a:pt x="540" y="1019"/>
                  </a:lnTo>
                  <a:lnTo>
                    <a:pt x="572" y="860"/>
                  </a:lnTo>
                  <a:lnTo>
                    <a:pt x="587" y="700"/>
                  </a:lnTo>
                  <a:lnTo>
                    <a:pt x="603" y="541"/>
                  </a:lnTo>
                  <a:lnTo>
                    <a:pt x="587" y="382"/>
                  </a:lnTo>
                  <a:lnTo>
                    <a:pt x="572" y="223"/>
                  </a:lnTo>
                  <a:lnTo>
                    <a:pt x="540" y="63"/>
                  </a:lnTo>
                  <a:lnTo>
                    <a:pt x="523" y="63"/>
                  </a:lnTo>
                  <a:lnTo>
                    <a:pt x="508" y="48"/>
                  </a:lnTo>
                  <a:lnTo>
                    <a:pt x="508" y="32"/>
                  </a:lnTo>
                  <a:lnTo>
                    <a:pt x="492" y="32"/>
                  </a:lnTo>
                  <a:lnTo>
                    <a:pt x="476" y="16"/>
                  </a:lnTo>
                  <a:lnTo>
                    <a:pt x="460" y="0"/>
                  </a:lnTo>
                  <a:lnTo>
                    <a:pt x="445" y="0"/>
                  </a:lnTo>
                  <a:lnTo>
                    <a:pt x="413" y="0"/>
                  </a:lnTo>
                  <a:lnTo>
                    <a:pt x="95" y="127"/>
                  </a:lnTo>
                  <a:lnTo>
                    <a:pt x="31" y="223"/>
                  </a:lnTo>
                  <a:lnTo>
                    <a:pt x="15" y="319"/>
                  </a:lnTo>
                  <a:lnTo>
                    <a:pt x="0" y="446"/>
                  </a:lnTo>
                  <a:lnTo>
                    <a:pt x="15" y="558"/>
                  </a:lnTo>
                  <a:lnTo>
                    <a:pt x="31" y="685"/>
                  </a:lnTo>
                  <a:lnTo>
                    <a:pt x="47" y="797"/>
                  </a:lnTo>
                  <a:lnTo>
                    <a:pt x="63" y="924"/>
                  </a:lnTo>
                  <a:lnTo>
                    <a:pt x="95" y="1034"/>
                  </a:lnTo>
                  <a:lnTo>
                    <a:pt x="301" y="1338"/>
                  </a:lnTo>
                  <a:lnTo>
                    <a:pt x="317" y="1338"/>
                  </a:lnTo>
                  <a:lnTo>
                    <a:pt x="333" y="1338"/>
                  </a:lnTo>
                  <a:lnTo>
                    <a:pt x="349" y="1338"/>
                  </a:lnTo>
                  <a:lnTo>
                    <a:pt x="365" y="1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24560" y="1986120"/>
              <a:ext cx="453960" cy="312480"/>
            </a:xfrm>
            <a:custGeom>
              <a:avLst/>
              <a:gdLst/>
              <a:ahLst/>
              <a:rect l="l" t="t" r="r" b="b"/>
              <a:pathLst>
                <a:path w="1717" h="1180">
                  <a:moveTo>
                    <a:pt x="1478" y="1180"/>
                  </a:moveTo>
                  <a:lnTo>
                    <a:pt x="1495" y="1180"/>
                  </a:lnTo>
                  <a:lnTo>
                    <a:pt x="1510" y="1180"/>
                  </a:lnTo>
                  <a:lnTo>
                    <a:pt x="1527" y="1180"/>
                  </a:lnTo>
                  <a:lnTo>
                    <a:pt x="1542" y="1163"/>
                  </a:lnTo>
                  <a:lnTo>
                    <a:pt x="1558" y="1163"/>
                  </a:lnTo>
                  <a:lnTo>
                    <a:pt x="1590" y="1148"/>
                  </a:lnTo>
                  <a:lnTo>
                    <a:pt x="1622" y="1131"/>
                  </a:lnTo>
                  <a:lnTo>
                    <a:pt x="1654" y="1100"/>
                  </a:lnTo>
                  <a:lnTo>
                    <a:pt x="1669" y="1051"/>
                  </a:lnTo>
                  <a:lnTo>
                    <a:pt x="1685" y="1004"/>
                  </a:lnTo>
                  <a:lnTo>
                    <a:pt x="1701" y="956"/>
                  </a:lnTo>
                  <a:lnTo>
                    <a:pt x="1701" y="909"/>
                  </a:lnTo>
                  <a:lnTo>
                    <a:pt x="1717" y="861"/>
                  </a:lnTo>
                  <a:lnTo>
                    <a:pt x="1558" y="638"/>
                  </a:lnTo>
                  <a:lnTo>
                    <a:pt x="1669" y="319"/>
                  </a:lnTo>
                  <a:lnTo>
                    <a:pt x="1527" y="144"/>
                  </a:lnTo>
                  <a:lnTo>
                    <a:pt x="1192" y="415"/>
                  </a:lnTo>
                  <a:lnTo>
                    <a:pt x="1177" y="415"/>
                  </a:lnTo>
                  <a:lnTo>
                    <a:pt x="1160" y="415"/>
                  </a:lnTo>
                  <a:lnTo>
                    <a:pt x="1145" y="415"/>
                  </a:lnTo>
                  <a:lnTo>
                    <a:pt x="1129" y="415"/>
                  </a:lnTo>
                  <a:lnTo>
                    <a:pt x="1113" y="415"/>
                  </a:lnTo>
                  <a:lnTo>
                    <a:pt x="1097" y="415"/>
                  </a:lnTo>
                  <a:lnTo>
                    <a:pt x="1082" y="415"/>
                  </a:lnTo>
                  <a:lnTo>
                    <a:pt x="1050" y="415"/>
                  </a:lnTo>
                  <a:lnTo>
                    <a:pt x="1018" y="399"/>
                  </a:lnTo>
                  <a:lnTo>
                    <a:pt x="1002" y="383"/>
                  </a:lnTo>
                  <a:lnTo>
                    <a:pt x="986" y="367"/>
                  </a:lnTo>
                  <a:lnTo>
                    <a:pt x="970" y="351"/>
                  </a:lnTo>
                  <a:lnTo>
                    <a:pt x="954" y="319"/>
                  </a:lnTo>
                  <a:lnTo>
                    <a:pt x="938" y="288"/>
                  </a:lnTo>
                  <a:lnTo>
                    <a:pt x="938" y="256"/>
                  </a:lnTo>
                  <a:lnTo>
                    <a:pt x="923" y="224"/>
                  </a:lnTo>
                  <a:lnTo>
                    <a:pt x="923" y="208"/>
                  </a:lnTo>
                  <a:lnTo>
                    <a:pt x="923" y="192"/>
                  </a:lnTo>
                  <a:lnTo>
                    <a:pt x="938" y="176"/>
                  </a:lnTo>
                  <a:lnTo>
                    <a:pt x="938" y="160"/>
                  </a:lnTo>
                  <a:lnTo>
                    <a:pt x="938" y="144"/>
                  </a:lnTo>
                  <a:lnTo>
                    <a:pt x="938" y="129"/>
                  </a:lnTo>
                  <a:lnTo>
                    <a:pt x="938" y="112"/>
                  </a:lnTo>
                  <a:lnTo>
                    <a:pt x="938" y="80"/>
                  </a:lnTo>
                  <a:lnTo>
                    <a:pt x="938" y="65"/>
                  </a:lnTo>
                  <a:lnTo>
                    <a:pt x="923" y="49"/>
                  </a:lnTo>
                  <a:lnTo>
                    <a:pt x="906" y="49"/>
                  </a:lnTo>
                  <a:lnTo>
                    <a:pt x="874" y="32"/>
                  </a:lnTo>
                  <a:lnTo>
                    <a:pt x="859" y="32"/>
                  </a:lnTo>
                  <a:lnTo>
                    <a:pt x="827" y="17"/>
                  </a:lnTo>
                  <a:lnTo>
                    <a:pt x="795" y="0"/>
                  </a:lnTo>
                  <a:lnTo>
                    <a:pt x="779" y="0"/>
                  </a:lnTo>
                  <a:lnTo>
                    <a:pt x="764" y="0"/>
                  </a:lnTo>
                  <a:lnTo>
                    <a:pt x="747" y="17"/>
                  </a:lnTo>
                  <a:lnTo>
                    <a:pt x="747" y="32"/>
                  </a:lnTo>
                  <a:lnTo>
                    <a:pt x="732" y="49"/>
                  </a:lnTo>
                  <a:lnTo>
                    <a:pt x="732" y="65"/>
                  </a:lnTo>
                  <a:lnTo>
                    <a:pt x="732" y="97"/>
                  </a:lnTo>
                  <a:lnTo>
                    <a:pt x="732" y="112"/>
                  </a:lnTo>
                  <a:lnTo>
                    <a:pt x="732" y="129"/>
                  </a:lnTo>
                  <a:lnTo>
                    <a:pt x="715" y="176"/>
                  </a:lnTo>
                  <a:lnTo>
                    <a:pt x="700" y="208"/>
                  </a:lnTo>
                  <a:lnTo>
                    <a:pt x="668" y="239"/>
                  </a:lnTo>
                  <a:lnTo>
                    <a:pt x="652" y="256"/>
                  </a:lnTo>
                  <a:lnTo>
                    <a:pt x="620" y="288"/>
                  </a:lnTo>
                  <a:lnTo>
                    <a:pt x="573" y="319"/>
                  </a:lnTo>
                  <a:lnTo>
                    <a:pt x="541" y="336"/>
                  </a:lnTo>
                  <a:lnTo>
                    <a:pt x="508" y="351"/>
                  </a:lnTo>
                  <a:lnTo>
                    <a:pt x="478" y="383"/>
                  </a:lnTo>
                  <a:lnTo>
                    <a:pt x="461" y="415"/>
                  </a:lnTo>
                  <a:lnTo>
                    <a:pt x="461" y="463"/>
                  </a:lnTo>
                  <a:lnTo>
                    <a:pt x="461" y="510"/>
                  </a:lnTo>
                  <a:lnTo>
                    <a:pt x="461" y="558"/>
                  </a:lnTo>
                  <a:lnTo>
                    <a:pt x="461" y="605"/>
                  </a:lnTo>
                  <a:lnTo>
                    <a:pt x="446" y="638"/>
                  </a:lnTo>
                  <a:lnTo>
                    <a:pt x="414" y="685"/>
                  </a:lnTo>
                  <a:lnTo>
                    <a:pt x="398" y="734"/>
                  </a:lnTo>
                  <a:lnTo>
                    <a:pt x="349" y="765"/>
                  </a:lnTo>
                  <a:lnTo>
                    <a:pt x="302" y="797"/>
                  </a:lnTo>
                  <a:lnTo>
                    <a:pt x="254" y="812"/>
                  </a:lnTo>
                  <a:lnTo>
                    <a:pt x="192" y="812"/>
                  </a:lnTo>
                  <a:lnTo>
                    <a:pt x="127" y="829"/>
                  </a:lnTo>
                  <a:lnTo>
                    <a:pt x="63" y="829"/>
                  </a:lnTo>
                  <a:lnTo>
                    <a:pt x="16" y="829"/>
                  </a:lnTo>
                  <a:lnTo>
                    <a:pt x="0" y="844"/>
                  </a:lnTo>
                  <a:lnTo>
                    <a:pt x="0" y="861"/>
                  </a:lnTo>
                  <a:lnTo>
                    <a:pt x="0" y="876"/>
                  </a:lnTo>
                  <a:lnTo>
                    <a:pt x="0" y="892"/>
                  </a:lnTo>
                  <a:lnTo>
                    <a:pt x="0" y="909"/>
                  </a:lnTo>
                  <a:lnTo>
                    <a:pt x="0" y="924"/>
                  </a:lnTo>
                  <a:lnTo>
                    <a:pt x="0" y="941"/>
                  </a:lnTo>
                  <a:lnTo>
                    <a:pt x="16" y="956"/>
                  </a:lnTo>
                  <a:lnTo>
                    <a:pt x="63" y="1004"/>
                  </a:lnTo>
                  <a:lnTo>
                    <a:pt x="127" y="1036"/>
                  </a:lnTo>
                  <a:lnTo>
                    <a:pt x="192" y="1068"/>
                  </a:lnTo>
                  <a:lnTo>
                    <a:pt x="270" y="1083"/>
                  </a:lnTo>
                  <a:lnTo>
                    <a:pt x="349" y="1100"/>
                  </a:lnTo>
                  <a:lnTo>
                    <a:pt x="414" y="1100"/>
                  </a:lnTo>
                  <a:lnTo>
                    <a:pt x="493" y="1083"/>
                  </a:lnTo>
                  <a:lnTo>
                    <a:pt x="557" y="1051"/>
                  </a:lnTo>
                  <a:lnTo>
                    <a:pt x="684" y="844"/>
                  </a:lnTo>
                  <a:lnTo>
                    <a:pt x="764" y="829"/>
                  </a:lnTo>
                  <a:lnTo>
                    <a:pt x="859" y="812"/>
                  </a:lnTo>
                  <a:lnTo>
                    <a:pt x="954" y="797"/>
                  </a:lnTo>
                  <a:lnTo>
                    <a:pt x="1033" y="797"/>
                  </a:lnTo>
                  <a:lnTo>
                    <a:pt x="1113" y="812"/>
                  </a:lnTo>
                  <a:lnTo>
                    <a:pt x="1192" y="844"/>
                  </a:lnTo>
                  <a:lnTo>
                    <a:pt x="1256" y="892"/>
                  </a:lnTo>
                  <a:lnTo>
                    <a:pt x="1319" y="956"/>
                  </a:lnTo>
                  <a:lnTo>
                    <a:pt x="1336" y="988"/>
                  </a:lnTo>
                  <a:lnTo>
                    <a:pt x="1336" y="1004"/>
                  </a:lnTo>
                  <a:lnTo>
                    <a:pt x="1351" y="1020"/>
                  </a:lnTo>
                  <a:lnTo>
                    <a:pt x="1351" y="1036"/>
                  </a:lnTo>
                  <a:lnTo>
                    <a:pt x="1368" y="1036"/>
                  </a:lnTo>
                  <a:lnTo>
                    <a:pt x="1368" y="1051"/>
                  </a:lnTo>
                  <a:lnTo>
                    <a:pt x="1383" y="1051"/>
                  </a:lnTo>
                  <a:lnTo>
                    <a:pt x="1383" y="1068"/>
                  </a:lnTo>
                  <a:lnTo>
                    <a:pt x="1383" y="1083"/>
                  </a:lnTo>
                  <a:lnTo>
                    <a:pt x="1383" y="1100"/>
                  </a:lnTo>
                  <a:lnTo>
                    <a:pt x="1383" y="1115"/>
                  </a:lnTo>
                  <a:lnTo>
                    <a:pt x="1383" y="1131"/>
                  </a:lnTo>
                  <a:lnTo>
                    <a:pt x="1383" y="1148"/>
                  </a:lnTo>
                  <a:lnTo>
                    <a:pt x="1399" y="1163"/>
                  </a:lnTo>
                  <a:lnTo>
                    <a:pt x="1415" y="1180"/>
                  </a:lnTo>
                  <a:lnTo>
                    <a:pt x="1431" y="1180"/>
                  </a:lnTo>
                  <a:lnTo>
                    <a:pt x="1447" y="1180"/>
                  </a:lnTo>
                  <a:lnTo>
                    <a:pt x="1463" y="1180"/>
                  </a:lnTo>
                  <a:lnTo>
                    <a:pt x="1478" y="1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2120" y="1860480"/>
              <a:ext cx="63720" cy="344520"/>
            </a:xfrm>
            <a:custGeom>
              <a:avLst/>
              <a:gdLst/>
              <a:ahLst/>
              <a:rect l="l" t="t" r="r" b="b"/>
              <a:pathLst>
                <a:path w="237" h="1305">
                  <a:moveTo>
                    <a:pt x="190" y="1305"/>
                  </a:moveTo>
                  <a:lnTo>
                    <a:pt x="222" y="1146"/>
                  </a:lnTo>
                  <a:lnTo>
                    <a:pt x="237" y="986"/>
                  </a:lnTo>
                  <a:lnTo>
                    <a:pt x="237" y="827"/>
                  </a:lnTo>
                  <a:lnTo>
                    <a:pt x="237" y="652"/>
                  </a:lnTo>
                  <a:lnTo>
                    <a:pt x="206" y="493"/>
                  </a:lnTo>
                  <a:lnTo>
                    <a:pt x="174" y="334"/>
                  </a:lnTo>
                  <a:lnTo>
                    <a:pt x="142" y="159"/>
                  </a:lnTo>
                  <a:lnTo>
                    <a:pt x="95" y="0"/>
                  </a:lnTo>
                  <a:lnTo>
                    <a:pt x="63" y="15"/>
                  </a:lnTo>
                  <a:lnTo>
                    <a:pt x="47" y="31"/>
                  </a:lnTo>
                  <a:lnTo>
                    <a:pt x="30" y="47"/>
                  </a:lnTo>
                  <a:lnTo>
                    <a:pt x="30" y="63"/>
                  </a:lnTo>
                  <a:lnTo>
                    <a:pt x="15" y="79"/>
                  </a:lnTo>
                  <a:lnTo>
                    <a:pt x="15" y="95"/>
                  </a:lnTo>
                  <a:lnTo>
                    <a:pt x="0" y="127"/>
                  </a:lnTo>
                  <a:lnTo>
                    <a:pt x="0" y="142"/>
                  </a:lnTo>
                  <a:lnTo>
                    <a:pt x="190" y="1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15120" y="838080"/>
            <a:ext cx="732348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900" spc="-1" strike="noStrike">
                <a:solidFill>
                  <a:srgbClr val="902444"/>
                </a:solidFill>
                <a:latin typeface="Geometr231 Hv BT"/>
              </a:rPr>
              <a:t>AIDS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902444"/>
                </a:solidFill>
                <a:latin typeface="Geometr231 Hv BT"/>
              </a:rPr>
              <a:t>=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FUNERALS RATHER THAN LIF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162160" y="3355920"/>
            <a:ext cx="4771800" cy="2511000"/>
            <a:chOff x="2162160" y="3355920"/>
            <a:chExt cx="4771800" cy="2511000"/>
          </a:xfrm>
        </p:grpSpPr>
        <p:sp>
          <p:nvSpPr>
            <p:cNvPr id="218" name=""/>
            <p:cNvSpPr/>
            <p:nvPr/>
          </p:nvSpPr>
          <p:spPr>
            <a:xfrm>
              <a:off x="32317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317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7496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8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496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8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17840" y="3355920"/>
              <a:ext cx="4600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79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17840" y="3355920"/>
              <a:ext cx="4600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79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6288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9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6288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9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061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7" h="1919">
                  <a:moveTo>
                    <a:pt x="1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7" y="388"/>
                  </a:lnTo>
                  <a:lnTo>
                    <a:pt x="1247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1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061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7" h="1919">
                  <a:moveTo>
                    <a:pt x="1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7" y="388"/>
                  </a:lnTo>
                  <a:lnTo>
                    <a:pt x="1247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1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6280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8" y="469"/>
                  </a:lnTo>
                  <a:lnTo>
                    <a:pt x="135" y="469"/>
                  </a:lnTo>
                  <a:lnTo>
                    <a:pt x="203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5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8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9" y="467"/>
                  </a:lnTo>
                  <a:lnTo>
                    <a:pt x="1429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29" y="836"/>
                  </a:lnTo>
                  <a:lnTo>
                    <a:pt x="1359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6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1" y="653"/>
                  </a:lnTo>
                  <a:lnTo>
                    <a:pt x="1" y="608"/>
                  </a:lnTo>
                  <a:lnTo>
                    <a:pt x="1" y="562"/>
                  </a:lnTo>
                  <a:lnTo>
                    <a:pt x="1" y="516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6280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8" y="469"/>
                  </a:lnTo>
                  <a:lnTo>
                    <a:pt x="135" y="469"/>
                  </a:lnTo>
                  <a:lnTo>
                    <a:pt x="203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5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8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9" y="467"/>
                  </a:lnTo>
                  <a:lnTo>
                    <a:pt x="1429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29" y="836"/>
                  </a:lnTo>
                  <a:lnTo>
                    <a:pt x="1359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6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1" y="653"/>
                  </a:lnTo>
                  <a:lnTo>
                    <a:pt x="1" y="608"/>
                  </a:lnTo>
                  <a:lnTo>
                    <a:pt x="1" y="562"/>
                  </a:lnTo>
                  <a:lnTo>
                    <a:pt x="1" y="516"/>
                  </a:lnTo>
                  <a:lnTo>
                    <a:pt x="1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183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7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9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9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5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7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183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7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9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9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5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7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17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8" h="2309">
                  <a:moveTo>
                    <a:pt x="0" y="469"/>
                  </a:moveTo>
                  <a:lnTo>
                    <a:pt x="67" y="469"/>
                  </a:lnTo>
                  <a:lnTo>
                    <a:pt x="134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6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7" y="0"/>
                  </a:lnTo>
                  <a:lnTo>
                    <a:pt x="787" y="0"/>
                  </a:lnTo>
                  <a:lnTo>
                    <a:pt x="837" y="0"/>
                  </a:lnTo>
                  <a:lnTo>
                    <a:pt x="887" y="0"/>
                  </a:lnTo>
                  <a:lnTo>
                    <a:pt x="937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6" y="408"/>
                  </a:lnTo>
                  <a:lnTo>
                    <a:pt x="936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7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8" y="467"/>
                  </a:lnTo>
                  <a:lnTo>
                    <a:pt x="1498" y="467"/>
                  </a:lnTo>
                  <a:lnTo>
                    <a:pt x="1498" y="513"/>
                  </a:lnTo>
                  <a:lnTo>
                    <a:pt x="1498" y="559"/>
                  </a:lnTo>
                  <a:lnTo>
                    <a:pt x="1498" y="606"/>
                  </a:lnTo>
                  <a:lnTo>
                    <a:pt x="1498" y="651"/>
                  </a:lnTo>
                  <a:lnTo>
                    <a:pt x="1498" y="697"/>
                  </a:lnTo>
                  <a:lnTo>
                    <a:pt x="1498" y="743"/>
                  </a:lnTo>
                  <a:lnTo>
                    <a:pt x="1498" y="790"/>
                  </a:lnTo>
                  <a:lnTo>
                    <a:pt x="1498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6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5" y="2309"/>
                  </a:lnTo>
                  <a:lnTo>
                    <a:pt x="835" y="2309"/>
                  </a:lnTo>
                  <a:lnTo>
                    <a:pt x="786" y="2309"/>
                  </a:lnTo>
                  <a:lnTo>
                    <a:pt x="736" y="2309"/>
                  </a:lnTo>
                  <a:lnTo>
                    <a:pt x="687" y="2309"/>
                  </a:lnTo>
                  <a:lnTo>
                    <a:pt x="637" y="2309"/>
                  </a:lnTo>
                  <a:lnTo>
                    <a:pt x="587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17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8" h="2309">
                  <a:moveTo>
                    <a:pt x="0" y="469"/>
                  </a:moveTo>
                  <a:lnTo>
                    <a:pt x="67" y="469"/>
                  </a:lnTo>
                  <a:lnTo>
                    <a:pt x="134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6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7" y="0"/>
                  </a:lnTo>
                  <a:lnTo>
                    <a:pt x="787" y="0"/>
                  </a:lnTo>
                  <a:lnTo>
                    <a:pt x="837" y="0"/>
                  </a:lnTo>
                  <a:lnTo>
                    <a:pt x="887" y="0"/>
                  </a:lnTo>
                  <a:lnTo>
                    <a:pt x="937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6" y="408"/>
                  </a:lnTo>
                  <a:lnTo>
                    <a:pt x="936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7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8" y="467"/>
                  </a:lnTo>
                  <a:lnTo>
                    <a:pt x="1498" y="467"/>
                  </a:lnTo>
                  <a:lnTo>
                    <a:pt x="1498" y="513"/>
                  </a:lnTo>
                  <a:lnTo>
                    <a:pt x="1498" y="559"/>
                  </a:lnTo>
                  <a:lnTo>
                    <a:pt x="1498" y="606"/>
                  </a:lnTo>
                  <a:lnTo>
                    <a:pt x="1498" y="651"/>
                  </a:lnTo>
                  <a:lnTo>
                    <a:pt x="1498" y="697"/>
                  </a:lnTo>
                  <a:lnTo>
                    <a:pt x="1498" y="743"/>
                  </a:lnTo>
                  <a:lnTo>
                    <a:pt x="1498" y="790"/>
                  </a:lnTo>
                  <a:lnTo>
                    <a:pt x="1498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6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5" y="2309"/>
                  </a:lnTo>
                  <a:lnTo>
                    <a:pt x="835" y="2309"/>
                  </a:lnTo>
                  <a:lnTo>
                    <a:pt x="786" y="2309"/>
                  </a:lnTo>
                  <a:lnTo>
                    <a:pt x="736" y="2309"/>
                  </a:lnTo>
                  <a:lnTo>
                    <a:pt x="687" y="2309"/>
                  </a:lnTo>
                  <a:lnTo>
                    <a:pt x="637" y="2309"/>
                  </a:lnTo>
                  <a:lnTo>
                    <a:pt x="587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2552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9" y="467"/>
                  </a:lnTo>
                  <a:lnTo>
                    <a:pt x="1359" y="467"/>
                  </a:lnTo>
                  <a:lnTo>
                    <a:pt x="1428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8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2552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9" y="467"/>
                  </a:lnTo>
                  <a:lnTo>
                    <a:pt x="1359" y="467"/>
                  </a:lnTo>
                  <a:lnTo>
                    <a:pt x="1428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8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8108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9" y="469"/>
                  </a:lnTo>
                  <a:lnTo>
                    <a:pt x="136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9" y="0"/>
                  </a:lnTo>
                  <a:lnTo>
                    <a:pt x="889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9" y="467"/>
                  </a:lnTo>
                  <a:lnTo>
                    <a:pt x="1079" y="467"/>
                  </a:lnTo>
                  <a:lnTo>
                    <a:pt x="1148" y="467"/>
                  </a:lnTo>
                  <a:lnTo>
                    <a:pt x="1219" y="467"/>
                  </a:lnTo>
                  <a:lnTo>
                    <a:pt x="1289" y="467"/>
                  </a:lnTo>
                  <a:lnTo>
                    <a:pt x="1360" y="467"/>
                  </a:lnTo>
                  <a:lnTo>
                    <a:pt x="1430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30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8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9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8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1" y="516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8108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9" y="469"/>
                  </a:lnTo>
                  <a:lnTo>
                    <a:pt x="136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9" y="0"/>
                  </a:lnTo>
                  <a:lnTo>
                    <a:pt x="889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9" y="467"/>
                  </a:lnTo>
                  <a:lnTo>
                    <a:pt x="1079" y="467"/>
                  </a:lnTo>
                  <a:lnTo>
                    <a:pt x="1148" y="467"/>
                  </a:lnTo>
                  <a:lnTo>
                    <a:pt x="1219" y="467"/>
                  </a:lnTo>
                  <a:lnTo>
                    <a:pt x="1289" y="467"/>
                  </a:lnTo>
                  <a:lnTo>
                    <a:pt x="1360" y="467"/>
                  </a:lnTo>
                  <a:lnTo>
                    <a:pt x="1430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30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8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9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8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1" y="516"/>
                  </a:lnTo>
                  <a:lnTo>
                    <a:pt x="1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96040" y="3970800"/>
              <a:ext cx="645840" cy="993960"/>
            </a:xfrm>
            <a:custGeom>
              <a:avLst/>
              <a:gdLst/>
              <a:ahLst/>
              <a:rect l="l" t="t" r="r" b="b"/>
              <a:pathLst>
                <a:path w="1753" h="2699">
                  <a:moveTo>
                    <a:pt x="1" y="549"/>
                  </a:moveTo>
                  <a:lnTo>
                    <a:pt x="80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2" y="549"/>
                  </a:lnTo>
                  <a:lnTo>
                    <a:pt x="631" y="549"/>
                  </a:lnTo>
                  <a:lnTo>
                    <a:pt x="631" y="480"/>
                  </a:lnTo>
                  <a:lnTo>
                    <a:pt x="631" y="412"/>
                  </a:lnTo>
                  <a:lnTo>
                    <a:pt x="631" y="343"/>
                  </a:lnTo>
                  <a:lnTo>
                    <a:pt x="631" y="274"/>
                  </a:lnTo>
                  <a:lnTo>
                    <a:pt x="631" y="206"/>
                  </a:lnTo>
                  <a:lnTo>
                    <a:pt x="631" y="137"/>
                  </a:lnTo>
                  <a:lnTo>
                    <a:pt x="631" y="68"/>
                  </a:lnTo>
                  <a:lnTo>
                    <a:pt x="631" y="0"/>
                  </a:lnTo>
                  <a:lnTo>
                    <a:pt x="689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2" y="0"/>
                  </a:lnTo>
                  <a:lnTo>
                    <a:pt x="981" y="0"/>
                  </a:lnTo>
                  <a:lnTo>
                    <a:pt x="1039" y="0"/>
                  </a:lnTo>
                  <a:lnTo>
                    <a:pt x="1097" y="0"/>
                  </a:lnTo>
                  <a:lnTo>
                    <a:pt x="1097" y="68"/>
                  </a:lnTo>
                  <a:lnTo>
                    <a:pt x="1097" y="137"/>
                  </a:lnTo>
                  <a:lnTo>
                    <a:pt x="1097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9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5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1" y="546"/>
                  </a:lnTo>
                  <a:lnTo>
                    <a:pt x="1753" y="546"/>
                  </a:lnTo>
                  <a:lnTo>
                    <a:pt x="1753" y="600"/>
                  </a:lnTo>
                  <a:lnTo>
                    <a:pt x="1753" y="654"/>
                  </a:lnTo>
                  <a:lnTo>
                    <a:pt x="1753" y="708"/>
                  </a:lnTo>
                  <a:lnTo>
                    <a:pt x="1753" y="761"/>
                  </a:lnTo>
                  <a:lnTo>
                    <a:pt x="1753" y="815"/>
                  </a:lnTo>
                  <a:lnTo>
                    <a:pt x="1753" y="869"/>
                  </a:lnTo>
                  <a:lnTo>
                    <a:pt x="1753" y="923"/>
                  </a:lnTo>
                  <a:lnTo>
                    <a:pt x="1753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6" y="978"/>
                  </a:lnTo>
                  <a:lnTo>
                    <a:pt x="1424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7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1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1" y="2699"/>
                  </a:lnTo>
                  <a:lnTo>
                    <a:pt x="631" y="2484"/>
                  </a:lnTo>
                  <a:lnTo>
                    <a:pt x="631" y="2270"/>
                  </a:lnTo>
                  <a:lnTo>
                    <a:pt x="631" y="2054"/>
                  </a:lnTo>
                  <a:lnTo>
                    <a:pt x="631" y="1839"/>
                  </a:lnTo>
                  <a:lnTo>
                    <a:pt x="631" y="1624"/>
                  </a:lnTo>
                  <a:lnTo>
                    <a:pt x="631" y="1409"/>
                  </a:lnTo>
                  <a:lnTo>
                    <a:pt x="631" y="1194"/>
                  </a:lnTo>
                  <a:lnTo>
                    <a:pt x="631" y="979"/>
                  </a:lnTo>
                  <a:lnTo>
                    <a:pt x="552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8" y="979"/>
                  </a:lnTo>
                  <a:lnTo>
                    <a:pt x="80" y="979"/>
                  </a:lnTo>
                  <a:lnTo>
                    <a:pt x="0" y="979"/>
                  </a:lnTo>
                  <a:lnTo>
                    <a:pt x="1" y="925"/>
                  </a:lnTo>
                  <a:lnTo>
                    <a:pt x="1" y="871"/>
                  </a:lnTo>
                  <a:lnTo>
                    <a:pt x="1" y="818"/>
                  </a:lnTo>
                  <a:lnTo>
                    <a:pt x="1" y="764"/>
                  </a:lnTo>
                  <a:lnTo>
                    <a:pt x="1" y="710"/>
                  </a:lnTo>
                  <a:lnTo>
                    <a:pt x="1" y="656"/>
                  </a:lnTo>
                  <a:lnTo>
                    <a:pt x="1" y="603"/>
                  </a:lnTo>
                  <a:lnTo>
                    <a:pt x="1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96040" y="3970800"/>
              <a:ext cx="645840" cy="993960"/>
            </a:xfrm>
            <a:custGeom>
              <a:avLst/>
              <a:gdLst/>
              <a:ahLst/>
              <a:rect l="l" t="t" r="r" b="b"/>
              <a:pathLst>
                <a:path w="1753" h="2699">
                  <a:moveTo>
                    <a:pt x="1" y="549"/>
                  </a:moveTo>
                  <a:lnTo>
                    <a:pt x="80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2" y="549"/>
                  </a:lnTo>
                  <a:lnTo>
                    <a:pt x="631" y="549"/>
                  </a:lnTo>
                  <a:lnTo>
                    <a:pt x="631" y="480"/>
                  </a:lnTo>
                  <a:lnTo>
                    <a:pt x="631" y="412"/>
                  </a:lnTo>
                  <a:lnTo>
                    <a:pt x="631" y="343"/>
                  </a:lnTo>
                  <a:lnTo>
                    <a:pt x="631" y="274"/>
                  </a:lnTo>
                  <a:lnTo>
                    <a:pt x="631" y="206"/>
                  </a:lnTo>
                  <a:lnTo>
                    <a:pt x="631" y="137"/>
                  </a:lnTo>
                  <a:lnTo>
                    <a:pt x="631" y="68"/>
                  </a:lnTo>
                  <a:lnTo>
                    <a:pt x="631" y="0"/>
                  </a:lnTo>
                  <a:lnTo>
                    <a:pt x="689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2" y="0"/>
                  </a:lnTo>
                  <a:lnTo>
                    <a:pt x="981" y="0"/>
                  </a:lnTo>
                  <a:lnTo>
                    <a:pt x="1039" y="0"/>
                  </a:lnTo>
                  <a:lnTo>
                    <a:pt x="1097" y="0"/>
                  </a:lnTo>
                  <a:lnTo>
                    <a:pt x="1097" y="68"/>
                  </a:lnTo>
                  <a:lnTo>
                    <a:pt x="1097" y="137"/>
                  </a:lnTo>
                  <a:lnTo>
                    <a:pt x="1097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9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5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1" y="546"/>
                  </a:lnTo>
                  <a:lnTo>
                    <a:pt x="1753" y="546"/>
                  </a:lnTo>
                  <a:lnTo>
                    <a:pt x="1753" y="600"/>
                  </a:lnTo>
                  <a:lnTo>
                    <a:pt x="1753" y="654"/>
                  </a:lnTo>
                  <a:lnTo>
                    <a:pt x="1753" y="708"/>
                  </a:lnTo>
                  <a:lnTo>
                    <a:pt x="1753" y="761"/>
                  </a:lnTo>
                  <a:lnTo>
                    <a:pt x="1753" y="815"/>
                  </a:lnTo>
                  <a:lnTo>
                    <a:pt x="1753" y="869"/>
                  </a:lnTo>
                  <a:lnTo>
                    <a:pt x="1753" y="923"/>
                  </a:lnTo>
                  <a:lnTo>
                    <a:pt x="1753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6" y="978"/>
                  </a:lnTo>
                  <a:lnTo>
                    <a:pt x="1424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7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1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1" y="2699"/>
                  </a:lnTo>
                  <a:lnTo>
                    <a:pt x="631" y="2484"/>
                  </a:lnTo>
                  <a:lnTo>
                    <a:pt x="631" y="2270"/>
                  </a:lnTo>
                  <a:lnTo>
                    <a:pt x="631" y="2054"/>
                  </a:lnTo>
                  <a:lnTo>
                    <a:pt x="631" y="1839"/>
                  </a:lnTo>
                  <a:lnTo>
                    <a:pt x="631" y="1624"/>
                  </a:lnTo>
                  <a:lnTo>
                    <a:pt x="631" y="1409"/>
                  </a:lnTo>
                  <a:lnTo>
                    <a:pt x="631" y="1194"/>
                  </a:lnTo>
                  <a:lnTo>
                    <a:pt x="631" y="979"/>
                  </a:lnTo>
                  <a:lnTo>
                    <a:pt x="552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8" y="979"/>
                  </a:lnTo>
                  <a:lnTo>
                    <a:pt x="80" y="979"/>
                  </a:lnTo>
                  <a:lnTo>
                    <a:pt x="0" y="979"/>
                  </a:lnTo>
                  <a:lnTo>
                    <a:pt x="1" y="925"/>
                  </a:lnTo>
                  <a:lnTo>
                    <a:pt x="1" y="871"/>
                  </a:lnTo>
                  <a:lnTo>
                    <a:pt x="1" y="818"/>
                  </a:lnTo>
                  <a:lnTo>
                    <a:pt x="1" y="764"/>
                  </a:lnTo>
                  <a:lnTo>
                    <a:pt x="1" y="710"/>
                  </a:lnTo>
                  <a:lnTo>
                    <a:pt x="1" y="656"/>
                  </a:lnTo>
                  <a:lnTo>
                    <a:pt x="1" y="603"/>
                  </a:lnTo>
                  <a:lnTo>
                    <a:pt x="1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6176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8" y="549"/>
                  </a:lnTo>
                  <a:lnTo>
                    <a:pt x="157" y="549"/>
                  </a:lnTo>
                  <a:lnTo>
                    <a:pt x="235" y="549"/>
                  </a:lnTo>
                  <a:lnTo>
                    <a:pt x="314" y="549"/>
                  </a:lnTo>
                  <a:lnTo>
                    <a:pt x="393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7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2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7" y="0"/>
                  </a:lnTo>
                  <a:lnTo>
                    <a:pt x="1095" y="0"/>
                  </a:lnTo>
                  <a:lnTo>
                    <a:pt x="1095" y="68"/>
                  </a:lnTo>
                  <a:lnTo>
                    <a:pt x="1095" y="137"/>
                  </a:lnTo>
                  <a:lnTo>
                    <a:pt x="1095" y="204"/>
                  </a:lnTo>
                  <a:lnTo>
                    <a:pt x="1095" y="272"/>
                  </a:lnTo>
                  <a:lnTo>
                    <a:pt x="1095" y="341"/>
                  </a:lnTo>
                  <a:lnTo>
                    <a:pt x="1094" y="409"/>
                  </a:lnTo>
                  <a:lnTo>
                    <a:pt x="1094" y="477"/>
                  </a:lnTo>
                  <a:lnTo>
                    <a:pt x="1094" y="545"/>
                  </a:lnTo>
                  <a:lnTo>
                    <a:pt x="1177" y="545"/>
                  </a:lnTo>
                  <a:lnTo>
                    <a:pt x="1259" y="546"/>
                  </a:lnTo>
                  <a:lnTo>
                    <a:pt x="1341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7" y="546"/>
                  </a:lnTo>
                  <a:lnTo>
                    <a:pt x="1669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7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39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2" y="979"/>
                  </a:lnTo>
                  <a:lnTo>
                    <a:pt x="1092" y="1194"/>
                  </a:lnTo>
                  <a:lnTo>
                    <a:pt x="1092" y="1409"/>
                  </a:lnTo>
                  <a:lnTo>
                    <a:pt x="1092" y="1624"/>
                  </a:lnTo>
                  <a:lnTo>
                    <a:pt x="1092" y="1839"/>
                  </a:lnTo>
                  <a:lnTo>
                    <a:pt x="1092" y="2054"/>
                  </a:lnTo>
                  <a:lnTo>
                    <a:pt x="1092" y="2270"/>
                  </a:lnTo>
                  <a:lnTo>
                    <a:pt x="1092" y="2484"/>
                  </a:lnTo>
                  <a:lnTo>
                    <a:pt x="1092" y="2699"/>
                  </a:lnTo>
                  <a:lnTo>
                    <a:pt x="1034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4" y="2699"/>
                  </a:lnTo>
                  <a:lnTo>
                    <a:pt x="687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2" y="979"/>
                  </a:lnTo>
                  <a:lnTo>
                    <a:pt x="314" y="979"/>
                  </a:lnTo>
                  <a:lnTo>
                    <a:pt x="235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6176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8" y="549"/>
                  </a:lnTo>
                  <a:lnTo>
                    <a:pt x="157" y="549"/>
                  </a:lnTo>
                  <a:lnTo>
                    <a:pt x="235" y="549"/>
                  </a:lnTo>
                  <a:lnTo>
                    <a:pt x="314" y="549"/>
                  </a:lnTo>
                  <a:lnTo>
                    <a:pt x="393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7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2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7" y="0"/>
                  </a:lnTo>
                  <a:lnTo>
                    <a:pt x="1095" y="0"/>
                  </a:lnTo>
                  <a:lnTo>
                    <a:pt x="1095" y="68"/>
                  </a:lnTo>
                  <a:lnTo>
                    <a:pt x="1095" y="137"/>
                  </a:lnTo>
                  <a:lnTo>
                    <a:pt x="1095" y="204"/>
                  </a:lnTo>
                  <a:lnTo>
                    <a:pt x="1095" y="272"/>
                  </a:lnTo>
                  <a:lnTo>
                    <a:pt x="1095" y="341"/>
                  </a:lnTo>
                  <a:lnTo>
                    <a:pt x="1094" y="409"/>
                  </a:lnTo>
                  <a:lnTo>
                    <a:pt x="1094" y="477"/>
                  </a:lnTo>
                  <a:lnTo>
                    <a:pt x="1094" y="545"/>
                  </a:lnTo>
                  <a:lnTo>
                    <a:pt x="1177" y="545"/>
                  </a:lnTo>
                  <a:lnTo>
                    <a:pt x="1259" y="546"/>
                  </a:lnTo>
                  <a:lnTo>
                    <a:pt x="1341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7" y="546"/>
                  </a:lnTo>
                  <a:lnTo>
                    <a:pt x="1669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7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39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2" y="979"/>
                  </a:lnTo>
                  <a:lnTo>
                    <a:pt x="1092" y="1194"/>
                  </a:lnTo>
                  <a:lnTo>
                    <a:pt x="1092" y="1409"/>
                  </a:lnTo>
                  <a:lnTo>
                    <a:pt x="1092" y="1624"/>
                  </a:lnTo>
                  <a:lnTo>
                    <a:pt x="1092" y="1839"/>
                  </a:lnTo>
                  <a:lnTo>
                    <a:pt x="1092" y="2054"/>
                  </a:lnTo>
                  <a:lnTo>
                    <a:pt x="1092" y="2270"/>
                  </a:lnTo>
                  <a:lnTo>
                    <a:pt x="1092" y="2484"/>
                  </a:lnTo>
                  <a:lnTo>
                    <a:pt x="1092" y="2699"/>
                  </a:lnTo>
                  <a:lnTo>
                    <a:pt x="1034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4" y="2699"/>
                  </a:lnTo>
                  <a:lnTo>
                    <a:pt x="687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2" y="979"/>
                  </a:lnTo>
                  <a:lnTo>
                    <a:pt x="314" y="979"/>
                  </a:lnTo>
                  <a:lnTo>
                    <a:pt x="235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68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7" y="549"/>
                  </a:lnTo>
                  <a:lnTo>
                    <a:pt x="236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5" y="477"/>
                  </a:lnTo>
                  <a:lnTo>
                    <a:pt x="1095" y="545"/>
                  </a:lnTo>
                  <a:lnTo>
                    <a:pt x="1178" y="545"/>
                  </a:lnTo>
                  <a:lnTo>
                    <a:pt x="1259" y="546"/>
                  </a:lnTo>
                  <a:lnTo>
                    <a:pt x="1342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3" y="979"/>
                  </a:lnTo>
                  <a:lnTo>
                    <a:pt x="1093" y="1194"/>
                  </a:lnTo>
                  <a:lnTo>
                    <a:pt x="1093" y="1409"/>
                  </a:lnTo>
                  <a:lnTo>
                    <a:pt x="1093" y="1624"/>
                  </a:lnTo>
                  <a:lnTo>
                    <a:pt x="1093" y="1839"/>
                  </a:lnTo>
                  <a:lnTo>
                    <a:pt x="1093" y="2054"/>
                  </a:lnTo>
                  <a:lnTo>
                    <a:pt x="1093" y="2270"/>
                  </a:lnTo>
                  <a:lnTo>
                    <a:pt x="1093" y="2484"/>
                  </a:lnTo>
                  <a:lnTo>
                    <a:pt x="1093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4" y="979"/>
                  </a:lnTo>
                  <a:lnTo>
                    <a:pt x="236" y="979"/>
                  </a:lnTo>
                  <a:lnTo>
                    <a:pt x="157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68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7" y="549"/>
                  </a:lnTo>
                  <a:lnTo>
                    <a:pt x="236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5" y="477"/>
                  </a:lnTo>
                  <a:lnTo>
                    <a:pt x="1095" y="545"/>
                  </a:lnTo>
                  <a:lnTo>
                    <a:pt x="1178" y="545"/>
                  </a:lnTo>
                  <a:lnTo>
                    <a:pt x="1259" y="546"/>
                  </a:lnTo>
                  <a:lnTo>
                    <a:pt x="1342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3" y="979"/>
                  </a:lnTo>
                  <a:lnTo>
                    <a:pt x="1093" y="1194"/>
                  </a:lnTo>
                  <a:lnTo>
                    <a:pt x="1093" y="1409"/>
                  </a:lnTo>
                  <a:lnTo>
                    <a:pt x="1093" y="1624"/>
                  </a:lnTo>
                  <a:lnTo>
                    <a:pt x="1093" y="1839"/>
                  </a:lnTo>
                  <a:lnTo>
                    <a:pt x="1093" y="2054"/>
                  </a:lnTo>
                  <a:lnTo>
                    <a:pt x="1093" y="2270"/>
                  </a:lnTo>
                  <a:lnTo>
                    <a:pt x="1093" y="2484"/>
                  </a:lnTo>
                  <a:lnTo>
                    <a:pt x="1093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4" y="979"/>
                  </a:lnTo>
                  <a:lnTo>
                    <a:pt x="236" y="979"/>
                  </a:lnTo>
                  <a:lnTo>
                    <a:pt x="157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960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9" y="549"/>
                  </a:lnTo>
                  <a:lnTo>
                    <a:pt x="237" y="549"/>
                  </a:lnTo>
                  <a:lnTo>
                    <a:pt x="316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5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8" y="545"/>
                  </a:lnTo>
                  <a:lnTo>
                    <a:pt x="1261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1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9" y="978"/>
                  </a:lnTo>
                  <a:lnTo>
                    <a:pt x="1176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0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6" y="979"/>
                  </a:lnTo>
                  <a:lnTo>
                    <a:pt x="236" y="979"/>
                  </a:lnTo>
                  <a:lnTo>
                    <a:pt x="158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8960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9" y="549"/>
                  </a:lnTo>
                  <a:lnTo>
                    <a:pt x="237" y="549"/>
                  </a:lnTo>
                  <a:lnTo>
                    <a:pt x="316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5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8" y="545"/>
                  </a:lnTo>
                  <a:lnTo>
                    <a:pt x="1261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1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9" y="978"/>
                  </a:lnTo>
                  <a:lnTo>
                    <a:pt x="1176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0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6" y="979"/>
                  </a:lnTo>
                  <a:lnTo>
                    <a:pt x="236" y="979"/>
                  </a:lnTo>
                  <a:lnTo>
                    <a:pt x="158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53880" y="3970800"/>
              <a:ext cx="6462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8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7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0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53880" y="3970800"/>
              <a:ext cx="6462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8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7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0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8920" y="4277880"/>
              <a:ext cx="73836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79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6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3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0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7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69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28920" y="4277880"/>
              <a:ext cx="73836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79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6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3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0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7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69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0336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1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0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0336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1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0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79960" y="4277880"/>
              <a:ext cx="736200" cy="1137960"/>
            </a:xfrm>
            <a:custGeom>
              <a:avLst/>
              <a:gdLst/>
              <a:ahLst/>
              <a:rect l="l" t="t" r="r" b="b"/>
              <a:pathLst>
                <a:path w="2004" h="3089">
                  <a:moveTo>
                    <a:pt x="0" y="628"/>
                  </a:moveTo>
                  <a:lnTo>
                    <a:pt x="89" y="628"/>
                  </a:lnTo>
                  <a:lnTo>
                    <a:pt x="180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49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2" y="624"/>
                  </a:lnTo>
                  <a:lnTo>
                    <a:pt x="1347" y="624"/>
                  </a:lnTo>
                  <a:lnTo>
                    <a:pt x="1441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4" y="625"/>
                  </a:lnTo>
                  <a:lnTo>
                    <a:pt x="2004" y="686"/>
                  </a:lnTo>
                  <a:lnTo>
                    <a:pt x="2004" y="748"/>
                  </a:lnTo>
                  <a:lnTo>
                    <a:pt x="2004" y="809"/>
                  </a:lnTo>
                  <a:lnTo>
                    <a:pt x="2004" y="872"/>
                  </a:lnTo>
                  <a:lnTo>
                    <a:pt x="2004" y="933"/>
                  </a:lnTo>
                  <a:lnTo>
                    <a:pt x="2004" y="995"/>
                  </a:lnTo>
                  <a:lnTo>
                    <a:pt x="2004" y="1056"/>
                  </a:lnTo>
                  <a:lnTo>
                    <a:pt x="2004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0" y="1120"/>
                  </a:lnTo>
                  <a:lnTo>
                    <a:pt x="1250" y="1366"/>
                  </a:lnTo>
                  <a:lnTo>
                    <a:pt x="1250" y="1613"/>
                  </a:lnTo>
                  <a:lnTo>
                    <a:pt x="1250" y="1859"/>
                  </a:lnTo>
                  <a:lnTo>
                    <a:pt x="1250" y="2105"/>
                  </a:lnTo>
                  <a:lnTo>
                    <a:pt x="1250" y="2351"/>
                  </a:lnTo>
                  <a:lnTo>
                    <a:pt x="1250" y="2597"/>
                  </a:lnTo>
                  <a:lnTo>
                    <a:pt x="1250" y="2843"/>
                  </a:lnTo>
                  <a:lnTo>
                    <a:pt x="1250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1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49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89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79960" y="4277880"/>
              <a:ext cx="736200" cy="1137960"/>
            </a:xfrm>
            <a:custGeom>
              <a:avLst/>
              <a:gdLst/>
              <a:ahLst/>
              <a:rect l="l" t="t" r="r" b="b"/>
              <a:pathLst>
                <a:path w="2004" h="3089">
                  <a:moveTo>
                    <a:pt x="0" y="628"/>
                  </a:moveTo>
                  <a:lnTo>
                    <a:pt x="89" y="628"/>
                  </a:lnTo>
                  <a:lnTo>
                    <a:pt x="180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49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2" y="624"/>
                  </a:lnTo>
                  <a:lnTo>
                    <a:pt x="1347" y="624"/>
                  </a:lnTo>
                  <a:lnTo>
                    <a:pt x="1441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4" y="625"/>
                  </a:lnTo>
                  <a:lnTo>
                    <a:pt x="2004" y="686"/>
                  </a:lnTo>
                  <a:lnTo>
                    <a:pt x="2004" y="748"/>
                  </a:lnTo>
                  <a:lnTo>
                    <a:pt x="2004" y="809"/>
                  </a:lnTo>
                  <a:lnTo>
                    <a:pt x="2004" y="872"/>
                  </a:lnTo>
                  <a:lnTo>
                    <a:pt x="2004" y="933"/>
                  </a:lnTo>
                  <a:lnTo>
                    <a:pt x="2004" y="995"/>
                  </a:lnTo>
                  <a:lnTo>
                    <a:pt x="2004" y="1056"/>
                  </a:lnTo>
                  <a:lnTo>
                    <a:pt x="2004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0" y="1120"/>
                  </a:lnTo>
                  <a:lnTo>
                    <a:pt x="1250" y="1366"/>
                  </a:lnTo>
                  <a:lnTo>
                    <a:pt x="1250" y="1613"/>
                  </a:lnTo>
                  <a:lnTo>
                    <a:pt x="1250" y="1859"/>
                  </a:lnTo>
                  <a:lnTo>
                    <a:pt x="1250" y="2105"/>
                  </a:lnTo>
                  <a:lnTo>
                    <a:pt x="1250" y="2351"/>
                  </a:lnTo>
                  <a:lnTo>
                    <a:pt x="1250" y="2597"/>
                  </a:lnTo>
                  <a:lnTo>
                    <a:pt x="1250" y="2843"/>
                  </a:lnTo>
                  <a:lnTo>
                    <a:pt x="1250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1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49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89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5440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1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5440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1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2884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1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1" y="628"/>
                  </a:lnTo>
                  <a:lnTo>
                    <a:pt x="721" y="550"/>
                  </a:lnTo>
                  <a:lnTo>
                    <a:pt x="721" y="472"/>
                  </a:lnTo>
                  <a:lnTo>
                    <a:pt x="721" y="393"/>
                  </a:lnTo>
                  <a:lnTo>
                    <a:pt x="721" y="315"/>
                  </a:lnTo>
                  <a:lnTo>
                    <a:pt x="721" y="236"/>
                  </a:lnTo>
                  <a:lnTo>
                    <a:pt x="721" y="158"/>
                  </a:lnTo>
                  <a:lnTo>
                    <a:pt x="721" y="79"/>
                  </a:lnTo>
                  <a:lnTo>
                    <a:pt x="721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1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2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4" y="625"/>
                  </a:lnTo>
                  <a:lnTo>
                    <a:pt x="1818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8" y="1118"/>
                  </a:lnTo>
                  <a:lnTo>
                    <a:pt x="1723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9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20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1" y="3089"/>
                  </a:lnTo>
                  <a:lnTo>
                    <a:pt x="721" y="2843"/>
                  </a:lnTo>
                  <a:lnTo>
                    <a:pt x="721" y="2597"/>
                  </a:lnTo>
                  <a:lnTo>
                    <a:pt x="721" y="2351"/>
                  </a:lnTo>
                  <a:lnTo>
                    <a:pt x="721" y="2105"/>
                  </a:lnTo>
                  <a:lnTo>
                    <a:pt x="721" y="1859"/>
                  </a:lnTo>
                  <a:lnTo>
                    <a:pt x="721" y="1613"/>
                  </a:lnTo>
                  <a:lnTo>
                    <a:pt x="721" y="1366"/>
                  </a:lnTo>
                  <a:lnTo>
                    <a:pt x="721" y="1120"/>
                  </a:lnTo>
                  <a:lnTo>
                    <a:pt x="631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1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2884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1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1" y="628"/>
                  </a:lnTo>
                  <a:lnTo>
                    <a:pt x="721" y="550"/>
                  </a:lnTo>
                  <a:lnTo>
                    <a:pt x="721" y="472"/>
                  </a:lnTo>
                  <a:lnTo>
                    <a:pt x="721" y="393"/>
                  </a:lnTo>
                  <a:lnTo>
                    <a:pt x="721" y="315"/>
                  </a:lnTo>
                  <a:lnTo>
                    <a:pt x="721" y="236"/>
                  </a:lnTo>
                  <a:lnTo>
                    <a:pt x="721" y="158"/>
                  </a:lnTo>
                  <a:lnTo>
                    <a:pt x="721" y="79"/>
                  </a:lnTo>
                  <a:lnTo>
                    <a:pt x="721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1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2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4" y="625"/>
                  </a:lnTo>
                  <a:lnTo>
                    <a:pt x="1818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8" y="1118"/>
                  </a:lnTo>
                  <a:lnTo>
                    <a:pt x="1723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9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20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1" y="3089"/>
                  </a:lnTo>
                  <a:lnTo>
                    <a:pt x="721" y="2843"/>
                  </a:lnTo>
                  <a:lnTo>
                    <a:pt x="721" y="2597"/>
                  </a:lnTo>
                  <a:lnTo>
                    <a:pt x="721" y="2351"/>
                  </a:lnTo>
                  <a:lnTo>
                    <a:pt x="721" y="2105"/>
                  </a:lnTo>
                  <a:lnTo>
                    <a:pt x="721" y="1859"/>
                  </a:lnTo>
                  <a:lnTo>
                    <a:pt x="721" y="1613"/>
                  </a:lnTo>
                  <a:lnTo>
                    <a:pt x="721" y="1366"/>
                  </a:lnTo>
                  <a:lnTo>
                    <a:pt x="721" y="1120"/>
                  </a:lnTo>
                  <a:lnTo>
                    <a:pt x="631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1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216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6216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4676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4676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3172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3172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16680" y="4585680"/>
              <a:ext cx="83232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2" y="708"/>
                  </a:lnTo>
                  <a:lnTo>
                    <a:pt x="812" y="0"/>
                  </a:lnTo>
                  <a:lnTo>
                    <a:pt x="1413" y="0"/>
                  </a:lnTo>
                  <a:lnTo>
                    <a:pt x="1413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2" y="3479"/>
                  </a:lnTo>
                  <a:lnTo>
                    <a:pt x="812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16680" y="4585680"/>
              <a:ext cx="83232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2" y="708"/>
                  </a:lnTo>
                  <a:lnTo>
                    <a:pt x="812" y="0"/>
                  </a:lnTo>
                  <a:lnTo>
                    <a:pt x="1413" y="0"/>
                  </a:lnTo>
                  <a:lnTo>
                    <a:pt x="1413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2" y="3479"/>
                  </a:lnTo>
                  <a:lnTo>
                    <a:pt x="812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0380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0380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20760" y="700200"/>
            <a:ext cx="5193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YOUTH CONFUSE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9400" y="939960"/>
            <a:ext cx="5107680" cy="5016600"/>
            <a:chOff x="2129400" y="939960"/>
            <a:chExt cx="5107680" cy="5016600"/>
          </a:xfrm>
        </p:grpSpPr>
        <p:sp>
          <p:nvSpPr>
            <p:cNvPr id="270" name=""/>
            <p:cNvSpPr/>
            <p:nvPr/>
          </p:nvSpPr>
          <p:spPr>
            <a:xfrm>
              <a:off x="4554000" y="939960"/>
              <a:ext cx="143316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0" spc="-1" strike="noStrike">
                  <a:solidFill>
                    <a:srgbClr val="a9a9a8"/>
                  </a:solidFill>
                  <a:latin typeface="Geometr231 Hv BT"/>
                </a:rPr>
                <a:t>?</a:t>
              </a:r>
              <a:endParaRPr b="0" lang="en-US" sz="2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129400" y="1641600"/>
              <a:ext cx="5107680" cy="4314960"/>
              <a:chOff x="2129400" y="1641600"/>
              <a:chExt cx="5107680" cy="431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4308480" y="4013280"/>
                <a:ext cx="568440" cy="47520"/>
              </a:xfrm>
              <a:prstGeom prst="rect">
                <a:avLst/>
              </a:pr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308480" y="3965400"/>
                <a:ext cx="568440" cy="95400"/>
              </a:xfrm>
              <a:prstGeom prst="rect">
                <a:avLst/>
              </a:pr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308480" y="3916440"/>
                <a:ext cx="568440" cy="96840"/>
              </a:xfrm>
              <a:prstGeom prst="rect">
                <a:avLst/>
              </a:prstGeom>
              <a:solidFill>
                <a:srgbClr val="340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08480" y="3868560"/>
                <a:ext cx="568440" cy="96840"/>
              </a:xfrm>
              <a:prstGeom prst="rect">
                <a:avLst/>
              </a:prstGeom>
              <a:solidFill>
                <a:srgbClr val="3c1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08480" y="3819600"/>
                <a:ext cx="568440" cy="96840"/>
              </a:xfrm>
              <a:prstGeom prst="rect">
                <a:avLst/>
              </a:prstGeom>
              <a:solidFill>
                <a:srgbClr val="471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08480" y="3772080"/>
                <a:ext cx="568440" cy="96480"/>
              </a:xfrm>
              <a:prstGeom prst="rect">
                <a:avLst/>
              </a:prstGeom>
              <a:solidFill>
                <a:srgbClr val="4e1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08480" y="3722760"/>
                <a:ext cx="568440" cy="96840"/>
              </a:xfrm>
              <a:prstGeom prst="rect">
                <a:avLst/>
              </a:prstGeom>
              <a:solidFill>
                <a:srgbClr val="561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08480" y="3675240"/>
                <a:ext cx="568440" cy="96840"/>
              </a:xfrm>
              <a:prstGeom prst="rect">
                <a:avLst/>
              </a:prstGeom>
              <a:solidFill>
                <a:srgbClr val="5d1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08480" y="3625920"/>
                <a:ext cx="568440" cy="96840"/>
              </a:xfrm>
              <a:prstGeom prst="rect">
                <a:avLst/>
              </a:prstGeom>
              <a:solidFill>
                <a:srgbClr val="651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8480" y="3578400"/>
                <a:ext cx="568440" cy="96840"/>
              </a:xfrm>
              <a:prstGeom prst="rect">
                <a:avLst/>
              </a:prstGeom>
              <a:solidFill>
                <a:srgbClr val="6b1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308480" y="3529080"/>
                <a:ext cx="568440" cy="96840"/>
              </a:xfrm>
              <a:prstGeom prst="rect">
                <a:avLst/>
              </a:prstGeom>
              <a:solidFill>
                <a:srgbClr val="721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308480" y="3481560"/>
                <a:ext cx="568440" cy="96840"/>
              </a:xfrm>
              <a:prstGeom prst="rect">
                <a:avLst/>
              </a:prstGeom>
              <a:solidFill>
                <a:srgbClr val="781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08480" y="3456000"/>
                <a:ext cx="568440" cy="73080"/>
              </a:xfrm>
              <a:prstGeom prst="rect">
                <a:avLst/>
              </a:prstGeom>
              <a:solidFill>
                <a:srgbClr val="7e1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08480" y="3456000"/>
                <a:ext cx="568440" cy="25560"/>
              </a:xfrm>
              <a:prstGeom prst="rect">
                <a:avLst/>
              </a:prstGeom>
              <a:solidFill>
                <a:srgbClr val="861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08480" y="3287880"/>
                <a:ext cx="568440" cy="29880"/>
              </a:xfrm>
              <a:prstGeom prst="rect">
                <a:avLst/>
              </a:prstGeom>
              <a:solidFill>
                <a:srgbClr val="951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08480" y="3238560"/>
                <a:ext cx="568440" cy="79200"/>
              </a:xfrm>
              <a:prstGeom prst="rect">
                <a:avLst/>
              </a:prstGeom>
              <a:solidFill>
                <a:srgbClr val="9b1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08480" y="3191040"/>
                <a:ext cx="568440" cy="96840"/>
              </a:xfrm>
              <a:prstGeom prst="rect">
                <a:avLst/>
              </a:prstGeom>
              <a:solidFill>
                <a:srgbClr val="a41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08480" y="3141720"/>
                <a:ext cx="568440" cy="96840"/>
              </a:xfrm>
              <a:prstGeom prst="rect">
                <a:avLst/>
              </a:prstGeom>
              <a:solidFill>
                <a:srgbClr val="ab1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08480" y="3094200"/>
                <a:ext cx="568440" cy="96840"/>
              </a:xfrm>
              <a:custGeom>
                <a:avLst/>
                <a:gdLst/>
                <a:ahLst/>
                <a:rect l="l" t="t" r="r" b="b"/>
                <a:pathLst>
                  <a:path w="2150" h="366">
                    <a:moveTo>
                      <a:pt x="2148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50" y="0"/>
                    </a:lnTo>
                    <a:lnTo>
                      <a:pt x="2150" y="20"/>
                    </a:lnTo>
                    <a:lnTo>
                      <a:pt x="2150" y="40"/>
                    </a:lnTo>
                    <a:lnTo>
                      <a:pt x="2148" y="60"/>
                    </a:lnTo>
                    <a:lnTo>
                      <a:pt x="2148" y="82"/>
                    </a:lnTo>
                    <a:lnTo>
                      <a:pt x="2148" y="102"/>
                    </a:lnTo>
                    <a:lnTo>
                      <a:pt x="2148" y="123"/>
                    </a:lnTo>
                    <a:lnTo>
                      <a:pt x="2148" y="145"/>
                    </a:lnTo>
                    <a:lnTo>
                      <a:pt x="2148" y="165"/>
                    </a:lnTo>
                    <a:lnTo>
                      <a:pt x="2148" y="366"/>
                    </a:lnTo>
                    <a:close/>
                  </a:path>
                </a:pathLst>
              </a:custGeom>
              <a:solidFill>
                <a:srgbClr val="b51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08480" y="3044880"/>
                <a:ext cx="569880" cy="96840"/>
              </a:xfrm>
              <a:custGeom>
                <a:avLst/>
                <a:gdLst/>
                <a:ahLst/>
                <a:rect l="l" t="t" r="r" b="b"/>
                <a:pathLst>
                  <a:path w="2158" h="366">
                    <a:moveTo>
                      <a:pt x="2148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58" y="0"/>
                    </a:lnTo>
                    <a:lnTo>
                      <a:pt x="2156" y="42"/>
                    </a:lnTo>
                    <a:lnTo>
                      <a:pt x="2153" y="83"/>
                    </a:lnTo>
                    <a:lnTo>
                      <a:pt x="2152" y="126"/>
                    </a:lnTo>
                    <a:lnTo>
                      <a:pt x="2151" y="170"/>
                    </a:lnTo>
                    <a:lnTo>
                      <a:pt x="2150" y="214"/>
                    </a:lnTo>
                    <a:lnTo>
                      <a:pt x="2148" y="258"/>
                    </a:lnTo>
                    <a:lnTo>
                      <a:pt x="2148" y="303"/>
                    </a:lnTo>
                    <a:lnTo>
                      <a:pt x="2148" y="348"/>
                    </a:lnTo>
                    <a:lnTo>
                      <a:pt x="2148" y="366"/>
                    </a:lnTo>
                    <a:close/>
                  </a:path>
                </a:pathLst>
              </a:custGeom>
              <a:solidFill>
                <a:srgbClr val="bc1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08480" y="2997360"/>
                <a:ext cx="574560" cy="96840"/>
              </a:xfrm>
              <a:custGeom>
                <a:avLst/>
                <a:gdLst/>
                <a:ahLst/>
                <a:rect l="l" t="t" r="r" b="b"/>
                <a:pathLst>
                  <a:path w="2173" h="366">
                    <a:moveTo>
                      <a:pt x="2150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73" y="0"/>
                    </a:lnTo>
                    <a:lnTo>
                      <a:pt x="2169" y="43"/>
                    </a:lnTo>
                    <a:lnTo>
                      <a:pt x="2165" y="87"/>
                    </a:lnTo>
                    <a:lnTo>
                      <a:pt x="2162" y="132"/>
                    </a:lnTo>
                    <a:lnTo>
                      <a:pt x="2159" y="177"/>
                    </a:lnTo>
                    <a:lnTo>
                      <a:pt x="2156" y="223"/>
                    </a:lnTo>
                    <a:lnTo>
                      <a:pt x="2153" y="270"/>
                    </a:lnTo>
                    <a:lnTo>
                      <a:pt x="2152" y="317"/>
                    </a:lnTo>
                    <a:lnTo>
                      <a:pt x="2150" y="366"/>
                    </a:lnTo>
                    <a:close/>
                  </a:path>
                </a:pathLst>
              </a:custGeom>
              <a:solidFill>
                <a:srgbClr val="c41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08480" y="2948040"/>
                <a:ext cx="581040" cy="96840"/>
              </a:xfrm>
              <a:custGeom>
                <a:avLst/>
                <a:gdLst/>
                <a:ahLst/>
                <a:rect l="l" t="t" r="r" b="b"/>
                <a:pathLst>
                  <a:path w="2197" h="366">
                    <a:moveTo>
                      <a:pt x="2158" y="366"/>
                    </a:moveTo>
                    <a:lnTo>
                      <a:pt x="0" y="366"/>
                    </a:lnTo>
                    <a:lnTo>
                      <a:pt x="0" y="99"/>
                    </a:lnTo>
                    <a:lnTo>
                      <a:pt x="0" y="86"/>
                    </a:lnTo>
                    <a:lnTo>
                      <a:pt x="0" y="74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2" y="0"/>
                    </a:lnTo>
                    <a:lnTo>
                      <a:pt x="2197" y="0"/>
                    </a:lnTo>
                    <a:lnTo>
                      <a:pt x="2191" y="43"/>
                    </a:lnTo>
                    <a:lnTo>
                      <a:pt x="2185" y="86"/>
                    </a:lnTo>
                    <a:lnTo>
                      <a:pt x="2179" y="131"/>
                    </a:lnTo>
                    <a:lnTo>
                      <a:pt x="2175" y="176"/>
                    </a:lnTo>
                    <a:lnTo>
                      <a:pt x="2170" y="222"/>
                    </a:lnTo>
                    <a:lnTo>
                      <a:pt x="2165" y="269"/>
                    </a:lnTo>
                    <a:lnTo>
                      <a:pt x="2162" y="317"/>
                    </a:lnTo>
                    <a:lnTo>
                      <a:pt x="2158" y="366"/>
                    </a:lnTo>
                    <a:close/>
                  </a:path>
                </a:pathLst>
              </a:custGeom>
              <a:solidFill>
                <a:srgbClr val="cf1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08480" y="2900520"/>
                <a:ext cx="590400" cy="96840"/>
              </a:xfrm>
              <a:custGeom>
                <a:avLst/>
                <a:gdLst/>
                <a:ahLst/>
                <a:rect l="l" t="t" r="r" b="b"/>
                <a:pathLst>
                  <a:path w="2233" h="366">
                    <a:moveTo>
                      <a:pt x="2173" y="366"/>
                    </a:moveTo>
                    <a:lnTo>
                      <a:pt x="0" y="366"/>
                    </a:lnTo>
                    <a:lnTo>
                      <a:pt x="0" y="282"/>
                    </a:lnTo>
                    <a:lnTo>
                      <a:pt x="0" y="245"/>
                    </a:lnTo>
                    <a:lnTo>
                      <a:pt x="0" y="208"/>
                    </a:lnTo>
                    <a:lnTo>
                      <a:pt x="2" y="172"/>
                    </a:lnTo>
                    <a:lnTo>
                      <a:pt x="3" y="137"/>
                    </a:lnTo>
                    <a:lnTo>
                      <a:pt x="5" y="102"/>
                    </a:lnTo>
                    <a:lnTo>
                      <a:pt x="6" y="68"/>
                    </a:lnTo>
                    <a:lnTo>
                      <a:pt x="9" y="33"/>
                    </a:lnTo>
                    <a:lnTo>
                      <a:pt x="11" y="0"/>
                    </a:lnTo>
                    <a:lnTo>
                      <a:pt x="2233" y="0"/>
                    </a:lnTo>
                    <a:lnTo>
                      <a:pt x="2231" y="10"/>
                    </a:lnTo>
                    <a:lnTo>
                      <a:pt x="2228" y="20"/>
                    </a:lnTo>
                    <a:lnTo>
                      <a:pt x="2226" y="31"/>
                    </a:lnTo>
                    <a:lnTo>
                      <a:pt x="2223" y="42"/>
                    </a:lnTo>
                    <a:lnTo>
                      <a:pt x="2221" y="52"/>
                    </a:lnTo>
                    <a:lnTo>
                      <a:pt x="2219" y="63"/>
                    </a:lnTo>
                    <a:lnTo>
                      <a:pt x="2216" y="74"/>
                    </a:lnTo>
                    <a:lnTo>
                      <a:pt x="2215" y="84"/>
                    </a:lnTo>
                    <a:lnTo>
                      <a:pt x="2208" y="118"/>
                    </a:lnTo>
                    <a:lnTo>
                      <a:pt x="2202" y="151"/>
                    </a:lnTo>
                    <a:lnTo>
                      <a:pt x="2197" y="185"/>
                    </a:lnTo>
                    <a:lnTo>
                      <a:pt x="2191" y="220"/>
                    </a:lnTo>
                    <a:lnTo>
                      <a:pt x="2187" y="256"/>
                    </a:lnTo>
                    <a:lnTo>
                      <a:pt x="2182" y="291"/>
                    </a:lnTo>
                    <a:lnTo>
                      <a:pt x="2178" y="328"/>
                    </a:lnTo>
                    <a:lnTo>
                      <a:pt x="2173" y="366"/>
                    </a:lnTo>
                    <a:close/>
                  </a:path>
                </a:pathLst>
              </a:custGeom>
              <a:solidFill>
                <a:srgbClr val="d8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08480" y="2851200"/>
                <a:ext cx="603360" cy="96840"/>
              </a:xfrm>
              <a:custGeom>
                <a:avLst/>
                <a:gdLst/>
                <a:ahLst/>
                <a:rect l="l" t="t" r="r" b="b"/>
                <a:pathLst>
                  <a:path w="2282" h="366">
                    <a:moveTo>
                      <a:pt x="2195" y="366"/>
                    </a:moveTo>
                    <a:lnTo>
                      <a:pt x="0" y="366"/>
                    </a:lnTo>
                    <a:lnTo>
                      <a:pt x="1" y="316"/>
                    </a:lnTo>
                    <a:lnTo>
                      <a:pt x="3" y="269"/>
                    </a:lnTo>
                    <a:lnTo>
                      <a:pt x="7" y="221"/>
                    </a:lnTo>
                    <a:lnTo>
                      <a:pt x="10" y="176"/>
                    </a:lnTo>
                    <a:lnTo>
                      <a:pt x="14" y="131"/>
                    </a:lnTo>
                    <a:lnTo>
                      <a:pt x="20" y="86"/>
                    </a:lnTo>
                    <a:lnTo>
                      <a:pt x="25" y="42"/>
                    </a:lnTo>
                    <a:lnTo>
                      <a:pt x="31" y="0"/>
                    </a:lnTo>
                    <a:lnTo>
                      <a:pt x="2282" y="0"/>
                    </a:lnTo>
                    <a:lnTo>
                      <a:pt x="2271" y="31"/>
                    </a:lnTo>
                    <a:lnTo>
                      <a:pt x="2262" y="63"/>
                    </a:lnTo>
                    <a:lnTo>
                      <a:pt x="2254" y="95"/>
                    </a:lnTo>
                    <a:lnTo>
                      <a:pt x="2244" y="128"/>
                    </a:lnTo>
                    <a:lnTo>
                      <a:pt x="2236" y="163"/>
                    </a:lnTo>
                    <a:lnTo>
                      <a:pt x="2227" y="196"/>
                    </a:lnTo>
                    <a:lnTo>
                      <a:pt x="2220" y="232"/>
                    </a:lnTo>
                    <a:lnTo>
                      <a:pt x="2213" y="267"/>
                    </a:lnTo>
                    <a:lnTo>
                      <a:pt x="2211" y="279"/>
                    </a:lnTo>
                    <a:lnTo>
                      <a:pt x="2208" y="291"/>
                    </a:lnTo>
                    <a:lnTo>
                      <a:pt x="2206" y="303"/>
                    </a:lnTo>
                    <a:lnTo>
                      <a:pt x="2204" y="316"/>
                    </a:lnTo>
                    <a:lnTo>
                      <a:pt x="2201" y="328"/>
                    </a:lnTo>
                    <a:lnTo>
                      <a:pt x="2200" y="340"/>
                    </a:lnTo>
                    <a:lnTo>
                      <a:pt x="2198" y="353"/>
                    </a:lnTo>
                    <a:lnTo>
                      <a:pt x="2195" y="366"/>
                    </a:lnTo>
                    <a:close/>
                  </a:path>
                </a:pathLst>
              </a:custGeom>
              <a:solidFill>
                <a:srgbClr val="df1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920" y="2803680"/>
                <a:ext cx="621000" cy="96840"/>
              </a:xfrm>
              <a:custGeom>
                <a:avLst/>
                <a:gdLst/>
                <a:ahLst/>
                <a:rect l="l" t="t" r="r" b="b"/>
                <a:pathLst>
                  <a:path w="2344" h="366">
                    <a:moveTo>
                      <a:pt x="2222" y="366"/>
                    </a:moveTo>
                    <a:lnTo>
                      <a:pt x="0" y="366"/>
                    </a:lnTo>
                    <a:lnTo>
                      <a:pt x="5" y="317"/>
                    </a:lnTo>
                    <a:lnTo>
                      <a:pt x="10" y="271"/>
                    </a:lnTo>
                    <a:lnTo>
                      <a:pt x="16" y="225"/>
                    </a:lnTo>
                    <a:lnTo>
                      <a:pt x="23" y="180"/>
                    </a:lnTo>
                    <a:lnTo>
                      <a:pt x="30" y="136"/>
                    </a:lnTo>
                    <a:lnTo>
                      <a:pt x="38" y="92"/>
                    </a:lnTo>
                    <a:lnTo>
                      <a:pt x="47" y="50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6" y="6"/>
                    </a:lnTo>
                    <a:lnTo>
                      <a:pt x="57" y="5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2344" y="0"/>
                    </a:lnTo>
                    <a:lnTo>
                      <a:pt x="2327" y="41"/>
                    </a:lnTo>
                    <a:lnTo>
                      <a:pt x="2309" y="83"/>
                    </a:lnTo>
                    <a:lnTo>
                      <a:pt x="2292" y="127"/>
                    </a:lnTo>
                    <a:lnTo>
                      <a:pt x="2277" y="172"/>
                    </a:lnTo>
                    <a:lnTo>
                      <a:pt x="2261" y="219"/>
                    </a:lnTo>
                    <a:lnTo>
                      <a:pt x="2247" y="266"/>
                    </a:lnTo>
                    <a:lnTo>
                      <a:pt x="2234" y="315"/>
                    </a:lnTo>
                    <a:lnTo>
                      <a:pt x="2222" y="366"/>
                    </a:lnTo>
                    <a:close/>
                  </a:path>
                </a:pathLst>
              </a:custGeom>
              <a:solidFill>
                <a:srgbClr val="e12a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16400" y="2754360"/>
                <a:ext cx="641520" cy="96840"/>
              </a:xfrm>
              <a:custGeom>
                <a:avLst/>
                <a:gdLst/>
                <a:ahLst/>
                <a:rect l="l" t="t" r="r" b="b"/>
                <a:pathLst>
                  <a:path w="2424" h="366">
                    <a:moveTo>
                      <a:pt x="2251" y="366"/>
                    </a:moveTo>
                    <a:lnTo>
                      <a:pt x="0" y="366"/>
                    </a:lnTo>
                    <a:lnTo>
                      <a:pt x="3" y="344"/>
                    </a:lnTo>
                    <a:lnTo>
                      <a:pt x="8" y="321"/>
                    </a:lnTo>
                    <a:lnTo>
                      <a:pt x="11" y="298"/>
                    </a:lnTo>
                    <a:lnTo>
                      <a:pt x="15" y="277"/>
                    </a:lnTo>
                    <a:lnTo>
                      <a:pt x="20" y="256"/>
                    </a:lnTo>
                    <a:lnTo>
                      <a:pt x="25" y="234"/>
                    </a:lnTo>
                    <a:lnTo>
                      <a:pt x="29" y="213"/>
                    </a:lnTo>
                    <a:lnTo>
                      <a:pt x="34" y="192"/>
                    </a:lnTo>
                    <a:lnTo>
                      <a:pt x="40" y="168"/>
                    </a:lnTo>
                    <a:lnTo>
                      <a:pt x="46" y="144"/>
                    </a:lnTo>
                    <a:lnTo>
                      <a:pt x="53" y="120"/>
                    </a:lnTo>
                    <a:lnTo>
                      <a:pt x="60" y="96"/>
                    </a:lnTo>
                    <a:lnTo>
                      <a:pt x="67" y="72"/>
                    </a:lnTo>
                    <a:lnTo>
                      <a:pt x="76" y="48"/>
                    </a:lnTo>
                    <a:lnTo>
                      <a:pt x="84" y="24"/>
                    </a:lnTo>
                    <a:lnTo>
                      <a:pt x="92" y="0"/>
                    </a:lnTo>
                    <a:lnTo>
                      <a:pt x="2424" y="0"/>
                    </a:lnTo>
                    <a:lnTo>
                      <a:pt x="2419" y="7"/>
                    </a:lnTo>
                    <a:lnTo>
                      <a:pt x="2414" y="16"/>
                    </a:lnTo>
                    <a:lnTo>
                      <a:pt x="2409" y="23"/>
                    </a:lnTo>
                    <a:lnTo>
                      <a:pt x="2406" y="30"/>
                    </a:lnTo>
                    <a:lnTo>
                      <a:pt x="2401" y="37"/>
                    </a:lnTo>
                    <a:lnTo>
                      <a:pt x="2397" y="43"/>
                    </a:lnTo>
                    <a:lnTo>
                      <a:pt x="2394" y="50"/>
                    </a:lnTo>
                    <a:lnTo>
                      <a:pt x="2390" y="56"/>
                    </a:lnTo>
                    <a:lnTo>
                      <a:pt x="2370" y="91"/>
                    </a:lnTo>
                    <a:lnTo>
                      <a:pt x="2351" y="126"/>
                    </a:lnTo>
                    <a:lnTo>
                      <a:pt x="2332" y="163"/>
                    </a:lnTo>
                    <a:lnTo>
                      <a:pt x="2314" y="201"/>
                    </a:lnTo>
                    <a:lnTo>
                      <a:pt x="2297" y="240"/>
                    </a:lnTo>
                    <a:lnTo>
                      <a:pt x="2281" y="281"/>
                    </a:lnTo>
                    <a:lnTo>
                      <a:pt x="2265" y="323"/>
                    </a:lnTo>
                    <a:lnTo>
                      <a:pt x="2251" y="366"/>
                    </a:lnTo>
                    <a:close/>
                  </a:path>
                </a:pathLst>
              </a:custGeom>
              <a:solidFill>
                <a:srgbClr val="e238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25760" y="2706840"/>
                <a:ext cx="662040" cy="96840"/>
              </a:xfrm>
              <a:custGeom>
                <a:avLst/>
                <a:gdLst/>
                <a:ahLst/>
                <a:rect l="l" t="t" r="r" b="b"/>
                <a:pathLst>
                  <a:path w="2499" h="366">
                    <a:moveTo>
                      <a:pt x="2286" y="366"/>
                    </a:moveTo>
                    <a:lnTo>
                      <a:pt x="0" y="366"/>
                    </a:lnTo>
                    <a:lnTo>
                      <a:pt x="12" y="320"/>
                    </a:lnTo>
                    <a:lnTo>
                      <a:pt x="25" y="275"/>
                    </a:lnTo>
                    <a:lnTo>
                      <a:pt x="40" y="230"/>
                    </a:lnTo>
                    <a:lnTo>
                      <a:pt x="55" y="183"/>
                    </a:lnTo>
                    <a:lnTo>
                      <a:pt x="72" y="138"/>
                    </a:lnTo>
                    <a:lnTo>
                      <a:pt x="90" y="92"/>
                    </a:lnTo>
                    <a:lnTo>
                      <a:pt x="109" y="45"/>
                    </a:lnTo>
                    <a:lnTo>
                      <a:pt x="129" y="0"/>
                    </a:lnTo>
                    <a:lnTo>
                      <a:pt x="2499" y="0"/>
                    </a:lnTo>
                    <a:lnTo>
                      <a:pt x="2477" y="37"/>
                    </a:lnTo>
                    <a:lnTo>
                      <a:pt x="2454" y="73"/>
                    </a:lnTo>
                    <a:lnTo>
                      <a:pt x="2434" y="106"/>
                    </a:lnTo>
                    <a:lnTo>
                      <a:pt x="2415" y="137"/>
                    </a:lnTo>
                    <a:lnTo>
                      <a:pt x="2397" y="165"/>
                    </a:lnTo>
                    <a:lnTo>
                      <a:pt x="2382" y="193"/>
                    </a:lnTo>
                    <a:lnTo>
                      <a:pt x="2367" y="218"/>
                    </a:lnTo>
                    <a:lnTo>
                      <a:pt x="2354" y="239"/>
                    </a:lnTo>
                    <a:lnTo>
                      <a:pt x="2345" y="255"/>
                    </a:lnTo>
                    <a:lnTo>
                      <a:pt x="2336" y="270"/>
                    </a:lnTo>
                    <a:lnTo>
                      <a:pt x="2328" y="285"/>
                    </a:lnTo>
                    <a:lnTo>
                      <a:pt x="2319" y="301"/>
                    </a:lnTo>
                    <a:lnTo>
                      <a:pt x="2310" y="316"/>
                    </a:lnTo>
                    <a:lnTo>
                      <a:pt x="2303" y="333"/>
                    </a:lnTo>
                    <a:lnTo>
                      <a:pt x="2295" y="350"/>
                    </a:lnTo>
                    <a:lnTo>
                      <a:pt x="2286" y="366"/>
                    </a:lnTo>
                    <a:close/>
                  </a:path>
                </a:pathLst>
              </a:custGeom>
              <a:solidFill>
                <a:srgbClr val="e34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40160" y="2657520"/>
                <a:ext cx="677880" cy="96840"/>
              </a:xfrm>
              <a:custGeom>
                <a:avLst/>
                <a:gdLst/>
                <a:ahLst/>
                <a:rect l="l" t="t" r="r" b="b"/>
                <a:pathLst>
                  <a:path w="2560" h="366">
                    <a:moveTo>
                      <a:pt x="2332" y="366"/>
                    </a:moveTo>
                    <a:lnTo>
                      <a:pt x="0" y="366"/>
                    </a:lnTo>
                    <a:lnTo>
                      <a:pt x="16" y="321"/>
                    </a:lnTo>
                    <a:lnTo>
                      <a:pt x="34" y="276"/>
                    </a:lnTo>
                    <a:lnTo>
                      <a:pt x="53" y="230"/>
                    </a:lnTo>
                    <a:lnTo>
                      <a:pt x="72" y="184"/>
                    </a:lnTo>
                    <a:lnTo>
                      <a:pt x="93" y="139"/>
                    </a:lnTo>
                    <a:lnTo>
                      <a:pt x="116" y="94"/>
                    </a:lnTo>
                    <a:lnTo>
                      <a:pt x="138" y="48"/>
                    </a:lnTo>
                    <a:lnTo>
                      <a:pt x="163" y="3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2560" y="0"/>
                    </a:lnTo>
                    <a:lnTo>
                      <a:pt x="2555" y="9"/>
                    </a:lnTo>
                    <a:lnTo>
                      <a:pt x="2549" y="17"/>
                    </a:lnTo>
                    <a:lnTo>
                      <a:pt x="2544" y="25"/>
                    </a:lnTo>
                    <a:lnTo>
                      <a:pt x="2539" y="35"/>
                    </a:lnTo>
                    <a:lnTo>
                      <a:pt x="2533" y="43"/>
                    </a:lnTo>
                    <a:lnTo>
                      <a:pt x="2528" y="51"/>
                    </a:lnTo>
                    <a:lnTo>
                      <a:pt x="2522" y="60"/>
                    </a:lnTo>
                    <a:lnTo>
                      <a:pt x="2517" y="69"/>
                    </a:lnTo>
                    <a:lnTo>
                      <a:pt x="2487" y="114"/>
                    </a:lnTo>
                    <a:lnTo>
                      <a:pt x="2460" y="157"/>
                    </a:lnTo>
                    <a:lnTo>
                      <a:pt x="2435" y="198"/>
                    </a:lnTo>
                    <a:lnTo>
                      <a:pt x="2410" y="236"/>
                    </a:lnTo>
                    <a:lnTo>
                      <a:pt x="2389" y="271"/>
                    </a:lnTo>
                    <a:lnTo>
                      <a:pt x="2367" y="306"/>
                    </a:lnTo>
                    <a:lnTo>
                      <a:pt x="2348" y="337"/>
                    </a:lnTo>
                    <a:lnTo>
                      <a:pt x="2332" y="366"/>
                    </a:lnTo>
                    <a:close/>
                  </a:path>
                </a:pathLst>
              </a:custGeom>
              <a:solidFill>
                <a:srgbClr val="e44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59240" y="2610000"/>
                <a:ext cx="687600" cy="96840"/>
              </a:xfrm>
              <a:custGeom>
                <a:avLst/>
                <a:gdLst/>
                <a:ahLst/>
                <a:rect l="l" t="t" r="r" b="b"/>
                <a:pathLst>
                  <a:path w="2596" h="366">
                    <a:moveTo>
                      <a:pt x="2370" y="366"/>
                    </a:moveTo>
                    <a:lnTo>
                      <a:pt x="0" y="366"/>
                    </a:lnTo>
                    <a:lnTo>
                      <a:pt x="11" y="344"/>
                    </a:lnTo>
                    <a:lnTo>
                      <a:pt x="21" y="321"/>
                    </a:lnTo>
                    <a:lnTo>
                      <a:pt x="32" y="299"/>
                    </a:lnTo>
                    <a:lnTo>
                      <a:pt x="43" y="276"/>
                    </a:lnTo>
                    <a:lnTo>
                      <a:pt x="53" y="253"/>
                    </a:lnTo>
                    <a:lnTo>
                      <a:pt x="65" y="231"/>
                    </a:lnTo>
                    <a:lnTo>
                      <a:pt x="77" y="208"/>
                    </a:lnTo>
                    <a:lnTo>
                      <a:pt x="90" y="186"/>
                    </a:lnTo>
                    <a:lnTo>
                      <a:pt x="100" y="166"/>
                    </a:lnTo>
                    <a:lnTo>
                      <a:pt x="111" y="144"/>
                    </a:lnTo>
                    <a:lnTo>
                      <a:pt x="122" y="123"/>
                    </a:lnTo>
                    <a:lnTo>
                      <a:pt x="135" y="100"/>
                    </a:lnTo>
                    <a:lnTo>
                      <a:pt x="149" y="76"/>
                    </a:lnTo>
                    <a:lnTo>
                      <a:pt x="163" y="51"/>
                    </a:lnTo>
                    <a:lnTo>
                      <a:pt x="178" y="27"/>
                    </a:lnTo>
                    <a:lnTo>
                      <a:pt x="195" y="0"/>
                    </a:lnTo>
                    <a:lnTo>
                      <a:pt x="2596" y="0"/>
                    </a:lnTo>
                    <a:lnTo>
                      <a:pt x="2579" y="31"/>
                    </a:lnTo>
                    <a:lnTo>
                      <a:pt x="2559" y="62"/>
                    </a:lnTo>
                    <a:lnTo>
                      <a:pt x="2542" y="93"/>
                    </a:lnTo>
                    <a:lnTo>
                      <a:pt x="2523" y="125"/>
                    </a:lnTo>
                    <a:lnTo>
                      <a:pt x="2504" y="156"/>
                    </a:lnTo>
                    <a:lnTo>
                      <a:pt x="2483" y="188"/>
                    </a:lnTo>
                    <a:lnTo>
                      <a:pt x="2464" y="220"/>
                    </a:lnTo>
                    <a:lnTo>
                      <a:pt x="2444" y="252"/>
                    </a:lnTo>
                    <a:lnTo>
                      <a:pt x="2433" y="266"/>
                    </a:lnTo>
                    <a:lnTo>
                      <a:pt x="2424" y="282"/>
                    </a:lnTo>
                    <a:lnTo>
                      <a:pt x="2416" y="296"/>
                    </a:lnTo>
                    <a:lnTo>
                      <a:pt x="2406" y="310"/>
                    </a:lnTo>
                    <a:lnTo>
                      <a:pt x="2397" y="325"/>
                    </a:lnTo>
                    <a:lnTo>
                      <a:pt x="2388" y="339"/>
                    </a:lnTo>
                    <a:lnTo>
                      <a:pt x="2380" y="352"/>
                    </a:lnTo>
                    <a:lnTo>
                      <a:pt x="2370" y="366"/>
                    </a:lnTo>
                    <a:close/>
                  </a:path>
                </a:pathLst>
              </a:custGeom>
              <a:solidFill>
                <a:srgbClr val="e55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84800" y="2560680"/>
                <a:ext cx="688680" cy="96840"/>
              </a:xfrm>
              <a:custGeom>
                <a:avLst/>
                <a:gdLst/>
                <a:ahLst/>
                <a:rect l="l" t="t" r="r" b="b"/>
                <a:pathLst>
                  <a:path w="2604" h="367">
                    <a:moveTo>
                      <a:pt x="2396" y="367"/>
                    </a:moveTo>
                    <a:lnTo>
                      <a:pt x="0" y="367"/>
                    </a:lnTo>
                    <a:lnTo>
                      <a:pt x="18" y="332"/>
                    </a:lnTo>
                    <a:lnTo>
                      <a:pt x="39" y="295"/>
                    </a:lnTo>
                    <a:lnTo>
                      <a:pt x="61" y="254"/>
                    </a:lnTo>
                    <a:lnTo>
                      <a:pt x="87" y="211"/>
                    </a:lnTo>
                    <a:lnTo>
                      <a:pt x="116" y="165"/>
                    </a:lnTo>
                    <a:lnTo>
                      <a:pt x="147" y="117"/>
                    </a:lnTo>
                    <a:lnTo>
                      <a:pt x="181" y="64"/>
                    </a:lnTo>
                    <a:lnTo>
                      <a:pt x="217" y="10"/>
                    </a:lnTo>
                    <a:lnTo>
                      <a:pt x="218" y="9"/>
                    </a:lnTo>
                    <a:lnTo>
                      <a:pt x="219" y="7"/>
                    </a:lnTo>
                    <a:lnTo>
                      <a:pt x="219" y="6"/>
                    </a:lnTo>
                    <a:lnTo>
                      <a:pt x="221" y="5"/>
                    </a:lnTo>
                    <a:lnTo>
                      <a:pt x="221" y="4"/>
                    </a:lnTo>
                    <a:lnTo>
                      <a:pt x="222" y="3"/>
                    </a:lnTo>
                    <a:lnTo>
                      <a:pt x="223" y="1"/>
                    </a:lnTo>
                    <a:lnTo>
                      <a:pt x="223" y="0"/>
                    </a:lnTo>
                    <a:lnTo>
                      <a:pt x="2604" y="0"/>
                    </a:lnTo>
                    <a:lnTo>
                      <a:pt x="2580" y="45"/>
                    </a:lnTo>
                    <a:lnTo>
                      <a:pt x="2556" y="91"/>
                    </a:lnTo>
                    <a:lnTo>
                      <a:pt x="2532" y="136"/>
                    </a:lnTo>
                    <a:lnTo>
                      <a:pt x="2507" y="182"/>
                    </a:lnTo>
                    <a:lnTo>
                      <a:pt x="2480" y="227"/>
                    </a:lnTo>
                    <a:lnTo>
                      <a:pt x="2453" y="273"/>
                    </a:lnTo>
                    <a:lnTo>
                      <a:pt x="2424" y="320"/>
                    </a:lnTo>
                    <a:lnTo>
                      <a:pt x="2396" y="367"/>
                    </a:lnTo>
                    <a:close/>
                  </a:path>
                </a:pathLst>
              </a:custGeom>
              <a:solidFill>
                <a:srgbClr val="e6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1800" y="2513160"/>
                <a:ext cx="684000" cy="96840"/>
              </a:xfrm>
              <a:custGeom>
                <a:avLst/>
                <a:gdLst/>
                <a:ahLst/>
                <a:rect l="l" t="t" r="r" b="b"/>
                <a:pathLst>
                  <a:path w="2588" h="367">
                    <a:moveTo>
                      <a:pt x="2401" y="367"/>
                    </a:moveTo>
                    <a:lnTo>
                      <a:pt x="0" y="367"/>
                    </a:lnTo>
                    <a:lnTo>
                      <a:pt x="13" y="347"/>
                    </a:lnTo>
                    <a:lnTo>
                      <a:pt x="26" y="327"/>
                    </a:lnTo>
                    <a:lnTo>
                      <a:pt x="39" y="306"/>
                    </a:lnTo>
                    <a:lnTo>
                      <a:pt x="53" y="284"/>
                    </a:lnTo>
                    <a:lnTo>
                      <a:pt x="68" y="262"/>
                    </a:lnTo>
                    <a:lnTo>
                      <a:pt x="82" y="239"/>
                    </a:lnTo>
                    <a:lnTo>
                      <a:pt x="97" y="217"/>
                    </a:lnTo>
                    <a:lnTo>
                      <a:pt x="113" y="193"/>
                    </a:lnTo>
                    <a:lnTo>
                      <a:pt x="130" y="168"/>
                    </a:lnTo>
                    <a:lnTo>
                      <a:pt x="146" y="143"/>
                    </a:lnTo>
                    <a:lnTo>
                      <a:pt x="162" y="118"/>
                    </a:lnTo>
                    <a:lnTo>
                      <a:pt x="177" y="94"/>
                    </a:lnTo>
                    <a:lnTo>
                      <a:pt x="193" y="70"/>
                    </a:lnTo>
                    <a:lnTo>
                      <a:pt x="207" y="47"/>
                    </a:lnTo>
                    <a:lnTo>
                      <a:pt x="221" y="24"/>
                    </a:lnTo>
                    <a:lnTo>
                      <a:pt x="234" y="0"/>
                    </a:lnTo>
                    <a:lnTo>
                      <a:pt x="2588" y="0"/>
                    </a:lnTo>
                    <a:lnTo>
                      <a:pt x="2568" y="45"/>
                    </a:lnTo>
                    <a:lnTo>
                      <a:pt x="2546" y="91"/>
                    </a:lnTo>
                    <a:lnTo>
                      <a:pt x="2524" y="136"/>
                    </a:lnTo>
                    <a:lnTo>
                      <a:pt x="2501" y="182"/>
                    </a:lnTo>
                    <a:lnTo>
                      <a:pt x="2477" y="227"/>
                    </a:lnTo>
                    <a:lnTo>
                      <a:pt x="2452" y="274"/>
                    </a:lnTo>
                    <a:lnTo>
                      <a:pt x="2428" y="320"/>
                    </a:lnTo>
                    <a:lnTo>
                      <a:pt x="2401" y="367"/>
                    </a:lnTo>
                    <a:close/>
                  </a:path>
                </a:pathLst>
              </a:custGeom>
              <a:solidFill>
                <a:srgbClr val="e66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3480" y="2463840"/>
                <a:ext cx="673200" cy="96840"/>
              </a:xfrm>
              <a:custGeom>
                <a:avLst/>
                <a:gdLst/>
                <a:ahLst/>
                <a:rect l="l" t="t" r="r" b="b"/>
                <a:pathLst>
                  <a:path w="2546" h="366">
                    <a:moveTo>
                      <a:pt x="2381" y="366"/>
                    </a:moveTo>
                    <a:lnTo>
                      <a:pt x="0" y="366"/>
                    </a:lnTo>
                    <a:lnTo>
                      <a:pt x="33" y="316"/>
                    </a:lnTo>
                    <a:lnTo>
                      <a:pt x="65" y="268"/>
                    </a:lnTo>
                    <a:lnTo>
                      <a:pt x="94" y="219"/>
                    </a:lnTo>
                    <a:lnTo>
                      <a:pt x="122" y="173"/>
                    </a:lnTo>
                    <a:lnTo>
                      <a:pt x="147" y="127"/>
                    </a:lnTo>
                    <a:lnTo>
                      <a:pt x="171" y="85"/>
                    </a:lnTo>
                    <a:lnTo>
                      <a:pt x="194" y="42"/>
                    </a:lnTo>
                    <a:lnTo>
                      <a:pt x="213" y="0"/>
                    </a:lnTo>
                    <a:lnTo>
                      <a:pt x="2546" y="0"/>
                    </a:lnTo>
                    <a:lnTo>
                      <a:pt x="2529" y="45"/>
                    </a:lnTo>
                    <a:lnTo>
                      <a:pt x="2511" y="91"/>
                    </a:lnTo>
                    <a:lnTo>
                      <a:pt x="2490" y="136"/>
                    </a:lnTo>
                    <a:lnTo>
                      <a:pt x="2470" y="181"/>
                    </a:lnTo>
                    <a:lnTo>
                      <a:pt x="2449" y="227"/>
                    </a:lnTo>
                    <a:lnTo>
                      <a:pt x="2427" y="274"/>
                    </a:lnTo>
                    <a:lnTo>
                      <a:pt x="2405" y="320"/>
                    </a:lnTo>
                    <a:lnTo>
                      <a:pt x="2381" y="366"/>
                    </a:lnTo>
                    <a:close/>
                  </a:path>
                </a:pathLst>
              </a:custGeom>
              <a:solidFill>
                <a:srgbClr val="e7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3720" y="2416320"/>
                <a:ext cx="660240" cy="96840"/>
              </a:xfrm>
              <a:custGeom>
                <a:avLst/>
                <a:gdLst/>
                <a:ahLst/>
                <a:rect l="l" t="t" r="r" b="b"/>
                <a:pathLst>
                  <a:path w="2496" h="366">
                    <a:moveTo>
                      <a:pt x="2354" y="366"/>
                    </a:moveTo>
                    <a:lnTo>
                      <a:pt x="0" y="366"/>
                    </a:lnTo>
                    <a:lnTo>
                      <a:pt x="30" y="315"/>
                    </a:lnTo>
                    <a:lnTo>
                      <a:pt x="57" y="264"/>
                    </a:lnTo>
                    <a:lnTo>
                      <a:pt x="82" y="217"/>
                    </a:lnTo>
                    <a:lnTo>
                      <a:pt x="105" y="169"/>
                    </a:lnTo>
                    <a:lnTo>
                      <a:pt x="125" y="125"/>
                    </a:lnTo>
                    <a:lnTo>
                      <a:pt x="142" y="81"/>
                    </a:lnTo>
                    <a:lnTo>
                      <a:pt x="157" y="41"/>
                    </a:lnTo>
                    <a:lnTo>
                      <a:pt x="170" y="0"/>
                    </a:lnTo>
                    <a:lnTo>
                      <a:pt x="2496" y="0"/>
                    </a:lnTo>
                    <a:lnTo>
                      <a:pt x="2481" y="46"/>
                    </a:lnTo>
                    <a:lnTo>
                      <a:pt x="2466" y="91"/>
                    </a:lnTo>
                    <a:lnTo>
                      <a:pt x="2449" y="136"/>
                    </a:lnTo>
                    <a:lnTo>
                      <a:pt x="2433" y="181"/>
                    </a:lnTo>
                    <a:lnTo>
                      <a:pt x="2415" y="227"/>
                    </a:lnTo>
                    <a:lnTo>
                      <a:pt x="2396" y="274"/>
                    </a:lnTo>
                    <a:lnTo>
                      <a:pt x="2375" y="320"/>
                    </a:lnTo>
                    <a:lnTo>
                      <a:pt x="2354" y="366"/>
                    </a:lnTo>
                    <a:close/>
                  </a:path>
                </a:pathLst>
              </a:custGeom>
              <a:solidFill>
                <a:srgbClr val="e8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26040" y="2367000"/>
                <a:ext cx="920520" cy="96840"/>
              </a:xfrm>
              <a:custGeom>
                <a:avLst/>
                <a:gdLst/>
                <a:ahLst/>
                <a:rect l="l" t="t" r="r" b="b"/>
                <a:pathLst>
                  <a:path w="3484" h="366">
                    <a:moveTo>
                      <a:pt x="3368" y="366"/>
                    </a:moveTo>
                    <a:lnTo>
                      <a:pt x="1035" y="366"/>
                    </a:lnTo>
                    <a:lnTo>
                      <a:pt x="1059" y="316"/>
                    </a:lnTo>
                    <a:lnTo>
                      <a:pt x="1078" y="268"/>
                    </a:lnTo>
                    <a:lnTo>
                      <a:pt x="1095" y="221"/>
                    </a:lnTo>
                    <a:lnTo>
                      <a:pt x="1109" y="177"/>
                    </a:lnTo>
                    <a:lnTo>
                      <a:pt x="1114" y="156"/>
                    </a:lnTo>
                    <a:lnTo>
                      <a:pt x="1119" y="136"/>
                    </a:lnTo>
                    <a:lnTo>
                      <a:pt x="1124" y="116"/>
                    </a:lnTo>
                    <a:lnTo>
                      <a:pt x="1128" y="95"/>
                    </a:lnTo>
                    <a:lnTo>
                      <a:pt x="1130" y="76"/>
                    </a:lnTo>
                    <a:lnTo>
                      <a:pt x="1131" y="59"/>
                    </a:lnTo>
                    <a:lnTo>
                      <a:pt x="1132" y="41"/>
                    </a:lnTo>
                    <a:lnTo>
                      <a:pt x="1134" y="24"/>
                    </a:lnTo>
                    <a:lnTo>
                      <a:pt x="1134" y="21"/>
                    </a:lnTo>
                    <a:lnTo>
                      <a:pt x="1134" y="18"/>
                    </a:lnTo>
                    <a:lnTo>
                      <a:pt x="1134" y="15"/>
                    </a:lnTo>
                    <a:lnTo>
                      <a:pt x="1134" y="12"/>
                    </a:lnTo>
                    <a:lnTo>
                      <a:pt x="1132" y="10"/>
                    </a:lnTo>
                    <a:lnTo>
                      <a:pt x="1132" y="6"/>
                    </a:lnTo>
                    <a:lnTo>
                      <a:pt x="1132" y="4"/>
                    </a:lnTo>
                    <a:lnTo>
                      <a:pt x="1132" y="0"/>
                    </a:lnTo>
                    <a:lnTo>
                      <a:pt x="3484" y="0"/>
                    </a:lnTo>
                    <a:lnTo>
                      <a:pt x="3473" y="46"/>
                    </a:lnTo>
                    <a:lnTo>
                      <a:pt x="3461" y="91"/>
                    </a:lnTo>
                    <a:lnTo>
                      <a:pt x="3448" y="136"/>
                    </a:lnTo>
                    <a:lnTo>
                      <a:pt x="3434" y="181"/>
                    </a:lnTo>
                    <a:lnTo>
                      <a:pt x="3418" y="227"/>
                    </a:lnTo>
                    <a:lnTo>
                      <a:pt x="3403" y="274"/>
                    </a:lnTo>
                    <a:lnTo>
                      <a:pt x="3386" y="320"/>
                    </a:lnTo>
                    <a:lnTo>
                      <a:pt x="3368" y="366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29" y="4"/>
                    </a:lnTo>
                    <a:lnTo>
                      <a:pt x="27" y="6"/>
                    </a:lnTo>
                    <a:lnTo>
                      <a:pt x="25" y="10"/>
                    </a:lnTo>
                    <a:lnTo>
                      <a:pt x="24" y="12"/>
                    </a:lnTo>
                    <a:lnTo>
                      <a:pt x="21" y="15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7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7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91120" y="2319480"/>
                <a:ext cx="966600" cy="96840"/>
              </a:xfrm>
              <a:custGeom>
                <a:avLst/>
                <a:gdLst/>
                <a:ahLst/>
                <a:rect l="l" t="t" r="r" b="b"/>
                <a:pathLst>
                  <a:path w="3654" h="366">
                    <a:moveTo>
                      <a:pt x="3566" y="366"/>
                    </a:moveTo>
                    <a:lnTo>
                      <a:pt x="1240" y="366"/>
                    </a:lnTo>
                    <a:lnTo>
                      <a:pt x="1246" y="345"/>
                    </a:lnTo>
                    <a:lnTo>
                      <a:pt x="1251" y="324"/>
                    </a:lnTo>
                    <a:lnTo>
                      <a:pt x="1256" y="302"/>
                    </a:lnTo>
                    <a:lnTo>
                      <a:pt x="1259" y="282"/>
                    </a:lnTo>
                    <a:lnTo>
                      <a:pt x="1263" y="262"/>
                    </a:lnTo>
                    <a:lnTo>
                      <a:pt x="1264" y="243"/>
                    </a:lnTo>
                    <a:lnTo>
                      <a:pt x="1265" y="225"/>
                    </a:lnTo>
                    <a:lnTo>
                      <a:pt x="1267" y="207"/>
                    </a:lnTo>
                    <a:lnTo>
                      <a:pt x="1265" y="177"/>
                    </a:lnTo>
                    <a:lnTo>
                      <a:pt x="1264" y="150"/>
                    </a:lnTo>
                    <a:lnTo>
                      <a:pt x="1261" y="123"/>
                    </a:lnTo>
                    <a:lnTo>
                      <a:pt x="1257" y="97"/>
                    </a:lnTo>
                    <a:lnTo>
                      <a:pt x="1252" y="72"/>
                    </a:lnTo>
                    <a:lnTo>
                      <a:pt x="1246" y="47"/>
                    </a:lnTo>
                    <a:lnTo>
                      <a:pt x="1239" y="23"/>
                    </a:lnTo>
                    <a:lnTo>
                      <a:pt x="1231" y="0"/>
                    </a:lnTo>
                    <a:lnTo>
                      <a:pt x="3654" y="0"/>
                    </a:lnTo>
                    <a:lnTo>
                      <a:pt x="3645" y="46"/>
                    </a:lnTo>
                    <a:lnTo>
                      <a:pt x="3637" y="91"/>
                    </a:lnTo>
                    <a:lnTo>
                      <a:pt x="3629" y="136"/>
                    </a:lnTo>
                    <a:lnTo>
                      <a:pt x="3618" y="181"/>
                    </a:lnTo>
                    <a:lnTo>
                      <a:pt x="3606" y="227"/>
                    </a:lnTo>
                    <a:lnTo>
                      <a:pt x="3594" y="274"/>
                    </a:lnTo>
                    <a:lnTo>
                      <a:pt x="3580" y="320"/>
                    </a:lnTo>
                    <a:lnTo>
                      <a:pt x="3566" y="366"/>
                    </a:lnTo>
                    <a:close/>
                    <a:moveTo>
                      <a:pt x="0" y="0"/>
                    </a:moveTo>
                    <a:lnTo>
                      <a:pt x="313" y="0"/>
                    </a:lnTo>
                    <a:lnTo>
                      <a:pt x="290" y="24"/>
                    </a:lnTo>
                    <a:lnTo>
                      <a:pt x="267" y="47"/>
                    </a:lnTo>
                    <a:lnTo>
                      <a:pt x="246" y="72"/>
                    </a:lnTo>
                    <a:lnTo>
                      <a:pt x="226" y="97"/>
                    </a:lnTo>
                    <a:lnTo>
                      <a:pt x="206" y="123"/>
                    </a:lnTo>
                    <a:lnTo>
                      <a:pt x="187" y="150"/>
                    </a:lnTo>
                    <a:lnTo>
                      <a:pt x="168" y="177"/>
                    </a:lnTo>
                    <a:lnTo>
                      <a:pt x="15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7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56200" y="2270160"/>
                <a:ext cx="1006200" cy="96840"/>
              </a:xfrm>
              <a:custGeom>
                <a:avLst/>
                <a:gdLst/>
                <a:ahLst/>
                <a:rect l="l" t="t" r="r" b="b"/>
                <a:pathLst>
                  <a:path w="3805" h="365">
                    <a:moveTo>
                      <a:pt x="3749" y="365"/>
                    </a:moveTo>
                    <a:lnTo>
                      <a:pt x="1397" y="365"/>
                    </a:lnTo>
                    <a:lnTo>
                      <a:pt x="1396" y="342"/>
                    </a:lnTo>
                    <a:lnTo>
                      <a:pt x="1395" y="319"/>
                    </a:lnTo>
                    <a:lnTo>
                      <a:pt x="1393" y="297"/>
                    </a:lnTo>
                    <a:lnTo>
                      <a:pt x="1389" y="275"/>
                    </a:lnTo>
                    <a:lnTo>
                      <a:pt x="1384" y="254"/>
                    </a:lnTo>
                    <a:lnTo>
                      <a:pt x="1379" y="234"/>
                    </a:lnTo>
                    <a:lnTo>
                      <a:pt x="1374" y="213"/>
                    </a:lnTo>
                    <a:lnTo>
                      <a:pt x="1366" y="194"/>
                    </a:lnTo>
                    <a:lnTo>
                      <a:pt x="1359" y="175"/>
                    </a:lnTo>
                    <a:lnTo>
                      <a:pt x="1351" y="158"/>
                    </a:lnTo>
                    <a:lnTo>
                      <a:pt x="1343" y="140"/>
                    </a:lnTo>
                    <a:lnTo>
                      <a:pt x="1332" y="123"/>
                    </a:lnTo>
                    <a:lnTo>
                      <a:pt x="1322" y="106"/>
                    </a:lnTo>
                    <a:lnTo>
                      <a:pt x="1310" y="91"/>
                    </a:lnTo>
                    <a:lnTo>
                      <a:pt x="1299" y="77"/>
                    </a:lnTo>
                    <a:lnTo>
                      <a:pt x="1286" y="62"/>
                    </a:lnTo>
                    <a:lnTo>
                      <a:pt x="1277" y="53"/>
                    </a:lnTo>
                    <a:lnTo>
                      <a:pt x="1268" y="45"/>
                    </a:lnTo>
                    <a:lnTo>
                      <a:pt x="1258" y="36"/>
                    </a:lnTo>
                    <a:lnTo>
                      <a:pt x="1249" y="28"/>
                    </a:lnTo>
                    <a:lnTo>
                      <a:pt x="1239" y="21"/>
                    </a:lnTo>
                    <a:lnTo>
                      <a:pt x="1228" y="14"/>
                    </a:lnTo>
                    <a:lnTo>
                      <a:pt x="1218" y="7"/>
                    </a:lnTo>
                    <a:lnTo>
                      <a:pt x="1208" y="0"/>
                    </a:lnTo>
                    <a:lnTo>
                      <a:pt x="3805" y="0"/>
                    </a:lnTo>
                    <a:lnTo>
                      <a:pt x="3802" y="45"/>
                    </a:lnTo>
                    <a:lnTo>
                      <a:pt x="3798" y="89"/>
                    </a:lnTo>
                    <a:lnTo>
                      <a:pt x="3792" y="134"/>
                    </a:lnTo>
                    <a:lnTo>
                      <a:pt x="3786" y="180"/>
                    </a:lnTo>
                    <a:lnTo>
                      <a:pt x="3778" y="225"/>
                    </a:lnTo>
                    <a:lnTo>
                      <a:pt x="3769" y="272"/>
                    </a:lnTo>
                    <a:lnTo>
                      <a:pt x="3759" y="319"/>
                    </a:lnTo>
                    <a:lnTo>
                      <a:pt x="3749" y="365"/>
                    </a:lnTo>
                    <a:close/>
                    <a:moveTo>
                      <a:pt x="296" y="365"/>
                    </a:moveTo>
                    <a:lnTo>
                      <a:pt x="265" y="365"/>
                    </a:lnTo>
                    <a:lnTo>
                      <a:pt x="0" y="0"/>
                    </a:lnTo>
                    <a:lnTo>
                      <a:pt x="711" y="0"/>
                    </a:lnTo>
                    <a:lnTo>
                      <a:pt x="697" y="7"/>
                    </a:lnTo>
                    <a:lnTo>
                      <a:pt x="681" y="14"/>
                    </a:lnTo>
                    <a:lnTo>
                      <a:pt x="666" y="22"/>
                    </a:lnTo>
                    <a:lnTo>
                      <a:pt x="650" y="30"/>
                    </a:lnTo>
                    <a:lnTo>
                      <a:pt x="635" y="39"/>
                    </a:lnTo>
                    <a:lnTo>
                      <a:pt x="621" y="47"/>
                    </a:lnTo>
                    <a:lnTo>
                      <a:pt x="605" y="57"/>
                    </a:lnTo>
                    <a:lnTo>
                      <a:pt x="590" y="66"/>
                    </a:lnTo>
                    <a:lnTo>
                      <a:pt x="568" y="80"/>
                    </a:lnTo>
                    <a:lnTo>
                      <a:pt x="547" y="96"/>
                    </a:lnTo>
                    <a:lnTo>
                      <a:pt x="527" y="111"/>
                    </a:lnTo>
                    <a:lnTo>
                      <a:pt x="506" y="128"/>
                    </a:lnTo>
                    <a:lnTo>
                      <a:pt x="486" y="144"/>
                    </a:lnTo>
                    <a:lnTo>
                      <a:pt x="466" y="162"/>
                    </a:lnTo>
                    <a:lnTo>
                      <a:pt x="447" y="180"/>
                    </a:lnTo>
                    <a:lnTo>
                      <a:pt x="429" y="198"/>
                    </a:lnTo>
                    <a:lnTo>
                      <a:pt x="410" y="217"/>
                    </a:lnTo>
                    <a:lnTo>
                      <a:pt x="392" y="237"/>
                    </a:lnTo>
                    <a:lnTo>
                      <a:pt x="376" y="256"/>
                    </a:lnTo>
                    <a:lnTo>
                      <a:pt x="359" y="278"/>
                    </a:lnTo>
                    <a:lnTo>
                      <a:pt x="342" y="299"/>
                    </a:lnTo>
                    <a:lnTo>
                      <a:pt x="326" y="320"/>
                    </a:lnTo>
                    <a:lnTo>
                      <a:pt x="310" y="343"/>
                    </a:lnTo>
                    <a:lnTo>
                      <a:pt x="296" y="365"/>
                    </a:lnTo>
                    <a:close/>
                  </a:path>
                </a:pathLst>
              </a:custGeom>
              <a:solidFill>
                <a:srgbClr val="ea8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9480" y="2222640"/>
                <a:ext cx="1042920" cy="96840"/>
              </a:xfrm>
              <a:custGeom>
                <a:avLst/>
                <a:gdLst/>
                <a:ahLst/>
                <a:rect l="l" t="t" r="r" b="b"/>
                <a:pathLst>
                  <a:path w="3941" h="365">
                    <a:moveTo>
                      <a:pt x="3919" y="365"/>
                    </a:moveTo>
                    <a:lnTo>
                      <a:pt x="1496" y="365"/>
                    </a:lnTo>
                    <a:lnTo>
                      <a:pt x="1489" y="349"/>
                    </a:lnTo>
                    <a:lnTo>
                      <a:pt x="1480" y="332"/>
                    </a:lnTo>
                    <a:lnTo>
                      <a:pt x="1472" y="317"/>
                    </a:lnTo>
                    <a:lnTo>
                      <a:pt x="1463" y="301"/>
                    </a:lnTo>
                    <a:lnTo>
                      <a:pt x="1453" y="286"/>
                    </a:lnTo>
                    <a:lnTo>
                      <a:pt x="1442" y="272"/>
                    </a:lnTo>
                    <a:lnTo>
                      <a:pt x="1430" y="259"/>
                    </a:lnTo>
                    <a:lnTo>
                      <a:pt x="1419" y="245"/>
                    </a:lnTo>
                    <a:lnTo>
                      <a:pt x="1404" y="230"/>
                    </a:lnTo>
                    <a:lnTo>
                      <a:pt x="1389" y="217"/>
                    </a:lnTo>
                    <a:lnTo>
                      <a:pt x="1373" y="205"/>
                    </a:lnTo>
                    <a:lnTo>
                      <a:pt x="1357" y="193"/>
                    </a:lnTo>
                    <a:lnTo>
                      <a:pt x="1340" y="183"/>
                    </a:lnTo>
                    <a:lnTo>
                      <a:pt x="1322" y="173"/>
                    </a:lnTo>
                    <a:lnTo>
                      <a:pt x="1303" y="164"/>
                    </a:lnTo>
                    <a:lnTo>
                      <a:pt x="1284" y="156"/>
                    </a:lnTo>
                    <a:lnTo>
                      <a:pt x="1264" y="149"/>
                    </a:lnTo>
                    <a:lnTo>
                      <a:pt x="1244" y="143"/>
                    </a:lnTo>
                    <a:lnTo>
                      <a:pt x="1222" y="137"/>
                    </a:lnTo>
                    <a:lnTo>
                      <a:pt x="1200" y="134"/>
                    </a:lnTo>
                    <a:lnTo>
                      <a:pt x="1177" y="130"/>
                    </a:lnTo>
                    <a:lnTo>
                      <a:pt x="1153" y="128"/>
                    </a:lnTo>
                    <a:lnTo>
                      <a:pt x="1129" y="127"/>
                    </a:lnTo>
                    <a:lnTo>
                      <a:pt x="1105" y="127"/>
                    </a:lnTo>
                    <a:lnTo>
                      <a:pt x="1080" y="127"/>
                    </a:lnTo>
                    <a:lnTo>
                      <a:pt x="1056" y="128"/>
                    </a:lnTo>
                    <a:lnTo>
                      <a:pt x="1032" y="130"/>
                    </a:lnTo>
                    <a:lnTo>
                      <a:pt x="1007" y="134"/>
                    </a:lnTo>
                    <a:lnTo>
                      <a:pt x="983" y="139"/>
                    </a:lnTo>
                    <a:lnTo>
                      <a:pt x="959" y="143"/>
                    </a:lnTo>
                    <a:lnTo>
                      <a:pt x="936" y="150"/>
                    </a:lnTo>
                    <a:lnTo>
                      <a:pt x="912" y="158"/>
                    </a:lnTo>
                    <a:lnTo>
                      <a:pt x="888" y="166"/>
                    </a:lnTo>
                    <a:lnTo>
                      <a:pt x="864" y="174"/>
                    </a:lnTo>
                    <a:lnTo>
                      <a:pt x="840" y="185"/>
                    </a:lnTo>
                    <a:lnTo>
                      <a:pt x="817" y="196"/>
                    </a:lnTo>
                    <a:lnTo>
                      <a:pt x="793" y="207"/>
                    </a:lnTo>
                    <a:lnTo>
                      <a:pt x="770" y="221"/>
                    </a:lnTo>
                    <a:lnTo>
                      <a:pt x="747" y="235"/>
                    </a:lnTo>
                    <a:lnTo>
                      <a:pt x="723" y="249"/>
                    </a:lnTo>
                    <a:lnTo>
                      <a:pt x="704" y="262"/>
                    </a:lnTo>
                    <a:lnTo>
                      <a:pt x="685" y="275"/>
                    </a:lnTo>
                    <a:lnTo>
                      <a:pt x="666" y="289"/>
                    </a:lnTo>
                    <a:lnTo>
                      <a:pt x="648" y="304"/>
                    </a:lnTo>
                    <a:lnTo>
                      <a:pt x="629" y="319"/>
                    </a:lnTo>
                    <a:lnTo>
                      <a:pt x="612" y="335"/>
                    </a:lnTo>
                    <a:lnTo>
                      <a:pt x="594" y="350"/>
                    </a:lnTo>
                    <a:lnTo>
                      <a:pt x="578" y="365"/>
                    </a:lnTo>
                    <a:lnTo>
                      <a:pt x="265" y="365"/>
                    </a:lnTo>
                    <a:lnTo>
                      <a:pt x="0" y="0"/>
                    </a:lnTo>
                    <a:lnTo>
                      <a:pt x="3940" y="0"/>
                    </a:lnTo>
                    <a:lnTo>
                      <a:pt x="3940" y="9"/>
                    </a:lnTo>
                    <a:lnTo>
                      <a:pt x="3940" y="19"/>
                    </a:lnTo>
                    <a:lnTo>
                      <a:pt x="3941" y="28"/>
                    </a:lnTo>
                    <a:lnTo>
                      <a:pt x="3941" y="38"/>
                    </a:lnTo>
                    <a:lnTo>
                      <a:pt x="3941" y="47"/>
                    </a:lnTo>
                    <a:lnTo>
                      <a:pt x="3941" y="58"/>
                    </a:lnTo>
                    <a:lnTo>
                      <a:pt x="3941" y="67"/>
                    </a:lnTo>
                    <a:lnTo>
                      <a:pt x="3941" y="77"/>
                    </a:lnTo>
                    <a:lnTo>
                      <a:pt x="3941" y="111"/>
                    </a:lnTo>
                    <a:lnTo>
                      <a:pt x="3940" y="147"/>
                    </a:lnTo>
                    <a:lnTo>
                      <a:pt x="3938" y="183"/>
                    </a:lnTo>
                    <a:lnTo>
                      <a:pt x="3935" y="219"/>
                    </a:lnTo>
                    <a:lnTo>
                      <a:pt x="3932" y="255"/>
                    </a:lnTo>
                    <a:lnTo>
                      <a:pt x="3928" y="292"/>
                    </a:lnTo>
                    <a:lnTo>
                      <a:pt x="3923" y="329"/>
                    </a:lnTo>
                    <a:lnTo>
                      <a:pt x="3919" y="365"/>
                    </a:lnTo>
                    <a:close/>
                  </a:path>
                </a:pathLst>
              </a:custGeom>
              <a:solidFill>
                <a:srgbClr val="eb8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84560" y="2173320"/>
                <a:ext cx="1077840" cy="96840"/>
              </a:xfrm>
              <a:custGeom>
                <a:avLst/>
                <a:gdLst/>
                <a:ahLst/>
                <a:rect l="l" t="t" r="r" b="b"/>
                <a:pathLst>
                  <a:path w="4075" h="366">
                    <a:moveTo>
                      <a:pt x="4072" y="366"/>
                    </a:moveTo>
                    <a:lnTo>
                      <a:pt x="1475" y="366"/>
                    </a:lnTo>
                    <a:lnTo>
                      <a:pt x="1450" y="352"/>
                    </a:lnTo>
                    <a:lnTo>
                      <a:pt x="1424" y="342"/>
                    </a:lnTo>
                    <a:lnTo>
                      <a:pt x="1397" y="331"/>
                    </a:lnTo>
                    <a:lnTo>
                      <a:pt x="1367" y="324"/>
                    </a:lnTo>
                    <a:lnTo>
                      <a:pt x="1337" y="317"/>
                    </a:lnTo>
                    <a:lnTo>
                      <a:pt x="1305" y="313"/>
                    </a:lnTo>
                    <a:lnTo>
                      <a:pt x="1272" y="310"/>
                    </a:lnTo>
                    <a:lnTo>
                      <a:pt x="1239" y="310"/>
                    </a:lnTo>
                    <a:lnTo>
                      <a:pt x="1205" y="310"/>
                    </a:lnTo>
                    <a:lnTo>
                      <a:pt x="1173" y="313"/>
                    </a:lnTo>
                    <a:lnTo>
                      <a:pt x="1140" y="317"/>
                    </a:lnTo>
                    <a:lnTo>
                      <a:pt x="1108" y="324"/>
                    </a:lnTo>
                    <a:lnTo>
                      <a:pt x="1076" y="331"/>
                    </a:lnTo>
                    <a:lnTo>
                      <a:pt x="1043" y="342"/>
                    </a:lnTo>
                    <a:lnTo>
                      <a:pt x="1010" y="352"/>
                    </a:lnTo>
                    <a:lnTo>
                      <a:pt x="978" y="366"/>
                    </a:lnTo>
                    <a:lnTo>
                      <a:pt x="267" y="366"/>
                    </a:lnTo>
                    <a:lnTo>
                      <a:pt x="0" y="0"/>
                    </a:lnTo>
                    <a:lnTo>
                      <a:pt x="4063" y="0"/>
                    </a:lnTo>
                    <a:lnTo>
                      <a:pt x="4066" y="32"/>
                    </a:lnTo>
                    <a:lnTo>
                      <a:pt x="4068" y="64"/>
                    </a:lnTo>
                    <a:lnTo>
                      <a:pt x="4070" y="96"/>
                    </a:lnTo>
                    <a:lnTo>
                      <a:pt x="4072" y="128"/>
                    </a:lnTo>
                    <a:lnTo>
                      <a:pt x="4074" y="161"/>
                    </a:lnTo>
                    <a:lnTo>
                      <a:pt x="4074" y="193"/>
                    </a:lnTo>
                    <a:lnTo>
                      <a:pt x="4075" y="227"/>
                    </a:lnTo>
                    <a:lnTo>
                      <a:pt x="4075" y="260"/>
                    </a:lnTo>
                    <a:lnTo>
                      <a:pt x="4075" y="273"/>
                    </a:lnTo>
                    <a:lnTo>
                      <a:pt x="4075" y="286"/>
                    </a:lnTo>
                    <a:lnTo>
                      <a:pt x="4075" y="299"/>
                    </a:lnTo>
                    <a:lnTo>
                      <a:pt x="4074" y="312"/>
                    </a:lnTo>
                    <a:lnTo>
                      <a:pt x="4074" y="326"/>
                    </a:lnTo>
                    <a:lnTo>
                      <a:pt x="4073" y="339"/>
                    </a:lnTo>
                    <a:lnTo>
                      <a:pt x="4073" y="352"/>
                    </a:lnTo>
                    <a:lnTo>
                      <a:pt x="4072" y="366"/>
                    </a:lnTo>
                    <a:close/>
                  </a:path>
                </a:pathLst>
              </a:custGeom>
              <a:solidFill>
                <a:srgbClr val="ec8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49640" y="2125800"/>
                <a:ext cx="1112760" cy="96840"/>
              </a:xfrm>
              <a:custGeom>
                <a:avLst/>
                <a:gdLst/>
                <a:ahLst/>
                <a:rect l="l" t="t" r="r" b="b"/>
                <a:pathLst>
                  <a:path w="4207" h="366">
                    <a:moveTo>
                      <a:pt x="4207" y="366"/>
                    </a:moveTo>
                    <a:lnTo>
                      <a:pt x="267" y="366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180" y="45"/>
                    </a:lnTo>
                    <a:lnTo>
                      <a:pt x="4186" y="89"/>
                    </a:lnTo>
                    <a:lnTo>
                      <a:pt x="4192" y="134"/>
                    </a:lnTo>
                    <a:lnTo>
                      <a:pt x="4196" y="180"/>
                    </a:lnTo>
                    <a:lnTo>
                      <a:pt x="4200" y="225"/>
                    </a:lnTo>
                    <a:lnTo>
                      <a:pt x="4203" y="272"/>
                    </a:lnTo>
                    <a:lnTo>
                      <a:pt x="4206" y="319"/>
                    </a:lnTo>
                    <a:lnTo>
                      <a:pt x="4207" y="366"/>
                    </a:lnTo>
                    <a:close/>
                  </a:path>
                </a:pathLst>
              </a:custGeom>
              <a:solidFill>
                <a:srgbClr val="ed9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14720" y="2076480"/>
                <a:ext cx="1144800" cy="96840"/>
              </a:xfrm>
              <a:custGeom>
                <a:avLst/>
                <a:gdLst/>
                <a:ahLst/>
                <a:rect l="l" t="t" r="r" b="b"/>
                <a:pathLst>
                  <a:path w="4328" h="366">
                    <a:moveTo>
                      <a:pt x="4328" y="366"/>
                    </a:moveTo>
                    <a:lnTo>
                      <a:pt x="265" y="366"/>
                    </a:lnTo>
                    <a:lnTo>
                      <a:pt x="0" y="0"/>
                    </a:lnTo>
                    <a:lnTo>
                      <a:pt x="4265" y="0"/>
                    </a:lnTo>
                    <a:lnTo>
                      <a:pt x="4276" y="45"/>
                    </a:lnTo>
                    <a:lnTo>
                      <a:pt x="4287" y="89"/>
                    </a:lnTo>
                    <a:lnTo>
                      <a:pt x="4295" y="134"/>
                    </a:lnTo>
                    <a:lnTo>
                      <a:pt x="4303" y="179"/>
                    </a:lnTo>
                    <a:lnTo>
                      <a:pt x="4310" y="225"/>
                    </a:lnTo>
                    <a:lnTo>
                      <a:pt x="4318" y="272"/>
                    </a:lnTo>
                    <a:lnTo>
                      <a:pt x="4324" y="319"/>
                    </a:lnTo>
                    <a:lnTo>
                      <a:pt x="4328" y="366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79800" y="2028960"/>
                <a:ext cx="1173240" cy="96840"/>
              </a:xfrm>
              <a:custGeom>
                <a:avLst/>
                <a:gdLst/>
                <a:ahLst/>
                <a:rect l="l" t="t" r="r" b="b"/>
                <a:pathLst>
                  <a:path w="4438" h="366">
                    <a:moveTo>
                      <a:pt x="4438" y="366"/>
                    </a:moveTo>
                    <a:lnTo>
                      <a:pt x="265" y="366"/>
                    </a:lnTo>
                    <a:lnTo>
                      <a:pt x="0" y="0"/>
                    </a:lnTo>
                    <a:lnTo>
                      <a:pt x="4344" y="0"/>
                    </a:lnTo>
                    <a:lnTo>
                      <a:pt x="4359" y="44"/>
                    </a:lnTo>
                    <a:lnTo>
                      <a:pt x="4372" y="89"/>
                    </a:lnTo>
                    <a:lnTo>
                      <a:pt x="4385" y="134"/>
                    </a:lnTo>
                    <a:lnTo>
                      <a:pt x="4398" y="179"/>
                    </a:lnTo>
                    <a:lnTo>
                      <a:pt x="4409" y="225"/>
                    </a:lnTo>
                    <a:lnTo>
                      <a:pt x="4420" y="272"/>
                    </a:lnTo>
                    <a:lnTo>
                      <a:pt x="4429" y="318"/>
                    </a:lnTo>
                    <a:lnTo>
                      <a:pt x="4438" y="366"/>
                    </a:lnTo>
                    <a:close/>
                  </a:path>
                </a:pathLst>
              </a:custGeom>
              <a:solidFill>
                <a:srgbClr val="f0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67200" y="1979640"/>
                <a:ext cx="1176480" cy="96840"/>
              </a:xfrm>
              <a:custGeom>
                <a:avLst/>
                <a:gdLst/>
                <a:ahLst/>
                <a:rect l="l" t="t" r="r" b="b"/>
                <a:pathLst>
                  <a:path w="4447" h="366">
                    <a:moveTo>
                      <a:pt x="4447" y="366"/>
                    </a:moveTo>
                    <a:lnTo>
                      <a:pt x="182" y="366"/>
                    </a:lnTo>
                    <a:lnTo>
                      <a:pt x="0" y="115"/>
                    </a:lnTo>
                    <a:lnTo>
                      <a:pt x="10" y="101"/>
                    </a:lnTo>
                    <a:lnTo>
                      <a:pt x="18" y="87"/>
                    </a:lnTo>
                    <a:lnTo>
                      <a:pt x="27" y="71"/>
                    </a:lnTo>
                    <a:lnTo>
                      <a:pt x="37" y="57"/>
                    </a:lnTo>
                    <a:lnTo>
                      <a:pt x="47" y="43"/>
                    </a:lnTo>
                    <a:lnTo>
                      <a:pt x="56" y="28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4320" y="0"/>
                    </a:lnTo>
                    <a:lnTo>
                      <a:pt x="4339" y="44"/>
                    </a:lnTo>
                    <a:lnTo>
                      <a:pt x="4357" y="89"/>
                    </a:lnTo>
                    <a:lnTo>
                      <a:pt x="4375" y="134"/>
                    </a:lnTo>
                    <a:lnTo>
                      <a:pt x="4391" y="179"/>
                    </a:lnTo>
                    <a:lnTo>
                      <a:pt x="4407" y="226"/>
                    </a:lnTo>
                    <a:lnTo>
                      <a:pt x="4421" y="272"/>
                    </a:lnTo>
                    <a:lnTo>
                      <a:pt x="4435" y="318"/>
                    </a:lnTo>
                    <a:lnTo>
                      <a:pt x="4447" y="366"/>
                    </a:lnTo>
                    <a:close/>
                  </a:path>
                </a:pathLst>
              </a:custGeom>
              <a:solidFill>
                <a:srgbClr val="f1a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67200" y="1932120"/>
                <a:ext cx="1162080" cy="96840"/>
              </a:xfrm>
              <a:custGeom>
                <a:avLst/>
                <a:gdLst/>
                <a:ahLst/>
                <a:rect l="l" t="t" r="r" b="b"/>
                <a:pathLst>
                  <a:path w="4393" h="366">
                    <a:moveTo>
                      <a:pt x="4393" y="366"/>
                    </a:moveTo>
                    <a:lnTo>
                      <a:pt x="49" y="366"/>
                    </a:lnTo>
                    <a:lnTo>
                      <a:pt x="0" y="298"/>
                    </a:lnTo>
                    <a:lnTo>
                      <a:pt x="25" y="259"/>
                    </a:lnTo>
                    <a:lnTo>
                      <a:pt x="50" y="221"/>
                    </a:lnTo>
                    <a:lnTo>
                      <a:pt x="76" y="183"/>
                    </a:lnTo>
                    <a:lnTo>
                      <a:pt x="101" y="145"/>
                    </a:lnTo>
                    <a:lnTo>
                      <a:pt x="127" y="108"/>
                    </a:lnTo>
                    <a:lnTo>
                      <a:pt x="154" y="71"/>
                    </a:lnTo>
                    <a:lnTo>
                      <a:pt x="180" y="36"/>
                    </a:lnTo>
                    <a:lnTo>
                      <a:pt x="207" y="0"/>
                    </a:lnTo>
                    <a:lnTo>
                      <a:pt x="4225" y="0"/>
                    </a:lnTo>
                    <a:lnTo>
                      <a:pt x="4250" y="44"/>
                    </a:lnTo>
                    <a:lnTo>
                      <a:pt x="4274" y="89"/>
                    </a:lnTo>
                    <a:lnTo>
                      <a:pt x="4296" y="133"/>
                    </a:lnTo>
                    <a:lnTo>
                      <a:pt x="4318" y="179"/>
                    </a:lnTo>
                    <a:lnTo>
                      <a:pt x="4338" y="224"/>
                    </a:lnTo>
                    <a:lnTo>
                      <a:pt x="4357" y="272"/>
                    </a:lnTo>
                    <a:lnTo>
                      <a:pt x="4376" y="318"/>
                    </a:lnTo>
                    <a:lnTo>
                      <a:pt x="4393" y="366"/>
                    </a:lnTo>
                    <a:close/>
                  </a:path>
                </a:pathLst>
              </a:custGeom>
              <a:solidFill>
                <a:srgbClr val="f2a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86280" y="1882800"/>
                <a:ext cx="1123920" cy="96840"/>
              </a:xfrm>
              <a:custGeom>
                <a:avLst/>
                <a:gdLst/>
                <a:ahLst/>
                <a:rect l="l" t="t" r="r" b="b"/>
                <a:pathLst>
                  <a:path w="4245" h="366">
                    <a:moveTo>
                      <a:pt x="4245" y="366"/>
                    </a:moveTo>
                    <a:lnTo>
                      <a:pt x="0" y="366"/>
                    </a:lnTo>
                    <a:lnTo>
                      <a:pt x="35" y="317"/>
                    </a:lnTo>
                    <a:lnTo>
                      <a:pt x="68" y="268"/>
                    </a:lnTo>
                    <a:lnTo>
                      <a:pt x="102" y="222"/>
                    </a:lnTo>
                    <a:lnTo>
                      <a:pt x="138" y="176"/>
                    </a:lnTo>
                    <a:lnTo>
                      <a:pt x="173" y="131"/>
                    </a:lnTo>
                    <a:lnTo>
                      <a:pt x="208" y="85"/>
                    </a:lnTo>
                    <a:lnTo>
                      <a:pt x="245" y="43"/>
                    </a:lnTo>
                    <a:lnTo>
                      <a:pt x="281" y="0"/>
                    </a:lnTo>
                    <a:lnTo>
                      <a:pt x="4031" y="0"/>
                    </a:lnTo>
                    <a:lnTo>
                      <a:pt x="4062" y="44"/>
                    </a:lnTo>
                    <a:lnTo>
                      <a:pt x="4092" y="88"/>
                    </a:lnTo>
                    <a:lnTo>
                      <a:pt x="4120" y="133"/>
                    </a:lnTo>
                    <a:lnTo>
                      <a:pt x="4148" y="178"/>
                    </a:lnTo>
                    <a:lnTo>
                      <a:pt x="4174" y="224"/>
                    </a:lnTo>
                    <a:lnTo>
                      <a:pt x="4199" y="271"/>
                    </a:lnTo>
                    <a:lnTo>
                      <a:pt x="4222" y="318"/>
                    </a:lnTo>
                    <a:lnTo>
                      <a:pt x="4245" y="366"/>
                    </a:lnTo>
                    <a:close/>
                  </a:path>
                </a:pathLst>
              </a:custGeom>
              <a:solidFill>
                <a:srgbClr val="f4b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021200" y="1835280"/>
                <a:ext cx="1063440" cy="96840"/>
              </a:xfrm>
              <a:custGeom>
                <a:avLst/>
                <a:gdLst/>
                <a:ahLst/>
                <a:rect l="l" t="t" r="r" b="b"/>
                <a:pathLst>
                  <a:path w="4018" h="366">
                    <a:moveTo>
                      <a:pt x="4018" y="366"/>
                    </a:moveTo>
                    <a:lnTo>
                      <a:pt x="0" y="366"/>
                    </a:lnTo>
                    <a:lnTo>
                      <a:pt x="38" y="316"/>
                    </a:lnTo>
                    <a:lnTo>
                      <a:pt x="77" y="267"/>
                    </a:lnTo>
                    <a:lnTo>
                      <a:pt x="117" y="221"/>
                    </a:lnTo>
                    <a:lnTo>
                      <a:pt x="157" y="175"/>
                    </a:lnTo>
                    <a:lnTo>
                      <a:pt x="198" y="129"/>
                    </a:lnTo>
                    <a:lnTo>
                      <a:pt x="238" y="84"/>
                    </a:lnTo>
                    <a:lnTo>
                      <a:pt x="280" y="42"/>
                    </a:lnTo>
                    <a:lnTo>
                      <a:pt x="321" y="0"/>
                    </a:lnTo>
                    <a:lnTo>
                      <a:pt x="3751" y="0"/>
                    </a:lnTo>
                    <a:lnTo>
                      <a:pt x="3790" y="44"/>
                    </a:lnTo>
                    <a:lnTo>
                      <a:pt x="3826" y="88"/>
                    </a:lnTo>
                    <a:lnTo>
                      <a:pt x="3861" y="133"/>
                    </a:lnTo>
                    <a:lnTo>
                      <a:pt x="3895" y="178"/>
                    </a:lnTo>
                    <a:lnTo>
                      <a:pt x="3927" y="224"/>
                    </a:lnTo>
                    <a:lnTo>
                      <a:pt x="3960" y="271"/>
                    </a:lnTo>
                    <a:lnTo>
                      <a:pt x="3989" y="318"/>
                    </a:lnTo>
                    <a:lnTo>
                      <a:pt x="4018" y="366"/>
                    </a:lnTo>
                    <a:close/>
                  </a:path>
                </a:pathLst>
              </a:custGeom>
              <a:solidFill>
                <a:srgbClr val="f5c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60800" y="1785960"/>
                <a:ext cx="992160" cy="96840"/>
              </a:xfrm>
              <a:custGeom>
                <a:avLst/>
                <a:gdLst/>
                <a:ahLst/>
                <a:rect l="l" t="t" r="r" b="b"/>
                <a:pathLst>
                  <a:path w="3750" h="366">
                    <a:moveTo>
                      <a:pt x="3750" y="366"/>
                    </a:moveTo>
                    <a:lnTo>
                      <a:pt x="0" y="366"/>
                    </a:lnTo>
                    <a:lnTo>
                      <a:pt x="45" y="316"/>
                    </a:lnTo>
                    <a:lnTo>
                      <a:pt x="90" y="266"/>
                    </a:lnTo>
                    <a:lnTo>
                      <a:pt x="137" y="219"/>
                    </a:lnTo>
                    <a:lnTo>
                      <a:pt x="184" y="172"/>
                    </a:lnTo>
                    <a:lnTo>
                      <a:pt x="231" y="127"/>
                    </a:lnTo>
                    <a:lnTo>
                      <a:pt x="279" y="83"/>
                    </a:lnTo>
                    <a:lnTo>
                      <a:pt x="327" y="42"/>
                    </a:lnTo>
                    <a:lnTo>
                      <a:pt x="376" y="0"/>
                    </a:lnTo>
                    <a:lnTo>
                      <a:pt x="3419" y="0"/>
                    </a:lnTo>
                    <a:lnTo>
                      <a:pt x="3432" y="12"/>
                    </a:lnTo>
                    <a:lnTo>
                      <a:pt x="3445" y="25"/>
                    </a:lnTo>
                    <a:lnTo>
                      <a:pt x="3460" y="37"/>
                    </a:lnTo>
                    <a:lnTo>
                      <a:pt x="3473" y="50"/>
                    </a:lnTo>
                    <a:lnTo>
                      <a:pt x="3486" y="62"/>
                    </a:lnTo>
                    <a:lnTo>
                      <a:pt x="3499" y="75"/>
                    </a:lnTo>
                    <a:lnTo>
                      <a:pt x="3512" y="88"/>
                    </a:lnTo>
                    <a:lnTo>
                      <a:pt x="3525" y="101"/>
                    </a:lnTo>
                    <a:lnTo>
                      <a:pt x="3556" y="132"/>
                    </a:lnTo>
                    <a:lnTo>
                      <a:pt x="3586" y="165"/>
                    </a:lnTo>
                    <a:lnTo>
                      <a:pt x="3614" y="197"/>
                    </a:lnTo>
                    <a:lnTo>
                      <a:pt x="3643" y="230"/>
                    </a:lnTo>
                    <a:lnTo>
                      <a:pt x="3671" y="264"/>
                    </a:lnTo>
                    <a:lnTo>
                      <a:pt x="3699" y="297"/>
                    </a:lnTo>
                    <a:lnTo>
                      <a:pt x="3725" y="331"/>
                    </a:lnTo>
                    <a:lnTo>
                      <a:pt x="3750" y="366"/>
                    </a:lnTo>
                    <a:close/>
                  </a:path>
                </a:pathLst>
              </a:custGeom>
              <a:solidFill>
                <a:srgbClr val="f7c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06880" y="1738440"/>
                <a:ext cx="906480" cy="96840"/>
              </a:xfrm>
              <a:custGeom>
                <a:avLst/>
                <a:gdLst/>
                <a:ahLst/>
                <a:rect l="l" t="t" r="r" b="b"/>
                <a:pathLst>
                  <a:path w="3430" h="366">
                    <a:moveTo>
                      <a:pt x="3430" y="366"/>
                    </a:moveTo>
                    <a:lnTo>
                      <a:pt x="0" y="366"/>
                    </a:lnTo>
                    <a:lnTo>
                      <a:pt x="55" y="314"/>
                    </a:lnTo>
                    <a:lnTo>
                      <a:pt x="110" y="264"/>
                    </a:lnTo>
                    <a:lnTo>
                      <a:pt x="167" y="215"/>
                    </a:lnTo>
                    <a:lnTo>
                      <a:pt x="223" y="168"/>
                    </a:lnTo>
                    <a:lnTo>
                      <a:pt x="281" y="124"/>
                    </a:lnTo>
                    <a:lnTo>
                      <a:pt x="339" y="81"/>
                    </a:lnTo>
                    <a:lnTo>
                      <a:pt x="399" y="39"/>
                    </a:lnTo>
                    <a:lnTo>
                      <a:pt x="458" y="0"/>
                    </a:lnTo>
                    <a:lnTo>
                      <a:pt x="3013" y="0"/>
                    </a:lnTo>
                    <a:lnTo>
                      <a:pt x="3057" y="31"/>
                    </a:lnTo>
                    <a:lnTo>
                      <a:pt x="3102" y="63"/>
                    </a:lnTo>
                    <a:lnTo>
                      <a:pt x="3145" y="97"/>
                    </a:lnTo>
                    <a:lnTo>
                      <a:pt x="3188" y="132"/>
                    </a:lnTo>
                    <a:lnTo>
                      <a:pt x="3229" y="168"/>
                    </a:lnTo>
                    <a:lnTo>
                      <a:pt x="3271" y="206"/>
                    </a:lnTo>
                    <a:lnTo>
                      <a:pt x="3313" y="244"/>
                    </a:lnTo>
                    <a:lnTo>
                      <a:pt x="3353" y="284"/>
                    </a:lnTo>
                    <a:lnTo>
                      <a:pt x="3363" y="293"/>
                    </a:lnTo>
                    <a:lnTo>
                      <a:pt x="3372" y="304"/>
                    </a:lnTo>
                    <a:lnTo>
                      <a:pt x="3383" y="314"/>
                    </a:lnTo>
                    <a:lnTo>
                      <a:pt x="3392" y="324"/>
                    </a:lnTo>
                    <a:lnTo>
                      <a:pt x="3402" y="335"/>
                    </a:lnTo>
                    <a:lnTo>
                      <a:pt x="3411" y="346"/>
                    </a:lnTo>
                    <a:lnTo>
                      <a:pt x="3421" y="355"/>
                    </a:lnTo>
                    <a:lnTo>
                      <a:pt x="3430" y="366"/>
                    </a:lnTo>
                    <a:close/>
                  </a:path>
                </a:pathLst>
              </a:custGeom>
              <a:solidFill>
                <a:srgbClr val="f9d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60880" y="1689120"/>
                <a:ext cx="804960" cy="96840"/>
              </a:xfrm>
              <a:custGeom>
                <a:avLst/>
                <a:gdLst/>
                <a:ahLst/>
                <a:rect l="l" t="t" r="r" b="b"/>
                <a:pathLst>
                  <a:path w="3043" h="366">
                    <a:moveTo>
                      <a:pt x="3043" y="366"/>
                    </a:moveTo>
                    <a:lnTo>
                      <a:pt x="0" y="366"/>
                    </a:lnTo>
                    <a:lnTo>
                      <a:pt x="34" y="339"/>
                    </a:lnTo>
                    <a:lnTo>
                      <a:pt x="69" y="313"/>
                    </a:lnTo>
                    <a:lnTo>
                      <a:pt x="103" y="286"/>
                    </a:lnTo>
                    <a:lnTo>
                      <a:pt x="138" y="261"/>
                    </a:lnTo>
                    <a:lnTo>
                      <a:pt x="173" y="237"/>
                    </a:lnTo>
                    <a:lnTo>
                      <a:pt x="209" y="213"/>
                    </a:lnTo>
                    <a:lnTo>
                      <a:pt x="245" y="189"/>
                    </a:lnTo>
                    <a:lnTo>
                      <a:pt x="280" y="166"/>
                    </a:lnTo>
                    <a:lnTo>
                      <a:pt x="320" y="143"/>
                    </a:lnTo>
                    <a:lnTo>
                      <a:pt x="360" y="120"/>
                    </a:lnTo>
                    <a:lnTo>
                      <a:pt x="400" y="99"/>
                    </a:lnTo>
                    <a:lnTo>
                      <a:pt x="441" y="77"/>
                    </a:lnTo>
                    <a:lnTo>
                      <a:pt x="483" y="57"/>
                    </a:lnTo>
                    <a:lnTo>
                      <a:pt x="523" y="37"/>
                    </a:lnTo>
                    <a:lnTo>
                      <a:pt x="565" y="18"/>
                    </a:lnTo>
                    <a:lnTo>
                      <a:pt x="606" y="0"/>
                    </a:lnTo>
                    <a:lnTo>
                      <a:pt x="2475" y="0"/>
                    </a:lnTo>
                    <a:lnTo>
                      <a:pt x="2513" y="18"/>
                    </a:lnTo>
                    <a:lnTo>
                      <a:pt x="2551" y="36"/>
                    </a:lnTo>
                    <a:lnTo>
                      <a:pt x="2589" y="54"/>
                    </a:lnTo>
                    <a:lnTo>
                      <a:pt x="2626" y="74"/>
                    </a:lnTo>
                    <a:lnTo>
                      <a:pt x="2663" y="94"/>
                    </a:lnTo>
                    <a:lnTo>
                      <a:pt x="2700" y="114"/>
                    </a:lnTo>
                    <a:lnTo>
                      <a:pt x="2735" y="137"/>
                    </a:lnTo>
                    <a:lnTo>
                      <a:pt x="2772" y="159"/>
                    </a:lnTo>
                    <a:lnTo>
                      <a:pt x="2807" y="182"/>
                    </a:lnTo>
                    <a:lnTo>
                      <a:pt x="2842" y="206"/>
                    </a:lnTo>
                    <a:lnTo>
                      <a:pt x="2877" y="231"/>
                    </a:lnTo>
                    <a:lnTo>
                      <a:pt x="2910" y="257"/>
                    </a:lnTo>
                    <a:lnTo>
                      <a:pt x="2945" y="283"/>
                    </a:lnTo>
                    <a:lnTo>
                      <a:pt x="2978" y="310"/>
                    </a:lnTo>
                    <a:lnTo>
                      <a:pt x="3011" y="337"/>
                    </a:lnTo>
                    <a:lnTo>
                      <a:pt x="3043" y="366"/>
                    </a:lnTo>
                    <a:close/>
                  </a:path>
                </a:pathLst>
              </a:custGeom>
              <a:solidFill>
                <a:srgbClr val="fadb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27480" y="1641600"/>
                <a:ext cx="676440" cy="96840"/>
              </a:xfrm>
              <a:custGeom>
                <a:avLst/>
                <a:gdLst/>
                <a:ahLst/>
                <a:rect l="l" t="t" r="r" b="b"/>
                <a:pathLst>
                  <a:path w="2555" h="366">
                    <a:moveTo>
                      <a:pt x="2555" y="366"/>
                    </a:moveTo>
                    <a:lnTo>
                      <a:pt x="0" y="366"/>
                    </a:lnTo>
                    <a:lnTo>
                      <a:pt x="4" y="364"/>
                    </a:lnTo>
                    <a:lnTo>
                      <a:pt x="6" y="362"/>
                    </a:lnTo>
                    <a:lnTo>
                      <a:pt x="10" y="360"/>
                    </a:lnTo>
                    <a:lnTo>
                      <a:pt x="13" y="358"/>
                    </a:lnTo>
                    <a:lnTo>
                      <a:pt x="17" y="357"/>
                    </a:lnTo>
                    <a:lnTo>
                      <a:pt x="19" y="354"/>
                    </a:lnTo>
                    <a:lnTo>
                      <a:pt x="23" y="352"/>
                    </a:lnTo>
                    <a:lnTo>
                      <a:pt x="26" y="349"/>
                    </a:lnTo>
                    <a:lnTo>
                      <a:pt x="62" y="328"/>
                    </a:lnTo>
                    <a:lnTo>
                      <a:pt x="99" y="308"/>
                    </a:lnTo>
                    <a:lnTo>
                      <a:pt x="135" y="288"/>
                    </a:lnTo>
                    <a:lnTo>
                      <a:pt x="171" y="269"/>
                    </a:lnTo>
                    <a:lnTo>
                      <a:pt x="208" y="250"/>
                    </a:lnTo>
                    <a:lnTo>
                      <a:pt x="245" y="232"/>
                    </a:lnTo>
                    <a:lnTo>
                      <a:pt x="282" y="214"/>
                    </a:lnTo>
                    <a:lnTo>
                      <a:pt x="320" y="197"/>
                    </a:lnTo>
                    <a:lnTo>
                      <a:pt x="357" y="181"/>
                    </a:lnTo>
                    <a:lnTo>
                      <a:pt x="395" y="165"/>
                    </a:lnTo>
                    <a:lnTo>
                      <a:pt x="433" y="151"/>
                    </a:lnTo>
                    <a:lnTo>
                      <a:pt x="471" y="137"/>
                    </a:lnTo>
                    <a:lnTo>
                      <a:pt x="510" y="124"/>
                    </a:lnTo>
                    <a:lnTo>
                      <a:pt x="548" y="112"/>
                    </a:lnTo>
                    <a:lnTo>
                      <a:pt x="588" y="99"/>
                    </a:lnTo>
                    <a:lnTo>
                      <a:pt x="627" y="88"/>
                    </a:lnTo>
                    <a:lnTo>
                      <a:pt x="666" y="77"/>
                    </a:lnTo>
                    <a:lnTo>
                      <a:pt x="705" y="68"/>
                    </a:lnTo>
                    <a:lnTo>
                      <a:pt x="746" y="58"/>
                    </a:lnTo>
                    <a:lnTo>
                      <a:pt x="785" y="50"/>
                    </a:lnTo>
                    <a:lnTo>
                      <a:pt x="826" y="42"/>
                    </a:lnTo>
                    <a:lnTo>
                      <a:pt x="866" y="35"/>
                    </a:lnTo>
                    <a:lnTo>
                      <a:pt x="906" y="29"/>
                    </a:lnTo>
                    <a:lnTo>
                      <a:pt x="948" y="23"/>
                    </a:lnTo>
                    <a:lnTo>
                      <a:pt x="989" y="17"/>
                    </a:lnTo>
                    <a:lnTo>
                      <a:pt x="1030" y="13"/>
                    </a:lnTo>
                    <a:lnTo>
                      <a:pt x="1072" y="8"/>
                    </a:lnTo>
                    <a:lnTo>
                      <a:pt x="1113" y="6"/>
                    </a:lnTo>
                    <a:lnTo>
                      <a:pt x="1155" y="4"/>
                    </a:lnTo>
                    <a:lnTo>
                      <a:pt x="1197" y="1"/>
                    </a:lnTo>
                    <a:lnTo>
                      <a:pt x="1240" y="0"/>
                    </a:lnTo>
                    <a:lnTo>
                      <a:pt x="1282" y="0"/>
                    </a:lnTo>
                    <a:lnTo>
                      <a:pt x="1286" y="0"/>
                    </a:lnTo>
                    <a:lnTo>
                      <a:pt x="1331" y="1"/>
                    </a:lnTo>
                    <a:lnTo>
                      <a:pt x="1376" y="1"/>
                    </a:lnTo>
                    <a:lnTo>
                      <a:pt x="1420" y="4"/>
                    </a:lnTo>
                    <a:lnTo>
                      <a:pt x="1464" y="6"/>
                    </a:lnTo>
                    <a:lnTo>
                      <a:pt x="1508" y="10"/>
                    </a:lnTo>
                    <a:lnTo>
                      <a:pt x="1552" y="13"/>
                    </a:lnTo>
                    <a:lnTo>
                      <a:pt x="1595" y="18"/>
                    </a:lnTo>
                    <a:lnTo>
                      <a:pt x="1638" y="24"/>
                    </a:lnTo>
                    <a:lnTo>
                      <a:pt x="1680" y="30"/>
                    </a:lnTo>
                    <a:lnTo>
                      <a:pt x="1722" y="36"/>
                    </a:lnTo>
                    <a:lnTo>
                      <a:pt x="1764" y="44"/>
                    </a:lnTo>
                    <a:lnTo>
                      <a:pt x="1804" y="52"/>
                    </a:lnTo>
                    <a:lnTo>
                      <a:pt x="1846" y="61"/>
                    </a:lnTo>
                    <a:lnTo>
                      <a:pt x="1887" y="70"/>
                    </a:lnTo>
                    <a:lnTo>
                      <a:pt x="1927" y="81"/>
                    </a:lnTo>
                    <a:lnTo>
                      <a:pt x="1966" y="92"/>
                    </a:lnTo>
                    <a:lnTo>
                      <a:pt x="2005" y="104"/>
                    </a:lnTo>
                    <a:lnTo>
                      <a:pt x="2045" y="117"/>
                    </a:lnTo>
                    <a:lnTo>
                      <a:pt x="2084" y="130"/>
                    </a:lnTo>
                    <a:lnTo>
                      <a:pt x="2122" y="144"/>
                    </a:lnTo>
                    <a:lnTo>
                      <a:pt x="2160" y="158"/>
                    </a:lnTo>
                    <a:lnTo>
                      <a:pt x="2198" y="174"/>
                    </a:lnTo>
                    <a:lnTo>
                      <a:pt x="2235" y="189"/>
                    </a:lnTo>
                    <a:lnTo>
                      <a:pt x="2272" y="207"/>
                    </a:lnTo>
                    <a:lnTo>
                      <a:pt x="2309" y="223"/>
                    </a:lnTo>
                    <a:lnTo>
                      <a:pt x="2344" y="243"/>
                    </a:lnTo>
                    <a:lnTo>
                      <a:pt x="2381" y="262"/>
                    </a:lnTo>
                    <a:lnTo>
                      <a:pt x="2416" y="281"/>
                    </a:lnTo>
                    <a:lnTo>
                      <a:pt x="2451" y="301"/>
                    </a:lnTo>
                    <a:lnTo>
                      <a:pt x="2486" y="322"/>
                    </a:lnTo>
                    <a:lnTo>
                      <a:pt x="2520" y="343"/>
                    </a:lnTo>
                    <a:lnTo>
                      <a:pt x="2555" y="366"/>
                    </a:lnTo>
                    <a:close/>
                  </a:path>
                </a:pathLst>
              </a:custGeom>
              <a:solidFill>
                <a:srgbClr val="fce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21080" y="1641600"/>
                <a:ext cx="493920" cy="47520"/>
              </a:xfrm>
              <a:custGeom>
                <a:avLst/>
                <a:gdLst/>
                <a:ahLst/>
                <a:rect l="l" t="t" r="r" b="b"/>
                <a:pathLst>
                  <a:path w="1869" h="183">
                    <a:moveTo>
                      <a:pt x="1869" y="183"/>
                    </a:moveTo>
                    <a:lnTo>
                      <a:pt x="0" y="183"/>
                    </a:lnTo>
                    <a:lnTo>
                      <a:pt x="55" y="162"/>
                    </a:lnTo>
                    <a:lnTo>
                      <a:pt x="111" y="140"/>
                    </a:lnTo>
                    <a:lnTo>
                      <a:pt x="167" y="121"/>
                    </a:lnTo>
                    <a:lnTo>
                      <a:pt x="223" y="104"/>
                    </a:lnTo>
                    <a:lnTo>
                      <a:pt x="280" y="87"/>
                    </a:lnTo>
                    <a:lnTo>
                      <a:pt x="337" y="71"/>
                    </a:lnTo>
                    <a:lnTo>
                      <a:pt x="394" y="58"/>
                    </a:lnTo>
                    <a:lnTo>
                      <a:pt x="452" y="46"/>
                    </a:lnTo>
                    <a:lnTo>
                      <a:pt x="510" y="36"/>
                    </a:lnTo>
                    <a:lnTo>
                      <a:pt x="569" y="26"/>
                    </a:lnTo>
                    <a:lnTo>
                      <a:pt x="628" y="18"/>
                    </a:lnTo>
                    <a:lnTo>
                      <a:pt x="689" y="12"/>
                    </a:lnTo>
                    <a:lnTo>
                      <a:pt x="748" y="7"/>
                    </a:lnTo>
                    <a:lnTo>
                      <a:pt x="809" y="4"/>
                    </a:lnTo>
                    <a:lnTo>
                      <a:pt x="871" y="1"/>
                    </a:lnTo>
                    <a:lnTo>
                      <a:pt x="933" y="0"/>
                    </a:lnTo>
                    <a:lnTo>
                      <a:pt x="996" y="1"/>
                    </a:lnTo>
                    <a:lnTo>
                      <a:pt x="1060" y="4"/>
                    </a:lnTo>
                    <a:lnTo>
                      <a:pt x="1122" y="7"/>
                    </a:lnTo>
                    <a:lnTo>
                      <a:pt x="1184" y="12"/>
                    </a:lnTo>
                    <a:lnTo>
                      <a:pt x="1244" y="18"/>
                    </a:lnTo>
                    <a:lnTo>
                      <a:pt x="1305" y="26"/>
                    </a:lnTo>
                    <a:lnTo>
                      <a:pt x="1364" y="36"/>
                    </a:lnTo>
                    <a:lnTo>
                      <a:pt x="1424" y="46"/>
                    </a:lnTo>
                    <a:lnTo>
                      <a:pt x="1482" y="58"/>
                    </a:lnTo>
                    <a:lnTo>
                      <a:pt x="1539" y="71"/>
                    </a:lnTo>
                    <a:lnTo>
                      <a:pt x="1596" y="87"/>
                    </a:lnTo>
                    <a:lnTo>
                      <a:pt x="1652" y="104"/>
                    </a:lnTo>
                    <a:lnTo>
                      <a:pt x="1707" y="121"/>
                    </a:lnTo>
                    <a:lnTo>
                      <a:pt x="1762" y="140"/>
                    </a:lnTo>
                    <a:lnTo>
                      <a:pt x="1815" y="162"/>
                    </a:lnTo>
                    <a:lnTo>
                      <a:pt x="1869" y="183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67320" y="1641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67200" y="1641600"/>
                <a:ext cx="1195200" cy="1676160"/>
              </a:xfrm>
              <a:custGeom>
                <a:avLst/>
                <a:gdLst/>
                <a:ahLst/>
                <a:rect l="l" t="t" r="r" b="b"/>
                <a:pathLst>
                  <a:path w="4522" h="6338">
                    <a:moveTo>
                      <a:pt x="1289" y="6338"/>
                    </a:moveTo>
                    <a:lnTo>
                      <a:pt x="1289" y="5040"/>
                    </a:lnTo>
                    <a:lnTo>
                      <a:pt x="1291" y="4949"/>
                    </a:lnTo>
                    <a:lnTo>
                      <a:pt x="1293" y="4863"/>
                    </a:lnTo>
                    <a:lnTo>
                      <a:pt x="1299" y="4778"/>
                    </a:lnTo>
                    <a:lnTo>
                      <a:pt x="1306" y="4698"/>
                    </a:lnTo>
                    <a:lnTo>
                      <a:pt x="1311" y="4658"/>
                    </a:lnTo>
                    <a:lnTo>
                      <a:pt x="1316" y="4619"/>
                    </a:lnTo>
                    <a:lnTo>
                      <a:pt x="1322" y="4581"/>
                    </a:lnTo>
                    <a:lnTo>
                      <a:pt x="1328" y="4544"/>
                    </a:lnTo>
                    <a:lnTo>
                      <a:pt x="1333" y="4507"/>
                    </a:lnTo>
                    <a:lnTo>
                      <a:pt x="1341" y="4471"/>
                    </a:lnTo>
                    <a:lnTo>
                      <a:pt x="1348" y="4436"/>
                    </a:lnTo>
                    <a:lnTo>
                      <a:pt x="1356" y="4401"/>
                    </a:lnTo>
                    <a:lnTo>
                      <a:pt x="1364" y="4366"/>
                    </a:lnTo>
                    <a:lnTo>
                      <a:pt x="1374" y="4332"/>
                    </a:lnTo>
                    <a:lnTo>
                      <a:pt x="1385" y="4297"/>
                    </a:lnTo>
                    <a:lnTo>
                      <a:pt x="1395" y="4263"/>
                    </a:lnTo>
                    <a:lnTo>
                      <a:pt x="1407" y="4228"/>
                    </a:lnTo>
                    <a:lnTo>
                      <a:pt x="1419" y="4194"/>
                    </a:lnTo>
                    <a:lnTo>
                      <a:pt x="1432" y="4159"/>
                    </a:lnTo>
                    <a:lnTo>
                      <a:pt x="1445" y="4125"/>
                    </a:lnTo>
                    <a:lnTo>
                      <a:pt x="1474" y="4055"/>
                    </a:lnTo>
                    <a:lnTo>
                      <a:pt x="1506" y="3986"/>
                    </a:lnTo>
                    <a:lnTo>
                      <a:pt x="1539" y="3916"/>
                    </a:lnTo>
                    <a:lnTo>
                      <a:pt x="1577" y="3846"/>
                    </a:lnTo>
                    <a:lnTo>
                      <a:pt x="1594" y="3810"/>
                    </a:lnTo>
                    <a:lnTo>
                      <a:pt x="1615" y="3773"/>
                    </a:lnTo>
                    <a:lnTo>
                      <a:pt x="1638" y="3732"/>
                    </a:lnTo>
                    <a:lnTo>
                      <a:pt x="1664" y="3689"/>
                    </a:lnTo>
                    <a:lnTo>
                      <a:pt x="1693" y="3643"/>
                    </a:lnTo>
                    <a:lnTo>
                      <a:pt x="1725" y="3593"/>
                    </a:lnTo>
                    <a:lnTo>
                      <a:pt x="1758" y="3540"/>
                    </a:lnTo>
                    <a:lnTo>
                      <a:pt x="1795" y="3486"/>
                    </a:lnTo>
                    <a:lnTo>
                      <a:pt x="1834" y="3428"/>
                    </a:lnTo>
                    <a:lnTo>
                      <a:pt x="1870" y="3371"/>
                    </a:lnTo>
                    <a:lnTo>
                      <a:pt x="1903" y="3316"/>
                    </a:lnTo>
                    <a:lnTo>
                      <a:pt x="1934" y="3262"/>
                    </a:lnTo>
                    <a:lnTo>
                      <a:pt x="1963" y="3211"/>
                    </a:lnTo>
                    <a:lnTo>
                      <a:pt x="1989" y="3163"/>
                    </a:lnTo>
                    <a:lnTo>
                      <a:pt x="2013" y="3115"/>
                    </a:lnTo>
                    <a:lnTo>
                      <a:pt x="2034" y="3069"/>
                    </a:lnTo>
                    <a:lnTo>
                      <a:pt x="2052" y="3025"/>
                    </a:lnTo>
                    <a:lnTo>
                      <a:pt x="2067" y="2983"/>
                    </a:lnTo>
                    <a:lnTo>
                      <a:pt x="2082" y="2943"/>
                    </a:lnTo>
                    <a:lnTo>
                      <a:pt x="2092" y="2904"/>
                    </a:lnTo>
                    <a:lnTo>
                      <a:pt x="2101" y="2867"/>
                    </a:lnTo>
                    <a:lnTo>
                      <a:pt x="2108" y="2832"/>
                    </a:lnTo>
                    <a:lnTo>
                      <a:pt x="2111" y="2799"/>
                    </a:lnTo>
                    <a:lnTo>
                      <a:pt x="2113" y="2768"/>
                    </a:lnTo>
                    <a:lnTo>
                      <a:pt x="2111" y="2742"/>
                    </a:lnTo>
                    <a:lnTo>
                      <a:pt x="2110" y="2717"/>
                    </a:lnTo>
                    <a:lnTo>
                      <a:pt x="2108" y="2692"/>
                    </a:lnTo>
                    <a:lnTo>
                      <a:pt x="2105" y="2668"/>
                    </a:lnTo>
                    <a:lnTo>
                      <a:pt x="2101" y="2646"/>
                    </a:lnTo>
                    <a:lnTo>
                      <a:pt x="2096" y="2623"/>
                    </a:lnTo>
                    <a:lnTo>
                      <a:pt x="2091" y="2602"/>
                    </a:lnTo>
                    <a:lnTo>
                      <a:pt x="2084" y="2582"/>
                    </a:lnTo>
                    <a:lnTo>
                      <a:pt x="2077" y="2561"/>
                    </a:lnTo>
                    <a:lnTo>
                      <a:pt x="2069" y="2542"/>
                    </a:lnTo>
                    <a:lnTo>
                      <a:pt x="2059" y="2523"/>
                    </a:lnTo>
                    <a:lnTo>
                      <a:pt x="2048" y="2506"/>
                    </a:lnTo>
                    <a:lnTo>
                      <a:pt x="2038" y="2489"/>
                    </a:lnTo>
                    <a:lnTo>
                      <a:pt x="2026" y="2472"/>
                    </a:lnTo>
                    <a:lnTo>
                      <a:pt x="2013" y="2456"/>
                    </a:lnTo>
                    <a:lnTo>
                      <a:pt x="2000" y="2441"/>
                    </a:lnTo>
                    <a:lnTo>
                      <a:pt x="1985" y="2426"/>
                    </a:lnTo>
                    <a:lnTo>
                      <a:pt x="1970" y="2413"/>
                    </a:lnTo>
                    <a:lnTo>
                      <a:pt x="1954" y="2401"/>
                    </a:lnTo>
                    <a:lnTo>
                      <a:pt x="1938" y="2389"/>
                    </a:lnTo>
                    <a:lnTo>
                      <a:pt x="1921" y="2379"/>
                    </a:lnTo>
                    <a:lnTo>
                      <a:pt x="1903" y="2369"/>
                    </a:lnTo>
                    <a:lnTo>
                      <a:pt x="1884" y="2360"/>
                    </a:lnTo>
                    <a:lnTo>
                      <a:pt x="1865" y="2352"/>
                    </a:lnTo>
                    <a:lnTo>
                      <a:pt x="1845" y="2345"/>
                    </a:lnTo>
                    <a:lnTo>
                      <a:pt x="1825" y="2339"/>
                    </a:lnTo>
                    <a:lnTo>
                      <a:pt x="1803" y="2333"/>
                    </a:lnTo>
                    <a:lnTo>
                      <a:pt x="1781" y="2330"/>
                    </a:lnTo>
                    <a:lnTo>
                      <a:pt x="1758" y="2326"/>
                    </a:lnTo>
                    <a:lnTo>
                      <a:pt x="1734" y="2324"/>
                    </a:lnTo>
                    <a:lnTo>
                      <a:pt x="1710" y="2323"/>
                    </a:lnTo>
                    <a:lnTo>
                      <a:pt x="1686" y="2323"/>
                    </a:lnTo>
                    <a:lnTo>
                      <a:pt x="1661" y="2323"/>
                    </a:lnTo>
                    <a:lnTo>
                      <a:pt x="1637" y="2324"/>
                    </a:lnTo>
                    <a:lnTo>
                      <a:pt x="1613" y="2326"/>
                    </a:lnTo>
                    <a:lnTo>
                      <a:pt x="1588" y="2330"/>
                    </a:lnTo>
                    <a:lnTo>
                      <a:pt x="1564" y="2335"/>
                    </a:lnTo>
                    <a:lnTo>
                      <a:pt x="1540" y="2339"/>
                    </a:lnTo>
                    <a:lnTo>
                      <a:pt x="1517" y="2346"/>
                    </a:lnTo>
                    <a:lnTo>
                      <a:pt x="1493" y="2354"/>
                    </a:lnTo>
                    <a:lnTo>
                      <a:pt x="1469" y="2362"/>
                    </a:lnTo>
                    <a:lnTo>
                      <a:pt x="1445" y="2370"/>
                    </a:lnTo>
                    <a:lnTo>
                      <a:pt x="1421" y="2381"/>
                    </a:lnTo>
                    <a:lnTo>
                      <a:pt x="1398" y="2392"/>
                    </a:lnTo>
                    <a:lnTo>
                      <a:pt x="1374" y="2403"/>
                    </a:lnTo>
                    <a:lnTo>
                      <a:pt x="1351" y="2417"/>
                    </a:lnTo>
                    <a:lnTo>
                      <a:pt x="1328" y="2431"/>
                    </a:lnTo>
                    <a:lnTo>
                      <a:pt x="1304" y="2445"/>
                    </a:lnTo>
                    <a:lnTo>
                      <a:pt x="1281" y="2461"/>
                    </a:lnTo>
                    <a:lnTo>
                      <a:pt x="1259" y="2477"/>
                    </a:lnTo>
                    <a:lnTo>
                      <a:pt x="1237" y="2494"/>
                    </a:lnTo>
                    <a:lnTo>
                      <a:pt x="1216" y="2510"/>
                    </a:lnTo>
                    <a:lnTo>
                      <a:pt x="1194" y="2528"/>
                    </a:lnTo>
                    <a:lnTo>
                      <a:pt x="1174" y="2547"/>
                    </a:lnTo>
                    <a:lnTo>
                      <a:pt x="1154" y="2566"/>
                    </a:lnTo>
                    <a:lnTo>
                      <a:pt x="1134" y="2586"/>
                    </a:lnTo>
                    <a:lnTo>
                      <a:pt x="1115" y="2607"/>
                    </a:lnTo>
                    <a:lnTo>
                      <a:pt x="1097" y="2628"/>
                    </a:lnTo>
                    <a:lnTo>
                      <a:pt x="1078" y="2649"/>
                    </a:lnTo>
                    <a:lnTo>
                      <a:pt x="1061" y="2672"/>
                    </a:lnTo>
                    <a:lnTo>
                      <a:pt x="1043" y="2695"/>
                    </a:lnTo>
                    <a:lnTo>
                      <a:pt x="1027" y="2718"/>
                    </a:lnTo>
                    <a:lnTo>
                      <a:pt x="1011" y="2742"/>
                    </a:lnTo>
                    <a:lnTo>
                      <a:pt x="996" y="2768"/>
                    </a:lnTo>
                    <a:lnTo>
                      <a:pt x="0" y="1396"/>
                    </a:lnTo>
                    <a:lnTo>
                      <a:pt x="27" y="1353"/>
                    </a:lnTo>
                    <a:lnTo>
                      <a:pt x="55" y="1311"/>
                    </a:lnTo>
                    <a:lnTo>
                      <a:pt x="83" y="1269"/>
                    </a:lnTo>
                    <a:lnTo>
                      <a:pt x="112" y="1227"/>
                    </a:lnTo>
                    <a:lnTo>
                      <a:pt x="140" y="1187"/>
                    </a:lnTo>
                    <a:lnTo>
                      <a:pt x="169" y="1148"/>
                    </a:lnTo>
                    <a:lnTo>
                      <a:pt x="199" y="1109"/>
                    </a:lnTo>
                    <a:lnTo>
                      <a:pt x="229" y="1071"/>
                    </a:lnTo>
                    <a:lnTo>
                      <a:pt x="258" y="1033"/>
                    </a:lnTo>
                    <a:lnTo>
                      <a:pt x="288" y="996"/>
                    </a:lnTo>
                    <a:lnTo>
                      <a:pt x="318" y="959"/>
                    </a:lnTo>
                    <a:lnTo>
                      <a:pt x="349" y="923"/>
                    </a:lnTo>
                    <a:lnTo>
                      <a:pt x="380" y="889"/>
                    </a:lnTo>
                    <a:lnTo>
                      <a:pt x="410" y="854"/>
                    </a:lnTo>
                    <a:lnTo>
                      <a:pt x="441" y="820"/>
                    </a:lnTo>
                    <a:lnTo>
                      <a:pt x="474" y="788"/>
                    </a:lnTo>
                    <a:lnTo>
                      <a:pt x="504" y="755"/>
                    </a:lnTo>
                    <a:lnTo>
                      <a:pt x="537" y="724"/>
                    </a:lnTo>
                    <a:lnTo>
                      <a:pt x="569" y="693"/>
                    </a:lnTo>
                    <a:lnTo>
                      <a:pt x="602" y="662"/>
                    </a:lnTo>
                    <a:lnTo>
                      <a:pt x="634" y="632"/>
                    </a:lnTo>
                    <a:lnTo>
                      <a:pt x="667" y="604"/>
                    </a:lnTo>
                    <a:lnTo>
                      <a:pt x="701" y="575"/>
                    </a:lnTo>
                    <a:lnTo>
                      <a:pt x="734" y="548"/>
                    </a:lnTo>
                    <a:lnTo>
                      <a:pt x="768" y="520"/>
                    </a:lnTo>
                    <a:lnTo>
                      <a:pt x="802" y="494"/>
                    </a:lnTo>
                    <a:lnTo>
                      <a:pt x="836" y="468"/>
                    </a:lnTo>
                    <a:lnTo>
                      <a:pt x="871" y="443"/>
                    </a:lnTo>
                    <a:lnTo>
                      <a:pt x="906" y="420"/>
                    </a:lnTo>
                    <a:lnTo>
                      <a:pt x="941" y="396"/>
                    </a:lnTo>
                    <a:lnTo>
                      <a:pt x="977" y="372"/>
                    </a:lnTo>
                    <a:lnTo>
                      <a:pt x="1012" y="349"/>
                    </a:lnTo>
                    <a:lnTo>
                      <a:pt x="1048" y="328"/>
                    </a:lnTo>
                    <a:lnTo>
                      <a:pt x="1085" y="308"/>
                    </a:lnTo>
                    <a:lnTo>
                      <a:pt x="1121" y="288"/>
                    </a:lnTo>
                    <a:lnTo>
                      <a:pt x="1157" y="267"/>
                    </a:lnTo>
                    <a:lnTo>
                      <a:pt x="1194" y="250"/>
                    </a:lnTo>
                    <a:lnTo>
                      <a:pt x="1231" y="231"/>
                    </a:lnTo>
                    <a:lnTo>
                      <a:pt x="1269" y="214"/>
                    </a:lnTo>
                    <a:lnTo>
                      <a:pt x="1306" y="197"/>
                    </a:lnTo>
                    <a:lnTo>
                      <a:pt x="1344" y="181"/>
                    </a:lnTo>
                    <a:lnTo>
                      <a:pt x="1382" y="165"/>
                    </a:lnTo>
                    <a:lnTo>
                      <a:pt x="1420" y="151"/>
                    </a:lnTo>
                    <a:lnTo>
                      <a:pt x="1458" y="137"/>
                    </a:lnTo>
                    <a:lnTo>
                      <a:pt x="1496" y="124"/>
                    </a:lnTo>
                    <a:lnTo>
                      <a:pt x="1536" y="111"/>
                    </a:lnTo>
                    <a:lnTo>
                      <a:pt x="1575" y="99"/>
                    </a:lnTo>
                    <a:lnTo>
                      <a:pt x="1614" y="88"/>
                    </a:lnTo>
                    <a:lnTo>
                      <a:pt x="1653" y="77"/>
                    </a:lnTo>
                    <a:lnTo>
                      <a:pt x="1693" y="67"/>
                    </a:lnTo>
                    <a:lnTo>
                      <a:pt x="1733" y="58"/>
                    </a:lnTo>
                    <a:lnTo>
                      <a:pt x="1772" y="50"/>
                    </a:lnTo>
                    <a:lnTo>
                      <a:pt x="1813" y="42"/>
                    </a:lnTo>
                    <a:lnTo>
                      <a:pt x="1853" y="35"/>
                    </a:lnTo>
                    <a:lnTo>
                      <a:pt x="1895" y="27"/>
                    </a:lnTo>
                    <a:lnTo>
                      <a:pt x="1935" y="23"/>
                    </a:lnTo>
                    <a:lnTo>
                      <a:pt x="1977" y="17"/>
                    </a:lnTo>
                    <a:lnTo>
                      <a:pt x="2017" y="13"/>
                    </a:lnTo>
                    <a:lnTo>
                      <a:pt x="2059" y="8"/>
                    </a:lnTo>
                    <a:lnTo>
                      <a:pt x="2101" y="6"/>
                    </a:lnTo>
                    <a:lnTo>
                      <a:pt x="2143" y="4"/>
                    </a:lnTo>
                    <a:lnTo>
                      <a:pt x="2185" y="1"/>
                    </a:lnTo>
                    <a:lnTo>
                      <a:pt x="2228" y="0"/>
                    </a:lnTo>
                    <a:lnTo>
                      <a:pt x="2271" y="0"/>
                    </a:lnTo>
                    <a:lnTo>
                      <a:pt x="2330" y="1"/>
                    </a:lnTo>
                    <a:lnTo>
                      <a:pt x="2390" y="3"/>
                    </a:lnTo>
                    <a:lnTo>
                      <a:pt x="2449" y="6"/>
                    </a:lnTo>
                    <a:lnTo>
                      <a:pt x="2507" y="11"/>
                    </a:lnTo>
                    <a:lnTo>
                      <a:pt x="2566" y="17"/>
                    </a:lnTo>
                    <a:lnTo>
                      <a:pt x="2622" y="23"/>
                    </a:lnTo>
                    <a:lnTo>
                      <a:pt x="2679" y="31"/>
                    </a:lnTo>
                    <a:lnTo>
                      <a:pt x="2735" y="41"/>
                    </a:lnTo>
                    <a:lnTo>
                      <a:pt x="2789" y="51"/>
                    </a:lnTo>
                    <a:lnTo>
                      <a:pt x="2844" y="64"/>
                    </a:lnTo>
                    <a:lnTo>
                      <a:pt x="2898" y="77"/>
                    </a:lnTo>
                    <a:lnTo>
                      <a:pt x="2951" y="92"/>
                    </a:lnTo>
                    <a:lnTo>
                      <a:pt x="3003" y="107"/>
                    </a:lnTo>
                    <a:lnTo>
                      <a:pt x="3056" y="125"/>
                    </a:lnTo>
                    <a:lnTo>
                      <a:pt x="3107" y="143"/>
                    </a:lnTo>
                    <a:lnTo>
                      <a:pt x="3158" y="163"/>
                    </a:lnTo>
                    <a:lnTo>
                      <a:pt x="3208" y="183"/>
                    </a:lnTo>
                    <a:lnTo>
                      <a:pt x="3257" y="206"/>
                    </a:lnTo>
                    <a:lnTo>
                      <a:pt x="3305" y="229"/>
                    </a:lnTo>
                    <a:lnTo>
                      <a:pt x="3354" y="254"/>
                    </a:lnTo>
                    <a:lnTo>
                      <a:pt x="3401" y="281"/>
                    </a:lnTo>
                    <a:lnTo>
                      <a:pt x="3448" y="307"/>
                    </a:lnTo>
                    <a:lnTo>
                      <a:pt x="3495" y="335"/>
                    </a:lnTo>
                    <a:lnTo>
                      <a:pt x="3540" y="366"/>
                    </a:lnTo>
                    <a:lnTo>
                      <a:pt x="3585" y="397"/>
                    </a:lnTo>
                    <a:lnTo>
                      <a:pt x="3629" y="429"/>
                    </a:lnTo>
                    <a:lnTo>
                      <a:pt x="3672" y="462"/>
                    </a:lnTo>
                    <a:lnTo>
                      <a:pt x="3716" y="498"/>
                    </a:lnTo>
                    <a:lnTo>
                      <a:pt x="3757" y="534"/>
                    </a:lnTo>
                    <a:lnTo>
                      <a:pt x="3799" y="570"/>
                    </a:lnTo>
                    <a:lnTo>
                      <a:pt x="3841" y="610"/>
                    </a:lnTo>
                    <a:lnTo>
                      <a:pt x="3881" y="650"/>
                    </a:lnTo>
                    <a:lnTo>
                      <a:pt x="3920" y="690"/>
                    </a:lnTo>
                    <a:lnTo>
                      <a:pt x="3958" y="732"/>
                    </a:lnTo>
                    <a:lnTo>
                      <a:pt x="3995" y="774"/>
                    </a:lnTo>
                    <a:lnTo>
                      <a:pt x="4031" y="816"/>
                    </a:lnTo>
                    <a:lnTo>
                      <a:pt x="4066" y="860"/>
                    </a:lnTo>
                    <a:lnTo>
                      <a:pt x="4099" y="904"/>
                    </a:lnTo>
                    <a:lnTo>
                      <a:pt x="4130" y="949"/>
                    </a:lnTo>
                    <a:lnTo>
                      <a:pt x="4161" y="995"/>
                    </a:lnTo>
                    <a:lnTo>
                      <a:pt x="4190" y="1041"/>
                    </a:lnTo>
                    <a:lnTo>
                      <a:pt x="4219" y="1087"/>
                    </a:lnTo>
                    <a:lnTo>
                      <a:pt x="4245" y="1135"/>
                    </a:lnTo>
                    <a:lnTo>
                      <a:pt x="4271" y="1182"/>
                    </a:lnTo>
                    <a:lnTo>
                      <a:pt x="4296" y="1231"/>
                    </a:lnTo>
                    <a:lnTo>
                      <a:pt x="4319" y="1280"/>
                    </a:lnTo>
                    <a:lnTo>
                      <a:pt x="4341" y="1330"/>
                    </a:lnTo>
                    <a:lnTo>
                      <a:pt x="4362" y="1379"/>
                    </a:lnTo>
                    <a:lnTo>
                      <a:pt x="4381" y="1431"/>
                    </a:lnTo>
                    <a:lnTo>
                      <a:pt x="4400" y="1483"/>
                    </a:lnTo>
                    <a:lnTo>
                      <a:pt x="4416" y="1535"/>
                    </a:lnTo>
                    <a:lnTo>
                      <a:pt x="4432" y="1587"/>
                    </a:lnTo>
                    <a:lnTo>
                      <a:pt x="4446" y="1641"/>
                    </a:lnTo>
                    <a:lnTo>
                      <a:pt x="4459" y="1695"/>
                    </a:lnTo>
                    <a:lnTo>
                      <a:pt x="4471" y="1750"/>
                    </a:lnTo>
                    <a:lnTo>
                      <a:pt x="4482" y="1806"/>
                    </a:lnTo>
                    <a:lnTo>
                      <a:pt x="4491" y="1862"/>
                    </a:lnTo>
                    <a:lnTo>
                      <a:pt x="4500" y="1919"/>
                    </a:lnTo>
                    <a:lnTo>
                      <a:pt x="4507" y="1976"/>
                    </a:lnTo>
                    <a:lnTo>
                      <a:pt x="4513" y="2034"/>
                    </a:lnTo>
                    <a:lnTo>
                      <a:pt x="4516" y="2092"/>
                    </a:lnTo>
                    <a:lnTo>
                      <a:pt x="4520" y="2152"/>
                    </a:lnTo>
                    <a:lnTo>
                      <a:pt x="4521" y="2212"/>
                    </a:lnTo>
                    <a:lnTo>
                      <a:pt x="4522" y="2273"/>
                    </a:lnTo>
                    <a:lnTo>
                      <a:pt x="4521" y="2317"/>
                    </a:lnTo>
                    <a:lnTo>
                      <a:pt x="4520" y="2363"/>
                    </a:lnTo>
                    <a:lnTo>
                      <a:pt x="4517" y="2408"/>
                    </a:lnTo>
                    <a:lnTo>
                      <a:pt x="4513" y="2455"/>
                    </a:lnTo>
                    <a:lnTo>
                      <a:pt x="4508" y="2501"/>
                    </a:lnTo>
                    <a:lnTo>
                      <a:pt x="4501" y="2548"/>
                    </a:lnTo>
                    <a:lnTo>
                      <a:pt x="4494" y="2595"/>
                    </a:lnTo>
                    <a:lnTo>
                      <a:pt x="4485" y="2643"/>
                    </a:lnTo>
                    <a:lnTo>
                      <a:pt x="4476" y="2691"/>
                    </a:lnTo>
                    <a:lnTo>
                      <a:pt x="4464" y="2740"/>
                    </a:lnTo>
                    <a:lnTo>
                      <a:pt x="4452" y="2788"/>
                    </a:lnTo>
                    <a:lnTo>
                      <a:pt x="4439" y="2838"/>
                    </a:lnTo>
                    <a:lnTo>
                      <a:pt x="4425" y="2888"/>
                    </a:lnTo>
                    <a:lnTo>
                      <a:pt x="4409" y="2938"/>
                    </a:lnTo>
                    <a:lnTo>
                      <a:pt x="4391" y="2989"/>
                    </a:lnTo>
                    <a:lnTo>
                      <a:pt x="4374" y="3040"/>
                    </a:lnTo>
                    <a:lnTo>
                      <a:pt x="4355" y="3091"/>
                    </a:lnTo>
                    <a:lnTo>
                      <a:pt x="4334" y="3144"/>
                    </a:lnTo>
                    <a:lnTo>
                      <a:pt x="4313" y="3196"/>
                    </a:lnTo>
                    <a:lnTo>
                      <a:pt x="4290" y="3248"/>
                    </a:lnTo>
                    <a:lnTo>
                      <a:pt x="4267" y="3302"/>
                    </a:lnTo>
                    <a:lnTo>
                      <a:pt x="4243" y="3355"/>
                    </a:lnTo>
                    <a:lnTo>
                      <a:pt x="4217" y="3409"/>
                    </a:lnTo>
                    <a:lnTo>
                      <a:pt x="4189" y="3463"/>
                    </a:lnTo>
                    <a:lnTo>
                      <a:pt x="4161" y="3518"/>
                    </a:lnTo>
                    <a:lnTo>
                      <a:pt x="4131" y="3572"/>
                    </a:lnTo>
                    <a:lnTo>
                      <a:pt x="4101" y="3628"/>
                    </a:lnTo>
                    <a:lnTo>
                      <a:pt x="4069" y="3684"/>
                    </a:lnTo>
                    <a:lnTo>
                      <a:pt x="4036" y="3741"/>
                    </a:lnTo>
                    <a:lnTo>
                      <a:pt x="4002" y="3797"/>
                    </a:lnTo>
                    <a:lnTo>
                      <a:pt x="3967" y="3854"/>
                    </a:lnTo>
                    <a:lnTo>
                      <a:pt x="3931" y="3912"/>
                    </a:lnTo>
                    <a:lnTo>
                      <a:pt x="3894" y="3969"/>
                    </a:lnTo>
                    <a:lnTo>
                      <a:pt x="3860" y="4023"/>
                    </a:lnTo>
                    <a:lnTo>
                      <a:pt x="3828" y="4073"/>
                    </a:lnTo>
                    <a:lnTo>
                      <a:pt x="3799" y="4119"/>
                    </a:lnTo>
                    <a:lnTo>
                      <a:pt x="3773" y="4162"/>
                    </a:lnTo>
                    <a:lnTo>
                      <a:pt x="3750" y="4200"/>
                    </a:lnTo>
                    <a:lnTo>
                      <a:pt x="3730" y="4235"/>
                    </a:lnTo>
                    <a:lnTo>
                      <a:pt x="3712" y="4265"/>
                    </a:lnTo>
                    <a:lnTo>
                      <a:pt x="3694" y="4295"/>
                    </a:lnTo>
                    <a:lnTo>
                      <a:pt x="3678" y="4326"/>
                    </a:lnTo>
                    <a:lnTo>
                      <a:pt x="3662" y="4357"/>
                    </a:lnTo>
                    <a:lnTo>
                      <a:pt x="3646" y="4389"/>
                    </a:lnTo>
                    <a:lnTo>
                      <a:pt x="3631" y="4422"/>
                    </a:lnTo>
                    <a:lnTo>
                      <a:pt x="3617" y="4455"/>
                    </a:lnTo>
                    <a:lnTo>
                      <a:pt x="3603" y="4490"/>
                    </a:lnTo>
                    <a:lnTo>
                      <a:pt x="3590" y="4525"/>
                    </a:lnTo>
                    <a:lnTo>
                      <a:pt x="3577" y="4562"/>
                    </a:lnTo>
                    <a:lnTo>
                      <a:pt x="3565" y="4600"/>
                    </a:lnTo>
                    <a:lnTo>
                      <a:pt x="3553" y="4638"/>
                    </a:lnTo>
                    <a:lnTo>
                      <a:pt x="3542" y="4677"/>
                    </a:lnTo>
                    <a:lnTo>
                      <a:pt x="3531" y="4717"/>
                    </a:lnTo>
                    <a:lnTo>
                      <a:pt x="3522" y="4758"/>
                    </a:lnTo>
                    <a:lnTo>
                      <a:pt x="3512" y="4800"/>
                    </a:lnTo>
                    <a:lnTo>
                      <a:pt x="3504" y="4842"/>
                    </a:lnTo>
                    <a:lnTo>
                      <a:pt x="3496" y="4885"/>
                    </a:lnTo>
                    <a:lnTo>
                      <a:pt x="3489" y="4930"/>
                    </a:lnTo>
                    <a:lnTo>
                      <a:pt x="3482" y="4975"/>
                    </a:lnTo>
                    <a:lnTo>
                      <a:pt x="3474" y="5022"/>
                    </a:lnTo>
                    <a:lnTo>
                      <a:pt x="3468" y="5069"/>
                    </a:lnTo>
                    <a:lnTo>
                      <a:pt x="3464" y="5118"/>
                    </a:lnTo>
                    <a:lnTo>
                      <a:pt x="3458" y="5167"/>
                    </a:lnTo>
                    <a:lnTo>
                      <a:pt x="3454" y="5218"/>
                    </a:lnTo>
                    <a:lnTo>
                      <a:pt x="3447" y="5321"/>
                    </a:lnTo>
                    <a:lnTo>
                      <a:pt x="3441" y="5429"/>
                    </a:lnTo>
                    <a:lnTo>
                      <a:pt x="3437" y="5540"/>
                    </a:lnTo>
                    <a:lnTo>
                      <a:pt x="3437" y="5655"/>
                    </a:lnTo>
                    <a:lnTo>
                      <a:pt x="3437" y="6338"/>
                    </a:lnTo>
                    <a:lnTo>
                      <a:pt x="1289" y="6338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8480" y="3456000"/>
                <a:ext cx="568440" cy="604800"/>
              </a:xfrm>
              <a:prstGeom prst="rect">
                <a:avLst/>
              </a:prstGeom>
              <a:noFill/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129400" y="4497480"/>
                <a:ext cx="51076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CULTURAL MORAL VALU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27280" y="4983120"/>
                <a:ext cx="4687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V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78360" y="5468760"/>
                <a:ext cx="31860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LIBERALIS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50200" y="990720"/>
            <a:ext cx="6866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902444"/>
                </a:solidFill>
                <a:latin typeface="Geometr231 Hv BT"/>
              </a:rPr>
              <a:t>RESULTS ON AFRICA’S CHILDR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384280" y="1828800"/>
            <a:ext cx="4616280" cy="4008240"/>
            <a:chOff x="2384280" y="1828800"/>
            <a:chExt cx="4616280" cy="4008240"/>
          </a:xfrm>
        </p:grpSpPr>
        <p:sp>
          <p:nvSpPr>
            <p:cNvPr id="330" name=""/>
            <p:cNvSpPr/>
            <p:nvPr/>
          </p:nvSpPr>
          <p:spPr>
            <a:xfrm>
              <a:off x="2514960" y="1828800"/>
              <a:ext cx="3900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Becoming street childr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15760" y="2430720"/>
              <a:ext cx="135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Orphan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73560" y="3032280"/>
              <a:ext cx="4527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Gang members, drug addic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70400" y="3633840"/>
              <a:ext cx="2561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hild prostitut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8480" y="4235760"/>
              <a:ext cx="1460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riminal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18280" y="4837320"/>
              <a:ext cx="2800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Sexually exploite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10720" y="5440680"/>
              <a:ext cx="1478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onfuse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84280" y="194472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84280" y="194472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84280" y="255132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69">
                  <a:moveTo>
                    <a:pt x="0" y="469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84280" y="255132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69">
                  <a:moveTo>
                    <a:pt x="0" y="469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6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84280" y="43596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4280" y="43596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4280" y="315756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4280" y="315756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84280" y="49644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84280" y="49644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4280" y="3751560"/>
              <a:ext cx="188640" cy="1508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84280" y="3751560"/>
              <a:ext cx="188640" cy="1508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4280" y="555948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4280" y="555948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0880" y="685800"/>
            <a:ext cx="8001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metr231 Hv BT"/>
              </a:rPr>
              <a:t>THE CHURCH CAN HELP IN THE HIV /AIDS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CHURCH" descr=""/>
          <p:cNvPicPr/>
          <p:nvPr/>
        </p:nvPicPr>
        <p:blipFill>
          <a:blip r:embed="rId2"/>
          <a:stretch/>
        </p:blipFill>
        <p:spPr>
          <a:xfrm>
            <a:off x="2587680" y="2300400"/>
            <a:ext cx="39654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2035800" y="1341360"/>
            <a:ext cx="5357880" cy="4699440"/>
            <a:chOff x="2035800" y="1341360"/>
            <a:chExt cx="5357880" cy="4699440"/>
          </a:xfrm>
        </p:grpSpPr>
        <p:sp>
          <p:nvSpPr>
            <p:cNvPr id="354" name=""/>
            <p:cNvSpPr/>
            <p:nvPr/>
          </p:nvSpPr>
          <p:spPr>
            <a:xfrm>
              <a:off x="2043000" y="1341360"/>
              <a:ext cx="375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1.   Helping Parents in Their R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39040" y="1890720"/>
              <a:ext cx="534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2.   Understanding and Overcoming the Barrie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98240" y="2109960"/>
              <a:ext cx="327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in Educating Today’s Y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35800" y="2658960"/>
              <a:ext cx="5343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3.   Giving Answers to Some of the Questions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0400" y="2878200"/>
              <a:ext cx="294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Young People are As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40480" y="3427560"/>
              <a:ext cx="430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4.   Helping with Girl/Boy Relation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02560" y="36482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38320" y="4197240"/>
              <a:ext cx="527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5.   Developing Self-Worth in the Teenage Y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9040" y="4746600"/>
              <a:ext cx="535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6.   Helping Youth Know the Difference Betwe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02560" y="4965840"/>
              <a:ext cx="176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Love and Lu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39760" y="5514840"/>
              <a:ext cx="412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7.   Helping Youth with Life-skills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94280" y="5735520"/>
              <a:ext cx="497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Relationships and Avoiding Pre-marital S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06800" y="685800"/>
            <a:ext cx="833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THE CHALLENGE FOR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54:23Z</dcterms:modified>
  <cp:revision>166</cp:revision>
  <dc:subject/>
  <dc:title>No Slide Title</dc:title>
</cp:coreProperties>
</file>