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066-8952-43BD-B0ED-3FEB475E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6B71-A74D-43B0-A2C7-00AACDA5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FE9-B39F-430D-B3E3-AAA2F754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600-1F27-4E76-A622-38529F40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C5E-5DA5-48D9-B7E8-5F384273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875-0A83-48C5-9D44-119CD0E6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A23-290C-47F4-8F06-E384593E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2AA-FFC4-4608-BAD1-363ECB27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3FD-D615-41BC-84C0-FC619D59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E14-50A1-40E7-B813-C8087921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47AC-88A7-4E5C-BEFC-FC415101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EEA-DA5F-40AA-92F6-0EC4AE19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A2F1-8C34-4C1A-8FFB-731BCC114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445000"/>
          <a:ext cx="99036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445000"/>
                    <a:ext cx="9903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61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523880" y="3733920"/>
            <a:ext cx="6553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ther Christian Issu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44480" y="2174760"/>
            <a:ext cx="5853240" cy="2508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THE CHURCH SHOULD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SALT AND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IN A WORLD THA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DARK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HAS LOST 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22T09:31:48Z</dcterms:modified>
  <cp:revision>263</cp:revision>
  <dc:subject/>
  <dc:title>No Slide Title</dc:title>
</cp:coreProperties>
</file>