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C6C-DC02-4C72-A78F-1A2B384B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1B8-D61A-4C50-BA02-9C214E1D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8F7-C035-4CCD-8FB4-30EE3C91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F4C-0864-45B8-AD15-CE1CA3E8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7F3-48E7-4032-9F75-484B6DB5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8B2-5BCD-4C5C-AC5B-489B9A5E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2A5-B5C7-4FBD-866A-3FD086BB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BD4-B1EC-4E2E-9F76-A6917D76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421-54E4-4D39-A6C1-F7EEE999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5D3-9F54-4F6E-BFAD-89B6358D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E0B-523B-49A0-9A1E-2F089430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EDB-B57A-4CB7-9CEB-1F498D2C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F3BE-6BF4-4244-83D8-5AD70D528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73720"/>
          <a:ext cx="105408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73720"/>
                    <a:ext cx="10540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182760" y="517680"/>
            <a:ext cx="2896200" cy="192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600" spc="-1" strike="noStrike">
                <a:solidFill>
                  <a:srgbClr val="dc2b19"/>
                </a:solidFill>
                <a:latin typeface="Geometr231 Hv BT"/>
              </a:rPr>
              <a:t>NO!</a:t>
            </a:r>
            <a:endParaRPr b="0" lang="en-US" sz="1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208320" y="2392200"/>
            <a:ext cx="2844360" cy="192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600" spc="-1" strike="noStrike">
                <a:solidFill>
                  <a:srgbClr val="009240"/>
                </a:solidFill>
                <a:latin typeface="Geometr231 Hv BT"/>
              </a:rPr>
              <a:t>GO!</a:t>
            </a:r>
            <a:endParaRPr b="0" lang="en-US" sz="1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688120" y="4114800"/>
            <a:ext cx="3886920" cy="192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600" spc="-1" strike="noStrike">
                <a:solidFill>
                  <a:srgbClr val="2b0e72"/>
                </a:solidFill>
                <a:latin typeface="Geometr231 Hv BT"/>
              </a:rPr>
              <a:t>TELL!</a:t>
            </a:r>
            <a:endParaRPr b="0" lang="en-US" sz="1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659880" y="685800"/>
            <a:ext cx="7960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02444"/>
                </a:solidFill>
                <a:latin typeface="Geometr231 Hv BT"/>
              </a:rPr>
              <a:t>WHAT TO DO IF SOMEBODY IS FORCING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02444"/>
                </a:solidFill>
                <a:latin typeface="Geometr231 Hv BT"/>
              </a:rPr>
              <a:t>YOU SEXUALLY OR SEXUALLY ABUSING YOU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774440" y="1778040"/>
            <a:ext cx="3489840" cy="923760"/>
            <a:chOff x="1774440" y="1778040"/>
            <a:chExt cx="3489840" cy="923760"/>
          </a:xfrm>
        </p:grpSpPr>
        <p:grpSp>
          <p:nvGrpSpPr>
            <p:cNvPr id="680" name=""/>
            <p:cNvGrpSpPr/>
            <p:nvPr/>
          </p:nvGrpSpPr>
          <p:grpSpPr>
            <a:xfrm>
              <a:off x="3882960" y="1778040"/>
              <a:ext cx="1381320" cy="923760"/>
              <a:chOff x="3882960" y="1778040"/>
              <a:chExt cx="1381320" cy="923760"/>
            </a:xfrm>
          </p:grpSpPr>
          <p:sp>
            <p:nvSpPr>
              <p:cNvPr id="681" name=""/>
              <p:cNvSpPr/>
              <p:nvPr/>
            </p:nvSpPr>
            <p:spPr>
              <a:xfrm>
                <a:off x="3882960" y="1778040"/>
                <a:ext cx="1381320" cy="923760"/>
              </a:xfrm>
              <a:custGeom>
                <a:avLst/>
                <a:gdLst/>
                <a:ahLst/>
                <a:rect l="l" t="t" r="r" b="b"/>
                <a:pathLst>
                  <a:path w="4349" h="2906">
                    <a:moveTo>
                      <a:pt x="2015" y="1852"/>
                    </a:moveTo>
                    <a:lnTo>
                      <a:pt x="1575" y="2478"/>
                    </a:lnTo>
                    <a:lnTo>
                      <a:pt x="2171" y="1990"/>
                    </a:lnTo>
                    <a:lnTo>
                      <a:pt x="2150" y="2377"/>
                    </a:lnTo>
                    <a:lnTo>
                      <a:pt x="2360" y="2052"/>
                    </a:lnTo>
                    <a:lnTo>
                      <a:pt x="2553" y="2780"/>
                    </a:lnTo>
                    <a:lnTo>
                      <a:pt x="2624" y="2021"/>
                    </a:lnTo>
                    <a:lnTo>
                      <a:pt x="2809" y="2513"/>
                    </a:lnTo>
                    <a:lnTo>
                      <a:pt x="2943" y="2157"/>
                    </a:lnTo>
                    <a:lnTo>
                      <a:pt x="3303" y="2704"/>
                    </a:lnTo>
                    <a:lnTo>
                      <a:pt x="3336" y="2287"/>
                    </a:lnTo>
                    <a:lnTo>
                      <a:pt x="3989" y="2906"/>
                    </a:lnTo>
                    <a:lnTo>
                      <a:pt x="3589" y="2072"/>
                    </a:lnTo>
                    <a:lnTo>
                      <a:pt x="4349" y="2268"/>
                    </a:lnTo>
                    <a:lnTo>
                      <a:pt x="3784" y="1867"/>
                    </a:lnTo>
                    <a:lnTo>
                      <a:pt x="4302" y="1620"/>
                    </a:lnTo>
                    <a:lnTo>
                      <a:pt x="3726" y="1538"/>
                    </a:lnTo>
                    <a:lnTo>
                      <a:pt x="4129" y="1224"/>
                    </a:lnTo>
                    <a:lnTo>
                      <a:pt x="3524" y="1255"/>
                    </a:lnTo>
                    <a:lnTo>
                      <a:pt x="3823" y="843"/>
                    </a:lnTo>
                    <a:lnTo>
                      <a:pt x="3313" y="987"/>
                    </a:lnTo>
                    <a:lnTo>
                      <a:pt x="3693" y="429"/>
                    </a:lnTo>
                    <a:lnTo>
                      <a:pt x="3083" y="727"/>
                    </a:lnTo>
                    <a:lnTo>
                      <a:pt x="3156" y="219"/>
                    </a:lnTo>
                    <a:lnTo>
                      <a:pt x="2762" y="680"/>
                    </a:lnTo>
                    <a:lnTo>
                      <a:pt x="2665" y="191"/>
                    </a:lnTo>
                    <a:lnTo>
                      <a:pt x="2495" y="548"/>
                    </a:lnTo>
                    <a:lnTo>
                      <a:pt x="2128" y="17"/>
                    </a:lnTo>
                    <a:lnTo>
                      <a:pt x="2164" y="570"/>
                    </a:lnTo>
                    <a:lnTo>
                      <a:pt x="1580" y="0"/>
                    </a:lnTo>
                    <a:lnTo>
                      <a:pt x="1749" y="447"/>
                    </a:lnTo>
                    <a:lnTo>
                      <a:pt x="1044" y="77"/>
                    </a:lnTo>
                    <a:lnTo>
                      <a:pt x="1539" y="645"/>
                    </a:lnTo>
                    <a:lnTo>
                      <a:pt x="1159" y="610"/>
                    </a:lnTo>
                    <a:lnTo>
                      <a:pt x="1563" y="924"/>
                    </a:lnTo>
                    <a:lnTo>
                      <a:pt x="709" y="867"/>
                    </a:lnTo>
                    <a:lnTo>
                      <a:pt x="1475" y="1175"/>
                    </a:lnTo>
                    <a:lnTo>
                      <a:pt x="1150" y="1306"/>
                    </a:lnTo>
                    <a:lnTo>
                      <a:pt x="1706" y="1435"/>
                    </a:lnTo>
                    <a:lnTo>
                      <a:pt x="0" y="2123"/>
                    </a:lnTo>
                    <a:lnTo>
                      <a:pt x="1877" y="1667"/>
                    </a:lnTo>
                    <a:lnTo>
                      <a:pt x="1586" y="2012"/>
                    </a:lnTo>
                    <a:lnTo>
                      <a:pt x="2015" y="1852"/>
                    </a:lnTo>
                    <a:close/>
                  </a:path>
                </a:pathLst>
              </a:custGeom>
              <a:solidFill>
                <a:srgbClr val="fef8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380000">
                <a:off x="4472280" y="1984320"/>
                <a:ext cx="23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380000">
                <a:off x="4688640" y="2076120"/>
                <a:ext cx="238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1f1a17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380000">
                <a:off x="4906440" y="2135160"/>
                <a:ext cx="83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1f1a17"/>
                    </a:solidFill>
                    <a:latin typeface="Comic Sans MS"/>
                  </a:rPr>
                  <a:t>!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1774440" y="2314440"/>
              <a:ext cx="2056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1. Say a big NO!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1705320" y="2006640"/>
            <a:ext cx="5524200" cy="1243440"/>
            <a:chOff x="1705320" y="2006640"/>
            <a:chExt cx="5524200" cy="1243440"/>
          </a:xfrm>
        </p:grpSpPr>
        <p:grpSp>
          <p:nvGrpSpPr>
            <p:cNvPr id="687" name=""/>
            <p:cNvGrpSpPr/>
            <p:nvPr/>
          </p:nvGrpSpPr>
          <p:grpSpPr>
            <a:xfrm>
              <a:off x="5940360" y="2006640"/>
              <a:ext cx="1289160" cy="1083960"/>
              <a:chOff x="5940360" y="2006640"/>
              <a:chExt cx="1289160" cy="1083960"/>
            </a:xfrm>
          </p:grpSpPr>
          <p:sp>
            <p:nvSpPr>
              <p:cNvPr id="688" name=""/>
              <p:cNvSpPr/>
              <p:nvPr/>
            </p:nvSpPr>
            <p:spPr>
              <a:xfrm>
                <a:off x="5940360" y="2006640"/>
                <a:ext cx="1289160" cy="1083960"/>
              </a:xfrm>
              <a:custGeom>
                <a:avLst/>
                <a:gdLst/>
                <a:ahLst/>
                <a:rect l="l" t="t" r="r" b="b"/>
                <a:pathLst>
                  <a:path w="4061" h="3415">
                    <a:moveTo>
                      <a:pt x="1483" y="2088"/>
                    </a:moveTo>
                    <a:lnTo>
                      <a:pt x="1107" y="3415"/>
                    </a:lnTo>
                    <a:lnTo>
                      <a:pt x="1786" y="2147"/>
                    </a:lnTo>
                    <a:lnTo>
                      <a:pt x="1896" y="2460"/>
                    </a:lnTo>
                    <a:lnTo>
                      <a:pt x="2008" y="2072"/>
                    </a:lnTo>
                    <a:lnTo>
                      <a:pt x="2421" y="2741"/>
                    </a:lnTo>
                    <a:lnTo>
                      <a:pt x="2262" y="1960"/>
                    </a:lnTo>
                    <a:lnTo>
                      <a:pt x="2596" y="2397"/>
                    </a:lnTo>
                    <a:lnTo>
                      <a:pt x="2623" y="2000"/>
                    </a:lnTo>
                    <a:lnTo>
                      <a:pt x="3148" y="2438"/>
                    </a:lnTo>
                    <a:lnTo>
                      <a:pt x="3055" y="2012"/>
                    </a:lnTo>
                    <a:lnTo>
                      <a:pt x="3894" y="2433"/>
                    </a:lnTo>
                    <a:lnTo>
                      <a:pt x="3243" y="1721"/>
                    </a:lnTo>
                    <a:lnTo>
                      <a:pt x="4061" y="1688"/>
                    </a:lnTo>
                    <a:lnTo>
                      <a:pt x="3376" y="1458"/>
                    </a:lnTo>
                    <a:lnTo>
                      <a:pt x="3819" y="1054"/>
                    </a:lnTo>
                    <a:lnTo>
                      <a:pt x="3219" y="1145"/>
                    </a:lnTo>
                    <a:lnTo>
                      <a:pt x="3526" y="711"/>
                    </a:lnTo>
                    <a:lnTo>
                      <a:pt x="2932" y="924"/>
                    </a:lnTo>
                    <a:lnTo>
                      <a:pt x="3106" y="421"/>
                    </a:lnTo>
                    <a:lnTo>
                      <a:pt x="2640" y="719"/>
                    </a:lnTo>
                    <a:lnTo>
                      <a:pt x="2852" y="47"/>
                    </a:lnTo>
                    <a:lnTo>
                      <a:pt x="2331" y="530"/>
                    </a:lnTo>
                    <a:lnTo>
                      <a:pt x="2250" y="0"/>
                    </a:lnTo>
                    <a:lnTo>
                      <a:pt x="1995" y="580"/>
                    </a:lnTo>
                    <a:lnTo>
                      <a:pt x="1750" y="119"/>
                    </a:lnTo>
                    <a:lnTo>
                      <a:pt x="1690" y="527"/>
                    </a:lnTo>
                    <a:lnTo>
                      <a:pt x="1162" y="108"/>
                    </a:lnTo>
                    <a:lnTo>
                      <a:pt x="1365" y="649"/>
                    </a:lnTo>
                    <a:lnTo>
                      <a:pt x="610" y="256"/>
                    </a:lnTo>
                    <a:lnTo>
                      <a:pt x="913" y="652"/>
                    </a:lnTo>
                    <a:lnTo>
                      <a:pt x="97" y="494"/>
                    </a:lnTo>
                    <a:lnTo>
                      <a:pt x="763" y="914"/>
                    </a:lnTo>
                    <a:lnTo>
                      <a:pt x="373" y="993"/>
                    </a:lnTo>
                    <a:lnTo>
                      <a:pt x="871" y="1185"/>
                    </a:lnTo>
                    <a:lnTo>
                      <a:pt x="0" y="1386"/>
                    </a:lnTo>
                    <a:lnTo>
                      <a:pt x="860" y="1462"/>
                    </a:lnTo>
                    <a:lnTo>
                      <a:pt x="574" y="1691"/>
                    </a:lnTo>
                    <a:lnTo>
                      <a:pt x="1168" y="1653"/>
                    </a:lnTo>
                    <a:lnTo>
                      <a:pt x="792" y="2101"/>
                    </a:lnTo>
                    <a:lnTo>
                      <a:pt x="1409" y="1834"/>
                    </a:lnTo>
                    <a:lnTo>
                      <a:pt x="1222" y="2265"/>
                    </a:lnTo>
                    <a:lnTo>
                      <a:pt x="1483" y="2088"/>
                    </a:lnTo>
                    <a:close/>
                  </a:path>
                </a:pathLst>
              </a:custGeom>
              <a:solidFill>
                <a:srgbClr val="008fe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360000">
                <a:off x="6262920" y="2237760"/>
                <a:ext cx="174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360000">
                <a:off x="6436080" y="2259000"/>
                <a:ext cx="2048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U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360000">
                <a:off x="6641640" y="2280960"/>
                <a:ext cx="212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60000">
                <a:off x="6854760" y="2297160"/>
                <a:ext cx="7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!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1705320" y="2914560"/>
              <a:ext cx="4668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2. Get away quickly... run if you can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1831320" y="4411800"/>
            <a:ext cx="29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31320" y="5310360"/>
            <a:ext cx="29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831320" y="5608800"/>
            <a:ext cx="29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728000" y="3454560"/>
            <a:ext cx="4731480" cy="593640"/>
            <a:chOff x="1728000" y="3454560"/>
            <a:chExt cx="4731480" cy="593640"/>
          </a:xfrm>
        </p:grpSpPr>
        <p:sp>
          <p:nvSpPr>
            <p:cNvPr id="698" name=""/>
            <p:cNvSpPr/>
            <p:nvPr/>
          </p:nvSpPr>
          <p:spPr>
            <a:xfrm>
              <a:off x="1728000" y="3513240"/>
              <a:ext cx="332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3. Do not keep it a secret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5025960" y="3454560"/>
              <a:ext cx="1433520" cy="593640"/>
              <a:chOff x="5025960" y="3454560"/>
              <a:chExt cx="1433520" cy="59364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5025960" y="3454560"/>
                <a:ext cx="1433520" cy="593640"/>
                <a:chOff x="5025960" y="3454560"/>
                <a:chExt cx="1433520" cy="59364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5311800" y="3454560"/>
                  <a:ext cx="1147680" cy="593640"/>
                </a:xfrm>
                <a:custGeom>
                  <a:avLst/>
                  <a:gdLst/>
                  <a:ahLst/>
                  <a:rect l="l" t="t" r="r" b="b"/>
                  <a:pathLst>
                    <a:path w="3615" h="1868">
                      <a:moveTo>
                        <a:pt x="1811" y="120"/>
                      </a:moveTo>
                      <a:lnTo>
                        <a:pt x="1820" y="88"/>
                      </a:lnTo>
                      <a:lnTo>
                        <a:pt x="1843" y="64"/>
                      </a:lnTo>
                      <a:lnTo>
                        <a:pt x="1876" y="40"/>
                      </a:lnTo>
                      <a:lnTo>
                        <a:pt x="1908" y="24"/>
                      </a:lnTo>
                      <a:lnTo>
                        <a:pt x="1948" y="8"/>
                      </a:lnTo>
                      <a:lnTo>
                        <a:pt x="1996" y="0"/>
                      </a:lnTo>
                      <a:lnTo>
                        <a:pt x="2043" y="0"/>
                      </a:lnTo>
                      <a:lnTo>
                        <a:pt x="2093" y="0"/>
                      </a:lnTo>
                      <a:lnTo>
                        <a:pt x="2139" y="8"/>
                      </a:lnTo>
                      <a:lnTo>
                        <a:pt x="2188" y="16"/>
                      </a:lnTo>
                      <a:lnTo>
                        <a:pt x="2236" y="32"/>
                      </a:lnTo>
                      <a:lnTo>
                        <a:pt x="2276" y="56"/>
                      </a:lnTo>
                      <a:lnTo>
                        <a:pt x="2324" y="80"/>
                      </a:lnTo>
                      <a:lnTo>
                        <a:pt x="2356" y="112"/>
                      </a:lnTo>
                      <a:lnTo>
                        <a:pt x="2388" y="153"/>
                      </a:lnTo>
                      <a:lnTo>
                        <a:pt x="2412" y="193"/>
                      </a:lnTo>
                      <a:lnTo>
                        <a:pt x="2429" y="169"/>
                      </a:lnTo>
                      <a:lnTo>
                        <a:pt x="2452" y="144"/>
                      </a:lnTo>
                      <a:lnTo>
                        <a:pt x="2476" y="129"/>
                      </a:lnTo>
                      <a:lnTo>
                        <a:pt x="2493" y="112"/>
                      </a:lnTo>
                      <a:lnTo>
                        <a:pt x="2516" y="96"/>
                      </a:lnTo>
                      <a:lnTo>
                        <a:pt x="2549" y="80"/>
                      </a:lnTo>
                      <a:lnTo>
                        <a:pt x="2573" y="64"/>
                      </a:lnTo>
                      <a:lnTo>
                        <a:pt x="2597" y="56"/>
                      </a:lnTo>
                      <a:lnTo>
                        <a:pt x="2628" y="48"/>
                      </a:lnTo>
                      <a:lnTo>
                        <a:pt x="2654" y="40"/>
                      </a:lnTo>
                      <a:lnTo>
                        <a:pt x="2684" y="32"/>
                      </a:lnTo>
                      <a:lnTo>
                        <a:pt x="2708" y="32"/>
                      </a:lnTo>
                      <a:lnTo>
                        <a:pt x="2741" y="24"/>
                      </a:lnTo>
                      <a:lnTo>
                        <a:pt x="2765" y="24"/>
                      </a:lnTo>
                      <a:lnTo>
                        <a:pt x="2797" y="24"/>
                      </a:lnTo>
                      <a:lnTo>
                        <a:pt x="2821" y="32"/>
                      </a:lnTo>
                      <a:lnTo>
                        <a:pt x="2853" y="32"/>
                      </a:lnTo>
                      <a:lnTo>
                        <a:pt x="2877" y="40"/>
                      </a:lnTo>
                      <a:lnTo>
                        <a:pt x="2901" y="48"/>
                      </a:lnTo>
                      <a:lnTo>
                        <a:pt x="2926" y="56"/>
                      </a:lnTo>
                      <a:lnTo>
                        <a:pt x="2950" y="72"/>
                      </a:lnTo>
                      <a:lnTo>
                        <a:pt x="2973" y="80"/>
                      </a:lnTo>
                      <a:lnTo>
                        <a:pt x="2997" y="96"/>
                      </a:lnTo>
                      <a:lnTo>
                        <a:pt x="3014" y="112"/>
                      </a:lnTo>
                      <a:lnTo>
                        <a:pt x="3037" y="129"/>
                      </a:lnTo>
                      <a:lnTo>
                        <a:pt x="3054" y="144"/>
                      </a:lnTo>
                      <a:lnTo>
                        <a:pt x="3070" y="169"/>
                      </a:lnTo>
                      <a:lnTo>
                        <a:pt x="3086" y="193"/>
                      </a:lnTo>
                      <a:lnTo>
                        <a:pt x="3094" y="217"/>
                      </a:lnTo>
                      <a:lnTo>
                        <a:pt x="3110" y="241"/>
                      </a:lnTo>
                      <a:lnTo>
                        <a:pt x="3118" y="265"/>
                      </a:lnTo>
                      <a:lnTo>
                        <a:pt x="3118" y="297"/>
                      </a:lnTo>
                      <a:lnTo>
                        <a:pt x="3166" y="281"/>
                      </a:lnTo>
                      <a:lnTo>
                        <a:pt x="3213" y="273"/>
                      </a:lnTo>
                      <a:lnTo>
                        <a:pt x="3262" y="273"/>
                      </a:lnTo>
                      <a:lnTo>
                        <a:pt x="3302" y="289"/>
                      </a:lnTo>
                      <a:lnTo>
                        <a:pt x="3342" y="305"/>
                      </a:lnTo>
                      <a:lnTo>
                        <a:pt x="3374" y="329"/>
                      </a:lnTo>
                      <a:lnTo>
                        <a:pt x="3406" y="361"/>
                      </a:lnTo>
                      <a:lnTo>
                        <a:pt x="3430" y="392"/>
                      </a:lnTo>
                      <a:lnTo>
                        <a:pt x="3454" y="432"/>
                      </a:lnTo>
                      <a:lnTo>
                        <a:pt x="3471" y="481"/>
                      </a:lnTo>
                      <a:lnTo>
                        <a:pt x="3478" y="521"/>
                      </a:lnTo>
                      <a:lnTo>
                        <a:pt x="3486" y="561"/>
                      </a:lnTo>
                      <a:lnTo>
                        <a:pt x="3478" y="609"/>
                      </a:lnTo>
                      <a:lnTo>
                        <a:pt x="3471" y="649"/>
                      </a:lnTo>
                      <a:lnTo>
                        <a:pt x="3446" y="689"/>
                      </a:lnTo>
                      <a:lnTo>
                        <a:pt x="3414" y="721"/>
                      </a:lnTo>
                      <a:lnTo>
                        <a:pt x="3454" y="729"/>
                      </a:lnTo>
                      <a:lnTo>
                        <a:pt x="3494" y="738"/>
                      </a:lnTo>
                      <a:lnTo>
                        <a:pt x="3526" y="762"/>
                      </a:lnTo>
                      <a:lnTo>
                        <a:pt x="3551" y="794"/>
                      </a:lnTo>
                      <a:lnTo>
                        <a:pt x="3575" y="834"/>
                      </a:lnTo>
                      <a:lnTo>
                        <a:pt x="3591" y="874"/>
                      </a:lnTo>
                      <a:lnTo>
                        <a:pt x="3607" y="921"/>
                      </a:lnTo>
                      <a:lnTo>
                        <a:pt x="3615" y="969"/>
                      </a:lnTo>
                      <a:lnTo>
                        <a:pt x="3615" y="1017"/>
                      </a:lnTo>
                      <a:lnTo>
                        <a:pt x="3607" y="1066"/>
                      </a:lnTo>
                      <a:lnTo>
                        <a:pt x="3599" y="1114"/>
                      </a:lnTo>
                      <a:lnTo>
                        <a:pt x="3575" y="1154"/>
                      </a:lnTo>
                      <a:lnTo>
                        <a:pt x="3542" y="1186"/>
                      </a:lnTo>
                      <a:lnTo>
                        <a:pt x="3511" y="1210"/>
                      </a:lnTo>
                      <a:lnTo>
                        <a:pt x="3462" y="1226"/>
                      </a:lnTo>
                      <a:lnTo>
                        <a:pt x="3406" y="1234"/>
                      </a:lnTo>
                      <a:lnTo>
                        <a:pt x="3422" y="1299"/>
                      </a:lnTo>
                      <a:lnTo>
                        <a:pt x="3430" y="1363"/>
                      </a:lnTo>
                      <a:lnTo>
                        <a:pt x="3430" y="1410"/>
                      </a:lnTo>
                      <a:lnTo>
                        <a:pt x="3414" y="1458"/>
                      </a:lnTo>
                      <a:lnTo>
                        <a:pt x="3390" y="1506"/>
                      </a:lnTo>
                      <a:lnTo>
                        <a:pt x="3358" y="1547"/>
                      </a:lnTo>
                      <a:lnTo>
                        <a:pt x="3326" y="1578"/>
                      </a:lnTo>
                      <a:lnTo>
                        <a:pt x="3286" y="1602"/>
                      </a:lnTo>
                      <a:lnTo>
                        <a:pt x="3239" y="1618"/>
                      </a:lnTo>
                      <a:lnTo>
                        <a:pt x="3199" y="1635"/>
                      </a:lnTo>
                      <a:lnTo>
                        <a:pt x="3150" y="1642"/>
                      </a:lnTo>
                      <a:lnTo>
                        <a:pt x="3102" y="1651"/>
                      </a:lnTo>
                      <a:lnTo>
                        <a:pt x="3062" y="1642"/>
                      </a:lnTo>
                      <a:lnTo>
                        <a:pt x="3014" y="1635"/>
                      </a:lnTo>
                      <a:lnTo>
                        <a:pt x="2981" y="1618"/>
                      </a:lnTo>
                      <a:lnTo>
                        <a:pt x="2950" y="1595"/>
                      </a:lnTo>
                      <a:lnTo>
                        <a:pt x="2926" y="1651"/>
                      </a:lnTo>
                      <a:lnTo>
                        <a:pt x="2901" y="1699"/>
                      </a:lnTo>
                      <a:lnTo>
                        <a:pt x="2869" y="1739"/>
                      </a:lnTo>
                      <a:lnTo>
                        <a:pt x="2829" y="1771"/>
                      </a:lnTo>
                      <a:lnTo>
                        <a:pt x="2781" y="1795"/>
                      </a:lnTo>
                      <a:lnTo>
                        <a:pt x="2733" y="1811"/>
                      </a:lnTo>
                      <a:lnTo>
                        <a:pt x="2677" y="1820"/>
                      </a:lnTo>
                      <a:lnTo>
                        <a:pt x="2628" y="1820"/>
                      </a:lnTo>
                      <a:lnTo>
                        <a:pt x="2573" y="1811"/>
                      </a:lnTo>
                      <a:lnTo>
                        <a:pt x="2525" y="1795"/>
                      </a:lnTo>
                      <a:lnTo>
                        <a:pt x="2476" y="1779"/>
                      </a:lnTo>
                      <a:lnTo>
                        <a:pt x="2436" y="1763"/>
                      </a:lnTo>
                      <a:lnTo>
                        <a:pt x="2396" y="1739"/>
                      </a:lnTo>
                      <a:lnTo>
                        <a:pt x="2372" y="1707"/>
                      </a:lnTo>
                      <a:lnTo>
                        <a:pt x="2348" y="1675"/>
                      </a:lnTo>
                      <a:lnTo>
                        <a:pt x="2332" y="1642"/>
                      </a:lnTo>
                      <a:lnTo>
                        <a:pt x="2332" y="1683"/>
                      </a:lnTo>
                      <a:lnTo>
                        <a:pt x="2316" y="1723"/>
                      </a:lnTo>
                      <a:lnTo>
                        <a:pt x="2292" y="1763"/>
                      </a:lnTo>
                      <a:lnTo>
                        <a:pt x="2260" y="1787"/>
                      </a:lnTo>
                      <a:lnTo>
                        <a:pt x="2228" y="1820"/>
                      </a:lnTo>
                      <a:lnTo>
                        <a:pt x="2188" y="1835"/>
                      </a:lnTo>
                      <a:lnTo>
                        <a:pt x="2139" y="1851"/>
                      </a:lnTo>
                      <a:lnTo>
                        <a:pt x="2093" y="1860"/>
                      </a:lnTo>
                      <a:lnTo>
                        <a:pt x="2043" y="1868"/>
                      </a:lnTo>
                      <a:lnTo>
                        <a:pt x="2004" y="1868"/>
                      </a:lnTo>
                      <a:lnTo>
                        <a:pt x="1956" y="1860"/>
                      </a:lnTo>
                      <a:lnTo>
                        <a:pt x="1916" y="1851"/>
                      </a:lnTo>
                      <a:lnTo>
                        <a:pt x="1876" y="1827"/>
                      </a:lnTo>
                      <a:lnTo>
                        <a:pt x="1851" y="1804"/>
                      </a:lnTo>
                      <a:lnTo>
                        <a:pt x="1827" y="1771"/>
                      </a:lnTo>
                      <a:lnTo>
                        <a:pt x="1811" y="1731"/>
                      </a:lnTo>
                      <a:lnTo>
                        <a:pt x="1787" y="1771"/>
                      </a:lnTo>
                      <a:lnTo>
                        <a:pt x="1763" y="1804"/>
                      </a:lnTo>
                      <a:lnTo>
                        <a:pt x="1739" y="1827"/>
                      </a:lnTo>
                      <a:lnTo>
                        <a:pt x="1699" y="1851"/>
                      </a:lnTo>
                      <a:lnTo>
                        <a:pt x="1658" y="1860"/>
                      </a:lnTo>
                      <a:lnTo>
                        <a:pt x="1611" y="1868"/>
                      </a:lnTo>
                      <a:lnTo>
                        <a:pt x="1571" y="1868"/>
                      </a:lnTo>
                      <a:lnTo>
                        <a:pt x="1522" y="1860"/>
                      </a:lnTo>
                      <a:lnTo>
                        <a:pt x="1474" y="1851"/>
                      </a:lnTo>
                      <a:lnTo>
                        <a:pt x="1427" y="1835"/>
                      </a:lnTo>
                      <a:lnTo>
                        <a:pt x="1387" y="1820"/>
                      </a:lnTo>
                      <a:lnTo>
                        <a:pt x="1355" y="1787"/>
                      </a:lnTo>
                      <a:lnTo>
                        <a:pt x="1322" y="1763"/>
                      </a:lnTo>
                      <a:lnTo>
                        <a:pt x="1299" y="1723"/>
                      </a:lnTo>
                      <a:lnTo>
                        <a:pt x="1282" y="1683"/>
                      </a:lnTo>
                      <a:lnTo>
                        <a:pt x="1282" y="1642"/>
                      </a:lnTo>
                      <a:lnTo>
                        <a:pt x="1266" y="1675"/>
                      </a:lnTo>
                      <a:lnTo>
                        <a:pt x="1242" y="1707"/>
                      </a:lnTo>
                      <a:lnTo>
                        <a:pt x="1218" y="1739"/>
                      </a:lnTo>
                      <a:lnTo>
                        <a:pt x="1178" y="1763"/>
                      </a:lnTo>
                      <a:lnTo>
                        <a:pt x="1138" y="1779"/>
                      </a:lnTo>
                      <a:lnTo>
                        <a:pt x="1090" y="1795"/>
                      </a:lnTo>
                      <a:lnTo>
                        <a:pt x="1042" y="1811"/>
                      </a:lnTo>
                      <a:lnTo>
                        <a:pt x="985" y="1820"/>
                      </a:lnTo>
                      <a:lnTo>
                        <a:pt x="937" y="1820"/>
                      </a:lnTo>
                      <a:lnTo>
                        <a:pt x="882" y="1811"/>
                      </a:lnTo>
                      <a:lnTo>
                        <a:pt x="834" y="1795"/>
                      </a:lnTo>
                      <a:lnTo>
                        <a:pt x="785" y="1771"/>
                      </a:lnTo>
                      <a:lnTo>
                        <a:pt x="745" y="1739"/>
                      </a:lnTo>
                      <a:lnTo>
                        <a:pt x="714" y="1699"/>
                      </a:lnTo>
                      <a:lnTo>
                        <a:pt x="689" y="1651"/>
                      </a:lnTo>
                      <a:lnTo>
                        <a:pt x="665" y="1595"/>
                      </a:lnTo>
                      <a:lnTo>
                        <a:pt x="633" y="1618"/>
                      </a:lnTo>
                      <a:lnTo>
                        <a:pt x="601" y="1635"/>
                      </a:lnTo>
                      <a:lnTo>
                        <a:pt x="552" y="1642"/>
                      </a:lnTo>
                      <a:lnTo>
                        <a:pt x="512" y="1651"/>
                      </a:lnTo>
                      <a:lnTo>
                        <a:pt x="464" y="1642"/>
                      </a:lnTo>
                      <a:lnTo>
                        <a:pt x="416" y="1635"/>
                      </a:lnTo>
                      <a:lnTo>
                        <a:pt x="376" y="1618"/>
                      </a:lnTo>
                      <a:lnTo>
                        <a:pt x="328" y="1602"/>
                      </a:lnTo>
                      <a:lnTo>
                        <a:pt x="289" y="1578"/>
                      </a:lnTo>
                      <a:lnTo>
                        <a:pt x="257" y="1547"/>
                      </a:lnTo>
                      <a:lnTo>
                        <a:pt x="225" y="1506"/>
                      </a:lnTo>
                      <a:lnTo>
                        <a:pt x="200" y="1458"/>
                      </a:lnTo>
                      <a:lnTo>
                        <a:pt x="184" y="1410"/>
                      </a:lnTo>
                      <a:lnTo>
                        <a:pt x="184" y="1363"/>
                      </a:lnTo>
                      <a:lnTo>
                        <a:pt x="193" y="1299"/>
                      </a:lnTo>
                      <a:lnTo>
                        <a:pt x="209" y="1234"/>
                      </a:lnTo>
                      <a:lnTo>
                        <a:pt x="152" y="1226"/>
                      </a:lnTo>
                      <a:lnTo>
                        <a:pt x="104" y="1210"/>
                      </a:lnTo>
                      <a:lnTo>
                        <a:pt x="72" y="1186"/>
                      </a:lnTo>
                      <a:lnTo>
                        <a:pt x="40" y="1154"/>
                      </a:lnTo>
                      <a:lnTo>
                        <a:pt x="16" y="1114"/>
                      </a:lnTo>
                      <a:lnTo>
                        <a:pt x="8" y="1066"/>
                      </a:lnTo>
                      <a:lnTo>
                        <a:pt x="0" y="1017"/>
                      </a:lnTo>
                      <a:lnTo>
                        <a:pt x="0" y="969"/>
                      </a:lnTo>
                      <a:lnTo>
                        <a:pt x="8" y="921"/>
                      </a:lnTo>
                      <a:lnTo>
                        <a:pt x="24" y="874"/>
                      </a:lnTo>
                      <a:lnTo>
                        <a:pt x="40" y="834"/>
                      </a:lnTo>
                      <a:lnTo>
                        <a:pt x="64" y="794"/>
                      </a:lnTo>
                      <a:lnTo>
                        <a:pt x="88" y="762"/>
                      </a:lnTo>
                      <a:lnTo>
                        <a:pt x="120" y="738"/>
                      </a:lnTo>
                      <a:lnTo>
                        <a:pt x="160" y="729"/>
                      </a:lnTo>
                      <a:lnTo>
                        <a:pt x="200" y="721"/>
                      </a:lnTo>
                      <a:lnTo>
                        <a:pt x="169" y="689"/>
                      </a:lnTo>
                      <a:lnTo>
                        <a:pt x="144" y="649"/>
                      </a:lnTo>
                      <a:lnTo>
                        <a:pt x="136" y="609"/>
                      </a:lnTo>
                      <a:lnTo>
                        <a:pt x="128" y="561"/>
                      </a:lnTo>
                      <a:lnTo>
                        <a:pt x="136" y="521"/>
                      </a:lnTo>
                      <a:lnTo>
                        <a:pt x="144" y="481"/>
                      </a:lnTo>
                      <a:lnTo>
                        <a:pt x="160" y="432"/>
                      </a:lnTo>
                      <a:lnTo>
                        <a:pt x="184" y="392"/>
                      </a:lnTo>
                      <a:lnTo>
                        <a:pt x="209" y="361"/>
                      </a:lnTo>
                      <a:lnTo>
                        <a:pt x="240" y="329"/>
                      </a:lnTo>
                      <a:lnTo>
                        <a:pt x="273" y="305"/>
                      </a:lnTo>
                      <a:lnTo>
                        <a:pt x="313" y="289"/>
                      </a:lnTo>
                      <a:lnTo>
                        <a:pt x="352" y="273"/>
                      </a:lnTo>
                      <a:lnTo>
                        <a:pt x="400" y="273"/>
                      </a:lnTo>
                      <a:lnTo>
                        <a:pt x="448" y="281"/>
                      </a:lnTo>
                      <a:lnTo>
                        <a:pt x="497" y="297"/>
                      </a:lnTo>
                      <a:lnTo>
                        <a:pt x="497" y="265"/>
                      </a:lnTo>
                      <a:lnTo>
                        <a:pt x="505" y="241"/>
                      </a:lnTo>
                      <a:lnTo>
                        <a:pt x="521" y="217"/>
                      </a:lnTo>
                      <a:lnTo>
                        <a:pt x="529" y="193"/>
                      </a:lnTo>
                      <a:lnTo>
                        <a:pt x="545" y="169"/>
                      </a:lnTo>
                      <a:lnTo>
                        <a:pt x="561" y="144"/>
                      </a:lnTo>
                      <a:lnTo>
                        <a:pt x="577" y="129"/>
                      </a:lnTo>
                      <a:lnTo>
                        <a:pt x="601" y="112"/>
                      </a:lnTo>
                      <a:lnTo>
                        <a:pt x="617" y="96"/>
                      </a:lnTo>
                      <a:lnTo>
                        <a:pt x="641" y="80"/>
                      </a:lnTo>
                      <a:lnTo>
                        <a:pt x="665" y="72"/>
                      </a:lnTo>
                      <a:lnTo>
                        <a:pt x="689" y="56"/>
                      </a:lnTo>
                      <a:lnTo>
                        <a:pt x="714" y="48"/>
                      </a:lnTo>
                      <a:lnTo>
                        <a:pt x="737" y="40"/>
                      </a:lnTo>
                      <a:lnTo>
                        <a:pt x="761" y="32"/>
                      </a:lnTo>
                      <a:lnTo>
                        <a:pt x="794" y="32"/>
                      </a:lnTo>
                      <a:lnTo>
                        <a:pt x="818" y="24"/>
                      </a:lnTo>
                      <a:lnTo>
                        <a:pt x="850" y="24"/>
                      </a:lnTo>
                      <a:lnTo>
                        <a:pt x="874" y="24"/>
                      </a:lnTo>
                      <a:lnTo>
                        <a:pt x="905" y="32"/>
                      </a:lnTo>
                      <a:lnTo>
                        <a:pt x="929" y="32"/>
                      </a:lnTo>
                      <a:lnTo>
                        <a:pt x="961" y="40"/>
                      </a:lnTo>
                      <a:lnTo>
                        <a:pt x="985" y="48"/>
                      </a:lnTo>
                      <a:lnTo>
                        <a:pt x="1017" y="56"/>
                      </a:lnTo>
                      <a:lnTo>
                        <a:pt x="1042" y="64"/>
                      </a:lnTo>
                      <a:lnTo>
                        <a:pt x="1066" y="80"/>
                      </a:lnTo>
                      <a:lnTo>
                        <a:pt x="1098" y="96"/>
                      </a:lnTo>
                      <a:lnTo>
                        <a:pt x="1122" y="112"/>
                      </a:lnTo>
                      <a:lnTo>
                        <a:pt x="1138" y="129"/>
                      </a:lnTo>
                      <a:lnTo>
                        <a:pt x="1162" y="144"/>
                      </a:lnTo>
                      <a:lnTo>
                        <a:pt x="1186" y="169"/>
                      </a:lnTo>
                      <a:lnTo>
                        <a:pt x="1202" y="193"/>
                      </a:lnTo>
                      <a:lnTo>
                        <a:pt x="1226" y="153"/>
                      </a:lnTo>
                      <a:lnTo>
                        <a:pt x="1258" y="112"/>
                      </a:lnTo>
                      <a:lnTo>
                        <a:pt x="1290" y="80"/>
                      </a:lnTo>
                      <a:lnTo>
                        <a:pt x="1339" y="56"/>
                      </a:lnTo>
                      <a:lnTo>
                        <a:pt x="1379" y="32"/>
                      </a:lnTo>
                      <a:lnTo>
                        <a:pt x="1427" y="16"/>
                      </a:lnTo>
                      <a:lnTo>
                        <a:pt x="1474" y="8"/>
                      </a:lnTo>
                      <a:lnTo>
                        <a:pt x="1522" y="0"/>
                      </a:lnTo>
                      <a:lnTo>
                        <a:pt x="1571" y="0"/>
                      </a:lnTo>
                      <a:lnTo>
                        <a:pt x="1618" y="0"/>
                      </a:lnTo>
                      <a:lnTo>
                        <a:pt x="1667" y="8"/>
                      </a:lnTo>
                      <a:lnTo>
                        <a:pt x="1707" y="24"/>
                      </a:lnTo>
                      <a:lnTo>
                        <a:pt x="1739" y="40"/>
                      </a:lnTo>
                      <a:lnTo>
                        <a:pt x="1771" y="64"/>
                      </a:lnTo>
                      <a:lnTo>
                        <a:pt x="1795" y="88"/>
                      </a:lnTo>
                      <a:lnTo>
                        <a:pt x="1811" y="120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183280" y="3681360"/>
                  <a:ext cx="102960" cy="158760"/>
                </a:xfrm>
                <a:custGeom>
                  <a:avLst/>
                  <a:gdLst/>
                  <a:ahLst/>
                  <a:rect l="l" t="t" r="r" b="b"/>
                  <a:pathLst>
                    <a:path w="324" h="503">
                      <a:moveTo>
                        <a:pt x="311" y="291"/>
                      </a:moveTo>
                      <a:lnTo>
                        <a:pt x="297" y="312"/>
                      </a:lnTo>
                      <a:lnTo>
                        <a:pt x="290" y="336"/>
                      </a:lnTo>
                      <a:lnTo>
                        <a:pt x="284" y="359"/>
                      </a:lnTo>
                      <a:lnTo>
                        <a:pt x="270" y="380"/>
                      </a:lnTo>
                      <a:lnTo>
                        <a:pt x="256" y="401"/>
                      </a:lnTo>
                      <a:lnTo>
                        <a:pt x="243" y="422"/>
                      </a:lnTo>
                      <a:lnTo>
                        <a:pt x="231" y="436"/>
                      </a:lnTo>
                      <a:lnTo>
                        <a:pt x="216" y="457"/>
                      </a:lnTo>
                      <a:lnTo>
                        <a:pt x="205" y="470"/>
                      </a:lnTo>
                      <a:lnTo>
                        <a:pt x="187" y="474"/>
                      </a:lnTo>
                      <a:lnTo>
                        <a:pt x="175" y="487"/>
                      </a:lnTo>
                      <a:lnTo>
                        <a:pt x="158" y="491"/>
                      </a:lnTo>
                      <a:lnTo>
                        <a:pt x="138" y="502"/>
                      </a:lnTo>
                      <a:lnTo>
                        <a:pt x="122" y="498"/>
                      </a:lnTo>
                      <a:lnTo>
                        <a:pt x="113" y="503"/>
                      </a:lnTo>
                      <a:lnTo>
                        <a:pt x="98" y="499"/>
                      </a:lnTo>
                      <a:lnTo>
                        <a:pt x="82" y="495"/>
                      </a:lnTo>
                      <a:lnTo>
                        <a:pt x="68" y="483"/>
                      </a:lnTo>
                      <a:lnTo>
                        <a:pt x="52" y="479"/>
                      </a:lnTo>
                      <a:lnTo>
                        <a:pt x="42" y="460"/>
                      </a:lnTo>
                      <a:lnTo>
                        <a:pt x="35" y="450"/>
                      </a:lnTo>
                      <a:lnTo>
                        <a:pt x="24" y="430"/>
                      </a:lnTo>
                      <a:lnTo>
                        <a:pt x="19" y="420"/>
                      </a:lnTo>
                      <a:lnTo>
                        <a:pt x="8" y="400"/>
                      </a:lnTo>
                      <a:lnTo>
                        <a:pt x="7" y="375"/>
                      </a:lnTo>
                      <a:lnTo>
                        <a:pt x="2" y="357"/>
                      </a:lnTo>
                      <a:lnTo>
                        <a:pt x="1" y="332"/>
                      </a:lnTo>
                      <a:lnTo>
                        <a:pt x="0" y="307"/>
                      </a:lnTo>
                      <a:lnTo>
                        <a:pt x="5" y="285"/>
                      </a:lnTo>
                      <a:lnTo>
                        <a:pt x="4" y="258"/>
                      </a:lnTo>
                      <a:lnTo>
                        <a:pt x="11" y="236"/>
                      </a:lnTo>
                      <a:lnTo>
                        <a:pt x="17" y="213"/>
                      </a:lnTo>
                      <a:lnTo>
                        <a:pt x="24" y="189"/>
                      </a:lnTo>
                      <a:lnTo>
                        <a:pt x="32" y="158"/>
                      </a:lnTo>
                      <a:lnTo>
                        <a:pt x="45" y="136"/>
                      </a:lnTo>
                      <a:lnTo>
                        <a:pt x="51" y="114"/>
                      </a:lnTo>
                      <a:lnTo>
                        <a:pt x="64" y="101"/>
                      </a:lnTo>
                      <a:lnTo>
                        <a:pt x="77" y="79"/>
                      </a:lnTo>
                      <a:lnTo>
                        <a:pt x="90" y="66"/>
                      </a:lnTo>
                      <a:lnTo>
                        <a:pt x="103" y="45"/>
                      </a:lnTo>
                      <a:lnTo>
                        <a:pt x="123" y="34"/>
                      </a:lnTo>
                      <a:lnTo>
                        <a:pt x="135" y="20"/>
                      </a:lnTo>
                      <a:lnTo>
                        <a:pt x="153" y="15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198" y="3"/>
                      </a:lnTo>
                      <a:lnTo>
                        <a:pt x="215" y="1"/>
                      </a:lnTo>
                      <a:lnTo>
                        <a:pt x="231" y="4"/>
                      </a:lnTo>
                      <a:lnTo>
                        <a:pt x="246" y="9"/>
                      </a:lnTo>
                      <a:lnTo>
                        <a:pt x="252" y="18"/>
                      </a:lnTo>
                      <a:lnTo>
                        <a:pt x="268" y="22"/>
                      </a:lnTo>
                      <a:lnTo>
                        <a:pt x="281" y="35"/>
                      </a:lnTo>
                      <a:lnTo>
                        <a:pt x="293" y="54"/>
                      </a:lnTo>
                      <a:lnTo>
                        <a:pt x="297" y="63"/>
                      </a:lnTo>
                      <a:lnTo>
                        <a:pt x="309" y="84"/>
                      </a:lnTo>
                      <a:lnTo>
                        <a:pt x="312" y="101"/>
                      </a:lnTo>
                      <a:lnTo>
                        <a:pt x="314" y="126"/>
                      </a:lnTo>
                      <a:lnTo>
                        <a:pt x="318" y="144"/>
                      </a:lnTo>
                      <a:lnTo>
                        <a:pt x="319" y="169"/>
                      </a:lnTo>
                      <a:lnTo>
                        <a:pt x="322" y="186"/>
                      </a:lnTo>
                      <a:lnTo>
                        <a:pt x="324" y="212"/>
                      </a:lnTo>
                      <a:lnTo>
                        <a:pt x="318" y="236"/>
                      </a:lnTo>
                      <a:lnTo>
                        <a:pt x="309" y="266"/>
                      </a:lnTo>
                      <a:lnTo>
                        <a:pt x="311" y="291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100480" y="3608280"/>
                  <a:ext cx="88920" cy="155880"/>
                </a:xfrm>
                <a:custGeom>
                  <a:avLst/>
                  <a:gdLst/>
                  <a:ahLst/>
                  <a:rect l="l" t="t" r="r" b="b"/>
                  <a:pathLst>
                    <a:path w="284" h="490">
                      <a:moveTo>
                        <a:pt x="266" y="278"/>
                      </a:moveTo>
                      <a:lnTo>
                        <a:pt x="260" y="301"/>
                      </a:lnTo>
                      <a:lnTo>
                        <a:pt x="247" y="322"/>
                      </a:lnTo>
                      <a:lnTo>
                        <a:pt x="240" y="345"/>
                      </a:lnTo>
                      <a:lnTo>
                        <a:pt x="234" y="368"/>
                      </a:lnTo>
                      <a:lnTo>
                        <a:pt x="219" y="390"/>
                      </a:lnTo>
                      <a:lnTo>
                        <a:pt x="208" y="403"/>
                      </a:lnTo>
                      <a:lnTo>
                        <a:pt x="193" y="424"/>
                      </a:lnTo>
                      <a:lnTo>
                        <a:pt x="182" y="437"/>
                      </a:lnTo>
                      <a:lnTo>
                        <a:pt x="170" y="451"/>
                      </a:lnTo>
                      <a:lnTo>
                        <a:pt x="158" y="464"/>
                      </a:lnTo>
                      <a:lnTo>
                        <a:pt x="141" y="467"/>
                      </a:lnTo>
                      <a:lnTo>
                        <a:pt x="128" y="481"/>
                      </a:lnTo>
                      <a:lnTo>
                        <a:pt x="119" y="488"/>
                      </a:lnTo>
                      <a:lnTo>
                        <a:pt x="102" y="490"/>
                      </a:lnTo>
                      <a:lnTo>
                        <a:pt x="93" y="488"/>
                      </a:lnTo>
                      <a:lnTo>
                        <a:pt x="78" y="484"/>
                      </a:lnTo>
                      <a:lnTo>
                        <a:pt x="63" y="480"/>
                      </a:lnTo>
                      <a:lnTo>
                        <a:pt x="54" y="477"/>
                      </a:lnTo>
                      <a:lnTo>
                        <a:pt x="41" y="466"/>
                      </a:lnTo>
                      <a:lnTo>
                        <a:pt x="36" y="456"/>
                      </a:lnTo>
                      <a:lnTo>
                        <a:pt x="24" y="436"/>
                      </a:lnTo>
                      <a:lnTo>
                        <a:pt x="19" y="427"/>
                      </a:lnTo>
                      <a:lnTo>
                        <a:pt x="15" y="409"/>
                      </a:lnTo>
                      <a:lnTo>
                        <a:pt x="12" y="391"/>
                      </a:lnTo>
                      <a:lnTo>
                        <a:pt x="0" y="371"/>
                      </a:lnTo>
                      <a:lnTo>
                        <a:pt x="6" y="349"/>
                      </a:lnTo>
                      <a:lnTo>
                        <a:pt x="4" y="330"/>
                      </a:lnTo>
                      <a:lnTo>
                        <a:pt x="1" y="305"/>
                      </a:lnTo>
                      <a:lnTo>
                        <a:pt x="7" y="282"/>
                      </a:lnTo>
                      <a:lnTo>
                        <a:pt x="6" y="257"/>
                      </a:lnTo>
                      <a:lnTo>
                        <a:pt x="13" y="233"/>
                      </a:lnTo>
                      <a:lnTo>
                        <a:pt x="19" y="211"/>
                      </a:lnTo>
                      <a:lnTo>
                        <a:pt x="25" y="188"/>
                      </a:lnTo>
                      <a:lnTo>
                        <a:pt x="31" y="165"/>
                      </a:lnTo>
                      <a:lnTo>
                        <a:pt x="45" y="143"/>
                      </a:lnTo>
                      <a:lnTo>
                        <a:pt x="52" y="119"/>
                      </a:lnTo>
                      <a:lnTo>
                        <a:pt x="65" y="99"/>
                      </a:lnTo>
                      <a:lnTo>
                        <a:pt x="78" y="85"/>
                      </a:lnTo>
                      <a:lnTo>
                        <a:pt x="84" y="62"/>
                      </a:lnTo>
                      <a:lnTo>
                        <a:pt x="103" y="51"/>
                      </a:lnTo>
                      <a:lnTo>
                        <a:pt x="115" y="37"/>
                      </a:lnTo>
                      <a:lnTo>
                        <a:pt x="127" y="24"/>
                      </a:lnTo>
                      <a:lnTo>
                        <a:pt x="137" y="19"/>
                      </a:lnTo>
                      <a:lnTo>
                        <a:pt x="157" y="8"/>
                      </a:lnTo>
                      <a:lnTo>
                        <a:pt x="164" y="9"/>
                      </a:lnTo>
                      <a:lnTo>
                        <a:pt x="182" y="5"/>
                      </a:lnTo>
                      <a:lnTo>
                        <a:pt x="192" y="0"/>
                      </a:lnTo>
                      <a:lnTo>
                        <a:pt x="208" y="4"/>
                      </a:lnTo>
                      <a:lnTo>
                        <a:pt x="223" y="8"/>
                      </a:lnTo>
                      <a:lnTo>
                        <a:pt x="228" y="19"/>
                      </a:lnTo>
                      <a:lnTo>
                        <a:pt x="242" y="30"/>
                      </a:lnTo>
                      <a:lnTo>
                        <a:pt x="250" y="33"/>
                      </a:lnTo>
                      <a:lnTo>
                        <a:pt x="252" y="50"/>
                      </a:lnTo>
                      <a:lnTo>
                        <a:pt x="266" y="61"/>
                      </a:lnTo>
                      <a:lnTo>
                        <a:pt x="271" y="79"/>
                      </a:lnTo>
                      <a:lnTo>
                        <a:pt x="274" y="97"/>
                      </a:lnTo>
                      <a:lnTo>
                        <a:pt x="276" y="115"/>
                      </a:lnTo>
                      <a:lnTo>
                        <a:pt x="279" y="140"/>
                      </a:lnTo>
                      <a:lnTo>
                        <a:pt x="282" y="157"/>
                      </a:lnTo>
                      <a:lnTo>
                        <a:pt x="284" y="182"/>
                      </a:lnTo>
                      <a:lnTo>
                        <a:pt x="277" y="206"/>
                      </a:lnTo>
                      <a:lnTo>
                        <a:pt x="272" y="229"/>
                      </a:lnTo>
                      <a:lnTo>
                        <a:pt x="273" y="254"/>
                      </a:lnTo>
                      <a:lnTo>
                        <a:pt x="266" y="278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025960" y="3516480"/>
                  <a:ext cx="65160" cy="108000"/>
                </a:xfrm>
                <a:custGeom>
                  <a:avLst/>
                  <a:gdLst/>
                  <a:ahLst/>
                  <a:rect l="l" t="t" r="r" b="b"/>
                  <a:pathLst>
                    <a:path w="202" h="342">
                      <a:moveTo>
                        <a:pt x="191" y="197"/>
                      </a:moveTo>
                      <a:lnTo>
                        <a:pt x="187" y="212"/>
                      </a:lnTo>
                      <a:lnTo>
                        <a:pt x="175" y="224"/>
                      </a:lnTo>
                      <a:lnTo>
                        <a:pt x="171" y="240"/>
                      </a:lnTo>
                      <a:lnTo>
                        <a:pt x="166" y="256"/>
                      </a:lnTo>
                      <a:lnTo>
                        <a:pt x="155" y="270"/>
                      </a:lnTo>
                      <a:lnTo>
                        <a:pt x="150" y="285"/>
                      </a:lnTo>
                      <a:lnTo>
                        <a:pt x="139" y="299"/>
                      </a:lnTo>
                      <a:lnTo>
                        <a:pt x="129" y="304"/>
                      </a:lnTo>
                      <a:lnTo>
                        <a:pt x="124" y="320"/>
                      </a:lnTo>
                      <a:lnTo>
                        <a:pt x="115" y="325"/>
                      </a:lnTo>
                      <a:lnTo>
                        <a:pt x="105" y="332"/>
                      </a:lnTo>
                      <a:lnTo>
                        <a:pt x="96" y="336"/>
                      </a:lnTo>
                      <a:lnTo>
                        <a:pt x="85" y="342"/>
                      </a:lnTo>
                      <a:lnTo>
                        <a:pt x="77" y="340"/>
                      </a:lnTo>
                      <a:lnTo>
                        <a:pt x="63" y="336"/>
                      </a:lnTo>
                      <a:lnTo>
                        <a:pt x="52" y="342"/>
                      </a:lnTo>
                      <a:lnTo>
                        <a:pt x="48" y="332"/>
                      </a:lnTo>
                      <a:lnTo>
                        <a:pt x="39" y="329"/>
                      </a:lnTo>
                      <a:lnTo>
                        <a:pt x="32" y="327"/>
                      </a:lnTo>
                      <a:lnTo>
                        <a:pt x="26" y="318"/>
                      </a:lnTo>
                      <a:lnTo>
                        <a:pt x="20" y="309"/>
                      </a:lnTo>
                      <a:lnTo>
                        <a:pt x="15" y="299"/>
                      </a:lnTo>
                      <a:lnTo>
                        <a:pt x="9" y="288"/>
                      </a:lnTo>
                      <a:lnTo>
                        <a:pt x="6" y="271"/>
                      </a:lnTo>
                      <a:lnTo>
                        <a:pt x="8" y="263"/>
                      </a:lnTo>
                      <a:lnTo>
                        <a:pt x="3" y="246"/>
                      </a:lnTo>
                      <a:lnTo>
                        <a:pt x="0" y="228"/>
                      </a:lnTo>
                      <a:lnTo>
                        <a:pt x="4" y="213"/>
                      </a:lnTo>
                      <a:lnTo>
                        <a:pt x="1" y="195"/>
                      </a:lnTo>
                      <a:lnTo>
                        <a:pt x="4" y="179"/>
                      </a:lnTo>
                      <a:lnTo>
                        <a:pt x="9" y="164"/>
                      </a:lnTo>
                      <a:lnTo>
                        <a:pt x="14" y="149"/>
                      </a:lnTo>
                      <a:lnTo>
                        <a:pt x="17" y="133"/>
                      </a:lnTo>
                      <a:lnTo>
                        <a:pt x="21" y="117"/>
                      </a:lnTo>
                      <a:lnTo>
                        <a:pt x="26" y="101"/>
                      </a:lnTo>
                      <a:lnTo>
                        <a:pt x="40" y="81"/>
                      </a:lnTo>
                      <a:lnTo>
                        <a:pt x="42" y="74"/>
                      </a:lnTo>
                      <a:lnTo>
                        <a:pt x="53" y="60"/>
                      </a:lnTo>
                      <a:lnTo>
                        <a:pt x="66" y="47"/>
                      </a:lnTo>
                      <a:lnTo>
                        <a:pt x="68" y="39"/>
                      </a:lnTo>
                      <a:lnTo>
                        <a:pt x="80" y="26"/>
                      </a:lnTo>
                      <a:lnTo>
                        <a:pt x="89" y="19"/>
                      </a:lnTo>
                      <a:lnTo>
                        <a:pt x="99" y="15"/>
                      </a:lnTo>
                      <a:lnTo>
                        <a:pt x="109" y="8"/>
                      </a:lnTo>
                      <a:lnTo>
                        <a:pt x="120" y="3"/>
                      </a:lnTo>
                      <a:lnTo>
                        <a:pt x="126" y="4"/>
                      </a:lnTo>
                      <a:lnTo>
                        <a:pt x="137" y="0"/>
                      </a:lnTo>
                      <a:lnTo>
                        <a:pt x="145" y="1"/>
                      </a:lnTo>
                      <a:lnTo>
                        <a:pt x="151" y="3"/>
                      </a:lnTo>
                      <a:lnTo>
                        <a:pt x="165" y="15"/>
                      </a:lnTo>
                      <a:lnTo>
                        <a:pt x="173" y="17"/>
                      </a:lnTo>
                      <a:lnTo>
                        <a:pt x="179" y="27"/>
                      </a:lnTo>
                      <a:lnTo>
                        <a:pt x="185" y="37"/>
                      </a:lnTo>
                      <a:lnTo>
                        <a:pt x="190" y="47"/>
                      </a:lnTo>
                      <a:lnTo>
                        <a:pt x="196" y="57"/>
                      </a:lnTo>
                      <a:lnTo>
                        <a:pt x="191" y="73"/>
                      </a:lnTo>
                      <a:lnTo>
                        <a:pt x="197" y="82"/>
                      </a:lnTo>
                      <a:lnTo>
                        <a:pt x="201" y="100"/>
                      </a:lnTo>
                      <a:lnTo>
                        <a:pt x="197" y="115"/>
                      </a:lnTo>
                      <a:lnTo>
                        <a:pt x="202" y="125"/>
                      </a:lnTo>
                      <a:lnTo>
                        <a:pt x="196" y="148"/>
                      </a:lnTo>
                      <a:lnTo>
                        <a:pt x="191" y="163"/>
                      </a:lnTo>
                      <a:lnTo>
                        <a:pt x="196" y="181"/>
                      </a:lnTo>
                      <a:lnTo>
                        <a:pt x="191" y="197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5" name=""/>
              <p:cNvSpPr/>
              <p:nvPr/>
            </p:nvSpPr>
            <p:spPr>
              <a:xfrm rot="21420000">
                <a:off x="5689440" y="3483000"/>
                <a:ext cx="165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420000">
                <a:off x="5856120" y="3473640"/>
                <a:ext cx="1699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O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21420000">
                <a:off x="5475240" y="3730320"/>
                <a:ext cx="1195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21420000">
                <a:off x="5613480" y="3723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21420000">
                <a:off x="5734800" y="3716280"/>
                <a:ext cx="1378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C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21420000">
                <a:off x="5865480" y="3709800"/>
                <a:ext cx="135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R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21420000">
                <a:off x="6005520" y="370332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21420000">
                <a:off x="6143040" y="369540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T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1635840" y="4111560"/>
            <a:ext cx="6593760" cy="965160"/>
            <a:chOff x="1635840" y="4111560"/>
            <a:chExt cx="6593760" cy="965160"/>
          </a:xfrm>
        </p:grpSpPr>
        <p:sp>
          <p:nvSpPr>
            <p:cNvPr id="714" name=""/>
            <p:cNvSpPr/>
            <p:nvPr/>
          </p:nvSpPr>
          <p:spPr>
            <a:xfrm>
              <a:off x="1635840" y="4111560"/>
              <a:ext cx="568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4. Do not feel shame. You are not to blame!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6778800" y="4368960"/>
              <a:ext cx="1450800" cy="707760"/>
              <a:chOff x="6778800" y="4368960"/>
              <a:chExt cx="1450800" cy="707760"/>
            </a:xfrm>
          </p:grpSpPr>
          <p:sp>
            <p:nvSpPr>
              <p:cNvPr id="716" name=""/>
              <p:cNvSpPr/>
              <p:nvPr/>
            </p:nvSpPr>
            <p:spPr>
              <a:xfrm>
                <a:off x="6778800" y="4368960"/>
                <a:ext cx="1450800" cy="707760"/>
              </a:xfrm>
              <a:custGeom>
                <a:avLst/>
                <a:gdLst/>
                <a:ahLst/>
                <a:rect l="l" t="t" r="r" b="b"/>
                <a:pathLst>
                  <a:path w="4568" h="2228">
                    <a:moveTo>
                      <a:pt x="4568" y="231"/>
                    </a:moveTo>
                    <a:lnTo>
                      <a:pt x="4568" y="1999"/>
                    </a:lnTo>
                    <a:lnTo>
                      <a:pt x="4568" y="2023"/>
                    </a:lnTo>
                    <a:lnTo>
                      <a:pt x="4568" y="2046"/>
                    </a:lnTo>
                    <a:lnTo>
                      <a:pt x="4551" y="2071"/>
                    </a:lnTo>
                    <a:lnTo>
                      <a:pt x="4551" y="2083"/>
                    </a:lnTo>
                    <a:lnTo>
                      <a:pt x="4536" y="2107"/>
                    </a:lnTo>
                    <a:lnTo>
                      <a:pt x="4520" y="2131"/>
                    </a:lnTo>
                    <a:lnTo>
                      <a:pt x="4503" y="2144"/>
                    </a:lnTo>
                    <a:lnTo>
                      <a:pt x="4487" y="2168"/>
                    </a:lnTo>
                    <a:lnTo>
                      <a:pt x="4455" y="2180"/>
                    </a:lnTo>
                    <a:lnTo>
                      <a:pt x="4439" y="2192"/>
                    </a:lnTo>
                    <a:lnTo>
                      <a:pt x="4406" y="2204"/>
                    </a:lnTo>
                    <a:lnTo>
                      <a:pt x="4373" y="2215"/>
                    </a:lnTo>
                    <a:lnTo>
                      <a:pt x="4358" y="2215"/>
                    </a:lnTo>
                    <a:lnTo>
                      <a:pt x="4325" y="2228"/>
                    </a:lnTo>
                    <a:lnTo>
                      <a:pt x="4292" y="2228"/>
                    </a:lnTo>
                    <a:lnTo>
                      <a:pt x="4260" y="2228"/>
                    </a:lnTo>
                    <a:lnTo>
                      <a:pt x="1632" y="2228"/>
                    </a:lnTo>
                    <a:lnTo>
                      <a:pt x="1599" y="2228"/>
                    </a:lnTo>
                    <a:lnTo>
                      <a:pt x="1567" y="2228"/>
                    </a:lnTo>
                    <a:lnTo>
                      <a:pt x="1534" y="2215"/>
                    </a:lnTo>
                    <a:lnTo>
                      <a:pt x="1518" y="2215"/>
                    </a:lnTo>
                    <a:lnTo>
                      <a:pt x="1486" y="2204"/>
                    </a:lnTo>
                    <a:lnTo>
                      <a:pt x="1453" y="2192"/>
                    </a:lnTo>
                    <a:lnTo>
                      <a:pt x="1437" y="2180"/>
                    </a:lnTo>
                    <a:lnTo>
                      <a:pt x="1422" y="2168"/>
                    </a:lnTo>
                    <a:lnTo>
                      <a:pt x="1389" y="2144"/>
                    </a:lnTo>
                    <a:lnTo>
                      <a:pt x="1372" y="2131"/>
                    </a:lnTo>
                    <a:lnTo>
                      <a:pt x="1356" y="2107"/>
                    </a:lnTo>
                    <a:lnTo>
                      <a:pt x="1340" y="2083"/>
                    </a:lnTo>
                    <a:lnTo>
                      <a:pt x="1340" y="2059"/>
                    </a:lnTo>
                    <a:lnTo>
                      <a:pt x="1323" y="2046"/>
                    </a:lnTo>
                    <a:lnTo>
                      <a:pt x="1323" y="2023"/>
                    </a:lnTo>
                    <a:lnTo>
                      <a:pt x="1323" y="1999"/>
                    </a:lnTo>
                    <a:lnTo>
                      <a:pt x="1323" y="898"/>
                    </a:lnTo>
                    <a:lnTo>
                      <a:pt x="0" y="233"/>
                    </a:lnTo>
                    <a:lnTo>
                      <a:pt x="1323" y="679"/>
                    </a:lnTo>
                    <a:lnTo>
                      <a:pt x="1323" y="231"/>
                    </a:lnTo>
                    <a:lnTo>
                      <a:pt x="1323" y="207"/>
                    </a:lnTo>
                    <a:lnTo>
                      <a:pt x="1323" y="183"/>
                    </a:lnTo>
                    <a:lnTo>
                      <a:pt x="1340" y="159"/>
                    </a:lnTo>
                    <a:lnTo>
                      <a:pt x="1340" y="146"/>
                    </a:lnTo>
                    <a:lnTo>
                      <a:pt x="1356" y="121"/>
                    </a:lnTo>
                    <a:lnTo>
                      <a:pt x="1372" y="98"/>
                    </a:lnTo>
                    <a:lnTo>
                      <a:pt x="1389" y="85"/>
                    </a:lnTo>
                    <a:lnTo>
                      <a:pt x="1422" y="61"/>
                    </a:lnTo>
                    <a:lnTo>
                      <a:pt x="1437" y="49"/>
                    </a:lnTo>
                    <a:lnTo>
                      <a:pt x="1453" y="38"/>
                    </a:lnTo>
                    <a:lnTo>
                      <a:pt x="1486" y="24"/>
                    </a:lnTo>
                    <a:lnTo>
                      <a:pt x="1518" y="13"/>
                    </a:lnTo>
                    <a:lnTo>
                      <a:pt x="1534" y="13"/>
                    </a:lnTo>
                    <a:lnTo>
                      <a:pt x="1567" y="0"/>
                    </a:lnTo>
                    <a:lnTo>
                      <a:pt x="1599" y="0"/>
                    </a:lnTo>
                    <a:lnTo>
                      <a:pt x="1632" y="0"/>
                    </a:lnTo>
                    <a:lnTo>
                      <a:pt x="4260" y="0"/>
                    </a:lnTo>
                    <a:lnTo>
                      <a:pt x="4292" y="0"/>
                    </a:lnTo>
                    <a:lnTo>
                      <a:pt x="4325" y="0"/>
                    </a:lnTo>
                    <a:lnTo>
                      <a:pt x="4358" y="13"/>
                    </a:lnTo>
                    <a:lnTo>
                      <a:pt x="4373" y="13"/>
                    </a:lnTo>
                    <a:lnTo>
                      <a:pt x="4406" y="24"/>
                    </a:lnTo>
                    <a:lnTo>
                      <a:pt x="4439" y="38"/>
                    </a:lnTo>
                    <a:lnTo>
                      <a:pt x="4455" y="49"/>
                    </a:lnTo>
                    <a:lnTo>
                      <a:pt x="4487" y="61"/>
                    </a:lnTo>
                    <a:lnTo>
                      <a:pt x="4503" y="85"/>
                    </a:lnTo>
                    <a:lnTo>
                      <a:pt x="4520" y="98"/>
                    </a:lnTo>
                    <a:lnTo>
                      <a:pt x="4536" y="121"/>
                    </a:lnTo>
                    <a:lnTo>
                      <a:pt x="4551" y="146"/>
                    </a:lnTo>
                    <a:lnTo>
                      <a:pt x="4551" y="159"/>
                    </a:lnTo>
                    <a:lnTo>
                      <a:pt x="4568" y="183"/>
                    </a:lnTo>
                    <a:lnTo>
                      <a:pt x="4568" y="207"/>
                    </a:lnTo>
                    <a:lnTo>
                      <a:pt x="4568" y="231"/>
                    </a:lnTo>
                    <a:close/>
                  </a:path>
                </a:pathLst>
              </a:custGeom>
              <a:solidFill>
                <a:srgbClr val="00924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21420000">
                <a:off x="7480800" y="4398480"/>
                <a:ext cx="194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1420000">
                <a:off x="7680240" y="4387320"/>
                <a:ext cx="198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21420000">
                <a:off x="7240320" y="4696920"/>
                <a:ext cx="140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21420000">
                <a:off x="7401600" y="4686120"/>
                <a:ext cx="189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21420000">
                <a:off x="7606440" y="4676040"/>
                <a:ext cx="1638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21420000">
                <a:off x="7777800" y="4667040"/>
                <a:ext cx="230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21420000">
                <a:off x="8013240" y="46558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1593720" y="4673520"/>
            <a:ext cx="5491800" cy="1270080"/>
            <a:chOff x="1593720" y="4673520"/>
            <a:chExt cx="5491800" cy="1270080"/>
          </a:xfrm>
        </p:grpSpPr>
        <p:sp>
          <p:nvSpPr>
            <p:cNvPr id="725" name=""/>
            <p:cNvSpPr/>
            <p:nvPr/>
          </p:nvSpPr>
          <p:spPr>
            <a:xfrm>
              <a:off x="1593720" y="4673520"/>
              <a:ext cx="549180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5. Tell an adult person you trust what ha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    </a:t>
              </a: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happened (like the police, a pastor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    </a:t>
              </a: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or your principal)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4451400" y="5504040"/>
              <a:ext cx="1797120" cy="439560"/>
              <a:chOff x="4451400" y="5504040"/>
              <a:chExt cx="1797120" cy="439560"/>
            </a:xfrm>
          </p:grpSpPr>
          <p:sp>
            <p:nvSpPr>
              <p:cNvPr id="727" name=""/>
              <p:cNvSpPr/>
              <p:nvPr/>
            </p:nvSpPr>
            <p:spPr>
              <a:xfrm>
                <a:off x="4451400" y="5504040"/>
                <a:ext cx="1797120" cy="439560"/>
              </a:xfrm>
              <a:custGeom>
                <a:avLst/>
                <a:gdLst/>
                <a:ahLst/>
                <a:rect l="l" t="t" r="r" b="b"/>
                <a:pathLst>
                  <a:path w="5663" h="1385">
                    <a:moveTo>
                      <a:pt x="0" y="56"/>
                    </a:moveTo>
                    <a:lnTo>
                      <a:pt x="25" y="56"/>
                    </a:lnTo>
                    <a:lnTo>
                      <a:pt x="54" y="44"/>
                    </a:lnTo>
                    <a:lnTo>
                      <a:pt x="79" y="44"/>
                    </a:lnTo>
                    <a:lnTo>
                      <a:pt x="105" y="36"/>
                    </a:lnTo>
                    <a:lnTo>
                      <a:pt x="124" y="36"/>
                    </a:lnTo>
                    <a:lnTo>
                      <a:pt x="151" y="28"/>
                    </a:lnTo>
                    <a:lnTo>
                      <a:pt x="203" y="28"/>
                    </a:lnTo>
                    <a:lnTo>
                      <a:pt x="229" y="17"/>
                    </a:lnTo>
                    <a:lnTo>
                      <a:pt x="302" y="17"/>
                    </a:lnTo>
                    <a:lnTo>
                      <a:pt x="328" y="9"/>
                    </a:lnTo>
                    <a:lnTo>
                      <a:pt x="447" y="9"/>
                    </a:lnTo>
                    <a:lnTo>
                      <a:pt x="473" y="0"/>
                    </a:lnTo>
                    <a:lnTo>
                      <a:pt x="676" y="0"/>
                    </a:lnTo>
                    <a:lnTo>
                      <a:pt x="705" y="9"/>
                    </a:lnTo>
                    <a:lnTo>
                      <a:pt x="815" y="9"/>
                    </a:lnTo>
                    <a:lnTo>
                      <a:pt x="835" y="17"/>
                    </a:lnTo>
                    <a:lnTo>
                      <a:pt x="880" y="17"/>
                    </a:lnTo>
                    <a:lnTo>
                      <a:pt x="900" y="28"/>
                    </a:lnTo>
                    <a:lnTo>
                      <a:pt x="948" y="28"/>
                    </a:lnTo>
                    <a:lnTo>
                      <a:pt x="967" y="36"/>
                    </a:lnTo>
                    <a:lnTo>
                      <a:pt x="1013" y="36"/>
                    </a:lnTo>
                    <a:lnTo>
                      <a:pt x="1033" y="44"/>
                    </a:lnTo>
                    <a:lnTo>
                      <a:pt x="1052" y="44"/>
                    </a:lnTo>
                    <a:lnTo>
                      <a:pt x="1072" y="56"/>
                    </a:lnTo>
                    <a:lnTo>
                      <a:pt x="1086" y="56"/>
                    </a:lnTo>
                    <a:lnTo>
                      <a:pt x="1106" y="65"/>
                    </a:lnTo>
                    <a:lnTo>
                      <a:pt x="1123" y="65"/>
                    </a:lnTo>
                    <a:lnTo>
                      <a:pt x="1144" y="73"/>
                    </a:lnTo>
                    <a:lnTo>
                      <a:pt x="1171" y="73"/>
                    </a:lnTo>
                    <a:lnTo>
                      <a:pt x="1190" y="84"/>
                    </a:lnTo>
                    <a:lnTo>
                      <a:pt x="1211" y="84"/>
                    </a:lnTo>
                    <a:lnTo>
                      <a:pt x="1251" y="101"/>
                    </a:lnTo>
                    <a:lnTo>
                      <a:pt x="1270" y="101"/>
                    </a:lnTo>
                    <a:lnTo>
                      <a:pt x="1310" y="121"/>
                    </a:lnTo>
                    <a:lnTo>
                      <a:pt x="1330" y="121"/>
                    </a:lnTo>
                    <a:lnTo>
                      <a:pt x="1367" y="140"/>
                    </a:lnTo>
                    <a:lnTo>
                      <a:pt x="1407" y="157"/>
                    </a:lnTo>
                    <a:lnTo>
                      <a:pt x="1426" y="157"/>
                    </a:lnTo>
                    <a:lnTo>
                      <a:pt x="1440" y="165"/>
                    </a:lnTo>
                    <a:lnTo>
                      <a:pt x="1480" y="185"/>
                    </a:lnTo>
                    <a:lnTo>
                      <a:pt x="1520" y="204"/>
                    </a:lnTo>
                    <a:lnTo>
                      <a:pt x="1539" y="213"/>
                    </a:lnTo>
                    <a:lnTo>
                      <a:pt x="1553" y="221"/>
                    </a:lnTo>
                    <a:lnTo>
                      <a:pt x="1593" y="240"/>
                    </a:lnTo>
                    <a:lnTo>
                      <a:pt x="1612" y="250"/>
                    </a:lnTo>
                    <a:lnTo>
                      <a:pt x="1625" y="260"/>
                    </a:lnTo>
                    <a:lnTo>
                      <a:pt x="1664" y="277"/>
                    </a:lnTo>
                    <a:lnTo>
                      <a:pt x="1677" y="296"/>
                    </a:lnTo>
                    <a:lnTo>
                      <a:pt x="1717" y="317"/>
                    </a:lnTo>
                    <a:lnTo>
                      <a:pt x="1729" y="325"/>
                    </a:lnTo>
                    <a:lnTo>
                      <a:pt x="1749" y="333"/>
                    </a:lnTo>
                    <a:lnTo>
                      <a:pt x="1769" y="352"/>
                    </a:lnTo>
                    <a:lnTo>
                      <a:pt x="1782" y="361"/>
                    </a:lnTo>
                    <a:lnTo>
                      <a:pt x="1803" y="373"/>
                    </a:lnTo>
                    <a:lnTo>
                      <a:pt x="1816" y="381"/>
                    </a:lnTo>
                    <a:lnTo>
                      <a:pt x="1836" y="400"/>
                    </a:lnTo>
                    <a:lnTo>
                      <a:pt x="1848" y="409"/>
                    </a:lnTo>
                    <a:lnTo>
                      <a:pt x="1868" y="417"/>
                    </a:lnTo>
                    <a:lnTo>
                      <a:pt x="1881" y="437"/>
                    </a:lnTo>
                    <a:lnTo>
                      <a:pt x="1901" y="445"/>
                    </a:lnTo>
                    <a:lnTo>
                      <a:pt x="1913" y="465"/>
                    </a:lnTo>
                    <a:lnTo>
                      <a:pt x="1933" y="473"/>
                    </a:lnTo>
                    <a:lnTo>
                      <a:pt x="1941" y="484"/>
                    </a:lnTo>
                    <a:lnTo>
                      <a:pt x="1961" y="484"/>
                    </a:lnTo>
                    <a:lnTo>
                      <a:pt x="2000" y="473"/>
                    </a:lnTo>
                    <a:lnTo>
                      <a:pt x="2032" y="465"/>
                    </a:lnTo>
                    <a:lnTo>
                      <a:pt x="2072" y="456"/>
                    </a:lnTo>
                    <a:lnTo>
                      <a:pt x="2111" y="437"/>
                    </a:lnTo>
                    <a:lnTo>
                      <a:pt x="2151" y="429"/>
                    </a:lnTo>
                    <a:lnTo>
                      <a:pt x="2196" y="417"/>
                    </a:lnTo>
                    <a:lnTo>
                      <a:pt x="2236" y="409"/>
                    </a:lnTo>
                    <a:lnTo>
                      <a:pt x="2283" y="400"/>
                    </a:lnTo>
                    <a:lnTo>
                      <a:pt x="2323" y="400"/>
                    </a:lnTo>
                    <a:lnTo>
                      <a:pt x="2414" y="381"/>
                    </a:lnTo>
                    <a:lnTo>
                      <a:pt x="2507" y="361"/>
                    </a:lnTo>
                    <a:lnTo>
                      <a:pt x="2559" y="352"/>
                    </a:lnTo>
                    <a:lnTo>
                      <a:pt x="2606" y="352"/>
                    </a:lnTo>
                    <a:lnTo>
                      <a:pt x="2651" y="344"/>
                    </a:lnTo>
                    <a:lnTo>
                      <a:pt x="2702" y="333"/>
                    </a:lnTo>
                    <a:lnTo>
                      <a:pt x="2756" y="333"/>
                    </a:lnTo>
                    <a:lnTo>
                      <a:pt x="2810" y="325"/>
                    </a:lnTo>
                    <a:lnTo>
                      <a:pt x="2855" y="325"/>
                    </a:lnTo>
                    <a:lnTo>
                      <a:pt x="2907" y="317"/>
                    </a:lnTo>
                    <a:lnTo>
                      <a:pt x="2960" y="317"/>
                    </a:lnTo>
                    <a:lnTo>
                      <a:pt x="3014" y="305"/>
                    </a:lnTo>
                    <a:lnTo>
                      <a:pt x="3073" y="305"/>
                    </a:lnTo>
                    <a:lnTo>
                      <a:pt x="3124" y="296"/>
                    </a:lnTo>
                    <a:lnTo>
                      <a:pt x="3289" y="296"/>
                    </a:lnTo>
                    <a:lnTo>
                      <a:pt x="3342" y="288"/>
                    </a:lnTo>
                    <a:lnTo>
                      <a:pt x="3775" y="288"/>
                    </a:lnTo>
                    <a:lnTo>
                      <a:pt x="3875" y="296"/>
                    </a:lnTo>
                    <a:lnTo>
                      <a:pt x="3973" y="296"/>
                    </a:lnTo>
                    <a:lnTo>
                      <a:pt x="4072" y="305"/>
                    </a:lnTo>
                    <a:lnTo>
                      <a:pt x="4171" y="305"/>
                    </a:lnTo>
                    <a:lnTo>
                      <a:pt x="4262" y="317"/>
                    </a:lnTo>
                    <a:lnTo>
                      <a:pt x="4362" y="325"/>
                    </a:lnTo>
                    <a:lnTo>
                      <a:pt x="4446" y="333"/>
                    </a:lnTo>
                    <a:lnTo>
                      <a:pt x="4539" y="352"/>
                    </a:lnTo>
                    <a:lnTo>
                      <a:pt x="4709" y="373"/>
                    </a:lnTo>
                    <a:lnTo>
                      <a:pt x="4868" y="409"/>
                    </a:lnTo>
                    <a:lnTo>
                      <a:pt x="4941" y="417"/>
                    </a:lnTo>
                    <a:lnTo>
                      <a:pt x="5086" y="456"/>
                    </a:lnTo>
                    <a:lnTo>
                      <a:pt x="5151" y="473"/>
                    </a:lnTo>
                    <a:lnTo>
                      <a:pt x="5269" y="509"/>
                    </a:lnTo>
                    <a:lnTo>
                      <a:pt x="5329" y="537"/>
                    </a:lnTo>
                    <a:lnTo>
                      <a:pt x="5374" y="557"/>
                    </a:lnTo>
                    <a:lnTo>
                      <a:pt x="5428" y="577"/>
                    </a:lnTo>
                    <a:lnTo>
                      <a:pt x="5506" y="633"/>
                    </a:lnTo>
                    <a:lnTo>
                      <a:pt x="5546" y="650"/>
                    </a:lnTo>
                    <a:lnTo>
                      <a:pt x="5573" y="677"/>
                    </a:lnTo>
                    <a:lnTo>
                      <a:pt x="5603" y="706"/>
                    </a:lnTo>
                    <a:lnTo>
                      <a:pt x="5624" y="725"/>
                    </a:lnTo>
                    <a:lnTo>
                      <a:pt x="5643" y="752"/>
                    </a:lnTo>
                    <a:lnTo>
                      <a:pt x="5651" y="781"/>
                    </a:lnTo>
                    <a:lnTo>
                      <a:pt x="5663" y="808"/>
                    </a:lnTo>
                    <a:lnTo>
                      <a:pt x="5663" y="865"/>
                    </a:lnTo>
                    <a:lnTo>
                      <a:pt x="5651" y="893"/>
                    </a:lnTo>
                    <a:lnTo>
                      <a:pt x="5643" y="921"/>
                    </a:lnTo>
                    <a:lnTo>
                      <a:pt x="5624" y="948"/>
                    </a:lnTo>
                    <a:lnTo>
                      <a:pt x="5603" y="965"/>
                    </a:lnTo>
                    <a:lnTo>
                      <a:pt x="5573" y="993"/>
                    </a:lnTo>
                    <a:lnTo>
                      <a:pt x="5546" y="1021"/>
                    </a:lnTo>
                    <a:lnTo>
                      <a:pt x="5506" y="1041"/>
                    </a:lnTo>
                    <a:lnTo>
                      <a:pt x="5428" y="1097"/>
                    </a:lnTo>
                    <a:lnTo>
                      <a:pt x="5374" y="1116"/>
                    </a:lnTo>
                    <a:lnTo>
                      <a:pt x="5329" y="1133"/>
                    </a:lnTo>
                    <a:lnTo>
                      <a:pt x="5269" y="1162"/>
                    </a:lnTo>
                    <a:lnTo>
                      <a:pt x="5151" y="1200"/>
                    </a:lnTo>
                    <a:lnTo>
                      <a:pt x="5086" y="1217"/>
                    </a:lnTo>
                    <a:lnTo>
                      <a:pt x="4941" y="1254"/>
                    </a:lnTo>
                    <a:lnTo>
                      <a:pt x="4868" y="1264"/>
                    </a:lnTo>
                    <a:lnTo>
                      <a:pt x="4709" y="1301"/>
                    </a:lnTo>
                    <a:lnTo>
                      <a:pt x="4539" y="1321"/>
                    </a:lnTo>
                    <a:lnTo>
                      <a:pt x="4446" y="1337"/>
                    </a:lnTo>
                    <a:lnTo>
                      <a:pt x="4362" y="1349"/>
                    </a:lnTo>
                    <a:lnTo>
                      <a:pt x="4262" y="1357"/>
                    </a:lnTo>
                    <a:lnTo>
                      <a:pt x="4171" y="1366"/>
                    </a:lnTo>
                    <a:lnTo>
                      <a:pt x="4072" y="1366"/>
                    </a:lnTo>
                    <a:lnTo>
                      <a:pt x="3973" y="1377"/>
                    </a:lnTo>
                    <a:lnTo>
                      <a:pt x="3875" y="1377"/>
                    </a:lnTo>
                    <a:lnTo>
                      <a:pt x="3775" y="1385"/>
                    </a:lnTo>
                    <a:lnTo>
                      <a:pt x="3354" y="1385"/>
                    </a:lnTo>
                    <a:lnTo>
                      <a:pt x="3257" y="1377"/>
                    </a:lnTo>
                    <a:lnTo>
                      <a:pt x="3157" y="1377"/>
                    </a:lnTo>
                    <a:lnTo>
                      <a:pt x="3059" y="1366"/>
                    </a:lnTo>
                    <a:lnTo>
                      <a:pt x="2960" y="1366"/>
                    </a:lnTo>
                    <a:lnTo>
                      <a:pt x="2867" y="1357"/>
                    </a:lnTo>
                    <a:lnTo>
                      <a:pt x="2770" y="1349"/>
                    </a:lnTo>
                    <a:lnTo>
                      <a:pt x="2683" y="1337"/>
                    </a:lnTo>
                    <a:lnTo>
                      <a:pt x="2592" y="1321"/>
                    </a:lnTo>
                    <a:lnTo>
                      <a:pt x="2420" y="1301"/>
                    </a:lnTo>
                    <a:lnTo>
                      <a:pt x="2263" y="1264"/>
                    </a:lnTo>
                    <a:lnTo>
                      <a:pt x="2190" y="1254"/>
                    </a:lnTo>
                    <a:lnTo>
                      <a:pt x="2046" y="1217"/>
                    </a:lnTo>
                    <a:lnTo>
                      <a:pt x="1981" y="1200"/>
                    </a:lnTo>
                    <a:lnTo>
                      <a:pt x="1862" y="1162"/>
                    </a:lnTo>
                    <a:lnTo>
                      <a:pt x="1803" y="1133"/>
                    </a:lnTo>
                    <a:lnTo>
                      <a:pt x="1757" y="1116"/>
                    </a:lnTo>
                    <a:lnTo>
                      <a:pt x="1704" y="1097"/>
                    </a:lnTo>
                    <a:lnTo>
                      <a:pt x="1625" y="1041"/>
                    </a:lnTo>
                    <a:lnTo>
                      <a:pt x="1585" y="1021"/>
                    </a:lnTo>
                    <a:lnTo>
                      <a:pt x="1559" y="993"/>
                    </a:lnTo>
                    <a:lnTo>
                      <a:pt x="1526" y="965"/>
                    </a:lnTo>
                    <a:lnTo>
                      <a:pt x="1505" y="948"/>
                    </a:lnTo>
                    <a:lnTo>
                      <a:pt x="1486" y="921"/>
                    </a:lnTo>
                    <a:lnTo>
                      <a:pt x="1480" y="893"/>
                    </a:lnTo>
                    <a:lnTo>
                      <a:pt x="1466" y="865"/>
                    </a:lnTo>
                    <a:lnTo>
                      <a:pt x="1466" y="808"/>
                    </a:lnTo>
                    <a:lnTo>
                      <a:pt x="1474" y="800"/>
                    </a:lnTo>
                    <a:lnTo>
                      <a:pt x="1474" y="789"/>
                    </a:lnTo>
                    <a:lnTo>
                      <a:pt x="1480" y="781"/>
                    </a:lnTo>
                    <a:lnTo>
                      <a:pt x="1480" y="773"/>
                    </a:lnTo>
                    <a:lnTo>
                      <a:pt x="1486" y="773"/>
                    </a:lnTo>
                    <a:lnTo>
                      <a:pt x="1486" y="761"/>
                    </a:lnTo>
                    <a:lnTo>
                      <a:pt x="1499" y="744"/>
                    </a:lnTo>
                    <a:lnTo>
                      <a:pt x="1505" y="733"/>
                    </a:lnTo>
                    <a:lnTo>
                      <a:pt x="1505" y="725"/>
                    </a:lnTo>
                    <a:lnTo>
                      <a:pt x="1513" y="725"/>
                    </a:lnTo>
                    <a:lnTo>
                      <a:pt x="1526" y="706"/>
                    </a:lnTo>
                    <a:lnTo>
                      <a:pt x="1534" y="696"/>
                    </a:lnTo>
                    <a:lnTo>
                      <a:pt x="1539" y="696"/>
                    </a:lnTo>
                    <a:lnTo>
                      <a:pt x="1553" y="677"/>
                    </a:lnTo>
                    <a:lnTo>
                      <a:pt x="1564" y="677"/>
                    </a:lnTo>
                    <a:lnTo>
                      <a:pt x="1579" y="660"/>
                    </a:lnTo>
                    <a:lnTo>
                      <a:pt x="1593" y="650"/>
                    </a:lnTo>
                    <a:lnTo>
                      <a:pt x="1599" y="650"/>
                    </a:lnTo>
                    <a:lnTo>
                      <a:pt x="1612" y="641"/>
                    </a:lnTo>
                    <a:lnTo>
                      <a:pt x="1618" y="633"/>
                    </a:lnTo>
                    <a:lnTo>
                      <a:pt x="1631" y="621"/>
                    </a:lnTo>
                    <a:lnTo>
                      <a:pt x="1639" y="621"/>
                    </a:lnTo>
                    <a:lnTo>
                      <a:pt x="1650" y="613"/>
                    </a:lnTo>
                    <a:lnTo>
                      <a:pt x="1644" y="613"/>
                    </a:lnTo>
                    <a:lnTo>
                      <a:pt x="1631" y="604"/>
                    </a:lnTo>
                    <a:lnTo>
                      <a:pt x="1618" y="585"/>
                    </a:lnTo>
                    <a:lnTo>
                      <a:pt x="1604" y="577"/>
                    </a:lnTo>
                    <a:lnTo>
                      <a:pt x="1593" y="557"/>
                    </a:lnTo>
                    <a:lnTo>
                      <a:pt x="1564" y="537"/>
                    </a:lnTo>
                    <a:lnTo>
                      <a:pt x="1553" y="521"/>
                    </a:lnTo>
                    <a:lnTo>
                      <a:pt x="1526" y="502"/>
                    </a:lnTo>
                    <a:lnTo>
                      <a:pt x="1513" y="492"/>
                    </a:lnTo>
                    <a:lnTo>
                      <a:pt x="1499" y="473"/>
                    </a:lnTo>
                    <a:lnTo>
                      <a:pt x="1480" y="465"/>
                    </a:lnTo>
                    <a:lnTo>
                      <a:pt x="1454" y="445"/>
                    </a:lnTo>
                    <a:lnTo>
                      <a:pt x="1440" y="437"/>
                    </a:lnTo>
                    <a:lnTo>
                      <a:pt x="1426" y="417"/>
                    </a:lnTo>
                    <a:lnTo>
                      <a:pt x="1407" y="409"/>
                    </a:lnTo>
                    <a:lnTo>
                      <a:pt x="1381" y="389"/>
                    </a:lnTo>
                    <a:lnTo>
                      <a:pt x="1367" y="381"/>
                    </a:lnTo>
                    <a:lnTo>
                      <a:pt x="1349" y="373"/>
                    </a:lnTo>
                    <a:lnTo>
                      <a:pt x="1322" y="352"/>
                    </a:lnTo>
                    <a:lnTo>
                      <a:pt x="1310" y="344"/>
                    </a:lnTo>
                    <a:lnTo>
                      <a:pt x="1290" y="333"/>
                    </a:lnTo>
                    <a:lnTo>
                      <a:pt x="1276" y="325"/>
                    </a:lnTo>
                    <a:lnTo>
                      <a:pt x="1257" y="317"/>
                    </a:lnTo>
                    <a:lnTo>
                      <a:pt x="1230" y="296"/>
                    </a:lnTo>
                    <a:lnTo>
                      <a:pt x="1211" y="288"/>
                    </a:lnTo>
                    <a:lnTo>
                      <a:pt x="1197" y="277"/>
                    </a:lnTo>
                    <a:lnTo>
                      <a:pt x="1177" y="269"/>
                    </a:lnTo>
                    <a:lnTo>
                      <a:pt x="1163" y="260"/>
                    </a:lnTo>
                    <a:lnTo>
                      <a:pt x="1144" y="250"/>
                    </a:lnTo>
                    <a:lnTo>
                      <a:pt x="1131" y="250"/>
                    </a:lnTo>
                    <a:lnTo>
                      <a:pt x="1112" y="240"/>
                    </a:lnTo>
                    <a:lnTo>
                      <a:pt x="1098" y="232"/>
                    </a:lnTo>
                    <a:lnTo>
                      <a:pt x="1079" y="221"/>
                    </a:lnTo>
                    <a:lnTo>
                      <a:pt x="1066" y="213"/>
                    </a:lnTo>
                    <a:lnTo>
                      <a:pt x="1047" y="213"/>
                    </a:lnTo>
                    <a:lnTo>
                      <a:pt x="1033" y="204"/>
                    </a:lnTo>
                    <a:lnTo>
                      <a:pt x="993" y="185"/>
                    </a:lnTo>
                    <a:lnTo>
                      <a:pt x="980" y="185"/>
                    </a:lnTo>
                    <a:lnTo>
                      <a:pt x="940" y="165"/>
                    </a:lnTo>
                    <a:lnTo>
                      <a:pt x="934" y="165"/>
                    </a:lnTo>
                    <a:lnTo>
                      <a:pt x="915" y="157"/>
                    </a:lnTo>
                    <a:lnTo>
                      <a:pt x="900" y="157"/>
                    </a:lnTo>
                    <a:lnTo>
                      <a:pt x="880" y="148"/>
                    </a:lnTo>
                    <a:lnTo>
                      <a:pt x="862" y="148"/>
                    </a:lnTo>
                    <a:lnTo>
                      <a:pt x="843" y="140"/>
                    </a:lnTo>
                    <a:lnTo>
                      <a:pt x="829" y="129"/>
                    </a:lnTo>
                    <a:lnTo>
                      <a:pt x="810" y="129"/>
                    </a:lnTo>
                    <a:lnTo>
                      <a:pt x="789" y="121"/>
                    </a:lnTo>
                    <a:lnTo>
                      <a:pt x="770" y="121"/>
                    </a:lnTo>
                    <a:lnTo>
                      <a:pt x="749" y="112"/>
                    </a:lnTo>
                    <a:lnTo>
                      <a:pt x="735" y="112"/>
                    </a:lnTo>
                    <a:lnTo>
                      <a:pt x="716" y="101"/>
                    </a:lnTo>
                    <a:lnTo>
                      <a:pt x="676" y="101"/>
                    </a:lnTo>
                    <a:lnTo>
                      <a:pt x="657" y="92"/>
                    </a:lnTo>
                    <a:lnTo>
                      <a:pt x="637" y="92"/>
                    </a:lnTo>
                    <a:lnTo>
                      <a:pt x="619" y="84"/>
                    </a:lnTo>
                    <a:lnTo>
                      <a:pt x="579" y="84"/>
                    </a:lnTo>
                    <a:lnTo>
                      <a:pt x="560" y="73"/>
                    </a:lnTo>
                    <a:lnTo>
                      <a:pt x="501" y="73"/>
                    </a:lnTo>
                    <a:lnTo>
                      <a:pt x="480" y="65"/>
                    </a:lnTo>
                    <a:lnTo>
                      <a:pt x="421" y="65"/>
                    </a:lnTo>
                    <a:lnTo>
                      <a:pt x="401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e87b14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21420000">
                <a:off x="5266440" y="56134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21420000">
                <a:off x="5432400" y="56037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21420000">
                <a:off x="5585400" y="5595840"/>
                <a:ext cx="13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21420000">
                <a:off x="5726520" y="5589360"/>
                <a:ext cx="13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768400" y="5334120"/>
            <a:ext cx="3592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1f1a17"/>
                </a:solidFill>
                <a:latin typeface="Geometr231 Hv BT"/>
              </a:rPr>
              <a:t>MAKE SUR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627640" y="838080"/>
            <a:ext cx="3879360" cy="4201200"/>
            <a:chOff x="2627640" y="838080"/>
            <a:chExt cx="3879360" cy="4201200"/>
          </a:xfrm>
        </p:grpSpPr>
        <p:sp>
          <p:nvSpPr>
            <p:cNvPr id="734" name=""/>
            <p:cNvSpPr/>
            <p:nvPr/>
          </p:nvSpPr>
          <p:spPr>
            <a:xfrm>
              <a:off x="2844360" y="838080"/>
              <a:ext cx="34542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1f1a17"/>
                  </a:solidFill>
                  <a:latin typeface="Geometr231 Hv BT"/>
                </a:rPr>
                <a:t>SEXUAL ABUSE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27640" y="3844800"/>
              <a:ext cx="3879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902444"/>
                  </a:solidFill>
                  <a:latin typeface="Geometr231 Hv BT"/>
                </a:rPr>
                <a:t>GOOD TOUCHES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876760" y="4444560"/>
              <a:ext cx="33825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902444"/>
                  </a:solidFill>
                  <a:latin typeface="Geometr231 Hv BT"/>
                </a:rPr>
                <a:t>BAD TOUCHES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619440" y="1739520"/>
              <a:ext cx="1900440" cy="1870200"/>
            </a:xfrm>
            <a:custGeom>
              <a:avLst/>
              <a:gdLst/>
              <a:ahLst/>
              <a:rect l="l" t="t" r="r" b="b"/>
              <a:pathLst>
                <a:path w="5985" h="5891">
                  <a:moveTo>
                    <a:pt x="5985" y="4175"/>
                  </a:moveTo>
                  <a:lnTo>
                    <a:pt x="4175" y="5891"/>
                  </a:lnTo>
                  <a:lnTo>
                    <a:pt x="1746" y="5891"/>
                  </a:lnTo>
                  <a:lnTo>
                    <a:pt x="0" y="4175"/>
                  </a:lnTo>
                  <a:lnTo>
                    <a:pt x="0" y="1778"/>
                  </a:lnTo>
                  <a:lnTo>
                    <a:pt x="1746" y="0"/>
                  </a:lnTo>
                  <a:lnTo>
                    <a:pt x="4175" y="0"/>
                  </a:lnTo>
                  <a:lnTo>
                    <a:pt x="5985" y="1778"/>
                  </a:lnTo>
                  <a:lnTo>
                    <a:pt x="5985" y="417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619440" y="1739520"/>
              <a:ext cx="1900440" cy="1870200"/>
            </a:xfrm>
            <a:custGeom>
              <a:avLst/>
              <a:gdLst/>
              <a:ahLst/>
              <a:rect l="l" t="t" r="r" b="b"/>
              <a:pathLst>
                <a:path w="5985" h="5891">
                  <a:moveTo>
                    <a:pt x="5985" y="4175"/>
                  </a:moveTo>
                  <a:lnTo>
                    <a:pt x="4175" y="5891"/>
                  </a:lnTo>
                  <a:lnTo>
                    <a:pt x="1746" y="5891"/>
                  </a:lnTo>
                  <a:lnTo>
                    <a:pt x="0" y="4175"/>
                  </a:lnTo>
                  <a:lnTo>
                    <a:pt x="0" y="1778"/>
                  </a:lnTo>
                  <a:lnTo>
                    <a:pt x="1746" y="0"/>
                  </a:lnTo>
                  <a:lnTo>
                    <a:pt x="4175" y="0"/>
                  </a:lnTo>
                  <a:lnTo>
                    <a:pt x="5985" y="1778"/>
                  </a:lnTo>
                  <a:lnTo>
                    <a:pt x="5985" y="4175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60840" y="1779120"/>
              <a:ext cx="1819080" cy="1789200"/>
            </a:xfrm>
            <a:custGeom>
              <a:avLst/>
              <a:gdLst/>
              <a:ahLst/>
              <a:rect l="l" t="t" r="r" b="b"/>
              <a:pathLst>
                <a:path w="5733" h="5636">
                  <a:moveTo>
                    <a:pt x="5733" y="3987"/>
                  </a:moveTo>
                  <a:lnTo>
                    <a:pt x="5733" y="1684"/>
                  </a:lnTo>
                  <a:lnTo>
                    <a:pt x="4002" y="0"/>
                  </a:lnTo>
                  <a:lnTo>
                    <a:pt x="1669" y="0"/>
                  </a:lnTo>
                  <a:lnTo>
                    <a:pt x="0" y="1684"/>
                  </a:lnTo>
                  <a:lnTo>
                    <a:pt x="0" y="3987"/>
                  </a:lnTo>
                  <a:lnTo>
                    <a:pt x="1669" y="5636"/>
                  </a:lnTo>
                  <a:lnTo>
                    <a:pt x="4002" y="5636"/>
                  </a:lnTo>
                  <a:lnTo>
                    <a:pt x="5733" y="3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660840" y="1779120"/>
              <a:ext cx="1819080" cy="1789200"/>
            </a:xfrm>
            <a:custGeom>
              <a:avLst/>
              <a:gdLst/>
              <a:ahLst/>
              <a:rect l="l" t="t" r="r" b="b"/>
              <a:pathLst>
                <a:path w="5733" h="5636">
                  <a:moveTo>
                    <a:pt x="5733" y="3987"/>
                  </a:moveTo>
                  <a:lnTo>
                    <a:pt x="5733" y="1684"/>
                  </a:lnTo>
                  <a:lnTo>
                    <a:pt x="4002" y="0"/>
                  </a:lnTo>
                  <a:lnTo>
                    <a:pt x="1669" y="0"/>
                  </a:lnTo>
                  <a:lnTo>
                    <a:pt x="0" y="1684"/>
                  </a:lnTo>
                  <a:lnTo>
                    <a:pt x="0" y="3987"/>
                  </a:lnTo>
                  <a:lnTo>
                    <a:pt x="1669" y="5636"/>
                  </a:lnTo>
                  <a:lnTo>
                    <a:pt x="4002" y="5636"/>
                  </a:lnTo>
                  <a:lnTo>
                    <a:pt x="5733" y="398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716280" y="1839600"/>
              <a:ext cx="1708200" cy="1684440"/>
            </a:xfrm>
            <a:custGeom>
              <a:avLst/>
              <a:gdLst/>
              <a:ahLst/>
              <a:rect l="l" t="t" r="r" b="b"/>
              <a:pathLst>
                <a:path w="5382" h="5304">
                  <a:moveTo>
                    <a:pt x="3747" y="5287"/>
                  </a:moveTo>
                  <a:lnTo>
                    <a:pt x="1573" y="5304"/>
                  </a:lnTo>
                  <a:lnTo>
                    <a:pt x="0" y="3732"/>
                  </a:lnTo>
                  <a:lnTo>
                    <a:pt x="0" y="1588"/>
                  </a:lnTo>
                  <a:lnTo>
                    <a:pt x="1556" y="0"/>
                  </a:lnTo>
                  <a:lnTo>
                    <a:pt x="3747" y="0"/>
                  </a:lnTo>
                  <a:lnTo>
                    <a:pt x="5382" y="1588"/>
                  </a:lnTo>
                  <a:lnTo>
                    <a:pt x="5382" y="3747"/>
                  </a:lnTo>
                  <a:lnTo>
                    <a:pt x="3747" y="528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16280" y="1839600"/>
              <a:ext cx="1708200" cy="1684440"/>
            </a:xfrm>
            <a:custGeom>
              <a:avLst/>
              <a:gdLst/>
              <a:ahLst/>
              <a:rect l="l" t="t" r="r" b="b"/>
              <a:pathLst>
                <a:path w="5382" h="5304">
                  <a:moveTo>
                    <a:pt x="3747" y="5287"/>
                  </a:moveTo>
                  <a:lnTo>
                    <a:pt x="1573" y="5304"/>
                  </a:lnTo>
                  <a:lnTo>
                    <a:pt x="0" y="3732"/>
                  </a:lnTo>
                  <a:lnTo>
                    <a:pt x="0" y="1588"/>
                  </a:lnTo>
                  <a:lnTo>
                    <a:pt x="1556" y="0"/>
                  </a:lnTo>
                  <a:lnTo>
                    <a:pt x="3747" y="0"/>
                  </a:lnTo>
                  <a:lnTo>
                    <a:pt x="5382" y="1588"/>
                  </a:lnTo>
                  <a:lnTo>
                    <a:pt x="5382" y="3747"/>
                  </a:lnTo>
                  <a:lnTo>
                    <a:pt x="3747" y="5287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72080" y="2358720"/>
              <a:ext cx="361800" cy="635040"/>
            </a:xfrm>
            <a:custGeom>
              <a:avLst/>
              <a:gdLst/>
              <a:ahLst/>
              <a:rect l="l" t="t" r="r" b="b"/>
              <a:pathLst>
                <a:path w="1143" h="1999">
                  <a:moveTo>
                    <a:pt x="572" y="1999"/>
                  </a:moveTo>
                  <a:lnTo>
                    <a:pt x="525" y="1999"/>
                  </a:lnTo>
                  <a:lnTo>
                    <a:pt x="428" y="1999"/>
                  </a:lnTo>
                  <a:lnTo>
                    <a:pt x="350" y="1969"/>
                  </a:lnTo>
                  <a:lnTo>
                    <a:pt x="254" y="1921"/>
                  </a:lnTo>
                  <a:lnTo>
                    <a:pt x="190" y="1873"/>
                  </a:lnTo>
                  <a:lnTo>
                    <a:pt x="128" y="1793"/>
                  </a:lnTo>
                  <a:lnTo>
                    <a:pt x="64" y="1715"/>
                  </a:lnTo>
                  <a:lnTo>
                    <a:pt x="31" y="1635"/>
                  </a:lnTo>
                  <a:lnTo>
                    <a:pt x="0" y="1540"/>
                  </a:lnTo>
                  <a:lnTo>
                    <a:pt x="0" y="1445"/>
                  </a:lnTo>
                  <a:lnTo>
                    <a:pt x="17" y="1350"/>
                  </a:lnTo>
                  <a:lnTo>
                    <a:pt x="318" y="1350"/>
                  </a:lnTo>
                  <a:lnTo>
                    <a:pt x="287" y="1412"/>
                  </a:lnTo>
                  <a:lnTo>
                    <a:pt x="287" y="1492"/>
                  </a:lnTo>
                  <a:lnTo>
                    <a:pt x="302" y="1556"/>
                  </a:lnTo>
                  <a:lnTo>
                    <a:pt x="334" y="1620"/>
                  </a:lnTo>
                  <a:lnTo>
                    <a:pt x="381" y="1667"/>
                  </a:lnTo>
                  <a:lnTo>
                    <a:pt x="428" y="1699"/>
                  </a:lnTo>
                  <a:lnTo>
                    <a:pt x="492" y="1715"/>
                  </a:lnTo>
                  <a:lnTo>
                    <a:pt x="572" y="1729"/>
                  </a:lnTo>
                  <a:lnTo>
                    <a:pt x="636" y="1729"/>
                  </a:lnTo>
                  <a:lnTo>
                    <a:pt x="698" y="1715"/>
                  </a:lnTo>
                  <a:lnTo>
                    <a:pt x="762" y="1667"/>
                  </a:lnTo>
                  <a:lnTo>
                    <a:pt x="795" y="1620"/>
                  </a:lnTo>
                  <a:lnTo>
                    <a:pt x="826" y="1556"/>
                  </a:lnTo>
                  <a:lnTo>
                    <a:pt x="842" y="1492"/>
                  </a:lnTo>
                  <a:lnTo>
                    <a:pt x="842" y="1398"/>
                  </a:lnTo>
                  <a:lnTo>
                    <a:pt x="809" y="1301"/>
                  </a:lnTo>
                  <a:lnTo>
                    <a:pt x="748" y="1207"/>
                  </a:lnTo>
                  <a:lnTo>
                    <a:pt x="651" y="1128"/>
                  </a:lnTo>
                  <a:lnTo>
                    <a:pt x="556" y="1048"/>
                  </a:lnTo>
                  <a:lnTo>
                    <a:pt x="445" y="969"/>
                  </a:lnTo>
                  <a:lnTo>
                    <a:pt x="350" y="922"/>
                  </a:lnTo>
                  <a:lnTo>
                    <a:pt x="270" y="873"/>
                  </a:lnTo>
                  <a:lnTo>
                    <a:pt x="223" y="794"/>
                  </a:lnTo>
                  <a:lnTo>
                    <a:pt x="175" y="714"/>
                  </a:lnTo>
                  <a:lnTo>
                    <a:pt x="143" y="634"/>
                  </a:lnTo>
                  <a:lnTo>
                    <a:pt x="128" y="540"/>
                  </a:lnTo>
                  <a:lnTo>
                    <a:pt x="128" y="428"/>
                  </a:lnTo>
                  <a:lnTo>
                    <a:pt x="143" y="350"/>
                  </a:lnTo>
                  <a:lnTo>
                    <a:pt x="175" y="270"/>
                  </a:lnTo>
                  <a:lnTo>
                    <a:pt x="223" y="191"/>
                  </a:lnTo>
                  <a:lnTo>
                    <a:pt x="270" y="127"/>
                  </a:lnTo>
                  <a:lnTo>
                    <a:pt x="334" y="80"/>
                  </a:lnTo>
                  <a:lnTo>
                    <a:pt x="414" y="31"/>
                  </a:lnTo>
                  <a:lnTo>
                    <a:pt x="492" y="16"/>
                  </a:lnTo>
                  <a:lnTo>
                    <a:pt x="604" y="0"/>
                  </a:lnTo>
                  <a:lnTo>
                    <a:pt x="698" y="16"/>
                  </a:lnTo>
                  <a:lnTo>
                    <a:pt x="779" y="31"/>
                  </a:lnTo>
                  <a:lnTo>
                    <a:pt x="859" y="63"/>
                  </a:lnTo>
                  <a:lnTo>
                    <a:pt x="938" y="111"/>
                  </a:lnTo>
                  <a:lnTo>
                    <a:pt x="1001" y="174"/>
                  </a:lnTo>
                  <a:lnTo>
                    <a:pt x="1049" y="270"/>
                  </a:lnTo>
                  <a:lnTo>
                    <a:pt x="1096" y="333"/>
                  </a:lnTo>
                  <a:lnTo>
                    <a:pt x="1112" y="428"/>
                  </a:lnTo>
                  <a:lnTo>
                    <a:pt x="1112" y="523"/>
                  </a:lnTo>
                  <a:lnTo>
                    <a:pt x="826" y="523"/>
                  </a:lnTo>
                  <a:lnTo>
                    <a:pt x="826" y="461"/>
                  </a:lnTo>
                  <a:lnTo>
                    <a:pt x="809" y="397"/>
                  </a:lnTo>
                  <a:lnTo>
                    <a:pt x="795" y="364"/>
                  </a:lnTo>
                  <a:lnTo>
                    <a:pt x="748" y="317"/>
                  </a:lnTo>
                  <a:lnTo>
                    <a:pt x="698" y="300"/>
                  </a:lnTo>
                  <a:lnTo>
                    <a:pt x="636" y="286"/>
                  </a:lnTo>
                  <a:lnTo>
                    <a:pt x="572" y="286"/>
                  </a:lnTo>
                  <a:lnTo>
                    <a:pt x="525" y="300"/>
                  </a:lnTo>
                  <a:lnTo>
                    <a:pt x="461" y="350"/>
                  </a:lnTo>
                  <a:lnTo>
                    <a:pt x="414" y="397"/>
                  </a:lnTo>
                  <a:lnTo>
                    <a:pt x="414" y="461"/>
                  </a:lnTo>
                  <a:lnTo>
                    <a:pt x="414" y="508"/>
                  </a:lnTo>
                  <a:lnTo>
                    <a:pt x="428" y="570"/>
                  </a:lnTo>
                  <a:lnTo>
                    <a:pt x="461" y="620"/>
                  </a:lnTo>
                  <a:lnTo>
                    <a:pt x="492" y="667"/>
                  </a:lnTo>
                  <a:lnTo>
                    <a:pt x="540" y="698"/>
                  </a:lnTo>
                  <a:lnTo>
                    <a:pt x="619" y="746"/>
                  </a:lnTo>
                  <a:lnTo>
                    <a:pt x="762" y="841"/>
                  </a:lnTo>
                  <a:lnTo>
                    <a:pt x="921" y="969"/>
                  </a:lnTo>
                  <a:lnTo>
                    <a:pt x="1017" y="1048"/>
                  </a:lnTo>
                  <a:lnTo>
                    <a:pt x="1079" y="1142"/>
                  </a:lnTo>
                  <a:lnTo>
                    <a:pt x="1112" y="1239"/>
                  </a:lnTo>
                  <a:lnTo>
                    <a:pt x="1143" y="1334"/>
                  </a:lnTo>
                  <a:lnTo>
                    <a:pt x="1143" y="1445"/>
                  </a:lnTo>
                  <a:lnTo>
                    <a:pt x="1129" y="1540"/>
                  </a:lnTo>
                  <a:lnTo>
                    <a:pt x="1112" y="1635"/>
                  </a:lnTo>
                  <a:lnTo>
                    <a:pt x="1079" y="1729"/>
                  </a:lnTo>
                  <a:lnTo>
                    <a:pt x="1017" y="1810"/>
                  </a:lnTo>
                  <a:lnTo>
                    <a:pt x="953" y="1873"/>
                  </a:lnTo>
                  <a:lnTo>
                    <a:pt x="889" y="1921"/>
                  </a:lnTo>
                  <a:lnTo>
                    <a:pt x="809" y="1969"/>
                  </a:lnTo>
                  <a:lnTo>
                    <a:pt x="715" y="1999"/>
                  </a:lnTo>
                  <a:lnTo>
                    <a:pt x="572" y="19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72080" y="2358720"/>
              <a:ext cx="361800" cy="635040"/>
            </a:xfrm>
            <a:custGeom>
              <a:avLst/>
              <a:gdLst/>
              <a:ahLst/>
              <a:rect l="l" t="t" r="r" b="b"/>
              <a:pathLst>
                <a:path w="1143" h="1999">
                  <a:moveTo>
                    <a:pt x="572" y="1999"/>
                  </a:moveTo>
                  <a:lnTo>
                    <a:pt x="525" y="1999"/>
                  </a:lnTo>
                  <a:lnTo>
                    <a:pt x="428" y="1999"/>
                  </a:lnTo>
                  <a:lnTo>
                    <a:pt x="350" y="1969"/>
                  </a:lnTo>
                  <a:lnTo>
                    <a:pt x="254" y="1921"/>
                  </a:lnTo>
                  <a:lnTo>
                    <a:pt x="190" y="1873"/>
                  </a:lnTo>
                  <a:lnTo>
                    <a:pt x="128" y="1793"/>
                  </a:lnTo>
                  <a:lnTo>
                    <a:pt x="64" y="1715"/>
                  </a:lnTo>
                  <a:lnTo>
                    <a:pt x="31" y="1635"/>
                  </a:lnTo>
                  <a:lnTo>
                    <a:pt x="0" y="1540"/>
                  </a:lnTo>
                  <a:lnTo>
                    <a:pt x="0" y="1445"/>
                  </a:lnTo>
                  <a:lnTo>
                    <a:pt x="17" y="1350"/>
                  </a:lnTo>
                  <a:lnTo>
                    <a:pt x="318" y="1350"/>
                  </a:lnTo>
                  <a:lnTo>
                    <a:pt x="287" y="1412"/>
                  </a:lnTo>
                  <a:lnTo>
                    <a:pt x="287" y="1492"/>
                  </a:lnTo>
                  <a:lnTo>
                    <a:pt x="302" y="1556"/>
                  </a:lnTo>
                  <a:lnTo>
                    <a:pt x="334" y="1620"/>
                  </a:lnTo>
                  <a:lnTo>
                    <a:pt x="381" y="1667"/>
                  </a:lnTo>
                  <a:lnTo>
                    <a:pt x="428" y="1699"/>
                  </a:lnTo>
                  <a:lnTo>
                    <a:pt x="492" y="1715"/>
                  </a:lnTo>
                  <a:lnTo>
                    <a:pt x="572" y="1729"/>
                  </a:lnTo>
                  <a:lnTo>
                    <a:pt x="636" y="1729"/>
                  </a:lnTo>
                  <a:lnTo>
                    <a:pt x="698" y="1715"/>
                  </a:lnTo>
                  <a:lnTo>
                    <a:pt x="762" y="1667"/>
                  </a:lnTo>
                  <a:lnTo>
                    <a:pt x="795" y="1620"/>
                  </a:lnTo>
                  <a:lnTo>
                    <a:pt x="826" y="1556"/>
                  </a:lnTo>
                  <a:lnTo>
                    <a:pt x="842" y="1492"/>
                  </a:lnTo>
                  <a:lnTo>
                    <a:pt x="842" y="1398"/>
                  </a:lnTo>
                  <a:lnTo>
                    <a:pt x="809" y="1301"/>
                  </a:lnTo>
                  <a:lnTo>
                    <a:pt x="748" y="1207"/>
                  </a:lnTo>
                  <a:lnTo>
                    <a:pt x="651" y="1128"/>
                  </a:lnTo>
                  <a:lnTo>
                    <a:pt x="556" y="1048"/>
                  </a:lnTo>
                  <a:lnTo>
                    <a:pt x="445" y="969"/>
                  </a:lnTo>
                  <a:lnTo>
                    <a:pt x="350" y="922"/>
                  </a:lnTo>
                  <a:lnTo>
                    <a:pt x="270" y="873"/>
                  </a:lnTo>
                  <a:lnTo>
                    <a:pt x="223" y="794"/>
                  </a:lnTo>
                  <a:lnTo>
                    <a:pt x="175" y="714"/>
                  </a:lnTo>
                  <a:lnTo>
                    <a:pt x="143" y="634"/>
                  </a:lnTo>
                  <a:lnTo>
                    <a:pt x="128" y="540"/>
                  </a:lnTo>
                  <a:lnTo>
                    <a:pt x="128" y="428"/>
                  </a:lnTo>
                  <a:lnTo>
                    <a:pt x="143" y="350"/>
                  </a:lnTo>
                  <a:lnTo>
                    <a:pt x="175" y="270"/>
                  </a:lnTo>
                  <a:lnTo>
                    <a:pt x="223" y="191"/>
                  </a:lnTo>
                  <a:lnTo>
                    <a:pt x="270" y="127"/>
                  </a:lnTo>
                  <a:lnTo>
                    <a:pt x="334" y="80"/>
                  </a:lnTo>
                  <a:lnTo>
                    <a:pt x="414" y="31"/>
                  </a:lnTo>
                  <a:lnTo>
                    <a:pt x="492" y="16"/>
                  </a:lnTo>
                  <a:lnTo>
                    <a:pt x="604" y="0"/>
                  </a:lnTo>
                  <a:lnTo>
                    <a:pt x="698" y="16"/>
                  </a:lnTo>
                  <a:lnTo>
                    <a:pt x="779" y="31"/>
                  </a:lnTo>
                  <a:lnTo>
                    <a:pt x="859" y="63"/>
                  </a:lnTo>
                  <a:lnTo>
                    <a:pt x="938" y="111"/>
                  </a:lnTo>
                  <a:lnTo>
                    <a:pt x="1001" y="174"/>
                  </a:lnTo>
                  <a:lnTo>
                    <a:pt x="1049" y="270"/>
                  </a:lnTo>
                  <a:lnTo>
                    <a:pt x="1096" y="333"/>
                  </a:lnTo>
                  <a:lnTo>
                    <a:pt x="1112" y="428"/>
                  </a:lnTo>
                  <a:lnTo>
                    <a:pt x="1112" y="523"/>
                  </a:lnTo>
                  <a:lnTo>
                    <a:pt x="826" y="523"/>
                  </a:lnTo>
                  <a:lnTo>
                    <a:pt x="826" y="461"/>
                  </a:lnTo>
                  <a:lnTo>
                    <a:pt x="809" y="397"/>
                  </a:lnTo>
                  <a:lnTo>
                    <a:pt x="795" y="364"/>
                  </a:lnTo>
                  <a:lnTo>
                    <a:pt x="748" y="317"/>
                  </a:lnTo>
                  <a:lnTo>
                    <a:pt x="698" y="300"/>
                  </a:lnTo>
                  <a:lnTo>
                    <a:pt x="636" y="286"/>
                  </a:lnTo>
                  <a:lnTo>
                    <a:pt x="572" y="286"/>
                  </a:lnTo>
                  <a:lnTo>
                    <a:pt x="525" y="300"/>
                  </a:lnTo>
                  <a:lnTo>
                    <a:pt x="461" y="350"/>
                  </a:lnTo>
                  <a:lnTo>
                    <a:pt x="414" y="397"/>
                  </a:lnTo>
                  <a:lnTo>
                    <a:pt x="414" y="461"/>
                  </a:lnTo>
                  <a:lnTo>
                    <a:pt x="414" y="508"/>
                  </a:lnTo>
                  <a:lnTo>
                    <a:pt x="428" y="570"/>
                  </a:lnTo>
                  <a:lnTo>
                    <a:pt x="461" y="620"/>
                  </a:lnTo>
                  <a:lnTo>
                    <a:pt x="492" y="667"/>
                  </a:lnTo>
                  <a:lnTo>
                    <a:pt x="540" y="698"/>
                  </a:lnTo>
                  <a:lnTo>
                    <a:pt x="619" y="746"/>
                  </a:lnTo>
                  <a:lnTo>
                    <a:pt x="762" y="841"/>
                  </a:lnTo>
                  <a:lnTo>
                    <a:pt x="921" y="969"/>
                  </a:lnTo>
                  <a:lnTo>
                    <a:pt x="1017" y="1048"/>
                  </a:lnTo>
                  <a:lnTo>
                    <a:pt x="1079" y="1142"/>
                  </a:lnTo>
                  <a:lnTo>
                    <a:pt x="1112" y="1239"/>
                  </a:lnTo>
                  <a:lnTo>
                    <a:pt x="1143" y="1334"/>
                  </a:lnTo>
                  <a:lnTo>
                    <a:pt x="1143" y="1445"/>
                  </a:lnTo>
                  <a:lnTo>
                    <a:pt x="1129" y="1540"/>
                  </a:lnTo>
                  <a:lnTo>
                    <a:pt x="1112" y="1635"/>
                  </a:lnTo>
                  <a:lnTo>
                    <a:pt x="1079" y="1729"/>
                  </a:lnTo>
                  <a:lnTo>
                    <a:pt x="1017" y="1810"/>
                  </a:lnTo>
                  <a:lnTo>
                    <a:pt x="953" y="1873"/>
                  </a:lnTo>
                  <a:lnTo>
                    <a:pt x="889" y="1921"/>
                  </a:lnTo>
                  <a:lnTo>
                    <a:pt x="809" y="1969"/>
                  </a:lnTo>
                  <a:lnTo>
                    <a:pt x="715" y="1999"/>
                  </a:lnTo>
                  <a:lnTo>
                    <a:pt x="572" y="199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219560" y="2363400"/>
              <a:ext cx="298440" cy="635040"/>
            </a:xfrm>
            <a:custGeom>
              <a:avLst/>
              <a:gdLst/>
              <a:ahLst/>
              <a:rect l="l" t="t" r="r" b="b"/>
              <a:pathLst>
                <a:path w="937" h="2000">
                  <a:moveTo>
                    <a:pt x="317" y="2000"/>
                  </a:moveTo>
                  <a:lnTo>
                    <a:pt x="317" y="334"/>
                  </a:lnTo>
                  <a:lnTo>
                    <a:pt x="0" y="334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37" y="334"/>
                  </a:lnTo>
                  <a:lnTo>
                    <a:pt x="587" y="334"/>
                  </a:lnTo>
                  <a:lnTo>
                    <a:pt x="587" y="2000"/>
                  </a:lnTo>
                  <a:lnTo>
                    <a:pt x="317" y="20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219560" y="2363400"/>
              <a:ext cx="298440" cy="635040"/>
            </a:xfrm>
            <a:custGeom>
              <a:avLst/>
              <a:gdLst/>
              <a:ahLst/>
              <a:rect l="l" t="t" r="r" b="b"/>
              <a:pathLst>
                <a:path w="937" h="2000">
                  <a:moveTo>
                    <a:pt x="317" y="2000"/>
                  </a:moveTo>
                  <a:lnTo>
                    <a:pt x="317" y="334"/>
                  </a:lnTo>
                  <a:lnTo>
                    <a:pt x="0" y="334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37" y="334"/>
                  </a:lnTo>
                  <a:lnTo>
                    <a:pt x="587" y="334"/>
                  </a:lnTo>
                  <a:lnTo>
                    <a:pt x="587" y="2000"/>
                  </a:lnTo>
                  <a:lnTo>
                    <a:pt x="317" y="200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83160" y="2363400"/>
              <a:ext cx="382680" cy="630360"/>
            </a:xfrm>
            <a:custGeom>
              <a:avLst/>
              <a:gdLst/>
              <a:ahLst/>
              <a:rect l="l" t="t" r="r" b="b"/>
              <a:pathLst>
                <a:path w="1205" h="1983">
                  <a:moveTo>
                    <a:pt x="523" y="1983"/>
                  </a:moveTo>
                  <a:lnTo>
                    <a:pt x="443" y="1953"/>
                  </a:lnTo>
                  <a:lnTo>
                    <a:pt x="379" y="1921"/>
                  </a:lnTo>
                  <a:lnTo>
                    <a:pt x="300" y="1857"/>
                  </a:lnTo>
                  <a:lnTo>
                    <a:pt x="220" y="1810"/>
                  </a:lnTo>
                  <a:lnTo>
                    <a:pt x="173" y="1730"/>
                  </a:lnTo>
                  <a:lnTo>
                    <a:pt x="94" y="1604"/>
                  </a:lnTo>
                  <a:lnTo>
                    <a:pt x="47" y="1460"/>
                  </a:lnTo>
                  <a:lnTo>
                    <a:pt x="14" y="1302"/>
                  </a:lnTo>
                  <a:lnTo>
                    <a:pt x="0" y="1143"/>
                  </a:lnTo>
                  <a:lnTo>
                    <a:pt x="0" y="985"/>
                  </a:lnTo>
                  <a:lnTo>
                    <a:pt x="0" y="825"/>
                  </a:lnTo>
                  <a:lnTo>
                    <a:pt x="30" y="666"/>
                  </a:lnTo>
                  <a:lnTo>
                    <a:pt x="62" y="507"/>
                  </a:lnTo>
                  <a:lnTo>
                    <a:pt x="126" y="365"/>
                  </a:lnTo>
                  <a:lnTo>
                    <a:pt x="190" y="254"/>
                  </a:lnTo>
                  <a:lnTo>
                    <a:pt x="253" y="175"/>
                  </a:lnTo>
                  <a:lnTo>
                    <a:pt x="300" y="111"/>
                  </a:lnTo>
                  <a:lnTo>
                    <a:pt x="379" y="64"/>
                  </a:lnTo>
                  <a:lnTo>
                    <a:pt x="443" y="31"/>
                  </a:lnTo>
                  <a:lnTo>
                    <a:pt x="507" y="0"/>
                  </a:lnTo>
                  <a:lnTo>
                    <a:pt x="587" y="0"/>
                  </a:lnTo>
                  <a:lnTo>
                    <a:pt x="665" y="0"/>
                  </a:lnTo>
                  <a:lnTo>
                    <a:pt x="745" y="31"/>
                  </a:lnTo>
                  <a:lnTo>
                    <a:pt x="824" y="64"/>
                  </a:lnTo>
                  <a:lnTo>
                    <a:pt x="888" y="111"/>
                  </a:lnTo>
                  <a:lnTo>
                    <a:pt x="951" y="175"/>
                  </a:lnTo>
                  <a:lnTo>
                    <a:pt x="1015" y="254"/>
                  </a:lnTo>
                  <a:lnTo>
                    <a:pt x="1079" y="365"/>
                  </a:lnTo>
                  <a:lnTo>
                    <a:pt x="1126" y="507"/>
                  </a:lnTo>
                  <a:lnTo>
                    <a:pt x="1158" y="666"/>
                  </a:lnTo>
                  <a:lnTo>
                    <a:pt x="1188" y="825"/>
                  </a:lnTo>
                  <a:lnTo>
                    <a:pt x="1205" y="985"/>
                  </a:lnTo>
                  <a:lnTo>
                    <a:pt x="1188" y="1143"/>
                  </a:lnTo>
                  <a:lnTo>
                    <a:pt x="1174" y="1302"/>
                  </a:lnTo>
                  <a:lnTo>
                    <a:pt x="1141" y="1460"/>
                  </a:lnTo>
                  <a:lnTo>
                    <a:pt x="1094" y="1604"/>
                  </a:lnTo>
                  <a:lnTo>
                    <a:pt x="1015" y="1730"/>
                  </a:lnTo>
                  <a:lnTo>
                    <a:pt x="968" y="1810"/>
                  </a:lnTo>
                  <a:lnTo>
                    <a:pt x="888" y="1857"/>
                  </a:lnTo>
                  <a:lnTo>
                    <a:pt x="824" y="1921"/>
                  </a:lnTo>
                  <a:lnTo>
                    <a:pt x="745" y="1953"/>
                  </a:lnTo>
                  <a:lnTo>
                    <a:pt x="665" y="1983"/>
                  </a:lnTo>
                  <a:lnTo>
                    <a:pt x="587" y="1983"/>
                  </a:lnTo>
                  <a:lnTo>
                    <a:pt x="523" y="19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83160" y="2363400"/>
              <a:ext cx="382680" cy="630360"/>
            </a:xfrm>
            <a:custGeom>
              <a:avLst/>
              <a:gdLst/>
              <a:ahLst/>
              <a:rect l="l" t="t" r="r" b="b"/>
              <a:pathLst>
                <a:path w="1205" h="1983">
                  <a:moveTo>
                    <a:pt x="523" y="1983"/>
                  </a:moveTo>
                  <a:lnTo>
                    <a:pt x="443" y="1953"/>
                  </a:lnTo>
                  <a:lnTo>
                    <a:pt x="379" y="1921"/>
                  </a:lnTo>
                  <a:lnTo>
                    <a:pt x="300" y="1857"/>
                  </a:lnTo>
                  <a:lnTo>
                    <a:pt x="220" y="1810"/>
                  </a:lnTo>
                  <a:lnTo>
                    <a:pt x="173" y="1730"/>
                  </a:lnTo>
                  <a:lnTo>
                    <a:pt x="94" y="1604"/>
                  </a:lnTo>
                  <a:lnTo>
                    <a:pt x="47" y="1460"/>
                  </a:lnTo>
                  <a:lnTo>
                    <a:pt x="14" y="1302"/>
                  </a:lnTo>
                  <a:lnTo>
                    <a:pt x="0" y="1143"/>
                  </a:lnTo>
                  <a:lnTo>
                    <a:pt x="0" y="985"/>
                  </a:lnTo>
                  <a:lnTo>
                    <a:pt x="0" y="825"/>
                  </a:lnTo>
                  <a:lnTo>
                    <a:pt x="30" y="666"/>
                  </a:lnTo>
                  <a:lnTo>
                    <a:pt x="62" y="507"/>
                  </a:lnTo>
                  <a:lnTo>
                    <a:pt x="126" y="365"/>
                  </a:lnTo>
                  <a:lnTo>
                    <a:pt x="190" y="254"/>
                  </a:lnTo>
                  <a:lnTo>
                    <a:pt x="253" y="175"/>
                  </a:lnTo>
                  <a:lnTo>
                    <a:pt x="300" y="111"/>
                  </a:lnTo>
                  <a:lnTo>
                    <a:pt x="379" y="64"/>
                  </a:lnTo>
                  <a:lnTo>
                    <a:pt x="443" y="31"/>
                  </a:lnTo>
                  <a:lnTo>
                    <a:pt x="507" y="0"/>
                  </a:lnTo>
                  <a:lnTo>
                    <a:pt x="587" y="0"/>
                  </a:lnTo>
                  <a:lnTo>
                    <a:pt x="665" y="0"/>
                  </a:lnTo>
                  <a:lnTo>
                    <a:pt x="745" y="31"/>
                  </a:lnTo>
                  <a:lnTo>
                    <a:pt x="824" y="64"/>
                  </a:lnTo>
                  <a:lnTo>
                    <a:pt x="888" y="111"/>
                  </a:lnTo>
                  <a:lnTo>
                    <a:pt x="951" y="175"/>
                  </a:lnTo>
                  <a:lnTo>
                    <a:pt x="1015" y="254"/>
                  </a:lnTo>
                  <a:lnTo>
                    <a:pt x="1079" y="365"/>
                  </a:lnTo>
                  <a:lnTo>
                    <a:pt x="1126" y="507"/>
                  </a:lnTo>
                  <a:lnTo>
                    <a:pt x="1158" y="666"/>
                  </a:lnTo>
                  <a:lnTo>
                    <a:pt x="1188" y="825"/>
                  </a:lnTo>
                  <a:lnTo>
                    <a:pt x="1205" y="985"/>
                  </a:lnTo>
                  <a:lnTo>
                    <a:pt x="1188" y="1143"/>
                  </a:lnTo>
                  <a:lnTo>
                    <a:pt x="1174" y="1302"/>
                  </a:lnTo>
                  <a:lnTo>
                    <a:pt x="1141" y="1460"/>
                  </a:lnTo>
                  <a:lnTo>
                    <a:pt x="1094" y="1604"/>
                  </a:lnTo>
                  <a:lnTo>
                    <a:pt x="1015" y="1730"/>
                  </a:lnTo>
                  <a:lnTo>
                    <a:pt x="968" y="1810"/>
                  </a:lnTo>
                  <a:lnTo>
                    <a:pt x="888" y="1857"/>
                  </a:lnTo>
                  <a:lnTo>
                    <a:pt x="824" y="1921"/>
                  </a:lnTo>
                  <a:lnTo>
                    <a:pt x="745" y="1953"/>
                  </a:lnTo>
                  <a:lnTo>
                    <a:pt x="665" y="1983"/>
                  </a:lnTo>
                  <a:lnTo>
                    <a:pt x="587" y="1983"/>
                  </a:lnTo>
                  <a:lnTo>
                    <a:pt x="523" y="198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684680" y="2454120"/>
              <a:ext cx="174600" cy="453960"/>
            </a:xfrm>
            <a:custGeom>
              <a:avLst/>
              <a:gdLst/>
              <a:ahLst/>
              <a:rect l="l" t="t" r="r" b="b"/>
              <a:pathLst>
                <a:path w="554" h="1429">
                  <a:moveTo>
                    <a:pt x="270" y="0"/>
                  </a:moveTo>
                  <a:lnTo>
                    <a:pt x="348" y="17"/>
                  </a:lnTo>
                  <a:lnTo>
                    <a:pt x="396" y="64"/>
                  </a:lnTo>
                  <a:lnTo>
                    <a:pt x="443" y="112"/>
                  </a:lnTo>
                  <a:lnTo>
                    <a:pt x="492" y="176"/>
                  </a:lnTo>
                  <a:lnTo>
                    <a:pt x="507" y="240"/>
                  </a:lnTo>
                  <a:lnTo>
                    <a:pt x="539" y="431"/>
                  </a:lnTo>
                  <a:lnTo>
                    <a:pt x="554" y="622"/>
                  </a:lnTo>
                  <a:lnTo>
                    <a:pt x="554" y="811"/>
                  </a:lnTo>
                  <a:lnTo>
                    <a:pt x="539" y="1001"/>
                  </a:lnTo>
                  <a:lnTo>
                    <a:pt x="507" y="1192"/>
                  </a:lnTo>
                  <a:lnTo>
                    <a:pt x="475" y="1271"/>
                  </a:lnTo>
                  <a:lnTo>
                    <a:pt x="443" y="1335"/>
                  </a:lnTo>
                  <a:lnTo>
                    <a:pt x="396" y="1382"/>
                  </a:lnTo>
                  <a:lnTo>
                    <a:pt x="332" y="1415"/>
                  </a:lnTo>
                  <a:lnTo>
                    <a:pt x="270" y="1429"/>
                  </a:lnTo>
                  <a:lnTo>
                    <a:pt x="222" y="1415"/>
                  </a:lnTo>
                  <a:lnTo>
                    <a:pt x="158" y="1382"/>
                  </a:lnTo>
                  <a:lnTo>
                    <a:pt x="111" y="1335"/>
                  </a:lnTo>
                  <a:lnTo>
                    <a:pt x="62" y="1271"/>
                  </a:lnTo>
                  <a:lnTo>
                    <a:pt x="47" y="1192"/>
                  </a:lnTo>
                  <a:lnTo>
                    <a:pt x="14" y="1001"/>
                  </a:lnTo>
                  <a:lnTo>
                    <a:pt x="0" y="811"/>
                  </a:lnTo>
                  <a:lnTo>
                    <a:pt x="0" y="622"/>
                  </a:lnTo>
                  <a:lnTo>
                    <a:pt x="14" y="431"/>
                  </a:lnTo>
                  <a:lnTo>
                    <a:pt x="47" y="240"/>
                  </a:lnTo>
                  <a:lnTo>
                    <a:pt x="62" y="176"/>
                  </a:lnTo>
                  <a:lnTo>
                    <a:pt x="111" y="112"/>
                  </a:lnTo>
                  <a:lnTo>
                    <a:pt x="158" y="64"/>
                  </a:lnTo>
                  <a:lnTo>
                    <a:pt x="206" y="17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84680" y="2454120"/>
              <a:ext cx="174600" cy="453960"/>
            </a:xfrm>
            <a:custGeom>
              <a:avLst/>
              <a:gdLst/>
              <a:ahLst/>
              <a:rect l="l" t="t" r="r" b="b"/>
              <a:pathLst>
                <a:path w="554" h="1429">
                  <a:moveTo>
                    <a:pt x="270" y="0"/>
                  </a:moveTo>
                  <a:lnTo>
                    <a:pt x="348" y="17"/>
                  </a:lnTo>
                  <a:lnTo>
                    <a:pt x="396" y="64"/>
                  </a:lnTo>
                  <a:lnTo>
                    <a:pt x="443" y="112"/>
                  </a:lnTo>
                  <a:lnTo>
                    <a:pt x="492" y="176"/>
                  </a:lnTo>
                  <a:lnTo>
                    <a:pt x="507" y="240"/>
                  </a:lnTo>
                  <a:lnTo>
                    <a:pt x="539" y="431"/>
                  </a:lnTo>
                  <a:lnTo>
                    <a:pt x="554" y="622"/>
                  </a:lnTo>
                  <a:lnTo>
                    <a:pt x="554" y="811"/>
                  </a:lnTo>
                  <a:lnTo>
                    <a:pt x="539" y="1001"/>
                  </a:lnTo>
                  <a:lnTo>
                    <a:pt x="507" y="1192"/>
                  </a:lnTo>
                  <a:lnTo>
                    <a:pt x="475" y="1271"/>
                  </a:lnTo>
                  <a:lnTo>
                    <a:pt x="443" y="1335"/>
                  </a:lnTo>
                  <a:lnTo>
                    <a:pt x="396" y="1382"/>
                  </a:lnTo>
                  <a:lnTo>
                    <a:pt x="332" y="1415"/>
                  </a:lnTo>
                  <a:lnTo>
                    <a:pt x="270" y="1429"/>
                  </a:lnTo>
                  <a:lnTo>
                    <a:pt x="222" y="1415"/>
                  </a:lnTo>
                  <a:lnTo>
                    <a:pt x="158" y="1382"/>
                  </a:lnTo>
                  <a:lnTo>
                    <a:pt x="111" y="1335"/>
                  </a:lnTo>
                  <a:lnTo>
                    <a:pt x="62" y="1271"/>
                  </a:lnTo>
                  <a:lnTo>
                    <a:pt x="47" y="1192"/>
                  </a:lnTo>
                  <a:lnTo>
                    <a:pt x="14" y="1001"/>
                  </a:lnTo>
                  <a:lnTo>
                    <a:pt x="0" y="811"/>
                  </a:lnTo>
                  <a:lnTo>
                    <a:pt x="0" y="622"/>
                  </a:lnTo>
                  <a:lnTo>
                    <a:pt x="14" y="431"/>
                  </a:lnTo>
                  <a:lnTo>
                    <a:pt x="47" y="240"/>
                  </a:lnTo>
                  <a:lnTo>
                    <a:pt x="62" y="176"/>
                  </a:lnTo>
                  <a:lnTo>
                    <a:pt x="111" y="112"/>
                  </a:lnTo>
                  <a:lnTo>
                    <a:pt x="158" y="64"/>
                  </a:lnTo>
                  <a:lnTo>
                    <a:pt x="206" y="17"/>
                  </a:lnTo>
                  <a:lnTo>
                    <a:pt x="270" y="0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7120" y="2374560"/>
              <a:ext cx="352440" cy="614520"/>
            </a:xfrm>
            <a:custGeom>
              <a:avLst/>
              <a:gdLst/>
              <a:ahLst/>
              <a:rect l="l" t="t" r="r" b="b"/>
              <a:pathLst>
                <a:path w="1111" h="1938">
                  <a:moveTo>
                    <a:pt x="0" y="0"/>
                  </a:moveTo>
                  <a:lnTo>
                    <a:pt x="0" y="1938"/>
                  </a:lnTo>
                  <a:lnTo>
                    <a:pt x="300" y="1938"/>
                  </a:lnTo>
                  <a:lnTo>
                    <a:pt x="300" y="1095"/>
                  </a:lnTo>
                  <a:lnTo>
                    <a:pt x="666" y="1095"/>
                  </a:lnTo>
                  <a:lnTo>
                    <a:pt x="746" y="1095"/>
                  </a:lnTo>
                  <a:lnTo>
                    <a:pt x="825" y="1064"/>
                  </a:lnTo>
                  <a:lnTo>
                    <a:pt x="889" y="1034"/>
                  </a:lnTo>
                  <a:lnTo>
                    <a:pt x="936" y="984"/>
                  </a:lnTo>
                  <a:lnTo>
                    <a:pt x="983" y="937"/>
                  </a:lnTo>
                  <a:lnTo>
                    <a:pt x="1031" y="858"/>
                  </a:lnTo>
                  <a:lnTo>
                    <a:pt x="1080" y="763"/>
                  </a:lnTo>
                  <a:lnTo>
                    <a:pt x="1095" y="684"/>
                  </a:lnTo>
                  <a:lnTo>
                    <a:pt x="1111" y="587"/>
                  </a:lnTo>
                  <a:lnTo>
                    <a:pt x="1095" y="540"/>
                  </a:lnTo>
                  <a:lnTo>
                    <a:pt x="1111" y="509"/>
                  </a:lnTo>
                  <a:lnTo>
                    <a:pt x="1095" y="414"/>
                  </a:lnTo>
                  <a:lnTo>
                    <a:pt x="1080" y="317"/>
                  </a:lnTo>
                  <a:lnTo>
                    <a:pt x="1031" y="239"/>
                  </a:lnTo>
                  <a:lnTo>
                    <a:pt x="983" y="159"/>
                  </a:lnTo>
                  <a:lnTo>
                    <a:pt x="936" y="112"/>
                  </a:lnTo>
                  <a:lnTo>
                    <a:pt x="889" y="64"/>
                  </a:lnTo>
                  <a:lnTo>
                    <a:pt x="825" y="33"/>
                  </a:lnTo>
                  <a:lnTo>
                    <a:pt x="7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7120" y="2374560"/>
              <a:ext cx="352440" cy="614520"/>
            </a:xfrm>
            <a:custGeom>
              <a:avLst/>
              <a:gdLst/>
              <a:ahLst/>
              <a:rect l="l" t="t" r="r" b="b"/>
              <a:pathLst>
                <a:path w="1111" h="1938">
                  <a:moveTo>
                    <a:pt x="0" y="0"/>
                  </a:moveTo>
                  <a:lnTo>
                    <a:pt x="0" y="1938"/>
                  </a:lnTo>
                  <a:lnTo>
                    <a:pt x="300" y="1938"/>
                  </a:lnTo>
                  <a:lnTo>
                    <a:pt x="300" y="1095"/>
                  </a:lnTo>
                  <a:lnTo>
                    <a:pt x="666" y="1095"/>
                  </a:lnTo>
                  <a:lnTo>
                    <a:pt x="746" y="1095"/>
                  </a:lnTo>
                  <a:lnTo>
                    <a:pt x="825" y="1064"/>
                  </a:lnTo>
                  <a:lnTo>
                    <a:pt x="889" y="1034"/>
                  </a:lnTo>
                  <a:lnTo>
                    <a:pt x="936" y="984"/>
                  </a:lnTo>
                  <a:lnTo>
                    <a:pt x="983" y="937"/>
                  </a:lnTo>
                  <a:lnTo>
                    <a:pt x="1031" y="858"/>
                  </a:lnTo>
                  <a:lnTo>
                    <a:pt x="1080" y="763"/>
                  </a:lnTo>
                  <a:lnTo>
                    <a:pt x="1095" y="684"/>
                  </a:lnTo>
                  <a:lnTo>
                    <a:pt x="1111" y="587"/>
                  </a:lnTo>
                  <a:lnTo>
                    <a:pt x="1095" y="540"/>
                  </a:lnTo>
                  <a:lnTo>
                    <a:pt x="1111" y="509"/>
                  </a:lnTo>
                  <a:lnTo>
                    <a:pt x="1095" y="414"/>
                  </a:lnTo>
                  <a:lnTo>
                    <a:pt x="1080" y="317"/>
                  </a:lnTo>
                  <a:lnTo>
                    <a:pt x="1031" y="239"/>
                  </a:lnTo>
                  <a:lnTo>
                    <a:pt x="983" y="159"/>
                  </a:lnTo>
                  <a:lnTo>
                    <a:pt x="936" y="112"/>
                  </a:lnTo>
                  <a:lnTo>
                    <a:pt x="889" y="64"/>
                  </a:lnTo>
                  <a:lnTo>
                    <a:pt x="825" y="33"/>
                  </a:lnTo>
                  <a:lnTo>
                    <a:pt x="73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32520" y="2464920"/>
              <a:ext cx="166680" cy="160560"/>
            </a:xfrm>
            <a:custGeom>
              <a:avLst/>
              <a:gdLst/>
              <a:ahLst/>
              <a:rect l="l" t="t" r="r" b="b"/>
              <a:pathLst>
                <a:path w="525" h="508">
                  <a:moveTo>
                    <a:pt x="319" y="508"/>
                  </a:moveTo>
                  <a:lnTo>
                    <a:pt x="0" y="508"/>
                  </a:lnTo>
                  <a:lnTo>
                    <a:pt x="0" y="0"/>
                  </a:lnTo>
                  <a:lnTo>
                    <a:pt x="319" y="0"/>
                  </a:lnTo>
                  <a:lnTo>
                    <a:pt x="382" y="17"/>
                  </a:lnTo>
                  <a:lnTo>
                    <a:pt x="430" y="48"/>
                  </a:lnTo>
                  <a:lnTo>
                    <a:pt x="478" y="95"/>
                  </a:lnTo>
                  <a:lnTo>
                    <a:pt x="510" y="158"/>
                  </a:lnTo>
                  <a:lnTo>
                    <a:pt x="525" y="223"/>
                  </a:lnTo>
                  <a:lnTo>
                    <a:pt x="525" y="301"/>
                  </a:lnTo>
                  <a:lnTo>
                    <a:pt x="510" y="365"/>
                  </a:lnTo>
                  <a:lnTo>
                    <a:pt x="478" y="428"/>
                  </a:lnTo>
                  <a:lnTo>
                    <a:pt x="430" y="477"/>
                  </a:lnTo>
                  <a:lnTo>
                    <a:pt x="382" y="508"/>
                  </a:lnTo>
                  <a:lnTo>
                    <a:pt x="319" y="508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32520" y="2464920"/>
              <a:ext cx="166680" cy="160560"/>
            </a:xfrm>
            <a:custGeom>
              <a:avLst/>
              <a:gdLst/>
              <a:ahLst/>
              <a:rect l="l" t="t" r="r" b="b"/>
              <a:pathLst>
                <a:path w="525" h="508">
                  <a:moveTo>
                    <a:pt x="319" y="508"/>
                  </a:moveTo>
                  <a:lnTo>
                    <a:pt x="0" y="508"/>
                  </a:lnTo>
                  <a:lnTo>
                    <a:pt x="0" y="0"/>
                  </a:lnTo>
                  <a:lnTo>
                    <a:pt x="319" y="0"/>
                  </a:lnTo>
                  <a:lnTo>
                    <a:pt x="382" y="17"/>
                  </a:lnTo>
                  <a:lnTo>
                    <a:pt x="430" y="48"/>
                  </a:lnTo>
                  <a:lnTo>
                    <a:pt x="478" y="95"/>
                  </a:lnTo>
                  <a:lnTo>
                    <a:pt x="510" y="158"/>
                  </a:lnTo>
                  <a:lnTo>
                    <a:pt x="525" y="223"/>
                  </a:lnTo>
                  <a:lnTo>
                    <a:pt x="525" y="301"/>
                  </a:lnTo>
                  <a:lnTo>
                    <a:pt x="510" y="365"/>
                  </a:lnTo>
                  <a:lnTo>
                    <a:pt x="478" y="428"/>
                  </a:lnTo>
                  <a:lnTo>
                    <a:pt x="430" y="477"/>
                  </a:lnTo>
                  <a:lnTo>
                    <a:pt x="382" y="508"/>
                  </a:lnTo>
                  <a:lnTo>
                    <a:pt x="319" y="508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1995480" y="814320"/>
            <a:ext cx="51901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YOU HAVE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OVER YOUR OWN BODY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NOT SOMEONE ELSE!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2960640" y="2819520"/>
            <a:ext cx="3200400" cy="2948040"/>
            <a:chOff x="2960640" y="2819520"/>
            <a:chExt cx="3200400" cy="2948040"/>
          </a:xfrm>
        </p:grpSpPr>
        <p:sp>
          <p:nvSpPr>
            <p:cNvPr id="757" name=""/>
            <p:cNvSpPr/>
            <p:nvPr/>
          </p:nvSpPr>
          <p:spPr>
            <a:xfrm>
              <a:off x="2960640" y="5610240"/>
              <a:ext cx="3200400" cy="157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209760" y="2819520"/>
              <a:ext cx="785880" cy="2835360"/>
            </a:xfrm>
            <a:custGeom>
              <a:avLst/>
              <a:gdLst/>
              <a:ahLst/>
              <a:rect l="l" t="t" r="r" b="b"/>
              <a:pathLst>
                <a:path w="2970" h="10718">
                  <a:moveTo>
                    <a:pt x="1374" y="9507"/>
                  </a:moveTo>
                  <a:lnTo>
                    <a:pt x="202" y="9507"/>
                  </a:lnTo>
                  <a:lnTo>
                    <a:pt x="1374" y="9507"/>
                  </a:lnTo>
                  <a:close/>
                  <a:moveTo>
                    <a:pt x="17" y="9866"/>
                  </a:moveTo>
                  <a:lnTo>
                    <a:pt x="17" y="9902"/>
                  </a:lnTo>
                  <a:lnTo>
                    <a:pt x="17" y="10266"/>
                  </a:lnTo>
                  <a:lnTo>
                    <a:pt x="38" y="10266"/>
                  </a:lnTo>
                  <a:lnTo>
                    <a:pt x="55" y="10337"/>
                  </a:lnTo>
                  <a:lnTo>
                    <a:pt x="70" y="10376"/>
                  </a:lnTo>
                  <a:lnTo>
                    <a:pt x="110" y="10446"/>
                  </a:lnTo>
                  <a:lnTo>
                    <a:pt x="125" y="10446"/>
                  </a:lnTo>
                  <a:lnTo>
                    <a:pt x="125" y="10462"/>
                  </a:lnTo>
                  <a:lnTo>
                    <a:pt x="164" y="10500"/>
                  </a:lnTo>
                  <a:lnTo>
                    <a:pt x="164" y="10538"/>
                  </a:lnTo>
                  <a:lnTo>
                    <a:pt x="180" y="10538"/>
                  </a:lnTo>
                  <a:lnTo>
                    <a:pt x="202" y="10571"/>
                  </a:lnTo>
                  <a:lnTo>
                    <a:pt x="202" y="10593"/>
                  </a:lnTo>
                  <a:lnTo>
                    <a:pt x="218" y="10593"/>
                  </a:lnTo>
                  <a:lnTo>
                    <a:pt x="234" y="10610"/>
                  </a:lnTo>
                  <a:lnTo>
                    <a:pt x="257" y="10610"/>
                  </a:lnTo>
                  <a:lnTo>
                    <a:pt x="257" y="10625"/>
                  </a:lnTo>
                  <a:lnTo>
                    <a:pt x="272" y="10625"/>
                  </a:lnTo>
                  <a:lnTo>
                    <a:pt x="289" y="10663"/>
                  </a:lnTo>
                  <a:lnTo>
                    <a:pt x="312" y="10663"/>
                  </a:lnTo>
                  <a:lnTo>
                    <a:pt x="365" y="10680"/>
                  </a:lnTo>
                  <a:lnTo>
                    <a:pt x="397" y="10680"/>
                  </a:lnTo>
                  <a:lnTo>
                    <a:pt x="397" y="10702"/>
                  </a:lnTo>
                  <a:lnTo>
                    <a:pt x="420" y="10702"/>
                  </a:lnTo>
                  <a:lnTo>
                    <a:pt x="452" y="10702"/>
                  </a:lnTo>
                  <a:lnTo>
                    <a:pt x="452" y="10718"/>
                  </a:lnTo>
                  <a:lnTo>
                    <a:pt x="491" y="10718"/>
                  </a:lnTo>
                  <a:lnTo>
                    <a:pt x="529" y="10718"/>
                  </a:lnTo>
                  <a:lnTo>
                    <a:pt x="561" y="10702"/>
                  </a:lnTo>
                  <a:lnTo>
                    <a:pt x="561" y="10680"/>
                  </a:lnTo>
                  <a:lnTo>
                    <a:pt x="561" y="10593"/>
                  </a:lnTo>
                  <a:lnTo>
                    <a:pt x="584" y="10593"/>
                  </a:lnTo>
                  <a:lnTo>
                    <a:pt x="584" y="10391"/>
                  </a:lnTo>
                  <a:lnTo>
                    <a:pt x="599" y="10391"/>
                  </a:lnTo>
                  <a:lnTo>
                    <a:pt x="599" y="10299"/>
                  </a:lnTo>
                  <a:lnTo>
                    <a:pt x="616" y="10299"/>
                  </a:lnTo>
                  <a:lnTo>
                    <a:pt x="616" y="10244"/>
                  </a:lnTo>
                  <a:lnTo>
                    <a:pt x="616" y="10189"/>
                  </a:lnTo>
                  <a:lnTo>
                    <a:pt x="638" y="10189"/>
                  </a:lnTo>
                  <a:lnTo>
                    <a:pt x="654" y="10104"/>
                  </a:lnTo>
                  <a:lnTo>
                    <a:pt x="654" y="10081"/>
                  </a:lnTo>
                  <a:lnTo>
                    <a:pt x="669" y="10081"/>
                  </a:lnTo>
                  <a:lnTo>
                    <a:pt x="669" y="10049"/>
                  </a:lnTo>
                  <a:lnTo>
                    <a:pt x="669" y="10011"/>
                  </a:lnTo>
                  <a:lnTo>
                    <a:pt x="692" y="10011"/>
                  </a:lnTo>
                  <a:lnTo>
                    <a:pt x="692" y="9972"/>
                  </a:lnTo>
                  <a:lnTo>
                    <a:pt x="692" y="9917"/>
                  </a:lnTo>
                  <a:lnTo>
                    <a:pt x="708" y="9917"/>
                  </a:lnTo>
                  <a:lnTo>
                    <a:pt x="708" y="9885"/>
                  </a:lnTo>
                  <a:lnTo>
                    <a:pt x="724" y="9885"/>
                  </a:lnTo>
                  <a:lnTo>
                    <a:pt x="763" y="9885"/>
                  </a:lnTo>
                  <a:lnTo>
                    <a:pt x="801" y="9902"/>
                  </a:lnTo>
                  <a:lnTo>
                    <a:pt x="833" y="9902"/>
                  </a:lnTo>
                  <a:lnTo>
                    <a:pt x="833" y="9917"/>
                  </a:lnTo>
                  <a:lnTo>
                    <a:pt x="888" y="9940"/>
                  </a:lnTo>
                  <a:lnTo>
                    <a:pt x="910" y="9940"/>
                  </a:lnTo>
                  <a:lnTo>
                    <a:pt x="910" y="9956"/>
                  </a:lnTo>
                  <a:lnTo>
                    <a:pt x="964" y="9972"/>
                  </a:lnTo>
                  <a:lnTo>
                    <a:pt x="981" y="9972"/>
                  </a:lnTo>
                  <a:lnTo>
                    <a:pt x="981" y="9994"/>
                  </a:lnTo>
                  <a:lnTo>
                    <a:pt x="1035" y="9994"/>
                  </a:lnTo>
                  <a:lnTo>
                    <a:pt x="1035" y="10011"/>
                  </a:lnTo>
                  <a:lnTo>
                    <a:pt x="1051" y="10011"/>
                  </a:lnTo>
                  <a:lnTo>
                    <a:pt x="1124" y="10026"/>
                  </a:lnTo>
                  <a:lnTo>
                    <a:pt x="1124" y="9994"/>
                  </a:lnTo>
                  <a:lnTo>
                    <a:pt x="1143" y="9994"/>
                  </a:lnTo>
                  <a:lnTo>
                    <a:pt x="1143" y="9972"/>
                  </a:lnTo>
                  <a:lnTo>
                    <a:pt x="1143" y="9956"/>
                  </a:lnTo>
                  <a:lnTo>
                    <a:pt x="1160" y="9956"/>
                  </a:lnTo>
                  <a:lnTo>
                    <a:pt x="1160" y="9940"/>
                  </a:lnTo>
                  <a:lnTo>
                    <a:pt x="1160" y="9902"/>
                  </a:lnTo>
                  <a:lnTo>
                    <a:pt x="1179" y="9902"/>
                  </a:lnTo>
                  <a:lnTo>
                    <a:pt x="1179" y="9885"/>
                  </a:lnTo>
                  <a:lnTo>
                    <a:pt x="1196" y="9885"/>
                  </a:lnTo>
                  <a:lnTo>
                    <a:pt x="1196" y="9866"/>
                  </a:lnTo>
                  <a:lnTo>
                    <a:pt x="1196" y="9847"/>
                  </a:lnTo>
                  <a:lnTo>
                    <a:pt x="1215" y="9847"/>
                  </a:lnTo>
                  <a:lnTo>
                    <a:pt x="1215" y="9832"/>
                  </a:lnTo>
                  <a:lnTo>
                    <a:pt x="1234" y="9832"/>
                  </a:lnTo>
                  <a:lnTo>
                    <a:pt x="1234" y="9792"/>
                  </a:lnTo>
                  <a:lnTo>
                    <a:pt x="1234" y="9777"/>
                  </a:lnTo>
                  <a:lnTo>
                    <a:pt x="1249" y="9777"/>
                  </a:lnTo>
                  <a:lnTo>
                    <a:pt x="1249" y="9758"/>
                  </a:lnTo>
                  <a:lnTo>
                    <a:pt x="1249" y="9738"/>
                  </a:lnTo>
                  <a:lnTo>
                    <a:pt x="1269" y="9738"/>
                  </a:lnTo>
                  <a:lnTo>
                    <a:pt x="1269" y="9722"/>
                  </a:lnTo>
                  <a:lnTo>
                    <a:pt x="1269" y="9687"/>
                  </a:lnTo>
                  <a:lnTo>
                    <a:pt x="1285" y="9687"/>
                  </a:lnTo>
                  <a:lnTo>
                    <a:pt x="1285" y="9668"/>
                  </a:lnTo>
                  <a:lnTo>
                    <a:pt x="1304" y="9668"/>
                  </a:lnTo>
                  <a:lnTo>
                    <a:pt x="1304" y="9649"/>
                  </a:lnTo>
                  <a:lnTo>
                    <a:pt x="1304" y="9632"/>
                  </a:lnTo>
                  <a:lnTo>
                    <a:pt x="1323" y="9632"/>
                  </a:lnTo>
                  <a:lnTo>
                    <a:pt x="1323" y="9613"/>
                  </a:lnTo>
                  <a:lnTo>
                    <a:pt x="1339" y="9613"/>
                  </a:lnTo>
                  <a:lnTo>
                    <a:pt x="1339" y="9594"/>
                  </a:lnTo>
                  <a:lnTo>
                    <a:pt x="1339" y="9558"/>
                  </a:lnTo>
                  <a:lnTo>
                    <a:pt x="1358" y="9558"/>
                  </a:lnTo>
                  <a:lnTo>
                    <a:pt x="1358" y="9539"/>
                  </a:lnTo>
                  <a:lnTo>
                    <a:pt x="1358" y="9524"/>
                  </a:lnTo>
                  <a:lnTo>
                    <a:pt x="1374" y="9524"/>
                  </a:lnTo>
                  <a:lnTo>
                    <a:pt x="1374" y="9507"/>
                  </a:lnTo>
                  <a:lnTo>
                    <a:pt x="1394" y="9524"/>
                  </a:lnTo>
                  <a:lnTo>
                    <a:pt x="1413" y="9668"/>
                  </a:lnTo>
                  <a:lnTo>
                    <a:pt x="1413" y="9687"/>
                  </a:lnTo>
                  <a:lnTo>
                    <a:pt x="1413" y="9722"/>
                  </a:lnTo>
                  <a:lnTo>
                    <a:pt x="1429" y="9722"/>
                  </a:lnTo>
                  <a:lnTo>
                    <a:pt x="1429" y="9811"/>
                  </a:lnTo>
                  <a:lnTo>
                    <a:pt x="1413" y="9811"/>
                  </a:lnTo>
                  <a:lnTo>
                    <a:pt x="1413" y="9885"/>
                  </a:lnTo>
                  <a:lnTo>
                    <a:pt x="1394" y="9940"/>
                  </a:lnTo>
                  <a:lnTo>
                    <a:pt x="1374" y="9940"/>
                  </a:lnTo>
                  <a:lnTo>
                    <a:pt x="1374" y="10026"/>
                  </a:lnTo>
                  <a:lnTo>
                    <a:pt x="1394" y="10026"/>
                  </a:lnTo>
                  <a:lnTo>
                    <a:pt x="1394" y="10119"/>
                  </a:lnTo>
                  <a:lnTo>
                    <a:pt x="1413" y="10119"/>
                  </a:lnTo>
                  <a:lnTo>
                    <a:pt x="1413" y="10212"/>
                  </a:lnTo>
                  <a:lnTo>
                    <a:pt x="1429" y="10283"/>
                  </a:lnTo>
                  <a:lnTo>
                    <a:pt x="1448" y="10283"/>
                  </a:lnTo>
                  <a:lnTo>
                    <a:pt x="1468" y="10299"/>
                  </a:lnTo>
                  <a:lnTo>
                    <a:pt x="1468" y="10321"/>
                  </a:lnTo>
                  <a:lnTo>
                    <a:pt x="1483" y="10337"/>
                  </a:lnTo>
                  <a:lnTo>
                    <a:pt x="1521" y="10337"/>
                  </a:lnTo>
                  <a:lnTo>
                    <a:pt x="1521" y="10353"/>
                  </a:lnTo>
                  <a:lnTo>
                    <a:pt x="1576" y="10376"/>
                  </a:lnTo>
                  <a:lnTo>
                    <a:pt x="1608" y="10376"/>
                  </a:lnTo>
                  <a:lnTo>
                    <a:pt x="1608" y="10391"/>
                  </a:lnTo>
                  <a:lnTo>
                    <a:pt x="1685" y="10391"/>
                  </a:lnTo>
                  <a:lnTo>
                    <a:pt x="1685" y="10408"/>
                  </a:lnTo>
                  <a:lnTo>
                    <a:pt x="1827" y="10408"/>
                  </a:lnTo>
                  <a:lnTo>
                    <a:pt x="1848" y="10408"/>
                  </a:lnTo>
                  <a:lnTo>
                    <a:pt x="1974" y="10538"/>
                  </a:lnTo>
                  <a:lnTo>
                    <a:pt x="1974" y="10555"/>
                  </a:lnTo>
                  <a:lnTo>
                    <a:pt x="2044" y="10571"/>
                  </a:lnTo>
                  <a:lnTo>
                    <a:pt x="2099" y="10571"/>
                  </a:lnTo>
                  <a:lnTo>
                    <a:pt x="2099" y="10593"/>
                  </a:lnTo>
                  <a:lnTo>
                    <a:pt x="2153" y="10593"/>
                  </a:lnTo>
                  <a:lnTo>
                    <a:pt x="2246" y="10593"/>
                  </a:lnTo>
                  <a:lnTo>
                    <a:pt x="2246" y="10610"/>
                  </a:lnTo>
                  <a:lnTo>
                    <a:pt x="2426" y="10610"/>
                  </a:lnTo>
                  <a:lnTo>
                    <a:pt x="2426" y="10593"/>
                  </a:lnTo>
                  <a:lnTo>
                    <a:pt x="2502" y="10593"/>
                  </a:lnTo>
                  <a:lnTo>
                    <a:pt x="2534" y="10555"/>
                  </a:lnTo>
                  <a:lnTo>
                    <a:pt x="2534" y="10462"/>
                  </a:lnTo>
                  <a:lnTo>
                    <a:pt x="2518" y="10430"/>
                  </a:lnTo>
                  <a:lnTo>
                    <a:pt x="2502" y="10430"/>
                  </a:lnTo>
                  <a:lnTo>
                    <a:pt x="2426" y="10337"/>
                  </a:lnTo>
                  <a:lnTo>
                    <a:pt x="2409" y="10337"/>
                  </a:lnTo>
                  <a:lnTo>
                    <a:pt x="2409" y="10321"/>
                  </a:lnTo>
                  <a:lnTo>
                    <a:pt x="2371" y="10321"/>
                  </a:lnTo>
                  <a:lnTo>
                    <a:pt x="2354" y="10299"/>
                  </a:lnTo>
                  <a:lnTo>
                    <a:pt x="2339" y="10299"/>
                  </a:lnTo>
                  <a:lnTo>
                    <a:pt x="2301" y="10228"/>
                  </a:lnTo>
                  <a:lnTo>
                    <a:pt x="2229" y="10119"/>
                  </a:lnTo>
                  <a:lnTo>
                    <a:pt x="2207" y="10119"/>
                  </a:lnTo>
                  <a:lnTo>
                    <a:pt x="2191" y="10104"/>
                  </a:lnTo>
                  <a:lnTo>
                    <a:pt x="2175" y="10104"/>
                  </a:lnTo>
                  <a:lnTo>
                    <a:pt x="2153" y="10081"/>
                  </a:lnTo>
                  <a:lnTo>
                    <a:pt x="2153" y="9777"/>
                  </a:lnTo>
                  <a:lnTo>
                    <a:pt x="2175" y="9777"/>
                  </a:lnTo>
                  <a:lnTo>
                    <a:pt x="2175" y="9668"/>
                  </a:lnTo>
                  <a:lnTo>
                    <a:pt x="2191" y="9668"/>
                  </a:lnTo>
                  <a:lnTo>
                    <a:pt x="2191" y="9649"/>
                  </a:lnTo>
                  <a:lnTo>
                    <a:pt x="2191" y="9613"/>
                  </a:lnTo>
                  <a:lnTo>
                    <a:pt x="2191" y="9539"/>
                  </a:lnTo>
                  <a:lnTo>
                    <a:pt x="2207" y="9539"/>
                  </a:lnTo>
                  <a:lnTo>
                    <a:pt x="2207" y="9507"/>
                  </a:lnTo>
                  <a:lnTo>
                    <a:pt x="2207" y="9453"/>
                  </a:lnTo>
                  <a:lnTo>
                    <a:pt x="2229" y="9453"/>
                  </a:lnTo>
                  <a:lnTo>
                    <a:pt x="2229" y="9415"/>
                  </a:lnTo>
                  <a:lnTo>
                    <a:pt x="2229" y="9345"/>
                  </a:lnTo>
                  <a:lnTo>
                    <a:pt x="2246" y="9345"/>
                  </a:lnTo>
                  <a:lnTo>
                    <a:pt x="2246" y="9252"/>
                  </a:lnTo>
                  <a:lnTo>
                    <a:pt x="2262" y="9252"/>
                  </a:lnTo>
                  <a:lnTo>
                    <a:pt x="2262" y="9213"/>
                  </a:lnTo>
                  <a:lnTo>
                    <a:pt x="2284" y="8980"/>
                  </a:lnTo>
                  <a:lnTo>
                    <a:pt x="2301" y="8980"/>
                  </a:lnTo>
                  <a:lnTo>
                    <a:pt x="2301" y="8925"/>
                  </a:lnTo>
                  <a:lnTo>
                    <a:pt x="2301" y="8784"/>
                  </a:lnTo>
                  <a:lnTo>
                    <a:pt x="2316" y="8784"/>
                  </a:lnTo>
                  <a:lnTo>
                    <a:pt x="2316" y="8598"/>
                  </a:lnTo>
                  <a:lnTo>
                    <a:pt x="2316" y="8582"/>
                  </a:lnTo>
                  <a:lnTo>
                    <a:pt x="2316" y="8402"/>
                  </a:lnTo>
                  <a:lnTo>
                    <a:pt x="2339" y="8402"/>
                  </a:lnTo>
                  <a:lnTo>
                    <a:pt x="2339" y="8310"/>
                  </a:lnTo>
                  <a:lnTo>
                    <a:pt x="2339" y="8092"/>
                  </a:lnTo>
                  <a:lnTo>
                    <a:pt x="2354" y="8092"/>
                  </a:lnTo>
                  <a:lnTo>
                    <a:pt x="2354" y="7875"/>
                  </a:lnTo>
                  <a:lnTo>
                    <a:pt x="2339" y="7875"/>
                  </a:lnTo>
                  <a:lnTo>
                    <a:pt x="2339" y="7660"/>
                  </a:lnTo>
                  <a:lnTo>
                    <a:pt x="2354" y="7660"/>
                  </a:lnTo>
                  <a:lnTo>
                    <a:pt x="2354" y="7586"/>
                  </a:lnTo>
                  <a:lnTo>
                    <a:pt x="2354" y="7532"/>
                  </a:lnTo>
                  <a:lnTo>
                    <a:pt x="2354" y="7496"/>
                  </a:lnTo>
                  <a:lnTo>
                    <a:pt x="2371" y="7496"/>
                  </a:lnTo>
                  <a:lnTo>
                    <a:pt x="2371" y="7388"/>
                  </a:lnTo>
                  <a:lnTo>
                    <a:pt x="2393" y="7388"/>
                  </a:lnTo>
                  <a:lnTo>
                    <a:pt x="2393" y="7077"/>
                  </a:lnTo>
                  <a:lnTo>
                    <a:pt x="2409" y="7077"/>
                  </a:lnTo>
                  <a:lnTo>
                    <a:pt x="2409" y="7061"/>
                  </a:lnTo>
                  <a:lnTo>
                    <a:pt x="2409" y="6991"/>
                  </a:lnTo>
                  <a:lnTo>
                    <a:pt x="2426" y="6991"/>
                  </a:lnTo>
                  <a:lnTo>
                    <a:pt x="2426" y="6805"/>
                  </a:lnTo>
                  <a:lnTo>
                    <a:pt x="2426" y="6750"/>
                  </a:lnTo>
                  <a:lnTo>
                    <a:pt x="2448" y="6750"/>
                  </a:lnTo>
                  <a:lnTo>
                    <a:pt x="2448" y="6664"/>
                  </a:lnTo>
                  <a:lnTo>
                    <a:pt x="2448" y="6555"/>
                  </a:lnTo>
                  <a:lnTo>
                    <a:pt x="2464" y="6555"/>
                  </a:lnTo>
                  <a:lnTo>
                    <a:pt x="2464" y="6500"/>
                  </a:lnTo>
                  <a:lnTo>
                    <a:pt x="2479" y="6500"/>
                  </a:lnTo>
                  <a:lnTo>
                    <a:pt x="2479" y="6462"/>
                  </a:lnTo>
                  <a:lnTo>
                    <a:pt x="2479" y="6408"/>
                  </a:lnTo>
                  <a:lnTo>
                    <a:pt x="2502" y="6174"/>
                  </a:lnTo>
                  <a:lnTo>
                    <a:pt x="2518" y="6174"/>
                  </a:lnTo>
                  <a:lnTo>
                    <a:pt x="2518" y="6049"/>
                  </a:lnTo>
                  <a:lnTo>
                    <a:pt x="2534" y="6049"/>
                  </a:lnTo>
                  <a:lnTo>
                    <a:pt x="2534" y="5972"/>
                  </a:lnTo>
                  <a:lnTo>
                    <a:pt x="2534" y="5918"/>
                  </a:lnTo>
                  <a:lnTo>
                    <a:pt x="2556" y="5918"/>
                  </a:lnTo>
                  <a:lnTo>
                    <a:pt x="2556" y="5902"/>
                  </a:lnTo>
                  <a:lnTo>
                    <a:pt x="2573" y="5902"/>
                  </a:lnTo>
                  <a:lnTo>
                    <a:pt x="2588" y="5956"/>
                  </a:lnTo>
                  <a:lnTo>
                    <a:pt x="2611" y="5956"/>
                  </a:lnTo>
                  <a:lnTo>
                    <a:pt x="2611" y="6066"/>
                  </a:lnTo>
                  <a:lnTo>
                    <a:pt x="2588" y="6066"/>
                  </a:lnTo>
                  <a:lnTo>
                    <a:pt x="2588" y="6104"/>
                  </a:lnTo>
                  <a:lnTo>
                    <a:pt x="2588" y="6174"/>
                  </a:lnTo>
                  <a:lnTo>
                    <a:pt x="2573" y="6174"/>
                  </a:lnTo>
                  <a:lnTo>
                    <a:pt x="2573" y="6213"/>
                  </a:lnTo>
                  <a:lnTo>
                    <a:pt x="2556" y="6213"/>
                  </a:lnTo>
                  <a:lnTo>
                    <a:pt x="2556" y="6244"/>
                  </a:lnTo>
                  <a:lnTo>
                    <a:pt x="2556" y="6266"/>
                  </a:lnTo>
                  <a:lnTo>
                    <a:pt x="2534" y="6266"/>
                  </a:lnTo>
                  <a:lnTo>
                    <a:pt x="2534" y="6283"/>
                  </a:lnTo>
                  <a:lnTo>
                    <a:pt x="2534" y="6299"/>
                  </a:lnTo>
                  <a:lnTo>
                    <a:pt x="2518" y="6299"/>
                  </a:lnTo>
                  <a:lnTo>
                    <a:pt x="2518" y="6408"/>
                  </a:lnTo>
                  <a:lnTo>
                    <a:pt x="2534" y="6408"/>
                  </a:lnTo>
                  <a:lnTo>
                    <a:pt x="2534" y="6446"/>
                  </a:lnTo>
                  <a:lnTo>
                    <a:pt x="2556" y="6462"/>
                  </a:lnTo>
                  <a:lnTo>
                    <a:pt x="2588" y="6462"/>
                  </a:lnTo>
                  <a:lnTo>
                    <a:pt x="2626" y="6462"/>
                  </a:lnTo>
                  <a:lnTo>
                    <a:pt x="2626" y="6446"/>
                  </a:lnTo>
                  <a:lnTo>
                    <a:pt x="2681" y="6446"/>
                  </a:lnTo>
                  <a:lnTo>
                    <a:pt x="2681" y="6423"/>
                  </a:lnTo>
                  <a:lnTo>
                    <a:pt x="2698" y="6423"/>
                  </a:lnTo>
                  <a:lnTo>
                    <a:pt x="2698" y="6408"/>
                  </a:lnTo>
                  <a:lnTo>
                    <a:pt x="2752" y="6408"/>
                  </a:lnTo>
                  <a:lnTo>
                    <a:pt x="2752" y="6391"/>
                  </a:lnTo>
                  <a:lnTo>
                    <a:pt x="2790" y="6391"/>
                  </a:lnTo>
                  <a:lnTo>
                    <a:pt x="2790" y="6376"/>
                  </a:lnTo>
                  <a:lnTo>
                    <a:pt x="2828" y="6353"/>
                  </a:lnTo>
                  <a:lnTo>
                    <a:pt x="2915" y="6283"/>
                  </a:lnTo>
                  <a:lnTo>
                    <a:pt x="2915" y="6244"/>
                  </a:lnTo>
                  <a:lnTo>
                    <a:pt x="2915" y="6213"/>
                  </a:lnTo>
                  <a:lnTo>
                    <a:pt x="2938" y="6213"/>
                  </a:lnTo>
                  <a:lnTo>
                    <a:pt x="2938" y="6174"/>
                  </a:lnTo>
                  <a:lnTo>
                    <a:pt x="2953" y="6026"/>
                  </a:lnTo>
                  <a:lnTo>
                    <a:pt x="2970" y="6026"/>
                  </a:lnTo>
                  <a:lnTo>
                    <a:pt x="2970" y="5956"/>
                  </a:lnTo>
                  <a:lnTo>
                    <a:pt x="2953" y="5956"/>
                  </a:lnTo>
                  <a:lnTo>
                    <a:pt x="2953" y="5902"/>
                  </a:lnTo>
                  <a:lnTo>
                    <a:pt x="2938" y="5902"/>
                  </a:lnTo>
                  <a:lnTo>
                    <a:pt x="2938" y="5847"/>
                  </a:lnTo>
                  <a:lnTo>
                    <a:pt x="2938" y="5809"/>
                  </a:lnTo>
                  <a:lnTo>
                    <a:pt x="2915" y="5809"/>
                  </a:lnTo>
                  <a:lnTo>
                    <a:pt x="2915" y="5758"/>
                  </a:lnTo>
                  <a:lnTo>
                    <a:pt x="2915" y="5703"/>
                  </a:lnTo>
                  <a:lnTo>
                    <a:pt x="2900" y="5703"/>
                  </a:lnTo>
                  <a:lnTo>
                    <a:pt x="2900" y="5630"/>
                  </a:lnTo>
                  <a:lnTo>
                    <a:pt x="2900" y="5579"/>
                  </a:lnTo>
                  <a:lnTo>
                    <a:pt x="2883" y="5579"/>
                  </a:lnTo>
                  <a:lnTo>
                    <a:pt x="2883" y="5524"/>
                  </a:lnTo>
                  <a:lnTo>
                    <a:pt x="2860" y="5524"/>
                  </a:lnTo>
                  <a:lnTo>
                    <a:pt x="2860" y="5486"/>
                  </a:lnTo>
                  <a:lnTo>
                    <a:pt x="2860" y="5399"/>
                  </a:lnTo>
                  <a:lnTo>
                    <a:pt x="2845" y="5399"/>
                  </a:lnTo>
                  <a:lnTo>
                    <a:pt x="2845" y="5360"/>
                  </a:lnTo>
                  <a:lnTo>
                    <a:pt x="2828" y="5360"/>
                  </a:lnTo>
                  <a:lnTo>
                    <a:pt x="2828" y="5322"/>
                  </a:lnTo>
                  <a:lnTo>
                    <a:pt x="2860" y="5322"/>
                  </a:lnTo>
                  <a:lnTo>
                    <a:pt x="2860" y="4544"/>
                  </a:lnTo>
                  <a:lnTo>
                    <a:pt x="2845" y="4544"/>
                  </a:lnTo>
                  <a:lnTo>
                    <a:pt x="2845" y="4489"/>
                  </a:lnTo>
                  <a:lnTo>
                    <a:pt x="2828" y="4489"/>
                  </a:lnTo>
                  <a:lnTo>
                    <a:pt x="2828" y="4419"/>
                  </a:lnTo>
                  <a:lnTo>
                    <a:pt x="2828" y="4310"/>
                  </a:lnTo>
                  <a:lnTo>
                    <a:pt x="2806" y="4310"/>
                  </a:lnTo>
                  <a:lnTo>
                    <a:pt x="2806" y="4256"/>
                  </a:lnTo>
                  <a:lnTo>
                    <a:pt x="2806" y="4202"/>
                  </a:lnTo>
                  <a:lnTo>
                    <a:pt x="2790" y="4202"/>
                  </a:lnTo>
                  <a:lnTo>
                    <a:pt x="2790" y="4092"/>
                  </a:lnTo>
                  <a:lnTo>
                    <a:pt x="2790" y="4015"/>
                  </a:lnTo>
                  <a:lnTo>
                    <a:pt x="2774" y="4015"/>
                  </a:lnTo>
                  <a:lnTo>
                    <a:pt x="2774" y="4000"/>
                  </a:lnTo>
                  <a:lnTo>
                    <a:pt x="2752" y="4000"/>
                  </a:lnTo>
                  <a:lnTo>
                    <a:pt x="2752" y="3962"/>
                  </a:lnTo>
                  <a:lnTo>
                    <a:pt x="2752" y="3945"/>
                  </a:lnTo>
                  <a:lnTo>
                    <a:pt x="2736" y="3945"/>
                  </a:lnTo>
                  <a:lnTo>
                    <a:pt x="2720" y="3836"/>
                  </a:lnTo>
                  <a:lnTo>
                    <a:pt x="2720" y="3820"/>
                  </a:lnTo>
                  <a:lnTo>
                    <a:pt x="2698" y="3730"/>
                  </a:lnTo>
                  <a:lnTo>
                    <a:pt x="2698" y="3641"/>
                  </a:lnTo>
                  <a:lnTo>
                    <a:pt x="2681" y="3641"/>
                  </a:lnTo>
                  <a:lnTo>
                    <a:pt x="2681" y="3567"/>
                  </a:lnTo>
                  <a:lnTo>
                    <a:pt x="2666" y="3567"/>
                  </a:lnTo>
                  <a:lnTo>
                    <a:pt x="2666" y="3443"/>
                  </a:lnTo>
                  <a:lnTo>
                    <a:pt x="2643" y="3443"/>
                  </a:lnTo>
                  <a:lnTo>
                    <a:pt x="2643" y="3241"/>
                  </a:lnTo>
                  <a:lnTo>
                    <a:pt x="2643" y="3225"/>
                  </a:lnTo>
                  <a:lnTo>
                    <a:pt x="2643" y="3131"/>
                  </a:lnTo>
                  <a:lnTo>
                    <a:pt x="2666" y="3131"/>
                  </a:lnTo>
                  <a:lnTo>
                    <a:pt x="2666" y="2789"/>
                  </a:lnTo>
                  <a:lnTo>
                    <a:pt x="2643" y="2789"/>
                  </a:lnTo>
                  <a:lnTo>
                    <a:pt x="2643" y="2625"/>
                  </a:lnTo>
                  <a:lnTo>
                    <a:pt x="2643" y="2555"/>
                  </a:lnTo>
                  <a:lnTo>
                    <a:pt x="2626" y="2555"/>
                  </a:lnTo>
                  <a:lnTo>
                    <a:pt x="2626" y="2446"/>
                  </a:lnTo>
                  <a:lnTo>
                    <a:pt x="2611" y="2446"/>
                  </a:lnTo>
                  <a:lnTo>
                    <a:pt x="2611" y="2370"/>
                  </a:lnTo>
                  <a:lnTo>
                    <a:pt x="2611" y="2315"/>
                  </a:lnTo>
                  <a:lnTo>
                    <a:pt x="2588" y="2315"/>
                  </a:lnTo>
                  <a:lnTo>
                    <a:pt x="2588" y="2299"/>
                  </a:lnTo>
                  <a:lnTo>
                    <a:pt x="2556" y="2228"/>
                  </a:lnTo>
                  <a:lnTo>
                    <a:pt x="2534" y="2228"/>
                  </a:lnTo>
                  <a:lnTo>
                    <a:pt x="2464" y="2151"/>
                  </a:lnTo>
                  <a:lnTo>
                    <a:pt x="2448" y="2151"/>
                  </a:lnTo>
                  <a:lnTo>
                    <a:pt x="397" y="2151"/>
                  </a:lnTo>
                  <a:lnTo>
                    <a:pt x="397" y="2174"/>
                  </a:lnTo>
                  <a:lnTo>
                    <a:pt x="382" y="2174"/>
                  </a:lnTo>
                  <a:lnTo>
                    <a:pt x="382" y="2190"/>
                  </a:lnTo>
                  <a:lnTo>
                    <a:pt x="365" y="2190"/>
                  </a:lnTo>
                  <a:lnTo>
                    <a:pt x="344" y="2261"/>
                  </a:lnTo>
                  <a:lnTo>
                    <a:pt x="344" y="2283"/>
                  </a:lnTo>
                  <a:lnTo>
                    <a:pt x="327" y="2283"/>
                  </a:lnTo>
                  <a:lnTo>
                    <a:pt x="312" y="2338"/>
                  </a:lnTo>
                  <a:lnTo>
                    <a:pt x="312" y="2408"/>
                  </a:lnTo>
                  <a:lnTo>
                    <a:pt x="289" y="2408"/>
                  </a:lnTo>
                  <a:lnTo>
                    <a:pt x="289" y="2462"/>
                  </a:lnTo>
                  <a:lnTo>
                    <a:pt x="289" y="2517"/>
                  </a:lnTo>
                  <a:lnTo>
                    <a:pt x="272" y="2517"/>
                  </a:lnTo>
                  <a:lnTo>
                    <a:pt x="272" y="2572"/>
                  </a:lnTo>
                  <a:lnTo>
                    <a:pt x="272" y="2680"/>
                  </a:lnTo>
                  <a:lnTo>
                    <a:pt x="257" y="2680"/>
                  </a:lnTo>
                  <a:lnTo>
                    <a:pt x="257" y="3225"/>
                  </a:lnTo>
                  <a:lnTo>
                    <a:pt x="257" y="3241"/>
                  </a:lnTo>
                  <a:lnTo>
                    <a:pt x="257" y="3318"/>
                  </a:lnTo>
                  <a:lnTo>
                    <a:pt x="272" y="3318"/>
                  </a:lnTo>
                  <a:lnTo>
                    <a:pt x="272" y="3656"/>
                  </a:lnTo>
                  <a:lnTo>
                    <a:pt x="272" y="4038"/>
                  </a:lnTo>
                  <a:lnTo>
                    <a:pt x="289" y="4038"/>
                  </a:lnTo>
                  <a:lnTo>
                    <a:pt x="289" y="4109"/>
                  </a:lnTo>
                  <a:lnTo>
                    <a:pt x="289" y="4202"/>
                  </a:lnTo>
                  <a:lnTo>
                    <a:pt x="312" y="4202"/>
                  </a:lnTo>
                  <a:lnTo>
                    <a:pt x="312" y="4256"/>
                  </a:lnTo>
                  <a:lnTo>
                    <a:pt x="327" y="4256"/>
                  </a:lnTo>
                  <a:lnTo>
                    <a:pt x="327" y="4310"/>
                  </a:lnTo>
                  <a:lnTo>
                    <a:pt x="327" y="4342"/>
                  </a:lnTo>
                  <a:lnTo>
                    <a:pt x="344" y="4342"/>
                  </a:lnTo>
                  <a:lnTo>
                    <a:pt x="344" y="4397"/>
                  </a:lnTo>
                  <a:lnTo>
                    <a:pt x="344" y="4489"/>
                  </a:lnTo>
                  <a:lnTo>
                    <a:pt x="365" y="4489"/>
                  </a:lnTo>
                  <a:lnTo>
                    <a:pt x="382" y="4582"/>
                  </a:lnTo>
                  <a:lnTo>
                    <a:pt x="397" y="4669"/>
                  </a:lnTo>
                  <a:lnTo>
                    <a:pt x="397" y="4708"/>
                  </a:lnTo>
                  <a:lnTo>
                    <a:pt x="420" y="4708"/>
                  </a:lnTo>
                  <a:lnTo>
                    <a:pt x="420" y="4800"/>
                  </a:lnTo>
                  <a:lnTo>
                    <a:pt x="420" y="4833"/>
                  </a:lnTo>
                  <a:lnTo>
                    <a:pt x="436" y="4833"/>
                  </a:lnTo>
                  <a:lnTo>
                    <a:pt x="436" y="4887"/>
                  </a:lnTo>
                  <a:lnTo>
                    <a:pt x="452" y="4887"/>
                  </a:lnTo>
                  <a:lnTo>
                    <a:pt x="452" y="4925"/>
                  </a:lnTo>
                  <a:lnTo>
                    <a:pt x="452" y="4995"/>
                  </a:lnTo>
                  <a:lnTo>
                    <a:pt x="474" y="4995"/>
                  </a:lnTo>
                  <a:lnTo>
                    <a:pt x="491" y="5073"/>
                  </a:lnTo>
                  <a:lnTo>
                    <a:pt x="491" y="5143"/>
                  </a:lnTo>
                  <a:lnTo>
                    <a:pt x="506" y="5143"/>
                  </a:lnTo>
                  <a:lnTo>
                    <a:pt x="506" y="5213"/>
                  </a:lnTo>
                  <a:lnTo>
                    <a:pt x="529" y="5213"/>
                  </a:lnTo>
                  <a:lnTo>
                    <a:pt x="544" y="5267"/>
                  </a:lnTo>
                  <a:lnTo>
                    <a:pt x="544" y="5290"/>
                  </a:lnTo>
                  <a:lnTo>
                    <a:pt x="561" y="5290"/>
                  </a:lnTo>
                  <a:lnTo>
                    <a:pt x="561" y="5267"/>
                  </a:lnTo>
                  <a:lnTo>
                    <a:pt x="584" y="5267"/>
                  </a:lnTo>
                  <a:lnTo>
                    <a:pt x="616" y="5345"/>
                  </a:lnTo>
                  <a:lnTo>
                    <a:pt x="616" y="5399"/>
                  </a:lnTo>
                  <a:lnTo>
                    <a:pt x="638" y="5415"/>
                  </a:lnTo>
                  <a:lnTo>
                    <a:pt x="638" y="5524"/>
                  </a:lnTo>
                  <a:lnTo>
                    <a:pt x="654" y="5524"/>
                  </a:lnTo>
                  <a:lnTo>
                    <a:pt x="654" y="5886"/>
                  </a:lnTo>
                  <a:lnTo>
                    <a:pt x="654" y="5972"/>
                  </a:lnTo>
                  <a:lnTo>
                    <a:pt x="654" y="6026"/>
                  </a:lnTo>
                  <a:lnTo>
                    <a:pt x="669" y="6026"/>
                  </a:lnTo>
                  <a:lnTo>
                    <a:pt x="669" y="6104"/>
                  </a:lnTo>
                  <a:lnTo>
                    <a:pt x="692" y="6104"/>
                  </a:lnTo>
                  <a:lnTo>
                    <a:pt x="708" y="6136"/>
                  </a:lnTo>
                  <a:lnTo>
                    <a:pt x="724" y="6136"/>
                  </a:lnTo>
                  <a:lnTo>
                    <a:pt x="724" y="6174"/>
                  </a:lnTo>
                  <a:lnTo>
                    <a:pt x="763" y="6190"/>
                  </a:lnTo>
                  <a:lnTo>
                    <a:pt x="801" y="6213"/>
                  </a:lnTo>
                  <a:lnTo>
                    <a:pt x="833" y="6213"/>
                  </a:lnTo>
                  <a:lnTo>
                    <a:pt x="833" y="6228"/>
                  </a:lnTo>
                  <a:lnTo>
                    <a:pt x="871" y="6228"/>
                  </a:lnTo>
                  <a:lnTo>
                    <a:pt x="888" y="6244"/>
                  </a:lnTo>
                  <a:lnTo>
                    <a:pt x="943" y="6299"/>
                  </a:lnTo>
                  <a:lnTo>
                    <a:pt x="964" y="6299"/>
                  </a:lnTo>
                  <a:lnTo>
                    <a:pt x="964" y="6321"/>
                  </a:lnTo>
                  <a:lnTo>
                    <a:pt x="981" y="6321"/>
                  </a:lnTo>
                  <a:lnTo>
                    <a:pt x="1035" y="6338"/>
                  </a:lnTo>
                  <a:lnTo>
                    <a:pt x="1051" y="6353"/>
                  </a:lnTo>
                  <a:lnTo>
                    <a:pt x="1090" y="6353"/>
                  </a:lnTo>
                  <a:lnTo>
                    <a:pt x="1090" y="6321"/>
                  </a:lnTo>
                  <a:lnTo>
                    <a:pt x="1160" y="6321"/>
                  </a:lnTo>
                  <a:lnTo>
                    <a:pt x="1160" y="6299"/>
                  </a:lnTo>
                  <a:lnTo>
                    <a:pt x="1179" y="6299"/>
                  </a:lnTo>
                  <a:lnTo>
                    <a:pt x="1179" y="6283"/>
                  </a:lnTo>
                  <a:lnTo>
                    <a:pt x="1196" y="6283"/>
                  </a:lnTo>
                  <a:lnTo>
                    <a:pt x="1215" y="6283"/>
                  </a:lnTo>
                  <a:lnTo>
                    <a:pt x="1215" y="6321"/>
                  </a:lnTo>
                  <a:lnTo>
                    <a:pt x="1234" y="6321"/>
                  </a:lnTo>
                  <a:lnTo>
                    <a:pt x="1234" y="6353"/>
                  </a:lnTo>
                  <a:lnTo>
                    <a:pt x="1234" y="6408"/>
                  </a:lnTo>
                  <a:lnTo>
                    <a:pt x="1249" y="6408"/>
                  </a:lnTo>
                  <a:lnTo>
                    <a:pt x="1249" y="6462"/>
                  </a:lnTo>
                  <a:lnTo>
                    <a:pt x="1249" y="6517"/>
                  </a:lnTo>
                  <a:lnTo>
                    <a:pt x="1249" y="6571"/>
                  </a:lnTo>
                  <a:lnTo>
                    <a:pt x="1269" y="6571"/>
                  </a:lnTo>
                  <a:lnTo>
                    <a:pt x="1269" y="6642"/>
                  </a:lnTo>
                  <a:lnTo>
                    <a:pt x="1285" y="6642"/>
                  </a:lnTo>
                  <a:lnTo>
                    <a:pt x="1285" y="6697"/>
                  </a:lnTo>
                  <a:lnTo>
                    <a:pt x="1304" y="6697"/>
                  </a:lnTo>
                  <a:lnTo>
                    <a:pt x="1304" y="6735"/>
                  </a:lnTo>
                  <a:lnTo>
                    <a:pt x="1304" y="6844"/>
                  </a:lnTo>
                  <a:lnTo>
                    <a:pt x="1323" y="6844"/>
                  </a:lnTo>
                  <a:lnTo>
                    <a:pt x="1323" y="6969"/>
                  </a:lnTo>
                  <a:lnTo>
                    <a:pt x="1339" y="6969"/>
                  </a:lnTo>
                  <a:lnTo>
                    <a:pt x="1339" y="7045"/>
                  </a:lnTo>
                  <a:lnTo>
                    <a:pt x="1339" y="7077"/>
                  </a:lnTo>
                  <a:lnTo>
                    <a:pt x="1358" y="7077"/>
                  </a:lnTo>
                  <a:lnTo>
                    <a:pt x="1358" y="7154"/>
                  </a:lnTo>
                  <a:lnTo>
                    <a:pt x="1374" y="7209"/>
                  </a:lnTo>
                  <a:lnTo>
                    <a:pt x="1374" y="7263"/>
                  </a:lnTo>
                  <a:lnTo>
                    <a:pt x="1394" y="7263"/>
                  </a:lnTo>
                  <a:lnTo>
                    <a:pt x="1413" y="7333"/>
                  </a:lnTo>
                  <a:lnTo>
                    <a:pt x="1429" y="7388"/>
                  </a:lnTo>
                  <a:lnTo>
                    <a:pt x="1448" y="7388"/>
                  </a:lnTo>
                  <a:lnTo>
                    <a:pt x="1448" y="7443"/>
                  </a:lnTo>
                  <a:lnTo>
                    <a:pt x="1394" y="7481"/>
                  </a:lnTo>
                  <a:lnTo>
                    <a:pt x="1374" y="7481"/>
                  </a:lnTo>
                  <a:lnTo>
                    <a:pt x="1374" y="7496"/>
                  </a:lnTo>
                  <a:lnTo>
                    <a:pt x="1304" y="7532"/>
                  </a:lnTo>
                  <a:lnTo>
                    <a:pt x="1249" y="7551"/>
                  </a:lnTo>
                  <a:lnTo>
                    <a:pt x="1215" y="7567"/>
                  </a:lnTo>
                  <a:lnTo>
                    <a:pt x="1215" y="7586"/>
                  </a:lnTo>
                  <a:lnTo>
                    <a:pt x="1196" y="7605"/>
                  </a:lnTo>
                  <a:lnTo>
                    <a:pt x="1196" y="7641"/>
                  </a:lnTo>
                  <a:lnTo>
                    <a:pt x="1179" y="7641"/>
                  </a:lnTo>
                  <a:lnTo>
                    <a:pt x="1179" y="7660"/>
                  </a:lnTo>
                  <a:lnTo>
                    <a:pt x="1160" y="7660"/>
                  </a:lnTo>
                  <a:lnTo>
                    <a:pt x="1160" y="7711"/>
                  </a:lnTo>
                  <a:lnTo>
                    <a:pt x="1143" y="7711"/>
                  </a:lnTo>
                  <a:lnTo>
                    <a:pt x="1143" y="7766"/>
                  </a:lnTo>
                  <a:lnTo>
                    <a:pt x="1124" y="7766"/>
                  </a:lnTo>
                  <a:lnTo>
                    <a:pt x="1124" y="7785"/>
                  </a:lnTo>
                  <a:lnTo>
                    <a:pt x="1105" y="7839"/>
                  </a:lnTo>
                  <a:lnTo>
                    <a:pt x="1090" y="7839"/>
                  </a:lnTo>
                  <a:lnTo>
                    <a:pt x="1090" y="7858"/>
                  </a:lnTo>
                  <a:lnTo>
                    <a:pt x="1090" y="7875"/>
                  </a:lnTo>
                  <a:lnTo>
                    <a:pt x="1070" y="7875"/>
                  </a:lnTo>
                  <a:lnTo>
                    <a:pt x="1070" y="7913"/>
                  </a:lnTo>
                  <a:lnTo>
                    <a:pt x="1051" y="7913"/>
                  </a:lnTo>
                  <a:lnTo>
                    <a:pt x="1051" y="7928"/>
                  </a:lnTo>
                  <a:lnTo>
                    <a:pt x="1035" y="7983"/>
                  </a:lnTo>
                  <a:lnTo>
                    <a:pt x="1035" y="8000"/>
                  </a:lnTo>
                  <a:lnTo>
                    <a:pt x="1016" y="8000"/>
                  </a:lnTo>
                  <a:lnTo>
                    <a:pt x="1016" y="8022"/>
                  </a:lnTo>
                  <a:lnTo>
                    <a:pt x="996" y="8022"/>
                  </a:lnTo>
                  <a:lnTo>
                    <a:pt x="996" y="8053"/>
                  </a:lnTo>
                  <a:lnTo>
                    <a:pt x="996" y="8076"/>
                  </a:lnTo>
                  <a:lnTo>
                    <a:pt x="981" y="8076"/>
                  </a:lnTo>
                  <a:lnTo>
                    <a:pt x="981" y="8092"/>
                  </a:lnTo>
                  <a:lnTo>
                    <a:pt x="981" y="8108"/>
                  </a:lnTo>
                  <a:lnTo>
                    <a:pt x="964" y="8108"/>
                  </a:lnTo>
                  <a:lnTo>
                    <a:pt x="964" y="8130"/>
                  </a:lnTo>
                  <a:lnTo>
                    <a:pt x="943" y="8130"/>
                  </a:lnTo>
                  <a:lnTo>
                    <a:pt x="943" y="8162"/>
                  </a:lnTo>
                  <a:lnTo>
                    <a:pt x="943" y="8201"/>
                  </a:lnTo>
                  <a:lnTo>
                    <a:pt x="926" y="8201"/>
                  </a:lnTo>
                  <a:lnTo>
                    <a:pt x="910" y="8255"/>
                  </a:lnTo>
                  <a:lnTo>
                    <a:pt x="888" y="8310"/>
                  </a:lnTo>
                  <a:lnTo>
                    <a:pt x="888" y="8326"/>
                  </a:lnTo>
                  <a:lnTo>
                    <a:pt x="871" y="8326"/>
                  </a:lnTo>
                  <a:lnTo>
                    <a:pt x="871" y="8348"/>
                  </a:lnTo>
                  <a:lnTo>
                    <a:pt x="871" y="8380"/>
                  </a:lnTo>
                  <a:lnTo>
                    <a:pt x="856" y="8380"/>
                  </a:lnTo>
                  <a:lnTo>
                    <a:pt x="856" y="8402"/>
                  </a:lnTo>
                  <a:lnTo>
                    <a:pt x="833" y="8402"/>
                  </a:lnTo>
                  <a:lnTo>
                    <a:pt x="833" y="8419"/>
                  </a:lnTo>
                  <a:lnTo>
                    <a:pt x="817" y="8474"/>
                  </a:lnTo>
                  <a:lnTo>
                    <a:pt x="801" y="8474"/>
                  </a:lnTo>
                  <a:lnTo>
                    <a:pt x="801" y="8489"/>
                  </a:lnTo>
                  <a:lnTo>
                    <a:pt x="801" y="8527"/>
                  </a:lnTo>
                  <a:lnTo>
                    <a:pt x="779" y="8527"/>
                  </a:lnTo>
                  <a:lnTo>
                    <a:pt x="779" y="8544"/>
                  </a:lnTo>
                  <a:lnTo>
                    <a:pt x="779" y="8582"/>
                  </a:lnTo>
                  <a:lnTo>
                    <a:pt x="763" y="8582"/>
                  </a:lnTo>
                  <a:lnTo>
                    <a:pt x="763" y="8598"/>
                  </a:lnTo>
                  <a:lnTo>
                    <a:pt x="746" y="8653"/>
                  </a:lnTo>
                  <a:lnTo>
                    <a:pt x="724" y="8653"/>
                  </a:lnTo>
                  <a:lnTo>
                    <a:pt x="724" y="8691"/>
                  </a:lnTo>
                  <a:lnTo>
                    <a:pt x="708" y="8707"/>
                  </a:lnTo>
                  <a:lnTo>
                    <a:pt x="708" y="8729"/>
                  </a:lnTo>
                  <a:lnTo>
                    <a:pt x="692" y="8729"/>
                  </a:lnTo>
                  <a:lnTo>
                    <a:pt x="692" y="8746"/>
                  </a:lnTo>
                  <a:lnTo>
                    <a:pt x="692" y="8761"/>
                  </a:lnTo>
                  <a:lnTo>
                    <a:pt x="669" y="8761"/>
                  </a:lnTo>
                  <a:lnTo>
                    <a:pt x="669" y="8800"/>
                  </a:lnTo>
                  <a:lnTo>
                    <a:pt x="669" y="8816"/>
                  </a:lnTo>
                  <a:lnTo>
                    <a:pt x="654" y="8816"/>
                  </a:lnTo>
                  <a:lnTo>
                    <a:pt x="654" y="8838"/>
                  </a:lnTo>
                  <a:lnTo>
                    <a:pt x="654" y="8854"/>
                  </a:lnTo>
                  <a:lnTo>
                    <a:pt x="638" y="8854"/>
                  </a:lnTo>
                  <a:lnTo>
                    <a:pt x="616" y="8909"/>
                  </a:lnTo>
                  <a:lnTo>
                    <a:pt x="616" y="8925"/>
                  </a:lnTo>
                  <a:lnTo>
                    <a:pt x="599" y="8925"/>
                  </a:lnTo>
                  <a:lnTo>
                    <a:pt x="584" y="8980"/>
                  </a:lnTo>
                  <a:lnTo>
                    <a:pt x="584" y="9018"/>
                  </a:lnTo>
                  <a:lnTo>
                    <a:pt x="561" y="9018"/>
                  </a:lnTo>
                  <a:lnTo>
                    <a:pt x="561" y="9033"/>
                  </a:lnTo>
                  <a:lnTo>
                    <a:pt x="544" y="9033"/>
                  </a:lnTo>
                  <a:lnTo>
                    <a:pt x="506" y="9050"/>
                  </a:lnTo>
                  <a:lnTo>
                    <a:pt x="506" y="9073"/>
                  </a:lnTo>
                  <a:lnTo>
                    <a:pt x="491" y="9073"/>
                  </a:lnTo>
                  <a:lnTo>
                    <a:pt x="491" y="9088"/>
                  </a:lnTo>
                  <a:lnTo>
                    <a:pt x="436" y="9127"/>
                  </a:lnTo>
                  <a:lnTo>
                    <a:pt x="420" y="9127"/>
                  </a:lnTo>
                  <a:lnTo>
                    <a:pt x="420" y="9143"/>
                  </a:lnTo>
                  <a:lnTo>
                    <a:pt x="382" y="9181"/>
                  </a:lnTo>
                  <a:lnTo>
                    <a:pt x="382" y="9197"/>
                  </a:lnTo>
                  <a:lnTo>
                    <a:pt x="344" y="9213"/>
                  </a:lnTo>
                  <a:lnTo>
                    <a:pt x="344" y="9235"/>
                  </a:lnTo>
                  <a:lnTo>
                    <a:pt x="327" y="9252"/>
                  </a:lnTo>
                  <a:lnTo>
                    <a:pt x="327" y="9267"/>
                  </a:lnTo>
                  <a:lnTo>
                    <a:pt x="312" y="9267"/>
                  </a:lnTo>
                  <a:lnTo>
                    <a:pt x="312" y="9290"/>
                  </a:lnTo>
                  <a:lnTo>
                    <a:pt x="312" y="9305"/>
                  </a:lnTo>
                  <a:lnTo>
                    <a:pt x="289" y="9305"/>
                  </a:lnTo>
                  <a:lnTo>
                    <a:pt x="289" y="9345"/>
                  </a:lnTo>
                  <a:lnTo>
                    <a:pt x="289" y="9360"/>
                  </a:lnTo>
                  <a:lnTo>
                    <a:pt x="272" y="9360"/>
                  </a:lnTo>
                  <a:lnTo>
                    <a:pt x="272" y="9377"/>
                  </a:lnTo>
                  <a:lnTo>
                    <a:pt x="257" y="9399"/>
                  </a:lnTo>
                  <a:lnTo>
                    <a:pt x="257" y="9415"/>
                  </a:lnTo>
                  <a:lnTo>
                    <a:pt x="234" y="9415"/>
                  </a:lnTo>
                  <a:lnTo>
                    <a:pt x="234" y="9431"/>
                  </a:lnTo>
                  <a:lnTo>
                    <a:pt x="234" y="9453"/>
                  </a:lnTo>
                  <a:lnTo>
                    <a:pt x="218" y="9453"/>
                  </a:lnTo>
                  <a:lnTo>
                    <a:pt x="218" y="9485"/>
                  </a:lnTo>
                  <a:lnTo>
                    <a:pt x="202" y="9485"/>
                  </a:lnTo>
                  <a:lnTo>
                    <a:pt x="202" y="9507"/>
                  </a:lnTo>
                  <a:lnTo>
                    <a:pt x="70" y="9613"/>
                  </a:lnTo>
                  <a:lnTo>
                    <a:pt x="70" y="9632"/>
                  </a:lnTo>
                  <a:lnTo>
                    <a:pt x="55" y="9649"/>
                  </a:lnTo>
                  <a:lnTo>
                    <a:pt x="55" y="9668"/>
                  </a:lnTo>
                  <a:lnTo>
                    <a:pt x="38" y="9687"/>
                  </a:lnTo>
                  <a:lnTo>
                    <a:pt x="17" y="9738"/>
                  </a:lnTo>
                  <a:lnTo>
                    <a:pt x="17" y="9777"/>
                  </a:lnTo>
                  <a:lnTo>
                    <a:pt x="0" y="9777"/>
                  </a:lnTo>
                  <a:lnTo>
                    <a:pt x="0" y="9832"/>
                  </a:lnTo>
                  <a:lnTo>
                    <a:pt x="17" y="9832"/>
                  </a:lnTo>
                  <a:lnTo>
                    <a:pt x="17" y="9866"/>
                  </a:lnTo>
                  <a:close/>
                  <a:moveTo>
                    <a:pt x="724" y="9885"/>
                  </a:moveTo>
                  <a:lnTo>
                    <a:pt x="724" y="9866"/>
                  </a:lnTo>
                  <a:lnTo>
                    <a:pt x="17" y="9866"/>
                  </a:lnTo>
                  <a:lnTo>
                    <a:pt x="724" y="9885"/>
                  </a:lnTo>
                  <a:close/>
                  <a:moveTo>
                    <a:pt x="2316" y="8598"/>
                  </a:moveTo>
                  <a:lnTo>
                    <a:pt x="763" y="8598"/>
                  </a:lnTo>
                  <a:lnTo>
                    <a:pt x="2316" y="8598"/>
                  </a:lnTo>
                  <a:close/>
                  <a:moveTo>
                    <a:pt x="2354" y="7532"/>
                  </a:moveTo>
                  <a:lnTo>
                    <a:pt x="1304" y="7532"/>
                  </a:lnTo>
                  <a:lnTo>
                    <a:pt x="2354" y="7532"/>
                  </a:lnTo>
                  <a:close/>
                  <a:moveTo>
                    <a:pt x="2588" y="6462"/>
                  </a:moveTo>
                  <a:lnTo>
                    <a:pt x="2556" y="6462"/>
                  </a:lnTo>
                  <a:lnTo>
                    <a:pt x="2588" y="6462"/>
                  </a:lnTo>
                  <a:close/>
                  <a:moveTo>
                    <a:pt x="2479" y="6462"/>
                  </a:moveTo>
                  <a:lnTo>
                    <a:pt x="1249" y="6462"/>
                  </a:lnTo>
                  <a:lnTo>
                    <a:pt x="2479" y="6462"/>
                  </a:lnTo>
                  <a:close/>
                  <a:moveTo>
                    <a:pt x="1196" y="6283"/>
                  </a:moveTo>
                  <a:lnTo>
                    <a:pt x="1196" y="6244"/>
                  </a:lnTo>
                  <a:lnTo>
                    <a:pt x="888" y="6244"/>
                  </a:lnTo>
                  <a:lnTo>
                    <a:pt x="1196" y="6244"/>
                  </a:lnTo>
                  <a:lnTo>
                    <a:pt x="1196" y="6283"/>
                  </a:lnTo>
                  <a:close/>
                  <a:moveTo>
                    <a:pt x="2556" y="5902"/>
                  </a:moveTo>
                  <a:lnTo>
                    <a:pt x="2556" y="5886"/>
                  </a:lnTo>
                  <a:lnTo>
                    <a:pt x="654" y="5886"/>
                  </a:lnTo>
                  <a:lnTo>
                    <a:pt x="2556" y="5886"/>
                  </a:lnTo>
                  <a:lnTo>
                    <a:pt x="2556" y="5902"/>
                  </a:lnTo>
                  <a:close/>
                  <a:moveTo>
                    <a:pt x="2845" y="5399"/>
                  </a:moveTo>
                  <a:lnTo>
                    <a:pt x="616" y="5399"/>
                  </a:lnTo>
                  <a:lnTo>
                    <a:pt x="2845" y="5399"/>
                  </a:lnTo>
                  <a:close/>
                  <a:moveTo>
                    <a:pt x="561" y="5267"/>
                  </a:moveTo>
                  <a:lnTo>
                    <a:pt x="544" y="5267"/>
                  </a:lnTo>
                  <a:lnTo>
                    <a:pt x="561" y="5267"/>
                  </a:lnTo>
                  <a:close/>
                  <a:moveTo>
                    <a:pt x="2806" y="4310"/>
                  </a:moveTo>
                  <a:lnTo>
                    <a:pt x="817" y="4310"/>
                  </a:lnTo>
                  <a:lnTo>
                    <a:pt x="817" y="4054"/>
                  </a:lnTo>
                  <a:lnTo>
                    <a:pt x="833" y="4054"/>
                  </a:lnTo>
                  <a:lnTo>
                    <a:pt x="833" y="4015"/>
                  </a:lnTo>
                  <a:lnTo>
                    <a:pt x="817" y="4000"/>
                  </a:lnTo>
                  <a:lnTo>
                    <a:pt x="801" y="4000"/>
                  </a:lnTo>
                  <a:lnTo>
                    <a:pt x="801" y="3983"/>
                  </a:lnTo>
                  <a:lnTo>
                    <a:pt x="779" y="3930"/>
                  </a:lnTo>
                  <a:lnTo>
                    <a:pt x="779" y="3890"/>
                  </a:lnTo>
                  <a:lnTo>
                    <a:pt x="763" y="3890"/>
                  </a:lnTo>
                  <a:lnTo>
                    <a:pt x="763" y="3875"/>
                  </a:lnTo>
                  <a:lnTo>
                    <a:pt x="763" y="3836"/>
                  </a:lnTo>
                  <a:lnTo>
                    <a:pt x="724" y="3836"/>
                  </a:lnTo>
                  <a:lnTo>
                    <a:pt x="724" y="3890"/>
                  </a:lnTo>
                  <a:lnTo>
                    <a:pt x="724" y="4000"/>
                  </a:lnTo>
                  <a:lnTo>
                    <a:pt x="724" y="4092"/>
                  </a:lnTo>
                  <a:lnTo>
                    <a:pt x="746" y="4092"/>
                  </a:lnTo>
                  <a:lnTo>
                    <a:pt x="746" y="4147"/>
                  </a:lnTo>
                  <a:lnTo>
                    <a:pt x="763" y="4147"/>
                  </a:lnTo>
                  <a:lnTo>
                    <a:pt x="763" y="4179"/>
                  </a:lnTo>
                  <a:lnTo>
                    <a:pt x="763" y="4217"/>
                  </a:lnTo>
                  <a:lnTo>
                    <a:pt x="779" y="4217"/>
                  </a:lnTo>
                  <a:lnTo>
                    <a:pt x="779" y="4272"/>
                  </a:lnTo>
                  <a:lnTo>
                    <a:pt x="801" y="4272"/>
                  </a:lnTo>
                  <a:lnTo>
                    <a:pt x="801" y="4310"/>
                  </a:lnTo>
                  <a:lnTo>
                    <a:pt x="801" y="4326"/>
                  </a:lnTo>
                  <a:lnTo>
                    <a:pt x="817" y="4326"/>
                  </a:lnTo>
                  <a:lnTo>
                    <a:pt x="817" y="4310"/>
                  </a:lnTo>
                  <a:lnTo>
                    <a:pt x="817" y="4326"/>
                  </a:lnTo>
                  <a:lnTo>
                    <a:pt x="801" y="4326"/>
                  </a:lnTo>
                  <a:lnTo>
                    <a:pt x="801" y="4310"/>
                  </a:lnTo>
                  <a:lnTo>
                    <a:pt x="801" y="4272"/>
                  </a:lnTo>
                  <a:lnTo>
                    <a:pt x="779" y="4272"/>
                  </a:lnTo>
                  <a:lnTo>
                    <a:pt x="779" y="4217"/>
                  </a:lnTo>
                  <a:lnTo>
                    <a:pt x="763" y="4217"/>
                  </a:lnTo>
                  <a:lnTo>
                    <a:pt x="763" y="4179"/>
                  </a:lnTo>
                  <a:lnTo>
                    <a:pt x="763" y="4147"/>
                  </a:lnTo>
                  <a:lnTo>
                    <a:pt x="746" y="4147"/>
                  </a:lnTo>
                  <a:lnTo>
                    <a:pt x="746" y="4092"/>
                  </a:lnTo>
                  <a:lnTo>
                    <a:pt x="724" y="4092"/>
                  </a:lnTo>
                  <a:lnTo>
                    <a:pt x="724" y="4000"/>
                  </a:lnTo>
                  <a:lnTo>
                    <a:pt x="724" y="3890"/>
                  </a:lnTo>
                  <a:lnTo>
                    <a:pt x="724" y="3836"/>
                  </a:lnTo>
                  <a:lnTo>
                    <a:pt x="763" y="3836"/>
                  </a:lnTo>
                  <a:lnTo>
                    <a:pt x="763" y="3875"/>
                  </a:lnTo>
                  <a:lnTo>
                    <a:pt x="763" y="3890"/>
                  </a:lnTo>
                  <a:lnTo>
                    <a:pt x="779" y="3890"/>
                  </a:lnTo>
                  <a:lnTo>
                    <a:pt x="779" y="3930"/>
                  </a:lnTo>
                  <a:lnTo>
                    <a:pt x="801" y="3983"/>
                  </a:lnTo>
                  <a:lnTo>
                    <a:pt x="801" y="4000"/>
                  </a:lnTo>
                  <a:lnTo>
                    <a:pt x="817" y="4000"/>
                  </a:lnTo>
                  <a:lnTo>
                    <a:pt x="833" y="4015"/>
                  </a:lnTo>
                  <a:lnTo>
                    <a:pt x="833" y="4054"/>
                  </a:lnTo>
                  <a:lnTo>
                    <a:pt x="817" y="4054"/>
                  </a:lnTo>
                  <a:lnTo>
                    <a:pt x="817" y="4310"/>
                  </a:lnTo>
                  <a:lnTo>
                    <a:pt x="2806" y="4310"/>
                  </a:lnTo>
                  <a:close/>
                  <a:moveTo>
                    <a:pt x="801" y="4310"/>
                  </a:moveTo>
                  <a:lnTo>
                    <a:pt x="327" y="4310"/>
                  </a:lnTo>
                  <a:lnTo>
                    <a:pt x="801" y="4310"/>
                  </a:lnTo>
                  <a:close/>
                  <a:moveTo>
                    <a:pt x="2720" y="3836"/>
                  </a:moveTo>
                  <a:lnTo>
                    <a:pt x="763" y="3836"/>
                  </a:lnTo>
                  <a:lnTo>
                    <a:pt x="2720" y="3836"/>
                  </a:lnTo>
                  <a:close/>
                  <a:moveTo>
                    <a:pt x="1272" y="1089"/>
                  </a:moveTo>
                  <a:lnTo>
                    <a:pt x="1285" y="1105"/>
                  </a:lnTo>
                  <a:lnTo>
                    <a:pt x="1285" y="1156"/>
                  </a:lnTo>
                  <a:lnTo>
                    <a:pt x="1304" y="1156"/>
                  </a:lnTo>
                  <a:lnTo>
                    <a:pt x="1304" y="1214"/>
                  </a:lnTo>
                  <a:lnTo>
                    <a:pt x="1304" y="1265"/>
                  </a:lnTo>
                  <a:lnTo>
                    <a:pt x="1323" y="1265"/>
                  </a:lnTo>
                  <a:lnTo>
                    <a:pt x="1323" y="1373"/>
                  </a:lnTo>
                  <a:lnTo>
                    <a:pt x="1304" y="1373"/>
                  </a:lnTo>
                  <a:lnTo>
                    <a:pt x="1304" y="1412"/>
                  </a:lnTo>
                  <a:lnTo>
                    <a:pt x="1304" y="1444"/>
                  </a:lnTo>
                  <a:lnTo>
                    <a:pt x="1285" y="1444"/>
                  </a:lnTo>
                  <a:lnTo>
                    <a:pt x="1285" y="1469"/>
                  </a:lnTo>
                  <a:lnTo>
                    <a:pt x="1272" y="1469"/>
                  </a:lnTo>
                  <a:lnTo>
                    <a:pt x="1272" y="1501"/>
                  </a:lnTo>
                  <a:lnTo>
                    <a:pt x="1196" y="1573"/>
                  </a:lnTo>
                  <a:lnTo>
                    <a:pt x="1143" y="1611"/>
                  </a:lnTo>
                  <a:lnTo>
                    <a:pt x="1143" y="1630"/>
                  </a:lnTo>
                  <a:lnTo>
                    <a:pt x="1092" y="1630"/>
                  </a:lnTo>
                  <a:lnTo>
                    <a:pt x="1092" y="1649"/>
                  </a:lnTo>
                  <a:lnTo>
                    <a:pt x="1054" y="1662"/>
                  </a:lnTo>
                  <a:lnTo>
                    <a:pt x="996" y="1681"/>
                  </a:lnTo>
                  <a:lnTo>
                    <a:pt x="964" y="1700"/>
                  </a:lnTo>
                  <a:lnTo>
                    <a:pt x="926" y="1700"/>
                  </a:lnTo>
                  <a:lnTo>
                    <a:pt x="926" y="1720"/>
                  </a:lnTo>
                  <a:lnTo>
                    <a:pt x="888" y="1739"/>
                  </a:lnTo>
                  <a:lnTo>
                    <a:pt x="837" y="1752"/>
                  </a:lnTo>
                  <a:lnTo>
                    <a:pt x="779" y="1771"/>
                  </a:lnTo>
                  <a:lnTo>
                    <a:pt x="779" y="1790"/>
                  </a:lnTo>
                  <a:lnTo>
                    <a:pt x="765" y="1790"/>
                  </a:lnTo>
                  <a:lnTo>
                    <a:pt x="708" y="1790"/>
                  </a:lnTo>
                  <a:lnTo>
                    <a:pt x="708" y="1809"/>
                  </a:lnTo>
                  <a:lnTo>
                    <a:pt x="669" y="1809"/>
                  </a:lnTo>
                  <a:lnTo>
                    <a:pt x="669" y="1828"/>
                  </a:lnTo>
                  <a:lnTo>
                    <a:pt x="638" y="1828"/>
                  </a:lnTo>
                  <a:lnTo>
                    <a:pt x="638" y="1847"/>
                  </a:lnTo>
                  <a:lnTo>
                    <a:pt x="561" y="1879"/>
                  </a:lnTo>
                  <a:lnTo>
                    <a:pt x="561" y="1899"/>
                  </a:lnTo>
                  <a:lnTo>
                    <a:pt x="529" y="1931"/>
                  </a:lnTo>
                  <a:lnTo>
                    <a:pt x="529" y="1956"/>
                  </a:lnTo>
                  <a:lnTo>
                    <a:pt x="510" y="1956"/>
                  </a:lnTo>
                  <a:lnTo>
                    <a:pt x="510" y="1969"/>
                  </a:lnTo>
                  <a:lnTo>
                    <a:pt x="491" y="1969"/>
                  </a:lnTo>
                  <a:lnTo>
                    <a:pt x="491" y="2007"/>
                  </a:lnTo>
                  <a:lnTo>
                    <a:pt x="491" y="2026"/>
                  </a:lnTo>
                  <a:lnTo>
                    <a:pt x="452" y="2040"/>
                  </a:lnTo>
                  <a:lnTo>
                    <a:pt x="452" y="2066"/>
                  </a:lnTo>
                  <a:lnTo>
                    <a:pt x="439" y="2066"/>
                  </a:lnTo>
                  <a:lnTo>
                    <a:pt x="439" y="2079"/>
                  </a:lnTo>
                  <a:lnTo>
                    <a:pt x="420" y="2098"/>
                  </a:lnTo>
                  <a:lnTo>
                    <a:pt x="420" y="2117"/>
                  </a:lnTo>
                  <a:lnTo>
                    <a:pt x="401" y="2117"/>
                  </a:lnTo>
                  <a:lnTo>
                    <a:pt x="401" y="2149"/>
                  </a:lnTo>
                  <a:lnTo>
                    <a:pt x="2450" y="2149"/>
                  </a:lnTo>
                  <a:lnTo>
                    <a:pt x="2426" y="2117"/>
                  </a:lnTo>
                  <a:lnTo>
                    <a:pt x="2412" y="2117"/>
                  </a:lnTo>
                  <a:lnTo>
                    <a:pt x="2374" y="2079"/>
                  </a:lnTo>
                  <a:lnTo>
                    <a:pt x="2354" y="2079"/>
                  </a:lnTo>
                  <a:lnTo>
                    <a:pt x="2342" y="2066"/>
                  </a:lnTo>
                  <a:lnTo>
                    <a:pt x="2316" y="2066"/>
                  </a:lnTo>
                  <a:lnTo>
                    <a:pt x="2316" y="2040"/>
                  </a:lnTo>
                  <a:lnTo>
                    <a:pt x="2303" y="2040"/>
                  </a:lnTo>
                  <a:lnTo>
                    <a:pt x="2265" y="2040"/>
                  </a:lnTo>
                  <a:lnTo>
                    <a:pt x="2265" y="2026"/>
                  </a:lnTo>
                  <a:lnTo>
                    <a:pt x="2246" y="2026"/>
                  </a:lnTo>
                  <a:lnTo>
                    <a:pt x="2246" y="2007"/>
                  </a:lnTo>
                  <a:lnTo>
                    <a:pt x="2233" y="2007"/>
                  </a:lnTo>
                  <a:lnTo>
                    <a:pt x="2207" y="2007"/>
                  </a:lnTo>
                  <a:lnTo>
                    <a:pt x="2175" y="1956"/>
                  </a:lnTo>
                  <a:lnTo>
                    <a:pt x="2156" y="1956"/>
                  </a:lnTo>
                  <a:lnTo>
                    <a:pt x="2124" y="1931"/>
                  </a:lnTo>
                  <a:lnTo>
                    <a:pt x="2099" y="1931"/>
                  </a:lnTo>
                  <a:lnTo>
                    <a:pt x="2099" y="1918"/>
                  </a:lnTo>
                  <a:lnTo>
                    <a:pt x="2086" y="1918"/>
                  </a:lnTo>
                  <a:lnTo>
                    <a:pt x="2067" y="1899"/>
                  </a:lnTo>
                  <a:lnTo>
                    <a:pt x="2048" y="1899"/>
                  </a:lnTo>
                  <a:lnTo>
                    <a:pt x="2048" y="1860"/>
                  </a:lnTo>
                  <a:lnTo>
                    <a:pt x="2016" y="1860"/>
                  </a:lnTo>
                  <a:lnTo>
                    <a:pt x="1976" y="1809"/>
                  </a:lnTo>
                  <a:lnTo>
                    <a:pt x="1957" y="1809"/>
                  </a:lnTo>
                  <a:lnTo>
                    <a:pt x="1957" y="1720"/>
                  </a:lnTo>
                  <a:lnTo>
                    <a:pt x="1938" y="1720"/>
                  </a:lnTo>
                  <a:lnTo>
                    <a:pt x="1938" y="1662"/>
                  </a:lnTo>
                  <a:lnTo>
                    <a:pt x="1957" y="1662"/>
                  </a:lnTo>
                  <a:lnTo>
                    <a:pt x="1957" y="1630"/>
                  </a:lnTo>
                  <a:lnTo>
                    <a:pt x="1957" y="1592"/>
                  </a:lnTo>
                  <a:lnTo>
                    <a:pt x="1976" y="1592"/>
                  </a:lnTo>
                  <a:lnTo>
                    <a:pt x="1989" y="1501"/>
                  </a:lnTo>
                  <a:lnTo>
                    <a:pt x="1976" y="1501"/>
                  </a:lnTo>
                  <a:lnTo>
                    <a:pt x="1976" y="1482"/>
                  </a:lnTo>
                  <a:lnTo>
                    <a:pt x="1957" y="1482"/>
                  </a:lnTo>
                  <a:lnTo>
                    <a:pt x="1957" y="1469"/>
                  </a:lnTo>
                  <a:lnTo>
                    <a:pt x="1976" y="1469"/>
                  </a:lnTo>
                  <a:lnTo>
                    <a:pt x="1976" y="1393"/>
                  </a:lnTo>
                  <a:lnTo>
                    <a:pt x="1976" y="1373"/>
                  </a:lnTo>
                  <a:lnTo>
                    <a:pt x="2048" y="1335"/>
                  </a:lnTo>
                  <a:lnTo>
                    <a:pt x="2048" y="1303"/>
                  </a:lnTo>
                  <a:lnTo>
                    <a:pt x="2067" y="1303"/>
                  </a:lnTo>
                  <a:lnTo>
                    <a:pt x="2067" y="1265"/>
                  </a:lnTo>
                  <a:lnTo>
                    <a:pt x="2086" y="1265"/>
                  </a:lnTo>
                  <a:lnTo>
                    <a:pt x="2086" y="1233"/>
                  </a:lnTo>
                  <a:lnTo>
                    <a:pt x="2099" y="1233"/>
                  </a:lnTo>
                  <a:lnTo>
                    <a:pt x="2099" y="1214"/>
                  </a:lnTo>
                  <a:lnTo>
                    <a:pt x="2099" y="1195"/>
                  </a:lnTo>
                  <a:lnTo>
                    <a:pt x="2124" y="1195"/>
                  </a:lnTo>
                  <a:lnTo>
                    <a:pt x="2124" y="1143"/>
                  </a:lnTo>
                  <a:lnTo>
                    <a:pt x="2124" y="1105"/>
                  </a:lnTo>
                  <a:lnTo>
                    <a:pt x="2137" y="1105"/>
                  </a:lnTo>
                  <a:lnTo>
                    <a:pt x="2137" y="1089"/>
                  </a:lnTo>
                  <a:lnTo>
                    <a:pt x="2153" y="1089"/>
                  </a:lnTo>
                  <a:lnTo>
                    <a:pt x="2153" y="1086"/>
                  </a:lnTo>
                  <a:lnTo>
                    <a:pt x="2156" y="1086"/>
                  </a:lnTo>
                  <a:lnTo>
                    <a:pt x="2156" y="1073"/>
                  </a:lnTo>
                  <a:lnTo>
                    <a:pt x="2175" y="1073"/>
                  </a:lnTo>
                  <a:lnTo>
                    <a:pt x="2191" y="1034"/>
                  </a:lnTo>
                  <a:lnTo>
                    <a:pt x="2191" y="980"/>
                  </a:lnTo>
                  <a:lnTo>
                    <a:pt x="2207" y="980"/>
                  </a:lnTo>
                  <a:lnTo>
                    <a:pt x="2207" y="910"/>
                  </a:lnTo>
                  <a:lnTo>
                    <a:pt x="2207" y="800"/>
                  </a:lnTo>
                  <a:lnTo>
                    <a:pt x="2229" y="800"/>
                  </a:lnTo>
                  <a:lnTo>
                    <a:pt x="2229" y="762"/>
                  </a:lnTo>
                  <a:lnTo>
                    <a:pt x="2229" y="708"/>
                  </a:lnTo>
                  <a:lnTo>
                    <a:pt x="2246" y="708"/>
                  </a:lnTo>
                  <a:lnTo>
                    <a:pt x="2246" y="669"/>
                  </a:lnTo>
                  <a:lnTo>
                    <a:pt x="2262" y="669"/>
                  </a:lnTo>
                  <a:lnTo>
                    <a:pt x="2262" y="653"/>
                  </a:lnTo>
                  <a:lnTo>
                    <a:pt x="2262" y="506"/>
                  </a:lnTo>
                  <a:lnTo>
                    <a:pt x="2246" y="451"/>
                  </a:lnTo>
                  <a:lnTo>
                    <a:pt x="2229" y="451"/>
                  </a:lnTo>
                  <a:lnTo>
                    <a:pt x="2229" y="419"/>
                  </a:lnTo>
                  <a:lnTo>
                    <a:pt x="2229" y="397"/>
                  </a:lnTo>
                  <a:lnTo>
                    <a:pt x="2207" y="397"/>
                  </a:lnTo>
                  <a:lnTo>
                    <a:pt x="2137" y="272"/>
                  </a:lnTo>
                  <a:lnTo>
                    <a:pt x="2121" y="272"/>
                  </a:lnTo>
                  <a:lnTo>
                    <a:pt x="2121" y="234"/>
                  </a:lnTo>
                  <a:lnTo>
                    <a:pt x="2099" y="234"/>
                  </a:lnTo>
                  <a:lnTo>
                    <a:pt x="2099" y="179"/>
                  </a:lnTo>
                  <a:lnTo>
                    <a:pt x="2082" y="179"/>
                  </a:lnTo>
                  <a:lnTo>
                    <a:pt x="2067" y="147"/>
                  </a:lnTo>
                  <a:lnTo>
                    <a:pt x="2027" y="92"/>
                  </a:lnTo>
                  <a:lnTo>
                    <a:pt x="2012" y="92"/>
                  </a:lnTo>
                  <a:lnTo>
                    <a:pt x="1974" y="92"/>
                  </a:lnTo>
                  <a:lnTo>
                    <a:pt x="1974" y="70"/>
                  </a:lnTo>
                  <a:lnTo>
                    <a:pt x="1935" y="70"/>
                  </a:lnTo>
                  <a:lnTo>
                    <a:pt x="1935" y="54"/>
                  </a:lnTo>
                  <a:lnTo>
                    <a:pt x="1903" y="54"/>
                  </a:lnTo>
                  <a:lnTo>
                    <a:pt x="1903" y="38"/>
                  </a:lnTo>
                  <a:lnTo>
                    <a:pt x="1865" y="38"/>
                  </a:lnTo>
                  <a:lnTo>
                    <a:pt x="1827" y="38"/>
                  </a:lnTo>
                  <a:lnTo>
                    <a:pt x="1827" y="16"/>
                  </a:lnTo>
                  <a:lnTo>
                    <a:pt x="1772" y="16"/>
                  </a:lnTo>
                  <a:lnTo>
                    <a:pt x="1740" y="16"/>
                  </a:lnTo>
                  <a:lnTo>
                    <a:pt x="1740" y="0"/>
                  </a:lnTo>
                  <a:lnTo>
                    <a:pt x="1647" y="0"/>
                  </a:lnTo>
                  <a:lnTo>
                    <a:pt x="1647" y="16"/>
                  </a:lnTo>
                  <a:lnTo>
                    <a:pt x="1553" y="16"/>
                  </a:lnTo>
                  <a:lnTo>
                    <a:pt x="1521" y="16"/>
                  </a:lnTo>
                  <a:lnTo>
                    <a:pt x="1521" y="38"/>
                  </a:lnTo>
                  <a:lnTo>
                    <a:pt x="1448" y="38"/>
                  </a:lnTo>
                  <a:lnTo>
                    <a:pt x="1413" y="54"/>
                  </a:lnTo>
                  <a:lnTo>
                    <a:pt x="1413" y="70"/>
                  </a:lnTo>
                  <a:lnTo>
                    <a:pt x="1374" y="70"/>
                  </a:lnTo>
                  <a:lnTo>
                    <a:pt x="1358" y="70"/>
                  </a:lnTo>
                  <a:lnTo>
                    <a:pt x="1358" y="92"/>
                  </a:lnTo>
                  <a:lnTo>
                    <a:pt x="1304" y="92"/>
                  </a:lnTo>
                  <a:lnTo>
                    <a:pt x="1304" y="109"/>
                  </a:lnTo>
                  <a:lnTo>
                    <a:pt x="1285" y="109"/>
                  </a:lnTo>
                  <a:lnTo>
                    <a:pt x="1285" y="124"/>
                  </a:lnTo>
                  <a:lnTo>
                    <a:pt x="1249" y="164"/>
                  </a:lnTo>
                  <a:lnTo>
                    <a:pt x="1249" y="179"/>
                  </a:lnTo>
                  <a:lnTo>
                    <a:pt x="1234" y="179"/>
                  </a:lnTo>
                  <a:lnTo>
                    <a:pt x="1234" y="202"/>
                  </a:lnTo>
                  <a:lnTo>
                    <a:pt x="1215" y="256"/>
                  </a:lnTo>
                  <a:lnTo>
                    <a:pt x="1196" y="256"/>
                  </a:lnTo>
                  <a:lnTo>
                    <a:pt x="1196" y="311"/>
                  </a:lnTo>
                  <a:lnTo>
                    <a:pt x="1179" y="311"/>
                  </a:lnTo>
                  <a:lnTo>
                    <a:pt x="1179" y="326"/>
                  </a:lnTo>
                  <a:lnTo>
                    <a:pt x="1160" y="326"/>
                  </a:lnTo>
                  <a:lnTo>
                    <a:pt x="1160" y="342"/>
                  </a:lnTo>
                  <a:lnTo>
                    <a:pt x="1160" y="381"/>
                  </a:lnTo>
                  <a:lnTo>
                    <a:pt x="1143" y="381"/>
                  </a:lnTo>
                  <a:lnTo>
                    <a:pt x="1143" y="397"/>
                  </a:lnTo>
                  <a:lnTo>
                    <a:pt x="1124" y="451"/>
                  </a:lnTo>
                  <a:lnTo>
                    <a:pt x="1124" y="474"/>
                  </a:lnTo>
                  <a:lnTo>
                    <a:pt x="1105" y="474"/>
                  </a:lnTo>
                  <a:lnTo>
                    <a:pt x="1090" y="615"/>
                  </a:lnTo>
                  <a:lnTo>
                    <a:pt x="1105" y="615"/>
                  </a:lnTo>
                  <a:lnTo>
                    <a:pt x="1105" y="691"/>
                  </a:lnTo>
                  <a:lnTo>
                    <a:pt x="1124" y="691"/>
                  </a:lnTo>
                  <a:lnTo>
                    <a:pt x="1124" y="746"/>
                  </a:lnTo>
                  <a:lnTo>
                    <a:pt x="1143" y="778"/>
                  </a:lnTo>
                  <a:lnTo>
                    <a:pt x="1160" y="833"/>
                  </a:lnTo>
                  <a:lnTo>
                    <a:pt x="1160" y="942"/>
                  </a:lnTo>
                  <a:lnTo>
                    <a:pt x="1179" y="942"/>
                  </a:lnTo>
                  <a:lnTo>
                    <a:pt x="1196" y="995"/>
                  </a:lnTo>
                  <a:lnTo>
                    <a:pt x="1196" y="1018"/>
                  </a:lnTo>
                  <a:lnTo>
                    <a:pt x="1215" y="1018"/>
                  </a:lnTo>
                  <a:lnTo>
                    <a:pt x="1249" y="1089"/>
                  </a:lnTo>
                  <a:lnTo>
                    <a:pt x="1272" y="108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92560" y="2862360"/>
              <a:ext cx="641520" cy="2826000"/>
            </a:xfrm>
            <a:custGeom>
              <a:avLst/>
              <a:gdLst/>
              <a:ahLst/>
              <a:rect l="l" t="t" r="r" b="b"/>
              <a:pathLst>
                <a:path w="2426" h="10680">
                  <a:moveTo>
                    <a:pt x="1990" y="4272"/>
                  </a:moveTo>
                  <a:lnTo>
                    <a:pt x="522" y="4272"/>
                  </a:lnTo>
                  <a:lnTo>
                    <a:pt x="1990" y="4272"/>
                  </a:lnTo>
                  <a:close/>
                  <a:moveTo>
                    <a:pt x="599" y="9614"/>
                  </a:moveTo>
                  <a:lnTo>
                    <a:pt x="599" y="9629"/>
                  </a:lnTo>
                  <a:lnTo>
                    <a:pt x="577" y="9629"/>
                  </a:lnTo>
                  <a:lnTo>
                    <a:pt x="577" y="10065"/>
                  </a:lnTo>
                  <a:lnTo>
                    <a:pt x="561" y="10065"/>
                  </a:lnTo>
                  <a:lnTo>
                    <a:pt x="561" y="10174"/>
                  </a:lnTo>
                  <a:lnTo>
                    <a:pt x="631" y="10174"/>
                  </a:lnTo>
                  <a:lnTo>
                    <a:pt x="631" y="10190"/>
                  </a:lnTo>
                  <a:lnTo>
                    <a:pt x="669" y="10190"/>
                  </a:lnTo>
                  <a:lnTo>
                    <a:pt x="669" y="10213"/>
                  </a:lnTo>
                  <a:lnTo>
                    <a:pt x="741" y="10213"/>
                  </a:lnTo>
                  <a:lnTo>
                    <a:pt x="779" y="10213"/>
                  </a:lnTo>
                  <a:lnTo>
                    <a:pt x="779" y="10321"/>
                  </a:lnTo>
                  <a:lnTo>
                    <a:pt x="779" y="10375"/>
                  </a:lnTo>
                  <a:lnTo>
                    <a:pt x="795" y="10375"/>
                  </a:lnTo>
                  <a:lnTo>
                    <a:pt x="795" y="10408"/>
                  </a:lnTo>
                  <a:lnTo>
                    <a:pt x="817" y="10408"/>
                  </a:lnTo>
                  <a:lnTo>
                    <a:pt x="817" y="10447"/>
                  </a:lnTo>
                  <a:lnTo>
                    <a:pt x="833" y="10447"/>
                  </a:lnTo>
                  <a:lnTo>
                    <a:pt x="903" y="10539"/>
                  </a:lnTo>
                  <a:lnTo>
                    <a:pt x="926" y="10539"/>
                  </a:lnTo>
                  <a:lnTo>
                    <a:pt x="981" y="10555"/>
                  </a:lnTo>
                  <a:lnTo>
                    <a:pt x="1067" y="10555"/>
                  </a:lnTo>
                  <a:lnTo>
                    <a:pt x="1067" y="10572"/>
                  </a:lnTo>
                  <a:lnTo>
                    <a:pt x="1285" y="10572"/>
                  </a:lnTo>
                  <a:lnTo>
                    <a:pt x="1285" y="10594"/>
                  </a:lnTo>
                  <a:lnTo>
                    <a:pt x="1340" y="10594"/>
                  </a:lnTo>
                  <a:lnTo>
                    <a:pt x="1362" y="10594"/>
                  </a:lnTo>
                  <a:lnTo>
                    <a:pt x="1362" y="10610"/>
                  </a:lnTo>
                  <a:lnTo>
                    <a:pt x="1432" y="10610"/>
                  </a:lnTo>
                  <a:lnTo>
                    <a:pt x="1432" y="10625"/>
                  </a:lnTo>
                  <a:lnTo>
                    <a:pt x="1448" y="10625"/>
                  </a:lnTo>
                  <a:lnTo>
                    <a:pt x="1502" y="10625"/>
                  </a:lnTo>
                  <a:lnTo>
                    <a:pt x="1502" y="10648"/>
                  </a:lnTo>
                  <a:lnTo>
                    <a:pt x="1542" y="10648"/>
                  </a:lnTo>
                  <a:lnTo>
                    <a:pt x="1593" y="10648"/>
                  </a:lnTo>
                  <a:lnTo>
                    <a:pt x="1593" y="10664"/>
                  </a:lnTo>
                  <a:lnTo>
                    <a:pt x="1631" y="10664"/>
                  </a:lnTo>
                  <a:lnTo>
                    <a:pt x="1740" y="10664"/>
                  </a:lnTo>
                  <a:lnTo>
                    <a:pt x="1740" y="10680"/>
                  </a:lnTo>
                  <a:lnTo>
                    <a:pt x="2044" y="10680"/>
                  </a:lnTo>
                  <a:lnTo>
                    <a:pt x="2044" y="10664"/>
                  </a:lnTo>
                  <a:lnTo>
                    <a:pt x="2137" y="10664"/>
                  </a:lnTo>
                  <a:lnTo>
                    <a:pt x="2175" y="10664"/>
                  </a:lnTo>
                  <a:lnTo>
                    <a:pt x="2175" y="10648"/>
                  </a:lnTo>
                  <a:lnTo>
                    <a:pt x="2207" y="10648"/>
                  </a:lnTo>
                  <a:lnTo>
                    <a:pt x="2246" y="10648"/>
                  </a:lnTo>
                  <a:lnTo>
                    <a:pt x="2246" y="10625"/>
                  </a:lnTo>
                  <a:lnTo>
                    <a:pt x="2284" y="10625"/>
                  </a:lnTo>
                  <a:lnTo>
                    <a:pt x="2316" y="10594"/>
                  </a:lnTo>
                  <a:lnTo>
                    <a:pt x="2316" y="10555"/>
                  </a:lnTo>
                  <a:lnTo>
                    <a:pt x="2339" y="10555"/>
                  </a:lnTo>
                  <a:lnTo>
                    <a:pt x="2339" y="10485"/>
                  </a:lnTo>
                  <a:lnTo>
                    <a:pt x="2316" y="10485"/>
                  </a:lnTo>
                  <a:lnTo>
                    <a:pt x="2300" y="10430"/>
                  </a:lnTo>
                  <a:lnTo>
                    <a:pt x="2284" y="10430"/>
                  </a:lnTo>
                  <a:lnTo>
                    <a:pt x="2262" y="10408"/>
                  </a:lnTo>
                  <a:lnTo>
                    <a:pt x="2246" y="10408"/>
                  </a:lnTo>
                  <a:lnTo>
                    <a:pt x="2192" y="10392"/>
                  </a:lnTo>
                  <a:lnTo>
                    <a:pt x="2192" y="10375"/>
                  </a:lnTo>
                  <a:lnTo>
                    <a:pt x="2175" y="10375"/>
                  </a:lnTo>
                  <a:lnTo>
                    <a:pt x="2099" y="10353"/>
                  </a:lnTo>
                  <a:lnTo>
                    <a:pt x="2099" y="10337"/>
                  </a:lnTo>
                  <a:lnTo>
                    <a:pt x="2082" y="10337"/>
                  </a:lnTo>
                  <a:lnTo>
                    <a:pt x="2067" y="10337"/>
                  </a:lnTo>
                  <a:lnTo>
                    <a:pt x="2067" y="10321"/>
                  </a:lnTo>
                  <a:lnTo>
                    <a:pt x="2028" y="10321"/>
                  </a:lnTo>
                  <a:lnTo>
                    <a:pt x="2012" y="10321"/>
                  </a:lnTo>
                  <a:lnTo>
                    <a:pt x="2012" y="10299"/>
                  </a:lnTo>
                  <a:lnTo>
                    <a:pt x="1990" y="10299"/>
                  </a:lnTo>
                  <a:lnTo>
                    <a:pt x="1935" y="10283"/>
                  </a:lnTo>
                  <a:lnTo>
                    <a:pt x="1880" y="10228"/>
                  </a:lnTo>
                  <a:lnTo>
                    <a:pt x="1865" y="10228"/>
                  </a:lnTo>
                  <a:lnTo>
                    <a:pt x="1848" y="10213"/>
                  </a:lnTo>
                  <a:lnTo>
                    <a:pt x="1826" y="10213"/>
                  </a:lnTo>
                  <a:lnTo>
                    <a:pt x="1826" y="10174"/>
                  </a:lnTo>
                  <a:lnTo>
                    <a:pt x="1848" y="10174"/>
                  </a:lnTo>
                  <a:lnTo>
                    <a:pt x="1848" y="10136"/>
                  </a:lnTo>
                  <a:lnTo>
                    <a:pt x="1919" y="10136"/>
                  </a:lnTo>
                  <a:lnTo>
                    <a:pt x="1919" y="10120"/>
                  </a:lnTo>
                  <a:lnTo>
                    <a:pt x="2067" y="10120"/>
                  </a:lnTo>
                  <a:lnTo>
                    <a:pt x="2067" y="10103"/>
                  </a:lnTo>
                  <a:lnTo>
                    <a:pt x="2137" y="10103"/>
                  </a:lnTo>
                  <a:lnTo>
                    <a:pt x="2175" y="10103"/>
                  </a:lnTo>
                  <a:lnTo>
                    <a:pt x="2175" y="10081"/>
                  </a:lnTo>
                  <a:lnTo>
                    <a:pt x="2246" y="10065"/>
                  </a:lnTo>
                  <a:lnTo>
                    <a:pt x="2300" y="10049"/>
                  </a:lnTo>
                  <a:lnTo>
                    <a:pt x="2354" y="9994"/>
                  </a:lnTo>
                  <a:lnTo>
                    <a:pt x="2354" y="9941"/>
                  </a:lnTo>
                  <a:lnTo>
                    <a:pt x="2316" y="9941"/>
                  </a:lnTo>
                  <a:lnTo>
                    <a:pt x="2316" y="9918"/>
                  </a:lnTo>
                  <a:lnTo>
                    <a:pt x="2300" y="9918"/>
                  </a:lnTo>
                  <a:lnTo>
                    <a:pt x="2284" y="9918"/>
                  </a:lnTo>
                  <a:lnTo>
                    <a:pt x="2284" y="9901"/>
                  </a:lnTo>
                  <a:lnTo>
                    <a:pt x="2262" y="9901"/>
                  </a:lnTo>
                  <a:lnTo>
                    <a:pt x="2262" y="9886"/>
                  </a:lnTo>
                  <a:lnTo>
                    <a:pt x="2192" y="9886"/>
                  </a:lnTo>
                  <a:lnTo>
                    <a:pt x="2137" y="9886"/>
                  </a:lnTo>
                  <a:lnTo>
                    <a:pt x="2137" y="9863"/>
                  </a:lnTo>
                  <a:lnTo>
                    <a:pt x="2028" y="9847"/>
                  </a:lnTo>
                  <a:lnTo>
                    <a:pt x="1973" y="9847"/>
                  </a:lnTo>
                  <a:lnTo>
                    <a:pt x="1973" y="9831"/>
                  </a:lnTo>
                  <a:lnTo>
                    <a:pt x="1935" y="9831"/>
                  </a:lnTo>
                  <a:lnTo>
                    <a:pt x="1880" y="9831"/>
                  </a:lnTo>
                  <a:lnTo>
                    <a:pt x="1880" y="9809"/>
                  </a:lnTo>
                  <a:lnTo>
                    <a:pt x="1848" y="9809"/>
                  </a:lnTo>
                  <a:lnTo>
                    <a:pt x="1826" y="9809"/>
                  </a:lnTo>
                  <a:lnTo>
                    <a:pt x="1826" y="9739"/>
                  </a:lnTo>
                  <a:lnTo>
                    <a:pt x="1826" y="9629"/>
                  </a:lnTo>
                  <a:lnTo>
                    <a:pt x="1826" y="9614"/>
                  </a:lnTo>
                  <a:lnTo>
                    <a:pt x="1826" y="9416"/>
                  </a:lnTo>
                  <a:lnTo>
                    <a:pt x="1810" y="9416"/>
                  </a:lnTo>
                  <a:lnTo>
                    <a:pt x="1810" y="9322"/>
                  </a:lnTo>
                  <a:lnTo>
                    <a:pt x="1810" y="9268"/>
                  </a:lnTo>
                  <a:lnTo>
                    <a:pt x="1795" y="9268"/>
                  </a:lnTo>
                  <a:lnTo>
                    <a:pt x="1795" y="9182"/>
                  </a:lnTo>
                  <a:lnTo>
                    <a:pt x="1772" y="9182"/>
                  </a:lnTo>
                  <a:lnTo>
                    <a:pt x="1772" y="9072"/>
                  </a:lnTo>
                  <a:lnTo>
                    <a:pt x="1755" y="9072"/>
                  </a:lnTo>
                  <a:lnTo>
                    <a:pt x="1755" y="8995"/>
                  </a:lnTo>
                  <a:lnTo>
                    <a:pt x="1740" y="8995"/>
                  </a:lnTo>
                  <a:lnTo>
                    <a:pt x="1740" y="8942"/>
                  </a:lnTo>
                  <a:lnTo>
                    <a:pt x="1721" y="8746"/>
                  </a:lnTo>
                  <a:lnTo>
                    <a:pt x="1740" y="8746"/>
                  </a:lnTo>
                  <a:lnTo>
                    <a:pt x="1740" y="8621"/>
                  </a:lnTo>
                  <a:lnTo>
                    <a:pt x="1740" y="8566"/>
                  </a:lnTo>
                  <a:lnTo>
                    <a:pt x="1740" y="8544"/>
                  </a:lnTo>
                  <a:lnTo>
                    <a:pt x="1740" y="8528"/>
                  </a:lnTo>
                  <a:lnTo>
                    <a:pt x="1755" y="8528"/>
                  </a:lnTo>
                  <a:lnTo>
                    <a:pt x="1755" y="8403"/>
                  </a:lnTo>
                  <a:lnTo>
                    <a:pt x="1772" y="8403"/>
                  </a:lnTo>
                  <a:lnTo>
                    <a:pt x="1772" y="8326"/>
                  </a:lnTo>
                  <a:lnTo>
                    <a:pt x="1772" y="8272"/>
                  </a:lnTo>
                  <a:lnTo>
                    <a:pt x="1795" y="8272"/>
                  </a:lnTo>
                  <a:lnTo>
                    <a:pt x="1795" y="8163"/>
                  </a:lnTo>
                  <a:lnTo>
                    <a:pt x="1810" y="8163"/>
                  </a:lnTo>
                  <a:lnTo>
                    <a:pt x="1810" y="8092"/>
                  </a:lnTo>
                  <a:lnTo>
                    <a:pt x="1810" y="8022"/>
                  </a:lnTo>
                  <a:lnTo>
                    <a:pt x="1826" y="8022"/>
                  </a:lnTo>
                  <a:lnTo>
                    <a:pt x="1826" y="7820"/>
                  </a:lnTo>
                  <a:lnTo>
                    <a:pt x="1826" y="7497"/>
                  </a:lnTo>
                  <a:lnTo>
                    <a:pt x="1826" y="7478"/>
                  </a:lnTo>
                  <a:lnTo>
                    <a:pt x="1826" y="7263"/>
                  </a:lnTo>
                  <a:lnTo>
                    <a:pt x="1848" y="7263"/>
                  </a:lnTo>
                  <a:lnTo>
                    <a:pt x="1848" y="7100"/>
                  </a:lnTo>
                  <a:lnTo>
                    <a:pt x="1848" y="6991"/>
                  </a:lnTo>
                  <a:lnTo>
                    <a:pt x="1865" y="6991"/>
                  </a:lnTo>
                  <a:lnTo>
                    <a:pt x="1865" y="6681"/>
                  </a:lnTo>
                  <a:lnTo>
                    <a:pt x="1880" y="6681"/>
                  </a:lnTo>
                  <a:lnTo>
                    <a:pt x="1880" y="6555"/>
                  </a:lnTo>
                  <a:lnTo>
                    <a:pt x="1880" y="6424"/>
                  </a:lnTo>
                  <a:lnTo>
                    <a:pt x="1880" y="6408"/>
                  </a:lnTo>
                  <a:lnTo>
                    <a:pt x="1903" y="6408"/>
                  </a:lnTo>
                  <a:lnTo>
                    <a:pt x="1919" y="6065"/>
                  </a:lnTo>
                  <a:lnTo>
                    <a:pt x="1919" y="5901"/>
                  </a:lnTo>
                  <a:lnTo>
                    <a:pt x="1935" y="5901"/>
                  </a:lnTo>
                  <a:lnTo>
                    <a:pt x="1935" y="5450"/>
                  </a:lnTo>
                  <a:lnTo>
                    <a:pt x="1935" y="5361"/>
                  </a:lnTo>
                  <a:lnTo>
                    <a:pt x="1935" y="5342"/>
                  </a:lnTo>
                  <a:lnTo>
                    <a:pt x="1935" y="5236"/>
                  </a:lnTo>
                  <a:lnTo>
                    <a:pt x="1957" y="5236"/>
                  </a:lnTo>
                  <a:lnTo>
                    <a:pt x="1957" y="5050"/>
                  </a:lnTo>
                  <a:lnTo>
                    <a:pt x="1973" y="5050"/>
                  </a:lnTo>
                  <a:lnTo>
                    <a:pt x="1973" y="5018"/>
                  </a:lnTo>
                  <a:lnTo>
                    <a:pt x="1973" y="4817"/>
                  </a:lnTo>
                  <a:lnTo>
                    <a:pt x="1990" y="4817"/>
                  </a:lnTo>
                  <a:lnTo>
                    <a:pt x="1990" y="4723"/>
                  </a:lnTo>
                  <a:lnTo>
                    <a:pt x="1990" y="4272"/>
                  </a:lnTo>
                  <a:lnTo>
                    <a:pt x="1990" y="4234"/>
                  </a:lnTo>
                  <a:lnTo>
                    <a:pt x="1990" y="4218"/>
                  </a:lnTo>
                  <a:lnTo>
                    <a:pt x="1973" y="4218"/>
                  </a:lnTo>
                  <a:lnTo>
                    <a:pt x="1973" y="4201"/>
                  </a:lnTo>
                  <a:lnTo>
                    <a:pt x="1973" y="4039"/>
                  </a:lnTo>
                  <a:lnTo>
                    <a:pt x="1935" y="4000"/>
                  </a:lnTo>
                  <a:lnTo>
                    <a:pt x="1957" y="4000"/>
                  </a:lnTo>
                  <a:lnTo>
                    <a:pt x="1957" y="3984"/>
                  </a:lnTo>
                  <a:lnTo>
                    <a:pt x="1973" y="3984"/>
                  </a:lnTo>
                  <a:lnTo>
                    <a:pt x="1973" y="3945"/>
                  </a:lnTo>
                  <a:lnTo>
                    <a:pt x="1973" y="3929"/>
                  </a:lnTo>
                  <a:lnTo>
                    <a:pt x="1990" y="3929"/>
                  </a:lnTo>
                  <a:lnTo>
                    <a:pt x="1990" y="3875"/>
                  </a:lnTo>
                  <a:lnTo>
                    <a:pt x="1990" y="3767"/>
                  </a:lnTo>
                  <a:lnTo>
                    <a:pt x="1990" y="3673"/>
                  </a:lnTo>
                  <a:lnTo>
                    <a:pt x="1973" y="3673"/>
                  </a:lnTo>
                  <a:lnTo>
                    <a:pt x="1973" y="3657"/>
                  </a:lnTo>
                  <a:lnTo>
                    <a:pt x="1973" y="3587"/>
                  </a:lnTo>
                  <a:lnTo>
                    <a:pt x="1957" y="3587"/>
                  </a:lnTo>
                  <a:lnTo>
                    <a:pt x="1957" y="3567"/>
                  </a:lnTo>
                  <a:lnTo>
                    <a:pt x="1935" y="3567"/>
                  </a:lnTo>
                  <a:lnTo>
                    <a:pt x="1935" y="3548"/>
                  </a:lnTo>
                  <a:lnTo>
                    <a:pt x="1935" y="3493"/>
                  </a:lnTo>
                  <a:lnTo>
                    <a:pt x="1919" y="3493"/>
                  </a:lnTo>
                  <a:lnTo>
                    <a:pt x="1919" y="3478"/>
                  </a:lnTo>
                  <a:lnTo>
                    <a:pt x="1919" y="3440"/>
                  </a:lnTo>
                  <a:lnTo>
                    <a:pt x="1903" y="3440"/>
                  </a:lnTo>
                  <a:lnTo>
                    <a:pt x="1903" y="3404"/>
                  </a:lnTo>
                  <a:lnTo>
                    <a:pt x="1880" y="3404"/>
                  </a:lnTo>
                  <a:lnTo>
                    <a:pt x="1880" y="3350"/>
                  </a:lnTo>
                  <a:lnTo>
                    <a:pt x="1865" y="3350"/>
                  </a:lnTo>
                  <a:lnTo>
                    <a:pt x="1865" y="3334"/>
                  </a:lnTo>
                  <a:lnTo>
                    <a:pt x="1848" y="3334"/>
                  </a:lnTo>
                  <a:lnTo>
                    <a:pt x="1848" y="3295"/>
                  </a:lnTo>
                  <a:lnTo>
                    <a:pt x="1826" y="3225"/>
                  </a:lnTo>
                  <a:lnTo>
                    <a:pt x="1826" y="3206"/>
                  </a:lnTo>
                  <a:lnTo>
                    <a:pt x="1826" y="3170"/>
                  </a:lnTo>
                  <a:lnTo>
                    <a:pt x="1810" y="3170"/>
                  </a:lnTo>
                  <a:lnTo>
                    <a:pt x="1810" y="3155"/>
                  </a:lnTo>
                  <a:lnTo>
                    <a:pt x="1795" y="3078"/>
                  </a:lnTo>
                  <a:lnTo>
                    <a:pt x="1772" y="3078"/>
                  </a:lnTo>
                  <a:lnTo>
                    <a:pt x="1772" y="3023"/>
                  </a:lnTo>
                  <a:lnTo>
                    <a:pt x="1772" y="2968"/>
                  </a:lnTo>
                  <a:lnTo>
                    <a:pt x="1755" y="2968"/>
                  </a:lnTo>
                  <a:lnTo>
                    <a:pt x="1755" y="2953"/>
                  </a:lnTo>
                  <a:lnTo>
                    <a:pt x="1740" y="2953"/>
                  </a:lnTo>
                  <a:lnTo>
                    <a:pt x="1740" y="2914"/>
                  </a:lnTo>
                  <a:lnTo>
                    <a:pt x="1740" y="2860"/>
                  </a:lnTo>
                  <a:lnTo>
                    <a:pt x="1721" y="2860"/>
                  </a:lnTo>
                  <a:lnTo>
                    <a:pt x="1721" y="2844"/>
                  </a:lnTo>
                  <a:lnTo>
                    <a:pt x="1721" y="2806"/>
                  </a:lnTo>
                  <a:lnTo>
                    <a:pt x="1701" y="2806"/>
                  </a:lnTo>
                  <a:lnTo>
                    <a:pt x="1701" y="2751"/>
                  </a:lnTo>
                  <a:lnTo>
                    <a:pt x="1685" y="2664"/>
                  </a:lnTo>
                  <a:lnTo>
                    <a:pt x="1685" y="2610"/>
                  </a:lnTo>
                  <a:lnTo>
                    <a:pt x="1666" y="2610"/>
                  </a:lnTo>
                  <a:lnTo>
                    <a:pt x="1647" y="2534"/>
                  </a:lnTo>
                  <a:lnTo>
                    <a:pt x="1631" y="2534"/>
                  </a:lnTo>
                  <a:lnTo>
                    <a:pt x="1631" y="2501"/>
                  </a:lnTo>
                  <a:lnTo>
                    <a:pt x="1631" y="2447"/>
                  </a:lnTo>
                  <a:lnTo>
                    <a:pt x="1612" y="2447"/>
                  </a:lnTo>
                  <a:lnTo>
                    <a:pt x="1612" y="2392"/>
                  </a:lnTo>
                  <a:lnTo>
                    <a:pt x="1612" y="2315"/>
                  </a:lnTo>
                  <a:lnTo>
                    <a:pt x="1593" y="2315"/>
                  </a:lnTo>
                  <a:lnTo>
                    <a:pt x="1593" y="2283"/>
                  </a:lnTo>
                  <a:lnTo>
                    <a:pt x="1593" y="2245"/>
                  </a:lnTo>
                  <a:lnTo>
                    <a:pt x="1576" y="2245"/>
                  </a:lnTo>
                  <a:lnTo>
                    <a:pt x="1576" y="2207"/>
                  </a:lnTo>
                  <a:lnTo>
                    <a:pt x="1557" y="2207"/>
                  </a:lnTo>
                  <a:lnTo>
                    <a:pt x="1557" y="2149"/>
                  </a:lnTo>
                  <a:lnTo>
                    <a:pt x="1557" y="2098"/>
                  </a:lnTo>
                  <a:lnTo>
                    <a:pt x="1544" y="2098"/>
                  </a:lnTo>
                  <a:lnTo>
                    <a:pt x="1544" y="2065"/>
                  </a:lnTo>
                  <a:lnTo>
                    <a:pt x="1544" y="2027"/>
                  </a:lnTo>
                  <a:lnTo>
                    <a:pt x="1525" y="2027"/>
                  </a:lnTo>
                  <a:lnTo>
                    <a:pt x="1525" y="1918"/>
                  </a:lnTo>
                  <a:lnTo>
                    <a:pt x="1544" y="1918"/>
                  </a:lnTo>
                  <a:lnTo>
                    <a:pt x="1544" y="1880"/>
                  </a:lnTo>
                  <a:lnTo>
                    <a:pt x="1576" y="1848"/>
                  </a:lnTo>
                  <a:lnTo>
                    <a:pt x="1576" y="1809"/>
                  </a:lnTo>
                  <a:lnTo>
                    <a:pt x="1595" y="1809"/>
                  </a:lnTo>
                  <a:lnTo>
                    <a:pt x="1595" y="1790"/>
                  </a:lnTo>
                  <a:lnTo>
                    <a:pt x="1704" y="1682"/>
                  </a:lnTo>
                  <a:lnTo>
                    <a:pt x="1723" y="1682"/>
                  </a:lnTo>
                  <a:lnTo>
                    <a:pt x="1723" y="1662"/>
                  </a:lnTo>
                  <a:lnTo>
                    <a:pt x="1755" y="1643"/>
                  </a:lnTo>
                  <a:lnTo>
                    <a:pt x="1755" y="1591"/>
                  </a:lnTo>
                  <a:lnTo>
                    <a:pt x="1742" y="1591"/>
                  </a:lnTo>
                  <a:lnTo>
                    <a:pt x="1742" y="1572"/>
                  </a:lnTo>
                  <a:lnTo>
                    <a:pt x="1814" y="1534"/>
                  </a:lnTo>
                  <a:lnTo>
                    <a:pt x="1814" y="1521"/>
                  </a:lnTo>
                  <a:lnTo>
                    <a:pt x="1826" y="1521"/>
                  </a:lnTo>
                  <a:lnTo>
                    <a:pt x="1973" y="1412"/>
                  </a:lnTo>
                  <a:lnTo>
                    <a:pt x="1993" y="1412"/>
                  </a:lnTo>
                  <a:lnTo>
                    <a:pt x="1993" y="1393"/>
                  </a:lnTo>
                  <a:lnTo>
                    <a:pt x="2211" y="1393"/>
                  </a:lnTo>
                  <a:lnTo>
                    <a:pt x="2288" y="1336"/>
                  </a:lnTo>
                  <a:lnTo>
                    <a:pt x="2288" y="1323"/>
                  </a:lnTo>
                  <a:lnTo>
                    <a:pt x="2288" y="1227"/>
                  </a:lnTo>
                  <a:lnTo>
                    <a:pt x="2300" y="1214"/>
                  </a:lnTo>
                  <a:lnTo>
                    <a:pt x="2300" y="1195"/>
                  </a:lnTo>
                  <a:lnTo>
                    <a:pt x="2320" y="1195"/>
                  </a:lnTo>
                  <a:lnTo>
                    <a:pt x="2320" y="1157"/>
                  </a:lnTo>
                  <a:lnTo>
                    <a:pt x="2320" y="1117"/>
                  </a:lnTo>
                  <a:lnTo>
                    <a:pt x="2339" y="1117"/>
                  </a:lnTo>
                  <a:lnTo>
                    <a:pt x="2339" y="1073"/>
                  </a:lnTo>
                  <a:lnTo>
                    <a:pt x="2354" y="1073"/>
                  </a:lnTo>
                  <a:lnTo>
                    <a:pt x="2358" y="1073"/>
                  </a:lnTo>
                  <a:lnTo>
                    <a:pt x="2358" y="1047"/>
                  </a:lnTo>
                  <a:lnTo>
                    <a:pt x="2354" y="1047"/>
                  </a:lnTo>
                  <a:lnTo>
                    <a:pt x="2354" y="1034"/>
                  </a:lnTo>
                  <a:lnTo>
                    <a:pt x="2371" y="1019"/>
                  </a:lnTo>
                  <a:lnTo>
                    <a:pt x="2394" y="1019"/>
                  </a:lnTo>
                  <a:lnTo>
                    <a:pt x="2394" y="996"/>
                  </a:lnTo>
                  <a:lnTo>
                    <a:pt x="2426" y="980"/>
                  </a:lnTo>
                  <a:lnTo>
                    <a:pt x="2426" y="926"/>
                  </a:lnTo>
                  <a:lnTo>
                    <a:pt x="2409" y="910"/>
                  </a:lnTo>
                  <a:lnTo>
                    <a:pt x="2409" y="887"/>
                  </a:lnTo>
                  <a:lnTo>
                    <a:pt x="2394" y="887"/>
                  </a:lnTo>
                  <a:lnTo>
                    <a:pt x="2371" y="855"/>
                  </a:lnTo>
                  <a:lnTo>
                    <a:pt x="2371" y="832"/>
                  </a:lnTo>
                  <a:lnTo>
                    <a:pt x="2354" y="832"/>
                  </a:lnTo>
                  <a:lnTo>
                    <a:pt x="2339" y="817"/>
                  </a:lnTo>
                  <a:lnTo>
                    <a:pt x="2316" y="779"/>
                  </a:lnTo>
                  <a:lnTo>
                    <a:pt x="2300" y="724"/>
                  </a:lnTo>
                  <a:lnTo>
                    <a:pt x="2300" y="708"/>
                  </a:lnTo>
                  <a:lnTo>
                    <a:pt x="2284" y="708"/>
                  </a:lnTo>
                  <a:lnTo>
                    <a:pt x="2284" y="599"/>
                  </a:lnTo>
                  <a:lnTo>
                    <a:pt x="2284" y="560"/>
                  </a:lnTo>
                  <a:lnTo>
                    <a:pt x="2262" y="560"/>
                  </a:lnTo>
                  <a:lnTo>
                    <a:pt x="2262" y="528"/>
                  </a:lnTo>
                  <a:lnTo>
                    <a:pt x="2246" y="528"/>
                  </a:lnTo>
                  <a:lnTo>
                    <a:pt x="2246" y="381"/>
                  </a:lnTo>
                  <a:lnTo>
                    <a:pt x="2246" y="365"/>
                  </a:lnTo>
                  <a:lnTo>
                    <a:pt x="2230" y="365"/>
                  </a:lnTo>
                  <a:lnTo>
                    <a:pt x="2230" y="326"/>
                  </a:lnTo>
                  <a:lnTo>
                    <a:pt x="2246" y="326"/>
                  </a:lnTo>
                  <a:lnTo>
                    <a:pt x="2246" y="234"/>
                  </a:lnTo>
                  <a:lnTo>
                    <a:pt x="2230" y="234"/>
                  </a:lnTo>
                  <a:lnTo>
                    <a:pt x="2230" y="218"/>
                  </a:lnTo>
                  <a:lnTo>
                    <a:pt x="2207" y="218"/>
                  </a:lnTo>
                  <a:lnTo>
                    <a:pt x="2175" y="163"/>
                  </a:lnTo>
                  <a:lnTo>
                    <a:pt x="2152" y="163"/>
                  </a:lnTo>
                  <a:lnTo>
                    <a:pt x="2137" y="125"/>
                  </a:lnTo>
                  <a:lnTo>
                    <a:pt x="2099" y="125"/>
                  </a:lnTo>
                  <a:lnTo>
                    <a:pt x="2082" y="93"/>
                  </a:lnTo>
                  <a:lnTo>
                    <a:pt x="2067" y="93"/>
                  </a:lnTo>
                  <a:lnTo>
                    <a:pt x="2028" y="54"/>
                  </a:lnTo>
                  <a:lnTo>
                    <a:pt x="1990" y="54"/>
                  </a:lnTo>
                  <a:lnTo>
                    <a:pt x="1990" y="39"/>
                  </a:lnTo>
                  <a:lnTo>
                    <a:pt x="1935" y="39"/>
                  </a:lnTo>
                  <a:lnTo>
                    <a:pt x="1935" y="16"/>
                  </a:lnTo>
                  <a:lnTo>
                    <a:pt x="1848" y="16"/>
                  </a:lnTo>
                  <a:lnTo>
                    <a:pt x="1848" y="0"/>
                  </a:lnTo>
                  <a:lnTo>
                    <a:pt x="1701" y="0"/>
                  </a:lnTo>
                  <a:lnTo>
                    <a:pt x="1542" y="0"/>
                  </a:lnTo>
                  <a:lnTo>
                    <a:pt x="1468" y="0"/>
                  </a:lnTo>
                  <a:lnTo>
                    <a:pt x="1468" y="16"/>
                  </a:lnTo>
                  <a:lnTo>
                    <a:pt x="1432" y="16"/>
                  </a:lnTo>
                  <a:lnTo>
                    <a:pt x="1432" y="39"/>
                  </a:lnTo>
                  <a:lnTo>
                    <a:pt x="1394" y="39"/>
                  </a:lnTo>
                  <a:lnTo>
                    <a:pt x="1340" y="109"/>
                  </a:lnTo>
                  <a:lnTo>
                    <a:pt x="1323" y="109"/>
                  </a:lnTo>
                  <a:lnTo>
                    <a:pt x="1323" y="125"/>
                  </a:lnTo>
                  <a:lnTo>
                    <a:pt x="1285" y="147"/>
                  </a:lnTo>
                  <a:lnTo>
                    <a:pt x="1285" y="179"/>
                  </a:lnTo>
                  <a:lnTo>
                    <a:pt x="1253" y="201"/>
                  </a:lnTo>
                  <a:lnTo>
                    <a:pt x="1253" y="218"/>
                  </a:lnTo>
                  <a:lnTo>
                    <a:pt x="1230" y="234"/>
                  </a:lnTo>
                  <a:lnTo>
                    <a:pt x="1230" y="256"/>
                  </a:lnTo>
                  <a:lnTo>
                    <a:pt x="1198" y="273"/>
                  </a:lnTo>
                  <a:lnTo>
                    <a:pt x="1198" y="288"/>
                  </a:lnTo>
                  <a:lnTo>
                    <a:pt x="1176" y="311"/>
                  </a:lnTo>
                  <a:lnTo>
                    <a:pt x="1176" y="343"/>
                  </a:lnTo>
                  <a:lnTo>
                    <a:pt x="1160" y="343"/>
                  </a:lnTo>
                  <a:lnTo>
                    <a:pt x="1143" y="397"/>
                  </a:lnTo>
                  <a:lnTo>
                    <a:pt x="1143" y="452"/>
                  </a:lnTo>
                  <a:lnTo>
                    <a:pt x="1121" y="452"/>
                  </a:lnTo>
                  <a:lnTo>
                    <a:pt x="1121" y="490"/>
                  </a:lnTo>
                  <a:lnTo>
                    <a:pt x="1121" y="747"/>
                  </a:lnTo>
                  <a:lnTo>
                    <a:pt x="1105" y="747"/>
                  </a:lnTo>
                  <a:lnTo>
                    <a:pt x="1105" y="832"/>
                  </a:lnTo>
                  <a:lnTo>
                    <a:pt x="1105" y="980"/>
                  </a:lnTo>
                  <a:lnTo>
                    <a:pt x="1090" y="980"/>
                  </a:lnTo>
                  <a:lnTo>
                    <a:pt x="1090" y="1051"/>
                  </a:lnTo>
                  <a:lnTo>
                    <a:pt x="1105" y="1051"/>
                  </a:lnTo>
                  <a:lnTo>
                    <a:pt x="1105" y="1073"/>
                  </a:lnTo>
                  <a:lnTo>
                    <a:pt x="1109" y="1073"/>
                  </a:lnTo>
                  <a:lnTo>
                    <a:pt x="1109" y="1085"/>
                  </a:lnTo>
                  <a:lnTo>
                    <a:pt x="1121" y="1117"/>
                  </a:lnTo>
                  <a:lnTo>
                    <a:pt x="1109" y="1117"/>
                  </a:lnTo>
                  <a:lnTo>
                    <a:pt x="1109" y="1176"/>
                  </a:lnTo>
                  <a:lnTo>
                    <a:pt x="1090" y="1176"/>
                  </a:lnTo>
                  <a:lnTo>
                    <a:pt x="1090" y="1195"/>
                  </a:lnTo>
                  <a:lnTo>
                    <a:pt x="1070" y="1195"/>
                  </a:lnTo>
                  <a:lnTo>
                    <a:pt x="1070" y="1214"/>
                  </a:lnTo>
                  <a:lnTo>
                    <a:pt x="1051" y="1227"/>
                  </a:lnTo>
                  <a:lnTo>
                    <a:pt x="1051" y="1252"/>
                  </a:lnTo>
                  <a:lnTo>
                    <a:pt x="962" y="1323"/>
                  </a:lnTo>
                  <a:lnTo>
                    <a:pt x="852" y="1431"/>
                  </a:lnTo>
                  <a:lnTo>
                    <a:pt x="833" y="1431"/>
                  </a:lnTo>
                  <a:lnTo>
                    <a:pt x="833" y="1444"/>
                  </a:lnTo>
                  <a:lnTo>
                    <a:pt x="782" y="1463"/>
                  </a:lnTo>
                  <a:lnTo>
                    <a:pt x="782" y="1483"/>
                  </a:lnTo>
                  <a:lnTo>
                    <a:pt x="763" y="1483"/>
                  </a:lnTo>
                  <a:lnTo>
                    <a:pt x="711" y="1521"/>
                  </a:lnTo>
                  <a:lnTo>
                    <a:pt x="711" y="1534"/>
                  </a:lnTo>
                  <a:lnTo>
                    <a:pt x="673" y="1534"/>
                  </a:lnTo>
                  <a:lnTo>
                    <a:pt x="635" y="1572"/>
                  </a:lnTo>
                  <a:lnTo>
                    <a:pt x="616" y="1572"/>
                  </a:lnTo>
                  <a:lnTo>
                    <a:pt x="616" y="1591"/>
                  </a:lnTo>
                  <a:lnTo>
                    <a:pt x="506" y="1701"/>
                  </a:lnTo>
                  <a:lnTo>
                    <a:pt x="506" y="1714"/>
                  </a:lnTo>
                  <a:lnTo>
                    <a:pt x="493" y="1714"/>
                  </a:lnTo>
                  <a:lnTo>
                    <a:pt x="493" y="1739"/>
                  </a:lnTo>
                  <a:lnTo>
                    <a:pt x="493" y="1771"/>
                  </a:lnTo>
                  <a:lnTo>
                    <a:pt x="468" y="1771"/>
                  </a:lnTo>
                  <a:lnTo>
                    <a:pt x="468" y="1790"/>
                  </a:lnTo>
                  <a:lnTo>
                    <a:pt x="468" y="1809"/>
                  </a:lnTo>
                  <a:lnTo>
                    <a:pt x="455" y="1809"/>
                  </a:lnTo>
                  <a:lnTo>
                    <a:pt x="455" y="1822"/>
                  </a:lnTo>
                  <a:lnTo>
                    <a:pt x="436" y="1822"/>
                  </a:lnTo>
                  <a:lnTo>
                    <a:pt x="436" y="1848"/>
                  </a:lnTo>
                  <a:lnTo>
                    <a:pt x="436" y="1880"/>
                  </a:lnTo>
                  <a:lnTo>
                    <a:pt x="416" y="1880"/>
                  </a:lnTo>
                  <a:lnTo>
                    <a:pt x="416" y="1899"/>
                  </a:lnTo>
                  <a:lnTo>
                    <a:pt x="384" y="1918"/>
                  </a:lnTo>
                  <a:lnTo>
                    <a:pt x="384" y="1956"/>
                  </a:lnTo>
                  <a:lnTo>
                    <a:pt x="359" y="2008"/>
                  </a:lnTo>
                  <a:lnTo>
                    <a:pt x="346" y="2065"/>
                  </a:lnTo>
                  <a:lnTo>
                    <a:pt x="327" y="2065"/>
                  </a:lnTo>
                  <a:lnTo>
                    <a:pt x="327" y="2098"/>
                  </a:lnTo>
                  <a:lnTo>
                    <a:pt x="327" y="2136"/>
                  </a:lnTo>
                  <a:lnTo>
                    <a:pt x="327" y="2152"/>
                  </a:lnTo>
                  <a:lnTo>
                    <a:pt x="304" y="2152"/>
                  </a:lnTo>
                  <a:lnTo>
                    <a:pt x="304" y="2175"/>
                  </a:lnTo>
                  <a:lnTo>
                    <a:pt x="289" y="2175"/>
                  </a:lnTo>
                  <a:lnTo>
                    <a:pt x="289" y="2245"/>
                  </a:lnTo>
                  <a:lnTo>
                    <a:pt x="289" y="2299"/>
                  </a:lnTo>
                  <a:lnTo>
                    <a:pt x="272" y="2299"/>
                  </a:lnTo>
                  <a:lnTo>
                    <a:pt x="272" y="2479"/>
                  </a:lnTo>
                  <a:lnTo>
                    <a:pt x="289" y="2479"/>
                  </a:lnTo>
                  <a:lnTo>
                    <a:pt x="289" y="2534"/>
                  </a:lnTo>
                  <a:lnTo>
                    <a:pt x="304" y="2534"/>
                  </a:lnTo>
                  <a:lnTo>
                    <a:pt x="304" y="2588"/>
                  </a:lnTo>
                  <a:lnTo>
                    <a:pt x="289" y="2588"/>
                  </a:lnTo>
                  <a:lnTo>
                    <a:pt x="289" y="2642"/>
                  </a:lnTo>
                  <a:lnTo>
                    <a:pt x="272" y="2642"/>
                  </a:lnTo>
                  <a:lnTo>
                    <a:pt x="272" y="2664"/>
                  </a:lnTo>
                  <a:lnTo>
                    <a:pt x="272" y="2696"/>
                  </a:lnTo>
                  <a:lnTo>
                    <a:pt x="250" y="2696"/>
                  </a:lnTo>
                  <a:lnTo>
                    <a:pt x="250" y="2719"/>
                  </a:lnTo>
                  <a:lnTo>
                    <a:pt x="250" y="2735"/>
                  </a:lnTo>
                  <a:lnTo>
                    <a:pt x="234" y="2735"/>
                  </a:lnTo>
                  <a:lnTo>
                    <a:pt x="234" y="2751"/>
                  </a:lnTo>
                  <a:lnTo>
                    <a:pt x="218" y="2773"/>
                  </a:lnTo>
                  <a:lnTo>
                    <a:pt x="218" y="2789"/>
                  </a:lnTo>
                  <a:lnTo>
                    <a:pt x="195" y="2789"/>
                  </a:lnTo>
                  <a:lnTo>
                    <a:pt x="195" y="2806"/>
                  </a:lnTo>
                  <a:lnTo>
                    <a:pt x="180" y="2806"/>
                  </a:lnTo>
                  <a:lnTo>
                    <a:pt x="180" y="2844"/>
                  </a:lnTo>
                  <a:lnTo>
                    <a:pt x="180" y="2860"/>
                  </a:lnTo>
                  <a:lnTo>
                    <a:pt x="164" y="2860"/>
                  </a:lnTo>
                  <a:lnTo>
                    <a:pt x="164" y="2883"/>
                  </a:lnTo>
                  <a:lnTo>
                    <a:pt x="164" y="2898"/>
                  </a:lnTo>
                  <a:lnTo>
                    <a:pt x="142" y="2898"/>
                  </a:lnTo>
                  <a:lnTo>
                    <a:pt x="142" y="2914"/>
                  </a:lnTo>
                  <a:lnTo>
                    <a:pt x="125" y="2968"/>
                  </a:lnTo>
                  <a:lnTo>
                    <a:pt x="110" y="2968"/>
                  </a:lnTo>
                  <a:lnTo>
                    <a:pt x="110" y="3008"/>
                  </a:lnTo>
                  <a:lnTo>
                    <a:pt x="110" y="3046"/>
                  </a:lnTo>
                  <a:lnTo>
                    <a:pt x="93" y="3046"/>
                  </a:lnTo>
                  <a:lnTo>
                    <a:pt x="70" y="3100"/>
                  </a:lnTo>
                  <a:lnTo>
                    <a:pt x="70" y="3132"/>
                  </a:lnTo>
                  <a:lnTo>
                    <a:pt x="55" y="3132"/>
                  </a:lnTo>
                  <a:lnTo>
                    <a:pt x="55" y="3187"/>
                  </a:lnTo>
                  <a:lnTo>
                    <a:pt x="55" y="3206"/>
                  </a:lnTo>
                  <a:lnTo>
                    <a:pt x="38" y="3206"/>
                  </a:lnTo>
                  <a:lnTo>
                    <a:pt x="38" y="3261"/>
                  </a:lnTo>
                  <a:lnTo>
                    <a:pt x="38" y="3295"/>
                  </a:lnTo>
                  <a:lnTo>
                    <a:pt x="17" y="3295"/>
                  </a:lnTo>
                  <a:lnTo>
                    <a:pt x="17" y="3350"/>
                  </a:lnTo>
                  <a:lnTo>
                    <a:pt x="0" y="3350"/>
                  </a:lnTo>
                  <a:lnTo>
                    <a:pt x="0" y="3423"/>
                  </a:lnTo>
                  <a:lnTo>
                    <a:pt x="17" y="3423"/>
                  </a:lnTo>
                  <a:lnTo>
                    <a:pt x="38" y="3459"/>
                  </a:lnTo>
                  <a:lnTo>
                    <a:pt x="55" y="3493"/>
                  </a:lnTo>
                  <a:lnTo>
                    <a:pt x="70" y="3493"/>
                  </a:lnTo>
                  <a:lnTo>
                    <a:pt x="110" y="3533"/>
                  </a:lnTo>
                  <a:lnTo>
                    <a:pt x="125" y="3533"/>
                  </a:lnTo>
                  <a:lnTo>
                    <a:pt x="142" y="3567"/>
                  </a:lnTo>
                  <a:lnTo>
                    <a:pt x="164" y="3567"/>
                  </a:lnTo>
                  <a:lnTo>
                    <a:pt x="218" y="3603"/>
                  </a:lnTo>
                  <a:lnTo>
                    <a:pt x="218" y="3619"/>
                  </a:lnTo>
                  <a:lnTo>
                    <a:pt x="250" y="3673"/>
                  </a:lnTo>
                  <a:lnTo>
                    <a:pt x="250" y="3693"/>
                  </a:lnTo>
                  <a:lnTo>
                    <a:pt x="272" y="3693"/>
                  </a:lnTo>
                  <a:lnTo>
                    <a:pt x="289" y="3712"/>
                  </a:lnTo>
                  <a:lnTo>
                    <a:pt x="289" y="3727"/>
                  </a:lnTo>
                  <a:lnTo>
                    <a:pt x="359" y="3820"/>
                  </a:lnTo>
                  <a:lnTo>
                    <a:pt x="382" y="3820"/>
                  </a:lnTo>
                  <a:lnTo>
                    <a:pt x="382" y="3837"/>
                  </a:lnTo>
                  <a:lnTo>
                    <a:pt x="599" y="4054"/>
                  </a:lnTo>
                  <a:lnTo>
                    <a:pt x="599" y="4092"/>
                  </a:lnTo>
                  <a:lnTo>
                    <a:pt x="577" y="4092"/>
                  </a:lnTo>
                  <a:lnTo>
                    <a:pt x="577" y="4109"/>
                  </a:lnTo>
                  <a:lnTo>
                    <a:pt x="561" y="4109"/>
                  </a:lnTo>
                  <a:lnTo>
                    <a:pt x="561" y="4124"/>
                  </a:lnTo>
                  <a:lnTo>
                    <a:pt x="561" y="4147"/>
                  </a:lnTo>
                  <a:lnTo>
                    <a:pt x="545" y="4147"/>
                  </a:lnTo>
                  <a:lnTo>
                    <a:pt x="545" y="4163"/>
                  </a:lnTo>
                  <a:lnTo>
                    <a:pt x="545" y="4218"/>
                  </a:lnTo>
                  <a:lnTo>
                    <a:pt x="522" y="4218"/>
                  </a:lnTo>
                  <a:lnTo>
                    <a:pt x="522" y="4272"/>
                  </a:lnTo>
                  <a:lnTo>
                    <a:pt x="506" y="4272"/>
                  </a:lnTo>
                  <a:lnTo>
                    <a:pt x="490" y="4381"/>
                  </a:lnTo>
                  <a:lnTo>
                    <a:pt x="468" y="4381"/>
                  </a:lnTo>
                  <a:lnTo>
                    <a:pt x="468" y="4474"/>
                  </a:lnTo>
                  <a:lnTo>
                    <a:pt x="468" y="4637"/>
                  </a:lnTo>
                  <a:lnTo>
                    <a:pt x="452" y="4637"/>
                  </a:lnTo>
                  <a:lnTo>
                    <a:pt x="452" y="4910"/>
                  </a:lnTo>
                  <a:lnTo>
                    <a:pt x="468" y="4910"/>
                  </a:lnTo>
                  <a:lnTo>
                    <a:pt x="468" y="4996"/>
                  </a:lnTo>
                  <a:lnTo>
                    <a:pt x="490" y="5050"/>
                  </a:lnTo>
                  <a:lnTo>
                    <a:pt x="490" y="5104"/>
                  </a:lnTo>
                  <a:lnTo>
                    <a:pt x="506" y="5104"/>
                  </a:lnTo>
                  <a:lnTo>
                    <a:pt x="522" y="5144"/>
                  </a:lnTo>
                  <a:lnTo>
                    <a:pt x="522" y="5159"/>
                  </a:lnTo>
                  <a:lnTo>
                    <a:pt x="545" y="5159"/>
                  </a:lnTo>
                  <a:lnTo>
                    <a:pt x="545" y="5252"/>
                  </a:lnTo>
                  <a:lnTo>
                    <a:pt x="561" y="5252"/>
                  </a:lnTo>
                  <a:lnTo>
                    <a:pt x="561" y="5323"/>
                  </a:lnTo>
                  <a:lnTo>
                    <a:pt x="561" y="5342"/>
                  </a:lnTo>
                  <a:lnTo>
                    <a:pt x="561" y="5361"/>
                  </a:lnTo>
                  <a:lnTo>
                    <a:pt x="577" y="5361"/>
                  </a:lnTo>
                  <a:lnTo>
                    <a:pt x="577" y="5467"/>
                  </a:lnTo>
                  <a:lnTo>
                    <a:pt x="599" y="5467"/>
                  </a:lnTo>
                  <a:lnTo>
                    <a:pt x="599" y="5540"/>
                  </a:lnTo>
                  <a:lnTo>
                    <a:pt x="616" y="5540"/>
                  </a:lnTo>
                  <a:lnTo>
                    <a:pt x="616" y="5559"/>
                  </a:lnTo>
                  <a:lnTo>
                    <a:pt x="616" y="5595"/>
                  </a:lnTo>
                  <a:lnTo>
                    <a:pt x="631" y="5595"/>
                  </a:lnTo>
                  <a:lnTo>
                    <a:pt x="631" y="5646"/>
                  </a:lnTo>
                  <a:lnTo>
                    <a:pt x="654" y="5646"/>
                  </a:lnTo>
                  <a:lnTo>
                    <a:pt x="669" y="5669"/>
                  </a:lnTo>
                  <a:lnTo>
                    <a:pt x="669" y="5701"/>
                  </a:lnTo>
                  <a:lnTo>
                    <a:pt x="686" y="5793"/>
                  </a:lnTo>
                  <a:lnTo>
                    <a:pt x="709" y="5793"/>
                  </a:lnTo>
                  <a:lnTo>
                    <a:pt x="709" y="5848"/>
                  </a:lnTo>
                  <a:lnTo>
                    <a:pt x="724" y="5848"/>
                  </a:lnTo>
                  <a:lnTo>
                    <a:pt x="724" y="5941"/>
                  </a:lnTo>
                  <a:lnTo>
                    <a:pt x="741" y="6049"/>
                  </a:lnTo>
                  <a:lnTo>
                    <a:pt x="741" y="6158"/>
                  </a:lnTo>
                  <a:lnTo>
                    <a:pt x="763" y="6158"/>
                  </a:lnTo>
                  <a:lnTo>
                    <a:pt x="763" y="6260"/>
                  </a:lnTo>
                  <a:lnTo>
                    <a:pt x="779" y="6260"/>
                  </a:lnTo>
                  <a:lnTo>
                    <a:pt x="779" y="6370"/>
                  </a:lnTo>
                  <a:lnTo>
                    <a:pt x="779" y="6408"/>
                  </a:lnTo>
                  <a:lnTo>
                    <a:pt x="779" y="6424"/>
                  </a:lnTo>
                  <a:lnTo>
                    <a:pt x="779" y="7225"/>
                  </a:lnTo>
                  <a:lnTo>
                    <a:pt x="779" y="7333"/>
                  </a:lnTo>
                  <a:lnTo>
                    <a:pt x="763" y="7333"/>
                  </a:lnTo>
                  <a:lnTo>
                    <a:pt x="763" y="7478"/>
                  </a:lnTo>
                  <a:lnTo>
                    <a:pt x="763" y="7497"/>
                  </a:lnTo>
                  <a:lnTo>
                    <a:pt x="763" y="7548"/>
                  </a:lnTo>
                  <a:lnTo>
                    <a:pt x="741" y="7548"/>
                  </a:lnTo>
                  <a:lnTo>
                    <a:pt x="741" y="7641"/>
                  </a:lnTo>
                  <a:lnTo>
                    <a:pt x="741" y="7782"/>
                  </a:lnTo>
                  <a:lnTo>
                    <a:pt x="724" y="7782"/>
                  </a:lnTo>
                  <a:lnTo>
                    <a:pt x="724" y="7837"/>
                  </a:lnTo>
                  <a:lnTo>
                    <a:pt x="724" y="7913"/>
                  </a:lnTo>
                  <a:lnTo>
                    <a:pt x="709" y="7913"/>
                  </a:lnTo>
                  <a:lnTo>
                    <a:pt x="709" y="7967"/>
                  </a:lnTo>
                  <a:lnTo>
                    <a:pt x="686" y="7967"/>
                  </a:lnTo>
                  <a:lnTo>
                    <a:pt x="686" y="8109"/>
                  </a:lnTo>
                  <a:lnTo>
                    <a:pt x="669" y="8109"/>
                  </a:lnTo>
                  <a:lnTo>
                    <a:pt x="669" y="8217"/>
                  </a:lnTo>
                  <a:lnTo>
                    <a:pt x="669" y="8381"/>
                  </a:lnTo>
                  <a:lnTo>
                    <a:pt x="654" y="8381"/>
                  </a:lnTo>
                  <a:lnTo>
                    <a:pt x="654" y="8512"/>
                  </a:lnTo>
                  <a:lnTo>
                    <a:pt x="654" y="8544"/>
                  </a:lnTo>
                  <a:lnTo>
                    <a:pt x="654" y="8566"/>
                  </a:lnTo>
                  <a:lnTo>
                    <a:pt x="654" y="8637"/>
                  </a:lnTo>
                  <a:lnTo>
                    <a:pt x="631" y="8637"/>
                  </a:lnTo>
                  <a:lnTo>
                    <a:pt x="631" y="8762"/>
                  </a:lnTo>
                  <a:lnTo>
                    <a:pt x="631" y="8887"/>
                  </a:lnTo>
                  <a:lnTo>
                    <a:pt x="616" y="8887"/>
                  </a:lnTo>
                  <a:lnTo>
                    <a:pt x="616" y="9322"/>
                  </a:lnTo>
                  <a:lnTo>
                    <a:pt x="599" y="9322"/>
                  </a:lnTo>
                  <a:lnTo>
                    <a:pt x="599" y="9614"/>
                  </a:lnTo>
                  <a:close/>
                  <a:moveTo>
                    <a:pt x="506" y="4272"/>
                  </a:moveTo>
                  <a:lnTo>
                    <a:pt x="1990" y="4272"/>
                  </a:lnTo>
                  <a:lnTo>
                    <a:pt x="506" y="4272"/>
                  </a:lnTo>
                  <a:close/>
                  <a:moveTo>
                    <a:pt x="1826" y="3206"/>
                  </a:moveTo>
                  <a:lnTo>
                    <a:pt x="55" y="3206"/>
                  </a:lnTo>
                  <a:lnTo>
                    <a:pt x="1826" y="3206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02280" y="2862360"/>
              <a:ext cx="804960" cy="2792520"/>
            </a:xfrm>
            <a:custGeom>
              <a:avLst/>
              <a:gdLst/>
              <a:ahLst/>
              <a:rect l="l" t="t" r="r" b="b"/>
              <a:pathLst>
                <a:path w="3036" h="10555">
                  <a:moveTo>
                    <a:pt x="2623" y="8458"/>
                  </a:moveTo>
                  <a:lnTo>
                    <a:pt x="1863" y="8458"/>
                  </a:lnTo>
                  <a:lnTo>
                    <a:pt x="2623" y="8458"/>
                  </a:lnTo>
                  <a:close/>
                  <a:moveTo>
                    <a:pt x="1973" y="9505"/>
                  </a:moveTo>
                  <a:lnTo>
                    <a:pt x="1973" y="9524"/>
                  </a:lnTo>
                  <a:lnTo>
                    <a:pt x="1973" y="9559"/>
                  </a:lnTo>
                  <a:lnTo>
                    <a:pt x="1988" y="9559"/>
                  </a:lnTo>
                  <a:lnTo>
                    <a:pt x="1988" y="9648"/>
                  </a:lnTo>
                  <a:lnTo>
                    <a:pt x="1988" y="9703"/>
                  </a:lnTo>
                  <a:lnTo>
                    <a:pt x="2005" y="9703"/>
                  </a:lnTo>
                  <a:lnTo>
                    <a:pt x="2005" y="9739"/>
                  </a:lnTo>
                  <a:lnTo>
                    <a:pt x="2027" y="9739"/>
                  </a:lnTo>
                  <a:lnTo>
                    <a:pt x="2027" y="9847"/>
                  </a:lnTo>
                  <a:lnTo>
                    <a:pt x="2043" y="9847"/>
                  </a:lnTo>
                  <a:lnTo>
                    <a:pt x="2043" y="9901"/>
                  </a:lnTo>
                  <a:lnTo>
                    <a:pt x="2043" y="9994"/>
                  </a:lnTo>
                  <a:lnTo>
                    <a:pt x="2059" y="9994"/>
                  </a:lnTo>
                  <a:lnTo>
                    <a:pt x="2059" y="10049"/>
                  </a:lnTo>
                  <a:lnTo>
                    <a:pt x="2078" y="10158"/>
                  </a:lnTo>
                  <a:lnTo>
                    <a:pt x="2078" y="10174"/>
                  </a:lnTo>
                  <a:lnTo>
                    <a:pt x="2097" y="10174"/>
                  </a:lnTo>
                  <a:lnTo>
                    <a:pt x="2097" y="10213"/>
                  </a:lnTo>
                  <a:lnTo>
                    <a:pt x="2114" y="10213"/>
                  </a:lnTo>
                  <a:lnTo>
                    <a:pt x="2133" y="10245"/>
                  </a:lnTo>
                  <a:lnTo>
                    <a:pt x="2133" y="10267"/>
                  </a:lnTo>
                  <a:lnTo>
                    <a:pt x="2167" y="10267"/>
                  </a:lnTo>
                  <a:lnTo>
                    <a:pt x="2188" y="10267"/>
                  </a:lnTo>
                  <a:lnTo>
                    <a:pt x="2188" y="10283"/>
                  </a:lnTo>
                  <a:lnTo>
                    <a:pt x="2207" y="10283"/>
                  </a:lnTo>
                  <a:lnTo>
                    <a:pt x="2207" y="10299"/>
                  </a:lnTo>
                  <a:lnTo>
                    <a:pt x="2258" y="10299"/>
                  </a:lnTo>
                  <a:lnTo>
                    <a:pt x="2258" y="10321"/>
                  </a:lnTo>
                  <a:lnTo>
                    <a:pt x="2296" y="10321"/>
                  </a:lnTo>
                  <a:lnTo>
                    <a:pt x="2350" y="10337"/>
                  </a:lnTo>
                  <a:lnTo>
                    <a:pt x="2386" y="10337"/>
                  </a:lnTo>
                  <a:lnTo>
                    <a:pt x="2386" y="10375"/>
                  </a:lnTo>
                  <a:lnTo>
                    <a:pt x="2421" y="10375"/>
                  </a:lnTo>
                  <a:lnTo>
                    <a:pt x="2437" y="10408"/>
                  </a:lnTo>
                  <a:lnTo>
                    <a:pt x="2460" y="10408"/>
                  </a:lnTo>
                  <a:lnTo>
                    <a:pt x="2492" y="10447"/>
                  </a:lnTo>
                  <a:lnTo>
                    <a:pt x="2530" y="10447"/>
                  </a:lnTo>
                  <a:lnTo>
                    <a:pt x="2545" y="10500"/>
                  </a:lnTo>
                  <a:lnTo>
                    <a:pt x="2585" y="10500"/>
                  </a:lnTo>
                  <a:lnTo>
                    <a:pt x="2585" y="10517"/>
                  </a:lnTo>
                  <a:lnTo>
                    <a:pt x="2600" y="10517"/>
                  </a:lnTo>
                  <a:lnTo>
                    <a:pt x="2655" y="10517"/>
                  </a:lnTo>
                  <a:lnTo>
                    <a:pt x="2655" y="10539"/>
                  </a:lnTo>
                  <a:lnTo>
                    <a:pt x="2693" y="10539"/>
                  </a:lnTo>
                  <a:lnTo>
                    <a:pt x="2857" y="10539"/>
                  </a:lnTo>
                  <a:lnTo>
                    <a:pt x="2927" y="10539"/>
                  </a:lnTo>
                  <a:lnTo>
                    <a:pt x="2927" y="10517"/>
                  </a:lnTo>
                  <a:lnTo>
                    <a:pt x="2949" y="10517"/>
                  </a:lnTo>
                  <a:lnTo>
                    <a:pt x="2981" y="10500"/>
                  </a:lnTo>
                  <a:lnTo>
                    <a:pt x="2981" y="10462"/>
                  </a:lnTo>
                  <a:lnTo>
                    <a:pt x="3004" y="10462"/>
                  </a:lnTo>
                  <a:lnTo>
                    <a:pt x="3004" y="10430"/>
                  </a:lnTo>
                  <a:lnTo>
                    <a:pt x="3004" y="10375"/>
                  </a:lnTo>
                  <a:lnTo>
                    <a:pt x="3004" y="10337"/>
                  </a:lnTo>
                  <a:lnTo>
                    <a:pt x="2981" y="10337"/>
                  </a:lnTo>
                  <a:lnTo>
                    <a:pt x="2981" y="10299"/>
                  </a:lnTo>
                  <a:lnTo>
                    <a:pt x="2966" y="10299"/>
                  </a:lnTo>
                  <a:lnTo>
                    <a:pt x="2966" y="10267"/>
                  </a:lnTo>
                  <a:lnTo>
                    <a:pt x="2949" y="10267"/>
                  </a:lnTo>
                  <a:lnTo>
                    <a:pt x="2949" y="10245"/>
                  </a:lnTo>
                  <a:lnTo>
                    <a:pt x="2872" y="10158"/>
                  </a:lnTo>
                  <a:lnTo>
                    <a:pt x="2802" y="10065"/>
                  </a:lnTo>
                  <a:lnTo>
                    <a:pt x="2764" y="10065"/>
                  </a:lnTo>
                  <a:lnTo>
                    <a:pt x="2693" y="9973"/>
                  </a:lnTo>
                  <a:lnTo>
                    <a:pt x="2693" y="9956"/>
                  </a:lnTo>
                  <a:lnTo>
                    <a:pt x="2677" y="9956"/>
                  </a:lnTo>
                  <a:lnTo>
                    <a:pt x="2655" y="9886"/>
                  </a:lnTo>
                  <a:lnTo>
                    <a:pt x="2655" y="9847"/>
                  </a:lnTo>
                  <a:lnTo>
                    <a:pt x="2639" y="9847"/>
                  </a:lnTo>
                  <a:lnTo>
                    <a:pt x="2639" y="9777"/>
                  </a:lnTo>
                  <a:lnTo>
                    <a:pt x="2623" y="9777"/>
                  </a:lnTo>
                  <a:lnTo>
                    <a:pt x="2623" y="9739"/>
                  </a:lnTo>
                  <a:lnTo>
                    <a:pt x="2600" y="9739"/>
                  </a:lnTo>
                  <a:lnTo>
                    <a:pt x="2600" y="9669"/>
                  </a:lnTo>
                  <a:lnTo>
                    <a:pt x="2585" y="9669"/>
                  </a:lnTo>
                  <a:lnTo>
                    <a:pt x="2585" y="9629"/>
                  </a:lnTo>
                  <a:lnTo>
                    <a:pt x="2568" y="9629"/>
                  </a:lnTo>
                  <a:lnTo>
                    <a:pt x="2568" y="9559"/>
                  </a:lnTo>
                  <a:lnTo>
                    <a:pt x="2568" y="9524"/>
                  </a:lnTo>
                  <a:lnTo>
                    <a:pt x="2568" y="9505"/>
                  </a:lnTo>
                  <a:lnTo>
                    <a:pt x="2556" y="9505"/>
                  </a:lnTo>
                  <a:lnTo>
                    <a:pt x="2545" y="9486"/>
                  </a:lnTo>
                  <a:lnTo>
                    <a:pt x="2545" y="9361"/>
                  </a:lnTo>
                  <a:lnTo>
                    <a:pt x="2568" y="9361"/>
                  </a:lnTo>
                  <a:lnTo>
                    <a:pt x="2568" y="9182"/>
                  </a:lnTo>
                  <a:lnTo>
                    <a:pt x="2568" y="9050"/>
                  </a:lnTo>
                  <a:lnTo>
                    <a:pt x="2585" y="9050"/>
                  </a:lnTo>
                  <a:lnTo>
                    <a:pt x="2585" y="8995"/>
                  </a:lnTo>
                  <a:lnTo>
                    <a:pt x="2600" y="8995"/>
                  </a:lnTo>
                  <a:lnTo>
                    <a:pt x="2600" y="8925"/>
                  </a:lnTo>
                  <a:lnTo>
                    <a:pt x="2600" y="8708"/>
                  </a:lnTo>
                  <a:lnTo>
                    <a:pt x="2623" y="8708"/>
                  </a:lnTo>
                  <a:lnTo>
                    <a:pt x="2623" y="8458"/>
                  </a:lnTo>
                  <a:lnTo>
                    <a:pt x="2623" y="8294"/>
                  </a:lnTo>
                  <a:lnTo>
                    <a:pt x="2600" y="8294"/>
                  </a:lnTo>
                  <a:lnTo>
                    <a:pt x="2600" y="8256"/>
                  </a:lnTo>
                  <a:lnTo>
                    <a:pt x="2600" y="8217"/>
                  </a:lnTo>
                  <a:lnTo>
                    <a:pt x="2585" y="8217"/>
                  </a:lnTo>
                  <a:lnTo>
                    <a:pt x="2585" y="8147"/>
                  </a:lnTo>
                  <a:lnTo>
                    <a:pt x="2568" y="8147"/>
                  </a:lnTo>
                  <a:lnTo>
                    <a:pt x="2568" y="8038"/>
                  </a:lnTo>
                  <a:lnTo>
                    <a:pt x="2568" y="7820"/>
                  </a:lnTo>
                  <a:lnTo>
                    <a:pt x="2545" y="7820"/>
                  </a:lnTo>
                  <a:lnTo>
                    <a:pt x="2545" y="7404"/>
                  </a:lnTo>
                  <a:lnTo>
                    <a:pt x="2545" y="7388"/>
                  </a:lnTo>
                  <a:lnTo>
                    <a:pt x="2545" y="7240"/>
                  </a:lnTo>
                  <a:lnTo>
                    <a:pt x="2545" y="6991"/>
                  </a:lnTo>
                  <a:lnTo>
                    <a:pt x="2530" y="6991"/>
                  </a:lnTo>
                  <a:lnTo>
                    <a:pt x="2530" y="6354"/>
                  </a:lnTo>
                  <a:lnTo>
                    <a:pt x="2530" y="6337"/>
                  </a:lnTo>
                  <a:lnTo>
                    <a:pt x="2530" y="6081"/>
                  </a:lnTo>
                  <a:lnTo>
                    <a:pt x="2545" y="6081"/>
                  </a:lnTo>
                  <a:lnTo>
                    <a:pt x="2545" y="5848"/>
                  </a:lnTo>
                  <a:lnTo>
                    <a:pt x="2545" y="5559"/>
                  </a:lnTo>
                  <a:lnTo>
                    <a:pt x="2568" y="5559"/>
                  </a:lnTo>
                  <a:lnTo>
                    <a:pt x="2568" y="5416"/>
                  </a:lnTo>
                  <a:lnTo>
                    <a:pt x="2655" y="5323"/>
                  </a:lnTo>
                  <a:lnTo>
                    <a:pt x="2655" y="5306"/>
                  </a:lnTo>
                  <a:lnTo>
                    <a:pt x="2677" y="5268"/>
                  </a:lnTo>
                  <a:lnTo>
                    <a:pt x="2693" y="5268"/>
                  </a:lnTo>
                  <a:lnTo>
                    <a:pt x="2693" y="5236"/>
                  </a:lnTo>
                  <a:lnTo>
                    <a:pt x="2693" y="5214"/>
                  </a:lnTo>
                  <a:lnTo>
                    <a:pt x="2709" y="5214"/>
                  </a:lnTo>
                  <a:lnTo>
                    <a:pt x="2709" y="5197"/>
                  </a:lnTo>
                  <a:lnTo>
                    <a:pt x="2732" y="5197"/>
                  </a:lnTo>
                  <a:lnTo>
                    <a:pt x="2747" y="5127"/>
                  </a:lnTo>
                  <a:lnTo>
                    <a:pt x="2747" y="5104"/>
                  </a:lnTo>
                  <a:lnTo>
                    <a:pt x="2764" y="5104"/>
                  </a:lnTo>
                  <a:lnTo>
                    <a:pt x="2764" y="4832"/>
                  </a:lnTo>
                  <a:lnTo>
                    <a:pt x="2764" y="4778"/>
                  </a:lnTo>
                  <a:lnTo>
                    <a:pt x="2787" y="4778"/>
                  </a:lnTo>
                  <a:lnTo>
                    <a:pt x="2787" y="4762"/>
                  </a:lnTo>
                  <a:lnTo>
                    <a:pt x="2802" y="4762"/>
                  </a:lnTo>
                  <a:lnTo>
                    <a:pt x="2802" y="4708"/>
                  </a:lnTo>
                  <a:lnTo>
                    <a:pt x="2819" y="4708"/>
                  </a:lnTo>
                  <a:lnTo>
                    <a:pt x="2819" y="4692"/>
                  </a:lnTo>
                  <a:lnTo>
                    <a:pt x="2819" y="4653"/>
                  </a:lnTo>
                  <a:lnTo>
                    <a:pt x="2840" y="4653"/>
                  </a:lnTo>
                  <a:lnTo>
                    <a:pt x="2840" y="4637"/>
                  </a:lnTo>
                  <a:lnTo>
                    <a:pt x="2857" y="4637"/>
                  </a:lnTo>
                  <a:lnTo>
                    <a:pt x="2857" y="4615"/>
                  </a:lnTo>
                  <a:lnTo>
                    <a:pt x="2857" y="4598"/>
                  </a:lnTo>
                  <a:lnTo>
                    <a:pt x="2872" y="4598"/>
                  </a:lnTo>
                  <a:lnTo>
                    <a:pt x="2872" y="4583"/>
                  </a:lnTo>
                  <a:lnTo>
                    <a:pt x="2895" y="4583"/>
                  </a:lnTo>
                  <a:lnTo>
                    <a:pt x="2895" y="4528"/>
                  </a:lnTo>
                  <a:lnTo>
                    <a:pt x="2911" y="4528"/>
                  </a:lnTo>
                  <a:lnTo>
                    <a:pt x="2911" y="4506"/>
                  </a:lnTo>
                  <a:lnTo>
                    <a:pt x="2911" y="4474"/>
                  </a:lnTo>
                  <a:lnTo>
                    <a:pt x="2927" y="4474"/>
                  </a:lnTo>
                  <a:lnTo>
                    <a:pt x="2927" y="4451"/>
                  </a:lnTo>
                  <a:lnTo>
                    <a:pt x="2927" y="4435"/>
                  </a:lnTo>
                  <a:lnTo>
                    <a:pt x="2949" y="4435"/>
                  </a:lnTo>
                  <a:lnTo>
                    <a:pt x="2949" y="4381"/>
                  </a:lnTo>
                  <a:lnTo>
                    <a:pt x="2949" y="4365"/>
                  </a:lnTo>
                  <a:lnTo>
                    <a:pt x="2966" y="4365"/>
                  </a:lnTo>
                  <a:lnTo>
                    <a:pt x="2966" y="4326"/>
                  </a:lnTo>
                  <a:lnTo>
                    <a:pt x="2981" y="4326"/>
                  </a:lnTo>
                  <a:lnTo>
                    <a:pt x="2981" y="4288"/>
                  </a:lnTo>
                  <a:lnTo>
                    <a:pt x="3004" y="4288"/>
                  </a:lnTo>
                  <a:lnTo>
                    <a:pt x="3004" y="4234"/>
                  </a:lnTo>
                  <a:lnTo>
                    <a:pt x="3004" y="4218"/>
                  </a:lnTo>
                  <a:lnTo>
                    <a:pt x="3004" y="4179"/>
                  </a:lnTo>
                  <a:lnTo>
                    <a:pt x="3019" y="4179"/>
                  </a:lnTo>
                  <a:lnTo>
                    <a:pt x="3019" y="4147"/>
                  </a:lnTo>
                  <a:lnTo>
                    <a:pt x="3019" y="4039"/>
                  </a:lnTo>
                  <a:lnTo>
                    <a:pt x="3036" y="4039"/>
                  </a:lnTo>
                  <a:lnTo>
                    <a:pt x="3036" y="3891"/>
                  </a:lnTo>
                  <a:lnTo>
                    <a:pt x="3019" y="3891"/>
                  </a:lnTo>
                  <a:lnTo>
                    <a:pt x="3019" y="3820"/>
                  </a:lnTo>
                  <a:lnTo>
                    <a:pt x="3019" y="3767"/>
                  </a:lnTo>
                  <a:lnTo>
                    <a:pt x="3004" y="3767"/>
                  </a:lnTo>
                  <a:lnTo>
                    <a:pt x="3004" y="3673"/>
                  </a:lnTo>
                  <a:lnTo>
                    <a:pt x="2981" y="3587"/>
                  </a:lnTo>
                  <a:lnTo>
                    <a:pt x="2966" y="3587"/>
                  </a:lnTo>
                  <a:lnTo>
                    <a:pt x="2966" y="3514"/>
                  </a:lnTo>
                  <a:lnTo>
                    <a:pt x="2949" y="3514"/>
                  </a:lnTo>
                  <a:lnTo>
                    <a:pt x="2949" y="3423"/>
                  </a:lnTo>
                  <a:lnTo>
                    <a:pt x="2949" y="3404"/>
                  </a:lnTo>
                  <a:lnTo>
                    <a:pt x="2949" y="3369"/>
                  </a:lnTo>
                  <a:lnTo>
                    <a:pt x="2927" y="3369"/>
                  </a:lnTo>
                  <a:lnTo>
                    <a:pt x="2927" y="3206"/>
                  </a:lnTo>
                  <a:lnTo>
                    <a:pt x="2927" y="3170"/>
                  </a:lnTo>
                  <a:lnTo>
                    <a:pt x="2927" y="2953"/>
                  </a:lnTo>
                  <a:lnTo>
                    <a:pt x="2911" y="2953"/>
                  </a:lnTo>
                  <a:lnTo>
                    <a:pt x="2911" y="2681"/>
                  </a:lnTo>
                  <a:lnTo>
                    <a:pt x="2895" y="2681"/>
                  </a:lnTo>
                  <a:lnTo>
                    <a:pt x="2895" y="2626"/>
                  </a:lnTo>
                  <a:lnTo>
                    <a:pt x="2895" y="2517"/>
                  </a:lnTo>
                  <a:lnTo>
                    <a:pt x="2872" y="2517"/>
                  </a:lnTo>
                  <a:lnTo>
                    <a:pt x="2872" y="2479"/>
                  </a:lnTo>
                  <a:lnTo>
                    <a:pt x="2857" y="2479"/>
                  </a:lnTo>
                  <a:lnTo>
                    <a:pt x="2857" y="2392"/>
                  </a:lnTo>
                  <a:lnTo>
                    <a:pt x="2840" y="2337"/>
                  </a:lnTo>
                  <a:lnTo>
                    <a:pt x="2819" y="2337"/>
                  </a:lnTo>
                  <a:lnTo>
                    <a:pt x="2819" y="2283"/>
                  </a:lnTo>
                  <a:lnTo>
                    <a:pt x="2802" y="2245"/>
                  </a:lnTo>
                  <a:lnTo>
                    <a:pt x="2787" y="2207"/>
                  </a:lnTo>
                  <a:lnTo>
                    <a:pt x="2764" y="2207"/>
                  </a:lnTo>
                  <a:lnTo>
                    <a:pt x="2709" y="2120"/>
                  </a:lnTo>
                  <a:lnTo>
                    <a:pt x="2693" y="2120"/>
                  </a:lnTo>
                  <a:lnTo>
                    <a:pt x="2693" y="2117"/>
                  </a:lnTo>
                  <a:lnTo>
                    <a:pt x="2693" y="2098"/>
                  </a:lnTo>
                  <a:lnTo>
                    <a:pt x="2655" y="2098"/>
                  </a:lnTo>
                  <a:lnTo>
                    <a:pt x="2642" y="2065"/>
                  </a:lnTo>
                  <a:lnTo>
                    <a:pt x="2623" y="2065"/>
                  </a:lnTo>
                  <a:lnTo>
                    <a:pt x="2604" y="2027"/>
                  </a:lnTo>
                  <a:lnTo>
                    <a:pt x="2585" y="2027"/>
                  </a:lnTo>
                  <a:lnTo>
                    <a:pt x="2571" y="2008"/>
                  </a:lnTo>
                  <a:lnTo>
                    <a:pt x="2545" y="2008"/>
                  </a:lnTo>
                  <a:lnTo>
                    <a:pt x="2494" y="1988"/>
                  </a:lnTo>
                  <a:lnTo>
                    <a:pt x="2475" y="1988"/>
                  </a:lnTo>
                  <a:lnTo>
                    <a:pt x="2475" y="1969"/>
                  </a:lnTo>
                  <a:lnTo>
                    <a:pt x="2462" y="1969"/>
                  </a:lnTo>
                  <a:lnTo>
                    <a:pt x="2462" y="1956"/>
                  </a:lnTo>
                  <a:lnTo>
                    <a:pt x="2405" y="1956"/>
                  </a:lnTo>
                  <a:lnTo>
                    <a:pt x="2405" y="1931"/>
                  </a:lnTo>
                  <a:lnTo>
                    <a:pt x="2386" y="1931"/>
                  </a:lnTo>
                  <a:lnTo>
                    <a:pt x="2386" y="1918"/>
                  </a:lnTo>
                  <a:lnTo>
                    <a:pt x="2354" y="1918"/>
                  </a:lnTo>
                  <a:lnTo>
                    <a:pt x="2335" y="1918"/>
                  </a:lnTo>
                  <a:lnTo>
                    <a:pt x="2335" y="1899"/>
                  </a:lnTo>
                  <a:lnTo>
                    <a:pt x="2315" y="1899"/>
                  </a:lnTo>
                  <a:lnTo>
                    <a:pt x="2296" y="1899"/>
                  </a:lnTo>
                  <a:lnTo>
                    <a:pt x="2296" y="1880"/>
                  </a:lnTo>
                  <a:lnTo>
                    <a:pt x="2245" y="1880"/>
                  </a:lnTo>
                  <a:lnTo>
                    <a:pt x="2226" y="1880"/>
                  </a:lnTo>
                  <a:lnTo>
                    <a:pt x="2226" y="1861"/>
                  </a:lnTo>
                  <a:lnTo>
                    <a:pt x="2167" y="1848"/>
                  </a:lnTo>
                  <a:lnTo>
                    <a:pt x="2156" y="1848"/>
                  </a:lnTo>
                  <a:lnTo>
                    <a:pt x="2156" y="1822"/>
                  </a:lnTo>
                  <a:lnTo>
                    <a:pt x="2097" y="1809"/>
                  </a:lnTo>
                  <a:lnTo>
                    <a:pt x="2078" y="1790"/>
                  </a:lnTo>
                  <a:lnTo>
                    <a:pt x="2059" y="1790"/>
                  </a:lnTo>
                  <a:lnTo>
                    <a:pt x="2059" y="1771"/>
                  </a:lnTo>
                  <a:lnTo>
                    <a:pt x="2046" y="1771"/>
                  </a:lnTo>
                  <a:lnTo>
                    <a:pt x="1950" y="1682"/>
                  </a:lnTo>
                  <a:lnTo>
                    <a:pt x="1937" y="1631"/>
                  </a:lnTo>
                  <a:lnTo>
                    <a:pt x="1937" y="1591"/>
                  </a:lnTo>
                  <a:lnTo>
                    <a:pt x="1918" y="1591"/>
                  </a:lnTo>
                  <a:lnTo>
                    <a:pt x="1918" y="1534"/>
                  </a:lnTo>
                  <a:lnTo>
                    <a:pt x="1937" y="1534"/>
                  </a:lnTo>
                  <a:lnTo>
                    <a:pt x="1937" y="1483"/>
                  </a:lnTo>
                  <a:lnTo>
                    <a:pt x="1918" y="1483"/>
                  </a:lnTo>
                  <a:lnTo>
                    <a:pt x="1899" y="1412"/>
                  </a:lnTo>
                  <a:lnTo>
                    <a:pt x="1918" y="1412"/>
                  </a:lnTo>
                  <a:lnTo>
                    <a:pt x="1918" y="1355"/>
                  </a:lnTo>
                  <a:lnTo>
                    <a:pt x="1937" y="1355"/>
                  </a:lnTo>
                  <a:lnTo>
                    <a:pt x="1937" y="1323"/>
                  </a:lnTo>
                  <a:lnTo>
                    <a:pt x="2027" y="1227"/>
                  </a:lnTo>
                  <a:lnTo>
                    <a:pt x="2027" y="1214"/>
                  </a:lnTo>
                  <a:lnTo>
                    <a:pt x="2046" y="1214"/>
                  </a:lnTo>
                  <a:lnTo>
                    <a:pt x="2046" y="1195"/>
                  </a:lnTo>
                  <a:lnTo>
                    <a:pt x="2046" y="1176"/>
                  </a:lnTo>
                  <a:lnTo>
                    <a:pt x="2059" y="1176"/>
                  </a:lnTo>
                  <a:lnTo>
                    <a:pt x="2059" y="1157"/>
                  </a:lnTo>
                  <a:lnTo>
                    <a:pt x="2078" y="1104"/>
                  </a:lnTo>
                  <a:lnTo>
                    <a:pt x="2078" y="1085"/>
                  </a:lnTo>
                  <a:lnTo>
                    <a:pt x="2097" y="1085"/>
                  </a:lnTo>
                  <a:lnTo>
                    <a:pt x="2097" y="1051"/>
                  </a:lnTo>
                  <a:lnTo>
                    <a:pt x="2114" y="1051"/>
                  </a:lnTo>
                  <a:lnTo>
                    <a:pt x="2114" y="1047"/>
                  </a:lnTo>
                  <a:lnTo>
                    <a:pt x="2116" y="1047"/>
                  </a:lnTo>
                  <a:lnTo>
                    <a:pt x="2114" y="1047"/>
                  </a:lnTo>
                  <a:lnTo>
                    <a:pt x="2114" y="1034"/>
                  </a:lnTo>
                  <a:lnTo>
                    <a:pt x="2114" y="980"/>
                  </a:lnTo>
                  <a:lnTo>
                    <a:pt x="2133" y="980"/>
                  </a:lnTo>
                  <a:lnTo>
                    <a:pt x="2133" y="887"/>
                  </a:lnTo>
                  <a:lnTo>
                    <a:pt x="2133" y="779"/>
                  </a:lnTo>
                  <a:lnTo>
                    <a:pt x="2152" y="779"/>
                  </a:lnTo>
                  <a:lnTo>
                    <a:pt x="2167" y="397"/>
                  </a:lnTo>
                  <a:lnTo>
                    <a:pt x="2152" y="397"/>
                  </a:lnTo>
                  <a:lnTo>
                    <a:pt x="2152" y="311"/>
                  </a:lnTo>
                  <a:lnTo>
                    <a:pt x="2133" y="311"/>
                  </a:lnTo>
                  <a:lnTo>
                    <a:pt x="2133" y="288"/>
                  </a:lnTo>
                  <a:lnTo>
                    <a:pt x="2133" y="256"/>
                  </a:lnTo>
                  <a:lnTo>
                    <a:pt x="2114" y="256"/>
                  </a:lnTo>
                  <a:lnTo>
                    <a:pt x="2114" y="234"/>
                  </a:lnTo>
                  <a:lnTo>
                    <a:pt x="2114" y="201"/>
                  </a:lnTo>
                  <a:lnTo>
                    <a:pt x="2097" y="201"/>
                  </a:lnTo>
                  <a:lnTo>
                    <a:pt x="2043" y="125"/>
                  </a:lnTo>
                  <a:lnTo>
                    <a:pt x="2005" y="125"/>
                  </a:lnTo>
                  <a:lnTo>
                    <a:pt x="1988" y="109"/>
                  </a:lnTo>
                  <a:lnTo>
                    <a:pt x="1973" y="109"/>
                  </a:lnTo>
                  <a:lnTo>
                    <a:pt x="1973" y="71"/>
                  </a:lnTo>
                  <a:lnTo>
                    <a:pt x="1918" y="71"/>
                  </a:lnTo>
                  <a:lnTo>
                    <a:pt x="1918" y="54"/>
                  </a:lnTo>
                  <a:lnTo>
                    <a:pt x="1895" y="54"/>
                  </a:lnTo>
                  <a:lnTo>
                    <a:pt x="1895" y="39"/>
                  </a:lnTo>
                  <a:lnTo>
                    <a:pt x="1841" y="39"/>
                  </a:lnTo>
                  <a:lnTo>
                    <a:pt x="1771" y="16"/>
                  </a:lnTo>
                  <a:lnTo>
                    <a:pt x="1716" y="16"/>
                  </a:lnTo>
                  <a:lnTo>
                    <a:pt x="1716" y="0"/>
                  </a:lnTo>
                  <a:lnTo>
                    <a:pt x="1536" y="0"/>
                  </a:lnTo>
                  <a:lnTo>
                    <a:pt x="1536" y="16"/>
                  </a:lnTo>
                  <a:lnTo>
                    <a:pt x="1498" y="16"/>
                  </a:lnTo>
                  <a:lnTo>
                    <a:pt x="1444" y="16"/>
                  </a:lnTo>
                  <a:lnTo>
                    <a:pt x="1444" y="39"/>
                  </a:lnTo>
                  <a:lnTo>
                    <a:pt x="1389" y="39"/>
                  </a:lnTo>
                  <a:lnTo>
                    <a:pt x="1389" y="54"/>
                  </a:lnTo>
                  <a:lnTo>
                    <a:pt x="1357" y="71"/>
                  </a:lnTo>
                  <a:lnTo>
                    <a:pt x="1336" y="71"/>
                  </a:lnTo>
                  <a:lnTo>
                    <a:pt x="1336" y="93"/>
                  </a:lnTo>
                  <a:lnTo>
                    <a:pt x="1249" y="147"/>
                  </a:lnTo>
                  <a:lnTo>
                    <a:pt x="1249" y="163"/>
                  </a:lnTo>
                  <a:lnTo>
                    <a:pt x="1226" y="163"/>
                  </a:lnTo>
                  <a:lnTo>
                    <a:pt x="1226" y="179"/>
                  </a:lnTo>
                  <a:lnTo>
                    <a:pt x="1172" y="218"/>
                  </a:lnTo>
                  <a:lnTo>
                    <a:pt x="1172" y="234"/>
                  </a:lnTo>
                  <a:lnTo>
                    <a:pt x="1156" y="256"/>
                  </a:lnTo>
                  <a:lnTo>
                    <a:pt x="1156" y="288"/>
                  </a:lnTo>
                  <a:lnTo>
                    <a:pt x="1140" y="288"/>
                  </a:lnTo>
                  <a:lnTo>
                    <a:pt x="1140" y="326"/>
                  </a:lnTo>
                  <a:lnTo>
                    <a:pt x="1117" y="326"/>
                  </a:lnTo>
                  <a:lnTo>
                    <a:pt x="1117" y="343"/>
                  </a:lnTo>
                  <a:lnTo>
                    <a:pt x="1117" y="365"/>
                  </a:lnTo>
                  <a:lnTo>
                    <a:pt x="1102" y="365"/>
                  </a:lnTo>
                  <a:lnTo>
                    <a:pt x="1102" y="397"/>
                  </a:lnTo>
                  <a:lnTo>
                    <a:pt x="1102" y="436"/>
                  </a:lnTo>
                  <a:lnTo>
                    <a:pt x="1085" y="436"/>
                  </a:lnTo>
                  <a:lnTo>
                    <a:pt x="1085" y="615"/>
                  </a:lnTo>
                  <a:lnTo>
                    <a:pt x="1102" y="615"/>
                  </a:lnTo>
                  <a:lnTo>
                    <a:pt x="1102" y="747"/>
                  </a:lnTo>
                  <a:lnTo>
                    <a:pt x="1085" y="747"/>
                  </a:lnTo>
                  <a:lnTo>
                    <a:pt x="1085" y="855"/>
                  </a:lnTo>
                  <a:lnTo>
                    <a:pt x="1062" y="855"/>
                  </a:lnTo>
                  <a:lnTo>
                    <a:pt x="1062" y="926"/>
                  </a:lnTo>
                  <a:lnTo>
                    <a:pt x="1085" y="926"/>
                  </a:lnTo>
                  <a:lnTo>
                    <a:pt x="1085" y="980"/>
                  </a:lnTo>
                  <a:lnTo>
                    <a:pt x="1102" y="980"/>
                  </a:lnTo>
                  <a:lnTo>
                    <a:pt x="1102" y="1051"/>
                  </a:lnTo>
                  <a:lnTo>
                    <a:pt x="1117" y="1051"/>
                  </a:lnTo>
                  <a:lnTo>
                    <a:pt x="1117" y="1085"/>
                  </a:lnTo>
                  <a:lnTo>
                    <a:pt x="1143" y="1144"/>
                  </a:lnTo>
                  <a:lnTo>
                    <a:pt x="1156" y="1144"/>
                  </a:lnTo>
                  <a:lnTo>
                    <a:pt x="1156" y="1157"/>
                  </a:lnTo>
                  <a:lnTo>
                    <a:pt x="1156" y="1195"/>
                  </a:lnTo>
                  <a:lnTo>
                    <a:pt x="1175" y="1195"/>
                  </a:lnTo>
                  <a:lnTo>
                    <a:pt x="1175" y="1214"/>
                  </a:lnTo>
                  <a:lnTo>
                    <a:pt x="1213" y="1252"/>
                  </a:lnTo>
                  <a:lnTo>
                    <a:pt x="1226" y="1323"/>
                  </a:lnTo>
                  <a:lnTo>
                    <a:pt x="1251" y="1323"/>
                  </a:lnTo>
                  <a:lnTo>
                    <a:pt x="1251" y="1412"/>
                  </a:lnTo>
                  <a:lnTo>
                    <a:pt x="1251" y="1444"/>
                  </a:lnTo>
                  <a:lnTo>
                    <a:pt x="1226" y="1444"/>
                  </a:lnTo>
                  <a:lnTo>
                    <a:pt x="1226" y="1463"/>
                  </a:lnTo>
                  <a:lnTo>
                    <a:pt x="1213" y="1463"/>
                  </a:lnTo>
                  <a:lnTo>
                    <a:pt x="1213" y="1502"/>
                  </a:lnTo>
                  <a:lnTo>
                    <a:pt x="1213" y="1534"/>
                  </a:lnTo>
                  <a:lnTo>
                    <a:pt x="1194" y="1534"/>
                  </a:lnTo>
                  <a:lnTo>
                    <a:pt x="1175" y="1591"/>
                  </a:lnTo>
                  <a:lnTo>
                    <a:pt x="1175" y="1610"/>
                  </a:lnTo>
                  <a:lnTo>
                    <a:pt x="1156" y="1610"/>
                  </a:lnTo>
                  <a:lnTo>
                    <a:pt x="1156" y="1631"/>
                  </a:lnTo>
                  <a:lnTo>
                    <a:pt x="1066" y="1682"/>
                  </a:lnTo>
                  <a:lnTo>
                    <a:pt x="1066" y="1701"/>
                  </a:lnTo>
                  <a:lnTo>
                    <a:pt x="1034" y="1701"/>
                  </a:lnTo>
                  <a:lnTo>
                    <a:pt x="1034" y="1714"/>
                  </a:lnTo>
                  <a:lnTo>
                    <a:pt x="996" y="1739"/>
                  </a:lnTo>
                  <a:lnTo>
                    <a:pt x="938" y="1771"/>
                  </a:lnTo>
                  <a:lnTo>
                    <a:pt x="900" y="1771"/>
                  </a:lnTo>
                  <a:lnTo>
                    <a:pt x="900" y="1790"/>
                  </a:lnTo>
                  <a:lnTo>
                    <a:pt x="867" y="1790"/>
                  </a:lnTo>
                  <a:lnTo>
                    <a:pt x="867" y="1809"/>
                  </a:lnTo>
                  <a:lnTo>
                    <a:pt x="816" y="1809"/>
                  </a:lnTo>
                  <a:lnTo>
                    <a:pt x="778" y="1822"/>
                  </a:lnTo>
                  <a:lnTo>
                    <a:pt x="778" y="1848"/>
                  </a:lnTo>
                  <a:lnTo>
                    <a:pt x="720" y="1848"/>
                  </a:lnTo>
                  <a:lnTo>
                    <a:pt x="720" y="1861"/>
                  </a:lnTo>
                  <a:lnTo>
                    <a:pt x="682" y="1861"/>
                  </a:lnTo>
                  <a:lnTo>
                    <a:pt x="682" y="1880"/>
                  </a:lnTo>
                  <a:lnTo>
                    <a:pt x="650" y="1880"/>
                  </a:lnTo>
                  <a:lnTo>
                    <a:pt x="650" y="1899"/>
                  </a:lnTo>
                  <a:lnTo>
                    <a:pt x="611" y="1899"/>
                  </a:lnTo>
                  <a:lnTo>
                    <a:pt x="611" y="1918"/>
                  </a:lnTo>
                  <a:lnTo>
                    <a:pt x="573" y="1918"/>
                  </a:lnTo>
                  <a:lnTo>
                    <a:pt x="522" y="1931"/>
                  </a:lnTo>
                  <a:lnTo>
                    <a:pt x="522" y="1956"/>
                  </a:lnTo>
                  <a:lnTo>
                    <a:pt x="380" y="2027"/>
                  </a:lnTo>
                  <a:lnTo>
                    <a:pt x="323" y="2065"/>
                  </a:lnTo>
                  <a:lnTo>
                    <a:pt x="323" y="2098"/>
                  </a:lnTo>
                  <a:lnTo>
                    <a:pt x="304" y="2098"/>
                  </a:lnTo>
                  <a:lnTo>
                    <a:pt x="304" y="2120"/>
                  </a:lnTo>
                  <a:lnTo>
                    <a:pt x="284" y="2136"/>
                  </a:lnTo>
                  <a:lnTo>
                    <a:pt x="269" y="2190"/>
                  </a:lnTo>
                  <a:lnTo>
                    <a:pt x="250" y="2190"/>
                  </a:lnTo>
                  <a:lnTo>
                    <a:pt x="250" y="2245"/>
                  </a:lnTo>
                  <a:lnTo>
                    <a:pt x="231" y="2245"/>
                  </a:lnTo>
                  <a:lnTo>
                    <a:pt x="214" y="2299"/>
                  </a:lnTo>
                  <a:lnTo>
                    <a:pt x="195" y="2354"/>
                  </a:lnTo>
                  <a:lnTo>
                    <a:pt x="195" y="2409"/>
                  </a:lnTo>
                  <a:lnTo>
                    <a:pt x="178" y="2409"/>
                  </a:lnTo>
                  <a:lnTo>
                    <a:pt x="178" y="2462"/>
                  </a:lnTo>
                  <a:lnTo>
                    <a:pt x="178" y="2501"/>
                  </a:lnTo>
                  <a:lnTo>
                    <a:pt x="159" y="2501"/>
                  </a:lnTo>
                  <a:lnTo>
                    <a:pt x="159" y="2534"/>
                  </a:lnTo>
                  <a:lnTo>
                    <a:pt x="140" y="2534"/>
                  </a:lnTo>
                  <a:lnTo>
                    <a:pt x="140" y="2610"/>
                  </a:lnTo>
                  <a:lnTo>
                    <a:pt x="140" y="2719"/>
                  </a:lnTo>
                  <a:lnTo>
                    <a:pt x="125" y="2719"/>
                  </a:lnTo>
                  <a:lnTo>
                    <a:pt x="125" y="2860"/>
                  </a:lnTo>
                  <a:lnTo>
                    <a:pt x="105" y="2860"/>
                  </a:lnTo>
                  <a:lnTo>
                    <a:pt x="105" y="2936"/>
                  </a:lnTo>
                  <a:lnTo>
                    <a:pt x="105" y="3046"/>
                  </a:lnTo>
                  <a:lnTo>
                    <a:pt x="86" y="3046"/>
                  </a:lnTo>
                  <a:lnTo>
                    <a:pt x="86" y="3100"/>
                  </a:lnTo>
                  <a:lnTo>
                    <a:pt x="86" y="3170"/>
                  </a:lnTo>
                  <a:lnTo>
                    <a:pt x="86" y="3206"/>
                  </a:lnTo>
                  <a:lnTo>
                    <a:pt x="70" y="3206"/>
                  </a:lnTo>
                  <a:lnTo>
                    <a:pt x="70" y="3404"/>
                  </a:lnTo>
                  <a:lnTo>
                    <a:pt x="51" y="3404"/>
                  </a:lnTo>
                  <a:lnTo>
                    <a:pt x="51" y="3548"/>
                  </a:lnTo>
                  <a:lnTo>
                    <a:pt x="51" y="3619"/>
                  </a:lnTo>
                  <a:lnTo>
                    <a:pt x="31" y="3619"/>
                  </a:lnTo>
                  <a:lnTo>
                    <a:pt x="31" y="3782"/>
                  </a:lnTo>
                  <a:lnTo>
                    <a:pt x="31" y="3875"/>
                  </a:lnTo>
                  <a:lnTo>
                    <a:pt x="15" y="3875"/>
                  </a:lnTo>
                  <a:lnTo>
                    <a:pt x="15" y="4016"/>
                  </a:lnTo>
                  <a:lnTo>
                    <a:pt x="15" y="4071"/>
                  </a:lnTo>
                  <a:lnTo>
                    <a:pt x="0" y="4071"/>
                  </a:lnTo>
                  <a:lnTo>
                    <a:pt x="0" y="4218"/>
                  </a:lnTo>
                  <a:lnTo>
                    <a:pt x="0" y="4234"/>
                  </a:lnTo>
                  <a:lnTo>
                    <a:pt x="0" y="4272"/>
                  </a:lnTo>
                  <a:lnTo>
                    <a:pt x="15" y="4272"/>
                  </a:lnTo>
                  <a:lnTo>
                    <a:pt x="15" y="4653"/>
                  </a:lnTo>
                  <a:lnTo>
                    <a:pt x="15" y="4723"/>
                  </a:lnTo>
                  <a:lnTo>
                    <a:pt x="31" y="4723"/>
                  </a:lnTo>
                  <a:lnTo>
                    <a:pt x="31" y="4832"/>
                  </a:lnTo>
                  <a:lnTo>
                    <a:pt x="31" y="4887"/>
                  </a:lnTo>
                  <a:lnTo>
                    <a:pt x="51" y="4887"/>
                  </a:lnTo>
                  <a:lnTo>
                    <a:pt x="51" y="4996"/>
                  </a:lnTo>
                  <a:lnTo>
                    <a:pt x="51" y="5050"/>
                  </a:lnTo>
                  <a:lnTo>
                    <a:pt x="70" y="5050"/>
                  </a:lnTo>
                  <a:lnTo>
                    <a:pt x="70" y="5144"/>
                  </a:lnTo>
                  <a:lnTo>
                    <a:pt x="86" y="5144"/>
                  </a:lnTo>
                  <a:lnTo>
                    <a:pt x="86" y="5197"/>
                  </a:lnTo>
                  <a:lnTo>
                    <a:pt x="86" y="5214"/>
                  </a:lnTo>
                  <a:lnTo>
                    <a:pt x="105" y="5214"/>
                  </a:lnTo>
                  <a:lnTo>
                    <a:pt x="105" y="5268"/>
                  </a:lnTo>
                  <a:lnTo>
                    <a:pt x="105" y="5287"/>
                  </a:lnTo>
                  <a:lnTo>
                    <a:pt x="105" y="5306"/>
                  </a:lnTo>
                  <a:lnTo>
                    <a:pt x="125" y="5306"/>
                  </a:lnTo>
                  <a:lnTo>
                    <a:pt x="140" y="5361"/>
                  </a:lnTo>
                  <a:lnTo>
                    <a:pt x="140" y="5450"/>
                  </a:lnTo>
                  <a:lnTo>
                    <a:pt x="125" y="5723"/>
                  </a:lnTo>
                  <a:lnTo>
                    <a:pt x="140" y="5723"/>
                  </a:lnTo>
                  <a:lnTo>
                    <a:pt x="140" y="5863"/>
                  </a:lnTo>
                  <a:lnTo>
                    <a:pt x="140" y="5918"/>
                  </a:lnTo>
                  <a:lnTo>
                    <a:pt x="159" y="5918"/>
                  </a:lnTo>
                  <a:lnTo>
                    <a:pt x="159" y="5956"/>
                  </a:lnTo>
                  <a:lnTo>
                    <a:pt x="178" y="5956"/>
                  </a:lnTo>
                  <a:lnTo>
                    <a:pt x="178" y="5995"/>
                  </a:lnTo>
                  <a:lnTo>
                    <a:pt x="195" y="6027"/>
                  </a:lnTo>
                  <a:lnTo>
                    <a:pt x="214" y="6081"/>
                  </a:lnTo>
                  <a:lnTo>
                    <a:pt x="231" y="6120"/>
                  </a:lnTo>
                  <a:lnTo>
                    <a:pt x="250" y="6120"/>
                  </a:lnTo>
                  <a:lnTo>
                    <a:pt x="269" y="6136"/>
                  </a:lnTo>
                  <a:lnTo>
                    <a:pt x="269" y="6158"/>
                  </a:lnTo>
                  <a:lnTo>
                    <a:pt x="304" y="6175"/>
                  </a:lnTo>
                  <a:lnTo>
                    <a:pt x="304" y="6190"/>
                  </a:lnTo>
                  <a:lnTo>
                    <a:pt x="323" y="6190"/>
                  </a:lnTo>
                  <a:lnTo>
                    <a:pt x="323" y="6213"/>
                  </a:lnTo>
                  <a:lnTo>
                    <a:pt x="358" y="6213"/>
                  </a:lnTo>
                  <a:lnTo>
                    <a:pt x="358" y="6228"/>
                  </a:lnTo>
                  <a:lnTo>
                    <a:pt x="410" y="6228"/>
                  </a:lnTo>
                  <a:lnTo>
                    <a:pt x="431" y="6245"/>
                  </a:lnTo>
                  <a:lnTo>
                    <a:pt x="431" y="6337"/>
                  </a:lnTo>
                  <a:lnTo>
                    <a:pt x="431" y="6354"/>
                  </a:lnTo>
                  <a:lnTo>
                    <a:pt x="431" y="6392"/>
                  </a:lnTo>
                  <a:lnTo>
                    <a:pt x="448" y="6572"/>
                  </a:lnTo>
                  <a:lnTo>
                    <a:pt x="463" y="6572"/>
                  </a:lnTo>
                  <a:lnTo>
                    <a:pt x="463" y="6664"/>
                  </a:lnTo>
                  <a:lnTo>
                    <a:pt x="463" y="6719"/>
                  </a:lnTo>
                  <a:lnTo>
                    <a:pt x="486" y="6719"/>
                  </a:lnTo>
                  <a:lnTo>
                    <a:pt x="486" y="6789"/>
                  </a:lnTo>
                  <a:lnTo>
                    <a:pt x="503" y="6789"/>
                  </a:lnTo>
                  <a:lnTo>
                    <a:pt x="503" y="6882"/>
                  </a:lnTo>
                  <a:lnTo>
                    <a:pt x="503" y="7100"/>
                  </a:lnTo>
                  <a:lnTo>
                    <a:pt x="503" y="7186"/>
                  </a:lnTo>
                  <a:lnTo>
                    <a:pt x="503" y="7388"/>
                  </a:lnTo>
                  <a:lnTo>
                    <a:pt x="503" y="7404"/>
                  </a:lnTo>
                  <a:lnTo>
                    <a:pt x="503" y="7567"/>
                  </a:lnTo>
                  <a:lnTo>
                    <a:pt x="503" y="7858"/>
                  </a:lnTo>
                  <a:lnTo>
                    <a:pt x="486" y="7858"/>
                  </a:lnTo>
                  <a:lnTo>
                    <a:pt x="486" y="8054"/>
                  </a:lnTo>
                  <a:lnTo>
                    <a:pt x="463" y="8054"/>
                  </a:lnTo>
                  <a:lnTo>
                    <a:pt x="463" y="8272"/>
                  </a:lnTo>
                  <a:lnTo>
                    <a:pt x="463" y="8435"/>
                  </a:lnTo>
                  <a:lnTo>
                    <a:pt x="448" y="8435"/>
                  </a:lnTo>
                  <a:lnTo>
                    <a:pt x="448" y="8458"/>
                  </a:lnTo>
                  <a:lnTo>
                    <a:pt x="448" y="8566"/>
                  </a:lnTo>
                  <a:lnTo>
                    <a:pt x="431" y="8566"/>
                  </a:lnTo>
                  <a:lnTo>
                    <a:pt x="431" y="8637"/>
                  </a:lnTo>
                  <a:lnTo>
                    <a:pt x="431" y="8708"/>
                  </a:lnTo>
                  <a:lnTo>
                    <a:pt x="410" y="8708"/>
                  </a:lnTo>
                  <a:lnTo>
                    <a:pt x="410" y="8855"/>
                  </a:lnTo>
                  <a:lnTo>
                    <a:pt x="410" y="9127"/>
                  </a:lnTo>
                  <a:lnTo>
                    <a:pt x="393" y="9127"/>
                  </a:lnTo>
                  <a:lnTo>
                    <a:pt x="393" y="9252"/>
                  </a:lnTo>
                  <a:lnTo>
                    <a:pt x="393" y="9505"/>
                  </a:lnTo>
                  <a:lnTo>
                    <a:pt x="393" y="9524"/>
                  </a:lnTo>
                  <a:lnTo>
                    <a:pt x="393" y="9956"/>
                  </a:lnTo>
                  <a:lnTo>
                    <a:pt x="393" y="10011"/>
                  </a:lnTo>
                  <a:lnTo>
                    <a:pt x="410" y="10011"/>
                  </a:lnTo>
                  <a:lnTo>
                    <a:pt x="410" y="10049"/>
                  </a:lnTo>
                  <a:lnTo>
                    <a:pt x="284" y="10158"/>
                  </a:lnTo>
                  <a:lnTo>
                    <a:pt x="284" y="10174"/>
                  </a:lnTo>
                  <a:lnTo>
                    <a:pt x="250" y="10213"/>
                  </a:lnTo>
                  <a:lnTo>
                    <a:pt x="250" y="10228"/>
                  </a:lnTo>
                  <a:lnTo>
                    <a:pt x="231" y="10245"/>
                  </a:lnTo>
                  <a:lnTo>
                    <a:pt x="231" y="10267"/>
                  </a:lnTo>
                  <a:lnTo>
                    <a:pt x="214" y="10267"/>
                  </a:lnTo>
                  <a:lnTo>
                    <a:pt x="214" y="10299"/>
                  </a:lnTo>
                  <a:lnTo>
                    <a:pt x="195" y="10299"/>
                  </a:lnTo>
                  <a:lnTo>
                    <a:pt x="195" y="10321"/>
                  </a:lnTo>
                  <a:lnTo>
                    <a:pt x="178" y="10337"/>
                  </a:lnTo>
                  <a:lnTo>
                    <a:pt x="178" y="10353"/>
                  </a:lnTo>
                  <a:lnTo>
                    <a:pt x="159" y="10353"/>
                  </a:lnTo>
                  <a:lnTo>
                    <a:pt x="159" y="10375"/>
                  </a:lnTo>
                  <a:lnTo>
                    <a:pt x="140" y="10375"/>
                  </a:lnTo>
                  <a:lnTo>
                    <a:pt x="140" y="10462"/>
                  </a:lnTo>
                  <a:lnTo>
                    <a:pt x="159" y="10462"/>
                  </a:lnTo>
                  <a:lnTo>
                    <a:pt x="159" y="10517"/>
                  </a:lnTo>
                  <a:lnTo>
                    <a:pt x="178" y="10517"/>
                  </a:lnTo>
                  <a:lnTo>
                    <a:pt x="195" y="10539"/>
                  </a:lnTo>
                  <a:lnTo>
                    <a:pt x="214" y="10539"/>
                  </a:lnTo>
                  <a:lnTo>
                    <a:pt x="214" y="10555"/>
                  </a:lnTo>
                  <a:lnTo>
                    <a:pt x="410" y="10555"/>
                  </a:lnTo>
                  <a:lnTo>
                    <a:pt x="410" y="10539"/>
                  </a:lnTo>
                  <a:lnTo>
                    <a:pt x="541" y="10539"/>
                  </a:lnTo>
                  <a:lnTo>
                    <a:pt x="573" y="10539"/>
                  </a:lnTo>
                  <a:lnTo>
                    <a:pt x="573" y="10517"/>
                  </a:lnTo>
                  <a:lnTo>
                    <a:pt x="611" y="10517"/>
                  </a:lnTo>
                  <a:lnTo>
                    <a:pt x="682" y="10462"/>
                  </a:lnTo>
                  <a:lnTo>
                    <a:pt x="682" y="10447"/>
                  </a:lnTo>
                  <a:lnTo>
                    <a:pt x="758" y="10392"/>
                  </a:lnTo>
                  <a:lnTo>
                    <a:pt x="758" y="10375"/>
                  </a:lnTo>
                  <a:lnTo>
                    <a:pt x="775" y="10337"/>
                  </a:lnTo>
                  <a:lnTo>
                    <a:pt x="867" y="10337"/>
                  </a:lnTo>
                  <a:lnTo>
                    <a:pt x="900" y="10321"/>
                  </a:lnTo>
                  <a:lnTo>
                    <a:pt x="922" y="10321"/>
                  </a:lnTo>
                  <a:lnTo>
                    <a:pt x="922" y="10299"/>
                  </a:lnTo>
                  <a:lnTo>
                    <a:pt x="977" y="10283"/>
                  </a:lnTo>
                  <a:lnTo>
                    <a:pt x="977" y="10136"/>
                  </a:lnTo>
                  <a:lnTo>
                    <a:pt x="977" y="10081"/>
                  </a:lnTo>
                  <a:lnTo>
                    <a:pt x="992" y="10081"/>
                  </a:lnTo>
                  <a:lnTo>
                    <a:pt x="992" y="10049"/>
                  </a:lnTo>
                  <a:lnTo>
                    <a:pt x="1009" y="9973"/>
                  </a:lnTo>
                  <a:lnTo>
                    <a:pt x="1009" y="9941"/>
                  </a:lnTo>
                  <a:lnTo>
                    <a:pt x="1030" y="9941"/>
                  </a:lnTo>
                  <a:lnTo>
                    <a:pt x="1047" y="9886"/>
                  </a:lnTo>
                  <a:lnTo>
                    <a:pt x="1047" y="9863"/>
                  </a:lnTo>
                  <a:lnTo>
                    <a:pt x="1062" y="9863"/>
                  </a:lnTo>
                  <a:lnTo>
                    <a:pt x="1062" y="9831"/>
                  </a:lnTo>
                  <a:lnTo>
                    <a:pt x="1062" y="9793"/>
                  </a:lnTo>
                  <a:lnTo>
                    <a:pt x="1085" y="9793"/>
                  </a:lnTo>
                  <a:lnTo>
                    <a:pt x="1085" y="9739"/>
                  </a:lnTo>
                  <a:lnTo>
                    <a:pt x="1102" y="9739"/>
                  </a:lnTo>
                  <a:lnTo>
                    <a:pt x="1102" y="9684"/>
                  </a:lnTo>
                  <a:lnTo>
                    <a:pt x="1102" y="9575"/>
                  </a:lnTo>
                  <a:lnTo>
                    <a:pt x="1117" y="9575"/>
                  </a:lnTo>
                  <a:lnTo>
                    <a:pt x="1117" y="9524"/>
                  </a:lnTo>
                  <a:lnTo>
                    <a:pt x="1117" y="9505"/>
                  </a:lnTo>
                  <a:lnTo>
                    <a:pt x="1117" y="9486"/>
                  </a:lnTo>
                  <a:lnTo>
                    <a:pt x="1117" y="9268"/>
                  </a:lnTo>
                  <a:lnTo>
                    <a:pt x="1140" y="9268"/>
                  </a:lnTo>
                  <a:lnTo>
                    <a:pt x="1140" y="8980"/>
                  </a:lnTo>
                  <a:lnTo>
                    <a:pt x="1156" y="8980"/>
                  </a:lnTo>
                  <a:lnTo>
                    <a:pt x="1156" y="8910"/>
                  </a:lnTo>
                  <a:lnTo>
                    <a:pt x="1156" y="8785"/>
                  </a:lnTo>
                  <a:lnTo>
                    <a:pt x="1172" y="8785"/>
                  </a:lnTo>
                  <a:lnTo>
                    <a:pt x="1172" y="8544"/>
                  </a:lnTo>
                  <a:lnTo>
                    <a:pt x="1172" y="8458"/>
                  </a:lnTo>
                  <a:lnTo>
                    <a:pt x="1172" y="8272"/>
                  </a:lnTo>
                  <a:lnTo>
                    <a:pt x="1194" y="8272"/>
                  </a:lnTo>
                  <a:lnTo>
                    <a:pt x="1194" y="8092"/>
                  </a:lnTo>
                  <a:lnTo>
                    <a:pt x="1210" y="8092"/>
                  </a:lnTo>
                  <a:lnTo>
                    <a:pt x="1210" y="7945"/>
                  </a:lnTo>
                  <a:lnTo>
                    <a:pt x="1210" y="7820"/>
                  </a:lnTo>
                  <a:lnTo>
                    <a:pt x="1226" y="7820"/>
                  </a:lnTo>
                  <a:lnTo>
                    <a:pt x="1226" y="7805"/>
                  </a:lnTo>
                  <a:lnTo>
                    <a:pt x="1249" y="7805"/>
                  </a:lnTo>
                  <a:lnTo>
                    <a:pt x="1249" y="7782"/>
                  </a:lnTo>
                  <a:lnTo>
                    <a:pt x="1249" y="7765"/>
                  </a:lnTo>
                  <a:lnTo>
                    <a:pt x="1264" y="7765"/>
                  </a:lnTo>
                  <a:lnTo>
                    <a:pt x="1264" y="7750"/>
                  </a:lnTo>
                  <a:lnTo>
                    <a:pt x="1264" y="7711"/>
                  </a:lnTo>
                  <a:lnTo>
                    <a:pt x="1281" y="7711"/>
                  </a:lnTo>
                  <a:lnTo>
                    <a:pt x="1281" y="7676"/>
                  </a:lnTo>
                  <a:lnTo>
                    <a:pt x="1304" y="7676"/>
                  </a:lnTo>
                  <a:lnTo>
                    <a:pt x="1304" y="7404"/>
                  </a:lnTo>
                  <a:lnTo>
                    <a:pt x="1319" y="7404"/>
                  </a:lnTo>
                  <a:lnTo>
                    <a:pt x="1319" y="7388"/>
                  </a:lnTo>
                  <a:lnTo>
                    <a:pt x="1319" y="7295"/>
                  </a:lnTo>
                  <a:lnTo>
                    <a:pt x="1319" y="7208"/>
                  </a:lnTo>
                  <a:lnTo>
                    <a:pt x="1336" y="7208"/>
                  </a:lnTo>
                  <a:lnTo>
                    <a:pt x="1336" y="7154"/>
                  </a:lnTo>
                  <a:lnTo>
                    <a:pt x="1357" y="7154"/>
                  </a:lnTo>
                  <a:lnTo>
                    <a:pt x="1357" y="7078"/>
                  </a:lnTo>
                  <a:lnTo>
                    <a:pt x="1374" y="6936"/>
                  </a:lnTo>
                  <a:lnTo>
                    <a:pt x="1389" y="6936"/>
                  </a:lnTo>
                  <a:lnTo>
                    <a:pt x="1389" y="6828"/>
                  </a:lnTo>
                  <a:lnTo>
                    <a:pt x="1389" y="6773"/>
                  </a:lnTo>
                  <a:lnTo>
                    <a:pt x="1412" y="6773"/>
                  </a:lnTo>
                  <a:lnTo>
                    <a:pt x="1412" y="6664"/>
                  </a:lnTo>
                  <a:lnTo>
                    <a:pt x="1428" y="6664"/>
                  </a:lnTo>
                  <a:lnTo>
                    <a:pt x="1428" y="6610"/>
                  </a:lnTo>
                  <a:lnTo>
                    <a:pt x="1428" y="6555"/>
                  </a:lnTo>
                  <a:lnTo>
                    <a:pt x="1444" y="6555"/>
                  </a:lnTo>
                  <a:lnTo>
                    <a:pt x="1444" y="6462"/>
                  </a:lnTo>
                  <a:lnTo>
                    <a:pt x="1466" y="6462"/>
                  </a:lnTo>
                  <a:lnTo>
                    <a:pt x="1466" y="6408"/>
                  </a:lnTo>
                  <a:lnTo>
                    <a:pt x="1466" y="6354"/>
                  </a:lnTo>
                  <a:lnTo>
                    <a:pt x="1483" y="6354"/>
                  </a:lnTo>
                  <a:lnTo>
                    <a:pt x="1483" y="6337"/>
                  </a:lnTo>
                  <a:lnTo>
                    <a:pt x="1483" y="6245"/>
                  </a:lnTo>
                  <a:lnTo>
                    <a:pt x="1483" y="6190"/>
                  </a:lnTo>
                  <a:lnTo>
                    <a:pt x="1498" y="6190"/>
                  </a:lnTo>
                  <a:lnTo>
                    <a:pt x="1498" y="6136"/>
                  </a:lnTo>
                  <a:lnTo>
                    <a:pt x="1498" y="6081"/>
                  </a:lnTo>
                  <a:lnTo>
                    <a:pt x="1521" y="6081"/>
                  </a:lnTo>
                  <a:lnTo>
                    <a:pt x="1536" y="6120"/>
                  </a:lnTo>
                  <a:lnTo>
                    <a:pt x="1536" y="6175"/>
                  </a:lnTo>
                  <a:lnTo>
                    <a:pt x="1553" y="6175"/>
                  </a:lnTo>
                  <a:lnTo>
                    <a:pt x="1576" y="6245"/>
                  </a:lnTo>
                  <a:lnTo>
                    <a:pt x="1576" y="6299"/>
                  </a:lnTo>
                  <a:lnTo>
                    <a:pt x="1591" y="6299"/>
                  </a:lnTo>
                  <a:lnTo>
                    <a:pt x="1591" y="6337"/>
                  </a:lnTo>
                  <a:lnTo>
                    <a:pt x="1591" y="6354"/>
                  </a:lnTo>
                  <a:lnTo>
                    <a:pt x="1591" y="6392"/>
                  </a:lnTo>
                  <a:lnTo>
                    <a:pt x="1608" y="6392"/>
                  </a:lnTo>
                  <a:lnTo>
                    <a:pt x="1608" y="6424"/>
                  </a:lnTo>
                  <a:lnTo>
                    <a:pt x="1630" y="6424"/>
                  </a:lnTo>
                  <a:lnTo>
                    <a:pt x="1630" y="6462"/>
                  </a:lnTo>
                  <a:lnTo>
                    <a:pt x="1630" y="6664"/>
                  </a:lnTo>
                  <a:lnTo>
                    <a:pt x="1646" y="6664"/>
                  </a:lnTo>
                  <a:lnTo>
                    <a:pt x="1646" y="6859"/>
                  </a:lnTo>
                  <a:lnTo>
                    <a:pt x="1646" y="6936"/>
                  </a:lnTo>
                  <a:lnTo>
                    <a:pt x="1661" y="6936"/>
                  </a:lnTo>
                  <a:lnTo>
                    <a:pt x="1661" y="7046"/>
                  </a:lnTo>
                  <a:lnTo>
                    <a:pt x="1684" y="7046"/>
                  </a:lnTo>
                  <a:lnTo>
                    <a:pt x="1684" y="7170"/>
                  </a:lnTo>
                  <a:lnTo>
                    <a:pt x="1700" y="7170"/>
                  </a:lnTo>
                  <a:lnTo>
                    <a:pt x="1700" y="7280"/>
                  </a:lnTo>
                  <a:lnTo>
                    <a:pt x="1716" y="7404"/>
                  </a:lnTo>
                  <a:lnTo>
                    <a:pt x="1725" y="7404"/>
                  </a:lnTo>
                  <a:lnTo>
                    <a:pt x="1738" y="7423"/>
                  </a:lnTo>
                  <a:lnTo>
                    <a:pt x="1738" y="7512"/>
                  </a:lnTo>
                  <a:lnTo>
                    <a:pt x="1738" y="7586"/>
                  </a:lnTo>
                  <a:lnTo>
                    <a:pt x="1755" y="7586"/>
                  </a:lnTo>
                  <a:lnTo>
                    <a:pt x="1755" y="7657"/>
                  </a:lnTo>
                  <a:lnTo>
                    <a:pt x="1755" y="7695"/>
                  </a:lnTo>
                  <a:lnTo>
                    <a:pt x="1771" y="7695"/>
                  </a:lnTo>
                  <a:lnTo>
                    <a:pt x="1793" y="7967"/>
                  </a:lnTo>
                  <a:lnTo>
                    <a:pt x="1793" y="8054"/>
                  </a:lnTo>
                  <a:lnTo>
                    <a:pt x="1809" y="8054"/>
                  </a:lnTo>
                  <a:lnTo>
                    <a:pt x="1809" y="8109"/>
                  </a:lnTo>
                  <a:lnTo>
                    <a:pt x="1825" y="8109"/>
                  </a:lnTo>
                  <a:lnTo>
                    <a:pt x="1825" y="8201"/>
                  </a:lnTo>
                  <a:lnTo>
                    <a:pt x="1825" y="8256"/>
                  </a:lnTo>
                  <a:lnTo>
                    <a:pt x="1841" y="8256"/>
                  </a:lnTo>
                  <a:lnTo>
                    <a:pt x="1841" y="8349"/>
                  </a:lnTo>
                  <a:lnTo>
                    <a:pt x="1841" y="8381"/>
                  </a:lnTo>
                  <a:lnTo>
                    <a:pt x="1863" y="8381"/>
                  </a:lnTo>
                  <a:lnTo>
                    <a:pt x="1863" y="8458"/>
                  </a:lnTo>
                  <a:lnTo>
                    <a:pt x="1863" y="8637"/>
                  </a:lnTo>
                  <a:lnTo>
                    <a:pt x="1863" y="8963"/>
                  </a:lnTo>
                  <a:lnTo>
                    <a:pt x="1880" y="8963"/>
                  </a:lnTo>
                  <a:lnTo>
                    <a:pt x="1880" y="9034"/>
                  </a:lnTo>
                  <a:lnTo>
                    <a:pt x="1895" y="9034"/>
                  </a:lnTo>
                  <a:lnTo>
                    <a:pt x="1895" y="9089"/>
                  </a:lnTo>
                  <a:lnTo>
                    <a:pt x="1895" y="9142"/>
                  </a:lnTo>
                  <a:lnTo>
                    <a:pt x="1918" y="9142"/>
                  </a:lnTo>
                  <a:lnTo>
                    <a:pt x="1918" y="9197"/>
                  </a:lnTo>
                  <a:lnTo>
                    <a:pt x="1935" y="9197"/>
                  </a:lnTo>
                  <a:lnTo>
                    <a:pt x="1935" y="9290"/>
                  </a:lnTo>
                  <a:lnTo>
                    <a:pt x="1950" y="9361"/>
                  </a:lnTo>
                  <a:lnTo>
                    <a:pt x="1950" y="9450"/>
                  </a:lnTo>
                  <a:lnTo>
                    <a:pt x="1973" y="9450"/>
                  </a:lnTo>
                  <a:lnTo>
                    <a:pt x="1973" y="9505"/>
                  </a:lnTo>
                  <a:close/>
                  <a:moveTo>
                    <a:pt x="1172" y="8458"/>
                  </a:moveTo>
                  <a:lnTo>
                    <a:pt x="448" y="8458"/>
                  </a:lnTo>
                  <a:lnTo>
                    <a:pt x="1172" y="8458"/>
                  </a:lnTo>
                  <a:close/>
                  <a:moveTo>
                    <a:pt x="1498" y="6081"/>
                  </a:moveTo>
                  <a:lnTo>
                    <a:pt x="214" y="6081"/>
                  </a:lnTo>
                  <a:lnTo>
                    <a:pt x="1498" y="6081"/>
                  </a:lnTo>
                  <a:close/>
                  <a:moveTo>
                    <a:pt x="2949" y="3423"/>
                  </a:moveTo>
                  <a:lnTo>
                    <a:pt x="2386" y="3423"/>
                  </a:lnTo>
                  <a:lnTo>
                    <a:pt x="2949" y="3423"/>
                  </a:lnTo>
                  <a:close/>
                  <a:moveTo>
                    <a:pt x="2949" y="3404"/>
                  </a:moveTo>
                  <a:lnTo>
                    <a:pt x="627" y="3404"/>
                  </a:lnTo>
                  <a:lnTo>
                    <a:pt x="2949" y="3404"/>
                  </a:lnTo>
                  <a:close/>
                  <a:moveTo>
                    <a:pt x="2530" y="4218"/>
                  </a:moveTo>
                  <a:lnTo>
                    <a:pt x="2530" y="4234"/>
                  </a:lnTo>
                  <a:lnTo>
                    <a:pt x="2530" y="4637"/>
                  </a:lnTo>
                  <a:lnTo>
                    <a:pt x="2513" y="4637"/>
                  </a:lnTo>
                  <a:lnTo>
                    <a:pt x="2492" y="4692"/>
                  </a:lnTo>
                  <a:lnTo>
                    <a:pt x="2460" y="4708"/>
                  </a:lnTo>
                  <a:lnTo>
                    <a:pt x="2460" y="4723"/>
                  </a:lnTo>
                  <a:lnTo>
                    <a:pt x="2460" y="4708"/>
                  </a:lnTo>
                  <a:lnTo>
                    <a:pt x="2437" y="4708"/>
                  </a:lnTo>
                  <a:lnTo>
                    <a:pt x="2437" y="4637"/>
                  </a:lnTo>
                  <a:lnTo>
                    <a:pt x="2421" y="4637"/>
                  </a:lnTo>
                  <a:lnTo>
                    <a:pt x="2421" y="4615"/>
                  </a:lnTo>
                  <a:lnTo>
                    <a:pt x="2421" y="4545"/>
                  </a:lnTo>
                  <a:lnTo>
                    <a:pt x="2405" y="4545"/>
                  </a:lnTo>
                  <a:lnTo>
                    <a:pt x="2405" y="4506"/>
                  </a:lnTo>
                  <a:lnTo>
                    <a:pt x="2386" y="4506"/>
                  </a:lnTo>
                  <a:lnTo>
                    <a:pt x="2386" y="4435"/>
                  </a:lnTo>
                  <a:lnTo>
                    <a:pt x="2386" y="4397"/>
                  </a:lnTo>
                  <a:lnTo>
                    <a:pt x="2367" y="4397"/>
                  </a:lnTo>
                  <a:lnTo>
                    <a:pt x="2367" y="4365"/>
                  </a:lnTo>
                  <a:lnTo>
                    <a:pt x="2350" y="4365"/>
                  </a:lnTo>
                  <a:lnTo>
                    <a:pt x="2350" y="4288"/>
                  </a:lnTo>
                  <a:lnTo>
                    <a:pt x="2350" y="4256"/>
                  </a:lnTo>
                  <a:lnTo>
                    <a:pt x="2350" y="4234"/>
                  </a:lnTo>
                  <a:lnTo>
                    <a:pt x="2367" y="4234"/>
                  </a:lnTo>
                  <a:lnTo>
                    <a:pt x="2367" y="4218"/>
                  </a:lnTo>
                  <a:lnTo>
                    <a:pt x="2386" y="4218"/>
                  </a:lnTo>
                  <a:lnTo>
                    <a:pt x="2386" y="4147"/>
                  </a:lnTo>
                  <a:lnTo>
                    <a:pt x="2386" y="4109"/>
                  </a:lnTo>
                  <a:lnTo>
                    <a:pt x="2367" y="4109"/>
                  </a:lnTo>
                  <a:lnTo>
                    <a:pt x="2350" y="4054"/>
                  </a:lnTo>
                  <a:lnTo>
                    <a:pt x="2350" y="3945"/>
                  </a:lnTo>
                  <a:lnTo>
                    <a:pt x="2350" y="3929"/>
                  </a:lnTo>
                  <a:lnTo>
                    <a:pt x="2367" y="3929"/>
                  </a:lnTo>
                  <a:lnTo>
                    <a:pt x="2367" y="3798"/>
                  </a:lnTo>
                  <a:lnTo>
                    <a:pt x="2350" y="3798"/>
                  </a:lnTo>
                  <a:lnTo>
                    <a:pt x="2350" y="3567"/>
                  </a:lnTo>
                  <a:lnTo>
                    <a:pt x="2367" y="3567"/>
                  </a:lnTo>
                  <a:lnTo>
                    <a:pt x="2367" y="3423"/>
                  </a:lnTo>
                  <a:lnTo>
                    <a:pt x="2386" y="3423"/>
                  </a:lnTo>
                  <a:lnTo>
                    <a:pt x="2421" y="3459"/>
                  </a:lnTo>
                  <a:lnTo>
                    <a:pt x="2421" y="3514"/>
                  </a:lnTo>
                  <a:lnTo>
                    <a:pt x="2437" y="3514"/>
                  </a:lnTo>
                  <a:lnTo>
                    <a:pt x="2437" y="3548"/>
                  </a:lnTo>
                  <a:lnTo>
                    <a:pt x="2460" y="3587"/>
                  </a:lnTo>
                  <a:lnTo>
                    <a:pt x="2460" y="3693"/>
                  </a:lnTo>
                  <a:lnTo>
                    <a:pt x="2475" y="3693"/>
                  </a:lnTo>
                  <a:lnTo>
                    <a:pt x="2475" y="3782"/>
                  </a:lnTo>
                  <a:lnTo>
                    <a:pt x="2492" y="3782"/>
                  </a:lnTo>
                  <a:lnTo>
                    <a:pt x="2492" y="3875"/>
                  </a:lnTo>
                  <a:lnTo>
                    <a:pt x="2513" y="4179"/>
                  </a:lnTo>
                  <a:lnTo>
                    <a:pt x="2530" y="4179"/>
                  </a:lnTo>
                  <a:lnTo>
                    <a:pt x="2530" y="4218"/>
                  </a:lnTo>
                  <a:close/>
                  <a:moveTo>
                    <a:pt x="682" y="4218"/>
                  </a:moveTo>
                  <a:lnTo>
                    <a:pt x="682" y="4234"/>
                  </a:lnTo>
                  <a:lnTo>
                    <a:pt x="682" y="4272"/>
                  </a:lnTo>
                  <a:lnTo>
                    <a:pt x="665" y="4272"/>
                  </a:lnTo>
                  <a:lnTo>
                    <a:pt x="665" y="4326"/>
                  </a:lnTo>
                  <a:lnTo>
                    <a:pt x="665" y="4343"/>
                  </a:lnTo>
                  <a:lnTo>
                    <a:pt x="650" y="4343"/>
                  </a:lnTo>
                  <a:lnTo>
                    <a:pt x="650" y="4365"/>
                  </a:lnTo>
                  <a:lnTo>
                    <a:pt x="627" y="4365"/>
                  </a:lnTo>
                  <a:lnTo>
                    <a:pt x="627" y="4419"/>
                  </a:lnTo>
                  <a:lnTo>
                    <a:pt x="611" y="4474"/>
                  </a:lnTo>
                  <a:lnTo>
                    <a:pt x="611" y="4490"/>
                  </a:lnTo>
                  <a:lnTo>
                    <a:pt x="595" y="4490"/>
                  </a:lnTo>
                  <a:lnTo>
                    <a:pt x="573" y="4545"/>
                  </a:lnTo>
                  <a:lnTo>
                    <a:pt x="573" y="4560"/>
                  </a:lnTo>
                  <a:lnTo>
                    <a:pt x="557" y="4560"/>
                  </a:lnTo>
                  <a:lnTo>
                    <a:pt x="557" y="4615"/>
                  </a:lnTo>
                  <a:lnTo>
                    <a:pt x="557" y="4637"/>
                  </a:lnTo>
                  <a:lnTo>
                    <a:pt x="541" y="4637"/>
                  </a:lnTo>
                  <a:lnTo>
                    <a:pt x="541" y="4653"/>
                  </a:lnTo>
                  <a:lnTo>
                    <a:pt x="518" y="4653"/>
                  </a:lnTo>
                  <a:lnTo>
                    <a:pt x="518" y="4723"/>
                  </a:lnTo>
                  <a:lnTo>
                    <a:pt x="518" y="4762"/>
                  </a:lnTo>
                  <a:lnTo>
                    <a:pt x="503" y="4762"/>
                  </a:lnTo>
                  <a:lnTo>
                    <a:pt x="503" y="4855"/>
                  </a:lnTo>
                  <a:lnTo>
                    <a:pt x="503" y="4925"/>
                  </a:lnTo>
                  <a:lnTo>
                    <a:pt x="486" y="4925"/>
                  </a:lnTo>
                  <a:lnTo>
                    <a:pt x="486" y="5050"/>
                  </a:lnTo>
                  <a:lnTo>
                    <a:pt x="463" y="5050"/>
                  </a:lnTo>
                  <a:lnTo>
                    <a:pt x="463" y="5127"/>
                  </a:lnTo>
                  <a:lnTo>
                    <a:pt x="463" y="4996"/>
                  </a:lnTo>
                  <a:lnTo>
                    <a:pt x="448" y="4996"/>
                  </a:lnTo>
                  <a:lnTo>
                    <a:pt x="448" y="4832"/>
                  </a:lnTo>
                  <a:lnTo>
                    <a:pt x="463" y="4832"/>
                  </a:lnTo>
                  <a:lnTo>
                    <a:pt x="463" y="4615"/>
                  </a:lnTo>
                  <a:lnTo>
                    <a:pt x="463" y="4365"/>
                  </a:lnTo>
                  <a:lnTo>
                    <a:pt x="486" y="4365"/>
                  </a:lnTo>
                  <a:lnTo>
                    <a:pt x="486" y="4256"/>
                  </a:lnTo>
                  <a:lnTo>
                    <a:pt x="503" y="4256"/>
                  </a:lnTo>
                  <a:lnTo>
                    <a:pt x="503" y="4234"/>
                  </a:lnTo>
                  <a:lnTo>
                    <a:pt x="503" y="4218"/>
                  </a:lnTo>
                  <a:lnTo>
                    <a:pt x="503" y="4147"/>
                  </a:lnTo>
                  <a:lnTo>
                    <a:pt x="503" y="4039"/>
                  </a:lnTo>
                  <a:lnTo>
                    <a:pt x="518" y="4039"/>
                  </a:lnTo>
                  <a:lnTo>
                    <a:pt x="518" y="3891"/>
                  </a:lnTo>
                  <a:lnTo>
                    <a:pt x="518" y="3837"/>
                  </a:lnTo>
                  <a:lnTo>
                    <a:pt x="541" y="3837"/>
                  </a:lnTo>
                  <a:lnTo>
                    <a:pt x="541" y="3727"/>
                  </a:lnTo>
                  <a:lnTo>
                    <a:pt x="557" y="3727"/>
                  </a:lnTo>
                  <a:lnTo>
                    <a:pt x="557" y="3673"/>
                  </a:lnTo>
                  <a:lnTo>
                    <a:pt x="557" y="3587"/>
                  </a:lnTo>
                  <a:lnTo>
                    <a:pt x="573" y="3587"/>
                  </a:lnTo>
                  <a:lnTo>
                    <a:pt x="573" y="3567"/>
                  </a:lnTo>
                  <a:lnTo>
                    <a:pt x="573" y="3533"/>
                  </a:lnTo>
                  <a:lnTo>
                    <a:pt x="595" y="3533"/>
                  </a:lnTo>
                  <a:lnTo>
                    <a:pt x="595" y="3493"/>
                  </a:lnTo>
                  <a:lnTo>
                    <a:pt x="611" y="3493"/>
                  </a:lnTo>
                  <a:lnTo>
                    <a:pt x="611" y="3459"/>
                  </a:lnTo>
                  <a:lnTo>
                    <a:pt x="611" y="3440"/>
                  </a:lnTo>
                  <a:lnTo>
                    <a:pt x="627" y="3440"/>
                  </a:lnTo>
                  <a:lnTo>
                    <a:pt x="627" y="3404"/>
                  </a:lnTo>
                  <a:lnTo>
                    <a:pt x="650" y="3440"/>
                  </a:lnTo>
                  <a:lnTo>
                    <a:pt x="665" y="3440"/>
                  </a:lnTo>
                  <a:lnTo>
                    <a:pt x="665" y="3478"/>
                  </a:lnTo>
                  <a:lnTo>
                    <a:pt x="682" y="3533"/>
                  </a:lnTo>
                  <a:lnTo>
                    <a:pt x="682" y="3587"/>
                  </a:lnTo>
                  <a:lnTo>
                    <a:pt x="705" y="3587"/>
                  </a:lnTo>
                  <a:lnTo>
                    <a:pt x="705" y="3673"/>
                  </a:lnTo>
                  <a:lnTo>
                    <a:pt x="682" y="3673"/>
                  </a:lnTo>
                  <a:lnTo>
                    <a:pt x="705" y="3798"/>
                  </a:lnTo>
                  <a:lnTo>
                    <a:pt x="720" y="3798"/>
                  </a:lnTo>
                  <a:lnTo>
                    <a:pt x="720" y="3875"/>
                  </a:lnTo>
                  <a:lnTo>
                    <a:pt x="705" y="3875"/>
                  </a:lnTo>
                  <a:lnTo>
                    <a:pt x="705" y="3929"/>
                  </a:lnTo>
                  <a:lnTo>
                    <a:pt x="682" y="3929"/>
                  </a:lnTo>
                  <a:lnTo>
                    <a:pt x="682" y="3945"/>
                  </a:lnTo>
                  <a:lnTo>
                    <a:pt x="682" y="3984"/>
                  </a:lnTo>
                  <a:lnTo>
                    <a:pt x="665" y="3984"/>
                  </a:lnTo>
                  <a:lnTo>
                    <a:pt x="665" y="4039"/>
                  </a:lnTo>
                  <a:lnTo>
                    <a:pt x="650" y="4039"/>
                  </a:lnTo>
                  <a:lnTo>
                    <a:pt x="650" y="4092"/>
                  </a:lnTo>
                  <a:lnTo>
                    <a:pt x="665" y="4092"/>
                  </a:lnTo>
                  <a:lnTo>
                    <a:pt x="665" y="4124"/>
                  </a:lnTo>
                  <a:lnTo>
                    <a:pt x="682" y="4124"/>
                  </a:lnTo>
                  <a:lnTo>
                    <a:pt x="682" y="4147"/>
                  </a:lnTo>
                  <a:lnTo>
                    <a:pt x="682" y="4218"/>
                  </a:lnTo>
                  <a:close/>
                  <a:moveTo>
                    <a:pt x="2927" y="3170"/>
                  </a:moveTo>
                  <a:lnTo>
                    <a:pt x="86" y="3170"/>
                  </a:lnTo>
                  <a:lnTo>
                    <a:pt x="2927" y="3170"/>
                  </a:lnTo>
                  <a:close/>
                </a:path>
              </a:pathLst>
            </a:cu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295280" y="1371600"/>
            <a:ext cx="6553440" cy="3900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Geometr231 Hv BT"/>
              </a:rPr>
              <a:t>SEXUAL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Geometr231 Hv BT"/>
              </a:rPr>
              <a:t>ABU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metr231 Hv BT"/>
              </a:rPr>
              <a:t>ALWAYS RE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metr231 Hv BT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metr231 Hv BT"/>
              </a:rPr>
              <a:t>AUTH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09480" y="1371600"/>
            <a:ext cx="1915560" cy="4095360"/>
            <a:chOff x="609480" y="1371600"/>
            <a:chExt cx="1915560" cy="4095360"/>
          </a:xfrm>
        </p:grpSpPr>
        <p:sp>
          <p:nvSpPr>
            <p:cNvPr id="763" name=""/>
            <p:cNvSpPr/>
            <p:nvPr/>
          </p:nvSpPr>
          <p:spPr>
            <a:xfrm>
              <a:off x="1011600" y="1371600"/>
              <a:ext cx="1513440" cy="4095360"/>
            </a:xfrm>
            <a:custGeom>
              <a:avLst/>
              <a:gdLst/>
              <a:ahLst/>
              <a:rect l="l" t="t" r="r" b="b"/>
              <a:pathLst>
                <a:path w="479" h="1641">
                  <a:moveTo>
                    <a:pt x="411" y="558"/>
                  </a:moveTo>
                  <a:lnTo>
                    <a:pt x="419" y="558"/>
                  </a:lnTo>
                  <a:lnTo>
                    <a:pt x="432" y="550"/>
                  </a:lnTo>
                  <a:lnTo>
                    <a:pt x="443" y="544"/>
                  </a:lnTo>
                  <a:lnTo>
                    <a:pt x="446" y="540"/>
                  </a:lnTo>
                  <a:lnTo>
                    <a:pt x="460" y="499"/>
                  </a:lnTo>
                  <a:lnTo>
                    <a:pt x="460" y="476"/>
                  </a:lnTo>
                  <a:lnTo>
                    <a:pt x="446" y="438"/>
                  </a:lnTo>
                  <a:lnTo>
                    <a:pt x="439" y="401"/>
                  </a:lnTo>
                  <a:lnTo>
                    <a:pt x="436" y="374"/>
                  </a:lnTo>
                  <a:lnTo>
                    <a:pt x="429" y="350"/>
                  </a:lnTo>
                  <a:lnTo>
                    <a:pt x="426" y="328"/>
                  </a:lnTo>
                  <a:lnTo>
                    <a:pt x="414" y="298"/>
                  </a:lnTo>
                  <a:lnTo>
                    <a:pt x="397" y="282"/>
                  </a:lnTo>
                  <a:lnTo>
                    <a:pt x="387" y="257"/>
                  </a:lnTo>
                  <a:lnTo>
                    <a:pt x="371" y="253"/>
                  </a:lnTo>
                  <a:lnTo>
                    <a:pt x="355" y="241"/>
                  </a:lnTo>
                  <a:lnTo>
                    <a:pt x="341" y="236"/>
                  </a:lnTo>
                  <a:lnTo>
                    <a:pt x="326" y="223"/>
                  </a:lnTo>
                  <a:lnTo>
                    <a:pt x="319" y="213"/>
                  </a:lnTo>
                  <a:lnTo>
                    <a:pt x="302" y="196"/>
                  </a:lnTo>
                  <a:lnTo>
                    <a:pt x="297" y="196"/>
                  </a:lnTo>
                  <a:lnTo>
                    <a:pt x="294" y="181"/>
                  </a:lnTo>
                  <a:lnTo>
                    <a:pt x="295" y="169"/>
                  </a:lnTo>
                  <a:lnTo>
                    <a:pt x="302" y="165"/>
                  </a:lnTo>
                  <a:lnTo>
                    <a:pt x="309" y="163"/>
                  </a:lnTo>
                  <a:lnTo>
                    <a:pt x="316" y="159"/>
                  </a:lnTo>
                  <a:lnTo>
                    <a:pt x="319" y="155"/>
                  </a:lnTo>
                  <a:lnTo>
                    <a:pt x="323" y="150"/>
                  </a:lnTo>
                  <a:lnTo>
                    <a:pt x="319" y="127"/>
                  </a:lnTo>
                  <a:lnTo>
                    <a:pt x="319" y="114"/>
                  </a:lnTo>
                  <a:lnTo>
                    <a:pt x="319" y="104"/>
                  </a:lnTo>
                  <a:lnTo>
                    <a:pt x="319" y="90"/>
                  </a:lnTo>
                  <a:lnTo>
                    <a:pt x="316" y="77"/>
                  </a:lnTo>
                  <a:lnTo>
                    <a:pt x="312" y="63"/>
                  </a:lnTo>
                  <a:lnTo>
                    <a:pt x="306" y="45"/>
                  </a:lnTo>
                  <a:lnTo>
                    <a:pt x="297" y="35"/>
                  </a:lnTo>
                  <a:lnTo>
                    <a:pt x="286" y="20"/>
                  </a:lnTo>
                  <a:lnTo>
                    <a:pt x="273" y="12"/>
                  </a:lnTo>
                  <a:lnTo>
                    <a:pt x="263" y="7"/>
                  </a:lnTo>
                  <a:lnTo>
                    <a:pt x="250" y="3"/>
                  </a:lnTo>
                  <a:lnTo>
                    <a:pt x="235" y="0"/>
                  </a:lnTo>
                  <a:lnTo>
                    <a:pt x="215" y="3"/>
                  </a:lnTo>
                  <a:lnTo>
                    <a:pt x="203" y="7"/>
                  </a:lnTo>
                  <a:lnTo>
                    <a:pt x="187" y="17"/>
                  </a:lnTo>
                  <a:lnTo>
                    <a:pt x="184" y="23"/>
                  </a:lnTo>
                  <a:lnTo>
                    <a:pt x="179" y="28"/>
                  </a:lnTo>
                  <a:lnTo>
                    <a:pt x="172" y="41"/>
                  </a:lnTo>
                  <a:lnTo>
                    <a:pt x="164" y="50"/>
                  </a:lnTo>
                  <a:lnTo>
                    <a:pt x="159" y="55"/>
                  </a:lnTo>
                  <a:lnTo>
                    <a:pt x="153" y="63"/>
                  </a:lnTo>
                  <a:lnTo>
                    <a:pt x="138" y="88"/>
                  </a:lnTo>
                  <a:lnTo>
                    <a:pt x="138" y="96"/>
                  </a:lnTo>
                  <a:lnTo>
                    <a:pt x="142" y="109"/>
                  </a:lnTo>
                  <a:lnTo>
                    <a:pt x="143" y="118"/>
                  </a:lnTo>
                  <a:lnTo>
                    <a:pt x="150" y="123"/>
                  </a:lnTo>
                  <a:lnTo>
                    <a:pt x="155" y="127"/>
                  </a:lnTo>
                  <a:lnTo>
                    <a:pt x="161" y="131"/>
                  </a:lnTo>
                  <a:lnTo>
                    <a:pt x="167" y="133"/>
                  </a:lnTo>
                  <a:lnTo>
                    <a:pt x="172" y="137"/>
                  </a:lnTo>
                  <a:lnTo>
                    <a:pt x="175" y="142"/>
                  </a:lnTo>
                  <a:lnTo>
                    <a:pt x="179" y="146"/>
                  </a:lnTo>
                  <a:lnTo>
                    <a:pt x="185" y="185"/>
                  </a:lnTo>
                  <a:lnTo>
                    <a:pt x="185" y="196"/>
                  </a:lnTo>
                  <a:lnTo>
                    <a:pt x="189" y="201"/>
                  </a:lnTo>
                  <a:lnTo>
                    <a:pt x="196" y="204"/>
                  </a:lnTo>
                  <a:lnTo>
                    <a:pt x="207" y="201"/>
                  </a:lnTo>
                  <a:lnTo>
                    <a:pt x="214" y="201"/>
                  </a:lnTo>
                  <a:lnTo>
                    <a:pt x="225" y="201"/>
                  </a:lnTo>
                  <a:lnTo>
                    <a:pt x="232" y="213"/>
                  </a:lnTo>
                  <a:lnTo>
                    <a:pt x="235" y="219"/>
                  </a:lnTo>
                  <a:lnTo>
                    <a:pt x="228" y="241"/>
                  </a:lnTo>
                  <a:lnTo>
                    <a:pt x="211" y="270"/>
                  </a:lnTo>
                  <a:lnTo>
                    <a:pt x="214" y="288"/>
                  </a:lnTo>
                  <a:lnTo>
                    <a:pt x="207" y="293"/>
                  </a:lnTo>
                  <a:lnTo>
                    <a:pt x="182" y="321"/>
                  </a:lnTo>
                  <a:lnTo>
                    <a:pt x="179" y="333"/>
                  </a:lnTo>
                  <a:lnTo>
                    <a:pt x="172" y="356"/>
                  </a:lnTo>
                  <a:lnTo>
                    <a:pt x="168" y="366"/>
                  </a:lnTo>
                  <a:lnTo>
                    <a:pt x="165" y="390"/>
                  </a:lnTo>
                  <a:lnTo>
                    <a:pt x="165" y="415"/>
                  </a:lnTo>
                  <a:lnTo>
                    <a:pt x="170" y="483"/>
                  </a:lnTo>
                  <a:lnTo>
                    <a:pt x="143" y="458"/>
                  </a:lnTo>
                  <a:lnTo>
                    <a:pt x="139" y="448"/>
                  </a:lnTo>
                  <a:lnTo>
                    <a:pt x="130" y="448"/>
                  </a:lnTo>
                  <a:lnTo>
                    <a:pt x="114" y="458"/>
                  </a:lnTo>
                  <a:lnTo>
                    <a:pt x="107" y="454"/>
                  </a:lnTo>
                  <a:lnTo>
                    <a:pt x="84" y="442"/>
                  </a:lnTo>
                  <a:lnTo>
                    <a:pt x="72" y="438"/>
                  </a:lnTo>
                  <a:lnTo>
                    <a:pt x="0" y="472"/>
                  </a:lnTo>
                  <a:lnTo>
                    <a:pt x="19" y="489"/>
                  </a:lnTo>
                  <a:lnTo>
                    <a:pt x="41" y="507"/>
                  </a:lnTo>
                  <a:lnTo>
                    <a:pt x="55" y="523"/>
                  </a:lnTo>
                  <a:lnTo>
                    <a:pt x="65" y="534"/>
                  </a:lnTo>
                  <a:lnTo>
                    <a:pt x="72" y="550"/>
                  </a:lnTo>
                  <a:lnTo>
                    <a:pt x="84" y="550"/>
                  </a:lnTo>
                  <a:lnTo>
                    <a:pt x="91" y="544"/>
                  </a:lnTo>
                  <a:lnTo>
                    <a:pt x="94" y="550"/>
                  </a:lnTo>
                  <a:lnTo>
                    <a:pt x="101" y="562"/>
                  </a:lnTo>
                  <a:lnTo>
                    <a:pt x="105" y="568"/>
                  </a:lnTo>
                  <a:lnTo>
                    <a:pt x="110" y="575"/>
                  </a:lnTo>
                  <a:lnTo>
                    <a:pt x="117" y="580"/>
                  </a:lnTo>
                  <a:lnTo>
                    <a:pt x="124" y="596"/>
                  </a:lnTo>
                  <a:lnTo>
                    <a:pt x="127" y="613"/>
                  </a:lnTo>
                  <a:lnTo>
                    <a:pt x="117" y="636"/>
                  </a:lnTo>
                  <a:lnTo>
                    <a:pt x="124" y="690"/>
                  </a:lnTo>
                  <a:lnTo>
                    <a:pt x="127" y="701"/>
                  </a:lnTo>
                  <a:lnTo>
                    <a:pt x="123" y="723"/>
                  </a:lnTo>
                  <a:lnTo>
                    <a:pt x="130" y="736"/>
                  </a:lnTo>
                  <a:lnTo>
                    <a:pt x="132" y="752"/>
                  </a:lnTo>
                  <a:lnTo>
                    <a:pt x="128" y="781"/>
                  </a:lnTo>
                  <a:lnTo>
                    <a:pt x="128" y="797"/>
                  </a:lnTo>
                  <a:lnTo>
                    <a:pt x="130" y="825"/>
                  </a:lnTo>
                  <a:lnTo>
                    <a:pt x="127" y="838"/>
                  </a:lnTo>
                  <a:lnTo>
                    <a:pt x="131" y="866"/>
                  </a:lnTo>
                  <a:lnTo>
                    <a:pt x="123" y="883"/>
                  </a:lnTo>
                  <a:lnTo>
                    <a:pt x="116" y="914"/>
                  </a:lnTo>
                  <a:lnTo>
                    <a:pt x="116" y="942"/>
                  </a:lnTo>
                  <a:lnTo>
                    <a:pt x="123" y="952"/>
                  </a:lnTo>
                  <a:lnTo>
                    <a:pt x="117" y="985"/>
                  </a:lnTo>
                  <a:lnTo>
                    <a:pt x="110" y="1016"/>
                  </a:lnTo>
                  <a:lnTo>
                    <a:pt x="114" y="1039"/>
                  </a:lnTo>
                  <a:lnTo>
                    <a:pt x="107" y="1074"/>
                  </a:lnTo>
                  <a:lnTo>
                    <a:pt x="107" y="1108"/>
                  </a:lnTo>
                  <a:lnTo>
                    <a:pt x="105" y="1131"/>
                  </a:lnTo>
                  <a:lnTo>
                    <a:pt x="98" y="1159"/>
                  </a:lnTo>
                  <a:lnTo>
                    <a:pt x="98" y="1163"/>
                  </a:lnTo>
                  <a:lnTo>
                    <a:pt x="94" y="1194"/>
                  </a:lnTo>
                  <a:lnTo>
                    <a:pt x="87" y="1212"/>
                  </a:lnTo>
                  <a:lnTo>
                    <a:pt x="94" y="1222"/>
                  </a:lnTo>
                  <a:lnTo>
                    <a:pt x="101" y="1241"/>
                  </a:lnTo>
                  <a:lnTo>
                    <a:pt x="105" y="1255"/>
                  </a:lnTo>
                  <a:lnTo>
                    <a:pt x="98" y="1273"/>
                  </a:lnTo>
                  <a:lnTo>
                    <a:pt x="94" y="1291"/>
                  </a:lnTo>
                  <a:lnTo>
                    <a:pt x="101" y="1314"/>
                  </a:lnTo>
                  <a:lnTo>
                    <a:pt x="105" y="1337"/>
                  </a:lnTo>
                  <a:lnTo>
                    <a:pt x="94" y="1347"/>
                  </a:lnTo>
                  <a:lnTo>
                    <a:pt x="98" y="1369"/>
                  </a:lnTo>
                  <a:lnTo>
                    <a:pt x="98" y="1372"/>
                  </a:lnTo>
                  <a:lnTo>
                    <a:pt x="98" y="1382"/>
                  </a:lnTo>
                  <a:lnTo>
                    <a:pt x="101" y="1396"/>
                  </a:lnTo>
                  <a:lnTo>
                    <a:pt x="105" y="1400"/>
                  </a:lnTo>
                  <a:lnTo>
                    <a:pt x="117" y="1406"/>
                  </a:lnTo>
                  <a:lnTo>
                    <a:pt x="130" y="1416"/>
                  </a:lnTo>
                  <a:lnTo>
                    <a:pt x="136" y="1434"/>
                  </a:lnTo>
                  <a:lnTo>
                    <a:pt x="139" y="1451"/>
                  </a:lnTo>
                  <a:lnTo>
                    <a:pt x="139" y="1474"/>
                  </a:lnTo>
                  <a:lnTo>
                    <a:pt x="143" y="1498"/>
                  </a:lnTo>
                  <a:lnTo>
                    <a:pt x="143" y="1505"/>
                  </a:lnTo>
                  <a:lnTo>
                    <a:pt x="130" y="1515"/>
                  </a:lnTo>
                  <a:lnTo>
                    <a:pt x="123" y="1526"/>
                  </a:lnTo>
                  <a:lnTo>
                    <a:pt x="114" y="1549"/>
                  </a:lnTo>
                  <a:lnTo>
                    <a:pt x="105" y="1566"/>
                  </a:lnTo>
                  <a:lnTo>
                    <a:pt x="94" y="1574"/>
                  </a:lnTo>
                  <a:lnTo>
                    <a:pt x="84" y="1574"/>
                  </a:lnTo>
                  <a:lnTo>
                    <a:pt x="65" y="1577"/>
                  </a:lnTo>
                  <a:lnTo>
                    <a:pt x="52" y="1577"/>
                  </a:lnTo>
                  <a:lnTo>
                    <a:pt x="41" y="1590"/>
                  </a:lnTo>
                  <a:lnTo>
                    <a:pt x="38" y="1601"/>
                  </a:lnTo>
                  <a:lnTo>
                    <a:pt x="41" y="1612"/>
                  </a:lnTo>
                  <a:lnTo>
                    <a:pt x="62" y="1625"/>
                  </a:lnTo>
                  <a:lnTo>
                    <a:pt x="91" y="1631"/>
                  </a:lnTo>
                  <a:lnTo>
                    <a:pt x="117" y="1631"/>
                  </a:lnTo>
                  <a:lnTo>
                    <a:pt x="139" y="1631"/>
                  </a:lnTo>
                  <a:lnTo>
                    <a:pt x="152" y="1620"/>
                  </a:lnTo>
                  <a:lnTo>
                    <a:pt x="165" y="1622"/>
                  </a:lnTo>
                  <a:lnTo>
                    <a:pt x="185" y="1625"/>
                  </a:lnTo>
                  <a:lnTo>
                    <a:pt x="203" y="1625"/>
                  </a:lnTo>
                  <a:lnTo>
                    <a:pt x="218" y="1618"/>
                  </a:lnTo>
                  <a:lnTo>
                    <a:pt x="232" y="1618"/>
                  </a:lnTo>
                  <a:lnTo>
                    <a:pt x="228" y="1597"/>
                  </a:lnTo>
                  <a:lnTo>
                    <a:pt x="232" y="1584"/>
                  </a:lnTo>
                  <a:lnTo>
                    <a:pt x="228" y="1561"/>
                  </a:lnTo>
                  <a:lnTo>
                    <a:pt x="225" y="1539"/>
                  </a:lnTo>
                  <a:lnTo>
                    <a:pt x="218" y="1526"/>
                  </a:lnTo>
                  <a:lnTo>
                    <a:pt x="211" y="1509"/>
                  </a:lnTo>
                  <a:lnTo>
                    <a:pt x="211" y="1492"/>
                  </a:lnTo>
                  <a:lnTo>
                    <a:pt x="207" y="1469"/>
                  </a:lnTo>
                  <a:lnTo>
                    <a:pt x="207" y="1451"/>
                  </a:lnTo>
                  <a:lnTo>
                    <a:pt x="211" y="1423"/>
                  </a:lnTo>
                  <a:lnTo>
                    <a:pt x="207" y="1401"/>
                  </a:lnTo>
                  <a:lnTo>
                    <a:pt x="207" y="1400"/>
                  </a:lnTo>
                  <a:lnTo>
                    <a:pt x="211" y="1388"/>
                  </a:lnTo>
                  <a:lnTo>
                    <a:pt x="221" y="1372"/>
                  </a:lnTo>
                  <a:lnTo>
                    <a:pt x="228" y="1359"/>
                  </a:lnTo>
                  <a:lnTo>
                    <a:pt x="228" y="1343"/>
                  </a:lnTo>
                  <a:lnTo>
                    <a:pt x="225" y="1331"/>
                  </a:lnTo>
                  <a:lnTo>
                    <a:pt x="221" y="1309"/>
                  </a:lnTo>
                  <a:lnTo>
                    <a:pt x="214" y="1286"/>
                  </a:lnTo>
                  <a:lnTo>
                    <a:pt x="218" y="1263"/>
                  </a:lnTo>
                  <a:lnTo>
                    <a:pt x="221" y="1228"/>
                  </a:lnTo>
                  <a:lnTo>
                    <a:pt x="214" y="1200"/>
                  </a:lnTo>
                  <a:lnTo>
                    <a:pt x="218" y="1182"/>
                  </a:lnTo>
                  <a:lnTo>
                    <a:pt x="232" y="1153"/>
                  </a:lnTo>
                  <a:lnTo>
                    <a:pt x="235" y="1143"/>
                  </a:lnTo>
                  <a:lnTo>
                    <a:pt x="237" y="1118"/>
                  </a:lnTo>
                  <a:lnTo>
                    <a:pt x="237" y="1085"/>
                  </a:lnTo>
                  <a:lnTo>
                    <a:pt x="243" y="1082"/>
                  </a:lnTo>
                  <a:lnTo>
                    <a:pt x="257" y="1050"/>
                  </a:lnTo>
                  <a:lnTo>
                    <a:pt x="270" y="1034"/>
                  </a:lnTo>
                  <a:lnTo>
                    <a:pt x="280" y="1026"/>
                  </a:lnTo>
                  <a:lnTo>
                    <a:pt x="284" y="1044"/>
                  </a:lnTo>
                  <a:lnTo>
                    <a:pt x="292" y="1074"/>
                  </a:lnTo>
                  <a:lnTo>
                    <a:pt x="292" y="1095"/>
                  </a:lnTo>
                  <a:lnTo>
                    <a:pt x="306" y="1136"/>
                  </a:lnTo>
                  <a:lnTo>
                    <a:pt x="299" y="1159"/>
                  </a:lnTo>
                  <a:lnTo>
                    <a:pt x="306" y="1182"/>
                  </a:lnTo>
                  <a:lnTo>
                    <a:pt x="316" y="1212"/>
                  </a:lnTo>
                  <a:lnTo>
                    <a:pt x="316" y="1218"/>
                  </a:lnTo>
                  <a:lnTo>
                    <a:pt x="309" y="1263"/>
                  </a:lnTo>
                  <a:lnTo>
                    <a:pt x="306" y="1292"/>
                  </a:lnTo>
                  <a:lnTo>
                    <a:pt x="306" y="1314"/>
                  </a:lnTo>
                  <a:lnTo>
                    <a:pt x="323" y="1314"/>
                  </a:lnTo>
                  <a:lnTo>
                    <a:pt x="309" y="1320"/>
                  </a:lnTo>
                  <a:lnTo>
                    <a:pt x="306" y="1331"/>
                  </a:lnTo>
                  <a:lnTo>
                    <a:pt x="302" y="1361"/>
                  </a:lnTo>
                  <a:lnTo>
                    <a:pt x="312" y="1378"/>
                  </a:lnTo>
                  <a:lnTo>
                    <a:pt x="326" y="1388"/>
                  </a:lnTo>
                  <a:lnTo>
                    <a:pt x="323" y="1412"/>
                  </a:lnTo>
                  <a:lnTo>
                    <a:pt x="333" y="1429"/>
                  </a:lnTo>
                  <a:lnTo>
                    <a:pt x="333" y="1436"/>
                  </a:lnTo>
                  <a:lnTo>
                    <a:pt x="337" y="1453"/>
                  </a:lnTo>
                  <a:lnTo>
                    <a:pt x="333" y="1464"/>
                  </a:lnTo>
                  <a:lnTo>
                    <a:pt x="327" y="1480"/>
                  </a:lnTo>
                  <a:lnTo>
                    <a:pt x="323" y="1511"/>
                  </a:lnTo>
                  <a:lnTo>
                    <a:pt x="323" y="1528"/>
                  </a:lnTo>
                  <a:lnTo>
                    <a:pt x="324" y="1565"/>
                  </a:lnTo>
                  <a:lnTo>
                    <a:pt x="309" y="1599"/>
                  </a:lnTo>
                  <a:lnTo>
                    <a:pt x="299" y="1612"/>
                  </a:lnTo>
                  <a:lnTo>
                    <a:pt x="292" y="1618"/>
                  </a:lnTo>
                  <a:lnTo>
                    <a:pt x="287" y="1631"/>
                  </a:lnTo>
                  <a:lnTo>
                    <a:pt x="292" y="1635"/>
                  </a:lnTo>
                  <a:lnTo>
                    <a:pt x="302" y="1641"/>
                  </a:lnTo>
                  <a:lnTo>
                    <a:pt x="330" y="1641"/>
                  </a:lnTo>
                  <a:lnTo>
                    <a:pt x="348" y="1641"/>
                  </a:lnTo>
                  <a:lnTo>
                    <a:pt x="371" y="1631"/>
                  </a:lnTo>
                  <a:lnTo>
                    <a:pt x="391" y="1612"/>
                  </a:lnTo>
                  <a:lnTo>
                    <a:pt x="397" y="1584"/>
                  </a:lnTo>
                  <a:lnTo>
                    <a:pt x="387" y="1566"/>
                  </a:lnTo>
                  <a:lnTo>
                    <a:pt x="384" y="1534"/>
                  </a:lnTo>
                  <a:lnTo>
                    <a:pt x="387" y="1517"/>
                  </a:lnTo>
                  <a:lnTo>
                    <a:pt x="385" y="1498"/>
                  </a:lnTo>
                  <a:lnTo>
                    <a:pt x="387" y="1474"/>
                  </a:lnTo>
                  <a:lnTo>
                    <a:pt x="389" y="1457"/>
                  </a:lnTo>
                  <a:lnTo>
                    <a:pt x="393" y="1436"/>
                  </a:lnTo>
                  <a:lnTo>
                    <a:pt x="417" y="1428"/>
                  </a:lnTo>
                  <a:lnTo>
                    <a:pt x="422" y="1397"/>
                  </a:lnTo>
                  <a:lnTo>
                    <a:pt x="404" y="1320"/>
                  </a:lnTo>
                  <a:lnTo>
                    <a:pt x="404" y="1291"/>
                  </a:lnTo>
                  <a:lnTo>
                    <a:pt x="391" y="1269"/>
                  </a:lnTo>
                  <a:lnTo>
                    <a:pt x="391" y="1212"/>
                  </a:lnTo>
                  <a:lnTo>
                    <a:pt x="393" y="1182"/>
                  </a:lnTo>
                  <a:lnTo>
                    <a:pt x="411" y="1153"/>
                  </a:lnTo>
                  <a:lnTo>
                    <a:pt x="419" y="1112"/>
                  </a:lnTo>
                  <a:lnTo>
                    <a:pt x="411" y="1079"/>
                  </a:lnTo>
                  <a:lnTo>
                    <a:pt x="393" y="1050"/>
                  </a:lnTo>
                  <a:lnTo>
                    <a:pt x="393" y="1026"/>
                  </a:lnTo>
                  <a:lnTo>
                    <a:pt x="393" y="993"/>
                  </a:lnTo>
                  <a:lnTo>
                    <a:pt x="419" y="965"/>
                  </a:lnTo>
                  <a:lnTo>
                    <a:pt x="422" y="924"/>
                  </a:lnTo>
                  <a:lnTo>
                    <a:pt x="422" y="901"/>
                  </a:lnTo>
                  <a:lnTo>
                    <a:pt x="429" y="866"/>
                  </a:lnTo>
                  <a:lnTo>
                    <a:pt x="419" y="828"/>
                  </a:lnTo>
                  <a:lnTo>
                    <a:pt x="409" y="797"/>
                  </a:lnTo>
                  <a:lnTo>
                    <a:pt x="429" y="806"/>
                  </a:lnTo>
                  <a:lnTo>
                    <a:pt x="446" y="801"/>
                  </a:lnTo>
                  <a:lnTo>
                    <a:pt x="465" y="788"/>
                  </a:lnTo>
                  <a:lnTo>
                    <a:pt x="473" y="763"/>
                  </a:lnTo>
                  <a:lnTo>
                    <a:pt x="475" y="736"/>
                  </a:lnTo>
                  <a:lnTo>
                    <a:pt x="476" y="712"/>
                  </a:lnTo>
                  <a:lnTo>
                    <a:pt x="476" y="688"/>
                  </a:lnTo>
                  <a:lnTo>
                    <a:pt x="479" y="672"/>
                  </a:lnTo>
                  <a:lnTo>
                    <a:pt x="475" y="654"/>
                  </a:lnTo>
                  <a:lnTo>
                    <a:pt x="468" y="632"/>
                  </a:lnTo>
                  <a:lnTo>
                    <a:pt x="468" y="619"/>
                  </a:lnTo>
                  <a:lnTo>
                    <a:pt x="457" y="609"/>
                  </a:lnTo>
                  <a:lnTo>
                    <a:pt x="453" y="619"/>
                  </a:lnTo>
                  <a:lnTo>
                    <a:pt x="446" y="613"/>
                  </a:lnTo>
                  <a:lnTo>
                    <a:pt x="439" y="613"/>
                  </a:lnTo>
                  <a:lnTo>
                    <a:pt x="426" y="619"/>
                  </a:lnTo>
                  <a:lnTo>
                    <a:pt x="411" y="558"/>
                  </a:lnTo>
                  <a:close/>
                </a:path>
              </a:pathLst>
            </a:custGeom>
            <a:solidFill>
              <a:srgbClr val="66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70280" y="2466720"/>
              <a:ext cx="794160" cy="277200"/>
            </a:xfrm>
            <a:custGeom>
              <a:avLst/>
              <a:gdLst/>
              <a:ahLst/>
              <a:rect l="l" t="t" r="r" b="b"/>
              <a:pathLst>
                <a:path w="251" h="111">
                  <a:moveTo>
                    <a:pt x="142" y="84"/>
                  </a:moveTo>
                  <a:lnTo>
                    <a:pt x="168" y="72"/>
                  </a:lnTo>
                  <a:lnTo>
                    <a:pt x="216" y="92"/>
                  </a:lnTo>
                  <a:lnTo>
                    <a:pt x="241" y="73"/>
                  </a:lnTo>
                  <a:lnTo>
                    <a:pt x="251" y="63"/>
                  </a:lnTo>
                  <a:lnTo>
                    <a:pt x="239" y="41"/>
                  </a:lnTo>
                  <a:lnTo>
                    <a:pt x="155" y="0"/>
                  </a:lnTo>
                  <a:lnTo>
                    <a:pt x="124" y="19"/>
                  </a:lnTo>
                  <a:lnTo>
                    <a:pt x="120" y="9"/>
                  </a:lnTo>
                  <a:lnTo>
                    <a:pt x="111" y="9"/>
                  </a:lnTo>
                  <a:lnTo>
                    <a:pt x="95" y="19"/>
                  </a:lnTo>
                  <a:lnTo>
                    <a:pt x="88" y="14"/>
                  </a:lnTo>
                  <a:lnTo>
                    <a:pt x="65" y="3"/>
                  </a:lnTo>
                  <a:lnTo>
                    <a:pt x="68" y="19"/>
                  </a:lnTo>
                  <a:lnTo>
                    <a:pt x="94" y="28"/>
                  </a:lnTo>
                  <a:lnTo>
                    <a:pt x="86" y="33"/>
                  </a:lnTo>
                  <a:lnTo>
                    <a:pt x="54" y="69"/>
                  </a:lnTo>
                  <a:lnTo>
                    <a:pt x="48" y="65"/>
                  </a:lnTo>
                  <a:lnTo>
                    <a:pt x="24" y="47"/>
                  </a:lnTo>
                  <a:lnTo>
                    <a:pt x="0" y="47"/>
                  </a:lnTo>
                  <a:lnTo>
                    <a:pt x="22" y="65"/>
                  </a:lnTo>
                  <a:lnTo>
                    <a:pt x="36" y="82"/>
                  </a:lnTo>
                  <a:lnTo>
                    <a:pt x="46" y="95"/>
                  </a:lnTo>
                  <a:lnTo>
                    <a:pt x="53" y="111"/>
                  </a:lnTo>
                  <a:lnTo>
                    <a:pt x="65" y="111"/>
                  </a:lnTo>
                  <a:lnTo>
                    <a:pt x="72" y="105"/>
                  </a:lnTo>
                  <a:lnTo>
                    <a:pt x="102" y="69"/>
                  </a:lnTo>
                  <a:lnTo>
                    <a:pt x="142" y="84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70280" y="2466720"/>
              <a:ext cx="794160" cy="277200"/>
            </a:xfrm>
            <a:custGeom>
              <a:avLst/>
              <a:gdLst/>
              <a:ahLst/>
              <a:rect l="l" t="t" r="r" b="b"/>
              <a:pathLst>
                <a:path w="251" h="111">
                  <a:moveTo>
                    <a:pt x="142" y="84"/>
                  </a:moveTo>
                  <a:lnTo>
                    <a:pt x="168" y="72"/>
                  </a:lnTo>
                  <a:lnTo>
                    <a:pt x="216" y="92"/>
                  </a:lnTo>
                  <a:lnTo>
                    <a:pt x="241" y="73"/>
                  </a:lnTo>
                  <a:lnTo>
                    <a:pt x="251" y="63"/>
                  </a:lnTo>
                  <a:lnTo>
                    <a:pt x="239" y="41"/>
                  </a:lnTo>
                  <a:lnTo>
                    <a:pt x="155" y="0"/>
                  </a:lnTo>
                  <a:lnTo>
                    <a:pt x="124" y="19"/>
                  </a:lnTo>
                  <a:lnTo>
                    <a:pt x="120" y="9"/>
                  </a:lnTo>
                  <a:lnTo>
                    <a:pt x="111" y="9"/>
                  </a:lnTo>
                  <a:lnTo>
                    <a:pt x="95" y="19"/>
                  </a:lnTo>
                  <a:lnTo>
                    <a:pt x="88" y="14"/>
                  </a:lnTo>
                  <a:lnTo>
                    <a:pt x="65" y="3"/>
                  </a:lnTo>
                  <a:lnTo>
                    <a:pt x="68" y="19"/>
                  </a:lnTo>
                  <a:lnTo>
                    <a:pt x="94" y="28"/>
                  </a:lnTo>
                  <a:lnTo>
                    <a:pt x="86" y="33"/>
                  </a:lnTo>
                  <a:lnTo>
                    <a:pt x="54" y="69"/>
                  </a:lnTo>
                  <a:lnTo>
                    <a:pt x="48" y="65"/>
                  </a:lnTo>
                  <a:lnTo>
                    <a:pt x="24" y="47"/>
                  </a:lnTo>
                  <a:lnTo>
                    <a:pt x="0" y="47"/>
                  </a:lnTo>
                  <a:lnTo>
                    <a:pt x="22" y="65"/>
                  </a:lnTo>
                  <a:lnTo>
                    <a:pt x="36" y="82"/>
                  </a:lnTo>
                  <a:lnTo>
                    <a:pt x="46" y="95"/>
                  </a:lnTo>
                  <a:lnTo>
                    <a:pt x="53" y="111"/>
                  </a:lnTo>
                  <a:lnTo>
                    <a:pt x="65" y="111"/>
                  </a:lnTo>
                  <a:lnTo>
                    <a:pt x="72" y="105"/>
                  </a:lnTo>
                  <a:lnTo>
                    <a:pt x="102" y="69"/>
                  </a:lnTo>
                  <a:lnTo>
                    <a:pt x="142" y="84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28600" y="4800960"/>
              <a:ext cx="614880" cy="640080"/>
            </a:xfrm>
            <a:custGeom>
              <a:avLst/>
              <a:gdLst/>
              <a:ahLst/>
              <a:rect l="l" t="t" r="r" b="b"/>
              <a:pathLst>
                <a:path w="195" h="257">
                  <a:moveTo>
                    <a:pt x="169" y="6"/>
                  </a:moveTo>
                  <a:lnTo>
                    <a:pt x="162" y="4"/>
                  </a:lnTo>
                  <a:lnTo>
                    <a:pt x="137" y="0"/>
                  </a:lnTo>
                  <a:lnTo>
                    <a:pt x="113" y="17"/>
                  </a:lnTo>
                  <a:lnTo>
                    <a:pt x="93" y="23"/>
                  </a:lnTo>
                  <a:lnTo>
                    <a:pt x="80" y="32"/>
                  </a:lnTo>
                  <a:lnTo>
                    <a:pt x="91" y="45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102" y="102"/>
                  </a:lnTo>
                  <a:lnTo>
                    <a:pt x="106" y="124"/>
                  </a:lnTo>
                  <a:lnTo>
                    <a:pt x="106" y="131"/>
                  </a:lnTo>
                  <a:lnTo>
                    <a:pt x="91" y="141"/>
                  </a:lnTo>
                  <a:lnTo>
                    <a:pt x="84" y="154"/>
                  </a:lnTo>
                  <a:lnTo>
                    <a:pt x="77" y="175"/>
                  </a:lnTo>
                  <a:lnTo>
                    <a:pt x="68" y="192"/>
                  </a:lnTo>
                  <a:lnTo>
                    <a:pt x="57" y="200"/>
                  </a:lnTo>
                  <a:lnTo>
                    <a:pt x="45" y="200"/>
                  </a:lnTo>
                  <a:lnTo>
                    <a:pt x="28" y="206"/>
                  </a:lnTo>
                  <a:lnTo>
                    <a:pt x="15" y="206"/>
                  </a:lnTo>
                  <a:lnTo>
                    <a:pt x="3" y="216"/>
                  </a:lnTo>
                  <a:lnTo>
                    <a:pt x="0" y="227"/>
                  </a:lnTo>
                  <a:lnTo>
                    <a:pt x="3" y="239"/>
                  </a:lnTo>
                  <a:lnTo>
                    <a:pt x="25" y="251"/>
                  </a:lnTo>
                  <a:lnTo>
                    <a:pt x="54" y="257"/>
                  </a:lnTo>
                  <a:lnTo>
                    <a:pt x="80" y="257"/>
                  </a:lnTo>
                  <a:lnTo>
                    <a:pt x="102" y="257"/>
                  </a:lnTo>
                  <a:lnTo>
                    <a:pt x="113" y="248"/>
                  </a:lnTo>
                  <a:lnTo>
                    <a:pt x="127" y="248"/>
                  </a:lnTo>
                  <a:lnTo>
                    <a:pt x="148" y="251"/>
                  </a:lnTo>
                  <a:lnTo>
                    <a:pt x="166" y="251"/>
                  </a:lnTo>
                  <a:lnTo>
                    <a:pt x="178" y="246"/>
                  </a:lnTo>
                  <a:lnTo>
                    <a:pt x="192" y="244"/>
                  </a:lnTo>
                  <a:lnTo>
                    <a:pt x="191" y="225"/>
                  </a:lnTo>
                  <a:lnTo>
                    <a:pt x="195" y="210"/>
                  </a:lnTo>
                  <a:lnTo>
                    <a:pt x="191" y="188"/>
                  </a:lnTo>
                  <a:lnTo>
                    <a:pt x="188" y="165"/>
                  </a:lnTo>
                  <a:lnTo>
                    <a:pt x="178" y="154"/>
                  </a:lnTo>
                  <a:lnTo>
                    <a:pt x="173" y="137"/>
                  </a:lnTo>
                  <a:lnTo>
                    <a:pt x="173" y="119"/>
                  </a:lnTo>
                  <a:lnTo>
                    <a:pt x="169" y="96"/>
                  </a:lnTo>
                  <a:lnTo>
                    <a:pt x="169" y="79"/>
                  </a:lnTo>
                  <a:lnTo>
                    <a:pt x="173" y="49"/>
                  </a:lnTo>
                  <a:lnTo>
                    <a:pt x="169" y="27"/>
                  </a:lnTo>
                  <a:lnTo>
                    <a:pt x="169" y="26"/>
                  </a:lnTo>
                  <a:lnTo>
                    <a:pt x="173" y="14"/>
                  </a:lnTo>
                  <a:lnTo>
                    <a:pt x="169" y="6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128600" y="4800960"/>
              <a:ext cx="614880" cy="640080"/>
            </a:xfrm>
            <a:custGeom>
              <a:avLst/>
              <a:gdLst/>
              <a:ahLst/>
              <a:rect l="l" t="t" r="r" b="b"/>
              <a:pathLst>
                <a:path w="195" h="257">
                  <a:moveTo>
                    <a:pt x="169" y="6"/>
                  </a:moveTo>
                  <a:lnTo>
                    <a:pt x="162" y="4"/>
                  </a:lnTo>
                  <a:lnTo>
                    <a:pt x="137" y="0"/>
                  </a:lnTo>
                  <a:lnTo>
                    <a:pt x="113" y="17"/>
                  </a:lnTo>
                  <a:lnTo>
                    <a:pt x="93" y="23"/>
                  </a:lnTo>
                  <a:lnTo>
                    <a:pt x="80" y="32"/>
                  </a:lnTo>
                  <a:lnTo>
                    <a:pt x="91" y="45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102" y="102"/>
                  </a:lnTo>
                  <a:lnTo>
                    <a:pt x="106" y="124"/>
                  </a:lnTo>
                  <a:lnTo>
                    <a:pt x="106" y="131"/>
                  </a:lnTo>
                  <a:lnTo>
                    <a:pt x="91" y="141"/>
                  </a:lnTo>
                  <a:lnTo>
                    <a:pt x="84" y="154"/>
                  </a:lnTo>
                  <a:lnTo>
                    <a:pt x="77" y="175"/>
                  </a:lnTo>
                  <a:lnTo>
                    <a:pt x="68" y="192"/>
                  </a:lnTo>
                  <a:lnTo>
                    <a:pt x="57" y="200"/>
                  </a:lnTo>
                  <a:lnTo>
                    <a:pt x="45" y="200"/>
                  </a:lnTo>
                  <a:lnTo>
                    <a:pt x="28" y="206"/>
                  </a:lnTo>
                  <a:lnTo>
                    <a:pt x="15" y="206"/>
                  </a:lnTo>
                  <a:lnTo>
                    <a:pt x="3" y="216"/>
                  </a:lnTo>
                  <a:lnTo>
                    <a:pt x="0" y="227"/>
                  </a:lnTo>
                  <a:lnTo>
                    <a:pt x="3" y="239"/>
                  </a:lnTo>
                  <a:lnTo>
                    <a:pt x="25" y="251"/>
                  </a:lnTo>
                  <a:lnTo>
                    <a:pt x="54" y="257"/>
                  </a:lnTo>
                  <a:lnTo>
                    <a:pt x="80" y="257"/>
                  </a:lnTo>
                  <a:lnTo>
                    <a:pt x="102" y="257"/>
                  </a:lnTo>
                  <a:lnTo>
                    <a:pt x="113" y="248"/>
                  </a:lnTo>
                  <a:lnTo>
                    <a:pt x="127" y="248"/>
                  </a:lnTo>
                  <a:lnTo>
                    <a:pt x="148" y="251"/>
                  </a:lnTo>
                  <a:lnTo>
                    <a:pt x="166" y="251"/>
                  </a:lnTo>
                  <a:lnTo>
                    <a:pt x="178" y="246"/>
                  </a:lnTo>
                  <a:lnTo>
                    <a:pt x="192" y="244"/>
                  </a:lnTo>
                  <a:lnTo>
                    <a:pt x="191" y="225"/>
                  </a:lnTo>
                  <a:lnTo>
                    <a:pt x="195" y="210"/>
                  </a:lnTo>
                  <a:lnTo>
                    <a:pt x="191" y="188"/>
                  </a:lnTo>
                  <a:lnTo>
                    <a:pt x="188" y="165"/>
                  </a:lnTo>
                  <a:lnTo>
                    <a:pt x="178" y="154"/>
                  </a:lnTo>
                  <a:lnTo>
                    <a:pt x="173" y="137"/>
                  </a:lnTo>
                  <a:lnTo>
                    <a:pt x="173" y="119"/>
                  </a:lnTo>
                  <a:lnTo>
                    <a:pt x="169" y="96"/>
                  </a:lnTo>
                  <a:lnTo>
                    <a:pt x="169" y="79"/>
                  </a:lnTo>
                  <a:lnTo>
                    <a:pt x="173" y="49"/>
                  </a:lnTo>
                  <a:lnTo>
                    <a:pt x="169" y="27"/>
                  </a:lnTo>
                  <a:lnTo>
                    <a:pt x="169" y="26"/>
                  </a:lnTo>
                  <a:lnTo>
                    <a:pt x="173" y="14"/>
                  </a:lnTo>
                  <a:lnTo>
                    <a:pt x="169" y="6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72760" y="1548000"/>
              <a:ext cx="537480" cy="624240"/>
            </a:xfrm>
            <a:custGeom>
              <a:avLst/>
              <a:gdLst/>
              <a:ahLst/>
              <a:rect l="l" t="t" r="r" b="b"/>
              <a:pathLst>
                <a:path w="170" h="250">
                  <a:moveTo>
                    <a:pt x="83" y="250"/>
                  </a:moveTo>
                  <a:lnTo>
                    <a:pt x="109" y="212"/>
                  </a:lnTo>
                  <a:lnTo>
                    <a:pt x="116" y="186"/>
                  </a:lnTo>
                  <a:lnTo>
                    <a:pt x="136" y="165"/>
                  </a:lnTo>
                  <a:lnTo>
                    <a:pt x="151" y="138"/>
                  </a:lnTo>
                  <a:lnTo>
                    <a:pt x="151" y="126"/>
                  </a:lnTo>
                  <a:lnTo>
                    <a:pt x="146" y="110"/>
                  </a:lnTo>
                  <a:lnTo>
                    <a:pt x="149" y="98"/>
                  </a:lnTo>
                  <a:lnTo>
                    <a:pt x="156" y="94"/>
                  </a:lnTo>
                  <a:lnTo>
                    <a:pt x="162" y="94"/>
                  </a:lnTo>
                  <a:lnTo>
                    <a:pt x="170" y="90"/>
                  </a:lnTo>
                  <a:lnTo>
                    <a:pt x="141" y="46"/>
                  </a:lnTo>
                  <a:lnTo>
                    <a:pt x="112" y="24"/>
                  </a:lnTo>
                  <a:lnTo>
                    <a:pt x="101" y="14"/>
                  </a:lnTo>
                  <a:lnTo>
                    <a:pt x="64" y="0"/>
                  </a:lnTo>
                  <a:lnTo>
                    <a:pt x="29" y="0"/>
                  </a:lnTo>
                  <a:lnTo>
                    <a:pt x="0" y="28"/>
                  </a:lnTo>
                  <a:lnTo>
                    <a:pt x="18" y="52"/>
                  </a:lnTo>
                  <a:lnTo>
                    <a:pt x="21" y="56"/>
                  </a:lnTo>
                  <a:lnTo>
                    <a:pt x="26" y="62"/>
                  </a:lnTo>
                  <a:lnTo>
                    <a:pt x="28" y="65"/>
                  </a:lnTo>
                  <a:lnTo>
                    <a:pt x="28" y="69"/>
                  </a:lnTo>
                  <a:lnTo>
                    <a:pt x="29" y="73"/>
                  </a:lnTo>
                  <a:lnTo>
                    <a:pt x="33" y="75"/>
                  </a:lnTo>
                  <a:lnTo>
                    <a:pt x="39" y="114"/>
                  </a:lnTo>
                  <a:lnTo>
                    <a:pt x="39" y="125"/>
                  </a:lnTo>
                  <a:lnTo>
                    <a:pt x="43" y="130"/>
                  </a:lnTo>
                  <a:lnTo>
                    <a:pt x="48" y="133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9" y="130"/>
                  </a:lnTo>
                  <a:lnTo>
                    <a:pt x="86" y="142"/>
                  </a:lnTo>
                  <a:lnTo>
                    <a:pt x="89" y="148"/>
                  </a:lnTo>
                  <a:lnTo>
                    <a:pt x="82" y="171"/>
                  </a:lnTo>
                  <a:lnTo>
                    <a:pt x="76" y="199"/>
                  </a:lnTo>
                  <a:lnTo>
                    <a:pt x="79" y="234"/>
                  </a:lnTo>
                  <a:lnTo>
                    <a:pt x="83" y="25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72760" y="1548000"/>
              <a:ext cx="537480" cy="624240"/>
            </a:xfrm>
            <a:custGeom>
              <a:avLst/>
              <a:gdLst/>
              <a:ahLst/>
              <a:rect l="l" t="t" r="r" b="b"/>
              <a:pathLst>
                <a:path w="170" h="250">
                  <a:moveTo>
                    <a:pt x="83" y="250"/>
                  </a:moveTo>
                  <a:lnTo>
                    <a:pt x="109" y="212"/>
                  </a:lnTo>
                  <a:lnTo>
                    <a:pt x="116" y="186"/>
                  </a:lnTo>
                  <a:lnTo>
                    <a:pt x="136" y="165"/>
                  </a:lnTo>
                  <a:lnTo>
                    <a:pt x="151" y="138"/>
                  </a:lnTo>
                  <a:lnTo>
                    <a:pt x="151" y="126"/>
                  </a:lnTo>
                  <a:lnTo>
                    <a:pt x="146" y="110"/>
                  </a:lnTo>
                  <a:lnTo>
                    <a:pt x="149" y="98"/>
                  </a:lnTo>
                  <a:lnTo>
                    <a:pt x="156" y="94"/>
                  </a:lnTo>
                  <a:lnTo>
                    <a:pt x="162" y="94"/>
                  </a:lnTo>
                  <a:lnTo>
                    <a:pt x="170" y="90"/>
                  </a:lnTo>
                  <a:lnTo>
                    <a:pt x="141" y="46"/>
                  </a:lnTo>
                  <a:lnTo>
                    <a:pt x="112" y="24"/>
                  </a:lnTo>
                  <a:lnTo>
                    <a:pt x="101" y="14"/>
                  </a:lnTo>
                  <a:lnTo>
                    <a:pt x="64" y="0"/>
                  </a:lnTo>
                  <a:lnTo>
                    <a:pt x="29" y="0"/>
                  </a:lnTo>
                  <a:lnTo>
                    <a:pt x="0" y="28"/>
                  </a:lnTo>
                  <a:lnTo>
                    <a:pt x="18" y="52"/>
                  </a:lnTo>
                  <a:lnTo>
                    <a:pt x="21" y="56"/>
                  </a:lnTo>
                  <a:lnTo>
                    <a:pt x="26" y="62"/>
                  </a:lnTo>
                  <a:lnTo>
                    <a:pt x="28" y="65"/>
                  </a:lnTo>
                  <a:lnTo>
                    <a:pt x="28" y="69"/>
                  </a:lnTo>
                  <a:lnTo>
                    <a:pt x="29" y="73"/>
                  </a:lnTo>
                  <a:lnTo>
                    <a:pt x="33" y="75"/>
                  </a:lnTo>
                  <a:lnTo>
                    <a:pt x="39" y="114"/>
                  </a:lnTo>
                  <a:lnTo>
                    <a:pt x="39" y="125"/>
                  </a:lnTo>
                  <a:lnTo>
                    <a:pt x="43" y="130"/>
                  </a:lnTo>
                  <a:lnTo>
                    <a:pt x="48" y="133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9" y="130"/>
                  </a:lnTo>
                  <a:lnTo>
                    <a:pt x="86" y="142"/>
                  </a:lnTo>
                  <a:lnTo>
                    <a:pt x="89" y="148"/>
                  </a:lnTo>
                  <a:lnTo>
                    <a:pt x="82" y="171"/>
                  </a:lnTo>
                  <a:lnTo>
                    <a:pt x="76" y="199"/>
                  </a:lnTo>
                  <a:lnTo>
                    <a:pt x="79" y="234"/>
                  </a:lnTo>
                  <a:lnTo>
                    <a:pt x="83" y="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24200" y="2331360"/>
              <a:ext cx="277560" cy="24444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72" y="57"/>
                  </a:moveTo>
                  <a:lnTo>
                    <a:pt x="72" y="72"/>
                  </a:lnTo>
                  <a:lnTo>
                    <a:pt x="66" y="63"/>
                  </a:lnTo>
                  <a:lnTo>
                    <a:pt x="72" y="82"/>
                  </a:lnTo>
                  <a:lnTo>
                    <a:pt x="88" y="91"/>
                  </a:lnTo>
                  <a:lnTo>
                    <a:pt x="69" y="98"/>
                  </a:lnTo>
                  <a:lnTo>
                    <a:pt x="54" y="95"/>
                  </a:lnTo>
                  <a:lnTo>
                    <a:pt x="39" y="98"/>
                  </a:lnTo>
                  <a:lnTo>
                    <a:pt x="4" y="72"/>
                  </a:lnTo>
                  <a:lnTo>
                    <a:pt x="0" y="66"/>
                  </a:lnTo>
                  <a:lnTo>
                    <a:pt x="1" y="32"/>
                  </a:lnTo>
                  <a:lnTo>
                    <a:pt x="11" y="21"/>
                  </a:lnTo>
                  <a:lnTo>
                    <a:pt x="15" y="9"/>
                  </a:lnTo>
                  <a:lnTo>
                    <a:pt x="26" y="0"/>
                  </a:lnTo>
                  <a:lnTo>
                    <a:pt x="37" y="5"/>
                  </a:lnTo>
                  <a:lnTo>
                    <a:pt x="52" y="12"/>
                  </a:lnTo>
                  <a:lnTo>
                    <a:pt x="68" y="21"/>
                  </a:lnTo>
                  <a:lnTo>
                    <a:pt x="75" y="35"/>
                  </a:lnTo>
                  <a:lnTo>
                    <a:pt x="72" y="57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24200" y="2331360"/>
              <a:ext cx="277560" cy="24444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72" y="57"/>
                  </a:moveTo>
                  <a:lnTo>
                    <a:pt x="72" y="72"/>
                  </a:lnTo>
                  <a:lnTo>
                    <a:pt x="66" y="63"/>
                  </a:lnTo>
                  <a:lnTo>
                    <a:pt x="72" y="82"/>
                  </a:lnTo>
                  <a:lnTo>
                    <a:pt x="88" y="91"/>
                  </a:lnTo>
                  <a:lnTo>
                    <a:pt x="69" y="98"/>
                  </a:lnTo>
                  <a:lnTo>
                    <a:pt x="54" y="95"/>
                  </a:lnTo>
                  <a:lnTo>
                    <a:pt x="39" y="98"/>
                  </a:lnTo>
                  <a:lnTo>
                    <a:pt x="4" y="72"/>
                  </a:lnTo>
                  <a:lnTo>
                    <a:pt x="0" y="66"/>
                  </a:lnTo>
                  <a:lnTo>
                    <a:pt x="1" y="32"/>
                  </a:lnTo>
                  <a:lnTo>
                    <a:pt x="11" y="21"/>
                  </a:lnTo>
                  <a:lnTo>
                    <a:pt x="15" y="9"/>
                  </a:lnTo>
                  <a:lnTo>
                    <a:pt x="26" y="0"/>
                  </a:lnTo>
                  <a:lnTo>
                    <a:pt x="37" y="5"/>
                  </a:lnTo>
                  <a:lnTo>
                    <a:pt x="52" y="12"/>
                  </a:lnTo>
                  <a:lnTo>
                    <a:pt x="68" y="21"/>
                  </a:lnTo>
                  <a:lnTo>
                    <a:pt x="75" y="35"/>
                  </a:lnTo>
                  <a:lnTo>
                    <a:pt x="72" y="57"/>
                  </a:lnTo>
                </a:path>
              </a:pathLst>
            </a:custGeom>
            <a:noFill/>
            <a:ln w="0">
              <a:solidFill>
                <a:srgbClr val="ffd4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05880" y="2663640"/>
              <a:ext cx="327240" cy="22788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10" y="22"/>
                  </a:moveTo>
                  <a:lnTo>
                    <a:pt x="30" y="0"/>
                  </a:lnTo>
                  <a:lnTo>
                    <a:pt x="78" y="13"/>
                  </a:lnTo>
                  <a:lnTo>
                    <a:pt x="93" y="22"/>
                  </a:lnTo>
                  <a:lnTo>
                    <a:pt x="103" y="44"/>
                  </a:lnTo>
                  <a:lnTo>
                    <a:pt x="101" y="67"/>
                  </a:lnTo>
                  <a:lnTo>
                    <a:pt x="75" y="91"/>
                  </a:lnTo>
                  <a:lnTo>
                    <a:pt x="47" y="85"/>
                  </a:lnTo>
                  <a:lnTo>
                    <a:pt x="42" y="81"/>
                  </a:lnTo>
                  <a:lnTo>
                    <a:pt x="37" y="67"/>
                  </a:lnTo>
                  <a:lnTo>
                    <a:pt x="10" y="64"/>
                  </a:lnTo>
                  <a:lnTo>
                    <a:pt x="0" y="54"/>
                  </a:lnTo>
                  <a:lnTo>
                    <a:pt x="4" y="29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505880" y="2663640"/>
              <a:ext cx="327240" cy="22788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10" y="22"/>
                  </a:moveTo>
                  <a:lnTo>
                    <a:pt x="30" y="0"/>
                  </a:lnTo>
                  <a:lnTo>
                    <a:pt x="78" y="13"/>
                  </a:lnTo>
                  <a:lnTo>
                    <a:pt x="93" y="22"/>
                  </a:lnTo>
                  <a:lnTo>
                    <a:pt x="103" y="44"/>
                  </a:lnTo>
                  <a:lnTo>
                    <a:pt x="101" y="67"/>
                  </a:lnTo>
                  <a:lnTo>
                    <a:pt x="75" y="91"/>
                  </a:lnTo>
                  <a:lnTo>
                    <a:pt x="47" y="85"/>
                  </a:lnTo>
                  <a:lnTo>
                    <a:pt x="42" y="81"/>
                  </a:lnTo>
                  <a:lnTo>
                    <a:pt x="37" y="67"/>
                  </a:lnTo>
                  <a:lnTo>
                    <a:pt x="10" y="64"/>
                  </a:lnTo>
                  <a:lnTo>
                    <a:pt x="0" y="54"/>
                  </a:lnTo>
                  <a:lnTo>
                    <a:pt x="4" y="29"/>
                  </a:lnTo>
                  <a:lnTo>
                    <a:pt x="10" y="22"/>
                  </a:lnTo>
                </a:path>
              </a:pathLst>
            </a:custGeom>
            <a:noFill/>
            <a:ln w="0">
              <a:solidFill>
                <a:srgbClr val="ffd4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72720" y="2773080"/>
              <a:ext cx="415080" cy="30276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0" y="41"/>
                  </a:moveTo>
                  <a:lnTo>
                    <a:pt x="0" y="25"/>
                  </a:lnTo>
                  <a:lnTo>
                    <a:pt x="31" y="10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90" y="29"/>
                  </a:lnTo>
                  <a:lnTo>
                    <a:pt x="131" y="47"/>
                  </a:lnTo>
                  <a:lnTo>
                    <a:pt x="116" y="89"/>
                  </a:lnTo>
                  <a:lnTo>
                    <a:pt x="65" y="121"/>
                  </a:lnTo>
                  <a:lnTo>
                    <a:pt x="9" y="5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872720" y="2773080"/>
              <a:ext cx="415080" cy="30276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0" y="41"/>
                  </a:moveTo>
                  <a:lnTo>
                    <a:pt x="0" y="25"/>
                  </a:lnTo>
                  <a:lnTo>
                    <a:pt x="31" y="10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90" y="29"/>
                  </a:lnTo>
                  <a:lnTo>
                    <a:pt x="131" y="47"/>
                  </a:lnTo>
                  <a:lnTo>
                    <a:pt x="116" y="89"/>
                  </a:lnTo>
                  <a:lnTo>
                    <a:pt x="65" y="121"/>
                  </a:lnTo>
                  <a:lnTo>
                    <a:pt x="9" y="50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918800" y="4896000"/>
              <a:ext cx="345960" cy="570960"/>
            </a:xfrm>
            <a:custGeom>
              <a:avLst/>
              <a:gdLst/>
              <a:ahLst/>
              <a:rect l="l" t="t" r="r" b="b"/>
              <a:pathLst>
                <a:path w="110" h="229">
                  <a:moveTo>
                    <a:pt x="83" y="13"/>
                  </a:moveTo>
                  <a:lnTo>
                    <a:pt x="61" y="13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46" y="17"/>
                  </a:lnTo>
                  <a:lnTo>
                    <a:pt x="46" y="24"/>
                  </a:lnTo>
                  <a:lnTo>
                    <a:pt x="47" y="41"/>
                  </a:lnTo>
                  <a:lnTo>
                    <a:pt x="46" y="52"/>
                  </a:lnTo>
                  <a:lnTo>
                    <a:pt x="40" y="71"/>
                  </a:lnTo>
                  <a:lnTo>
                    <a:pt x="36" y="99"/>
                  </a:lnTo>
                  <a:lnTo>
                    <a:pt x="36" y="116"/>
                  </a:lnTo>
                  <a:lnTo>
                    <a:pt x="37" y="153"/>
                  </a:lnTo>
                  <a:lnTo>
                    <a:pt x="21" y="189"/>
                  </a:lnTo>
                  <a:lnTo>
                    <a:pt x="10" y="201"/>
                  </a:lnTo>
                  <a:lnTo>
                    <a:pt x="4" y="206"/>
                  </a:lnTo>
                  <a:lnTo>
                    <a:pt x="0" y="219"/>
                  </a:lnTo>
                  <a:lnTo>
                    <a:pt x="4" y="223"/>
                  </a:lnTo>
                  <a:lnTo>
                    <a:pt x="14" y="229"/>
                  </a:lnTo>
                  <a:lnTo>
                    <a:pt x="43" y="229"/>
                  </a:lnTo>
                  <a:lnTo>
                    <a:pt x="61" y="229"/>
                  </a:lnTo>
                  <a:lnTo>
                    <a:pt x="84" y="219"/>
                  </a:lnTo>
                  <a:lnTo>
                    <a:pt x="102" y="201"/>
                  </a:lnTo>
                  <a:lnTo>
                    <a:pt x="110" y="172"/>
                  </a:lnTo>
                  <a:lnTo>
                    <a:pt x="98" y="154"/>
                  </a:lnTo>
                  <a:lnTo>
                    <a:pt x="97" y="122"/>
                  </a:lnTo>
                  <a:lnTo>
                    <a:pt x="98" y="108"/>
                  </a:lnTo>
                  <a:lnTo>
                    <a:pt x="98" y="86"/>
                  </a:lnTo>
                  <a:lnTo>
                    <a:pt x="98" y="64"/>
                  </a:lnTo>
                  <a:lnTo>
                    <a:pt x="102" y="45"/>
                  </a:lnTo>
                  <a:lnTo>
                    <a:pt x="106" y="26"/>
                  </a:lnTo>
                  <a:lnTo>
                    <a:pt x="100" y="20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918800" y="4896000"/>
              <a:ext cx="345960" cy="570960"/>
            </a:xfrm>
            <a:custGeom>
              <a:avLst/>
              <a:gdLst/>
              <a:ahLst/>
              <a:rect l="l" t="t" r="r" b="b"/>
              <a:pathLst>
                <a:path w="110" h="229">
                  <a:moveTo>
                    <a:pt x="83" y="13"/>
                  </a:moveTo>
                  <a:lnTo>
                    <a:pt x="61" y="13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46" y="17"/>
                  </a:lnTo>
                  <a:lnTo>
                    <a:pt x="46" y="24"/>
                  </a:lnTo>
                  <a:lnTo>
                    <a:pt x="47" y="41"/>
                  </a:lnTo>
                  <a:lnTo>
                    <a:pt x="46" y="52"/>
                  </a:lnTo>
                  <a:lnTo>
                    <a:pt x="40" y="71"/>
                  </a:lnTo>
                  <a:lnTo>
                    <a:pt x="36" y="99"/>
                  </a:lnTo>
                  <a:lnTo>
                    <a:pt x="36" y="116"/>
                  </a:lnTo>
                  <a:lnTo>
                    <a:pt x="37" y="153"/>
                  </a:lnTo>
                  <a:lnTo>
                    <a:pt x="21" y="189"/>
                  </a:lnTo>
                  <a:lnTo>
                    <a:pt x="10" y="201"/>
                  </a:lnTo>
                  <a:lnTo>
                    <a:pt x="4" y="206"/>
                  </a:lnTo>
                  <a:lnTo>
                    <a:pt x="0" y="219"/>
                  </a:lnTo>
                  <a:lnTo>
                    <a:pt x="4" y="223"/>
                  </a:lnTo>
                  <a:lnTo>
                    <a:pt x="14" y="229"/>
                  </a:lnTo>
                  <a:lnTo>
                    <a:pt x="43" y="229"/>
                  </a:lnTo>
                  <a:lnTo>
                    <a:pt x="61" y="229"/>
                  </a:lnTo>
                  <a:lnTo>
                    <a:pt x="84" y="219"/>
                  </a:lnTo>
                  <a:lnTo>
                    <a:pt x="102" y="201"/>
                  </a:lnTo>
                  <a:lnTo>
                    <a:pt x="110" y="172"/>
                  </a:lnTo>
                  <a:lnTo>
                    <a:pt x="98" y="154"/>
                  </a:lnTo>
                  <a:lnTo>
                    <a:pt x="97" y="122"/>
                  </a:lnTo>
                  <a:lnTo>
                    <a:pt x="98" y="108"/>
                  </a:lnTo>
                  <a:lnTo>
                    <a:pt x="98" y="86"/>
                  </a:lnTo>
                  <a:lnTo>
                    <a:pt x="98" y="64"/>
                  </a:lnTo>
                  <a:lnTo>
                    <a:pt x="102" y="45"/>
                  </a:lnTo>
                  <a:lnTo>
                    <a:pt x="106" y="26"/>
                  </a:lnTo>
                  <a:lnTo>
                    <a:pt x="100" y="20"/>
                  </a:lnTo>
                  <a:lnTo>
                    <a:pt x="83" y="13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93640" y="1371600"/>
              <a:ext cx="537480" cy="326520"/>
            </a:xfrm>
            <a:custGeom>
              <a:avLst/>
              <a:gdLst/>
              <a:ahLst/>
              <a:rect l="l" t="t" r="r" b="b"/>
              <a:pathLst>
                <a:path w="170" h="131">
                  <a:moveTo>
                    <a:pt x="166" y="127"/>
                  </a:moveTo>
                  <a:lnTo>
                    <a:pt x="166" y="114"/>
                  </a:lnTo>
                  <a:lnTo>
                    <a:pt x="166" y="104"/>
                  </a:lnTo>
                  <a:lnTo>
                    <a:pt x="166" y="90"/>
                  </a:lnTo>
                  <a:lnTo>
                    <a:pt x="163" y="77"/>
                  </a:lnTo>
                  <a:lnTo>
                    <a:pt x="159" y="63"/>
                  </a:lnTo>
                  <a:lnTo>
                    <a:pt x="153" y="45"/>
                  </a:lnTo>
                  <a:lnTo>
                    <a:pt x="144" y="35"/>
                  </a:lnTo>
                  <a:lnTo>
                    <a:pt x="133" y="20"/>
                  </a:lnTo>
                  <a:lnTo>
                    <a:pt x="120" y="12"/>
                  </a:lnTo>
                  <a:lnTo>
                    <a:pt x="110" y="7"/>
                  </a:lnTo>
                  <a:lnTo>
                    <a:pt x="97" y="3"/>
                  </a:lnTo>
                  <a:lnTo>
                    <a:pt x="82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7"/>
                  </a:lnTo>
                  <a:lnTo>
                    <a:pt x="31" y="23"/>
                  </a:lnTo>
                  <a:lnTo>
                    <a:pt x="26" y="28"/>
                  </a:lnTo>
                  <a:lnTo>
                    <a:pt x="19" y="41"/>
                  </a:lnTo>
                  <a:lnTo>
                    <a:pt x="11" y="50"/>
                  </a:lnTo>
                  <a:lnTo>
                    <a:pt x="6" y="55"/>
                  </a:lnTo>
                  <a:lnTo>
                    <a:pt x="0" y="63"/>
                  </a:lnTo>
                  <a:lnTo>
                    <a:pt x="6" y="63"/>
                  </a:lnTo>
                  <a:lnTo>
                    <a:pt x="15" y="58"/>
                  </a:lnTo>
                  <a:lnTo>
                    <a:pt x="26" y="54"/>
                  </a:lnTo>
                  <a:lnTo>
                    <a:pt x="32" y="54"/>
                  </a:lnTo>
                  <a:lnTo>
                    <a:pt x="46" y="55"/>
                  </a:lnTo>
                  <a:lnTo>
                    <a:pt x="58" y="58"/>
                  </a:lnTo>
                  <a:lnTo>
                    <a:pt x="68" y="60"/>
                  </a:lnTo>
                  <a:lnTo>
                    <a:pt x="80" y="63"/>
                  </a:lnTo>
                  <a:lnTo>
                    <a:pt x="84" y="64"/>
                  </a:lnTo>
                  <a:lnTo>
                    <a:pt x="97" y="69"/>
                  </a:lnTo>
                  <a:lnTo>
                    <a:pt x="107" y="73"/>
                  </a:lnTo>
                  <a:lnTo>
                    <a:pt x="120" y="82"/>
                  </a:lnTo>
                  <a:lnTo>
                    <a:pt x="133" y="92"/>
                  </a:lnTo>
                  <a:lnTo>
                    <a:pt x="139" y="104"/>
                  </a:lnTo>
                  <a:lnTo>
                    <a:pt x="146" y="112"/>
                  </a:lnTo>
                  <a:lnTo>
                    <a:pt x="153" y="120"/>
                  </a:lnTo>
                  <a:lnTo>
                    <a:pt x="159" y="127"/>
                  </a:lnTo>
                  <a:lnTo>
                    <a:pt x="170" y="131"/>
                  </a:lnTo>
                  <a:lnTo>
                    <a:pt x="166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595880" y="1791000"/>
              <a:ext cx="245880" cy="125640"/>
            </a:xfrm>
            <a:custGeom>
              <a:avLst/>
              <a:gdLst/>
              <a:ahLst/>
              <a:rect l="l" t="t" r="r" b="b"/>
              <a:pathLst>
                <a:path w="78" h="51">
                  <a:moveTo>
                    <a:pt x="0" y="17"/>
                  </a:moveTo>
                  <a:lnTo>
                    <a:pt x="0" y="28"/>
                  </a:lnTo>
                  <a:lnTo>
                    <a:pt x="4" y="33"/>
                  </a:lnTo>
                  <a:lnTo>
                    <a:pt x="11" y="36"/>
                  </a:lnTo>
                  <a:lnTo>
                    <a:pt x="22" y="33"/>
                  </a:lnTo>
                  <a:lnTo>
                    <a:pt x="29" y="33"/>
                  </a:lnTo>
                  <a:lnTo>
                    <a:pt x="40" y="33"/>
                  </a:lnTo>
                  <a:lnTo>
                    <a:pt x="47" y="45"/>
                  </a:lnTo>
                  <a:lnTo>
                    <a:pt x="50" y="51"/>
                  </a:lnTo>
                  <a:lnTo>
                    <a:pt x="52" y="51"/>
                  </a:lnTo>
                  <a:lnTo>
                    <a:pt x="52" y="45"/>
                  </a:lnTo>
                  <a:lnTo>
                    <a:pt x="58" y="38"/>
                  </a:lnTo>
                  <a:lnTo>
                    <a:pt x="62" y="33"/>
                  </a:lnTo>
                  <a:lnTo>
                    <a:pt x="69" y="28"/>
                  </a:lnTo>
                  <a:lnTo>
                    <a:pt x="72" y="20"/>
                  </a:lnTo>
                  <a:lnTo>
                    <a:pt x="75" y="10"/>
                  </a:lnTo>
                  <a:lnTo>
                    <a:pt x="78" y="0"/>
                  </a:lnTo>
                  <a:lnTo>
                    <a:pt x="72" y="4"/>
                  </a:lnTo>
                  <a:lnTo>
                    <a:pt x="65" y="17"/>
                  </a:lnTo>
                  <a:lnTo>
                    <a:pt x="52" y="20"/>
                  </a:lnTo>
                  <a:lnTo>
                    <a:pt x="43" y="20"/>
                  </a:lnTo>
                  <a:lnTo>
                    <a:pt x="29" y="28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4" y="2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677240" y="1973520"/>
              <a:ext cx="66600" cy="167760"/>
            </a:xfrm>
            <a:custGeom>
              <a:avLst/>
              <a:gdLst/>
              <a:ahLst/>
              <a:rect l="l" t="t" r="r" b="b"/>
              <a:pathLst>
                <a:path w="21" h="68">
                  <a:moveTo>
                    <a:pt x="17" y="0"/>
                  </a:moveTo>
                  <a:lnTo>
                    <a:pt x="0" y="29"/>
                  </a:lnTo>
                  <a:lnTo>
                    <a:pt x="14" y="68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1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30880" y="1973520"/>
              <a:ext cx="154440" cy="214920"/>
            </a:xfrm>
            <a:custGeom>
              <a:avLst/>
              <a:gdLst/>
              <a:ahLst/>
              <a:rect l="l" t="t" r="r" b="b"/>
              <a:pathLst>
                <a:path w="49" h="87">
                  <a:moveTo>
                    <a:pt x="45" y="0"/>
                  </a:moveTo>
                  <a:lnTo>
                    <a:pt x="42" y="12"/>
                  </a:lnTo>
                  <a:lnTo>
                    <a:pt x="49" y="29"/>
                  </a:lnTo>
                  <a:lnTo>
                    <a:pt x="49" y="47"/>
                  </a:lnTo>
                  <a:lnTo>
                    <a:pt x="42" y="64"/>
                  </a:lnTo>
                  <a:lnTo>
                    <a:pt x="42" y="47"/>
                  </a:lnTo>
                  <a:lnTo>
                    <a:pt x="38" y="36"/>
                  </a:lnTo>
                  <a:lnTo>
                    <a:pt x="26" y="57"/>
                  </a:lnTo>
                  <a:lnTo>
                    <a:pt x="7" y="80"/>
                  </a:lnTo>
                  <a:lnTo>
                    <a:pt x="0" y="87"/>
                  </a:lnTo>
                  <a:lnTo>
                    <a:pt x="9" y="57"/>
                  </a:lnTo>
                  <a:lnTo>
                    <a:pt x="19" y="47"/>
                  </a:lnTo>
                  <a:lnTo>
                    <a:pt x="19" y="23"/>
                  </a:lnTo>
                  <a:lnTo>
                    <a:pt x="26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64520" y="1860120"/>
              <a:ext cx="168480" cy="27216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0" y="0"/>
                  </a:moveTo>
                  <a:lnTo>
                    <a:pt x="17" y="17"/>
                  </a:lnTo>
                  <a:lnTo>
                    <a:pt x="24" y="27"/>
                  </a:lnTo>
                  <a:lnTo>
                    <a:pt x="39" y="40"/>
                  </a:lnTo>
                  <a:lnTo>
                    <a:pt x="53" y="45"/>
                  </a:lnTo>
                  <a:lnTo>
                    <a:pt x="36" y="109"/>
                  </a:lnTo>
                  <a:lnTo>
                    <a:pt x="32" y="57"/>
                  </a:lnTo>
                  <a:lnTo>
                    <a:pt x="24" y="74"/>
                  </a:lnTo>
                  <a:lnTo>
                    <a:pt x="24" y="57"/>
                  </a:lnTo>
                  <a:lnTo>
                    <a:pt x="14" y="61"/>
                  </a:lnTo>
                  <a:lnTo>
                    <a:pt x="1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532880" y="2099520"/>
              <a:ext cx="131400" cy="354240"/>
            </a:xfrm>
            <a:custGeom>
              <a:avLst/>
              <a:gdLst/>
              <a:ahLst/>
              <a:rect l="l" t="t" r="r" b="b"/>
              <a:pathLst>
                <a:path w="42" h="142">
                  <a:moveTo>
                    <a:pt x="42" y="0"/>
                  </a:moveTo>
                  <a:lnTo>
                    <a:pt x="42" y="1"/>
                  </a:lnTo>
                  <a:lnTo>
                    <a:pt x="29" y="15"/>
                  </a:lnTo>
                  <a:lnTo>
                    <a:pt x="17" y="29"/>
                  </a:lnTo>
                  <a:lnTo>
                    <a:pt x="14" y="41"/>
                  </a:lnTo>
                  <a:lnTo>
                    <a:pt x="10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7" y="64"/>
                  </a:lnTo>
                  <a:lnTo>
                    <a:pt x="5" y="70"/>
                  </a:lnTo>
                  <a:lnTo>
                    <a:pt x="3" y="74"/>
                  </a:lnTo>
                  <a:lnTo>
                    <a:pt x="2" y="88"/>
                  </a:lnTo>
                  <a:lnTo>
                    <a:pt x="0" y="98"/>
                  </a:lnTo>
                  <a:lnTo>
                    <a:pt x="0" y="109"/>
                  </a:lnTo>
                  <a:lnTo>
                    <a:pt x="0" y="123"/>
                  </a:lnTo>
                  <a:lnTo>
                    <a:pt x="5" y="142"/>
                  </a:lnTo>
                  <a:lnTo>
                    <a:pt x="22" y="111"/>
                  </a:lnTo>
                  <a:lnTo>
                    <a:pt x="7" y="114"/>
                  </a:lnTo>
                  <a:lnTo>
                    <a:pt x="12" y="102"/>
                  </a:lnTo>
                  <a:lnTo>
                    <a:pt x="24" y="82"/>
                  </a:lnTo>
                  <a:lnTo>
                    <a:pt x="17" y="88"/>
                  </a:lnTo>
                  <a:lnTo>
                    <a:pt x="10" y="92"/>
                  </a:lnTo>
                  <a:lnTo>
                    <a:pt x="10" y="83"/>
                  </a:lnTo>
                  <a:lnTo>
                    <a:pt x="10" y="74"/>
                  </a:lnTo>
                  <a:lnTo>
                    <a:pt x="14" y="66"/>
                  </a:lnTo>
                  <a:lnTo>
                    <a:pt x="17" y="58"/>
                  </a:lnTo>
                  <a:lnTo>
                    <a:pt x="20" y="55"/>
                  </a:lnTo>
                  <a:lnTo>
                    <a:pt x="24" y="54"/>
                  </a:lnTo>
                  <a:lnTo>
                    <a:pt x="27" y="54"/>
                  </a:lnTo>
                  <a:lnTo>
                    <a:pt x="31" y="54"/>
                  </a:lnTo>
                  <a:lnTo>
                    <a:pt x="27" y="47"/>
                  </a:lnTo>
                  <a:lnTo>
                    <a:pt x="24" y="41"/>
                  </a:lnTo>
                  <a:lnTo>
                    <a:pt x="25" y="34"/>
                  </a:lnTo>
                  <a:lnTo>
                    <a:pt x="27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83400" y="2002680"/>
              <a:ext cx="283680" cy="613080"/>
            </a:xfrm>
            <a:custGeom>
              <a:avLst/>
              <a:gdLst/>
              <a:ahLst/>
              <a:rect l="l" t="t" r="r" b="b"/>
              <a:pathLst>
                <a:path w="90" h="246">
                  <a:moveTo>
                    <a:pt x="0" y="0"/>
                  </a:moveTo>
                  <a:lnTo>
                    <a:pt x="16" y="4"/>
                  </a:lnTo>
                  <a:lnTo>
                    <a:pt x="26" y="29"/>
                  </a:lnTo>
                  <a:lnTo>
                    <a:pt x="43" y="45"/>
                  </a:lnTo>
                  <a:lnTo>
                    <a:pt x="55" y="75"/>
                  </a:lnTo>
                  <a:lnTo>
                    <a:pt x="58" y="97"/>
                  </a:lnTo>
                  <a:lnTo>
                    <a:pt x="65" y="121"/>
                  </a:lnTo>
                  <a:lnTo>
                    <a:pt x="68" y="148"/>
                  </a:lnTo>
                  <a:lnTo>
                    <a:pt x="75" y="185"/>
                  </a:lnTo>
                  <a:lnTo>
                    <a:pt x="90" y="223"/>
                  </a:lnTo>
                  <a:lnTo>
                    <a:pt x="90" y="246"/>
                  </a:lnTo>
                  <a:lnTo>
                    <a:pt x="68" y="205"/>
                  </a:lnTo>
                  <a:lnTo>
                    <a:pt x="55" y="189"/>
                  </a:lnTo>
                  <a:lnTo>
                    <a:pt x="26" y="178"/>
                  </a:lnTo>
                  <a:lnTo>
                    <a:pt x="10" y="178"/>
                  </a:lnTo>
                  <a:lnTo>
                    <a:pt x="16" y="164"/>
                  </a:lnTo>
                  <a:lnTo>
                    <a:pt x="36" y="162"/>
                  </a:lnTo>
                  <a:lnTo>
                    <a:pt x="61" y="172"/>
                  </a:lnTo>
                  <a:lnTo>
                    <a:pt x="61" y="162"/>
                  </a:lnTo>
                  <a:lnTo>
                    <a:pt x="58" y="137"/>
                  </a:lnTo>
                  <a:lnTo>
                    <a:pt x="55" y="121"/>
                  </a:lnTo>
                  <a:lnTo>
                    <a:pt x="51" y="113"/>
                  </a:lnTo>
                  <a:lnTo>
                    <a:pt x="33" y="127"/>
                  </a:lnTo>
                  <a:lnTo>
                    <a:pt x="10" y="131"/>
                  </a:lnTo>
                  <a:lnTo>
                    <a:pt x="10" y="121"/>
                  </a:lnTo>
                  <a:lnTo>
                    <a:pt x="20" y="113"/>
                  </a:lnTo>
                  <a:lnTo>
                    <a:pt x="40" y="103"/>
                  </a:lnTo>
                  <a:lnTo>
                    <a:pt x="51" y="86"/>
                  </a:lnTo>
                  <a:lnTo>
                    <a:pt x="43" y="62"/>
                  </a:lnTo>
                  <a:lnTo>
                    <a:pt x="16" y="86"/>
                  </a:lnTo>
                  <a:lnTo>
                    <a:pt x="29" y="52"/>
                  </a:lnTo>
                  <a:lnTo>
                    <a:pt x="26" y="29"/>
                  </a:lnTo>
                  <a:lnTo>
                    <a:pt x="13" y="75"/>
                  </a:lnTo>
                  <a:lnTo>
                    <a:pt x="13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77480" y="2157840"/>
              <a:ext cx="155880" cy="410400"/>
            </a:xfrm>
            <a:custGeom>
              <a:avLst/>
              <a:gdLst/>
              <a:ahLst/>
              <a:rect l="l" t="t" r="r" b="b"/>
              <a:pathLst>
                <a:path w="49" h="165">
                  <a:moveTo>
                    <a:pt x="32" y="13"/>
                  </a:moveTo>
                  <a:lnTo>
                    <a:pt x="39" y="41"/>
                  </a:lnTo>
                  <a:lnTo>
                    <a:pt x="42" y="82"/>
                  </a:lnTo>
                  <a:lnTo>
                    <a:pt x="46" y="110"/>
                  </a:lnTo>
                  <a:lnTo>
                    <a:pt x="49" y="127"/>
                  </a:lnTo>
                  <a:lnTo>
                    <a:pt x="42" y="138"/>
                  </a:lnTo>
                  <a:lnTo>
                    <a:pt x="9" y="165"/>
                  </a:lnTo>
                  <a:lnTo>
                    <a:pt x="39" y="123"/>
                  </a:lnTo>
                  <a:lnTo>
                    <a:pt x="35" y="84"/>
                  </a:lnTo>
                  <a:lnTo>
                    <a:pt x="31" y="41"/>
                  </a:lnTo>
                  <a:lnTo>
                    <a:pt x="18" y="38"/>
                  </a:lnTo>
                  <a:lnTo>
                    <a:pt x="0" y="41"/>
                  </a:lnTo>
                  <a:lnTo>
                    <a:pt x="10" y="28"/>
                  </a:lnTo>
                  <a:lnTo>
                    <a:pt x="20" y="24"/>
                  </a:lnTo>
                  <a:lnTo>
                    <a:pt x="28" y="0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43840" y="2282040"/>
              <a:ext cx="322920" cy="277200"/>
            </a:xfrm>
            <a:custGeom>
              <a:avLst/>
              <a:gdLst/>
              <a:ahLst/>
              <a:rect l="l" t="t" r="r" b="b"/>
              <a:pathLst>
                <a:path w="102" h="111">
                  <a:moveTo>
                    <a:pt x="16" y="10"/>
                  </a:moveTo>
                  <a:lnTo>
                    <a:pt x="84" y="15"/>
                  </a:lnTo>
                  <a:lnTo>
                    <a:pt x="85" y="1"/>
                  </a:lnTo>
                  <a:lnTo>
                    <a:pt x="62" y="1"/>
                  </a:lnTo>
                  <a:lnTo>
                    <a:pt x="19" y="0"/>
                  </a:lnTo>
                  <a:lnTo>
                    <a:pt x="8" y="9"/>
                  </a:lnTo>
                  <a:lnTo>
                    <a:pt x="0" y="25"/>
                  </a:lnTo>
                  <a:lnTo>
                    <a:pt x="0" y="57"/>
                  </a:lnTo>
                  <a:lnTo>
                    <a:pt x="1" y="70"/>
                  </a:lnTo>
                  <a:lnTo>
                    <a:pt x="0" y="89"/>
                  </a:lnTo>
                  <a:lnTo>
                    <a:pt x="9" y="96"/>
                  </a:lnTo>
                  <a:lnTo>
                    <a:pt x="25" y="101"/>
                  </a:lnTo>
                  <a:lnTo>
                    <a:pt x="25" y="89"/>
                  </a:lnTo>
                  <a:lnTo>
                    <a:pt x="34" y="83"/>
                  </a:lnTo>
                  <a:lnTo>
                    <a:pt x="38" y="93"/>
                  </a:lnTo>
                  <a:lnTo>
                    <a:pt x="41" y="107"/>
                  </a:lnTo>
                  <a:lnTo>
                    <a:pt x="48" y="101"/>
                  </a:lnTo>
                  <a:lnTo>
                    <a:pt x="52" y="111"/>
                  </a:lnTo>
                  <a:lnTo>
                    <a:pt x="63" y="111"/>
                  </a:lnTo>
                  <a:lnTo>
                    <a:pt x="74" y="101"/>
                  </a:lnTo>
                  <a:lnTo>
                    <a:pt x="83" y="102"/>
                  </a:lnTo>
                  <a:lnTo>
                    <a:pt x="87" y="89"/>
                  </a:lnTo>
                  <a:lnTo>
                    <a:pt x="98" y="77"/>
                  </a:lnTo>
                  <a:lnTo>
                    <a:pt x="102" y="57"/>
                  </a:lnTo>
                  <a:lnTo>
                    <a:pt x="98" y="1"/>
                  </a:lnTo>
                  <a:lnTo>
                    <a:pt x="94" y="66"/>
                  </a:lnTo>
                  <a:lnTo>
                    <a:pt x="77" y="66"/>
                  </a:lnTo>
                  <a:lnTo>
                    <a:pt x="52" y="73"/>
                  </a:lnTo>
                  <a:lnTo>
                    <a:pt x="38" y="66"/>
                  </a:lnTo>
                  <a:lnTo>
                    <a:pt x="22" y="66"/>
                  </a:lnTo>
                  <a:lnTo>
                    <a:pt x="11" y="66"/>
                  </a:lnTo>
                  <a:lnTo>
                    <a:pt x="3" y="60"/>
                  </a:lnTo>
                  <a:lnTo>
                    <a:pt x="11" y="36"/>
                  </a:lnTo>
                  <a:lnTo>
                    <a:pt x="11" y="25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885680" y="2371320"/>
              <a:ext cx="47520" cy="601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1" y="24"/>
                  </a:moveTo>
                  <a:lnTo>
                    <a:pt x="3" y="24"/>
                  </a:lnTo>
                  <a:lnTo>
                    <a:pt x="0" y="14"/>
                  </a:lnTo>
                  <a:lnTo>
                    <a:pt x="3" y="6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6"/>
                  </a:lnTo>
                  <a:lnTo>
                    <a:pt x="15" y="14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60240" y="2386080"/>
              <a:ext cx="162360" cy="9288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0" y="19"/>
                  </a:moveTo>
                  <a:lnTo>
                    <a:pt x="16" y="22"/>
                  </a:lnTo>
                  <a:lnTo>
                    <a:pt x="41" y="32"/>
                  </a:lnTo>
                  <a:lnTo>
                    <a:pt x="51" y="37"/>
                  </a:lnTo>
                  <a:lnTo>
                    <a:pt x="48" y="15"/>
                  </a:lnTo>
                  <a:lnTo>
                    <a:pt x="51" y="0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2" y="8"/>
                  </a:lnTo>
                  <a:lnTo>
                    <a:pt x="1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793880" y="2534040"/>
              <a:ext cx="481320" cy="183960"/>
            </a:xfrm>
            <a:custGeom>
              <a:avLst/>
              <a:gdLst/>
              <a:ahLst/>
              <a:rect l="l" t="t" r="r" b="b"/>
              <a:pathLst>
                <a:path w="152" h="74">
                  <a:moveTo>
                    <a:pt x="100" y="0"/>
                  </a:moveTo>
                  <a:lnTo>
                    <a:pt x="100" y="6"/>
                  </a:lnTo>
                  <a:lnTo>
                    <a:pt x="100" y="10"/>
                  </a:lnTo>
                  <a:lnTo>
                    <a:pt x="123" y="23"/>
                  </a:lnTo>
                  <a:lnTo>
                    <a:pt x="139" y="27"/>
                  </a:lnTo>
                  <a:lnTo>
                    <a:pt x="152" y="45"/>
                  </a:lnTo>
                  <a:lnTo>
                    <a:pt x="127" y="41"/>
                  </a:lnTo>
                  <a:lnTo>
                    <a:pt x="114" y="27"/>
                  </a:lnTo>
                  <a:lnTo>
                    <a:pt x="97" y="27"/>
                  </a:lnTo>
                  <a:lnTo>
                    <a:pt x="122" y="51"/>
                  </a:lnTo>
                  <a:lnTo>
                    <a:pt x="100" y="41"/>
                  </a:lnTo>
                  <a:lnTo>
                    <a:pt x="90" y="33"/>
                  </a:lnTo>
                  <a:lnTo>
                    <a:pt x="78" y="27"/>
                  </a:lnTo>
                  <a:lnTo>
                    <a:pt x="90" y="41"/>
                  </a:lnTo>
                  <a:lnTo>
                    <a:pt x="71" y="33"/>
                  </a:lnTo>
                  <a:lnTo>
                    <a:pt x="86" y="45"/>
                  </a:lnTo>
                  <a:lnTo>
                    <a:pt x="68" y="46"/>
                  </a:lnTo>
                  <a:lnTo>
                    <a:pt x="71" y="61"/>
                  </a:lnTo>
                  <a:lnTo>
                    <a:pt x="61" y="51"/>
                  </a:lnTo>
                  <a:lnTo>
                    <a:pt x="51" y="45"/>
                  </a:lnTo>
                  <a:lnTo>
                    <a:pt x="44" y="51"/>
                  </a:lnTo>
                  <a:lnTo>
                    <a:pt x="58" y="74"/>
                  </a:lnTo>
                  <a:lnTo>
                    <a:pt x="54" y="74"/>
                  </a:lnTo>
                  <a:lnTo>
                    <a:pt x="44" y="68"/>
                  </a:lnTo>
                  <a:lnTo>
                    <a:pt x="32" y="61"/>
                  </a:lnTo>
                  <a:lnTo>
                    <a:pt x="15" y="74"/>
                  </a:lnTo>
                  <a:lnTo>
                    <a:pt x="9" y="74"/>
                  </a:lnTo>
                  <a:lnTo>
                    <a:pt x="0" y="74"/>
                  </a:lnTo>
                  <a:lnTo>
                    <a:pt x="9" y="68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72720" y="2616120"/>
              <a:ext cx="548280" cy="220680"/>
            </a:xfrm>
            <a:custGeom>
              <a:avLst/>
              <a:gdLst/>
              <a:ahLst/>
              <a:rect l="l" t="t" r="r" b="b"/>
              <a:pathLst>
                <a:path w="173" h="88">
                  <a:moveTo>
                    <a:pt x="170" y="35"/>
                  </a:moveTo>
                  <a:lnTo>
                    <a:pt x="149" y="0"/>
                  </a:lnTo>
                  <a:lnTo>
                    <a:pt x="149" y="35"/>
                  </a:lnTo>
                  <a:lnTo>
                    <a:pt x="134" y="35"/>
                  </a:lnTo>
                  <a:lnTo>
                    <a:pt x="127" y="28"/>
                  </a:lnTo>
                  <a:lnTo>
                    <a:pt x="102" y="12"/>
                  </a:lnTo>
                  <a:lnTo>
                    <a:pt x="111" y="35"/>
                  </a:lnTo>
                  <a:lnTo>
                    <a:pt x="98" y="41"/>
                  </a:lnTo>
                  <a:lnTo>
                    <a:pt x="79" y="24"/>
                  </a:lnTo>
                  <a:lnTo>
                    <a:pt x="65" y="18"/>
                  </a:lnTo>
                  <a:lnTo>
                    <a:pt x="72" y="35"/>
                  </a:lnTo>
                  <a:lnTo>
                    <a:pt x="75" y="59"/>
                  </a:lnTo>
                  <a:lnTo>
                    <a:pt x="58" y="35"/>
                  </a:lnTo>
                  <a:lnTo>
                    <a:pt x="61" y="59"/>
                  </a:lnTo>
                  <a:lnTo>
                    <a:pt x="39" y="41"/>
                  </a:lnTo>
                  <a:lnTo>
                    <a:pt x="43" y="63"/>
                  </a:lnTo>
                  <a:lnTo>
                    <a:pt x="26" y="59"/>
                  </a:lnTo>
                  <a:lnTo>
                    <a:pt x="11" y="51"/>
                  </a:lnTo>
                  <a:lnTo>
                    <a:pt x="15" y="69"/>
                  </a:lnTo>
                  <a:lnTo>
                    <a:pt x="0" y="59"/>
                  </a:lnTo>
                  <a:lnTo>
                    <a:pt x="0" y="81"/>
                  </a:lnTo>
                  <a:lnTo>
                    <a:pt x="13" y="88"/>
                  </a:lnTo>
                  <a:lnTo>
                    <a:pt x="22" y="86"/>
                  </a:lnTo>
                  <a:lnTo>
                    <a:pt x="36" y="76"/>
                  </a:lnTo>
                  <a:lnTo>
                    <a:pt x="39" y="69"/>
                  </a:lnTo>
                  <a:lnTo>
                    <a:pt x="53" y="69"/>
                  </a:lnTo>
                  <a:lnTo>
                    <a:pt x="72" y="69"/>
                  </a:lnTo>
                  <a:lnTo>
                    <a:pt x="93" y="63"/>
                  </a:lnTo>
                  <a:lnTo>
                    <a:pt x="111" y="63"/>
                  </a:lnTo>
                  <a:lnTo>
                    <a:pt x="120" y="59"/>
                  </a:lnTo>
                  <a:lnTo>
                    <a:pt x="138" y="59"/>
                  </a:lnTo>
                  <a:lnTo>
                    <a:pt x="146" y="59"/>
                  </a:lnTo>
                  <a:lnTo>
                    <a:pt x="159" y="51"/>
                  </a:lnTo>
                  <a:lnTo>
                    <a:pt x="170" y="45"/>
                  </a:lnTo>
                  <a:lnTo>
                    <a:pt x="173" y="41"/>
                  </a:lnTo>
                  <a:lnTo>
                    <a:pt x="17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33120" y="2824200"/>
              <a:ext cx="484200" cy="258840"/>
            </a:xfrm>
            <a:custGeom>
              <a:avLst/>
              <a:gdLst/>
              <a:ahLst/>
              <a:rect l="l" t="t" r="r" b="b"/>
              <a:pathLst>
                <a:path w="153" h="104">
                  <a:moveTo>
                    <a:pt x="0" y="14"/>
                  </a:moveTo>
                  <a:lnTo>
                    <a:pt x="74" y="101"/>
                  </a:lnTo>
                  <a:lnTo>
                    <a:pt x="92" y="104"/>
                  </a:lnTo>
                  <a:lnTo>
                    <a:pt x="110" y="100"/>
                  </a:lnTo>
                  <a:lnTo>
                    <a:pt x="129" y="82"/>
                  </a:lnTo>
                  <a:lnTo>
                    <a:pt x="136" y="78"/>
                  </a:lnTo>
                  <a:lnTo>
                    <a:pt x="144" y="68"/>
                  </a:lnTo>
                  <a:lnTo>
                    <a:pt x="153" y="49"/>
                  </a:lnTo>
                  <a:lnTo>
                    <a:pt x="151" y="37"/>
                  </a:lnTo>
                  <a:lnTo>
                    <a:pt x="147" y="31"/>
                  </a:lnTo>
                  <a:lnTo>
                    <a:pt x="147" y="27"/>
                  </a:lnTo>
                  <a:lnTo>
                    <a:pt x="127" y="17"/>
                  </a:lnTo>
                  <a:lnTo>
                    <a:pt x="114" y="9"/>
                  </a:lnTo>
                  <a:lnTo>
                    <a:pt x="88" y="0"/>
                  </a:lnTo>
                  <a:lnTo>
                    <a:pt x="95" y="17"/>
                  </a:lnTo>
                  <a:lnTo>
                    <a:pt x="102" y="21"/>
                  </a:lnTo>
                  <a:lnTo>
                    <a:pt x="107" y="27"/>
                  </a:lnTo>
                  <a:lnTo>
                    <a:pt x="115" y="31"/>
                  </a:lnTo>
                  <a:lnTo>
                    <a:pt x="122" y="30"/>
                  </a:lnTo>
                  <a:lnTo>
                    <a:pt x="125" y="30"/>
                  </a:lnTo>
                  <a:lnTo>
                    <a:pt x="124" y="25"/>
                  </a:lnTo>
                  <a:lnTo>
                    <a:pt x="117" y="21"/>
                  </a:lnTo>
                  <a:lnTo>
                    <a:pt x="127" y="22"/>
                  </a:lnTo>
                  <a:lnTo>
                    <a:pt x="133" y="27"/>
                  </a:lnTo>
                  <a:lnTo>
                    <a:pt x="133" y="34"/>
                  </a:lnTo>
                  <a:lnTo>
                    <a:pt x="118" y="37"/>
                  </a:lnTo>
                  <a:lnTo>
                    <a:pt x="108" y="49"/>
                  </a:lnTo>
                  <a:lnTo>
                    <a:pt x="95" y="62"/>
                  </a:lnTo>
                  <a:lnTo>
                    <a:pt x="89" y="73"/>
                  </a:lnTo>
                  <a:lnTo>
                    <a:pt x="85" y="78"/>
                  </a:lnTo>
                  <a:lnTo>
                    <a:pt x="82" y="90"/>
                  </a:lnTo>
                  <a:lnTo>
                    <a:pt x="81" y="94"/>
                  </a:lnTo>
                  <a:lnTo>
                    <a:pt x="78" y="85"/>
                  </a:lnTo>
                  <a:lnTo>
                    <a:pt x="74" y="78"/>
                  </a:lnTo>
                  <a:lnTo>
                    <a:pt x="66" y="69"/>
                  </a:lnTo>
                  <a:lnTo>
                    <a:pt x="56" y="53"/>
                  </a:lnTo>
                  <a:lnTo>
                    <a:pt x="49" y="41"/>
                  </a:lnTo>
                  <a:lnTo>
                    <a:pt x="42" y="35"/>
                  </a:lnTo>
                  <a:lnTo>
                    <a:pt x="35" y="30"/>
                  </a:lnTo>
                  <a:lnTo>
                    <a:pt x="32" y="25"/>
                  </a:lnTo>
                  <a:lnTo>
                    <a:pt x="26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441080" y="2464560"/>
              <a:ext cx="431640" cy="253440"/>
            </a:xfrm>
            <a:custGeom>
              <a:avLst/>
              <a:gdLst/>
              <a:ahLst/>
              <a:rect l="l" t="t" r="r" b="b"/>
              <a:pathLst>
                <a:path w="137" h="102">
                  <a:moveTo>
                    <a:pt x="78" y="79"/>
                  </a:moveTo>
                  <a:lnTo>
                    <a:pt x="107" y="85"/>
                  </a:lnTo>
                  <a:lnTo>
                    <a:pt x="130" y="61"/>
                  </a:lnTo>
                  <a:lnTo>
                    <a:pt x="124" y="51"/>
                  </a:lnTo>
                  <a:lnTo>
                    <a:pt x="39" y="10"/>
                  </a:lnTo>
                  <a:lnTo>
                    <a:pt x="7" y="34"/>
                  </a:lnTo>
                  <a:lnTo>
                    <a:pt x="3" y="28"/>
                  </a:lnTo>
                  <a:lnTo>
                    <a:pt x="39" y="0"/>
                  </a:lnTo>
                  <a:lnTo>
                    <a:pt x="124" y="38"/>
                  </a:lnTo>
                  <a:lnTo>
                    <a:pt x="137" y="69"/>
                  </a:lnTo>
                  <a:lnTo>
                    <a:pt x="101" y="102"/>
                  </a:lnTo>
                  <a:lnTo>
                    <a:pt x="0" y="55"/>
                  </a:lnTo>
                  <a:lnTo>
                    <a:pt x="3" y="38"/>
                  </a:lnTo>
                  <a:lnTo>
                    <a:pt x="7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30920" y="2616120"/>
              <a:ext cx="189360" cy="20412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60" y="22"/>
                  </a:moveTo>
                  <a:lnTo>
                    <a:pt x="15" y="0"/>
                  </a:lnTo>
                  <a:lnTo>
                    <a:pt x="15" y="1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2" y="18"/>
                  </a:lnTo>
                  <a:lnTo>
                    <a:pt x="31" y="24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35" y="28"/>
                  </a:lnTo>
                  <a:lnTo>
                    <a:pt x="45" y="35"/>
                  </a:lnTo>
                  <a:lnTo>
                    <a:pt x="29" y="59"/>
                  </a:lnTo>
                  <a:lnTo>
                    <a:pt x="38" y="82"/>
                  </a:lnTo>
                  <a:lnTo>
                    <a:pt x="42" y="54"/>
                  </a:lnTo>
                  <a:lnTo>
                    <a:pt x="52" y="40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16080" y="2464560"/>
              <a:ext cx="246240" cy="13680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5" y="0"/>
                  </a:moveTo>
                  <a:lnTo>
                    <a:pt x="0" y="4"/>
                  </a:lnTo>
                  <a:lnTo>
                    <a:pt x="0" y="16"/>
                  </a:lnTo>
                  <a:lnTo>
                    <a:pt x="5" y="28"/>
                  </a:lnTo>
                  <a:lnTo>
                    <a:pt x="12" y="38"/>
                  </a:lnTo>
                  <a:lnTo>
                    <a:pt x="26" y="45"/>
                  </a:lnTo>
                  <a:lnTo>
                    <a:pt x="55" y="55"/>
                  </a:lnTo>
                  <a:lnTo>
                    <a:pt x="67" y="51"/>
                  </a:lnTo>
                  <a:lnTo>
                    <a:pt x="71" y="38"/>
                  </a:lnTo>
                  <a:lnTo>
                    <a:pt x="65" y="34"/>
                  </a:lnTo>
                  <a:lnTo>
                    <a:pt x="71" y="20"/>
                  </a:lnTo>
                  <a:lnTo>
                    <a:pt x="78" y="20"/>
                  </a:lnTo>
                  <a:lnTo>
                    <a:pt x="74" y="10"/>
                  </a:lnTo>
                  <a:lnTo>
                    <a:pt x="65" y="10"/>
                  </a:lnTo>
                  <a:lnTo>
                    <a:pt x="51" y="20"/>
                  </a:lnTo>
                  <a:lnTo>
                    <a:pt x="42" y="16"/>
                  </a:lnTo>
                  <a:lnTo>
                    <a:pt x="19" y="4"/>
                  </a:lnTo>
                  <a:lnTo>
                    <a:pt x="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20160" y="2406240"/>
              <a:ext cx="479160" cy="412560"/>
            </a:xfrm>
            <a:custGeom>
              <a:avLst/>
              <a:gdLst/>
              <a:ahLst/>
              <a:rect l="l" t="t" r="r" b="b"/>
              <a:pathLst>
                <a:path w="152" h="165">
                  <a:moveTo>
                    <a:pt x="0" y="2"/>
                  </a:moveTo>
                  <a:lnTo>
                    <a:pt x="8" y="27"/>
                  </a:lnTo>
                  <a:lnTo>
                    <a:pt x="29" y="57"/>
                  </a:lnTo>
                  <a:lnTo>
                    <a:pt x="51" y="74"/>
                  </a:lnTo>
                  <a:lnTo>
                    <a:pt x="70" y="92"/>
                  </a:lnTo>
                  <a:lnTo>
                    <a:pt x="84" y="108"/>
                  </a:lnTo>
                  <a:lnTo>
                    <a:pt x="94" y="119"/>
                  </a:lnTo>
                  <a:lnTo>
                    <a:pt x="102" y="135"/>
                  </a:lnTo>
                  <a:lnTo>
                    <a:pt x="113" y="135"/>
                  </a:lnTo>
                  <a:lnTo>
                    <a:pt x="120" y="129"/>
                  </a:lnTo>
                  <a:lnTo>
                    <a:pt x="123" y="135"/>
                  </a:lnTo>
                  <a:lnTo>
                    <a:pt x="130" y="147"/>
                  </a:lnTo>
                  <a:lnTo>
                    <a:pt x="134" y="153"/>
                  </a:lnTo>
                  <a:lnTo>
                    <a:pt x="139" y="160"/>
                  </a:lnTo>
                  <a:lnTo>
                    <a:pt x="149" y="165"/>
                  </a:lnTo>
                  <a:lnTo>
                    <a:pt x="152" y="153"/>
                  </a:lnTo>
                  <a:lnTo>
                    <a:pt x="152" y="143"/>
                  </a:lnTo>
                  <a:lnTo>
                    <a:pt x="152" y="135"/>
                  </a:lnTo>
                  <a:lnTo>
                    <a:pt x="136" y="129"/>
                  </a:lnTo>
                  <a:lnTo>
                    <a:pt x="123" y="119"/>
                  </a:lnTo>
                  <a:lnTo>
                    <a:pt x="120" y="112"/>
                  </a:lnTo>
                  <a:lnTo>
                    <a:pt x="113" y="125"/>
                  </a:lnTo>
                  <a:lnTo>
                    <a:pt x="106" y="119"/>
                  </a:lnTo>
                  <a:lnTo>
                    <a:pt x="99" y="112"/>
                  </a:lnTo>
                  <a:lnTo>
                    <a:pt x="99" y="108"/>
                  </a:lnTo>
                  <a:lnTo>
                    <a:pt x="106" y="96"/>
                  </a:lnTo>
                  <a:lnTo>
                    <a:pt x="94" y="84"/>
                  </a:lnTo>
                  <a:lnTo>
                    <a:pt x="77" y="78"/>
                  </a:lnTo>
                  <a:lnTo>
                    <a:pt x="63" y="61"/>
                  </a:lnTo>
                  <a:lnTo>
                    <a:pt x="45" y="43"/>
                  </a:lnTo>
                  <a:lnTo>
                    <a:pt x="31" y="33"/>
                  </a:lnTo>
                  <a:lnTo>
                    <a:pt x="22" y="23"/>
                  </a:lnTo>
                  <a:lnTo>
                    <a:pt x="12" y="10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172600"/>
              <a:ext cx="471240" cy="300600"/>
            </a:xfrm>
            <a:custGeom>
              <a:avLst/>
              <a:gdLst/>
              <a:ahLst/>
              <a:rect l="l" t="t" r="r" b="b"/>
              <a:pathLst>
                <a:path w="149" h="121">
                  <a:moveTo>
                    <a:pt x="143" y="80"/>
                  </a:moveTo>
                  <a:lnTo>
                    <a:pt x="139" y="94"/>
                  </a:lnTo>
                  <a:lnTo>
                    <a:pt x="136" y="104"/>
                  </a:lnTo>
                  <a:lnTo>
                    <a:pt x="136" y="121"/>
                  </a:lnTo>
                  <a:lnTo>
                    <a:pt x="129" y="110"/>
                  </a:lnTo>
                  <a:lnTo>
                    <a:pt x="116" y="96"/>
                  </a:lnTo>
                  <a:lnTo>
                    <a:pt x="107" y="94"/>
                  </a:lnTo>
                  <a:lnTo>
                    <a:pt x="98" y="96"/>
                  </a:lnTo>
                  <a:lnTo>
                    <a:pt x="94" y="94"/>
                  </a:lnTo>
                  <a:lnTo>
                    <a:pt x="94" y="86"/>
                  </a:lnTo>
                  <a:lnTo>
                    <a:pt x="94" y="80"/>
                  </a:lnTo>
                  <a:lnTo>
                    <a:pt x="94" y="69"/>
                  </a:lnTo>
                  <a:lnTo>
                    <a:pt x="87" y="63"/>
                  </a:lnTo>
                  <a:lnTo>
                    <a:pt x="77" y="63"/>
                  </a:lnTo>
                  <a:lnTo>
                    <a:pt x="77" y="59"/>
                  </a:lnTo>
                  <a:lnTo>
                    <a:pt x="2" y="12"/>
                  </a:lnTo>
                  <a:lnTo>
                    <a:pt x="0" y="7"/>
                  </a:lnTo>
                  <a:lnTo>
                    <a:pt x="5" y="0"/>
                  </a:lnTo>
                  <a:lnTo>
                    <a:pt x="84" y="45"/>
                  </a:lnTo>
                  <a:lnTo>
                    <a:pt x="94" y="41"/>
                  </a:lnTo>
                  <a:lnTo>
                    <a:pt x="107" y="35"/>
                  </a:lnTo>
                  <a:lnTo>
                    <a:pt x="110" y="29"/>
                  </a:lnTo>
                  <a:lnTo>
                    <a:pt x="120" y="35"/>
                  </a:lnTo>
                  <a:lnTo>
                    <a:pt x="110" y="45"/>
                  </a:lnTo>
                  <a:lnTo>
                    <a:pt x="123" y="41"/>
                  </a:lnTo>
                  <a:lnTo>
                    <a:pt x="127" y="45"/>
                  </a:lnTo>
                  <a:lnTo>
                    <a:pt x="120" y="59"/>
                  </a:lnTo>
                  <a:lnTo>
                    <a:pt x="149" y="76"/>
                  </a:lnTo>
                  <a:lnTo>
                    <a:pt x="143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099080" y="2512080"/>
              <a:ext cx="141840" cy="7092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" y="0"/>
                  </a:moveTo>
                  <a:lnTo>
                    <a:pt x="13" y="13"/>
                  </a:lnTo>
                  <a:lnTo>
                    <a:pt x="20" y="17"/>
                  </a:lnTo>
                  <a:lnTo>
                    <a:pt x="34" y="17"/>
                  </a:lnTo>
                  <a:lnTo>
                    <a:pt x="45" y="26"/>
                  </a:lnTo>
                  <a:lnTo>
                    <a:pt x="39" y="29"/>
                  </a:lnTo>
                  <a:lnTo>
                    <a:pt x="20" y="26"/>
                  </a:lnTo>
                  <a:lnTo>
                    <a:pt x="10" y="19"/>
                  </a:lnTo>
                  <a:lnTo>
                    <a:pt x="5" y="1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493640" y="2670840"/>
              <a:ext cx="124560" cy="166320"/>
            </a:xfrm>
            <a:custGeom>
              <a:avLst/>
              <a:gdLst/>
              <a:ahLst/>
              <a:rect l="l" t="t" r="r" b="b"/>
              <a:pathLst>
                <a:path w="39" h="66">
                  <a:moveTo>
                    <a:pt x="28" y="0"/>
                  </a:moveTo>
                  <a:lnTo>
                    <a:pt x="24" y="2"/>
                  </a:lnTo>
                  <a:lnTo>
                    <a:pt x="17" y="13"/>
                  </a:lnTo>
                  <a:lnTo>
                    <a:pt x="7" y="23"/>
                  </a:lnTo>
                  <a:lnTo>
                    <a:pt x="2" y="38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2" y="59"/>
                  </a:lnTo>
                  <a:lnTo>
                    <a:pt x="11" y="66"/>
                  </a:lnTo>
                  <a:lnTo>
                    <a:pt x="15" y="66"/>
                  </a:lnTo>
                  <a:lnTo>
                    <a:pt x="19" y="61"/>
                  </a:lnTo>
                  <a:lnTo>
                    <a:pt x="11" y="59"/>
                  </a:lnTo>
                  <a:lnTo>
                    <a:pt x="8" y="47"/>
                  </a:lnTo>
                  <a:lnTo>
                    <a:pt x="15" y="45"/>
                  </a:lnTo>
                  <a:lnTo>
                    <a:pt x="22" y="41"/>
                  </a:lnTo>
                  <a:lnTo>
                    <a:pt x="29" y="38"/>
                  </a:lnTo>
                  <a:lnTo>
                    <a:pt x="37" y="29"/>
                  </a:lnTo>
                  <a:lnTo>
                    <a:pt x="31" y="29"/>
                  </a:lnTo>
                  <a:lnTo>
                    <a:pt x="22" y="34"/>
                  </a:lnTo>
                  <a:lnTo>
                    <a:pt x="14" y="37"/>
                  </a:lnTo>
                  <a:lnTo>
                    <a:pt x="11" y="37"/>
                  </a:lnTo>
                  <a:lnTo>
                    <a:pt x="11" y="28"/>
                  </a:lnTo>
                  <a:lnTo>
                    <a:pt x="22" y="22"/>
                  </a:lnTo>
                  <a:lnTo>
                    <a:pt x="29" y="22"/>
                  </a:lnTo>
                  <a:lnTo>
                    <a:pt x="36" y="18"/>
                  </a:lnTo>
                  <a:lnTo>
                    <a:pt x="39" y="10"/>
                  </a:lnTo>
                  <a:lnTo>
                    <a:pt x="32" y="13"/>
                  </a:lnTo>
                  <a:lnTo>
                    <a:pt x="19" y="18"/>
                  </a:lnTo>
                  <a:lnTo>
                    <a:pt x="26" y="9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41520" y="2763720"/>
              <a:ext cx="331200" cy="2390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79" y="23"/>
                  </a:moveTo>
                  <a:lnTo>
                    <a:pt x="75" y="33"/>
                  </a:lnTo>
                  <a:lnTo>
                    <a:pt x="67" y="41"/>
                  </a:lnTo>
                  <a:lnTo>
                    <a:pt x="57" y="41"/>
                  </a:lnTo>
                  <a:lnTo>
                    <a:pt x="43" y="33"/>
                  </a:lnTo>
                  <a:lnTo>
                    <a:pt x="36" y="27"/>
                  </a:lnTo>
                  <a:lnTo>
                    <a:pt x="24" y="17"/>
                  </a:lnTo>
                  <a:lnTo>
                    <a:pt x="17" y="17"/>
                  </a:lnTo>
                  <a:lnTo>
                    <a:pt x="11" y="17"/>
                  </a:lnTo>
                  <a:lnTo>
                    <a:pt x="7" y="22"/>
                  </a:lnTo>
                  <a:lnTo>
                    <a:pt x="11" y="27"/>
                  </a:lnTo>
                  <a:lnTo>
                    <a:pt x="17" y="33"/>
                  </a:lnTo>
                  <a:lnTo>
                    <a:pt x="24" y="33"/>
                  </a:lnTo>
                  <a:lnTo>
                    <a:pt x="17" y="41"/>
                  </a:lnTo>
                  <a:lnTo>
                    <a:pt x="14" y="45"/>
                  </a:lnTo>
                  <a:lnTo>
                    <a:pt x="7" y="45"/>
                  </a:lnTo>
                  <a:lnTo>
                    <a:pt x="4" y="4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7" y="55"/>
                  </a:lnTo>
                  <a:lnTo>
                    <a:pt x="17" y="61"/>
                  </a:lnTo>
                  <a:lnTo>
                    <a:pt x="28" y="61"/>
                  </a:lnTo>
                  <a:lnTo>
                    <a:pt x="39" y="55"/>
                  </a:lnTo>
                  <a:lnTo>
                    <a:pt x="39" y="61"/>
                  </a:lnTo>
                  <a:lnTo>
                    <a:pt x="36" y="68"/>
                  </a:lnTo>
                  <a:lnTo>
                    <a:pt x="31" y="78"/>
                  </a:lnTo>
                  <a:lnTo>
                    <a:pt x="36" y="92"/>
                  </a:lnTo>
                  <a:lnTo>
                    <a:pt x="36" y="96"/>
                  </a:lnTo>
                  <a:lnTo>
                    <a:pt x="50" y="92"/>
                  </a:lnTo>
                  <a:lnTo>
                    <a:pt x="57" y="92"/>
                  </a:lnTo>
                  <a:lnTo>
                    <a:pt x="53" y="74"/>
                  </a:lnTo>
                  <a:lnTo>
                    <a:pt x="57" y="61"/>
                  </a:lnTo>
                  <a:lnTo>
                    <a:pt x="60" y="55"/>
                  </a:lnTo>
                  <a:lnTo>
                    <a:pt x="64" y="61"/>
                  </a:lnTo>
                  <a:lnTo>
                    <a:pt x="64" y="78"/>
                  </a:lnTo>
                  <a:lnTo>
                    <a:pt x="67" y="96"/>
                  </a:lnTo>
                  <a:lnTo>
                    <a:pt x="79" y="86"/>
                  </a:lnTo>
                  <a:lnTo>
                    <a:pt x="89" y="74"/>
                  </a:lnTo>
                  <a:lnTo>
                    <a:pt x="98" y="61"/>
                  </a:lnTo>
                  <a:lnTo>
                    <a:pt x="105" y="33"/>
                  </a:lnTo>
                  <a:lnTo>
                    <a:pt x="98" y="27"/>
                  </a:lnTo>
                  <a:lnTo>
                    <a:pt x="95" y="17"/>
                  </a:lnTo>
                  <a:lnTo>
                    <a:pt x="95" y="4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2" y="4"/>
                  </a:lnTo>
                  <a:lnTo>
                    <a:pt x="89" y="10"/>
                  </a:lnTo>
                  <a:lnTo>
                    <a:pt x="89" y="17"/>
                  </a:lnTo>
                  <a:lnTo>
                    <a:pt x="89" y="22"/>
                  </a:lnTo>
                  <a:lnTo>
                    <a:pt x="7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92040" y="3017520"/>
              <a:ext cx="322920" cy="365040"/>
            </a:xfrm>
            <a:custGeom>
              <a:avLst/>
              <a:gdLst/>
              <a:ahLst/>
              <a:rect l="l" t="t" r="r" b="b"/>
              <a:pathLst>
                <a:path w="102" h="146">
                  <a:moveTo>
                    <a:pt x="11" y="76"/>
                  </a:moveTo>
                  <a:lnTo>
                    <a:pt x="26" y="89"/>
                  </a:lnTo>
                  <a:lnTo>
                    <a:pt x="43" y="85"/>
                  </a:lnTo>
                  <a:lnTo>
                    <a:pt x="52" y="103"/>
                  </a:lnTo>
                  <a:lnTo>
                    <a:pt x="62" y="114"/>
                  </a:lnTo>
                  <a:lnTo>
                    <a:pt x="79" y="118"/>
                  </a:lnTo>
                  <a:lnTo>
                    <a:pt x="87" y="103"/>
                  </a:lnTo>
                  <a:lnTo>
                    <a:pt x="90" y="82"/>
                  </a:lnTo>
                  <a:lnTo>
                    <a:pt x="91" y="63"/>
                  </a:lnTo>
                  <a:lnTo>
                    <a:pt x="87" y="45"/>
                  </a:lnTo>
                  <a:lnTo>
                    <a:pt x="102" y="28"/>
                  </a:lnTo>
                  <a:lnTo>
                    <a:pt x="102" y="52"/>
                  </a:lnTo>
                  <a:lnTo>
                    <a:pt x="102" y="76"/>
                  </a:lnTo>
                  <a:lnTo>
                    <a:pt x="99" y="103"/>
                  </a:lnTo>
                  <a:lnTo>
                    <a:pt x="91" y="128"/>
                  </a:lnTo>
                  <a:lnTo>
                    <a:pt x="74" y="141"/>
                  </a:lnTo>
                  <a:lnTo>
                    <a:pt x="55" y="146"/>
                  </a:lnTo>
                  <a:lnTo>
                    <a:pt x="35" y="137"/>
                  </a:lnTo>
                  <a:lnTo>
                    <a:pt x="23" y="128"/>
                  </a:lnTo>
                  <a:lnTo>
                    <a:pt x="13" y="117"/>
                  </a:lnTo>
                  <a:lnTo>
                    <a:pt x="4" y="90"/>
                  </a:lnTo>
                  <a:lnTo>
                    <a:pt x="1" y="68"/>
                  </a:lnTo>
                  <a:lnTo>
                    <a:pt x="0" y="55"/>
                  </a:lnTo>
                  <a:lnTo>
                    <a:pt x="4" y="30"/>
                  </a:lnTo>
                  <a:lnTo>
                    <a:pt x="37" y="0"/>
                  </a:lnTo>
                  <a:lnTo>
                    <a:pt x="40" y="9"/>
                  </a:lnTo>
                  <a:lnTo>
                    <a:pt x="33" y="17"/>
                  </a:lnTo>
                  <a:lnTo>
                    <a:pt x="25" y="28"/>
                  </a:lnTo>
                  <a:lnTo>
                    <a:pt x="15" y="39"/>
                  </a:lnTo>
                  <a:lnTo>
                    <a:pt x="13" y="58"/>
                  </a:lnTo>
                  <a:lnTo>
                    <a:pt x="13" y="63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19120" y="2891880"/>
              <a:ext cx="205920" cy="156600"/>
            </a:xfrm>
            <a:custGeom>
              <a:avLst/>
              <a:gdLst/>
              <a:ahLst/>
              <a:rect l="l" t="t" r="r" b="b"/>
              <a:pathLst>
                <a:path w="65" h="63">
                  <a:moveTo>
                    <a:pt x="0" y="41"/>
                  </a:moveTo>
                  <a:lnTo>
                    <a:pt x="8" y="19"/>
                  </a:lnTo>
                  <a:lnTo>
                    <a:pt x="12" y="10"/>
                  </a:lnTo>
                  <a:lnTo>
                    <a:pt x="25" y="4"/>
                  </a:lnTo>
                  <a:lnTo>
                    <a:pt x="32" y="4"/>
                  </a:lnTo>
                  <a:lnTo>
                    <a:pt x="39" y="10"/>
                  </a:lnTo>
                  <a:lnTo>
                    <a:pt x="43" y="0"/>
                  </a:lnTo>
                  <a:lnTo>
                    <a:pt x="54" y="10"/>
                  </a:lnTo>
                  <a:lnTo>
                    <a:pt x="54" y="23"/>
                  </a:lnTo>
                  <a:lnTo>
                    <a:pt x="61" y="45"/>
                  </a:lnTo>
                  <a:lnTo>
                    <a:pt x="65" y="63"/>
                  </a:lnTo>
                  <a:lnTo>
                    <a:pt x="58" y="51"/>
                  </a:lnTo>
                  <a:lnTo>
                    <a:pt x="47" y="45"/>
                  </a:lnTo>
                  <a:lnTo>
                    <a:pt x="54" y="41"/>
                  </a:lnTo>
                  <a:lnTo>
                    <a:pt x="47" y="27"/>
                  </a:lnTo>
                  <a:lnTo>
                    <a:pt x="39" y="2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89240" y="2865960"/>
              <a:ext cx="196200" cy="264600"/>
            </a:xfrm>
            <a:custGeom>
              <a:avLst/>
              <a:gdLst/>
              <a:ahLst/>
              <a:rect l="l" t="t" r="r" b="b"/>
              <a:pathLst>
                <a:path w="62" h="106">
                  <a:moveTo>
                    <a:pt x="0" y="37"/>
                  </a:moveTo>
                  <a:lnTo>
                    <a:pt x="7" y="14"/>
                  </a:lnTo>
                  <a:lnTo>
                    <a:pt x="12" y="4"/>
                  </a:lnTo>
                  <a:lnTo>
                    <a:pt x="26" y="0"/>
                  </a:lnTo>
                  <a:lnTo>
                    <a:pt x="30" y="14"/>
                  </a:lnTo>
                  <a:lnTo>
                    <a:pt x="62" y="33"/>
                  </a:lnTo>
                  <a:lnTo>
                    <a:pt x="52" y="78"/>
                  </a:lnTo>
                  <a:lnTo>
                    <a:pt x="45" y="102"/>
                  </a:lnTo>
                  <a:lnTo>
                    <a:pt x="12" y="106"/>
                  </a:lnTo>
                  <a:lnTo>
                    <a:pt x="26" y="89"/>
                  </a:lnTo>
                  <a:lnTo>
                    <a:pt x="10" y="73"/>
                  </a:lnTo>
                  <a:lnTo>
                    <a:pt x="30" y="61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6" y="20"/>
                  </a:lnTo>
                  <a:lnTo>
                    <a:pt x="10" y="33"/>
                  </a:lnTo>
                  <a:lnTo>
                    <a:pt x="7" y="5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99680" y="3119760"/>
              <a:ext cx="231480" cy="9828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4" y="0"/>
                  </a:moveTo>
                  <a:lnTo>
                    <a:pt x="0" y="22"/>
                  </a:lnTo>
                  <a:lnTo>
                    <a:pt x="7" y="35"/>
                  </a:lnTo>
                  <a:lnTo>
                    <a:pt x="20" y="39"/>
                  </a:lnTo>
                  <a:lnTo>
                    <a:pt x="49" y="35"/>
                  </a:lnTo>
                  <a:lnTo>
                    <a:pt x="56" y="22"/>
                  </a:lnTo>
                  <a:lnTo>
                    <a:pt x="69" y="22"/>
                  </a:lnTo>
                  <a:lnTo>
                    <a:pt x="73" y="4"/>
                  </a:lnTo>
                  <a:lnTo>
                    <a:pt x="66" y="0"/>
                  </a:lnTo>
                  <a:lnTo>
                    <a:pt x="59" y="11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38" y="22"/>
                  </a:lnTo>
                  <a:lnTo>
                    <a:pt x="20" y="22"/>
                  </a:lnTo>
                  <a:lnTo>
                    <a:pt x="9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472760" y="2966760"/>
              <a:ext cx="710640" cy="1429200"/>
            </a:xfrm>
            <a:custGeom>
              <a:avLst/>
              <a:gdLst/>
              <a:ahLst/>
              <a:rect l="l" t="t" r="r" b="b"/>
              <a:pathLst>
                <a:path w="225" h="573">
                  <a:moveTo>
                    <a:pt x="111" y="11"/>
                  </a:moveTo>
                  <a:lnTo>
                    <a:pt x="120" y="0"/>
                  </a:lnTo>
                  <a:lnTo>
                    <a:pt x="180" y="56"/>
                  </a:lnTo>
                  <a:lnTo>
                    <a:pt x="195" y="60"/>
                  </a:lnTo>
                  <a:lnTo>
                    <a:pt x="225" y="56"/>
                  </a:lnTo>
                  <a:lnTo>
                    <a:pt x="216" y="73"/>
                  </a:lnTo>
                  <a:lnTo>
                    <a:pt x="213" y="89"/>
                  </a:lnTo>
                  <a:lnTo>
                    <a:pt x="195" y="97"/>
                  </a:lnTo>
                  <a:lnTo>
                    <a:pt x="160" y="101"/>
                  </a:lnTo>
                  <a:lnTo>
                    <a:pt x="180" y="117"/>
                  </a:lnTo>
                  <a:lnTo>
                    <a:pt x="195" y="158"/>
                  </a:lnTo>
                  <a:lnTo>
                    <a:pt x="177" y="181"/>
                  </a:lnTo>
                  <a:lnTo>
                    <a:pt x="166" y="206"/>
                  </a:lnTo>
                  <a:lnTo>
                    <a:pt x="153" y="227"/>
                  </a:lnTo>
                  <a:lnTo>
                    <a:pt x="134" y="240"/>
                  </a:lnTo>
                  <a:lnTo>
                    <a:pt x="134" y="262"/>
                  </a:lnTo>
                  <a:lnTo>
                    <a:pt x="138" y="262"/>
                  </a:lnTo>
                  <a:lnTo>
                    <a:pt x="134" y="303"/>
                  </a:lnTo>
                  <a:lnTo>
                    <a:pt x="138" y="336"/>
                  </a:lnTo>
                  <a:lnTo>
                    <a:pt x="146" y="330"/>
                  </a:lnTo>
                  <a:lnTo>
                    <a:pt x="149" y="319"/>
                  </a:lnTo>
                  <a:lnTo>
                    <a:pt x="149" y="342"/>
                  </a:lnTo>
                  <a:lnTo>
                    <a:pt x="153" y="383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73" y="446"/>
                  </a:lnTo>
                  <a:lnTo>
                    <a:pt x="173" y="469"/>
                  </a:lnTo>
                  <a:lnTo>
                    <a:pt x="173" y="487"/>
                  </a:lnTo>
                  <a:lnTo>
                    <a:pt x="170" y="520"/>
                  </a:lnTo>
                  <a:lnTo>
                    <a:pt x="173" y="548"/>
                  </a:lnTo>
                  <a:lnTo>
                    <a:pt x="170" y="573"/>
                  </a:lnTo>
                  <a:lnTo>
                    <a:pt x="160" y="543"/>
                  </a:lnTo>
                  <a:lnTo>
                    <a:pt x="153" y="520"/>
                  </a:lnTo>
                  <a:lnTo>
                    <a:pt x="160" y="497"/>
                  </a:lnTo>
                  <a:lnTo>
                    <a:pt x="146" y="456"/>
                  </a:lnTo>
                  <a:lnTo>
                    <a:pt x="146" y="435"/>
                  </a:lnTo>
                  <a:lnTo>
                    <a:pt x="138" y="405"/>
                  </a:lnTo>
                  <a:lnTo>
                    <a:pt x="134" y="387"/>
                  </a:lnTo>
                  <a:lnTo>
                    <a:pt x="124" y="395"/>
                  </a:lnTo>
                  <a:lnTo>
                    <a:pt x="111" y="411"/>
                  </a:lnTo>
                  <a:lnTo>
                    <a:pt x="108" y="383"/>
                  </a:lnTo>
                  <a:lnTo>
                    <a:pt x="75" y="367"/>
                  </a:lnTo>
                  <a:lnTo>
                    <a:pt x="89" y="354"/>
                  </a:lnTo>
                  <a:lnTo>
                    <a:pt x="72" y="326"/>
                  </a:lnTo>
                  <a:lnTo>
                    <a:pt x="82" y="319"/>
                  </a:lnTo>
                  <a:lnTo>
                    <a:pt x="65" y="303"/>
                  </a:lnTo>
                  <a:lnTo>
                    <a:pt x="72" y="291"/>
                  </a:lnTo>
                  <a:lnTo>
                    <a:pt x="43" y="275"/>
                  </a:lnTo>
                  <a:lnTo>
                    <a:pt x="61" y="275"/>
                  </a:lnTo>
                  <a:lnTo>
                    <a:pt x="36" y="244"/>
                  </a:lnTo>
                  <a:lnTo>
                    <a:pt x="43" y="244"/>
                  </a:lnTo>
                  <a:lnTo>
                    <a:pt x="65" y="268"/>
                  </a:lnTo>
                  <a:lnTo>
                    <a:pt x="79" y="257"/>
                  </a:lnTo>
                  <a:lnTo>
                    <a:pt x="89" y="250"/>
                  </a:lnTo>
                  <a:lnTo>
                    <a:pt x="72" y="240"/>
                  </a:lnTo>
                  <a:lnTo>
                    <a:pt x="53" y="216"/>
                  </a:lnTo>
                  <a:lnTo>
                    <a:pt x="0" y="209"/>
                  </a:lnTo>
                  <a:lnTo>
                    <a:pt x="26" y="206"/>
                  </a:lnTo>
                  <a:lnTo>
                    <a:pt x="33" y="193"/>
                  </a:lnTo>
                  <a:lnTo>
                    <a:pt x="15" y="176"/>
                  </a:lnTo>
                  <a:lnTo>
                    <a:pt x="19" y="171"/>
                  </a:lnTo>
                  <a:lnTo>
                    <a:pt x="58" y="199"/>
                  </a:lnTo>
                  <a:lnTo>
                    <a:pt x="79" y="189"/>
                  </a:lnTo>
                  <a:lnTo>
                    <a:pt x="58" y="181"/>
                  </a:lnTo>
                  <a:lnTo>
                    <a:pt x="75" y="158"/>
                  </a:lnTo>
                  <a:lnTo>
                    <a:pt x="65" y="154"/>
                  </a:lnTo>
                  <a:lnTo>
                    <a:pt x="82" y="135"/>
                  </a:lnTo>
                  <a:lnTo>
                    <a:pt x="72" y="130"/>
                  </a:lnTo>
                  <a:lnTo>
                    <a:pt x="91" y="124"/>
                  </a:lnTo>
                  <a:lnTo>
                    <a:pt x="91" y="113"/>
                  </a:lnTo>
                  <a:lnTo>
                    <a:pt x="89" y="97"/>
                  </a:lnTo>
                  <a:lnTo>
                    <a:pt x="86" y="62"/>
                  </a:lnTo>
                  <a:lnTo>
                    <a:pt x="86" y="44"/>
                  </a:lnTo>
                  <a:lnTo>
                    <a:pt x="89" y="44"/>
                  </a:lnTo>
                  <a:lnTo>
                    <a:pt x="1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96360" y="3437280"/>
              <a:ext cx="170640" cy="341280"/>
            </a:xfrm>
            <a:custGeom>
              <a:avLst/>
              <a:gdLst/>
              <a:ahLst/>
              <a:rect l="l" t="t" r="r" b="b"/>
              <a:pathLst>
                <a:path w="54" h="137">
                  <a:moveTo>
                    <a:pt x="44" y="0"/>
                  </a:moveTo>
                  <a:lnTo>
                    <a:pt x="54" y="38"/>
                  </a:lnTo>
                  <a:lnTo>
                    <a:pt x="47" y="73"/>
                  </a:lnTo>
                  <a:lnTo>
                    <a:pt x="47" y="96"/>
                  </a:lnTo>
                  <a:lnTo>
                    <a:pt x="44" y="137"/>
                  </a:lnTo>
                  <a:lnTo>
                    <a:pt x="32" y="119"/>
                  </a:lnTo>
                  <a:lnTo>
                    <a:pt x="29" y="109"/>
                  </a:lnTo>
                  <a:lnTo>
                    <a:pt x="0" y="68"/>
                  </a:lnTo>
                  <a:lnTo>
                    <a:pt x="29" y="68"/>
                  </a:lnTo>
                  <a:lnTo>
                    <a:pt x="12" y="45"/>
                  </a:lnTo>
                  <a:lnTo>
                    <a:pt x="32" y="20"/>
                  </a:lnTo>
                  <a:lnTo>
                    <a:pt x="44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995840" y="3762000"/>
              <a:ext cx="339840" cy="633600"/>
            </a:xfrm>
            <a:custGeom>
              <a:avLst/>
              <a:gdLst/>
              <a:ahLst/>
              <a:rect l="l" t="t" r="r" b="b"/>
              <a:pathLst>
                <a:path w="107" h="254">
                  <a:moveTo>
                    <a:pt x="29" y="0"/>
                  </a:moveTo>
                  <a:lnTo>
                    <a:pt x="29" y="52"/>
                  </a:lnTo>
                  <a:lnTo>
                    <a:pt x="43" y="23"/>
                  </a:lnTo>
                  <a:lnTo>
                    <a:pt x="50" y="64"/>
                  </a:lnTo>
                  <a:lnTo>
                    <a:pt x="59" y="35"/>
                  </a:lnTo>
                  <a:lnTo>
                    <a:pt x="59" y="64"/>
                  </a:lnTo>
                  <a:lnTo>
                    <a:pt x="75" y="41"/>
                  </a:lnTo>
                  <a:lnTo>
                    <a:pt x="81" y="35"/>
                  </a:lnTo>
                  <a:lnTo>
                    <a:pt x="81" y="68"/>
                  </a:lnTo>
                  <a:lnTo>
                    <a:pt x="81" y="92"/>
                  </a:lnTo>
                  <a:lnTo>
                    <a:pt x="99" y="121"/>
                  </a:lnTo>
                  <a:lnTo>
                    <a:pt x="107" y="154"/>
                  </a:lnTo>
                  <a:lnTo>
                    <a:pt x="99" y="195"/>
                  </a:lnTo>
                  <a:lnTo>
                    <a:pt x="81" y="224"/>
                  </a:lnTo>
                  <a:lnTo>
                    <a:pt x="79" y="254"/>
                  </a:lnTo>
                  <a:lnTo>
                    <a:pt x="69" y="236"/>
                  </a:lnTo>
                  <a:lnTo>
                    <a:pt x="50" y="246"/>
                  </a:lnTo>
                  <a:lnTo>
                    <a:pt x="29" y="254"/>
                  </a:lnTo>
                  <a:lnTo>
                    <a:pt x="26" y="236"/>
                  </a:lnTo>
                  <a:lnTo>
                    <a:pt x="63" y="219"/>
                  </a:lnTo>
                  <a:lnTo>
                    <a:pt x="85" y="188"/>
                  </a:lnTo>
                  <a:lnTo>
                    <a:pt x="92" y="173"/>
                  </a:lnTo>
                  <a:lnTo>
                    <a:pt x="75" y="185"/>
                  </a:lnTo>
                  <a:lnTo>
                    <a:pt x="50" y="205"/>
                  </a:lnTo>
                  <a:lnTo>
                    <a:pt x="69" y="160"/>
                  </a:lnTo>
                  <a:lnTo>
                    <a:pt x="72" y="137"/>
                  </a:lnTo>
                  <a:lnTo>
                    <a:pt x="63" y="121"/>
                  </a:lnTo>
                  <a:lnTo>
                    <a:pt x="59" y="92"/>
                  </a:lnTo>
                  <a:lnTo>
                    <a:pt x="54" y="116"/>
                  </a:lnTo>
                  <a:lnTo>
                    <a:pt x="47" y="116"/>
                  </a:lnTo>
                  <a:lnTo>
                    <a:pt x="40" y="92"/>
                  </a:lnTo>
                  <a:lnTo>
                    <a:pt x="22" y="92"/>
                  </a:lnTo>
                  <a:lnTo>
                    <a:pt x="11" y="105"/>
                  </a:lnTo>
                  <a:lnTo>
                    <a:pt x="3" y="81"/>
                  </a:lnTo>
                  <a:lnTo>
                    <a:pt x="0" y="58"/>
                  </a:lnTo>
                  <a:lnTo>
                    <a:pt x="4" y="5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964520" y="4410360"/>
              <a:ext cx="371160" cy="527040"/>
            </a:xfrm>
            <a:custGeom>
              <a:avLst/>
              <a:gdLst/>
              <a:ahLst/>
              <a:rect l="l" t="t" r="r" b="b"/>
              <a:pathLst>
                <a:path w="117" h="211">
                  <a:moveTo>
                    <a:pt x="14" y="0"/>
                  </a:moveTo>
                  <a:lnTo>
                    <a:pt x="7" y="45"/>
                  </a:lnTo>
                  <a:lnTo>
                    <a:pt x="4" y="73"/>
                  </a:lnTo>
                  <a:lnTo>
                    <a:pt x="4" y="96"/>
                  </a:lnTo>
                  <a:lnTo>
                    <a:pt x="21" y="96"/>
                  </a:lnTo>
                  <a:lnTo>
                    <a:pt x="7" y="102"/>
                  </a:lnTo>
                  <a:lnTo>
                    <a:pt x="4" y="113"/>
                  </a:lnTo>
                  <a:lnTo>
                    <a:pt x="0" y="141"/>
                  </a:lnTo>
                  <a:lnTo>
                    <a:pt x="10" y="160"/>
                  </a:lnTo>
                  <a:lnTo>
                    <a:pt x="24" y="170"/>
                  </a:lnTo>
                  <a:lnTo>
                    <a:pt x="21" y="194"/>
                  </a:lnTo>
                  <a:lnTo>
                    <a:pt x="32" y="198"/>
                  </a:lnTo>
                  <a:lnTo>
                    <a:pt x="46" y="211"/>
                  </a:lnTo>
                  <a:lnTo>
                    <a:pt x="69" y="211"/>
                  </a:lnTo>
                  <a:lnTo>
                    <a:pt x="73" y="198"/>
                  </a:lnTo>
                  <a:lnTo>
                    <a:pt x="85" y="194"/>
                  </a:lnTo>
                  <a:lnTo>
                    <a:pt x="91" y="198"/>
                  </a:lnTo>
                  <a:lnTo>
                    <a:pt x="105" y="205"/>
                  </a:lnTo>
                  <a:lnTo>
                    <a:pt x="117" y="211"/>
                  </a:lnTo>
                  <a:lnTo>
                    <a:pt x="112" y="194"/>
                  </a:lnTo>
                  <a:lnTo>
                    <a:pt x="105" y="170"/>
                  </a:lnTo>
                  <a:lnTo>
                    <a:pt x="91" y="170"/>
                  </a:lnTo>
                  <a:lnTo>
                    <a:pt x="89" y="147"/>
                  </a:lnTo>
                  <a:lnTo>
                    <a:pt x="69" y="160"/>
                  </a:lnTo>
                  <a:lnTo>
                    <a:pt x="64" y="137"/>
                  </a:lnTo>
                  <a:lnTo>
                    <a:pt x="46" y="137"/>
                  </a:lnTo>
                  <a:lnTo>
                    <a:pt x="39" y="113"/>
                  </a:lnTo>
                  <a:lnTo>
                    <a:pt x="53" y="113"/>
                  </a:lnTo>
                  <a:lnTo>
                    <a:pt x="36" y="91"/>
                  </a:lnTo>
                  <a:lnTo>
                    <a:pt x="50" y="86"/>
                  </a:lnTo>
                  <a:lnTo>
                    <a:pt x="60" y="78"/>
                  </a:lnTo>
                  <a:lnTo>
                    <a:pt x="82" y="73"/>
                  </a:lnTo>
                  <a:lnTo>
                    <a:pt x="89" y="73"/>
                  </a:lnTo>
                  <a:lnTo>
                    <a:pt x="85" y="86"/>
                  </a:lnTo>
                  <a:lnTo>
                    <a:pt x="102" y="102"/>
                  </a:lnTo>
                  <a:lnTo>
                    <a:pt x="102" y="73"/>
                  </a:lnTo>
                  <a:lnTo>
                    <a:pt x="89" y="51"/>
                  </a:lnTo>
                  <a:lnTo>
                    <a:pt x="69" y="51"/>
                  </a:lnTo>
                  <a:lnTo>
                    <a:pt x="64" y="23"/>
                  </a:lnTo>
                  <a:lnTo>
                    <a:pt x="43" y="45"/>
                  </a:lnTo>
                  <a:lnTo>
                    <a:pt x="21" y="37"/>
                  </a:lnTo>
                  <a:lnTo>
                    <a:pt x="21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1120" y="4937760"/>
              <a:ext cx="221040" cy="22608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11" y="3"/>
                  </a:moveTo>
                  <a:lnTo>
                    <a:pt x="25" y="12"/>
                  </a:lnTo>
                  <a:lnTo>
                    <a:pt x="43" y="15"/>
                  </a:lnTo>
                  <a:lnTo>
                    <a:pt x="52" y="13"/>
                  </a:lnTo>
                  <a:lnTo>
                    <a:pt x="64" y="5"/>
                  </a:lnTo>
                  <a:lnTo>
                    <a:pt x="70" y="7"/>
                  </a:lnTo>
                  <a:lnTo>
                    <a:pt x="66" y="28"/>
                  </a:lnTo>
                  <a:lnTo>
                    <a:pt x="64" y="45"/>
                  </a:lnTo>
                  <a:lnTo>
                    <a:pt x="62" y="69"/>
                  </a:lnTo>
                  <a:lnTo>
                    <a:pt x="64" y="88"/>
                  </a:lnTo>
                  <a:lnTo>
                    <a:pt x="52" y="80"/>
                  </a:lnTo>
                  <a:lnTo>
                    <a:pt x="39" y="76"/>
                  </a:lnTo>
                  <a:lnTo>
                    <a:pt x="25" y="76"/>
                  </a:lnTo>
                  <a:lnTo>
                    <a:pt x="8" y="80"/>
                  </a:lnTo>
                  <a:lnTo>
                    <a:pt x="0" y="91"/>
                  </a:lnTo>
                  <a:lnTo>
                    <a:pt x="1" y="82"/>
                  </a:lnTo>
                  <a:lnTo>
                    <a:pt x="7" y="51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920960" y="5211720"/>
              <a:ext cx="343440" cy="25524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99" y="27"/>
                  </a:moveTo>
                  <a:lnTo>
                    <a:pt x="109" y="45"/>
                  </a:lnTo>
                  <a:lnTo>
                    <a:pt x="103" y="73"/>
                  </a:lnTo>
                  <a:lnTo>
                    <a:pt x="83" y="92"/>
                  </a:lnTo>
                  <a:lnTo>
                    <a:pt x="60" y="102"/>
                  </a:lnTo>
                  <a:lnTo>
                    <a:pt x="43" y="102"/>
                  </a:lnTo>
                  <a:lnTo>
                    <a:pt x="14" y="102"/>
                  </a:lnTo>
                  <a:lnTo>
                    <a:pt x="4" y="96"/>
                  </a:lnTo>
                  <a:lnTo>
                    <a:pt x="0" y="92"/>
                  </a:lnTo>
                  <a:lnTo>
                    <a:pt x="4" y="79"/>
                  </a:lnTo>
                  <a:lnTo>
                    <a:pt x="11" y="73"/>
                  </a:lnTo>
                  <a:lnTo>
                    <a:pt x="28" y="73"/>
                  </a:lnTo>
                  <a:lnTo>
                    <a:pt x="43" y="79"/>
                  </a:lnTo>
                  <a:lnTo>
                    <a:pt x="67" y="68"/>
                  </a:lnTo>
                  <a:lnTo>
                    <a:pt x="83" y="62"/>
                  </a:lnTo>
                  <a:lnTo>
                    <a:pt x="96" y="45"/>
                  </a:lnTo>
                  <a:lnTo>
                    <a:pt x="87" y="27"/>
                  </a:lnTo>
                  <a:lnTo>
                    <a:pt x="78" y="10"/>
                  </a:lnTo>
                  <a:lnTo>
                    <a:pt x="57" y="4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9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20480" y="4078080"/>
              <a:ext cx="439560" cy="801000"/>
            </a:xfrm>
            <a:custGeom>
              <a:avLst/>
              <a:gdLst/>
              <a:ahLst/>
              <a:rect l="l" t="t" r="r" b="b"/>
              <a:pathLst>
                <a:path w="139" h="321">
                  <a:moveTo>
                    <a:pt x="139" y="0"/>
                  </a:moveTo>
                  <a:lnTo>
                    <a:pt x="139" y="33"/>
                  </a:lnTo>
                  <a:lnTo>
                    <a:pt x="137" y="58"/>
                  </a:lnTo>
                  <a:lnTo>
                    <a:pt x="134" y="68"/>
                  </a:lnTo>
                  <a:lnTo>
                    <a:pt x="120" y="97"/>
                  </a:lnTo>
                  <a:lnTo>
                    <a:pt x="116" y="115"/>
                  </a:lnTo>
                  <a:lnTo>
                    <a:pt x="123" y="143"/>
                  </a:lnTo>
                  <a:lnTo>
                    <a:pt x="120" y="178"/>
                  </a:lnTo>
                  <a:lnTo>
                    <a:pt x="116" y="201"/>
                  </a:lnTo>
                  <a:lnTo>
                    <a:pt x="123" y="224"/>
                  </a:lnTo>
                  <a:lnTo>
                    <a:pt x="127" y="246"/>
                  </a:lnTo>
                  <a:lnTo>
                    <a:pt x="130" y="258"/>
                  </a:lnTo>
                  <a:lnTo>
                    <a:pt x="130" y="274"/>
                  </a:lnTo>
                  <a:lnTo>
                    <a:pt x="123" y="287"/>
                  </a:lnTo>
                  <a:lnTo>
                    <a:pt x="113" y="303"/>
                  </a:lnTo>
                  <a:lnTo>
                    <a:pt x="98" y="297"/>
                  </a:lnTo>
                  <a:lnTo>
                    <a:pt x="81" y="293"/>
                  </a:lnTo>
                  <a:lnTo>
                    <a:pt x="63" y="303"/>
                  </a:lnTo>
                  <a:lnTo>
                    <a:pt x="57" y="311"/>
                  </a:lnTo>
                  <a:lnTo>
                    <a:pt x="45" y="315"/>
                  </a:lnTo>
                  <a:lnTo>
                    <a:pt x="34" y="315"/>
                  </a:lnTo>
                  <a:lnTo>
                    <a:pt x="22" y="321"/>
                  </a:lnTo>
                  <a:lnTo>
                    <a:pt x="7" y="315"/>
                  </a:lnTo>
                  <a:lnTo>
                    <a:pt x="3" y="311"/>
                  </a:lnTo>
                  <a:lnTo>
                    <a:pt x="0" y="297"/>
                  </a:lnTo>
                  <a:lnTo>
                    <a:pt x="0" y="287"/>
                  </a:lnTo>
                  <a:lnTo>
                    <a:pt x="0" y="284"/>
                  </a:lnTo>
                  <a:lnTo>
                    <a:pt x="9" y="292"/>
                  </a:lnTo>
                  <a:lnTo>
                    <a:pt x="32" y="284"/>
                  </a:lnTo>
                  <a:lnTo>
                    <a:pt x="55" y="287"/>
                  </a:lnTo>
                  <a:lnTo>
                    <a:pt x="77" y="276"/>
                  </a:lnTo>
                  <a:lnTo>
                    <a:pt x="98" y="262"/>
                  </a:lnTo>
                  <a:lnTo>
                    <a:pt x="109" y="257"/>
                  </a:lnTo>
                  <a:lnTo>
                    <a:pt x="120" y="246"/>
                  </a:lnTo>
                  <a:lnTo>
                    <a:pt x="94" y="251"/>
                  </a:lnTo>
                  <a:lnTo>
                    <a:pt x="81" y="243"/>
                  </a:lnTo>
                  <a:lnTo>
                    <a:pt x="76" y="230"/>
                  </a:lnTo>
                  <a:lnTo>
                    <a:pt x="91" y="233"/>
                  </a:lnTo>
                  <a:lnTo>
                    <a:pt x="109" y="230"/>
                  </a:lnTo>
                  <a:lnTo>
                    <a:pt x="116" y="224"/>
                  </a:lnTo>
                  <a:lnTo>
                    <a:pt x="101" y="219"/>
                  </a:lnTo>
                  <a:lnTo>
                    <a:pt x="77" y="210"/>
                  </a:lnTo>
                  <a:lnTo>
                    <a:pt x="59" y="191"/>
                  </a:lnTo>
                  <a:lnTo>
                    <a:pt x="84" y="198"/>
                  </a:lnTo>
                  <a:lnTo>
                    <a:pt x="101" y="203"/>
                  </a:lnTo>
                  <a:lnTo>
                    <a:pt x="102" y="192"/>
                  </a:lnTo>
                  <a:lnTo>
                    <a:pt x="94" y="184"/>
                  </a:lnTo>
                  <a:lnTo>
                    <a:pt x="74" y="178"/>
                  </a:lnTo>
                  <a:lnTo>
                    <a:pt x="63" y="170"/>
                  </a:lnTo>
                  <a:lnTo>
                    <a:pt x="87" y="166"/>
                  </a:lnTo>
                  <a:lnTo>
                    <a:pt x="101" y="166"/>
                  </a:lnTo>
                  <a:lnTo>
                    <a:pt x="113" y="160"/>
                  </a:lnTo>
                  <a:lnTo>
                    <a:pt x="109" y="137"/>
                  </a:lnTo>
                  <a:lnTo>
                    <a:pt x="94" y="127"/>
                  </a:lnTo>
                  <a:lnTo>
                    <a:pt x="87" y="115"/>
                  </a:lnTo>
                  <a:lnTo>
                    <a:pt x="101" y="115"/>
                  </a:lnTo>
                  <a:lnTo>
                    <a:pt x="106" y="115"/>
                  </a:lnTo>
                  <a:lnTo>
                    <a:pt x="101" y="109"/>
                  </a:lnTo>
                  <a:lnTo>
                    <a:pt x="94" y="97"/>
                  </a:lnTo>
                  <a:lnTo>
                    <a:pt x="109" y="92"/>
                  </a:lnTo>
                  <a:lnTo>
                    <a:pt x="109" y="74"/>
                  </a:lnTo>
                  <a:lnTo>
                    <a:pt x="101" y="68"/>
                  </a:lnTo>
                  <a:lnTo>
                    <a:pt x="113" y="61"/>
                  </a:lnTo>
                  <a:lnTo>
                    <a:pt x="130" y="41"/>
                  </a:lnTo>
                  <a:lnTo>
                    <a:pt x="130" y="33"/>
                  </a:lnTo>
                  <a:lnTo>
                    <a:pt x="134" y="2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85200" y="3247560"/>
              <a:ext cx="300240" cy="1514880"/>
            </a:xfrm>
            <a:custGeom>
              <a:avLst/>
              <a:gdLst/>
              <a:ahLst/>
              <a:rect l="l" t="t" r="r" b="b"/>
              <a:pathLst>
                <a:path w="95" h="607">
                  <a:moveTo>
                    <a:pt x="45" y="0"/>
                  </a:moveTo>
                  <a:lnTo>
                    <a:pt x="41" y="29"/>
                  </a:lnTo>
                  <a:lnTo>
                    <a:pt x="41" y="45"/>
                  </a:lnTo>
                  <a:lnTo>
                    <a:pt x="43" y="73"/>
                  </a:lnTo>
                  <a:lnTo>
                    <a:pt x="40" y="86"/>
                  </a:lnTo>
                  <a:lnTo>
                    <a:pt x="44" y="114"/>
                  </a:lnTo>
                  <a:lnTo>
                    <a:pt x="36" y="131"/>
                  </a:lnTo>
                  <a:lnTo>
                    <a:pt x="29" y="162"/>
                  </a:lnTo>
                  <a:lnTo>
                    <a:pt x="29" y="190"/>
                  </a:lnTo>
                  <a:lnTo>
                    <a:pt x="36" y="200"/>
                  </a:lnTo>
                  <a:lnTo>
                    <a:pt x="33" y="233"/>
                  </a:lnTo>
                  <a:lnTo>
                    <a:pt x="23" y="264"/>
                  </a:lnTo>
                  <a:lnTo>
                    <a:pt x="29" y="287"/>
                  </a:lnTo>
                  <a:lnTo>
                    <a:pt x="20" y="322"/>
                  </a:lnTo>
                  <a:lnTo>
                    <a:pt x="20" y="356"/>
                  </a:lnTo>
                  <a:lnTo>
                    <a:pt x="18" y="379"/>
                  </a:lnTo>
                  <a:lnTo>
                    <a:pt x="11" y="407"/>
                  </a:lnTo>
                  <a:lnTo>
                    <a:pt x="11" y="411"/>
                  </a:lnTo>
                  <a:lnTo>
                    <a:pt x="7" y="442"/>
                  </a:lnTo>
                  <a:lnTo>
                    <a:pt x="0" y="460"/>
                  </a:lnTo>
                  <a:lnTo>
                    <a:pt x="7" y="470"/>
                  </a:lnTo>
                  <a:lnTo>
                    <a:pt x="14" y="489"/>
                  </a:lnTo>
                  <a:lnTo>
                    <a:pt x="18" y="503"/>
                  </a:lnTo>
                  <a:lnTo>
                    <a:pt x="11" y="521"/>
                  </a:lnTo>
                  <a:lnTo>
                    <a:pt x="7" y="539"/>
                  </a:lnTo>
                  <a:lnTo>
                    <a:pt x="14" y="562"/>
                  </a:lnTo>
                  <a:lnTo>
                    <a:pt x="18" y="585"/>
                  </a:lnTo>
                  <a:lnTo>
                    <a:pt x="7" y="595"/>
                  </a:lnTo>
                  <a:lnTo>
                    <a:pt x="14" y="607"/>
                  </a:lnTo>
                  <a:lnTo>
                    <a:pt x="63" y="591"/>
                  </a:lnTo>
                  <a:lnTo>
                    <a:pt x="81" y="585"/>
                  </a:lnTo>
                  <a:lnTo>
                    <a:pt x="72" y="575"/>
                  </a:lnTo>
                  <a:lnTo>
                    <a:pt x="72" y="568"/>
                  </a:lnTo>
                  <a:lnTo>
                    <a:pt x="56" y="575"/>
                  </a:lnTo>
                  <a:lnTo>
                    <a:pt x="33" y="579"/>
                  </a:lnTo>
                  <a:lnTo>
                    <a:pt x="23" y="566"/>
                  </a:lnTo>
                  <a:lnTo>
                    <a:pt x="20" y="557"/>
                  </a:lnTo>
                  <a:lnTo>
                    <a:pt x="33" y="539"/>
                  </a:lnTo>
                  <a:lnTo>
                    <a:pt x="49" y="544"/>
                  </a:lnTo>
                  <a:lnTo>
                    <a:pt x="56" y="552"/>
                  </a:lnTo>
                  <a:lnTo>
                    <a:pt x="43" y="517"/>
                  </a:lnTo>
                  <a:lnTo>
                    <a:pt x="20" y="489"/>
                  </a:lnTo>
                  <a:lnTo>
                    <a:pt x="14" y="466"/>
                  </a:lnTo>
                  <a:lnTo>
                    <a:pt x="11" y="452"/>
                  </a:lnTo>
                  <a:lnTo>
                    <a:pt x="40" y="466"/>
                  </a:lnTo>
                  <a:lnTo>
                    <a:pt x="63" y="470"/>
                  </a:lnTo>
                  <a:lnTo>
                    <a:pt x="49" y="452"/>
                  </a:lnTo>
                  <a:lnTo>
                    <a:pt x="29" y="430"/>
                  </a:lnTo>
                  <a:lnTo>
                    <a:pt x="18" y="401"/>
                  </a:lnTo>
                  <a:lnTo>
                    <a:pt x="33" y="394"/>
                  </a:lnTo>
                  <a:lnTo>
                    <a:pt x="49" y="394"/>
                  </a:lnTo>
                  <a:lnTo>
                    <a:pt x="63" y="391"/>
                  </a:lnTo>
                  <a:lnTo>
                    <a:pt x="56" y="384"/>
                  </a:lnTo>
                  <a:lnTo>
                    <a:pt x="43" y="374"/>
                  </a:lnTo>
                  <a:lnTo>
                    <a:pt x="43" y="350"/>
                  </a:lnTo>
                  <a:lnTo>
                    <a:pt x="43" y="333"/>
                  </a:lnTo>
                  <a:lnTo>
                    <a:pt x="45" y="305"/>
                  </a:lnTo>
                  <a:lnTo>
                    <a:pt x="45" y="292"/>
                  </a:lnTo>
                  <a:lnTo>
                    <a:pt x="49" y="282"/>
                  </a:lnTo>
                  <a:lnTo>
                    <a:pt x="45" y="274"/>
                  </a:lnTo>
                  <a:lnTo>
                    <a:pt x="43" y="258"/>
                  </a:lnTo>
                  <a:lnTo>
                    <a:pt x="49" y="260"/>
                  </a:lnTo>
                  <a:lnTo>
                    <a:pt x="72" y="255"/>
                  </a:lnTo>
                  <a:lnTo>
                    <a:pt x="92" y="245"/>
                  </a:lnTo>
                  <a:lnTo>
                    <a:pt x="63" y="242"/>
                  </a:lnTo>
                  <a:lnTo>
                    <a:pt x="49" y="241"/>
                  </a:lnTo>
                  <a:lnTo>
                    <a:pt x="44" y="233"/>
                  </a:lnTo>
                  <a:lnTo>
                    <a:pt x="43" y="229"/>
                  </a:lnTo>
                  <a:lnTo>
                    <a:pt x="49" y="232"/>
                  </a:lnTo>
                  <a:lnTo>
                    <a:pt x="68" y="232"/>
                  </a:lnTo>
                  <a:lnTo>
                    <a:pt x="78" y="226"/>
                  </a:lnTo>
                  <a:lnTo>
                    <a:pt x="52" y="223"/>
                  </a:lnTo>
                  <a:lnTo>
                    <a:pt x="45" y="213"/>
                  </a:lnTo>
                  <a:lnTo>
                    <a:pt x="43" y="206"/>
                  </a:lnTo>
                  <a:lnTo>
                    <a:pt x="58" y="209"/>
                  </a:lnTo>
                  <a:lnTo>
                    <a:pt x="72" y="206"/>
                  </a:lnTo>
                  <a:lnTo>
                    <a:pt x="95" y="195"/>
                  </a:lnTo>
                  <a:lnTo>
                    <a:pt x="63" y="191"/>
                  </a:lnTo>
                  <a:lnTo>
                    <a:pt x="58" y="185"/>
                  </a:lnTo>
                  <a:lnTo>
                    <a:pt x="68" y="176"/>
                  </a:lnTo>
                  <a:lnTo>
                    <a:pt x="58" y="172"/>
                  </a:lnTo>
                  <a:lnTo>
                    <a:pt x="52" y="12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22720" y="4848120"/>
              <a:ext cx="320760" cy="532800"/>
            </a:xfrm>
            <a:custGeom>
              <a:avLst/>
              <a:gdLst/>
              <a:ahLst/>
              <a:rect l="l" t="t" r="r" b="b"/>
              <a:pathLst>
                <a:path w="102" h="214">
                  <a:moveTo>
                    <a:pt x="66" y="3"/>
                  </a:moveTo>
                  <a:lnTo>
                    <a:pt x="77" y="7"/>
                  </a:lnTo>
                  <a:lnTo>
                    <a:pt x="77" y="8"/>
                  </a:lnTo>
                  <a:lnTo>
                    <a:pt x="81" y="30"/>
                  </a:lnTo>
                  <a:lnTo>
                    <a:pt x="77" y="58"/>
                  </a:lnTo>
                  <a:lnTo>
                    <a:pt x="77" y="76"/>
                  </a:lnTo>
                  <a:lnTo>
                    <a:pt x="81" y="99"/>
                  </a:lnTo>
                  <a:lnTo>
                    <a:pt x="81" y="116"/>
                  </a:lnTo>
                  <a:lnTo>
                    <a:pt x="88" y="133"/>
                  </a:lnTo>
                  <a:lnTo>
                    <a:pt x="95" y="146"/>
                  </a:lnTo>
                  <a:lnTo>
                    <a:pt x="98" y="168"/>
                  </a:lnTo>
                  <a:lnTo>
                    <a:pt x="102" y="191"/>
                  </a:lnTo>
                  <a:lnTo>
                    <a:pt x="91" y="197"/>
                  </a:lnTo>
                  <a:lnTo>
                    <a:pt x="66" y="201"/>
                  </a:lnTo>
                  <a:lnTo>
                    <a:pt x="38" y="208"/>
                  </a:lnTo>
                  <a:lnTo>
                    <a:pt x="16" y="214"/>
                  </a:lnTo>
                  <a:lnTo>
                    <a:pt x="0" y="214"/>
                  </a:lnTo>
                  <a:lnTo>
                    <a:pt x="16" y="201"/>
                  </a:lnTo>
                  <a:lnTo>
                    <a:pt x="35" y="191"/>
                  </a:lnTo>
                  <a:lnTo>
                    <a:pt x="16" y="184"/>
                  </a:lnTo>
                  <a:lnTo>
                    <a:pt x="35" y="173"/>
                  </a:lnTo>
                  <a:lnTo>
                    <a:pt x="25" y="168"/>
                  </a:lnTo>
                  <a:lnTo>
                    <a:pt x="42" y="150"/>
                  </a:lnTo>
                  <a:lnTo>
                    <a:pt x="35" y="146"/>
                  </a:lnTo>
                  <a:lnTo>
                    <a:pt x="42" y="140"/>
                  </a:lnTo>
                  <a:lnTo>
                    <a:pt x="59" y="128"/>
                  </a:lnTo>
                  <a:lnTo>
                    <a:pt x="49" y="122"/>
                  </a:lnTo>
                  <a:lnTo>
                    <a:pt x="55" y="112"/>
                  </a:lnTo>
                  <a:lnTo>
                    <a:pt x="62" y="99"/>
                  </a:lnTo>
                  <a:lnTo>
                    <a:pt x="69" y="95"/>
                  </a:lnTo>
                  <a:lnTo>
                    <a:pt x="74" y="76"/>
                  </a:lnTo>
                  <a:lnTo>
                    <a:pt x="62" y="64"/>
                  </a:lnTo>
                  <a:lnTo>
                    <a:pt x="45" y="71"/>
                  </a:lnTo>
                  <a:lnTo>
                    <a:pt x="52" y="54"/>
                  </a:lnTo>
                  <a:lnTo>
                    <a:pt x="66" y="48"/>
                  </a:lnTo>
                  <a:lnTo>
                    <a:pt x="62" y="26"/>
                  </a:lnTo>
                  <a:lnTo>
                    <a:pt x="59" y="8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422720" y="4879440"/>
              <a:ext cx="97560" cy="248040"/>
            </a:xfrm>
            <a:custGeom>
              <a:avLst/>
              <a:gdLst/>
              <a:ahLst/>
              <a:rect l="l" t="t" r="r" b="b"/>
              <a:pathLst>
                <a:path w="31" h="99">
                  <a:moveTo>
                    <a:pt x="0" y="10"/>
                  </a:moveTo>
                  <a:lnTo>
                    <a:pt x="6" y="28"/>
                  </a:lnTo>
                  <a:lnTo>
                    <a:pt x="9" y="45"/>
                  </a:lnTo>
                  <a:lnTo>
                    <a:pt x="9" y="68"/>
                  </a:lnTo>
                  <a:lnTo>
                    <a:pt x="13" y="92"/>
                  </a:lnTo>
                  <a:lnTo>
                    <a:pt x="13" y="99"/>
                  </a:lnTo>
                  <a:lnTo>
                    <a:pt x="25" y="92"/>
                  </a:lnTo>
                  <a:lnTo>
                    <a:pt x="16" y="86"/>
                  </a:lnTo>
                  <a:lnTo>
                    <a:pt x="16" y="82"/>
                  </a:lnTo>
                  <a:lnTo>
                    <a:pt x="29" y="68"/>
                  </a:lnTo>
                  <a:lnTo>
                    <a:pt x="25" y="63"/>
                  </a:lnTo>
                  <a:lnTo>
                    <a:pt x="25" y="51"/>
                  </a:lnTo>
                  <a:lnTo>
                    <a:pt x="16" y="45"/>
                  </a:lnTo>
                  <a:lnTo>
                    <a:pt x="31" y="41"/>
                  </a:lnTo>
                  <a:lnTo>
                    <a:pt x="13" y="28"/>
                  </a:lnTo>
                  <a:lnTo>
                    <a:pt x="25" y="17"/>
                  </a:lnTo>
                  <a:lnTo>
                    <a:pt x="9" y="17"/>
                  </a:lnTo>
                  <a:lnTo>
                    <a:pt x="25" y="0"/>
                  </a:lnTo>
                  <a:lnTo>
                    <a:pt x="9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30400" y="5151240"/>
              <a:ext cx="613080" cy="289800"/>
            </a:xfrm>
            <a:custGeom>
              <a:avLst/>
              <a:gdLst/>
              <a:ahLst/>
              <a:rect l="l" t="t" r="r" b="b"/>
              <a:pathLst>
                <a:path w="194" h="116">
                  <a:moveTo>
                    <a:pt x="92" y="0"/>
                  </a:moveTo>
                  <a:lnTo>
                    <a:pt x="85" y="11"/>
                  </a:lnTo>
                  <a:lnTo>
                    <a:pt x="78" y="34"/>
                  </a:lnTo>
                  <a:lnTo>
                    <a:pt x="67" y="51"/>
                  </a:lnTo>
                  <a:lnTo>
                    <a:pt x="56" y="59"/>
                  </a:lnTo>
                  <a:lnTo>
                    <a:pt x="46" y="59"/>
                  </a:lnTo>
                  <a:lnTo>
                    <a:pt x="27" y="62"/>
                  </a:lnTo>
                  <a:lnTo>
                    <a:pt x="14" y="62"/>
                  </a:lnTo>
                  <a:lnTo>
                    <a:pt x="3" y="75"/>
                  </a:lnTo>
                  <a:lnTo>
                    <a:pt x="0" y="86"/>
                  </a:lnTo>
                  <a:lnTo>
                    <a:pt x="3" y="97"/>
                  </a:lnTo>
                  <a:lnTo>
                    <a:pt x="24" y="110"/>
                  </a:lnTo>
                  <a:lnTo>
                    <a:pt x="53" y="116"/>
                  </a:lnTo>
                  <a:lnTo>
                    <a:pt x="82" y="116"/>
                  </a:lnTo>
                  <a:lnTo>
                    <a:pt x="101" y="116"/>
                  </a:lnTo>
                  <a:lnTo>
                    <a:pt x="114" y="105"/>
                  </a:lnTo>
                  <a:lnTo>
                    <a:pt x="127" y="107"/>
                  </a:lnTo>
                  <a:lnTo>
                    <a:pt x="147" y="110"/>
                  </a:lnTo>
                  <a:lnTo>
                    <a:pt x="166" y="110"/>
                  </a:lnTo>
                  <a:lnTo>
                    <a:pt x="180" y="103"/>
                  </a:lnTo>
                  <a:lnTo>
                    <a:pt x="194" y="103"/>
                  </a:lnTo>
                  <a:lnTo>
                    <a:pt x="190" y="82"/>
                  </a:lnTo>
                  <a:lnTo>
                    <a:pt x="183" y="97"/>
                  </a:lnTo>
                  <a:lnTo>
                    <a:pt x="154" y="103"/>
                  </a:lnTo>
                  <a:lnTo>
                    <a:pt x="147" y="103"/>
                  </a:lnTo>
                  <a:lnTo>
                    <a:pt x="147" y="92"/>
                  </a:lnTo>
                  <a:lnTo>
                    <a:pt x="130" y="98"/>
                  </a:lnTo>
                  <a:lnTo>
                    <a:pt x="114" y="98"/>
                  </a:lnTo>
                  <a:lnTo>
                    <a:pt x="89" y="105"/>
                  </a:lnTo>
                  <a:lnTo>
                    <a:pt x="72" y="105"/>
                  </a:lnTo>
                  <a:lnTo>
                    <a:pt x="42" y="103"/>
                  </a:lnTo>
                  <a:lnTo>
                    <a:pt x="20" y="97"/>
                  </a:lnTo>
                  <a:lnTo>
                    <a:pt x="10" y="86"/>
                  </a:lnTo>
                  <a:lnTo>
                    <a:pt x="14" y="79"/>
                  </a:lnTo>
                  <a:lnTo>
                    <a:pt x="32" y="86"/>
                  </a:lnTo>
                  <a:lnTo>
                    <a:pt x="53" y="92"/>
                  </a:lnTo>
                  <a:lnTo>
                    <a:pt x="49" y="79"/>
                  </a:lnTo>
                  <a:lnTo>
                    <a:pt x="32" y="69"/>
                  </a:lnTo>
                  <a:lnTo>
                    <a:pt x="42" y="69"/>
                  </a:lnTo>
                  <a:lnTo>
                    <a:pt x="69" y="62"/>
                  </a:lnTo>
                  <a:lnTo>
                    <a:pt x="67" y="59"/>
                  </a:lnTo>
                  <a:lnTo>
                    <a:pt x="89" y="59"/>
                  </a:lnTo>
                  <a:lnTo>
                    <a:pt x="72" y="51"/>
                  </a:lnTo>
                  <a:lnTo>
                    <a:pt x="92" y="46"/>
                  </a:lnTo>
                  <a:lnTo>
                    <a:pt x="85" y="37"/>
                  </a:lnTo>
                  <a:lnTo>
                    <a:pt x="101" y="34"/>
                  </a:lnTo>
                  <a:lnTo>
                    <a:pt x="89" y="18"/>
                  </a:lnTo>
                  <a:lnTo>
                    <a:pt x="105" y="24"/>
                  </a:lnTo>
                  <a:lnTo>
                    <a:pt x="98" y="6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6400800" y="1523880"/>
            <a:ext cx="1294920" cy="4019400"/>
            <a:chOff x="6400800" y="1523880"/>
            <a:chExt cx="1294920" cy="4019400"/>
          </a:xfrm>
        </p:grpSpPr>
        <p:sp>
          <p:nvSpPr>
            <p:cNvPr id="816" name=""/>
            <p:cNvSpPr/>
            <p:nvPr/>
          </p:nvSpPr>
          <p:spPr>
            <a:xfrm>
              <a:off x="6938640" y="1523880"/>
              <a:ext cx="618840" cy="318600"/>
            </a:xfrm>
            <a:custGeom>
              <a:avLst/>
              <a:gdLst/>
              <a:ahLst/>
              <a:rect l="l" t="t" r="r" b="b"/>
              <a:pathLst>
                <a:path w="181" h="130">
                  <a:moveTo>
                    <a:pt x="154" y="102"/>
                  </a:moveTo>
                  <a:lnTo>
                    <a:pt x="167" y="114"/>
                  </a:lnTo>
                  <a:lnTo>
                    <a:pt x="173" y="124"/>
                  </a:lnTo>
                  <a:lnTo>
                    <a:pt x="162" y="130"/>
                  </a:lnTo>
                  <a:lnTo>
                    <a:pt x="136" y="130"/>
                  </a:lnTo>
                  <a:lnTo>
                    <a:pt x="114" y="124"/>
                  </a:lnTo>
                  <a:lnTo>
                    <a:pt x="100" y="119"/>
                  </a:lnTo>
                  <a:lnTo>
                    <a:pt x="82" y="114"/>
                  </a:lnTo>
                  <a:lnTo>
                    <a:pt x="68" y="106"/>
                  </a:lnTo>
                  <a:lnTo>
                    <a:pt x="46" y="96"/>
                  </a:lnTo>
                  <a:lnTo>
                    <a:pt x="27" y="96"/>
                  </a:lnTo>
                  <a:lnTo>
                    <a:pt x="24" y="79"/>
                  </a:lnTo>
                  <a:lnTo>
                    <a:pt x="0" y="51"/>
                  </a:lnTo>
                  <a:lnTo>
                    <a:pt x="0" y="23"/>
                  </a:lnTo>
                  <a:lnTo>
                    <a:pt x="24" y="10"/>
                  </a:lnTo>
                  <a:lnTo>
                    <a:pt x="46" y="6"/>
                  </a:lnTo>
                  <a:lnTo>
                    <a:pt x="68" y="0"/>
                  </a:lnTo>
                  <a:lnTo>
                    <a:pt x="145" y="0"/>
                  </a:lnTo>
                  <a:lnTo>
                    <a:pt x="167" y="6"/>
                  </a:lnTo>
                  <a:lnTo>
                    <a:pt x="181" y="10"/>
                  </a:lnTo>
                  <a:lnTo>
                    <a:pt x="181" y="41"/>
                  </a:lnTo>
                  <a:lnTo>
                    <a:pt x="173" y="51"/>
                  </a:lnTo>
                  <a:lnTo>
                    <a:pt x="159" y="61"/>
                  </a:lnTo>
                  <a:lnTo>
                    <a:pt x="154" y="102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38640" y="1523880"/>
              <a:ext cx="618840" cy="318600"/>
            </a:xfrm>
            <a:custGeom>
              <a:avLst/>
              <a:gdLst/>
              <a:ahLst/>
              <a:rect l="l" t="t" r="r" b="b"/>
              <a:pathLst>
                <a:path w="181" h="130">
                  <a:moveTo>
                    <a:pt x="154" y="102"/>
                  </a:moveTo>
                  <a:lnTo>
                    <a:pt x="167" y="114"/>
                  </a:lnTo>
                  <a:lnTo>
                    <a:pt x="173" y="124"/>
                  </a:lnTo>
                  <a:lnTo>
                    <a:pt x="162" y="130"/>
                  </a:lnTo>
                  <a:lnTo>
                    <a:pt x="136" y="130"/>
                  </a:lnTo>
                  <a:lnTo>
                    <a:pt x="114" y="124"/>
                  </a:lnTo>
                  <a:lnTo>
                    <a:pt x="100" y="119"/>
                  </a:lnTo>
                  <a:lnTo>
                    <a:pt x="82" y="114"/>
                  </a:lnTo>
                  <a:lnTo>
                    <a:pt x="68" y="106"/>
                  </a:lnTo>
                  <a:lnTo>
                    <a:pt x="46" y="96"/>
                  </a:lnTo>
                  <a:lnTo>
                    <a:pt x="27" y="96"/>
                  </a:lnTo>
                  <a:lnTo>
                    <a:pt x="24" y="79"/>
                  </a:lnTo>
                  <a:lnTo>
                    <a:pt x="0" y="51"/>
                  </a:lnTo>
                  <a:lnTo>
                    <a:pt x="0" y="23"/>
                  </a:lnTo>
                  <a:lnTo>
                    <a:pt x="24" y="10"/>
                  </a:lnTo>
                  <a:lnTo>
                    <a:pt x="46" y="6"/>
                  </a:lnTo>
                  <a:lnTo>
                    <a:pt x="68" y="0"/>
                  </a:lnTo>
                  <a:lnTo>
                    <a:pt x="145" y="0"/>
                  </a:lnTo>
                  <a:lnTo>
                    <a:pt x="167" y="6"/>
                  </a:lnTo>
                  <a:lnTo>
                    <a:pt x="181" y="10"/>
                  </a:lnTo>
                  <a:lnTo>
                    <a:pt x="181" y="41"/>
                  </a:lnTo>
                  <a:lnTo>
                    <a:pt x="173" y="51"/>
                  </a:lnTo>
                  <a:lnTo>
                    <a:pt x="159" y="61"/>
                  </a:lnTo>
                  <a:lnTo>
                    <a:pt x="154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019640" y="1760040"/>
              <a:ext cx="429480" cy="460080"/>
            </a:xfrm>
            <a:custGeom>
              <a:avLst/>
              <a:gdLst/>
              <a:ahLst/>
              <a:rect l="l" t="t" r="r" b="b"/>
              <a:pathLst>
                <a:path w="125" h="188">
                  <a:moveTo>
                    <a:pt x="3" y="0"/>
                  </a:moveTo>
                  <a:lnTo>
                    <a:pt x="8" y="28"/>
                  </a:lnTo>
                  <a:lnTo>
                    <a:pt x="0" y="34"/>
                  </a:lnTo>
                  <a:lnTo>
                    <a:pt x="3" y="75"/>
                  </a:lnTo>
                  <a:lnTo>
                    <a:pt x="22" y="86"/>
                  </a:lnTo>
                  <a:lnTo>
                    <a:pt x="22" y="124"/>
                  </a:lnTo>
                  <a:lnTo>
                    <a:pt x="30" y="137"/>
                  </a:lnTo>
                  <a:lnTo>
                    <a:pt x="48" y="155"/>
                  </a:lnTo>
                  <a:lnTo>
                    <a:pt x="67" y="171"/>
                  </a:lnTo>
                  <a:lnTo>
                    <a:pt x="84" y="188"/>
                  </a:lnTo>
                  <a:lnTo>
                    <a:pt x="98" y="165"/>
                  </a:lnTo>
                  <a:lnTo>
                    <a:pt x="103" y="130"/>
                  </a:lnTo>
                  <a:lnTo>
                    <a:pt x="117" y="120"/>
                  </a:lnTo>
                  <a:lnTo>
                    <a:pt x="125" y="58"/>
                  </a:lnTo>
                  <a:lnTo>
                    <a:pt x="121" y="45"/>
                  </a:lnTo>
                  <a:lnTo>
                    <a:pt x="125" y="34"/>
                  </a:lnTo>
                  <a:lnTo>
                    <a:pt x="112" y="34"/>
                  </a:lnTo>
                  <a:lnTo>
                    <a:pt x="90" y="28"/>
                  </a:lnTo>
                  <a:lnTo>
                    <a:pt x="76" y="23"/>
                  </a:lnTo>
                  <a:lnTo>
                    <a:pt x="58" y="18"/>
                  </a:lnTo>
                  <a:lnTo>
                    <a:pt x="44" y="10"/>
                  </a:lnTo>
                  <a:lnTo>
                    <a:pt x="2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19640" y="1760040"/>
              <a:ext cx="429480" cy="460080"/>
            </a:xfrm>
            <a:custGeom>
              <a:avLst/>
              <a:gdLst/>
              <a:ahLst/>
              <a:rect l="l" t="t" r="r" b="b"/>
              <a:pathLst>
                <a:path w="125" h="188">
                  <a:moveTo>
                    <a:pt x="3" y="0"/>
                  </a:moveTo>
                  <a:lnTo>
                    <a:pt x="8" y="28"/>
                  </a:lnTo>
                  <a:lnTo>
                    <a:pt x="0" y="34"/>
                  </a:lnTo>
                  <a:lnTo>
                    <a:pt x="3" y="75"/>
                  </a:lnTo>
                  <a:lnTo>
                    <a:pt x="22" y="86"/>
                  </a:lnTo>
                  <a:lnTo>
                    <a:pt x="22" y="124"/>
                  </a:lnTo>
                  <a:lnTo>
                    <a:pt x="30" y="137"/>
                  </a:lnTo>
                  <a:lnTo>
                    <a:pt x="48" y="155"/>
                  </a:lnTo>
                  <a:lnTo>
                    <a:pt x="67" y="171"/>
                  </a:lnTo>
                  <a:lnTo>
                    <a:pt x="84" y="188"/>
                  </a:lnTo>
                  <a:lnTo>
                    <a:pt x="98" y="165"/>
                  </a:lnTo>
                  <a:lnTo>
                    <a:pt x="103" y="130"/>
                  </a:lnTo>
                  <a:lnTo>
                    <a:pt x="117" y="120"/>
                  </a:lnTo>
                  <a:lnTo>
                    <a:pt x="125" y="58"/>
                  </a:lnTo>
                  <a:lnTo>
                    <a:pt x="121" y="45"/>
                  </a:lnTo>
                  <a:lnTo>
                    <a:pt x="125" y="34"/>
                  </a:lnTo>
                  <a:lnTo>
                    <a:pt x="112" y="34"/>
                  </a:lnTo>
                  <a:lnTo>
                    <a:pt x="90" y="28"/>
                  </a:lnTo>
                  <a:lnTo>
                    <a:pt x="76" y="23"/>
                  </a:lnTo>
                  <a:lnTo>
                    <a:pt x="58" y="18"/>
                  </a:lnTo>
                  <a:lnTo>
                    <a:pt x="44" y="10"/>
                  </a:lnTo>
                  <a:lnTo>
                    <a:pt x="22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096680" y="2062800"/>
              <a:ext cx="307440" cy="311400"/>
            </a:xfrm>
            <a:custGeom>
              <a:avLst/>
              <a:gdLst/>
              <a:ahLst/>
              <a:rect l="l" t="t" r="r" b="b"/>
              <a:pathLst>
                <a:path w="90" h="127">
                  <a:moveTo>
                    <a:pt x="76" y="41"/>
                  </a:moveTo>
                  <a:lnTo>
                    <a:pt x="90" y="47"/>
                  </a:lnTo>
                  <a:lnTo>
                    <a:pt x="76" y="127"/>
                  </a:lnTo>
                  <a:lnTo>
                    <a:pt x="68" y="110"/>
                  </a:lnTo>
                  <a:lnTo>
                    <a:pt x="76" y="92"/>
                  </a:lnTo>
                  <a:lnTo>
                    <a:pt x="62" y="69"/>
                  </a:lnTo>
                  <a:lnTo>
                    <a:pt x="54" y="86"/>
                  </a:lnTo>
                  <a:lnTo>
                    <a:pt x="62" y="104"/>
                  </a:lnTo>
                  <a:lnTo>
                    <a:pt x="54" y="12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8" y="13"/>
                  </a:lnTo>
                  <a:lnTo>
                    <a:pt x="26" y="31"/>
                  </a:lnTo>
                  <a:lnTo>
                    <a:pt x="45" y="47"/>
                  </a:lnTo>
                  <a:lnTo>
                    <a:pt x="62" y="64"/>
                  </a:lnTo>
                  <a:lnTo>
                    <a:pt x="76" y="41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096680" y="2062800"/>
              <a:ext cx="307440" cy="311400"/>
            </a:xfrm>
            <a:custGeom>
              <a:avLst/>
              <a:gdLst/>
              <a:ahLst/>
              <a:rect l="l" t="t" r="r" b="b"/>
              <a:pathLst>
                <a:path w="90" h="127">
                  <a:moveTo>
                    <a:pt x="76" y="41"/>
                  </a:moveTo>
                  <a:lnTo>
                    <a:pt x="90" y="47"/>
                  </a:lnTo>
                  <a:lnTo>
                    <a:pt x="76" y="127"/>
                  </a:lnTo>
                  <a:lnTo>
                    <a:pt x="68" y="110"/>
                  </a:lnTo>
                  <a:lnTo>
                    <a:pt x="76" y="92"/>
                  </a:lnTo>
                  <a:lnTo>
                    <a:pt x="62" y="69"/>
                  </a:lnTo>
                  <a:lnTo>
                    <a:pt x="54" y="86"/>
                  </a:lnTo>
                  <a:lnTo>
                    <a:pt x="62" y="104"/>
                  </a:lnTo>
                  <a:lnTo>
                    <a:pt x="54" y="12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8" y="13"/>
                  </a:lnTo>
                  <a:lnTo>
                    <a:pt x="26" y="31"/>
                  </a:lnTo>
                  <a:lnTo>
                    <a:pt x="45" y="47"/>
                  </a:lnTo>
                  <a:lnTo>
                    <a:pt x="62" y="64"/>
                  </a:lnTo>
                  <a:lnTo>
                    <a:pt x="76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35800" y="2188440"/>
              <a:ext cx="121680" cy="1123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35"/>
                  </a:moveTo>
                  <a:lnTo>
                    <a:pt x="36" y="4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6" y="24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35800" y="2188440"/>
              <a:ext cx="121680" cy="1123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35"/>
                  </a:moveTo>
                  <a:lnTo>
                    <a:pt x="36" y="4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6" y="24"/>
                  </a:lnTo>
                  <a:lnTo>
                    <a:pt x="36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724080" y="2138040"/>
              <a:ext cx="261720" cy="136080"/>
            </a:xfrm>
            <a:custGeom>
              <a:avLst/>
              <a:gdLst/>
              <a:ahLst/>
              <a:rect l="l" t="t" r="r" b="b"/>
              <a:pathLst>
                <a:path w="77" h="55">
                  <a:moveTo>
                    <a:pt x="73" y="10"/>
                  </a:moveTo>
                  <a:lnTo>
                    <a:pt x="77" y="20"/>
                  </a:lnTo>
                  <a:lnTo>
                    <a:pt x="22" y="55"/>
                  </a:lnTo>
                  <a:lnTo>
                    <a:pt x="8" y="38"/>
                  </a:lnTo>
                  <a:lnTo>
                    <a:pt x="0" y="33"/>
                  </a:lnTo>
                  <a:lnTo>
                    <a:pt x="6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24080" y="2138040"/>
              <a:ext cx="261720" cy="136080"/>
            </a:xfrm>
            <a:custGeom>
              <a:avLst/>
              <a:gdLst/>
              <a:ahLst/>
              <a:rect l="l" t="t" r="r" b="b"/>
              <a:pathLst>
                <a:path w="77" h="55">
                  <a:moveTo>
                    <a:pt x="73" y="10"/>
                  </a:moveTo>
                  <a:lnTo>
                    <a:pt x="77" y="20"/>
                  </a:lnTo>
                  <a:lnTo>
                    <a:pt x="22" y="55"/>
                  </a:lnTo>
                  <a:lnTo>
                    <a:pt x="8" y="38"/>
                  </a:lnTo>
                  <a:lnTo>
                    <a:pt x="0" y="33"/>
                  </a:lnTo>
                  <a:lnTo>
                    <a:pt x="63" y="0"/>
                  </a:lnTo>
                  <a:lnTo>
                    <a:pt x="73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00800" y="2107440"/>
              <a:ext cx="1294920" cy="3435840"/>
            </a:xfrm>
            <a:custGeom>
              <a:avLst/>
              <a:gdLst/>
              <a:ahLst/>
              <a:rect l="l" t="t" r="r" b="b"/>
              <a:pathLst>
                <a:path w="378" h="1403">
                  <a:moveTo>
                    <a:pt x="265" y="340"/>
                  </a:moveTo>
                  <a:lnTo>
                    <a:pt x="262" y="335"/>
                  </a:lnTo>
                  <a:lnTo>
                    <a:pt x="262" y="322"/>
                  </a:lnTo>
                  <a:lnTo>
                    <a:pt x="271" y="322"/>
                  </a:lnTo>
                  <a:lnTo>
                    <a:pt x="271" y="295"/>
                  </a:lnTo>
                  <a:lnTo>
                    <a:pt x="265" y="295"/>
                  </a:lnTo>
                  <a:lnTo>
                    <a:pt x="262" y="289"/>
                  </a:lnTo>
                  <a:lnTo>
                    <a:pt x="262" y="274"/>
                  </a:lnTo>
                  <a:lnTo>
                    <a:pt x="271" y="274"/>
                  </a:lnTo>
                  <a:lnTo>
                    <a:pt x="271" y="239"/>
                  </a:lnTo>
                  <a:lnTo>
                    <a:pt x="262" y="239"/>
                  </a:lnTo>
                  <a:lnTo>
                    <a:pt x="262" y="226"/>
                  </a:lnTo>
                  <a:lnTo>
                    <a:pt x="265" y="222"/>
                  </a:lnTo>
                  <a:lnTo>
                    <a:pt x="271" y="222"/>
                  </a:lnTo>
                  <a:lnTo>
                    <a:pt x="289" y="170"/>
                  </a:lnTo>
                  <a:lnTo>
                    <a:pt x="289" y="153"/>
                  </a:lnTo>
                  <a:lnTo>
                    <a:pt x="330" y="147"/>
                  </a:lnTo>
                  <a:lnTo>
                    <a:pt x="330" y="165"/>
                  </a:lnTo>
                  <a:lnTo>
                    <a:pt x="289" y="170"/>
                  </a:lnTo>
                  <a:lnTo>
                    <a:pt x="271" y="222"/>
                  </a:lnTo>
                  <a:lnTo>
                    <a:pt x="276" y="226"/>
                  </a:lnTo>
                  <a:lnTo>
                    <a:pt x="276" y="233"/>
                  </a:lnTo>
                  <a:lnTo>
                    <a:pt x="271" y="239"/>
                  </a:lnTo>
                  <a:lnTo>
                    <a:pt x="271" y="274"/>
                  </a:lnTo>
                  <a:lnTo>
                    <a:pt x="279" y="284"/>
                  </a:lnTo>
                  <a:lnTo>
                    <a:pt x="271" y="295"/>
                  </a:lnTo>
                  <a:lnTo>
                    <a:pt x="271" y="322"/>
                  </a:lnTo>
                  <a:lnTo>
                    <a:pt x="276" y="322"/>
                  </a:lnTo>
                  <a:lnTo>
                    <a:pt x="276" y="330"/>
                  </a:lnTo>
                  <a:lnTo>
                    <a:pt x="271" y="335"/>
                  </a:lnTo>
                  <a:lnTo>
                    <a:pt x="271" y="370"/>
                  </a:lnTo>
                  <a:lnTo>
                    <a:pt x="276" y="370"/>
                  </a:lnTo>
                  <a:lnTo>
                    <a:pt x="276" y="381"/>
                  </a:lnTo>
                  <a:lnTo>
                    <a:pt x="271" y="387"/>
                  </a:lnTo>
                  <a:lnTo>
                    <a:pt x="316" y="416"/>
                  </a:lnTo>
                  <a:lnTo>
                    <a:pt x="338" y="381"/>
                  </a:lnTo>
                  <a:lnTo>
                    <a:pt x="374" y="192"/>
                  </a:lnTo>
                  <a:lnTo>
                    <a:pt x="360" y="92"/>
                  </a:lnTo>
                  <a:lnTo>
                    <a:pt x="338" y="68"/>
                  </a:lnTo>
                  <a:lnTo>
                    <a:pt x="338" y="79"/>
                  </a:lnTo>
                  <a:lnTo>
                    <a:pt x="302" y="51"/>
                  </a:lnTo>
                  <a:lnTo>
                    <a:pt x="302" y="41"/>
                  </a:lnTo>
                  <a:lnTo>
                    <a:pt x="293" y="29"/>
                  </a:lnTo>
                  <a:lnTo>
                    <a:pt x="279" y="109"/>
                  </a:lnTo>
                  <a:lnTo>
                    <a:pt x="271" y="92"/>
                  </a:lnTo>
                  <a:lnTo>
                    <a:pt x="279" y="74"/>
                  </a:lnTo>
                  <a:lnTo>
                    <a:pt x="265" y="51"/>
                  </a:lnTo>
                  <a:lnTo>
                    <a:pt x="257" y="68"/>
                  </a:lnTo>
                  <a:lnTo>
                    <a:pt x="265" y="86"/>
                  </a:lnTo>
                  <a:lnTo>
                    <a:pt x="257" y="102"/>
                  </a:lnTo>
                  <a:lnTo>
                    <a:pt x="203" y="0"/>
                  </a:lnTo>
                  <a:lnTo>
                    <a:pt x="167" y="23"/>
                  </a:lnTo>
                  <a:lnTo>
                    <a:pt x="171" y="33"/>
                  </a:lnTo>
                  <a:lnTo>
                    <a:pt x="116" y="68"/>
                  </a:lnTo>
                  <a:lnTo>
                    <a:pt x="102" y="51"/>
                  </a:lnTo>
                  <a:lnTo>
                    <a:pt x="86" y="57"/>
                  </a:lnTo>
                  <a:lnTo>
                    <a:pt x="67" y="109"/>
                  </a:lnTo>
                  <a:lnTo>
                    <a:pt x="40" y="143"/>
                  </a:lnTo>
                  <a:lnTo>
                    <a:pt x="0" y="335"/>
                  </a:lnTo>
                  <a:lnTo>
                    <a:pt x="62" y="512"/>
                  </a:lnTo>
                  <a:lnTo>
                    <a:pt x="40" y="652"/>
                  </a:lnTo>
                  <a:lnTo>
                    <a:pt x="59" y="664"/>
                  </a:lnTo>
                  <a:lnTo>
                    <a:pt x="62" y="789"/>
                  </a:lnTo>
                  <a:lnTo>
                    <a:pt x="22" y="1141"/>
                  </a:lnTo>
                  <a:lnTo>
                    <a:pt x="35" y="1324"/>
                  </a:lnTo>
                  <a:lnTo>
                    <a:pt x="35" y="1379"/>
                  </a:lnTo>
                  <a:lnTo>
                    <a:pt x="48" y="1397"/>
                  </a:lnTo>
                  <a:lnTo>
                    <a:pt x="67" y="1403"/>
                  </a:lnTo>
                  <a:lnTo>
                    <a:pt x="89" y="1403"/>
                  </a:lnTo>
                  <a:lnTo>
                    <a:pt x="113" y="1397"/>
                  </a:lnTo>
                  <a:lnTo>
                    <a:pt x="113" y="1369"/>
                  </a:lnTo>
                  <a:lnTo>
                    <a:pt x="108" y="1341"/>
                  </a:lnTo>
                  <a:lnTo>
                    <a:pt x="130" y="1216"/>
                  </a:lnTo>
                  <a:lnTo>
                    <a:pt x="127" y="1165"/>
                  </a:lnTo>
                  <a:lnTo>
                    <a:pt x="194" y="829"/>
                  </a:lnTo>
                  <a:lnTo>
                    <a:pt x="211" y="1232"/>
                  </a:lnTo>
                  <a:lnTo>
                    <a:pt x="211" y="1344"/>
                  </a:lnTo>
                  <a:lnTo>
                    <a:pt x="265" y="1357"/>
                  </a:lnTo>
                  <a:lnTo>
                    <a:pt x="302" y="1379"/>
                  </a:lnTo>
                  <a:lnTo>
                    <a:pt x="360" y="1379"/>
                  </a:lnTo>
                  <a:lnTo>
                    <a:pt x="378" y="1369"/>
                  </a:lnTo>
                  <a:lnTo>
                    <a:pt x="374" y="1352"/>
                  </a:lnTo>
                  <a:lnTo>
                    <a:pt x="360" y="1341"/>
                  </a:lnTo>
                  <a:lnTo>
                    <a:pt x="324" y="1312"/>
                  </a:lnTo>
                  <a:lnTo>
                    <a:pt x="298" y="1227"/>
                  </a:lnTo>
                  <a:lnTo>
                    <a:pt x="306" y="1192"/>
                  </a:lnTo>
                  <a:lnTo>
                    <a:pt x="330" y="670"/>
                  </a:lnTo>
                  <a:lnTo>
                    <a:pt x="344" y="652"/>
                  </a:lnTo>
                  <a:lnTo>
                    <a:pt x="316" y="416"/>
                  </a:lnTo>
                  <a:lnTo>
                    <a:pt x="271" y="387"/>
                  </a:lnTo>
                  <a:lnTo>
                    <a:pt x="265" y="387"/>
                  </a:lnTo>
                  <a:lnTo>
                    <a:pt x="262" y="381"/>
                  </a:lnTo>
                  <a:lnTo>
                    <a:pt x="262" y="370"/>
                  </a:lnTo>
                  <a:lnTo>
                    <a:pt x="271" y="370"/>
                  </a:lnTo>
                  <a:lnTo>
                    <a:pt x="271" y="340"/>
                  </a:lnTo>
                  <a:lnTo>
                    <a:pt x="265" y="340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00800" y="2107440"/>
              <a:ext cx="1294920" cy="3435840"/>
            </a:xfrm>
            <a:custGeom>
              <a:avLst/>
              <a:gdLst/>
              <a:ahLst/>
              <a:rect l="l" t="t" r="r" b="b"/>
              <a:pathLst>
                <a:path w="378" h="1403">
                  <a:moveTo>
                    <a:pt x="265" y="340"/>
                  </a:moveTo>
                  <a:lnTo>
                    <a:pt x="262" y="335"/>
                  </a:lnTo>
                  <a:lnTo>
                    <a:pt x="262" y="322"/>
                  </a:lnTo>
                  <a:lnTo>
                    <a:pt x="271" y="322"/>
                  </a:lnTo>
                  <a:lnTo>
                    <a:pt x="271" y="295"/>
                  </a:lnTo>
                  <a:lnTo>
                    <a:pt x="265" y="295"/>
                  </a:lnTo>
                  <a:lnTo>
                    <a:pt x="262" y="289"/>
                  </a:lnTo>
                  <a:lnTo>
                    <a:pt x="262" y="274"/>
                  </a:lnTo>
                  <a:lnTo>
                    <a:pt x="271" y="274"/>
                  </a:lnTo>
                  <a:lnTo>
                    <a:pt x="271" y="239"/>
                  </a:lnTo>
                  <a:lnTo>
                    <a:pt x="262" y="239"/>
                  </a:lnTo>
                  <a:lnTo>
                    <a:pt x="262" y="226"/>
                  </a:lnTo>
                  <a:lnTo>
                    <a:pt x="265" y="222"/>
                  </a:lnTo>
                  <a:lnTo>
                    <a:pt x="271" y="222"/>
                  </a:lnTo>
                  <a:lnTo>
                    <a:pt x="289" y="170"/>
                  </a:lnTo>
                  <a:lnTo>
                    <a:pt x="289" y="153"/>
                  </a:lnTo>
                  <a:lnTo>
                    <a:pt x="330" y="147"/>
                  </a:lnTo>
                  <a:lnTo>
                    <a:pt x="330" y="165"/>
                  </a:lnTo>
                  <a:lnTo>
                    <a:pt x="289" y="170"/>
                  </a:lnTo>
                  <a:lnTo>
                    <a:pt x="271" y="222"/>
                  </a:lnTo>
                  <a:lnTo>
                    <a:pt x="276" y="226"/>
                  </a:lnTo>
                  <a:lnTo>
                    <a:pt x="276" y="233"/>
                  </a:lnTo>
                  <a:lnTo>
                    <a:pt x="271" y="239"/>
                  </a:lnTo>
                  <a:lnTo>
                    <a:pt x="271" y="274"/>
                  </a:lnTo>
                  <a:lnTo>
                    <a:pt x="279" y="284"/>
                  </a:lnTo>
                  <a:lnTo>
                    <a:pt x="271" y="295"/>
                  </a:lnTo>
                  <a:lnTo>
                    <a:pt x="271" y="322"/>
                  </a:lnTo>
                  <a:lnTo>
                    <a:pt x="276" y="322"/>
                  </a:lnTo>
                  <a:lnTo>
                    <a:pt x="276" y="330"/>
                  </a:lnTo>
                  <a:lnTo>
                    <a:pt x="271" y="335"/>
                  </a:lnTo>
                  <a:lnTo>
                    <a:pt x="271" y="370"/>
                  </a:lnTo>
                  <a:lnTo>
                    <a:pt x="276" y="370"/>
                  </a:lnTo>
                  <a:lnTo>
                    <a:pt x="276" y="381"/>
                  </a:lnTo>
                  <a:lnTo>
                    <a:pt x="271" y="387"/>
                  </a:lnTo>
                  <a:lnTo>
                    <a:pt x="316" y="416"/>
                  </a:lnTo>
                  <a:lnTo>
                    <a:pt x="338" y="381"/>
                  </a:lnTo>
                  <a:lnTo>
                    <a:pt x="374" y="192"/>
                  </a:lnTo>
                  <a:lnTo>
                    <a:pt x="360" y="92"/>
                  </a:lnTo>
                  <a:lnTo>
                    <a:pt x="338" y="68"/>
                  </a:lnTo>
                  <a:lnTo>
                    <a:pt x="338" y="79"/>
                  </a:lnTo>
                  <a:lnTo>
                    <a:pt x="302" y="51"/>
                  </a:lnTo>
                  <a:lnTo>
                    <a:pt x="302" y="41"/>
                  </a:lnTo>
                  <a:lnTo>
                    <a:pt x="293" y="29"/>
                  </a:lnTo>
                  <a:lnTo>
                    <a:pt x="279" y="109"/>
                  </a:lnTo>
                  <a:lnTo>
                    <a:pt x="271" y="92"/>
                  </a:lnTo>
                  <a:lnTo>
                    <a:pt x="279" y="74"/>
                  </a:lnTo>
                  <a:lnTo>
                    <a:pt x="265" y="51"/>
                  </a:lnTo>
                  <a:lnTo>
                    <a:pt x="257" y="68"/>
                  </a:lnTo>
                  <a:lnTo>
                    <a:pt x="265" y="86"/>
                  </a:lnTo>
                  <a:lnTo>
                    <a:pt x="257" y="102"/>
                  </a:lnTo>
                  <a:lnTo>
                    <a:pt x="203" y="0"/>
                  </a:lnTo>
                  <a:lnTo>
                    <a:pt x="167" y="23"/>
                  </a:lnTo>
                  <a:lnTo>
                    <a:pt x="171" y="33"/>
                  </a:lnTo>
                  <a:lnTo>
                    <a:pt x="116" y="68"/>
                  </a:lnTo>
                  <a:lnTo>
                    <a:pt x="102" y="51"/>
                  </a:lnTo>
                  <a:lnTo>
                    <a:pt x="86" y="57"/>
                  </a:lnTo>
                  <a:lnTo>
                    <a:pt x="67" y="109"/>
                  </a:lnTo>
                  <a:lnTo>
                    <a:pt x="40" y="143"/>
                  </a:lnTo>
                  <a:lnTo>
                    <a:pt x="0" y="335"/>
                  </a:lnTo>
                  <a:lnTo>
                    <a:pt x="62" y="512"/>
                  </a:lnTo>
                  <a:lnTo>
                    <a:pt x="40" y="652"/>
                  </a:lnTo>
                  <a:lnTo>
                    <a:pt x="59" y="664"/>
                  </a:lnTo>
                  <a:lnTo>
                    <a:pt x="62" y="789"/>
                  </a:lnTo>
                  <a:lnTo>
                    <a:pt x="22" y="1141"/>
                  </a:lnTo>
                  <a:lnTo>
                    <a:pt x="35" y="1324"/>
                  </a:lnTo>
                  <a:lnTo>
                    <a:pt x="35" y="1379"/>
                  </a:lnTo>
                  <a:lnTo>
                    <a:pt x="48" y="1397"/>
                  </a:lnTo>
                  <a:lnTo>
                    <a:pt x="67" y="1403"/>
                  </a:lnTo>
                  <a:lnTo>
                    <a:pt x="89" y="1403"/>
                  </a:lnTo>
                  <a:lnTo>
                    <a:pt x="113" y="1397"/>
                  </a:lnTo>
                  <a:lnTo>
                    <a:pt x="113" y="1369"/>
                  </a:lnTo>
                  <a:lnTo>
                    <a:pt x="108" y="1341"/>
                  </a:lnTo>
                  <a:lnTo>
                    <a:pt x="130" y="1216"/>
                  </a:lnTo>
                  <a:lnTo>
                    <a:pt x="127" y="1165"/>
                  </a:lnTo>
                  <a:lnTo>
                    <a:pt x="194" y="829"/>
                  </a:lnTo>
                  <a:lnTo>
                    <a:pt x="211" y="1232"/>
                  </a:lnTo>
                  <a:lnTo>
                    <a:pt x="211" y="1344"/>
                  </a:lnTo>
                  <a:lnTo>
                    <a:pt x="265" y="1357"/>
                  </a:lnTo>
                  <a:lnTo>
                    <a:pt x="302" y="1379"/>
                  </a:lnTo>
                  <a:lnTo>
                    <a:pt x="360" y="1379"/>
                  </a:lnTo>
                  <a:lnTo>
                    <a:pt x="378" y="1369"/>
                  </a:lnTo>
                  <a:lnTo>
                    <a:pt x="374" y="1352"/>
                  </a:lnTo>
                  <a:lnTo>
                    <a:pt x="360" y="1341"/>
                  </a:lnTo>
                  <a:lnTo>
                    <a:pt x="324" y="1312"/>
                  </a:lnTo>
                  <a:lnTo>
                    <a:pt x="298" y="1227"/>
                  </a:lnTo>
                  <a:lnTo>
                    <a:pt x="306" y="1192"/>
                  </a:lnTo>
                  <a:lnTo>
                    <a:pt x="330" y="670"/>
                  </a:lnTo>
                  <a:lnTo>
                    <a:pt x="344" y="652"/>
                  </a:lnTo>
                  <a:lnTo>
                    <a:pt x="316" y="416"/>
                  </a:lnTo>
                  <a:lnTo>
                    <a:pt x="271" y="387"/>
                  </a:lnTo>
                  <a:lnTo>
                    <a:pt x="265" y="387"/>
                  </a:lnTo>
                  <a:lnTo>
                    <a:pt x="262" y="381"/>
                  </a:lnTo>
                  <a:lnTo>
                    <a:pt x="262" y="370"/>
                  </a:lnTo>
                  <a:lnTo>
                    <a:pt x="271" y="370"/>
                  </a:lnTo>
                  <a:lnTo>
                    <a:pt x="271" y="340"/>
                  </a:lnTo>
                  <a:lnTo>
                    <a:pt x="265" y="3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97920" y="30139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0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3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97920" y="30139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0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3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97920" y="2895480"/>
              <a:ext cx="46800" cy="450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9" y="0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9" y="13"/>
                  </a:lnTo>
                  <a:lnTo>
                    <a:pt x="9" y="18"/>
                  </a:lnTo>
                  <a:lnTo>
                    <a:pt x="3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97920" y="2895480"/>
              <a:ext cx="46800" cy="450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9" y="0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9" y="13"/>
                  </a:lnTo>
                  <a:lnTo>
                    <a:pt x="9" y="18"/>
                  </a:lnTo>
                  <a:lnTo>
                    <a:pt x="3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97920" y="2777400"/>
              <a:ext cx="58680" cy="518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9" y="0"/>
                  </a:moveTo>
                  <a:lnTo>
                    <a:pt x="17" y="10"/>
                  </a:lnTo>
                  <a:lnTo>
                    <a:pt x="9" y="21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97920" y="2777400"/>
              <a:ext cx="58680" cy="518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9" y="0"/>
                  </a:moveTo>
                  <a:lnTo>
                    <a:pt x="17" y="10"/>
                  </a:lnTo>
                  <a:lnTo>
                    <a:pt x="9" y="21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97920" y="26503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4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0" y="17"/>
                  </a:lnTo>
                  <a:lnTo>
                    <a:pt x="0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97920" y="26503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4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0" y="17"/>
                  </a:lnTo>
                  <a:lnTo>
                    <a:pt x="0" y="4"/>
                  </a:lnTo>
                  <a:lnTo>
                    <a:pt x="3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90800" y="2467800"/>
              <a:ext cx="139680" cy="5508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23"/>
                  </a:moveTo>
                  <a:lnTo>
                    <a:pt x="0" y="6"/>
                  </a:lnTo>
                  <a:lnTo>
                    <a:pt x="41" y="0"/>
                  </a:lnTo>
                  <a:lnTo>
                    <a:pt x="41" y="1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390800" y="2467800"/>
              <a:ext cx="139680" cy="5508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23"/>
                  </a:moveTo>
                  <a:lnTo>
                    <a:pt x="0" y="6"/>
                  </a:lnTo>
                  <a:lnTo>
                    <a:pt x="41" y="0"/>
                  </a:lnTo>
                  <a:lnTo>
                    <a:pt x="41" y="18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030760" y="777960"/>
            <a:ext cx="5098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902444"/>
                </a:solidFill>
                <a:latin typeface="Geometr231 Hv BT"/>
              </a:rPr>
              <a:t>REPORTING T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173320" y="1981080"/>
            <a:ext cx="5351400" cy="35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1. Law enfor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2. Child help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3. Child welf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4. Child Protection 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1449720" y="838080"/>
            <a:ext cx="6233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02444"/>
                </a:solidFill>
                <a:latin typeface="Geometr231 Hv BT"/>
              </a:rPr>
              <a:t>SEXUAL ABUSE VICT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460600" y="1752480"/>
            <a:ext cx="439740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1. Emot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2. Mental difficu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3. Spiritu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4. Physic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5. Soci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568080" y="914400"/>
            <a:ext cx="7995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902444"/>
                </a:solidFill>
                <a:latin typeface="Geometr231 Hv BT"/>
              </a:rPr>
              <a:t>CHURCH AND CHILD WORK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594440" y="1676520"/>
            <a:ext cx="63586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1: The 6-mont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2: Screening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3: Contact 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4: Two-adult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5: The appropriate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6: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7: Accountability, not mer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523880" y="3124080"/>
            <a:ext cx="65534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rimes Against Children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ild Abu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Sexu-39" descr=""/>
          <p:cNvPicPr/>
          <p:nvPr/>
        </p:nvPicPr>
        <p:blipFill>
          <a:blip r:embed="rId2"/>
          <a:stretch/>
        </p:blipFill>
        <p:spPr>
          <a:xfrm>
            <a:off x="2476440" y="762120"/>
            <a:ext cx="4187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344680" y="639720"/>
            <a:ext cx="42498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metr231 Hv BT"/>
              </a:rPr>
              <a:t>SEXUAL AB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4848120"/>
            <a:ext cx="3429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metr231 Hv BT"/>
              </a:rPr>
              <a:t>30% of all little girls are sexually abused before 1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18120" y="4876920"/>
            <a:ext cx="3340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metr231 Hv BT"/>
              </a:rPr>
              <a:t>25% of all little boys are sexually abused before 1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01720" y="2289240"/>
            <a:ext cx="5613120" cy="2892240"/>
            <a:chOff x="1701720" y="2289240"/>
            <a:chExt cx="5613120" cy="2892240"/>
          </a:xfrm>
        </p:grpSpPr>
        <p:sp>
          <p:nvSpPr>
            <p:cNvPr id="116" name=""/>
            <p:cNvSpPr/>
            <p:nvPr/>
          </p:nvSpPr>
          <p:spPr>
            <a:xfrm>
              <a:off x="2316240" y="3192480"/>
              <a:ext cx="4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701720" y="2467080"/>
              <a:ext cx="1289880" cy="1147680"/>
              <a:chOff x="1701720" y="2467080"/>
              <a:chExt cx="1289880" cy="114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1701720" y="2467080"/>
                <a:ext cx="1289880" cy="1147680"/>
              </a:xfrm>
              <a:custGeom>
                <a:avLst/>
                <a:gdLst/>
                <a:ahLst/>
                <a:rect l="l" t="t" r="r" b="b"/>
                <a:pathLst>
                  <a:path w="871" h="723">
                    <a:moveTo>
                      <a:pt x="435" y="0"/>
                    </a:moveTo>
                    <a:lnTo>
                      <a:pt x="458" y="0"/>
                    </a:lnTo>
                    <a:lnTo>
                      <a:pt x="481" y="2"/>
                    </a:lnTo>
                    <a:lnTo>
                      <a:pt x="502" y="5"/>
                    </a:lnTo>
                    <a:lnTo>
                      <a:pt x="525" y="8"/>
                    </a:lnTo>
                    <a:lnTo>
                      <a:pt x="546" y="11"/>
                    </a:lnTo>
                    <a:lnTo>
                      <a:pt x="565" y="16"/>
                    </a:lnTo>
                    <a:lnTo>
                      <a:pt x="586" y="22"/>
                    </a:lnTo>
                    <a:lnTo>
                      <a:pt x="605" y="29"/>
                    </a:lnTo>
                    <a:lnTo>
                      <a:pt x="626" y="37"/>
                    </a:lnTo>
                    <a:lnTo>
                      <a:pt x="643" y="45"/>
                    </a:lnTo>
                    <a:lnTo>
                      <a:pt x="662" y="52"/>
                    </a:lnTo>
                    <a:lnTo>
                      <a:pt x="679" y="62"/>
                    </a:lnTo>
                    <a:lnTo>
                      <a:pt x="696" y="73"/>
                    </a:lnTo>
                    <a:lnTo>
                      <a:pt x="713" y="82"/>
                    </a:lnTo>
                    <a:lnTo>
                      <a:pt x="728" y="95"/>
                    </a:lnTo>
                    <a:lnTo>
                      <a:pt x="743" y="106"/>
                    </a:lnTo>
                    <a:lnTo>
                      <a:pt x="759" y="119"/>
                    </a:lnTo>
                    <a:lnTo>
                      <a:pt x="772" y="133"/>
                    </a:lnTo>
                    <a:lnTo>
                      <a:pt x="785" y="146"/>
                    </a:lnTo>
                    <a:lnTo>
                      <a:pt x="797" y="160"/>
                    </a:lnTo>
                    <a:lnTo>
                      <a:pt x="808" y="174"/>
                    </a:lnTo>
                    <a:lnTo>
                      <a:pt x="819" y="190"/>
                    </a:lnTo>
                    <a:lnTo>
                      <a:pt x="829" y="206"/>
                    </a:lnTo>
                    <a:lnTo>
                      <a:pt x="836" y="221"/>
                    </a:lnTo>
                    <a:lnTo>
                      <a:pt x="846" y="237"/>
                    </a:lnTo>
                    <a:lnTo>
                      <a:pt x="852" y="254"/>
                    </a:lnTo>
                    <a:lnTo>
                      <a:pt x="857" y="272"/>
                    </a:lnTo>
                    <a:lnTo>
                      <a:pt x="863" y="289"/>
                    </a:lnTo>
                    <a:lnTo>
                      <a:pt x="867" y="307"/>
                    </a:lnTo>
                    <a:lnTo>
                      <a:pt x="869" y="326"/>
                    </a:lnTo>
                    <a:lnTo>
                      <a:pt x="871" y="343"/>
                    </a:lnTo>
                    <a:lnTo>
                      <a:pt x="871" y="362"/>
                    </a:lnTo>
                    <a:lnTo>
                      <a:pt x="871" y="381"/>
                    </a:lnTo>
                    <a:lnTo>
                      <a:pt x="869" y="398"/>
                    </a:lnTo>
                    <a:lnTo>
                      <a:pt x="867" y="417"/>
                    </a:lnTo>
                    <a:lnTo>
                      <a:pt x="863" y="434"/>
                    </a:lnTo>
                    <a:lnTo>
                      <a:pt x="857" y="452"/>
                    </a:lnTo>
                    <a:lnTo>
                      <a:pt x="852" y="469"/>
                    </a:lnTo>
                    <a:lnTo>
                      <a:pt x="846" y="487"/>
                    </a:lnTo>
                    <a:lnTo>
                      <a:pt x="836" y="502"/>
                    </a:lnTo>
                    <a:lnTo>
                      <a:pt x="829" y="518"/>
                    </a:lnTo>
                    <a:lnTo>
                      <a:pt x="819" y="534"/>
                    </a:lnTo>
                    <a:lnTo>
                      <a:pt x="808" y="550"/>
                    </a:lnTo>
                    <a:lnTo>
                      <a:pt x="797" y="564"/>
                    </a:lnTo>
                    <a:lnTo>
                      <a:pt x="785" y="578"/>
                    </a:lnTo>
                    <a:lnTo>
                      <a:pt x="772" y="592"/>
                    </a:lnTo>
                    <a:lnTo>
                      <a:pt x="759" y="605"/>
                    </a:lnTo>
                    <a:lnTo>
                      <a:pt x="743" y="618"/>
                    </a:lnTo>
                    <a:lnTo>
                      <a:pt x="728" y="629"/>
                    </a:lnTo>
                    <a:lnTo>
                      <a:pt x="713" y="641"/>
                    </a:lnTo>
                    <a:lnTo>
                      <a:pt x="696" y="651"/>
                    </a:lnTo>
                    <a:lnTo>
                      <a:pt x="679" y="662"/>
                    </a:lnTo>
                    <a:lnTo>
                      <a:pt x="662" y="671"/>
                    </a:lnTo>
                    <a:lnTo>
                      <a:pt x="643" y="679"/>
                    </a:lnTo>
                    <a:lnTo>
                      <a:pt x="626" y="687"/>
                    </a:lnTo>
                    <a:lnTo>
                      <a:pt x="605" y="695"/>
                    </a:lnTo>
                    <a:lnTo>
                      <a:pt x="586" y="701"/>
                    </a:lnTo>
                    <a:lnTo>
                      <a:pt x="565" y="708"/>
                    </a:lnTo>
                    <a:lnTo>
                      <a:pt x="546" y="712"/>
                    </a:lnTo>
                    <a:lnTo>
                      <a:pt x="525" y="715"/>
                    </a:lnTo>
                    <a:lnTo>
                      <a:pt x="502" y="719"/>
                    </a:lnTo>
                    <a:lnTo>
                      <a:pt x="481" y="722"/>
                    </a:lnTo>
                    <a:lnTo>
                      <a:pt x="458" y="723"/>
                    </a:lnTo>
                    <a:lnTo>
                      <a:pt x="435" y="723"/>
                    </a:lnTo>
                    <a:lnTo>
                      <a:pt x="415" y="723"/>
                    </a:lnTo>
                    <a:lnTo>
                      <a:pt x="392" y="722"/>
                    </a:lnTo>
                    <a:lnTo>
                      <a:pt x="371" y="719"/>
                    </a:lnTo>
                    <a:lnTo>
                      <a:pt x="348" y="715"/>
                    </a:lnTo>
                    <a:lnTo>
                      <a:pt x="327" y="712"/>
                    </a:lnTo>
                    <a:lnTo>
                      <a:pt x="308" y="708"/>
                    </a:lnTo>
                    <a:lnTo>
                      <a:pt x="287" y="701"/>
                    </a:lnTo>
                    <a:lnTo>
                      <a:pt x="266" y="695"/>
                    </a:lnTo>
                    <a:lnTo>
                      <a:pt x="247" y="687"/>
                    </a:lnTo>
                    <a:lnTo>
                      <a:pt x="228" y="679"/>
                    </a:lnTo>
                    <a:lnTo>
                      <a:pt x="211" y="671"/>
                    </a:lnTo>
                    <a:lnTo>
                      <a:pt x="194" y="662"/>
                    </a:lnTo>
                    <a:lnTo>
                      <a:pt x="177" y="651"/>
                    </a:lnTo>
                    <a:lnTo>
                      <a:pt x="160" y="641"/>
                    </a:lnTo>
                    <a:lnTo>
                      <a:pt x="145" y="629"/>
                    </a:lnTo>
                    <a:lnTo>
                      <a:pt x="129" y="618"/>
                    </a:lnTo>
                    <a:lnTo>
                      <a:pt x="114" y="605"/>
                    </a:lnTo>
                    <a:lnTo>
                      <a:pt x="101" y="592"/>
                    </a:lnTo>
                    <a:lnTo>
                      <a:pt x="88" y="578"/>
                    </a:lnTo>
                    <a:lnTo>
                      <a:pt x="76" y="564"/>
                    </a:lnTo>
                    <a:lnTo>
                      <a:pt x="65" y="550"/>
                    </a:lnTo>
                    <a:lnTo>
                      <a:pt x="53" y="534"/>
                    </a:lnTo>
                    <a:lnTo>
                      <a:pt x="44" y="518"/>
                    </a:lnTo>
                    <a:lnTo>
                      <a:pt x="36" y="502"/>
                    </a:lnTo>
                    <a:lnTo>
                      <a:pt x="27" y="487"/>
                    </a:lnTo>
                    <a:lnTo>
                      <a:pt x="21" y="469"/>
                    </a:lnTo>
                    <a:lnTo>
                      <a:pt x="15" y="452"/>
                    </a:lnTo>
                    <a:lnTo>
                      <a:pt x="10" y="434"/>
                    </a:lnTo>
                    <a:lnTo>
                      <a:pt x="6" y="417"/>
                    </a:lnTo>
                    <a:lnTo>
                      <a:pt x="4" y="398"/>
                    </a:lnTo>
                    <a:lnTo>
                      <a:pt x="2" y="381"/>
                    </a:lnTo>
                    <a:lnTo>
                      <a:pt x="0" y="362"/>
                    </a:lnTo>
                    <a:lnTo>
                      <a:pt x="2" y="343"/>
                    </a:lnTo>
                    <a:lnTo>
                      <a:pt x="4" y="326"/>
                    </a:lnTo>
                    <a:lnTo>
                      <a:pt x="6" y="307"/>
                    </a:lnTo>
                    <a:lnTo>
                      <a:pt x="10" y="289"/>
                    </a:lnTo>
                    <a:lnTo>
                      <a:pt x="15" y="272"/>
                    </a:lnTo>
                    <a:lnTo>
                      <a:pt x="21" y="254"/>
                    </a:lnTo>
                    <a:lnTo>
                      <a:pt x="27" y="237"/>
                    </a:lnTo>
                    <a:lnTo>
                      <a:pt x="36" y="221"/>
                    </a:lnTo>
                    <a:lnTo>
                      <a:pt x="44" y="206"/>
                    </a:lnTo>
                    <a:lnTo>
                      <a:pt x="53" y="190"/>
                    </a:lnTo>
                    <a:lnTo>
                      <a:pt x="65" y="174"/>
                    </a:lnTo>
                    <a:lnTo>
                      <a:pt x="76" y="160"/>
                    </a:lnTo>
                    <a:lnTo>
                      <a:pt x="88" y="146"/>
                    </a:lnTo>
                    <a:lnTo>
                      <a:pt x="101" y="133"/>
                    </a:lnTo>
                    <a:lnTo>
                      <a:pt x="114" y="119"/>
                    </a:lnTo>
                    <a:lnTo>
                      <a:pt x="129" y="106"/>
                    </a:lnTo>
                    <a:lnTo>
                      <a:pt x="145" y="95"/>
                    </a:lnTo>
                    <a:lnTo>
                      <a:pt x="160" y="82"/>
                    </a:lnTo>
                    <a:lnTo>
                      <a:pt x="177" y="73"/>
                    </a:lnTo>
                    <a:lnTo>
                      <a:pt x="194" y="62"/>
                    </a:lnTo>
                    <a:lnTo>
                      <a:pt x="211" y="52"/>
                    </a:lnTo>
                    <a:lnTo>
                      <a:pt x="228" y="45"/>
                    </a:lnTo>
                    <a:lnTo>
                      <a:pt x="247" y="37"/>
                    </a:lnTo>
                    <a:lnTo>
                      <a:pt x="266" y="29"/>
                    </a:lnTo>
                    <a:lnTo>
                      <a:pt x="287" y="22"/>
                    </a:lnTo>
                    <a:lnTo>
                      <a:pt x="308" y="16"/>
                    </a:lnTo>
                    <a:lnTo>
                      <a:pt x="327" y="11"/>
                    </a:lnTo>
                    <a:lnTo>
                      <a:pt x="348" y="8"/>
                    </a:lnTo>
                    <a:lnTo>
                      <a:pt x="371" y="5"/>
                    </a:lnTo>
                    <a:lnTo>
                      <a:pt x="392" y="2"/>
                    </a:lnTo>
                    <a:lnTo>
                      <a:pt x="41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51560" y="2878200"/>
                <a:ext cx="59400" cy="5868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40" y="7"/>
                    </a:moveTo>
                    <a:lnTo>
                      <a:pt x="29" y="7"/>
                    </a:lnTo>
                    <a:lnTo>
                      <a:pt x="0" y="29"/>
                    </a:lnTo>
                    <a:lnTo>
                      <a:pt x="10" y="37"/>
                    </a:lnTo>
                    <a:lnTo>
                      <a:pt x="38" y="14"/>
                    </a:lnTo>
                    <a:lnTo>
                      <a:pt x="27" y="13"/>
                    </a:lnTo>
                    <a:lnTo>
                      <a:pt x="40" y="7"/>
                    </a:lnTo>
                    <a:lnTo>
                      <a:pt x="36" y="0"/>
                    </a:lnTo>
                    <a:lnTo>
                      <a:pt x="29" y="7"/>
                    </a:lnTo>
                    <a:lnTo>
                      <a:pt x="4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91520" y="288936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6"/>
                    </a:moveTo>
                    <a:lnTo>
                      <a:pt x="17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1" y="15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08080" y="28987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1"/>
                    </a:moveTo>
                    <a:lnTo>
                      <a:pt x="12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28960" y="289872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7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7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39400" y="2894040"/>
                <a:ext cx="2340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39400" y="2870280"/>
                <a:ext cx="2340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10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16" y="15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26080" y="286560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03760" y="286560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0" y="5"/>
                    </a:moveTo>
                    <a:lnTo>
                      <a:pt x="5" y="11"/>
                    </a:lnTo>
                    <a:lnTo>
                      <a:pt x="15" y="11"/>
                    </a:lnTo>
                    <a:lnTo>
                      <a:pt x="15" y="0"/>
                    </a:lnTo>
                    <a:lnTo>
                      <a:pt x="5" y="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003760" y="2820960"/>
                <a:ext cx="19080" cy="5256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5" y="0"/>
                    </a:moveTo>
                    <a:lnTo>
                      <a:pt x="0" y="5"/>
                    </a:lnTo>
                    <a:lnTo>
                      <a:pt x="0" y="33"/>
                    </a:lnTo>
                    <a:lnTo>
                      <a:pt x="13" y="33"/>
                    </a:lnTo>
                    <a:lnTo>
                      <a:pt x="13" y="5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11320" y="2820960"/>
                <a:ext cx="1152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22840" y="2816280"/>
                <a:ext cx="2808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1" y="0"/>
                    </a:moveTo>
                    <a:lnTo>
                      <a:pt x="9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39400" y="2808360"/>
                <a:ext cx="2340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2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1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39400" y="2790720"/>
                <a:ext cx="2340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8"/>
                    </a:move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31840" y="278280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11"/>
                    </a:moveTo>
                    <a:lnTo>
                      <a:pt x="2" y="11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11320" y="27828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3"/>
                    </a:moveTo>
                    <a:lnTo>
                      <a:pt x="8" y="13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94760" y="2787840"/>
                <a:ext cx="2484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15"/>
                    </a:moveTo>
                    <a:lnTo>
                      <a:pt x="11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7" y="1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9" y="7"/>
                    </a:lnTo>
                    <a:lnTo>
                      <a:pt x="0" y="1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9040" y="2763720"/>
                <a:ext cx="59040" cy="47880"/>
              </a:xfrm>
              <a:custGeom>
                <a:avLst/>
                <a:gdLst/>
                <a:ahLst/>
                <a:rect l="l" t="t" r="r" b="b"/>
                <a:pathLst>
                  <a:path w="40" h="30">
                    <a:moveTo>
                      <a:pt x="4" y="1"/>
                    </a:moveTo>
                    <a:lnTo>
                      <a:pt x="4" y="7"/>
                    </a:lnTo>
                    <a:lnTo>
                      <a:pt x="31" y="30"/>
                    </a:lnTo>
                    <a:lnTo>
                      <a:pt x="40" y="22"/>
                    </a:lnTo>
                    <a:lnTo>
                      <a:pt x="16" y="0"/>
                    </a:lnTo>
                    <a:lnTo>
                      <a:pt x="16" y="7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4" y="7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4800" y="2735280"/>
                <a:ext cx="48960" cy="3960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27" y="0"/>
                    </a:moveTo>
                    <a:lnTo>
                      <a:pt x="23" y="2"/>
                    </a:lnTo>
                    <a:lnTo>
                      <a:pt x="19" y="3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0" y="19"/>
                    </a:lnTo>
                    <a:lnTo>
                      <a:pt x="12" y="25"/>
                    </a:lnTo>
                    <a:lnTo>
                      <a:pt x="14" y="22"/>
                    </a:lnTo>
                    <a:lnTo>
                      <a:pt x="15" y="21"/>
                    </a:lnTo>
                    <a:lnTo>
                      <a:pt x="19" y="19"/>
                    </a:lnTo>
                    <a:lnTo>
                      <a:pt x="21" y="16"/>
                    </a:lnTo>
                    <a:lnTo>
                      <a:pt x="23" y="14"/>
                    </a:lnTo>
                    <a:lnTo>
                      <a:pt x="27" y="13"/>
                    </a:lnTo>
                    <a:lnTo>
                      <a:pt x="29" y="11"/>
                    </a:lnTo>
                    <a:lnTo>
                      <a:pt x="33" y="1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94760" y="2725920"/>
                <a:ext cx="44640" cy="2520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0" y="0"/>
                    </a:moveTo>
                    <a:lnTo>
                      <a:pt x="27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0" y="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1" y="14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1" y="11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39400" y="2725920"/>
                <a:ext cx="64800" cy="3168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44" y="13"/>
                    </a:moveTo>
                    <a:lnTo>
                      <a:pt x="40" y="9"/>
                    </a:lnTo>
                    <a:lnTo>
                      <a:pt x="35" y="8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19" y="2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6" y="13"/>
                    </a:lnTo>
                    <a:lnTo>
                      <a:pt x="19" y="14"/>
                    </a:lnTo>
                    <a:lnTo>
                      <a:pt x="23" y="16"/>
                    </a:lnTo>
                    <a:lnTo>
                      <a:pt x="27" y="17"/>
                    </a:lnTo>
                    <a:lnTo>
                      <a:pt x="31" y="19"/>
                    </a:lnTo>
                    <a:lnTo>
                      <a:pt x="35" y="20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91240" y="2746440"/>
                <a:ext cx="38520" cy="5400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34"/>
                    </a:moveTo>
                    <a:lnTo>
                      <a:pt x="26" y="30"/>
                    </a:lnTo>
                    <a:lnTo>
                      <a:pt x="24" y="25"/>
                    </a:lnTo>
                    <a:lnTo>
                      <a:pt x="24" y="20"/>
                    </a:lnTo>
                    <a:lnTo>
                      <a:pt x="22" y="15"/>
                    </a:lnTo>
                    <a:lnTo>
                      <a:pt x="19" y="11"/>
                    </a:lnTo>
                    <a:lnTo>
                      <a:pt x="17" y="7"/>
                    </a:lnTo>
                    <a:lnTo>
                      <a:pt x="13" y="3"/>
                    </a:lnTo>
                    <a:lnTo>
                      <a:pt x="9" y="0"/>
                    </a:lnTo>
                    <a:lnTo>
                      <a:pt x="0" y="7"/>
                    </a:lnTo>
                    <a:lnTo>
                      <a:pt x="1" y="11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9" y="20"/>
                    </a:lnTo>
                    <a:lnTo>
                      <a:pt x="11" y="23"/>
                    </a:lnTo>
                    <a:lnTo>
                      <a:pt x="11" y="26"/>
                    </a:lnTo>
                    <a:lnTo>
                      <a:pt x="11" y="30"/>
                    </a:lnTo>
                    <a:lnTo>
                      <a:pt x="13" y="34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01680" y="2800440"/>
                <a:ext cx="28080" cy="33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2" y="21"/>
                    </a:moveTo>
                    <a:lnTo>
                      <a:pt x="13" y="19"/>
                    </a:lnTo>
                    <a:lnTo>
                      <a:pt x="15" y="16"/>
                    </a:lnTo>
                    <a:lnTo>
                      <a:pt x="15" y="14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64600" y="2825640"/>
                <a:ext cx="54720" cy="3348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19" y="11"/>
                    </a:move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7" y="16"/>
                    </a:lnTo>
                    <a:lnTo>
                      <a:pt x="29" y="14"/>
                    </a:lnTo>
                    <a:lnTo>
                      <a:pt x="31" y="13"/>
                    </a:lnTo>
                    <a:lnTo>
                      <a:pt x="33" y="10"/>
                    </a:lnTo>
                    <a:lnTo>
                      <a:pt x="35" y="8"/>
                    </a:lnTo>
                    <a:lnTo>
                      <a:pt x="37" y="5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1"/>
                    </a:lnTo>
                    <a:lnTo>
                      <a:pt x="12" y="21"/>
                    </a:lnTo>
                    <a:lnTo>
                      <a:pt x="12" y="11"/>
                    </a:lnTo>
                    <a:lnTo>
                      <a:pt x="0" y="16"/>
                    </a:lnTo>
                    <a:lnTo>
                      <a:pt x="12" y="2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81880" y="2843280"/>
                <a:ext cx="37080" cy="33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5" y="14"/>
                    </a:moveTo>
                    <a:lnTo>
                      <a:pt x="23" y="13"/>
                    </a:lnTo>
                    <a:lnTo>
                      <a:pt x="21" y="10"/>
                    </a:lnTo>
                    <a:lnTo>
                      <a:pt x="19" y="8"/>
                    </a:lnTo>
                    <a:lnTo>
                      <a:pt x="17" y="6"/>
                    </a:lnTo>
                    <a:lnTo>
                      <a:pt x="15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9" y="16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3" y="21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101680" y="2865600"/>
                <a:ext cx="280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22"/>
                    </a:moveTo>
                    <a:lnTo>
                      <a:pt x="19" y="19"/>
                    </a:lnTo>
                    <a:lnTo>
                      <a:pt x="19" y="16"/>
                    </a:lnTo>
                    <a:lnTo>
                      <a:pt x="17" y="13"/>
                    </a:lnTo>
                    <a:lnTo>
                      <a:pt x="17" y="11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6" y="19"/>
                    </a:lnTo>
                    <a:lnTo>
                      <a:pt x="6" y="22"/>
                    </a:ln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88000" y="2900520"/>
                <a:ext cx="41400" cy="55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9" y="35"/>
                    </a:moveTo>
                    <a:lnTo>
                      <a:pt x="15" y="32"/>
                    </a:lnTo>
                    <a:lnTo>
                      <a:pt x="17" y="27"/>
                    </a:lnTo>
                    <a:lnTo>
                      <a:pt x="21" y="24"/>
                    </a:lnTo>
                    <a:lnTo>
                      <a:pt x="22" y="19"/>
                    </a:lnTo>
                    <a:lnTo>
                      <a:pt x="24" y="15"/>
                    </a:lnTo>
                    <a:lnTo>
                      <a:pt x="26" y="10"/>
                    </a:lnTo>
                    <a:lnTo>
                      <a:pt x="28" y="5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13" y="11"/>
                    </a:lnTo>
                    <a:lnTo>
                      <a:pt x="11" y="15"/>
                    </a:lnTo>
                    <a:lnTo>
                      <a:pt x="9" y="18"/>
                    </a:lnTo>
                    <a:lnTo>
                      <a:pt x="7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9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36520" y="294336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0" y="22"/>
                    </a:moveTo>
                    <a:lnTo>
                      <a:pt x="6" y="22"/>
                    </a:lnTo>
                    <a:lnTo>
                      <a:pt x="14" y="21"/>
                    </a:lnTo>
                    <a:lnTo>
                      <a:pt x="19" y="21"/>
                    </a:lnTo>
                    <a:lnTo>
                      <a:pt x="25" y="19"/>
                    </a:lnTo>
                    <a:lnTo>
                      <a:pt x="31" y="16"/>
                    </a:lnTo>
                    <a:lnTo>
                      <a:pt x="35" y="14"/>
                    </a:lnTo>
                    <a:lnTo>
                      <a:pt x="40" y="11"/>
                    </a:lnTo>
                    <a:lnTo>
                      <a:pt x="44" y="8"/>
                    </a:lnTo>
                    <a:lnTo>
                      <a:pt x="35" y="0"/>
                    </a:lnTo>
                    <a:lnTo>
                      <a:pt x="33" y="2"/>
                    </a:lnTo>
                    <a:lnTo>
                      <a:pt x="29" y="5"/>
                    </a:lnTo>
                    <a:lnTo>
                      <a:pt x="23" y="7"/>
                    </a:lnTo>
                    <a:lnTo>
                      <a:pt x="19" y="8"/>
                    </a:lnTo>
                    <a:lnTo>
                      <a:pt x="16" y="10"/>
                    </a:lnTo>
                    <a:lnTo>
                      <a:pt x="10" y="10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86120" y="2951280"/>
                <a:ext cx="50040" cy="2700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9"/>
                    </a:moveTo>
                    <a:lnTo>
                      <a:pt x="4" y="11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7" y="16"/>
                    </a:lnTo>
                    <a:lnTo>
                      <a:pt x="21" y="16"/>
                    </a:lnTo>
                    <a:lnTo>
                      <a:pt x="25" y="17"/>
                    </a:lnTo>
                    <a:lnTo>
                      <a:pt x="31" y="17"/>
                    </a:lnTo>
                    <a:lnTo>
                      <a:pt x="34" y="17"/>
                    </a:lnTo>
                    <a:lnTo>
                      <a:pt x="34" y="6"/>
                    </a:lnTo>
                    <a:lnTo>
                      <a:pt x="31" y="6"/>
                    </a:lnTo>
                    <a:lnTo>
                      <a:pt x="27" y="5"/>
                    </a:lnTo>
                    <a:lnTo>
                      <a:pt x="23" y="5"/>
                    </a:lnTo>
                    <a:lnTo>
                      <a:pt x="19" y="5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47240" y="2924280"/>
                <a:ext cx="50040" cy="41040"/>
              </a:xfrm>
              <a:custGeom>
                <a:avLst/>
                <a:gdLst/>
                <a:ahLst/>
                <a:rect l="l" t="t" r="r" b="b"/>
                <a:pathLst>
                  <a:path w="34" h="26">
                    <a:moveTo>
                      <a:pt x="3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7" y="12"/>
                    </a:lnTo>
                    <a:lnTo>
                      <a:pt x="11" y="15"/>
                    </a:lnTo>
                    <a:lnTo>
                      <a:pt x="13" y="19"/>
                    </a:lnTo>
                    <a:lnTo>
                      <a:pt x="17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6"/>
                    </a:lnTo>
                    <a:lnTo>
                      <a:pt x="34" y="17"/>
                    </a:lnTo>
                    <a:lnTo>
                      <a:pt x="30" y="15"/>
                    </a:lnTo>
                    <a:lnTo>
                      <a:pt x="28" y="14"/>
                    </a:lnTo>
                    <a:lnTo>
                      <a:pt x="26" y="12"/>
                    </a:lnTo>
                    <a:lnTo>
                      <a:pt x="22" y="11"/>
                    </a:lnTo>
                    <a:lnTo>
                      <a:pt x="20" y="8"/>
                    </a:lnTo>
                    <a:lnTo>
                      <a:pt x="19" y="6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3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64400" y="2725920"/>
                <a:ext cx="79920" cy="4428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54" y="22"/>
                    </a:moveTo>
                    <a:lnTo>
                      <a:pt x="48" y="17"/>
                    </a:lnTo>
                    <a:lnTo>
                      <a:pt x="42" y="13"/>
                    </a:lnTo>
                    <a:lnTo>
                      <a:pt x="36" y="8"/>
                    </a:lnTo>
                    <a:lnTo>
                      <a:pt x="31" y="5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14" y="11"/>
                    </a:lnTo>
                    <a:lnTo>
                      <a:pt x="19" y="13"/>
                    </a:lnTo>
                    <a:lnTo>
                      <a:pt x="23" y="16"/>
                    </a:lnTo>
                    <a:lnTo>
                      <a:pt x="29" y="17"/>
                    </a:lnTo>
                    <a:lnTo>
                      <a:pt x="33" y="20"/>
                    </a:lnTo>
                    <a:lnTo>
                      <a:pt x="38" y="25"/>
                    </a:lnTo>
                    <a:lnTo>
                      <a:pt x="42" y="28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26680" y="2760840"/>
                <a:ext cx="45720" cy="90360"/>
              </a:xfrm>
              <a:custGeom>
                <a:avLst/>
                <a:gdLst/>
                <a:ahLst/>
                <a:rect l="l" t="t" r="r" b="b"/>
                <a:pathLst>
                  <a:path w="31" h="57">
                    <a:moveTo>
                      <a:pt x="31" y="57"/>
                    </a:moveTo>
                    <a:lnTo>
                      <a:pt x="31" y="49"/>
                    </a:lnTo>
                    <a:lnTo>
                      <a:pt x="31" y="41"/>
                    </a:lnTo>
                    <a:lnTo>
                      <a:pt x="29" y="33"/>
                    </a:lnTo>
                    <a:lnTo>
                      <a:pt x="27" y="25"/>
                    </a:lnTo>
                    <a:lnTo>
                      <a:pt x="23" y="19"/>
                    </a:lnTo>
                    <a:lnTo>
                      <a:pt x="19" y="13"/>
                    </a:lnTo>
                    <a:lnTo>
                      <a:pt x="15" y="6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4" y="11"/>
                    </a:lnTo>
                    <a:lnTo>
                      <a:pt x="8" y="17"/>
                    </a:lnTo>
                    <a:lnTo>
                      <a:pt x="10" y="22"/>
                    </a:lnTo>
                    <a:lnTo>
                      <a:pt x="13" y="28"/>
                    </a:lnTo>
                    <a:lnTo>
                      <a:pt x="15" y="35"/>
                    </a:lnTo>
                    <a:lnTo>
                      <a:pt x="15" y="43"/>
                    </a:lnTo>
                    <a:lnTo>
                      <a:pt x="17" y="49"/>
                    </a:lnTo>
                    <a:lnTo>
                      <a:pt x="17" y="57"/>
                    </a:lnTo>
                    <a:lnTo>
                      <a:pt x="31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26680" y="2851200"/>
                <a:ext cx="45720" cy="90360"/>
              </a:xfrm>
              <a:custGeom>
                <a:avLst/>
                <a:gdLst/>
                <a:ahLst/>
                <a:rect l="l" t="t" r="r" b="b"/>
                <a:pathLst>
                  <a:path w="31" h="57">
                    <a:moveTo>
                      <a:pt x="12" y="57"/>
                    </a:moveTo>
                    <a:lnTo>
                      <a:pt x="15" y="52"/>
                    </a:lnTo>
                    <a:lnTo>
                      <a:pt x="19" y="46"/>
                    </a:lnTo>
                    <a:lnTo>
                      <a:pt x="23" y="39"/>
                    </a:lnTo>
                    <a:lnTo>
                      <a:pt x="27" y="31"/>
                    </a:lnTo>
                    <a:lnTo>
                      <a:pt x="29" y="25"/>
                    </a:lnTo>
                    <a:lnTo>
                      <a:pt x="31" y="17"/>
                    </a:lnTo>
                    <a:lnTo>
                      <a:pt x="31" y="9"/>
                    </a:lnTo>
                    <a:lnTo>
                      <a:pt x="31" y="0"/>
                    </a:lnTo>
                    <a:lnTo>
                      <a:pt x="17" y="0"/>
                    </a:lnTo>
                    <a:lnTo>
                      <a:pt x="17" y="8"/>
                    </a:lnTo>
                    <a:lnTo>
                      <a:pt x="15" y="16"/>
                    </a:lnTo>
                    <a:lnTo>
                      <a:pt x="15" y="22"/>
                    </a:lnTo>
                    <a:lnTo>
                      <a:pt x="13" y="28"/>
                    </a:lnTo>
                    <a:lnTo>
                      <a:pt x="10" y="35"/>
                    </a:lnTo>
                    <a:lnTo>
                      <a:pt x="8" y="41"/>
                    </a:lnTo>
                    <a:lnTo>
                      <a:pt x="4" y="46"/>
                    </a:lnTo>
                    <a:lnTo>
                      <a:pt x="0" y="50"/>
                    </a:lnTo>
                    <a:lnTo>
                      <a:pt x="12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64400" y="2930400"/>
                <a:ext cx="7992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10" y="30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4"/>
                    </a:lnTo>
                    <a:lnTo>
                      <a:pt x="36" y="21"/>
                    </a:lnTo>
                    <a:lnTo>
                      <a:pt x="42" y="18"/>
                    </a:lnTo>
                    <a:lnTo>
                      <a:pt x="48" y="13"/>
                    </a:lnTo>
                    <a:lnTo>
                      <a:pt x="54" y="7"/>
                    </a:lnTo>
                    <a:lnTo>
                      <a:pt x="42" y="0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29" y="11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4" y="18"/>
                    </a:lnTo>
                    <a:lnTo>
                      <a:pt x="8" y="18"/>
                    </a:lnTo>
                    <a:lnTo>
                      <a:pt x="0" y="1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88800" y="2930400"/>
                <a:ext cx="75240" cy="4788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7"/>
                    </a:moveTo>
                    <a:lnTo>
                      <a:pt x="6" y="13"/>
                    </a:lnTo>
                    <a:lnTo>
                      <a:pt x="11" y="18"/>
                    </a:lnTo>
                    <a:lnTo>
                      <a:pt x="17" y="21"/>
                    </a:lnTo>
                    <a:lnTo>
                      <a:pt x="23" y="24"/>
                    </a:lnTo>
                    <a:lnTo>
                      <a:pt x="30" y="27"/>
                    </a:lnTo>
                    <a:lnTo>
                      <a:pt x="36" y="29"/>
                    </a:lnTo>
                    <a:lnTo>
                      <a:pt x="44" y="30"/>
                    </a:lnTo>
                    <a:lnTo>
                      <a:pt x="51" y="30"/>
                    </a:lnTo>
                    <a:lnTo>
                      <a:pt x="51" y="19"/>
                    </a:lnTo>
                    <a:lnTo>
                      <a:pt x="46" y="18"/>
                    </a:lnTo>
                    <a:lnTo>
                      <a:pt x="40" y="18"/>
                    </a:lnTo>
                    <a:lnTo>
                      <a:pt x="34" y="16"/>
                    </a:lnTo>
                    <a:lnTo>
                      <a:pt x="29" y="15"/>
                    </a:lnTo>
                    <a:lnTo>
                      <a:pt x="25" y="11"/>
                    </a:lnTo>
                    <a:lnTo>
                      <a:pt x="19" y="8"/>
                    </a:lnTo>
                    <a:lnTo>
                      <a:pt x="15" y="5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60720" y="2851200"/>
                <a:ext cx="44280" cy="9036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0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4" y="31"/>
                    </a:lnTo>
                    <a:lnTo>
                      <a:pt x="8" y="39"/>
                    </a:lnTo>
                    <a:lnTo>
                      <a:pt x="11" y="46"/>
                    </a:lnTo>
                    <a:lnTo>
                      <a:pt x="15" y="52"/>
                    </a:lnTo>
                    <a:lnTo>
                      <a:pt x="19" y="57"/>
                    </a:lnTo>
                    <a:lnTo>
                      <a:pt x="30" y="50"/>
                    </a:lnTo>
                    <a:lnTo>
                      <a:pt x="27" y="46"/>
                    </a:lnTo>
                    <a:lnTo>
                      <a:pt x="23" y="41"/>
                    </a:lnTo>
                    <a:lnTo>
                      <a:pt x="21" y="35"/>
                    </a:lnTo>
                    <a:lnTo>
                      <a:pt x="17" y="28"/>
                    </a:lnTo>
                    <a:lnTo>
                      <a:pt x="15" y="22"/>
                    </a:lnTo>
                    <a:lnTo>
                      <a:pt x="15" y="16"/>
                    </a:lnTo>
                    <a:lnTo>
                      <a:pt x="13" y="8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60720" y="2760840"/>
                <a:ext cx="44280" cy="9036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19" y="0"/>
                    </a:moveTo>
                    <a:lnTo>
                      <a:pt x="15" y="6"/>
                    </a:lnTo>
                    <a:lnTo>
                      <a:pt x="11" y="13"/>
                    </a:lnTo>
                    <a:lnTo>
                      <a:pt x="8" y="19"/>
                    </a:lnTo>
                    <a:lnTo>
                      <a:pt x="4" y="25"/>
                    </a:lnTo>
                    <a:lnTo>
                      <a:pt x="2" y="33"/>
                    </a:lnTo>
                    <a:lnTo>
                      <a:pt x="2" y="41"/>
                    </a:lnTo>
                    <a:lnTo>
                      <a:pt x="0" y="49"/>
                    </a:lnTo>
                    <a:lnTo>
                      <a:pt x="0" y="57"/>
                    </a:lnTo>
                    <a:lnTo>
                      <a:pt x="13" y="57"/>
                    </a:lnTo>
                    <a:lnTo>
                      <a:pt x="13" y="49"/>
                    </a:lnTo>
                    <a:lnTo>
                      <a:pt x="15" y="43"/>
                    </a:lnTo>
                    <a:lnTo>
                      <a:pt x="15" y="35"/>
                    </a:lnTo>
                    <a:lnTo>
                      <a:pt x="17" y="28"/>
                    </a:lnTo>
                    <a:lnTo>
                      <a:pt x="21" y="22"/>
                    </a:lnTo>
                    <a:lnTo>
                      <a:pt x="23" y="17"/>
                    </a:lnTo>
                    <a:lnTo>
                      <a:pt x="27" y="11"/>
                    </a:lnTo>
                    <a:lnTo>
                      <a:pt x="30" y="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88800" y="2725920"/>
                <a:ext cx="75240" cy="44280"/>
              </a:xfrm>
              <a:custGeom>
                <a:avLst/>
                <a:gdLst/>
                <a:ahLst/>
                <a:rect l="l" t="t" r="r" b="b"/>
                <a:pathLst>
                  <a:path w="51" h="28">
                    <a:moveTo>
                      <a:pt x="51" y="0"/>
                    </a:moveTo>
                    <a:lnTo>
                      <a:pt x="44" y="0"/>
                    </a:lnTo>
                    <a:lnTo>
                      <a:pt x="36" y="0"/>
                    </a:lnTo>
                    <a:lnTo>
                      <a:pt x="30" y="3"/>
                    </a:lnTo>
                    <a:lnTo>
                      <a:pt x="23" y="5"/>
                    </a:lnTo>
                    <a:lnTo>
                      <a:pt x="17" y="8"/>
                    </a:lnTo>
                    <a:lnTo>
                      <a:pt x="11" y="13"/>
                    </a:lnTo>
                    <a:lnTo>
                      <a:pt x="6" y="17"/>
                    </a:lnTo>
                    <a:lnTo>
                      <a:pt x="0" y="22"/>
                    </a:lnTo>
                    <a:lnTo>
                      <a:pt x="11" y="28"/>
                    </a:lnTo>
                    <a:lnTo>
                      <a:pt x="15" y="25"/>
                    </a:lnTo>
                    <a:lnTo>
                      <a:pt x="21" y="20"/>
                    </a:lnTo>
                    <a:lnTo>
                      <a:pt x="25" y="17"/>
                    </a:lnTo>
                    <a:lnTo>
                      <a:pt x="30" y="16"/>
                    </a:lnTo>
                    <a:lnTo>
                      <a:pt x="34" y="13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51" y="1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36320" y="2786040"/>
                <a:ext cx="280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2" y="17"/>
                    </a:moveTo>
                    <a:lnTo>
                      <a:pt x="14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225880" y="2805120"/>
                <a:ext cx="2808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15" y="29"/>
                    </a:moveTo>
                    <a:lnTo>
                      <a:pt x="15" y="24"/>
                    </a:lnTo>
                    <a:lnTo>
                      <a:pt x="15" y="21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7" y="0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25880" y="2851200"/>
                <a:ext cx="28080" cy="44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24"/>
                    </a:moveTo>
                    <a:lnTo>
                      <a:pt x="19" y="22"/>
                    </a:lnTo>
                    <a:lnTo>
                      <a:pt x="17" y="19"/>
                    </a:lnTo>
                    <a:lnTo>
                      <a:pt x="17" y="16"/>
                    </a:lnTo>
                    <a:lnTo>
                      <a:pt x="15" y="14"/>
                    </a:lnTo>
                    <a:lnTo>
                      <a:pt x="15" y="11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4" y="19"/>
                    </a:lnTo>
                    <a:lnTo>
                      <a:pt x="4" y="22"/>
                    </a:lnTo>
                    <a:lnTo>
                      <a:pt x="5" y="25"/>
                    </a:lnTo>
                    <a:lnTo>
                      <a:pt x="7" y="28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36320" y="2889360"/>
                <a:ext cx="280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6"/>
                    </a:moveTo>
                    <a:lnTo>
                      <a:pt x="17" y="6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5"/>
                    </a:lnTo>
                    <a:lnTo>
                      <a:pt x="14" y="17"/>
                    </a:lnTo>
                    <a:lnTo>
                      <a:pt x="17" y="17"/>
                    </a:lnTo>
                    <a:lnTo>
                      <a:pt x="19" y="18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64400" y="2889360"/>
                <a:ext cx="3060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10" y="0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4" y="17"/>
                    </a:lnTo>
                    <a:lnTo>
                      <a:pt x="8" y="17"/>
                    </a:lnTo>
                    <a:lnTo>
                      <a:pt x="10" y="15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1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79160" y="2851200"/>
                <a:ext cx="28080" cy="44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4" y="0"/>
                    </a:moveTo>
                    <a:lnTo>
                      <a:pt x="4" y="3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1" y="28"/>
                    </a:lnTo>
                    <a:lnTo>
                      <a:pt x="13" y="25"/>
                    </a:lnTo>
                    <a:lnTo>
                      <a:pt x="15" y="22"/>
                    </a:lnTo>
                    <a:lnTo>
                      <a:pt x="15" y="19"/>
                    </a:lnTo>
                    <a:lnTo>
                      <a:pt x="17" y="16"/>
                    </a:lnTo>
                    <a:lnTo>
                      <a:pt x="17" y="12"/>
                    </a:lnTo>
                    <a:lnTo>
                      <a:pt x="17" y="8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79160" y="2805120"/>
                <a:ext cx="2808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0" y="5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3"/>
                    </a:lnTo>
                    <a:lnTo>
                      <a:pt x="4" y="26"/>
                    </a:lnTo>
                    <a:lnTo>
                      <a:pt x="4" y="29"/>
                    </a:lnTo>
                    <a:lnTo>
                      <a:pt x="19" y="29"/>
                    </a:lnTo>
                    <a:lnTo>
                      <a:pt x="19" y="26"/>
                    </a:lnTo>
                    <a:lnTo>
                      <a:pt x="17" y="21"/>
                    </a:lnTo>
                    <a:lnTo>
                      <a:pt x="17" y="18"/>
                    </a:lnTo>
                    <a:lnTo>
                      <a:pt x="17" y="13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3" y="4"/>
                    </a:lnTo>
                    <a:lnTo>
                      <a:pt x="1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64400" y="2786040"/>
                <a:ext cx="3060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21" y="12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625840" y="291780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9" y="0"/>
                    </a:moveTo>
                    <a:lnTo>
                      <a:pt x="7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9" y="15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39160" y="2906640"/>
                <a:ext cx="2772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4" y="0"/>
                    </a:moveTo>
                    <a:lnTo>
                      <a:pt x="4" y="1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10" y="15"/>
                    </a:lnTo>
                    <a:lnTo>
                      <a:pt x="12" y="14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39160" y="2881440"/>
                <a:ext cx="2772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8"/>
                    </a:moveTo>
                    <a:lnTo>
                      <a:pt x="2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25840" y="2870280"/>
                <a:ext cx="30600" cy="2376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0" y="12"/>
                    </a:moveTo>
                    <a:lnTo>
                      <a:pt x="2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21" y="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97400" y="287028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1" y="15"/>
                    </a:moveTo>
                    <a:lnTo>
                      <a:pt x="11" y="13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85880" y="2881440"/>
                <a:ext cx="2808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5" y="16"/>
                    </a:moveTo>
                    <a:lnTo>
                      <a:pt x="15" y="14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9" y="8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585880" y="290664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7"/>
                    </a:moveTo>
                    <a:lnTo>
                      <a:pt x="17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4" y="11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97400" y="291780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4"/>
                    </a:moveTo>
                    <a:lnTo>
                      <a:pt x="17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5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9" y="15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569320" y="2943360"/>
                <a:ext cx="5616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8"/>
                    </a:moveTo>
                    <a:lnTo>
                      <a:pt x="3" y="11"/>
                    </a:lnTo>
                    <a:lnTo>
                      <a:pt x="7" y="14"/>
                    </a:lnTo>
                    <a:lnTo>
                      <a:pt x="13" y="18"/>
                    </a:lnTo>
                    <a:lnTo>
                      <a:pt x="17" y="19"/>
                    </a:lnTo>
                    <a:lnTo>
                      <a:pt x="22" y="21"/>
                    </a:lnTo>
                    <a:lnTo>
                      <a:pt x="28" y="21"/>
                    </a:lnTo>
                    <a:lnTo>
                      <a:pt x="32" y="22"/>
                    </a:lnTo>
                    <a:lnTo>
                      <a:pt x="38" y="22"/>
                    </a:lnTo>
                    <a:lnTo>
                      <a:pt x="38" y="11"/>
                    </a:lnTo>
                    <a:lnTo>
                      <a:pt x="34" y="11"/>
                    </a:lnTo>
                    <a:lnTo>
                      <a:pt x="30" y="10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9" y="7"/>
                    </a:lnTo>
                    <a:lnTo>
                      <a:pt x="17" y="5"/>
                    </a:lnTo>
                    <a:lnTo>
                      <a:pt x="13" y="3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545920" y="29066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4" y="17"/>
                    </a:lnTo>
                    <a:lnTo>
                      <a:pt x="6" y="22"/>
                    </a:lnTo>
                    <a:lnTo>
                      <a:pt x="10" y="25"/>
                    </a:lnTo>
                    <a:lnTo>
                      <a:pt x="12" y="28"/>
                    </a:lnTo>
                    <a:lnTo>
                      <a:pt x="16" y="31"/>
                    </a:lnTo>
                    <a:lnTo>
                      <a:pt x="25" y="23"/>
                    </a:lnTo>
                    <a:lnTo>
                      <a:pt x="23" y="22"/>
                    </a:lnTo>
                    <a:lnTo>
                      <a:pt x="21" y="19"/>
                    </a:lnTo>
                    <a:lnTo>
                      <a:pt x="19" y="15"/>
                    </a:lnTo>
                    <a:lnTo>
                      <a:pt x="18" y="12"/>
                    </a:lnTo>
                    <a:lnTo>
                      <a:pt x="16" y="11"/>
                    </a:lnTo>
                    <a:lnTo>
                      <a:pt x="14" y="6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45920" y="2855880"/>
                <a:ext cx="3672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16" y="0"/>
                    </a:moveTo>
                    <a:lnTo>
                      <a:pt x="12" y="3"/>
                    </a:lnTo>
                    <a:lnTo>
                      <a:pt x="10" y="6"/>
                    </a:lnTo>
                    <a:lnTo>
                      <a:pt x="6" y="9"/>
                    </a:lnTo>
                    <a:lnTo>
                      <a:pt x="4" y="14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4" y="25"/>
                    </a:lnTo>
                    <a:lnTo>
                      <a:pt x="16" y="22"/>
                    </a:lnTo>
                    <a:lnTo>
                      <a:pt x="18" y="19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569320" y="2833560"/>
                <a:ext cx="5616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38" y="0"/>
                    </a:moveTo>
                    <a:lnTo>
                      <a:pt x="34" y="0"/>
                    </a:lnTo>
                    <a:lnTo>
                      <a:pt x="28" y="1"/>
                    </a:lnTo>
                    <a:lnTo>
                      <a:pt x="22" y="1"/>
                    </a:lnTo>
                    <a:lnTo>
                      <a:pt x="17" y="3"/>
                    </a:lnTo>
                    <a:lnTo>
                      <a:pt x="13" y="5"/>
                    </a:lnTo>
                    <a:lnTo>
                      <a:pt x="9" y="8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9" y="22"/>
                    </a:lnTo>
                    <a:lnTo>
                      <a:pt x="13" y="19"/>
                    </a:lnTo>
                    <a:lnTo>
                      <a:pt x="17" y="17"/>
                    </a:lnTo>
                    <a:lnTo>
                      <a:pt x="19" y="16"/>
                    </a:lnTo>
                    <a:lnTo>
                      <a:pt x="22" y="14"/>
                    </a:lnTo>
                    <a:lnTo>
                      <a:pt x="26" y="12"/>
                    </a:lnTo>
                    <a:lnTo>
                      <a:pt x="30" y="12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25840" y="2833560"/>
                <a:ext cx="59040" cy="3492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40" y="14"/>
                    </a:moveTo>
                    <a:lnTo>
                      <a:pt x="34" y="11"/>
                    </a:lnTo>
                    <a:lnTo>
                      <a:pt x="30" y="8"/>
                    </a:lnTo>
                    <a:lnTo>
                      <a:pt x="26" y="6"/>
                    </a:lnTo>
                    <a:lnTo>
                      <a:pt x="21" y="3"/>
                    </a:lnTo>
                    <a:lnTo>
                      <a:pt x="17" y="1"/>
                    </a:lnTo>
                    <a:lnTo>
                      <a:pt x="11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9" y="12"/>
                    </a:lnTo>
                    <a:lnTo>
                      <a:pt x="13" y="12"/>
                    </a:lnTo>
                    <a:lnTo>
                      <a:pt x="17" y="14"/>
                    </a:lnTo>
                    <a:lnTo>
                      <a:pt x="19" y="16"/>
                    </a:lnTo>
                    <a:lnTo>
                      <a:pt x="22" y="17"/>
                    </a:lnTo>
                    <a:lnTo>
                      <a:pt x="26" y="19"/>
                    </a:lnTo>
                    <a:lnTo>
                      <a:pt x="30" y="22"/>
                    </a:lnTo>
                    <a:lnTo>
                      <a:pt x="4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670120" y="2855880"/>
                <a:ext cx="3672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25" y="32"/>
                    </a:moveTo>
                    <a:lnTo>
                      <a:pt x="25" y="27"/>
                    </a:lnTo>
                    <a:lnTo>
                      <a:pt x="25" y="22"/>
                    </a:lnTo>
                    <a:lnTo>
                      <a:pt x="23" y="19"/>
                    </a:lnTo>
                    <a:lnTo>
                      <a:pt x="21" y="14"/>
                    </a:lnTo>
                    <a:lnTo>
                      <a:pt x="19" y="9"/>
                    </a:lnTo>
                    <a:lnTo>
                      <a:pt x="15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6"/>
                    </a:lnTo>
                    <a:lnTo>
                      <a:pt x="8" y="19"/>
                    </a:lnTo>
                    <a:lnTo>
                      <a:pt x="10" y="22"/>
                    </a:lnTo>
                    <a:lnTo>
                      <a:pt x="10" y="25"/>
                    </a:lnTo>
                    <a:lnTo>
                      <a:pt x="11" y="28"/>
                    </a:lnTo>
                    <a:lnTo>
                      <a:pt x="11" y="32"/>
                    </a:lnTo>
                    <a:lnTo>
                      <a:pt x="2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670120" y="29066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0" y="31"/>
                    </a:moveTo>
                    <a:lnTo>
                      <a:pt x="13" y="28"/>
                    </a:lnTo>
                    <a:lnTo>
                      <a:pt x="15" y="25"/>
                    </a:lnTo>
                    <a:lnTo>
                      <a:pt x="19" y="22"/>
                    </a:lnTo>
                    <a:lnTo>
                      <a:pt x="21" y="17"/>
                    </a:lnTo>
                    <a:lnTo>
                      <a:pt x="23" y="12"/>
                    </a:lnTo>
                    <a:lnTo>
                      <a:pt x="25" y="9"/>
                    </a:lnTo>
                    <a:lnTo>
                      <a:pt x="25" y="4"/>
                    </a:lnTo>
                    <a:lnTo>
                      <a:pt x="25" y="0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0" y="6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6" y="15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25840" y="2943360"/>
                <a:ext cx="59040" cy="3492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0" y="22"/>
                    </a:moveTo>
                    <a:lnTo>
                      <a:pt x="5" y="22"/>
                    </a:lnTo>
                    <a:lnTo>
                      <a:pt x="11" y="21"/>
                    </a:lnTo>
                    <a:lnTo>
                      <a:pt x="17" y="21"/>
                    </a:lnTo>
                    <a:lnTo>
                      <a:pt x="21" y="19"/>
                    </a:lnTo>
                    <a:lnTo>
                      <a:pt x="26" y="18"/>
                    </a:lnTo>
                    <a:lnTo>
                      <a:pt x="30" y="14"/>
                    </a:lnTo>
                    <a:lnTo>
                      <a:pt x="36" y="11"/>
                    </a:lnTo>
                    <a:lnTo>
                      <a:pt x="40" y="8"/>
                    </a:lnTo>
                    <a:lnTo>
                      <a:pt x="30" y="0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7" y="8"/>
                    </a:lnTo>
                    <a:lnTo>
                      <a:pt x="13" y="10"/>
                    </a:lnTo>
                    <a:lnTo>
                      <a:pt x="9" y="10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51240" y="281160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7" y="0"/>
                    </a:move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61320" y="2795760"/>
                <a:ext cx="280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6" y="0"/>
                    </a:moveTo>
                    <a:lnTo>
                      <a:pt x="6" y="2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12" y="17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6" y="11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64200" y="2770200"/>
                <a:ext cx="248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0" y="10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51240" y="276084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1"/>
                    </a:move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9" y="6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22800" y="276084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9" y="14"/>
                    </a:moveTo>
                    <a:lnTo>
                      <a:pt x="11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08040" y="2770200"/>
                <a:ext cx="2772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5" y="16"/>
                    </a:moveTo>
                    <a:lnTo>
                      <a:pt x="15" y="15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08040" y="2795760"/>
                <a:ext cx="2772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0"/>
                    </a:moveTo>
                    <a:lnTo>
                      <a:pt x="17" y="8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22800" y="281160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3"/>
                    </a:moveTo>
                    <a:lnTo>
                      <a:pt x="17" y="3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11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9" y="14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91840" y="2835360"/>
                <a:ext cx="59400" cy="33120"/>
              </a:xfrm>
              <a:custGeom>
                <a:avLst/>
                <a:gdLst/>
                <a:ahLst/>
                <a:rect l="l" t="t" r="r" b="b"/>
                <a:pathLst>
                  <a:path w="40" h="21">
                    <a:moveTo>
                      <a:pt x="0" y="8"/>
                    </a:moveTo>
                    <a:lnTo>
                      <a:pt x="4" y="11"/>
                    </a:lnTo>
                    <a:lnTo>
                      <a:pt x="9" y="15"/>
                    </a:lnTo>
                    <a:lnTo>
                      <a:pt x="13" y="16"/>
                    </a:lnTo>
                    <a:lnTo>
                      <a:pt x="19" y="18"/>
                    </a:lnTo>
                    <a:lnTo>
                      <a:pt x="23" y="19"/>
                    </a:lnTo>
                    <a:lnTo>
                      <a:pt x="28" y="21"/>
                    </a:lnTo>
                    <a:lnTo>
                      <a:pt x="34" y="21"/>
                    </a:lnTo>
                    <a:lnTo>
                      <a:pt x="40" y="21"/>
                    </a:lnTo>
                    <a:lnTo>
                      <a:pt x="40" y="10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1" y="7"/>
                    </a:lnTo>
                    <a:lnTo>
                      <a:pt x="17" y="5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69520" y="2798640"/>
                <a:ext cx="35280" cy="4932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0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3" y="17"/>
                    </a:lnTo>
                    <a:lnTo>
                      <a:pt x="5" y="20"/>
                    </a:lnTo>
                    <a:lnTo>
                      <a:pt x="9" y="23"/>
                    </a:lnTo>
                    <a:lnTo>
                      <a:pt x="11" y="28"/>
                    </a:lnTo>
                    <a:lnTo>
                      <a:pt x="15" y="31"/>
                    </a:lnTo>
                    <a:lnTo>
                      <a:pt x="24" y="23"/>
                    </a:lnTo>
                    <a:lnTo>
                      <a:pt x="22" y="20"/>
                    </a:lnTo>
                    <a:lnTo>
                      <a:pt x="21" y="17"/>
                    </a:lnTo>
                    <a:lnTo>
                      <a:pt x="19" y="15"/>
                    </a:lnTo>
                    <a:lnTo>
                      <a:pt x="17" y="12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3" y="3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69520" y="2746440"/>
                <a:ext cx="35280" cy="52200"/>
              </a:xfrm>
              <a:custGeom>
                <a:avLst/>
                <a:gdLst/>
                <a:ahLst/>
                <a:rect l="l" t="t" r="r" b="b"/>
                <a:pathLst>
                  <a:path w="24" h="33">
                    <a:moveTo>
                      <a:pt x="15" y="0"/>
                    </a:moveTo>
                    <a:lnTo>
                      <a:pt x="11" y="3"/>
                    </a:lnTo>
                    <a:lnTo>
                      <a:pt x="9" y="7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2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3" y="33"/>
                    </a:lnTo>
                    <a:lnTo>
                      <a:pt x="13" y="28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7" y="18"/>
                    </a:lnTo>
                    <a:lnTo>
                      <a:pt x="19" y="15"/>
                    </a:lnTo>
                    <a:lnTo>
                      <a:pt x="21" y="14"/>
                    </a:lnTo>
                    <a:lnTo>
                      <a:pt x="22" y="11"/>
                    </a:lnTo>
                    <a:lnTo>
                      <a:pt x="24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91840" y="2725920"/>
                <a:ext cx="59400" cy="3168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40" y="0"/>
                    </a:moveTo>
                    <a:lnTo>
                      <a:pt x="34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3" y="5"/>
                    </a:lnTo>
                    <a:lnTo>
                      <a:pt x="9" y="6"/>
                    </a:lnTo>
                    <a:lnTo>
                      <a:pt x="4" y="9"/>
                    </a:lnTo>
                    <a:lnTo>
                      <a:pt x="0" y="13"/>
                    </a:lnTo>
                    <a:lnTo>
                      <a:pt x="9" y="20"/>
                    </a:lnTo>
                    <a:lnTo>
                      <a:pt x="13" y="19"/>
                    </a:lnTo>
                    <a:lnTo>
                      <a:pt x="17" y="16"/>
                    </a:lnTo>
                    <a:lnTo>
                      <a:pt x="21" y="14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30" y="11"/>
                    </a:lnTo>
                    <a:lnTo>
                      <a:pt x="34" y="11"/>
                    </a:lnTo>
                    <a:lnTo>
                      <a:pt x="40" y="1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51240" y="272592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8" y="13"/>
                    </a:moveTo>
                    <a:lnTo>
                      <a:pt x="34" y="9"/>
                    </a:lnTo>
                    <a:lnTo>
                      <a:pt x="30" y="6"/>
                    </a:lnTo>
                    <a:lnTo>
                      <a:pt x="24" y="5"/>
                    </a:lnTo>
                    <a:lnTo>
                      <a:pt x="21" y="3"/>
                    </a:lnTo>
                    <a:lnTo>
                      <a:pt x="15" y="2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1" y="13"/>
                    </a:lnTo>
                    <a:lnTo>
                      <a:pt x="15" y="13"/>
                    </a:lnTo>
                    <a:lnTo>
                      <a:pt x="19" y="14"/>
                    </a:lnTo>
                    <a:lnTo>
                      <a:pt x="21" y="16"/>
                    </a:lnTo>
                    <a:lnTo>
                      <a:pt x="24" y="19"/>
                    </a:lnTo>
                    <a:lnTo>
                      <a:pt x="28" y="20"/>
                    </a:lnTo>
                    <a:lnTo>
                      <a:pt x="3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92280" y="274644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25" y="33"/>
                    </a:moveTo>
                    <a:lnTo>
                      <a:pt x="25" y="28"/>
                    </a:lnTo>
                    <a:lnTo>
                      <a:pt x="25" y="23"/>
                    </a:lnTo>
                    <a:lnTo>
                      <a:pt x="23" y="18"/>
                    </a:lnTo>
                    <a:lnTo>
                      <a:pt x="21" y="14"/>
                    </a:lnTo>
                    <a:lnTo>
                      <a:pt x="19" y="11"/>
                    </a:lnTo>
                    <a:lnTo>
                      <a:pt x="15" y="7"/>
                    </a:lnTo>
                    <a:lnTo>
                      <a:pt x="14" y="3"/>
                    </a:lnTo>
                    <a:lnTo>
                      <a:pt x="10" y="0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6" y="14"/>
                    </a:lnTo>
                    <a:lnTo>
                      <a:pt x="8" y="15"/>
                    </a:lnTo>
                    <a:lnTo>
                      <a:pt x="8" y="18"/>
                    </a:lnTo>
                    <a:lnTo>
                      <a:pt x="10" y="22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12" y="33"/>
                    </a:lnTo>
                    <a:lnTo>
                      <a:pt x="2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92280" y="27986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0" y="31"/>
                    </a:moveTo>
                    <a:lnTo>
                      <a:pt x="14" y="28"/>
                    </a:lnTo>
                    <a:lnTo>
                      <a:pt x="17" y="23"/>
                    </a:lnTo>
                    <a:lnTo>
                      <a:pt x="19" y="20"/>
                    </a:lnTo>
                    <a:lnTo>
                      <a:pt x="21" y="17"/>
                    </a:lnTo>
                    <a:lnTo>
                      <a:pt x="23" y="12"/>
                    </a:lnTo>
                    <a:lnTo>
                      <a:pt x="25" y="8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2" y="20"/>
                    </a:lnTo>
                    <a:lnTo>
                      <a:pt x="0" y="23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51240" y="2835360"/>
                <a:ext cx="55800" cy="3312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0" y="21"/>
                    </a:moveTo>
                    <a:lnTo>
                      <a:pt x="5" y="21"/>
                    </a:lnTo>
                    <a:lnTo>
                      <a:pt x="9" y="21"/>
                    </a:lnTo>
                    <a:lnTo>
                      <a:pt x="15" y="19"/>
                    </a:lnTo>
                    <a:lnTo>
                      <a:pt x="21" y="18"/>
                    </a:lnTo>
                    <a:lnTo>
                      <a:pt x="24" y="16"/>
                    </a:lnTo>
                    <a:lnTo>
                      <a:pt x="30" y="15"/>
                    </a:lnTo>
                    <a:lnTo>
                      <a:pt x="34" y="11"/>
                    </a:lnTo>
                    <a:lnTo>
                      <a:pt x="38" y="8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1" y="5"/>
                    </a:lnTo>
                    <a:lnTo>
                      <a:pt x="19" y="7"/>
                    </a:lnTo>
                    <a:lnTo>
                      <a:pt x="15" y="8"/>
                    </a:lnTo>
                    <a:lnTo>
                      <a:pt x="11" y="8"/>
                    </a:lnTo>
                    <a:lnTo>
                      <a:pt x="7" y="10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39000" y="2728800"/>
                <a:ext cx="158400" cy="239760"/>
              </a:xfrm>
              <a:custGeom>
                <a:avLst/>
                <a:gdLst/>
                <a:ahLst/>
                <a:rect l="l" t="t" r="r" b="b"/>
                <a:pathLst>
                  <a:path w="107" h="151">
                    <a:moveTo>
                      <a:pt x="101" y="0"/>
                    </a:moveTo>
                    <a:lnTo>
                      <a:pt x="95" y="3"/>
                    </a:lnTo>
                    <a:lnTo>
                      <a:pt x="0" y="146"/>
                    </a:lnTo>
                    <a:lnTo>
                      <a:pt x="12" y="151"/>
                    </a:lnTo>
                    <a:lnTo>
                      <a:pt x="107" y="9"/>
                    </a:lnTo>
                    <a:lnTo>
                      <a:pt x="101" y="11"/>
                    </a:lnTo>
                    <a:lnTo>
                      <a:pt x="101" y="0"/>
                    </a:lnTo>
                    <a:lnTo>
                      <a:pt x="97" y="0"/>
                    </a:lnTo>
                    <a:lnTo>
                      <a:pt x="95" y="3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88760" y="2728800"/>
                <a:ext cx="5580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2" y="9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7" y="11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3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78960" y="2733840"/>
                <a:ext cx="156960" cy="239400"/>
              </a:xfrm>
              <a:custGeom>
                <a:avLst/>
                <a:gdLst/>
                <a:ahLst/>
                <a:rect l="l" t="t" r="r" b="b"/>
                <a:pathLst>
                  <a:path w="106" h="151">
                    <a:moveTo>
                      <a:pt x="5" y="151"/>
                    </a:moveTo>
                    <a:lnTo>
                      <a:pt x="11" y="148"/>
                    </a:lnTo>
                    <a:lnTo>
                      <a:pt x="106" y="6"/>
                    </a:lnTo>
                    <a:lnTo>
                      <a:pt x="95" y="0"/>
                    </a:lnTo>
                    <a:lnTo>
                      <a:pt x="0" y="143"/>
                    </a:lnTo>
                    <a:lnTo>
                      <a:pt x="5" y="140"/>
                    </a:lnTo>
                    <a:lnTo>
                      <a:pt x="5" y="151"/>
                    </a:lnTo>
                    <a:lnTo>
                      <a:pt x="9" y="151"/>
                    </a:lnTo>
                    <a:lnTo>
                      <a:pt x="11" y="148"/>
                    </a:lnTo>
                    <a:lnTo>
                      <a:pt x="5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30360" y="2955960"/>
                <a:ext cx="55800" cy="1728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6" y="3"/>
                    </a:moveTo>
                    <a:lnTo>
                      <a:pt x="12" y="11"/>
                    </a:lnTo>
                    <a:lnTo>
                      <a:pt x="38" y="11"/>
                    </a:lnTo>
                    <a:lnTo>
                      <a:pt x="38" y="0"/>
                    </a:lnTo>
                    <a:lnTo>
                      <a:pt x="12" y="0"/>
                    </a:lnTo>
                    <a:lnTo>
                      <a:pt x="18" y="8"/>
                    </a:lnTo>
                    <a:lnTo>
                      <a:pt x="6" y="3"/>
                    </a:lnTo>
                    <a:lnTo>
                      <a:pt x="0" y="11"/>
                    </a:lnTo>
                    <a:lnTo>
                      <a:pt x="12" y="11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39400" y="3309840"/>
                <a:ext cx="45360" cy="270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2" y="17"/>
                    </a:moveTo>
                    <a:lnTo>
                      <a:pt x="6" y="17"/>
                    </a:lnTo>
                    <a:lnTo>
                      <a:pt x="10" y="17"/>
                    </a:lnTo>
                    <a:lnTo>
                      <a:pt x="14" y="16"/>
                    </a:lnTo>
                    <a:lnTo>
                      <a:pt x="17" y="16"/>
                    </a:lnTo>
                    <a:lnTo>
                      <a:pt x="21" y="14"/>
                    </a:lnTo>
                    <a:lnTo>
                      <a:pt x="25" y="12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91520" y="3319560"/>
                <a:ext cx="500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0" y="14"/>
                    </a:moveTo>
                    <a:lnTo>
                      <a:pt x="6" y="14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17" y="14"/>
                    </a:lnTo>
                    <a:lnTo>
                      <a:pt x="23" y="13"/>
                    </a:lnTo>
                    <a:lnTo>
                      <a:pt x="27" y="13"/>
                    </a:lnTo>
                    <a:lnTo>
                      <a:pt x="30" y="13"/>
                    </a:lnTo>
                    <a:lnTo>
                      <a:pt x="34" y="11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79200" y="3294000"/>
                <a:ext cx="112320" cy="47880"/>
              </a:xfrm>
              <a:custGeom>
                <a:avLst/>
                <a:gdLst/>
                <a:ahLst/>
                <a:rect l="l" t="t" r="r" b="b"/>
                <a:pathLst>
                  <a:path w="76" h="30">
                    <a:moveTo>
                      <a:pt x="0" y="8"/>
                    </a:moveTo>
                    <a:lnTo>
                      <a:pt x="8" y="13"/>
                    </a:lnTo>
                    <a:lnTo>
                      <a:pt x="15" y="18"/>
                    </a:lnTo>
                    <a:lnTo>
                      <a:pt x="25" y="21"/>
                    </a:lnTo>
                    <a:lnTo>
                      <a:pt x="34" y="24"/>
                    </a:lnTo>
                    <a:lnTo>
                      <a:pt x="44" y="27"/>
                    </a:lnTo>
                    <a:lnTo>
                      <a:pt x="55" y="29"/>
                    </a:lnTo>
                    <a:lnTo>
                      <a:pt x="65" y="30"/>
                    </a:lnTo>
                    <a:lnTo>
                      <a:pt x="76" y="30"/>
                    </a:lnTo>
                    <a:lnTo>
                      <a:pt x="76" y="19"/>
                    </a:lnTo>
                    <a:lnTo>
                      <a:pt x="66" y="19"/>
                    </a:lnTo>
                    <a:lnTo>
                      <a:pt x="57" y="18"/>
                    </a:lnTo>
                    <a:lnTo>
                      <a:pt x="47" y="16"/>
                    </a:lnTo>
                    <a:lnTo>
                      <a:pt x="38" y="14"/>
                    </a:lnTo>
                    <a:lnTo>
                      <a:pt x="30" y="11"/>
                    </a:lnTo>
                    <a:lnTo>
                      <a:pt x="23" y="8"/>
                    </a:lnTo>
                    <a:lnTo>
                      <a:pt x="15" y="3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836360" y="3210120"/>
                <a:ext cx="56160" cy="9684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0" y="0"/>
                    </a:moveTo>
                    <a:lnTo>
                      <a:pt x="0" y="9"/>
                    </a:lnTo>
                    <a:lnTo>
                      <a:pt x="2" y="19"/>
                    </a:lnTo>
                    <a:lnTo>
                      <a:pt x="4" y="26"/>
                    </a:lnTo>
                    <a:lnTo>
                      <a:pt x="8" y="34"/>
                    </a:lnTo>
                    <a:lnTo>
                      <a:pt x="12" y="42"/>
                    </a:lnTo>
                    <a:lnTo>
                      <a:pt x="18" y="49"/>
                    </a:lnTo>
                    <a:lnTo>
                      <a:pt x="23" y="55"/>
                    </a:lnTo>
                    <a:lnTo>
                      <a:pt x="29" y="61"/>
                    </a:lnTo>
                    <a:lnTo>
                      <a:pt x="38" y="53"/>
                    </a:lnTo>
                    <a:lnTo>
                      <a:pt x="33" y="47"/>
                    </a:lnTo>
                    <a:lnTo>
                      <a:pt x="29" y="42"/>
                    </a:lnTo>
                    <a:lnTo>
                      <a:pt x="23" y="36"/>
                    </a:lnTo>
                    <a:lnTo>
                      <a:pt x="21" y="30"/>
                    </a:lnTo>
                    <a:lnTo>
                      <a:pt x="18" y="23"/>
                    </a:lnTo>
                    <a:lnTo>
                      <a:pt x="16" y="15"/>
                    </a:lnTo>
                    <a:lnTo>
                      <a:pt x="16" y="9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36360" y="3111480"/>
                <a:ext cx="59400" cy="9864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31" y="0"/>
                    </a:moveTo>
                    <a:lnTo>
                      <a:pt x="23" y="6"/>
                    </a:lnTo>
                    <a:lnTo>
                      <a:pt x="18" y="13"/>
                    </a:lnTo>
                    <a:lnTo>
                      <a:pt x="12" y="21"/>
                    </a:lnTo>
                    <a:lnTo>
                      <a:pt x="8" y="28"/>
                    </a:lnTo>
                    <a:lnTo>
                      <a:pt x="4" y="36"/>
                    </a:lnTo>
                    <a:lnTo>
                      <a:pt x="2" y="44"/>
                    </a:lnTo>
                    <a:lnTo>
                      <a:pt x="0" y="54"/>
                    </a:lnTo>
                    <a:lnTo>
                      <a:pt x="0" y="62"/>
                    </a:lnTo>
                    <a:lnTo>
                      <a:pt x="14" y="62"/>
                    </a:lnTo>
                    <a:lnTo>
                      <a:pt x="16" y="54"/>
                    </a:lnTo>
                    <a:lnTo>
                      <a:pt x="16" y="46"/>
                    </a:lnTo>
                    <a:lnTo>
                      <a:pt x="18" y="39"/>
                    </a:lnTo>
                    <a:lnTo>
                      <a:pt x="21" y="32"/>
                    </a:lnTo>
                    <a:lnTo>
                      <a:pt x="25" y="25"/>
                    </a:lnTo>
                    <a:lnTo>
                      <a:pt x="29" y="19"/>
                    </a:lnTo>
                    <a:lnTo>
                      <a:pt x="35" y="14"/>
                    </a:lnTo>
                    <a:lnTo>
                      <a:pt x="40" y="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82080" y="3073320"/>
                <a:ext cx="109440" cy="50760"/>
              </a:xfrm>
              <a:custGeom>
                <a:avLst/>
                <a:gdLst/>
                <a:ahLst/>
                <a:rect l="l" t="t" r="r" b="b"/>
                <a:pathLst>
                  <a:path w="74" h="32">
                    <a:moveTo>
                      <a:pt x="74" y="0"/>
                    </a:moveTo>
                    <a:lnTo>
                      <a:pt x="63" y="0"/>
                    </a:lnTo>
                    <a:lnTo>
                      <a:pt x="53" y="2"/>
                    </a:lnTo>
                    <a:lnTo>
                      <a:pt x="42" y="4"/>
                    </a:lnTo>
                    <a:lnTo>
                      <a:pt x="32" y="5"/>
                    </a:lnTo>
                    <a:lnTo>
                      <a:pt x="23" y="10"/>
                    </a:lnTo>
                    <a:lnTo>
                      <a:pt x="15" y="13"/>
                    </a:lnTo>
                    <a:lnTo>
                      <a:pt x="7" y="18"/>
                    </a:lnTo>
                    <a:lnTo>
                      <a:pt x="0" y="24"/>
                    </a:lnTo>
                    <a:lnTo>
                      <a:pt x="9" y="32"/>
                    </a:lnTo>
                    <a:lnTo>
                      <a:pt x="15" y="27"/>
                    </a:lnTo>
                    <a:lnTo>
                      <a:pt x="23" y="22"/>
                    </a:lnTo>
                    <a:lnTo>
                      <a:pt x="30" y="19"/>
                    </a:lnTo>
                    <a:lnTo>
                      <a:pt x="38" y="16"/>
                    </a:lnTo>
                    <a:lnTo>
                      <a:pt x="45" y="15"/>
                    </a:lnTo>
                    <a:lnTo>
                      <a:pt x="55" y="13"/>
                    </a:lnTo>
                    <a:lnTo>
                      <a:pt x="64" y="11"/>
                    </a:lnTo>
                    <a:lnTo>
                      <a:pt x="74" y="1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91520" y="3073320"/>
                <a:ext cx="4752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32" y="4"/>
                    </a:moveTo>
                    <a:lnTo>
                      <a:pt x="29" y="4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3" y="11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34720" y="3079800"/>
                <a:ext cx="56160" cy="316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6" y="18"/>
                    </a:moveTo>
                    <a:lnTo>
                      <a:pt x="32" y="11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22" y="6"/>
                    </a:lnTo>
                    <a:lnTo>
                      <a:pt x="19" y="4"/>
                    </a:lnTo>
                    <a:lnTo>
                      <a:pt x="15" y="3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11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9" y="14"/>
                    </a:lnTo>
                    <a:lnTo>
                      <a:pt x="13" y="15"/>
                    </a:lnTo>
                    <a:lnTo>
                      <a:pt x="17" y="15"/>
                    </a:lnTo>
                    <a:lnTo>
                      <a:pt x="19" y="17"/>
                    </a:lnTo>
                    <a:lnTo>
                      <a:pt x="22" y="18"/>
                    </a:lnTo>
                    <a:lnTo>
                      <a:pt x="24" y="20"/>
                    </a:lnTo>
                    <a:lnTo>
                      <a:pt x="22" y="14"/>
                    </a:lnTo>
                    <a:lnTo>
                      <a:pt x="36" y="18"/>
                    </a:lnTo>
                    <a:lnTo>
                      <a:pt x="38" y="14"/>
                    </a:lnTo>
                    <a:lnTo>
                      <a:pt x="32" y="11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39400" y="3102120"/>
                <a:ext cx="48600" cy="745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2" y="44"/>
                    </a:moveTo>
                    <a:lnTo>
                      <a:pt x="12" y="41"/>
                    </a:lnTo>
                    <a:lnTo>
                      <a:pt x="33" y="4"/>
                    </a:lnTo>
                    <a:lnTo>
                      <a:pt x="19" y="0"/>
                    </a:lnTo>
                    <a:lnTo>
                      <a:pt x="0" y="36"/>
                    </a:lnTo>
                    <a:lnTo>
                      <a:pt x="10" y="33"/>
                    </a:lnTo>
                    <a:lnTo>
                      <a:pt x="2" y="44"/>
                    </a:lnTo>
                    <a:lnTo>
                      <a:pt x="10" y="47"/>
                    </a:lnTo>
                    <a:lnTo>
                      <a:pt x="12" y="41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14200" y="3141720"/>
                <a:ext cx="39960" cy="302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0" y="11"/>
                    </a:moveTo>
                    <a:lnTo>
                      <a:pt x="2" y="11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5" y="16"/>
                    </a:lnTo>
                    <a:lnTo>
                      <a:pt x="17" y="17"/>
                    </a:lnTo>
                    <a:lnTo>
                      <a:pt x="19" y="19"/>
                    </a:lnTo>
                    <a:lnTo>
                      <a:pt x="27" y="8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89000" y="3137040"/>
                <a:ext cx="3060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12"/>
                    </a:move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5" y="14"/>
                    </a:lnTo>
                    <a:lnTo>
                      <a:pt x="17" y="14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32480" y="3137040"/>
                <a:ext cx="5616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10" y="22"/>
                    </a:moveTo>
                    <a:lnTo>
                      <a:pt x="11" y="19"/>
                    </a:lnTo>
                    <a:lnTo>
                      <a:pt x="15" y="17"/>
                    </a:lnTo>
                    <a:lnTo>
                      <a:pt x="19" y="16"/>
                    </a:lnTo>
                    <a:lnTo>
                      <a:pt x="21" y="14"/>
                    </a:lnTo>
                    <a:lnTo>
                      <a:pt x="25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8" y="12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7" y="1"/>
                    </a:lnTo>
                    <a:lnTo>
                      <a:pt x="21" y="1"/>
                    </a:lnTo>
                    <a:lnTo>
                      <a:pt x="17" y="3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4" y="11"/>
                    </a:lnTo>
                    <a:lnTo>
                      <a:pt x="0" y="14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07280" y="3159000"/>
                <a:ext cx="39960" cy="511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15" y="32"/>
                    </a:moveTo>
                    <a:lnTo>
                      <a:pt x="15" y="28"/>
                    </a:lnTo>
                    <a:lnTo>
                      <a:pt x="15" y="25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3" y="9"/>
                    </a:lnTo>
                    <a:lnTo>
                      <a:pt x="27" y="8"/>
                    </a:lnTo>
                    <a:lnTo>
                      <a:pt x="17" y="0"/>
                    </a:lnTo>
                    <a:lnTo>
                      <a:pt x="13" y="3"/>
                    </a:lnTo>
                    <a:lnTo>
                      <a:pt x="9" y="6"/>
                    </a:lnTo>
                    <a:lnTo>
                      <a:pt x="8" y="9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2" y="22"/>
                    </a:lnTo>
                    <a:lnTo>
                      <a:pt x="2" y="27"/>
                    </a:lnTo>
                    <a:lnTo>
                      <a:pt x="0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907280" y="3210120"/>
                <a:ext cx="36720" cy="475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5" y="22"/>
                    </a:moveTo>
                    <a:lnTo>
                      <a:pt x="23" y="20"/>
                    </a:lnTo>
                    <a:lnTo>
                      <a:pt x="21" y="17"/>
                    </a:lnTo>
                    <a:lnTo>
                      <a:pt x="19" y="15"/>
                    </a:lnTo>
                    <a:lnTo>
                      <a:pt x="17" y="12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4" y="12"/>
                    </a:lnTo>
                    <a:lnTo>
                      <a:pt x="4" y="17"/>
                    </a:lnTo>
                    <a:lnTo>
                      <a:pt x="6" y="20"/>
                    </a:lnTo>
                    <a:lnTo>
                      <a:pt x="9" y="23"/>
                    </a:lnTo>
                    <a:lnTo>
                      <a:pt x="11" y="26"/>
                    </a:lnTo>
                    <a:lnTo>
                      <a:pt x="15" y="30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929600" y="3245040"/>
                <a:ext cx="53280" cy="3168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36" y="9"/>
                    </a:moveTo>
                    <a:lnTo>
                      <a:pt x="32" y="9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4" y="11"/>
                    </a:lnTo>
                    <a:lnTo>
                      <a:pt x="8" y="14"/>
                    </a:lnTo>
                    <a:lnTo>
                      <a:pt x="12" y="15"/>
                    </a:lnTo>
                    <a:lnTo>
                      <a:pt x="17" y="17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2" y="20"/>
                    </a:lnTo>
                    <a:lnTo>
                      <a:pt x="36" y="20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982880" y="32576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0" y="0"/>
                    </a:moveTo>
                    <a:lnTo>
                      <a:pt x="8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997640" y="325440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2" y="6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7" y="6"/>
                    </a:lnTo>
                    <a:lnTo>
                      <a:pt x="11" y="11"/>
                    </a:lnTo>
                    <a:lnTo>
                      <a:pt x="15" y="9"/>
                    </a:lnTo>
                    <a:lnTo>
                      <a:pt x="17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000880" y="3193920"/>
                <a:ext cx="21960" cy="69840"/>
              </a:xfrm>
              <a:custGeom>
                <a:avLst/>
                <a:gdLst/>
                <a:ahLst/>
                <a:rect l="l" t="t" r="r" b="b"/>
                <a:pathLst>
                  <a:path w="15" h="44">
                    <a:moveTo>
                      <a:pt x="7" y="0"/>
                    </a:moveTo>
                    <a:lnTo>
                      <a:pt x="0" y="6"/>
                    </a:lnTo>
                    <a:lnTo>
                      <a:pt x="0" y="44"/>
                    </a:lnTo>
                    <a:lnTo>
                      <a:pt x="15" y="44"/>
                    </a:lnTo>
                    <a:lnTo>
                      <a:pt x="15" y="6"/>
                    </a:lnTo>
                    <a:lnTo>
                      <a:pt x="7" y="1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11320" y="3193920"/>
                <a:ext cx="79920" cy="17640"/>
              </a:xfrm>
              <a:custGeom>
                <a:avLst/>
                <a:gdLst/>
                <a:ahLst/>
                <a:rect l="l" t="t" r="r" b="b"/>
                <a:pathLst>
                  <a:path w="54" h="11">
                    <a:moveTo>
                      <a:pt x="54" y="6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8" y="11"/>
                    </a:lnTo>
                    <a:lnTo>
                      <a:pt x="40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070360" y="3203640"/>
                <a:ext cx="20520" cy="123840"/>
              </a:xfrm>
              <a:custGeom>
                <a:avLst/>
                <a:gdLst/>
                <a:ahLst/>
                <a:rect l="l" t="t" r="r" b="b"/>
                <a:pathLst>
                  <a:path w="14" h="78">
                    <a:moveTo>
                      <a:pt x="10" y="78"/>
                    </a:moveTo>
                    <a:lnTo>
                      <a:pt x="14" y="73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4" y="67"/>
                    </a:lnTo>
                    <a:lnTo>
                      <a:pt x="10" y="78"/>
                    </a:lnTo>
                    <a:lnTo>
                      <a:pt x="14" y="76"/>
                    </a:lnTo>
                    <a:lnTo>
                      <a:pt x="14" y="73"/>
                    </a:lnTo>
                    <a:lnTo>
                      <a:pt x="1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16440" y="3319560"/>
                <a:ext cx="78480" cy="17280"/>
              </a:xfrm>
              <a:custGeom>
                <a:avLst/>
                <a:gdLst/>
                <a:ahLst/>
                <a:rect l="l" t="t" r="r" b="b"/>
                <a:pathLst>
                  <a:path w="53" h="11">
                    <a:moveTo>
                      <a:pt x="0" y="5"/>
                    </a:moveTo>
                    <a:lnTo>
                      <a:pt x="5" y="11"/>
                    </a:lnTo>
                    <a:lnTo>
                      <a:pt x="53" y="11"/>
                    </a:lnTo>
                    <a:lnTo>
                      <a:pt x="53" y="0"/>
                    </a:lnTo>
                    <a:lnTo>
                      <a:pt x="5" y="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116440" y="3076560"/>
                <a:ext cx="19080" cy="250920"/>
              </a:xfrm>
              <a:custGeom>
                <a:avLst/>
                <a:gdLst/>
                <a:ahLst/>
                <a:rect l="l" t="t" r="r" b="b"/>
                <a:pathLst>
                  <a:path w="13" h="158">
                    <a:moveTo>
                      <a:pt x="5" y="0"/>
                    </a:moveTo>
                    <a:lnTo>
                      <a:pt x="0" y="6"/>
                    </a:lnTo>
                    <a:lnTo>
                      <a:pt x="0" y="158"/>
                    </a:lnTo>
                    <a:lnTo>
                      <a:pt x="13" y="158"/>
                    </a:lnTo>
                    <a:lnTo>
                      <a:pt x="13" y="6"/>
                    </a:lnTo>
                    <a:lnTo>
                      <a:pt x="5" y="1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123640" y="307656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55" h="13">
                    <a:moveTo>
                      <a:pt x="55" y="6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48" y="13"/>
                    </a:lnTo>
                    <a:lnTo>
                      <a:pt x="42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5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185920" y="3086280"/>
                <a:ext cx="19080" cy="250560"/>
              </a:xfrm>
              <a:custGeom>
                <a:avLst/>
                <a:gdLst/>
                <a:ahLst/>
                <a:rect l="l" t="t" r="r" b="b"/>
                <a:pathLst>
                  <a:path w="13" h="158">
                    <a:moveTo>
                      <a:pt x="6" y="158"/>
                    </a:moveTo>
                    <a:lnTo>
                      <a:pt x="13" y="15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6" y="147"/>
                    </a:lnTo>
                    <a:lnTo>
                      <a:pt x="6" y="158"/>
                    </a:lnTo>
                    <a:lnTo>
                      <a:pt x="13" y="158"/>
                    </a:lnTo>
                    <a:lnTo>
                      <a:pt x="13" y="152"/>
                    </a:lnTo>
                    <a:lnTo>
                      <a:pt x="6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320560" y="3186000"/>
                <a:ext cx="37080" cy="2412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16" y="0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14" y="13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5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44320" y="3168720"/>
                <a:ext cx="2808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3" y="0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9" y="19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7" y="3"/>
                    </a:lnTo>
                    <a:lnTo>
                      <a:pt x="1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44320" y="3141720"/>
                <a:ext cx="280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8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19" y="17"/>
                    </a:lnTo>
                    <a:lnTo>
                      <a:pt x="17" y="16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23440" y="3129120"/>
                <a:ext cx="34200" cy="25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0" y="13"/>
                    </a:moveTo>
                    <a:lnTo>
                      <a:pt x="2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04360" y="312912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8" y="13"/>
                    </a:lnTo>
                    <a:lnTo>
                      <a:pt x="13" y="13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04360" y="3138480"/>
                <a:ext cx="19080" cy="716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8" y="34"/>
                    </a:moveTo>
                    <a:lnTo>
                      <a:pt x="13" y="3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8" y="45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8" y="45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33080" y="3076560"/>
                <a:ext cx="20520" cy="250920"/>
              </a:xfrm>
              <a:custGeom>
                <a:avLst/>
                <a:gdLst/>
                <a:ahLst/>
                <a:rect l="l" t="t" r="r" b="b"/>
                <a:pathLst>
                  <a:path w="14" h="158">
                    <a:moveTo>
                      <a:pt x="8" y="0"/>
                    </a:moveTo>
                    <a:lnTo>
                      <a:pt x="0" y="6"/>
                    </a:lnTo>
                    <a:lnTo>
                      <a:pt x="0" y="158"/>
                    </a:lnTo>
                    <a:lnTo>
                      <a:pt x="14" y="158"/>
                    </a:lnTo>
                    <a:lnTo>
                      <a:pt x="14" y="6"/>
                    </a:lnTo>
                    <a:lnTo>
                      <a:pt x="8" y="1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45320" y="3076560"/>
                <a:ext cx="7488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20560" y="3076560"/>
                <a:ext cx="87480" cy="3816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59" y="14"/>
                    </a:moveTo>
                    <a:lnTo>
                      <a:pt x="54" y="11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5" y="3"/>
                    </a:lnTo>
                    <a:lnTo>
                      <a:pt x="27" y="3"/>
                    </a:lnTo>
                    <a:lnTo>
                      <a:pt x="17" y="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8" y="13"/>
                    </a:lnTo>
                    <a:lnTo>
                      <a:pt x="17" y="13"/>
                    </a:lnTo>
                    <a:lnTo>
                      <a:pt x="23" y="14"/>
                    </a:lnTo>
                    <a:lnTo>
                      <a:pt x="31" y="14"/>
                    </a:lnTo>
                    <a:lnTo>
                      <a:pt x="36" y="16"/>
                    </a:lnTo>
                    <a:lnTo>
                      <a:pt x="42" y="19"/>
                    </a:lnTo>
                    <a:lnTo>
                      <a:pt x="48" y="20"/>
                    </a:lnTo>
                    <a:lnTo>
                      <a:pt x="52" y="24"/>
                    </a:lnTo>
                    <a:lnTo>
                      <a:pt x="5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97600" y="30988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30" y="40"/>
                    </a:moveTo>
                    <a:lnTo>
                      <a:pt x="30" y="35"/>
                    </a:lnTo>
                    <a:lnTo>
                      <a:pt x="28" y="29"/>
                    </a:lnTo>
                    <a:lnTo>
                      <a:pt x="26" y="22"/>
                    </a:lnTo>
                    <a:lnTo>
                      <a:pt x="24" y="18"/>
                    </a:lnTo>
                    <a:lnTo>
                      <a:pt x="21" y="13"/>
                    </a:lnTo>
                    <a:lnTo>
                      <a:pt x="17" y="8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3" y="11"/>
                    </a:lnTo>
                    <a:lnTo>
                      <a:pt x="7" y="14"/>
                    </a:lnTo>
                    <a:lnTo>
                      <a:pt x="9" y="18"/>
                    </a:lnTo>
                    <a:lnTo>
                      <a:pt x="11" y="22"/>
                    </a:lnTo>
                    <a:lnTo>
                      <a:pt x="13" y="25"/>
                    </a:lnTo>
                    <a:lnTo>
                      <a:pt x="15" y="30"/>
                    </a:lnTo>
                    <a:lnTo>
                      <a:pt x="15" y="35"/>
                    </a:lnTo>
                    <a:lnTo>
                      <a:pt x="17" y="40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10920" y="3162240"/>
                <a:ext cx="30960" cy="414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12" y="26"/>
                    </a:moveTo>
                    <a:lnTo>
                      <a:pt x="13" y="23"/>
                    </a:lnTo>
                    <a:lnTo>
                      <a:pt x="15" y="20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19" y="11"/>
                    </a:lnTo>
                    <a:lnTo>
                      <a:pt x="19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8" y="0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73840" y="3193920"/>
                <a:ext cx="54720" cy="349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6" y="14"/>
                    </a:moveTo>
                    <a:lnTo>
                      <a:pt x="12" y="22"/>
                    </a:lnTo>
                    <a:lnTo>
                      <a:pt x="16" y="22"/>
                    </a:lnTo>
                    <a:lnTo>
                      <a:pt x="19" y="21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9" y="14"/>
                    </a:lnTo>
                    <a:lnTo>
                      <a:pt x="31" y="13"/>
                    </a:lnTo>
                    <a:lnTo>
                      <a:pt x="35" y="10"/>
                    </a:lnTo>
                    <a:lnTo>
                      <a:pt x="37" y="6"/>
                    </a:lnTo>
                    <a:lnTo>
                      <a:pt x="25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8" y="8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4" y="21"/>
                    </a:lnTo>
                    <a:lnTo>
                      <a:pt x="8" y="13"/>
                    </a:lnTo>
                    <a:lnTo>
                      <a:pt x="0" y="14"/>
                    </a:lnTo>
                    <a:lnTo>
                      <a:pt x="4" y="21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79960" y="3216240"/>
                <a:ext cx="8424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46" y="76"/>
                    </a:moveTo>
                    <a:lnTo>
                      <a:pt x="52" y="68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40" y="73"/>
                    </a:lnTo>
                    <a:lnTo>
                      <a:pt x="46" y="65"/>
                    </a:lnTo>
                    <a:lnTo>
                      <a:pt x="46" y="76"/>
                    </a:lnTo>
                    <a:lnTo>
                      <a:pt x="57" y="76"/>
                    </a:lnTo>
                    <a:lnTo>
                      <a:pt x="52" y="68"/>
                    </a:lnTo>
                    <a:lnTo>
                      <a:pt x="46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60880" y="3319560"/>
                <a:ext cx="87120" cy="1728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0" y="8"/>
                    </a:moveTo>
                    <a:lnTo>
                      <a:pt x="8" y="11"/>
                    </a:lnTo>
                    <a:lnTo>
                      <a:pt x="59" y="11"/>
                    </a:lnTo>
                    <a:lnTo>
                      <a:pt x="59" y="0"/>
                    </a:lnTo>
                    <a:lnTo>
                      <a:pt x="8" y="0"/>
                    </a:lnTo>
                    <a:lnTo>
                      <a:pt x="13" y="3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8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04360" y="3220920"/>
                <a:ext cx="75240" cy="111240"/>
              </a:xfrm>
              <a:custGeom>
                <a:avLst/>
                <a:gdLst/>
                <a:ahLst/>
                <a:rect l="l" t="t" r="r" b="b"/>
                <a:pathLst>
                  <a:path w="51" h="70">
                    <a:moveTo>
                      <a:pt x="13" y="2"/>
                    </a:moveTo>
                    <a:lnTo>
                      <a:pt x="0" y="5"/>
                    </a:lnTo>
                    <a:lnTo>
                      <a:pt x="38" y="70"/>
                    </a:lnTo>
                    <a:lnTo>
                      <a:pt x="51" y="65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04360" y="3224160"/>
                <a:ext cx="19080" cy="11268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8" y="71"/>
                    </a:moveTo>
                    <a:lnTo>
                      <a:pt x="13" y="6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8" y="60"/>
                    </a:lnTo>
                    <a:lnTo>
                      <a:pt x="8" y="71"/>
                    </a:lnTo>
                    <a:lnTo>
                      <a:pt x="13" y="71"/>
                    </a:lnTo>
                    <a:lnTo>
                      <a:pt x="13" y="65"/>
                    </a:lnTo>
                    <a:lnTo>
                      <a:pt x="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233080" y="33195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56" h="11">
                    <a:moveTo>
                      <a:pt x="0" y="5"/>
                    </a:moveTo>
                    <a:lnTo>
                      <a:pt x="8" y="11"/>
                    </a:lnTo>
                    <a:lnTo>
                      <a:pt x="56" y="11"/>
                    </a:lnTo>
                    <a:lnTo>
                      <a:pt x="56" y="0"/>
                    </a:lnTo>
                    <a:lnTo>
                      <a:pt x="8" y="0"/>
                    </a:lnTo>
                    <a:lnTo>
                      <a:pt x="14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11080" y="3259080"/>
                <a:ext cx="39960" cy="77760"/>
              </a:xfrm>
              <a:custGeom>
                <a:avLst/>
                <a:gdLst/>
                <a:ahLst/>
                <a:rect l="l" t="t" r="r" b="b"/>
                <a:pathLst>
                  <a:path w="27" h="49">
                    <a:moveTo>
                      <a:pt x="6" y="49"/>
                    </a:moveTo>
                    <a:lnTo>
                      <a:pt x="12" y="44"/>
                    </a:lnTo>
                    <a:lnTo>
                      <a:pt x="27" y="3"/>
                    </a:lnTo>
                    <a:lnTo>
                      <a:pt x="13" y="0"/>
                    </a:lnTo>
                    <a:lnTo>
                      <a:pt x="0" y="41"/>
                    </a:lnTo>
                    <a:lnTo>
                      <a:pt x="6" y="38"/>
                    </a:lnTo>
                    <a:lnTo>
                      <a:pt x="6" y="49"/>
                    </a:lnTo>
                    <a:lnTo>
                      <a:pt x="12" y="49"/>
                    </a:lnTo>
                    <a:lnTo>
                      <a:pt x="12" y="44"/>
                    </a:lnTo>
                    <a:lnTo>
                      <a:pt x="6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58440" y="3319560"/>
                <a:ext cx="160920" cy="17280"/>
              </a:xfrm>
              <a:custGeom>
                <a:avLst/>
                <a:gdLst/>
                <a:ahLst/>
                <a:rect l="l" t="t" r="r" b="b"/>
                <a:pathLst>
                  <a:path w="109" h="11">
                    <a:moveTo>
                      <a:pt x="0" y="5"/>
                    </a:moveTo>
                    <a:lnTo>
                      <a:pt x="8" y="11"/>
                    </a:lnTo>
                    <a:lnTo>
                      <a:pt x="109" y="11"/>
                    </a:lnTo>
                    <a:lnTo>
                      <a:pt x="109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58440" y="3076560"/>
                <a:ext cx="23400" cy="250920"/>
              </a:xfrm>
              <a:custGeom>
                <a:avLst/>
                <a:gdLst/>
                <a:ahLst/>
                <a:rect l="l" t="t" r="r" b="b"/>
                <a:pathLst>
                  <a:path w="16" h="158">
                    <a:moveTo>
                      <a:pt x="8" y="0"/>
                    </a:moveTo>
                    <a:lnTo>
                      <a:pt x="0" y="6"/>
                    </a:lnTo>
                    <a:lnTo>
                      <a:pt x="0" y="158"/>
                    </a:lnTo>
                    <a:lnTo>
                      <a:pt x="16" y="158"/>
                    </a:lnTo>
                    <a:lnTo>
                      <a:pt x="16" y="6"/>
                    </a:lnTo>
                    <a:lnTo>
                      <a:pt x="8" y="1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70320" y="307656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55" h="13">
                    <a:moveTo>
                      <a:pt x="55" y="6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48" y="13"/>
                    </a:lnTo>
                    <a:lnTo>
                      <a:pt x="40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5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29360" y="3086280"/>
                <a:ext cx="21960" cy="182520"/>
              </a:xfrm>
              <a:custGeom>
                <a:avLst/>
                <a:gdLst/>
                <a:ahLst/>
                <a:rect l="l" t="t" r="r" b="b"/>
                <a:pathLst>
                  <a:path w="15" h="115">
                    <a:moveTo>
                      <a:pt x="8" y="104"/>
                    </a:moveTo>
                    <a:lnTo>
                      <a:pt x="15" y="111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8" y="115"/>
                    </a:lnTo>
                    <a:lnTo>
                      <a:pt x="0" y="111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8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41600" y="3251160"/>
                <a:ext cx="114840" cy="17640"/>
              </a:xfrm>
              <a:custGeom>
                <a:avLst/>
                <a:gdLst/>
                <a:ahLst/>
                <a:rect l="l" t="t" r="r" b="b"/>
                <a:pathLst>
                  <a:path w="78" h="11">
                    <a:moveTo>
                      <a:pt x="74" y="8"/>
                    </a:moveTo>
                    <a:lnTo>
                      <a:pt x="6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8" y="11"/>
                    </a:lnTo>
                    <a:lnTo>
                      <a:pt x="60" y="5"/>
                    </a:lnTo>
                    <a:lnTo>
                      <a:pt x="74" y="8"/>
                    </a:lnTo>
                    <a:lnTo>
                      <a:pt x="78" y="0"/>
                    </a:lnTo>
                    <a:lnTo>
                      <a:pt x="68" y="0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47800" y="3249720"/>
                <a:ext cx="21960" cy="792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9" y="3"/>
                    </a:moveTo>
                    <a:lnTo>
                      <a:pt x="0" y="8"/>
                    </a:lnTo>
                    <a:lnTo>
                      <a:pt x="2" y="50"/>
                    </a:lnTo>
                    <a:lnTo>
                      <a:pt x="15" y="50"/>
                    </a:lnTo>
                    <a:lnTo>
                      <a:pt x="13" y="8"/>
                    </a:lnTo>
                    <a:lnTo>
                      <a:pt x="4" y="12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53920" y="325440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2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70120" y="325764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"/>
                    </a:moveTo>
                    <a:lnTo>
                      <a:pt x="10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686680" y="3257640"/>
                <a:ext cx="2628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0" y="0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6" y="9"/>
                    </a:lnTo>
                    <a:lnTo>
                      <a:pt x="18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701440" y="324972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2" y="0"/>
                    </a:moveTo>
                    <a:lnTo>
                      <a:pt x="2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86680" y="321480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9"/>
                    </a:moveTo>
                    <a:lnTo>
                      <a:pt x="4" y="11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0" y="19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3" y="14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6" y="6"/>
                    </a:lnTo>
                    <a:lnTo>
                      <a:pt x="14" y="3"/>
                    </a:lnTo>
                    <a:lnTo>
                      <a:pt x="1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676240" y="3206880"/>
                <a:ext cx="24840" cy="21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8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53920" y="3181320"/>
                <a:ext cx="3492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5"/>
                    </a:moveTo>
                    <a:lnTo>
                      <a:pt x="2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7" y="18"/>
                    </a:lnTo>
                    <a:lnTo>
                      <a:pt x="11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24" y="16"/>
                    </a:lnTo>
                    <a:lnTo>
                      <a:pt x="22" y="14"/>
                    </a:lnTo>
                    <a:lnTo>
                      <a:pt x="21" y="13"/>
                    </a:lnTo>
                    <a:lnTo>
                      <a:pt x="19" y="10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44920" y="3156120"/>
                <a:ext cx="2484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44920" y="3097080"/>
                <a:ext cx="41400" cy="59040"/>
              </a:xfrm>
              <a:custGeom>
                <a:avLst/>
                <a:gdLst/>
                <a:ahLst/>
                <a:rect l="l" t="t" r="r" b="b"/>
                <a:pathLst>
                  <a:path w="28" h="37">
                    <a:moveTo>
                      <a:pt x="19" y="0"/>
                    </a:moveTo>
                    <a:lnTo>
                      <a:pt x="15" y="4"/>
                    </a:lnTo>
                    <a:lnTo>
                      <a:pt x="11" y="7"/>
                    </a:lnTo>
                    <a:lnTo>
                      <a:pt x="8" y="12"/>
                    </a:lnTo>
                    <a:lnTo>
                      <a:pt x="6" y="17"/>
                    </a:lnTo>
                    <a:lnTo>
                      <a:pt x="4" y="22"/>
                    </a:lnTo>
                    <a:lnTo>
                      <a:pt x="2" y="26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13" y="37"/>
                    </a:lnTo>
                    <a:lnTo>
                      <a:pt x="13" y="33"/>
                    </a:lnTo>
                    <a:lnTo>
                      <a:pt x="15" y="30"/>
                    </a:lnTo>
                    <a:lnTo>
                      <a:pt x="15" y="25"/>
                    </a:lnTo>
                    <a:lnTo>
                      <a:pt x="17" y="22"/>
                    </a:lnTo>
                    <a:lnTo>
                      <a:pt x="19" y="17"/>
                    </a:lnTo>
                    <a:lnTo>
                      <a:pt x="23" y="14"/>
                    </a:lnTo>
                    <a:lnTo>
                      <a:pt x="25" y="11"/>
                    </a:lnTo>
                    <a:lnTo>
                      <a:pt x="28" y="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73000" y="3073320"/>
                <a:ext cx="72360" cy="3492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9" y="0"/>
                    </a:moveTo>
                    <a:lnTo>
                      <a:pt x="44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3" y="4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0" y="15"/>
                    </a:lnTo>
                    <a:lnTo>
                      <a:pt x="9" y="22"/>
                    </a:lnTo>
                    <a:lnTo>
                      <a:pt x="13" y="21"/>
                    </a:lnTo>
                    <a:lnTo>
                      <a:pt x="19" y="18"/>
                    </a:lnTo>
                    <a:lnTo>
                      <a:pt x="23" y="16"/>
                    </a:lnTo>
                    <a:lnTo>
                      <a:pt x="27" y="15"/>
                    </a:lnTo>
                    <a:lnTo>
                      <a:pt x="32" y="13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45720" y="3073320"/>
                <a:ext cx="2484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0"/>
                    </a:move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6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69480" y="3073320"/>
                <a:ext cx="32400" cy="2376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10"/>
                    </a:moveTo>
                    <a:lnTo>
                      <a:pt x="19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5"/>
                    </a:lnTo>
                    <a:lnTo>
                      <a:pt x="13" y="15"/>
                    </a:lnTo>
                    <a:lnTo>
                      <a:pt x="9" y="10"/>
                    </a:lnTo>
                    <a:lnTo>
                      <a:pt x="22" y="10"/>
                    </a:lnTo>
                    <a:lnTo>
                      <a:pt x="22" y="5"/>
                    </a:lnTo>
                    <a:lnTo>
                      <a:pt x="19" y="4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782440" y="3089160"/>
                <a:ext cx="19440" cy="74880"/>
              </a:xfrm>
              <a:custGeom>
                <a:avLst/>
                <a:gdLst/>
                <a:ahLst/>
                <a:rect l="l" t="t" r="r" b="b"/>
                <a:pathLst>
                  <a:path w="13" h="47">
                    <a:moveTo>
                      <a:pt x="4" y="42"/>
                    </a:moveTo>
                    <a:lnTo>
                      <a:pt x="13" y="3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10" y="33"/>
                    </a:lnTo>
                    <a:lnTo>
                      <a:pt x="4" y="42"/>
                    </a:lnTo>
                    <a:lnTo>
                      <a:pt x="13" y="47"/>
                    </a:lnTo>
                    <a:lnTo>
                      <a:pt x="13" y="38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773800" y="3133800"/>
                <a:ext cx="2340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63360" y="31320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35280" y="3132000"/>
                <a:ext cx="280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9" y="12"/>
                    </a:moveTo>
                    <a:lnTo>
                      <a:pt x="11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23400" y="313848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5" y="13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1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723400" y="315900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5" y="11"/>
                    </a:moveTo>
                    <a:lnTo>
                      <a:pt x="23" y="9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0" y="16"/>
                    </a:lnTo>
                    <a:lnTo>
                      <a:pt x="13" y="17"/>
                    </a:lnTo>
                    <a:lnTo>
                      <a:pt x="17" y="21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48600" y="3176640"/>
                <a:ext cx="24840" cy="223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6"/>
                    </a:moveTo>
                    <a:lnTo>
                      <a:pt x="15" y="5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4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60480" y="3186000"/>
                <a:ext cx="3852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19"/>
                    </a:moveTo>
                    <a:lnTo>
                      <a:pt x="25" y="16"/>
                    </a:lnTo>
                    <a:lnTo>
                      <a:pt x="23" y="15"/>
                    </a:lnTo>
                    <a:lnTo>
                      <a:pt x="21" y="11"/>
                    </a:lnTo>
                    <a:lnTo>
                      <a:pt x="19" y="8"/>
                    </a:lnTo>
                    <a:lnTo>
                      <a:pt x="17" y="7"/>
                    </a:lnTo>
                    <a:lnTo>
                      <a:pt x="15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9" y="18"/>
                    </a:lnTo>
                    <a:lnTo>
                      <a:pt x="11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782440" y="3216240"/>
                <a:ext cx="2484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1"/>
                    </a:lnTo>
                    <a:lnTo>
                      <a:pt x="17" y="18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66600" y="3254400"/>
                <a:ext cx="41040" cy="61920"/>
              </a:xfrm>
              <a:custGeom>
                <a:avLst/>
                <a:gdLst/>
                <a:ahLst/>
                <a:rect l="l" t="t" r="r" b="b"/>
                <a:pathLst>
                  <a:path w="28" h="39">
                    <a:moveTo>
                      <a:pt x="7" y="39"/>
                    </a:moveTo>
                    <a:lnTo>
                      <a:pt x="13" y="36"/>
                    </a:lnTo>
                    <a:lnTo>
                      <a:pt x="17" y="32"/>
                    </a:lnTo>
                    <a:lnTo>
                      <a:pt x="21" y="27"/>
                    </a:lnTo>
                    <a:lnTo>
                      <a:pt x="24" y="22"/>
                    </a:lnTo>
                    <a:lnTo>
                      <a:pt x="26" y="17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15" y="9"/>
                    </a:lnTo>
                    <a:lnTo>
                      <a:pt x="13" y="14"/>
                    </a:lnTo>
                    <a:lnTo>
                      <a:pt x="11" y="19"/>
                    </a:lnTo>
                    <a:lnTo>
                      <a:pt x="9" y="22"/>
                    </a:lnTo>
                    <a:lnTo>
                      <a:pt x="5" y="25"/>
                    </a:lnTo>
                    <a:lnTo>
                      <a:pt x="3" y="28"/>
                    </a:lnTo>
                    <a:lnTo>
                      <a:pt x="0" y="32"/>
                    </a:lnTo>
                    <a:lnTo>
                      <a:pt x="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95320" y="3305160"/>
                <a:ext cx="81360" cy="3672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0" y="23"/>
                    </a:moveTo>
                    <a:lnTo>
                      <a:pt x="2" y="23"/>
                    </a:lnTo>
                    <a:lnTo>
                      <a:pt x="10" y="22"/>
                    </a:lnTo>
                    <a:lnTo>
                      <a:pt x="17" y="22"/>
                    </a:lnTo>
                    <a:lnTo>
                      <a:pt x="25" y="20"/>
                    </a:lnTo>
                    <a:lnTo>
                      <a:pt x="32" y="19"/>
                    </a:lnTo>
                    <a:lnTo>
                      <a:pt x="38" y="17"/>
                    </a:lnTo>
                    <a:lnTo>
                      <a:pt x="46" y="14"/>
                    </a:lnTo>
                    <a:lnTo>
                      <a:pt x="51" y="12"/>
                    </a:lnTo>
                    <a:lnTo>
                      <a:pt x="55" y="7"/>
                    </a:lnTo>
                    <a:lnTo>
                      <a:pt x="48" y="0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4" y="6"/>
                    </a:lnTo>
                    <a:lnTo>
                      <a:pt x="29" y="7"/>
                    </a:lnTo>
                    <a:lnTo>
                      <a:pt x="21" y="9"/>
                    </a:lnTo>
                    <a:lnTo>
                      <a:pt x="15" y="11"/>
                    </a:lnTo>
                    <a:lnTo>
                      <a:pt x="8" y="11"/>
                    </a:lnTo>
                    <a:lnTo>
                      <a:pt x="2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76240" y="332280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2" y="11"/>
                    </a:move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651040" y="3319560"/>
                <a:ext cx="2808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0" y="6"/>
                    </a:moveTo>
                    <a:lnTo>
                      <a:pt x="5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13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60920" y="2733840"/>
                <a:ext cx="158400" cy="234720"/>
              </a:xfrm>
              <a:custGeom>
                <a:avLst/>
                <a:gdLst/>
                <a:ahLst/>
                <a:rect l="l" t="t" r="r" b="b"/>
                <a:pathLst>
                  <a:path w="107" h="148">
                    <a:moveTo>
                      <a:pt x="0" y="124"/>
                    </a:moveTo>
                    <a:lnTo>
                      <a:pt x="29" y="101"/>
                    </a:lnTo>
                    <a:lnTo>
                      <a:pt x="29" y="102"/>
                    </a:lnTo>
                    <a:lnTo>
                      <a:pt x="29" y="102"/>
                    </a:lnTo>
                    <a:lnTo>
                      <a:pt x="30" y="104"/>
                    </a:lnTo>
                    <a:lnTo>
                      <a:pt x="30" y="105"/>
                    </a:lnTo>
                    <a:lnTo>
                      <a:pt x="32" y="105"/>
                    </a:lnTo>
                    <a:lnTo>
                      <a:pt x="32" y="107"/>
                    </a:lnTo>
                    <a:lnTo>
                      <a:pt x="34" y="107"/>
                    </a:lnTo>
                    <a:lnTo>
                      <a:pt x="36" y="109"/>
                    </a:lnTo>
                    <a:lnTo>
                      <a:pt x="36" y="109"/>
                    </a:lnTo>
                    <a:lnTo>
                      <a:pt x="38" y="109"/>
                    </a:lnTo>
                    <a:lnTo>
                      <a:pt x="40" y="110"/>
                    </a:lnTo>
                    <a:lnTo>
                      <a:pt x="40" y="110"/>
                    </a:lnTo>
                    <a:lnTo>
                      <a:pt x="42" y="110"/>
                    </a:lnTo>
                    <a:lnTo>
                      <a:pt x="44" y="110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8" y="110"/>
                    </a:lnTo>
                    <a:lnTo>
                      <a:pt x="50" y="110"/>
                    </a:lnTo>
                    <a:lnTo>
                      <a:pt x="51" y="110"/>
                    </a:lnTo>
                    <a:lnTo>
                      <a:pt x="53" y="110"/>
                    </a:lnTo>
                    <a:lnTo>
                      <a:pt x="53" y="110"/>
                    </a:lnTo>
                    <a:lnTo>
                      <a:pt x="55" y="109"/>
                    </a:lnTo>
                    <a:lnTo>
                      <a:pt x="57" y="109"/>
                    </a:lnTo>
                    <a:lnTo>
                      <a:pt x="57" y="107"/>
                    </a:lnTo>
                    <a:lnTo>
                      <a:pt x="59" y="107"/>
                    </a:lnTo>
                    <a:lnTo>
                      <a:pt x="59" y="105"/>
                    </a:lnTo>
                    <a:lnTo>
                      <a:pt x="61" y="105"/>
                    </a:lnTo>
                    <a:lnTo>
                      <a:pt x="61" y="104"/>
                    </a:lnTo>
                    <a:lnTo>
                      <a:pt x="61" y="104"/>
                    </a:lnTo>
                    <a:lnTo>
                      <a:pt x="61" y="102"/>
                    </a:lnTo>
                    <a:lnTo>
                      <a:pt x="63" y="101"/>
                    </a:lnTo>
                    <a:lnTo>
                      <a:pt x="63" y="101"/>
                    </a:lnTo>
                    <a:lnTo>
                      <a:pt x="63" y="99"/>
                    </a:lnTo>
                    <a:lnTo>
                      <a:pt x="61" y="98"/>
                    </a:lnTo>
                    <a:lnTo>
                      <a:pt x="61" y="96"/>
                    </a:lnTo>
                    <a:lnTo>
                      <a:pt x="61" y="96"/>
                    </a:lnTo>
                    <a:lnTo>
                      <a:pt x="59" y="94"/>
                    </a:lnTo>
                    <a:lnTo>
                      <a:pt x="59" y="93"/>
                    </a:lnTo>
                    <a:lnTo>
                      <a:pt x="57" y="93"/>
                    </a:lnTo>
                    <a:lnTo>
                      <a:pt x="57" y="91"/>
                    </a:lnTo>
                    <a:lnTo>
                      <a:pt x="55" y="91"/>
                    </a:lnTo>
                    <a:lnTo>
                      <a:pt x="53" y="90"/>
                    </a:lnTo>
                    <a:lnTo>
                      <a:pt x="51" y="90"/>
                    </a:lnTo>
                    <a:lnTo>
                      <a:pt x="51" y="90"/>
                    </a:lnTo>
                    <a:lnTo>
                      <a:pt x="50" y="88"/>
                    </a:lnTo>
                    <a:lnTo>
                      <a:pt x="48" y="88"/>
                    </a:lnTo>
                    <a:lnTo>
                      <a:pt x="46" y="88"/>
                    </a:lnTo>
                    <a:lnTo>
                      <a:pt x="44" y="88"/>
                    </a:lnTo>
                    <a:lnTo>
                      <a:pt x="34" y="88"/>
                    </a:lnTo>
                    <a:lnTo>
                      <a:pt x="34" y="60"/>
                    </a:lnTo>
                    <a:lnTo>
                      <a:pt x="42" y="60"/>
                    </a:lnTo>
                    <a:lnTo>
                      <a:pt x="44" y="60"/>
                    </a:lnTo>
                    <a:lnTo>
                      <a:pt x="48" y="60"/>
                    </a:lnTo>
                    <a:lnTo>
                      <a:pt x="50" y="60"/>
                    </a:lnTo>
                    <a:lnTo>
                      <a:pt x="51" y="60"/>
                    </a:lnTo>
                    <a:lnTo>
                      <a:pt x="51" y="58"/>
                    </a:lnTo>
                    <a:lnTo>
                      <a:pt x="53" y="58"/>
                    </a:lnTo>
                    <a:lnTo>
                      <a:pt x="55" y="58"/>
                    </a:lnTo>
                    <a:lnTo>
                      <a:pt x="57" y="56"/>
                    </a:lnTo>
                    <a:lnTo>
                      <a:pt x="57" y="55"/>
                    </a:lnTo>
                    <a:lnTo>
                      <a:pt x="59" y="55"/>
                    </a:lnTo>
                    <a:lnTo>
                      <a:pt x="61" y="53"/>
                    </a:lnTo>
                    <a:lnTo>
                      <a:pt x="61" y="52"/>
                    </a:lnTo>
                    <a:lnTo>
                      <a:pt x="61" y="52"/>
                    </a:lnTo>
                    <a:lnTo>
                      <a:pt x="61" y="50"/>
                    </a:lnTo>
                    <a:lnTo>
                      <a:pt x="63" y="49"/>
                    </a:lnTo>
                    <a:lnTo>
                      <a:pt x="63" y="47"/>
                    </a:lnTo>
                    <a:lnTo>
                      <a:pt x="63" y="45"/>
                    </a:lnTo>
                    <a:lnTo>
                      <a:pt x="61" y="45"/>
                    </a:lnTo>
                    <a:lnTo>
                      <a:pt x="61" y="44"/>
                    </a:lnTo>
                    <a:lnTo>
                      <a:pt x="61" y="44"/>
                    </a:lnTo>
                    <a:lnTo>
                      <a:pt x="61" y="42"/>
                    </a:lnTo>
                    <a:lnTo>
                      <a:pt x="61" y="41"/>
                    </a:lnTo>
                    <a:lnTo>
                      <a:pt x="59" y="41"/>
                    </a:lnTo>
                    <a:lnTo>
                      <a:pt x="59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5" y="38"/>
                    </a:lnTo>
                    <a:lnTo>
                      <a:pt x="53" y="38"/>
                    </a:lnTo>
                    <a:lnTo>
                      <a:pt x="53" y="38"/>
                    </a:lnTo>
                    <a:lnTo>
                      <a:pt x="51" y="38"/>
                    </a:lnTo>
                    <a:lnTo>
                      <a:pt x="50" y="38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46" y="38"/>
                    </a:lnTo>
                    <a:lnTo>
                      <a:pt x="44" y="38"/>
                    </a:lnTo>
                    <a:lnTo>
                      <a:pt x="44" y="38"/>
                    </a:lnTo>
                    <a:lnTo>
                      <a:pt x="42" y="38"/>
                    </a:lnTo>
                    <a:lnTo>
                      <a:pt x="40" y="38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36" y="39"/>
                    </a:lnTo>
                    <a:lnTo>
                      <a:pt x="34" y="41"/>
                    </a:lnTo>
                    <a:lnTo>
                      <a:pt x="34" y="41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0" y="44"/>
                    </a:lnTo>
                    <a:lnTo>
                      <a:pt x="29" y="44"/>
                    </a:lnTo>
                    <a:lnTo>
                      <a:pt x="29" y="45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8" y="19"/>
                    </a:lnTo>
                    <a:lnTo>
                      <a:pt x="10" y="15"/>
                    </a:lnTo>
                    <a:lnTo>
                      <a:pt x="13" y="14"/>
                    </a:lnTo>
                    <a:lnTo>
                      <a:pt x="15" y="11"/>
                    </a:lnTo>
                    <a:lnTo>
                      <a:pt x="19" y="9"/>
                    </a:lnTo>
                    <a:lnTo>
                      <a:pt x="21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2" y="4"/>
                    </a:lnTo>
                    <a:lnTo>
                      <a:pt x="36" y="3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0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5" y="1"/>
                    </a:lnTo>
                    <a:lnTo>
                      <a:pt x="70" y="1"/>
                    </a:lnTo>
                    <a:lnTo>
                      <a:pt x="74" y="3"/>
                    </a:lnTo>
                    <a:lnTo>
                      <a:pt x="80" y="4"/>
                    </a:lnTo>
                    <a:lnTo>
                      <a:pt x="84" y="8"/>
                    </a:lnTo>
                    <a:lnTo>
                      <a:pt x="88" y="9"/>
                    </a:lnTo>
                    <a:lnTo>
                      <a:pt x="91" y="12"/>
                    </a:lnTo>
                    <a:lnTo>
                      <a:pt x="95" y="15"/>
                    </a:lnTo>
                    <a:lnTo>
                      <a:pt x="99" y="19"/>
                    </a:lnTo>
                    <a:lnTo>
                      <a:pt x="101" y="22"/>
                    </a:lnTo>
                    <a:lnTo>
                      <a:pt x="103" y="25"/>
                    </a:lnTo>
                    <a:lnTo>
                      <a:pt x="105" y="30"/>
                    </a:lnTo>
                    <a:lnTo>
                      <a:pt x="107" y="33"/>
                    </a:lnTo>
                    <a:lnTo>
                      <a:pt x="107" y="38"/>
                    </a:lnTo>
                    <a:lnTo>
                      <a:pt x="107" y="42"/>
                    </a:lnTo>
                    <a:lnTo>
                      <a:pt x="107" y="44"/>
                    </a:lnTo>
                    <a:lnTo>
                      <a:pt x="107" y="47"/>
                    </a:lnTo>
                    <a:lnTo>
                      <a:pt x="107" y="49"/>
                    </a:lnTo>
                    <a:lnTo>
                      <a:pt x="105" y="52"/>
                    </a:lnTo>
                    <a:lnTo>
                      <a:pt x="105" y="53"/>
                    </a:lnTo>
                    <a:lnTo>
                      <a:pt x="103" y="56"/>
                    </a:lnTo>
                    <a:lnTo>
                      <a:pt x="103" y="58"/>
                    </a:lnTo>
                    <a:lnTo>
                      <a:pt x="101" y="61"/>
                    </a:lnTo>
                    <a:lnTo>
                      <a:pt x="99" y="63"/>
                    </a:lnTo>
                    <a:lnTo>
                      <a:pt x="97" y="64"/>
                    </a:lnTo>
                    <a:lnTo>
                      <a:pt x="97" y="66"/>
                    </a:lnTo>
                    <a:lnTo>
                      <a:pt x="95" y="68"/>
                    </a:lnTo>
                    <a:lnTo>
                      <a:pt x="91" y="69"/>
                    </a:lnTo>
                    <a:lnTo>
                      <a:pt x="89" y="71"/>
                    </a:lnTo>
                    <a:lnTo>
                      <a:pt x="88" y="72"/>
                    </a:lnTo>
                    <a:lnTo>
                      <a:pt x="86" y="74"/>
                    </a:lnTo>
                    <a:lnTo>
                      <a:pt x="88" y="74"/>
                    </a:lnTo>
                    <a:lnTo>
                      <a:pt x="89" y="75"/>
                    </a:lnTo>
                    <a:lnTo>
                      <a:pt x="91" y="77"/>
                    </a:lnTo>
                    <a:lnTo>
                      <a:pt x="95" y="79"/>
                    </a:lnTo>
                    <a:lnTo>
                      <a:pt x="97" y="80"/>
                    </a:lnTo>
                    <a:lnTo>
                      <a:pt x="97" y="82"/>
                    </a:lnTo>
                    <a:lnTo>
                      <a:pt x="99" y="85"/>
                    </a:lnTo>
                    <a:lnTo>
                      <a:pt x="101" y="86"/>
                    </a:lnTo>
                    <a:lnTo>
                      <a:pt x="103" y="88"/>
                    </a:lnTo>
                    <a:lnTo>
                      <a:pt x="103" y="91"/>
                    </a:lnTo>
                    <a:lnTo>
                      <a:pt x="105" y="93"/>
                    </a:lnTo>
                    <a:lnTo>
                      <a:pt x="105" y="96"/>
                    </a:lnTo>
                    <a:lnTo>
                      <a:pt x="107" y="98"/>
                    </a:lnTo>
                    <a:lnTo>
                      <a:pt x="107" y="101"/>
                    </a:lnTo>
                    <a:lnTo>
                      <a:pt x="107" y="102"/>
                    </a:lnTo>
                    <a:lnTo>
                      <a:pt x="107" y="105"/>
                    </a:lnTo>
                    <a:lnTo>
                      <a:pt x="107" y="110"/>
                    </a:lnTo>
                    <a:lnTo>
                      <a:pt x="107" y="113"/>
                    </a:lnTo>
                    <a:lnTo>
                      <a:pt x="105" y="118"/>
                    </a:lnTo>
                    <a:lnTo>
                      <a:pt x="103" y="123"/>
                    </a:lnTo>
                    <a:lnTo>
                      <a:pt x="101" y="126"/>
                    </a:lnTo>
                    <a:lnTo>
                      <a:pt x="99" y="129"/>
                    </a:lnTo>
                    <a:lnTo>
                      <a:pt x="95" y="132"/>
                    </a:lnTo>
                    <a:lnTo>
                      <a:pt x="91" y="135"/>
                    </a:lnTo>
                    <a:lnTo>
                      <a:pt x="88" y="139"/>
                    </a:lnTo>
                    <a:lnTo>
                      <a:pt x="82" y="142"/>
                    </a:lnTo>
                    <a:lnTo>
                      <a:pt x="78" y="143"/>
                    </a:lnTo>
                    <a:lnTo>
                      <a:pt x="74" y="145"/>
                    </a:lnTo>
                    <a:lnTo>
                      <a:pt x="69" y="146"/>
                    </a:lnTo>
                    <a:lnTo>
                      <a:pt x="63" y="148"/>
                    </a:lnTo>
                    <a:lnTo>
                      <a:pt x="57" y="148"/>
                    </a:lnTo>
                    <a:lnTo>
                      <a:pt x="51" y="148"/>
                    </a:lnTo>
                    <a:lnTo>
                      <a:pt x="48" y="148"/>
                    </a:lnTo>
                    <a:lnTo>
                      <a:pt x="44" y="148"/>
                    </a:lnTo>
                    <a:lnTo>
                      <a:pt x="38" y="148"/>
                    </a:lnTo>
                    <a:lnTo>
                      <a:pt x="34" y="146"/>
                    </a:lnTo>
                    <a:lnTo>
                      <a:pt x="30" y="146"/>
                    </a:lnTo>
                    <a:lnTo>
                      <a:pt x="29" y="145"/>
                    </a:lnTo>
                    <a:lnTo>
                      <a:pt x="25" y="143"/>
                    </a:lnTo>
                    <a:lnTo>
                      <a:pt x="21" y="142"/>
                    </a:lnTo>
                    <a:lnTo>
                      <a:pt x="17" y="140"/>
                    </a:lnTo>
                    <a:lnTo>
                      <a:pt x="15" y="139"/>
                    </a:lnTo>
                    <a:lnTo>
                      <a:pt x="11" y="137"/>
                    </a:lnTo>
                    <a:lnTo>
                      <a:pt x="10" y="134"/>
                    </a:lnTo>
                    <a:lnTo>
                      <a:pt x="6" y="132"/>
                    </a:lnTo>
                    <a:lnTo>
                      <a:pt x="4" y="129"/>
                    </a:lnTo>
                    <a:lnTo>
                      <a:pt x="2" y="126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72240" y="2733840"/>
                <a:ext cx="190800" cy="234720"/>
              </a:xfrm>
              <a:custGeom>
                <a:avLst/>
                <a:gdLst/>
                <a:ahLst/>
                <a:rect l="l" t="t" r="r" b="b"/>
                <a:pathLst>
                  <a:path w="129" h="148">
                    <a:moveTo>
                      <a:pt x="62" y="0"/>
                    </a:moveTo>
                    <a:lnTo>
                      <a:pt x="70" y="0"/>
                    </a:lnTo>
                    <a:lnTo>
                      <a:pt x="78" y="1"/>
                    </a:lnTo>
                    <a:lnTo>
                      <a:pt x="83" y="3"/>
                    </a:lnTo>
                    <a:lnTo>
                      <a:pt x="89" y="4"/>
                    </a:lnTo>
                    <a:lnTo>
                      <a:pt x="95" y="8"/>
                    </a:lnTo>
                    <a:lnTo>
                      <a:pt x="100" y="12"/>
                    </a:lnTo>
                    <a:lnTo>
                      <a:pt x="104" y="15"/>
                    </a:lnTo>
                    <a:lnTo>
                      <a:pt x="110" y="20"/>
                    </a:lnTo>
                    <a:lnTo>
                      <a:pt x="114" y="26"/>
                    </a:lnTo>
                    <a:lnTo>
                      <a:pt x="117" y="31"/>
                    </a:lnTo>
                    <a:lnTo>
                      <a:pt x="121" y="38"/>
                    </a:lnTo>
                    <a:lnTo>
                      <a:pt x="123" y="44"/>
                    </a:lnTo>
                    <a:lnTo>
                      <a:pt x="125" y="52"/>
                    </a:lnTo>
                    <a:lnTo>
                      <a:pt x="127" y="58"/>
                    </a:lnTo>
                    <a:lnTo>
                      <a:pt x="127" y="66"/>
                    </a:lnTo>
                    <a:lnTo>
                      <a:pt x="129" y="74"/>
                    </a:lnTo>
                    <a:lnTo>
                      <a:pt x="127" y="82"/>
                    </a:lnTo>
                    <a:lnTo>
                      <a:pt x="127" y="90"/>
                    </a:lnTo>
                    <a:lnTo>
                      <a:pt x="125" y="98"/>
                    </a:lnTo>
                    <a:lnTo>
                      <a:pt x="123" y="104"/>
                    </a:lnTo>
                    <a:lnTo>
                      <a:pt x="121" y="110"/>
                    </a:lnTo>
                    <a:lnTo>
                      <a:pt x="117" y="116"/>
                    </a:lnTo>
                    <a:lnTo>
                      <a:pt x="114" y="123"/>
                    </a:lnTo>
                    <a:lnTo>
                      <a:pt x="110" y="128"/>
                    </a:lnTo>
                    <a:lnTo>
                      <a:pt x="106" y="132"/>
                    </a:lnTo>
                    <a:lnTo>
                      <a:pt x="100" y="137"/>
                    </a:lnTo>
                    <a:lnTo>
                      <a:pt x="95" y="140"/>
                    </a:lnTo>
                    <a:lnTo>
                      <a:pt x="89" y="143"/>
                    </a:lnTo>
                    <a:lnTo>
                      <a:pt x="83" y="145"/>
                    </a:lnTo>
                    <a:lnTo>
                      <a:pt x="78" y="146"/>
                    </a:lnTo>
                    <a:lnTo>
                      <a:pt x="70" y="148"/>
                    </a:lnTo>
                    <a:lnTo>
                      <a:pt x="62" y="148"/>
                    </a:lnTo>
                    <a:lnTo>
                      <a:pt x="57" y="148"/>
                    </a:lnTo>
                    <a:lnTo>
                      <a:pt x="49" y="146"/>
                    </a:lnTo>
                    <a:lnTo>
                      <a:pt x="43" y="145"/>
                    </a:lnTo>
                    <a:lnTo>
                      <a:pt x="38" y="143"/>
                    </a:lnTo>
                    <a:lnTo>
                      <a:pt x="32" y="140"/>
                    </a:lnTo>
                    <a:lnTo>
                      <a:pt x="26" y="137"/>
                    </a:lnTo>
                    <a:lnTo>
                      <a:pt x="21" y="132"/>
                    </a:lnTo>
                    <a:lnTo>
                      <a:pt x="17" y="128"/>
                    </a:lnTo>
                    <a:lnTo>
                      <a:pt x="13" y="123"/>
                    </a:lnTo>
                    <a:lnTo>
                      <a:pt x="9" y="116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2" y="98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66"/>
                    </a:lnTo>
                    <a:lnTo>
                      <a:pt x="0" y="58"/>
                    </a:lnTo>
                    <a:lnTo>
                      <a:pt x="2" y="52"/>
                    </a:lnTo>
                    <a:lnTo>
                      <a:pt x="3" y="44"/>
                    </a:lnTo>
                    <a:lnTo>
                      <a:pt x="5" y="38"/>
                    </a:lnTo>
                    <a:lnTo>
                      <a:pt x="9" y="31"/>
                    </a:lnTo>
                    <a:lnTo>
                      <a:pt x="13" y="26"/>
                    </a:lnTo>
                    <a:lnTo>
                      <a:pt x="17" y="20"/>
                    </a:lnTo>
                    <a:lnTo>
                      <a:pt x="22" y="15"/>
                    </a:lnTo>
                    <a:lnTo>
                      <a:pt x="26" y="11"/>
                    </a:lnTo>
                    <a:lnTo>
                      <a:pt x="32" y="8"/>
                    </a:lnTo>
                    <a:lnTo>
                      <a:pt x="38" y="4"/>
                    </a:lnTo>
                    <a:lnTo>
                      <a:pt x="43" y="3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2" y="0"/>
                    </a:lnTo>
                    <a:close/>
                    <a:moveTo>
                      <a:pt x="62" y="38"/>
                    </a:moveTo>
                    <a:lnTo>
                      <a:pt x="60" y="38"/>
                    </a:lnTo>
                    <a:lnTo>
                      <a:pt x="59" y="39"/>
                    </a:lnTo>
                    <a:lnTo>
                      <a:pt x="57" y="39"/>
                    </a:lnTo>
                    <a:lnTo>
                      <a:pt x="55" y="41"/>
                    </a:lnTo>
                    <a:lnTo>
                      <a:pt x="53" y="42"/>
                    </a:lnTo>
                    <a:lnTo>
                      <a:pt x="53" y="44"/>
                    </a:lnTo>
                    <a:lnTo>
                      <a:pt x="51" y="45"/>
                    </a:lnTo>
                    <a:lnTo>
                      <a:pt x="49" y="49"/>
                    </a:lnTo>
                    <a:lnTo>
                      <a:pt x="47" y="50"/>
                    </a:lnTo>
                    <a:lnTo>
                      <a:pt x="47" y="53"/>
                    </a:lnTo>
                    <a:lnTo>
                      <a:pt x="45" y="56"/>
                    </a:lnTo>
                    <a:lnTo>
                      <a:pt x="45" y="60"/>
                    </a:lnTo>
                    <a:lnTo>
                      <a:pt x="43" y="63"/>
                    </a:lnTo>
                    <a:lnTo>
                      <a:pt x="43" y="66"/>
                    </a:lnTo>
                    <a:lnTo>
                      <a:pt x="43" y="69"/>
                    </a:lnTo>
                    <a:lnTo>
                      <a:pt x="43" y="74"/>
                    </a:lnTo>
                    <a:lnTo>
                      <a:pt x="43" y="77"/>
                    </a:lnTo>
                    <a:lnTo>
                      <a:pt x="43" y="82"/>
                    </a:lnTo>
                    <a:lnTo>
                      <a:pt x="43" y="85"/>
                    </a:lnTo>
                    <a:lnTo>
                      <a:pt x="45" y="88"/>
                    </a:lnTo>
                    <a:lnTo>
                      <a:pt x="45" y="91"/>
                    </a:lnTo>
                    <a:lnTo>
                      <a:pt x="47" y="94"/>
                    </a:lnTo>
                    <a:lnTo>
                      <a:pt x="47" y="98"/>
                    </a:lnTo>
                    <a:lnTo>
                      <a:pt x="49" y="101"/>
                    </a:lnTo>
                    <a:lnTo>
                      <a:pt x="51" y="102"/>
                    </a:lnTo>
                    <a:lnTo>
                      <a:pt x="51" y="104"/>
                    </a:lnTo>
                    <a:lnTo>
                      <a:pt x="53" y="105"/>
                    </a:lnTo>
                    <a:lnTo>
                      <a:pt x="55" y="107"/>
                    </a:lnTo>
                    <a:lnTo>
                      <a:pt x="57" y="109"/>
                    </a:lnTo>
                    <a:lnTo>
                      <a:pt x="59" y="110"/>
                    </a:lnTo>
                    <a:lnTo>
                      <a:pt x="60" y="110"/>
                    </a:lnTo>
                    <a:lnTo>
                      <a:pt x="62" y="110"/>
                    </a:lnTo>
                    <a:lnTo>
                      <a:pt x="66" y="110"/>
                    </a:lnTo>
                    <a:lnTo>
                      <a:pt x="68" y="110"/>
                    </a:lnTo>
                    <a:lnTo>
                      <a:pt x="70" y="109"/>
                    </a:lnTo>
                    <a:lnTo>
                      <a:pt x="72" y="107"/>
                    </a:lnTo>
                    <a:lnTo>
                      <a:pt x="74" y="105"/>
                    </a:lnTo>
                    <a:lnTo>
                      <a:pt x="74" y="104"/>
                    </a:lnTo>
                    <a:lnTo>
                      <a:pt x="76" y="102"/>
                    </a:lnTo>
                    <a:lnTo>
                      <a:pt x="78" y="101"/>
                    </a:lnTo>
                    <a:lnTo>
                      <a:pt x="79" y="98"/>
                    </a:lnTo>
                    <a:lnTo>
                      <a:pt x="79" y="94"/>
                    </a:lnTo>
                    <a:lnTo>
                      <a:pt x="81" y="91"/>
                    </a:lnTo>
                    <a:lnTo>
                      <a:pt x="81" y="88"/>
                    </a:lnTo>
                    <a:lnTo>
                      <a:pt x="83" y="85"/>
                    </a:lnTo>
                    <a:lnTo>
                      <a:pt x="83" y="82"/>
                    </a:lnTo>
                    <a:lnTo>
                      <a:pt x="83" y="79"/>
                    </a:lnTo>
                    <a:lnTo>
                      <a:pt x="83" y="74"/>
                    </a:lnTo>
                    <a:lnTo>
                      <a:pt x="83" y="71"/>
                    </a:lnTo>
                    <a:lnTo>
                      <a:pt x="83" y="66"/>
                    </a:lnTo>
                    <a:lnTo>
                      <a:pt x="83" y="63"/>
                    </a:lnTo>
                    <a:lnTo>
                      <a:pt x="81" y="60"/>
                    </a:lnTo>
                    <a:lnTo>
                      <a:pt x="81" y="56"/>
                    </a:lnTo>
                    <a:lnTo>
                      <a:pt x="79" y="53"/>
                    </a:lnTo>
                    <a:lnTo>
                      <a:pt x="79" y="50"/>
                    </a:lnTo>
                    <a:lnTo>
                      <a:pt x="78" y="49"/>
                    </a:lnTo>
                    <a:lnTo>
                      <a:pt x="76" y="45"/>
                    </a:lnTo>
                    <a:lnTo>
                      <a:pt x="74" y="44"/>
                    </a:lnTo>
                    <a:lnTo>
                      <a:pt x="74" y="42"/>
                    </a:lnTo>
                    <a:lnTo>
                      <a:pt x="72" y="41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6" y="38"/>
                    </a:lnTo>
                    <a:lnTo>
                      <a:pt x="62" y="3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79960" y="2733840"/>
                <a:ext cx="315000" cy="234720"/>
              </a:xfrm>
              <a:custGeom>
                <a:avLst/>
                <a:gdLst/>
                <a:ahLst/>
                <a:rect l="l" t="t" r="r" b="b"/>
                <a:pathLst>
                  <a:path w="213" h="148">
                    <a:moveTo>
                      <a:pt x="166" y="126"/>
                    </a:moveTo>
                    <a:lnTo>
                      <a:pt x="169" y="126"/>
                    </a:lnTo>
                    <a:lnTo>
                      <a:pt x="171" y="124"/>
                    </a:lnTo>
                    <a:lnTo>
                      <a:pt x="173" y="124"/>
                    </a:lnTo>
                    <a:lnTo>
                      <a:pt x="175" y="124"/>
                    </a:lnTo>
                    <a:lnTo>
                      <a:pt x="175" y="123"/>
                    </a:lnTo>
                    <a:lnTo>
                      <a:pt x="177" y="123"/>
                    </a:lnTo>
                    <a:lnTo>
                      <a:pt x="179" y="121"/>
                    </a:lnTo>
                    <a:lnTo>
                      <a:pt x="181" y="120"/>
                    </a:lnTo>
                    <a:lnTo>
                      <a:pt x="183" y="120"/>
                    </a:lnTo>
                    <a:lnTo>
                      <a:pt x="183" y="118"/>
                    </a:lnTo>
                    <a:lnTo>
                      <a:pt x="185" y="116"/>
                    </a:lnTo>
                    <a:lnTo>
                      <a:pt x="185" y="115"/>
                    </a:lnTo>
                    <a:lnTo>
                      <a:pt x="187" y="113"/>
                    </a:lnTo>
                    <a:lnTo>
                      <a:pt x="187" y="112"/>
                    </a:lnTo>
                    <a:lnTo>
                      <a:pt x="187" y="110"/>
                    </a:lnTo>
                    <a:lnTo>
                      <a:pt x="187" y="109"/>
                    </a:lnTo>
                    <a:lnTo>
                      <a:pt x="187" y="107"/>
                    </a:lnTo>
                    <a:lnTo>
                      <a:pt x="187" y="105"/>
                    </a:lnTo>
                    <a:lnTo>
                      <a:pt x="187" y="104"/>
                    </a:lnTo>
                    <a:lnTo>
                      <a:pt x="185" y="102"/>
                    </a:lnTo>
                    <a:lnTo>
                      <a:pt x="185" y="101"/>
                    </a:lnTo>
                    <a:lnTo>
                      <a:pt x="183" y="99"/>
                    </a:lnTo>
                    <a:lnTo>
                      <a:pt x="183" y="98"/>
                    </a:lnTo>
                    <a:lnTo>
                      <a:pt x="181" y="96"/>
                    </a:lnTo>
                    <a:lnTo>
                      <a:pt x="179" y="96"/>
                    </a:lnTo>
                    <a:lnTo>
                      <a:pt x="177" y="94"/>
                    </a:lnTo>
                    <a:lnTo>
                      <a:pt x="175" y="93"/>
                    </a:lnTo>
                    <a:lnTo>
                      <a:pt x="175" y="93"/>
                    </a:lnTo>
                    <a:lnTo>
                      <a:pt x="173" y="93"/>
                    </a:lnTo>
                    <a:lnTo>
                      <a:pt x="171" y="91"/>
                    </a:lnTo>
                    <a:lnTo>
                      <a:pt x="169" y="91"/>
                    </a:lnTo>
                    <a:lnTo>
                      <a:pt x="166" y="91"/>
                    </a:lnTo>
                    <a:lnTo>
                      <a:pt x="164" y="91"/>
                    </a:lnTo>
                    <a:lnTo>
                      <a:pt x="162" y="91"/>
                    </a:lnTo>
                    <a:lnTo>
                      <a:pt x="160" y="93"/>
                    </a:lnTo>
                    <a:lnTo>
                      <a:pt x="158" y="93"/>
                    </a:lnTo>
                    <a:lnTo>
                      <a:pt x="158" y="93"/>
                    </a:lnTo>
                    <a:lnTo>
                      <a:pt x="156" y="94"/>
                    </a:lnTo>
                    <a:lnTo>
                      <a:pt x="154" y="96"/>
                    </a:lnTo>
                    <a:lnTo>
                      <a:pt x="152" y="96"/>
                    </a:lnTo>
                    <a:lnTo>
                      <a:pt x="150" y="98"/>
                    </a:lnTo>
                    <a:lnTo>
                      <a:pt x="150" y="99"/>
                    </a:lnTo>
                    <a:lnTo>
                      <a:pt x="149" y="101"/>
                    </a:lnTo>
                    <a:lnTo>
                      <a:pt x="149" y="102"/>
                    </a:lnTo>
                    <a:lnTo>
                      <a:pt x="147" y="104"/>
                    </a:lnTo>
                    <a:lnTo>
                      <a:pt x="147" y="105"/>
                    </a:lnTo>
                    <a:lnTo>
                      <a:pt x="147" y="107"/>
                    </a:lnTo>
                    <a:lnTo>
                      <a:pt x="147" y="109"/>
                    </a:lnTo>
                    <a:lnTo>
                      <a:pt x="147" y="110"/>
                    </a:lnTo>
                    <a:lnTo>
                      <a:pt x="147" y="112"/>
                    </a:lnTo>
                    <a:lnTo>
                      <a:pt x="147" y="113"/>
                    </a:lnTo>
                    <a:lnTo>
                      <a:pt x="149" y="115"/>
                    </a:lnTo>
                    <a:lnTo>
                      <a:pt x="149" y="116"/>
                    </a:lnTo>
                    <a:lnTo>
                      <a:pt x="150" y="118"/>
                    </a:lnTo>
                    <a:lnTo>
                      <a:pt x="150" y="120"/>
                    </a:lnTo>
                    <a:lnTo>
                      <a:pt x="152" y="120"/>
                    </a:lnTo>
                    <a:lnTo>
                      <a:pt x="154" y="121"/>
                    </a:lnTo>
                    <a:lnTo>
                      <a:pt x="156" y="123"/>
                    </a:lnTo>
                    <a:lnTo>
                      <a:pt x="156" y="123"/>
                    </a:lnTo>
                    <a:lnTo>
                      <a:pt x="158" y="124"/>
                    </a:lnTo>
                    <a:lnTo>
                      <a:pt x="160" y="124"/>
                    </a:lnTo>
                    <a:lnTo>
                      <a:pt x="162" y="124"/>
                    </a:lnTo>
                    <a:lnTo>
                      <a:pt x="164" y="126"/>
                    </a:lnTo>
                    <a:lnTo>
                      <a:pt x="166" y="126"/>
                    </a:lnTo>
                    <a:close/>
                    <a:moveTo>
                      <a:pt x="166" y="148"/>
                    </a:moveTo>
                    <a:lnTo>
                      <a:pt x="162" y="148"/>
                    </a:lnTo>
                    <a:lnTo>
                      <a:pt x="156" y="148"/>
                    </a:lnTo>
                    <a:lnTo>
                      <a:pt x="152" y="146"/>
                    </a:lnTo>
                    <a:lnTo>
                      <a:pt x="149" y="145"/>
                    </a:lnTo>
                    <a:lnTo>
                      <a:pt x="145" y="143"/>
                    </a:lnTo>
                    <a:lnTo>
                      <a:pt x="141" y="142"/>
                    </a:lnTo>
                    <a:lnTo>
                      <a:pt x="137" y="140"/>
                    </a:lnTo>
                    <a:lnTo>
                      <a:pt x="133" y="137"/>
                    </a:lnTo>
                    <a:lnTo>
                      <a:pt x="130" y="134"/>
                    </a:lnTo>
                    <a:lnTo>
                      <a:pt x="128" y="131"/>
                    </a:lnTo>
                    <a:lnTo>
                      <a:pt x="124" y="128"/>
                    </a:lnTo>
                    <a:lnTo>
                      <a:pt x="122" y="124"/>
                    </a:lnTo>
                    <a:lnTo>
                      <a:pt x="122" y="120"/>
                    </a:lnTo>
                    <a:lnTo>
                      <a:pt x="120" y="116"/>
                    </a:lnTo>
                    <a:lnTo>
                      <a:pt x="120" y="113"/>
                    </a:lnTo>
                    <a:lnTo>
                      <a:pt x="120" y="109"/>
                    </a:lnTo>
                    <a:lnTo>
                      <a:pt x="120" y="104"/>
                    </a:lnTo>
                    <a:lnTo>
                      <a:pt x="120" y="101"/>
                    </a:lnTo>
                    <a:lnTo>
                      <a:pt x="122" y="98"/>
                    </a:lnTo>
                    <a:lnTo>
                      <a:pt x="122" y="93"/>
                    </a:lnTo>
                    <a:lnTo>
                      <a:pt x="124" y="90"/>
                    </a:lnTo>
                    <a:lnTo>
                      <a:pt x="128" y="86"/>
                    </a:lnTo>
                    <a:lnTo>
                      <a:pt x="130" y="83"/>
                    </a:lnTo>
                    <a:lnTo>
                      <a:pt x="133" y="80"/>
                    </a:lnTo>
                    <a:lnTo>
                      <a:pt x="137" y="77"/>
                    </a:lnTo>
                    <a:lnTo>
                      <a:pt x="141" y="75"/>
                    </a:lnTo>
                    <a:lnTo>
                      <a:pt x="145" y="74"/>
                    </a:lnTo>
                    <a:lnTo>
                      <a:pt x="149" y="72"/>
                    </a:lnTo>
                    <a:lnTo>
                      <a:pt x="152" y="71"/>
                    </a:lnTo>
                    <a:lnTo>
                      <a:pt x="156" y="69"/>
                    </a:lnTo>
                    <a:lnTo>
                      <a:pt x="162" y="69"/>
                    </a:lnTo>
                    <a:lnTo>
                      <a:pt x="166" y="69"/>
                    </a:lnTo>
                    <a:lnTo>
                      <a:pt x="171" y="69"/>
                    </a:lnTo>
                    <a:lnTo>
                      <a:pt x="175" y="69"/>
                    </a:lnTo>
                    <a:lnTo>
                      <a:pt x="181" y="71"/>
                    </a:lnTo>
                    <a:lnTo>
                      <a:pt x="185" y="72"/>
                    </a:lnTo>
                    <a:lnTo>
                      <a:pt x="188" y="74"/>
                    </a:lnTo>
                    <a:lnTo>
                      <a:pt x="192" y="75"/>
                    </a:lnTo>
                    <a:lnTo>
                      <a:pt x="196" y="77"/>
                    </a:lnTo>
                    <a:lnTo>
                      <a:pt x="200" y="80"/>
                    </a:lnTo>
                    <a:lnTo>
                      <a:pt x="204" y="83"/>
                    </a:lnTo>
                    <a:lnTo>
                      <a:pt x="206" y="86"/>
                    </a:lnTo>
                    <a:lnTo>
                      <a:pt x="209" y="90"/>
                    </a:lnTo>
                    <a:lnTo>
                      <a:pt x="211" y="93"/>
                    </a:lnTo>
                    <a:lnTo>
                      <a:pt x="211" y="98"/>
                    </a:lnTo>
                    <a:lnTo>
                      <a:pt x="213" y="101"/>
                    </a:lnTo>
                    <a:lnTo>
                      <a:pt x="213" y="105"/>
                    </a:lnTo>
                    <a:lnTo>
                      <a:pt x="213" y="109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1" y="120"/>
                    </a:lnTo>
                    <a:lnTo>
                      <a:pt x="211" y="124"/>
                    </a:lnTo>
                    <a:lnTo>
                      <a:pt x="209" y="128"/>
                    </a:lnTo>
                    <a:lnTo>
                      <a:pt x="206" y="131"/>
                    </a:lnTo>
                    <a:lnTo>
                      <a:pt x="204" y="134"/>
                    </a:lnTo>
                    <a:lnTo>
                      <a:pt x="200" y="137"/>
                    </a:lnTo>
                    <a:lnTo>
                      <a:pt x="196" y="140"/>
                    </a:lnTo>
                    <a:lnTo>
                      <a:pt x="192" y="142"/>
                    </a:lnTo>
                    <a:lnTo>
                      <a:pt x="188" y="143"/>
                    </a:lnTo>
                    <a:lnTo>
                      <a:pt x="185" y="145"/>
                    </a:lnTo>
                    <a:lnTo>
                      <a:pt x="181" y="146"/>
                    </a:lnTo>
                    <a:lnTo>
                      <a:pt x="175" y="148"/>
                    </a:lnTo>
                    <a:lnTo>
                      <a:pt x="171" y="148"/>
                    </a:lnTo>
                    <a:lnTo>
                      <a:pt x="166" y="148"/>
                    </a:lnTo>
                    <a:close/>
                    <a:moveTo>
                      <a:pt x="48" y="56"/>
                    </a:moveTo>
                    <a:lnTo>
                      <a:pt x="50" y="56"/>
                    </a:lnTo>
                    <a:lnTo>
                      <a:pt x="52" y="56"/>
                    </a:lnTo>
                    <a:lnTo>
                      <a:pt x="53" y="56"/>
                    </a:lnTo>
                    <a:lnTo>
                      <a:pt x="55" y="56"/>
                    </a:lnTo>
                    <a:lnTo>
                      <a:pt x="57" y="55"/>
                    </a:lnTo>
                    <a:lnTo>
                      <a:pt x="57" y="53"/>
                    </a:lnTo>
                    <a:lnTo>
                      <a:pt x="59" y="53"/>
                    </a:lnTo>
                    <a:lnTo>
                      <a:pt x="61" y="52"/>
                    </a:lnTo>
                    <a:lnTo>
                      <a:pt x="63" y="50"/>
                    </a:lnTo>
                    <a:lnTo>
                      <a:pt x="63" y="49"/>
                    </a:lnTo>
                    <a:lnTo>
                      <a:pt x="65" y="47"/>
                    </a:lnTo>
                    <a:lnTo>
                      <a:pt x="65" y="47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7" y="42"/>
                    </a:lnTo>
                    <a:lnTo>
                      <a:pt x="67" y="39"/>
                    </a:lnTo>
                    <a:lnTo>
                      <a:pt x="67" y="38"/>
                    </a:lnTo>
                    <a:lnTo>
                      <a:pt x="67" y="36"/>
                    </a:lnTo>
                    <a:lnTo>
                      <a:pt x="67" y="34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3" y="31"/>
                    </a:lnTo>
                    <a:lnTo>
                      <a:pt x="63" y="30"/>
                    </a:lnTo>
                    <a:lnTo>
                      <a:pt x="61" y="28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5" y="23"/>
                    </a:lnTo>
                    <a:lnTo>
                      <a:pt x="53" y="23"/>
                    </a:lnTo>
                    <a:lnTo>
                      <a:pt x="52" y="23"/>
                    </a:lnTo>
                    <a:lnTo>
                      <a:pt x="50" y="23"/>
                    </a:lnTo>
                    <a:lnTo>
                      <a:pt x="48" y="23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8" y="25"/>
                    </a:lnTo>
                    <a:lnTo>
                      <a:pt x="36" y="25"/>
                    </a:lnTo>
                    <a:lnTo>
                      <a:pt x="34" y="26"/>
                    </a:lnTo>
                    <a:lnTo>
                      <a:pt x="33" y="28"/>
                    </a:lnTo>
                    <a:lnTo>
                      <a:pt x="31" y="30"/>
                    </a:lnTo>
                    <a:lnTo>
                      <a:pt x="31" y="31"/>
                    </a:lnTo>
                    <a:lnTo>
                      <a:pt x="29" y="31"/>
                    </a:lnTo>
                    <a:lnTo>
                      <a:pt x="29" y="33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7" y="38"/>
                    </a:lnTo>
                    <a:lnTo>
                      <a:pt x="27" y="39"/>
                    </a:lnTo>
                    <a:lnTo>
                      <a:pt x="27" y="42"/>
                    </a:lnTo>
                    <a:lnTo>
                      <a:pt x="27" y="44"/>
                    </a:lnTo>
                    <a:lnTo>
                      <a:pt x="27" y="45"/>
                    </a:lnTo>
                    <a:lnTo>
                      <a:pt x="29" y="47"/>
                    </a:lnTo>
                    <a:lnTo>
                      <a:pt x="29" y="49"/>
                    </a:lnTo>
                    <a:lnTo>
                      <a:pt x="31" y="49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4" y="53"/>
                    </a:lnTo>
                    <a:lnTo>
                      <a:pt x="36" y="55"/>
                    </a:lnTo>
                    <a:lnTo>
                      <a:pt x="38" y="55"/>
                    </a:lnTo>
                    <a:lnTo>
                      <a:pt x="40" y="56"/>
                    </a:lnTo>
                    <a:lnTo>
                      <a:pt x="42" y="56"/>
                    </a:lnTo>
                    <a:lnTo>
                      <a:pt x="44" y="56"/>
                    </a:lnTo>
                    <a:lnTo>
                      <a:pt x="46" y="56"/>
                    </a:lnTo>
                    <a:lnTo>
                      <a:pt x="48" y="56"/>
                    </a:lnTo>
                    <a:close/>
                    <a:moveTo>
                      <a:pt x="48" y="80"/>
                    </a:moveTo>
                    <a:lnTo>
                      <a:pt x="42" y="80"/>
                    </a:lnTo>
                    <a:lnTo>
                      <a:pt x="38" y="79"/>
                    </a:lnTo>
                    <a:lnTo>
                      <a:pt x="33" y="79"/>
                    </a:lnTo>
                    <a:lnTo>
                      <a:pt x="29" y="77"/>
                    </a:lnTo>
                    <a:lnTo>
                      <a:pt x="25" y="75"/>
                    </a:lnTo>
                    <a:lnTo>
                      <a:pt x="21" y="74"/>
                    </a:lnTo>
                    <a:lnTo>
                      <a:pt x="17" y="71"/>
                    </a:lnTo>
                    <a:lnTo>
                      <a:pt x="14" y="68"/>
                    </a:lnTo>
                    <a:lnTo>
                      <a:pt x="10" y="64"/>
                    </a:lnTo>
                    <a:lnTo>
                      <a:pt x="8" y="61"/>
                    </a:lnTo>
                    <a:lnTo>
                      <a:pt x="4" y="58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25"/>
                    </a:lnTo>
                    <a:lnTo>
                      <a:pt x="4" y="22"/>
                    </a:lnTo>
                    <a:lnTo>
                      <a:pt x="8" y="19"/>
                    </a:lnTo>
                    <a:lnTo>
                      <a:pt x="10" y="15"/>
                    </a:lnTo>
                    <a:lnTo>
                      <a:pt x="14" y="12"/>
                    </a:lnTo>
                    <a:lnTo>
                      <a:pt x="17" y="9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29" y="3"/>
                    </a:lnTo>
                    <a:lnTo>
                      <a:pt x="33" y="1"/>
                    </a:lnTo>
                    <a:lnTo>
                      <a:pt x="38" y="1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5" y="3"/>
                    </a:lnTo>
                    <a:lnTo>
                      <a:pt x="69" y="4"/>
                    </a:lnTo>
                    <a:lnTo>
                      <a:pt x="72" y="6"/>
                    </a:lnTo>
                    <a:lnTo>
                      <a:pt x="76" y="9"/>
                    </a:lnTo>
                    <a:lnTo>
                      <a:pt x="80" y="12"/>
                    </a:lnTo>
                    <a:lnTo>
                      <a:pt x="84" y="15"/>
                    </a:lnTo>
                    <a:lnTo>
                      <a:pt x="86" y="19"/>
                    </a:lnTo>
                    <a:lnTo>
                      <a:pt x="90" y="22"/>
                    </a:lnTo>
                    <a:lnTo>
                      <a:pt x="91" y="25"/>
                    </a:lnTo>
                    <a:lnTo>
                      <a:pt x="93" y="28"/>
                    </a:lnTo>
                    <a:lnTo>
                      <a:pt x="93" y="31"/>
                    </a:lnTo>
                    <a:lnTo>
                      <a:pt x="93" y="36"/>
                    </a:lnTo>
                    <a:lnTo>
                      <a:pt x="95" y="41"/>
                    </a:lnTo>
                    <a:lnTo>
                      <a:pt x="93" y="44"/>
                    </a:lnTo>
                    <a:lnTo>
                      <a:pt x="93" y="49"/>
                    </a:lnTo>
                    <a:lnTo>
                      <a:pt x="93" y="52"/>
                    </a:lnTo>
                    <a:lnTo>
                      <a:pt x="91" y="55"/>
                    </a:lnTo>
                    <a:lnTo>
                      <a:pt x="90" y="58"/>
                    </a:lnTo>
                    <a:lnTo>
                      <a:pt x="88" y="61"/>
                    </a:lnTo>
                    <a:lnTo>
                      <a:pt x="84" y="64"/>
                    </a:lnTo>
                    <a:lnTo>
                      <a:pt x="80" y="68"/>
                    </a:lnTo>
                    <a:lnTo>
                      <a:pt x="76" y="71"/>
                    </a:lnTo>
                    <a:lnTo>
                      <a:pt x="74" y="74"/>
                    </a:lnTo>
                    <a:lnTo>
                      <a:pt x="69" y="75"/>
                    </a:lnTo>
                    <a:lnTo>
                      <a:pt x="65" y="77"/>
                    </a:lnTo>
                    <a:lnTo>
                      <a:pt x="61" y="79"/>
                    </a:lnTo>
                    <a:lnTo>
                      <a:pt x="57" y="79"/>
                    </a:lnTo>
                    <a:lnTo>
                      <a:pt x="52" y="80"/>
                    </a:lnTo>
                    <a:lnTo>
                      <a:pt x="48" y="80"/>
                    </a:lnTo>
                    <a:close/>
                    <a:moveTo>
                      <a:pt x="46" y="146"/>
                    </a:moveTo>
                    <a:lnTo>
                      <a:pt x="141" y="3"/>
                    </a:lnTo>
                    <a:lnTo>
                      <a:pt x="168" y="3"/>
                    </a:lnTo>
                    <a:lnTo>
                      <a:pt x="72" y="146"/>
                    </a:lnTo>
                    <a:lnTo>
                      <a:pt x="46" y="14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48240" y="3081240"/>
                <a:ext cx="233640" cy="250920"/>
              </a:xfrm>
              <a:custGeom>
                <a:avLst/>
                <a:gdLst/>
                <a:ahLst/>
                <a:rect l="l" t="t" r="r" b="b"/>
                <a:pathLst>
                  <a:path w="158" h="158">
                    <a:moveTo>
                      <a:pt x="158" y="150"/>
                    </a:moveTo>
                    <a:lnTo>
                      <a:pt x="154" y="150"/>
                    </a:lnTo>
                    <a:lnTo>
                      <a:pt x="152" y="152"/>
                    </a:lnTo>
                    <a:lnTo>
                      <a:pt x="148" y="153"/>
                    </a:lnTo>
                    <a:lnTo>
                      <a:pt x="145" y="153"/>
                    </a:lnTo>
                    <a:lnTo>
                      <a:pt x="141" y="155"/>
                    </a:lnTo>
                    <a:lnTo>
                      <a:pt x="137" y="155"/>
                    </a:lnTo>
                    <a:lnTo>
                      <a:pt x="133" y="155"/>
                    </a:lnTo>
                    <a:lnTo>
                      <a:pt x="129" y="156"/>
                    </a:lnTo>
                    <a:lnTo>
                      <a:pt x="126" y="156"/>
                    </a:lnTo>
                    <a:lnTo>
                      <a:pt x="122" y="158"/>
                    </a:lnTo>
                    <a:lnTo>
                      <a:pt x="118" y="158"/>
                    </a:lnTo>
                    <a:lnTo>
                      <a:pt x="114" y="158"/>
                    </a:lnTo>
                    <a:lnTo>
                      <a:pt x="110" y="158"/>
                    </a:lnTo>
                    <a:lnTo>
                      <a:pt x="106" y="158"/>
                    </a:lnTo>
                    <a:lnTo>
                      <a:pt x="103" y="158"/>
                    </a:lnTo>
                    <a:lnTo>
                      <a:pt x="97" y="158"/>
                    </a:lnTo>
                    <a:lnTo>
                      <a:pt x="87" y="158"/>
                    </a:lnTo>
                    <a:lnTo>
                      <a:pt x="76" y="158"/>
                    </a:lnTo>
                    <a:lnTo>
                      <a:pt x="67" y="155"/>
                    </a:lnTo>
                    <a:lnTo>
                      <a:pt x="57" y="153"/>
                    </a:lnTo>
                    <a:lnTo>
                      <a:pt x="48" y="150"/>
                    </a:lnTo>
                    <a:lnTo>
                      <a:pt x="40" y="147"/>
                    </a:lnTo>
                    <a:lnTo>
                      <a:pt x="32" y="142"/>
                    </a:lnTo>
                    <a:lnTo>
                      <a:pt x="27" y="137"/>
                    </a:lnTo>
                    <a:lnTo>
                      <a:pt x="19" y="133"/>
                    </a:lnTo>
                    <a:lnTo>
                      <a:pt x="15" y="126"/>
                    </a:lnTo>
                    <a:lnTo>
                      <a:pt x="10" y="120"/>
                    </a:lnTo>
                    <a:lnTo>
                      <a:pt x="6" y="114"/>
                    </a:lnTo>
                    <a:lnTo>
                      <a:pt x="4" y="106"/>
                    </a:lnTo>
                    <a:lnTo>
                      <a:pt x="2" y="98"/>
                    </a:lnTo>
                    <a:lnTo>
                      <a:pt x="0" y="90"/>
                    </a:lnTo>
                    <a:lnTo>
                      <a:pt x="0" y="81"/>
                    </a:lnTo>
                    <a:lnTo>
                      <a:pt x="0" y="73"/>
                    </a:lnTo>
                    <a:lnTo>
                      <a:pt x="2" y="65"/>
                    </a:lnTo>
                    <a:lnTo>
                      <a:pt x="4" y="57"/>
                    </a:lnTo>
                    <a:lnTo>
                      <a:pt x="6" y="49"/>
                    </a:lnTo>
                    <a:lnTo>
                      <a:pt x="10" y="43"/>
                    </a:lnTo>
                    <a:lnTo>
                      <a:pt x="15" y="35"/>
                    </a:lnTo>
                    <a:lnTo>
                      <a:pt x="21" y="29"/>
                    </a:lnTo>
                    <a:lnTo>
                      <a:pt x="27" y="24"/>
                    </a:lnTo>
                    <a:lnTo>
                      <a:pt x="34" y="17"/>
                    </a:lnTo>
                    <a:lnTo>
                      <a:pt x="42" y="13"/>
                    </a:lnTo>
                    <a:lnTo>
                      <a:pt x="49" y="10"/>
                    </a:lnTo>
                    <a:lnTo>
                      <a:pt x="59" y="6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7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08" y="0"/>
                    </a:lnTo>
                    <a:lnTo>
                      <a:pt x="112" y="2"/>
                    </a:lnTo>
                    <a:lnTo>
                      <a:pt x="116" y="2"/>
                    </a:lnTo>
                    <a:lnTo>
                      <a:pt x="120" y="2"/>
                    </a:lnTo>
                    <a:lnTo>
                      <a:pt x="124" y="3"/>
                    </a:lnTo>
                    <a:lnTo>
                      <a:pt x="127" y="5"/>
                    </a:lnTo>
                    <a:lnTo>
                      <a:pt x="131" y="5"/>
                    </a:lnTo>
                    <a:lnTo>
                      <a:pt x="135" y="6"/>
                    </a:lnTo>
                    <a:lnTo>
                      <a:pt x="139" y="8"/>
                    </a:lnTo>
                    <a:lnTo>
                      <a:pt x="141" y="8"/>
                    </a:lnTo>
                    <a:lnTo>
                      <a:pt x="145" y="10"/>
                    </a:lnTo>
                    <a:lnTo>
                      <a:pt x="148" y="11"/>
                    </a:lnTo>
                    <a:lnTo>
                      <a:pt x="152" y="13"/>
                    </a:lnTo>
                    <a:lnTo>
                      <a:pt x="154" y="14"/>
                    </a:lnTo>
                    <a:lnTo>
                      <a:pt x="135" y="51"/>
                    </a:lnTo>
                    <a:lnTo>
                      <a:pt x="133" y="51"/>
                    </a:lnTo>
                    <a:lnTo>
                      <a:pt x="129" y="49"/>
                    </a:lnTo>
                    <a:lnTo>
                      <a:pt x="127" y="47"/>
                    </a:lnTo>
                    <a:lnTo>
                      <a:pt x="124" y="46"/>
                    </a:lnTo>
                    <a:lnTo>
                      <a:pt x="122" y="46"/>
                    </a:lnTo>
                    <a:lnTo>
                      <a:pt x="120" y="44"/>
                    </a:lnTo>
                    <a:lnTo>
                      <a:pt x="116" y="44"/>
                    </a:lnTo>
                    <a:lnTo>
                      <a:pt x="114" y="43"/>
                    </a:lnTo>
                    <a:lnTo>
                      <a:pt x="112" y="43"/>
                    </a:lnTo>
                    <a:lnTo>
                      <a:pt x="110" y="43"/>
                    </a:lnTo>
                    <a:lnTo>
                      <a:pt x="106" y="43"/>
                    </a:lnTo>
                    <a:lnTo>
                      <a:pt x="105" y="41"/>
                    </a:lnTo>
                    <a:lnTo>
                      <a:pt x="103" y="41"/>
                    </a:lnTo>
                    <a:lnTo>
                      <a:pt x="101" y="41"/>
                    </a:lnTo>
                    <a:lnTo>
                      <a:pt x="97" y="41"/>
                    </a:lnTo>
                    <a:lnTo>
                      <a:pt x="95" y="41"/>
                    </a:lnTo>
                    <a:lnTo>
                      <a:pt x="89" y="41"/>
                    </a:lnTo>
                    <a:lnTo>
                      <a:pt x="86" y="41"/>
                    </a:lnTo>
                    <a:lnTo>
                      <a:pt x="80" y="43"/>
                    </a:lnTo>
                    <a:lnTo>
                      <a:pt x="76" y="44"/>
                    </a:lnTo>
                    <a:lnTo>
                      <a:pt x="72" y="46"/>
                    </a:lnTo>
                    <a:lnTo>
                      <a:pt x="68" y="47"/>
                    </a:lnTo>
                    <a:lnTo>
                      <a:pt x="65" y="49"/>
                    </a:lnTo>
                    <a:lnTo>
                      <a:pt x="61" y="52"/>
                    </a:lnTo>
                    <a:lnTo>
                      <a:pt x="57" y="55"/>
                    </a:lnTo>
                    <a:lnTo>
                      <a:pt x="55" y="58"/>
                    </a:lnTo>
                    <a:lnTo>
                      <a:pt x="53" y="62"/>
                    </a:lnTo>
                    <a:lnTo>
                      <a:pt x="51" y="65"/>
                    </a:lnTo>
                    <a:lnTo>
                      <a:pt x="49" y="68"/>
                    </a:lnTo>
                    <a:lnTo>
                      <a:pt x="49" y="73"/>
                    </a:lnTo>
                    <a:lnTo>
                      <a:pt x="48" y="76"/>
                    </a:lnTo>
                    <a:lnTo>
                      <a:pt x="48" y="81"/>
                    </a:lnTo>
                    <a:lnTo>
                      <a:pt x="48" y="85"/>
                    </a:lnTo>
                    <a:lnTo>
                      <a:pt x="48" y="88"/>
                    </a:lnTo>
                    <a:lnTo>
                      <a:pt x="49" y="92"/>
                    </a:lnTo>
                    <a:lnTo>
                      <a:pt x="51" y="95"/>
                    </a:lnTo>
                    <a:lnTo>
                      <a:pt x="53" y="98"/>
                    </a:lnTo>
                    <a:lnTo>
                      <a:pt x="55" y="101"/>
                    </a:lnTo>
                    <a:lnTo>
                      <a:pt x="57" y="104"/>
                    </a:lnTo>
                    <a:lnTo>
                      <a:pt x="61" y="107"/>
                    </a:lnTo>
                    <a:lnTo>
                      <a:pt x="63" y="109"/>
                    </a:lnTo>
                    <a:lnTo>
                      <a:pt x="67" y="112"/>
                    </a:lnTo>
                    <a:lnTo>
                      <a:pt x="70" y="114"/>
                    </a:lnTo>
                    <a:lnTo>
                      <a:pt x="74" y="115"/>
                    </a:lnTo>
                    <a:lnTo>
                      <a:pt x="78" y="115"/>
                    </a:lnTo>
                    <a:lnTo>
                      <a:pt x="82" y="117"/>
                    </a:lnTo>
                    <a:lnTo>
                      <a:pt x="87" y="117"/>
                    </a:lnTo>
                    <a:lnTo>
                      <a:pt x="91" y="117"/>
                    </a:lnTo>
                    <a:lnTo>
                      <a:pt x="93" y="117"/>
                    </a:lnTo>
                    <a:lnTo>
                      <a:pt x="95" y="117"/>
                    </a:lnTo>
                    <a:lnTo>
                      <a:pt x="95" y="117"/>
                    </a:lnTo>
                    <a:lnTo>
                      <a:pt x="97" y="117"/>
                    </a:lnTo>
                    <a:lnTo>
                      <a:pt x="97" y="117"/>
                    </a:lnTo>
                    <a:lnTo>
                      <a:pt x="99" y="117"/>
                    </a:lnTo>
                    <a:lnTo>
                      <a:pt x="101" y="117"/>
                    </a:lnTo>
                    <a:lnTo>
                      <a:pt x="101" y="117"/>
                    </a:lnTo>
                    <a:lnTo>
                      <a:pt x="103" y="117"/>
                    </a:lnTo>
                    <a:lnTo>
                      <a:pt x="103" y="117"/>
                    </a:lnTo>
                    <a:lnTo>
                      <a:pt x="105" y="115"/>
                    </a:lnTo>
                    <a:lnTo>
                      <a:pt x="106" y="115"/>
                    </a:lnTo>
                    <a:lnTo>
                      <a:pt x="106" y="115"/>
                    </a:lnTo>
                    <a:lnTo>
                      <a:pt x="108" y="115"/>
                    </a:lnTo>
                    <a:lnTo>
                      <a:pt x="108" y="115"/>
                    </a:lnTo>
                    <a:lnTo>
                      <a:pt x="110" y="115"/>
                    </a:lnTo>
                    <a:lnTo>
                      <a:pt x="110" y="77"/>
                    </a:lnTo>
                    <a:lnTo>
                      <a:pt x="158" y="77"/>
                    </a:lnTo>
                    <a:lnTo>
                      <a:pt x="158" y="15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23640" y="3086280"/>
                <a:ext cx="70920" cy="241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45320" y="308628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7" h="152">
                    <a:moveTo>
                      <a:pt x="48" y="71"/>
                    </a:moveTo>
                    <a:lnTo>
                      <a:pt x="51" y="71"/>
                    </a:lnTo>
                    <a:lnTo>
                      <a:pt x="55" y="71"/>
                    </a:lnTo>
                    <a:lnTo>
                      <a:pt x="57" y="71"/>
                    </a:lnTo>
                    <a:lnTo>
                      <a:pt x="61" y="71"/>
                    </a:lnTo>
                    <a:lnTo>
                      <a:pt x="63" y="71"/>
                    </a:lnTo>
                    <a:lnTo>
                      <a:pt x="65" y="70"/>
                    </a:lnTo>
                    <a:lnTo>
                      <a:pt x="67" y="70"/>
                    </a:lnTo>
                    <a:lnTo>
                      <a:pt x="68" y="68"/>
                    </a:lnTo>
                    <a:lnTo>
                      <a:pt x="70" y="67"/>
                    </a:lnTo>
                    <a:lnTo>
                      <a:pt x="72" y="65"/>
                    </a:lnTo>
                    <a:lnTo>
                      <a:pt x="74" y="65"/>
                    </a:lnTo>
                    <a:lnTo>
                      <a:pt x="76" y="63"/>
                    </a:lnTo>
                    <a:lnTo>
                      <a:pt x="76" y="60"/>
                    </a:lnTo>
                    <a:lnTo>
                      <a:pt x="76" y="59"/>
                    </a:lnTo>
                    <a:lnTo>
                      <a:pt x="78" y="57"/>
                    </a:lnTo>
                    <a:lnTo>
                      <a:pt x="78" y="55"/>
                    </a:lnTo>
                    <a:lnTo>
                      <a:pt x="78" y="52"/>
                    </a:lnTo>
                    <a:lnTo>
                      <a:pt x="78" y="51"/>
                    </a:lnTo>
                    <a:lnTo>
                      <a:pt x="78" y="49"/>
                    </a:lnTo>
                    <a:lnTo>
                      <a:pt x="76" y="46"/>
                    </a:lnTo>
                    <a:lnTo>
                      <a:pt x="76" y="44"/>
                    </a:lnTo>
                    <a:lnTo>
                      <a:pt x="76" y="43"/>
                    </a:lnTo>
                    <a:lnTo>
                      <a:pt x="74" y="41"/>
                    </a:lnTo>
                    <a:lnTo>
                      <a:pt x="72" y="40"/>
                    </a:lnTo>
                    <a:lnTo>
                      <a:pt x="72" y="38"/>
                    </a:lnTo>
                    <a:lnTo>
                      <a:pt x="70" y="38"/>
                    </a:lnTo>
                    <a:lnTo>
                      <a:pt x="68" y="37"/>
                    </a:lnTo>
                    <a:lnTo>
                      <a:pt x="67" y="35"/>
                    </a:lnTo>
                    <a:lnTo>
                      <a:pt x="63" y="35"/>
                    </a:lnTo>
                    <a:lnTo>
                      <a:pt x="61" y="35"/>
                    </a:lnTo>
                    <a:lnTo>
                      <a:pt x="59" y="33"/>
                    </a:lnTo>
                    <a:lnTo>
                      <a:pt x="55" y="33"/>
                    </a:lnTo>
                    <a:lnTo>
                      <a:pt x="53" y="33"/>
                    </a:lnTo>
                    <a:lnTo>
                      <a:pt x="48" y="33"/>
                    </a:lnTo>
                    <a:lnTo>
                      <a:pt x="48" y="71"/>
                    </a:lnTo>
                    <a:close/>
                    <a:moveTo>
                      <a:pt x="0" y="152"/>
                    </a:moveTo>
                    <a:lnTo>
                      <a:pt x="0" y="0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6" y="2"/>
                    </a:lnTo>
                    <a:lnTo>
                      <a:pt x="84" y="3"/>
                    </a:lnTo>
                    <a:lnTo>
                      <a:pt x="89" y="5"/>
                    </a:lnTo>
                    <a:lnTo>
                      <a:pt x="97" y="7"/>
                    </a:lnTo>
                    <a:lnTo>
                      <a:pt x="101" y="10"/>
                    </a:lnTo>
                    <a:lnTo>
                      <a:pt x="106" y="13"/>
                    </a:lnTo>
                    <a:lnTo>
                      <a:pt x="110" y="16"/>
                    </a:lnTo>
                    <a:lnTo>
                      <a:pt x="114" y="19"/>
                    </a:lnTo>
                    <a:lnTo>
                      <a:pt x="118" y="24"/>
                    </a:lnTo>
                    <a:lnTo>
                      <a:pt x="122" y="27"/>
                    </a:lnTo>
                    <a:lnTo>
                      <a:pt x="124" y="32"/>
                    </a:lnTo>
                    <a:lnTo>
                      <a:pt x="125" y="37"/>
                    </a:lnTo>
                    <a:lnTo>
                      <a:pt x="125" y="43"/>
                    </a:lnTo>
                    <a:lnTo>
                      <a:pt x="125" y="48"/>
                    </a:lnTo>
                    <a:lnTo>
                      <a:pt x="125" y="52"/>
                    </a:lnTo>
                    <a:lnTo>
                      <a:pt x="125" y="55"/>
                    </a:lnTo>
                    <a:lnTo>
                      <a:pt x="125" y="59"/>
                    </a:lnTo>
                    <a:lnTo>
                      <a:pt x="124" y="60"/>
                    </a:lnTo>
                    <a:lnTo>
                      <a:pt x="124" y="63"/>
                    </a:lnTo>
                    <a:lnTo>
                      <a:pt x="122" y="67"/>
                    </a:lnTo>
                    <a:lnTo>
                      <a:pt x="120" y="70"/>
                    </a:lnTo>
                    <a:lnTo>
                      <a:pt x="118" y="71"/>
                    </a:lnTo>
                    <a:lnTo>
                      <a:pt x="116" y="74"/>
                    </a:lnTo>
                    <a:lnTo>
                      <a:pt x="114" y="76"/>
                    </a:lnTo>
                    <a:lnTo>
                      <a:pt x="112" y="79"/>
                    </a:lnTo>
                    <a:lnTo>
                      <a:pt x="108" y="81"/>
                    </a:lnTo>
                    <a:lnTo>
                      <a:pt x="106" y="82"/>
                    </a:lnTo>
                    <a:lnTo>
                      <a:pt x="103" y="84"/>
                    </a:lnTo>
                    <a:lnTo>
                      <a:pt x="101" y="84"/>
                    </a:lnTo>
                    <a:lnTo>
                      <a:pt x="97" y="85"/>
                    </a:lnTo>
                    <a:lnTo>
                      <a:pt x="137" y="152"/>
                    </a:lnTo>
                    <a:lnTo>
                      <a:pt x="86" y="152"/>
                    </a:lnTo>
                    <a:lnTo>
                      <a:pt x="48" y="87"/>
                    </a:lnTo>
                    <a:lnTo>
                      <a:pt x="48" y="152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70320" y="3086280"/>
                <a:ext cx="171360" cy="241200"/>
              </a:xfrm>
              <a:custGeom>
                <a:avLst/>
                <a:gdLst/>
                <a:ahLst/>
                <a:rect l="l" t="t" r="r" b="b"/>
                <a:pathLst>
                  <a:path w="116" h="152">
                    <a:moveTo>
                      <a:pt x="116" y="111"/>
                    </a:moveTo>
                    <a:lnTo>
                      <a:pt x="101" y="152"/>
                    </a:lnTo>
                    <a:lnTo>
                      <a:pt x="0" y="15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11"/>
                    </a:lnTo>
                    <a:lnTo>
                      <a:pt x="116" y="1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56800" y="3081240"/>
                <a:ext cx="142200" cy="250920"/>
              </a:xfrm>
              <a:custGeom>
                <a:avLst/>
                <a:gdLst/>
                <a:ahLst/>
                <a:rect l="l" t="t" r="r" b="b"/>
                <a:pathLst>
                  <a:path w="96" h="158">
                    <a:moveTo>
                      <a:pt x="3" y="156"/>
                    </a:moveTo>
                    <a:lnTo>
                      <a:pt x="1" y="114"/>
                    </a:lnTo>
                    <a:lnTo>
                      <a:pt x="3" y="114"/>
                    </a:lnTo>
                    <a:lnTo>
                      <a:pt x="3" y="115"/>
                    </a:lnTo>
                    <a:lnTo>
                      <a:pt x="5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9" y="117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3" y="117"/>
                    </a:lnTo>
                    <a:lnTo>
                      <a:pt x="15" y="117"/>
                    </a:lnTo>
                    <a:lnTo>
                      <a:pt x="15" y="117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9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22" y="118"/>
                    </a:lnTo>
                    <a:lnTo>
                      <a:pt x="24" y="117"/>
                    </a:lnTo>
                    <a:lnTo>
                      <a:pt x="26" y="117"/>
                    </a:lnTo>
                    <a:lnTo>
                      <a:pt x="28" y="117"/>
                    </a:lnTo>
                    <a:lnTo>
                      <a:pt x="30" y="117"/>
                    </a:lnTo>
                    <a:lnTo>
                      <a:pt x="32" y="115"/>
                    </a:lnTo>
                    <a:lnTo>
                      <a:pt x="32" y="115"/>
                    </a:lnTo>
                    <a:lnTo>
                      <a:pt x="34" y="114"/>
                    </a:lnTo>
                    <a:lnTo>
                      <a:pt x="36" y="114"/>
                    </a:lnTo>
                    <a:lnTo>
                      <a:pt x="36" y="112"/>
                    </a:lnTo>
                    <a:lnTo>
                      <a:pt x="38" y="112"/>
                    </a:lnTo>
                    <a:lnTo>
                      <a:pt x="38" y="111"/>
                    </a:lnTo>
                    <a:lnTo>
                      <a:pt x="38" y="109"/>
                    </a:lnTo>
                    <a:lnTo>
                      <a:pt x="38" y="109"/>
                    </a:lnTo>
                    <a:lnTo>
                      <a:pt x="39" y="107"/>
                    </a:lnTo>
                    <a:lnTo>
                      <a:pt x="39" y="106"/>
                    </a:lnTo>
                    <a:lnTo>
                      <a:pt x="38" y="104"/>
                    </a:lnTo>
                    <a:lnTo>
                      <a:pt x="38" y="103"/>
                    </a:lnTo>
                    <a:lnTo>
                      <a:pt x="38" y="100"/>
                    </a:lnTo>
                    <a:lnTo>
                      <a:pt x="36" y="98"/>
                    </a:lnTo>
                    <a:lnTo>
                      <a:pt x="34" y="96"/>
                    </a:lnTo>
                    <a:lnTo>
                      <a:pt x="32" y="93"/>
                    </a:lnTo>
                    <a:lnTo>
                      <a:pt x="28" y="92"/>
                    </a:lnTo>
                    <a:lnTo>
                      <a:pt x="24" y="88"/>
                    </a:lnTo>
                    <a:lnTo>
                      <a:pt x="24" y="88"/>
                    </a:lnTo>
                    <a:lnTo>
                      <a:pt x="22" y="87"/>
                    </a:lnTo>
                    <a:lnTo>
                      <a:pt x="22" y="87"/>
                    </a:lnTo>
                    <a:lnTo>
                      <a:pt x="20" y="85"/>
                    </a:lnTo>
                    <a:lnTo>
                      <a:pt x="20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5" y="81"/>
                    </a:lnTo>
                    <a:lnTo>
                      <a:pt x="13" y="79"/>
                    </a:lnTo>
                    <a:lnTo>
                      <a:pt x="11" y="77"/>
                    </a:lnTo>
                    <a:lnTo>
                      <a:pt x="9" y="74"/>
                    </a:lnTo>
                    <a:lnTo>
                      <a:pt x="7" y="73"/>
                    </a:lnTo>
                    <a:lnTo>
                      <a:pt x="7" y="71"/>
                    </a:lnTo>
                    <a:lnTo>
                      <a:pt x="5" y="68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1" y="62"/>
                    </a:lnTo>
                    <a:lnTo>
                      <a:pt x="1" y="60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1" y="33"/>
                    </a:lnTo>
                    <a:lnTo>
                      <a:pt x="3" y="29"/>
                    </a:lnTo>
                    <a:lnTo>
                      <a:pt x="5" y="25"/>
                    </a:lnTo>
                    <a:lnTo>
                      <a:pt x="9" y="21"/>
                    </a:lnTo>
                    <a:lnTo>
                      <a:pt x="13" y="17"/>
                    </a:lnTo>
                    <a:lnTo>
                      <a:pt x="17" y="14"/>
                    </a:lnTo>
                    <a:lnTo>
                      <a:pt x="20" y="11"/>
                    </a:lnTo>
                    <a:lnTo>
                      <a:pt x="26" y="8"/>
                    </a:lnTo>
                    <a:lnTo>
                      <a:pt x="30" y="6"/>
                    </a:lnTo>
                    <a:lnTo>
                      <a:pt x="36" y="5"/>
                    </a:lnTo>
                    <a:lnTo>
                      <a:pt x="41" y="3"/>
                    </a:lnTo>
                    <a:lnTo>
                      <a:pt x="47" y="2"/>
                    </a:lnTo>
                    <a:lnTo>
                      <a:pt x="55" y="2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68" y="2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4" y="2"/>
                    </a:lnTo>
                    <a:lnTo>
                      <a:pt x="76" y="2"/>
                    </a:lnTo>
                    <a:lnTo>
                      <a:pt x="77" y="2"/>
                    </a:lnTo>
                    <a:lnTo>
                      <a:pt x="79" y="2"/>
                    </a:lnTo>
                    <a:lnTo>
                      <a:pt x="81" y="2"/>
                    </a:lnTo>
                    <a:lnTo>
                      <a:pt x="83" y="3"/>
                    </a:lnTo>
                    <a:lnTo>
                      <a:pt x="85" y="3"/>
                    </a:lnTo>
                    <a:lnTo>
                      <a:pt x="87" y="3"/>
                    </a:lnTo>
                    <a:lnTo>
                      <a:pt x="89" y="3"/>
                    </a:lnTo>
                    <a:lnTo>
                      <a:pt x="91" y="5"/>
                    </a:lnTo>
                    <a:lnTo>
                      <a:pt x="93" y="5"/>
                    </a:lnTo>
                    <a:lnTo>
                      <a:pt x="93" y="43"/>
                    </a:lnTo>
                    <a:lnTo>
                      <a:pt x="91" y="41"/>
                    </a:lnTo>
                    <a:lnTo>
                      <a:pt x="89" y="41"/>
                    </a:lnTo>
                    <a:lnTo>
                      <a:pt x="87" y="41"/>
                    </a:lnTo>
                    <a:lnTo>
                      <a:pt x="85" y="40"/>
                    </a:lnTo>
                    <a:lnTo>
                      <a:pt x="85" y="40"/>
                    </a:lnTo>
                    <a:lnTo>
                      <a:pt x="83" y="40"/>
                    </a:lnTo>
                    <a:lnTo>
                      <a:pt x="81" y="40"/>
                    </a:lnTo>
                    <a:lnTo>
                      <a:pt x="81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4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6" y="38"/>
                    </a:lnTo>
                    <a:lnTo>
                      <a:pt x="64" y="38"/>
                    </a:lnTo>
                    <a:lnTo>
                      <a:pt x="62" y="38"/>
                    </a:lnTo>
                    <a:lnTo>
                      <a:pt x="60" y="40"/>
                    </a:lnTo>
                    <a:lnTo>
                      <a:pt x="58" y="40"/>
                    </a:lnTo>
                    <a:lnTo>
                      <a:pt x="58" y="41"/>
                    </a:lnTo>
                    <a:lnTo>
                      <a:pt x="57" y="41"/>
                    </a:lnTo>
                    <a:lnTo>
                      <a:pt x="55" y="43"/>
                    </a:lnTo>
                    <a:lnTo>
                      <a:pt x="55" y="43"/>
                    </a:lnTo>
                    <a:lnTo>
                      <a:pt x="55" y="44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3" y="47"/>
                    </a:lnTo>
                    <a:lnTo>
                      <a:pt x="53" y="49"/>
                    </a:lnTo>
                    <a:lnTo>
                      <a:pt x="53" y="51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58" y="58"/>
                    </a:lnTo>
                    <a:lnTo>
                      <a:pt x="60" y="60"/>
                    </a:lnTo>
                    <a:lnTo>
                      <a:pt x="62" y="62"/>
                    </a:lnTo>
                    <a:lnTo>
                      <a:pt x="66" y="65"/>
                    </a:lnTo>
                    <a:lnTo>
                      <a:pt x="68" y="65"/>
                    </a:lnTo>
                    <a:lnTo>
                      <a:pt x="68" y="66"/>
                    </a:lnTo>
                    <a:lnTo>
                      <a:pt x="70" y="66"/>
                    </a:lnTo>
                    <a:lnTo>
                      <a:pt x="70" y="68"/>
                    </a:lnTo>
                    <a:lnTo>
                      <a:pt x="72" y="68"/>
                    </a:lnTo>
                    <a:lnTo>
                      <a:pt x="72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7" y="73"/>
                    </a:lnTo>
                    <a:lnTo>
                      <a:pt x="79" y="74"/>
                    </a:lnTo>
                    <a:lnTo>
                      <a:pt x="81" y="76"/>
                    </a:lnTo>
                    <a:lnTo>
                      <a:pt x="83" y="79"/>
                    </a:lnTo>
                    <a:lnTo>
                      <a:pt x="85" y="81"/>
                    </a:lnTo>
                    <a:lnTo>
                      <a:pt x="87" y="82"/>
                    </a:lnTo>
                    <a:lnTo>
                      <a:pt x="89" y="85"/>
                    </a:lnTo>
                    <a:lnTo>
                      <a:pt x="91" y="88"/>
                    </a:lnTo>
                    <a:lnTo>
                      <a:pt x="91" y="90"/>
                    </a:lnTo>
                    <a:lnTo>
                      <a:pt x="93" y="93"/>
                    </a:lnTo>
                    <a:lnTo>
                      <a:pt x="95" y="95"/>
                    </a:lnTo>
                    <a:lnTo>
                      <a:pt x="95" y="98"/>
                    </a:lnTo>
                    <a:lnTo>
                      <a:pt x="95" y="101"/>
                    </a:lnTo>
                    <a:lnTo>
                      <a:pt x="96" y="104"/>
                    </a:lnTo>
                    <a:lnTo>
                      <a:pt x="96" y="106"/>
                    </a:lnTo>
                    <a:lnTo>
                      <a:pt x="96" y="109"/>
                    </a:lnTo>
                    <a:lnTo>
                      <a:pt x="96" y="115"/>
                    </a:lnTo>
                    <a:lnTo>
                      <a:pt x="95" y="120"/>
                    </a:lnTo>
                    <a:lnTo>
                      <a:pt x="93" y="125"/>
                    </a:lnTo>
                    <a:lnTo>
                      <a:pt x="91" y="130"/>
                    </a:lnTo>
                    <a:lnTo>
                      <a:pt x="89" y="134"/>
                    </a:lnTo>
                    <a:lnTo>
                      <a:pt x="85" y="137"/>
                    </a:lnTo>
                    <a:lnTo>
                      <a:pt x="81" y="142"/>
                    </a:lnTo>
                    <a:lnTo>
                      <a:pt x="77" y="145"/>
                    </a:lnTo>
                    <a:lnTo>
                      <a:pt x="74" y="148"/>
                    </a:lnTo>
                    <a:lnTo>
                      <a:pt x="68" y="150"/>
                    </a:lnTo>
                    <a:lnTo>
                      <a:pt x="62" y="153"/>
                    </a:lnTo>
                    <a:lnTo>
                      <a:pt x="57" y="155"/>
                    </a:lnTo>
                    <a:lnTo>
                      <a:pt x="49" y="156"/>
                    </a:lnTo>
                    <a:lnTo>
                      <a:pt x="43" y="156"/>
                    </a:lnTo>
                    <a:lnTo>
                      <a:pt x="36" y="158"/>
                    </a:lnTo>
                    <a:lnTo>
                      <a:pt x="28" y="158"/>
                    </a:lnTo>
                    <a:lnTo>
                      <a:pt x="26" y="158"/>
                    </a:lnTo>
                    <a:lnTo>
                      <a:pt x="24" y="158"/>
                    </a:lnTo>
                    <a:lnTo>
                      <a:pt x="22" y="158"/>
                    </a:lnTo>
                    <a:lnTo>
                      <a:pt x="20" y="158"/>
                    </a:lnTo>
                    <a:lnTo>
                      <a:pt x="19" y="158"/>
                    </a:lnTo>
                    <a:lnTo>
                      <a:pt x="17" y="158"/>
                    </a:lnTo>
                    <a:lnTo>
                      <a:pt x="17" y="158"/>
                    </a:lnTo>
                    <a:lnTo>
                      <a:pt x="15" y="158"/>
                    </a:lnTo>
                    <a:lnTo>
                      <a:pt x="13" y="158"/>
                    </a:lnTo>
                    <a:lnTo>
                      <a:pt x="11" y="156"/>
                    </a:lnTo>
                    <a:lnTo>
                      <a:pt x="9" y="156"/>
                    </a:lnTo>
                    <a:lnTo>
                      <a:pt x="9" y="156"/>
                    </a:lnTo>
                    <a:lnTo>
                      <a:pt x="7" y="156"/>
                    </a:lnTo>
                    <a:lnTo>
                      <a:pt x="5" y="156"/>
                    </a:lnTo>
                    <a:lnTo>
                      <a:pt x="3" y="156"/>
                    </a:lnTo>
                    <a:lnTo>
                      <a:pt x="3" y="15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24960" y="2289240"/>
              <a:ext cx="1289880" cy="1147680"/>
              <a:chOff x="6024960" y="2289240"/>
              <a:chExt cx="1289880" cy="1147680"/>
            </a:xfrm>
          </p:grpSpPr>
          <p:sp>
            <p:nvSpPr>
              <p:cNvPr id="282" name=""/>
              <p:cNvSpPr/>
              <p:nvPr/>
            </p:nvSpPr>
            <p:spPr>
              <a:xfrm>
                <a:off x="6024960" y="2289240"/>
                <a:ext cx="1289880" cy="1147680"/>
              </a:xfrm>
              <a:custGeom>
                <a:avLst/>
                <a:gdLst/>
                <a:ahLst/>
                <a:rect l="l" t="t" r="r" b="b"/>
                <a:pathLst>
                  <a:path w="871" h="723">
                    <a:moveTo>
                      <a:pt x="436" y="0"/>
                    </a:moveTo>
                    <a:lnTo>
                      <a:pt x="459" y="0"/>
                    </a:lnTo>
                    <a:lnTo>
                      <a:pt x="481" y="2"/>
                    </a:lnTo>
                    <a:lnTo>
                      <a:pt x="502" y="5"/>
                    </a:lnTo>
                    <a:lnTo>
                      <a:pt x="523" y="8"/>
                    </a:lnTo>
                    <a:lnTo>
                      <a:pt x="544" y="11"/>
                    </a:lnTo>
                    <a:lnTo>
                      <a:pt x="565" y="16"/>
                    </a:lnTo>
                    <a:lnTo>
                      <a:pt x="586" y="22"/>
                    </a:lnTo>
                    <a:lnTo>
                      <a:pt x="605" y="29"/>
                    </a:lnTo>
                    <a:lnTo>
                      <a:pt x="624" y="37"/>
                    </a:lnTo>
                    <a:lnTo>
                      <a:pt x="643" y="44"/>
                    </a:lnTo>
                    <a:lnTo>
                      <a:pt x="662" y="52"/>
                    </a:lnTo>
                    <a:lnTo>
                      <a:pt x="679" y="62"/>
                    </a:lnTo>
                    <a:lnTo>
                      <a:pt x="696" y="71"/>
                    </a:lnTo>
                    <a:lnTo>
                      <a:pt x="713" y="82"/>
                    </a:lnTo>
                    <a:lnTo>
                      <a:pt x="728" y="95"/>
                    </a:lnTo>
                    <a:lnTo>
                      <a:pt x="744" y="106"/>
                    </a:lnTo>
                    <a:lnTo>
                      <a:pt x="759" y="119"/>
                    </a:lnTo>
                    <a:lnTo>
                      <a:pt x="772" y="131"/>
                    </a:lnTo>
                    <a:lnTo>
                      <a:pt x="785" y="145"/>
                    </a:lnTo>
                    <a:lnTo>
                      <a:pt x="797" y="160"/>
                    </a:lnTo>
                    <a:lnTo>
                      <a:pt x="808" y="174"/>
                    </a:lnTo>
                    <a:lnTo>
                      <a:pt x="820" y="190"/>
                    </a:lnTo>
                    <a:lnTo>
                      <a:pt x="829" y="205"/>
                    </a:lnTo>
                    <a:lnTo>
                      <a:pt x="837" y="221"/>
                    </a:lnTo>
                    <a:lnTo>
                      <a:pt x="844" y="237"/>
                    </a:lnTo>
                    <a:lnTo>
                      <a:pt x="852" y="254"/>
                    </a:lnTo>
                    <a:lnTo>
                      <a:pt x="858" y="272"/>
                    </a:lnTo>
                    <a:lnTo>
                      <a:pt x="863" y="289"/>
                    </a:lnTo>
                    <a:lnTo>
                      <a:pt x="867" y="306"/>
                    </a:lnTo>
                    <a:lnTo>
                      <a:pt x="869" y="325"/>
                    </a:lnTo>
                    <a:lnTo>
                      <a:pt x="871" y="343"/>
                    </a:lnTo>
                    <a:lnTo>
                      <a:pt x="871" y="362"/>
                    </a:lnTo>
                    <a:lnTo>
                      <a:pt x="871" y="381"/>
                    </a:lnTo>
                    <a:lnTo>
                      <a:pt x="869" y="398"/>
                    </a:lnTo>
                    <a:lnTo>
                      <a:pt x="867" y="417"/>
                    </a:lnTo>
                    <a:lnTo>
                      <a:pt x="863" y="434"/>
                    </a:lnTo>
                    <a:lnTo>
                      <a:pt x="858" y="452"/>
                    </a:lnTo>
                    <a:lnTo>
                      <a:pt x="852" y="469"/>
                    </a:lnTo>
                    <a:lnTo>
                      <a:pt x="844" y="486"/>
                    </a:lnTo>
                    <a:lnTo>
                      <a:pt x="837" y="502"/>
                    </a:lnTo>
                    <a:lnTo>
                      <a:pt x="829" y="518"/>
                    </a:lnTo>
                    <a:lnTo>
                      <a:pt x="820" y="534"/>
                    </a:lnTo>
                    <a:lnTo>
                      <a:pt x="808" y="550"/>
                    </a:lnTo>
                    <a:lnTo>
                      <a:pt x="797" y="564"/>
                    </a:lnTo>
                    <a:lnTo>
                      <a:pt x="785" y="578"/>
                    </a:lnTo>
                    <a:lnTo>
                      <a:pt x="772" y="591"/>
                    </a:lnTo>
                    <a:lnTo>
                      <a:pt x="759" y="605"/>
                    </a:lnTo>
                    <a:lnTo>
                      <a:pt x="744" y="617"/>
                    </a:lnTo>
                    <a:lnTo>
                      <a:pt x="728" y="629"/>
                    </a:lnTo>
                    <a:lnTo>
                      <a:pt x="713" y="641"/>
                    </a:lnTo>
                    <a:lnTo>
                      <a:pt x="696" y="651"/>
                    </a:lnTo>
                    <a:lnTo>
                      <a:pt x="679" y="662"/>
                    </a:lnTo>
                    <a:lnTo>
                      <a:pt x="662" y="671"/>
                    </a:lnTo>
                    <a:lnTo>
                      <a:pt x="643" y="679"/>
                    </a:lnTo>
                    <a:lnTo>
                      <a:pt x="624" y="687"/>
                    </a:lnTo>
                    <a:lnTo>
                      <a:pt x="605" y="695"/>
                    </a:lnTo>
                    <a:lnTo>
                      <a:pt x="586" y="701"/>
                    </a:lnTo>
                    <a:lnTo>
                      <a:pt x="565" y="707"/>
                    </a:lnTo>
                    <a:lnTo>
                      <a:pt x="544" y="712"/>
                    </a:lnTo>
                    <a:lnTo>
                      <a:pt x="523" y="715"/>
                    </a:lnTo>
                    <a:lnTo>
                      <a:pt x="502" y="719"/>
                    </a:lnTo>
                    <a:lnTo>
                      <a:pt x="481" y="722"/>
                    </a:lnTo>
                    <a:lnTo>
                      <a:pt x="459" y="723"/>
                    </a:lnTo>
                    <a:lnTo>
                      <a:pt x="436" y="723"/>
                    </a:lnTo>
                    <a:lnTo>
                      <a:pt x="415" y="723"/>
                    </a:lnTo>
                    <a:lnTo>
                      <a:pt x="392" y="722"/>
                    </a:lnTo>
                    <a:lnTo>
                      <a:pt x="369" y="719"/>
                    </a:lnTo>
                    <a:lnTo>
                      <a:pt x="348" y="715"/>
                    </a:lnTo>
                    <a:lnTo>
                      <a:pt x="327" y="712"/>
                    </a:lnTo>
                    <a:lnTo>
                      <a:pt x="306" y="707"/>
                    </a:lnTo>
                    <a:lnTo>
                      <a:pt x="287" y="701"/>
                    </a:lnTo>
                    <a:lnTo>
                      <a:pt x="267" y="695"/>
                    </a:lnTo>
                    <a:lnTo>
                      <a:pt x="248" y="687"/>
                    </a:lnTo>
                    <a:lnTo>
                      <a:pt x="229" y="679"/>
                    </a:lnTo>
                    <a:lnTo>
                      <a:pt x="211" y="671"/>
                    </a:lnTo>
                    <a:lnTo>
                      <a:pt x="192" y="662"/>
                    </a:lnTo>
                    <a:lnTo>
                      <a:pt x="175" y="651"/>
                    </a:lnTo>
                    <a:lnTo>
                      <a:pt x="160" y="641"/>
                    </a:lnTo>
                    <a:lnTo>
                      <a:pt x="143" y="629"/>
                    </a:lnTo>
                    <a:lnTo>
                      <a:pt x="128" y="617"/>
                    </a:lnTo>
                    <a:lnTo>
                      <a:pt x="115" y="605"/>
                    </a:lnTo>
                    <a:lnTo>
                      <a:pt x="101" y="591"/>
                    </a:lnTo>
                    <a:lnTo>
                      <a:pt x="88" y="578"/>
                    </a:lnTo>
                    <a:lnTo>
                      <a:pt x="75" y="564"/>
                    </a:lnTo>
                    <a:lnTo>
                      <a:pt x="65" y="550"/>
                    </a:lnTo>
                    <a:lnTo>
                      <a:pt x="54" y="534"/>
                    </a:lnTo>
                    <a:lnTo>
                      <a:pt x="44" y="518"/>
                    </a:lnTo>
                    <a:lnTo>
                      <a:pt x="35" y="502"/>
                    </a:lnTo>
                    <a:lnTo>
                      <a:pt x="27" y="486"/>
                    </a:lnTo>
                    <a:lnTo>
                      <a:pt x="21" y="469"/>
                    </a:lnTo>
                    <a:lnTo>
                      <a:pt x="14" y="452"/>
                    </a:lnTo>
                    <a:lnTo>
                      <a:pt x="10" y="434"/>
                    </a:lnTo>
                    <a:lnTo>
                      <a:pt x="6" y="417"/>
                    </a:lnTo>
                    <a:lnTo>
                      <a:pt x="2" y="398"/>
                    </a:lnTo>
                    <a:lnTo>
                      <a:pt x="2" y="381"/>
                    </a:lnTo>
                    <a:lnTo>
                      <a:pt x="0" y="362"/>
                    </a:lnTo>
                    <a:lnTo>
                      <a:pt x="2" y="343"/>
                    </a:lnTo>
                    <a:lnTo>
                      <a:pt x="2" y="325"/>
                    </a:lnTo>
                    <a:lnTo>
                      <a:pt x="6" y="306"/>
                    </a:lnTo>
                    <a:lnTo>
                      <a:pt x="10" y="289"/>
                    </a:lnTo>
                    <a:lnTo>
                      <a:pt x="14" y="272"/>
                    </a:lnTo>
                    <a:lnTo>
                      <a:pt x="21" y="254"/>
                    </a:lnTo>
                    <a:lnTo>
                      <a:pt x="27" y="237"/>
                    </a:lnTo>
                    <a:lnTo>
                      <a:pt x="35" y="221"/>
                    </a:lnTo>
                    <a:lnTo>
                      <a:pt x="44" y="205"/>
                    </a:lnTo>
                    <a:lnTo>
                      <a:pt x="54" y="190"/>
                    </a:lnTo>
                    <a:lnTo>
                      <a:pt x="65" y="174"/>
                    </a:lnTo>
                    <a:lnTo>
                      <a:pt x="75" y="160"/>
                    </a:lnTo>
                    <a:lnTo>
                      <a:pt x="88" y="145"/>
                    </a:lnTo>
                    <a:lnTo>
                      <a:pt x="101" y="131"/>
                    </a:lnTo>
                    <a:lnTo>
                      <a:pt x="115" y="119"/>
                    </a:lnTo>
                    <a:lnTo>
                      <a:pt x="128" y="106"/>
                    </a:lnTo>
                    <a:lnTo>
                      <a:pt x="143" y="95"/>
                    </a:lnTo>
                    <a:lnTo>
                      <a:pt x="160" y="82"/>
                    </a:lnTo>
                    <a:lnTo>
                      <a:pt x="175" y="71"/>
                    </a:lnTo>
                    <a:lnTo>
                      <a:pt x="192" y="62"/>
                    </a:lnTo>
                    <a:lnTo>
                      <a:pt x="211" y="52"/>
                    </a:lnTo>
                    <a:lnTo>
                      <a:pt x="229" y="44"/>
                    </a:lnTo>
                    <a:lnTo>
                      <a:pt x="248" y="37"/>
                    </a:lnTo>
                    <a:lnTo>
                      <a:pt x="267" y="29"/>
                    </a:lnTo>
                    <a:lnTo>
                      <a:pt x="287" y="22"/>
                    </a:lnTo>
                    <a:lnTo>
                      <a:pt x="306" y="16"/>
                    </a:lnTo>
                    <a:lnTo>
                      <a:pt x="327" y="11"/>
                    </a:lnTo>
                    <a:lnTo>
                      <a:pt x="348" y="8"/>
                    </a:lnTo>
                    <a:lnTo>
                      <a:pt x="369" y="5"/>
                    </a:lnTo>
                    <a:lnTo>
                      <a:pt x="392" y="2"/>
                    </a:lnTo>
                    <a:lnTo>
                      <a:pt x="415" y="0"/>
                    </a:lnTo>
                    <a:lnTo>
                      <a:pt x="43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32760" y="2660760"/>
                <a:ext cx="109800" cy="129960"/>
              </a:xfrm>
              <a:custGeom>
                <a:avLst/>
                <a:gdLst/>
                <a:ahLst/>
                <a:rect l="l" t="t" r="r" b="b"/>
                <a:pathLst>
                  <a:path w="74" h="82">
                    <a:moveTo>
                      <a:pt x="62" y="0"/>
                    </a:moveTo>
                    <a:lnTo>
                      <a:pt x="0" y="76"/>
                    </a:lnTo>
                    <a:lnTo>
                      <a:pt x="11" y="82"/>
                    </a:lnTo>
                    <a:lnTo>
                      <a:pt x="74" y="6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24920" y="2643120"/>
                <a:ext cx="3060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8" y="0"/>
                    </a:moveTo>
                    <a:lnTo>
                      <a:pt x="8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12" y="17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21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36440" y="26305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2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36440" y="26082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8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424920" y="2600280"/>
                <a:ext cx="2484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7" y="5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02600" y="260028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0" y="13"/>
                    </a:moveTo>
                    <a:lnTo>
                      <a:pt x="12" y="11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1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92160" y="260820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5" y="12"/>
                    </a:moveTo>
                    <a:lnTo>
                      <a:pt x="15" y="11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92160" y="262728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5"/>
                    </a:moveTo>
                    <a:lnTo>
                      <a:pt x="15" y="4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399720" y="2635200"/>
                <a:ext cx="33840" cy="2232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19" y="11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8" y="6"/>
                    </a:lnTo>
                    <a:lnTo>
                      <a:pt x="19" y="11"/>
                    </a:lnTo>
                    <a:lnTo>
                      <a:pt x="23" y="6"/>
                    </a:lnTo>
                    <a:lnTo>
                      <a:pt x="17" y="5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86040" y="2644920"/>
                <a:ext cx="41400" cy="55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5" y="34"/>
                    </a:moveTo>
                    <a:lnTo>
                      <a:pt x="13" y="32"/>
                    </a:lnTo>
                    <a:lnTo>
                      <a:pt x="28" y="5"/>
                    </a:lnTo>
                    <a:lnTo>
                      <a:pt x="17" y="0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5" y="34"/>
                    </a:lnTo>
                    <a:lnTo>
                      <a:pt x="9" y="35"/>
                    </a:lnTo>
                    <a:lnTo>
                      <a:pt x="13" y="32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346080" y="2662200"/>
                <a:ext cx="53280" cy="3672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0" y="7"/>
                    </a:moveTo>
                    <a:lnTo>
                      <a:pt x="4" y="10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3" y="16"/>
                    </a:lnTo>
                    <a:lnTo>
                      <a:pt x="19" y="19"/>
                    </a:lnTo>
                    <a:lnTo>
                      <a:pt x="23" y="21"/>
                    </a:lnTo>
                    <a:lnTo>
                      <a:pt x="27" y="23"/>
                    </a:lnTo>
                    <a:lnTo>
                      <a:pt x="32" y="23"/>
                    </a:lnTo>
                    <a:lnTo>
                      <a:pt x="36" y="12"/>
                    </a:lnTo>
                    <a:lnTo>
                      <a:pt x="32" y="12"/>
                    </a:lnTo>
                    <a:lnTo>
                      <a:pt x="29" y="10"/>
                    </a:lnTo>
                    <a:lnTo>
                      <a:pt x="25" y="8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29880" y="2627280"/>
                <a:ext cx="33840" cy="4608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0"/>
                    </a:moveTo>
                    <a:lnTo>
                      <a:pt x="2" y="5"/>
                    </a:lnTo>
                    <a:lnTo>
                      <a:pt x="2" y="8"/>
                    </a:lnTo>
                    <a:lnTo>
                      <a:pt x="2" y="13"/>
                    </a:lnTo>
                    <a:lnTo>
                      <a:pt x="4" y="16"/>
                    </a:lnTo>
                    <a:lnTo>
                      <a:pt x="5" y="19"/>
                    </a:lnTo>
                    <a:lnTo>
                      <a:pt x="7" y="22"/>
                    </a:lnTo>
                    <a:lnTo>
                      <a:pt x="9" y="26"/>
                    </a:lnTo>
                    <a:lnTo>
                      <a:pt x="11" y="29"/>
                    </a:lnTo>
                    <a:lnTo>
                      <a:pt x="23" y="22"/>
                    </a:lnTo>
                    <a:lnTo>
                      <a:pt x="21" y="19"/>
                    </a:lnTo>
                    <a:lnTo>
                      <a:pt x="19" y="18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329880" y="2567160"/>
                <a:ext cx="44280" cy="60120"/>
              </a:xfrm>
              <a:custGeom>
                <a:avLst/>
                <a:gdLst/>
                <a:ahLst/>
                <a:rect l="l" t="t" r="r" b="b"/>
                <a:pathLst>
                  <a:path w="30" h="38">
                    <a:moveTo>
                      <a:pt x="21" y="0"/>
                    </a:moveTo>
                    <a:lnTo>
                      <a:pt x="15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5" y="18"/>
                    </a:lnTo>
                    <a:lnTo>
                      <a:pt x="4" y="23"/>
                    </a:lnTo>
                    <a:lnTo>
                      <a:pt x="2" y="29"/>
                    </a:lnTo>
                    <a:lnTo>
                      <a:pt x="2" y="34"/>
                    </a:lnTo>
                    <a:lnTo>
                      <a:pt x="0" y="38"/>
                    </a:lnTo>
                    <a:lnTo>
                      <a:pt x="15" y="38"/>
                    </a:lnTo>
                    <a:lnTo>
                      <a:pt x="15" y="35"/>
                    </a:lnTo>
                    <a:lnTo>
                      <a:pt x="15" y="30"/>
                    </a:lnTo>
                    <a:lnTo>
                      <a:pt x="17" y="26"/>
                    </a:lnTo>
                    <a:lnTo>
                      <a:pt x="19" y="23"/>
                    </a:lnTo>
                    <a:lnTo>
                      <a:pt x="21" y="19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30" y="1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60840" y="2544840"/>
                <a:ext cx="69480" cy="38160"/>
              </a:xfrm>
              <a:custGeom>
                <a:avLst/>
                <a:gdLst/>
                <a:ahLst/>
                <a:rect l="l" t="t" r="r" b="b"/>
                <a:pathLst>
                  <a:path w="47" h="24">
                    <a:moveTo>
                      <a:pt x="47" y="0"/>
                    </a:moveTo>
                    <a:lnTo>
                      <a:pt x="41" y="0"/>
                    </a:lnTo>
                    <a:lnTo>
                      <a:pt x="34" y="2"/>
                    </a:lnTo>
                    <a:lnTo>
                      <a:pt x="28" y="2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9" y="8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9" y="24"/>
                    </a:lnTo>
                    <a:lnTo>
                      <a:pt x="13" y="21"/>
                    </a:lnTo>
                    <a:lnTo>
                      <a:pt x="17" y="18"/>
                    </a:lnTo>
                    <a:lnTo>
                      <a:pt x="21" y="16"/>
                    </a:lnTo>
                    <a:lnTo>
                      <a:pt x="26" y="14"/>
                    </a:lnTo>
                    <a:lnTo>
                      <a:pt x="30" y="13"/>
                    </a:lnTo>
                    <a:lnTo>
                      <a:pt x="36" y="13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430320" y="254484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44" y="14"/>
                    </a:moveTo>
                    <a:lnTo>
                      <a:pt x="40" y="11"/>
                    </a:lnTo>
                    <a:lnTo>
                      <a:pt x="34" y="8"/>
                    </a:lnTo>
                    <a:lnTo>
                      <a:pt x="31" y="7"/>
                    </a:lnTo>
                    <a:lnTo>
                      <a:pt x="25" y="3"/>
                    </a:lnTo>
                    <a:lnTo>
                      <a:pt x="19" y="2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9" y="14"/>
                    </a:lnTo>
                    <a:lnTo>
                      <a:pt x="23" y="16"/>
                    </a:lnTo>
                    <a:lnTo>
                      <a:pt x="27" y="18"/>
                    </a:lnTo>
                    <a:lnTo>
                      <a:pt x="31" y="21"/>
                    </a:lnTo>
                    <a:lnTo>
                      <a:pt x="34" y="22"/>
                    </a:lnTo>
                    <a:lnTo>
                      <a:pt x="4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480720" y="2567160"/>
                <a:ext cx="42840" cy="5544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9" y="35"/>
                    </a:moveTo>
                    <a:lnTo>
                      <a:pt x="29" y="30"/>
                    </a:lnTo>
                    <a:lnTo>
                      <a:pt x="29" y="26"/>
                    </a:lnTo>
                    <a:lnTo>
                      <a:pt x="27" y="21"/>
                    </a:lnTo>
                    <a:lnTo>
                      <a:pt x="25" y="16"/>
                    </a:lnTo>
                    <a:lnTo>
                      <a:pt x="21" y="13"/>
                    </a:lnTo>
                    <a:lnTo>
                      <a:pt x="19" y="8"/>
                    </a:lnTo>
                    <a:lnTo>
                      <a:pt x="16" y="5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4" y="12"/>
                    </a:lnTo>
                    <a:lnTo>
                      <a:pt x="8" y="15"/>
                    </a:lnTo>
                    <a:lnTo>
                      <a:pt x="10" y="18"/>
                    </a:lnTo>
                    <a:lnTo>
                      <a:pt x="12" y="21"/>
                    </a:lnTo>
                    <a:lnTo>
                      <a:pt x="14" y="24"/>
                    </a:lnTo>
                    <a:lnTo>
                      <a:pt x="16" y="29"/>
                    </a:lnTo>
                    <a:lnTo>
                      <a:pt x="16" y="32"/>
                    </a:lnTo>
                    <a:lnTo>
                      <a:pt x="16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498720" y="2622600"/>
                <a:ext cx="24840" cy="33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3" y="21"/>
                    </a:moveTo>
                    <a:lnTo>
                      <a:pt x="13" y="19"/>
                    </a:lnTo>
                    <a:lnTo>
                      <a:pt x="15" y="16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7" y="5"/>
                    </a:lnTo>
                    <a:lnTo>
                      <a:pt x="17" y="3"/>
                    </a:lnTo>
                    <a:lnTo>
                      <a:pt x="1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78200" y="2651040"/>
                <a:ext cx="39960" cy="414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0" y="26"/>
                    </a:moveTo>
                    <a:lnTo>
                      <a:pt x="14" y="23"/>
                    </a:lnTo>
                    <a:lnTo>
                      <a:pt x="16" y="20"/>
                    </a:lnTo>
                    <a:lnTo>
                      <a:pt x="18" y="17"/>
                    </a:lnTo>
                    <a:lnTo>
                      <a:pt x="19" y="14"/>
                    </a:lnTo>
                    <a:lnTo>
                      <a:pt x="21" y="12"/>
                    </a:lnTo>
                    <a:lnTo>
                      <a:pt x="23" y="9"/>
                    </a:lnTo>
                    <a:lnTo>
                      <a:pt x="25" y="6"/>
                    </a:lnTo>
                    <a:lnTo>
                      <a:pt x="27" y="3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4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36440" y="2683080"/>
                <a:ext cx="56160" cy="5220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13" y="21"/>
                    </a:moveTo>
                    <a:lnTo>
                      <a:pt x="17" y="30"/>
                    </a:lnTo>
                    <a:lnTo>
                      <a:pt x="38" y="6"/>
                    </a:lnTo>
                    <a:lnTo>
                      <a:pt x="28" y="0"/>
                    </a:lnTo>
                    <a:lnTo>
                      <a:pt x="8" y="24"/>
                    </a:lnTo>
                    <a:lnTo>
                      <a:pt x="13" y="33"/>
                    </a:lnTo>
                    <a:lnTo>
                      <a:pt x="8" y="24"/>
                    </a:lnTo>
                    <a:lnTo>
                      <a:pt x="0" y="33"/>
                    </a:lnTo>
                    <a:lnTo>
                      <a:pt x="13" y="33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55520" y="2716200"/>
                <a:ext cx="74160" cy="1908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0" y="6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42" y="12"/>
                    </a:lnTo>
                    <a:lnTo>
                      <a:pt x="34" y="6"/>
                    </a:lnTo>
                    <a:lnTo>
                      <a:pt x="50" y="6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5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05920" y="2725920"/>
                <a:ext cx="23760" cy="6984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8" y="44"/>
                    </a:moveTo>
                    <a:lnTo>
                      <a:pt x="16" y="38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8" y="31"/>
                    </a:lnTo>
                    <a:lnTo>
                      <a:pt x="8" y="44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24120" y="2774880"/>
                <a:ext cx="194040" cy="20880"/>
              </a:xfrm>
              <a:custGeom>
                <a:avLst/>
                <a:gdLst/>
                <a:ahLst/>
                <a:rect l="l" t="t" r="r" b="b"/>
                <a:pathLst>
                  <a:path w="131" h="13">
                    <a:moveTo>
                      <a:pt x="6" y="4"/>
                    </a:moveTo>
                    <a:lnTo>
                      <a:pt x="11" y="13"/>
                    </a:lnTo>
                    <a:lnTo>
                      <a:pt x="131" y="13"/>
                    </a:lnTo>
                    <a:lnTo>
                      <a:pt x="131" y="0"/>
                    </a:lnTo>
                    <a:lnTo>
                      <a:pt x="11" y="0"/>
                    </a:lnTo>
                    <a:lnTo>
                      <a:pt x="17" y="10"/>
                    </a:lnTo>
                    <a:lnTo>
                      <a:pt x="6" y="4"/>
                    </a:lnTo>
                    <a:lnTo>
                      <a:pt x="0" y="13"/>
                    </a:lnTo>
                    <a:lnTo>
                      <a:pt x="11" y="13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554880" y="2700360"/>
                <a:ext cx="50040" cy="63360"/>
              </a:xfrm>
              <a:custGeom>
                <a:avLst/>
                <a:gdLst/>
                <a:ahLst/>
                <a:rect l="l" t="t" r="r" b="b"/>
                <a:pathLst>
                  <a:path w="34" h="40">
                    <a:moveTo>
                      <a:pt x="34" y="5"/>
                    </a:moveTo>
                    <a:lnTo>
                      <a:pt x="23" y="5"/>
                    </a:lnTo>
                    <a:lnTo>
                      <a:pt x="0" y="33"/>
                    </a:lnTo>
                    <a:lnTo>
                      <a:pt x="11" y="40"/>
                    </a:lnTo>
                    <a:lnTo>
                      <a:pt x="34" y="11"/>
                    </a:lnTo>
                    <a:lnTo>
                      <a:pt x="24" y="13"/>
                    </a:lnTo>
                    <a:lnTo>
                      <a:pt x="34" y="5"/>
                    </a:lnTo>
                    <a:lnTo>
                      <a:pt x="28" y="0"/>
                    </a:lnTo>
                    <a:lnTo>
                      <a:pt x="23" y="5"/>
                    </a:lnTo>
                    <a:lnTo>
                      <a:pt x="3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90520" y="2708280"/>
                <a:ext cx="3060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20" y="6"/>
                    </a:moveTo>
                    <a:lnTo>
                      <a:pt x="21" y="6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11040" y="2718000"/>
                <a:ext cx="24840" cy="21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2"/>
                    </a:move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3" y="14"/>
                    </a:lnTo>
                    <a:lnTo>
                      <a:pt x="17" y="14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636240" y="27180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6" y="0"/>
                    </a:move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645240" y="2709720"/>
                <a:ext cx="2484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2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3" y="10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842200" y="2544840"/>
              <a:ext cx="4306320" cy="2636640"/>
              <a:chOff x="2842200" y="2544840"/>
              <a:chExt cx="4306320" cy="263664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2842200" y="2544840"/>
                <a:ext cx="4306320" cy="2636640"/>
                <a:chOff x="2842200" y="2544840"/>
                <a:chExt cx="4306320" cy="26366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642360" y="2683080"/>
                  <a:ext cx="28080" cy="2664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0" y="10"/>
                      </a:moveTo>
                      <a:lnTo>
                        <a:pt x="2" y="11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7"/>
                      </a:lnTo>
                      <a:lnTo>
                        <a:pt x="19" y="17"/>
                      </a:lnTo>
                      <a:lnTo>
                        <a:pt x="19" y="14"/>
                      </a:lnTo>
                      <a:lnTo>
                        <a:pt x="17" y="13"/>
                      </a:lnTo>
                      <a:lnTo>
                        <a:pt x="17" y="10"/>
                      </a:lnTo>
                      <a:lnTo>
                        <a:pt x="15" y="8"/>
                      </a:lnTo>
                      <a:lnTo>
                        <a:pt x="13" y="6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617160" y="2674800"/>
                  <a:ext cx="35280" cy="24120"/>
                </a:xfrm>
                <a:custGeom>
                  <a:avLst/>
                  <a:gdLst/>
                  <a:ahLst/>
                  <a:rect l="l" t="t" r="r" b="b"/>
                  <a:pathLst>
                    <a:path w="24" h="15">
                      <a:moveTo>
                        <a:pt x="0" y="11"/>
                      </a:move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3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5" y="15"/>
                      </a:lnTo>
                      <a:lnTo>
                        <a:pt x="17" y="15"/>
                      </a:lnTo>
                      <a:lnTo>
                        <a:pt x="24" y="5"/>
                      </a:lnTo>
                      <a:lnTo>
                        <a:pt x="22" y="4"/>
                      </a:lnTo>
                      <a:lnTo>
                        <a:pt x="19" y="4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599160" y="2674800"/>
                  <a:ext cx="17640" cy="1764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11"/>
                      </a:move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1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577200" y="2674800"/>
                  <a:ext cx="24840" cy="2556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0" y="8"/>
                      </a:moveTo>
                      <a:lnTo>
                        <a:pt x="8" y="15"/>
                      </a:lnTo>
                      <a:lnTo>
                        <a:pt x="9" y="13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5" y="13"/>
                      </a:lnTo>
                      <a:lnTo>
                        <a:pt x="17" y="11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13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15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577200" y="2548080"/>
                  <a:ext cx="19080" cy="139680"/>
                </a:xfrm>
                <a:custGeom>
                  <a:avLst/>
                  <a:gdLst/>
                  <a:ahLst/>
                  <a:rect l="l" t="t" r="r" b="b"/>
                  <a:pathLst>
                    <a:path w="13" h="88">
                      <a:moveTo>
                        <a:pt x="6" y="0"/>
                      </a:moveTo>
                      <a:lnTo>
                        <a:pt x="0" y="6"/>
                      </a:lnTo>
                      <a:lnTo>
                        <a:pt x="0" y="88"/>
                      </a:lnTo>
                      <a:lnTo>
                        <a:pt x="13" y="88"/>
                      </a:lnTo>
                      <a:lnTo>
                        <a:pt x="13" y="6"/>
                      </a:lnTo>
                      <a:lnTo>
                        <a:pt x="6" y="12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585840" y="2548080"/>
                  <a:ext cx="163080" cy="19080"/>
                </a:xfrm>
                <a:custGeom>
                  <a:avLst/>
                  <a:gdLst/>
                  <a:ahLst/>
                  <a:rect l="l" t="t" r="r" b="b"/>
                  <a:pathLst>
                    <a:path w="110" h="12">
                      <a:moveTo>
                        <a:pt x="106" y="8"/>
                      </a:moveTo>
                      <a:lnTo>
                        <a:pt x="10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00" y="12"/>
                      </a:lnTo>
                      <a:lnTo>
                        <a:pt x="93" y="5"/>
                      </a:lnTo>
                      <a:lnTo>
                        <a:pt x="106" y="8"/>
                      </a:lnTo>
                      <a:lnTo>
                        <a:pt x="110" y="0"/>
                      </a:lnTo>
                      <a:lnTo>
                        <a:pt x="100" y="0"/>
                      </a:lnTo>
                      <a:lnTo>
                        <a:pt x="10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701400" y="2556000"/>
                  <a:ext cx="41400" cy="66600"/>
                </a:xfrm>
                <a:custGeom>
                  <a:avLst/>
                  <a:gdLst/>
                  <a:ahLst/>
                  <a:rect l="l" t="t" r="r" b="b"/>
                  <a:pathLst>
                    <a:path w="28" h="42">
                      <a:moveTo>
                        <a:pt x="5" y="42"/>
                      </a:moveTo>
                      <a:lnTo>
                        <a:pt x="11" y="39"/>
                      </a:lnTo>
                      <a:lnTo>
                        <a:pt x="28" y="3"/>
                      </a:lnTo>
                      <a:lnTo>
                        <a:pt x="15" y="0"/>
                      </a:lnTo>
                      <a:lnTo>
                        <a:pt x="0" y="34"/>
                      </a:lnTo>
                      <a:lnTo>
                        <a:pt x="5" y="31"/>
                      </a:lnTo>
                      <a:lnTo>
                        <a:pt x="5" y="42"/>
                      </a:lnTo>
                      <a:lnTo>
                        <a:pt x="9" y="42"/>
                      </a:lnTo>
                      <a:lnTo>
                        <a:pt x="11" y="39"/>
                      </a:lnTo>
                      <a:lnTo>
                        <a:pt x="5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639120" y="2604960"/>
                  <a:ext cx="69480" cy="1764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13" y="6"/>
                      </a:moveTo>
                      <a:lnTo>
                        <a:pt x="6" y="11"/>
                      </a:lnTo>
                      <a:lnTo>
                        <a:pt x="47" y="11"/>
                      </a:lnTo>
                      <a:lnTo>
                        <a:pt x="47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639120" y="2614680"/>
                  <a:ext cx="19440" cy="2844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6" y="7"/>
                      </a:moveTo>
                      <a:lnTo>
                        <a:pt x="13" y="13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6" y="1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648120" y="2625840"/>
                  <a:ext cx="63360" cy="34920"/>
                </a:xfrm>
                <a:custGeom>
                  <a:avLst/>
                  <a:gdLst/>
                  <a:ahLst/>
                  <a:rect l="l" t="t" r="r" b="b"/>
                  <a:pathLst>
                    <a:path w="43" h="22">
                      <a:moveTo>
                        <a:pt x="43" y="14"/>
                      </a:moveTo>
                      <a:lnTo>
                        <a:pt x="39" y="11"/>
                      </a:lnTo>
                      <a:lnTo>
                        <a:pt x="34" y="9"/>
                      </a:lnTo>
                      <a:lnTo>
                        <a:pt x="30" y="6"/>
                      </a:lnTo>
                      <a:lnTo>
                        <a:pt x="24" y="5"/>
                      </a:lnTo>
                      <a:lnTo>
                        <a:pt x="19" y="3"/>
                      </a:lnTo>
                      <a:lnTo>
                        <a:pt x="13" y="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5" y="12"/>
                      </a:lnTo>
                      <a:lnTo>
                        <a:pt x="11" y="12"/>
                      </a:lnTo>
                      <a:lnTo>
                        <a:pt x="15" y="14"/>
                      </a:lnTo>
                      <a:lnTo>
                        <a:pt x="19" y="14"/>
                      </a:lnTo>
                      <a:lnTo>
                        <a:pt x="22" y="16"/>
                      </a:lnTo>
                      <a:lnTo>
                        <a:pt x="26" y="19"/>
                      </a:lnTo>
                      <a:lnTo>
                        <a:pt x="30" y="20"/>
                      </a:lnTo>
                      <a:lnTo>
                        <a:pt x="34" y="22"/>
                      </a:lnTo>
                      <a:lnTo>
                        <a:pt x="4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698520" y="2648160"/>
                  <a:ext cx="34920" cy="56880"/>
                </a:xfrm>
                <a:custGeom>
                  <a:avLst/>
                  <a:gdLst/>
                  <a:ahLst/>
                  <a:rect l="l" t="t" r="r" b="b"/>
                  <a:pathLst>
                    <a:path w="24" h="36">
                      <a:moveTo>
                        <a:pt x="24" y="36"/>
                      </a:moveTo>
                      <a:lnTo>
                        <a:pt x="24" y="32"/>
                      </a:lnTo>
                      <a:lnTo>
                        <a:pt x="24" y="27"/>
                      </a:lnTo>
                      <a:lnTo>
                        <a:pt x="23" y="22"/>
                      </a:lnTo>
                      <a:lnTo>
                        <a:pt x="21" y="17"/>
                      </a:lnTo>
                      <a:lnTo>
                        <a:pt x="19" y="13"/>
                      </a:lnTo>
                      <a:lnTo>
                        <a:pt x="17" y="8"/>
                      </a:lnTo>
                      <a:lnTo>
                        <a:pt x="13" y="5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5" y="14"/>
                      </a:lnTo>
                      <a:lnTo>
                        <a:pt x="7" y="17"/>
                      </a:lnTo>
                      <a:lnTo>
                        <a:pt x="9" y="21"/>
                      </a:lnTo>
                      <a:lnTo>
                        <a:pt x="9" y="24"/>
                      </a:lnTo>
                      <a:lnTo>
                        <a:pt x="11" y="28"/>
                      </a:lnTo>
                      <a:lnTo>
                        <a:pt x="11" y="32"/>
                      </a:lnTo>
                      <a:lnTo>
                        <a:pt x="11" y="36"/>
                      </a:lnTo>
                      <a:lnTo>
                        <a:pt x="24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692760" y="2705040"/>
                  <a:ext cx="41040" cy="68400"/>
                </a:xfrm>
                <a:custGeom>
                  <a:avLst/>
                  <a:gdLst/>
                  <a:ahLst/>
                  <a:rect l="l" t="t" r="r" b="b"/>
                  <a:pathLst>
                    <a:path w="28" h="43">
                      <a:moveTo>
                        <a:pt x="9" y="43"/>
                      </a:moveTo>
                      <a:lnTo>
                        <a:pt x="15" y="38"/>
                      </a:lnTo>
                      <a:lnTo>
                        <a:pt x="19" y="33"/>
                      </a:lnTo>
                      <a:lnTo>
                        <a:pt x="21" y="29"/>
                      </a:lnTo>
                      <a:lnTo>
                        <a:pt x="25" y="24"/>
                      </a:lnTo>
                      <a:lnTo>
                        <a:pt x="27" y="18"/>
                      </a:lnTo>
                      <a:lnTo>
                        <a:pt x="28" y="13"/>
                      </a:lnTo>
                      <a:lnTo>
                        <a:pt x="28" y="7"/>
                      </a:lnTo>
                      <a:lnTo>
                        <a:pt x="28" y="0"/>
                      </a:lnTo>
                      <a:lnTo>
                        <a:pt x="15" y="0"/>
                      </a:lnTo>
                      <a:lnTo>
                        <a:pt x="15" y="5"/>
                      </a:lnTo>
                      <a:lnTo>
                        <a:pt x="15" y="11"/>
                      </a:lnTo>
                      <a:lnTo>
                        <a:pt x="13" y="15"/>
                      </a:lnTo>
                      <a:lnTo>
                        <a:pt x="11" y="19"/>
                      </a:lnTo>
                      <a:lnTo>
                        <a:pt x="9" y="24"/>
                      </a:lnTo>
                      <a:lnTo>
                        <a:pt x="8" y="27"/>
                      </a:lnTo>
                      <a:lnTo>
                        <a:pt x="4" y="30"/>
                      </a:lnTo>
                      <a:lnTo>
                        <a:pt x="0" y="35"/>
                      </a:lnTo>
                      <a:lnTo>
                        <a:pt x="9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33360" y="2760840"/>
                  <a:ext cx="72360" cy="37800"/>
                </a:xfrm>
                <a:custGeom>
                  <a:avLst/>
                  <a:gdLst/>
                  <a:ahLst/>
                  <a:rect l="l" t="t" r="r" b="b"/>
                  <a:pathLst>
                    <a:path w="49" h="24">
                      <a:moveTo>
                        <a:pt x="0" y="24"/>
                      </a:moveTo>
                      <a:lnTo>
                        <a:pt x="8" y="24"/>
                      </a:lnTo>
                      <a:lnTo>
                        <a:pt x="15" y="22"/>
                      </a:lnTo>
                      <a:lnTo>
                        <a:pt x="21" y="22"/>
                      </a:lnTo>
                      <a:lnTo>
                        <a:pt x="29" y="19"/>
                      </a:lnTo>
                      <a:lnTo>
                        <a:pt x="34" y="17"/>
                      </a:lnTo>
                      <a:lnTo>
                        <a:pt x="40" y="14"/>
                      </a:lnTo>
                      <a:lnTo>
                        <a:pt x="46" y="11"/>
                      </a:lnTo>
                      <a:lnTo>
                        <a:pt x="49" y="8"/>
                      </a:lnTo>
                      <a:lnTo>
                        <a:pt x="40" y="0"/>
                      </a:lnTo>
                      <a:lnTo>
                        <a:pt x="36" y="3"/>
                      </a:lnTo>
                      <a:lnTo>
                        <a:pt x="32" y="5"/>
                      </a:lnTo>
                      <a:lnTo>
                        <a:pt x="27" y="8"/>
                      </a:lnTo>
                      <a:lnTo>
                        <a:pt x="23" y="9"/>
                      </a:lnTo>
                      <a:lnTo>
                        <a:pt x="17" y="11"/>
                      </a:lnTo>
                      <a:lnTo>
                        <a:pt x="13" y="11"/>
                      </a:lnTo>
                      <a:lnTo>
                        <a:pt x="8" y="13"/>
                      </a:lnTo>
                      <a:lnTo>
                        <a:pt x="0" y="1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90520" y="2773440"/>
                  <a:ext cx="42840" cy="2520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0" y="11"/>
                      </a:moveTo>
                      <a:lnTo>
                        <a:pt x="4" y="11"/>
                      </a:lnTo>
                      <a:lnTo>
                        <a:pt x="8" y="13"/>
                      </a:lnTo>
                      <a:lnTo>
                        <a:pt x="10" y="14"/>
                      </a:lnTo>
                      <a:lnTo>
                        <a:pt x="14" y="14"/>
                      </a:lnTo>
                      <a:lnTo>
                        <a:pt x="18" y="16"/>
                      </a:lnTo>
                      <a:lnTo>
                        <a:pt x="21" y="16"/>
                      </a:lnTo>
                      <a:lnTo>
                        <a:pt x="25" y="16"/>
                      </a:lnTo>
                      <a:lnTo>
                        <a:pt x="29" y="16"/>
                      </a:lnTo>
                      <a:lnTo>
                        <a:pt x="29" y="5"/>
                      </a:lnTo>
                      <a:lnTo>
                        <a:pt x="27" y="5"/>
                      </a:lnTo>
                      <a:lnTo>
                        <a:pt x="23" y="5"/>
                      </a:lnTo>
                      <a:lnTo>
                        <a:pt x="21" y="5"/>
                      </a:lnTo>
                      <a:lnTo>
                        <a:pt x="18" y="3"/>
                      </a:lnTo>
                      <a:lnTo>
                        <a:pt x="14" y="3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8760" y="2752920"/>
                  <a:ext cx="50040" cy="3780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4" y="0"/>
                      </a:move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9" y="11"/>
                      </a:lnTo>
                      <a:lnTo>
                        <a:pt x="11" y="14"/>
                      </a:lnTo>
                      <a:lnTo>
                        <a:pt x="15" y="16"/>
                      </a:lnTo>
                      <a:lnTo>
                        <a:pt x="19" y="18"/>
                      </a:lnTo>
                      <a:lnTo>
                        <a:pt x="21" y="21"/>
                      </a:lnTo>
                      <a:lnTo>
                        <a:pt x="25" y="22"/>
                      </a:lnTo>
                      <a:lnTo>
                        <a:pt x="28" y="24"/>
                      </a:lnTo>
                      <a:lnTo>
                        <a:pt x="34" y="13"/>
                      </a:lnTo>
                      <a:lnTo>
                        <a:pt x="32" y="11"/>
                      </a:lnTo>
                      <a:lnTo>
                        <a:pt x="28" y="10"/>
                      </a:lnTo>
                      <a:lnTo>
                        <a:pt x="27" y="10"/>
                      </a:lnTo>
                      <a:lnTo>
                        <a:pt x="23" y="8"/>
                      </a:lnTo>
                      <a:lnTo>
                        <a:pt x="21" y="5"/>
                      </a:lnTo>
                      <a:lnTo>
                        <a:pt x="19" y="3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5" y="7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4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011000" y="2738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14"/>
                      </a:lnTo>
                      <a:lnTo>
                        <a:pt x="2" y="14"/>
                      </a:lnTo>
                      <a:lnTo>
                        <a:pt x="3" y="14"/>
                      </a:lnTo>
                      <a:lnTo>
                        <a:pt x="7" y="14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3" y="11"/>
                      </a:lnTo>
                      <a:lnTo>
                        <a:pt x="17" y="9"/>
                      </a:lnTo>
                      <a:lnTo>
                        <a:pt x="1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024320" y="2725920"/>
                  <a:ext cx="24840" cy="2520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4" y="0"/>
                      </a:move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0" y="16"/>
                      </a:lnTo>
                      <a:lnTo>
                        <a:pt x="12" y="14"/>
                      </a:lnTo>
                      <a:lnTo>
                        <a:pt x="12" y="13"/>
                      </a:lnTo>
                      <a:lnTo>
                        <a:pt x="13" y="11"/>
                      </a:lnTo>
                      <a:lnTo>
                        <a:pt x="15" y="9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7" y="3"/>
                      </a:lnTo>
                      <a:lnTo>
                        <a:pt x="17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021440" y="2700360"/>
                  <a:ext cx="28080" cy="255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8"/>
                      </a:moveTo>
                      <a:lnTo>
                        <a:pt x="2" y="10"/>
                      </a:lnTo>
                      <a:lnTo>
                        <a:pt x="4" y="11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19" y="16"/>
                      </a:lnTo>
                      <a:lnTo>
                        <a:pt x="19" y="14"/>
                      </a:lnTo>
                      <a:lnTo>
                        <a:pt x="17" y="11"/>
                      </a:lnTo>
                      <a:lnTo>
                        <a:pt x="17" y="10"/>
                      </a:lnTo>
                      <a:lnTo>
                        <a:pt x="17" y="8"/>
                      </a:lnTo>
                      <a:lnTo>
                        <a:pt x="15" y="6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011000" y="2691000"/>
                  <a:ext cx="28080" cy="2196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0" y="11"/>
                      </a:move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4"/>
                      </a:lnTo>
                      <a:lnTo>
                        <a:pt x="19" y="6"/>
                      </a:lnTo>
                      <a:lnTo>
                        <a:pt x="17" y="5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982920" y="2691000"/>
                  <a:ext cx="28080" cy="2196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9" y="14"/>
                      </a:moveTo>
                      <a:lnTo>
                        <a:pt x="11" y="12"/>
                      </a:lnTo>
                      <a:lnTo>
                        <a:pt x="13" y="12"/>
                      </a:lnTo>
                      <a:lnTo>
                        <a:pt x="15" y="11"/>
                      </a:lnTo>
                      <a:lnTo>
                        <a:pt x="17" y="11"/>
                      </a:lnTo>
                      <a:lnTo>
                        <a:pt x="19" y="11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9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968160" y="2700360"/>
                  <a:ext cx="28080" cy="255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15" y="16"/>
                      </a:moveTo>
                      <a:lnTo>
                        <a:pt x="15" y="14"/>
                      </a:lnTo>
                      <a:lnTo>
                        <a:pt x="15" y="13"/>
                      </a:lnTo>
                      <a:lnTo>
                        <a:pt x="15" y="11"/>
                      </a:lnTo>
                      <a:lnTo>
                        <a:pt x="17" y="10"/>
                      </a:lnTo>
                      <a:lnTo>
                        <a:pt x="19" y="8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15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968160" y="2725920"/>
                  <a:ext cx="28080" cy="2520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19" y="8"/>
                      </a:moveTo>
                      <a:lnTo>
                        <a:pt x="17" y="8"/>
                      </a:lnTo>
                      <a:lnTo>
                        <a:pt x="17" y="6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982920" y="2738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19" y="3"/>
                      </a:move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9" y="14"/>
                      </a:lnTo>
                      <a:lnTo>
                        <a:pt x="13" y="14"/>
                      </a:lnTo>
                      <a:lnTo>
                        <a:pt x="15" y="14"/>
                      </a:lnTo>
                      <a:lnTo>
                        <a:pt x="19" y="14"/>
                      </a:lnTo>
                      <a:lnTo>
                        <a:pt x="1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951960" y="2765520"/>
                  <a:ext cx="55800" cy="33120"/>
                </a:xfrm>
                <a:custGeom>
                  <a:avLst/>
                  <a:gdLst/>
                  <a:ahLst/>
                  <a:rect l="l" t="t" r="r" b="b"/>
                  <a:pathLst>
                    <a:path w="38" h="21">
                      <a:moveTo>
                        <a:pt x="0" y="8"/>
                      </a:moveTo>
                      <a:lnTo>
                        <a:pt x="4" y="11"/>
                      </a:lnTo>
                      <a:lnTo>
                        <a:pt x="9" y="13"/>
                      </a:lnTo>
                      <a:lnTo>
                        <a:pt x="13" y="16"/>
                      </a:lnTo>
                      <a:lnTo>
                        <a:pt x="17" y="18"/>
                      </a:lnTo>
                      <a:lnTo>
                        <a:pt x="23" y="19"/>
                      </a:lnTo>
                      <a:lnTo>
                        <a:pt x="28" y="21"/>
                      </a:lnTo>
                      <a:lnTo>
                        <a:pt x="34" y="21"/>
                      </a:lnTo>
                      <a:lnTo>
                        <a:pt x="38" y="21"/>
                      </a:lnTo>
                      <a:lnTo>
                        <a:pt x="38" y="10"/>
                      </a:lnTo>
                      <a:lnTo>
                        <a:pt x="34" y="10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3" y="6"/>
                      </a:lnTo>
                      <a:lnTo>
                        <a:pt x="19" y="5"/>
                      </a:lnTo>
                      <a:lnTo>
                        <a:pt x="17" y="3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929640" y="2725920"/>
                  <a:ext cx="34920" cy="52200"/>
                </a:xfrm>
                <a:custGeom>
                  <a:avLst/>
                  <a:gdLst/>
                  <a:ahLst/>
                  <a:rect l="l" t="t" r="r" b="b"/>
                  <a:pathLst>
                    <a:path w="24" h="33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1" y="14"/>
                      </a:lnTo>
                      <a:lnTo>
                        <a:pt x="3" y="17"/>
                      </a:lnTo>
                      <a:lnTo>
                        <a:pt x="5" y="22"/>
                      </a:lnTo>
                      <a:lnTo>
                        <a:pt x="9" y="25"/>
                      </a:lnTo>
                      <a:lnTo>
                        <a:pt x="11" y="30"/>
                      </a:lnTo>
                      <a:lnTo>
                        <a:pt x="15" y="33"/>
                      </a:lnTo>
                      <a:lnTo>
                        <a:pt x="24" y="25"/>
                      </a:lnTo>
                      <a:lnTo>
                        <a:pt x="22" y="22"/>
                      </a:lnTo>
                      <a:lnTo>
                        <a:pt x="20" y="19"/>
                      </a:lnTo>
                      <a:lnTo>
                        <a:pt x="19" y="17"/>
                      </a:lnTo>
                      <a:lnTo>
                        <a:pt x="17" y="14"/>
                      </a:lnTo>
                      <a:lnTo>
                        <a:pt x="15" y="11"/>
                      </a:lnTo>
                      <a:lnTo>
                        <a:pt x="15" y="8"/>
                      </a:lnTo>
                      <a:lnTo>
                        <a:pt x="13" y="5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929640" y="2674800"/>
                  <a:ext cx="34920" cy="51120"/>
                </a:xfrm>
                <a:custGeom>
                  <a:avLst/>
                  <a:gdLst/>
                  <a:ahLst/>
                  <a:rect l="l" t="t" r="r" b="b"/>
                  <a:pathLst>
                    <a:path w="24" h="32">
                      <a:moveTo>
                        <a:pt x="15" y="0"/>
                      </a:moveTo>
                      <a:lnTo>
                        <a:pt x="11" y="4"/>
                      </a:lnTo>
                      <a:lnTo>
                        <a:pt x="9" y="7"/>
                      </a:lnTo>
                      <a:lnTo>
                        <a:pt x="5" y="11"/>
                      </a:lnTo>
                      <a:lnTo>
                        <a:pt x="3" y="15"/>
                      </a:lnTo>
                      <a:lnTo>
                        <a:pt x="1" y="19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13" y="32"/>
                      </a:lnTo>
                      <a:lnTo>
                        <a:pt x="13" y="29"/>
                      </a:lnTo>
                      <a:lnTo>
                        <a:pt x="15" y="26"/>
                      </a:lnTo>
                      <a:lnTo>
                        <a:pt x="15" y="22"/>
                      </a:lnTo>
                      <a:lnTo>
                        <a:pt x="17" y="19"/>
                      </a:lnTo>
                      <a:lnTo>
                        <a:pt x="19" y="16"/>
                      </a:lnTo>
                      <a:lnTo>
                        <a:pt x="20" y="13"/>
                      </a:lnTo>
                      <a:lnTo>
                        <a:pt x="22" y="11"/>
                      </a:lnTo>
                      <a:lnTo>
                        <a:pt x="24" y="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951960" y="2652840"/>
                  <a:ext cx="55800" cy="34920"/>
                </a:xfrm>
                <a:custGeom>
                  <a:avLst/>
                  <a:gdLst/>
                  <a:ahLst/>
                  <a:rect l="l" t="t" r="r" b="b"/>
                  <a:pathLst>
                    <a:path w="38" h="22">
                      <a:moveTo>
                        <a:pt x="38" y="0"/>
                      </a:moveTo>
                      <a:lnTo>
                        <a:pt x="34" y="2"/>
                      </a:lnTo>
                      <a:lnTo>
                        <a:pt x="28" y="2"/>
                      </a:lnTo>
                      <a:lnTo>
                        <a:pt x="23" y="3"/>
                      </a:lnTo>
                      <a:lnTo>
                        <a:pt x="19" y="5"/>
                      </a:lnTo>
                      <a:lnTo>
                        <a:pt x="13" y="6"/>
                      </a:lnTo>
                      <a:lnTo>
                        <a:pt x="9" y="8"/>
                      </a:lnTo>
                      <a:lnTo>
                        <a:pt x="4" y="11"/>
                      </a:lnTo>
                      <a:lnTo>
                        <a:pt x="0" y="14"/>
                      </a:lnTo>
                      <a:lnTo>
                        <a:pt x="9" y="22"/>
                      </a:lnTo>
                      <a:lnTo>
                        <a:pt x="13" y="19"/>
                      </a:lnTo>
                      <a:lnTo>
                        <a:pt x="17" y="18"/>
                      </a:lnTo>
                      <a:lnTo>
                        <a:pt x="19" y="16"/>
                      </a:lnTo>
                      <a:lnTo>
                        <a:pt x="23" y="14"/>
                      </a:lnTo>
                      <a:lnTo>
                        <a:pt x="26" y="14"/>
                      </a:lnTo>
                      <a:lnTo>
                        <a:pt x="30" y="13"/>
                      </a:lnTo>
                      <a:lnTo>
                        <a:pt x="34" y="13"/>
                      </a:lnTo>
                      <a:lnTo>
                        <a:pt x="38" y="13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008120" y="2652840"/>
                  <a:ext cx="59400" cy="34920"/>
                </a:xfrm>
                <a:custGeom>
                  <a:avLst/>
                  <a:gdLst/>
                  <a:ahLst/>
                  <a:rect l="l" t="t" r="r" b="b"/>
                  <a:pathLst>
                    <a:path w="40" h="22">
                      <a:moveTo>
                        <a:pt x="40" y="14"/>
                      </a:moveTo>
                      <a:lnTo>
                        <a:pt x="36" y="11"/>
                      </a:lnTo>
                      <a:lnTo>
                        <a:pt x="30" y="8"/>
                      </a:lnTo>
                      <a:lnTo>
                        <a:pt x="26" y="6"/>
                      </a:lnTo>
                      <a:lnTo>
                        <a:pt x="21" y="5"/>
                      </a:lnTo>
                      <a:lnTo>
                        <a:pt x="17" y="3"/>
                      </a:lnTo>
                      <a:lnTo>
                        <a:pt x="11" y="2"/>
                      </a:lnTo>
                      <a:lnTo>
                        <a:pt x="5" y="2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5" y="13"/>
                      </a:lnTo>
                      <a:lnTo>
                        <a:pt x="9" y="13"/>
                      </a:lnTo>
                      <a:lnTo>
                        <a:pt x="13" y="14"/>
                      </a:lnTo>
                      <a:lnTo>
                        <a:pt x="17" y="14"/>
                      </a:lnTo>
                      <a:lnTo>
                        <a:pt x="21" y="16"/>
                      </a:lnTo>
                      <a:lnTo>
                        <a:pt x="23" y="18"/>
                      </a:lnTo>
                      <a:lnTo>
                        <a:pt x="26" y="19"/>
                      </a:lnTo>
                      <a:lnTo>
                        <a:pt x="30" y="22"/>
                      </a:lnTo>
                      <a:lnTo>
                        <a:pt x="4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052760" y="2674800"/>
                  <a:ext cx="36720" cy="51120"/>
                </a:xfrm>
                <a:custGeom>
                  <a:avLst/>
                  <a:gdLst/>
                  <a:ahLst/>
                  <a:rect l="l" t="t" r="r" b="b"/>
                  <a:pathLst>
                    <a:path w="25" h="32">
                      <a:moveTo>
                        <a:pt x="25" y="32"/>
                      </a:moveTo>
                      <a:lnTo>
                        <a:pt x="25" y="27"/>
                      </a:lnTo>
                      <a:lnTo>
                        <a:pt x="25" y="24"/>
                      </a:lnTo>
                      <a:lnTo>
                        <a:pt x="23" y="19"/>
                      </a:lnTo>
                      <a:lnTo>
                        <a:pt x="21" y="15"/>
                      </a:lnTo>
                      <a:lnTo>
                        <a:pt x="19" y="11"/>
                      </a:lnTo>
                      <a:lnTo>
                        <a:pt x="15" y="7"/>
                      </a:lnTo>
                      <a:lnTo>
                        <a:pt x="13" y="4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4" y="13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0" y="22"/>
                      </a:lnTo>
                      <a:lnTo>
                        <a:pt x="12" y="26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2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052760" y="2725920"/>
                  <a:ext cx="36720" cy="5220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10" y="33"/>
                      </a:moveTo>
                      <a:lnTo>
                        <a:pt x="13" y="28"/>
                      </a:lnTo>
                      <a:lnTo>
                        <a:pt x="15" y="25"/>
                      </a:lnTo>
                      <a:lnTo>
                        <a:pt x="19" y="22"/>
                      </a:lnTo>
                      <a:lnTo>
                        <a:pt x="21" y="17"/>
                      </a:lnTo>
                      <a:lnTo>
                        <a:pt x="23" y="14"/>
                      </a:lnTo>
                      <a:lnTo>
                        <a:pt x="25" y="9"/>
                      </a:lnTo>
                      <a:lnTo>
                        <a:pt x="25" y="5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2" y="5"/>
                      </a:lnTo>
                      <a:lnTo>
                        <a:pt x="12" y="8"/>
                      </a:lnTo>
                      <a:lnTo>
                        <a:pt x="10" y="11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4" y="19"/>
                      </a:lnTo>
                      <a:lnTo>
                        <a:pt x="2" y="22"/>
                      </a:lnTo>
                      <a:lnTo>
                        <a:pt x="0" y="25"/>
                      </a:lnTo>
                      <a:lnTo>
                        <a:pt x="1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008120" y="2765520"/>
                  <a:ext cx="59400" cy="3312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0" y="21"/>
                      </a:moveTo>
                      <a:lnTo>
                        <a:pt x="5" y="21"/>
                      </a:lnTo>
                      <a:lnTo>
                        <a:pt x="11" y="21"/>
                      </a:lnTo>
                      <a:lnTo>
                        <a:pt x="17" y="19"/>
                      </a:lnTo>
                      <a:lnTo>
                        <a:pt x="23" y="18"/>
                      </a:lnTo>
                      <a:lnTo>
                        <a:pt x="26" y="16"/>
                      </a:lnTo>
                      <a:lnTo>
                        <a:pt x="30" y="13"/>
                      </a:lnTo>
                      <a:lnTo>
                        <a:pt x="36" y="11"/>
                      </a:lnTo>
                      <a:lnTo>
                        <a:pt x="40" y="8"/>
                      </a:lnTo>
                      <a:lnTo>
                        <a:pt x="30" y="0"/>
                      </a:lnTo>
                      <a:lnTo>
                        <a:pt x="26" y="2"/>
                      </a:lnTo>
                      <a:lnTo>
                        <a:pt x="23" y="3"/>
                      </a:lnTo>
                      <a:lnTo>
                        <a:pt x="21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0" y="1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833520" y="2630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9" y="0"/>
                      </a:move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14"/>
                      </a:lnTo>
                      <a:lnTo>
                        <a:pt x="2" y="14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5" y="11"/>
                      </a:lnTo>
                      <a:lnTo>
                        <a:pt x="17" y="9"/>
                      </a:lnTo>
                      <a:lnTo>
                        <a:pt x="1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846840" y="2617920"/>
                  <a:ext cx="26280" cy="2520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4" y="0"/>
                      </a:move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0" y="16"/>
                      </a:lnTo>
                      <a:lnTo>
                        <a:pt x="12" y="14"/>
                      </a:lnTo>
                      <a:lnTo>
                        <a:pt x="14" y="13"/>
                      </a:lnTo>
                      <a:lnTo>
                        <a:pt x="14" y="1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8" y="3"/>
                      </a:lnTo>
                      <a:lnTo>
                        <a:pt x="18" y="2"/>
                      </a:lnTo>
                      <a:lnTo>
                        <a:pt x="18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846840" y="2592360"/>
                  <a:ext cx="26280" cy="2556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0" y="8"/>
                      </a:move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18" y="16"/>
                      </a:lnTo>
                      <a:lnTo>
                        <a:pt x="18" y="13"/>
                      </a:lnTo>
                      <a:lnTo>
                        <a:pt x="18" y="11"/>
                      </a:lnTo>
                      <a:lnTo>
                        <a:pt x="16" y="10"/>
                      </a:lnTo>
                      <a:lnTo>
                        <a:pt x="16" y="7"/>
                      </a:lnTo>
                      <a:lnTo>
                        <a:pt x="14" y="5"/>
                      </a:lnTo>
                      <a:lnTo>
                        <a:pt x="14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833520" y="2579760"/>
                  <a:ext cx="28080" cy="2520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13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9" y="8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805080" y="2579760"/>
                  <a:ext cx="28080" cy="2520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9" y="16"/>
                      </a:moveTo>
                      <a:lnTo>
                        <a:pt x="9" y="15"/>
                      </a:lnTo>
                      <a:lnTo>
                        <a:pt x="11" y="15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5" y="13"/>
                      </a:lnTo>
                      <a:lnTo>
                        <a:pt x="17" y="13"/>
                      </a:lnTo>
                      <a:lnTo>
                        <a:pt x="19" y="13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9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93560" y="2592360"/>
                  <a:ext cx="24840" cy="2556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14" y="16"/>
                      </a:moveTo>
                      <a:lnTo>
                        <a:pt x="14" y="14"/>
                      </a:lnTo>
                      <a:lnTo>
                        <a:pt x="14" y="13"/>
                      </a:lnTo>
                      <a:lnTo>
                        <a:pt x="14" y="11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7" y="8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1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93560" y="2617920"/>
                  <a:ext cx="24840" cy="2520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17" y="8"/>
                      </a:move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4" y="5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4" y="13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805080" y="2630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19" y="3"/>
                      </a:move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1" y="14"/>
                      </a:lnTo>
                      <a:lnTo>
                        <a:pt x="13" y="14"/>
                      </a:lnTo>
                      <a:lnTo>
                        <a:pt x="15" y="14"/>
                      </a:lnTo>
                      <a:lnTo>
                        <a:pt x="19" y="14"/>
                      </a:lnTo>
                      <a:lnTo>
                        <a:pt x="1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773760" y="2656080"/>
                  <a:ext cx="59400" cy="34920"/>
                </a:xfrm>
                <a:custGeom>
                  <a:avLst/>
                  <a:gdLst/>
                  <a:ahLst/>
                  <a:rect l="l" t="t" r="r" b="b"/>
                  <a:pathLst>
                    <a:path w="40" h="22">
                      <a:moveTo>
                        <a:pt x="0" y="8"/>
                      </a:moveTo>
                      <a:lnTo>
                        <a:pt x="6" y="11"/>
                      </a:lnTo>
                      <a:lnTo>
                        <a:pt x="10" y="14"/>
                      </a:lnTo>
                      <a:lnTo>
                        <a:pt x="13" y="16"/>
                      </a:lnTo>
                      <a:lnTo>
                        <a:pt x="19" y="17"/>
                      </a:lnTo>
                      <a:lnTo>
                        <a:pt x="23" y="19"/>
                      </a:lnTo>
                      <a:lnTo>
                        <a:pt x="29" y="20"/>
                      </a:lnTo>
                      <a:lnTo>
                        <a:pt x="34" y="20"/>
                      </a:lnTo>
                      <a:lnTo>
                        <a:pt x="40" y="22"/>
                      </a:lnTo>
                      <a:lnTo>
                        <a:pt x="40" y="9"/>
                      </a:lnTo>
                      <a:lnTo>
                        <a:pt x="36" y="9"/>
                      </a:lnTo>
                      <a:lnTo>
                        <a:pt x="30" y="9"/>
                      </a:lnTo>
                      <a:lnTo>
                        <a:pt x="27" y="9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17" y="4"/>
                      </a:lnTo>
                      <a:lnTo>
                        <a:pt x="13" y="3"/>
                      </a:lnTo>
                      <a:lnTo>
                        <a:pt x="11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751800" y="2617920"/>
                  <a:ext cx="38520" cy="5076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13"/>
                      </a:lnTo>
                      <a:lnTo>
                        <a:pt x="4" y="17"/>
                      </a:lnTo>
                      <a:lnTo>
                        <a:pt x="6" y="21"/>
                      </a:lnTo>
                      <a:lnTo>
                        <a:pt x="9" y="25"/>
                      </a:lnTo>
                      <a:lnTo>
                        <a:pt x="13" y="28"/>
                      </a:lnTo>
                      <a:lnTo>
                        <a:pt x="15" y="32"/>
                      </a:lnTo>
                      <a:lnTo>
                        <a:pt x="26" y="24"/>
                      </a:lnTo>
                      <a:lnTo>
                        <a:pt x="23" y="21"/>
                      </a:lnTo>
                      <a:lnTo>
                        <a:pt x="21" y="19"/>
                      </a:lnTo>
                      <a:lnTo>
                        <a:pt x="19" y="16"/>
                      </a:lnTo>
                      <a:lnTo>
                        <a:pt x="17" y="13"/>
                      </a:lnTo>
                      <a:lnTo>
                        <a:pt x="15" y="10"/>
                      </a:lnTo>
                      <a:lnTo>
                        <a:pt x="15" y="6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751800" y="2565360"/>
                  <a:ext cx="38520" cy="5256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15" y="0"/>
                      </a:moveTo>
                      <a:lnTo>
                        <a:pt x="13" y="5"/>
                      </a:lnTo>
                      <a:lnTo>
                        <a:pt x="9" y="8"/>
                      </a:lnTo>
                      <a:lnTo>
                        <a:pt x="6" y="11"/>
                      </a:lnTo>
                      <a:lnTo>
                        <a:pt x="4" y="16"/>
                      </a:lnTo>
                      <a:lnTo>
                        <a:pt x="2" y="19"/>
                      </a:lnTo>
                      <a:lnTo>
                        <a:pt x="2" y="24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13" y="33"/>
                      </a:lnTo>
                      <a:lnTo>
                        <a:pt x="13" y="30"/>
                      </a:lnTo>
                      <a:lnTo>
                        <a:pt x="15" y="25"/>
                      </a:lnTo>
                      <a:lnTo>
                        <a:pt x="15" y="22"/>
                      </a:lnTo>
                      <a:lnTo>
                        <a:pt x="17" y="19"/>
                      </a:lnTo>
                      <a:lnTo>
                        <a:pt x="19" y="17"/>
                      </a:lnTo>
                      <a:lnTo>
                        <a:pt x="21" y="14"/>
                      </a:lnTo>
                      <a:lnTo>
                        <a:pt x="23" y="11"/>
                      </a:lnTo>
                      <a:lnTo>
                        <a:pt x="26" y="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773760" y="2544840"/>
                  <a:ext cx="59400" cy="3312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40" y="0"/>
                      </a:move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3" y="2"/>
                      </a:lnTo>
                      <a:lnTo>
                        <a:pt x="19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6" y="10"/>
                      </a:lnTo>
                      <a:lnTo>
                        <a:pt x="0" y="13"/>
                      </a:lnTo>
                      <a:lnTo>
                        <a:pt x="11" y="21"/>
                      </a:lnTo>
                      <a:lnTo>
                        <a:pt x="13" y="19"/>
                      </a:lnTo>
                      <a:lnTo>
                        <a:pt x="17" y="18"/>
                      </a:lnTo>
                      <a:lnTo>
                        <a:pt x="21" y="16"/>
                      </a:lnTo>
                      <a:lnTo>
                        <a:pt x="23" y="14"/>
                      </a:lnTo>
                      <a:lnTo>
                        <a:pt x="27" y="13"/>
                      </a:lnTo>
                      <a:lnTo>
                        <a:pt x="30" y="13"/>
                      </a:lnTo>
                      <a:lnTo>
                        <a:pt x="36" y="11"/>
                      </a:lnTo>
                      <a:lnTo>
                        <a:pt x="40" y="1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833520" y="2544840"/>
                  <a:ext cx="55800" cy="33120"/>
                </a:xfrm>
                <a:custGeom>
                  <a:avLst/>
                  <a:gdLst/>
                  <a:ahLst/>
                  <a:rect l="l" t="t" r="r" b="b"/>
                  <a:pathLst>
                    <a:path w="38" h="21">
                      <a:moveTo>
                        <a:pt x="38" y="13"/>
                      </a:moveTo>
                      <a:lnTo>
                        <a:pt x="34" y="10"/>
                      </a:lnTo>
                      <a:lnTo>
                        <a:pt x="30" y="8"/>
                      </a:lnTo>
                      <a:lnTo>
                        <a:pt x="25" y="5"/>
                      </a:lnTo>
                      <a:lnTo>
                        <a:pt x="21" y="3"/>
                      </a:lnTo>
                      <a:lnTo>
                        <a:pt x="15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4" y="11"/>
                      </a:lnTo>
                      <a:lnTo>
                        <a:pt x="8" y="13"/>
                      </a:lnTo>
                      <a:lnTo>
                        <a:pt x="11" y="13"/>
                      </a:lnTo>
                      <a:lnTo>
                        <a:pt x="15" y="14"/>
                      </a:lnTo>
                      <a:lnTo>
                        <a:pt x="19" y="16"/>
                      </a:lnTo>
                      <a:lnTo>
                        <a:pt x="23" y="18"/>
                      </a:lnTo>
                      <a:lnTo>
                        <a:pt x="25" y="19"/>
                      </a:lnTo>
                      <a:lnTo>
                        <a:pt x="28" y="21"/>
                      </a:lnTo>
                      <a:lnTo>
                        <a:pt x="38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874560" y="2565360"/>
                  <a:ext cx="37080" cy="5256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25" y="33"/>
                      </a:moveTo>
                      <a:lnTo>
                        <a:pt x="25" y="28"/>
                      </a:lnTo>
                      <a:lnTo>
                        <a:pt x="25" y="24"/>
                      </a:lnTo>
                      <a:lnTo>
                        <a:pt x="23" y="19"/>
                      </a:lnTo>
                      <a:lnTo>
                        <a:pt x="21" y="16"/>
                      </a:lnTo>
                      <a:lnTo>
                        <a:pt x="19" y="11"/>
                      </a:lnTo>
                      <a:lnTo>
                        <a:pt x="18" y="8"/>
                      </a:lnTo>
                      <a:lnTo>
                        <a:pt x="14" y="5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6" y="14"/>
                      </a:lnTo>
                      <a:lnTo>
                        <a:pt x="8" y="17"/>
                      </a:lnTo>
                      <a:lnTo>
                        <a:pt x="10" y="19"/>
                      </a:lnTo>
                      <a:lnTo>
                        <a:pt x="10" y="22"/>
                      </a:lnTo>
                      <a:lnTo>
                        <a:pt x="12" y="25"/>
                      </a:lnTo>
                      <a:lnTo>
                        <a:pt x="12" y="30"/>
                      </a:lnTo>
                      <a:lnTo>
                        <a:pt x="12" y="33"/>
                      </a:lnTo>
                      <a:lnTo>
                        <a:pt x="25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874560" y="2617920"/>
                  <a:ext cx="37080" cy="50760"/>
                </a:xfrm>
                <a:custGeom>
                  <a:avLst/>
                  <a:gdLst/>
                  <a:ahLst/>
                  <a:rect l="l" t="t" r="r" b="b"/>
                  <a:pathLst>
                    <a:path w="25" h="32">
                      <a:moveTo>
                        <a:pt x="10" y="32"/>
                      </a:moveTo>
                      <a:lnTo>
                        <a:pt x="14" y="28"/>
                      </a:lnTo>
                      <a:lnTo>
                        <a:pt x="18" y="25"/>
                      </a:lnTo>
                      <a:lnTo>
                        <a:pt x="19" y="21"/>
                      </a:lnTo>
                      <a:lnTo>
                        <a:pt x="21" y="17"/>
                      </a:lnTo>
                      <a:lnTo>
                        <a:pt x="23" y="13"/>
                      </a:lnTo>
                      <a:lnTo>
                        <a:pt x="25" y="8"/>
                      </a:lnTo>
                      <a:lnTo>
                        <a:pt x="25" y="5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2" y="21"/>
                      </a:lnTo>
                      <a:lnTo>
                        <a:pt x="0" y="24"/>
                      </a:lnTo>
                      <a:lnTo>
                        <a:pt x="1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833520" y="2656080"/>
                  <a:ext cx="55800" cy="34920"/>
                </a:xfrm>
                <a:custGeom>
                  <a:avLst/>
                  <a:gdLst/>
                  <a:ahLst/>
                  <a:rect l="l" t="t" r="r" b="b"/>
                  <a:pathLst>
                    <a:path w="38" h="22">
                      <a:moveTo>
                        <a:pt x="0" y="22"/>
                      </a:moveTo>
                      <a:lnTo>
                        <a:pt x="6" y="20"/>
                      </a:lnTo>
                      <a:lnTo>
                        <a:pt x="9" y="20"/>
                      </a:lnTo>
                      <a:lnTo>
                        <a:pt x="15" y="19"/>
                      </a:lnTo>
                      <a:lnTo>
                        <a:pt x="21" y="17"/>
                      </a:lnTo>
                      <a:lnTo>
                        <a:pt x="25" y="16"/>
                      </a:lnTo>
                      <a:lnTo>
                        <a:pt x="30" y="14"/>
                      </a:lnTo>
                      <a:lnTo>
                        <a:pt x="34" y="11"/>
                      </a:lnTo>
                      <a:lnTo>
                        <a:pt x="38" y="8"/>
                      </a:lnTo>
                      <a:lnTo>
                        <a:pt x="28" y="0"/>
                      </a:lnTo>
                      <a:lnTo>
                        <a:pt x="25" y="3"/>
                      </a:lnTo>
                      <a:lnTo>
                        <a:pt x="23" y="4"/>
                      </a:lnTo>
                      <a:lnTo>
                        <a:pt x="19" y="6"/>
                      </a:lnTo>
                      <a:lnTo>
                        <a:pt x="15" y="8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4" y="9"/>
                      </a:lnTo>
                      <a:lnTo>
                        <a:pt x="0" y="9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821640" y="2548080"/>
                  <a:ext cx="158040" cy="242640"/>
                </a:xfrm>
                <a:custGeom>
                  <a:avLst/>
                  <a:gdLst/>
                  <a:ahLst/>
                  <a:rect l="l" t="t" r="r" b="b"/>
                  <a:pathLst>
                    <a:path w="107" h="153">
                      <a:moveTo>
                        <a:pt x="101" y="0"/>
                      </a:moveTo>
                      <a:lnTo>
                        <a:pt x="95" y="3"/>
                      </a:lnTo>
                      <a:lnTo>
                        <a:pt x="0" y="147"/>
                      </a:lnTo>
                      <a:lnTo>
                        <a:pt x="14" y="153"/>
                      </a:lnTo>
                      <a:lnTo>
                        <a:pt x="107" y="9"/>
                      </a:lnTo>
                      <a:lnTo>
                        <a:pt x="101" y="12"/>
                      </a:lnTo>
                      <a:lnTo>
                        <a:pt x="101" y="0"/>
                      </a:lnTo>
                      <a:lnTo>
                        <a:pt x="97" y="0"/>
                      </a:lnTo>
                      <a:lnTo>
                        <a:pt x="95" y="3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971040" y="2548080"/>
                  <a:ext cx="56160" cy="19080"/>
                </a:xfrm>
                <a:custGeom>
                  <a:avLst/>
                  <a:gdLst/>
                  <a:ahLst/>
                  <a:rect l="l" t="t" r="r" b="b"/>
                  <a:pathLst>
                    <a:path w="38" h="12">
                      <a:moveTo>
                        <a:pt x="32" y="9"/>
                      </a:moveTo>
                      <a:lnTo>
                        <a:pt x="27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7" y="12"/>
                      </a:lnTo>
                      <a:lnTo>
                        <a:pt x="21" y="3"/>
                      </a:lnTo>
                      <a:lnTo>
                        <a:pt x="32" y="9"/>
                      </a:lnTo>
                      <a:lnTo>
                        <a:pt x="38" y="0"/>
                      </a:lnTo>
                      <a:lnTo>
                        <a:pt x="27" y="0"/>
                      </a:lnTo>
                      <a:lnTo>
                        <a:pt x="3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861600" y="2552760"/>
                  <a:ext cx="156600" cy="243000"/>
                </a:xfrm>
                <a:custGeom>
                  <a:avLst/>
                  <a:gdLst/>
                  <a:ahLst/>
                  <a:rect l="l" t="t" r="r" b="b"/>
                  <a:pathLst>
                    <a:path w="106" h="153">
                      <a:moveTo>
                        <a:pt x="6" y="153"/>
                      </a:moveTo>
                      <a:lnTo>
                        <a:pt x="11" y="150"/>
                      </a:lnTo>
                      <a:lnTo>
                        <a:pt x="106" y="6"/>
                      </a:lnTo>
                      <a:lnTo>
                        <a:pt x="95" y="0"/>
                      </a:lnTo>
                      <a:lnTo>
                        <a:pt x="0" y="144"/>
                      </a:lnTo>
                      <a:lnTo>
                        <a:pt x="6" y="140"/>
                      </a:lnTo>
                      <a:lnTo>
                        <a:pt x="6" y="153"/>
                      </a:lnTo>
                      <a:lnTo>
                        <a:pt x="9" y="153"/>
                      </a:lnTo>
                      <a:lnTo>
                        <a:pt x="11" y="150"/>
                      </a:lnTo>
                      <a:lnTo>
                        <a:pt x="6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814080" y="2774880"/>
                  <a:ext cx="55800" cy="20880"/>
                </a:xfrm>
                <a:custGeom>
                  <a:avLst/>
                  <a:gdLst/>
                  <a:ahLst/>
                  <a:rect l="l" t="t" r="r" b="b"/>
                  <a:pathLst>
                    <a:path w="38" h="13">
                      <a:moveTo>
                        <a:pt x="5" y="4"/>
                      </a:moveTo>
                      <a:lnTo>
                        <a:pt x="11" y="13"/>
                      </a:lnTo>
                      <a:lnTo>
                        <a:pt x="38" y="13"/>
                      </a:lnTo>
                      <a:lnTo>
                        <a:pt x="38" y="0"/>
                      </a:lnTo>
                      <a:lnTo>
                        <a:pt x="11" y="0"/>
                      </a:lnTo>
                      <a:lnTo>
                        <a:pt x="19" y="10"/>
                      </a:lnTo>
                      <a:lnTo>
                        <a:pt x="5" y="4"/>
                      </a:lnTo>
                      <a:lnTo>
                        <a:pt x="0" y="13"/>
                      </a:lnTo>
                      <a:lnTo>
                        <a:pt x="11" y="1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355080" y="2990880"/>
                  <a:ext cx="1296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68040" y="2989440"/>
                  <a:ext cx="28080" cy="19080"/>
                </a:xfrm>
                <a:custGeom>
                  <a:avLst/>
                  <a:gdLst/>
                  <a:ahLst/>
                  <a:rect l="l" t="t" r="r" b="b"/>
                  <a:pathLst>
                    <a:path w="19" h="12">
                      <a:moveTo>
                        <a:pt x="12" y="0"/>
                      </a:move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2"/>
                      </a:lnTo>
                      <a:lnTo>
                        <a:pt x="14" y="12"/>
                      </a:lnTo>
                      <a:lnTo>
                        <a:pt x="16" y="11"/>
                      </a:lnTo>
                      <a:lnTo>
                        <a:pt x="17" y="11"/>
                      </a:lnTo>
                      <a:lnTo>
                        <a:pt x="19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86040" y="298152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7" y="14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3" y="9"/>
                      </a:lnTo>
                      <a:lnTo>
                        <a:pt x="13" y="8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386040" y="295920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6"/>
                      </a:lnTo>
                      <a:lnTo>
                        <a:pt x="13" y="4"/>
                      </a:ln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368040" y="2951280"/>
                  <a:ext cx="28080" cy="2052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11"/>
                      </a:move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9" y="5"/>
                      </a:lnTo>
                      <a:lnTo>
                        <a:pt x="17" y="3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346080" y="2951280"/>
                  <a:ext cx="21960" cy="1728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3" y="6"/>
                      </a:moveTo>
                      <a:lnTo>
                        <a:pt x="6" y="11"/>
                      </a:lnTo>
                      <a:lnTo>
                        <a:pt x="15" y="11"/>
                      </a:lnTo>
                      <a:lnTo>
                        <a:pt x="15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346080" y="2960640"/>
                  <a:ext cx="19080" cy="47880"/>
                </a:xfrm>
                <a:custGeom>
                  <a:avLst/>
                  <a:gdLst/>
                  <a:ahLst/>
                  <a:rect l="l" t="t" r="r" b="b"/>
                  <a:pathLst>
                    <a:path w="13" h="30">
                      <a:moveTo>
                        <a:pt x="6" y="19"/>
                      </a:moveTo>
                      <a:lnTo>
                        <a:pt x="13" y="26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6" y="30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355080" y="3084480"/>
                  <a:ext cx="1296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368040" y="3081240"/>
                  <a:ext cx="30960" cy="20880"/>
                </a:xfrm>
                <a:custGeom>
                  <a:avLst/>
                  <a:gdLst/>
                  <a:ahLst/>
                  <a:rect l="l" t="t" r="r" b="b"/>
                  <a:pathLst>
                    <a:path w="21" h="13">
                      <a:moveTo>
                        <a:pt x="12" y="0"/>
                      </a:move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1"/>
                      </a:lnTo>
                      <a:lnTo>
                        <a:pt x="16" y="11"/>
                      </a:lnTo>
                      <a:lnTo>
                        <a:pt x="19" y="10"/>
                      </a:lnTo>
                      <a:lnTo>
                        <a:pt x="21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386040" y="3071880"/>
                  <a:ext cx="24840" cy="2232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9" y="14"/>
                      </a:lnTo>
                      <a:lnTo>
                        <a:pt x="11" y="14"/>
                      </a:lnTo>
                      <a:lnTo>
                        <a:pt x="11" y="12"/>
                      </a:lnTo>
                      <a:lnTo>
                        <a:pt x="13" y="9"/>
                      </a:lnTo>
                      <a:lnTo>
                        <a:pt x="15" y="8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7" y="3"/>
                      </a:lnTo>
                      <a:lnTo>
                        <a:pt x="17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386040" y="3049560"/>
                  <a:ext cx="24840" cy="2232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0" y="7"/>
                      </a:move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17" y="14"/>
                      </a:lnTo>
                      <a:lnTo>
                        <a:pt x="17" y="12"/>
                      </a:lnTo>
                      <a:lnTo>
                        <a:pt x="15" y="11"/>
                      </a:lnTo>
                      <a:lnTo>
                        <a:pt x="15" y="7"/>
                      </a:lnTo>
                      <a:lnTo>
                        <a:pt x="15" y="6"/>
                      </a:lnTo>
                      <a:lnTo>
                        <a:pt x="13" y="4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68040" y="3038400"/>
                  <a:ext cx="3096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0" y="13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21" y="7"/>
                      </a:lnTo>
                      <a:lnTo>
                        <a:pt x="17" y="5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346080" y="3038400"/>
                  <a:ext cx="21960" cy="208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3" y="7"/>
                      </a:moveTo>
                      <a:lnTo>
                        <a:pt x="6" y="13"/>
                      </a:lnTo>
                      <a:lnTo>
                        <a:pt x="15" y="13"/>
                      </a:lnTo>
                      <a:lnTo>
                        <a:pt x="15" y="0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346080" y="3049560"/>
                  <a:ext cx="19080" cy="5256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6" y="22"/>
                      </a:moveTo>
                      <a:lnTo>
                        <a:pt x="13" y="28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6" y="3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6" y="33"/>
                      </a:lnTo>
                      <a:lnTo>
                        <a:pt x="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276600" y="2898720"/>
                  <a:ext cx="19080" cy="250920"/>
                </a:xfrm>
                <a:custGeom>
                  <a:avLst/>
                  <a:gdLst/>
                  <a:ahLst/>
                  <a:rect l="l" t="t" r="r" b="b"/>
                  <a:pathLst>
                    <a:path w="13" h="158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0" y="158"/>
                      </a:lnTo>
                      <a:lnTo>
                        <a:pt x="13" y="158"/>
                      </a:lnTo>
                      <a:lnTo>
                        <a:pt x="13" y="5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283800" y="2898720"/>
                  <a:ext cx="9000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374160" y="2898720"/>
                  <a:ext cx="78480" cy="31680"/>
                </a:xfrm>
                <a:custGeom>
                  <a:avLst/>
                  <a:gdLst/>
                  <a:ahLst/>
                  <a:rect l="l" t="t" r="r" b="b"/>
                  <a:pathLst>
                    <a:path w="53" h="20">
                      <a:moveTo>
                        <a:pt x="53" y="11"/>
                      </a:moveTo>
                      <a:lnTo>
                        <a:pt x="48" y="8"/>
                      </a:lnTo>
                      <a:lnTo>
                        <a:pt x="42" y="6"/>
                      </a:lnTo>
                      <a:lnTo>
                        <a:pt x="36" y="3"/>
                      </a:lnTo>
                      <a:lnTo>
                        <a:pt x="31" y="1"/>
                      </a:lnTo>
                      <a:lnTo>
                        <a:pt x="23" y="1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15" y="11"/>
                      </a:lnTo>
                      <a:lnTo>
                        <a:pt x="21" y="12"/>
                      </a:lnTo>
                      <a:lnTo>
                        <a:pt x="27" y="12"/>
                      </a:lnTo>
                      <a:lnTo>
                        <a:pt x="32" y="14"/>
                      </a:lnTo>
                      <a:lnTo>
                        <a:pt x="36" y="16"/>
                      </a:lnTo>
                      <a:lnTo>
                        <a:pt x="40" y="17"/>
                      </a:lnTo>
                      <a:lnTo>
                        <a:pt x="44" y="20"/>
                      </a:lnTo>
                      <a:lnTo>
                        <a:pt x="5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439320" y="2916360"/>
                  <a:ext cx="38520" cy="56880"/>
                </a:xfrm>
                <a:custGeom>
                  <a:avLst/>
                  <a:gdLst/>
                  <a:ahLst/>
                  <a:rect l="l" t="t" r="r" b="b"/>
                  <a:pathLst>
                    <a:path w="26" h="36">
                      <a:moveTo>
                        <a:pt x="26" y="36"/>
                      </a:moveTo>
                      <a:lnTo>
                        <a:pt x="26" y="30"/>
                      </a:lnTo>
                      <a:lnTo>
                        <a:pt x="26" y="25"/>
                      </a:lnTo>
                      <a:lnTo>
                        <a:pt x="25" y="20"/>
                      </a:lnTo>
                      <a:lnTo>
                        <a:pt x="23" y="16"/>
                      </a:lnTo>
                      <a:lnTo>
                        <a:pt x="21" y="11"/>
                      </a:lnTo>
                      <a:lnTo>
                        <a:pt x="17" y="8"/>
                      </a:lnTo>
                      <a:lnTo>
                        <a:pt x="13" y="3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6" y="14"/>
                      </a:lnTo>
                      <a:lnTo>
                        <a:pt x="7" y="17"/>
                      </a:lnTo>
                      <a:lnTo>
                        <a:pt x="9" y="20"/>
                      </a:lnTo>
                      <a:lnTo>
                        <a:pt x="11" y="24"/>
                      </a:lnTo>
                      <a:lnTo>
                        <a:pt x="13" y="27"/>
                      </a:lnTo>
                      <a:lnTo>
                        <a:pt x="13" y="31"/>
                      </a:lnTo>
                      <a:lnTo>
                        <a:pt x="13" y="36"/>
                      </a:lnTo>
                      <a:lnTo>
                        <a:pt x="2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453000" y="2973240"/>
                  <a:ext cx="24840" cy="3528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12" y="22"/>
                      </a:moveTo>
                      <a:lnTo>
                        <a:pt x="14" y="21"/>
                      </a:lnTo>
                      <a:lnTo>
                        <a:pt x="14" y="18"/>
                      </a:lnTo>
                      <a:lnTo>
                        <a:pt x="16" y="14"/>
                      </a:lnTo>
                      <a:lnTo>
                        <a:pt x="16" y="13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3"/>
                      </a:lnTo>
                      <a:lnTo>
                        <a:pt x="17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2" y="11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408000" y="3002040"/>
                  <a:ext cx="61920" cy="34920"/>
                </a:xfrm>
                <a:custGeom>
                  <a:avLst/>
                  <a:gdLst/>
                  <a:ahLst/>
                  <a:rect l="l" t="t" r="r" b="b"/>
                  <a:pathLst>
                    <a:path w="42" h="22">
                      <a:moveTo>
                        <a:pt x="19" y="11"/>
                      </a:moveTo>
                      <a:lnTo>
                        <a:pt x="21" y="20"/>
                      </a:lnTo>
                      <a:lnTo>
                        <a:pt x="23" y="19"/>
                      </a:lnTo>
                      <a:lnTo>
                        <a:pt x="27" y="17"/>
                      </a:lnTo>
                      <a:lnTo>
                        <a:pt x="30" y="15"/>
                      </a:lnTo>
                      <a:lnTo>
                        <a:pt x="32" y="14"/>
                      </a:lnTo>
                      <a:lnTo>
                        <a:pt x="34" y="12"/>
                      </a:lnTo>
                      <a:lnTo>
                        <a:pt x="38" y="9"/>
                      </a:lnTo>
                      <a:lnTo>
                        <a:pt x="40" y="7"/>
                      </a:lnTo>
                      <a:lnTo>
                        <a:pt x="42" y="4"/>
                      </a:lnTo>
                      <a:lnTo>
                        <a:pt x="30" y="0"/>
                      </a:lnTo>
                      <a:lnTo>
                        <a:pt x="28" y="1"/>
                      </a:lnTo>
                      <a:lnTo>
                        <a:pt x="27" y="3"/>
                      </a:lnTo>
                      <a:lnTo>
                        <a:pt x="25" y="4"/>
                      </a:lnTo>
                      <a:lnTo>
                        <a:pt x="23" y="6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3" y="11"/>
                      </a:lnTo>
                      <a:lnTo>
                        <a:pt x="15" y="22"/>
                      </a:lnTo>
                      <a:lnTo>
                        <a:pt x="13" y="11"/>
                      </a:lnTo>
                      <a:lnTo>
                        <a:pt x="0" y="17"/>
                      </a:lnTo>
                      <a:lnTo>
                        <a:pt x="15" y="22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430320" y="3019320"/>
                  <a:ext cx="39960" cy="3204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27" y="14"/>
                      </a:moveTo>
                      <a:lnTo>
                        <a:pt x="25" y="11"/>
                      </a:lnTo>
                      <a:lnTo>
                        <a:pt x="23" y="9"/>
                      </a:lnTo>
                      <a:lnTo>
                        <a:pt x="19" y="8"/>
                      </a:lnTo>
                      <a:lnTo>
                        <a:pt x="17" y="4"/>
                      </a:lnTo>
                      <a:lnTo>
                        <a:pt x="13" y="3"/>
                      </a:lnTo>
                      <a:lnTo>
                        <a:pt x="12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8" y="14"/>
                      </a:lnTo>
                      <a:lnTo>
                        <a:pt x="10" y="15"/>
                      </a:lnTo>
                      <a:lnTo>
                        <a:pt x="12" y="17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2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453000" y="3041640"/>
                  <a:ext cx="2772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19" y="25"/>
                      </a:moveTo>
                      <a:lnTo>
                        <a:pt x="19" y="20"/>
                      </a:lnTo>
                      <a:lnTo>
                        <a:pt x="17" y="17"/>
                      </a:lnTo>
                      <a:lnTo>
                        <a:pt x="17" y="14"/>
                      </a:lnTo>
                      <a:lnTo>
                        <a:pt x="17" y="11"/>
                      </a:lnTo>
                      <a:lnTo>
                        <a:pt x="16" y="8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2" y="0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4" y="25"/>
                      </a:lnTo>
                      <a:lnTo>
                        <a:pt x="19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439320" y="3081240"/>
                  <a:ext cx="41040" cy="57240"/>
                </a:xfrm>
                <a:custGeom>
                  <a:avLst/>
                  <a:gdLst/>
                  <a:ahLst/>
                  <a:rect l="l" t="t" r="r" b="b"/>
                  <a:pathLst>
                    <a:path w="28" h="36">
                      <a:moveTo>
                        <a:pt x="9" y="36"/>
                      </a:moveTo>
                      <a:lnTo>
                        <a:pt x="13" y="33"/>
                      </a:lnTo>
                      <a:lnTo>
                        <a:pt x="17" y="29"/>
                      </a:lnTo>
                      <a:lnTo>
                        <a:pt x="21" y="25"/>
                      </a:lnTo>
                      <a:lnTo>
                        <a:pt x="23" y="21"/>
                      </a:lnTo>
                      <a:lnTo>
                        <a:pt x="25" y="16"/>
                      </a:lnTo>
                      <a:lnTo>
                        <a:pt x="26" y="11"/>
                      </a:lnTo>
                      <a:lnTo>
                        <a:pt x="28" y="5"/>
                      </a:lnTo>
                      <a:lnTo>
                        <a:pt x="28" y="0"/>
                      </a:lnTo>
                      <a:lnTo>
                        <a:pt x="13" y="0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11" y="13"/>
                      </a:lnTo>
                      <a:lnTo>
                        <a:pt x="11" y="16"/>
                      </a:lnTo>
                      <a:lnTo>
                        <a:pt x="9" y="19"/>
                      </a:lnTo>
                      <a:lnTo>
                        <a:pt x="6" y="22"/>
                      </a:lnTo>
                      <a:lnTo>
                        <a:pt x="4" y="25"/>
                      </a:lnTo>
                      <a:lnTo>
                        <a:pt x="0" y="27"/>
                      </a:lnTo>
                      <a:lnTo>
                        <a:pt x="9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374160" y="3124080"/>
                  <a:ext cx="78480" cy="32040"/>
                </a:xfrm>
                <a:custGeom>
                  <a:avLst/>
                  <a:gdLst/>
                  <a:ahLst/>
                  <a:rect l="l" t="t" r="r" b="b"/>
                  <a:pathLst>
                    <a:path w="53" h="20">
                      <a:moveTo>
                        <a:pt x="0" y="20"/>
                      </a:moveTo>
                      <a:lnTo>
                        <a:pt x="8" y="20"/>
                      </a:lnTo>
                      <a:lnTo>
                        <a:pt x="17" y="20"/>
                      </a:lnTo>
                      <a:lnTo>
                        <a:pt x="23" y="19"/>
                      </a:lnTo>
                      <a:lnTo>
                        <a:pt x="31" y="17"/>
                      </a:lnTo>
                      <a:lnTo>
                        <a:pt x="36" y="16"/>
                      </a:lnTo>
                      <a:lnTo>
                        <a:pt x="42" y="14"/>
                      </a:lnTo>
                      <a:lnTo>
                        <a:pt x="48" y="13"/>
                      </a:lnTo>
                      <a:lnTo>
                        <a:pt x="53" y="9"/>
                      </a:lnTo>
                      <a:lnTo>
                        <a:pt x="44" y="0"/>
                      </a:lnTo>
                      <a:lnTo>
                        <a:pt x="40" y="2"/>
                      </a:lnTo>
                      <a:lnTo>
                        <a:pt x="36" y="5"/>
                      </a:lnTo>
                      <a:lnTo>
                        <a:pt x="32" y="6"/>
                      </a:lnTo>
                      <a:lnTo>
                        <a:pt x="27" y="8"/>
                      </a:lnTo>
                      <a:lnTo>
                        <a:pt x="21" y="8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276600" y="3138480"/>
                  <a:ext cx="97560" cy="17640"/>
                </a:xfrm>
                <a:custGeom>
                  <a:avLst/>
                  <a:gdLst/>
                  <a:ahLst/>
                  <a:rect l="l" t="t" r="r" b="b"/>
                  <a:pathLst>
                    <a:path w="66" h="11">
                      <a:moveTo>
                        <a:pt x="0" y="7"/>
                      </a:moveTo>
                      <a:lnTo>
                        <a:pt x="5" y="11"/>
                      </a:lnTo>
                      <a:lnTo>
                        <a:pt x="66" y="11"/>
                      </a:lnTo>
                      <a:lnTo>
                        <a:pt x="66" y="0"/>
                      </a:lnTo>
                      <a:lnTo>
                        <a:pt x="5" y="0"/>
                      </a:lnTo>
                      <a:lnTo>
                        <a:pt x="13" y="7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5" y="1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582960" y="2959200"/>
                  <a:ext cx="52920" cy="31680"/>
                </a:xfrm>
                <a:custGeom>
                  <a:avLst/>
                  <a:gdLst/>
                  <a:ahLst/>
                  <a:rect l="l" t="t" r="r" b="b"/>
                  <a:pathLst>
                    <a:path w="36" h="20">
                      <a:moveTo>
                        <a:pt x="9" y="20"/>
                      </a:moveTo>
                      <a:lnTo>
                        <a:pt x="13" y="17"/>
                      </a:lnTo>
                      <a:lnTo>
                        <a:pt x="15" y="16"/>
                      </a:lnTo>
                      <a:lnTo>
                        <a:pt x="19" y="14"/>
                      </a:lnTo>
                      <a:lnTo>
                        <a:pt x="23" y="12"/>
                      </a:lnTo>
                      <a:lnTo>
                        <a:pt x="25" y="12"/>
                      </a:lnTo>
                      <a:lnTo>
                        <a:pt x="28" y="11"/>
                      </a:lnTo>
                      <a:lnTo>
                        <a:pt x="32" y="11"/>
                      </a:lnTo>
                      <a:lnTo>
                        <a:pt x="36" y="11"/>
                      </a:lnTo>
                      <a:lnTo>
                        <a:pt x="36" y="0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1" y="1"/>
                      </a:lnTo>
                      <a:lnTo>
                        <a:pt x="17" y="3"/>
                      </a:lnTo>
                      <a:lnTo>
                        <a:pt x="11" y="4"/>
                      </a:lnTo>
                      <a:lnTo>
                        <a:pt x="7" y="6"/>
                      </a:lnTo>
                      <a:lnTo>
                        <a:pt x="4" y="9"/>
                      </a:lnTo>
                      <a:lnTo>
                        <a:pt x="0" y="12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562440" y="2978280"/>
                  <a:ext cx="33840" cy="4752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4" y="30"/>
                      </a:moveTo>
                      <a:lnTo>
                        <a:pt x="14" y="27"/>
                      </a:lnTo>
                      <a:lnTo>
                        <a:pt x="14" y="24"/>
                      </a:lnTo>
                      <a:lnTo>
                        <a:pt x="16" y="21"/>
                      </a:lnTo>
                      <a:lnTo>
                        <a:pt x="16" y="18"/>
                      </a:lnTo>
                      <a:lnTo>
                        <a:pt x="18" y="16"/>
                      </a:lnTo>
                      <a:lnTo>
                        <a:pt x="19" y="13"/>
                      </a:lnTo>
                      <a:lnTo>
                        <a:pt x="21" y="10"/>
                      </a:lnTo>
                      <a:lnTo>
                        <a:pt x="23" y="8"/>
                      </a:lnTo>
                      <a:lnTo>
                        <a:pt x="14" y="0"/>
                      </a:lnTo>
                      <a:lnTo>
                        <a:pt x="10" y="4"/>
                      </a:lnTo>
                      <a:lnTo>
                        <a:pt x="8" y="7"/>
                      </a:lnTo>
                      <a:lnTo>
                        <a:pt x="6" y="10"/>
                      </a:lnTo>
                      <a:lnTo>
                        <a:pt x="2" y="15"/>
                      </a:lnTo>
                      <a:lnTo>
                        <a:pt x="2" y="18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562440" y="3025800"/>
                  <a:ext cx="33840" cy="507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23" y="24"/>
                      </a:moveTo>
                      <a:lnTo>
                        <a:pt x="21" y="21"/>
                      </a:lnTo>
                      <a:lnTo>
                        <a:pt x="19" y="19"/>
                      </a:lnTo>
                      <a:lnTo>
                        <a:pt x="18" y="16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4" y="8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2" y="18"/>
                      </a:lnTo>
                      <a:lnTo>
                        <a:pt x="6" y="21"/>
                      </a:lnTo>
                      <a:lnTo>
                        <a:pt x="8" y="26"/>
                      </a:lnTo>
                      <a:lnTo>
                        <a:pt x="10" y="29"/>
                      </a:lnTo>
                      <a:lnTo>
                        <a:pt x="14" y="32"/>
                      </a:lnTo>
                      <a:lnTo>
                        <a:pt x="23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582960" y="3063960"/>
                  <a:ext cx="52920" cy="33120"/>
                </a:xfrm>
                <a:custGeom>
                  <a:avLst/>
                  <a:gdLst/>
                  <a:ahLst/>
                  <a:rect l="l" t="t" r="r" b="b"/>
                  <a:pathLst>
                    <a:path w="36" h="21">
                      <a:moveTo>
                        <a:pt x="36" y="10"/>
                      </a:moveTo>
                      <a:lnTo>
                        <a:pt x="32" y="10"/>
                      </a:lnTo>
                      <a:lnTo>
                        <a:pt x="28" y="8"/>
                      </a:lnTo>
                      <a:lnTo>
                        <a:pt x="25" y="8"/>
                      </a:lnTo>
                      <a:lnTo>
                        <a:pt x="21" y="6"/>
                      </a:lnTo>
                      <a:lnTo>
                        <a:pt x="19" y="5"/>
                      </a:lnTo>
                      <a:lnTo>
                        <a:pt x="15" y="3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7" y="13"/>
                      </a:lnTo>
                      <a:lnTo>
                        <a:pt x="11" y="16"/>
                      </a:lnTo>
                      <a:lnTo>
                        <a:pt x="17" y="17"/>
                      </a:lnTo>
                      <a:lnTo>
                        <a:pt x="21" y="19"/>
                      </a:lnTo>
                      <a:lnTo>
                        <a:pt x="26" y="19"/>
                      </a:lnTo>
                      <a:lnTo>
                        <a:pt x="30" y="21"/>
                      </a:lnTo>
                      <a:lnTo>
                        <a:pt x="36" y="21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636240" y="3063960"/>
                  <a:ext cx="53280" cy="33120"/>
                </a:xfrm>
                <a:custGeom>
                  <a:avLst/>
                  <a:gdLst/>
                  <a:ahLst/>
                  <a:rect l="l" t="t" r="r" b="b"/>
                  <a:pathLst>
                    <a:path w="36" h="21">
                      <a:moveTo>
                        <a:pt x="27" y="0"/>
                      </a:moveTo>
                      <a:lnTo>
                        <a:pt x="23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6"/>
                      </a:lnTo>
                      <a:lnTo>
                        <a:pt x="11" y="8"/>
                      </a:lnTo>
                      <a:lnTo>
                        <a:pt x="8" y="8"/>
                      </a:lnTo>
                      <a:lnTo>
                        <a:pt x="4" y="10"/>
                      </a:lnTo>
                      <a:lnTo>
                        <a:pt x="0" y="10"/>
                      </a:lnTo>
                      <a:lnTo>
                        <a:pt x="0" y="21"/>
                      </a:lnTo>
                      <a:lnTo>
                        <a:pt x="6" y="21"/>
                      </a:lnTo>
                      <a:lnTo>
                        <a:pt x="9" y="19"/>
                      </a:lnTo>
                      <a:lnTo>
                        <a:pt x="15" y="19"/>
                      </a:lnTo>
                      <a:lnTo>
                        <a:pt x="19" y="17"/>
                      </a:lnTo>
                      <a:lnTo>
                        <a:pt x="25" y="16"/>
                      </a:lnTo>
                      <a:lnTo>
                        <a:pt x="28" y="13"/>
                      </a:lnTo>
                      <a:lnTo>
                        <a:pt x="32" y="11"/>
                      </a:lnTo>
                      <a:lnTo>
                        <a:pt x="36" y="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676200" y="3025800"/>
                  <a:ext cx="35280" cy="50760"/>
                </a:xfrm>
                <a:custGeom>
                  <a:avLst/>
                  <a:gdLst/>
                  <a:ahLst/>
                  <a:rect l="l" t="t" r="r" b="b"/>
                  <a:pathLst>
                    <a:path w="24" h="32">
                      <a:moveTo>
                        <a:pt x="9" y="0"/>
                      </a:move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9" y="11"/>
                      </a:lnTo>
                      <a:lnTo>
                        <a:pt x="7" y="13"/>
                      </a:lnTo>
                      <a:lnTo>
                        <a:pt x="5" y="16"/>
                      </a:lnTo>
                      <a:lnTo>
                        <a:pt x="3" y="19"/>
                      </a:lnTo>
                      <a:lnTo>
                        <a:pt x="1" y="21"/>
                      </a:lnTo>
                      <a:lnTo>
                        <a:pt x="0" y="24"/>
                      </a:lnTo>
                      <a:lnTo>
                        <a:pt x="9" y="32"/>
                      </a:lnTo>
                      <a:lnTo>
                        <a:pt x="13" y="29"/>
                      </a:lnTo>
                      <a:lnTo>
                        <a:pt x="15" y="26"/>
                      </a:lnTo>
                      <a:lnTo>
                        <a:pt x="19" y="21"/>
                      </a:lnTo>
                      <a:lnTo>
                        <a:pt x="20" y="18"/>
                      </a:lnTo>
                      <a:lnTo>
                        <a:pt x="22" y="13"/>
                      </a:lnTo>
                      <a:lnTo>
                        <a:pt x="22" y="10"/>
                      </a:lnTo>
                      <a:lnTo>
                        <a:pt x="24" y="5"/>
                      </a:lnTo>
                      <a:lnTo>
                        <a:pt x="24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676200" y="2978280"/>
                  <a:ext cx="35280" cy="47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0" y="8"/>
                      </a:moveTo>
                      <a:lnTo>
                        <a:pt x="1" y="10"/>
                      </a:lnTo>
                      <a:lnTo>
                        <a:pt x="3" y="13"/>
                      </a:lnTo>
                      <a:lnTo>
                        <a:pt x="5" y="16"/>
                      </a:lnTo>
                      <a:lnTo>
                        <a:pt x="7" y="18"/>
                      </a:lnTo>
                      <a:lnTo>
                        <a:pt x="9" y="21"/>
                      </a:lnTo>
                      <a:lnTo>
                        <a:pt x="9" y="24"/>
                      </a:lnTo>
                      <a:lnTo>
                        <a:pt x="9" y="27"/>
                      </a:lnTo>
                      <a:lnTo>
                        <a:pt x="9" y="30"/>
                      </a:lnTo>
                      <a:lnTo>
                        <a:pt x="24" y="30"/>
                      </a:lnTo>
                      <a:lnTo>
                        <a:pt x="24" y="27"/>
                      </a:lnTo>
                      <a:lnTo>
                        <a:pt x="22" y="22"/>
                      </a:lnTo>
                      <a:lnTo>
                        <a:pt x="22" y="18"/>
                      </a:lnTo>
                      <a:lnTo>
                        <a:pt x="20" y="15"/>
                      </a:lnTo>
                      <a:lnTo>
                        <a:pt x="19" y="10"/>
                      </a:lnTo>
                      <a:lnTo>
                        <a:pt x="15" y="7"/>
                      </a:lnTo>
                      <a:lnTo>
                        <a:pt x="13" y="4"/>
                      </a:lnTo>
                      <a:lnTo>
                        <a:pt x="9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636240" y="2959200"/>
                  <a:ext cx="53280" cy="31680"/>
                </a:xfrm>
                <a:custGeom>
                  <a:avLst/>
                  <a:gdLst/>
                  <a:ahLst/>
                  <a:rect l="l" t="t" r="r" b="b"/>
                  <a:pathLst>
                    <a:path w="36" h="20">
                      <a:moveTo>
                        <a:pt x="0" y="11"/>
                      </a:move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1" y="12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21" y="16"/>
                      </a:lnTo>
                      <a:lnTo>
                        <a:pt x="23" y="17"/>
                      </a:lnTo>
                      <a:lnTo>
                        <a:pt x="27" y="20"/>
                      </a:lnTo>
                      <a:lnTo>
                        <a:pt x="36" y="12"/>
                      </a:lnTo>
                      <a:lnTo>
                        <a:pt x="32" y="9"/>
                      </a:lnTo>
                      <a:lnTo>
                        <a:pt x="28" y="6"/>
                      </a:lnTo>
                      <a:lnTo>
                        <a:pt x="25" y="4"/>
                      </a:lnTo>
                      <a:lnTo>
                        <a:pt x="19" y="3"/>
                      </a:lnTo>
                      <a:lnTo>
                        <a:pt x="15" y="1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636240" y="2890800"/>
                  <a:ext cx="5328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36" y="5"/>
                      </a:moveTo>
                      <a:lnTo>
                        <a:pt x="30" y="5"/>
                      </a:lnTo>
                      <a:lnTo>
                        <a:pt x="27" y="3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1" y="13"/>
                      </a:lnTo>
                      <a:lnTo>
                        <a:pt x="15" y="13"/>
                      </a:lnTo>
                      <a:lnTo>
                        <a:pt x="19" y="13"/>
                      </a:lnTo>
                      <a:lnTo>
                        <a:pt x="23" y="14"/>
                      </a:lnTo>
                      <a:lnTo>
                        <a:pt x="27" y="14"/>
                      </a:lnTo>
                      <a:lnTo>
                        <a:pt x="30" y="16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680880" y="2898720"/>
                  <a:ext cx="51480" cy="38160"/>
                </a:xfrm>
                <a:custGeom>
                  <a:avLst/>
                  <a:gdLst/>
                  <a:ahLst/>
                  <a:rect l="l" t="t" r="r" b="b"/>
                  <a:pathLst>
                    <a:path w="35" h="24">
                      <a:moveTo>
                        <a:pt x="35" y="16"/>
                      </a:moveTo>
                      <a:lnTo>
                        <a:pt x="33" y="12"/>
                      </a:lnTo>
                      <a:lnTo>
                        <a:pt x="29" y="11"/>
                      </a:lnTo>
                      <a:lnTo>
                        <a:pt x="25" y="9"/>
                      </a:lnTo>
                      <a:lnTo>
                        <a:pt x="21" y="6"/>
                      </a:lnTo>
                      <a:lnTo>
                        <a:pt x="17" y="5"/>
                      </a:lnTo>
                      <a:lnTo>
                        <a:pt x="14" y="3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0" y="11"/>
                      </a:lnTo>
                      <a:lnTo>
                        <a:pt x="4" y="12"/>
                      </a:lnTo>
                      <a:lnTo>
                        <a:pt x="8" y="14"/>
                      </a:lnTo>
                      <a:lnTo>
                        <a:pt x="12" y="16"/>
                      </a:lnTo>
                      <a:lnTo>
                        <a:pt x="14" y="17"/>
                      </a:lnTo>
                      <a:lnTo>
                        <a:pt x="17" y="19"/>
                      </a:lnTo>
                      <a:lnTo>
                        <a:pt x="19" y="20"/>
                      </a:lnTo>
                      <a:lnTo>
                        <a:pt x="23" y="22"/>
                      </a:lnTo>
                      <a:lnTo>
                        <a:pt x="25" y="24"/>
                      </a:lnTo>
                      <a:lnTo>
                        <a:pt x="35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717960" y="2924280"/>
                  <a:ext cx="53280" cy="54000"/>
                </a:xfrm>
                <a:custGeom>
                  <a:avLst/>
                  <a:gdLst/>
                  <a:ahLst/>
                  <a:rect l="l" t="t" r="r" b="b"/>
                  <a:pathLst>
                    <a:path w="36" h="34">
                      <a:moveTo>
                        <a:pt x="36" y="30"/>
                      </a:moveTo>
                      <a:lnTo>
                        <a:pt x="34" y="25"/>
                      </a:lnTo>
                      <a:lnTo>
                        <a:pt x="30" y="22"/>
                      </a:lnTo>
                      <a:lnTo>
                        <a:pt x="29" y="17"/>
                      </a:lnTo>
                      <a:lnTo>
                        <a:pt x="25" y="14"/>
                      </a:lnTo>
                      <a:lnTo>
                        <a:pt x="21" y="9"/>
                      </a:lnTo>
                      <a:lnTo>
                        <a:pt x="17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20"/>
                      </a:lnTo>
                      <a:lnTo>
                        <a:pt x="17" y="23"/>
                      </a:lnTo>
                      <a:lnTo>
                        <a:pt x="19" y="26"/>
                      </a:lnTo>
                      <a:lnTo>
                        <a:pt x="21" y="30"/>
                      </a:lnTo>
                      <a:lnTo>
                        <a:pt x="23" y="34"/>
                      </a:lnTo>
                      <a:lnTo>
                        <a:pt x="36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751800" y="2971800"/>
                  <a:ext cx="34200" cy="54000"/>
                </a:xfrm>
                <a:custGeom>
                  <a:avLst/>
                  <a:gdLst/>
                  <a:ahLst/>
                  <a:rect l="l" t="t" r="r" b="b"/>
                  <a:pathLst>
                    <a:path w="23" h="34">
                      <a:moveTo>
                        <a:pt x="23" y="34"/>
                      </a:moveTo>
                      <a:lnTo>
                        <a:pt x="21" y="30"/>
                      </a:lnTo>
                      <a:lnTo>
                        <a:pt x="21" y="26"/>
                      </a:lnTo>
                      <a:lnTo>
                        <a:pt x="21" y="22"/>
                      </a:lnTo>
                      <a:lnTo>
                        <a:pt x="19" y="17"/>
                      </a:lnTo>
                      <a:lnTo>
                        <a:pt x="19" y="12"/>
                      </a:lnTo>
                      <a:lnTo>
                        <a:pt x="17" y="8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4" y="11"/>
                      </a:lnTo>
                      <a:lnTo>
                        <a:pt x="6" y="15"/>
                      </a:lnTo>
                      <a:lnTo>
                        <a:pt x="6" y="19"/>
                      </a:lnTo>
                      <a:lnTo>
                        <a:pt x="7" y="23"/>
                      </a:lnTo>
                      <a:lnTo>
                        <a:pt x="7" y="26"/>
                      </a:lnTo>
                      <a:lnTo>
                        <a:pt x="7" y="31"/>
                      </a:lnTo>
                      <a:lnTo>
                        <a:pt x="7" y="34"/>
                      </a:lnTo>
                      <a:lnTo>
                        <a:pt x="2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751800" y="3025800"/>
                  <a:ext cx="34200" cy="58680"/>
                </a:xfrm>
                <a:custGeom>
                  <a:avLst/>
                  <a:gdLst/>
                  <a:ahLst/>
                  <a:rect l="l" t="t" r="r" b="b"/>
                  <a:pathLst>
                    <a:path w="23" h="37">
                      <a:moveTo>
                        <a:pt x="13" y="37"/>
                      </a:moveTo>
                      <a:lnTo>
                        <a:pt x="15" y="32"/>
                      </a:lnTo>
                      <a:lnTo>
                        <a:pt x="17" y="29"/>
                      </a:lnTo>
                      <a:lnTo>
                        <a:pt x="19" y="24"/>
                      </a:lnTo>
                      <a:lnTo>
                        <a:pt x="19" y="19"/>
                      </a:lnTo>
                      <a:lnTo>
                        <a:pt x="21" y="15"/>
                      </a:lnTo>
                      <a:lnTo>
                        <a:pt x="21" y="10"/>
                      </a:lnTo>
                      <a:lnTo>
                        <a:pt x="21" y="5"/>
                      </a:lnTo>
                      <a:lnTo>
                        <a:pt x="23" y="0"/>
                      </a:lnTo>
                      <a:lnTo>
                        <a:pt x="7" y="0"/>
                      </a:lnTo>
                      <a:lnTo>
                        <a:pt x="7" y="5"/>
                      </a:lnTo>
                      <a:lnTo>
                        <a:pt x="7" y="10"/>
                      </a:lnTo>
                      <a:lnTo>
                        <a:pt x="7" y="13"/>
                      </a:lnTo>
                      <a:lnTo>
                        <a:pt x="6" y="18"/>
                      </a:lnTo>
                      <a:lnTo>
                        <a:pt x="6" y="21"/>
                      </a:lnTo>
                      <a:lnTo>
                        <a:pt x="4" y="24"/>
                      </a:lnTo>
                      <a:lnTo>
                        <a:pt x="2" y="29"/>
                      </a:lnTo>
                      <a:lnTo>
                        <a:pt x="0" y="32"/>
                      </a:lnTo>
                      <a:lnTo>
                        <a:pt x="13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717960" y="3076560"/>
                  <a:ext cx="53280" cy="5544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10" y="35"/>
                      </a:moveTo>
                      <a:lnTo>
                        <a:pt x="13" y="32"/>
                      </a:lnTo>
                      <a:lnTo>
                        <a:pt x="17" y="28"/>
                      </a:lnTo>
                      <a:lnTo>
                        <a:pt x="21" y="24"/>
                      </a:lnTo>
                      <a:lnTo>
                        <a:pt x="25" y="20"/>
                      </a:lnTo>
                      <a:lnTo>
                        <a:pt x="29" y="17"/>
                      </a:lnTo>
                      <a:lnTo>
                        <a:pt x="30" y="13"/>
                      </a:lnTo>
                      <a:lnTo>
                        <a:pt x="34" y="9"/>
                      </a:lnTo>
                      <a:lnTo>
                        <a:pt x="36" y="5"/>
                      </a:lnTo>
                      <a:lnTo>
                        <a:pt x="23" y="0"/>
                      </a:lnTo>
                      <a:lnTo>
                        <a:pt x="21" y="3"/>
                      </a:lnTo>
                      <a:lnTo>
                        <a:pt x="19" y="8"/>
                      </a:lnTo>
                      <a:lnTo>
                        <a:pt x="17" y="11"/>
                      </a:lnTo>
                      <a:lnTo>
                        <a:pt x="13" y="14"/>
                      </a:lnTo>
                      <a:lnTo>
                        <a:pt x="11" y="17"/>
                      </a:lnTo>
                      <a:lnTo>
                        <a:pt x="8" y="20"/>
                      </a:lnTo>
                      <a:lnTo>
                        <a:pt x="4" y="24"/>
                      </a:lnTo>
                      <a:lnTo>
                        <a:pt x="0" y="27"/>
                      </a:lnTo>
                      <a:lnTo>
                        <a:pt x="1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680880" y="3119400"/>
                  <a:ext cx="51480" cy="367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6" y="23"/>
                      </a:moveTo>
                      <a:lnTo>
                        <a:pt x="10" y="22"/>
                      </a:lnTo>
                      <a:lnTo>
                        <a:pt x="14" y="20"/>
                      </a:lnTo>
                      <a:lnTo>
                        <a:pt x="17" y="19"/>
                      </a:lnTo>
                      <a:lnTo>
                        <a:pt x="21" y="16"/>
                      </a:lnTo>
                      <a:lnTo>
                        <a:pt x="25" y="14"/>
                      </a:lnTo>
                      <a:lnTo>
                        <a:pt x="29" y="12"/>
                      </a:lnTo>
                      <a:lnTo>
                        <a:pt x="31" y="9"/>
                      </a:lnTo>
                      <a:lnTo>
                        <a:pt x="35" y="8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19" y="3"/>
                      </a:lnTo>
                      <a:lnTo>
                        <a:pt x="17" y="5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8" y="9"/>
                      </a:lnTo>
                      <a:lnTo>
                        <a:pt x="4" y="11"/>
                      </a:lnTo>
                      <a:lnTo>
                        <a:pt x="0" y="12"/>
                      </a:lnTo>
                      <a:lnTo>
                        <a:pt x="6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636240" y="3138480"/>
                  <a:ext cx="5328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0" y="16"/>
                      </a:moveTo>
                      <a:lnTo>
                        <a:pt x="4" y="16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7" y="15"/>
                      </a:lnTo>
                      <a:lnTo>
                        <a:pt x="23" y="15"/>
                      </a:lnTo>
                      <a:lnTo>
                        <a:pt x="27" y="13"/>
                      </a:lnTo>
                      <a:lnTo>
                        <a:pt x="30" y="11"/>
                      </a:lnTo>
                      <a:lnTo>
                        <a:pt x="36" y="11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19" y="4"/>
                      </a:lnTo>
                      <a:lnTo>
                        <a:pt x="15" y="4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82960" y="3138480"/>
                  <a:ext cx="5292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0" y="11"/>
                      </a:moveTo>
                      <a:lnTo>
                        <a:pt x="5" y="11"/>
                      </a:lnTo>
                      <a:lnTo>
                        <a:pt x="9" y="13"/>
                      </a:lnTo>
                      <a:lnTo>
                        <a:pt x="13" y="15"/>
                      </a:lnTo>
                      <a:lnTo>
                        <a:pt x="17" y="15"/>
                      </a:lnTo>
                      <a:lnTo>
                        <a:pt x="23" y="15"/>
                      </a:lnTo>
                      <a:lnTo>
                        <a:pt x="26" y="16"/>
                      </a:lnTo>
                      <a:lnTo>
                        <a:pt x="32" y="16"/>
                      </a:lnTo>
                      <a:lnTo>
                        <a:pt x="36" y="16"/>
                      </a:lnTo>
                      <a:lnTo>
                        <a:pt x="36" y="5"/>
                      </a:lnTo>
                      <a:lnTo>
                        <a:pt x="32" y="5"/>
                      </a:lnTo>
                      <a:lnTo>
                        <a:pt x="28" y="4"/>
                      </a:lnTo>
                      <a:lnTo>
                        <a:pt x="25" y="4"/>
                      </a:lnTo>
                      <a:lnTo>
                        <a:pt x="21" y="4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540120" y="3119400"/>
                  <a:ext cx="50040" cy="36720"/>
                </a:xfrm>
                <a:custGeom>
                  <a:avLst/>
                  <a:gdLst/>
                  <a:ahLst/>
                  <a:rect l="l" t="t" r="r" b="b"/>
                  <a:pathLst>
                    <a:path w="34" h="23">
                      <a:moveTo>
                        <a:pt x="0" y="8"/>
                      </a:moveTo>
                      <a:lnTo>
                        <a:pt x="4" y="9"/>
                      </a:lnTo>
                      <a:lnTo>
                        <a:pt x="6" y="12"/>
                      </a:lnTo>
                      <a:lnTo>
                        <a:pt x="10" y="14"/>
                      </a:lnTo>
                      <a:lnTo>
                        <a:pt x="14" y="16"/>
                      </a:lnTo>
                      <a:lnTo>
                        <a:pt x="17" y="19"/>
                      </a:lnTo>
                      <a:lnTo>
                        <a:pt x="21" y="20"/>
                      </a:lnTo>
                      <a:lnTo>
                        <a:pt x="25" y="22"/>
                      </a:lnTo>
                      <a:lnTo>
                        <a:pt x="29" y="23"/>
                      </a:lnTo>
                      <a:lnTo>
                        <a:pt x="34" y="12"/>
                      </a:lnTo>
                      <a:lnTo>
                        <a:pt x="31" y="11"/>
                      </a:lnTo>
                      <a:lnTo>
                        <a:pt x="27" y="9"/>
                      </a:lnTo>
                      <a:lnTo>
                        <a:pt x="25" y="8"/>
                      </a:lnTo>
                      <a:lnTo>
                        <a:pt x="21" y="6"/>
                      </a:lnTo>
                      <a:lnTo>
                        <a:pt x="17" y="5"/>
                      </a:lnTo>
                      <a:lnTo>
                        <a:pt x="15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501600" y="3076560"/>
                  <a:ext cx="53280" cy="5544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0" y="5"/>
                      </a:moveTo>
                      <a:lnTo>
                        <a:pt x="3" y="9"/>
                      </a:lnTo>
                      <a:lnTo>
                        <a:pt x="5" y="13"/>
                      </a:lnTo>
                      <a:lnTo>
                        <a:pt x="7" y="17"/>
                      </a:lnTo>
                      <a:lnTo>
                        <a:pt x="11" y="20"/>
                      </a:lnTo>
                      <a:lnTo>
                        <a:pt x="15" y="25"/>
                      </a:lnTo>
                      <a:lnTo>
                        <a:pt x="19" y="28"/>
                      </a:lnTo>
                      <a:lnTo>
                        <a:pt x="22" y="32"/>
                      </a:lnTo>
                      <a:lnTo>
                        <a:pt x="26" y="35"/>
                      </a:lnTo>
                      <a:lnTo>
                        <a:pt x="36" y="27"/>
                      </a:lnTo>
                      <a:lnTo>
                        <a:pt x="32" y="24"/>
                      </a:lnTo>
                      <a:lnTo>
                        <a:pt x="28" y="20"/>
                      </a:lnTo>
                      <a:lnTo>
                        <a:pt x="24" y="17"/>
                      </a:lnTo>
                      <a:lnTo>
                        <a:pt x="22" y="14"/>
                      </a:lnTo>
                      <a:lnTo>
                        <a:pt x="19" y="11"/>
                      </a:lnTo>
                      <a:lnTo>
                        <a:pt x="17" y="8"/>
                      </a:lnTo>
                      <a:lnTo>
                        <a:pt x="15" y="5"/>
                      </a:lnTo>
                      <a:lnTo>
                        <a:pt x="13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489720" y="3025800"/>
                  <a:ext cx="30600" cy="58680"/>
                </a:xfrm>
                <a:custGeom>
                  <a:avLst/>
                  <a:gdLst/>
                  <a:ahLst/>
                  <a:rect l="l" t="t" r="r" b="b"/>
                  <a:pathLst>
                    <a:path w="21" h="3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" y="24"/>
                      </a:lnTo>
                      <a:lnTo>
                        <a:pt x="4" y="29"/>
                      </a:lnTo>
                      <a:lnTo>
                        <a:pt x="6" y="32"/>
                      </a:lnTo>
                      <a:lnTo>
                        <a:pt x="8" y="37"/>
                      </a:lnTo>
                      <a:lnTo>
                        <a:pt x="21" y="32"/>
                      </a:lnTo>
                      <a:lnTo>
                        <a:pt x="19" y="29"/>
                      </a:lnTo>
                      <a:lnTo>
                        <a:pt x="17" y="24"/>
                      </a:lnTo>
                      <a:lnTo>
                        <a:pt x="15" y="21"/>
                      </a:lnTo>
                      <a:lnTo>
                        <a:pt x="15" y="18"/>
                      </a:lnTo>
                      <a:lnTo>
                        <a:pt x="13" y="13"/>
                      </a:lnTo>
                      <a:lnTo>
                        <a:pt x="13" y="10"/>
                      </a:lnTo>
                      <a:lnTo>
                        <a:pt x="13" y="5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489720" y="2971800"/>
                  <a:ext cx="30600" cy="54000"/>
                </a:xfrm>
                <a:custGeom>
                  <a:avLst/>
                  <a:gdLst/>
                  <a:ahLst/>
                  <a:rect l="l" t="t" r="r" b="b"/>
                  <a:pathLst>
                    <a:path w="21" h="34">
                      <a:moveTo>
                        <a:pt x="8" y="0"/>
                      </a:moveTo>
                      <a:lnTo>
                        <a:pt x="6" y="3"/>
                      </a:lnTo>
                      <a:lnTo>
                        <a:pt x="4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3" y="34"/>
                      </a:lnTo>
                      <a:lnTo>
                        <a:pt x="13" y="31"/>
                      </a:lnTo>
                      <a:lnTo>
                        <a:pt x="13" y="26"/>
                      </a:lnTo>
                      <a:lnTo>
                        <a:pt x="13" y="23"/>
                      </a:lnTo>
                      <a:lnTo>
                        <a:pt x="15" y="19"/>
                      </a:lnTo>
                      <a:lnTo>
                        <a:pt x="15" y="15"/>
                      </a:lnTo>
                      <a:lnTo>
                        <a:pt x="17" y="11"/>
                      </a:lnTo>
                      <a:lnTo>
                        <a:pt x="19" y="8"/>
                      </a:lnTo>
                      <a:lnTo>
                        <a:pt x="21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01600" y="2924280"/>
                  <a:ext cx="53280" cy="54000"/>
                </a:xfrm>
                <a:custGeom>
                  <a:avLst/>
                  <a:gdLst/>
                  <a:ahLst/>
                  <a:rect l="l" t="t" r="r" b="b"/>
                  <a:pathLst>
                    <a:path w="36" h="34">
                      <a:moveTo>
                        <a:pt x="26" y="0"/>
                      </a:moveTo>
                      <a:lnTo>
                        <a:pt x="22" y="3"/>
                      </a:lnTo>
                      <a:lnTo>
                        <a:pt x="19" y="6"/>
                      </a:lnTo>
                      <a:lnTo>
                        <a:pt x="15" y="9"/>
                      </a:lnTo>
                      <a:lnTo>
                        <a:pt x="11" y="14"/>
                      </a:lnTo>
                      <a:lnTo>
                        <a:pt x="7" y="17"/>
                      </a:lnTo>
                      <a:lnTo>
                        <a:pt x="5" y="22"/>
                      </a:lnTo>
                      <a:lnTo>
                        <a:pt x="3" y="25"/>
                      </a:lnTo>
                      <a:lnTo>
                        <a:pt x="0" y="30"/>
                      </a:lnTo>
                      <a:lnTo>
                        <a:pt x="13" y="34"/>
                      </a:lnTo>
                      <a:lnTo>
                        <a:pt x="15" y="30"/>
                      </a:lnTo>
                      <a:lnTo>
                        <a:pt x="17" y="26"/>
                      </a:lnTo>
                      <a:lnTo>
                        <a:pt x="19" y="23"/>
                      </a:lnTo>
                      <a:lnTo>
                        <a:pt x="22" y="20"/>
                      </a:lnTo>
                      <a:lnTo>
                        <a:pt x="24" y="17"/>
                      </a:lnTo>
                      <a:lnTo>
                        <a:pt x="28" y="14"/>
                      </a:lnTo>
                      <a:lnTo>
                        <a:pt x="32" y="11"/>
                      </a:lnTo>
                      <a:lnTo>
                        <a:pt x="36" y="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540120" y="2898720"/>
                  <a:ext cx="50040" cy="381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29" y="0"/>
                      </a:moveTo>
                      <a:lnTo>
                        <a:pt x="25" y="1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4" y="6"/>
                      </a:lnTo>
                      <a:lnTo>
                        <a:pt x="10" y="9"/>
                      </a:lnTo>
                      <a:lnTo>
                        <a:pt x="6" y="11"/>
                      </a:lnTo>
                      <a:lnTo>
                        <a:pt x="4" y="12"/>
                      </a:lnTo>
                      <a:lnTo>
                        <a:pt x="0" y="16"/>
                      </a:lnTo>
                      <a:lnTo>
                        <a:pt x="10" y="24"/>
                      </a:lnTo>
                      <a:lnTo>
                        <a:pt x="12" y="22"/>
                      </a:lnTo>
                      <a:lnTo>
                        <a:pt x="15" y="20"/>
                      </a:lnTo>
                      <a:lnTo>
                        <a:pt x="17" y="19"/>
                      </a:lnTo>
                      <a:lnTo>
                        <a:pt x="21" y="17"/>
                      </a:lnTo>
                      <a:lnTo>
                        <a:pt x="25" y="16"/>
                      </a:lnTo>
                      <a:lnTo>
                        <a:pt x="27" y="14"/>
                      </a:lnTo>
                      <a:lnTo>
                        <a:pt x="31" y="12"/>
                      </a:lnTo>
                      <a:lnTo>
                        <a:pt x="34" y="11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582960" y="2890800"/>
                  <a:ext cx="5292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36" y="0"/>
                      </a:moveTo>
                      <a:lnTo>
                        <a:pt x="32" y="0"/>
                      </a:lnTo>
                      <a:lnTo>
                        <a:pt x="26" y="0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3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5" y="16"/>
                      </a:lnTo>
                      <a:lnTo>
                        <a:pt x="9" y="14"/>
                      </a:lnTo>
                      <a:lnTo>
                        <a:pt x="13" y="14"/>
                      </a:lnTo>
                      <a:lnTo>
                        <a:pt x="17" y="13"/>
                      </a:lnTo>
                      <a:lnTo>
                        <a:pt x="21" y="13"/>
                      </a:lnTo>
                      <a:lnTo>
                        <a:pt x="25" y="13"/>
                      </a:lnTo>
                      <a:lnTo>
                        <a:pt x="28" y="11"/>
                      </a:lnTo>
                      <a:lnTo>
                        <a:pt x="32" y="11"/>
                      </a:lnTo>
                      <a:lnTo>
                        <a:pt x="36" y="1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830280" y="3036960"/>
                  <a:ext cx="19080" cy="112680"/>
                </a:xfrm>
                <a:custGeom>
                  <a:avLst/>
                  <a:gdLst/>
                  <a:ahLst/>
                  <a:rect l="l" t="t" r="r" b="b"/>
                  <a:pathLst>
                    <a:path w="13" h="71">
                      <a:moveTo>
                        <a:pt x="0" y="4"/>
                      </a:moveTo>
                      <a:lnTo>
                        <a:pt x="0" y="1"/>
                      </a:lnTo>
                      <a:lnTo>
                        <a:pt x="0" y="71"/>
                      </a:lnTo>
                      <a:lnTo>
                        <a:pt x="13" y="7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751800" y="2898720"/>
                  <a:ext cx="97560" cy="144720"/>
                </a:xfrm>
                <a:custGeom>
                  <a:avLst/>
                  <a:gdLst/>
                  <a:ahLst/>
                  <a:rect l="l" t="t" r="r" b="b"/>
                  <a:pathLst>
                    <a:path w="66" h="91">
                      <a:moveTo>
                        <a:pt x="9" y="0"/>
                      </a:moveTo>
                      <a:lnTo>
                        <a:pt x="4" y="8"/>
                      </a:lnTo>
                      <a:lnTo>
                        <a:pt x="53" y="91"/>
                      </a:lnTo>
                      <a:lnTo>
                        <a:pt x="66" y="87"/>
                      </a:lnTo>
                      <a:lnTo>
                        <a:pt x="17" y="3"/>
                      </a:lnTo>
                      <a:lnTo>
                        <a:pt x="9" y="1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4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765120" y="2898720"/>
                  <a:ext cx="90000" cy="17640"/>
                </a:xfrm>
                <a:custGeom>
                  <a:avLst/>
                  <a:gdLst/>
                  <a:ahLst/>
                  <a:rect l="l" t="t" r="r" b="b"/>
                  <a:pathLst>
                    <a:path w="61" h="11">
                      <a:moveTo>
                        <a:pt x="61" y="3"/>
                      </a:move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54" y="11"/>
                      </a:lnTo>
                      <a:lnTo>
                        <a:pt x="48" y="8"/>
                      </a:lnTo>
                      <a:lnTo>
                        <a:pt x="61" y="3"/>
                      </a:lnTo>
                      <a:lnTo>
                        <a:pt x="59" y="0"/>
                      </a:lnTo>
                      <a:lnTo>
                        <a:pt x="54" y="0"/>
                      </a:lnTo>
                      <a:lnTo>
                        <a:pt x="6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836400" y="2903400"/>
                  <a:ext cx="50040" cy="81000"/>
                </a:xfrm>
                <a:custGeom>
                  <a:avLst/>
                  <a:gdLst/>
                  <a:ahLst/>
                  <a:rect l="l" t="t" r="r" b="b"/>
                  <a:pathLst>
                    <a:path w="34" h="51">
                      <a:moveTo>
                        <a:pt x="21" y="46"/>
                      </a:moveTo>
                      <a:lnTo>
                        <a:pt x="34" y="46"/>
                      </a:lnTo>
                      <a:lnTo>
                        <a:pt x="13" y="0"/>
                      </a:lnTo>
                      <a:lnTo>
                        <a:pt x="0" y="5"/>
                      </a:lnTo>
                      <a:lnTo>
                        <a:pt x="21" y="51"/>
                      </a:lnTo>
                      <a:lnTo>
                        <a:pt x="34" y="51"/>
                      </a:lnTo>
                      <a:lnTo>
                        <a:pt x="21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867360" y="2898720"/>
                  <a:ext cx="53280" cy="85680"/>
                </a:xfrm>
                <a:custGeom>
                  <a:avLst/>
                  <a:gdLst/>
                  <a:ahLst/>
                  <a:rect l="l" t="t" r="r" b="b"/>
                  <a:pathLst>
                    <a:path w="36" h="54">
                      <a:moveTo>
                        <a:pt x="30" y="0"/>
                      </a:moveTo>
                      <a:lnTo>
                        <a:pt x="23" y="3"/>
                      </a:lnTo>
                      <a:lnTo>
                        <a:pt x="0" y="49"/>
                      </a:lnTo>
                      <a:lnTo>
                        <a:pt x="13" y="54"/>
                      </a:lnTo>
                      <a:lnTo>
                        <a:pt x="36" y="8"/>
                      </a:lnTo>
                      <a:lnTo>
                        <a:pt x="30" y="11"/>
                      </a:lnTo>
                      <a:lnTo>
                        <a:pt x="30" y="0"/>
                      </a:lnTo>
                      <a:lnTo>
                        <a:pt x="24" y="0"/>
                      </a:lnTo>
                      <a:lnTo>
                        <a:pt x="23" y="3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912000" y="2898720"/>
                  <a:ext cx="95760" cy="17640"/>
                </a:xfrm>
                <a:custGeom>
                  <a:avLst/>
                  <a:gdLst/>
                  <a:ahLst/>
                  <a:rect l="l" t="t" r="r" b="b"/>
                  <a:pathLst>
                    <a:path w="65" h="11">
                      <a:moveTo>
                        <a:pt x="59" y="8"/>
                      </a:move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53" y="11"/>
                      </a:lnTo>
                      <a:lnTo>
                        <a:pt x="48" y="3"/>
                      </a:lnTo>
                      <a:lnTo>
                        <a:pt x="59" y="8"/>
                      </a:lnTo>
                      <a:lnTo>
                        <a:pt x="65" y="0"/>
                      </a:lnTo>
                      <a:lnTo>
                        <a:pt x="53" y="0"/>
                      </a:lnTo>
                      <a:lnTo>
                        <a:pt x="5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901560" y="2903400"/>
                  <a:ext cx="97560" cy="14292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13" y="88"/>
                      </a:moveTo>
                      <a:lnTo>
                        <a:pt x="13" y="90"/>
                      </a:lnTo>
                      <a:lnTo>
                        <a:pt x="66" y="5"/>
                      </a:lnTo>
                      <a:lnTo>
                        <a:pt x="55" y="0"/>
                      </a:lnTo>
                      <a:lnTo>
                        <a:pt x="1" y="85"/>
                      </a:lnTo>
                      <a:lnTo>
                        <a:pt x="0" y="88"/>
                      </a:lnTo>
                      <a:lnTo>
                        <a:pt x="1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901560" y="3043440"/>
                  <a:ext cx="19080" cy="112680"/>
                </a:xfrm>
                <a:custGeom>
                  <a:avLst/>
                  <a:gdLst/>
                  <a:ahLst/>
                  <a:rect l="l" t="t" r="r" b="b"/>
                  <a:pathLst>
                    <a:path w="13" h="71">
                      <a:moveTo>
                        <a:pt x="7" y="71"/>
                      </a:moveTo>
                      <a:lnTo>
                        <a:pt x="13" y="67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7" y="60"/>
                      </a:lnTo>
                      <a:lnTo>
                        <a:pt x="7" y="71"/>
                      </a:lnTo>
                      <a:lnTo>
                        <a:pt x="13" y="71"/>
                      </a:lnTo>
                      <a:lnTo>
                        <a:pt x="13" y="67"/>
                      </a:lnTo>
                      <a:lnTo>
                        <a:pt x="7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830280" y="3138480"/>
                  <a:ext cx="81360" cy="17640"/>
                </a:xfrm>
                <a:custGeom>
                  <a:avLst/>
                  <a:gdLst/>
                  <a:ahLst/>
                  <a:rect l="l" t="t" r="r" b="b"/>
                  <a:pathLst>
                    <a:path w="55" h="11">
                      <a:moveTo>
                        <a:pt x="0" y="7"/>
                      </a:moveTo>
                      <a:lnTo>
                        <a:pt x="8" y="11"/>
                      </a:lnTo>
                      <a:lnTo>
                        <a:pt x="55" y="11"/>
                      </a:lnTo>
                      <a:lnTo>
                        <a:pt x="55" y="0"/>
                      </a:lnTo>
                      <a:lnTo>
                        <a:pt x="8" y="0"/>
                      </a:lnTo>
                      <a:lnTo>
                        <a:pt x="13" y="7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87240" y="306864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6" h="51">
                      <a:moveTo>
                        <a:pt x="10" y="3"/>
                      </a:moveTo>
                      <a:lnTo>
                        <a:pt x="0" y="8"/>
                      </a:lnTo>
                      <a:lnTo>
                        <a:pt x="2" y="51"/>
                      </a:lnTo>
                      <a:lnTo>
                        <a:pt x="16" y="51"/>
                      </a:lnTo>
                      <a:lnTo>
                        <a:pt x="14" y="8"/>
                      </a:lnTo>
                      <a:lnTo>
                        <a:pt x="4" y="14"/>
                      </a:ln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993360" y="307332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15" y="4"/>
                      </a:move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5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011000" y="3079800"/>
                  <a:ext cx="16200" cy="172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1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027560" y="3076560"/>
                  <a:ext cx="2484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1" y="11"/>
                      </a:lnTo>
                      <a:lnTo>
                        <a:pt x="13" y="11"/>
                      </a:lnTo>
                      <a:lnTo>
                        <a:pt x="15" y="9"/>
                      </a:lnTo>
                      <a:lnTo>
                        <a:pt x="17" y="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042320" y="3068640"/>
                  <a:ext cx="21960" cy="2052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7" y="13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1" y="10"/>
                      </a:lnTo>
                      <a:lnTo>
                        <a:pt x="13" y="8"/>
                      </a:lnTo>
                      <a:lnTo>
                        <a:pt x="15" y="7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027560" y="3036960"/>
                  <a:ext cx="36720" cy="31680"/>
                </a:xfrm>
                <a:custGeom>
                  <a:avLst/>
                  <a:gdLst/>
                  <a:ahLst/>
                  <a:rect l="l" t="t" r="r" b="b"/>
                  <a:pathLst>
                    <a:path w="25" h="20">
                      <a:moveTo>
                        <a:pt x="0" y="8"/>
                      </a:moveTo>
                      <a:lnTo>
                        <a:pt x="2" y="11"/>
                      </a:lnTo>
                      <a:lnTo>
                        <a:pt x="6" y="12"/>
                      </a:lnTo>
                      <a:lnTo>
                        <a:pt x="8" y="14"/>
                      </a:lnTo>
                      <a:lnTo>
                        <a:pt x="10" y="15"/>
                      </a:lnTo>
                      <a:lnTo>
                        <a:pt x="10" y="17"/>
                      </a:lnTo>
                      <a:lnTo>
                        <a:pt x="11" y="19"/>
                      </a:lnTo>
                      <a:lnTo>
                        <a:pt x="11" y="20"/>
                      </a:lnTo>
                      <a:lnTo>
                        <a:pt x="25" y="20"/>
                      </a:lnTo>
                      <a:lnTo>
                        <a:pt x="25" y="17"/>
                      </a:lnTo>
                      <a:lnTo>
                        <a:pt x="23" y="15"/>
                      </a:lnTo>
                      <a:lnTo>
                        <a:pt x="23" y="12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5" y="4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015320" y="3025800"/>
                  <a:ext cx="26640" cy="2376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0" y="8"/>
                      </a:move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8" y="15"/>
                      </a:lnTo>
                      <a:lnTo>
                        <a:pt x="18" y="7"/>
                      </a:lnTo>
                      <a:lnTo>
                        <a:pt x="16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993360" y="3003480"/>
                  <a:ext cx="36720" cy="34920"/>
                </a:xfrm>
                <a:custGeom>
                  <a:avLst/>
                  <a:gdLst/>
                  <a:ahLst/>
                  <a:rect l="l" t="t" r="r" b="b"/>
                  <a:pathLst>
                    <a:path w="25" h="22">
                      <a:moveTo>
                        <a:pt x="0" y="5"/>
                      </a:moveTo>
                      <a:lnTo>
                        <a:pt x="0" y="6"/>
                      </a:lnTo>
                      <a:lnTo>
                        <a:pt x="2" y="10"/>
                      </a:lnTo>
                      <a:lnTo>
                        <a:pt x="4" y="11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0" y="19"/>
                      </a:lnTo>
                      <a:lnTo>
                        <a:pt x="14" y="21"/>
                      </a:lnTo>
                      <a:lnTo>
                        <a:pt x="15" y="22"/>
                      </a:lnTo>
                      <a:lnTo>
                        <a:pt x="25" y="14"/>
                      </a:lnTo>
                      <a:lnTo>
                        <a:pt x="23" y="13"/>
                      </a:lnTo>
                      <a:lnTo>
                        <a:pt x="21" y="11"/>
                      </a:lnTo>
                      <a:lnTo>
                        <a:pt x="19" y="10"/>
                      </a:lnTo>
                      <a:lnTo>
                        <a:pt x="17" y="8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985800" y="2976480"/>
                  <a:ext cx="2484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1" y="14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5" y="22"/>
                      </a:lnTo>
                      <a:lnTo>
                        <a:pt x="17" y="17"/>
                      </a:lnTo>
                      <a:lnTo>
                        <a:pt x="17" y="16"/>
                      </a:lnTo>
                      <a:lnTo>
                        <a:pt x="15" y="12"/>
                      </a:ln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3" y="8"/>
                      </a:lnTo>
                      <a:lnTo>
                        <a:pt x="13" y="5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985800" y="2916360"/>
                  <a:ext cx="41400" cy="60120"/>
                </a:xfrm>
                <a:custGeom>
                  <a:avLst/>
                  <a:gdLst/>
                  <a:ahLst/>
                  <a:rect l="l" t="t" r="r" b="b"/>
                  <a:pathLst>
                    <a:path w="28" h="38">
                      <a:moveTo>
                        <a:pt x="19" y="0"/>
                      </a:moveTo>
                      <a:lnTo>
                        <a:pt x="15" y="5"/>
                      </a:lnTo>
                      <a:lnTo>
                        <a:pt x="11" y="8"/>
                      </a:lnTo>
                      <a:lnTo>
                        <a:pt x="7" y="13"/>
                      </a:lnTo>
                      <a:lnTo>
                        <a:pt x="5" y="17"/>
                      </a:lnTo>
                      <a:lnTo>
                        <a:pt x="1" y="22"/>
                      </a:lnTo>
                      <a:lnTo>
                        <a:pt x="1" y="28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13" y="38"/>
                      </a:lnTo>
                      <a:lnTo>
                        <a:pt x="13" y="35"/>
                      </a:lnTo>
                      <a:lnTo>
                        <a:pt x="15" y="30"/>
                      </a:lnTo>
                      <a:lnTo>
                        <a:pt x="15" y="25"/>
                      </a:lnTo>
                      <a:lnTo>
                        <a:pt x="17" y="22"/>
                      </a:lnTo>
                      <a:lnTo>
                        <a:pt x="19" y="19"/>
                      </a:lnTo>
                      <a:lnTo>
                        <a:pt x="22" y="16"/>
                      </a:lnTo>
                      <a:lnTo>
                        <a:pt x="24" y="13"/>
                      </a:lnTo>
                      <a:lnTo>
                        <a:pt x="28" y="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013880" y="2894040"/>
                  <a:ext cx="72360" cy="3636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49" y="0"/>
                      </a:moveTo>
                      <a:lnTo>
                        <a:pt x="41" y="0"/>
                      </a:lnTo>
                      <a:lnTo>
                        <a:pt x="36" y="1"/>
                      </a:lnTo>
                      <a:lnTo>
                        <a:pt x="28" y="1"/>
                      </a:lnTo>
                      <a:lnTo>
                        <a:pt x="22" y="3"/>
                      </a:lnTo>
                      <a:lnTo>
                        <a:pt x="17" y="6"/>
                      </a:lnTo>
                      <a:lnTo>
                        <a:pt x="11" y="8"/>
                      </a:lnTo>
                      <a:lnTo>
                        <a:pt x="5" y="11"/>
                      </a:lnTo>
                      <a:lnTo>
                        <a:pt x="0" y="14"/>
                      </a:lnTo>
                      <a:lnTo>
                        <a:pt x="9" y="23"/>
                      </a:lnTo>
                      <a:lnTo>
                        <a:pt x="13" y="20"/>
                      </a:lnTo>
                      <a:lnTo>
                        <a:pt x="17" y="17"/>
                      </a:lnTo>
                      <a:lnTo>
                        <a:pt x="22" y="15"/>
                      </a:lnTo>
                      <a:lnTo>
                        <a:pt x="26" y="14"/>
                      </a:lnTo>
                      <a:lnTo>
                        <a:pt x="32" y="12"/>
                      </a:lnTo>
                      <a:lnTo>
                        <a:pt x="38" y="12"/>
                      </a:lnTo>
                      <a:lnTo>
                        <a:pt x="43" y="11"/>
                      </a:lnTo>
                      <a:lnTo>
                        <a:pt x="49" y="1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086600" y="2894040"/>
                  <a:ext cx="2484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17" y="1"/>
                      </a:moveTo>
                      <a:lnTo>
                        <a:pt x="15" y="1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3" y="12"/>
                      </a:lnTo>
                      <a:lnTo>
                        <a:pt x="15" y="12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108920" y="2895480"/>
                  <a:ext cx="34200" cy="22320"/>
                </a:xfrm>
                <a:custGeom>
                  <a:avLst/>
                  <a:gdLst/>
                  <a:ahLst/>
                  <a:rect l="l" t="t" r="r" b="b"/>
                  <a:pathLst>
                    <a:path w="23" h="14">
                      <a:moveTo>
                        <a:pt x="23" y="8"/>
                      </a:moveTo>
                      <a:lnTo>
                        <a:pt x="19" y="3"/>
                      </a:lnTo>
                      <a:lnTo>
                        <a:pt x="17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4"/>
                      </a:lnTo>
                      <a:lnTo>
                        <a:pt x="10" y="8"/>
                      </a:lnTo>
                      <a:lnTo>
                        <a:pt x="23" y="8"/>
                      </a:lnTo>
                      <a:lnTo>
                        <a:pt x="23" y="5"/>
                      </a:lnTo>
                      <a:lnTo>
                        <a:pt x="19" y="3"/>
                      </a:lnTo>
                      <a:lnTo>
                        <a:pt x="2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123680" y="2908440"/>
                  <a:ext cx="19440" cy="7596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4" y="43"/>
                      </a:moveTo>
                      <a:lnTo>
                        <a:pt x="13" y="38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38"/>
                      </a:lnTo>
                      <a:lnTo>
                        <a:pt x="9" y="33"/>
                      </a:lnTo>
                      <a:lnTo>
                        <a:pt x="4" y="43"/>
                      </a:lnTo>
                      <a:lnTo>
                        <a:pt x="13" y="48"/>
                      </a:lnTo>
                      <a:lnTo>
                        <a:pt x="13" y="38"/>
                      </a:lnTo>
                      <a:lnTo>
                        <a:pt x="4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114680" y="295452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11"/>
                      </a:move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10" y="14"/>
                      </a:lnTo>
                      <a:lnTo>
                        <a:pt x="15" y="4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102800" y="295128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0" y="11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074720" y="2951280"/>
                  <a:ext cx="27720" cy="2196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10" y="14"/>
                      </a:move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3"/>
                      </a:lnTo>
                      <a:lnTo>
                        <a:pt x="16" y="13"/>
                      </a:lnTo>
                      <a:lnTo>
                        <a:pt x="17" y="13"/>
                      </a:lnTo>
                      <a:lnTo>
                        <a:pt x="19" y="11"/>
                      </a:lnTo>
                      <a:lnTo>
                        <a:pt x="19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1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064280" y="2959200"/>
                  <a:ext cx="2484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15" y="12"/>
                      </a:move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7" y="9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5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064280" y="2978280"/>
                  <a:ext cx="35280" cy="33120"/>
                </a:xfrm>
                <a:custGeom>
                  <a:avLst/>
                  <a:gdLst/>
                  <a:ahLst/>
                  <a:rect l="l" t="t" r="r" b="b"/>
                  <a:pathLst>
                    <a:path w="24" h="21">
                      <a:moveTo>
                        <a:pt x="24" y="11"/>
                      </a:moveTo>
                      <a:lnTo>
                        <a:pt x="23" y="10"/>
                      </a:lnTo>
                      <a:lnTo>
                        <a:pt x="19" y="8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1"/>
                      </a:lnTo>
                      <a:lnTo>
                        <a:pt x="7" y="13"/>
                      </a:lnTo>
                      <a:lnTo>
                        <a:pt x="9" y="16"/>
                      </a:lnTo>
                      <a:lnTo>
                        <a:pt x="13" y="18"/>
                      </a:lnTo>
                      <a:lnTo>
                        <a:pt x="17" y="21"/>
                      </a:lnTo>
                      <a:lnTo>
                        <a:pt x="24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089480" y="299556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15" y="7"/>
                      </a:moveTo>
                      <a:lnTo>
                        <a:pt x="15" y="5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0" y="10"/>
                      </a:lnTo>
                      <a:lnTo>
                        <a:pt x="2" y="11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6" y="15"/>
                      </a:lnTo>
                      <a:lnTo>
                        <a:pt x="7" y="15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099920" y="3006720"/>
                  <a:ext cx="39960" cy="3672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27" y="19"/>
                      </a:moveTo>
                      <a:lnTo>
                        <a:pt x="25" y="17"/>
                      </a:lnTo>
                      <a:lnTo>
                        <a:pt x="23" y="14"/>
                      </a:lnTo>
                      <a:lnTo>
                        <a:pt x="21" y="11"/>
                      </a:lnTo>
                      <a:lnTo>
                        <a:pt x="20" y="9"/>
                      </a:lnTo>
                      <a:lnTo>
                        <a:pt x="18" y="6"/>
                      </a:lnTo>
                      <a:lnTo>
                        <a:pt x="14" y="4"/>
                      </a:lnTo>
                      <a:lnTo>
                        <a:pt x="12" y="1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0" y="17"/>
                      </a:lnTo>
                      <a:lnTo>
                        <a:pt x="12" y="20"/>
                      </a:lnTo>
                      <a:lnTo>
                        <a:pt x="14" y="22"/>
                      </a:lnTo>
                      <a:lnTo>
                        <a:pt x="14" y="23"/>
                      </a:lnTo>
                      <a:lnTo>
                        <a:pt x="2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120440" y="3036960"/>
                  <a:ext cx="28080" cy="363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9" y="23"/>
                      </a:moveTo>
                      <a:lnTo>
                        <a:pt x="19" y="20"/>
                      </a:lnTo>
                      <a:lnTo>
                        <a:pt x="19" y="17"/>
                      </a:lnTo>
                      <a:lnTo>
                        <a:pt x="19" y="14"/>
                      </a:lnTo>
                      <a:lnTo>
                        <a:pt x="17" y="12"/>
                      </a:lnTo>
                      <a:lnTo>
                        <a:pt x="17" y="9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6" y="17"/>
                      </a:lnTo>
                      <a:lnTo>
                        <a:pt x="6" y="19"/>
                      </a:lnTo>
                      <a:lnTo>
                        <a:pt x="6" y="22"/>
                      </a:lnTo>
                      <a:lnTo>
                        <a:pt x="6" y="23"/>
                      </a:lnTo>
                      <a:lnTo>
                        <a:pt x="1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105680" y="3073320"/>
                  <a:ext cx="42840" cy="65160"/>
                </a:xfrm>
                <a:custGeom>
                  <a:avLst/>
                  <a:gdLst/>
                  <a:ahLst/>
                  <a:rect l="l" t="t" r="r" b="b"/>
                  <a:pathLst>
                    <a:path w="29" h="41">
                      <a:moveTo>
                        <a:pt x="8" y="41"/>
                      </a:moveTo>
                      <a:lnTo>
                        <a:pt x="14" y="37"/>
                      </a:lnTo>
                      <a:lnTo>
                        <a:pt x="17" y="34"/>
                      </a:lnTo>
                      <a:lnTo>
                        <a:pt x="21" y="29"/>
                      </a:lnTo>
                      <a:lnTo>
                        <a:pt x="25" y="24"/>
                      </a:lnTo>
                      <a:lnTo>
                        <a:pt x="27" y="18"/>
                      </a:lnTo>
                      <a:lnTo>
                        <a:pt x="29" y="13"/>
                      </a:lnTo>
                      <a:lnTo>
                        <a:pt x="29" y="7"/>
                      </a:lnTo>
                      <a:lnTo>
                        <a:pt x="29" y="0"/>
                      </a:lnTo>
                      <a:lnTo>
                        <a:pt x="16" y="0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4" y="15"/>
                      </a:lnTo>
                      <a:lnTo>
                        <a:pt x="12" y="19"/>
                      </a:lnTo>
                      <a:lnTo>
                        <a:pt x="10" y="22"/>
                      </a:lnTo>
                      <a:lnTo>
                        <a:pt x="6" y="26"/>
                      </a:lnTo>
                      <a:lnTo>
                        <a:pt x="4" y="29"/>
                      </a:lnTo>
                      <a:lnTo>
                        <a:pt x="0" y="32"/>
                      </a:lnTo>
                      <a:lnTo>
                        <a:pt x="8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036200" y="3124080"/>
                  <a:ext cx="81360" cy="38160"/>
                </a:xfrm>
                <a:custGeom>
                  <a:avLst/>
                  <a:gdLst/>
                  <a:ahLst/>
                  <a:rect l="l" t="t" r="r" b="b"/>
                  <a:pathLst>
                    <a:path w="55" h="24">
                      <a:moveTo>
                        <a:pt x="0" y="24"/>
                      </a:moveTo>
                      <a:lnTo>
                        <a:pt x="9" y="24"/>
                      </a:lnTo>
                      <a:lnTo>
                        <a:pt x="17" y="22"/>
                      </a:lnTo>
                      <a:lnTo>
                        <a:pt x="24" y="22"/>
                      </a:lnTo>
                      <a:lnTo>
                        <a:pt x="32" y="20"/>
                      </a:lnTo>
                      <a:lnTo>
                        <a:pt x="38" y="17"/>
                      </a:lnTo>
                      <a:lnTo>
                        <a:pt x="43" y="16"/>
                      </a:lnTo>
                      <a:lnTo>
                        <a:pt x="51" y="13"/>
                      </a:lnTo>
                      <a:lnTo>
                        <a:pt x="55" y="9"/>
                      </a:lnTo>
                      <a:lnTo>
                        <a:pt x="47" y="0"/>
                      </a:lnTo>
                      <a:lnTo>
                        <a:pt x="42" y="3"/>
                      </a:lnTo>
                      <a:lnTo>
                        <a:pt x="38" y="5"/>
                      </a:lnTo>
                      <a:lnTo>
                        <a:pt x="32" y="8"/>
                      </a:lnTo>
                      <a:lnTo>
                        <a:pt x="28" y="9"/>
                      </a:lnTo>
                      <a:lnTo>
                        <a:pt x="21" y="11"/>
                      </a:lnTo>
                      <a:lnTo>
                        <a:pt x="15" y="11"/>
                      </a:lnTo>
                      <a:lnTo>
                        <a:pt x="7" y="13"/>
                      </a:lnTo>
                      <a:lnTo>
                        <a:pt x="0" y="1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015320" y="3141720"/>
                  <a:ext cx="20520" cy="205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1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3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990120" y="3138480"/>
                  <a:ext cx="28080" cy="2052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7"/>
                      </a:move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3"/>
                      </a:lnTo>
                      <a:lnTo>
                        <a:pt x="16" y="13"/>
                      </a:lnTo>
                      <a:lnTo>
                        <a:pt x="17" y="13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14" y="7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6" y="1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339960" y="2556000"/>
                  <a:ext cx="177840" cy="230040"/>
                </a:xfrm>
                <a:custGeom>
                  <a:avLst/>
                  <a:gdLst/>
                  <a:ahLst/>
                  <a:rect l="l" t="t" r="r" b="b"/>
                  <a:pathLst>
                    <a:path w="120" h="145">
                      <a:moveTo>
                        <a:pt x="0" y="145"/>
                      </a:move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5" y="66"/>
                      </a:lnTo>
                      <a:lnTo>
                        <a:pt x="67" y="64"/>
                      </a:lnTo>
                      <a:lnTo>
                        <a:pt x="69" y="63"/>
                      </a:lnTo>
                      <a:lnTo>
                        <a:pt x="69" y="61"/>
                      </a:lnTo>
                      <a:lnTo>
                        <a:pt x="69" y="60"/>
                      </a:lnTo>
                      <a:lnTo>
                        <a:pt x="71" y="58"/>
                      </a:lnTo>
                      <a:lnTo>
                        <a:pt x="71" y="56"/>
                      </a:lnTo>
                      <a:lnTo>
                        <a:pt x="73" y="55"/>
                      </a:lnTo>
                      <a:lnTo>
                        <a:pt x="73" y="53"/>
                      </a:lnTo>
                      <a:lnTo>
                        <a:pt x="73" y="53"/>
                      </a:lnTo>
                      <a:lnTo>
                        <a:pt x="73" y="52"/>
                      </a:lnTo>
                      <a:lnTo>
                        <a:pt x="74" y="50"/>
                      </a:lnTo>
                      <a:lnTo>
                        <a:pt x="74" y="49"/>
                      </a:lnTo>
                      <a:lnTo>
                        <a:pt x="74" y="49"/>
                      </a:lnTo>
                      <a:lnTo>
                        <a:pt x="74" y="47"/>
                      </a:lnTo>
                      <a:lnTo>
                        <a:pt x="74" y="45"/>
                      </a:lnTo>
                      <a:lnTo>
                        <a:pt x="74" y="44"/>
                      </a:lnTo>
                      <a:lnTo>
                        <a:pt x="73" y="42"/>
                      </a:lnTo>
                      <a:lnTo>
                        <a:pt x="73" y="41"/>
                      </a:lnTo>
                      <a:lnTo>
                        <a:pt x="73" y="41"/>
                      </a:lnTo>
                      <a:lnTo>
                        <a:pt x="71" y="39"/>
                      </a:lnTo>
                      <a:lnTo>
                        <a:pt x="71" y="37"/>
                      </a:lnTo>
                      <a:lnTo>
                        <a:pt x="69" y="37"/>
                      </a:lnTo>
                      <a:lnTo>
                        <a:pt x="69" y="36"/>
                      </a:lnTo>
                      <a:lnTo>
                        <a:pt x="67" y="34"/>
                      </a:lnTo>
                      <a:lnTo>
                        <a:pt x="65" y="34"/>
                      </a:lnTo>
                      <a:lnTo>
                        <a:pt x="65" y="34"/>
                      </a:lnTo>
                      <a:lnTo>
                        <a:pt x="63" y="33"/>
                      </a:lnTo>
                      <a:lnTo>
                        <a:pt x="61" y="33"/>
                      </a:lnTo>
                      <a:lnTo>
                        <a:pt x="59" y="33"/>
                      </a:lnTo>
                      <a:lnTo>
                        <a:pt x="57" y="33"/>
                      </a:lnTo>
                      <a:lnTo>
                        <a:pt x="55" y="33"/>
                      </a:lnTo>
                      <a:lnTo>
                        <a:pt x="55" y="33"/>
                      </a:lnTo>
                      <a:lnTo>
                        <a:pt x="54" y="33"/>
                      </a:lnTo>
                      <a:lnTo>
                        <a:pt x="52" y="34"/>
                      </a:lnTo>
                      <a:lnTo>
                        <a:pt x="50" y="34"/>
                      </a:lnTo>
                      <a:lnTo>
                        <a:pt x="50" y="36"/>
                      </a:lnTo>
                      <a:lnTo>
                        <a:pt x="48" y="36"/>
                      </a:lnTo>
                      <a:lnTo>
                        <a:pt x="46" y="37"/>
                      </a:lnTo>
                      <a:lnTo>
                        <a:pt x="46" y="37"/>
                      </a:lnTo>
                      <a:lnTo>
                        <a:pt x="44" y="39"/>
                      </a:lnTo>
                      <a:lnTo>
                        <a:pt x="44" y="41"/>
                      </a:lnTo>
                      <a:lnTo>
                        <a:pt x="44" y="41"/>
                      </a:lnTo>
                      <a:lnTo>
                        <a:pt x="42" y="42"/>
                      </a:lnTo>
                      <a:lnTo>
                        <a:pt x="42" y="44"/>
                      </a:lnTo>
                      <a:lnTo>
                        <a:pt x="42" y="45"/>
                      </a:lnTo>
                      <a:lnTo>
                        <a:pt x="42" y="45"/>
                      </a:lnTo>
                      <a:lnTo>
                        <a:pt x="42" y="47"/>
                      </a:lnTo>
                      <a:lnTo>
                        <a:pt x="42" y="49"/>
                      </a:lnTo>
                      <a:lnTo>
                        <a:pt x="42" y="49"/>
                      </a:lnTo>
                      <a:lnTo>
                        <a:pt x="42" y="50"/>
                      </a:lnTo>
                      <a:lnTo>
                        <a:pt x="44" y="50"/>
                      </a:lnTo>
                      <a:lnTo>
                        <a:pt x="44" y="52"/>
                      </a:lnTo>
                      <a:lnTo>
                        <a:pt x="44" y="52"/>
                      </a:lnTo>
                      <a:lnTo>
                        <a:pt x="44" y="53"/>
                      </a:lnTo>
                      <a:lnTo>
                        <a:pt x="46" y="53"/>
                      </a:lnTo>
                      <a:lnTo>
                        <a:pt x="46" y="55"/>
                      </a:lnTo>
                      <a:lnTo>
                        <a:pt x="48" y="55"/>
                      </a:lnTo>
                      <a:lnTo>
                        <a:pt x="48" y="56"/>
                      </a:lnTo>
                      <a:lnTo>
                        <a:pt x="50" y="56"/>
                      </a:lnTo>
                      <a:lnTo>
                        <a:pt x="52" y="58"/>
                      </a:lnTo>
                      <a:lnTo>
                        <a:pt x="52" y="58"/>
                      </a:lnTo>
                      <a:lnTo>
                        <a:pt x="54" y="60"/>
                      </a:lnTo>
                      <a:lnTo>
                        <a:pt x="38" y="85"/>
                      </a:lnTo>
                      <a:lnTo>
                        <a:pt x="33" y="83"/>
                      </a:lnTo>
                      <a:lnTo>
                        <a:pt x="29" y="82"/>
                      </a:lnTo>
                      <a:lnTo>
                        <a:pt x="25" y="80"/>
                      </a:lnTo>
                      <a:lnTo>
                        <a:pt x="21" y="79"/>
                      </a:lnTo>
                      <a:lnTo>
                        <a:pt x="19" y="77"/>
                      </a:lnTo>
                      <a:lnTo>
                        <a:pt x="16" y="75"/>
                      </a:lnTo>
                      <a:lnTo>
                        <a:pt x="14" y="72"/>
                      </a:lnTo>
                      <a:lnTo>
                        <a:pt x="10" y="71"/>
                      </a:lnTo>
                      <a:lnTo>
                        <a:pt x="8" y="67"/>
                      </a:lnTo>
                      <a:lnTo>
                        <a:pt x="6" y="66"/>
                      </a:lnTo>
                      <a:lnTo>
                        <a:pt x="4" y="63"/>
                      </a:lnTo>
                      <a:lnTo>
                        <a:pt x="2" y="60"/>
                      </a:lnTo>
                      <a:lnTo>
                        <a:pt x="2" y="56"/>
                      </a:lnTo>
                      <a:lnTo>
                        <a:pt x="0" y="53"/>
                      </a:lnTo>
                      <a:lnTo>
                        <a:pt x="0" y="50"/>
                      </a:lnTo>
                      <a:lnTo>
                        <a:pt x="0" y="45"/>
                      </a:lnTo>
                      <a:lnTo>
                        <a:pt x="0" y="41"/>
                      </a:lnTo>
                      <a:lnTo>
                        <a:pt x="2" y="36"/>
                      </a:lnTo>
                      <a:lnTo>
                        <a:pt x="2" y="31"/>
                      </a:lnTo>
                      <a:lnTo>
                        <a:pt x="4" y="28"/>
                      </a:lnTo>
                      <a:lnTo>
                        <a:pt x="8" y="23"/>
                      </a:lnTo>
                      <a:lnTo>
                        <a:pt x="10" y="20"/>
                      </a:lnTo>
                      <a:lnTo>
                        <a:pt x="14" y="15"/>
                      </a:lnTo>
                      <a:lnTo>
                        <a:pt x="17" y="12"/>
                      </a:lnTo>
                      <a:lnTo>
                        <a:pt x="23" y="9"/>
                      </a:lnTo>
                      <a:lnTo>
                        <a:pt x="27" y="6"/>
                      </a:lnTo>
                      <a:lnTo>
                        <a:pt x="33" y="4"/>
                      </a:lnTo>
                      <a:lnTo>
                        <a:pt x="36" y="3"/>
                      </a:lnTo>
                      <a:lnTo>
                        <a:pt x="42" y="1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3" y="0"/>
                      </a:lnTo>
                      <a:lnTo>
                        <a:pt x="78" y="1"/>
                      </a:lnTo>
                      <a:lnTo>
                        <a:pt x="82" y="3"/>
                      </a:lnTo>
                      <a:lnTo>
                        <a:pt x="88" y="4"/>
                      </a:lnTo>
                      <a:lnTo>
                        <a:pt x="92" y="6"/>
                      </a:lnTo>
                      <a:lnTo>
                        <a:pt x="97" y="9"/>
                      </a:lnTo>
                      <a:lnTo>
                        <a:pt x="101" y="12"/>
                      </a:lnTo>
                      <a:lnTo>
                        <a:pt x="105" y="15"/>
                      </a:lnTo>
                      <a:lnTo>
                        <a:pt x="109" y="19"/>
                      </a:lnTo>
                      <a:lnTo>
                        <a:pt x="111" y="22"/>
                      </a:lnTo>
                      <a:lnTo>
                        <a:pt x="112" y="26"/>
                      </a:lnTo>
                      <a:lnTo>
                        <a:pt x="114" y="30"/>
                      </a:lnTo>
                      <a:lnTo>
                        <a:pt x="116" y="34"/>
                      </a:lnTo>
                      <a:lnTo>
                        <a:pt x="116" y="37"/>
                      </a:lnTo>
                      <a:lnTo>
                        <a:pt x="118" y="42"/>
                      </a:lnTo>
                      <a:lnTo>
                        <a:pt x="118" y="45"/>
                      </a:lnTo>
                      <a:lnTo>
                        <a:pt x="116" y="47"/>
                      </a:lnTo>
                      <a:lnTo>
                        <a:pt x="116" y="50"/>
                      </a:lnTo>
                      <a:lnTo>
                        <a:pt x="116" y="52"/>
                      </a:lnTo>
                      <a:lnTo>
                        <a:pt x="116" y="55"/>
                      </a:lnTo>
                      <a:lnTo>
                        <a:pt x="114" y="56"/>
                      </a:lnTo>
                      <a:lnTo>
                        <a:pt x="114" y="60"/>
                      </a:lnTo>
                      <a:lnTo>
                        <a:pt x="112" y="61"/>
                      </a:lnTo>
                      <a:lnTo>
                        <a:pt x="112" y="64"/>
                      </a:lnTo>
                      <a:lnTo>
                        <a:pt x="111" y="66"/>
                      </a:lnTo>
                      <a:lnTo>
                        <a:pt x="109" y="69"/>
                      </a:lnTo>
                      <a:lnTo>
                        <a:pt x="107" y="72"/>
                      </a:lnTo>
                      <a:lnTo>
                        <a:pt x="105" y="74"/>
                      </a:lnTo>
                      <a:lnTo>
                        <a:pt x="103" y="77"/>
                      </a:lnTo>
                      <a:lnTo>
                        <a:pt x="101" y="80"/>
                      </a:lnTo>
                      <a:lnTo>
                        <a:pt x="97" y="83"/>
                      </a:lnTo>
                      <a:lnTo>
                        <a:pt x="78" y="107"/>
                      </a:lnTo>
                      <a:lnTo>
                        <a:pt x="120" y="107"/>
                      </a:lnTo>
                      <a:lnTo>
                        <a:pt x="120" y="145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562440" y="2557440"/>
                  <a:ext cx="171360" cy="233280"/>
                </a:xfrm>
                <a:custGeom>
                  <a:avLst/>
                  <a:gdLst/>
                  <a:ahLst/>
                  <a:rect l="l" t="t" r="r" b="b"/>
                  <a:pathLst>
                    <a:path w="116" h="147">
                      <a:moveTo>
                        <a:pt x="0" y="126"/>
                      </a:moveTo>
                      <a:lnTo>
                        <a:pt x="23" y="98"/>
                      </a:lnTo>
                      <a:lnTo>
                        <a:pt x="25" y="100"/>
                      </a:lnTo>
                      <a:lnTo>
                        <a:pt x="27" y="101"/>
                      </a:lnTo>
                      <a:lnTo>
                        <a:pt x="29" y="101"/>
                      </a:lnTo>
                      <a:lnTo>
                        <a:pt x="31" y="103"/>
                      </a:lnTo>
                      <a:lnTo>
                        <a:pt x="31" y="104"/>
                      </a:lnTo>
                      <a:lnTo>
                        <a:pt x="33" y="104"/>
                      </a:lnTo>
                      <a:lnTo>
                        <a:pt x="35" y="106"/>
                      </a:lnTo>
                      <a:lnTo>
                        <a:pt x="37" y="106"/>
                      </a:lnTo>
                      <a:lnTo>
                        <a:pt x="39" y="108"/>
                      </a:lnTo>
                      <a:lnTo>
                        <a:pt x="40" y="108"/>
                      </a:lnTo>
                      <a:lnTo>
                        <a:pt x="40" y="108"/>
                      </a:lnTo>
                      <a:lnTo>
                        <a:pt x="42" y="109"/>
                      </a:lnTo>
                      <a:lnTo>
                        <a:pt x="44" y="109"/>
                      </a:lnTo>
                      <a:lnTo>
                        <a:pt x="46" y="109"/>
                      </a:lnTo>
                      <a:lnTo>
                        <a:pt x="48" y="109"/>
                      </a:lnTo>
                      <a:lnTo>
                        <a:pt x="50" y="109"/>
                      </a:lnTo>
                      <a:lnTo>
                        <a:pt x="50" y="109"/>
                      </a:lnTo>
                      <a:lnTo>
                        <a:pt x="52" y="109"/>
                      </a:lnTo>
                      <a:lnTo>
                        <a:pt x="54" y="109"/>
                      </a:lnTo>
                      <a:lnTo>
                        <a:pt x="56" y="108"/>
                      </a:lnTo>
                      <a:lnTo>
                        <a:pt x="58" y="108"/>
                      </a:lnTo>
                      <a:lnTo>
                        <a:pt x="58" y="108"/>
                      </a:lnTo>
                      <a:lnTo>
                        <a:pt x="59" y="106"/>
                      </a:lnTo>
                      <a:lnTo>
                        <a:pt x="61" y="106"/>
                      </a:lnTo>
                      <a:lnTo>
                        <a:pt x="61" y="104"/>
                      </a:lnTo>
                      <a:lnTo>
                        <a:pt x="63" y="104"/>
                      </a:lnTo>
                      <a:lnTo>
                        <a:pt x="63" y="103"/>
                      </a:lnTo>
                      <a:lnTo>
                        <a:pt x="63" y="101"/>
                      </a:lnTo>
                      <a:lnTo>
                        <a:pt x="65" y="100"/>
                      </a:lnTo>
                      <a:lnTo>
                        <a:pt x="65" y="100"/>
                      </a:lnTo>
                      <a:lnTo>
                        <a:pt x="65" y="98"/>
                      </a:lnTo>
                      <a:lnTo>
                        <a:pt x="65" y="96"/>
                      </a:lnTo>
                      <a:lnTo>
                        <a:pt x="65" y="95"/>
                      </a:lnTo>
                      <a:lnTo>
                        <a:pt x="65" y="93"/>
                      </a:lnTo>
                      <a:lnTo>
                        <a:pt x="63" y="92"/>
                      </a:lnTo>
                      <a:lnTo>
                        <a:pt x="63" y="90"/>
                      </a:lnTo>
                      <a:lnTo>
                        <a:pt x="61" y="89"/>
                      </a:lnTo>
                      <a:lnTo>
                        <a:pt x="61" y="87"/>
                      </a:lnTo>
                      <a:lnTo>
                        <a:pt x="59" y="85"/>
                      </a:lnTo>
                      <a:lnTo>
                        <a:pt x="58" y="84"/>
                      </a:lnTo>
                      <a:lnTo>
                        <a:pt x="56" y="84"/>
                      </a:lnTo>
                      <a:lnTo>
                        <a:pt x="54" y="82"/>
                      </a:lnTo>
                      <a:lnTo>
                        <a:pt x="50" y="82"/>
                      </a:lnTo>
                      <a:lnTo>
                        <a:pt x="48" y="81"/>
                      </a:lnTo>
                      <a:lnTo>
                        <a:pt x="46" y="81"/>
                      </a:lnTo>
                      <a:lnTo>
                        <a:pt x="42" y="81"/>
                      </a:lnTo>
                      <a:lnTo>
                        <a:pt x="40" y="79"/>
                      </a:lnTo>
                      <a:lnTo>
                        <a:pt x="37" y="79"/>
                      </a:lnTo>
                      <a:lnTo>
                        <a:pt x="37" y="79"/>
                      </a:lnTo>
                      <a:lnTo>
                        <a:pt x="35" y="79"/>
                      </a:lnTo>
                      <a:lnTo>
                        <a:pt x="33" y="79"/>
                      </a:lnTo>
                      <a:lnTo>
                        <a:pt x="33" y="79"/>
                      </a:lnTo>
                      <a:lnTo>
                        <a:pt x="31" y="81"/>
                      </a:lnTo>
                      <a:lnTo>
                        <a:pt x="29" y="81"/>
                      </a:lnTo>
                      <a:lnTo>
                        <a:pt x="29" y="81"/>
                      </a:lnTo>
                      <a:lnTo>
                        <a:pt x="27" y="81"/>
                      </a:lnTo>
                      <a:lnTo>
                        <a:pt x="25" y="81"/>
                      </a:lnTo>
                      <a:lnTo>
                        <a:pt x="23" y="81"/>
                      </a:lnTo>
                      <a:lnTo>
                        <a:pt x="23" y="81"/>
                      </a:lnTo>
                      <a:lnTo>
                        <a:pt x="21" y="81"/>
                      </a:lnTo>
                      <a:lnTo>
                        <a:pt x="19" y="82"/>
                      </a:lnTo>
                      <a:lnTo>
                        <a:pt x="19" y="82"/>
                      </a:lnTo>
                      <a:lnTo>
                        <a:pt x="18" y="82"/>
                      </a:lnTo>
                      <a:lnTo>
                        <a:pt x="16" y="82"/>
                      </a:lnTo>
                      <a:lnTo>
                        <a:pt x="16" y="0"/>
                      </a:lnTo>
                      <a:lnTo>
                        <a:pt x="116" y="0"/>
                      </a:lnTo>
                      <a:lnTo>
                        <a:pt x="99" y="36"/>
                      </a:lnTo>
                      <a:lnTo>
                        <a:pt x="58" y="36"/>
                      </a:lnTo>
                      <a:lnTo>
                        <a:pt x="58" y="49"/>
                      </a:lnTo>
                      <a:lnTo>
                        <a:pt x="63" y="49"/>
                      </a:lnTo>
                      <a:lnTo>
                        <a:pt x="69" y="49"/>
                      </a:lnTo>
                      <a:lnTo>
                        <a:pt x="75" y="51"/>
                      </a:lnTo>
                      <a:lnTo>
                        <a:pt x="80" y="52"/>
                      </a:lnTo>
                      <a:lnTo>
                        <a:pt x="84" y="54"/>
                      </a:lnTo>
                      <a:lnTo>
                        <a:pt x="88" y="57"/>
                      </a:lnTo>
                      <a:lnTo>
                        <a:pt x="92" y="59"/>
                      </a:lnTo>
                      <a:lnTo>
                        <a:pt x="96" y="62"/>
                      </a:lnTo>
                      <a:lnTo>
                        <a:pt x="99" y="65"/>
                      </a:lnTo>
                      <a:lnTo>
                        <a:pt x="103" y="68"/>
                      </a:lnTo>
                      <a:lnTo>
                        <a:pt x="105" y="71"/>
                      </a:lnTo>
                      <a:lnTo>
                        <a:pt x="107" y="76"/>
                      </a:lnTo>
                      <a:lnTo>
                        <a:pt x="109" y="79"/>
                      </a:lnTo>
                      <a:lnTo>
                        <a:pt x="109" y="84"/>
                      </a:lnTo>
                      <a:lnTo>
                        <a:pt x="111" y="89"/>
                      </a:lnTo>
                      <a:lnTo>
                        <a:pt x="111" y="93"/>
                      </a:lnTo>
                      <a:lnTo>
                        <a:pt x="111" y="100"/>
                      </a:lnTo>
                      <a:lnTo>
                        <a:pt x="109" y="104"/>
                      </a:lnTo>
                      <a:lnTo>
                        <a:pt x="107" y="109"/>
                      </a:lnTo>
                      <a:lnTo>
                        <a:pt x="105" y="114"/>
                      </a:lnTo>
                      <a:lnTo>
                        <a:pt x="103" y="119"/>
                      </a:lnTo>
                      <a:lnTo>
                        <a:pt x="101" y="123"/>
                      </a:lnTo>
                      <a:lnTo>
                        <a:pt x="97" y="128"/>
                      </a:lnTo>
                      <a:lnTo>
                        <a:pt x="94" y="131"/>
                      </a:lnTo>
                      <a:lnTo>
                        <a:pt x="88" y="134"/>
                      </a:lnTo>
                      <a:lnTo>
                        <a:pt x="84" y="137"/>
                      </a:lnTo>
                      <a:lnTo>
                        <a:pt x="78" y="141"/>
                      </a:lnTo>
                      <a:lnTo>
                        <a:pt x="73" y="142"/>
                      </a:lnTo>
                      <a:lnTo>
                        <a:pt x="67" y="144"/>
                      </a:lnTo>
                      <a:lnTo>
                        <a:pt x="61" y="145"/>
                      </a:lnTo>
                      <a:lnTo>
                        <a:pt x="56" y="145"/>
                      </a:lnTo>
                      <a:lnTo>
                        <a:pt x="48" y="147"/>
                      </a:lnTo>
                      <a:lnTo>
                        <a:pt x="46" y="145"/>
                      </a:lnTo>
                      <a:lnTo>
                        <a:pt x="42" y="145"/>
                      </a:lnTo>
                      <a:lnTo>
                        <a:pt x="39" y="145"/>
                      </a:lnTo>
                      <a:lnTo>
                        <a:pt x="35" y="145"/>
                      </a:lnTo>
                      <a:lnTo>
                        <a:pt x="31" y="144"/>
                      </a:lnTo>
                      <a:lnTo>
                        <a:pt x="29" y="144"/>
                      </a:lnTo>
                      <a:lnTo>
                        <a:pt x="25" y="142"/>
                      </a:lnTo>
                      <a:lnTo>
                        <a:pt x="21" y="141"/>
                      </a:lnTo>
                      <a:lnTo>
                        <a:pt x="19" y="139"/>
                      </a:lnTo>
                      <a:lnTo>
                        <a:pt x="16" y="137"/>
                      </a:lnTo>
                      <a:lnTo>
                        <a:pt x="14" y="136"/>
                      </a:lnTo>
                      <a:lnTo>
                        <a:pt x="10" y="134"/>
                      </a:lnTo>
                      <a:lnTo>
                        <a:pt x="8" y="133"/>
                      </a:lnTo>
                      <a:lnTo>
                        <a:pt x="4" y="131"/>
                      </a:lnTo>
                      <a:lnTo>
                        <a:pt x="2" y="128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762240" y="2556000"/>
                  <a:ext cx="318240" cy="234720"/>
                </a:xfrm>
                <a:custGeom>
                  <a:avLst/>
                  <a:gdLst/>
                  <a:ahLst/>
                  <a:rect l="l" t="t" r="r" b="b"/>
                  <a:pathLst>
                    <a:path w="215" h="148">
                      <a:moveTo>
                        <a:pt x="168" y="124"/>
                      </a:moveTo>
                      <a:lnTo>
                        <a:pt x="170" y="124"/>
                      </a:lnTo>
                      <a:lnTo>
                        <a:pt x="171" y="124"/>
                      </a:lnTo>
                      <a:lnTo>
                        <a:pt x="173" y="123"/>
                      </a:lnTo>
                      <a:lnTo>
                        <a:pt x="175" y="123"/>
                      </a:lnTo>
                      <a:lnTo>
                        <a:pt x="177" y="123"/>
                      </a:lnTo>
                      <a:lnTo>
                        <a:pt x="177" y="121"/>
                      </a:lnTo>
                      <a:lnTo>
                        <a:pt x="179" y="120"/>
                      </a:lnTo>
                      <a:lnTo>
                        <a:pt x="181" y="120"/>
                      </a:lnTo>
                      <a:lnTo>
                        <a:pt x="183" y="118"/>
                      </a:lnTo>
                      <a:lnTo>
                        <a:pt x="183" y="116"/>
                      </a:lnTo>
                      <a:lnTo>
                        <a:pt x="185" y="115"/>
                      </a:lnTo>
                      <a:lnTo>
                        <a:pt x="185" y="113"/>
                      </a:lnTo>
                      <a:lnTo>
                        <a:pt x="187" y="112"/>
                      </a:lnTo>
                      <a:lnTo>
                        <a:pt x="187" y="110"/>
                      </a:lnTo>
                      <a:lnTo>
                        <a:pt x="187" y="109"/>
                      </a:lnTo>
                      <a:lnTo>
                        <a:pt x="187" y="107"/>
                      </a:lnTo>
                      <a:lnTo>
                        <a:pt x="187" y="105"/>
                      </a:lnTo>
                      <a:lnTo>
                        <a:pt x="187" y="104"/>
                      </a:lnTo>
                      <a:lnTo>
                        <a:pt x="187" y="102"/>
                      </a:lnTo>
                      <a:lnTo>
                        <a:pt x="185" y="101"/>
                      </a:lnTo>
                      <a:lnTo>
                        <a:pt x="185" y="99"/>
                      </a:lnTo>
                      <a:lnTo>
                        <a:pt x="183" y="97"/>
                      </a:lnTo>
                      <a:lnTo>
                        <a:pt x="183" y="96"/>
                      </a:lnTo>
                      <a:lnTo>
                        <a:pt x="181" y="96"/>
                      </a:lnTo>
                      <a:lnTo>
                        <a:pt x="179" y="94"/>
                      </a:lnTo>
                      <a:lnTo>
                        <a:pt x="177" y="93"/>
                      </a:lnTo>
                      <a:lnTo>
                        <a:pt x="177" y="93"/>
                      </a:lnTo>
                      <a:lnTo>
                        <a:pt x="175" y="91"/>
                      </a:lnTo>
                      <a:lnTo>
                        <a:pt x="173" y="91"/>
                      </a:lnTo>
                      <a:lnTo>
                        <a:pt x="171" y="91"/>
                      </a:lnTo>
                      <a:lnTo>
                        <a:pt x="170" y="90"/>
                      </a:lnTo>
                      <a:lnTo>
                        <a:pt x="168" y="90"/>
                      </a:lnTo>
                      <a:lnTo>
                        <a:pt x="166" y="90"/>
                      </a:lnTo>
                      <a:lnTo>
                        <a:pt x="162" y="91"/>
                      </a:lnTo>
                      <a:lnTo>
                        <a:pt x="162" y="91"/>
                      </a:lnTo>
                      <a:lnTo>
                        <a:pt x="160" y="91"/>
                      </a:lnTo>
                      <a:lnTo>
                        <a:pt x="158" y="93"/>
                      </a:lnTo>
                      <a:lnTo>
                        <a:pt x="156" y="93"/>
                      </a:lnTo>
                      <a:lnTo>
                        <a:pt x="154" y="94"/>
                      </a:lnTo>
                      <a:lnTo>
                        <a:pt x="152" y="96"/>
                      </a:lnTo>
                      <a:lnTo>
                        <a:pt x="151" y="96"/>
                      </a:lnTo>
                      <a:lnTo>
                        <a:pt x="151" y="97"/>
                      </a:lnTo>
                      <a:lnTo>
                        <a:pt x="149" y="99"/>
                      </a:lnTo>
                      <a:lnTo>
                        <a:pt x="149" y="101"/>
                      </a:lnTo>
                      <a:lnTo>
                        <a:pt x="147" y="102"/>
                      </a:lnTo>
                      <a:lnTo>
                        <a:pt x="147" y="104"/>
                      </a:lnTo>
                      <a:lnTo>
                        <a:pt x="147" y="105"/>
                      </a:lnTo>
                      <a:lnTo>
                        <a:pt x="147" y="107"/>
                      </a:lnTo>
                      <a:lnTo>
                        <a:pt x="147" y="109"/>
                      </a:lnTo>
                      <a:lnTo>
                        <a:pt x="147" y="110"/>
                      </a:lnTo>
                      <a:lnTo>
                        <a:pt x="147" y="112"/>
                      </a:lnTo>
                      <a:lnTo>
                        <a:pt x="149" y="113"/>
                      </a:lnTo>
                      <a:lnTo>
                        <a:pt x="149" y="115"/>
                      </a:lnTo>
                      <a:lnTo>
                        <a:pt x="151" y="116"/>
                      </a:lnTo>
                      <a:lnTo>
                        <a:pt x="151" y="118"/>
                      </a:lnTo>
                      <a:lnTo>
                        <a:pt x="152" y="120"/>
                      </a:lnTo>
                      <a:lnTo>
                        <a:pt x="154" y="120"/>
                      </a:lnTo>
                      <a:lnTo>
                        <a:pt x="156" y="121"/>
                      </a:lnTo>
                      <a:lnTo>
                        <a:pt x="158" y="123"/>
                      </a:lnTo>
                      <a:lnTo>
                        <a:pt x="160" y="123"/>
                      </a:lnTo>
                      <a:lnTo>
                        <a:pt x="160" y="123"/>
                      </a:lnTo>
                      <a:lnTo>
                        <a:pt x="162" y="124"/>
                      </a:lnTo>
                      <a:lnTo>
                        <a:pt x="166" y="124"/>
                      </a:lnTo>
                      <a:lnTo>
                        <a:pt x="168" y="124"/>
                      </a:lnTo>
                      <a:close/>
                      <a:moveTo>
                        <a:pt x="166" y="148"/>
                      </a:moveTo>
                      <a:lnTo>
                        <a:pt x="162" y="146"/>
                      </a:lnTo>
                      <a:lnTo>
                        <a:pt x="156" y="146"/>
                      </a:lnTo>
                      <a:lnTo>
                        <a:pt x="152" y="145"/>
                      </a:lnTo>
                      <a:lnTo>
                        <a:pt x="149" y="145"/>
                      </a:lnTo>
                      <a:lnTo>
                        <a:pt x="145" y="143"/>
                      </a:lnTo>
                      <a:lnTo>
                        <a:pt x="141" y="140"/>
                      </a:lnTo>
                      <a:lnTo>
                        <a:pt x="137" y="138"/>
                      </a:lnTo>
                      <a:lnTo>
                        <a:pt x="133" y="135"/>
                      </a:lnTo>
                      <a:lnTo>
                        <a:pt x="130" y="132"/>
                      </a:lnTo>
                      <a:lnTo>
                        <a:pt x="128" y="129"/>
                      </a:lnTo>
                      <a:lnTo>
                        <a:pt x="124" y="126"/>
                      </a:lnTo>
                      <a:lnTo>
                        <a:pt x="122" y="123"/>
                      </a:lnTo>
                      <a:lnTo>
                        <a:pt x="122" y="120"/>
                      </a:lnTo>
                      <a:lnTo>
                        <a:pt x="120" y="115"/>
                      </a:lnTo>
                      <a:lnTo>
                        <a:pt x="120" y="112"/>
                      </a:lnTo>
                      <a:lnTo>
                        <a:pt x="120" y="107"/>
                      </a:lnTo>
                      <a:lnTo>
                        <a:pt x="120" y="104"/>
                      </a:lnTo>
                      <a:lnTo>
                        <a:pt x="120" y="99"/>
                      </a:lnTo>
                      <a:lnTo>
                        <a:pt x="122" y="96"/>
                      </a:lnTo>
                      <a:lnTo>
                        <a:pt x="122" y="93"/>
                      </a:lnTo>
                      <a:lnTo>
                        <a:pt x="124" y="88"/>
                      </a:lnTo>
                      <a:lnTo>
                        <a:pt x="128" y="85"/>
                      </a:lnTo>
                      <a:lnTo>
                        <a:pt x="130" y="82"/>
                      </a:lnTo>
                      <a:lnTo>
                        <a:pt x="133" y="79"/>
                      </a:lnTo>
                      <a:lnTo>
                        <a:pt x="137" y="77"/>
                      </a:lnTo>
                      <a:lnTo>
                        <a:pt x="141" y="74"/>
                      </a:lnTo>
                      <a:lnTo>
                        <a:pt x="145" y="72"/>
                      </a:lnTo>
                      <a:lnTo>
                        <a:pt x="149" y="71"/>
                      </a:lnTo>
                      <a:lnTo>
                        <a:pt x="152" y="69"/>
                      </a:lnTo>
                      <a:lnTo>
                        <a:pt x="156" y="67"/>
                      </a:lnTo>
                      <a:lnTo>
                        <a:pt x="162" y="67"/>
                      </a:lnTo>
                      <a:lnTo>
                        <a:pt x="166" y="67"/>
                      </a:lnTo>
                      <a:lnTo>
                        <a:pt x="171" y="67"/>
                      </a:lnTo>
                      <a:lnTo>
                        <a:pt x="175" y="67"/>
                      </a:lnTo>
                      <a:lnTo>
                        <a:pt x="181" y="69"/>
                      </a:lnTo>
                      <a:lnTo>
                        <a:pt x="185" y="71"/>
                      </a:lnTo>
                      <a:lnTo>
                        <a:pt x="189" y="72"/>
                      </a:lnTo>
                      <a:lnTo>
                        <a:pt x="192" y="74"/>
                      </a:lnTo>
                      <a:lnTo>
                        <a:pt x="196" y="77"/>
                      </a:lnTo>
                      <a:lnTo>
                        <a:pt x="200" y="79"/>
                      </a:lnTo>
                      <a:lnTo>
                        <a:pt x="204" y="82"/>
                      </a:lnTo>
                      <a:lnTo>
                        <a:pt x="206" y="85"/>
                      </a:lnTo>
                      <a:lnTo>
                        <a:pt x="209" y="88"/>
                      </a:lnTo>
                      <a:lnTo>
                        <a:pt x="211" y="93"/>
                      </a:lnTo>
                      <a:lnTo>
                        <a:pt x="213" y="96"/>
                      </a:lnTo>
                      <a:lnTo>
                        <a:pt x="213" y="99"/>
                      </a:lnTo>
                      <a:lnTo>
                        <a:pt x="213" y="104"/>
                      </a:lnTo>
                      <a:lnTo>
                        <a:pt x="215" y="107"/>
                      </a:lnTo>
                      <a:lnTo>
                        <a:pt x="213" y="112"/>
                      </a:lnTo>
                      <a:lnTo>
                        <a:pt x="213" y="115"/>
                      </a:lnTo>
                      <a:lnTo>
                        <a:pt x="213" y="120"/>
                      </a:lnTo>
                      <a:lnTo>
                        <a:pt x="211" y="123"/>
                      </a:lnTo>
                      <a:lnTo>
                        <a:pt x="209" y="126"/>
                      </a:lnTo>
                      <a:lnTo>
                        <a:pt x="206" y="129"/>
                      </a:lnTo>
                      <a:lnTo>
                        <a:pt x="204" y="132"/>
                      </a:lnTo>
                      <a:lnTo>
                        <a:pt x="200" y="135"/>
                      </a:lnTo>
                      <a:lnTo>
                        <a:pt x="196" y="138"/>
                      </a:lnTo>
                      <a:lnTo>
                        <a:pt x="192" y="140"/>
                      </a:lnTo>
                      <a:lnTo>
                        <a:pt x="189" y="143"/>
                      </a:lnTo>
                      <a:lnTo>
                        <a:pt x="185" y="145"/>
                      </a:lnTo>
                      <a:lnTo>
                        <a:pt x="181" y="145"/>
                      </a:lnTo>
                      <a:lnTo>
                        <a:pt x="177" y="146"/>
                      </a:lnTo>
                      <a:lnTo>
                        <a:pt x="171" y="146"/>
                      </a:lnTo>
                      <a:lnTo>
                        <a:pt x="166" y="148"/>
                      </a:lnTo>
                      <a:close/>
                      <a:moveTo>
                        <a:pt x="48" y="56"/>
                      </a:moveTo>
                      <a:lnTo>
                        <a:pt x="50" y="56"/>
                      </a:lnTo>
                      <a:lnTo>
                        <a:pt x="52" y="55"/>
                      </a:lnTo>
                      <a:lnTo>
                        <a:pt x="54" y="55"/>
                      </a:lnTo>
                      <a:lnTo>
                        <a:pt x="56" y="55"/>
                      </a:lnTo>
                      <a:lnTo>
                        <a:pt x="57" y="53"/>
                      </a:lnTo>
                      <a:lnTo>
                        <a:pt x="59" y="53"/>
                      </a:lnTo>
                      <a:lnTo>
                        <a:pt x="59" y="52"/>
                      </a:lnTo>
                      <a:lnTo>
                        <a:pt x="61" y="50"/>
                      </a:lnTo>
                      <a:lnTo>
                        <a:pt x="63" y="49"/>
                      </a:lnTo>
                      <a:lnTo>
                        <a:pt x="65" y="49"/>
                      </a:lnTo>
                      <a:lnTo>
                        <a:pt x="65" y="47"/>
                      </a:lnTo>
                      <a:lnTo>
                        <a:pt x="65" y="45"/>
                      </a:lnTo>
                      <a:lnTo>
                        <a:pt x="67" y="44"/>
                      </a:lnTo>
                      <a:lnTo>
                        <a:pt x="67" y="42"/>
                      </a:lnTo>
                      <a:lnTo>
                        <a:pt x="67" y="41"/>
                      </a:lnTo>
                      <a:lnTo>
                        <a:pt x="67" y="39"/>
                      </a:lnTo>
                      <a:lnTo>
                        <a:pt x="67" y="37"/>
                      </a:lnTo>
                      <a:lnTo>
                        <a:pt x="67" y="36"/>
                      </a:lnTo>
                      <a:lnTo>
                        <a:pt x="67" y="34"/>
                      </a:lnTo>
                      <a:lnTo>
                        <a:pt x="65" y="33"/>
                      </a:lnTo>
                      <a:lnTo>
                        <a:pt x="65" y="31"/>
                      </a:lnTo>
                      <a:lnTo>
                        <a:pt x="65" y="30"/>
                      </a:lnTo>
                      <a:lnTo>
                        <a:pt x="63" y="28"/>
                      </a:lnTo>
                      <a:lnTo>
                        <a:pt x="61" y="26"/>
                      </a:lnTo>
                      <a:lnTo>
                        <a:pt x="59" y="25"/>
                      </a:lnTo>
                      <a:lnTo>
                        <a:pt x="59" y="25"/>
                      </a:lnTo>
                      <a:lnTo>
                        <a:pt x="57" y="23"/>
                      </a:lnTo>
                      <a:lnTo>
                        <a:pt x="56" y="23"/>
                      </a:lnTo>
                      <a:lnTo>
                        <a:pt x="54" y="22"/>
                      </a:lnTo>
                      <a:lnTo>
                        <a:pt x="52" y="22"/>
                      </a:lnTo>
                      <a:lnTo>
                        <a:pt x="50" y="22"/>
                      </a:lnTo>
                      <a:lnTo>
                        <a:pt x="48" y="22"/>
                      </a:lnTo>
                      <a:lnTo>
                        <a:pt x="46" y="22"/>
                      </a:lnTo>
                      <a:lnTo>
                        <a:pt x="44" y="22"/>
                      </a:lnTo>
                      <a:lnTo>
                        <a:pt x="42" y="22"/>
                      </a:lnTo>
                      <a:lnTo>
                        <a:pt x="40" y="23"/>
                      </a:lnTo>
                      <a:lnTo>
                        <a:pt x="38" y="23"/>
                      </a:lnTo>
                      <a:lnTo>
                        <a:pt x="37" y="25"/>
                      </a:lnTo>
                      <a:lnTo>
                        <a:pt x="35" y="25"/>
                      </a:lnTo>
                      <a:lnTo>
                        <a:pt x="33" y="26"/>
                      </a:lnTo>
                      <a:lnTo>
                        <a:pt x="33" y="28"/>
                      </a:lnTo>
                      <a:lnTo>
                        <a:pt x="31" y="30"/>
                      </a:lnTo>
                      <a:lnTo>
                        <a:pt x="29" y="31"/>
                      </a:lnTo>
                      <a:lnTo>
                        <a:pt x="29" y="33"/>
                      </a:lnTo>
                      <a:lnTo>
                        <a:pt x="29" y="34"/>
                      </a:lnTo>
                      <a:lnTo>
                        <a:pt x="27" y="36"/>
                      </a:lnTo>
                      <a:lnTo>
                        <a:pt x="27" y="37"/>
                      </a:lnTo>
                      <a:lnTo>
                        <a:pt x="27" y="39"/>
                      </a:lnTo>
                      <a:lnTo>
                        <a:pt x="27" y="41"/>
                      </a:lnTo>
                      <a:lnTo>
                        <a:pt x="27" y="42"/>
                      </a:lnTo>
                      <a:lnTo>
                        <a:pt x="29" y="44"/>
                      </a:lnTo>
                      <a:lnTo>
                        <a:pt x="29" y="45"/>
                      </a:lnTo>
                      <a:lnTo>
                        <a:pt x="29" y="47"/>
                      </a:lnTo>
                      <a:lnTo>
                        <a:pt x="31" y="49"/>
                      </a:lnTo>
                      <a:lnTo>
                        <a:pt x="33" y="50"/>
                      </a:lnTo>
                      <a:lnTo>
                        <a:pt x="33" y="50"/>
                      </a:lnTo>
                      <a:lnTo>
                        <a:pt x="35" y="52"/>
                      </a:lnTo>
                      <a:lnTo>
                        <a:pt x="37" y="53"/>
                      </a:lnTo>
                      <a:lnTo>
                        <a:pt x="38" y="53"/>
                      </a:lnTo>
                      <a:lnTo>
                        <a:pt x="40" y="55"/>
                      </a:lnTo>
                      <a:lnTo>
                        <a:pt x="42" y="55"/>
                      </a:lnTo>
                      <a:lnTo>
                        <a:pt x="44" y="55"/>
                      </a:lnTo>
                      <a:lnTo>
                        <a:pt x="46" y="56"/>
                      </a:lnTo>
                      <a:lnTo>
                        <a:pt x="48" y="56"/>
                      </a:lnTo>
                      <a:close/>
                      <a:moveTo>
                        <a:pt x="48" y="79"/>
                      </a:moveTo>
                      <a:lnTo>
                        <a:pt x="42" y="79"/>
                      </a:lnTo>
                      <a:lnTo>
                        <a:pt x="38" y="79"/>
                      </a:lnTo>
                      <a:lnTo>
                        <a:pt x="33" y="77"/>
                      </a:lnTo>
                      <a:lnTo>
                        <a:pt x="29" y="75"/>
                      </a:lnTo>
                      <a:lnTo>
                        <a:pt x="25" y="74"/>
                      </a:lnTo>
                      <a:lnTo>
                        <a:pt x="21" y="72"/>
                      </a:lnTo>
                      <a:lnTo>
                        <a:pt x="18" y="69"/>
                      </a:lnTo>
                      <a:lnTo>
                        <a:pt x="14" y="67"/>
                      </a:lnTo>
                      <a:lnTo>
                        <a:pt x="10" y="64"/>
                      </a:lnTo>
                      <a:lnTo>
                        <a:pt x="8" y="61"/>
                      </a:lnTo>
                      <a:lnTo>
                        <a:pt x="6" y="58"/>
                      </a:lnTo>
                      <a:lnTo>
                        <a:pt x="4" y="53"/>
                      </a:lnTo>
                      <a:lnTo>
                        <a:pt x="2" y="50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9"/>
                      </a:lnTo>
                      <a:lnTo>
                        <a:pt x="0" y="34"/>
                      </a:lnTo>
                      <a:lnTo>
                        <a:pt x="0" y="31"/>
                      </a:lnTo>
                      <a:lnTo>
                        <a:pt x="2" y="26"/>
                      </a:lnTo>
                      <a:lnTo>
                        <a:pt x="4" y="23"/>
                      </a:lnTo>
                      <a:lnTo>
                        <a:pt x="6" y="20"/>
                      </a:lnTo>
                      <a:lnTo>
                        <a:pt x="8" y="17"/>
                      </a:lnTo>
                      <a:lnTo>
                        <a:pt x="10" y="14"/>
                      </a:lnTo>
                      <a:lnTo>
                        <a:pt x="14" y="11"/>
                      </a:lnTo>
                      <a:lnTo>
                        <a:pt x="18" y="7"/>
                      </a:lnTo>
                      <a:lnTo>
                        <a:pt x="21" y="6"/>
                      </a:lnTo>
                      <a:lnTo>
                        <a:pt x="25" y="3"/>
                      </a:lnTo>
                      <a:lnTo>
                        <a:pt x="29" y="1"/>
                      </a:lnTo>
                      <a:lnTo>
                        <a:pt x="33" y="1"/>
                      </a:lnTo>
                      <a:lnTo>
                        <a:pt x="38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7" y="0"/>
                      </a:lnTo>
                      <a:lnTo>
                        <a:pt x="61" y="1"/>
                      </a:lnTo>
                      <a:lnTo>
                        <a:pt x="65" y="1"/>
                      </a:lnTo>
                      <a:lnTo>
                        <a:pt x="71" y="3"/>
                      </a:lnTo>
                      <a:lnTo>
                        <a:pt x="75" y="6"/>
                      </a:lnTo>
                      <a:lnTo>
                        <a:pt x="78" y="7"/>
                      </a:lnTo>
                      <a:lnTo>
                        <a:pt x="80" y="11"/>
                      </a:lnTo>
                      <a:lnTo>
                        <a:pt x="84" y="14"/>
                      </a:lnTo>
                      <a:lnTo>
                        <a:pt x="88" y="17"/>
                      </a:lnTo>
                      <a:lnTo>
                        <a:pt x="90" y="20"/>
                      </a:lnTo>
                      <a:lnTo>
                        <a:pt x="92" y="23"/>
                      </a:lnTo>
                      <a:lnTo>
                        <a:pt x="94" y="26"/>
                      </a:lnTo>
                      <a:lnTo>
                        <a:pt x="94" y="31"/>
                      </a:lnTo>
                      <a:lnTo>
                        <a:pt x="95" y="34"/>
                      </a:lnTo>
                      <a:lnTo>
                        <a:pt x="95" y="39"/>
                      </a:lnTo>
                      <a:lnTo>
                        <a:pt x="95" y="42"/>
                      </a:lnTo>
                      <a:lnTo>
                        <a:pt x="94" y="47"/>
                      </a:lnTo>
                      <a:lnTo>
                        <a:pt x="94" y="50"/>
                      </a:lnTo>
                      <a:lnTo>
                        <a:pt x="92" y="53"/>
                      </a:lnTo>
                      <a:lnTo>
                        <a:pt x="90" y="58"/>
                      </a:lnTo>
                      <a:lnTo>
                        <a:pt x="88" y="61"/>
                      </a:lnTo>
                      <a:lnTo>
                        <a:pt x="84" y="64"/>
                      </a:lnTo>
                      <a:lnTo>
                        <a:pt x="80" y="67"/>
                      </a:lnTo>
                      <a:lnTo>
                        <a:pt x="78" y="69"/>
                      </a:lnTo>
                      <a:lnTo>
                        <a:pt x="75" y="72"/>
                      </a:lnTo>
                      <a:lnTo>
                        <a:pt x="71" y="74"/>
                      </a:lnTo>
                      <a:lnTo>
                        <a:pt x="65" y="75"/>
                      </a:lnTo>
                      <a:lnTo>
                        <a:pt x="61" y="77"/>
                      </a:lnTo>
                      <a:lnTo>
                        <a:pt x="57" y="79"/>
                      </a:lnTo>
                      <a:lnTo>
                        <a:pt x="52" y="79"/>
                      </a:lnTo>
                      <a:lnTo>
                        <a:pt x="48" y="79"/>
                      </a:lnTo>
                      <a:close/>
                      <a:moveTo>
                        <a:pt x="46" y="145"/>
                      </a:moveTo>
                      <a:lnTo>
                        <a:pt x="141" y="1"/>
                      </a:lnTo>
                      <a:lnTo>
                        <a:pt x="168" y="1"/>
                      </a:lnTo>
                      <a:lnTo>
                        <a:pt x="73" y="145"/>
                      </a:lnTo>
                      <a:lnTo>
                        <a:pt x="46" y="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283800" y="2906640"/>
                  <a:ext cx="186120" cy="243000"/>
                </a:xfrm>
                <a:custGeom>
                  <a:avLst/>
                  <a:gdLst/>
                  <a:ahLst/>
                  <a:rect l="l" t="t" r="r" b="b"/>
                  <a:pathLst>
                    <a:path w="126" h="153">
                      <a:moveTo>
                        <a:pt x="48" y="60"/>
                      </a:moveTo>
                      <a:lnTo>
                        <a:pt x="57" y="60"/>
                      </a:lnTo>
                      <a:lnTo>
                        <a:pt x="59" y="60"/>
                      </a:lnTo>
                      <a:lnTo>
                        <a:pt x="61" y="60"/>
                      </a:lnTo>
                      <a:lnTo>
                        <a:pt x="63" y="60"/>
                      </a:lnTo>
                      <a:lnTo>
                        <a:pt x="67" y="58"/>
                      </a:lnTo>
                      <a:lnTo>
                        <a:pt x="69" y="58"/>
                      </a:lnTo>
                      <a:lnTo>
                        <a:pt x="69" y="58"/>
                      </a:lnTo>
                      <a:lnTo>
                        <a:pt x="71" y="56"/>
                      </a:lnTo>
                      <a:lnTo>
                        <a:pt x="73" y="56"/>
                      </a:lnTo>
                      <a:lnTo>
                        <a:pt x="74" y="55"/>
                      </a:lnTo>
                      <a:lnTo>
                        <a:pt x="74" y="55"/>
                      </a:lnTo>
                      <a:lnTo>
                        <a:pt x="76" y="53"/>
                      </a:lnTo>
                      <a:lnTo>
                        <a:pt x="76" y="53"/>
                      </a:lnTo>
                      <a:lnTo>
                        <a:pt x="76" y="52"/>
                      </a:lnTo>
                      <a:lnTo>
                        <a:pt x="78" y="50"/>
                      </a:lnTo>
                      <a:lnTo>
                        <a:pt x="78" y="49"/>
                      </a:lnTo>
                      <a:lnTo>
                        <a:pt x="78" y="47"/>
                      </a:lnTo>
                      <a:lnTo>
                        <a:pt x="78" y="45"/>
                      </a:lnTo>
                      <a:lnTo>
                        <a:pt x="78" y="44"/>
                      </a:lnTo>
                      <a:lnTo>
                        <a:pt x="76" y="42"/>
                      </a:lnTo>
                      <a:lnTo>
                        <a:pt x="76" y="41"/>
                      </a:lnTo>
                      <a:lnTo>
                        <a:pt x="76" y="39"/>
                      </a:lnTo>
                      <a:lnTo>
                        <a:pt x="74" y="39"/>
                      </a:lnTo>
                      <a:lnTo>
                        <a:pt x="74" y="37"/>
                      </a:lnTo>
                      <a:lnTo>
                        <a:pt x="73" y="37"/>
                      </a:lnTo>
                      <a:lnTo>
                        <a:pt x="73" y="36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7" y="34"/>
                      </a:lnTo>
                      <a:lnTo>
                        <a:pt x="65" y="34"/>
                      </a:lnTo>
                      <a:lnTo>
                        <a:pt x="61" y="34"/>
                      </a:lnTo>
                      <a:lnTo>
                        <a:pt x="59" y="34"/>
                      </a:lnTo>
                      <a:lnTo>
                        <a:pt x="57" y="34"/>
                      </a:lnTo>
                      <a:lnTo>
                        <a:pt x="48" y="34"/>
                      </a:lnTo>
                      <a:lnTo>
                        <a:pt x="48" y="60"/>
                      </a:lnTo>
                      <a:close/>
                      <a:moveTo>
                        <a:pt x="48" y="118"/>
                      </a:moveTo>
                      <a:lnTo>
                        <a:pt x="57" y="118"/>
                      </a:lnTo>
                      <a:lnTo>
                        <a:pt x="61" y="118"/>
                      </a:lnTo>
                      <a:lnTo>
                        <a:pt x="63" y="116"/>
                      </a:lnTo>
                      <a:lnTo>
                        <a:pt x="65" y="116"/>
                      </a:lnTo>
                      <a:lnTo>
                        <a:pt x="67" y="116"/>
                      </a:lnTo>
                      <a:lnTo>
                        <a:pt x="69" y="116"/>
                      </a:lnTo>
                      <a:lnTo>
                        <a:pt x="71" y="115"/>
                      </a:lnTo>
                      <a:lnTo>
                        <a:pt x="73" y="115"/>
                      </a:lnTo>
                      <a:lnTo>
                        <a:pt x="73" y="115"/>
                      </a:lnTo>
                      <a:lnTo>
                        <a:pt x="74" y="113"/>
                      </a:lnTo>
                      <a:lnTo>
                        <a:pt x="76" y="112"/>
                      </a:lnTo>
                      <a:lnTo>
                        <a:pt x="76" y="112"/>
                      </a:lnTo>
                      <a:lnTo>
                        <a:pt x="76" y="110"/>
                      </a:lnTo>
                      <a:lnTo>
                        <a:pt x="78" y="109"/>
                      </a:lnTo>
                      <a:lnTo>
                        <a:pt x="78" y="107"/>
                      </a:lnTo>
                      <a:lnTo>
                        <a:pt x="78" y="105"/>
                      </a:lnTo>
                      <a:lnTo>
                        <a:pt x="78" y="104"/>
                      </a:lnTo>
                      <a:lnTo>
                        <a:pt x="78" y="102"/>
                      </a:lnTo>
                      <a:lnTo>
                        <a:pt x="78" y="101"/>
                      </a:lnTo>
                      <a:lnTo>
                        <a:pt x="78" y="99"/>
                      </a:lnTo>
                      <a:lnTo>
                        <a:pt x="76" y="97"/>
                      </a:lnTo>
                      <a:lnTo>
                        <a:pt x="76" y="96"/>
                      </a:lnTo>
                      <a:lnTo>
                        <a:pt x="76" y="96"/>
                      </a:lnTo>
                      <a:lnTo>
                        <a:pt x="74" y="94"/>
                      </a:lnTo>
                      <a:lnTo>
                        <a:pt x="73" y="93"/>
                      </a:lnTo>
                      <a:lnTo>
                        <a:pt x="73" y="93"/>
                      </a:lnTo>
                      <a:lnTo>
                        <a:pt x="71" y="91"/>
                      </a:lnTo>
                      <a:lnTo>
                        <a:pt x="69" y="91"/>
                      </a:lnTo>
                      <a:lnTo>
                        <a:pt x="67" y="91"/>
                      </a:lnTo>
                      <a:lnTo>
                        <a:pt x="65" y="90"/>
                      </a:lnTo>
                      <a:lnTo>
                        <a:pt x="61" y="90"/>
                      </a:lnTo>
                      <a:lnTo>
                        <a:pt x="59" y="90"/>
                      </a:lnTo>
                      <a:lnTo>
                        <a:pt x="57" y="90"/>
                      </a:lnTo>
                      <a:lnTo>
                        <a:pt x="48" y="90"/>
                      </a:lnTo>
                      <a:lnTo>
                        <a:pt x="48" y="118"/>
                      </a:lnTo>
                      <a:close/>
                      <a:moveTo>
                        <a:pt x="0" y="153"/>
                      </a:moveTo>
                      <a:lnTo>
                        <a:pt x="0" y="0"/>
                      </a:lnTo>
                      <a:lnTo>
                        <a:pt x="61" y="0"/>
                      </a:lnTo>
                      <a:lnTo>
                        <a:pt x="69" y="0"/>
                      </a:lnTo>
                      <a:lnTo>
                        <a:pt x="76" y="1"/>
                      </a:lnTo>
                      <a:lnTo>
                        <a:pt x="84" y="1"/>
                      </a:lnTo>
                      <a:lnTo>
                        <a:pt x="90" y="3"/>
                      </a:lnTo>
                      <a:lnTo>
                        <a:pt x="95" y="4"/>
                      </a:lnTo>
                      <a:lnTo>
                        <a:pt x="101" y="6"/>
                      </a:lnTo>
                      <a:lnTo>
                        <a:pt x="105" y="7"/>
                      </a:lnTo>
                      <a:lnTo>
                        <a:pt x="109" y="11"/>
                      </a:lnTo>
                      <a:lnTo>
                        <a:pt x="112" y="14"/>
                      </a:lnTo>
                      <a:lnTo>
                        <a:pt x="116" y="17"/>
                      </a:lnTo>
                      <a:lnTo>
                        <a:pt x="118" y="20"/>
                      </a:lnTo>
                      <a:lnTo>
                        <a:pt x="122" y="23"/>
                      </a:lnTo>
                      <a:lnTo>
                        <a:pt x="124" y="28"/>
                      </a:lnTo>
                      <a:lnTo>
                        <a:pt x="124" y="33"/>
                      </a:lnTo>
                      <a:lnTo>
                        <a:pt x="126" y="37"/>
                      </a:lnTo>
                      <a:lnTo>
                        <a:pt x="126" y="42"/>
                      </a:lnTo>
                      <a:lnTo>
                        <a:pt x="126" y="45"/>
                      </a:lnTo>
                      <a:lnTo>
                        <a:pt x="126" y="47"/>
                      </a:lnTo>
                      <a:lnTo>
                        <a:pt x="124" y="50"/>
                      </a:lnTo>
                      <a:lnTo>
                        <a:pt x="124" y="53"/>
                      </a:lnTo>
                      <a:lnTo>
                        <a:pt x="124" y="55"/>
                      </a:lnTo>
                      <a:lnTo>
                        <a:pt x="122" y="58"/>
                      </a:lnTo>
                      <a:lnTo>
                        <a:pt x="120" y="60"/>
                      </a:lnTo>
                      <a:lnTo>
                        <a:pt x="120" y="63"/>
                      </a:lnTo>
                      <a:lnTo>
                        <a:pt x="118" y="64"/>
                      </a:lnTo>
                      <a:lnTo>
                        <a:pt x="116" y="66"/>
                      </a:lnTo>
                      <a:lnTo>
                        <a:pt x="114" y="67"/>
                      </a:lnTo>
                      <a:lnTo>
                        <a:pt x="112" y="69"/>
                      </a:lnTo>
                      <a:lnTo>
                        <a:pt x="109" y="71"/>
                      </a:lnTo>
                      <a:lnTo>
                        <a:pt x="107" y="72"/>
                      </a:lnTo>
                      <a:lnTo>
                        <a:pt x="103" y="74"/>
                      </a:lnTo>
                      <a:lnTo>
                        <a:pt x="101" y="75"/>
                      </a:lnTo>
                      <a:lnTo>
                        <a:pt x="103" y="77"/>
                      </a:lnTo>
                      <a:lnTo>
                        <a:pt x="107" y="77"/>
                      </a:lnTo>
                      <a:lnTo>
                        <a:pt x="109" y="79"/>
                      </a:lnTo>
                      <a:lnTo>
                        <a:pt x="112" y="80"/>
                      </a:lnTo>
                      <a:lnTo>
                        <a:pt x="114" y="82"/>
                      </a:lnTo>
                      <a:lnTo>
                        <a:pt x="116" y="83"/>
                      </a:lnTo>
                      <a:lnTo>
                        <a:pt x="118" y="86"/>
                      </a:lnTo>
                      <a:lnTo>
                        <a:pt x="120" y="88"/>
                      </a:lnTo>
                      <a:lnTo>
                        <a:pt x="122" y="90"/>
                      </a:lnTo>
                      <a:lnTo>
                        <a:pt x="122" y="93"/>
                      </a:lnTo>
                      <a:lnTo>
                        <a:pt x="124" y="94"/>
                      </a:lnTo>
                      <a:lnTo>
                        <a:pt x="124" y="97"/>
                      </a:lnTo>
                      <a:lnTo>
                        <a:pt x="126" y="101"/>
                      </a:lnTo>
                      <a:lnTo>
                        <a:pt x="126" y="104"/>
                      </a:lnTo>
                      <a:lnTo>
                        <a:pt x="126" y="107"/>
                      </a:lnTo>
                      <a:lnTo>
                        <a:pt x="126" y="110"/>
                      </a:lnTo>
                      <a:lnTo>
                        <a:pt x="126" y="115"/>
                      </a:lnTo>
                      <a:lnTo>
                        <a:pt x="126" y="120"/>
                      </a:lnTo>
                      <a:lnTo>
                        <a:pt x="124" y="124"/>
                      </a:lnTo>
                      <a:lnTo>
                        <a:pt x="122" y="127"/>
                      </a:lnTo>
                      <a:lnTo>
                        <a:pt x="120" y="132"/>
                      </a:lnTo>
                      <a:lnTo>
                        <a:pt x="116" y="135"/>
                      </a:lnTo>
                      <a:lnTo>
                        <a:pt x="114" y="139"/>
                      </a:lnTo>
                      <a:lnTo>
                        <a:pt x="111" y="142"/>
                      </a:lnTo>
                      <a:lnTo>
                        <a:pt x="105" y="145"/>
                      </a:lnTo>
                      <a:lnTo>
                        <a:pt x="101" y="146"/>
                      </a:lnTo>
                      <a:lnTo>
                        <a:pt x="95" y="148"/>
                      </a:lnTo>
                      <a:lnTo>
                        <a:pt x="90" y="150"/>
                      </a:lnTo>
                      <a:lnTo>
                        <a:pt x="84" y="151"/>
                      </a:lnTo>
                      <a:lnTo>
                        <a:pt x="76" y="151"/>
                      </a:lnTo>
                      <a:lnTo>
                        <a:pt x="69" y="153"/>
                      </a:lnTo>
                      <a:lnTo>
                        <a:pt x="61" y="153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498360" y="2900520"/>
                  <a:ext cx="275400" cy="253800"/>
                </a:xfrm>
                <a:custGeom>
                  <a:avLst/>
                  <a:gdLst/>
                  <a:ahLst/>
                  <a:rect l="l" t="t" r="r" b="b"/>
                  <a:pathLst>
                    <a:path w="186" h="160">
                      <a:moveTo>
                        <a:pt x="93" y="41"/>
                      </a:moveTo>
                      <a:lnTo>
                        <a:pt x="89" y="43"/>
                      </a:lnTo>
                      <a:lnTo>
                        <a:pt x="83" y="43"/>
                      </a:lnTo>
                      <a:lnTo>
                        <a:pt x="80" y="43"/>
                      </a:lnTo>
                      <a:lnTo>
                        <a:pt x="76" y="45"/>
                      </a:lnTo>
                      <a:lnTo>
                        <a:pt x="72" y="46"/>
                      </a:lnTo>
                      <a:lnTo>
                        <a:pt x="68" y="48"/>
                      </a:lnTo>
                      <a:lnTo>
                        <a:pt x="64" y="51"/>
                      </a:lnTo>
                      <a:lnTo>
                        <a:pt x="62" y="53"/>
                      </a:lnTo>
                      <a:lnTo>
                        <a:pt x="59" y="56"/>
                      </a:lnTo>
                      <a:lnTo>
                        <a:pt x="57" y="59"/>
                      </a:lnTo>
                      <a:lnTo>
                        <a:pt x="55" y="62"/>
                      </a:lnTo>
                      <a:lnTo>
                        <a:pt x="53" y="65"/>
                      </a:lnTo>
                      <a:lnTo>
                        <a:pt x="51" y="68"/>
                      </a:lnTo>
                      <a:lnTo>
                        <a:pt x="51" y="73"/>
                      </a:lnTo>
                      <a:lnTo>
                        <a:pt x="49" y="76"/>
                      </a:lnTo>
                      <a:lnTo>
                        <a:pt x="49" y="79"/>
                      </a:lnTo>
                      <a:lnTo>
                        <a:pt x="49" y="84"/>
                      </a:lnTo>
                      <a:lnTo>
                        <a:pt x="51" y="87"/>
                      </a:lnTo>
                      <a:lnTo>
                        <a:pt x="51" y="92"/>
                      </a:lnTo>
                      <a:lnTo>
                        <a:pt x="53" y="95"/>
                      </a:lnTo>
                      <a:lnTo>
                        <a:pt x="55" y="98"/>
                      </a:lnTo>
                      <a:lnTo>
                        <a:pt x="57" y="101"/>
                      </a:lnTo>
                      <a:lnTo>
                        <a:pt x="59" y="105"/>
                      </a:lnTo>
                      <a:lnTo>
                        <a:pt x="62" y="106"/>
                      </a:lnTo>
                      <a:lnTo>
                        <a:pt x="64" y="109"/>
                      </a:lnTo>
                      <a:lnTo>
                        <a:pt x="68" y="111"/>
                      </a:lnTo>
                      <a:lnTo>
                        <a:pt x="72" y="114"/>
                      </a:lnTo>
                      <a:lnTo>
                        <a:pt x="76" y="116"/>
                      </a:lnTo>
                      <a:lnTo>
                        <a:pt x="80" y="116"/>
                      </a:lnTo>
                      <a:lnTo>
                        <a:pt x="83" y="117"/>
                      </a:lnTo>
                      <a:lnTo>
                        <a:pt x="89" y="117"/>
                      </a:lnTo>
                      <a:lnTo>
                        <a:pt x="93" y="117"/>
                      </a:lnTo>
                      <a:lnTo>
                        <a:pt x="99" y="117"/>
                      </a:lnTo>
                      <a:lnTo>
                        <a:pt x="102" y="117"/>
                      </a:lnTo>
                      <a:lnTo>
                        <a:pt x="106" y="116"/>
                      </a:lnTo>
                      <a:lnTo>
                        <a:pt x="110" y="116"/>
                      </a:lnTo>
                      <a:lnTo>
                        <a:pt x="114" y="114"/>
                      </a:lnTo>
                      <a:lnTo>
                        <a:pt x="118" y="111"/>
                      </a:lnTo>
                      <a:lnTo>
                        <a:pt x="121" y="109"/>
                      </a:lnTo>
                      <a:lnTo>
                        <a:pt x="123" y="106"/>
                      </a:lnTo>
                      <a:lnTo>
                        <a:pt x="127" y="105"/>
                      </a:lnTo>
                      <a:lnTo>
                        <a:pt x="129" y="101"/>
                      </a:lnTo>
                      <a:lnTo>
                        <a:pt x="131" y="98"/>
                      </a:lnTo>
                      <a:lnTo>
                        <a:pt x="133" y="95"/>
                      </a:lnTo>
                      <a:lnTo>
                        <a:pt x="135" y="90"/>
                      </a:lnTo>
                      <a:lnTo>
                        <a:pt x="137" y="87"/>
                      </a:lnTo>
                      <a:lnTo>
                        <a:pt x="137" y="84"/>
                      </a:lnTo>
                      <a:lnTo>
                        <a:pt x="137" y="79"/>
                      </a:lnTo>
                      <a:lnTo>
                        <a:pt x="137" y="76"/>
                      </a:lnTo>
                      <a:lnTo>
                        <a:pt x="137" y="73"/>
                      </a:lnTo>
                      <a:lnTo>
                        <a:pt x="135" y="68"/>
                      </a:lnTo>
                      <a:lnTo>
                        <a:pt x="133" y="65"/>
                      </a:lnTo>
                      <a:lnTo>
                        <a:pt x="131" y="62"/>
                      </a:lnTo>
                      <a:lnTo>
                        <a:pt x="129" y="59"/>
                      </a:lnTo>
                      <a:lnTo>
                        <a:pt x="127" y="56"/>
                      </a:lnTo>
                      <a:lnTo>
                        <a:pt x="123" y="53"/>
                      </a:lnTo>
                      <a:lnTo>
                        <a:pt x="121" y="51"/>
                      </a:lnTo>
                      <a:lnTo>
                        <a:pt x="118" y="48"/>
                      </a:lnTo>
                      <a:lnTo>
                        <a:pt x="114" y="46"/>
                      </a:lnTo>
                      <a:lnTo>
                        <a:pt x="110" y="45"/>
                      </a:lnTo>
                      <a:lnTo>
                        <a:pt x="106" y="43"/>
                      </a:lnTo>
                      <a:lnTo>
                        <a:pt x="102" y="43"/>
                      </a:lnTo>
                      <a:lnTo>
                        <a:pt x="99" y="43"/>
                      </a:lnTo>
                      <a:lnTo>
                        <a:pt x="93" y="41"/>
                      </a:lnTo>
                      <a:close/>
                      <a:moveTo>
                        <a:pt x="93" y="0"/>
                      </a:moveTo>
                      <a:lnTo>
                        <a:pt x="97" y="0"/>
                      </a:lnTo>
                      <a:lnTo>
                        <a:pt x="102" y="0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4" y="2"/>
                      </a:lnTo>
                      <a:lnTo>
                        <a:pt x="118" y="2"/>
                      </a:lnTo>
                      <a:lnTo>
                        <a:pt x="121" y="4"/>
                      </a:lnTo>
                      <a:lnTo>
                        <a:pt x="125" y="5"/>
                      </a:lnTo>
                      <a:lnTo>
                        <a:pt x="129" y="7"/>
                      </a:lnTo>
                      <a:lnTo>
                        <a:pt x="133" y="7"/>
                      </a:lnTo>
                      <a:lnTo>
                        <a:pt x="137" y="8"/>
                      </a:lnTo>
                      <a:lnTo>
                        <a:pt x="140" y="11"/>
                      </a:lnTo>
                      <a:lnTo>
                        <a:pt x="144" y="13"/>
                      </a:lnTo>
                      <a:lnTo>
                        <a:pt x="148" y="15"/>
                      </a:lnTo>
                      <a:lnTo>
                        <a:pt x="150" y="16"/>
                      </a:lnTo>
                      <a:lnTo>
                        <a:pt x="154" y="19"/>
                      </a:lnTo>
                      <a:lnTo>
                        <a:pt x="158" y="23"/>
                      </a:lnTo>
                      <a:lnTo>
                        <a:pt x="161" y="26"/>
                      </a:lnTo>
                      <a:lnTo>
                        <a:pt x="165" y="29"/>
                      </a:lnTo>
                      <a:lnTo>
                        <a:pt x="167" y="32"/>
                      </a:lnTo>
                      <a:lnTo>
                        <a:pt x="171" y="35"/>
                      </a:lnTo>
                      <a:lnTo>
                        <a:pt x="173" y="38"/>
                      </a:lnTo>
                      <a:lnTo>
                        <a:pt x="175" y="43"/>
                      </a:lnTo>
                      <a:lnTo>
                        <a:pt x="178" y="46"/>
                      </a:lnTo>
                      <a:lnTo>
                        <a:pt x="180" y="51"/>
                      </a:lnTo>
                      <a:lnTo>
                        <a:pt x="180" y="54"/>
                      </a:lnTo>
                      <a:lnTo>
                        <a:pt x="182" y="59"/>
                      </a:lnTo>
                      <a:lnTo>
                        <a:pt x="184" y="64"/>
                      </a:lnTo>
                      <a:lnTo>
                        <a:pt x="184" y="67"/>
                      </a:lnTo>
                      <a:lnTo>
                        <a:pt x="186" y="71"/>
                      </a:lnTo>
                      <a:lnTo>
                        <a:pt x="186" y="76"/>
                      </a:lnTo>
                      <a:lnTo>
                        <a:pt x="186" y="79"/>
                      </a:lnTo>
                      <a:lnTo>
                        <a:pt x="186" y="84"/>
                      </a:lnTo>
                      <a:lnTo>
                        <a:pt x="186" y="89"/>
                      </a:lnTo>
                      <a:lnTo>
                        <a:pt x="184" y="94"/>
                      </a:lnTo>
                      <a:lnTo>
                        <a:pt x="184" y="97"/>
                      </a:lnTo>
                      <a:lnTo>
                        <a:pt x="182" y="101"/>
                      </a:lnTo>
                      <a:lnTo>
                        <a:pt x="180" y="105"/>
                      </a:lnTo>
                      <a:lnTo>
                        <a:pt x="180" y="109"/>
                      </a:lnTo>
                      <a:lnTo>
                        <a:pt x="178" y="114"/>
                      </a:lnTo>
                      <a:lnTo>
                        <a:pt x="175" y="117"/>
                      </a:lnTo>
                      <a:lnTo>
                        <a:pt x="173" y="120"/>
                      </a:lnTo>
                      <a:lnTo>
                        <a:pt x="171" y="125"/>
                      </a:lnTo>
                      <a:lnTo>
                        <a:pt x="167" y="128"/>
                      </a:lnTo>
                      <a:lnTo>
                        <a:pt x="163" y="131"/>
                      </a:lnTo>
                      <a:lnTo>
                        <a:pt x="161" y="135"/>
                      </a:lnTo>
                      <a:lnTo>
                        <a:pt x="158" y="138"/>
                      </a:lnTo>
                      <a:lnTo>
                        <a:pt x="154" y="141"/>
                      </a:lnTo>
                      <a:lnTo>
                        <a:pt x="150" y="144"/>
                      </a:lnTo>
                      <a:lnTo>
                        <a:pt x="148" y="146"/>
                      </a:lnTo>
                      <a:lnTo>
                        <a:pt x="144" y="147"/>
                      </a:lnTo>
                      <a:lnTo>
                        <a:pt x="140" y="149"/>
                      </a:lnTo>
                      <a:lnTo>
                        <a:pt x="137" y="150"/>
                      </a:lnTo>
                      <a:lnTo>
                        <a:pt x="133" y="152"/>
                      </a:lnTo>
                      <a:lnTo>
                        <a:pt x="129" y="154"/>
                      </a:lnTo>
                      <a:lnTo>
                        <a:pt x="125" y="155"/>
                      </a:lnTo>
                      <a:lnTo>
                        <a:pt x="121" y="157"/>
                      </a:lnTo>
                      <a:lnTo>
                        <a:pt x="118" y="158"/>
                      </a:lnTo>
                      <a:lnTo>
                        <a:pt x="114" y="158"/>
                      </a:lnTo>
                      <a:lnTo>
                        <a:pt x="110" y="158"/>
                      </a:lnTo>
                      <a:lnTo>
                        <a:pt x="106" y="160"/>
                      </a:lnTo>
                      <a:lnTo>
                        <a:pt x="101" y="160"/>
                      </a:lnTo>
                      <a:lnTo>
                        <a:pt x="97" y="160"/>
                      </a:lnTo>
                      <a:lnTo>
                        <a:pt x="93" y="160"/>
                      </a:lnTo>
                      <a:lnTo>
                        <a:pt x="89" y="160"/>
                      </a:lnTo>
                      <a:lnTo>
                        <a:pt x="85" y="160"/>
                      </a:lnTo>
                      <a:lnTo>
                        <a:pt x="80" y="160"/>
                      </a:lnTo>
                      <a:lnTo>
                        <a:pt x="76" y="158"/>
                      </a:lnTo>
                      <a:lnTo>
                        <a:pt x="72" y="158"/>
                      </a:lnTo>
                      <a:lnTo>
                        <a:pt x="68" y="158"/>
                      </a:lnTo>
                      <a:lnTo>
                        <a:pt x="64" y="157"/>
                      </a:lnTo>
                      <a:lnTo>
                        <a:pt x="61" y="155"/>
                      </a:lnTo>
                      <a:lnTo>
                        <a:pt x="57" y="154"/>
                      </a:lnTo>
                      <a:lnTo>
                        <a:pt x="53" y="152"/>
                      </a:lnTo>
                      <a:lnTo>
                        <a:pt x="49" y="150"/>
                      </a:lnTo>
                      <a:lnTo>
                        <a:pt x="45" y="149"/>
                      </a:lnTo>
                      <a:lnTo>
                        <a:pt x="42" y="147"/>
                      </a:lnTo>
                      <a:lnTo>
                        <a:pt x="40" y="146"/>
                      </a:lnTo>
                      <a:lnTo>
                        <a:pt x="36" y="144"/>
                      </a:lnTo>
                      <a:lnTo>
                        <a:pt x="32" y="141"/>
                      </a:lnTo>
                      <a:lnTo>
                        <a:pt x="28" y="138"/>
                      </a:lnTo>
                      <a:lnTo>
                        <a:pt x="24" y="135"/>
                      </a:lnTo>
                      <a:lnTo>
                        <a:pt x="23" y="131"/>
                      </a:lnTo>
                      <a:lnTo>
                        <a:pt x="19" y="128"/>
                      </a:lnTo>
                      <a:lnTo>
                        <a:pt x="15" y="125"/>
                      </a:lnTo>
                      <a:lnTo>
                        <a:pt x="13" y="122"/>
                      </a:lnTo>
                      <a:lnTo>
                        <a:pt x="11" y="117"/>
                      </a:lnTo>
                      <a:lnTo>
                        <a:pt x="9" y="114"/>
                      </a:lnTo>
                      <a:lnTo>
                        <a:pt x="7" y="109"/>
                      </a:lnTo>
                      <a:lnTo>
                        <a:pt x="5" y="106"/>
                      </a:lnTo>
                      <a:lnTo>
                        <a:pt x="4" y="101"/>
                      </a:lnTo>
                      <a:lnTo>
                        <a:pt x="2" y="97"/>
                      </a:lnTo>
                      <a:lnTo>
                        <a:pt x="2" y="94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79"/>
                      </a:lnTo>
                      <a:lnTo>
                        <a:pt x="0" y="76"/>
                      </a:lnTo>
                      <a:lnTo>
                        <a:pt x="0" y="71"/>
                      </a:lnTo>
                      <a:lnTo>
                        <a:pt x="2" y="67"/>
                      </a:lnTo>
                      <a:lnTo>
                        <a:pt x="2" y="62"/>
                      </a:lnTo>
                      <a:lnTo>
                        <a:pt x="4" y="59"/>
                      </a:lnTo>
                      <a:lnTo>
                        <a:pt x="5" y="54"/>
                      </a:lnTo>
                      <a:lnTo>
                        <a:pt x="7" y="51"/>
                      </a:lnTo>
                      <a:lnTo>
                        <a:pt x="9" y="46"/>
                      </a:lnTo>
                      <a:lnTo>
                        <a:pt x="11" y="43"/>
                      </a:lnTo>
                      <a:lnTo>
                        <a:pt x="13" y="38"/>
                      </a:lnTo>
                      <a:lnTo>
                        <a:pt x="15" y="35"/>
                      </a:lnTo>
                      <a:lnTo>
                        <a:pt x="19" y="32"/>
                      </a:lnTo>
                      <a:lnTo>
                        <a:pt x="23" y="29"/>
                      </a:lnTo>
                      <a:lnTo>
                        <a:pt x="24" y="26"/>
                      </a:lnTo>
                      <a:lnTo>
                        <a:pt x="28" y="23"/>
                      </a:lnTo>
                      <a:lnTo>
                        <a:pt x="32" y="19"/>
                      </a:lnTo>
                      <a:lnTo>
                        <a:pt x="36" y="16"/>
                      </a:lnTo>
                      <a:lnTo>
                        <a:pt x="40" y="15"/>
                      </a:lnTo>
                      <a:lnTo>
                        <a:pt x="42" y="13"/>
                      </a:lnTo>
                      <a:lnTo>
                        <a:pt x="45" y="10"/>
                      </a:lnTo>
                      <a:lnTo>
                        <a:pt x="49" y="8"/>
                      </a:lnTo>
                      <a:lnTo>
                        <a:pt x="53" y="7"/>
                      </a:lnTo>
                      <a:lnTo>
                        <a:pt x="57" y="7"/>
                      </a:lnTo>
                      <a:lnTo>
                        <a:pt x="61" y="5"/>
                      </a:lnTo>
                      <a:lnTo>
                        <a:pt x="64" y="4"/>
                      </a:lnTo>
                      <a:lnTo>
                        <a:pt x="68" y="2"/>
                      </a:lnTo>
                      <a:lnTo>
                        <a:pt x="72" y="2"/>
                      </a:lnTo>
                      <a:lnTo>
                        <a:pt x="76" y="0"/>
                      </a:lnTo>
                      <a:lnTo>
                        <a:pt x="80" y="0"/>
                      </a:lnTo>
                      <a:lnTo>
                        <a:pt x="85" y="0"/>
                      </a:lnTo>
                      <a:lnTo>
                        <a:pt x="89" y="0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765120" y="2906640"/>
                  <a:ext cx="225000" cy="243000"/>
                </a:xfrm>
                <a:custGeom>
                  <a:avLst/>
                  <a:gdLst/>
                  <a:ahLst/>
                  <a:rect l="l" t="t" r="r" b="b"/>
                  <a:pathLst>
                    <a:path w="152" h="153">
                      <a:moveTo>
                        <a:pt x="52" y="153"/>
                      </a:moveTo>
                      <a:lnTo>
                        <a:pt x="52" y="83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76" y="45"/>
                      </a:lnTo>
                      <a:lnTo>
                        <a:pt x="99" y="0"/>
                      </a:lnTo>
                      <a:lnTo>
                        <a:pt x="152" y="0"/>
                      </a:lnTo>
                      <a:lnTo>
                        <a:pt x="99" y="86"/>
                      </a:lnTo>
                      <a:lnTo>
                        <a:pt x="99" y="153"/>
                      </a:lnTo>
                      <a:lnTo>
                        <a:pt x="52" y="15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996240" y="2903400"/>
                  <a:ext cx="143640" cy="247680"/>
                </a:xfrm>
                <a:custGeom>
                  <a:avLst/>
                  <a:gdLst/>
                  <a:ahLst/>
                  <a:rect l="l" t="t" r="r" b="b"/>
                  <a:pathLst>
                    <a:path w="97" h="156">
                      <a:moveTo>
                        <a:pt x="2" y="155"/>
                      </a:moveTo>
                      <a:lnTo>
                        <a:pt x="2" y="112"/>
                      </a:lnTo>
                      <a:lnTo>
                        <a:pt x="2" y="114"/>
                      </a:lnTo>
                      <a:lnTo>
                        <a:pt x="4" y="114"/>
                      </a:lnTo>
                      <a:lnTo>
                        <a:pt x="6" y="114"/>
                      </a:lnTo>
                      <a:lnTo>
                        <a:pt x="8" y="114"/>
                      </a:lnTo>
                      <a:lnTo>
                        <a:pt x="8" y="115"/>
                      </a:lnTo>
                      <a:lnTo>
                        <a:pt x="10" y="115"/>
                      </a:lnTo>
                      <a:lnTo>
                        <a:pt x="12" y="115"/>
                      </a:lnTo>
                      <a:lnTo>
                        <a:pt x="12" y="115"/>
                      </a:lnTo>
                      <a:lnTo>
                        <a:pt x="13" y="115"/>
                      </a:lnTo>
                      <a:lnTo>
                        <a:pt x="13" y="115"/>
                      </a:lnTo>
                      <a:lnTo>
                        <a:pt x="15" y="117"/>
                      </a:lnTo>
                      <a:lnTo>
                        <a:pt x="17" y="117"/>
                      </a:lnTo>
                      <a:lnTo>
                        <a:pt x="17" y="117"/>
                      </a:lnTo>
                      <a:lnTo>
                        <a:pt x="19" y="117"/>
                      </a:lnTo>
                      <a:lnTo>
                        <a:pt x="19" y="117"/>
                      </a:lnTo>
                      <a:lnTo>
                        <a:pt x="21" y="117"/>
                      </a:lnTo>
                      <a:lnTo>
                        <a:pt x="23" y="117"/>
                      </a:lnTo>
                      <a:lnTo>
                        <a:pt x="25" y="117"/>
                      </a:lnTo>
                      <a:lnTo>
                        <a:pt x="27" y="117"/>
                      </a:lnTo>
                      <a:lnTo>
                        <a:pt x="29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2" y="114"/>
                      </a:lnTo>
                      <a:lnTo>
                        <a:pt x="34" y="114"/>
                      </a:lnTo>
                      <a:lnTo>
                        <a:pt x="34" y="112"/>
                      </a:lnTo>
                      <a:lnTo>
                        <a:pt x="36" y="112"/>
                      </a:lnTo>
                      <a:lnTo>
                        <a:pt x="36" y="111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7"/>
                      </a:lnTo>
                      <a:lnTo>
                        <a:pt x="38" y="106"/>
                      </a:lnTo>
                      <a:lnTo>
                        <a:pt x="38" y="104"/>
                      </a:lnTo>
                      <a:lnTo>
                        <a:pt x="38" y="103"/>
                      </a:lnTo>
                      <a:lnTo>
                        <a:pt x="38" y="101"/>
                      </a:lnTo>
                      <a:lnTo>
                        <a:pt x="36" y="99"/>
                      </a:lnTo>
                      <a:lnTo>
                        <a:pt x="36" y="96"/>
                      </a:lnTo>
                      <a:lnTo>
                        <a:pt x="34" y="95"/>
                      </a:lnTo>
                      <a:lnTo>
                        <a:pt x="31" y="93"/>
                      </a:lnTo>
                      <a:lnTo>
                        <a:pt x="29" y="90"/>
                      </a:lnTo>
                      <a:lnTo>
                        <a:pt x="25" y="87"/>
                      </a:lnTo>
                      <a:lnTo>
                        <a:pt x="25" y="87"/>
                      </a:lnTo>
                      <a:lnTo>
                        <a:pt x="23" y="85"/>
                      </a:lnTo>
                      <a:lnTo>
                        <a:pt x="23" y="85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19" y="84"/>
                      </a:lnTo>
                      <a:lnTo>
                        <a:pt x="19" y="82"/>
                      </a:lnTo>
                      <a:lnTo>
                        <a:pt x="19" y="82"/>
                      </a:lnTo>
                      <a:lnTo>
                        <a:pt x="15" y="81"/>
                      </a:lnTo>
                      <a:lnTo>
                        <a:pt x="13" y="77"/>
                      </a:lnTo>
                      <a:lnTo>
                        <a:pt x="12" y="76"/>
                      </a:lnTo>
                      <a:lnTo>
                        <a:pt x="10" y="74"/>
                      </a:lnTo>
                      <a:lnTo>
                        <a:pt x="8" y="71"/>
                      </a:lnTo>
                      <a:lnTo>
                        <a:pt x="6" y="69"/>
                      </a:lnTo>
                      <a:lnTo>
                        <a:pt x="6" y="68"/>
                      </a:lnTo>
                      <a:lnTo>
                        <a:pt x="4" y="65"/>
                      </a:lnTo>
                      <a:lnTo>
                        <a:pt x="2" y="63"/>
                      </a:lnTo>
                      <a:lnTo>
                        <a:pt x="2" y="60"/>
                      </a:lnTo>
                      <a:lnTo>
                        <a:pt x="2" y="58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49"/>
                      </a:lnTo>
                      <a:lnTo>
                        <a:pt x="0" y="46"/>
                      </a:lnTo>
                      <a:lnTo>
                        <a:pt x="0" y="41"/>
                      </a:lnTo>
                      <a:lnTo>
                        <a:pt x="0" y="36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4"/>
                      </a:lnTo>
                      <a:lnTo>
                        <a:pt x="10" y="21"/>
                      </a:lnTo>
                      <a:lnTo>
                        <a:pt x="13" y="16"/>
                      </a:lnTo>
                      <a:lnTo>
                        <a:pt x="17" y="13"/>
                      </a:lnTo>
                      <a:lnTo>
                        <a:pt x="21" y="9"/>
                      </a:lnTo>
                      <a:lnTo>
                        <a:pt x="27" y="6"/>
                      </a:lnTo>
                      <a:lnTo>
                        <a:pt x="31" y="5"/>
                      </a:lnTo>
                      <a:lnTo>
                        <a:pt x="36" y="3"/>
                      </a:lnTo>
                      <a:lnTo>
                        <a:pt x="42" y="2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2" y="0"/>
                      </a:lnTo>
                      <a:lnTo>
                        <a:pt x="74" y="0"/>
                      </a:lnTo>
                      <a:lnTo>
                        <a:pt x="76" y="0"/>
                      </a:lnTo>
                      <a:lnTo>
                        <a:pt x="78" y="0"/>
                      </a:lnTo>
                      <a:lnTo>
                        <a:pt x="80" y="0"/>
                      </a:lnTo>
                      <a:lnTo>
                        <a:pt x="82" y="2"/>
                      </a:lnTo>
                      <a:lnTo>
                        <a:pt x="84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0" y="3"/>
                      </a:lnTo>
                      <a:lnTo>
                        <a:pt x="91" y="3"/>
                      </a:lnTo>
                      <a:lnTo>
                        <a:pt x="91" y="3"/>
                      </a:lnTo>
                      <a:lnTo>
                        <a:pt x="91" y="41"/>
                      </a:lnTo>
                      <a:lnTo>
                        <a:pt x="91" y="41"/>
                      </a:lnTo>
                      <a:lnTo>
                        <a:pt x="90" y="39"/>
                      </a:lnTo>
                      <a:lnTo>
                        <a:pt x="88" y="39"/>
                      </a:lnTo>
                      <a:lnTo>
                        <a:pt x="86" y="39"/>
                      </a:lnTo>
                      <a:lnTo>
                        <a:pt x="86" y="38"/>
                      </a:lnTo>
                      <a:lnTo>
                        <a:pt x="84" y="38"/>
                      </a:lnTo>
                      <a:lnTo>
                        <a:pt x="82" y="38"/>
                      </a:lnTo>
                      <a:lnTo>
                        <a:pt x="82" y="38"/>
                      </a:lnTo>
                      <a:lnTo>
                        <a:pt x="80" y="36"/>
                      </a:lnTo>
                      <a:lnTo>
                        <a:pt x="78" y="36"/>
                      </a:lnTo>
                      <a:lnTo>
                        <a:pt x="78" y="36"/>
                      </a:lnTo>
                      <a:lnTo>
                        <a:pt x="76" y="36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0" y="36"/>
                      </a:lnTo>
                      <a:lnTo>
                        <a:pt x="69" y="36"/>
                      </a:lnTo>
                      <a:lnTo>
                        <a:pt x="67" y="36"/>
                      </a:lnTo>
                      <a:lnTo>
                        <a:pt x="65" y="36"/>
                      </a:lnTo>
                      <a:lnTo>
                        <a:pt x="63" y="38"/>
                      </a:lnTo>
                      <a:lnTo>
                        <a:pt x="61" y="38"/>
                      </a:lnTo>
                      <a:lnTo>
                        <a:pt x="59" y="38"/>
                      </a:lnTo>
                      <a:lnTo>
                        <a:pt x="57" y="39"/>
                      </a:lnTo>
                      <a:lnTo>
                        <a:pt x="57" y="39"/>
                      </a:lnTo>
                      <a:lnTo>
                        <a:pt x="55" y="41"/>
                      </a:lnTo>
                      <a:lnTo>
                        <a:pt x="55" y="43"/>
                      </a:lnTo>
                      <a:lnTo>
                        <a:pt x="55" y="43"/>
                      </a:lnTo>
                      <a:lnTo>
                        <a:pt x="53" y="44"/>
                      </a:lnTo>
                      <a:lnTo>
                        <a:pt x="53" y="46"/>
                      </a:lnTo>
                      <a:lnTo>
                        <a:pt x="53" y="47"/>
                      </a:lnTo>
                      <a:lnTo>
                        <a:pt x="53" y="47"/>
                      </a:lnTo>
                      <a:lnTo>
                        <a:pt x="53" y="51"/>
                      </a:lnTo>
                      <a:lnTo>
                        <a:pt x="53" y="52"/>
                      </a:lnTo>
                      <a:lnTo>
                        <a:pt x="55" y="54"/>
                      </a:lnTo>
                      <a:lnTo>
                        <a:pt x="57" y="55"/>
                      </a:lnTo>
                      <a:lnTo>
                        <a:pt x="59" y="57"/>
                      </a:lnTo>
                      <a:lnTo>
                        <a:pt x="61" y="58"/>
                      </a:lnTo>
                      <a:lnTo>
                        <a:pt x="63" y="62"/>
                      </a:lnTo>
                      <a:lnTo>
                        <a:pt x="67" y="63"/>
                      </a:lnTo>
                      <a:lnTo>
                        <a:pt x="69" y="65"/>
                      </a:lnTo>
                      <a:lnTo>
                        <a:pt x="69" y="65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2" y="66"/>
                      </a:lnTo>
                      <a:lnTo>
                        <a:pt x="72" y="68"/>
                      </a:lnTo>
                      <a:lnTo>
                        <a:pt x="74" y="68"/>
                      </a:lnTo>
                      <a:lnTo>
                        <a:pt x="74" y="69"/>
                      </a:lnTo>
                      <a:lnTo>
                        <a:pt x="76" y="71"/>
                      </a:lnTo>
                      <a:lnTo>
                        <a:pt x="80" y="73"/>
                      </a:lnTo>
                      <a:lnTo>
                        <a:pt x="82" y="74"/>
                      </a:lnTo>
                      <a:lnTo>
                        <a:pt x="84" y="77"/>
                      </a:lnTo>
                      <a:lnTo>
                        <a:pt x="86" y="79"/>
                      </a:lnTo>
                      <a:lnTo>
                        <a:pt x="88" y="82"/>
                      </a:lnTo>
                      <a:lnTo>
                        <a:pt x="90" y="84"/>
                      </a:lnTo>
                      <a:lnTo>
                        <a:pt x="91" y="87"/>
                      </a:lnTo>
                      <a:lnTo>
                        <a:pt x="91" y="88"/>
                      </a:lnTo>
                      <a:lnTo>
                        <a:pt x="93" y="92"/>
                      </a:lnTo>
                      <a:lnTo>
                        <a:pt x="93" y="95"/>
                      </a:lnTo>
                      <a:lnTo>
                        <a:pt x="95" y="96"/>
                      </a:lnTo>
                      <a:lnTo>
                        <a:pt x="95" y="99"/>
                      </a:lnTo>
                      <a:lnTo>
                        <a:pt x="95" y="103"/>
                      </a:lnTo>
                      <a:lnTo>
                        <a:pt x="97" y="106"/>
                      </a:lnTo>
                      <a:lnTo>
                        <a:pt x="97" y="107"/>
                      </a:lnTo>
                      <a:lnTo>
                        <a:pt x="95" y="114"/>
                      </a:lnTo>
                      <a:lnTo>
                        <a:pt x="95" y="118"/>
                      </a:lnTo>
                      <a:lnTo>
                        <a:pt x="93" y="123"/>
                      </a:lnTo>
                      <a:lnTo>
                        <a:pt x="91" y="128"/>
                      </a:lnTo>
                      <a:lnTo>
                        <a:pt x="90" y="133"/>
                      </a:lnTo>
                      <a:lnTo>
                        <a:pt x="86" y="136"/>
                      </a:lnTo>
                      <a:lnTo>
                        <a:pt x="82" y="141"/>
                      </a:lnTo>
                      <a:lnTo>
                        <a:pt x="78" y="144"/>
                      </a:lnTo>
                      <a:lnTo>
                        <a:pt x="74" y="147"/>
                      </a:lnTo>
                      <a:lnTo>
                        <a:pt x="69" y="150"/>
                      </a:lnTo>
                      <a:lnTo>
                        <a:pt x="63" y="152"/>
                      </a:lnTo>
                      <a:lnTo>
                        <a:pt x="57" y="153"/>
                      </a:lnTo>
                      <a:lnTo>
                        <a:pt x="50" y="155"/>
                      </a:lnTo>
                      <a:lnTo>
                        <a:pt x="42" y="156"/>
                      </a:lnTo>
                      <a:lnTo>
                        <a:pt x="36" y="156"/>
                      </a:lnTo>
                      <a:lnTo>
                        <a:pt x="27" y="156"/>
                      </a:lnTo>
                      <a:lnTo>
                        <a:pt x="27" y="156"/>
                      </a:lnTo>
                      <a:lnTo>
                        <a:pt x="25" y="156"/>
                      </a:lnTo>
                      <a:lnTo>
                        <a:pt x="23" y="156"/>
                      </a:lnTo>
                      <a:lnTo>
                        <a:pt x="21" y="156"/>
                      </a:lnTo>
                      <a:lnTo>
                        <a:pt x="19" y="156"/>
                      </a:lnTo>
                      <a:lnTo>
                        <a:pt x="17" y="156"/>
                      </a:lnTo>
                      <a:lnTo>
                        <a:pt x="17" y="156"/>
                      </a:lnTo>
                      <a:lnTo>
                        <a:pt x="15" y="156"/>
                      </a:lnTo>
                      <a:lnTo>
                        <a:pt x="13" y="156"/>
                      </a:lnTo>
                      <a:lnTo>
                        <a:pt x="12" y="156"/>
                      </a:lnTo>
                      <a:lnTo>
                        <a:pt x="10" y="156"/>
                      </a:lnTo>
                      <a:lnTo>
                        <a:pt x="10" y="155"/>
                      </a:lnTo>
                      <a:lnTo>
                        <a:pt x="8" y="155"/>
                      </a:lnTo>
                      <a:lnTo>
                        <a:pt x="6" y="155"/>
                      </a:lnTo>
                      <a:lnTo>
                        <a:pt x="4" y="155"/>
                      </a:lnTo>
                      <a:lnTo>
                        <a:pt x="2" y="15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842200" y="2592360"/>
                  <a:ext cx="691200" cy="1943280"/>
                </a:xfrm>
                <a:custGeom>
                  <a:avLst/>
                  <a:gdLst/>
                  <a:ahLst/>
                  <a:rect l="l" t="t" r="r" b="b"/>
                  <a:pathLst>
                    <a:path w="467" h="1224">
                      <a:moveTo>
                        <a:pt x="123" y="985"/>
                      </a:moveTo>
                      <a:lnTo>
                        <a:pt x="123" y="786"/>
                      </a:lnTo>
                      <a:lnTo>
                        <a:pt x="123" y="780"/>
                      </a:lnTo>
                      <a:lnTo>
                        <a:pt x="127" y="761"/>
                      </a:lnTo>
                      <a:lnTo>
                        <a:pt x="135" y="745"/>
                      </a:lnTo>
                      <a:lnTo>
                        <a:pt x="139" y="736"/>
                      </a:lnTo>
                      <a:lnTo>
                        <a:pt x="146" y="723"/>
                      </a:lnTo>
                      <a:lnTo>
                        <a:pt x="154" y="725"/>
                      </a:lnTo>
                      <a:lnTo>
                        <a:pt x="165" y="725"/>
                      </a:lnTo>
                      <a:lnTo>
                        <a:pt x="177" y="719"/>
                      </a:lnTo>
                      <a:lnTo>
                        <a:pt x="182" y="725"/>
                      </a:lnTo>
                      <a:lnTo>
                        <a:pt x="186" y="745"/>
                      </a:lnTo>
                      <a:lnTo>
                        <a:pt x="198" y="786"/>
                      </a:lnTo>
                      <a:lnTo>
                        <a:pt x="201" y="802"/>
                      </a:lnTo>
                      <a:lnTo>
                        <a:pt x="209" y="829"/>
                      </a:lnTo>
                      <a:lnTo>
                        <a:pt x="205" y="842"/>
                      </a:lnTo>
                      <a:lnTo>
                        <a:pt x="201" y="864"/>
                      </a:lnTo>
                      <a:lnTo>
                        <a:pt x="190" y="886"/>
                      </a:lnTo>
                      <a:lnTo>
                        <a:pt x="190" y="889"/>
                      </a:lnTo>
                      <a:lnTo>
                        <a:pt x="186" y="889"/>
                      </a:lnTo>
                      <a:lnTo>
                        <a:pt x="177" y="876"/>
                      </a:lnTo>
                      <a:lnTo>
                        <a:pt x="162" y="867"/>
                      </a:lnTo>
                      <a:lnTo>
                        <a:pt x="143" y="867"/>
                      </a:lnTo>
                      <a:lnTo>
                        <a:pt x="143" y="845"/>
                      </a:lnTo>
                      <a:lnTo>
                        <a:pt x="135" y="835"/>
                      </a:lnTo>
                      <a:lnTo>
                        <a:pt x="127" y="829"/>
                      </a:lnTo>
                      <a:lnTo>
                        <a:pt x="127" y="805"/>
                      </a:lnTo>
                      <a:lnTo>
                        <a:pt x="123" y="786"/>
                      </a:lnTo>
                      <a:lnTo>
                        <a:pt x="123" y="985"/>
                      </a:lnTo>
                      <a:lnTo>
                        <a:pt x="127" y="988"/>
                      </a:lnTo>
                      <a:lnTo>
                        <a:pt x="123" y="998"/>
                      </a:lnTo>
                      <a:lnTo>
                        <a:pt x="93" y="1034"/>
                      </a:lnTo>
                      <a:lnTo>
                        <a:pt x="78" y="1047"/>
                      </a:lnTo>
                      <a:lnTo>
                        <a:pt x="70" y="1056"/>
                      </a:lnTo>
                      <a:lnTo>
                        <a:pt x="70" y="1066"/>
                      </a:lnTo>
                      <a:lnTo>
                        <a:pt x="70" y="1072"/>
                      </a:lnTo>
                      <a:lnTo>
                        <a:pt x="78" y="1088"/>
                      </a:lnTo>
                      <a:lnTo>
                        <a:pt x="89" y="1101"/>
                      </a:lnTo>
                      <a:lnTo>
                        <a:pt x="120" y="1121"/>
                      </a:lnTo>
                      <a:lnTo>
                        <a:pt x="158" y="1137"/>
                      </a:lnTo>
                      <a:lnTo>
                        <a:pt x="220" y="1156"/>
                      </a:lnTo>
                      <a:lnTo>
                        <a:pt x="270" y="1168"/>
                      </a:lnTo>
                      <a:lnTo>
                        <a:pt x="302" y="1184"/>
                      </a:lnTo>
                      <a:lnTo>
                        <a:pt x="329" y="1198"/>
                      </a:lnTo>
                      <a:lnTo>
                        <a:pt x="371" y="1208"/>
                      </a:lnTo>
                      <a:lnTo>
                        <a:pt x="426" y="1217"/>
                      </a:lnTo>
                      <a:lnTo>
                        <a:pt x="437" y="1217"/>
                      </a:lnTo>
                      <a:lnTo>
                        <a:pt x="467" y="1224"/>
                      </a:lnTo>
                      <a:lnTo>
                        <a:pt x="467" y="0"/>
                      </a:lnTo>
                      <a:lnTo>
                        <a:pt x="441" y="3"/>
                      </a:lnTo>
                      <a:lnTo>
                        <a:pt x="374" y="7"/>
                      </a:lnTo>
                      <a:lnTo>
                        <a:pt x="336" y="13"/>
                      </a:lnTo>
                      <a:lnTo>
                        <a:pt x="302" y="22"/>
                      </a:lnTo>
                      <a:lnTo>
                        <a:pt x="247" y="44"/>
                      </a:lnTo>
                      <a:lnTo>
                        <a:pt x="209" y="60"/>
                      </a:lnTo>
                      <a:lnTo>
                        <a:pt x="175" y="87"/>
                      </a:lnTo>
                      <a:lnTo>
                        <a:pt x="146" y="112"/>
                      </a:lnTo>
                      <a:lnTo>
                        <a:pt x="135" y="131"/>
                      </a:lnTo>
                      <a:lnTo>
                        <a:pt x="135" y="147"/>
                      </a:lnTo>
                      <a:lnTo>
                        <a:pt x="131" y="157"/>
                      </a:lnTo>
                      <a:lnTo>
                        <a:pt x="123" y="166"/>
                      </a:lnTo>
                      <a:lnTo>
                        <a:pt x="78" y="202"/>
                      </a:lnTo>
                      <a:lnTo>
                        <a:pt x="65" y="218"/>
                      </a:lnTo>
                      <a:lnTo>
                        <a:pt x="46" y="253"/>
                      </a:lnTo>
                      <a:lnTo>
                        <a:pt x="38" y="280"/>
                      </a:lnTo>
                      <a:lnTo>
                        <a:pt x="30" y="308"/>
                      </a:lnTo>
                      <a:lnTo>
                        <a:pt x="27" y="327"/>
                      </a:lnTo>
                      <a:lnTo>
                        <a:pt x="19" y="337"/>
                      </a:lnTo>
                      <a:lnTo>
                        <a:pt x="19" y="352"/>
                      </a:lnTo>
                      <a:lnTo>
                        <a:pt x="11" y="382"/>
                      </a:lnTo>
                      <a:lnTo>
                        <a:pt x="11" y="392"/>
                      </a:lnTo>
                      <a:lnTo>
                        <a:pt x="8" y="408"/>
                      </a:lnTo>
                      <a:lnTo>
                        <a:pt x="8" y="414"/>
                      </a:lnTo>
                      <a:lnTo>
                        <a:pt x="4" y="442"/>
                      </a:lnTo>
                      <a:lnTo>
                        <a:pt x="0" y="460"/>
                      </a:lnTo>
                      <a:lnTo>
                        <a:pt x="4" y="494"/>
                      </a:lnTo>
                      <a:lnTo>
                        <a:pt x="8" y="526"/>
                      </a:lnTo>
                      <a:lnTo>
                        <a:pt x="8" y="537"/>
                      </a:lnTo>
                      <a:lnTo>
                        <a:pt x="8" y="559"/>
                      </a:lnTo>
                      <a:lnTo>
                        <a:pt x="8" y="594"/>
                      </a:lnTo>
                      <a:lnTo>
                        <a:pt x="4" y="635"/>
                      </a:lnTo>
                      <a:lnTo>
                        <a:pt x="4" y="668"/>
                      </a:lnTo>
                      <a:lnTo>
                        <a:pt x="8" y="681"/>
                      </a:lnTo>
                      <a:lnTo>
                        <a:pt x="8" y="693"/>
                      </a:lnTo>
                      <a:lnTo>
                        <a:pt x="4" y="723"/>
                      </a:lnTo>
                      <a:lnTo>
                        <a:pt x="4" y="742"/>
                      </a:lnTo>
                      <a:lnTo>
                        <a:pt x="8" y="752"/>
                      </a:lnTo>
                      <a:lnTo>
                        <a:pt x="27" y="780"/>
                      </a:lnTo>
                      <a:lnTo>
                        <a:pt x="27" y="793"/>
                      </a:lnTo>
                      <a:lnTo>
                        <a:pt x="27" y="826"/>
                      </a:lnTo>
                      <a:lnTo>
                        <a:pt x="27" y="835"/>
                      </a:lnTo>
                      <a:lnTo>
                        <a:pt x="30" y="851"/>
                      </a:lnTo>
                      <a:lnTo>
                        <a:pt x="34" y="864"/>
                      </a:lnTo>
                      <a:lnTo>
                        <a:pt x="49" y="880"/>
                      </a:lnTo>
                      <a:lnTo>
                        <a:pt x="59" y="895"/>
                      </a:lnTo>
                      <a:lnTo>
                        <a:pt x="65" y="928"/>
                      </a:lnTo>
                      <a:lnTo>
                        <a:pt x="78" y="947"/>
                      </a:lnTo>
                      <a:lnTo>
                        <a:pt x="78" y="954"/>
                      </a:lnTo>
                      <a:lnTo>
                        <a:pt x="97" y="970"/>
                      </a:lnTo>
                      <a:lnTo>
                        <a:pt x="123" y="9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842200" y="2592360"/>
                  <a:ext cx="691200" cy="1943280"/>
                </a:xfrm>
                <a:custGeom>
                  <a:avLst/>
                  <a:gdLst/>
                  <a:ahLst/>
                  <a:rect l="l" t="t" r="r" b="b"/>
                  <a:pathLst>
                    <a:path w="467" h="1224">
                      <a:moveTo>
                        <a:pt x="123" y="985"/>
                      </a:moveTo>
                      <a:lnTo>
                        <a:pt x="123" y="786"/>
                      </a:lnTo>
                      <a:lnTo>
                        <a:pt x="123" y="780"/>
                      </a:lnTo>
                      <a:lnTo>
                        <a:pt x="127" y="761"/>
                      </a:lnTo>
                      <a:lnTo>
                        <a:pt x="135" y="745"/>
                      </a:lnTo>
                      <a:lnTo>
                        <a:pt x="139" y="736"/>
                      </a:lnTo>
                      <a:lnTo>
                        <a:pt x="146" y="723"/>
                      </a:lnTo>
                      <a:lnTo>
                        <a:pt x="154" y="725"/>
                      </a:lnTo>
                      <a:lnTo>
                        <a:pt x="165" y="725"/>
                      </a:lnTo>
                      <a:lnTo>
                        <a:pt x="177" y="719"/>
                      </a:lnTo>
                      <a:lnTo>
                        <a:pt x="182" y="725"/>
                      </a:lnTo>
                      <a:lnTo>
                        <a:pt x="186" y="745"/>
                      </a:lnTo>
                      <a:lnTo>
                        <a:pt x="198" y="786"/>
                      </a:lnTo>
                      <a:lnTo>
                        <a:pt x="201" y="802"/>
                      </a:lnTo>
                      <a:lnTo>
                        <a:pt x="209" y="829"/>
                      </a:lnTo>
                      <a:lnTo>
                        <a:pt x="205" y="842"/>
                      </a:lnTo>
                      <a:lnTo>
                        <a:pt x="201" y="864"/>
                      </a:lnTo>
                      <a:lnTo>
                        <a:pt x="190" y="886"/>
                      </a:lnTo>
                      <a:lnTo>
                        <a:pt x="190" y="889"/>
                      </a:lnTo>
                      <a:lnTo>
                        <a:pt x="186" y="889"/>
                      </a:lnTo>
                      <a:lnTo>
                        <a:pt x="177" y="876"/>
                      </a:lnTo>
                      <a:lnTo>
                        <a:pt x="162" y="867"/>
                      </a:lnTo>
                      <a:lnTo>
                        <a:pt x="143" y="867"/>
                      </a:lnTo>
                      <a:lnTo>
                        <a:pt x="143" y="845"/>
                      </a:lnTo>
                      <a:lnTo>
                        <a:pt x="135" y="835"/>
                      </a:lnTo>
                      <a:lnTo>
                        <a:pt x="127" y="829"/>
                      </a:lnTo>
                      <a:lnTo>
                        <a:pt x="127" y="805"/>
                      </a:lnTo>
                      <a:lnTo>
                        <a:pt x="123" y="786"/>
                      </a:lnTo>
                      <a:lnTo>
                        <a:pt x="123" y="985"/>
                      </a:lnTo>
                      <a:lnTo>
                        <a:pt x="127" y="988"/>
                      </a:lnTo>
                      <a:lnTo>
                        <a:pt x="123" y="998"/>
                      </a:lnTo>
                      <a:lnTo>
                        <a:pt x="93" y="1034"/>
                      </a:lnTo>
                      <a:lnTo>
                        <a:pt x="78" y="1047"/>
                      </a:lnTo>
                      <a:lnTo>
                        <a:pt x="70" y="1056"/>
                      </a:lnTo>
                      <a:lnTo>
                        <a:pt x="70" y="1066"/>
                      </a:lnTo>
                      <a:lnTo>
                        <a:pt x="70" y="1072"/>
                      </a:lnTo>
                      <a:lnTo>
                        <a:pt x="78" y="1088"/>
                      </a:lnTo>
                      <a:lnTo>
                        <a:pt x="89" y="1101"/>
                      </a:lnTo>
                      <a:lnTo>
                        <a:pt x="120" y="1121"/>
                      </a:lnTo>
                      <a:lnTo>
                        <a:pt x="158" y="1137"/>
                      </a:lnTo>
                      <a:lnTo>
                        <a:pt x="220" y="1156"/>
                      </a:lnTo>
                      <a:lnTo>
                        <a:pt x="270" y="1168"/>
                      </a:lnTo>
                      <a:lnTo>
                        <a:pt x="302" y="1184"/>
                      </a:lnTo>
                      <a:lnTo>
                        <a:pt x="329" y="1198"/>
                      </a:lnTo>
                      <a:lnTo>
                        <a:pt x="371" y="1208"/>
                      </a:lnTo>
                      <a:lnTo>
                        <a:pt x="426" y="1217"/>
                      </a:lnTo>
                      <a:lnTo>
                        <a:pt x="437" y="1217"/>
                      </a:lnTo>
                      <a:lnTo>
                        <a:pt x="467" y="1224"/>
                      </a:lnTo>
                      <a:lnTo>
                        <a:pt x="467" y="0"/>
                      </a:lnTo>
                      <a:lnTo>
                        <a:pt x="441" y="3"/>
                      </a:lnTo>
                      <a:lnTo>
                        <a:pt x="374" y="7"/>
                      </a:lnTo>
                      <a:lnTo>
                        <a:pt x="336" y="13"/>
                      </a:lnTo>
                      <a:lnTo>
                        <a:pt x="302" y="22"/>
                      </a:lnTo>
                      <a:lnTo>
                        <a:pt x="247" y="44"/>
                      </a:lnTo>
                      <a:lnTo>
                        <a:pt x="209" y="60"/>
                      </a:lnTo>
                      <a:lnTo>
                        <a:pt x="175" y="87"/>
                      </a:lnTo>
                      <a:lnTo>
                        <a:pt x="146" y="112"/>
                      </a:lnTo>
                      <a:lnTo>
                        <a:pt x="135" y="131"/>
                      </a:lnTo>
                      <a:lnTo>
                        <a:pt x="135" y="147"/>
                      </a:lnTo>
                      <a:lnTo>
                        <a:pt x="131" y="157"/>
                      </a:lnTo>
                      <a:lnTo>
                        <a:pt x="123" y="166"/>
                      </a:lnTo>
                      <a:lnTo>
                        <a:pt x="78" y="202"/>
                      </a:lnTo>
                      <a:lnTo>
                        <a:pt x="65" y="218"/>
                      </a:lnTo>
                      <a:lnTo>
                        <a:pt x="46" y="253"/>
                      </a:lnTo>
                      <a:lnTo>
                        <a:pt x="38" y="280"/>
                      </a:lnTo>
                      <a:lnTo>
                        <a:pt x="30" y="308"/>
                      </a:lnTo>
                      <a:lnTo>
                        <a:pt x="27" y="327"/>
                      </a:lnTo>
                      <a:lnTo>
                        <a:pt x="19" y="337"/>
                      </a:lnTo>
                      <a:lnTo>
                        <a:pt x="19" y="352"/>
                      </a:lnTo>
                      <a:lnTo>
                        <a:pt x="11" y="382"/>
                      </a:lnTo>
                      <a:lnTo>
                        <a:pt x="11" y="392"/>
                      </a:lnTo>
                      <a:lnTo>
                        <a:pt x="8" y="408"/>
                      </a:lnTo>
                      <a:lnTo>
                        <a:pt x="8" y="414"/>
                      </a:lnTo>
                      <a:lnTo>
                        <a:pt x="4" y="442"/>
                      </a:lnTo>
                      <a:lnTo>
                        <a:pt x="0" y="460"/>
                      </a:lnTo>
                      <a:lnTo>
                        <a:pt x="4" y="494"/>
                      </a:lnTo>
                      <a:lnTo>
                        <a:pt x="8" y="526"/>
                      </a:lnTo>
                      <a:lnTo>
                        <a:pt x="8" y="537"/>
                      </a:lnTo>
                      <a:lnTo>
                        <a:pt x="8" y="559"/>
                      </a:lnTo>
                      <a:lnTo>
                        <a:pt x="8" y="594"/>
                      </a:lnTo>
                      <a:lnTo>
                        <a:pt x="4" y="635"/>
                      </a:lnTo>
                      <a:lnTo>
                        <a:pt x="4" y="668"/>
                      </a:lnTo>
                      <a:lnTo>
                        <a:pt x="8" y="681"/>
                      </a:lnTo>
                      <a:lnTo>
                        <a:pt x="8" y="693"/>
                      </a:lnTo>
                      <a:lnTo>
                        <a:pt x="4" y="723"/>
                      </a:lnTo>
                      <a:lnTo>
                        <a:pt x="4" y="742"/>
                      </a:lnTo>
                      <a:lnTo>
                        <a:pt x="8" y="752"/>
                      </a:lnTo>
                      <a:lnTo>
                        <a:pt x="27" y="780"/>
                      </a:lnTo>
                      <a:lnTo>
                        <a:pt x="27" y="793"/>
                      </a:lnTo>
                      <a:lnTo>
                        <a:pt x="27" y="826"/>
                      </a:lnTo>
                      <a:lnTo>
                        <a:pt x="27" y="835"/>
                      </a:lnTo>
                      <a:lnTo>
                        <a:pt x="30" y="851"/>
                      </a:lnTo>
                      <a:lnTo>
                        <a:pt x="34" y="864"/>
                      </a:lnTo>
                      <a:lnTo>
                        <a:pt x="49" y="880"/>
                      </a:lnTo>
                      <a:lnTo>
                        <a:pt x="59" y="895"/>
                      </a:lnTo>
                      <a:lnTo>
                        <a:pt x="65" y="928"/>
                      </a:lnTo>
                      <a:lnTo>
                        <a:pt x="78" y="947"/>
                      </a:lnTo>
                      <a:lnTo>
                        <a:pt x="78" y="954"/>
                      </a:lnTo>
                      <a:lnTo>
                        <a:pt x="97" y="970"/>
                      </a:lnTo>
                      <a:lnTo>
                        <a:pt x="123" y="98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533400" y="2575080"/>
                  <a:ext cx="1048320" cy="2606400"/>
                </a:xfrm>
                <a:custGeom>
                  <a:avLst/>
                  <a:gdLst/>
                  <a:ahLst/>
                  <a:rect l="l" t="t" r="r" b="b"/>
                  <a:pathLst>
                    <a:path w="708" h="1642">
                      <a:moveTo>
                        <a:pt x="0" y="11"/>
                      </a:moveTo>
                      <a:lnTo>
                        <a:pt x="56" y="0"/>
                      </a:lnTo>
                      <a:lnTo>
                        <a:pt x="113" y="0"/>
                      </a:lnTo>
                      <a:lnTo>
                        <a:pt x="183" y="11"/>
                      </a:lnTo>
                      <a:lnTo>
                        <a:pt x="213" y="18"/>
                      </a:lnTo>
                      <a:lnTo>
                        <a:pt x="268" y="33"/>
                      </a:lnTo>
                      <a:lnTo>
                        <a:pt x="329" y="55"/>
                      </a:lnTo>
                      <a:lnTo>
                        <a:pt x="371" y="71"/>
                      </a:lnTo>
                      <a:lnTo>
                        <a:pt x="415" y="93"/>
                      </a:lnTo>
                      <a:lnTo>
                        <a:pt x="453" y="123"/>
                      </a:lnTo>
                      <a:lnTo>
                        <a:pt x="487" y="152"/>
                      </a:lnTo>
                      <a:lnTo>
                        <a:pt x="516" y="185"/>
                      </a:lnTo>
                      <a:lnTo>
                        <a:pt x="538" y="216"/>
                      </a:lnTo>
                      <a:lnTo>
                        <a:pt x="554" y="248"/>
                      </a:lnTo>
                      <a:lnTo>
                        <a:pt x="561" y="267"/>
                      </a:lnTo>
                      <a:lnTo>
                        <a:pt x="565" y="280"/>
                      </a:lnTo>
                      <a:lnTo>
                        <a:pt x="565" y="288"/>
                      </a:lnTo>
                      <a:lnTo>
                        <a:pt x="569" y="303"/>
                      </a:lnTo>
                      <a:lnTo>
                        <a:pt x="588" y="366"/>
                      </a:lnTo>
                      <a:lnTo>
                        <a:pt x="609" y="434"/>
                      </a:lnTo>
                      <a:lnTo>
                        <a:pt x="612" y="467"/>
                      </a:lnTo>
                      <a:lnTo>
                        <a:pt x="620" y="518"/>
                      </a:lnTo>
                      <a:lnTo>
                        <a:pt x="616" y="543"/>
                      </a:lnTo>
                      <a:lnTo>
                        <a:pt x="609" y="576"/>
                      </a:lnTo>
                      <a:lnTo>
                        <a:pt x="609" y="580"/>
                      </a:lnTo>
                      <a:lnTo>
                        <a:pt x="599" y="605"/>
                      </a:lnTo>
                      <a:lnTo>
                        <a:pt x="580" y="643"/>
                      </a:lnTo>
                      <a:lnTo>
                        <a:pt x="576" y="654"/>
                      </a:lnTo>
                      <a:lnTo>
                        <a:pt x="573" y="657"/>
                      </a:lnTo>
                      <a:lnTo>
                        <a:pt x="573" y="666"/>
                      </a:lnTo>
                      <a:lnTo>
                        <a:pt x="557" y="692"/>
                      </a:lnTo>
                      <a:lnTo>
                        <a:pt x="550" y="714"/>
                      </a:lnTo>
                      <a:lnTo>
                        <a:pt x="546" y="739"/>
                      </a:lnTo>
                      <a:lnTo>
                        <a:pt x="546" y="747"/>
                      </a:lnTo>
                      <a:lnTo>
                        <a:pt x="538" y="785"/>
                      </a:lnTo>
                      <a:lnTo>
                        <a:pt x="531" y="807"/>
                      </a:lnTo>
                      <a:lnTo>
                        <a:pt x="519" y="843"/>
                      </a:lnTo>
                      <a:lnTo>
                        <a:pt x="516" y="853"/>
                      </a:lnTo>
                      <a:lnTo>
                        <a:pt x="483" y="887"/>
                      </a:lnTo>
                      <a:lnTo>
                        <a:pt x="476" y="897"/>
                      </a:lnTo>
                      <a:lnTo>
                        <a:pt x="468" y="909"/>
                      </a:lnTo>
                      <a:lnTo>
                        <a:pt x="476" y="924"/>
                      </a:lnTo>
                      <a:lnTo>
                        <a:pt x="481" y="930"/>
                      </a:lnTo>
                      <a:lnTo>
                        <a:pt x="481" y="952"/>
                      </a:lnTo>
                      <a:lnTo>
                        <a:pt x="472" y="968"/>
                      </a:lnTo>
                      <a:lnTo>
                        <a:pt x="481" y="974"/>
                      </a:lnTo>
                      <a:lnTo>
                        <a:pt x="487" y="981"/>
                      </a:lnTo>
                      <a:lnTo>
                        <a:pt x="500" y="996"/>
                      </a:lnTo>
                      <a:lnTo>
                        <a:pt x="504" y="1018"/>
                      </a:lnTo>
                      <a:lnTo>
                        <a:pt x="500" y="1033"/>
                      </a:lnTo>
                      <a:lnTo>
                        <a:pt x="519" y="1052"/>
                      </a:lnTo>
                      <a:lnTo>
                        <a:pt x="523" y="1067"/>
                      </a:lnTo>
                      <a:lnTo>
                        <a:pt x="523" y="1083"/>
                      </a:lnTo>
                      <a:lnTo>
                        <a:pt x="523" y="1086"/>
                      </a:lnTo>
                      <a:lnTo>
                        <a:pt x="538" y="1099"/>
                      </a:lnTo>
                      <a:lnTo>
                        <a:pt x="546" y="1110"/>
                      </a:lnTo>
                      <a:lnTo>
                        <a:pt x="542" y="1126"/>
                      </a:lnTo>
                      <a:lnTo>
                        <a:pt x="542" y="1132"/>
                      </a:lnTo>
                      <a:lnTo>
                        <a:pt x="542" y="1135"/>
                      </a:lnTo>
                      <a:lnTo>
                        <a:pt x="557" y="1154"/>
                      </a:lnTo>
                      <a:lnTo>
                        <a:pt x="561" y="1164"/>
                      </a:lnTo>
                      <a:lnTo>
                        <a:pt x="557" y="1179"/>
                      </a:lnTo>
                      <a:lnTo>
                        <a:pt x="561" y="1183"/>
                      </a:lnTo>
                      <a:lnTo>
                        <a:pt x="569" y="1189"/>
                      </a:lnTo>
                      <a:lnTo>
                        <a:pt x="576" y="1203"/>
                      </a:lnTo>
                      <a:lnTo>
                        <a:pt x="580" y="1219"/>
                      </a:lnTo>
                      <a:lnTo>
                        <a:pt x="576" y="1232"/>
                      </a:lnTo>
                      <a:lnTo>
                        <a:pt x="569" y="1241"/>
                      </a:lnTo>
                      <a:lnTo>
                        <a:pt x="580" y="1250"/>
                      </a:lnTo>
                      <a:lnTo>
                        <a:pt x="580" y="1257"/>
                      </a:lnTo>
                      <a:lnTo>
                        <a:pt x="588" y="1279"/>
                      </a:lnTo>
                      <a:lnTo>
                        <a:pt x="643" y="1366"/>
                      </a:lnTo>
                      <a:lnTo>
                        <a:pt x="662" y="1399"/>
                      </a:lnTo>
                      <a:lnTo>
                        <a:pt x="666" y="1411"/>
                      </a:lnTo>
                      <a:lnTo>
                        <a:pt x="673" y="1424"/>
                      </a:lnTo>
                      <a:lnTo>
                        <a:pt x="677" y="1434"/>
                      </a:lnTo>
                      <a:lnTo>
                        <a:pt x="685" y="1449"/>
                      </a:lnTo>
                      <a:lnTo>
                        <a:pt x="692" y="1479"/>
                      </a:lnTo>
                      <a:lnTo>
                        <a:pt x="692" y="1511"/>
                      </a:lnTo>
                      <a:lnTo>
                        <a:pt x="696" y="1533"/>
                      </a:lnTo>
                      <a:lnTo>
                        <a:pt x="700" y="1542"/>
                      </a:lnTo>
                      <a:lnTo>
                        <a:pt x="706" y="1552"/>
                      </a:lnTo>
                      <a:lnTo>
                        <a:pt x="708" y="1572"/>
                      </a:lnTo>
                      <a:lnTo>
                        <a:pt x="708" y="1595"/>
                      </a:lnTo>
                      <a:lnTo>
                        <a:pt x="696" y="1610"/>
                      </a:lnTo>
                      <a:lnTo>
                        <a:pt x="688" y="1623"/>
                      </a:lnTo>
                      <a:lnTo>
                        <a:pt x="685" y="1632"/>
                      </a:lnTo>
                      <a:lnTo>
                        <a:pt x="677" y="1639"/>
                      </a:lnTo>
                      <a:lnTo>
                        <a:pt x="669" y="1642"/>
                      </a:lnTo>
                      <a:lnTo>
                        <a:pt x="654" y="1642"/>
                      </a:lnTo>
                      <a:lnTo>
                        <a:pt x="643" y="1636"/>
                      </a:lnTo>
                      <a:lnTo>
                        <a:pt x="624" y="1617"/>
                      </a:lnTo>
                      <a:lnTo>
                        <a:pt x="616" y="1604"/>
                      </a:lnTo>
                      <a:lnTo>
                        <a:pt x="612" y="1591"/>
                      </a:lnTo>
                      <a:lnTo>
                        <a:pt x="612" y="1572"/>
                      </a:lnTo>
                      <a:lnTo>
                        <a:pt x="616" y="1552"/>
                      </a:lnTo>
                      <a:lnTo>
                        <a:pt x="612" y="1527"/>
                      </a:lnTo>
                      <a:lnTo>
                        <a:pt x="599" y="1501"/>
                      </a:lnTo>
                      <a:lnTo>
                        <a:pt x="576" y="1459"/>
                      </a:lnTo>
                      <a:lnTo>
                        <a:pt x="569" y="1440"/>
                      </a:lnTo>
                      <a:lnTo>
                        <a:pt x="554" y="1411"/>
                      </a:lnTo>
                      <a:lnTo>
                        <a:pt x="546" y="1386"/>
                      </a:lnTo>
                      <a:lnTo>
                        <a:pt x="538" y="1325"/>
                      </a:lnTo>
                      <a:lnTo>
                        <a:pt x="535" y="1273"/>
                      </a:lnTo>
                      <a:lnTo>
                        <a:pt x="531" y="1263"/>
                      </a:lnTo>
                      <a:lnTo>
                        <a:pt x="527" y="1257"/>
                      </a:lnTo>
                      <a:lnTo>
                        <a:pt x="527" y="1244"/>
                      </a:lnTo>
                      <a:lnTo>
                        <a:pt x="523" y="1241"/>
                      </a:lnTo>
                      <a:lnTo>
                        <a:pt x="512" y="1232"/>
                      </a:lnTo>
                      <a:lnTo>
                        <a:pt x="504" y="1205"/>
                      </a:lnTo>
                      <a:lnTo>
                        <a:pt x="500" y="1203"/>
                      </a:lnTo>
                      <a:lnTo>
                        <a:pt x="493" y="1203"/>
                      </a:lnTo>
                      <a:lnTo>
                        <a:pt x="476" y="1186"/>
                      </a:lnTo>
                      <a:lnTo>
                        <a:pt x="476" y="1176"/>
                      </a:lnTo>
                      <a:lnTo>
                        <a:pt x="472" y="1164"/>
                      </a:lnTo>
                      <a:lnTo>
                        <a:pt x="472" y="1160"/>
                      </a:lnTo>
                      <a:lnTo>
                        <a:pt x="464" y="1157"/>
                      </a:lnTo>
                      <a:lnTo>
                        <a:pt x="449" y="1142"/>
                      </a:lnTo>
                      <a:lnTo>
                        <a:pt x="445" y="1135"/>
                      </a:lnTo>
                      <a:lnTo>
                        <a:pt x="445" y="1116"/>
                      </a:lnTo>
                      <a:lnTo>
                        <a:pt x="441" y="1107"/>
                      </a:lnTo>
                      <a:lnTo>
                        <a:pt x="426" y="1096"/>
                      </a:lnTo>
                      <a:lnTo>
                        <a:pt x="419" y="1080"/>
                      </a:lnTo>
                      <a:lnTo>
                        <a:pt x="419" y="1048"/>
                      </a:lnTo>
                      <a:lnTo>
                        <a:pt x="396" y="1018"/>
                      </a:lnTo>
                      <a:lnTo>
                        <a:pt x="388" y="999"/>
                      </a:lnTo>
                      <a:lnTo>
                        <a:pt x="392" y="984"/>
                      </a:lnTo>
                      <a:lnTo>
                        <a:pt x="388" y="984"/>
                      </a:lnTo>
                      <a:lnTo>
                        <a:pt x="287" y="1045"/>
                      </a:lnTo>
                      <a:lnTo>
                        <a:pt x="263" y="1055"/>
                      </a:lnTo>
                      <a:lnTo>
                        <a:pt x="225" y="1070"/>
                      </a:lnTo>
                      <a:lnTo>
                        <a:pt x="221" y="1070"/>
                      </a:lnTo>
                      <a:lnTo>
                        <a:pt x="217" y="1077"/>
                      </a:lnTo>
                      <a:lnTo>
                        <a:pt x="194" y="1077"/>
                      </a:lnTo>
                      <a:lnTo>
                        <a:pt x="156" y="1080"/>
                      </a:lnTo>
                      <a:lnTo>
                        <a:pt x="128" y="1080"/>
                      </a:lnTo>
                      <a:lnTo>
                        <a:pt x="124" y="1080"/>
                      </a:lnTo>
                      <a:lnTo>
                        <a:pt x="109" y="1093"/>
                      </a:lnTo>
                      <a:lnTo>
                        <a:pt x="94" y="1116"/>
                      </a:lnTo>
                      <a:lnTo>
                        <a:pt x="86" y="1145"/>
                      </a:lnTo>
                      <a:lnTo>
                        <a:pt x="86" y="1164"/>
                      </a:lnTo>
                      <a:lnTo>
                        <a:pt x="90" y="1176"/>
                      </a:lnTo>
                      <a:lnTo>
                        <a:pt x="97" y="1186"/>
                      </a:lnTo>
                      <a:lnTo>
                        <a:pt x="120" y="1195"/>
                      </a:lnTo>
                      <a:lnTo>
                        <a:pt x="179" y="1228"/>
                      </a:lnTo>
                      <a:lnTo>
                        <a:pt x="232" y="1266"/>
                      </a:lnTo>
                      <a:lnTo>
                        <a:pt x="255" y="1293"/>
                      </a:lnTo>
                      <a:lnTo>
                        <a:pt x="299" y="1344"/>
                      </a:lnTo>
                      <a:lnTo>
                        <a:pt x="314" y="1375"/>
                      </a:lnTo>
                      <a:lnTo>
                        <a:pt x="318" y="1408"/>
                      </a:lnTo>
                      <a:lnTo>
                        <a:pt x="314" y="1424"/>
                      </a:lnTo>
                      <a:lnTo>
                        <a:pt x="310" y="1434"/>
                      </a:lnTo>
                      <a:lnTo>
                        <a:pt x="295" y="1440"/>
                      </a:lnTo>
                      <a:lnTo>
                        <a:pt x="287" y="1434"/>
                      </a:lnTo>
                      <a:lnTo>
                        <a:pt x="291" y="1427"/>
                      </a:lnTo>
                      <a:lnTo>
                        <a:pt x="284" y="1399"/>
                      </a:lnTo>
                      <a:lnTo>
                        <a:pt x="268" y="1369"/>
                      </a:lnTo>
                      <a:lnTo>
                        <a:pt x="255" y="1347"/>
                      </a:lnTo>
                      <a:lnTo>
                        <a:pt x="225" y="1312"/>
                      </a:lnTo>
                      <a:lnTo>
                        <a:pt x="194" y="1282"/>
                      </a:lnTo>
                      <a:lnTo>
                        <a:pt x="151" y="1254"/>
                      </a:lnTo>
                      <a:lnTo>
                        <a:pt x="109" y="1228"/>
                      </a:lnTo>
                      <a:lnTo>
                        <a:pt x="120" y="1244"/>
                      </a:lnTo>
                      <a:lnTo>
                        <a:pt x="139" y="1273"/>
                      </a:lnTo>
                      <a:lnTo>
                        <a:pt x="168" y="1303"/>
                      </a:lnTo>
                      <a:lnTo>
                        <a:pt x="168" y="1309"/>
                      </a:lnTo>
                      <a:lnTo>
                        <a:pt x="156" y="1309"/>
                      </a:lnTo>
                      <a:lnTo>
                        <a:pt x="128" y="1293"/>
                      </a:lnTo>
                      <a:lnTo>
                        <a:pt x="97" y="1273"/>
                      </a:lnTo>
                      <a:lnTo>
                        <a:pt x="52" y="1247"/>
                      </a:lnTo>
                      <a:lnTo>
                        <a:pt x="0" y="1235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533400" y="2575080"/>
                  <a:ext cx="1048320" cy="2606400"/>
                </a:xfrm>
                <a:custGeom>
                  <a:avLst/>
                  <a:gdLst/>
                  <a:ahLst/>
                  <a:rect l="l" t="t" r="r" b="b"/>
                  <a:pathLst>
                    <a:path w="708" h="1642">
                      <a:moveTo>
                        <a:pt x="0" y="11"/>
                      </a:moveTo>
                      <a:lnTo>
                        <a:pt x="56" y="0"/>
                      </a:lnTo>
                      <a:lnTo>
                        <a:pt x="113" y="0"/>
                      </a:lnTo>
                      <a:lnTo>
                        <a:pt x="183" y="11"/>
                      </a:lnTo>
                      <a:lnTo>
                        <a:pt x="213" y="18"/>
                      </a:lnTo>
                      <a:lnTo>
                        <a:pt x="268" y="33"/>
                      </a:lnTo>
                      <a:lnTo>
                        <a:pt x="329" y="55"/>
                      </a:lnTo>
                      <a:lnTo>
                        <a:pt x="371" y="71"/>
                      </a:lnTo>
                      <a:lnTo>
                        <a:pt x="415" y="93"/>
                      </a:lnTo>
                      <a:lnTo>
                        <a:pt x="453" y="123"/>
                      </a:lnTo>
                      <a:lnTo>
                        <a:pt x="487" y="152"/>
                      </a:lnTo>
                      <a:lnTo>
                        <a:pt x="516" y="185"/>
                      </a:lnTo>
                      <a:lnTo>
                        <a:pt x="538" y="216"/>
                      </a:lnTo>
                      <a:lnTo>
                        <a:pt x="554" y="248"/>
                      </a:lnTo>
                      <a:lnTo>
                        <a:pt x="561" y="267"/>
                      </a:lnTo>
                      <a:lnTo>
                        <a:pt x="565" y="280"/>
                      </a:lnTo>
                      <a:lnTo>
                        <a:pt x="565" y="288"/>
                      </a:lnTo>
                      <a:lnTo>
                        <a:pt x="569" y="303"/>
                      </a:lnTo>
                      <a:lnTo>
                        <a:pt x="588" y="366"/>
                      </a:lnTo>
                      <a:lnTo>
                        <a:pt x="609" y="434"/>
                      </a:lnTo>
                      <a:lnTo>
                        <a:pt x="612" y="467"/>
                      </a:lnTo>
                      <a:lnTo>
                        <a:pt x="620" y="518"/>
                      </a:lnTo>
                      <a:lnTo>
                        <a:pt x="616" y="543"/>
                      </a:lnTo>
                      <a:lnTo>
                        <a:pt x="609" y="576"/>
                      </a:lnTo>
                      <a:lnTo>
                        <a:pt x="609" y="580"/>
                      </a:lnTo>
                      <a:lnTo>
                        <a:pt x="599" y="605"/>
                      </a:lnTo>
                      <a:lnTo>
                        <a:pt x="580" y="643"/>
                      </a:lnTo>
                      <a:lnTo>
                        <a:pt x="576" y="654"/>
                      </a:lnTo>
                      <a:lnTo>
                        <a:pt x="573" y="657"/>
                      </a:lnTo>
                      <a:lnTo>
                        <a:pt x="573" y="666"/>
                      </a:lnTo>
                      <a:lnTo>
                        <a:pt x="557" y="692"/>
                      </a:lnTo>
                      <a:lnTo>
                        <a:pt x="550" y="714"/>
                      </a:lnTo>
                      <a:lnTo>
                        <a:pt x="546" y="739"/>
                      </a:lnTo>
                      <a:lnTo>
                        <a:pt x="546" y="747"/>
                      </a:lnTo>
                      <a:lnTo>
                        <a:pt x="538" y="785"/>
                      </a:lnTo>
                      <a:lnTo>
                        <a:pt x="531" y="807"/>
                      </a:lnTo>
                      <a:lnTo>
                        <a:pt x="519" y="843"/>
                      </a:lnTo>
                      <a:lnTo>
                        <a:pt x="516" y="853"/>
                      </a:lnTo>
                      <a:lnTo>
                        <a:pt x="483" y="887"/>
                      </a:lnTo>
                      <a:lnTo>
                        <a:pt x="476" y="897"/>
                      </a:lnTo>
                      <a:lnTo>
                        <a:pt x="468" y="909"/>
                      </a:lnTo>
                      <a:lnTo>
                        <a:pt x="476" y="924"/>
                      </a:lnTo>
                      <a:lnTo>
                        <a:pt x="481" y="930"/>
                      </a:lnTo>
                      <a:lnTo>
                        <a:pt x="481" y="952"/>
                      </a:lnTo>
                      <a:lnTo>
                        <a:pt x="472" y="968"/>
                      </a:lnTo>
                      <a:lnTo>
                        <a:pt x="481" y="974"/>
                      </a:lnTo>
                      <a:lnTo>
                        <a:pt x="487" y="981"/>
                      </a:lnTo>
                      <a:lnTo>
                        <a:pt x="500" y="996"/>
                      </a:lnTo>
                      <a:lnTo>
                        <a:pt x="504" y="1018"/>
                      </a:lnTo>
                      <a:lnTo>
                        <a:pt x="500" y="1033"/>
                      </a:lnTo>
                      <a:lnTo>
                        <a:pt x="519" y="1052"/>
                      </a:lnTo>
                      <a:lnTo>
                        <a:pt x="523" y="1067"/>
                      </a:lnTo>
                      <a:lnTo>
                        <a:pt x="523" y="1083"/>
                      </a:lnTo>
                      <a:lnTo>
                        <a:pt x="523" y="1086"/>
                      </a:lnTo>
                      <a:lnTo>
                        <a:pt x="538" y="1099"/>
                      </a:lnTo>
                      <a:lnTo>
                        <a:pt x="546" y="1110"/>
                      </a:lnTo>
                      <a:lnTo>
                        <a:pt x="542" y="1126"/>
                      </a:lnTo>
                      <a:lnTo>
                        <a:pt x="542" y="1132"/>
                      </a:lnTo>
                      <a:lnTo>
                        <a:pt x="542" y="1135"/>
                      </a:lnTo>
                      <a:lnTo>
                        <a:pt x="557" y="1154"/>
                      </a:lnTo>
                      <a:lnTo>
                        <a:pt x="561" y="1164"/>
                      </a:lnTo>
                      <a:lnTo>
                        <a:pt x="557" y="1179"/>
                      </a:lnTo>
                      <a:lnTo>
                        <a:pt x="561" y="1183"/>
                      </a:lnTo>
                      <a:lnTo>
                        <a:pt x="569" y="1189"/>
                      </a:lnTo>
                      <a:lnTo>
                        <a:pt x="576" y="1203"/>
                      </a:lnTo>
                      <a:lnTo>
                        <a:pt x="580" y="1219"/>
                      </a:lnTo>
                      <a:lnTo>
                        <a:pt x="576" y="1232"/>
                      </a:lnTo>
                      <a:lnTo>
                        <a:pt x="569" y="1241"/>
                      </a:lnTo>
                      <a:lnTo>
                        <a:pt x="580" y="1250"/>
                      </a:lnTo>
                      <a:lnTo>
                        <a:pt x="580" y="1257"/>
                      </a:lnTo>
                      <a:lnTo>
                        <a:pt x="588" y="1279"/>
                      </a:lnTo>
                      <a:lnTo>
                        <a:pt x="643" y="1366"/>
                      </a:lnTo>
                      <a:lnTo>
                        <a:pt x="662" y="1399"/>
                      </a:lnTo>
                      <a:lnTo>
                        <a:pt x="666" y="1411"/>
                      </a:lnTo>
                      <a:lnTo>
                        <a:pt x="673" y="1424"/>
                      </a:lnTo>
                      <a:lnTo>
                        <a:pt x="677" y="1434"/>
                      </a:lnTo>
                      <a:lnTo>
                        <a:pt x="685" y="1449"/>
                      </a:lnTo>
                      <a:lnTo>
                        <a:pt x="692" y="1479"/>
                      </a:lnTo>
                      <a:lnTo>
                        <a:pt x="692" y="1511"/>
                      </a:lnTo>
                      <a:lnTo>
                        <a:pt x="696" y="1533"/>
                      </a:lnTo>
                      <a:lnTo>
                        <a:pt x="700" y="1542"/>
                      </a:lnTo>
                      <a:lnTo>
                        <a:pt x="706" y="1552"/>
                      </a:lnTo>
                      <a:lnTo>
                        <a:pt x="708" y="1572"/>
                      </a:lnTo>
                      <a:lnTo>
                        <a:pt x="708" y="1595"/>
                      </a:lnTo>
                      <a:lnTo>
                        <a:pt x="696" y="1610"/>
                      </a:lnTo>
                      <a:lnTo>
                        <a:pt x="688" y="1623"/>
                      </a:lnTo>
                      <a:lnTo>
                        <a:pt x="685" y="1632"/>
                      </a:lnTo>
                      <a:lnTo>
                        <a:pt x="677" y="1639"/>
                      </a:lnTo>
                      <a:lnTo>
                        <a:pt x="669" y="1642"/>
                      </a:lnTo>
                      <a:lnTo>
                        <a:pt x="654" y="1642"/>
                      </a:lnTo>
                      <a:lnTo>
                        <a:pt x="643" y="1636"/>
                      </a:lnTo>
                      <a:lnTo>
                        <a:pt x="624" y="1617"/>
                      </a:lnTo>
                      <a:lnTo>
                        <a:pt x="616" y="1604"/>
                      </a:lnTo>
                      <a:lnTo>
                        <a:pt x="612" y="1591"/>
                      </a:lnTo>
                      <a:lnTo>
                        <a:pt x="612" y="1572"/>
                      </a:lnTo>
                      <a:lnTo>
                        <a:pt x="616" y="1552"/>
                      </a:lnTo>
                      <a:lnTo>
                        <a:pt x="612" y="1527"/>
                      </a:lnTo>
                      <a:lnTo>
                        <a:pt x="599" y="1501"/>
                      </a:lnTo>
                      <a:lnTo>
                        <a:pt x="576" y="1459"/>
                      </a:lnTo>
                      <a:lnTo>
                        <a:pt x="569" y="1440"/>
                      </a:lnTo>
                      <a:lnTo>
                        <a:pt x="554" y="1411"/>
                      </a:lnTo>
                      <a:lnTo>
                        <a:pt x="546" y="1386"/>
                      </a:lnTo>
                      <a:lnTo>
                        <a:pt x="538" y="1325"/>
                      </a:lnTo>
                      <a:lnTo>
                        <a:pt x="535" y="1273"/>
                      </a:lnTo>
                      <a:lnTo>
                        <a:pt x="531" y="1263"/>
                      </a:lnTo>
                      <a:lnTo>
                        <a:pt x="527" y="1257"/>
                      </a:lnTo>
                      <a:lnTo>
                        <a:pt x="527" y="1244"/>
                      </a:lnTo>
                      <a:lnTo>
                        <a:pt x="523" y="1241"/>
                      </a:lnTo>
                      <a:lnTo>
                        <a:pt x="512" y="1232"/>
                      </a:lnTo>
                      <a:lnTo>
                        <a:pt x="504" y="1205"/>
                      </a:lnTo>
                      <a:lnTo>
                        <a:pt x="500" y="1203"/>
                      </a:lnTo>
                      <a:lnTo>
                        <a:pt x="493" y="1203"/>
                      </a:lnTo>
                      <a:lnTo>
                        <a:pt x="476" y="1186"/>
                      </a:lnTo>
                      <a:lnTo>
                        <a:pt x="476" y="1176"/>
                      </a:lnTo>
                      <a:lnTo>
                        <a:pt x="472" y="1164"/>
                      </a:lnTo>
                      <a:lnTo>
                        <a:pt x="472" y="1160"/>
                      </a:lnTo>
                      <a:lnTo>
                        <a:pt x="464" y="1157"/>
                      </a:lnTo>
                      <a:lnTo>
                        <a:pt x="449" y="1142"/>
                      </a:lnTo>
                      <a:lnTo>
                        <a:pt x="445" y="1135"/>
                      </a:lnTo>
                      <a:lnTo>
                        <a:pt x="445" y="1116"/>
                      </a:lnTo>
                      <a:lnTo>
                        <a:pt x="441" y="1107"/>
                      </a:lnTo>
                      <a:lnTo>
                        <a:pt x="426" y="1096"/>
                      </a:lnTo>
                      <a:lnTo>
                        <a:pt x="419" y="1080"/>
                      </a:lnTo>
                      <a:lnTo>
                        <a:pt x="419" y="1048"/>
                      </a:lnTo>
                      <a:lnTo>
                        <a:pt x="396" y="1018"/>
                      </a:lnTo>
                      <a:lnTo>
                        <a:pt x="388" y="999"/>
                      </a:lnTo>
                      <a:lnTo>
                        <a:pt x="392" y="984"/>
                      </a:lnTo>
                      <a:lnTo>
                        <a:pt x="388" y="984"/>
                      </a:lnTo>
                      <a:lnTo>
                        <a:pt x="287" y="1045"/>
                      </a:lnTo>
                      <a:lnTo>
                        <a:pt x="263" y="1055"/>
                      </a:lnTo>
                      <a:lnTo>
                        <a:pt x="225" y="1070"/>
                      </a:lnTo>
                      <a:lnTo>
                        <a:pt x="221" y="1070"/>
                      </a:lnTo>
                      <a:lnTo>
                        <a:pt x="217" y="1077"/>
                      </a:lnTo>
                      <a:lnTo>
                        <a:pt x="194" y="1077"/>
                      </a:lnTo>
                      <a:lnTo>
                        <a:pt x="156" y="1080"/>
                      </a:lnTo>
                      <a:lnTo>
                        <a:pt x="128" y="1080"/>
                      </a:lnTo>
                      <a:lnTo>
                        <a:pt x="124" y="1080"/>
                      </a:lnTo>
                      <a:lnTo>
                        <a:pt x="109" y="1093"/>
                      </a:lnTo>
                      <a:lnTo>
                        <a:pt x="94" y="1116"/>
                      </a:lnTo>
                      <a:lnTo>
                        <a:pt x="86" y="1145"/>
                      </a:lnTo>
                      <a:lnTo>
                        <a:pt x="86" y="1164"/>
                      </a:lnTo>
                      <a:lnTo>
                        <a:pt x="90" y="1176"/>
                      </a:lnTo>
                      <a:lnTo>
                        <a:pt x="97" y="1186"/>
                      </a:lnTo>
                      <a:lnTo>
                        <a:pt x="120" y="1195"/>
                      </a:lnTo>
                      <a:lnTo>
                        <a:pt x="179" y="1228"/>
                      </a:lnTo>
                      <a:lnTo>
                        <a:pt x="232" y="1266"/>
                      </a:lnTo>
                      <a:lnTo>
                        <a:pt x="255" y="1293"/>
                      </a:lnTo>
                      <a:lnTo>
                        <a:pt x="299" y="1344"/>
                      </a:lnTo>
                      <a:lnTo>
                        <a:pt x="314" y="1375"/>
                      </a:lnTo>
                      <a:lnTo>
                        <a:pt x="318" y="1408"/>
                      </a:lnTo>
                      <a:lnTo>
                        <a:pt x="314" y="1424"/>
                      </a:lnTo>
                      <a:lnTo>
                        <a:pt x="310" y="1434"/>
                      </a:lnTo>
                      <a:lnTo>
                        <a:pt x="295" y="1440"/>
                      </a:lnTo>
                      <a:lnTo>
                        <a:pt x="287" y="1434"/>
                      </a:lnTo>
                      <a:lnTo>
                        <a:pt x="291" y="1427"/>
                      </a:lnTo>
                      <a:lnTo>
                        <a:pt x="284" y="1399"/>
                      </a:lnTo>
                      <a:lnTo>
                        <a:pt x="268" y="1369"/>
                      </a:lnTo>
                      <a:lnTo>
                        <a:pt x="255" y="1347"/>
                      </a:lnTo>
                      <a:lnTo>
                        <a:pt x="225" y="1312"/>
                      </a:lnTo>
                      <a:lnTo>
                        <a:pt x="194" y="1282"/>
                      </a:lnTo>
                      <a:lnTo>
                        <a:pt x="151" y="1254"/>
                      </a:lnTo>
                      <a:lnTo>
                        <a:pt x="109" y="1228"/>
                      </a:lnTo>
                      <a:lnTo>
                        <a:pt x="120" y="1244"/>
                      </a:lnTo>
                      <a:lnTo>
                        <a:pt x="139" y="1273"/>
                      </a:lnTo>
                      <a:lnTo>
                        <a:pt x="168" y="1303"/>
                      </a:lnTo>
                      <a:lnTo>
                        <a:pt x="168" y="1309"/>
                      </a:lnTo>
                      <a:lnTo>
                        <a:pt x="156" y="1309"/>
                      </a:lnTo>
                      <a:lnTo>
                        <a:pt x="128" y="1293"/>
                      </a:lnTo>
                      <a:lnTo>
                        <a:pt x="97" y="1273"/>
                      </a:lnTo>
                      <a:lnTo>
                        <a:pt x="52" y="1247"/>
                      </a:lnTo>
                      <a:lnTo>
                        <a:pt x="0" y="1235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937960" y="2830680"/>
                  <a:ext cx="1404000" cy="1442880"/>
                </a:xfrm>
                <a:custGeom>
                  <a:avLst/>
                  <a:gdLst/>
                  <a:ahLst/>
                  <a:rect l="l" t="t" r="r" b="b"/>
                  <a:pathLst>
                    <a:path w="948" h="909">
                      <a:moveTo>
                        <a:pt x="650" y="19"/>
                      </a:moveTo>
                      <a:lnTo>
                        <a:pt x="650" y="25"/>
                      </a:lnTo>
                      <a:lnTo>
                        <a:pt x="661" y="33"/>
                      </a:lnTo>
                      <a:lnTo>
                        <a:pt x="686" y="40"/>
                      </a:lnTo>
                      <a:lnTo>
                        <a:pt x="766" y="62"/>
                      </a:lnTo>
                      <a:lnTo>
                        <a:pt x="802" y="74"/>
                      </a:lnTo>
                      <a:lnTo>
                        <a:pt x="813" y="81"/>
                      </a:lnTo>
                      <a:lnTo>
                        <a:pt x="851" y="119"/>
                      </a:lnTo>
                      <a:lnTo>
                        <a:pt x="870" y="152"/>
                      </a:lnTo>
                      <a:lnTo>
                        <a:pt x="885" y="180"/>
                      </a:lnTo>
                      <a:lnTo>
                        <a:pt x="885" y="193"/>
                      </a:lnTo>
                      <a:lnTo>
                        <a:pt x="902" y="251"/>
                      </a:lnTo>
                      <a:lnTo>
                        <a:pt x="914" y="283"/>
                      </a:lnTo>
                      <a:lnTo>
                        <a:pt x="918" y="322"/>
                      </a:lnTo>
                      <a:lnTo>
                        <a:pt x="918" y="338"/>
                      </a:lnTo>
                      <a:lnTo>
                        <a:pt x="918" y="363"/>
                      </a:lnTo>
                      <a:lnTo>
                        <a:pt x="925" y="392"/>
                      </a:lnTo>
                      <a:lnTo>
                        <a:pt x="937" y="441"/>
                      </a:lnTo>
                      <a:lnTo>
                        <a:pt x="944" y="463"/>
                      </a:lnTo>
                      <a:lnTo>
                        <a:pt x="944" y="485"/>
                      </a:lnTo>
                      <a:lnTo>
                        <a:pt x="948" y="499"/>
                      </a:lnTo>
                      <a:lnTo>
                        <a:pt x="940" y="534"/>
                      </a:lnTo>
                      <a:lnTo>
                        <a:pt x="940" y="543"/>
                      </a:lnTo>
                      <a:lnTo>
                        <a:pt x="944" y="546"/>
                      </a:lnTo>
                      <a:lnTo>
                        <a:pt x="940" y="595"/>
                      </a:lnTo>
                      <a:lnTo>
                        <a:pt x="929" y="627"/>
                      </a:lnTo>
                      <a:lnTo>
                        <a:pt x="925" y="640"/>
                      </a:lnTo>
                      <a:lnTo>
                        <a:pt x="914" y="671"/>
                      </a:lnTo>
                      <a:lnTo>
                        <a:pt x="889" y="704"/>
                      </a:lnTo>
                      <a:lnTo>
                        <a:pt x="866" y="733"/>
                      </a:lnTo>
                      <a:lnTo>
                        <a:pt x="862" y="739"/>
                      </a:lnTo>
                      <a:lnTo>
                        <a:pt x="859" y="739"/>
                      </a:lnTo>
                      <a:lnTo>
                        <a:pt x="859" y="742"/>
                      </a:lnTo>
                      <a:lnTo>
                        <a:pt x="855" y="748"/>
                      </a:lnTo>
                      <a:lnTo>
                        <a:pt x="794" y="810"/>
                      </a:lnTo>
                      <a:lnTo>
                        <a:pt x="724" y="853"/>
                      </a:lnTo>
                      <a:lnTo>
                        <a:pt x="661" y="887"/>
                      </a:lnTo>
                      <a:lnTo>
                        <a:pt x="623" y="900"/>
                      </a:lnTo>
                      <a:lnTo>
                        <a:pt x="612" y="903"/>
                      </a:lnTo>
                      <a:lnTo>
                        <a:pt x="558" y="906"/>
                      </a:lnTo>
                      <a:lnTo>
                        <a:pt x="549" y="909"/>
                      </a:lnTo>
                      <a:lnTo>
                        <a:pt x="522" y="909"/>
                      </a:lnTo>
                      <a:lnTo>
                        <a:pt x="477" y="903"/>
                      </a:lnTo>
                      <a:lnTo>
                        <a:pt x="425" y="887"/>
                      </a:lnTo>
                      <a:lnTo>
                        <a:pt x="399" y="878"/>
                      </a:lnTo>
                      <a:lnTo>
                        <a:pt x="372" y="865"/>
                      </a:lnTo>
                      <a:lnTo>
                        <a:pt x="313" y="832"/>
                      </a:lnTo>
                      <a:lnTo>
                        <a:pt x="275" y="813"/>
                      </a:lnTo>
                      <a:lnTo>
                        <a:pt x="249" y="791"/>
                      </a:lnTo>
                      <a:lnTo>
                        <a:pt x="237" y="785"/>
                      </a:lnTo>
                      <a:lnTo>
                        <a:pt x="201" y="755"/>
                      </a:lnTo>
                      <a:lnTo>
                        <a:pt x="182" y="726"/>
                      </a:lnTo>
                      <a:lnTo>
                        <a:pt x="171" y="707"/>
                      </a:lnTo>
                      <a:lnTo>
                        <a:pt x="152" y="671"/>
                      </a:lnTo>
                      <a:lnTo>
                        <a:pt x="144" y="640"/>
                      </a:lnTo>
                      <a:lnTo>
                        <a:pt x="140" y="621"/>
                      </a:lnTo>
                      <a:lnTo>
                        <a:pt x="133" y="595"/>
                      </a:lnTo>
                      <a:lnTo>
                        <a:pt x="125" y="562"/>
                      </a:lnTo>
                      <a:lnTo>
                        <a:pt x="121" y="553"/>
                      </a:lnTo>
                      <a:lnTo>
                        <a:pt x="117" y="543"/>
                      </a:lnTo>
                      <a:lnTo>
                        <a:pt x="112" y="540"/>
                      </a:lnTo>
                      <a:lnTo>
                        <a:pt x="110" y="543"/>
                      </a:lnTo>
                      <a:lnTo>
                        <a:pt x="97" y="556"/>
                      </a:lnTo>
                      <a:lnTo>
                        <a:pt x="89" y="559"/>
                      </a:lnTo>
                      <a:lnTo>
                        <a:pt x="85" y="559"/>
                      </a:lnTo>
                      <a:lnTo>
                        <a:pt x="74" y="550"/>
                      </a:lnTo>
                      <a:lnTo>
                        <a:pt x="62" y="531"/>
                      </a:lnTo>
                      <a:lnTo>
                        <a:pt x="55" y="496"/>
                      </a:lnTo>
                      <a:lnTo>
                        <a:pt x="51" y="475"/>
                      </a:lnTo>
                      <a:lnTo>
                        <a:pt x="17" y="400"/>
                      </a:lnTo>
                      <a:lnTo>
                        <a:pt x="13" y="382"/>
                      </a:lnTo>
                      <a:lnTo>
                        <a:pt x="5" y="366"/>
                      </a:lnTo>
                      <a:lnTo>
                        <a:pt x="0" y="348"/>
                      </a:lnTo>
                      <a:lnTo>
                        <a:pt x="9" y="322"/>
                      </a:lnTo>
                      <a:lnTo>
                        <a:pt x="17" y="313"/>
                      </a:lnTo>
                      <a:lnTo>
                        <a:pt x="32" y="306"/>
                      </a:lnTo>
                      <a:lnTo>
                        <a:pt x="47" y="306"/>
                      </a:lnTo>
                      <a:lnTo>
                        <a:pt x="55" y="310"/>
                      </a:lnTo>
                      <a:lnTo>
                        <a:pt x="66" y="329"/>
                      </a:lnTo>
                      <a:lnTo>
                        <a:pt x="81" y="351"/>
                      </a:lnTo>
                      <a:lnTo>
                        <a:pt x="85" y="360"/>
                      </a:lnTo>
                      <a:lnTo>
                        <a:pt x="85" y="370"/>
                      </a:lnTo>
                      <a:lnTo>
                        <a:pt x="93" y="376"/>
                      </a:lnTo>
                      <a:lnTo>
                        <a:pt x="97" y="382"/>
                      </a:lnTo>
                      <a:lnTo>
                        <a:pt x="106" y="389"/>
                      </a:lnTo>
                      <a:lnTo>
                        <a:pt x="112" y="387"/>
                      </a:lnTo>
                      <a:lnTo>
                        <a:pt x="129" y="376"/>
                      </a:lnTo>
                      <a:lnTo>
                        <a:pt x="136" y="366"/>
                      </a:lnTo>
                      <a:lnTo>
                        <a:pt x="144" y="348"/>
                      </a:lnTo>
                      <a:lnTo>
                        <a:pt x="167" y="295"/>
                      </a:lnTo>
                      <a:lnTo>
                        <a:pt x="193" y="239"/>
                      </a:lnTo>
                      <a:lnTo>
                        <a:pt x="205" y="212"/>
                      </a:lnTo>
                      <a:lnTo>
                        <a:pt x="230" y="180"/>
                      </a:lnTo>
                      <a:lnTo>
                        <a:pt x="260" y="152"/>
                      </a:lnTo>
                      <a:lnTo>
                        <a:pt x="264" y="149"/>
                      </a:lnTo>
                      <a:lnTo>
                        <a:pt x="309" y="139"/>
                      </a:lnTo>
                      <a:lnTo>
                        <a:pt x="349" y="127"/>
                      </a:lnTo>
                      <a:lnTo>
                        <a:pt x="380" y="112"/>
                      </a:lnTo>
                      <a:lnTo>
                        <a:pt x="441" y="81"/>
                      </a:lnTo>
                      <a:lnTo>
                        <a:pt x="488" y="62"/>
                      </a:lnTo>
                      <a:lnTo>
                        <a:pt x="518" y="52"/>
                      </a:lnTo>
                      <a:lnTo>
                        <a:pt x="570" y="46"/>
                      </a:lnTo>
                      <a:lnTo>
                        <a:pt x="600" y="37"/>
                      </a:lnTo>
                      <a:lnTo>
                        <a:pt x="623" y="25"/>
                      </a:lnTo>
                      <a:lnTo>
                        <a:pt x="627" y="25"/>
                      </a:lnTo>
                      <a:lnTo>
                        <a:pt x="631" y="19"/>
                      </a:lnTo>
                      <a:lnTo>
                        <a:pt x="631" y="0"/>
                      </a:lnTo>
                      <a:lnTo>
                        <a:pt x="650" y="16"/>
                      </a:lnTo>
                      <a:lnTo>
                        <a:pt x="650" y="19"/>
                      </a:lnTo>
                      <a:close/>
                    </a:path>
                  </a:pathLst>
                </a:custGeom>
                <a:solidFill>
                  <a:srgbClr val="ffc2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937960" y="2830680"/>
                  <a:ext cx="1404000" cy="1442880"/>
                </a:xfrm>
                <a:custGeom>
                  <a:avLst/>
                  <a:gdLst/>
                  <a:ahLst/>
                  <a:rect l="l" t="t" r="r" b="b"/>
                  <a:pathLst>
                    <a:path w="948" h="909">
                      <a:moveTo>
                        <a:pt x="650" y="19"/>
                      </a:moveTo>
                      <a:lnTo>
                        <a:pt x="650" y="25"/>
                      </a:lnTo>
                      <a:lnTo>
                        <a:pt x="661" y="33"/>
                      </a:lnTo>
                      <a:lnTo>
                        <a:pt x="686" y="40"/>
                      </a:lnTo>
                      <a:lnTo>
                        <a:pt x="766" y="62"/>
                      </a:lnTo>
                      <a:lnTo>
                        <a:pt x="802" y="74"/>
                      </a:lnTo>
                      <a:lnTo>
                        <a:pt x="813" y="81"/>
                      </a:lnTo>
                      <a:lnTo>
                        <a:pt x="851" y="119"/>
                      </a:lnTo>
                      <a:lnTo>
                        <a:pt x="870" y="152"/>
                      </a:lnTo>
                      <a:lnTo>
                        <a:pt x="885" y="180"/>
                      </a:lnTo>
                      <a:lnTo>
                        <a:pt x="885" y="193"/>
                      </a:lnTo>
                      <a:lnTo>
                        <a:pt x="902" y="251"/>
                      </a:lnTo>
                      <a:lnTo>
                        <a:pt x="914" y="283"/>
                      </a:lnTo>
                      <a:lnTo>
                        <a:pt x="918" y="322"/>
                      </a:lnTo>
                      <a:lnTo>
                        <a:pt x="918" y="338"/>
                      </a:lnTo>
                      <a:lnTo>
                        <a:pt x="918" y="363"/>
                      </a:lnTo>
                      <a:lnTo>
                        <a:pt x="925" y="392"/>
                      </a:lnTo>
                      <a:lnTo>
                        <a:pt x="937" y="441"/>
                      </a:lnTo>
                      <a:lnTo>
                        <a:pt x="944" y="463"/>
                      </a:lnTo>
                      <a:lnTo>
                        <a:pt x="944" y="485"/>
                      </a:lnTo>
                      <a:lnTo>
                        <a:pt x="948" y="499"/>
                      </a:lnTo>
                      <a:lnTo>
                        <a:pt x="940" y="534"/>
                      </a:lnTo>
                      <a:lnTo>
                        <a:pt x="940" y="543"/>
                      </a:lnTo>
                      <a:lnTo>
                        <a:pt x="944" y="546"/>
                      </a:lnTo>
                      <a:lnTo>
                        <a:pt x="940" y="595"/>
                      </a:lnTo>
                      <a:lnTo>
                        <a:pt x="929" y="627"/>
                      </a:lnTo>
                      <a:lnTo>
                        <a:pt x="925" y="640"/>
                      </a:lnTo>
                      <a:lnTo>
                        <a:pt x="914" y="671"/>
                      </a:lnTo>
                      <a:lnTo>
                        <a:pt x="889" y="704"/>
                      </a:lnTo>
                      <a:lnTo>
                        <a:pt x="866" y="733"/>
                      </a:lnTo>
                      <a:lnTo>
                        <a:pt x="862" y="739"/>
                      </a:lnTo>
                      <a:lnTo>
                        <a:pt x="859" y="739"/>
                      </a:lnTo>
                      <a:lnTo>
                        <a:pt x="859" y="742"/>
                      </a:lnTo>
                      <a:lnTo>
                        <a:pt x="855" y="748"/>
                      </a:lnTo>
                      <a:lnTo>
                        <a:pt x="794" y="810"/>
                      </a:lnTo>
                      <a:lnTo>
                        <a:pt x="724" y="853"/>
                      </a:lnTo>
                      <a:lnTo>
                        <a:pt x="661" y="887"/>
                      </a:lnTo>
                      <a:lnTo>
                        <a:pt x="623" y="900"/>
                      </a:lnTo>
                      <a:lnTo>
                        <a:pt x="612" y="903"/>
                      </a:lnTo>
                      <a:lnTo>
                        <a:pt x="558" y="906"/>
                      </a:lnTo>
                      <a:lnTo>
                        <a:pt x="549" y="909"/>
                      </a:lnTo>
                      <a:lnTo>
                        <a:pt x="522" y="909"/>
                      </a:lnTo>
                      <a:lnTo>
                        <a:pt x="477" y="903"/>
                      </a:lnTo>
                      <a:lnTo>
                        <a:pt x="425" y="887"/>
                      </a:lnTo>
                      <a:lnTo>
                        <a:pt x="399" y="878"/>
                      </a:lnTo>
                      <a:lnTo>
                        <a:pt x="372" y="865"/>
                      </a:lnTo>
                      <a:lnTo>
                        <a:pt x="313" y="832"/>
                      </a:lnTo>
                      <a:lnTo>
                        <a:pt x="275" y="813"/>
                      </a:lnTo>
                      <a:lnTo>
                        <a:pt x="249" y="791"/>
                      </a:lnTo>
                      <a:lnTo>
                        <a:pt x="237" y="785"/>
                      </a:lnTo>
                      <a:lnTo>
                        <a:pt x="201" y="755"/>
                      </a:lnTo>
                      <a:lnTo>
                        <a:pt x="182" y="726"/>
                      </a:lnTo>
                      <a:lnTo>
                        <a:pt x="171" y="707"/>
                      </a:lnTo>
                      <a:lnTo>
                        <a:pt x="152" y="671"/>
                      </a:lnTo>
                      <a:lnTo>
                        <a:pt x="144" y="640"/>
                      </a:lnTo>
                      <a:lnTo>
                        <a:pt x="140" y="621"/>
                      </a:lnTo>
                      <a:lnTo>
                        <a:pt x="133" y="595"/>
                      </a:lnTo>
                      <a:lnTo>
                        <a:pt x="125" y="562"/>
                      </a:lnTo>
                      <a:lnTo>
                        <a:pt x="121" y="553"/>
                      </a:lnTo>
                      <a:lnTo>
                        <a:pt x="117" y="543"/>
                      </a:lnTo>
                      <a:lnTo>
                        <a:pt x="112" y="540"/>
                      </a:lnTo>
                      <a:lnTo>
                        <a:pt x="110" y="543"/>
                      </a:lnTo>
                      <a:lnTo>
                        <a:pt x="97" y="556"/>
                      </a:lnTo>
                      <a:lnTo>
                        <a:pt x="89" y="559"/>
                      </a:lnTo>
                      <a:lnTo>
                        <a:pt x="85" y="559"/>
                      </a:lnTo>
                      <a:lnTo>
                        <a:pt x="74" y="550"/>
                      </a:lnTo>
                      <a:lnTo>
                        <a:pt x="62" y="531"/>
                      </a:lnTo>
                      <a:lnTo>
                        <a:pt x="55" y="496"/>
                      </a:lnTo>
                      <a:lnTo>
                        <a:pt x="51" y="475"/>
                      </a:lnTo>
                      <a:lnTo>
                        <a:pt x="17" y="400"/>
                      </a:lnTo>
                      <a:lnTo>
                        <a:pt x="13" y="382"/>
                      </a:lnTo>
                      <a:lnTo>
                        <a:pt x="5" y="366"/>
                      </a:lnTo>
                      <a:lnTo>
                        <a:pt x="0" y="348"/>
                      </a:lnTo>
                      <a:lnTo>
                        <a:pt x="9" y="322"/>
                      </a:lnTo>
                      <a:lnTo>
                        <a:pt x="17" y="313"/>
                      </a:lnTo>
                      <a:lnTo>
                        <a:pt x="32" y="306"/>
                      </a:lnTo>
                      <a:lnTo>
                        <a:pt x="47" y="306"/>
                      </a:lnTo>
                      <a:lnTo>
                        <a:pt x="55" y="310"/>
                      </a:lnTo>
                      <a:lnTo>
                        <a:pt x="66" y="329"/>
                      </a:lnTo>
                      <a:lnTo>
                        <a:pt x="81" y="351"/>
                      </a:lnTo>
                      <a:lnTo>
                        <a:pt x="85" y="360"/>
                      </a:lnTo>
                      <a:lnTo>
                        <a:pt x="85" y="370"/>
                      </a:lnTo>
                      <a:lnTo>
                        <a:pt x="93" y="376"/>
                      </a:lnTo>
                      <a:lnTo>
                        <a:pt x="97" y="382"/>
                      </a:lnTo>
                      <a:lnTo>
                        <a:pt x="106" y="389"/>
                      </a:lnTo>
                      <a:lnTo>
                        <a:pt x="112" y="387"/>
                      </a:lnTo>
                      <a:lnTo>
                        <a:pt x="129" y="376"/>
                      </a:lnTo>
                      <a:lnTo>
                        <a:pt x="136" y="366"/>
                      </a:lnTo>
                      <a:lnTo>
                        <a:pt x="144" y="348"/>
                      </a:lnTo>
                      <a:lnTo>
                        <a:pt x="167" y="295"/>
                      </a:lnTo>
                      <a:lnTo>
                        <a:pt x="193" y="239"/>
                      </a:lnTo>
                      <a:lnTo>
                        <a:pt x="205" y="212"/>
                      </a:lnTo>
                      <a:lnTo>
                        <a:pt x="230" y="180"/>
                      </a:lnTo>
                      <a:lnTo>
                        <a:pt x="260" y="152"/>
                      </a:lnTo>
                      <a:lnTo>
                        <a:pt x="264" y="149"/>
                      </a:lnTo>
                      <a:lnTo>
                        <a:pt x="309" y="139"/>
                      </a:lnTo>
                      <a:lnTo>
                        <a:pt x="349" y="127"/>
                      </a:lnTo>
                      <a:lnTo>
                        <a:pt x="380" y="112"/>
                      </a:lnTo>
                      <a:lnTo>
                        <a:pt x="441" y="81"/>
                      </a:lnTo>
                      <a:lnTo>
                        <a:pt x="488" y="62"/>
                      </a:lnTo>
                      <a:lnTo>
                        <a:pt x="518" y="52"/>
                      </a:lnTo>
                      <a:lnTo>
                        <a:pt x="570" y="46"/>
                      </a:lnTo>
                      <a:lnTo>
                        <a:pt x="600" y="37"/>
                      </a:lnTo>
                      <a:lnTo>
                        <a:pt x="623" y="25"/>
                      </a:lnTo>
                      <a:lnTo>
                        <a:pt x="627" y="25"/>
                      </a:lnTo>
                      <a:lnTo>
                        <a:pt x="631" y="19"/>
                      </a:lnTo>
                      <a:lnTo>
                        <a:pt x="631" y="0"/>
                      </a:lnTo>
                      <a:lnTo>
                        <a:pt x="650" y="16"/>
                      </a:lnTo>
                      <a:lnTo>
                        <a:pt x="650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888720" y="2870280"/>
                  <a:ext cx="87480" cy="88920"/>
                </a:xfrm>
                <a:custGeom>
                  <a:avLst/>
                  <a:gdLst/>
                  <a:ahLst/>
                  <a:rect l="l" t="t" r="r" b="b"/>
                  <a:pathLst>
                    <a:path w="59" h="56">
                      <a:moveTo>
                        <a:pt x="19" y="18"/>
                      </a:moveTo>
                      <a:lnTo>
                        <a:pt x="55" y="46"/>
                      </a:lnTo>
                      <a:lnTo>
                        <a:pt x="59" y="49"/>
                      </a:lnTo>
                      <a:lnTo>
                        <a:pt x="59" y="53"/>
                      </a:lnTo>
                      <a:lnTo>
                        <a:pt x="59" y="56"/>
                      </a:lnTo>
                      <a:lnTo>
                        <a:pt x="51" y="56"/>
                      </a:lnTo>
                      <a:lnTo>
                        <a:pt x="8" y="1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9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888720" y="2870280"/>
                  <a:ext cx="87480" cy="88920"/>
                </a:xfrm>
                <a:custGeom>
                  <a:avLst/>
                  <a:gdLst/>
                  <a:ahLst/>
                  <a:rect l="l" t="t" r="r" b="b"/>
                  <a:pathLst>
                    <a:path w="59" h="56">
                      <a:moveTo>
                        <a:pt x="19" y="18"/>
                      </a:moveTo>
                      <a:lnTo>
                        <a:pt x="55" y="46"/>
                      </a:lnTo>
                      <a:lnTo>
                        <a:pt x="59" y="49"/>
                      </a:lnTo>
                      <a:lnTo>
                        <a:pt x="59" y="53"/>
                      </a:lnTo>
                      <a:lnTo>
                        <a:pt x="59" y="56"/>
                      </a:lnTo>
                      <a:lnTo>
                        <a:pt x="51" y="56"/>
                      </a:lnTo>
                      <a:lnTo>
                        <a:pt x="8" y="1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9" y="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854880" y="2889360"/>
                  <a:ext cx="21960" cy="109440"/>
                </a:xfrm>
                <a:custGeom>
                  <a:avLst/>
                  <a:gdLst/>
                  <a:ahLst/>
                  <a:rect l="l" t="t" r="r" b="b"/>
                  <a:pathLst>
                    <a:path w="15" h="69">
                      <a:moveTo>
                        <a:pt x="12" y="12"/>
                      </a:moveTo>
                      <a:lnTo>
                        <a:pt x="15" y="47"/>
                      </a:lnTo>
                      <a:lnTo>
                        <a:pt x="15" y="63"/>
                      </a:lnTo>
                      <a:lnTo>
                        <a:pt x="15" y="66"/>
                      </a:lnTo>
                      <a:lnTo>
                        <a:pt x="12" y="69"/>
                      </a:lnTo>
                      <a:lnTo>
                        <a:pt x="8" y="66"/>
                      </a:lnTo>
                      <a:lnTo>
                        <a:pt x="4" y="63"/>
                      </a:lnTo>
                      <a:lnTo>
                        <a:pt x="8" y="56"/>
                      </a:lnTo>
                      <a:lnTo>
                        <a:pt x="4" y="25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854880" y="2889360"/>
                  <a:ext cx="21960" cy="109440"/>
                </a:xfrm>
                <a:custGeom>
                  <a:avLst/>
                  <a:gdLst/>
                  <a:ahLst/>
                  <a:rect l="l" t="t" r="r" b="b"/>
                  <a:pathLst>
                    <a:path w="15" h="69">
                      <a:moveTo>
                        <a:pt x="12" y="12"/>
                      </a:moveTo>
                      <a:lnTo>
                        <a:pt x="15" y="47"/>
                      </a:lnTo>
                      <a:lnTo>
                        <a:pt x="15" y="63"/>
                      </a:lnTo>
                      <a:lnTo>
                        <a:pt x="15" y="66"/>
                      </a:lnTo>
                      <a:lnTo>
                        <a:pt x="12" y="69"/>
                      </a:lnTo>
                      <a:lnTo>
                        <a:pt x="8" y="66"/>
                      </a:lnTo>
                      <a:lnTo>
                        <a:pt x="4" y="63"/>
                      </a:lnTo>
                      <a:lnTo>
                        <a:pt x="8" y="56"/>
                      </a:lnTo>
                      <a:lnTo>
                        <a:pt x="4" y="25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877200" y="2894040"/>
                  <a:ext cx="81360" cy="138240"/>
                </a:xfrm>
                <a:custGeom>
                  <a:avLst/>
                  <a:gdLst/>
                  <a:ahLst/>
                  <a:rect l="l" t="t" r="r" b="b"/>
                  <a:pathLst>
                    <a:path w="55" h="87">
                      <a:moveTo>
                        <a:pt x="44" y="60"/>
                      </a:moveTo>
                      <a:lnTo>
                        <a:pt x="55" y="79"/>
                      </a:lnTo>
                      <a:lnTo>
                        <a:pt x="55" y="83"/>
                      </a:lnTo>
                      <a:lnTo>
                        <a:pt x="55" y="87"/>
                      </a:lnTo>
                      <a:lnTo>
                        <a:pt x="48" y="79"/>
                      </a:lnTo>
                      <a:lnTo>
                        <a:pt x="31" y="5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877200" y="2894040"/>
                  <a:ext cx="81360" cy="138240"/>
                </a:xfrm>
                <a:custGeom>
                  <a:avLst/>
                  <a:gdLst/>
                  <a:ahLst/>
                  <a:rect l="l" t="t" r="r" b="b"/>
                  <a:pathLst>
                    <a:path w="55" h="87">
                      <a:moveTo>
                        <a:pt x="44" y="60"/>
                      </a:moveTo>
                      <a:lnTo>
                        <a:pt x="55" y="79"/>
                      </a:lnTo>
                      <a:lnTo>
                        <a:pt x="55" y="83"/>
                      </a:lnTo>
                      <a:lnTo>
                        <a:pt x="55" y="87"/>
                      </a:lnTo>
                      <a:lnTo>
                        <a:pt x="48" y="79"/>
                      </a:lnTo>
                      <a:lnTo>
                        <a:pt x="31" y="5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4" y="6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963160" y="3341880"/>
                  <a:ext cx="66600" cy="177480"/>
                </a:xfrm>
                <a:custGeom>
                  <a:avLst/>
                  <a:gdLst/>
                  <a:ahLst/>
                  <a:rect l="l" t="t" r="r" b="b"/>
                  <a:pathLst>
                    <a:path w="45" h="112">
                      <a:moveTo>
                        <a:pt x="26" y="3"/>
                      </a:moveTo>
                      <a:lnTo>
                        <a:pt x="41" y="19"/>
                      </a:lnTo>
                      <a:lnTo>
                        <a:pt x="45" y="26"/>
                      </a:lnTo>
                      <a:lnTo>
                        <a:pt x="41" y="32"/>
                      </a:lnTo>
                      <a:lnTo>
                        <a:pt x="38" y="35"/>
                      </a:lnTo>
                      <a:lnTo>
                        <a:pt x="30" y="32"/>
                      </a:lnTo>
                      <a:lnTo>
                        <a:pt x="22" y="10"/>
                      </a:lnTo>
                      <a:lnTo>
                        <a:pt x="19" y="10"/>
                      </a:lnTo>
                      <a:lnTo>
                        <a:pt x="11" y="10"/>
                      </a:lnTo>
                      <a:lnTo>
                        <a:pt x="7" y="16"/>
                      </a:lnTo>
                      <a:lnTo>
                        <a:pt x="11" y="35"/>
                      </a:lnTo>
                      <a:lnTo>
                        <a:pt x="26" y="84"/>
                      </a:lnTo>
                      <a:lnTo>
                        <a:pt x="34" y="100"/>
                      </a:lnTo>
                      <a:lnTo>
                        <a:pt x="34" y="109"/>
                      </a:lnTo>
                      <a:lnTo>
                        <a:pt x="34" y="112"/>
                      </a:lnTo>
                      <a:lnTo>
                        <a:pt x="30" y="109"/>
                      </a:lnTo>
                      <a:lnTo>
                        <a:pt x="19" y="93"/>
                      </a:lnTo>
                      <a:lnTo>
                        <a:pt x="19" y="87"/>
                      </a:lnTo>
                      <a:lnTo>
                        <a:pt x="7" y="60"/>
                      </a:lnTo>
                      <a:lnTo>
                        <a:pt x="3" y="38"/>
                      </a:lnTo>
                      <a:lnTo>
                        <a:pt x="3" y="32"/>
                      </a:lnTo>
                      <a:lnTo>
                        <a:pt x="3" y="19"/>
                      </a:lnTo>
                      <a:lnTo>
                        <a:pt x="0" y="1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963160" y="3341880"/>
                  <a:ext cx="66600" cy="177480"/>
                </a:xfrm>
                <a:custGeom>
                  <a:avLst/>
                  <a:gdLst/>
                  <a:ahLst/>
                  <a:rect l="l" t="t" r="r" b="b"/>
                  <a:pathLst>
                    <a:path w="45" h="112">
                      <a:moveTo>
                        <a:pt x="26" y="3"/>
                      </a:moveTo>
                      <a:lnTo>
                        <a:pt x="41" y="19"/>
                      </a:lnTo>
                      <a:lnTo>
                        <a:pt x="45" y="26"/>
                      </a:lnTo>
                      <a:lnTo>
                        <a:pt x="41" y="32"/>
                      </a:lnTo>
                      <a:lnTo>
                        <a:pt x="38" y="35"/>
                      </a:lnTo>
                      <a:lnTo>
                        <a:pt x="30" y="32"/>
                      </a:lnTo>
                      <a:lnTo>
                        <a:pt x="22" y="10"/>
                      </a:lnTo>
                      <a:lnTo>
                        <a:pt x="19" y="10"/>
                      </a:lnTo>
                      <a:lnTo>
                        <a:pt x="11" y="10"/>
                      </a:lnTo>
                      <a:lnTo>
                        <a:pt x="7" y="16"/>
                      </a:lnTo>
                      <a:lnTo>
                        <a:pt x="11" y="35"/>
                      </a:lnTo>
                      <a:lnTo>
                        <a:pt x="26" y="84"/>
                      </a:lnTo>
                      <a:lnTo>
                        <a:pt x="34" y="100"/>
                      </a:lnTo>
                      <a:lnTo>
                        <a:pt x="34" y="109"/>
                      </a:lnTo>
                      <a:lnTo>
                        <a:pt x="34" y="112"/>
                      </a:lnTo>
                      <a:lnTo>
                        <a:pt x="30" y="109"/>
                      </a:lnTo>
                      <a:lnTo>
                        <a:pt x="19" y="93"/>
                      </a:lnTo>
                      <a:lnTo>
                        <a:pt x="19" y="87"/>
                      </a:lnTo>
                      <a:lnTo>
                        <a:pt x="7" y="60"/>
                      </a:lnTo>
                      <a:lnTo>
                        <a:pt x="3" y="38"/>
                      </a:lnTo>
                      <a:lnTo>
                        <a:pt x="3" y="32"/>
                      </a:lnTo>
                      <a:lnTo>
                        <a:pt x="3" y="19"/>
                      </a:lnTo>
                      <a:lnTo>
                        <a:pt x="0" y="1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6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427200" y="3392640"/>
                  <a:ext cx="261720" cy="60120"/>
                </a:xfrm>
                <a:custGeom>
                  <a:avLst/>
                  <a:gdLst/>
                  <a:ahLst/>
                  <a:rect l="l" t="t" r="r" b="b"/>
                  <a:pathLst>
                    <a:path w="177" h="38">
                      <a:moveTo>
                        <a:pt x="116" y="3"/>
                      </a:moveTo>
                      <a:lnTo>
                        <a:pt x="124" y="9"/>
                      </a:lnTo>
                      <a:lnTo>
                        <a:pt x="162" y="16"/>
                      </a:lnTo>
                      <a:lnTo>
                        <a:pt x="166" y="16"/>
                      </a:lnTo>
                      <a:lnTo>
                        <a:pt x="169" y="16"/>
                      </a:lnTo>
                      <a:lnTo>
                        <a:pt x="177" y="25"/>
                      </a:lnTo>
                      <a:lnTo>
                        <a:pt x="177" y="33"/>
                      </a:lnTo>
                      <a:lnTo>
                        <a:pt x="169" y="35"/>
                      </a:lnTo>
                      <a:lnTo>
                        <a:pt x="162" y="38"/>
                      </a:lnTo>
                      <a:lnTo>
                        <a:pt x="147" y="38"/>
                      </a:lnTo>
                      <a:lnTo>
                        <a:pt x="131" y="33"/>
                      </a:lnTo>
                      <a:lnTo>
                        <a:pt x="111" y="25"/>
                      </a:lnTo>
                      <a:lnTo>
                        <a:pt x="42" y="19"/>
                      </a:lnTo>
                      <a:lnTo>
                        <a:pt x="12" y="19"/>
                      </a:lnTo>
                      <a:lnTo>
                        <a:pt x="0" y="19"/>
                      </a:lnTo>
                      <a:lnTo>
                        <a:pt x="0" y="12"/>
                      </a:lnTo>
                      <a:lnTo>
                        <a:pt x="6" y="6"/>
                      </a:lnTo>
                      <a:lnTo>
                        <a:pt x="57" y="3"/>
                      </a:lnTo>
                      <a:lnTo>
                        <a:pt x="69" y="0"/>
                      </a:lnTo>
                      <a:lnTo>
                        <a:pt x="80" y="0"/>
                      </a:lnTo>
                      <a:lnTo>
                        <a:pt x="103" y="3"/>
                      </a:lnTo>
                      <a:lnTo>
                        <a:pt x="11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427200" y="3392640"/>
                  <a:ext cx="261720" cy="60120"/>
                </a:xfrm>
                <a:custGeom>
                  <a:avLst/>
                  <a:gdLst/>
                  <a:ahLst/>
                  <a:rect l="l" t="t" r="r" b="b"/>
                  <a:pathLst>
                    <a:path w="177" h="38">
                      <a:moveTo>
                        <a:pt x="116" y="3"/>
                      </a:moveTo>
                      <a:lnTo>
                        <a:pt x="124" y="9"/>
                      </a:lnTo>
                      <a:lnTo>
                        <a:pt x="162" y="16"/>
                      </a:lnTo>
                      <a:lnTo>
                        <a:pt x="166" y="16"/>
                      </a:lnTo>
                      <a:lnTo>
                        <a:pt x="169" y="16"/>
                      </a:lnTo>
                      <a:lnTo>
                        <a:pt x="177" y="25"/>
                      </a:lnTo>
                      <a:lnTo>
                        <a:pt x="177" y="33"/>
                      </a:lnTo>
                      <a:lnTo>
                        <a:pt x="169" y="35"/>
                      </a:lnTo>
                      <a:lnTo>
                        <a:pt x="162" y="38"/>
                      </a:lnTo>
                      <a:lnTo>
                        <a:pt x="147" y="38"/>
                      </a:lnTo>
                      <a:lnTo>
                        <a:pt x="131" y="33"/>
                      </a:lnTo>
                      <a:lnTo>
                        <a:pt x="111" y="25"/>
                      </a:lnTo>
                      <a:lnTo>
                        <a:pt x="42" y="19"/>
                      </a:lnTo>
                      <a:lnTo>
                        <a:pt x="12" y="19"/>
                      </a:lnTo>
                      <a:lnTo>
                        <a:pt x="0" y="19"/>
                      </a:lnTo>
                      <a:lnTo>
                        <a:pt x="0" y="12"/>
                      </a:lnTo>
                      <a:lnTo>
                        <a:pt x="6" y="6"/>
                      </a:lnTo>
                      <a:lnTo>
                        <a:pt x="57" y="3"/>
                      </a:lnTo>
                      <a:lnTo>
                        <a:pt x="69" y="0"/>
                      </a:lnTo>
                      <a:lnTo>
                        <a:pt x="80" y="0"/>
                      </a:lnTo>
                      <a:lnTo>
                        <a:pt x="103" y="3"/>
                      </a:lnTo>
                      <a:lnTo>
                        <a:pt x="116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982320" y="3436920"/>
                  <a:ext cx="238320" cy="58680"/>
                </a:xfrm>
                <a:custGeom>
                  <a:avLst/>
                  <a:gdLst/>
                  <a:ahLst/>
                  <a:rect l="l" t="t" r="r" b="b"/>
                  <a:pathLst>
                    <a:path w="161" h="37">
                      <a:moveTo>
                        <a:pt x="127" y="5"/>
                      </a:moveTo>
                      <a:lnTo>
                        <a:pt x="131" y="7"/>
                      </a:lnTo>
                      <a:lnTo>
                        <a:pt x="154" y="10"/>
                      </a:lnTo>
                      <a:lnTo>
                        <a:pt x="161" y="21"/>
                      </a:lnTo>
                      <a:lnTo>
                        <a:pt x="161" y="24"/>
                      </a:lnTo>
                      <a:lnTo>
                        <a:pt x="146" y="24"/>
                      </a:lnTo>
                      <a:lnTo>
                        <a:pt x="127" y="24"/>
                      </a:lnTo>
                      <a:lnTo>
                        <a:pt x="72" y="24"/>
                      </a:lnTo>
                      <a:lnTo>
                        <a:pt x="45" y="30"/>
                      </a:lnTo>
                      <a:lnTo>
                        <a:pt x="26" y="37"/>
                      </a:lnTo>
                      <a:lnTo>
                        <a:pt x="11" y="37"/>
                      </a:lnTo>
                      <a:lnTo>
                        <a:pt x="3" y="33"/>
                      </a:lnTo>
                      <a:lnTo>
                        <a:pt x="0" y="27"/>
                      </a:lnTo>
                      <a:lnTo>
                        <a:pt x="3" y="18"/>
                      </a:lnTo>
                      <a:lnTo>
                        <a:pt x="11" y="14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5" y="5"/>
                      </a:lnTo>
                      <a:lnTo>
                        <a:pt x="57" y="5"/>
                      </a:lnTo>
                      <a:lnTo>
                        <a:pt x="85" y="0"/>
                      </a:lnTo>
                      <a:lnTo>
                        <a:pt x="112" y="0"/>
                      </a:lnTo>
                      <a:lnTo>
                        <a:pt x="12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982320" y="3436920"/>
                  <a:ext cx="238320" cy="58680"/>
                </a:xfrm>
                <a:custGeom>
                  <a:avLst/>
                  <a:gdLst/>
                  <a:ahLst/>
                  <a:rect l="l" t="t" r="r" b="b"/>
                  <a:pathLst>
                    <a:path w="161" h="37">
                      <a:moveTo>
                        <a:pt x="127" y="5"/>
                      </a:moveTo>
                      <a:lnTo>
                        <a:pt x="131" y="7"/>
                      </a:lnTo>
                      <a:lnTo>
                        <a:pt x="154" y="10"/>
                      </a:lnTo>
                      <a:lnTo>
                        <a:pt x="161" y="21"/>
                      </a:lnTo>
                      <a:lnTo>
                        <a:pt x="161" y="24"/>
                      </a:lnTo>
                      <a:lnTo>
                        <a:pt x="146" y="24"/>
                      </a:lnTo>
                      <a:lnTo>
                        <a:pt x="127" y="24"/>
                      </a:lnTo>
                      <a:lnTo>
                        <a:pt x="72" y="24"/>
                      </a:lnTo>
                      <a:lnTo>
                        <a:pt x="45" y="30"/>
                      </a:lnTo>
                      <a:lnTo>
                        <a:pt x="26" y="37"/>
                      </a:lnTo>
                      <a:lnTo>
                        <a:pt x="11" y="37"/>
                      </a:lnTo>
                      <a:lnTo>
                        <a:pt x="3" y="33"/>
                      </a:lnTo>
                      <a:lnTo>
                        <a:pt x="0" y="27"/>
                      </a:lnTo>
                      <a:lnTo>
                        <a:pt x="3" y="18"/>
                      </a:lnTo>
                      <a:lnTo>
                        <a:pt x="11" y="14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5" y="5"/>
                      </a:lnTo>
                      <a:lnTo>
                        <a:pt x="57" y="5"/>
                      </a:lnTo>
                      <a:lnTo>
                        <a:pt x="85" y="0"/>
                      </a:lnTo>
                      <a:lnTo>
                        <a:pt x="112" y="0"/>
                      </a:lnTo>
                      <a:lnTo>
                        <a:pt x="127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030120" y="3479760"/>
                  <a:ext cx="51480" cy="120600"/>
                </a:xfrm>
                <a:custGeom>
                  <a:avLst/>
                  <a:gdLst/>
                  <a:ahLst/>
                  <a:rect l="l" t="t" r="r" b="b"/>
                  <a:pathLst>
                    <a:path w="35" h="76">
                      <a:moveTo>
                        <a:pt x="35" y="13"/>
                      </a:moveTo>
                      <a:lnTo>
                        <a:pt x="35" y="28"/>
                      </a:lnTo>
                      <a:lnTo>
                        <a:pt x="35" y="47"/>
                      </a:lnTo>
                      <a:lnTo>
                        <a:pt x="31" y="73"/>
                      </a:lnTo>
                      <a:lnTo>
                        <a:pt x="23" y="76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12" y="60"/>
                      </a:lnTo>
                      <a:lnTo>
                        <a:pt x="8" y="44"/>
                      </a:lnTo>
                      <a:lnTo>
                        <a:pt x="4" y="32"/>
                      </a:lnTo>
                      <a:lnTo>
                        <a:pt x="4" y="28"/>
                      </a:lnTo>
                      <a:lnTo>
                        <a:pt x="0" y="10"/>
                      </a:lnTo>
                      <a:lnTo>
                        <a:pt x="4" y="6"/>
                      </a:lnTo>
                      <a:lnTo>
                        <a:pt x="12" y="0"/>
                      </a:lnTo>
                      <a:lnTo>
                        <a:pt x="23" y="3"/>
                      </a:lnTo>
                      <a:lnTo>
                        <a:pt x="35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030120" y="3479760"/>
                  <a:ext cx="51480" cy="120600"/>
                </a:xfrm>
                <a:custGeom>
                  <a:avLst/>
                  <a:gdLst/>
                  <a:ahLst/>
                  <a:rect l="l" t="t" r="r" b="b"/>
                  <a:pathLst>
                    <a:path w="35" h="76">
                      <a:moveTo>
                        <a:pt x="35" y="13"/>
                      </a:moveTo>
                      <a:lnTo>
                        <a:pt x="35" y="28"/>
                      </a:lnTo>
                      <a:lnTo>
                        <a:pt x="35" y="47"/>
                      </a:lnTo>
                      <a:lnTo>
                        <a:pt x="31" y="73"/>
                      </a:lnTo>
                      <a:lnTo>
                        <a:pt x="23" y="76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12" y="60"/>
                      </a:lnTo>
                      <a:lnTo>
                        <a:pt x="8" y="44"/>
                      </a:lnTo>
                      <a:lnTo>
                        <a:pt x="4" y="32"/>
                      </a:lnTo>
                      <a:lnTo>
                        <a:pt x="4" y="28"/>
                      </a:lnTo>
                      <a:lnTo>
                        <a:pt x="0" y="10"/>
                      </a:lnTo>
                      <a:lnTo>
                        <a:pt x="4" y="6"/>
                      </a:lnTo>
                      <a:lnTo>
                        <a:pt x="12" y="0"/>
                      </a:lnTo>
                      <a:lnTo>
                        <a:pt x="23" y="3"/>
                      </a:lnTo>
                      <a:lnTo>
                        <a:pt x="35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419280" y="3514680"/>
                  <a:ext cx="28116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55" y="13"/>
                      </a:moveTo>
                      <a:lnTo>
                        <a:pt x="186" y="35"/>
                      </a:lnTo>
                      <a:lnTo>
                        <a:pt x="190" y="41"/>
                      </a:lnTo>
                      <a:lnTo>
                        <a:pt x="186" y="44"/>
                      </a:lnTo>
                      <a:lnTo>
                        <a:pt x="182" y="49"/>
                      </a:lnTo>
                      <a:lnTo>
                        <a:pt x="167" y="49"/>
                      </a:lnTo>
                      <a:lnTo>
                        <a:pt x="159" y="51"/>
                      </a:lnTo>
                      <a:lnTo>
                        <a:pt x="116" y="59"/>
                      </a:lnTo>
                      <a:lnTo>
                        <a:pt x="93" y="54"/>
                      </a:lnTo>
                      <a:lnTo>
                        <a:pt x="51" y="41"/>
                      </a:lnTo>
                      <a:lnTo>
                        <a:pt x="28" y="29"/>
                      </a:lnTo>
                      <a:lnTo>
                        <a:pt x="20" y="25"/>
                      </a:lnTo>
                      <a:lnTo>
                        <a:pt x="9" y="25"/>
                      </a:lnTo>
                      <a:lnTo>
                        <a:pt x="5" y="25"/>
                      </a:lnTo>
                      <a:lnTo>
                        <a:pt x="0" y="22"/>
                      </a:lnTo>
                      <a:lnTo>
                        <a:pt x="5" y="19"/>
                      </a:lnTo>
                      <a:lnTo>
                        <a:pt x="9" y="16"/>
                      </a:lnTo>
                      <a:lnTo>
                        <a:pt x="32" y="13"/>
                      </a:lnTo>
                      <a:lnTo>
                        <a:pt x="74" y="3"/>
                      </a:lnTo>
                      <a:lnTo>
                        <a:pt x="97" y="0"/>
                      </a:lnTo>
                      <a:lnTo>
                        <a:pt x="116" y="0"/>
                      </a:lnTo>
                      <a:lnTo>
                        <a:pt x="155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19280" y="3514680"/>
                  <a:ext cx="28116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55" y="13"/>
                      </a:moveTo>
                      <a:lnTo>
                        <a:pt x="186" y="35"/>
                      </a:lnTo>
                      <a:lnTo>
                        <a:pt x="190" y="41"/>
                      </a:lnTo>
                      <a:lnTo>
                        <a:pt x="186" y="44"/>
                      </a:lnTo>
                      <a:lnTo>
                        <a:pt x="182" y="49"/>
                      </a:lnTo>
                      <a:lnTo>
                        <a:pt x="167" y="49"/>
                      </a:lnTo>
                      <a:lnTo>
                        <a:pt x="159" y="51"/>
                      </a:lnTo>
                      <a:lnTo>
                        <a:pt x="116" y="59"/>
                      </a:lnTo>
                      <a:lnTo>
                        <a:pt x="93" y="54"/>
                      </a:lnTo>
                      <a:lnTo>
                        <a:pt x="51" y="41"/>
                      </a:lnTo>
                      <a:lnTo>
                        <a:pt x="28" y="29"/>
                      </a:lnTo>
                      <a:lnTo>
                        <a:pt x="20" y="25"/>
                      </a:lnTo>
                      <a:lnTo>
                        <a:pt x="9" y="25"/>
                      </a:lnTo>
                      <a:lnTo>
                        <a:pt x="5" y="25"/>
                      </a:lnTo>
                      <a:lnTo>
                        <a:pt x="0" y="22"/>
                      </a:lnTo>
                      <a:lnTo>
                        <a:pt x="5" y="19"/>
                      </a:lnTo>
                      <a:lnTo>
                        <a:pt x="9" y="16"/>
                      </a:lnTo>
                      <a:lnTo>
                        <a:pt x="32" y="13"/>
                      </a:lnTo>
                      <a:lnTo>
                        <a:pt x="74" y="3"/>
                      </a:lnTo>
                      <a:lnTo>
                        <a:pt x="97" y="0"/>
                      </a:lnTo>
                      <a:lnTo>
                        <a:pt x="116" y="0"/>
                      </a:lnTo>
                      <a:lnTo>
                        <a:pt x="155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992760" y="3519360"/>
                  <a:ext cx="276840" cy="93960"/>
                </a:xfrm>
                <a:custGeom>
                  <a:avLst/>
                  <a:gdLst/>
                  <a:ahLst/>
                  <a:rect l="l" t="t" r="r" b="b"/>
                  <a:pathLst>
                    <a:path w="187" h="59">
                      <a:moveTo>
                        <a:pt x="139" y="7"/>
                      </a:moveTo>
                      <a:lnTo>
                        <a:pt x="166" y="19"/>
                      </a:lnTo>
                      <a:lnTo>
                        <a:pt x="177" y="26"/>
                      </a:lnTo>
                      <a:lnTo>
                        <a:pt x="183" y="26"/>
                      </a:lnTo>
                      <a:lnTo>
                        <a:pt x="187" y="29"/>
                      </a:lnTo>
                      <a:lnTo>
                        <a:pt x="187" y="35"/>
                      </a:lnTo>
                      <a:lnTo>
                        <a:pt x="183" y="35"/>
                      </a:lnTo>
                      <a:lnTo>
                        <a:pt x="162" y="35"/>
                      </a:lnTo>
                      <a:lnTo>
                        <a:pt x="143" y="38"/>
                      </a:lnTo>
                      <a:lnTo>
                        <a:pt x="105" y="51"/>
                      </a:lnTo>
                      <a:lnTo>
                        <a:pt x="86" y="59"/>
                      </a:lnTo>
                      <a:lnTo>
                        <a:pt x="46" y="59"/>
                      </a:lnTo>
                      <a:lnTo>
                        <a:pt x="12" y="48"/>
                      </a:lnTo>
                      <a:lnTo>
                        <a:pt x="4" y="48"/>
                      </a:lnTo>
                      <a:lnTo>
                        <a:pt x="0" y="46"/>
                      </a:lnTo>
                      <a:lnTo>
                        <a:pt x="4" y="41"/>
                      </a:lnTo>
                      <a:lnTo>
                        <a:pt x="42" y="16"/>
                      </a:lnTo>
                      <a:lnTo>
                        <a:pt x="71" y="3"/>
                      </a:lnTo>
                      <a:lnTo>
                        <a:pt x="93" y="0"/>
                      </a:lnTo>
                      <a:lnTo>
                        <a:pt x="109" y="0"/>
                      </a:lnTo>
                      <a:lnTo>
                        <a:pt x="1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992760" y="3519360"/>
                  <a:ext cx="276840" cy="93960"/>
                </a:xfrm>
                <a:custGeom>
                  <a:avLst/>
                  <a:gdLst/>
                  <a:ahLst/>
                  <a:rect l="l" t="t" r="r" b="b"/>
                  <a:pathLst>
                    <a:path w="187" h="59">
                      <a:moveTo>
                        <a:pt x="139" y="7"/>
                      </a:moveTo>
                      <a:lnTo>
                        <a:pt x="166" y="19"/>
                      </a:lnTo>
                      <a:lnTo>
                        <a:pt x="177" y="26"/>
                      </a:lnTo>
                      <a:lnTo>
                        <a:pt x="183" y="26"/>
                      </a:lnTo>
                      <a:lnTo>
                        <a:pt x="187" y="29"/>
                      </a:lnTo>
                      <a:lnTo>
                        <a:pt x="187" y="35"/>
                      </a:lnTo>
                      <a:lnTo>
                        <a:pt x="183" y="35"/>
                      </a:lnTo>
                      <a:lnTo>
                        <a:pt x="162" y="35"/>
                      </a:lnTo>
                      <a:lnTo>
                        <a:pt x="143" y="38"/>
                      </a:lnTo>
                      <a:lnTo>
                        <a:pt x="105" y="51"/>
                      </a:lnTo>
                      <a:lnTo>
                        <a:pt x="86" y="59"/>
                      </a:lnTo>
                      <a:lnTo>
                        <a:pt x="46" y="59"/>
                      </a:lnTo>
                      <a:lnTo>
                        <a:pt x="12" y="48"/>
                      </a:lnTo>
                      <a:lnTo>
                        <a:pt x="4" y="48"/>
                      </a:lnTo>
                      <a:lnTo>
                        <a:pt x="0" y="46"/>
                      </a:lnTo>
                      <a:lnTo>
                        <a:pt x="4" y="41"/>
                      </a:lnTo>
                      <a:lnTo>
                        <a:pt x="42" y="16"/>
                      </a:lnTo>
                      <a:lnTo>
                        <a:pt x="71" y="3"/>
                      </a:lnTo>
                      <a:lnTo>
                        <a:pt x="93" y="0"/>
                      </a:lnTo>
                      <a:lnTo>
                        <a:pt x="109" y="0"/>
                      </a:lnTo>
                      <a:lnTo>
                        <a:pt x="139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467160" y="3530520"/>
                  <a:ext cx="84240" cy="54000"/>
                </a:xfrm>
                <a:custGeom>
                  <a:avLst/>
                  <a:gdLst/>
                  <a:ahLst/>
                  <a:rect l="l" t="t" r="r" b="b"/>
                  <a:pathLst>
                    <a:path w="57" h="34">
                      <a:moveTo>
                        <a:pt x="53" y="6"/>
                      </a:moveTo>
                      <a:lnTo>
                        <a:pt x="49" y="9"/>
                      </a:lnTo>
                      <a:lnTo>
                        <a:pt x="45" y="19"/>
                      </a:lnTo>
                      <a:lnTo>
                        <a:pt x="49" y="25"/>
                      </a:lnTo>
                      <a:lnTo>
                        <a:pt x="49" y="31"/>
                      </a:lnTo>
                      <a:lnTo>
                        <a:pt x="53" y="34"/>
                      </a:lnTo>
                      <a:lnTo>
                        <a:pt x="34" y="28"/>
                      </a:lnTo>
                      <a:lnTo>
                        <a:pt x="15" y="19"/>
                      </a:lnTo>
                      <a:lnTo>
                        <a:pt x="0" y="9"/>
                      </a:lnTo>
                      <a:lnTo>
                        <a:pt x="15" y="6"/>
                      </a:lnTo>
                      <a:lnTo>
                        <a:pt x="42" y="0"/>
                      </a:lnTo>
                      <a:lnTo>
                        <a:pt x="57" y="0"/>
                      </a:lnTo>
                      <a:lnTo>
                        <a:pt x="53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467160" y="3530520"/>
                  <a:ext cx="84240" cy="54000"/>
                </a:xfrm>
                <a:custGeom>
                  <a:avLst/>
                  <a:gdLst/>
                  <a:ahLst/>
                  <a:rect l="l" t="t" r="r" b="b"/>
                  <a:pathLst>
                    <a:path w="57" h="34">
                      <a:moveTo>
                        <a:pt x="53" y="6"/>
                      </a:moveTo>
                      <a:lnTo>
                        <a:pt x="49" y="9"/>
                      </a:lnTo>
                      <a:lnTo>
                        <a:pt x="45" y="19"/>
                      </a:lnTo>
                      <a:lnTo>
                        <a:pt x="49" y="25"/>
                      </a:lnTo>
                      <a:lnTo>
                        <a:pt x="49" y="31"/>
                      </a:lnTo>
                      <a:lnTo>
                        <a:pt x="53" y="34"/>
                      </a:lnTo>
                      <a:lnTo>
                        <a:pt x="34" y="28"/>
                      </a:lnTo>
                      <a:lnTo>
                        <a:pt x="15" y="19"/>
                      </a:lnTo>
                      <a:lnTo>
                        <a:pt x="0" y="9"/>
                      </a:lnTo>
                      <a:lnTo>
                        <a:pt x="15" y="6"/>
                      </a:lnTo>
                      <a:lnTo>
                        <a:pt x="42" y="0"/>
                      </a:lnTo>
                      <a:lnTo>
                        <a:pt x="57" y="0"/>
                      </a:lnTo>
                      <a:lnTo>
                        <a:pt x="53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585240" y="3535560"/>
                  <a:ext cx="30960" cy="18720"/>
                </a:xfrm>
                <a:custGeom>
                  <a:avLst/>
                  <a:gdLst/>
                  <a:ahLst/>
                  <a:rect l="l" t="t" r="r" b="b"/>
                  <a:pathLst>
                    <a:path w="21" h="12">
                      <a:moveTo>
                        <a:pt x="21" y="6"/>
                      </a:moveTo>
                      <a:lnTo>
                        <a:pt x="17" y="9"/>
                      </a:lnTo>
                      <a:lnTo>
                        <a:pt x="11" y="12"/>
                      </a:lnTo>
                      <a:lnTo>
                        <a:pt x="9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7" y="6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585240" y="3535560"/>
                  <a:ext cx="30960" cy="18720"/>
                </a:xfrm>
                <a:custGeom>
                  <a:avLst/>
                  <a:gdLst/>
                  <a:ahLst/>
                  <a:rect l="l" t="t" r="r" b="b"/>
                  <a:pathLst>
                    <a:path w="21" h="12">
                      <a:moveTo>
                        <a:pt x="21" y="6"/>
                      </a:moveTo>
                      <a:lnTo>
                        <a:pt x="17" y="9"/>
                      </a:lnTo>
                      <a:lnTo>
                        <a:pt x="11" y="12"/>
                      </a:lnTo>
                      <a:lnTo>
                        <a:pt x="9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7" y="6"/>
                      </a:lnTo>
                      <a:lnTo>
                        <a:pt x="2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102200" y="3544920"/>
                  <a:ext cx="34200" cy="2052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23" y="3"/>
                      </a:moveTo>
                      <a:lnTo>
                        <a:pt x="23" y="6"/>
                      </a:lnTo>
                      <a:lnTo>
                        <a:pt x="23" y="10"/>
                      </a:lnTo>
                      <a:lnTo>
                        <a:pt x="16" y="13"/>
                      </a:lnTo>
                      <a:lnTo>
                        <a:pt x="8" y="13"/>
                      </a:lnTo>
                      <a:lnTo>
                        <a:pt x="4" y="10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102200" y="3544920"/>
                  <a:ext cx="34200" cy="2052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23" y="3"/>
                      </a:moveTo>
                      <a:lnTo>
                        <a:pt x="23" y="6"/>
                      </a:lnTo>
                      <a:lnTo>
                        <a:pt x="23" y="10"/>
                      </a:lnTo>
                      <a:lnTo>
                        <a:pt x="16" y="13"/>
                      </a:lnTo>
                      <a:lnTo>
                        <a:pt x="8" y="13"/>
                      </a:lnTo>
                      <a:lnTo>
                        <a:pt x="4" y="10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3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170240" y="3535560"/>
                  <a:ext cx="75240" cy="44280"/>
                </a:xfrm>
                <a:custGeom>
                  <a:avLst/>
                  <a:gdLst/>
                  <a:ahLst/>
                  <a:rect l="l" t="t" r="r" b="b"/>
                  <a:pathLst>
                    <a:path w="51" h="28">
                      <a:moveTo>
                        <a:pt x="51" y="19"/>
                      </a:moveTo>
                      <a:lnTo>
                        <a:pt x="34" y="19"/>
                      </a:lnTo>
                      <a:lnTo>
                        <a:pt x="23" y="19"/>
                      </a:lnTo>
                      <a:lnTo>
                        <a:pt x="11" y="25"/>
                      </a:lnTo>
                      <a:lnTo>
                        <a:pt x="0" y="28"/>
                      </a:lnTo>
                      <a:lnTo>
                        <a:pt x="8" y="22"/>
                      </a:lnTo>
                      <a:lnTo>
                        <a:pt x="8" y="16"/>
                      </a:lnTo>
                      <a:lnTo>
                        <a:pt x="8" y="9"/>
                      </a:lnTo>
                      <a:lnTo>
                        <a:pt x="8" y="3"/>
                      </a:lnTo>
                      <a:lnTo>
                        <a:pt x="4" y="0"/>
                      </a:lnTo>
                      <a:lnTo>
                        <a:pt x="19" y="3"/>
                      </a:lnTo>
                      <a:lnTo>
                        <a:pt x="34" y="6"/>
                      </a:lnTo>
                      <a:lnTo>
                        <a:pt x="51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170240" y="3535560"/>
                  <a:ext cx="75240" cy="44280"/>
                </a:xfrm>
                <a:custGeom>
                  <a:avLst/>
                  <a:gdLst/>
                  <a:ahLst/>
                  <a:rect l="l" t="t" r="r" b="b"/>
                  <a:pathLst>
                    <a:path w="51" h="28">
                      <a:moveTo>
                        <a:pt x="51" y="19"/>
                      </a:moveTo>
                      <a:lnTo>
                        <a:pt x="34" y="19"/>
                      </a:lnTo>
                      <a:lnTo>
                        <a:pt x="23" y="19"/>
                      </a:lnTo>
                      <a:lnTo>
                        <a:pt x="11" y="25"/>
                      </a:lnTo>
                      <a:lnTo>
                        <a:pt x="0" y="28"/>
                      </a:lnTo>
                      <a:lnTo>
                        <a:pt x="8" y="22"/>
                      </a:lnTo>
                      <a:lnTo>
                        <a:pt x="8" y="16"/>
                      </a:lnTo>
                      <a:lnTo>
                        <a:pt x="8" y="9"/>
                      </a:lnTo>
                      <a:lnTo>
                        <a:pt x="8" y="3"/>
                      </a:lnTo>
                      <a:lnTo>
                        <a:pt x="4" y="0"/>
                      </a:lnTo>
                      <a:lnTo>
                        <a:pt x="19" y="3"/>
                      </a:lnTo>
                      <a:lnTo>
                        <a:pt x="34" y="6"/>
                      </a:lnTo>
                      <a:lnTo>
                        <a:pt x="51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632760" y="3554280"/>
                  <a:ext cx="50040" cy="381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34" y="16"/>
                      </a:moveTo>
                      <a:lnTo>
                        <a:pt x="23" y="16"/>
                      </a:lnTo>
                      <a:lnTo>
                        <a:pt x="15" y="19"/>
                      </a:lnTo>
                      <a:lnTo>
                        <a:pt x="0" y="24"/>
                      </a:lnTo>
                      <a:lnTo>
                        <a:pt x="4" y="19"/>
                      </a:lnTo>
                      <a:lnTo>
                        <a:pt x="8" y="13"/>
                      </a:lnTo>
                      <a:lnTo>
                        <a:pt x="11" y="7"/>
                      </a:lnTo>
                      <a:lnTo>
                        <a:pt x="11" y="4"/>
                      </a:lnTo>
                      <a:lnTo>
                        <a:pt x="11" y="0"/>
                      </a:lnTo>
                      <a:lnTo>
                        <a:pt x="23" y="7"/>
                      </a:lnTo>
                      <a:lnTo>
                        <a:pt x="34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632760" y="3554280"/>
                  <a:ext cx="50040" cy="381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34" y="16"/>
                      </a:moveTo>
                      <a:lnTo>
                        <a:pt x="23" y="16"/>
                      </a:lnTo>
                      <a:lnTo>
                        <a:pt x="15" y="19"/>
                      </a:lnTo>
                      <a:lnTo>
                        <a:pt x="0" y="24"/>
                      </a:lnTo>
                      <a:lnTo>
                        <a:pt x="4" y="19"/>
                      </a:lnTo>
                      <a:lnTo>
                        <a:pt x="8" y="13"/>
                      </a:lnTo>
                      <a:lnTo>
                        <a:pt x="11" y="7"/>
                      </a:lnTo>
                      <a:lnTo>
                        <a:pt x="11" y="4"/>
                      </a:lnTo>
                      <a:lnTo>
                        <a:pt x="11" y="0"/>
                      </a:lnTo>
                      <a:lnTo>
                        <a:pt x="23" y="7"/>
                      </a:lnTo>
                      <a:lnTo>
                        <a:pt x="34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014720" y="3544920"/>
                  <a:ext cx="61920" cy="55440"/>
                </a:xfrm>
                <a:custGeom>
                  <a:avLst/>
                  <a:gdLst/>
                  <a:ahLst/>
                  <a:rect l="l" t="t" r="r" b="b"/>
                  <a:pathLst>
                    <a:path w="42" h="35">
                      <a:moveTo>
                        <a:pt x="42" y="35"/>
                      </a:moveTo>
                      <a:lnTo>
                        <a:pt x="19" y="32"/>
                      </a:lnTo>
                      <a:lnTo>
                        <a:pt x="0" y="25"/>
                      </a:lnTo>
                      <a:lnTo>
                        <a:pt x="19" y="13"/>
                      </a:lnTo>
                      <a:lnTo>
                        <a:pt x="31" y="6"/>
                      </a:lnTo>
                      <a:lnTo>
                        <a:pt x="42" y="0"/>
                      </a:lnTo>
                      <a:lnTo>
                        <a:pt x="39" y="6"/>
                      </a:lnTo>
                      <a:lnTo>
                        <a:pt x="35" y="13"/>
                      </a:lnTo>
                      <a:lnTo>
                        <a:pt x="35" y="22"/>
                      </a:lnTo>
                      <a:lnTo>
                        <a:pt x="39" y="30"/>
                      </a:lnTo>
                      <a:lnTo>
                        <a:pt x="42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014720" y="3544920"/>
                  <a:ext cx="61920" cy="55440"/>
                </a:xfrm>
                <a:custGeom>
                  <a:avLst/>
                  <a:gdLst/>
                  <a:ahLst/>
                  <a:rect l="l" t="t" r="r" b="b"/>
                  <a:pathLst>
                    <a:path w="42" h="35">
                      <a:moveTo>
                        <a:pt x="42" y="35"/>
                      </a:moveTo>
                      <a:lnTo>
                        <a:pt x="19" y="32"/>
                      </a:lnTo>
                      <a:lnTo>
                        <a:pt x="0" y="25"/>
                      </a:lnTo>
                      <a:lnTo>
                        <a:pt x="19" y="13"/>
                      </a:lnTo>
                      <a:lnTo>
                        <a:pt x="31" y="6"/>
                      </a:lnTo>
                      <a:lnTo>
                        <a:pt x="42" y="0"/>
                      </a:lnTo>
                      <a:lnTo>
                        <a:pt x="39" y="6"/>
                      </a:lnTo>
                      <a:lnTo>
                        <a:pt x="35" y="13"/>
                      </a:lnTo>
                      <a:lnTo>
                        <a:pt x="35" y="22"/>
                      </a:lnTo>
                      <a:lnTo>
                        <a:pt x="39" y="30"/>
                      </a:lnTo>
                      <a:lnTo>
                        <a:pt x="42" y="3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854880" y="3595680"/>
                  <a:ext cx="28080" cy="144360"/>
                </a:xfrm>
                <a:custGeom>
                  <a:avLst/>
                  <a:gdLst/>
                  <a:ahLst/>
                  <a:rect l="l" t="t" r="r" b="b"/>
                  <a:pathLst>
                    <a:path w="19" h="91">
                      <a:moveTo>
                        <a:pt x="19" y="0"/>
                      </a:moveTo>
                      <a:lnTo>
                        <a:pt x="8" y="39"/>
                      </a:lnTo>
                      <a:lnTo>
                        <a:pt x="4" y="58"/>
                      </a:lnTo>
                      <a:lnTo>
                        <a:pt x="8" y="74"/>
                      </a:lnTo>
                      <a:lnTo>
                        <a:pt x="12" y="80"/>
                      </a:lnTo>
                      <a:lnTo>
                        <a:pt x="15" y="87"/>
                      </a:lnTo>
                      <a:lnTo>
                        <a:pt x="12" y="91"/>
                      </a:lnTo>
                      <a:lnTo>
                        <a:pt x="0" y="74"/>
                      </a:lnTo>
                      <a:lnTo>
                        <a:pt x="0" y="36"/>
                      </a:lnTo>
                      <a:lnTo>
                        <a:pt x="4" y="14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854880" y="3595680"/>
                  <a:ext cx="28080" cy="144360"/>
                </a:xfrm>
                <a:custGeom>
                  <a:avLst/>
                  <a:gdLst/>
                  <a:ahLst/>
                  <a:rect l="l" t="t" r="r" b="b"/>
                  <a:pathLst>
                    <a:path w="19" h="91">
                      <a:moveTo>
                        <a:pt x="19" y="0"/>
                      </a:moveTo>
                      <a:lnTo>
                        <a:pt x="8" y="39"/>
                      </a:lnTo>
                      <a:lnTo>
                        <a:pt x="4" y="58"/>
                      </a:lnTo>
                      <a:lnTo>
                        <a:pt x="8" y="74"/>
                      </a:lnTo>
                      <a:lnTo>
                        <a:pt x="12" y="80"/>
                      </a:lnTo>
                      <a:lnTo>
                        <a:pt x="15" y="87"/>
                      </a:lnTo>
                      <a:lnTo>
                        <a:pt x="12" y="91"/>
                      </a:lnTo>
                      <a:lnTo>
                        <a:pt x="0" y="74"/>
                      </a:lnTo>
                      <a:lnTo>
                        <a:pt x="0" y="36"/>
                      </a:lnTo>
                      <a:lnTo>
                        <a:pt x="4" y="14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998880" y="3618000"/>
                  <a:ext cx="50040" cy="60120"/>
                </a:xfrm>
                <a:custGeom>
                  <a:avLst/>
                  <a:gdLst/>
                  <a:ahLst/>
                  <a:rect l="l" t="t" r="r" b="b"/>
                  <a:pathLst>
                    <a:path w="34" h="38">
                      <a:moveTo>
                        <a:pt x="19" y="19"/>
                      </a:moveTo>
                      <a:lnTo>
                        <a:pt x="34" y="28"/>
                      </a:lnTo>
                      <a:lnTo>
                        <a:pt x="34" y="35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7" y="38"/>
                      </a:lnTo>
                      <a:lnTo>
                        <a:pt x="27" y="35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4" y="0"/>
                      </a:lnTo>
                      <a:lnTo>
                        <a:pt x="11" y="9"/>
                      </a:lnTo>
                      <a:lnTo>
                        <a:pt x="1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998880" y="3618000"/>
                  <a:ext cx="50040" cy="60120"/>
                </a:xfrm>
                <a:custGeom>
                  <a:avLst/>
                  <a:gdLst/>
                  <a:ahLst/>
                  <a:rect l="l" t="t" r="r" b="b"/>
                  <a:pathLst>
                    <a:path w="34" h="38">
                      <a:moveTo>
                        <a:pt x="19" y="19"/>
                      </a:moveTo>
                      <a:lnTo>
                        <a:pt x="34" y="28"/>
                      </a:lnTo>
                      <a:lnTo>
                        <a:pt x="34" y="35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7" y="38"/>
                      </a:lnTo>
                      <a:lnTo>
                        <a:pt x="27" y="35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4" y="0"/>
                      </a:lnTo>
                      <a:lnTo>
                        <a:pt x="11" y="9"/>
                      </a:lnTo>
                      <a:lnTo>
                        <a:pt x="19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826800" y="3781440"/>
                  <a:ext cx="171720" cy="109440"/>
                </a:xfrm>
                <a:custGeom>
                  <a:avLst/>
                  <a:gdLst/>
                  <a:ahLst/>
                  <a:rect l="l" t="t" r="r" b="b"/>
                  <a:pathLst>
                    <a:path w="116" h="69">
                      <a:moveTo>
                        <a:pt x="112" y="15"/>
                      </a:moveTo>
                      <a:lnTo>
                        <a:pt x="116" y="31"/>
                      </a:lnTo>
                      <a:lnTo>
                        <a:pt x="112" y="41"/>
                      </a:lnTo>
                      <a:lnTo>
                        <a:pt x="112" y="47"/>
                      </a:lnTo>
                      <a:lnTo>
                        <a:pt x="101" y="56"/>
                      </a:lnTo>
                      <a:lnTo>
                        <a:pt x="89" y="59"/>
                      </a:lnTo>
                      <a:lnTo>
                        <a:pt x="65" y="56"/>
                      </a:lnTo>
                      <a:lnTo>
                        <a:pt x="50" y="63"/>
                      </a:lnTo>
                      <a:lnTo>
                        <a:pt x="31" y="69"/>
                      </a:lnTo>
                      <a:lnTo>
                        <a:pt x="12" y="69"/>
                      </a:lnTo>
                      <a:lnTo>
                        <a:pt x="8" y="69"/>
                      </a:lnTo>
                      <a:lnTo>
                        <a:pt x="4" y="67"/>
                      </a:lnTo>
                      <a:lnTo>
                        <a:pt x="0" y="59"/>
                      </a:lnTo>
                      <a:lnTo>
                        <a:pt x="4" y="56"/>
                      </a:lnTo>
                      <a:lnTo>
                        <a:pt x="4" y="53"/>
                      </a:lnTo>
                      <a:lnTo>
                        <a:pt x="12" y="53"/>
                      </a:lnTo>
                      <a:lnTo>
                        <a:pt x="38" y="50"/>
                      </a:lnTo>
                      <a:lnTo>
                        <a:pt x="57" y="44"/>
                      </a:lnTo>
                      <a:lnTo>
                        <a:pt x="65" y="44"/>
                      </a:lnTo>
                      <a:lnTo>
                        <a:pt x="72" y="44"/>
                      </a:lnTo>
                      <a:lnTo>
                        <a:pt x="82" y="47"/>
                      </a:lnTo>
                      <a:lnTo>
                        <a:pt x="93" y="47"/>
                      </a:lnTo>
                      <a:lnTo>
                        <a:pt x="101" y="41"/>
                      </a:lnTo>
                      <a:lnTo>
                        <a:pt x="105" y="31"/>
                      </a:lnTo>
                      <a:lnTo>
                        <a:pt x="101" y="15"/>
                      </a:lnTo>
                      <a:lnTo>
                        <a:pt x="97" y="6"/>
                      </a:lnTo>
                      <a:lnTo>
                        <a:pt x="93" y="0"/>
                      </a:lnTo>
                      <a:lnTo>
                        <a:pt x="97" y="0"/>
                      </a:lnTo>
                      <a:lnTo>
                        <a:pt x="105" y="6"/>
                      </a:lnTo>
                      <a:lnTo>
                        <a:pt x="11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826800" y="3781440"/>
                  <a:ext cx="171720" cy="109440"/>
                </a:xfrm>
                <a:custGeom>
                  <a:avLst/>
                  <a:gdLst/>
                  <a:ahLst/>
                  <a:rect l="l" t="t" r="r" b="b"/>
                  <a:pathLst>
                    <a:path w="116" h="69">
                      <a:moveTo>
                        <a:pt x="112" y="15"/>
                      </a:moveTo>
                      <a:lnTo>
                        <a:pt x="116" y="31"/>
                      </a:lnTo>
                      <a:lnTo>
                        <a:pt x="112" y="41"/>
                      </a:lnTo>
                      <a:lnTo>
                        <a:pt x="112" y="47"/>
                      </a:lnTo>
                      <a:lnTo>
                        <a:pt x="101" y="56"/>
                      </a:lnTo>
                      <a:lnTo>
                        <a:pt x="89" y="59"/>
                      </a:lnTo>
                      <a:lnTo>
                        <a:pt x="65" y="56"/>
                      </a:lnTo>
                      <a:lnTo>
                        <a:pt x="50" y="63"/>
                      </a:lnTo>
                      <a:lnTo>
                        <a:pt x="31" y="69"/>
                      </a:lnTo>
                      <a:lnTo>
                        <a:pt x="12" y="69"/>
                      </a:lnTo>
                      <a:lnTo>
                        <a:pt x="8" y="69"/>
                      </a:lnTo>
                      <a:lnTo>
                        <a:pt x="4" y="67"/>
                      </a:lnTo>
                      <a:lnTo>
                        <a:pt x="0" y="59"/>
                      </a:lnTo>
                      <a:lnTo>
                        <a:pt x="4" y="56"/>
                      </a:lnTo>
                      <a:lnTo>
                        <a:pt x="4" y="53"/>
                      </a:lnTo>
                      <a:lnTo>
                        <a:pt x="12" y="53"/>
                      </a:lnTo>
                      <a:lnTo>
                        <a:pt x="38" y="50"/>
                      </a:lnTo>
                      <a:lnTo>
                        <a:pt x="57" y="44"/>
                      </a:lnTo>
                      <a:lnTo>
                        <a:pt x="65" y="44"/>
                      </a:lnTo>
                      <a:lnTo>
                        <a:pt x="72" y="44"/>
                      </a:lnTo>
                      <a:lnTo>
                        <a:pt x="82" y="47"/>
                      </a:lnTo>
                      <a:lnTo>
                        <a:pt x="93" y="47"/>
                      </a:lnTo>
                      <a:lnTo>
                        <a:pt x="101" y="41"/>
                      </a:lnTo>
                      <a:lnTo>
                        <a:pt x="105" y="31"/>
                      </a:lnTo>
                      <a:lnTo>
                        <a:pt x="101" y="15"/>
                      </a:lnTo>
                      <a:lnTo>
                        <a:pt x="97" y="6"/>
                      </a:lnTo>
                      <a:lnTo>
                        <a:pt x="93" y="0"/>
                      </a:lnTo>
                      <a:lnTo>
                        <a:pt x="97" y="0"/>
                      </a:lnTo>
                      <a:lnTo>
                        <a:pt x="105" y="6"/>
                      </a:lnTo>
                      <a:lnTo>
                        <a:pt x="112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004280" y="3774960"/>
                  <a:ext cx="38520" cy="112680"/>
                </a:xfrm>
                <a:custGeom>
                  <a:avLst/>
                  <a:gdLst/>
                  <a:ahLst/>
                  <a:rect l="l" t="t" r="r" b="b"/>
                  <a:pathLst>
                    <a:path w="26" h="71">
                      <a:moveTo>
                        <a:pt x="11" y="10"/>
                      </a:moveTo>
                      <a:lnTo>
                        <a:pt x="23" y="26"/>
                      </a:lnTo>
                      <a:lnTo>
                        <a:pt x="26" y="45"/>
                      </a:lnTo>
                      <a:lnTo>
                        <a:pt x="26" y="67"/>
                      </a:lnTo>
                      <a:lnTo>
                        <a:pt x="26" y="71"/>
                      </a:lnTo>
                      <a:lnTo>
                        <a:pt x="19" y="71"/>
                      </a:lnTo>
                      <a:lnTo>
                        <a:pt x="15" y="67"/>
                      </a:lnTo>
                      <a:lnTo>
                        <a:pt x="15" y="63"/>
                      </a:lnTo>
                      <a:lnTo>
                        <a:pt x="23" y="54"/>
                      </a:lnTo>
                      <a:lnTo>
                        <a:pt x="23" y="45"/>
                      </a:lnTo>
                      <a:lnTo>
                        <a:pt x="19" y="29"/>
                      </a:lnTo>
                      <a:lnTo>
                        <a:pt x="7" y="13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4" y="0"/>
                      </a:lnTo>
                      <a:lnTo>
                        <a:pt x="1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004280" y="3774960"/>
                  <a:ext cx="38520" cy="112680"/>
                </a:xfrm>
                <a:custGeom>
                  <a:avLst/>
                  <a:gdLst/>
                  <a:ahLst/>
                  <a:rect l="l" t="t" r="r" b="b"/>
                  <a:pathLst>
                    <a:path w="26" h="71">
                      <a:moveTo>
                        <a:pt x="11" y="10"/>
                      </a:moveTo>
                      <a:lnTo>
                        <a:pt x="23" y="26"/>
                      </a:lnTo>
                      <a:lnTo>
                        <a:pt x="26" y="45"/>
                      </a:lnTo>
                      <a:lnTo>
                        <a:pt x="26" y="67"/>
                      </a:lnTo>
                      <a:lnTo>
                        <a:pt x="26" y="71"/>
                      </a:lnTo>
                      <a:lnTo>
                        <a:pt x="19" y="71"/>
                      </a:lnTo>
                      <a:lnTo>
                        <a:pt x="15" y="67"/>
                      </a:lnTo>
                      <a:lnTo>
                        <a:pt x="15" y="63"/>
                      </a:lnTo>
                      <a:lnTo>
                        <a:pt x="23" y="54"/>
                      </a:lnTo>
                      <a:lnTo>
                        <a:pt x="23" y="45"/>
                      </a:lnTo>
                      <a:lnTo>
                        <a:pt x="19" y="29"/>
                      </a:lnTo>
                      <a:lnTo>
                        <a:pt x="7" y="13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4" y="0"/>
                      </a:lnTo>
                      <a:lnTo>
                        <a:pt x="11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677400" y="3826080"/>
                  <a:ext cx="110520" cy="39600"/>
                </a:xfrm>
                <a:custGeom>
                  <a:avLst/>
                  <a:gdLst/>
                  <a:ahLst/>
                  <a:rect l="l" t="t" r="r" b="b"/>
                  <a:pathLst>
                    <a:path w="75" h="25">
                      <a:moveTo>
                        <a:pt x="23" y="9"/>
                      </a:moveTo>
                      <a:lnTo>
                        <a:pt x="35" y="9"/>
                      </a:lnTo>
                      <a:lnTo>
                        <a:pt x="42" y="6"/>
                      </a:lnTo>
                      <a:lnTo>
                        <a:pt x="59" y="9"/>
                      </a:lnTo>
                      <a:lnTo>
                        <a:pt x="67" y="9"/>
                      </a:lnTo>
                      <a:lnTo>
                        <a:pt x="71" y="13"/>
                      </a:lnTo>
                      <a:lnTo>
                        <a:pt x="71" y="16"/>
                      </a:lnTo>
                      <a:lnTo>
                        <a:pt x="75" y="19"/>
                      </a:lnTo>
                      <a:lnTo>
                        <a:pt x="75" y="22"/>
                      </a:lnTo>
                      <a:lnTo>
                        <a:pt x="71" y="25"/>
                      </a:lnTo>
                      <a:lnTo>
                        <a:pt x="67" y="19"/>
                      </a:lnTo>
                      <a:lnTo>
                        <a:pt x="59" y="16"/>
                      </a:lnTo>
                      <a:lnTo>
                        <a:pt x="46" y="19"/>
                      </a:lnTo>
                      <a:lnTo>
                        <a:pt x="35" y="22"/>
                      </a:lnTo>
                      <a:lnTo>
                        <a:pt x="19" y="22"/>
                      </a:lnTo>
                      <a:lnTo>
                        <a:pt x="4" y="1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2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677400" y="3826080"/>
                  <a:ext cx="110520" cy="39600"/>
                </a:xfrm>
                <a:custGeom>
                  <a:avLst/>
                  <a:gdLst/>
                  <a:ahLst/>
                  <a:rect l="l" t="t" r="r" b="b"/>
                  <a:pathLst>
                    <a:path w="75" h="25">
                      <a:moveTo>
                        <a:pt x="23" y="9"/>
                      </a:moveTo>
                      <a:lnTo>
                        <a:pt x="35" y="9"/>
                      </a:lnTo>
                      <a:lnTo>
                        <a:pt x="42" y="6"/>
                      </a:lnTo>
                      <a:lnTo>
                        <a:pt x="59" y="9"/>
                      </a:lnTo>
                      <a:lnTo>
                        <a:pt x="67" y="9"/>
                      </a:lnTo>
                      <a:lnTo>
                        <a:pt x="71" y="13"/>
                      </a:lnTo>
                      <a:lnTo>
                        <a:pt x="71" y="16"/>
                      </a:lnTo>
                      <a:lnTo>
                        <a:pt x="75" y="19"/>
                      </a:lnTo>
                      <a:lnTo>
                        <a:pt x="75" y="22"/>
                      </a:lnTo>
                      <a:lnTo>
                        <a:pt x="71" y="25"/>
                      </a:lnTo>
                      <a:lnTo>
                        <a:pt x="67" y="19"/>
                      </a:lnTo>
                      <a:lnTo>
                        <a:pt x="59" y="16"/>
                      </a:lnTo>
                      <a:lnTo>
                        <a:pt x="46" y="19"/>
                      </a:lnTo>
                      <a:lnTo>
                        <a:pt x="35" y="22"/>
                      </a:lnTo>
                      <a:lnTo>
                        <a:pt x="19" y="22"/>
                      </a:lnTo>
                      <a:lnTo>
                        <a:pt x="4" y="1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23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483000" y="3933720"/>
                  <a:ext cx="45720" cy="74880"/>
                </a:xfrm>
                <a:custGeom>
                  <a:avLst/>
                  <a:gdLst/>
                  <a:ahLst/>
                  <a:rect l="l" t="t" r="r" b="b"/>
                  <a:pathLst>
                    <a:path w="31" h="47">
                      <a:moveTo>
                        <a:pt x="31" y="3"/>
                      </a:moveTo>
                      <a:lnTo>
                        <a:pt x="23" y="12"/>
                      </a:lnTo>
                      <a:lnTo>
                        <a:pt x="12" y="25"/>
                      </a:lnTo>
                      <a:lnTo>
                        <a:pt x="12" y="35"/>
                      </a:lnTo>
                      <a:lnTo>
                        <a:pt x="12" y="38"/>
                      </a:lnTo>
                      <a:lnTo>
                        <a:pt x="19" y="38"/>
                      </a:lnTo>
                      <a:lnTo>
                        <a:pt x="19" y="41"/>
                      </a:lnTo>
                      <a:lnTo>
                        <a:pt x="19" y="47"/>
                      </a:lnTo>
                      <a:lnTo>
                        <a:pt x="15" y="47"/>
                      </a:lnTo>
                      <a:lnTo>
                        <a:pt x="4" y="44"/>
                      </a:lnTo>
                      <a:lnTo>
                        <a:pt x="0" y="35"/>
                      </a:lnTo>
                      <a:lnTo>
                        <a:pt x="0" y="25"/>
                      </a:lnTo>
                      <a:lnTo>
                        <a:pt x="12" y="9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483000" y="3933720"/>
                  <a:ext cx="45720" cy="74880"/>
                </a:xfrm>
                <a:custGeom>
                  <a:avLst/>
                  <a:gdLst/>
                  <a:ahLst/>
                  <a:rect l="l" t="t" r="r" b="b"/>
                  <a:pathLst>
                    <a:path w="31" h="47">
                      <a:moveTo>
                        <a:pt x="31" y="3"/>
                      </a:moveTo>
                      <a:lnTo>
                        <a:pt x="23" y="12"/>
                      </a:lnTo>
                      <a:lnTo>
                        <a:pt x="12" y="25"/>
                      </a:lnTo>
                      <a:lnTo>
                        <a:pt x="12" y="35"/>
                      </a:lnTo>
                      <a:lnTo>
                        <a:pt x="12" y="38"/>
                      </a:lnTo>
                      <a:lnTo>
                        <a:pt x="19" y="38"/>
                      </a:lnTo>
                      <a:lnTo>
                        <a:pt x="19" y="41"/>
                      </a:lnTo>
                      <a:lnTo>
                        <a:pt x="19" y="47"/>
                      </a:lnTo>
                      <a:lnTo>
                        <a:pt x="15" y="47"/>
                      </a:lnTo>
                      <a:lnTo>
                        <a:pt x="4" y="44"/>
                      </a:lnTo>
                      <a:lnTo>
                        <a:pt x="0" y="35"/>
                      </a:lnTo>
                      <a:lnTo>
                        <a:pt x="0" y="25"/>
                      </a:lnTo>
                      <a:lnTo>
                        <a:pt x="12" y="9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1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29120" y="3938760"/>
                  <a:ext cx="547920" cy="493560"/>
                </a:xfrm>
                <a:custGeom>
                  <a:avLst/>
                  <a:gdLst/>
                  <a:ahLst/>
                  <a:rect l="l" t="t" r="r" b="b"/>
                  <a:pathLst>
                    <a:path w="370" h="311">
                      <a:moveTo>
                        <a:pt x="45" y="38"/>
                      </a:moveTo>
                      <a:lnTo>
                        <a:pt x="64" y="62"/>
                      </a:lnTo>
                      <a:lnTo>
                        <a:pt x="95" y="87"/>
                      </a:lnTo>
                      <a:lnTo>
                        <a:pt x="135" y="118"/>
                      </a:lnTo>
                      <a:lnTo>
                        <a:pt x="177" y="137"/>
                      </a:lnTo>
                      <a:lnTo>
                        <a:pt x="205" y="150"/>
                      </a:lnTo>
                      <a:lnTo>
                        <a:pt x="262" y="183"/>
                      </a:lnTo>
                      <a:lnTo>
                        <a:pt x="317" y="205"/>
                      </a:lnTo>
                      <a:lnTo>
                        <a:pt x="348" y="215"/>
                      </a:lnTo>
                      <a:lnTo>
                        <a:pt x="363" y="218"/>
                      </a:lnTo>
                      <a:lnTo>
                        <a:pt x="370" y="218"/>
                      </a:lnTo>
                      <a:lnTo>
                        <a:pt x="370" y="221"/>
                      </a:lnTo>
                      <a:lnTo>
                        <a:pt x="351" y="257"/>
                      </a:lnTo>
                      <a:lnTo>
                        <a:pt x="348" y="283"/>
                      </a:lnTo>
                      <a:lnTo>
                        <a:pt x="348" y="292"/>
                      </a:lnTo>
                      <a:lnTo>
                        <a:pt x="344" y="311"/>
                      </a:lnTo>
                      <a:lnTo>
                        <a:pt x="258" y="276"/>
                      </a:lnTo>
                      <a:lnTo>
                        <a:pt x="243" y="273"/>
                      </a:lnTo>
                      <a:lnTo>
                        <a:pt x="158" y="240"/>
                      </a:lnTo>
                      <a:lnTo>
                        <a:pt x="139" y="230"/>
                      </a:lnTo>
                      <a:lnTo>
                        <a:pt x="127" y="218"/>
                      </a:lnTo>
                      <a:lnTo>
                        <a:pt x="108" y="211"/>
                      </a:lnTo>
                      <a:lnTo>
                        <a:pt x="101" y="202"/>
                      </a:lnTo>
                      <a:lnTo>
                        <a:pt x="72" y="183"/>
                      </a:lnTo>
                      <a:lnTo>
                        <a:pt x="57" y="159"/>
                      </a:lnTo>
                      <a:lnTo>
                        <a:pt x="45" y="125"/>
                      </a:lnTo>
                      <a:lnTo>
                        <a:pt x="34" y="109"/>
                      </a:lnTo>
                      <a:lnTo>
                        <a:pt x="19" y="99"/>
                      </a:lnTo>
                      <a:lnTo>
                        <a:pt x="11" y="90"/>
                      </a:lnTo>
                      <a:lnTo>
                        <a:pt x="11" y="84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4" y="50"/>
                      </a:lnTo>
                      <a:lnTo>
                        <a:pt x="7" y="47"/>
                      </a:lnTo>
                      <a:lnTo>
                        <a:pt x="15" y="35"/>
                      </a:lnTo>
                      <a:lnTo>
                        <a:pt x="26" y="0"/>
                      </a:lnTo>
                      <a:lnTo>
                        <a:pt x="42" y="25"/>
                      </a:lnTo>
                      <a:lnTo>
                        <a:pt x="45" y="38"/>
                      </a:lnTo>
                      <a:close/>
                    </a:path>
                  </a:pathLst>
                </a:custGeom>
                <a:solidFill>
                  <a:srgbClr val="ffc2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129120" y="3938760"/>
                  <a:ext cx="547920" cy="493560"/>
                </a:xfrm>
                <a:custGeom>
                  <a:avLst/>
                  <a:gdLst/>
                  <a:ahLst/>
                  <a:rect l="l" t="t" r="r" b="b"/>
                  <a:pathLst>
                    <a:path w="370" h="311">
                      <a:moveTo>
                        <a:pt x="45" y="38"/>
                      </a:moveTo>
                      <a:lnTo>
                        <a:pt x="64" y="62"/>
                      </a:lnTo>
                      <a:lnTo>
                        <a:pt x="95" y="87"/>
                      </a:lnTo>
                      <a:lnTo>
                        <a:pt x="135" y="118"/>
                      </a:lnTo>
                      <a:lnTo>
                        <a:pt x="177" y="137"/>
                      </a:lnTo>
                      <a:lnTo>
                        <a:pt x="205" y="150"/>
                      </a:lnTo>
                      <a:lnTo>
                        <a:pt x="262" y="183"/>
                      </a:lnTo>
                      <a:lnTo>
                        <a:pt x="317" y="205"/>
                      </a:lnTo>
                      <a:lnTo>
                        <a:pt x="348" y="215"/>
                      </a:lnTo>
                      <a:lnTo>
                        <a:pt x="363" y="218"/>
                      </a:lnTo>
                      <a:lnTo>
                        <a:pt x="370" y="218"/>
                      </a:lnTo>
                      <a:lnTo>
                        <a:pt x="370" y="221"/>
                      </a:lnTo>
                      <a:lnTo>
                        <a:pt x="351" y="257"/>
                      </a:lnTo>
                      <a:lnTo>
                        <a:pt x="348" y="283"/>
                      </a:lnTo>
                      <a:lnTo>
                        <a:pt x="348" y="292"/>
                      </a:lnTo>
                      <a:lnTo>
                        <a:pt x="344" y="311"/>
                      </a:lnTo>
                      <a:lnTo>
                        <a:pt x="258" y="276"/>
                      </a:lnTo>
                      <a:lnTo>
                        <a:pt x="243" y="273"/>
                      </a:lnTo>
                      <a:lnTo>
                        <a:pt x="158" y="240"/>
                      </a:lnTo>
                      <a:lnTo>
                        <a:pt x="139" y="230"/>
                      </a:lnTo>
                      <a:lnTo>
                        <a:pt x="127" y="218"/>
                      </a:lnTo>
                      <a:lnTo>
                        <a:pt x="108" y="211"/>
                      </a:lnTo>
                      <a:lnTo>
                        <a:pt x="101" y="202"/>
                      </a:lnTo>
                      <a:lnTo>
                        <a:pt x="72" y="183"/>
                      </a:lnTo>
                      <a:lnTo>
                        <a:pt x="57" y="159"/>
                      </a:lnTo>
                      <a:lnTo>
                        <a:pt x="45" y="125"/>
                      </a:lnTo>
                      <a:lnTo>
                        <a:pt x="34" y="109"/>
                      </a:lnTo>
                      <a:lnTo>
                        <a:pt x="19" y="99"/>
                      </a:lnTo>
                      <a:lnTo>
                        <a:pt x="11" y="90"/>
                      </a:lnTo>
                      <a:lnTo>
                        <a:pt x="11" y="84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4" y="50"/>
                      </a:lnTo>
                      <a:lnTo>
                        <a:pt x="7" y="47"/>
                      </a:lnTo>
                      <a:lnTo>
                        <a:pt x="15" y="35"/>
                      </a:lnTo>
                      <a:lnTo>
                        <a:pt x="26" y="0"/>
                      </a:lnTo>
                      <a:lnTo>
                        <a:pt x="42" y="25"/>
                      </a:lnTo>
                      <a:lnTo>
                        <a:pt x="45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539520" y="3952800"/>
                  <a:ext cx="452880" cy="142920"/>
                </a:xfrm>
                <a:custGeom>
                  <a:avLst/>
                  <a:gdLst/>
                  <a:ahLst/>
                  <a:rect l="l" t="t" r="r" b="b"/>
                  <a:pathLst>
                    <a:path w="306" h="90">
                      <a:moveTo>
                        <a:pt x="160" y="10"/>
                      </a:moveTo>
                      <a:lnTo>
                        <a:pt x="190" y="16"/>
                      </a:lnTo>
                      <a:lnTo>
                        <a:pt x="198" y="16"/>
                      </a:lnTo>
                      <a:lnTo>
                        <a:pt x="213" y="10"/>
                      </a:lnTo>
                      <a:lnTo>
                        <a:pt x="225" y="10"/>
                      </a:lnTo>
                      <a:lnTo>
                        <a:pt x="236" y="10"/>
                      </a:lnTo>
                      <a:lnTo>
                        <a:pt x="266" y="29"/>
                      </a:lnTo>
                      <a:lnTo>
                        <a:pt x="283" y="29"/>
                      </a:lnTo>
                      <a:lnTo>
                        <a:pt x="291" y="26"/>
                      </a:lnTo>
                      <a:lnTo>
                        <a:pt x="299" y="29"/>
                      </a:lnTo>
                      <a:lnTo>
                        <a:pt x="306" y="32"/>
                      </a:lnTo>
                      <a:lnTo>
                        <a:pt x="302" y="38"/>
                      </a:lnTo>
                      <a:lnTo>
                        <a:pt x="259" y="56"/>
                      </a:lnTo>
                      <a:lnTo>
                        <a:pt x="236" y="68"/>
                      </a:lnTo>
                      <a:lnTo>
                        <a:pt x="206" y="81"/>
                      </a:lnTo>
                      <a:lnTo>
                        <a:pt x="187" y="90"/>
                      </a:lnTo>
                      <a:lnTo>
                        <a:pt x="171" y="90"/>
                      </a:lnTo>
                      <a:lnTo>
                        <a:pt x="120" y="84"/>
                      </a:lnTo>
                      <a:lnTo>
                        <a:pt x="93" y="75"/>
                      </a:lnTo>
                      <a:lnTo>
                        <a:pt x="42" y="41"/>
                      </a:lnTo>
                      <a:lnTo>
                        <a:pt x="23" y="32"/>
                      </a:lnTo>
                      <a:lnTo>
                        <a:pt x="4" y="26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4" y="13"/>
                      </a:lnTo>
                      <a:lnTo>
                        <a:pt x="35" y="16"/>
                      </a:lnTo>
                      <a:lnTo>
                        <a:pt x="67" y="10"/>
                      </a:lnTo>
                      <a:lnTo>
                        <a:pt x="93" y="7"/>
                      </a:lnTo>
                      <a:lnTo>
                        <a:pt x="116" y="0"/>
                      </a:lnTo>
                      <a:lnTo>
                        <a:pt x="135" y="4"/>
                      </a:lnTo>
                      <a:lnTo>
                        <a:pt x="16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539520" y="3952800"/>
                  <a:ext cx="452880" cy="142920"/>
                </a:xfrm>
                <a:custGeom>
                  <a:avLst/>
                  <a:gdLst/>
                  <a:ahLst/>
                  <a:rect l="l" t="t" r="r" b="b"/>
                  <a:pathLst>
                    <a:path w="306" h="90">
                      <a:moveTo>
                        <a:pt x="160" y="10"/>
                      </a:moveTo>
                      <a:lnTo>
                        <a:pt x="190" y="16"/>
                      </a:lnTo>
                      <a:lnTo>
                        <a:pt x="198" y="16"/>
                      </a:lnTo>
                      <a:lnTo>
                        <a:pt x="213" y="10"/>
                      </a:lnTo>
                      <a:lnTo>
                        <a:pt x="225" y="10"/>
                      </a:lnTo>
                      <a:lnTo>
                        <a:pt x="236" y="10"/>
                      </a:lnTo>
                      <a:lnTo>
                        <a:pt x="266" y="29"/>
                      </a:lnTo>
                      <a:lnTo>
                        <a:pt x="283" y="29"/>
                      </a:lnTo>
                      <a:lnTo>
                        <a:pt x="291" y="26"/>
                      </a:lnTo>
                      <a:lnTo>
                        <a:pt x="299" y="29"/>
                      </a:lnTo>
                      <a:lnTo>
                        <a:pt x="306" y="32"/>
                      </a:lnTo>
                      <a:lnTo>
                        <a:pt x="302" y="38"/>
                      </a:lnTo>
                      <a:lnTo>
                        <a:pt x="259" y="56"/>
                      </a:lnTo>
                      <a:lnTo>
                        <a:pt x="236" y="68"/>
                      </a:lnTo>
                      <a:lnTo>
                        <a:pt x="206" y="81"/>
                      </a:lnTo>
                      <a:lnTo>
                        <a:pt x="187" y="90"/>
                      </a:lnTo>
                      <a:lnTo>
                        <a:pt x="171" y="90"/>
                      </a:lnTo>
                      <a:lnTo>
                        <a:pt x="120" y="84"/>
                      </a:lnTo>
                      <a:lnTo>
                        <a:pt x="93" y="75"/>
                      </a:lnTo>
                      <a:lnTo>
                        <a:pt x="42" y="41"/>
                      </a:lnTo>
                      <a:lnTo>
                        <a:pt x="23" y="32"/>
                      </a:lnTo>
                      <a:lnTo>
                        <a:pt x="4" y="26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4" y="13"/>
                      </a:lnTo>
                      <a:lnTo>
                        <a:pt x="35" y="16"/>
                      </a:lnTo>
                      <a:lnTo>
                        <a:pt x="67" y="10"/>
                      </a:lnTo>
                      <a:lnTo>
                        <a:pt x="93" y="7"/>
                      </a:lnTo>
                      <a:lnTo>
                        <a:pt x="116" y="0"/>
                      </a:lnTo>
                      <a:lnTo>
                        <a:pt x="135" y="4"/>
                      </a:lnTo>
                      <a:lnTo>
                        <a:pt x="16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644640" y="3973680"/>
                  <a:ext cx="255960" cy="34920"/>
                </a:xfrm>
                <a:custGeom>
                  <a:avLst/>
                  <a:gdLst/>
                  <a:ahLst/>
                  <a:rect l="l" t="t" r="r" b="b"/>
                  <a:pathLst>
                    <a:path w="173" h="22">
                      <a:moveTo>
                        <a:pt x="83" y="6"/>
                      </a:moveTo>
                      <a:lnTo>
                        <a:pt x="104" y="13"/>
                      </a:lnTo>
                      <a:lnTo>
                        <a:pt x="157" y="13"/>
                      </a:lnTo>
                      <a:lnTo>
                        <a:pt x="169" y="16"/>
                      </a:lnTo>
                      <a:lnTo>
                        <a:pt x="173" y="19"/>
                      </a:lnTo>
                      <a:lnTo>
                        <a:pt x="173" y="22"/>
                      </a:lnTo>
                      <a:lnTo>
                        <a:pt x="161" y="19"/>
                      </a:lnTo>
                      <a:lnTo>
                        <a:pt x="146" y="16"/>
                      </a:lnTo>
                      <a:lnTo>
                        <a:pt x="112" y="16"/>
                      </a:lnTo>
                      <a:lnTo>
                        <a:pt x="81" y="10"/>
                      </a:lnTo>
                      <a:lnTo>
                        <a:pt x="49" y="6"/>
                      </a:lnTo>
                      <a:lnTo>
                        <a:pt x="0" y="10"/>
                      </a:lnTo>
                      <a:lnTo>
                        <a:pt x="34" y="3"/>
                      </a:lnTo>
                      <a:lnTo>
                        <a:pt x="45" y="0"/>
                      </a:lnTo>
                      <a:lnTo>
                        <a:pt x="64" y="0"/>
                      </a:lnTo>
                      <a:lnTo>
                        <a:pt x="83" y="6"/>
                      </a:lnTo>
                      <a:close/>
                    </a:path>
                  </a:pathLst>
                </a:custGeom>
                <a:solidFill>
                  <a:srgbClr val="ff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644640" y="3973680"/>
                  <a:ext cx="255960" cy="34920"/>
                </a:xfrm>
                <a:custGeom>
                  <a:avLst/>
                  <a:gdLst/>
                  <a:ahLst/>
                  <a:rect l="l" t="t" r="r" b="b"/>
                  <a:pathLst>
                    <a:path w="173" h="22">
                      <a:moveTo>
                        <a:pt x="83" y="6"/>
                      </a:moveTo>
                      <a:lnTo>
                        <a:pt x="104" y="13"/>
                      </a:lnTo>
                      <a:lnTo>
                        <a:pt x="157" y="13"/>
                      </a:lnTo>
                      <a:lnTo>
                        <a:pt x="169" y="16"/>
                      </a:lnTo>
                      <a:lnTo>
                        <a:pt x="173" y="19"/>
                      </a:lnTo>
                      <a:lnTo>
                        <a:pt x="173" y="22"/>
                      </a:lnTo>
                      <a:lnTo>
                        <a:pt x="161" y="19"/>
                      </a:lnTo>
                      <a:lnTo>
                        <a:pt x="146" y="16"/>
                      </a:lnTo>
                      <a:lnTo>
                        <a:pt x="112" y="16"/>
                      </a:lnTo>
                      <a:lnTo>
                        <a:pt x="81" y="10"/>
                      </a:lnTo>
                      <a:lnTo>
                        <a:pt x="49" y="6"/>
                      </a:lnTo>
                      <a:lnTo>
                        <a:pt x="0" y="10"/>
                      </a:lnTo>
                      <a:lnTo>
                        <a:pt x="34" y="3"/>
                      </a:lnTo>
                      <a:lnTo>
                        <a:pt x="45" y="0"/>
                      </a:lnTo>
                      <a:lnTo>
                        <a:pt x="64" y="0"/>
                      </a:lnTo>
                      <a:lnTo>
                        <a:pt x="83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677400" y="4008600"/>
                  <a:ext cx="227880" cy="33120"/>
                </a:xfrm>
                <a:custGeom>
                  <a:avLst/>
                  <a:gdLst/>
                  <a:ahLst/>
                  <a:rect l="l" t="t" r="r" b="b"/>
                  <a:pathLst>
                    <a:path w="154" h="21">
                      <a:moveTo>
                        <a:pt x="86" y="6"/>
                      </a:moveTo>
                      <a:lnTo>
                        <a:pt x="128" y="3"/>
                      </a:lnTo>
                      <a:lnTo>
                        <a:pt x="154" y="10"/>
                      </a:lnTo>
                      <a:lnTo>
                        <a:pt x="135" y="18"/>
                      </a:lnTo>
                      <a:lnTo>
                        <a:pt x="101" y="21"/>
                      </a:lnTo>
                      <a:lnTo>
                        <a:pt x="90" y="18"/>
                      </a:lnTo>
                      <a:lnTo>
                        <a:pt x="54" y="13"/>
                      </a:lnTo>
                      <a:lnTo>
                        <a:pt x="23" y="13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6" y="0"/>
                      </a:lnTo>
                      <a:lnTo>
                        <a:pt x="54" y="0"/>
                      </a:lnTo>
                      <a:lnTo>
                        <a:pt x="86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677400" y="4008600"/>
                  <a:ext cx="227880" cy="33120"/>
                </a:xfrm>
                <a:custGeom>
                  <a:avLst/>
                  <a:gdLst/>
                  <a:ahLst/>
                  <a:rect l="l" t="t" r="r" b="b"/>
                  <a:pathLst>
                    <a:path w="154" h="21">
                      <a:moveTo>
                        <a:pt x="86" y="6"/>
                      </a:moveTo>
                      <a:lnTo>
                        <a:pt x="128" y="3"/>
                      </a:lnTo>
                      <a:lnTo>
                        <a:pt x="154" y="10"/>
                      </a:lnTo>
                      <a:lnTo>
                        <a:pt x="135" y="18"/>
                      </a:lnTo>
                      <a:lnTo>
                        <a:pt x="101" y="21"/>
                      </a:lnTo>
                      <a:lnTo>
                        <a:pt x="90" y="18"/>
                      </a:lnTo>
                      <a:lnTo>
                        <a:pt x="54" y="13"/>
                      </a:lnTo>
                      <a:lnTo>
                        <a:pt x="23" y="13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6" y="0"/>
                      </a:lnTo>
                      <a:lnTo>
                        <a:pt x="54" y="0"/>
                      </a:lnTo>
                      <a:lnTo>
                        <a:pt x="86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660840" y="4029120"/>
                  <a:ext cx="187920" cy="52200"/>
                </a:xfrm>
                <a:custGeom>
                  <a:avLst/>
                  <a:gdLst/>
                  <a:ahLst/>
                  <a:rect l="l" t="t" r="r" b="b"/>
                  <a:pathLst>
                    <a:path w="127" h="33">
                      <a:moveTo>
                        <a:pt x="86" y="20"/>
                      </a:moveTo>
                      <a:lnTo>
                        <a:pt x="127" y="20"/>
                      </a:lnTo>
                      <a:lnTo>
                        <a:pt x="127" y="23"/>
                      </a:lnTo>
                      <a:lnTo>
                        <a:pt x="108" y="33"/>
                      </a:lnTo>
                      <a:lnTo>
                        <a:pt x="89" y="33"/>
                      </a:lnTo>
                      <a:lnTo>
                        <a:pt x="65" y="33"/>
                      </a:lnTo>
                      <a:lnTo>
                        <a:pt x="42" y="23"/>
                      </a:lnTo>
                      <a:lnTo>
                        <a:pt x="0" y="0"/>
                      </a:lnTo>
                      <a:lnTo>
                        <a:pt x="38" y="14"/>
                      </a:lnTo>
                      <a:lnTo>
                        <a:pt x="86" y="20"/>
                      </a:lnTo>
                      <a:close/>
                    </a:path>
                  </a:pathLst>
                </a:custGeom>
                <a:solidFill>
                  <a:srgbClr val="ff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660840" y="4029120"/>
                  <a:ext cx="187920" cy="52200"/>
                </a:xfrm>
                <a:custGeom>
                  <a:avLst/>
                  <a:gdLst/>
                  <a:ahLst/>
                  <a:rect l="l" t="t" r="r" b="b"/>
                  <a:pathLst>
                    <a:path w="127" h="33">
                      <a:moveTo>
                        <a:pt x="86" y="20"/>
                      </a:moveTo>
                      <a:lnTo>
                        <a:pt x="127" y="20"/>
                      </a:lnTo>
                      <a:lnTo>
                        <a:pt x="127" y="23"/>
                      </a:lnTo>
                      <a:lnTo>
                        <a:pt x="108" y="33"/>
                      </a:lnTo>
                      <a:lnTo>
                        <a:pt x="89" y="33"/>
                      </a:lnTo>
                      <a:lnTo>
                        <a:pt x="65" y="33"/>
                      </a:lnTo>
                      <a:lnTo>
                        <a:pt x="42" y="23"/>
                      </a:lnTo>
                      <a:lnTo>
                        <a:pt x="0" y="0"/>
                      </a:lnTo>
                      <a:lnTo>
                        <a:pt x="38" y="14"/>
                      </a:lnTo>
                      <a:lnTo>
                        <a:pt x="86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>
                <a:off x="3717360" y="4137120"/>
                <a:ext cx="120960" cy="23760"/>
              </a:xfrm>
              <a:custGeom>
                <a:avLst/>
                <a:gdLst/>
                <a:ahLst/>
                <a:rect l="l" t="t" r="r" b="b"/>
                <a:pathLst>
                  <a:path w="82" h="15">
                    <a:moveTo>
                      <a:pt x="40" y="3"/>
                    </a:moveTo>
                    <a:lnTo>
                      <a:pt x="44" y="3"/>
                    </a:lnTo>
                    <a:lnTo>
                      <a:pt x="78" y="6"/>
                    </a:lnTo>
                    <a:lnTo>
                      <a:pt x="82" y="12"/>
                    </a:lnTo>
                    <a:lnTo>
                      <a:pt x="82" y="15"/>
                    </a:lnTo>
                    <a:lnTo>
                      <a:pt x="78" y="15"/>
                    </a:lnTo>
                    <a:lnTo>
                      <a:pt x="51" y="12"/>
                    </a:lnTo>
                    <a:lnTo>
                      <a:pt x="32" y="15"/>
                    </a:lnTo>
                    <a:lnTo>
                      <a:pt x="11" y="12"/>
                    </a:lnTo>
                    <a:lnTo>
                      <a:pt x="4" y="12"/>
                    </a:lnTo>
                    <a:lnTo>
                      <a:pt x="0" y="9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23" y="3"/>
                    </a:lnTo>
                    <a:lnTo>
                      <a:pt x="4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17360" y="4137120"/>
                <a:ext cx="120960" cy="23760"/>
              </a:xfrm>
              <a:custGeom>
                <a:avLst/>
                <a:gdLst/>
                <a:ahLst/>
                <a:rect l="l" t="t" r="r" b="b"/>
                <a:pathLst>
                  <a:path w="82" h="15">
                    <a:moveTo>
                      <a:pt x="40" y="3"/>
                    </a:moveTo>
                    <a:lnTo>
                      <a:pt x="44" y="3"/>
                    </a:lnTo>
                    <a:lnTo>
                      <a:pt x="78" y="6"/>
                    </a:lnTo>
                    <a:lnTo>
                      <a:pt x="82" y="12"/>
                    </a:lnTo>
                    <a:lnTo>
                      <a:pt x="82" y="15"/>
                    </a:lnTo>
                    <a:lnTo>
                      <a:pt x="78" y="15"/>
                    </a:lnTo>
                    <a:lnTo>
                      <a:pt x="51" y="12"/>
                    </a:lnTo>
                    <a:lnTo>
                      <a:pt x="32" y="15"/>
                    </a:lnTo>
                    <a:lnTo>
                      <a:pt x="11" y="12"/>
                    </a:lnTo>
                    <a:lnTo>
                      <a:pt x="4" y="12"/>
                    </a:lnTo>
                    <a:lnTo>
                      <a:pt x="0" y="9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23" y="3"/>
                    </a:lnTo>
                    <a:lnTo>
                      <a:pt x="4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967840" y="4172040"/>
                <a:ext cx="783000" cy="460440"/>
              </a:xfrm>
              <a:custGeom>
                <a:avLst/>
                <a:gdLst/>
                <a:ahLst/>
                <a:rect l="l" t="t" r="r" b="b"/>
                <a:pathLst>
                  <a:path w="529" h="290">
                    <a:moveTo>
                      <a:pt x="116" y="36"/>
                    </a:moveTo>
                    <a:lnTo>
                      <a:pt x="132" y="42"/>
                    </a:lnTo>
                    <a:lnTo>
                      <a:pt x="154" y="52"/>
                    </a:lnTo>
                    <a:lnTo>
                      <a:pt x="185" y="71"/>
                    </a:lnTo>
                    <a:lnTo>
                      <a:pt x="198" y="80"/>
                    </a:lnTo>
                    <a:lnTo>
                      <a:pt x="202" y="87"/>
                    </a:lnTo>
                    <a:lnTo>
                      <a:pt x="225" y="104"/>
                    </a:lnTo>
                    <a:lnTo>
                      <a:pt x="229" y="104"/>
                    </a:lnTo>
                    <a:lnTo>
                      <a:pt x="240" y="113"/>
                    </a:lnTo>
                    <a:lnTo>
                      <a:pt x="251" y="126"/>
                    </a:lnTo>
                    <a:lnTo>
                      <a:pt x="282" y="145"/>
                    </a:lnTo>
                    <a:lnTo>
                      <a:pt x="305" y="154"/>
                    </a:lnTo>
                    <a:lnTo>
                      <a:pt x="333" y="164"/>
                    </a:lnTo>
                    <a:lnTo>
                      <a:pt x="341" y="164"/>
                    </a:lnTo>
                    <a:lnTo>
                      <a:pt x="390" y="180"/>
                    </a:lnTo>
                    <a:lnTo>
                      <a:pt x="464" y="210"/>
                    </a:lnTo>
                    <a:lnTo>
                      <a:pt x="472" y="216"/>
                    </a:lnTo>
                    <a:lnTo>
                      <a:pt x="498" y="248"/>
                    </a:lnTo>
                    <a:lnTo>
                      <a:pt x="506" y="257"/>
                    </a:lnTo>
                    <a:lnTo>
                      <a:pt x="529" y="287"/>
                    </a:lnTo>
                    <a:lnTo>
                      <a:pt x="529" y="290"/>
                    </a:lnTo>
                    <a:lnTo>
                      <a:pt x="521" y="282"/>
                    </a:lnTo>
                    <a:lnTo>
                      <a:pt x="491" y="260"/>
                    </a:lnTo>
                    <a:lnTo>
                      <a:pt x="449" y="238"/>
                    </a:lnTo>
                    <a:lnTo>
                      <a:pt x="421" y="229"/>
                    </a:lnTo>
                    <a:lnTo>
                      <a:pt x="405" y="226"/>
                    </a:lnTo>
                    <a:lnTo>
                      <a:pt x="394" y="222"/>
                    </a:lnTo>
                    <a:lnTo>
                      <a:pt x="371" y="219"/>
                    </a:lnTo>
                    <a:lnTo>
                      <a:pt x="344" y="216"/>
                    </a:lnTo>
                    <a:lnTo>
                      <a:pt x="289" y="207"/>
                    </a:lnTo>
                    <a:lnTo>
                      <a:pt x="248" y="197"/>
                    </a:lnTo>
                    <a:lnTo>
                      <a:pt x="192" y="170"/>
                    </a:lnTo>
                    <a:lnTo>
                      <a:pt x="143" y="151"/>
                    </a:lnTo>
                    <a:lnTo>
                      <a:pt x="77" y="132"/>
                    </a:lnTo>
                    <a:lnTo>
                      <a:pt x="42" y="117"/>
                    </a:lnTo>
                    <a:lnTo>
                      <a:pt x="12" y="96"/>
                    </a:lnTo>
                    <a:lnTo>
                      <a:pt x="4" y="87"/>
                    </a:lnTo>
                    <a:lnTo>
                      <a:pt x="0" y="77"/>
                    </a:lnTo>
                    <a:lnTo>
                      <a:pt x="0" y="68"/>
                    </a:lnTo>
                    <a:lnTo>
                      <a:pt x="8" y="58"/>
                    </a:lnTo>
                    <a:lnTo>
                      <a:pt x="12" y="58"/>
                    </a:lnTo>
                    <a:lnTo>
                      <a:pt x="50" y="3"/>
                    </a:lnTo>
                    <a:lnTo>
                      <a:pt x="54" y="3"/>
                    </a:lnTo>
                    <a:lnTo>
                      <a:pt x="58" y="0"/>
                    </a:lnTo>
                    <a:lnTo>
                      <a:pt x="92" y="27"/>
                    </a:lnTo>
                    <a:lnTo>
                      <a:pt x="116" y="36"/>
                    </a:lnTo>
                    <a:close/>
                  </a:path>
                </a:pathLst>
              </a:custGeom>
              <a:solidFill>
                <a:srgbClr val="ffc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967840" y="4172040"/>
                <a:ext cx="783000" cy="460440"/>
              </a:xfrm>
              <a:custGeom>
                <a:avLst/>
                <a:gdLst/>
                <a:ahLst/>
                <a:rect l="l" t="t" r="r" b="b"/>
                <a:pathLst>
                  <a:path w="529" h="290">
                    <a:moveTo>
                      <a:pt x="116" y="36"/>
                    </a:moveTo>
                    <a:lnTo>
                      <a:pt x="132" y="42"/>
                    </a:lnTo>
                    <a:lnTo>
                      <a:pt x="154" y="52"/>
                    </a:lnTo>
                    <a:lnTo>
                      <a:pt x="185" y="71"/>
                    </a:lnTo>
                    <a:lnTo>
                      <a:pt x="198" y="80"/>
                    </a:lnTo>
                    <a:lnTo>
                      <a:pt x="202" y="87"/>
                    </a:lnTo>
                    <a:lnTo>
                      <a:pt x="225" y="104"/>
                    </a:lnTo>
                    <a:lnTo>
                      <a:pt x="229" y="104"/>
                    </a:lnTo>
                    <a:lnTo>
                      <a:pt x="240" y="113"/>
                    </a:lnTo>
                    <a:lnTo>
                      <a:pt x="251" y="126"/>
                    </a:lnTo>
                    <a:lnTo>
                      <a:pt x="282" y="145"/>
                    </a:lnTo>
                    <a:lnTo>
                      <a:pt x="305" y="154"/>
                    </a:lnTo>
                    <a:lnTo>
                      <a:pt x="333" y="164"/>
                    </a:lnTo>
                    <a:lnTo>
                      <a:pt x="341" y="164"/>
                    </a:lnTo>
                    <a:lnTo>
                      <a:pt x="390" y="180"/>
                    </a:lnTo>
                    <a:lnTo>
                      <a:pt x="464" y="210"/>
                    </a:lnTo>
                    <a:lnTo>
                      <a:pt x="472" y="216"/>
                    </a:lnTo>
                    <a:lnTo>
                      <a:pt x="498" y="248"/>
                    </a:lnTo>
                    <a:lnTo>
                      <a:pt x="506" y="257"/>
                    </a:lnTo>
                    <a:lnTo>
                      <a:pt x="529" y="287"/>
                    </a:lnTo>
                    <a:lnTo>
                      <a:pt x="529" y="290"/>
                    </a:lnTo>
                    <a:lnTo>
                      <a:pt x="521" y="282"/>
                    </a:lnTo>
                    <a:lnTo>
                      <a:pt x="491" y="260"/>
                    </a:lnTo>
                    <a:lnTo>
                      <a:pt x="449" y="238"/>
                    </a:lnTo>
                    <a:lnTo>
                      <a:pt x="421" y="229"/>
                    </a:lnTo>
                    <a:lnTo>
                      <a:pt x="405" y="226"/>
                    </a:lnTo>
                    <a:lnTo>
                      <a:pt x="394" y="222"/>
                    </a:lnTo>
                    <a:lnTo>
                      <a:pt x="371" y="219"/>
                    </a:lnTo>
                    <a:lnTo>
                      <a:pt x="344" y="216"/>
                    </a:lnTo>
                    <a:lnTo>
                      <a:pt x="289" y="207"/>
                    </a:lnTo>
                    <a:lnTo>
                      <a:pt x="248" y="197"/>
                    </a:lnTo>
                    <a:lnTo>
                      <a:pt x="192" y="170"/>
                    </a:lnTo>
                    <a:lnTo>
                      <a:pt x="143" y="151"/>
                    </a:lnTo>
                    <a:lnTo>
                      <a:pt x="77" y="132"/>
                    </a:lnTo>
                    <a:lnTo>
                      <a:pt x="42" y="117"/>
                    </a:lnTo>
                    <a:lnTo>
                      <a:pt x="12" y="96"/>
                    </a:lnTo>
                    <a:lnTo>
                      <a:pt x="4" y="87"/>
                    </a:lnTo>
                    <a:lnTo>
                      <a:pt x="0" y="77"/>
                    </a:lnTo>
                    <a:lnTo>
                      <a:pt x="0" y="68"/>
                    </a:lnTo>
                    <a:lnTo>
                      <a:pt x="8" y="58"/>
                    </a:lnTo>
                    <a:lnTo>
                      <a:pt x="12" y="58"/>
                    </a:lnTo>
                    <a:lnTo>
                      <a:pt x="50" y="3"/>
                    </a:lnTo>
                    <a:lnTo>
                      <a:pt x="54" y="3"/>
                    </a:lnTo>
                    <a:lnTo>
                      <a:pt x="58" y="0"/>
                    </a:lnTo>
                    <a:lnTo>
                      <a:pt x="92" y="27"/>
                    </a:lnTo>
                    <a:lnTo>
                      <a:pt x="116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52560" y="2678040"/>
                <a:ext cx="1731240" cy="1959120"/>
              </a:xfrm>
              <a:custGeom>
                <a:avLst/>
                <a:gdLst/>
                <a:ahLst/>
                <a:rect l="l" t="t" r="r" b="b"/>
                <a:pathLst>
                  <a:path w="1169" h="1234">
                    <a:moveTo>
                      <a:pt x="736" y="6"/>
                    </a:moveTo>
                    <a:lnTo>
                      <a:pt x="755" y="13"/>
                    </a:lnTo>
                    <a:lnTo>
                      <a:pt x="766" y="13"/>
                    </a:lnTo>
                    <a:lnTo>
                      <a:pt x="770" y="13"/>
                    </a:lnTo>
                    <a:lnTo>
                      <a:pt x="785" y="16"/>
                    </a:lnTo>
                    <a:lnTo>
                      <a:pt x="797" y="16"/>
                    </a:lnTo>
                    <a:lnTo>
                      <a:pt x="814" y="19"/>
                    </a:lnTo>
                    <a:lnTo>
                      <a:pt x="833" y="27"/>
                    </a:lnTo>
                    <a:lnTo>
                      <a:pt x="860" y="36"/>
                    </a:lnTo>
                    <a:lnTo>
                      <a:pt x="898" y="52"/>
                    </a:lnTo>
                    <a:lnTo>
                      <a:pt x="941" y="74"/>
                    </a:lnTo>
                    <a:lnTo>
                      <a:pt x="964" y="87"/>
                    </a:lnTo>
                    <a:lnTo>
                      <a:pt x="979" y="103"/>
                    </a:lnTo>
                    <a:lnTo>
                      <a:pt x="998" y="115"/>
                    </a:lnTo>
                    <a:lnTo>
                      <a:pt x="1027" y="139"/>
                    </a:lnTo>
                    <a:lnTo>
                      <a:pt x="1084" y="202"/>
                    </a:lnTo>
                    <a:lnTo>
                      <a:pt x="1095" y="223"/>
                    </a:lnTo>
                    <a:lnTo>
                      <a:pt x="1103" y="232"/>
                    </a:lnTo>
                    <a:lnTo>
                      <a:pt x="1114" y="254"/>
                    </a:lnTo>
                    <a:lnTo>
                      <a:pt x="1139" y="301"/>
                    </a:lnTo>
                    <a:lnTo>
                      <a:pt x="1154" y="357"/>
                    </a:lnTo>
                    <a:lnTo>
                      <a:pt x="1162" y="415"/>
                    </a:lnTo>
                    <a:lnTo>
                      <a:pt x="1169" y="450"/>
                    </a:lnTo>
                    <a:lnTo>
                      <a:pt x="1169" y="475"/>
                    </a:lnTo>
                    <a:lnTo>
                      <a:pt x="1166" y="502"/>
                    </a:lnTo>
                    <a:lnTo>
                      <a:pt x="1166" y="508"/>
                    </a:lnTo>
                    <a:lnTo>
                      <a:pt x="1162" y="552"/>
                    </a:lnTo>
                    <a:lnTo>
                      <a:pt x="1154" y="578"/>
                    </a:lnTo>
                    <a:lnTo>
                      <a:pt x="1150" y="592"/>
                    </a:lnTo>
                    <a:lnTo>
                      <a:pt x="1126" y="614"/>
                    </a:lnTo>
                    <a:lnTo>
                      <a:pt x="1122" y="623"/>
                    </a:lnTo>
                    <a:lnTo>
                      <a:pt x="1088" y="665"/>
                    </a:lnTo>
                    <a:lnTo>
                      <a:pt x="1099" y="671"/>
                    </a:lnTo>
                    <a:lnTo>
                      <a:pt x="1107" y="679"/>
                    </a:lnTo>
                    <a:lnTo>
                      <a:pt x="1110" y="688"/>
                    </a:lnTo>
                    <a:lnTo>
                      <a:pt x="1110" y="704"/>
                    </a:lnTo>
                    <a:lnTo>
                      <a:pt x="1107" y="720"/>
                    </a:lnTo>
                    <a:lnTo>
                      <a:pt x="1088" y="742"/>
                    </a:lnTo>
                    <a:lnTo>
                      <a:pt x="1057" y="767"/>
                    </a:lnTo>
                    <a:lnTo>
                      <a:pt x="1046" y="778"/>
                    </a:lnTo>
                    <a:lnTo>
                      <a:pt x="1031" y="791"/>
                    </a:lnTo>
                    <a:lnTo>
                      <a:pt x="1027" y="794"/>
                    </a:lnTo>
                    <a:lnTo>
                      <a:pt x="1021" y="800"/>
                    </a:lnTo>
                    <a:lnTo>
                      <a:pt x="1002" y="832"/>
                    </a:lnTo>
                    <a:lnTo>
                      <a:pt x="994" y="841"/>
                    </a:lnTo>
                    <a:lnTo>
                      <a:pt x="972" y="874"/>
                    </a:lnTo>
                    <a:lnTo>
                      <a:pt x="956" y="890"/>
                    </a:lnTo>
                    <a:lnTo>
                      <a:pt x="949" y="897"/>
                    </a:lnTo>
                    <a:lnTo>
                      <a:pt x="941" y="906"/>
                    </a:lnTo>
                    <a:lnTo>
                      <a:pt x="937" y="909"/>
                    </a:lnTo>
                    <a:lnTo>
                      <a:pt x="920" y="916"/>
                    </a:lnTo>
                    <a:lnTo>
                      <a:pt x="909" y="916"/>
                    </a:lnTo>
                    <a:lnTo>
                      <a:pt x="882" y="912"/>
                    </a:lnTo>
                    <a:lnTo>
                      <a:pt x="875" y="909"/>
                    </a:lnTo>
                    <a:lnTo>
                      <a:pt x="867" y="919"/>
                    </a:lnTo>
                    <a:lnTo>
                      <a:pt x="856" y="941"/>
                    </a:lnTo>
                    <a:lnTo>
                      <a:pt x="837" y="964"/>
                    </a:lnTo>
                    <a:lnTo>
                      <a:pt x="818" y="983"/>
                    </a:lnTo>
                    <a:lnTo>
                      <a:pt x="789" y="999"/>
                    </a:lnTo>
                    <a:lnTo>
                      <a:pt x="755" y="1012"/>
                    </a:lnTo>
                    <a:lnTo>
                      <a:pt x="725" y="1024"/>
                    </a:lnTo>
                    <a:lnTo>
                      <a:pt x="717" y="1045"/>
                    </a:lnTo>
                    <a:lnTo>
                      <a:pt x="713" y="1058"/>
                    </a:lnTo>
                    <a:lnTo>
                      <a:pt x="706" y="1086"/>
                    </a:lnTo>
                    <a:lnTo>
                      <a:pt x="709" y="1086"/>
                    </a:lnTo>
                    <a:lnTo>
                      <a:pt x="725" y="1092"/>
                    </a:lnTo>
                    <a:lnTo>
                      <a:pt x="728" y="1099"/>
                    </a:lnTo>
                    <a:lnTo>
                      <a:pt x="736" y="1114"/>
                    </a:lnTo>
                    <a:lnTo>
                      <a:pt x="747" y="1127"/>
                    </a:lnTo>
                    <a:lnTo>
                      <a:pt x="747" y="1135"/>
                    </a:lnTo>
                    <a:lnTo>
                      <a:pt x="825" y="1167"/>
                    </a:lnTo>
                    <a:lnTo>
                      <a:pt x="867" y="1185"/>
                    </a:lnTo>
                    <a:lnTo>
                      <a:pt x="918" y="1214"/>
                    </a:lnTo>
                    <a:lnTo>
                      <a:pt x="937" y="1223"/>
                    </a:lnTo>
                    <a:lnTo>
                      <a:pt x="937" y="1228"/>
                    </a:lnTo>
                    <a:lnTo>
                      <a:pt x="937" y="1231"/>
                    </a:lnTo>
                    <a:lnTo>
                      <a:pt x="930" y="1234"/>
                    </a:lnTo>
                    <a:lnTo>
                      <a:pt x="920" y="1228"/>
                    </a:lnTo>
                    <a:lnTo>
                      <a:pt x="879" y="1204"/>
                    </a:lnTo>
                    <a:lnTo>
                      <a:pt x="860" y="1195"/>
                    </a:lnTo>
                    <a:lnTo>
                      <a:pt x="833" y="1185"/>
                    </a:lnTo>
                    <a:lnTo>
                      <a:pt x="829" y="1185"/>
                    </a:lnTo>
                    <a:lnTo>
                      <a:pt x="789" y="1167"/>
                    </a:lnTo>
                    <a:lnTo>
                      <a:pt x="759" y="1160"/>
                    </a:lnTo>
                    <a:lnTo>
                      <a:pt x="744" y="1157"/>
                    </a:lnTo>
                    <a:lnTo>
                      <a:pt x="728" y="1157"/>
                    </a:lnTo>
                    <a:lnTo>
                      <a:pt x="717" y="1160"/>
                    </a:lnTo>
                    <a:lnTo>
                      <a:pt x="658" y="1173"/>
                    </a:lnTo>
                    <a:lnTo>
                      <a:pt x="593" y="1192"/>
                    </a:lnTo>
                    <a:lnTo>
                      <a:pt x="546" y="1201"/>
                    </a:lnTo>
                    <a:lnTo>
                      <a:pt x="512" y="1208"/>
                    </a:lnTo>
                    <a:lnTo>
                      <a:pt x="489" y="1211"/>
                    </a:lnTo>
                    <a:lnTo>
                      <a:pt x="438" y="1214"/>
                    </a:lnTo>
                    <a:lnTo>
                      <a:pt x="365" y="1223"/>
                    </a:lnTo>
                    <a:lnTo>
                      <a:pt x="265" y="1228"/>
                    </a:lnTo>
                    <a:lnTo>
                      <a:pt x="194" y="1223"/>
                    </a:lnTo>
                    <a:lnTo>
                      <a:pt x="187" y="1223"/>
                    </a:lnTo>
                    <a:lnTo>
                      <a:pt x="116" y="1217"/>
                    </a:lnTo>
                    <a:lnTo>
                      <a:pt x="97" y="1214"/>
                    </a:lnTo>
                    <a:lnTo>
                      <a:pt x="82" y="1208"/>
                    </a:lnTo>
                    <a:lnTo>
                      <a:pt x="67" y="1204"/>
                    </a:lnTo>
                    <a:lnTo>
                      <a:pt x="40" y="1192"/>
                    </a:lnTo>
                    <a:lnTo>
                      <a:pt x="12" y="1170"/>
                    </a:lnTo>
                    <a:lnTo>
                      <a:pt x="0" y="1148"/>
                    </a:lnTo>
                    <a:lnTo>
                      <a:pt x="0" y="1121"/>
                    </a:lnTo>
                    <a:lnTo>
                      <a:pt x="0" y="1102"/>
                    </a:lnTo>
                    <a:lnTo>
                      <a:pt x="4" y="1095"/>
                    </a:lnTo>
                    <a:lnTo>
                      <a:pt x="20" y="1086"/>
                    </a:lnTo>
                    <a:lnTo>
                      <a:pt x="52" y="1070"/>
                    </a:lnTo>
                    <a:lnTo>
                      <a:pt x="86" y="1061"/>
                    </a:lnTo>
                    <a:lnTo>
                      <a:pt x="97" y="1058"/>
                    </a:lnTo>
                    <a:lnTo>
                      <a:pt x="105" y="1054"/>
                    </a:lnTo>
                    <a:lnTo>
                      <a:pt x="109" y="1054"/>
                    </a:lnTo>
                    <a:lnTo>
                      <a:pt x="116" y="1042"/>
                    </a:lnTo>
                    <a:lnTo>
                      <a:pt x="132" y="987"/>
                    </a:lnTo>
                    <a:lnTo>
                      <a:pt x="145" y="938"/>
                    </a:lnTo>
                    <a:lnTo>
                      <a:pt x="145" y="934"/>
                    </a:lnTo>
                    <a:lnTo>
                      <a:pt x="153" y="906"/>
                    </a:lnTo>
                    <a:lnTo>
                      <a:pt x="156" y="874"/>
                    </a:lnTo>
                    <a:lnTo>
                      <a:pt x="156" y="841"/>
                    </a:lnTo>
                    <a:lnTo>
                      <a:pt x="156" y="813"/>
                    </a:lnTo>
                    <a:lnTo>
                      <a:pt x="153" y="803"/>
                    </a:lnTo>
                    <a:lnTo>
                      <a:pt x="153" y="723"/>
                    </a:lnTo>
                    <a:lnTo>
                      <a:pt x="149" y="713"/>
                    </a:lnTo>
                    <a:lnTo>
                      <a:pt x="149" y="710"/>
                    </a:lnTo>
                    <a:lnTo>
                      <a:pt x="145" y="713"/>
                    </a:lnTo>
                    <a:lnTo>
                      <a:pt x="132" y="717"/>
                    </a:lnTo>
                    <a:lnTo>
                      <a:pt x="116" y="710"/>
                    </a:lnTo>
                    <a:lnTo>
                      <a:pt x="109" y="707"/>
                    </a:lnTo>
                    <a:lnTo>
                      <a:pt x="101" y="695"/>
                    </a:lnTo>
                    <a:lnTo>
                      <a:pt x="101" y="685"/>
                    </a:lnTo>
                    <a:lnTo>
                      <a:pt x="97" y="674"/>
                    </a:lnTo>
                    <a:lnTo>
                      <a:pt x="97" y="661"/>
                    </a:lnTo>
                    <a:lnTo>
                      <a:pt x="97" y="639"/>
                    </a:lnTo>
                    <a:lnTo>
                      <a:pt x="97" y="605"/>
                    </a:lnTo>
                    <a:lnTo>
                      <a:pt x="86" y="559"/>
                    </a:lnTo>
                    <a:lnTo>
                      <a:pt x="78" y="537"/>
                    </a:lnTo>
                    <a:lnTo>
                      <a:pt x="71" y="511"/>
                    </a:lnTo>
                    <a:lnTo>
                      <a:pt x="67" y="483"/>
                    </a:lnTo>
                    <a:lnTo>
                      <a:pt x="67" y="456"/>
                    </a:lnTo>
                    <a:lnTo>
                      <a:pt x="71" y="440"/>
                    </a:lnTo>
                    <a:lnTo>
                      <a:pt x="78" y="431"/>
                    </a:lnTo>
                    <a:lnTo>
                      <a:pt x="90" y="421"/>
                    </a:lnTo>
                    <a:lnTo>
                      <a:pt x="109" y="421"/>
                    </a:lnTo>
                    <a:lnTo>
                      <a:pt x="120" y="425"/>
                    </a:lnTo>
                    <a:lnTo>
                      <a:pt x="124" y="421"/>
                    </a:lnTo>
                    <a:lnTo>
                      <a:pt x="120" y="395"/>
                    </a:lnTo>
                    <a:lnTo>
                      <a:pt x="120" y="372"/>
                    </a:lnTo>
                    <a:lnTo>
                      <a:pt x="120" y="354"/>
                    </a:lnTo>
                    <a:lnTo>
                      <a:pt x="124" y="298"/>
                    </a:lnTo>
                    <a:lnTo>
                      <a:pt x="132" y="267"/>
                    </a:lnTo>
                    <a:lnTo>
                      <a:pt x="153" y="238"/>
                    </a:lnTo>
                    <a:lnTo>
                      <a:pt x="194" y="196"/>
                    </a:lnTo>
                    <a:lnTo>
                      <a:pt x="213" y="174"/>
                    </a:lnTo>
                    <a:lnTo>
                      <a:pt x="229" y="158"/>
                    </a:lnTo>
                    <a:lnTo>
                      <a:pt x="284" y="99"/>
                    </a:lnTo>
                    <a:lnTo>
                      <a:pt x="310" y="77"/>
                    </a:lnTo>
                    <a:lnTo>
                      <a:pt x="365" y="43"/>
                    </a:lnTo>
                    <a:lnTo>
                      <a:pt x="411" y="27"/>
                    </a:lnTo>
                    <a:lnTo>
                      <a:pt x="441" y="19"/>
                    </a:lnTo>
                    <a:lnTo>
                      <a:pt x="466" y="19"/>
                    </a:lnTo>
                    <a:lnTo>
                      <a:pt x="481" y="16"/>
                    </a:lnTo>
                    <a:lnTo>
                      <a:pt x="500" y="13"/>
                    </a:lnTo>
                    <a:lnTo>
                      <a:pt x="582" y="13"/>
                    </a:lnTo>
                    <a:lnTo>
                      <a:pt x="628" y="6"/>
                    </a:lnTo>
                    <a:lnTo>
                      <a:pt x="658" y="0"/>
                    </a:lnTo>
                    <a:lnTo>
                      <a:pt x="677" y="0"/>
                    </a:lnTo>
                    <a:lnTo>
                      <a:pt x="706" y="0"/>
                    </a:lnTo>
                    <a:lnTo>
                      <a:pt x="73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52560" y="2678040"/>
                <a:ext cx="1731240" cy="1959120"/>
              </a:xfrm>
              <a:custGeom>
                <a:avLst/>
                <a:gdLst/>
                <a:ahLst/>
                <a:rect l="l" t="t" r="r" b="b"/>
                <a:pathLst>
                  <a:path w="1169" h="1234">
                    <a:moveTo>
                      <a:pt x="736" y="6"/>
                    </a:moveTo>
                    <a:lnTo>
                      <a:pt x="755" y="13"/>
                    </a:lnTo>
                    <a:lnTo>
                      <a:pt x="766" y="13"/>
                    </a:lnTo>
                    <a:lnTo>
                      <a:pt x="770" y="13"/>
                    </a:lnTo>
                    <a:lnTo>
                      <a:pt x="785" y="16"/>
                    </a:lnTo>
                    <a:lnTo>
                      <a:pt x="797" y="16"/>
                    </a:lnTo>
                    <a:lnTo>
                      <a:pt x="814" y="19"/>
                    </a:lnTo>
                    <a:lnTo>
                      <a:pt x="833" y="27"/>
                    </a:lnTo>
                    <a:lnTo>
                      <a:pt x="860" y="36"/>
                    </a:lnTo>
                    <a:lnTo>
                      <a:pt x="898" y="52"/>
                    </a:lnTo>
                    <a:lnTo>
                      <a:pt x="941" y="74"/>
                    </a:lnTo>
                    <a:lnTo>
                      <a:pt x="964" y="87"/>
                    </a:lnTo>
                    <a:lnTo>
                      <a:pt x="979" y="103"/>
                    </a:lnTo>
                    <a:lnTo>
                      <a:pt x="998" y="115"/>
                    </a:lnTo>
                    <a:lnTo>
                      <a:pt x="1027" y="139"/>
                    </a:lnTo>
                    <a:lnTo>
                      <a:pt x="1084" y="202"/>
                    </a:lnTo>
                    <a:lnTo>
                      <a:pt x="1095" y="223"/>
                    </a:lnTo>
                    <a:lnTo>
                      <a:pt x="1103" y="232"/>
                    </a:lnTo>
                    <a:lnTo>
                      <a:pt x="1114" y="254"/>
                    </a:lnTo>
                    <a:lnTo>
                      <a:pt x="1139" y="301"/>
                    </a:lnTo>
                    <a:lnTo>
                      <a:pt x="1154" y="357"/>
                    </a:lnTo>
                    <a:lnTo>
                      <a:pt x="1162" y="415"/>
                    </a:lnTo>
                    <a:lnTo>
                      <a:pt x="1169" y="450"/>
                    </a:lnTo>
                    <a:lnTo>
                      <a:pt x="1169" y="475"/>
                    </a:lnTo>
                    <a:lnTo>
                      <a:pt x="1166" y="502"/>
                    </a:lnTo>
                    <a:lnTo>
                      <a:pt x="1166" y="508"/>
                    </a:lnTo>
                    <a:lnTo>
                      <a:pt x="1162" y="552"/>
                    </a:lnTo>
                    <a:lnTo>
                      <a:pt x="1154" y="578"/>
                    </a:lnTo>
                    <a:lnTo>
                      <a:pt x="1150" y="592"/>
                    </a:lnTo>
                    <a:lnTo>
                      <a:pt x="1126" y="614"/>
                    </a:lnTo>
                    <a:lnTo>
                      <a:pt x="1122" y="623"/>
                    </a:lnTo>
                    <a:lnTo>
                      <a:pt x="1088" y="665"/>
                    </a:lnTo>
                    <a:lnTo>
                      <a:pt x="1099" y="671"/>
                    </a:lnTo>
                    <a:lnTo>
                      <a:pt x="1107" y="679"/>
                    </a:lnTo>
                    <a:lnTo>
                      <a:pt x="1110" y="688"/>
                    </a:lnTo>
                    <a:lnTo>
                      <a:pt x="1110" y="704"/>
                    </a:lnTo>
                    <a:lnTo>
                      <a:pt x="1107" y="720"/>
                    </a:lnTo>
                    <a:lnTo>
                      <a:pt x="1088" y="742"/>
                    </a:lnTo>
                    <a:lnTo>
                      <a:pt x="1057" y="767"/>
                    </a:lnTo>
                    <a:lnTo>
                      <a:pt x="1046" y="778"/>
                    </a:lnTo>
                    <a:lnTo>
                      <a:pt x="1031" y="791"/>
                    </a:lnTo>
                    <a:lnTo>
                      <a:pt x="1027" y="794"/>
                    </a:lnTo>
                    <a:lnTo>
                      <a:pt x="1021" y="800"/>
                    </a:lnTo>
                    <a:lnTo>
                      <a:pt x="1002" y="832"/>
                    </a:lnTo>
                    <a:lnTo>
                      <a:pt x="994" y="841"/>
                    </a:lnTo>
                    <a:lnTo>
                      <a:pt x="972" y="874"/>
                    </a:lnTo>
                    <a:lnTo>
                      <a:pt x="956" y="890"/>
                    </a:lnTo>
                    <a:lnTo>
                      <a:pt x="949" y="897"/>
                    </a:lnTo>
                    <a:lnTo>
                      <a:pt x="941" y="906"/>
                    </a:lnTo>
                    <a:lnTo>
                      <a:pt x="937" y="909"/>
                    </a:lnTo>
                    <a:lnTo>
                      <a:pt x="920" y="916"/>
                    </a:lnTo>
                    <a:lnTo>
                      <a:pt x="909" y="916"/>
                    </a:lnTo>
                    <a:lnTo>
                      <a:pt x="882" y="912"/>
                    </a:lnTo>
                    <a:lnTo>
                      <a:pt x="875" y="909"/>
                    </a:lnTo>
                    <a:lnTo>
                      <a:pt x="867" y="919"/>
                    </a:lnTo>
                    <a:lnTo>
                      <a:pt x="856" y="941"/>
                    </a:lnTo>
                    <a:lnTo>
                      <a:pt x="837" y="964"/>
                    </a:lnTo>
                    <a:lnTo>
                      <a:pt x="818" y="983"/>
                    </a:lnTo>
                    <a:lnTo>
                      <a:pt x="789" y="999"/>
                    </a:lnTo>
                    <a:lnTo>
                      <a:pt x="755" y="1012"/>
                    </a:lnTo>
                    <a:lnTo>
                      <a:pt x="725" y="1024"/>
                    </a:lnTo>
                    <a:lnTo>
                      <a:pt x="717" y="1045"/>
                    </a:lnTo>
                    <a:lnTo>
                      <a:pt x="713" y="1058"/>
                    </a:lnTo>
                    <a:lnTo>
                      <a:pt x="706" y="1086"/>
                    </a:lnTo>
                    <a:lnTo>
                      <a:pt x="709" y="1086"/>
                    </a:lnTo>
                    <a:lnTo>
                      <a:pt x="725" y="1092"/>
                    </a:lnTo>
                    <a:lnTo>
                      <a:pt x="728" y="1099"/>
                    </a:lnTo>
                    <a:lnTo>
                      <a:pt x="736" y="1114"/>
                    </a:lnTo>
                    <a:lnTo>
                      <a:pt x="747" y="1127"/>
                    </a:lnTo>
                    <a:lnTo>
                      <a:pt x="747" y="1135"/>
                    </a:lnTo>
                    <a:lnTo>
                      <a:pt x="825" y="1167"/>
                    </a:lnTo>
                    <a:lnTo>
                      <a:pt x="867" y="1185"/>
                    </a:lnTo>
                    <a:lnTo>
                      <a:pt x="918" y="1214"/>
                    </a:lnTo>
                    <a:lnTo>
                      <a:pt x="937" y="1223"/>
                    </a:lnTo>
                    <a:lnTo>
                      <a:pt x="937" y="1228"/>
                    </a:lnTo>
                    <a:lnTo>
                      <a:pt x="937" y="1231"/>
                    </a:lnTo>
                    <a:lnTo>
                      <a:pt x="930" y="1234"/>
                    </a:lnTo>
                    <a:lnTo>
                      <a:pt x="920" y="1228"/>
                    </a:lnTo>
                    <a:lnTo>
                      <a:pt x="879" y="1204"/>
                    </a:lnTo>
                    <a:lnTo>
                      <a:pt x="860" y="1195"/>
                    </a:lnTo>
                    <a:lnTo>
                      <a:pt x="833" y="1185"/>
                    </a:lnTo>
                    <a:lnTo>
                      <a:pt x="829" y="1185"/>
                    </a:lnTo>
                    <a:lnTo>
                      <a:pt x="789" y="1167"/>
                    </a:lnTo>
                    <a:lnTo>
                      <a:pt x="759" y="1160"/>
                    </a:lnTo>
                    <a:lnTo>
                      <a:pt x="744" y="1157"/>
                    </a:lnTo>
                    <a:lnTo>
                      <a:pt x="728" y="1157"/>
                    </a:lnTo>
                    <a:lnTo>
                      <a:pt x="717" y="1160"/>
                    </a:lnTo>
                    <a:lnTo>
                      <a:pt x="658" y="1173"/>
                    </a:lnTo>
                    <a:lnTo>
                      <a:pt x="593" y="1192"/>
                    </a:lnTo>
                    <a:lnTo>
                      <a:pt x="546" y="1201"/>
                    </a:lnTo>
                    <a:lnTo>
                      <a:pt x="512" y="1208"/>
                    </a:lnTo>
                    <a:lnTo>
                      <a:pt x="489" y="1211"/>
                    </a:lnTo>
                    <a:lnTo>
                      <a:pt x="438" y="1214"/>
                    </a:lnTo>
                    <a:lnTo>
                      <a:pt x="365" y="1223"/>
                    </a:lnTo>
                    <a:lnTo>
                      <a:pt x="265" y="1228"/>
                    </a:lnTo>
                    <a:lnTo>
                      <a:pt x="194" y="1223"/>
                    </a:lnTo>
                    <a:lnTo>
                      <a:pt x="187" y="1223"/>
                    </a:lnTo>
                    <a:lnTo>
                      <a:pt x="116" y="1217"/>
                    </a:lnTo>
                    <a:lnTo>
                      <a:pt x="97" y="1214"/>
                    </a:lnTo>
                    <a:lnTo>
                      <a:pt x="82" y="1208"/>
                    </a:lnTo>
                    <a:lnTo>
                      <a:pt x="67" y="1204"/>
                    </a:lnTo>
                    <a:lnTo>
                      <a:pt x="40" y="1192"/>
                    </a:lnTo>
                    <a:lnTo>
                      <a:pt x="12" y="1170"/>
                    </a:lnTo>
                    <a:lnTo>
                      <a:pt x="0" y="1148"/>
                    </a:lnTo>
                    <a:lnTo>
                      <a:pt x="0" y="1121"/>
                    </a:lnTo>
                    <a:lnTo>
                      <a:pt x="0" y="1102"/>
                    </a:lnTo>
                    <a:lnTo>
                      <a:pt x="4" y="1095"/>
                    </a:lnTo>
                    <a:lnTo>
                      <a:pt x="20" y="1086"/>
                    </a:lnTo>
                    <a:lnTo>
                      <a:pt x="52" y="1070"/>
                    </a:lnTo>
                    <a:lnTo>
                      <a:pt x="86" y="1061"/>
                    </a:lnTo>
                    <a:lnTo>
                      <a:pt x="97" y="1058"/>
                    </a:lnTo>
                    <a:lnTo>
                      <a:pt x="105" y="1054"/>
                    </a:lnTo>
                    <a:lnTo>
                      <a:pt x="109" y="1054"/>
                    </a:lnTo>
                    <a:lnTo>
                      <a:pt x="116" y="1042"/>
                    </a:lnTo>
                    <a:lnTo>
                      <a:pt x="132" y="987"/>
                    </a:lnTo>
                    <a:lnTo>
                      <a:pt x="145" y="938"/>
                    </a:lnTo>
                    <a:lnTo>
                      <a:pt x="145" y="934"/>
                    </a:lnTo>
                    <a:lnTo>
                      <a:pt x="153" y="906"/>
                    </a:lnTo>
                    <a:lnTo>
                      <a:pt x="156" y="874"/>
                    </a:lnTo>
                    <a:lnTo>
                      <a:pt x="156" y="841"/>
                    </a:lnTo>
                    <a:lnTo>
                      <a:pt x="156" y="813"/>
                    </a:lnTo>
                    <a:lnTo>
                      <a:pt x="153" y="803"/>
                    </a:lnTo>
                    <a:lnTo>
                      <a:pt x="153" y="723"/>
                    </a:lnTo>
                    <a:lnTo>
                      <a:pt x="149" y="713"/>
                    </a:lnTo>
                    <a:lnTo>
                      <a:pt x="149" y="710"/>
                    </a:lnTo>
                    <a:lnTo>
                      <a:pt x="145" y="713"/>
                    </a:lnTo>
                    <a:lnTo>
                      <a:pt x="132" y="717"/>
                    </a:lnTo>
                    <a:lnTo>
                      <a:pt x="116" y="710"/>
                    </a:lnTo>
                    <a:lnTo>
                      <a:pt x="109" y="707"/>
                    </a:lnTo>
                    <a:lnTo>
                      <a:pt x="101" y="695"/>
                    </a:lnTo>
                    <a:lnTo>
                      <a:pt x="101" y="685"/>
                    </a:lnTo>
                    <a:lnTo>
                      <a:pt x="97" y="674"/>
                    </a:lnTo>
                    <a:lnTo>
                      <a:pt x="97" y="661"/>
                    </a:lnTo>
                    <a:lnTo>
                      <a:pt x="97" y="639"/>
                    </a:lnTo>
                    <a:lnTo>
                      <a:pt x="97" y="605"/>
                    </a:lnTo>
                    <a:lnTo>
                      <a:pt x="86" y="559"/>
                    </a:lnTo>
                    <a:lnTo>
                      <a:pt x="78" y="537"/>
                    </a:lnTo>
                    <a:lnTo>
                      <a:pt x="71" y="511"/>
                    </a:lnTo>
                    <a:lnTo>
                      <a:pt x="67" y="483"/>
                    </a:lnTo>
                    <a:lnTo>
                      <a:pt x="67" y="456"/>
                    </a:lnTo>
                    <a:lnTo>
                      <a:pt x="71" y="440"/>
                    </a:lnTo>
                    <a:lnTo>
                      <a:pt x="78" y="431"/>
                    </a:lnTo>
                    <a:lnTo>
                      <a:pt x="90" y="421"/>
                    </a:lnTo>
                    <a:lnTo>
                      <a:pt x="109" y="421"/>
                    </a:lnTo>
                    <a:lnTo>
                      <a:pt x="120" y="425"/>
                    </a:lnTo>
                    <a:lnTo>
                      <a:pt x="124" y="421"/>
                    </a:lnTo>
                    <a:lnTo>
                      <a:pt x="120" y="395"/>
                    </a:lnTo>
                    <a:lnTo>
                      <a:pt x="120" y="372"/>
                    </a:lnTo>
                    <a:lnTo>
                      <a:pt x="120" y="354"/>
                    </a:lnTo>
                    <a:lnTo>
                      <a:pt x="124" y="298"/>
                    </a:lnTo>
                    <a:lnTo>
                      <a:pt x="132" y="267"/>
                    </a:lnTo>
                    <a:lnTo>
                      <a:pt x="153" y="238"/>
                    </a:lnTo>
                    <a:lnTo>
                      <a:pt x="194" y="196"/>
                    </a:lnTo>
                    <a:lnTo>
                      <a:pt x="213" y="174"/>
                    </a:lnTo>
                    <a:lnTo>
                      <a:pt x="229" y="158"/>
                    </a:lnTo>
                    <a:lnTo>
                      <a:pt x="284" y="99"/>
                    </a:lnTo>
                    <a:lnTo>
                      <a:pt x="310" y="77"/>
                    </a:lnTo>
                    <a:lnTo>
                      <a:pt x="365" y="43"/>
                    </a:lnTo>
                    <a:lnTo>
                      <a:pt x="411" y="27"/>
                    </a:lnTo>
                    <a:lnTo>
                      <a:pt x="441" y="19"/>
                    </a:lnTo>
                    <a:lnTo>
                      <a:pt x="466" y="19"/>
                    </a:lnTo>
                    <a:lnTo>
                      <a:pt x="481" y="16"/>
                    </a:lnTo>
                    <a:lnTo>
                      <a:pt x="500" y="13"/>
                    </a:lnTo>
                    <a:lnTo>
                      <a:pt x="582" y="13"/>
                    </a:lnTo>
                    <a:lnTo>
                      <a:pt x="628" y="6"/>
                    </a:lnTo>
                    <a:lnTo>
                      <a:pt x="658" y="0"/>
                    </a:lnTo>
                    <a:lnTo>
                      <a:pt x="677" y="0"/>
                    </a:lnTo>
                    <a:lnTo>
                      <a:pt x="706" y="0"/>
                    </a:lnTo>
                    <a:lnTo>
                      <a:pt x="736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789440" y="3008520"/>
                <a:ext cx="1289880" cy="1368360"/>
              </a:xfrm>
              <a:custGeom>
                <a:avLst/>
                <a:gdLst/>
                <a:ahLst/>
                <a:rect l="l" t="t" r="r" b="b"/>
                <a:pathLst>
                  <a:path w="871" h="862">
                    <a:moveTo>
                      <a:pt x="340" y="0"/>
                    </a:moveTo>
                    <a:lnTo>
                      <a:pt x="378" y="5"/>
                    </a:lnTo>
                    <a:lnTo>
                      <a:pt x="430" y="7"/>
                    </a:lnTo>
                    <a:lnTo>
                      <a:pt x="460" y="11"/>
                    </a:lnTo>
                    <a:lnTo>
                      <a:pt x="498" y="24"/>
                    </a:lnTo>
                    <a:lnTo>
                      <a:pt x="576" y="49"/>
                    </a:lnTo>
                    <a:lnTo>
                      <a:pt x="603" y="56"/>
                    </a:lnTo>
                    <a:lnTo>
                      <a:pt x="629" y="56"/>
                    </a:lnTo>
                    <a:lnTo>
                      <a:pt x="654" y="62"/>
                    </a:lnTo>
                    <a:lnTo>
                      <a:pt x="696" y="78"/>
                    </a:lnTo>
                    <a:lnTo>
                      <a:pt x="741" y="104"/>
                    </a:lnTo>
                    <a:lnTo>
                      <a:pt x="774" y="127"/>
                    </a:lnTo>
                    <a:lnTo>
                      <a:pt x="800" y="152"/>
                    </a:lnTo>
                    <a:lnTo>
                      <a:pt x="867" y="210"/>
                    </a:lnTo>
                    <a:lnTo>
                      <a:pt x="867" y="213"/>
                    </a:lnTo>
                    <a:lnTo>
                      <a:pt x="871" y="217"/>
                    </a:lnTo>
                    <a:lnTo>
                      <a:pt x="871" y="245"/>
                    </a:lnTo>
                    <a:lnTo>
                      <a:pt x="867" y="307"/>
                    </a:lnTo>
                    <a:lnTo>
                      <a:pt x="857" y="368"/>
                    </a:lnTo>
                    <a:lnTo>
                      <a:pt x="842" y="400"/>
                    </a:lnTo>
                    <a:lnTo>
                      <a:pt x="838" y="415"/>
                    </a:lnTo>
                    <a:lnTo>
                      <a:pt x="823" y="457"/>
                    </a:lnTo>
                    <a:lnTo>
                      <a:pt x="815" y="477"/>
                    </a:lnTo>
                    <a:lnTo>
                      <a:pt x="793" y="546"/>
                    </a:lnTo>
                    <a:lnTo>
                      <a:pt x="785" y="564"/>
                    </a:lnTo>
                    <a:lnTo>
                      <a:pt x="770" y="586"/>
                    </a:lnTo>
                    <a:lnTo>
                      <a:pt x="770" y="592"/>
                    </a:lnTo>
                    <a:lnTo>
                      <a:pt x="766" y="595"/>
                    </a:lnTo>
                    <a:lnTo>
                      <a:pt x="760" y="608"/>
                    </a:lnTo>
                    <a:lnTo>
                      <a:pt x="734" y="660"/>
                    </a:lnTo>
                    <a:lnTo>
                      <a:pt x="711" y="695"/>
                    </a:lnTo>
                    <a:lnTo>
                      <a:pt x="673" y="745"/>
                    </a:lnTo>
                    <a:lnTo>
                      <a:pt x="643" y="775"/>
                    </a:lnTo>
                    <a:lnTo>
                      <a:pt x="622" y="788"/>
                    </a:lnTo>
                    <a:lnTo>
                      <a:pt x="591" y="801"/>
                    </a:lnTo>
                    <a:lnTo>
                      <a:pt x="561" y="807"/>
                    </a:lnTo>
                    <a:lnTo>
                      <a:pt x="536" y="816"/>
                    </a:lnTo>
                    <a:lnTo>
                      <a:pt x="517" y="823"/>
                    </a:lnTo>
                    <a:lnTo>
                      <a:pt x="509" y="826"/>
                    </a:lnTo>
                    <a:lnTo>
                      <a:pt x="494" y="829"/>
                    </a:lnTo>
                    <a:lnTo>
                      <a:pt x="437" y="850"/>
                    </a:lnTo>
                    <a:lnTo>
                      <a:pt x="424" y="853"/>
                    </a:lnTo>
                    <a:lnTo>
                      <a:pt x="394" y="859"/>
                    </a:lnTo>
                    <a:lnTo>
                      <a:pt x="371" y="862"/>
                    </a:lnTo>
                    <a:lnTo>
                      <a:pt x="352" y="862"/>
                    </a:lnTo>
                    <a:lnTo>
                      <a:pt x="325" y="859"/>
                    </a:lnTo>
                    <a:lnTo>
                      <a:pt x="300" y="850"/>
                    </a:lnTo>
                    <a:lnTo>
                      <a:pt x="259" y="839"/>
                    </a:lnTo>
                    <a:lnTo>
                      <a:pt x="217" y="826"/>
                    </a:lnTo>
                    <a:lnTo>
                      <a:pt x="181" y="813"/>
                    </a:lnTo>
                    <a:lnTo>
                      <a:pt x="143" y="782"/>
                    </a:lnTo>
                    <a:lnTo>
                      <a:pt x="127" y="766"/>
                    </a:lnTo>
                    <a:lnTo>
                      <a:pt x="93" y="730"/>
                    </a:lnTo>
                    <a:lnTo>
                      <a:pt x="53" y="682"/>
                    </a:lnTo>
                    <a:lnTo>
                      <a:pt x="31" y="652"/>
                    </a:lnTo>
                    <a:lnTo>
                      <a:pt x="12" y="611"/>
                    </a:lnTo>
                    <a:lnTo>
                      <a:pt x="4" y="564"/>
                    </a:lnTo>
                    <a:lnTo>
                      <a:pt x="0" y="453"/>
                    </a:lnTo>
                    <a:lnTo>
                      <a:pt x="4" y="412"/>
                    </a:lnTo>
                    <a:lnTo>
                      <a:pt x="15" y="370"/>
                    </a:lnTo>
                    <a:lnTo>
                      <a:pt x="34" y="322"/>
                    </a:lnTo>
                    <a:lnTo>
                      <a:pt x="34" y="307"/>
                    </a:lnTo>
                    <a:lnTo>
                      <a:pt x="38" y="297"/>
                    </a:lnTo>
                    <a:lnTo>
                      <a:pt x="65" y="264"/>
                    </a:lnTo>
                    <a:lnTo>
                      <a:pt x="82" y="223"/>
                    </a:lnTo>
                    <a:lnTo>
                      <a:pt x="88" y="204"/>
                    </a:lnTo>
                    <a:lnTo>
                      <a:pt x="101" y="177"/>
                    </a:lnTo>
                    <a:lnTo>
                      <a:pt x="112" y="161"/>
                    </a:lnTo>
                    <a:lnTo>
                      <a:pt x="116" y="104"/>
                    </a:lnTo>
                    <a:lnTo>
                      <a:pt x="124" y="84"/>
                    </a:lnTo>
                    <a:lnTo>
                      <a:pt x="131" y="68"/>
                    </a:lnTo>
                    <a:lnTo>
                      <a:pt x="146" y="56"/>
                    </a:lnTo>
                    <a:lnTo>
                      <a:pt x="173" y="37"/>
                    </a:lnTo>
                    <a:lnTo>
                      <a:pt x="232" y="11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306" y="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789440" y="3008520"/>
                <a:ext cx="1289880" cy="1368360"/>
              </a:xfrm>
              <a:custGeom>
                <a:avLst/>
                <a:gdLst/>
                <a:ahLst/>
                <a:rect l="l" t="t" r="r" b="b"/>
                <a:pathLst>
                  <a:path w="871" h="862">
                    <a:moveTo>
                      <a:pt x="340" y="0"/>
                    </a:moveTo>
                    <a:lnTo>
                      <a:pt x="378" y="5"/>
                    </a:lnTo>
                    <a:lnTo>
                      <a:pt x="430" y="7"/>
                    </a:lnTo>
                    <a:lnTo>
                      <a:pt x="460" y="11"/>
                    </a:lnTo>
                    <a:lnTo>
                      <a:pt x="498" y="24"/>
                    </a:lnTo>
                    <a:lnTo>
                      <a:pt x="576" y="49"/>
                    </a:lnTo>
                    <a:lnTo>
                      <a:pt x="603" y="56"/>
                    </a:lnTo>
                    <a:lnTo>
                      <a:pt x="629" y="56"/>
                    </a:lnTo>
                    <a:lnTo>
                      <a:pt x="654" y="62"/>
                    </a:lnTo>
                    <a:lnTo>
                      <a:pt x="696" y="78"/>
                    </a:lnTo>
                    <a:lnTo>
                      <a:pt x="741" y="104"/>
                    </a:lnTo>
                    <a:lnTo>
                      <a:pt x="774" y="127"/>
                    </a:lnTo>
                    <a:lnTo>
                      <a:pt x="800" y="152"/>
                    </a:lnTo>
                    <a:lnTo>
                      <a:pt x="867" y="210"/>
                    </a:lnTo>
                    <a:lnTo>
                      <a:pt x="867" y="213"/>
                    </a:lnTo>
                    <a:lnTo>
                      <a:pt x="871" y="217"/>
                    </a:lnTo>
                    <a:lnTo>
                      <a:pt x="871" y="245"/>
                    </a:lnTo>
                    <a:lnTo>
                      <a:pt x="867" y="307"/>
                    </a:lnTo>
                    <a:lnTo>
                      <a:pt x="857" y="368"/>
                    </a:lnTo>
                    <a:lnTo>
                      <a:pt x="842" y="400"/>
                    </a:lnTo>
                    <a:lnTo>
                      <a:pt x="838" y="415"/>
                    </a:lnTo>
                    <a:lnTo>
                      <a:pt x="823" y="457"/>
                    </a:lnTo>
                    <a:lnTo>
                      <a:pt x="815" y="477"/>
                    </a:lnTo>
                    <a:lnTo>
                      <a:pt x="793" y="546"/>
                    </a:lnTo>
                    <a:lnTo>
                      <a:pt x="785" y="564"/>
                    </a:lnTo>
                    <a:lnTo>
                      <a:pt x="770" y="586"/>
                    </a:lnTo>
                    <a:lnTo>
                      <a:pt x="770" y="592"/>
                    </a:lnTo>
                    <a:lnTo>
                      <a:pt x="766" y="595"/>
                    </a:lnTo>
                    <a:lnTo>
                      <a:pt x="760" y="608"/>
                    </a:lnTo>
                    <a:lnTo>
                      <a:pt x="734" y="660"/>
                    </a:lnTo>
                    <a:lnTo>
                      <a:pt x="711" y="695"/>
                    </a:lnTo>
                    <a:lnTo>
                      <a:pt x="673" y="745"/>
                    </a:lnTo>
                    <a:lnTo>
                      <a:pt x="643" y="775"/>
                    </a:lnTo>
                    <a:lnTo>
                      <a:pt x="622" y="788"/>
                    </a:lnTo>
                    <a:lnTo>
                      <a:pt x="591" y="801"/>
                    </a:lnTo>
                    <a:lnTo>
                      <a:pt x="561" y="807"/>
                    </a:lnTo>
                    <a:lnTo>
                      <a:pt x="536" y="816"/>
                    </a:lnTo>
                    <a:lnTo>
                      <a:pt x="517" y="823"/>
                    </a:lnTo>
                    <a:lnTo>
                      <a:pt x="509" y="826"/>
                    </a:lnTo>
                    <a:lnTo>
                      <a:pt x="494" y="829"/>
                    </a:lnTo>
                    <a:lnTo>
                      <a:pt x="437" y="850"/>
                    </a:lnTo>
                    <a:lnTo>
                      <a:pt x="424" y="853"/>
                    </a:lnTo>
                    <a:lnTo>
                      <a:pt x="394" y="859"/>
                    </a:lnTo>
                    <a:lnTo>
                      <a:pt x="371" y="862"/>
                    </a:lnTo>
                    <a:lnTo>
                      <a:pt x="352" y="862"/>
                    </a:lnTo>
                    <a:lnTo>
                      <a:pt x="325" y="859"/>
                    </a:lnTo>
                    <a:lnTo>
                      <a:pt x="300" y="850"/>
                    </a:lnTo>
                    <a:lnTo>
                      <a:pt x="259" y="839"/>
                    </a:lnTo>
                    <a:lnTo>
                      <a:pt x="217" y="826"/>
                    </a:lnTo>
                    <a:lnTo>
                      <a:pt x="181" y="813"/>
                    </a:lnTo>
                    <a:lnTo>
                      <a:pt x="143" y="782"/>
                    </a:lnTo>
                    <a:lnTo>
                      <a:pt x="127" y="766"/>
                    </a:lnTo>
                    <a:lnTo>
                      <a:pt x="93" y="730"/>
                    </a:lnTo>
                    <a:lnTo>
                      <a:pt x="53" y="682"/>
                    </a:lnTo>
                    <a:lnTo>
                      <a:pt x="31" y="652"/>
                    </a:lnTo>
                    <a:lnTo>
                      <a:pt x="12" y="611"/>
                    </a:lnTo>
                    <a:lnTo>
                      <a:pt x="4" y="564"/>
                    </a:lnTo>
                    <a:lnTo>
                      <a:pt x="0" y="453"/>
                    </a:lnTo>
                    <a:lnTo>
                      <a:pt x="4" y="412"/>
                    </a:lnTo>
                    <a:lnTo>
                      <a:pt x="15" y="370"/>
                    </a:lnTo>
                    <a:lnTo>
                      <a:pt x="34" y="322"/>
                    </a:lnTo>
                    <a:lnTo>
                      <a:pt x="34" y="307"/>
                    </a:lnTo>
                    <a:lnTo>
                      <a:pt x="38" y="297"/>
                    </a:lnTo>
                    <a:lnTo>
                      <a:pt x="65" y="264"/>
                    </a:lnTo>
                    <a:lnTo>
                      <a:pt x="82" y="223"/>
                    </a:lnTo>
                    <a:lnTo>
                      <a:pt x="88" y="204"/>
                    </a:lnTo>
                    <a:lnTo>
                      <a:pt x="101" y="177"/>
                    </a:lnTo>
                    <a:lnTo>
                      <a:pt x="112" y="161"/>
                    </a:lnTo>
                    <a:lnTo>
                      <a:pt x="116" y="104"/>
                    </a:lnTo>
                    <a:lnTo>
                      <a:pt x="124" y="84"/>
                    </a:lnTo>
                    <a:lnTo>
                      <a:pt x="131" y="68"/>
                    </a:lnTo>
                    <a:lnTo>
                      <a:pt x="146" y="56"/>
                    </a:lnTo>
                    <a:lnTo>
                      <a:pt x="173" y="37"/>
                    </a:lnTo>
                    <a:lnTo>
                      <a:pt x="232" y="11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306" y="0"/>
                    </a:lnTo>
                    <a:lnTo>
                      <a:pt x="3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63800" y="3362400"/>
                <a:ext cx="165600" cy="419040"/>
              </a:xfrm>
              <a:custGeom>
                <a:avLst/>
                <a:gdLst/>
                <a:ahLst/>
                <a:rect l="l" t="t" r="r" b="b"/>
                <a:pathLst>
                  <a:path w="112" h="264">
                    <a:moveTo>
                      <a:pt x="60" y="19"/>
                    </a:moveTo>
                    <a:lnTo>
                      <a:pt x="74" y="35"/>
                    </a:lnTo>
                    <a:lnTo>
                      <a:pt x="89" y="77"/>
                    </a:lnTo>
                    <a:lnTo>
                      <a:pt x="93" y="87"/>
                    </a:lnTo>
                    <a:lnTo>
                      <a:pt x="104" y="93"/>
                    </a:lnTo>
                    <a:lnTo>
                      <a:pt x="112" y="93"/>
                    </a:lnTo>
                    <a:lnTo>
                      <a:pt x="112" y="99"/>
                    </a:lnTo>
                    <a:lnTo>
                      <a:pt x="97" y="128"/>
                    </a:lnTo>
                    <a:lnTo>
                      <a:pt x="81" y="167"/>
                    </a:lnTo>
                    <a:lnTo>
                      <a:pt x="78" y="208"/>
                    </a:lnTo>
                    <a:lnTo>
                      <a:pt x="74" y="240"/>
                    </a:lnTo>
                    <a:lnTo>
                      <a:pt x="74" y="257"/>
                    </a:lnTo>
                    <a:lnTo>
                      <a:pt x="66" y="260"/>
                    </a:lnTo>
                    <a:lnTo>
                      <a:pt x="60" y="264"/>
                    </a:lnTo>
                    <a:lnTo>
                      <a:pt x="49" y="264"/>
                    </a:lnTo>
                    <a:lnTo>
                      <a:pt x="41" y="257"/>
                    </a:lnTo>
                    <a:lnTo>
                      <a:pt x="38" y="251"/>
                    </a:lnTo>
                    <a:lnTo>
                      <a:pt x="34" y="202"/>
                    </a:lnTo>
                    <a:lnTo>
                      <a:pt x="30" y="174"/>
                    </a:lnTo>
                    <a:lnTo>
                      <a:pt x="30" y="158"/>
                    </a:lnTo>
                    <a:lnTo>
                      <a:pt x="26" y="150"/>
                    </a:lnTo>
                    <a:lnTo>
                      <a:pt x="26" y="140"/>
                    </a:lnTo>
                    <a:lnTo>
                      <a:pt x="22" y="131"/>
                    </a:lnTo>
                    <a:lnTo>
                      <a:pt x="19" y="118"/>
                    </a:lnTo>
                    <a:lnTo>
                      <a:pt x="11" y="87"/>
                    </a:lnTo>
                    <a:lnTo>
                      <a:pt x="7" y="71"/>
                    </a:lnTo>
                    <a:lnTo>
                      <a:pt x="3" y="61"/>
                    </a:lnTo>
                    <a:lnTo>
                      <a:pt x="0" y="31"/>
                    </a:lnTo>
                    <a:lnTo>
                      <a:pt x="3" y="16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41" y="3"/>
                    </a:lnTo>
                    <a:lnTo>
                      <a:pt x="60" y="19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63800" y="3362400"/>
                <a:ext cx="165600" cy="419040"/>
              </a:xfrm>
              <a:custGeom>
                <a:avLst/>
                <a:gdLst/>
                <a:ahLst/>
                <a:rect l="l" t="t" r="r" b="b"/>
                <a:pathLst>
                  <a:path w="112" h="264">
                    <a:moveTo>
                      <a:pt x="60" y="19"/>
                    </a:moveTo>
                    <a:lnTo>
                      <a:pt x="74" y="35"/>
                    </a:lnTo>
                    <a:lnTo>
                      <a:pt x="89" y="77"/>
                    </a:lnTo>
                    <a:lnTo>
                      <a:pt x="93" y="87"/>
                    </a:lnTo>
                    <a:lnTo>
                      <a:pt x="104" y="93"/>
                    </a:lnTo>
                    <a:lnTo>
                      <a:pt x="112" y="93"/>
                    </a:lnTo>
                    <a:lnTo>
                      <a:pt x="112" y="99"/>
                    </a:lnTo>
                    <a:lnTo>
                      <a:pt x="97" y="128"/>
                    </a:lnTo>
                    <a:lnTo>
                      <a:pt x="81" y="167"/>
                    </a:lnTo>
                    <a:lnTo>
                      <a:pt x="78" y="208"/>
                    </a:lnTo>
                    <a:lnTo>
                      <a:pt x="74" y="240"/>
                    </a:lnTo>
                    <a:lnTo>
                      <a:pt x="74" y="257"/>
                    </a:lnTo>
                    <a:lnTo>
                      <a:pt x="66" y="260"/>
                    </a:lnTo>
                    <a:lnTo>
                      <a:pt x="60" y="264"/>
                    </a:lnTo>
                    <a:lnTo>
                      <a:pt x="49" y="264"/>
                    </a:lnTo>
                    <a:lnTo>
                      <a:pt x="41" y="257"/>
                    </a:lnTo>
                    <a:lnTo>
                      <a:pt x="38" y="251"/>
                    </a:lnTo>
                    <a:lnTo>
                      <a:pt x="34" y="202"/>
                    </a:lnTo>
                    <a:lnTo>
                      <a:pt x="30" y="174"/>
                    </a:lnTo>
                    <a:lnTo>
                      <a:pt x="30" y="158"/>
                    </a:lnTo>
                    <a:lnTo>
                      <a:pt x="26" y="150"/>
                    </a:lnTo>
                    <a:lnTo>
                      <a:pt x="26" y="140"/>
                    </a:lnTo>
                    <a:lnTo>
                      <a:pt x="22" y="131"/>
                    </a:lnTo>
                    <a:lnTo>
                      <a:pt x="19" y="118"/>
                    </a:lnTo>
                    <a:lnTo>
                      <a:pt x="11" y="87"/>
                    </a:lnTo>
                    <a:lnTo>
                      <a:pt x="7" y="71"/>
                    </a:lnTo>
                    <a:lnTo>
                      <a:pt x="3" y="61"/>
                    </a:lnTo>
                    <a:lnTo>
                      <a:pt x="0" y="31"/>
                    </a:lnTo>
                    <a:lnTo>
                      <a:pt x="3" y="16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41" y="3"/>
                    </a:lnTo>
                    <a:lnTo>
                      <a:pt x="6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0000" y="3382920"/>
                <a:ext cx="64800" cy="192240"/>
              </a:xfrm>
              <a:custGeom>
                <a:avLst/>
                <a:gdLst/>
                <a:ahLst/>
                <a:rect l="l" t="t" r="r" b="b"/>
                <a:pathLst>
                  <a:path w="44" h="121">
                    <a:moveTo>
                      <a:pt x="38" y="18"/>
                    </a:moveTo>
                    <a:lnTo>
                      <a:pt x="44" y="39"/>
                    </a:lnTo>
                    <a:lnTo>
                      <a:pt x="34" y="39"/>
                    </a:lnTo>
                    <a:lnTo>
                      <a:pt x="27" y="31"/>
                    </a:lnTo>
                    <a:lnTo>
                      <a:pt x="23" y="22"/>
                    </a:lnTo>
                    <a:lnTo>
                      <a:pt x="23" y="18"/>
                    </a:lnTo>
                    <a:lnTo>
                      <a:pt x="19" y="18"/>
                    </a:lnTo>
                    <a:lnTo>
                      <a:pt x="15" y="25"/>
                    </a:lnTo>
                    <a:lnTo>
                      <a:pt x="19" y="48"/>
                    </a:lnTo>
                    <a:lnTo>
                      <a:pt x="19" y="67"/>
                    </a:lnTo>
                    <a:lnTo>
                      <a:pt x="30" y="112"/>
                    </a:lnTo>
                    <a:lnTo>
                      <a:pt x="27" y="118"/>
                    </a:lnTo>
                    <a:lnTo>
                      <a:pt x="27" y="121"/>
                    </a:lnTo>
                    <a:lnTo>
                      <a:pt x="23" y="121"/>
                    </a:lnTo>
                    <a:lnTo>
                      <a:pt x="19" y="112"/>
                    </a:lnTo>
                    <a:lnTo>
                      <a:pt x="19" y="96"/>
                    </a:lnTo>
                    <a:lnTo>
                      <a:pt x="15" y="93"/>
                    </a:lnTo>
                    <a:lnTo>
                      <a:pt x="4" y="41"/>
                    </a:lnTo>
                    <a:lnTo>
                      <a:pt x="0" y="28"/>
                    </a:lnTo>
                    <a:lnTo>
                      <a:pt x="0" y="15"/>
                    </a:lnTo>
                    <a:lnTo>
                      <a:pt x="8" y="6"/>
                    </a:lnTo>
                    <a:lnTo>
                      <a:pt x="19" y="0"/>
                    </a:lnTo>
                    <a:lnTo>
                      <a:pt x="30" y="3"/>
                    </a:lnTo>
                    <a:lnTo>
                      <a:pt x="3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80000" y="3382920"/>
                <a:ext cx="64800" cy="192240"/>
              </a:xfrm>
              <a:custGeom>
                <a:avLst/>
                <a:gdLst/>
                <a:ahLst/>
                <a:rect l="l" t="t" r="r" b="b"/>
                <a:pathLst>
                  <a:path w="44" h="121">
                    <a:moveTo>
                      <a:pt x="38" y="18"/>
                    </a:moveTo>
                    <a:lnTo>
                      <a:pt x="44" y="39"/>
                    </a:lnTo>
                    <a:lnTo>
                      <a:pt x="34" y="39"/>
                    </a:lnTo>
                    <a:lnTo>
                      <a:pt x="27" y="31"/>
                    </a:lnTo>
                    <a:lnTo>
                      <a:pt x="23" y="22"/>
                    </a:lnTo>
                    <a:lnTo>
                      <a:pt x="23" y="18"/>
                    </a:lnTo>
                    <a:lnTo>
                      <a:pt x="19" y="18"/>
                    </a:lnTo>
                    <a:lnTo>
                      <a:pt x="15" y="25"/>
                    </a:lnTo>
                    <a:lnTo>
                      <a:pt x="19" y="48"/>
                    </a:lnTo>
                    <a:lnTo>
                      <a:pt x="19" y="67"/>
                    </a:lnTo>
                    <a:lnTo>
                      <a:pt x="30" y="112"/>
                    </a:lnTo>
                    <a:lnTo>
                      <a:pt x="27" y="118"/>
                    </a:lnTo>
                    <a:lnTo>
                      <a:pt x="27" y="121"/>
                    </a:lnTo>
                    <a:lnTo>
                      <a:pt x="23" y="121"/>
                    </a:lnTo>
                    <a:lnTo>
                      <a:pt x="19" y="112"/>
                    </a:lnTo>
                    <a:lnTo>
                      <a:pt x="19" y="96"/>
                    </a:lnTo>
                    <a:lnTo>
                      <a:pt x="15" y="93"/>
                    </a:lnTo>
                    <a:lnTo>
                      <a:pt x="4" y="41"/>
                    </a:lnTo>
                    <a:lnTo>
                      <a:pt x="0" y="28"/>
                    </a:lnTo>
                    <a:lnTo>
                      <a:pt x="0" y="15"/>
                    </a:lnTo>
                    <a:lnTo>
                      <a:pt x="8" y="6"/>
                    </a:lnTo>
                    <a:lnTo>
                      <a:pt x="19" y="0"/>
                    </a:lnTo>
                    <a:lnTo>
                      <a:pt x="30" y="3"/>
                    </a:lnTo>
                    <a:lnTo>
                      <a:pt x="38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051520" y="3382920"/>
                <a:ext cx="293040" cy="92160"/>
              </a:xfrm>
              <a:custGeom>
                <a:avLst/>
                <a:gdLst/>
                <a:ahLst/>
                <a:rect l="l" t="t" r="r" b="b"/>
                <a:pathLst>
                  <a:path w="198" h="58">
                    <a:moveTo>
                      <a:pt x="93" y="12"/>
                    </a:moveTo>
                    <a:lnTo>
                      <a:pt x="116" y="15"/>
                    </a:lnTo>
                    <a:lnTo>
                      <a:pt x="141" y="18"/>
                    </a:lnTo>
                    <a:lnTo>
                      <a:pt x="163" y="25"/>
                    </a:lnTo>
                    <a:lnTo>
                      <a:pt x="167" y="25"/>
                    </a:lnTo>
                    <a:lnTo>
                      <a:pt x="186" y="31"/>
                    </a:lnTo>
                    <a:lnTo>
                      <a:pt x="194" y="39"/>
                    </a:lnTo>
                    <a:lnTo>
                      <a:pt x="198" y="44"/>
                    </a:lnTo>
                    <a:lnTo>
                      <a:pt x="198" y="52"/>
                    </a:lnTo>
                    <a:lnTo>
                      <a:pt x="186" y="58"/>
                    </a:lnTo>
                    <a:lnTo>
                      <a:pt x="171" y="58"/>
                    </a:lnTo>
                    <a:lnTo>
                      <a:pt x="156" y="52"/>
                    </a:lnTo>
                    <a:lnTo>
                      <a:pt x="133" y="41"/>
                    </a:lnTo>
                    <a:lnTo>
                      <a:pt x="89" y="28"/>
                    </a:lnTo>
                    <a:lnTo>
                      <a:pt x="66" y="28"/>
                    </a:lnTo>
                    <a:lnTo>
                      <a:pt x="55" y="25"/>
                    </a:lnTo>
                    <a:lnTo>
                      <a:pt x="47" y="18"/>
                    </a:lnTo>
                    <a:lnTo>
                      <a:pt x="28" y="18"/>
                    </a:lnTo>
                    <a:lnTo>
                      <a:pt x="23" y="22"/>
                    </a:lnTo>
                    <a:lnTo>
                      <a:pt x="17" y="28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0" y="31"/>
                    </a:lnTo>
                    <a:lnTo>
                      <a:pt x="4" y="22"/>
                    </a:lnTo>
                    <a:lnTo>
                      <a:pt x="23" y="6"/>
                    </a:lnTo>
                    <a:lnTo>
                      <a:pt x="36" y="3"/>
                    </a:lnTo>
                    <a:lnTo>
                      <a:pt x="55" y="0"/>
                    </a:lnTo>
                    <a:lnTo>
                      <a:pt x="66" y="3"/>
                    </a:lnTo>
                    <a:lnTo>
                      <a:pt x="93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051520" y="3382920"/>
                <a:ext cx="293040" cy="92160"/>
              </a:xfrm>
              <a:custGeom>
                <a:avLst/>
                <a:gdLst/>
                <a:ahLst/>
                <a:rect l="l" t="t" r="r" b="b"/>
                <a:pathLst>
                  <a:path w="198" h="58">
                    <a:moveTo>
                      <a:pt x="93" y="12"/>
                    </a:moveTo>
                    <a:lnTo>
                      <a:pt x="116" y="15"/>
                    </a:lnTo>
                    <a:lnTo>
                      <a:pt x="141" y="18"/>
                    </a:lnTo>
                    <a:lnTo>
                      <a:pt x="163" y="25"/>
                    </a:lnTo>
                    <a:lnTo>
                      <a:pt x="167" y="25"/>
                    </a:lnTo>
                    <a:lnTo>
                      <a:pt x="186" y="31"/>
                    </a:lnTo>
                    <a:lnTo>
                      <a:pt x="194" y="39"/>
                    </a:lnTo>
                    <a:lnTo>
                      <a:pt x="198" y="44"/>
                    </a:lnTo>
                    <a:lnTo>
                      <a:pt x="198" y="52"/>
                    </a:lnTo>
                    <a:lnTo>
                      <a:pt x="186" y="58"/>
                    </a:lnTo>
                    <a:lnTo>
                      <a:pt x="171" y="58"/>
                    </a:lnTo>
                    <a:lnTo>
                      <a:pt x="156" y="52"/>
                    </a:lnTo>
                    <a:lnTo>
                      <a:pt x="133" y="41"/>
                    </a:lnTo>
                    <a:lnTo>
                      <a:pt x="89" y="28"/>
                    </a:lnTo>
                    <a:lnTo>
                      <a:pt x="66" y="28"/>
                    </a:lnTo>
                    <a:lnTo>
                      <a:pt x="55" y="25"/>
                    </a:lnTo>
                    <a:lnTo>
                      <a:pt x="47" y="18"/>
                    </a:lnTo>
                    <a:lnTo>
                      <a:pt x="28" y="18"/>
                    </a:lnTo>
                    <a:lnTo>
                      <a:pt x="23" y="22"/>
                    </a:lnTo>
                    <a:lnTo>
                      <a:pt x="17" y="28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0" y="31"/>
                    </a:lnTo>
                    <a:lnTo>
                      <a:pt x="4" y="22"/>
                    </a:lnTo>
                    <a:lnTo>
                      <a:pt x="23" y="6"/>
                    </a:lnTo>
                    <a:lnTo>
                      <a:pt x="36" y="3"/>
                    </a:lnTo>
                    <a:lnTo>
                      <a:pt x="55" y="0"/>
                    </a:lnTo>
                    <a:lnTo>
                      <a:pt x="66" y="3"/>
                    </a:lnTo>
                    <a:lnTo>
                      <a:pt x="9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067720" y="3465720"/>
                <a:ext cx="253440" cy="129960"/>
              </a:xfrm>
              <a:custGeom>
                <a:avLst/>
                <a:gdLst/>
                <a:ahLst/>
                <a:rect l="l" t="t" r="r" b="b"/>
                <a:pathLst>
                  <a:path w="171" h="82">
                    <a:moveTo>
                      <a:pt x="122" y="12"/>
                    </a:moveTo>
                    <a:lnTo>
                      <a:pt x="137" y="25"/>
                    </a:lnTo>
                    <a:lnTo>
                      <a:pt x="152" y="41"/>
                    </a:lnTo>
                    <a:lnTo>
                      <a:pt x="164" y="50"/>
                    </a:lnTo>
                    <a:lnTo>
                      <a:pt x="171" y="60"/>
                    </a:lnTo>
                    <a:lnTo>
                      <a:pt x="168" y="63"/>
                    </a:lnTo>
                    <a:lnTo>
                      <a:pt x="160" y="66"/>
                    </a:lnTo>
                    <a:lnTo>
                      <a:pt x="152" y="69"/>
                    </a:lnTo>
                    <a:lnTo>
                      <a:pt x="141" y="72"/>
                    </a:lnTo>
                    <a:lnTo>
                      <a:pt x="133" y="80"/>
                    </a:lnTo>
                    <a:lnTo>
                      <a:pt x="118" y="82"/>
                    </a:lnTo>
                    <a:lnTo>
                      <a:pt x="101" y="82"/>
                    </a:lnTo>
                    <a:lnTo>
                      <a:pt x="86" y="82"/>
                    </a:lnTo>
                    <a:lnTo>
                      <a:pt x="71" y="80"/>
                    </a:lnTo>
                    <a:lnTo>
                      <a:pt x="55" y="72"/>
                    </a:lnTo>
                    <a:lnTo>
                      <a:pt x="44" y="69"/>
                    </a:lnTo>
                    <a:lnTo>
                      <a:pt x="33" y="60"/>
                    </a:lnTo>
                    <a:lnTo>
                      <a:pt x="21" y="47"/>
                    </a:lnTo>
                    <a:lnTo>
                      <a:pt x="17" y="41"/>
                    </a:lnTo>
                    <a:lnTo>
                      <a:pt x="6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21" y="15"/>
                    </a:lnTo>
                    <a:lnTo>
                      <a:pt x="48" y="9"/>
                    </a:lnTo>
                    <a:lnTo>
                      <a:pt x="59" y="3"/>
                    </a:lnTo>
                    <a:lnTo>
                      <a:pt x="74" y="0"/>
                    </a:lnTo>
                    <a:lnTo>
                      <a:pt x="90" y="0"/>
                    </a:lnTo>
                    <a:lnTo>
                      <a:pt x="105" y="3"/>
                    </a:lnTo>
                    <a:lnTo>
                      <a:pt x="12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67720" y="3465720"/>
                <a:ext cx="253440" cy="129960"/>
              </a:xfrm>
              <a:custGeom>
                <a:avLst/>
                <a:gdLst/>
                <a:ahLst/>
                <a:rect l="l" t="t" r="r" b="b"/>
                <a:pathLst>
                  <a:path w="171" h="82">
                    <a:moveTo>
                      <a:pt x="122" y="12"/>
                    </a:moveTo>
                    <a:lnTo>
                      <a:pt x="137" y="25"/>
                    </a:lnTo>
                    <a:lnTo>
                      <a:pt x="152" y="41"/>
                    </a:lnTo>
                    <a:lnTo>
                      <a:pt x="164" y="50"/>
                    </a:lnTo>
                    <a:lnTo>
                      <a:pt x="171" y="60"/>
                    </a:lnTo>
                    <a:lnTo>
                      <a:pt x="168" y="63"/>
                    </a:lnTo>
                    <a:lnTo>
                      <a:pt x="160" y="66"/>
                    </a:lnTo>
                    <a:lnTo>
                      <a:pt x="152" y="69"/>
                    </a:lnTo>
                    <a:lnTo>
                      <a:pt x="141" y="72"/>
                    </a:lnTo>
                    <a:lnTo>
                      <a:pt x="133" y="80"/>
                    </a:lnTo>
                    <a:lnTo>
                      <a:pt x="118" y="82"/>
                    </a:lnTo>
                    <a:lnTo>
                      <a:pt x="101" y="82"/>
                    </a:lnTo>
                    <a:lnTo>
                      <a:pt x="86" y="82"/>
                    </a:lnTo>
                    <a:lnTo>
                      <a:pt x="71" y="80"/>
                    </a:lnTo>
                    <a:lnTo>
                      <a:pt x="55" y="72"/>
                    </a:lnTo>
                    <a:lnTo>
                      <a:pt x="44" y="69"/>
                    </a:lnTo>
                    <a:lnTo>
                      <a:pt x="33" y="60"/>
                    </a:lnTo>
                    <a:lnTo>
                      <a:pt x="21" y="47"/>
                    </a:lnTo>
                    <a:lnTo>
                      <a:pt x="17" y="41"/>
                    </a:lnTo>
                    <a:lnTo>
                      <a:pt x="6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21" y="15"/>
                    </a:lnTo>
                    <a:lnTo>
                      <a:pt x="48" y="9"/>
                    </a:lnTo>
                    <a:lnTo>
                      <a:pt x="59" y="3"/>
                    </a:lnTo>
                    <a:lnTo>
                      <a:pt x="74" y="0"/>
                    </a:lnTo>
                    <a:lnTo>
                      <a:pt x="90" y="0"/>
                    </a:lnTo>
                    <a:lnTo>
                      <a:pt x="105" y="3"/>
                    </a:lnTo>
                    <a:lnTo>
                      <a:pt x="122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121000" y="3475080"/>
                <a:ext cx="127080" cy="30240"/>
              </a:xfrm>
              <a:custGeom>
                <a:avLst/>
                <a:gdLst/>
                <a:ahLst/>
                <a:rect l="l" t="t" r="r" b="b"/>
                <a:pathLst>
                  <a:path w="86" h="19">
                    <a:moveTo>
                      <a:pt x="76" y="13"/>
                    </a:moveTo>
                    <a:lnTo>
                      <a:pt x="86" y="19"/>
                    </a:lnTo>
                    <a:lnTo>
                      <a:pt x="69" y="16"/>
                    </a:lnTo>
                    <a:lnTo>
                      <a:pt x="50" y="13"/>
                    </a:lnTo>
                    <a:lnTo>
                      <a:pt x="31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16" y="9"/>
                    </a:lnTo>
                    <a:lnTo>
                      <a:pt x="27" y="3"/>
                    </a:lnTo>
                    <a:lnTo>
                      <a:pt x="42" y="0"/>
                    </a:lnTo>
                    <a:lnTo>
                      <a:pt x="57" y="3"/>
                    </a:lnTo>
                    <a:lnTo>
                      <a:pt x="65" y="6"/>
                    </a:lnTo>
                    <a:lnTo>
                      <a:pt x="76" y="13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121000" y="3475080"/>
                <a:ext cx="127080" cy="30240"/>
              </a:xfrm>
              <a:custGeom>
                <a:avLst/>
                <a:gdLst/>
                <a:ahLst/>
                <a:rect l="l" t="t" r="r" b="b"/>
                <a:pathLst>
                  <a:path w="86" h="19">
                    <a:moveTo>
                      <a:pt x="76" y="13"/>
                    </a:moveTo>
                    <a:lnTo>
                      <a:pt x="86" y="19"/>
                    </a:lnTo>
                    <a:lnTo>
                      <a:pt x="69" y="16"/>
                    </a:lnTo>
                    <a:lnTo>
                      <a:pt x="50" y="13"/>
                    </a:lnTo>
                    <a:lnTo>
                      <a:pt x="31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16" y="9"/>
                    </a:lnTo>
                    <a:lnTo>
                      <a:pt x="27" y="3"/>
                    </a:lnTo>
                    <a:lnTo>
                      <a:pt x="42" y="0"/>
                    </a:lnTo>
                    <a:lnTo>
                      <a:pt x="57" y="3"/>
                    </a:lnTo>
                    <a:lnTo>
                      <a:pt x="65" y="6"/>
                    </a:lnTo>
                    <a:lnTo>
                      <a:pt x="76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16680" y="3514680"/>
                <a:ext cx="32400" cy="507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9" y="3"/>
                    </a:moveTo>
                    <a:lnTo>
                      <a:pt x="15" y="10"/>
                    </a:lnTo>
                    <a:lnTo>
                      <a:pt x="15" y="16"/>
                    </a:lnTo>
                    <a:lnTo>
                      <a:pt x="19" y="25"/>
                    </a:lnTo>
                    <a:lnTo>
                      <a:pt x="22" y="32"/>
                    </a:lnTo>
                    <a:lnTo>
                      <a:pt x="11" y="29"/>
                    </a:lnTo>
                    <a:lnTo>
                      <a:pt x="0" y="1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7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116680" y="3514680"/>
                <a:ext cx="32400" cy="507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9" y="3"/>
                    </a:moveTo>
                    <a:lnTo>
                      <a:pt x="15" y="10"/>
                    </a:lnTo>
                    <a:lnTo>
                      <a:pt x="15" y="16"/>
                    </a:lnTo>
                    <a:lnTo>
                      <a:pt x="19" y="25"/>
                    </a:lnTo>
                    <a:lnTo>
                      <a:pt x="22" y="32"/>
                    </a:lnTo>
                    <a:lnTo>
                      <a:pt x="11" y="29"/>
                    </a:lnTo>
                    <a:lnTo>
                      <a:pt x="0" y="1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7" y="0"/>
                    </a:lnTo>
                    <a:lnTo>
                      <a:pt x="1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00920" y="3524400"/>
                <a:ext cx="2808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7"/>
                    </a:moveTo>
                    <a:lnTo>
                      <a:pt x="19" y="10"/>
                    </a:lnTo>
                    <a:lnTo>
                      <a:pt x="15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200920" y="3524400"/>
                <a:ext cx="2808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7"/>
                    </a:moveTo>
                    <a:lnTo>
                      <a:pt x="19" y="10"/>
                    </a:lnTo>
                    <a:lnTo>
                      <a:pt x="15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233680" y="3519360"/>
                <a:ext cx="7092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33" y="10"/>
                    </a:moveTo>
                    <a:lnTo>
                      <a:pt x="40" y="19"/>
                    </a:lnTo>
                    <a:lnTo>
                      <a:pt x="48" y="22"/>
                    </a:lnTo>
                    <a:lnTo>
                      <a:pt x="40" y="29"/>
                    </a:lnTo>
                    <a:lnTo>
                      <a:pt x="29" y="32"/>
                    </a:lnTo>
                    <a:lnTo>
                      <a:pt x="18" y="38"/>
                    </a:lnTo>
                    <a:lnTo>
                      <a:pt x="0" y="41"/>
                    </a:lnTo>
                    <a:lnTo>
                      <a:pt x="12" y="32"/>
                    </a:lnTo>
                    <a:lnTo>
                      <a:pt x="18" y="22"/>
                    </a:lnTo>
                    <a:lnTo>
                      <a:pt x="21" y="13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25" y="3"/>
                    </a:lnTo>
                    <a:lnTo>
                      <a:pt x="33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233680" y="3519360"/>
                <a:ext cx="7092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33" y="10"/>
                    </a:moveTo>
                    <a:lnTo>
                      <a:pt x="40" y="19"/>
                    </a:lnTo>
                    <a:lnTo>
                      <a:pt x="48" y="22"/>
                    </a:lnTo>
                    <a:lnTo>
                      <a:pt x="40" y="29"/>
                    </a:lnTo>
                    <a:lnTo>
                      <a:pt x="29" y="32"/>
                    </a:lnTo>
                    <a:lnTo>
                      <a:pt x="18" y="38"/>
                    </a:lnTo>
                    <a:lnTo>
                      <a:pt x="0" y="41"/>
                    </a:lnTo>
                    <a:lnTo>
                      <a:pt x="12" y="32"/>
                    </a:lnTo>
                    <a:lnTo>
                      <a:pt x="18" y="22"/>
                    </a:lnTo>
                    <a:lnTo>
                      <a:pt x="21" y="13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25" y="3"/>
                    </a:lnTo>
                    <a:lnTo>
                      <a:pt x="33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620320" y="3535560"/>
                <a:ext cx="287280" cy="107640"/>
              </a:xfrm>
              <a:custGeom>
                <a:avLst/>
                <a:gdLst/>
                <a:ahLst/>
                <a:rect l="l" t="t" r="r" b="b"/>
                <a:pathLst>
                  <a:path w="194" h="68">
                    <a:moveTo>
                      <a:pt x="120" y="0"/>
                    </a:moveTo>
                    <a:lnTo>
                      <a:pt x="127" y="3"/>
                    </a:lnTo>
                    <a:lnTo>
                      <a:pt x="131" y="9"/>
                    </a:lnTo>
                    <a:lnTo>
                      <a:pt x="154" y="16"/>
                    </a:lnTo>
                    <a:lnTo>
                      <a:pt x="161" y="22"/>
                    </a:lnTo>
                    <a:lnTo>
                      <a:pt x="188" y="49"/>
                    </a:lnTo>
                    <a:lnTo>
                      <a:pt x="194" y="58"/>
                    </a:lnTo>
                    <a:lnTo>
                      <a:pt x="188" y="65"/>
                    </a:lnTo>
                    <a:lnTo>
                      <a:pt x="184" y="68"/>
                    </a:lnTo>
                    <a:lnTo>
                      <a:pt x="180" y="68"/>
                    </a:lnTo>
                    <a:lnTo>
                      <a:pt x="173" y="55"/>
                    </a:lnTo>
                    <a:lnTo>
                      <a:pt x="165" y="46"/>
                    </a:lnTo>
                    <a:lnTo>
                      <a:pt x="150" y="36"/>
                    </a:lnTo>
                    <a:lnTo>
                      <a:pt x="139" y="31"/>
                    </a:lnTo>
                    <a:lnTo>
                      <a:pt x="123" y="25"/>
                    </a:lnTo>
                    <a:lnTo>
                      <a:pt x="112" y="22"/>
                    </a:lnTo>
                    <a:lnTo>
                      <a:pt x="108" y="19"/>
                    </a:lnTo>
                    <a:lnTo>
                      <a:pt x="82" y="19"/>
                    </a:lnTo>
                    <a:lnTo>
                      <a:pt x="68" y="16"/>
                    </a:lnTo>
                    <a:lnTo>
                      <a:pt x="57" y="19"/>
                    </a:lnTo>
                    <a:lnTo>
                      <a:pt x="53" y="19"/>
                    </a:lnTo>
                    <a:lnTo>
                      <a:pt x="11" y="31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4" y="19"/>
                    </a:lnTo>
                    <a:lnTo>
                      <a:pt x="11" y="12"/>
                    </a:lnTo>
                    <a:lnTo>
                      <a:pt x="38" y="6"/>
                    </a:lnTo>
                    <a:lnTo>
                      <a:pt x="68" y="0"/>
                    </a:lnTo>
                    <a:lnTo>
                      <a:pt x="97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620320" y="3535560"/>
                <a:ext cx="287280" cy="107640"/>
              </a:xfrm>
              <a:custGeom>
                <a:avLst/>
                <a:gdLst/>
                <a:ahLst/>
                <a:rect l="l" t="t" r="r" b="b"/>
                <a:pathLst>
                  <a:path w="194" h="68">
                    <a:moveTo>
                      <a:pt x="120" y="0"/>
                    </a:moveTo>
                    <a:lnTo>
                      <a:pt x="127" y="3"/>
                    </a:lnTo>
                    <a:lnTo>
                      <a:pt x="131" y="9"/>
                    </a:lnTo>
                    <a:lnTo>
                      <a:pt x="154" y="16"/>
                    </a:lnTo>
                    <a:lnTo>
                      <a:pt x="161" y="22"/>
                    </a:lnTo>
                    <a:lnTo>
                      <a:pt x="188" y="49"/>
                    </a:lnTo>
                    <a:lnTo>
                      <a:pt x="194" y="58"/>
                    </a:lnTo>
                    <a:lnTo>
                      <a:pt x="188" y="65"/>
                    </a:lnTo>
                    <a:lnTo>
                      <a:pt x="184" y="68"/>
                    </a:lnTo>
                    <a:lnTo>
                      <a:pt x="180" y="68"/>
                    </a:lnTo>
                    <a:lnTo>
                      <a:pt x="173" y="55"/>
                    </a:lnTo>
                    <a:lnTo>
                      <a:pt x="165" y="46"/>
                    </a:lnTo>
                    <a:lnTo>
                      <a:pt x="150" y="36"/>
                    </a:lnTo>
                    <a:lnTo>
                      <a:pt x="139" y="31"/>
                    </a:lnTo>
                    <a:lnTo>
                      <a:pt x="123" y="25"/>
                    </a:lnTo>
                    <a:lnTo>
                      <a:pt x="112" y="22"/>
                    </a:lnTo>
                    <a:lnTo>
                      <a:pt x="108" y="19"/>
                    </a:lnTo>
                    <a:lnTo>
                      <a:pt x="82" y="19"/>
                    </a:lnTo>
                    <a:lnTo>
                      <a:pt x="68" y="16"/>
                    </a:lnTo>
                    <a:lnTo>
                      <a:pt x="57" y="19"/>
                    </a:lnTo>
                    <a:lnTo>
                      <a:pt x="53" y="19"/>
                    </a:lnTo>
                    <a:lnTo>
                      <a:pt x="11" y="31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4" y="19"/>
                    </a:lnTo>
                    <a:lnTo>
                      <a:pt x="11" y="12"/>
                    </a:lnTo>
                    <a:lnTo>
                      <a:pt x="38" y="6"/>
                    </a:lnTo>
                    <a:lnTo>
                      <a:pt x="68" y="0"/>
                    </a:lnTo>
                    <a:lnTo>
                      <a:pt x="97" y="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730040" y="3544920"/>
                <a:ext cx="53280" cy="138240"/>
              </a:xfrm>
              <a:custGeom>
                <a:avLst/>
                <a:gdLst/>
                <a:ahLst/>
                <a:rect l="l" t="t" r="r" b="b"/>
                <a:pathLst>
                  <a:path w="36" h="87">
                    <a:moveTo>
                      <a:pt x="36" y="10"/>
                    </a:moveTo>
                    <a:lnTo>
                      <a:pt x="33" y="32"/>
                    </a:lnTo>
                    <a:lnTo>
                      <a:pt x="25" y="49"/>
                    </a:lnTo>
                    <a:lnTo>
                      <a:pt x="25" y="71"/>
                    </a:lnTo>
                    <a:lnTo>
                      <a:pt x="25" y="81"/>
                    </a:lnTo>
                    <a:lnTo>
                      <a:pt x="21" y="87"/>
                    </a:lnTo>
                    <a:lnTo>
                      <a:pt x="12" y="87"/>
                    </a:lnTo>
                    <a:lnTo>
                      <a:pt x="10" y="84"/>
                    </a:lnTo>
                    <a:lnTo>
                      <a:pt x="12" y="74"/>
                    </a:lnTo>
                    <a:lnTo>
                      <a:pt x="4" y="43"/>
                    </a:lnTo>
                    <a:lnTo>
                      <a:pt x="0" y="35"/>
                    </a:lnTo>
                    <a:lnTo>
                      <a:pt x="0" y="19"/>
                    </a:lnTo>
                    <a:lnTo>
                      <a:pt x="4" y="13"/>
                    </a:lnTo>
                    <a:lnTo>
                      <a:pt x="15" y="3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30040" y="3544920"/>
                <a:ext cx="53280" cy="138240"/>
              </a:xfrm>
              <a:custGeom>
                <a:avLst/>
                <a:gdLst/>
                <a:ahLst/>
                <a:rect l="l" t="t" r="r" b="b"/>
                <a:pathLst>
                  <a:path w="36" h="87">
                    <a:moveTo>
                      <a:pt x="36" y="10"/>
                    </a:moveTo>
                    <a:lnTo>
                      <a:pt x="33" y="32"/>
                    </a:lnTo>
                    <a:lnTo>
                      <a:pt x="25" y="49"/>
                    </a:lnTo>
                    <a:lnTo>
                      <a:pt x="25" y="71"/>
                    </a:lnTo>
                    <a:lnTo>
                      <a:pt x="25" y="81"/>
                    </a:lnTo>
                    <a:lnTo>
                      <a:pt x="21" y="87"/>
                    </a:lnTo>
                    <a:lnTo>
                      <a:pt x="12" y="87"/>
                    </a:lnTo>
                    <a:lnTo>
                      <a:pt x="10" y="84"/>
                    </a:lnTo>
                    <a:lnTo>
                      <a:pt x="12" y="74"/>
                    </a:lnTo>
                    <a:lnTo>
                      <a:pt x="4" y="43"/>
                    </a:lnTo>
                    <a:lnTo>
                      <a:pt x="0" y="35"/>
                    </a:lnTo>
                    <a:lnTo>
                      <a:pt x="0" y="19"/>
                    </a:lnTo>
                    <a:lnTo>
                      <a:pt x="4" y="13"/>
                    </a:lnTo>
                    <a:lnTo>
                      <a:pt x="15" y="3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6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321160" y="3565440"/>
                <a:ext cx="39960" cy="5724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9" y="17"/>
                    </a:moveTo>
                    <a:lnTo>
                      <a:pt x="27" y="22"/>
                    </a:lnTo>
                    <a:lnTo>
                      <a:pt x="27" y="36"/>
                    </a:lnTo>
                    <a:lnTo>
                      <a:pt x="19" y="36"/>
                    </a:lnTo>
                    <a:lnTo>
                      <a:pt x="8" y="36"/>
                    </a:lnTo>
                    <a:lnTo>
                      <a:pt x="4" y="33"/>
                    </a:lnTo>
                    <a:lnTo>
                      <a:pt x="4" y="22"/>
                    </a:lnTo>
                    <a:lnTo>
                      <a:pt x="4" y="12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12" y="9"/>
                    </a:lnTo>
                    <a:lnTo>
                      <a:pt x="1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321160" y="3565440"/>
                <a:ext cx="39960" cy="5724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9" y="17"/>
                    </a:moveTo>
                    <a:lnTo>
                      <a:pt x="27" y="22"/>
                    </a:lnTo>
                    <a:lnTo>
                      <a:pt x="27" y="36"/>
                    </a:lnTo>
                    <a:lnTo>
                      <a:pt x="19" y="36"/>
                    </a:lnTo>
                    <a:lnTo>
                      <a:pt x="8" y="36"/>
                    </a:lnTo>
                    <a:lnTo>
                      <a:pt x="4" y="33"/>
                    </a:lnTo>
                    <a:lnTo>
                      <a:pt x="4" y="22"/>
                    </a:lnTo>
                    <a:lnTo>
                      <a:pt x="4" y="12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12" y="9"/>
                    </a:lnTo>
                    <a:lnTo>
                      <a:pt x="19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43280" y="3608280"/>
                <a:ext cx="304920" cy="11448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172" y="19"/>
                    </a:moveTo>
                    <a:lnTo>
                      <a:pt x="198" y="37"/>
                    </a:lnTo>
                    <a:lnTo>
                      <a:pt x="206" y="47"/>
                    </a:lnTo>
                    <a:lnTo>
                      <a:pt x="206" y="50"/>
                    </a:lnTo>
                    <a:lnTo>
                      <a:pt x="198" y="50"/>
                    </a:lnTo>
                    <a:lnTo>
                      <a:pt x="194" y="53"/>
                    </a:lnTo>
                    <a:lnTo>
                      <a:pt x="191" y="53"/>
                    </a:lnTo>
                    <a:lnTo>
                      <a:pt x="187" y="60"/>
                    </a:lnTo>
                    <a:lnTo>
                      <a:pt x="179" y="63"/>
                    </a:lnTo>
                    <a:lnTo>
                      <a:pt x="172" y="69"/>
                    </a:lnTo>
                    <a:lnTo>
                      <a:pt x="164" y="69"/>
                    </a:lnTo>
                    <a:lnTo>
                      <a:pt x="156" y="72"/>
                    </a:lnTo>
                    <a:lnTo>
                      <a:pt x="128" y="72"/>
                    </a:lnTo>
                    <a:lnTo>
                      <a:pt x="105" y="72"/>
                    </a:lnTo>
                    <a:lnTo>
                      <a:pt x="82" y="66"/>
                    </a:lnTo>
                    <a:lnTo>
                      <a:pt x="59" y="56"/>
                    </a:lnTo>
                    <a:lnTo>
                      <a:pt x="48" y="47"/>
                    </a:lnTo>
                    <a:lnTo>
                      <a:pt x="37" y="34"/>
                    </a:lnTo>
                    <a:lnTo>
                      <a:pt x="33" y="34"/>
                    </a:lnTo>
                    <a:lnTo>
                      <a:pt x="27" y="31"/>
                    </a:lnTo>
                    <a:lnTo>
                      <a:pt x="16" y="34"/>
                    </a:lnTo>
                    <a:lnTo>
                      <a:pt x="8" y="37"/>
                    </a:lnTo>
                    <a:lnTo>
                      <a:pt x="4" y="37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8" y="22"/>
                    </a:lnTo>
                    <a:lnTo>
                      <a:pt x="52" y="12"/>
                    </a:lnTo>
                    <a:lnTo>
                      <a:pt x="67" y="6"/>
                    </a:lnTo>
                    <a:lnTo>
                      <a:pt x="82" y="3"/>
                    </a:lnTo>
                    <a:lnTo>
                      <a:pt x="94" y="3"/>
                    </a:lnTo>
                    <a:lnTo>
                      <a:pt x="109" y="0"/>
                    </a:lnTo>
                    <a:lnTo>
                      <a:pt x="124" y="0"/>
                    </a:lnTo>
                    <a:lnTo>
                      <a:pt x="137" y="3"/>
                    </a:lnTo>
                    <a:lnTo>
                      <a:pt x="17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543280" y="3608280"/>
                <a:ext cx="304920" cy="11448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172" y="19"/>
                    </a:moveTo>
                    <a:lnTo>
                      <a:pt x="198" y="37"/>
                    </a:lnTo>
                    <a:lnTo>
                      <a:pt x="206" y="47"/>
                    </a:lnTo>
                    <a:lnTo>
                      <a:pt x="206" y="50"/>
                    </a:lnTo>
                    <a:lnTo>
                      <a:pt x="198" y="50"/>
                    </a:lnTo>
                    <a:lnTo>
                      <a:pt x="194" y="53"/>
                    </a:lnTo>
                    <a:lnTo>
                      <a:pt x="191" y="53"/>
                    </a:lnTo>
                    <a:lnTo>
                      <a:pt x="187" y="60"/>
                    </a:lnTo>
                    <a:lnTo>
                      <a:pt x="179" y="63"/>
                    </a:lnTo>
                    <a:lnTo>
                      <a:pt x="172" y="69"/>
                    </a:lnTo>
                    <a:lnTo>
                      <a:pt x="164" y="69"/>
                    </a:lnTo>
                    <a:lnTo>
                      <a:pt x="156" y="72"/>
                    </a:lnTo>
                    <a:lnTo>
                      <a:pt x="128" y="72"/>
                    </a:lnTo>
                    <a:lnTo>
                      <a:pt x="105" y="72"/>
                    </a:lnTo>
                    <a:lnTo>
                      <a:pt x="82" y="66"/>
                    </a:lnTo>
                    <a:lnTo>
                      <a:pt x="59" y="56"/>
                    </a:lnTo>
                    <a:lnTo>
                      <a:pt x="48" y="47"/>
                    </a:lnTo>
                    <a:lnTo>
                      <a:pt x="37" y="34"/>
                    </a:lnTo>
                    <a:lnTo>
                      <a:pt x="33" y="34"/>
                    </a:lnTo>
                    <a:lnTo>
                      <a:pt x="27" y="31"/>
                    </a:lnTo>
                    <a:lnTo>
                      <a:pt x="16" y="34"/>
                    </a:lnTo>
                    <a:lnTo>
                      <a:pt x="8" y="37"/>
                    </a:lnTo>
                    <a:lnTo>
                      <a:pt x="4" y="37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8" y="22"/>
                    </a:lnTo>
                    <a:lnTo>
                      <a:pt x="52" y="12"/>
                    </a:lnTo>
                    <a:lnTo>
                      <a:pt x="67" y="6"/>
                    </a:lnTo>
                    <a:lnTo>
                      <a:pt x="82" y="3"/>
                    </a:lnTo>
                    <a:lnTo>
                      <a:pt x="94" y="3"/>
                    </a:lnTo>
                    <a:lnTo>
                      <a:pt x="109" y="0"/>
                    </a:lnTo>
                    <a:lnTo>
                      <a:pt x="124" y="0"/>
                    </a:lnTo>
                    <a:lnTo>
                      <a:pt x="137" y="3"/>
                    </a:lnTo>
                    <a:lnTo>
                      <a:pt x="172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04920" y="3618000"/>
                <a:ext cx="131400" cy="6984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44" y="9"/>
                    </a:moveTo>
                    <a:lnTo>
                      <a:pt x="59" y="16"/>
                    </a:lnTo>
                    <a:lnTo>
                      <a:pt x="70" y="25"/>
                    </a:lnTo>
                    <a:lnTo>
                      <a:pt x="82" y="31"/>
                    </a:lnTo>
                    <a:lnTo>
                      <a:pt x="89" y="38"/>
                    </a:lnTo>
                    <a:lnTo>
                      <a:pt x="82" y="44"/>
                    </a:lnTo>
                    <a:lnTo>
                      <a:pt x="74" y="35"/>
                    </a:lnTo>
                    <a:lnTo>
                      <a:pt x="59" y="25"/>
                    </a:lnTo>
                    <a:lnTo>
                      <a:pt x="44" y="16"/>
                    </a:lnTo>
                    <a:lnTo>
                      <a:pt x="25" y="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8" y="3"/>
                    </a:lnTo>
                    <a:lnTo>
                      <a:pt x="44" y="9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04920" y="3618000"/>
                <a:ext cx="131400" cy="6984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44" y="9"/>
                    </a:moveTo>
                    <a:lnTo>
                      <a:pt x="59" y="16"/>
                    </a:lnTo>
                    <a:lnTo>
                      <a:pt x="70" y="25"/>
                    </a:lnTo>
                    <a:lnTo>
                      <a:pt x="82" y="31"/>
                    </a:lnTo>
                    <a:lnTo>
                      <a:pt x="89" y="38"/>
                    </a:lnTo>
                    <a:lnTo>
                      <a:pt x="82" y="44"/>
                    </a:lnTo>
                    <a:lnTo>
                      <a:pt x="74" y="35"/>
                    </a:lnTo>
                    <a:lnTo>
                      <a:pt x="59" y="25"/>
                    </a:lnTo>
                    <a:lnTo>
                      <a:pt x="44" y="16"/>
                    </a:lnTo>
                    <a:lnTo>
                      <a:pt x="25" y="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8" y="3"/>
                    </a:lnTo>
                    <a:lnTo>
                      <a:pt x="44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592240" y="3627360"/>
                <a:ext cx="90000" cy="55800"/>
              </a:xfrm>
              <a:custGeom>
                <a:avLst/>
                <a:gdLst/>
                <a:ahLst/>
                <a:rect l="l" t="t" r="r" b="b"/>
                <a:pathLst>
                  <a:path w="61" h="35">
                    <a:moveTo>
                      <a:pt x="49" y="3"/>
                    </a:moveTo>
                    <a:lnTo>
                      <a:pt x="45" y="10"/>
                    </a:lnTo>
                    <a:lnTo>
                      <a:pt x="42" y="16"/>
                    </a:lnTo>
                    <a:lnTo>
                      <a:pt x="42" y="25"/>
                    </a:lnTo>
                    <a:lnTo>
                      <a:pt x="42" y="32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11" y="10"/>
                    </a:lnTo>
                    <a:lnTo>
                      <a:pt x="19" y="7"/>
                    </a:lnTo>
                    <a:lnTo>
                      <a:pt x="26" y="7"/>
                    </a:lnTo>
                    <a:lnTo>
                      <a:pt x="38" y="3"/>
                    </a:lnTo>
                    <a:lnTo>
                      <a:pt x="45" y="0"/>
                    </a:lnTo>
                    <a:lnTo>
                      <a:pt x="61" y="0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592240" y="3627360"/>
                <a:ext cx="90000" cy="55800"/>
              </a:xfrm>
              <a:custGeom>
                <a:avLst/>
                <a:gdLst/>
                <a:ahLst/>
                <a:rect l="l" t="t" r="r" b="b"/>
                <a:pathLst>
                  <a:path w="61" h="35">
                    <a:moveTo>
                      <a:pt x="49" y="3"/>
                    </a:moveTo>
                    <a:lnTo>
                      <a:pt x="45" y="10"/>
                    </a:lnTo>
                    <a:lnTo>
                      <a:pt x="42" y="16"/>
                    </a:lnTo>
                    <a:lnTo>
                      <a:pt x="42" y="25"/>
                    </a:lnTo>
                    <a:lnTo>
                      <a:pt x="42" y="32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11" y="10"/>
                    </a:lnTo>
                    <a:lnTo>
                      <a:pt x="19" y="7"/>
                    </a:lnTo>
                    <a:lnTo>
                      <a:pt x="26" y="7"/>
                    </a:lnTo>
                    <a:lnTo>
                      <a:pt x="38" y="3"/>
                    </a:lnTo>
                    <a:lnTo>
                      <a:pt x="45" y="0"/>
                    </a:lnTo>
                    <a:lnTo>
                      <a:pt x="61" y="0"/>
                    </a:lnTo>
                    <a:lnTo>
                      <a:pt x="4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710680" y="363852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3"/>
                    </a:moveTo>
                    <a:lnTo>
                      <a:pt x="15" y="9"/>
                    </a:lnTo>
                    <a:lnTo>
                      <a:pt x="15" y="12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710680" y="363852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3"/>
                    </a:moveTo>
                    <a:lnTo>
                      <a:pt x="15" y="9"/>
                    </a:lnTo>
                    <a:lnTo>
                      <a:pt x="15" y="12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293080" y="3667320"/>
                <a:ext cx="28080" cy="7272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9" y="13"/>
                    </a:moveTo>
                    <a:lnTo>
                      <a:pt x="16" y="26"/>
                    </a:lnTo>
                    <a:lnTo>
                      <a:pt x="8" y="42"/>
                    </a:lnTo>
                    <a:lnTo>
                      <a:pt x="8" y="46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8" y="35"/>
                    </a:lnTo>
                    <a:lnTo>
                      <a:pt x="8" y="32"/>
                    </a:lnTo>
                    <a:lnTo>
                      <a:pt x="8" y="16"/>
                    </a:lnTo>
                    <a:lnTo>
                      <a:pt x="12" y="7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293080" y="3667320"/>
                <a:ext cx="28080" cy="7272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9" y="13"/>
                    </a:moveTo>
                    <a:lnTo>
                      <a:pt x="16" y="26"/>
                    </a:lnTo>
                    <a:lnTo>
                      <a:pt x="8" y="42"/>
                    </a:lnTo>
                    <a:lnTo>
                      <a:pt x="8" y="46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8" y="35"/>
                    </a:lnTo>
                    <a:lnTo>
                      <a:pt x="8" y="32"/>
                    </a:lnTo>
                    <a:lnTo>
                      <a:pt x="8" y="16"/>
                    </a:lnTo>
                    <a:lnTo>
                      <a:pt x="12" y="7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41640" y="3678120"/>
                <a:ext cx="60480" cy="3024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38" y="6"/>
                    </a:moveTo>
                    <a:lnTo>
                      <a:pt x="41" y="12"/>
                    </a:lnTo>
                    <a:lnTo>
                      <a:pt x="38" y="16"/>
                    </a:lnTo>
                    <a:lnTo>
                      <a:pt x="30" y="19"/>
                    </a:lnTo>
                    <a:lnTo>
                      <a:pt x="22" y="19"/>
                    </a:lnTo>
                    <a:lnTo>
                      <a:pt x="11" y="19"/>
                    </a:lnTo>
                    <a:lnTo>
                      <a:pt x="0" y="19"/>
                    </a:lnTo>
                    <a:lnTo>
                      <a:pt x="5" y="16"/>
                    </a:lnTo>
                    <a:lnTo>
                      <a:pt x="15" y="12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30" y="3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741640" y="3678120"/>
                <a:ext cx="60480" cy="3024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38" y="6"/>
                    </a:moveTo>
                    <a:lnTo>
                      <a:pt x="41" y="12"/>
                    </a:lnTo>
                    <a:lnTo>
                      <a:pt x="38" y="16"/>
                    </a:lnTo>
                    <a:lnTo>
                      <a:pt x="30" y="19"/>
                    </a:lnTo>
                    <a:lnTo>
                      <a:pt x="22" y="19"/>
                    </a:lnTo>
                    <a:lnTo>
                      <a:pt x="11" y="19"/>
                    </a:lnTo>
                    <a:lnTo>
                      <a:pt x="0" y="19"/>
                    </a:lnTo>
                    <a:lnTo>
                      <a:pt x="5" y="16"/>
                    </a:lnTo>
                    <a:lnTo>
                      <a:pt x="15" y="12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30" y="3"/>
                    </a:lnTo>
                    <a:lnTo>
                      <a:pt x="38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64800" y="3687840"/>
                <a:ext cx="62280" cy="10800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42" y="6"/>
                    </a:moveTo>
                    <a:lnTo>
                      <a:pt x="23" y="25"/>
                    </a:lnTo>
                    <a:lnTo>
                      <a:pt x="15" y="43"/>
                    </a:lnTo>
                    <a:lnTo>
                      <a:pt x="19" y="55"/>
                    </a:lnTo>
                    <a:lnTo>
                      <a:pt x="23" y="59"/>
                    </a:lnTo>
                    <a:lnTo>
                      <a:pt x="19" y="65"/>
                    </a:lnTo>
                    <a:lnTo>
                      <a:pt x="15" y="65"/>
                    </a:lnTo>
                    <a:lnTo>
                      <a:pt x="12" y="6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8" y="29"/>
                    </a:lnTo>
                    <a:lnTo>
                      <a:pt x="12" y="25"/>
                    </a:lnTo>
                    <a:lnTo>
                      <a:pt x="19" y="13"/>
                    </a:lnTo>
                    <a:lnTo>
                      <a:pt x="31" y="3"/>
                    </a:lnTo>
                    <a:lnTo>
                      <a:pt x="34" y="0"/>
                    </a:lnTo>
                    <a:lnTo>
                      <a:pt x="42" y="3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64800" y="3687840"/>
                <a:ext cx="62280" cy="10800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42" y="6"/>
                    </a:moveTo>
                    <a:lnTo>
                      <a:pt x="23" y="25"/>
                    </a:lnTo>
                    <a:lnTo>
                      <a:pt x="15" y="43"/>
                    </a:lnTo>
                    <a:lnTo>
                      <a:pt x="19" y="55"/>
                    </a:lnTo>
                    <a:lnTo>
                      <a:pt x="23" y="59"/>
                    </a:lnTo>
                    <a:lnTo>
                      <a:pt x="19" y="65"/>
                    </a:lnTo>
                    <a:lnTo>
                      <a:pt x="15" y="65"/>
                    </a:lnTo>
                    <a:lnTo>
                      <a:pt x="12" y="6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8" y="29"/>
                    </a:lnTo>
                    <a:lnTo>
                      <a:pt x="12" y="25"/>
                    </a:lnTo>
                    <a:lnTo>
                      <a:pt x="19" y="13"/>
                    </a:lnTo>
                    <a:lnTo>
                      <a:pt x="31" y="3"/>
                    </a:lnTo>
                    <a:lnTo>
                      <a:pt x="34" y="0"/>
                    </a:lnTo>
                    <a:lnTo>
                      <a:pt x="42" y="3"/>
                    </a:lnTo>
                    <a:lnTo>
                      <a:pt x="4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42440" y="3713040"/>
                <a:ext cx="280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19"/>
                    </a:moveTo>
                    <a:lnTo>
                      <a:pt x="11" y="22"/>
                    </a:lnTo>
                    <a:lnTo>
                      <a:pt x="8" y="22"/>
                    </a:lnTo>
                    <a:lnTo>
                      <a:pt x="8" y="19"/>
                    </a:lnTo>
                    <a:lnTo>
                      <a:pt x="8" y="17"/>
                    </a:lnTo>
                    <a:lnTo>
                      <a:pt x="11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9" y="17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42440" y="3713040"/>
                <a:ext cx="280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19"/>
                    </a:moveTo>
                    <a:lnTo>
                      <a:pt x="11" y="22"/>
                    </a:lnTo>
                    <a:lnTo>
                      <a:pt x="8" y="22"/>
                    </a:lnTo>
                    <a:lnTo>
                      <a:pt x="8" y="19"/>
                    </a:lnTo>
                    <a:lnTo>
                      <a:pt x="8" y="17"/>
                    </a:lnTo>
                    <a:lnTo>
                      <a:pt x="11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9" y="17"/>
                    </a:lnTo>
                    <a:lnTo>
                      <a:pt x="19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876640" y="3743280"/>
                <a:ext cx="309600" cy="378000"/>
              </a:xfrm>
              <a:custGeom>
                <a:avLst/>
                <a:gdLst/>
                <a:ahLst/>
                <a:rect l="l" t="t" r="r" b="b"/>
                <a:pathLst>
                  <a:path w="209" h="238">
                    <a:moveTo>
                      <a:pt x="205" y="8"/>
                    </a:moveTo>
                    <a:lnTo>
                      <a:pt x="209" y="17"/>
                    </a:lnTo>
                    <a:lnTo>
                      <a:pt x="209" y="30"/>
                    </a:lnTo>
                    <a:lnTo>
                      <a:pt x="205" y="46"/>
                    </a:lnTo>
                    <a:lnTo>
                      <a:pt x="190" y="61"/>
                    </a:lnTo>
                    <a:lnTo>
                      <a:pt x="182" y="68"/>
                    </a:lnTo>
                    <a:lnTo>
                      <a:pt x="175" y="80"/>
                    </a:lnTo>
                    <a:lnTo>
                      <a:pt x="167" y="87"/>
                    </a:lnTo>
                    <a:lnTo>
                      <a:pt x="144" y="101"/>
                    </a:lnTo>
                    <a:lnTo>
                      <a:pt x="123" y="123"/>
                    </a:lnTo>
                    <a:lnTo>
                      <a:pt x="104" y="145"/>
                    </a:lnTo>
                    <a:lnTo>
                      <a:pt x="93" y="167"/>
                    </a:lnTo>
                    <a:lnTo>
                      <a:pt x="78" y="185"/>
                    </a:lnTo>
                    <a:lnTo>
                      <a:pt x="74" y="194"/>
                    </a:lnTo>
                    <a:lnTo>
                      <a:pt x="62" y="210"/>
                    </a:lnTo>
                    <a:lnTo>
                      <a:pt x="55" y="216"/>
                    </a:lnTo>
                    <a:lnTo>
                      <a:pt x="51" y="219"/>
                    </a:lnTo>
                    <a:lnTo>
                      <a:pt x="36" y="232"/>
                    </a:lnTo>
                    <a:lnTo>
                      <a:pt x="21" y="238"/>
                    </a:lnTo>
                    <a:lnTo>
                      <a:pt x="4" y="235"/>
                    </a:lnTo>
                    <a:lnTo>
                      <a:pt x="0" y="222"/>
                    </a:lnTo>
                    <a:lnTo>
                      <a:pt x="7" y="207"/>
                    </a:lnTo>
                    <a:lnTo>
                      <a:pt x="15" y="197"/>
                    </a:lnTo>
                    <a:lnTo>
                      <a:pt x="36" y="139"/>
                    </a:lnTo>
                    <a:lnTo>
                      <a:pt x="43" y="129"/>
                    </a:lnTo>
                    <a:lnTo>
                      <a:pt x="51" y="113"/>
                    </a:lnTo>
                    <a:lnTo>
                      <a:pt x="62" y="93"/>
                    </a:lnTo>
                    <a:lnTo>
                      <a:pt x="74" y="55"/>
                    </a:lnTo>
                    <a:lnTo>
                      <a:pt x="81" y="55"/>
                    </a:lnTo>
                    <a:lnTo>
                      <a:pt x="89" y="52"/>
                    </a:lnTo>
                    <a:lnTo>
                      <a:pt x="108" y="33"/>
                    </a:lnTo>
                    <a:lnTo>
                      <a:pt x="152" y="14"/>
                    </a:lnTo>
                    <a:lnTo>
                      <a:pt x="178" y="8"/>
                    </a:lnTo>
                    <a:lnTo>
                      <a:pt x="186" y="0"/>
                    </a:lnTo>
                    <a:lnTo>
                      <a:pt x="197" y="0"/>
                    </a:lnTo>
                    <a:lnTo>
                      <a:pt x="205" y="8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76640" y="3743280"/>
                <a:ext cx="309600" cy="378000"/>
              </a:xfrm>
              <a:custGeom>
                <a:avLst/>
                <a:gdLst/>
                <a:ahLst/>
                <a:rect l="l" t="t" r="r" b="b"/>
                <a:pathLst>
                  <a:path w="209" h="238">
                    <a:moveTo>
                      <a:pt x="205" y="8"/>
                    </a:moveTo>
                    <a:lnTo>
                      <a:pt x="209" y="17"/>
                    </a:lnTo>
                    <a:lnTo>
                      <a:pt x="209" y="30"/>
                    </a:lnTo>
                    <a:lnTo>
                      <a:pt x="205" y="46"/>
                    </a:lnTo>
                    <a:lnTo>
                      <a:pt x="190" y="61"/>
                    </a:lnTo>
                    <a:lnTo>
                      <a:pt x="182" y="68"/>
                    </a:lnTo>
                    <a:lnTo>
                      <a:pt x="175" y="80"/>
                    </a:lnTo>
                    <a:lnTo>
                      <a:pt x="167" y="87"/>
                    </a:lnTo>
                    <a:lnTo>
                      <a:pt x="144" y="101"/>
                    </a:lnTo>
                    <a:lnTo>
                      <a:pt x="123" y="123"/>
                    </a:lnTo>
                    <a:lnTo>
                      <a:pt x="104" y="145"/>
                    </a:lnTo>
                    <a:lnTo>
                      <a:pt x="93" y="167"/>
                    </a:lnTo>
                    <a:lnTo>
                      <a:pt x="78" y="185"/>
                    </a:lnTo>
                    <a:lnTo>
                      <a:pt x="74" y="194"/>
                    </a:lnTo>
                    <a:lnTo>
                      <a:pt x="62" y="210"/>
                    </a:lnTo>
                    <a:lnTo>
                      <a:pt x="55" y="216"/>
                    </a:lnTo>
                    <a:lnTo>
                      <a:pt x="51" y="219"/>
                    </a:lnTo>
                    <a:lnTo>
                      <a:pt x="36" y="232"/>
                    </a:lnTo>
                    <a:lnTo>
                      <a:pt x="21" y="238"/>
                    </a:lnTo>
                    <a:lnTo>
                      <a:pt x="4" y="235"/>
                    </a:lnTo>
                    <a:lnTo>
                      <a:pt x="0" y="222"/>
                    </a:lnTo>
                    <a:lnTo>
                      <a:pt x="7" y="207"/>
                    </a:lnTo>
                    <a:lnTo>
                      <a:pt x="15" y="197"/>
                    </a:lnTo>
                    <a:lnTo>
                      <a:pt x="36" y="139"/>
                    </a:lnTo>
                    <a:lnTo>
                      <a:pt x="43" y="129"/>
                    </a:lnTo>
                    <a:lnTo>
                      <a:pt x="51" y="113"/>
                    </a:lnTo>
                    <a:lnTo>
                      <a:pt x="62" y="93"/>
                    </a:lnTo>
                    <a:lnTo>
                      <a:pt x="74" y="55"/>
                    </a:lnTo>
                    <a:lnTo>
                      <a:pt x="81" y="55"/>
                    </a:lnTo>
                    <a:lnTo>
                      <a:pt x="89" y="52"/>
                    </a:lnTo>
                    <a:lnTo>
                      <a:pt x="108" y="33"/>
                    </a:lnTo>
                    <a:lnTo>
                      <a:pt x="152" y="14"/>
                    </a:lnTo>
                    <a:lnTo>
                      <a:pt x="178" y="8"/>
                    </a:lnTo>
                    <a:lnTo>
                      <a:pt x="186" y="0"/>
                    </a:lnTo>
                    <a:lnTo>
                      <a:pt x="197" y="0"/>
                    </a:lnTo>
                    <a:lnTo>
                      <a:pt x="20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085720" y="3774960"/>
                <a:ext cx="63720" cy="414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43" y="0"/>
                    </a:moveTo>
                    <a:lnTo>
                      <a:pt x="36" y="13"/>
                    </a:lnTo>
                    <a:lnTo>
                      <a:pt x="21" y="22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13" y="19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4" y="7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85720" y="3774960"/>
                <a:ext cx="63720" cy="414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43" y="0"/>
                    </a:moveTo>
                    <a:lnTo>
                      <a:pt x="36" y="13"/>
                    </a:lnTo>
                    <a:lnTo>
                      <a:pt x="21" y="22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13" y="19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4" y="7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8800" y="3781440"/>
                <a:ext cx="115200" cy="74520"/>
              </a:xfrm>
              <a:custGeom>
                <a:avLst/>
                <a:gdLst/>
                <a:ahLst/>
                <a:rect l="l" t="t" r="r" b="b"/>
                <a:pathLst>
                  <a:path w="78" h="47">
                    <a:moveTo>
                      <a:pt x="78" y="0"/>
                    </a:moveTo>
                    <a:lnTo>
                      <a:pt x="78" y="6"/>
                    </a:lnTo>
                    <a:lnTo>
                      <a:pt x="74" y="18"/>
                    </a:lnTo>
                    <a:lnTo>
                      <a:pt x="52" y="41"/>
                    </a:lnTo>
                    <a:lnTo>
                      <a:pt x="40" y="47"/>
                    </a:lnTo>
                    <a:lnTo>
                      <a:pt x="36" y="47"/>
                    </a:lnTo>
                    <a:lnTo>
                      <a:pt x="36" y="41"/>
                    </a:lnTo>
                    <a:lnTo>
                      <a:pt x="55" y="25"/>
                    </a:lnTo>
                    <a:lnTo>
                      <a:pt x="63" y="18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21" y="28"/>
                    </a:lnTo>
                    <a:lnTo>
                      <a:pt x="4" y="37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33" y="9"/>
                    </a:lnTo>
                    <a:lnTo>
                      <a:pt x="67" y="3"/>
                    </a:lnTo>
                    <a:lnTo>
                      <a:pt x="74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8800" y="3781440"/>
                <a:ext cx="115200" cy="74520"/>
              </a:xfrm>
              <a:custGeom>
                <a:avLst/>
                <a:gdLst/>
                <a:ahLst/>
                <a:rect l="l" t="t" r="r" b="b"/>
                <a:pathLst>
                  <a:path w="78" h="47">
                    <a:moveTo>
                      <a:pt x="78" y="0"/>
                    </a:moveTo>
                    <a:lnTo>
                      <a:pt x="78" y="6"/>
                    </a:lnTo>
                    <a:lnTo>
                      <a:pt x="74" y="18"/>
                    </a:lnTo>
                    <a:lnTo>
                      <a:pt x="52" y="41"/>
                    </a:lnTo>
                    <a:lnTo>
                      <a:pt x="40" y="47"/>
                    </a:lnTo>
                    <a:lnTo>
                      <a:pt x="36" y="47"/>
                    </a:lnTo>
                    <a:lnTo>
                      <a:pt x="36" y="41"/>
                    </a:lnTo>
                    <a:lnTo>
                      <a:pt x="55" y="25"/>
                    </a:lnTo>
                    <a:lnTo>
                      <a:pt x="63" y="18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21" y="28"/>
                    </a:lnTo>
                    <a:lnTo>
                      <a:pt x="4" y="37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33" y="9"/>
                    </a:lnTo>
                    <a:lnTo>
                      <a:pt x="67" y="3"/>
                    </a:lnTo>
                    <a:lnTo>
                      <a:pt x="74" y="0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189400" y="3795840"/>
                <a:ext cx="39960" cy="6984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27" y="13"/>
                    </a:moveTo>
                    <a:lnTo>
                      <a:pt x="23" y="19"/>
                    </a:lnTo>
                    <a:lnTo>
                      <a:pt x="23" y="32"/>
                    </a:lnTo>
                    <a:lnTo>
                      <a:pt x="23" y="35"/>
                    </a:lnTo>
                    <a:lnTo>
                      <a:pt x="23" y="44"/>
                    </a:lnTo>
                    <a:lnTo>
                      <a:pt x="15" y="44"/>
                    </a:lnTo>
                    <a:lnTo>
                      <a:pt x="11" y="41"/>
                    </a:lnTo>
                    <a:lnTo>
                      <a:pt x="4" y="38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1" y="3"/>
                    </a:lnTo>
                    <a:lnTo>
                      <a:pt x="19" y="0"/>
                    </a:lnTo>
                    <a:lnTo>
                      <a:pt x="27" y="3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89400" y="3795840"/>
                <a:ext cx="39960" cy="6984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27" y="13"/>
                    </a:moveTo>
                    <a:lnTo>
                      <a:pt x="23" y="19"/>
                    </a:lnTo>
                    <a:lnTo>
                      <a:pt x="23" y="32"/>
                    </a:lnTo>
                    <a:lnTo>
                      <a:pt x="23" y="35"/>
                    </a:lnTo>
                    <a:lnTo>
                      <a:pt x="23" y="44"/>
                    </a:lnTo>
                    <a:lnTo>
                      <a:pt x="15" y="44"/>
                    </a:lnTo>
                    <a:lnTo>
                      <a:pt x="11" y="41"/>
                    </a:lnTo>
                    <a:lnTo>
                      <a:pt x="4" y="38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1" y="3"/>
                    </a:lnTo>
                    <a:lnTo>
                      <a:pt x="19" y="0"/>
                    </a:lnTo>
                    <a:lnTo>
                      <a:pt x="27" y="3"/>
                    </a:lnTo>
                    <a:lnTo>
                      <a:pt x="27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389200" y="3805200"/>
                <a:ext cx="69840" cy="4140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40" y="10"/>
                    </a:moveTo>
                    <a:lnTo>
                      <a:pt x="47" y="16"/>
                    </a:lnTo>
                    <a:lnTo>
                      <a:pt x="47" y="19"/>
                    </a:lnTo>
                    <a:lnTo>
                      <a:pt x="44" y="16"/>
                    </a:lnTo>
                    <a:lnTo>
                      <a:pt x="44" y="26"/>
                    </a:lnTo>
                    <a:lnTo>
                      <a:pt x="40" y="26"/>
                    </a:lnTo>
                    <a:lnTo>
                      <a:pt x="36" y="19"/>
                    </a:lnTo>
                    <a:lnTo>
                      <a:pt x="13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25" y="3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389200" y="3805200"/>
                <a:ext cx="69840" cy="4140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40" y="10"/>
                    </a:moveTo>
                    <a:lnTo>
                      <a:pt x="47" y="16"/>
                    </a:lnTo>
                    <a:lnTo>
                      <a:pt x="47" y="19"/>
                    </a:lnTo>
                    <a:lnTo>
                      <a:pt x="44" y="16"/>
                    </a:lnTo>
                    <a:lnTo>
                      <a:pt x="44" y="26"/>
                    </a:lnTo>
                    <a:lnTo>
                      <a:pt x="40" y="26"/>
                    </a:lnTo>
                    <a:lnTo>
                      <a:pt x="36" y="19"/>
                    </a:lnTo>
                    <a:lnTo>
                      <a:pt x="13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25" y="3"/>
                    </a:lnTo>
                    <a:lnTo>
                      <a:pt x="4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995360" y="3851280"/>
                <a:ext cx="103680" cy="77760"/>
              </a:xfrm>
              <a:custGeom>
                <a:avLst/>
                <a:gdLst/>
                <a:ahLst/>
                <a:rect l="l" t="t" r="r" b="b"/>
                <a:pathLst>
                  <a:path w="70" h="49">
                    <a:moveTo>
                      <a:pt x="70" y="3"/>
                    </a:moveTo>
                    <a:lnTo>
                      <a:pt x="70" y="6"/>
                    </a:lnTo>
                    <a:lnTo>
                      <a:pt x="57" y="9"/>
                    </a:lnTo>
                    <a:lnTo>
                      <a:pt x="49" y="12"/>
                    </a:lnTo>
                    <a:lnTo>
                      <a:pt x="15" y="36"/>
                    </a:lnTo>
                    <a:lnTo>
                      <a:pt x="11" y="42"/>
                    </a:lnTo>
                    <a:lnTo>
                      <a:pt x="7" y="45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30" y="15"/>
                    </a:lnTo>
                    <a:lnTo>
                      <a:pt x="57" y="3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995360" y="3851280"/>
                <a:ext cx="103680" cy="77760"/>
              </a:xfrm>
              <a:custGeom>
                <a:avLst/>
                <a:gdLst/>
                <a:ahLst/>
                <a:rect l="l" t="t" r="r" b="b"/>
                <a:pathLst>
                  <a:path w="70" h="49">
                    <a:moveTo>
                      <a:pt x="70" y="3"/>
                    </a:moveTo>
                    <a:lnTo>
                      <a:pt x="70" y="6"/>
                    </a:lnTo>
                    <a:lnTo>
                      <a:pt x="57" y="9"/>
                    </a:lnTo>
                    <a:lnTo>
                      <a:pt x="49" y="12"/>
                    </a:lnTo>
                    <a:lnTo>
                      <a:pt x="15" y="36"/>
                    </a:lnTo>
                    <a:lnTo>
                      <a:pt x="11" y="42"/>
                    </a:lnTo>
                    <a:lnTo>
                      <a:pt x="7" y="45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30" y="15"/>
                    </a:lnTo>
                    <a:lnTo>
                      <a:pt x="57" y="3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580360" y="3861000"/>
                <a:ext cx="28080" cy="107640"/>
              </a:xfrm>
              <a:custGeom>
                <a:avLst/>
                <a:gdLst/>
                <a:ahLst/>
                <a:rect l="l" t="t" r="r" b="b"/>
                <a:pathLst>
                  <a:path w="19" h="68">
                    <a:moveTo>
                      <a:pt x="19" y="6"/>
                    </a:moveTo>
                    <a:lnTo>
                      <a:pt x="8" y="33"/>
                    </a:lnTo>
                    <a:lnTo>
                      <a:pt x="8" y="52"/>
                    </a:lnTo>
                    <a:lnTo>
                      <a:pt x="2" y="55"/>
                    </a:lnTo>
                    <a:lnTo>
                      <a:pt x="2" y="68"/>
                    </a:lnTo>
                    <a:lnTo>
                      <a:pt x="0" y="65"/>
                    </a:lnTo>
                    <a:lnTo>
                      <a:pt x="0" y="36"/>
                    </a:lnTo>
                    <a:lnTo>
                      <a:pt x="2" y="17"/>
                    </a:lnTo>
                    <a:lnTo>
                      <a:pt x="8" y="6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80360" y="3861000"/>
                <a:ext cx="28080" cy="107640"/>
              </a:xfrm>
              <a:custGeom>
                <a:avLst/>
                <a:gdLst/>
                <a:ahLst/>
                <a:rect l="l" t="t" r="r" b="b"/>
                <a:pathLst>
                  <a:path w="19" h="68">
                    <a:moveTo>
                      <a:pt x="19" y="6"/>
                    </a:moveTo>
                    <a:lnTo>
                      <a:pt x="8" y="33"/>
                    </a:lnTo>
                    <a:lnTo>
                      <a:pt x="8" y="52"/>
                    </a:lnTo>
                    <a:lnTo>
                      <a:pt x="2" y="55"/>
                    </a:lnTo>
                    <a:lnTo>
                      <a:pt x="2" y="68"/>
                    </a:lnTo>
                    <a:lnTo>
                      <a:pt x="0" y="65"/>
                    </a:lnTo>
                    <a:lnTo>
                      <a:pt x="0" y="36"/>
                    </a:lnTo>
                    <a:lnTo>
                      <a:pt x="2" y="17"/>
                    </a:lnTo>
                    <a:lnTo>
                      <a:pt x="8" y="6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233680" y="3865680"/>
                <a:ext cx="214920" cy="87120"/>
              </a:xfrm>
              <a:custGeom>
                <a:avLst/>
                <a:gdLst/>
                <a:ahLst/>
                <a:rect l="l" t="t" r="r" b="b"/>
                <a:pathLst>
                  <a:path w="145" h="55">
                    <a:moveTo>
                      <a:pt x="33" y="6"/>
                    </a:moveTo>
                    <a:lnTo>
                      <a:pt x="40" y="14"/>
                    </a:lnTo>
                    <a:lnTo>
                      <a:pt x="44" y="24"/>
                    </a:lnTo>
                    <a:lnTo>
                      <a:pt x="48" y="33"/>
                    </a:lnTo>
                    <a:lnTo>
                      <a:pt x="56" y="36"/>
                    </a:lnTo>
                    <a:lnTo>
                      <a:pt x="63" y="43"/>
                    </a:lnTo>
                    <a:lnTo>
                      <a:pt x="71" y="43"/>
                    </a:lnTo>
                    <a:lnTo>
                      <a:pt x="82" y="46"/>
                    </a:lnTo>
                    <a:lnTo>
                      <a:pt x="90" y="46"/>
                    </a:lnTo>
                    <a:lnTo>
                      <a:pt x="97" y="46"/>
                    </a:lnTo>
                    <a:lnTo>
                      <a:pt x="113" y="43"/>
                    </a:lnTo>
                    <a:lnTo>
                      <a:pt x="124" y="36"/>
                    </a:lnTo>
                    <a:lnTo>
                      <a:pt x="133" y="33"/>
                    </a:lnTo>
                    <a:lnTo>
                      <a:pt x="141" y="33"/>
                    </a:lnTo>
                    <a:lnTo>
                      <a:pt x="145" y="33"/>
                    </a:lnTo>
                    <a:lnTo>
                      <a:pt x="145" y="36"/>
                    </a:lnTo>
                    <a:lnTo>
                      <a:pt x="145" y="40"/>
                    </a:lnTo>
                    <a:lnTo>
                      <a:pt x="137" y="43"/>
                    </a:lnTo>
                    <a:lnTo>
                      <a:pt x="130" y="46"/>
                    </a:lnTo>
                    <a:lnTo>
                      <a:pt x="118" y="52"/>
                    </a:lnTo>
                    <a:lnTo>
                      <a:pt x="105" y="55"/>
                    </a:lnTo>
                    <a:lnTo>
                      <a:pt x="97" y="55"/>
                    </a:lnTo>
                    <a:lnTo>
                      <a:pt x="82" y="55"/>
                    </a:lnTo>
                    <a:lnTo>
                      <a:pt x="71" y="55"/>
                    </a:lnTo>
                    <a:lnTo>
                      <a:pt x="59" y="52"/>
                    </a:lnTo>
                    <a:lnTo>
                      <a:pt x="52" y="49"/>
                    </a:lnTo>
                    <a:lnTo>
                      <a:pt x="44" y="43"/>
                    </a:lnTo>
                    <a:lnTo>
                      <a:pt x="40" y="36"/>
                    </a:lnTo>
                    <a:lnTo>
                      <a:pt x="33" y="27"/>
                    </a:lnTo>
                    <a:lnTo>
                      <a:pt x="25" y="16"/>
                    </a:lnTo>
                    <a:lnTo>
                      <a:pt x="21" y="10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1" y="0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233680" y="3865680"/>
                <a:ext cx="214920" cy="87120"/>
              </a:xfrm>
              <a:custGeom>
                <a:avLst/>
                <a:gdLst/>
                <a:ahLst/>
                <a:rect l="l" t="t" r="r" b="b"/>
                <a:pathLst>
                  <a:path w="145" h="55">
                    <a:moveTo>
                      <a:pt x="33" y="6"/>
                    </a:moveTo>
                    <a:lnTo>
                      <a:pt x="40" y="14"/>
                    </a:lnTo>
                    <a:lnTo>
                      <a:pt x="44" y="24"/>
                    </a:lnTo>
                    <a:lnTo>
                      <a:pt x="48" y="33"/>
                    </a:lnTo>
                    <a:lnTo>
                      <a:pt x="56" y="36"/>
                    </a:lnTo>
                    <a:lnTo>
                      <a:pt x="63" y="43"/>
                    </a:lnTo>
                    <a:lnTo>
                      <a:pt x="71" y="43"/>
                    </a:lnTo>
                    <a:lnTo>
                      <a:pt x="82" y="46"/>
                    </a:lnTo>
                    <a:lnTo>
                      <a:pt x="90" y="46"/>
                    </a:lnTo>
                    <a:lnTo>
                      <a:pt x="97" y="46"/>
                    </a:lnTo>
                    <a:lnTo>
                      <a:pt x="113" y="43"/>
                    </a:lnTo>
                    <a:lnTo>
                      <a:pt x="124" y="36"/>
                    </a:lnTo>
                    <a:lnTo>
                      <a:pt x="133" y="33"/>
                    </a:lnTo>
                    <a:lnTo>
                      <a:pt x="141" y="33"/>
                    </a:lnTo>
                    <a:lnTo>
                      <a:pt x="145" y="33"/>
                    </a:lnTo>
                    <a:lnTo>
                      <a:pt x="145" y="36"/>
                    </a:lnTo>
                    <a:lnTo>
                      <a:pt x="145" y="40"/>
                    </a:lnTo>
                    <a:lnTo>
                      <a:pt x="137" y="43"/>
                    </a:lnTo>
                    <a:lnTo>
                      <a:pt x="130" y="46"/>
                    </a:lnTo>
                    <a:lnTo>
                      <a:pt x="118" y="52"/>
                    </a:lnTo>
                    <a:lnTo>
                      <a:pt x="105" y="55"/>
                    </a:lnTo>
                    <a:lnTo>
                      <a:pt x="97" y="55"/>
                    </a:lnTo>
                    <a:lnTo>
                      <a:pt x="82" y="55"/>
                    </a:lnTo>
                    <a:lnTo>
                      <a:pt x="71" y="55"/>
                    </a:lnTo>
                    <a:lnTo>
                      <a:pt x="59" y="52"/>
                    </a:lnTo>
                    <a:lnTo>
                      <a:pt x="52" y="49"/>
                    </a:lnTo>
                    <a:lnTo>
                      <a:pt x="44" y="43"/>
                    </a:lnTo>
                    <a:lnTo>
                      <a:pt x="40" y="36"/>
                    </a:lnTo>
                    <a:lnTo>
                      <a:pt x="33" y="27"/>
                    </a:lnTo>
                    <a:lnTo>
                      <a:pt x="25" y="16"/>
                    </a:lnTo>
                    <a:lnTo>
                      <a:pt x="21" y="10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1" y="0"/>
                    </a:lnTo>
                    <a:lnTo>
                      <a:pt x="3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59040" y="3875040"/>
                <a:ext cx="7992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54" y="13"/>
                    </a:moveTo>
                    <a:lnTo>
                      <a:pt x="54" y="21"/>
                    </a:lnTo>
                    <a:lnTo>
                      <a:pt x="46" y="30"/>
                    </a:lnTo>
                    <a:lnTo>
                      <a:pt x="38" y="34"/>
                    </a:lnTo>
                    <a:lnTo>
                      <a:pt x="12" y="37"/>
                    </a:lnTo>
                    <a:lnTo>
                      <a:pt x="4" y="34"/>
                    </a:lnTo>
                    <a:lnTo>
                      <a:pt x="0" y="30"/>
                    </a:lnTo>
                    <a:lnTo>
                      <a:pt x="4" y="27"/>
                    </a:lnTo>
                    <a:lnTo>
                      <a:pt x="8" y="24"/>
                    </a:lnTo>
                    <a:lnTo>
                      <a:pt x="19" y="24"/>
                    </a:lnTo>
                    <a:lnTo>
                      <a:pt x="38" y="24"/>
                    </a:lnTo>
                    <a:lnTo>
                      <a:pt x="46" y="18"/>
                    </a:lnTo>
                    <a:lnTo>
                      <a:pt x="46" y="10"/>
                    </a:lnTo>
                    <a:lnTo>
                      <a:pt x="42" y="8"/>
                    </a:lnTo>
                    <a:lnTo>
                      <a:pt x="46" y="0"/>
                    </a:lnTo>
                    <a:lnTo>
                      <a:pt x="50" y="4"/>
                    </a:lnTo>
                    <a:lnTo>
                      <a:pt x="5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59040" y="3875040"/>
                <a:ext cx="7992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54" y="13"/>
                    </a:moveTo>
                    <a:lnTo>
                      <a:pt x="54" y="21"/>
                    </a:lnTo>
                    <a:lnTo>
                      <a:pt x="46" y="30"/>
                    </a:lnTo>
                    <a:lnTo>
                      <a:pt x="38" y="34"/>
                    </a:lnTo>
                    <a:lnTo>
                      <a:pt x="12" y="37"/>
                    </a:lnTo>
                    <a:lnTo>
                      <a:pt x="4" y="34"/>
                    </a:lnTo>
                    <a:lnTo>
                      <a:pt x="0" y="30"/>
                    </a:lnTo>
                    <a:lnTo>
                      <a:pt x="4" y="27"/>
                    </a:lnTo>
                    <a:lnTo>
                      <a:pt x="8" y="24"/>
                    </a:lnTo>
                    <a:lnTo>
                      <a:pt x="19" y="24"/>
                    </a:lnTo>
                    <a:lnTo>
                      <a:pt x="38" y="24"/>
                    </a:lnTo>
                    <a:lnTo>
                      <a:pt x="46" y="18"/>
                    </a:lnTo>
                    <a:lnTo>
                      <a:pt x="46" y="10"/>
                    </a:lnTo>
                    <a:lnTo>
                      <a:pt x="42" y="8"/>
                    </a:lnTo>
                    <a:lnTo>
                      <a:pt x="46" y="0"/>
                    </a:lnTo>
                    <a:lnTo>
                      <a:pt x="50" y="4"/>
                    </a:lnTo>
                    <a:lnTo>
                      <a:pt x="54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40360" y="3890880"/>
                <a:ext cx="101880" cy="117720"/>
              </a:xfrm>
              <a:custGeom>
                <a:avLst/>
                <a:gdLst/>
                <a:ahLst/>
                <a:rect l="l" t="t" r="r" b="b"/>
                <a:pathLst>
                  <a:path w="69" h="74">
                    <a:moveTo>
                      <a:pt x="57" y="0"/>
                    </a:moveTo>
                    <a:lnTo>
                      <a:pt x="65" y="0"/>
                    </a:lnTo>
                    <a:lnTo>
                      <a:pt x="69" y="3"/>
                    </a:lnTo>
                    <a:lnTo>
                      <a:pt x="69" y="24"/>
                    </a:lnTo>
                    <a:lnTo>
                      <a:pt x="65" y="36"/>
                    </a:lnTo>
                    <a:lnTo>
                      <a:pt x="35" y="58"/>
                    </a:lnTo>
                    <a:lnTo>
                      <a:pt x="12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2" y="58"/>
                    </a:lnTo>
                    <a:lnTo>
                      <a:pt x="27" y="39"/>
                    </a:lnTo>
                    <a:lnTo>
                      <a:pt x="46" y="11"/>
                    </a:lnTo>
                    <a:lnTo>
                      <a:pt x="50" y="8"/>
                    </a:lnTo>
                    <a:lnTo>
                      <a:pt x="54" y="3"/>
                    </a:lnTo>
                    <a:lnTo>
                      <a:pt x="54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940360" y="3890880"/>
                <a:ext cx="101880" cy="117720"/>
              </a:xfrm>
              <a:custGeom>
                <a:avLst/>
                <a:gdLst/>
                <a:ahLst/>
                <a:rect l="l" t="t" r="r" b="b"/>
                <a:pathLst>
                  <a:path w="69" h="74">
                    <a:moveTo>
                      <a:pt x="57" y="0"/>
                    </a:moveTo>
                    <a:lnTo>
                      <a:pt x="65" y="0"/>
                    </a:lnTo>
                    <a:lnTo>
                      <a:pt x="69" y="3"/>
                    </a:lnTo>
                    <a:lnTo>
                      <a:pt x="69" y="24"/>
                    </a:lnTo>
                    <a:lnTo>
                      <a:pt x="65" y="36"/>
                    </a:lnTo>
                    <a:lnTo>
                      <a:pt x="35" y="58"/>
                    </a:lnTo>
                    <a:lnTo>
                      <a:pt x="12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2" y="58"/>
                    </a:lnTo>
                    <a:lnTo>
                      <a:pt x="27" y="39"/>
                    </a:lnTo>
                    <a:lnTo>
                      <a:pt x="46" y="11"/>
                    </a:lnTo>
                    <a:lnTo>
                      <a:pt x="50" y="8"/>
                    </a:lnTo>
                    <a:lnTo>
                      <a:pt x="54" y="3"/>
                    </a:lnTo>
                    <a:lnTo>
                      <a:pt x="54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040000" y="3922920"/>
                <a:ext cx="520920" cy="228600"/>
              </a:xfrm>
              <a:custGeom>
                <a:avLst/>
                <a:gdLst/>
                <a:ahLst/>
                <a:rect l="l" t="t" r="r" b="b"/>
                <a:pathLst>
                  <a:path w="352" h="144">
                    <a:moveTo>
                      <a:pt x="31" y="13"/>
                    </a:moveTo>
                    <a:lnTo>
                      <a:pt x="52" y="16"/>
                    </a:lnTo>
                    <a:lnTo>
                      <a:pt x="71" y="16"/>
                    </a:lnTo>
                    <a:lnTo>
                      <a:pt x="93" y="19"/>
                    </a:lnTo>
                    <a:lnTo>
                      <a:pt x="120" y="23"/>
                    </a:lnTo>
                    <a:lnTo>
                      <a:pt x="168" y="48"/>
                    </a:lnTo>
                    <a:lnTo>
                      <a:pt x="194" y="51"/>
                    </a:lnTo>
                    <a:lnTo>
                      <a:pt x="240" y="51"/>
                    </a:lnTo>
                    <a:lnTo>
                      <a:pt x="255" y="54"/>
                    </a:lnTo>
                    <a:lnTo>
                      <a:pt x="314" y="90"/>
                    </a:lnTo>
                    <a:lnTo>
                      <a:pt x="352" y="109"/>
                    </a:lnTo>
                    <a:lnTo>
                      <a:pt x="344" y="113"/>
                    </a:lnTo>
                    <a:lnTo>
                      <a:pt x="314" y="113"/>
                    </a:lnTo>
                    <a:lnTo>
                      <a:pt x="302" y="113"/>
                    </a:lnTo>
                    <a:lnTo>
                      <a:pt x="287" y="116"/>
                    </a:lnTo>
                    <a:lnTo>
                      <a:pt x="272" y="122"/>
                    </a:lnTo>
                    <a:lnTo>
                      <a:pt x="253" y="128"/>
                    </a:lnTo>
                    <a:lnTo>
                      <a:pt x="236" y="135"/>
                    </a:lnTo>
                    <a:lnTo>
                      <a:pt x="217" y="141"/>
                    </a:lnTo>
                    <a:lnTo>
                      <a:pt x="198" y="144"/>
                    </a:lnTo>
                    <a:lnTo>
                      <a:pt x="171" y="144"/>
                    </a:lnTo>
                    <a:lnTo>
                      <a:pt x="137" y="138"/>
                    </a:lnTo>
                    <a:lnTo>
                      <a:pt x="105" y="125"/>
                    </a:lnTo>
                    <a:lnTo>
                      <a:pt x="90" y="113"/>
                    </a:lnTo>
                    <a:lnTo>
                      <a:pt x="67" y="87"/>
                    </a:lnTo>
                    <a:lnTo>
                      <a:pt x="48" y="60"/>
                    </a:lnTo>
                    <a:lnTo>
                      <a:pt x="31" y="38"/>
                    </a:lnTo>
                    <a:lnTo>
                      <a:pt x="25" y="26"/>
                    </a:lnTo>
                    <a:lnTo>
                      <a:pt x="12" y="16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40000" y="3922920"/>
                <a:ext cx="520920" cy="228600"/>
              </a:xfrm>
              <a:custGeom>
                <a:avLst/>
                <a:gdLst/>
                <a:ahLst/>
                <a:rect l="l" t="t" r="r" b="b"/>
                <a:pathLst>
                  <a:path w="352" h="144">
                    <a:moveTo>
                      <a:pt x="31" y="13"/>
                    </a:moveTo>
                    <a:lnTo>
                      <a:pt x="52" y="16"/>
                    </a:lnTo>
                    <a:lnTo>
                      <a:pt x="71" y="16"/>
                    </a:lnTo>
                    <a:lnTo>
                      <a:pt x="93" y="19"/>
                    </a:lnTo>
                    <a:lnTo>
                      <a:pt x="120" y="23"/>
                    </a:lnTo>
                    <a:lnTo>
                      <a:pt x="168" y="48"/>
                    </a:lnTo>
                    <a:lnTo>
                      <a:pt x="194" y="51"/>
                    </a:lnTo>
                    <a:lnTo>
                      <a:pt x="240" y="51"/>
                    </a:lnTo>
                    <a:lnTo>
                      <a:pt x="255" y="54"/>
                    </a:lnTo>
                    <a:lnTo>
                      <a:pt x="314" y="90"/>
                    </a:lnTo>
                    <a:lnTo>
                      <a:pt x="352" y="109"/>
                    </a:lnTo>
                    <a:lnTo>
                      <a:pt x="344" y="113"/>
                    </a:lnTo>
                    <a:lnTo>
                      <a:pt x="314" y="113"/>
                    </a:lnTo>
                    <a:lnTo>
                      <a:pt x="302" y="113"/>
                    </a:lnTo>
                    <a:lnTo>
                      <a:pt x="287" y="116"/>
                    </a:lnTo>
                    <a:lnTo>
                      <a:pt x="272" y="122"/>
                    </a:lnTo>
                    <a:lnTo>
                      <a:pt x="253" y="128"/>
                    </a:lnTo>
                    <a:lnTo>
                      <a:pt x="236" y="135"/>
                    </a:lnTo>
                    <a:lnTo>
                      <a:pt x="217" y="141"/>
                    </a:lnTo>
                    <a:lnTo>
                      <a:pt x="198" y="144"/>
                    </a:lnTo>
                    <a:lnTo>
                      <a:pt x="171" y="144"/>
                    </a:lnTo>
                    <a:lnTo>
                      <a:pt x="137" y="138"/>
                    </a:lnTo>
                    <a:lnTo>
                      <a:pt x="105" y="125"/>
                    </a:lnTo>
                    <a:lnTo>
                      <a:pt x="90" y="113"/>
                    </a:lnTo>
                    <a:lnTo>
                      <a:pt x="67" y="87"/>
                    </a:lnTo>
                    <a:lnTo>
                      <a:pt x="48" y="60"/>
                    </a:lnTo>
                    <a:lnTo>
                      <a:pt x="31" y="38"/>
                    </a:lnTo>
                    <a:lnTo>
                      <a:pt x="25" y="26"/>
                    </a:lnTo>
                    <a:lnTo>
                      <a:pt x="12" y="16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3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10560" y="3963960"/>
                <a:ext cx="360000" cy="112680"/>
              </a:xfrm>
              <a:custGeom>
                <a:avLst/>
                <a:gdLst/>
                <a:ahLst/>
                <a:rect l="l" t="t" r="r" b="b"/>
                <a:pathLst>
                  <a:path w="243" h="71">
                    <a:moveTo>
                      <a:pt x="34" y="3"/>
                    </a:moveTo>
                    <a:lnTo>
                      <a:pt x="53" y="3"/>
                    </a:lnTo>
                    <a:lnTo>
                      <a:pt x="68" y="6"/>
                    </a:lnTo>
                    <a:lnTo>
                      <a:pt x="89" y="12"/>
                    </a:lnTo>
                    <a:lnTo>
                      <a:pt x="104" y="22"/>
                    </a:lnTo>
                    <a:lnTo>
                      <a:pt x="123" y="28"/>
                    </a:lnTo>
                    <a:lnTo>
                      <a:pt x="146" y="31"/>
                    </a:lnTo>
                    <a:lnTo>
                      <a:pt x="173" y="31"/>
                    </a:lnTo>
                    <a:lnTo>
                      <a:pt x="188" y="38"/>
                    </a:lnTo>
                    <a:lnTo>
                      <a:pt x="201" y="41"/>
                    </a:lnTo>
                    <a:lnTo>
                      <a:pt x="243" y="71"/>
                    </a:lnTo>
                    <a:lnTo>
                      <a:pt x="235" y="71"/>
                    </a:lnTo>
                    <a:lnTo>
                      <a:pt x="213" y="61"/>
                    </a:lnTo>
                    <a:lnTo>
                      <a:pt x="192" y="58"/>
                    </a:lnTo>
                    <a:lnTo>
                      <a:pt x="173" y="58"/>
                    </a:lnTo>
                    <a:lnTo>
                      <a:pt x="154" y="58"/>
                    </a:lnTo>
                    <a:lnTo>
                      <a:pt x="135" y="55"/>
                    </a:lnTo>
                    <a:lnTo>
                      <a:pt x="112" y="46"/>
                    </a:lnTo>
                    <a:lnTo>
                      <a:pt x="89" y="34"/>
                    </a:lnTo>
                    <a:lnTo>
                      <a:pt x="76" y="31"/>
                    </a:lnTo>
                    <a:lnTo>
                      <a:pt x="64" y="31"/>
                    </a:lnTo>
                    <a:lnTo>
                      <a:pt x="42" y="22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9" y="0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c2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110560" y="3963960"/>
                <a:ext cx="360000" cy="112680"/>
              </a:xfrm>
              <a:custGeom>
                <a:avLst/>
                <a:gdLst/>
                <a:ahLst/>
                <a:rect l="l" t="t" r="r" b="b"/>
                <a:pathLst>
                  <a:path w="243" h="71">
                    <a:moveTo>
                      <a:pt x="34" y="3"/>
                    </a:moveTo>
                    <a:lnTo>
                      <a:pt x="53" y="3"/>
                    </a:lnTo>
                    <a:lnTo>
                      <a:pt x="68" y="6"/>
                    </a:lnTo>
                    <a:lnTo>
                      <a:pt x="89" y="12"/>
                    </a:lnTo>
                    <a:lnTo>
                      <a:pt x="104" y="22"/>
                    </a:lnTo>
                    <a:lnTo>
                      <a:pt x="123" y="28"/>
                    </a:lnTo>
                    <a:lnTo>
                      <a:pt x="146" y="31"/>
                    </a:lnTo>
                    <a:lnTo>
                      <a:pt x="173" y="31"/>
                    </a:lnTo>
                    <a:lnTo>
                      <a:pt x="188" y="38"/>
                    </a:lnTo>
                    <a:lnTo>
                      <a:pt x="201" y="41"/>
                    </a:lnTo>
                    <a:lnTo>
                      <a:pt x="243" y="71"/>
                    </a:lnTo>
                    <a:lnTo>
                      <a:pt x="235" y="71"/>
                    </a:lnTo>
                    <a:lnTo>
                      <a:pt x="213" y="61"/>
                    </a:lnTo>
                    <a:lnTo>
                      <a:pt x="192" y="58"/>
                    </a:lnTo>
                    <a:lnTo>
                      <a:pt x="173" y="58"/>
                    </a:lnTo>
                    <a:lnTo>
                      <a:pt x="154" y="58"/>
                    </a:lnTo>
                    <a:lnTo>
                      <a:pt x="135" y="55"/>
                    </a:lnTo>
                    <a:lnTo>
                      <a:pt x="112" y="46"/>
                    </a:lnTo>
                    <a:lnTo>
                      <a:pt x="89" y="34"/>
                    </a:lnTo>
                    <a:lnTo>
                      <a:pt x="76" y="31"/>
                    </a:lnTo>
                    <a:lnTo>
                      <a:pt x="64" y="31"/>
                    </a:lnTo>
                    <a:lnTo>
                      <a:pt x="42" y="22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9" y="0"/>
                    </a:lnTo>
                    <a:lnTo>
                      <a:pt x="34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10560" y="3983040"/>
                <a:ext cx="371520" cy="158760"/>
              </a:xfrm>
              <a:custGeom>
                <a:avLst/>
                <a:gdLst/>
                <a:ahLst/>
                <a:rect l="l" t="t" r="r" b="b"/>
                <a:pathLst>
                  <a:path w="251" h="100">
                    <a:moveTo>
                      <a:pt x="53" y="29"/>
                    </a:moveTo>
                    <a:lnTo>
                      <a:pt x="72" y="34"/>
                    </a:lnTo>
                    <a:lnTo>
                      <a:pt x="95" y="38"/>
                    </a:lnTo>
                    <a:lnTo>
                      <a:pt x="112" y="49"/>
                    </a:lnTo>
                    <a:lnTo>
                      <a:pt x="135" y="56"/>
                    </a:lnTo>
                    <a:lnTo>
                      <a:pt x="154" y="59"/>
                    </a:lnTo>
                    <a:lnTo>
                      <a:pt x="177" y="59"/>
                    </a:lnTo>
                    <a:lnTo>
                      <a:pt x="188" y="59"/>
                    </a:lnTo>
                    <a:lnTo>
                      <a:pt x="201" y="59"/>
                    </a:lnTo>
                    <a:lnTo>
                      <a:pt x="213" y="62"/>
                    </a:lnTo>
                    <a:lnTo>
                      <a:pt x="224" y="65"/>
                    </a:lnTo>
                    <a:lnTo>
                      <a:pt x="235" y="68"/>
                    </a:lnTo>
                    <a:lnTo>
                      <a:pt x="251" y="68"/>
                    </a:lnTo>
                    <a:lnTo>
                      <a:pt x="228" y="78"/>
                    </a:lnTo>
                    <a:lnTo>
                      <a:pt x="220" y="81"/>
                    </a:lnTo>
                    <a:lnTo>
                      <a:pt x="205" y="87"/>
                    </a:lnTo>
                    <a:lnTo>
                      <a:pt x="196" y="90"/>
                    </a:lnTo>
                    <a:lnTo>
                      <a:pt x="184" y="90"/>
                    </a:lnTo>
                    <a:lnTo>
                      <a:pt x="177" y="97"/>
                    </a:lnTo>
                    <a:lnTo>
                      <a:pt x="165" y="97"/>
                    </a:lnTo>
                    <a:lnTo>
                      <a:pt x="158" y="100"/>
                    </a:lnTo>
                    <a:lnTo>
                      <a:pt x="142" y="100"/>
                    </a:lnTo>
                    <a:lnTo>
                      <a:pt x="127" y="100"/>
                    </a:lnTo>
                    <a:lnTo>
                      <a:pt x="104" y="97"/>
                    </a:lnTo>
                    <a:lnTo>
                      <a:pt x="83" y="90"/>
                    </a:lnTo>
                    <a:lnTo>
                      <a:pt x="64" y="84"/>
                    </a:lnTo>
                    <a:lnTo>
                      <a:pt x="45" y="71"/>
                    </a:lnTo>
                    <a:lnTo>
                      <a:pt x="38" y="59"/>
                    </a:lnTo>
                    <a:lnTo>
                      <a:pt x="23" y="38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53" y="29"/>
                    </a:lnTo>
                    <a:close/>
                  </a:path>
                </a:pathLst>
              </a:custGeom>
              <a:solidFill>
                <a:srgbClr val="c2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110560" y="3983040"/>
                <a:ext cx="371520" cy="158760"/>
              </a:xfrm>
              <a:custGeom>
                <a:avLst/>
                <a:gdLst/>
                <a:ahLst/>
                <a:rect l="l" t="t" r="r" b="b"/>
                <a:pathLst>
                  <a:path w="251" h="100">
                    <a:moveTo>
                      <a:pt x="53" y="29"/>
                    </a:moveTo>
                    <a:lnTo>
                      <a:pt x="72" y="34"/>
                    </a:lnTo>
                    <a:lnTo>
                      <a:pt x="95" y="38"/>
                    </a:lnTo>
                    <a:lnTo>
                      <a:pt x="112" y="49"/>
                    </a:lnTo>
                    <a:lnTo>
                      <a:pt x="135" y="56"/>
                    </a:lnTo>
                    <a:lnTo>
                      <a:pt x="154" y="59"/>
                    </a:lnTo>
                    <a:lnTo>
                      <a:pt x="177" y="59"/>
                    </a:lnTo>
                    <a:lnTo>
                      <a:pt x="188" y="59"/>
                    </a:lnTo>
                    <a:lnTo>
                      <a:pt x="201" y="59"/>
                    </a:lnTo>
                    <a:lnTo>
                      <a:pt x="213" y="62"/>
                    </a:lnTo>
                    <a:lnTo>
                      <a:pt x="224" y="65"/>
                    </a:lnTo>
                    <a:lnTo>
                      <a:pt x="235" y="68"/>
                    </a:lnTo>
                    <a:lnTo>
                      <a:pt x="251" y="68"/>
                    </a:lnTo>
                    <a:lnTo>
                      <a:pt x="228" y="78"/>
                    </a:lnTo>
                    <a:lnTo>
                      <a:pt x="220" y="81"/>
                    </a:lnTo>
                    <a:lnTo>
                      <a:pt x="205" y="87"/>
                    </a:lnTo>
                    <a:lnTo>
                      <a:pt x="196" y="90"/>
                    </a:lnTo>
                    <a:lnTo>
                      <a:pt x="184" y="90"/>
                    </a:lnTo>
                    <a:lnTo>
                      <a:pt x="177" y="97"/>
                    </a:lnTo>
                    <a:lnTo>
                      <a:pt x="165" y="97"/>
                    </a:lnTo>
                    <a:lnTo>
                      <a:pt x="158" y="100"/>
                    </a:lnTo>
                    <a:lnTo>
                      <a:pt x="142" y="100"/>
                    </a:lnTo>
                    <a:lnTo>
                      <a:pt x="127" y="100"/>
                    </a:lnTo>
                    <a:lnTo>
                      <a:pt x="104" y="97"/>
                    </a:lnTo>
                    <a:lnTo>
                      <a:pt x="83" y="90"/>
                    </a:lnTo>
                    <a:lnTo>
                      <a:pt x="64" y="84"/>
                    </a:lnTo>
                    <a:lnTo>
                      <a:pt x="45" y="71"/>
                    </a:lnTo>
                    <a:lnTo>
                      <a:pt x="38" y="59"/>
                    </a:lnTo>
                    <a:lnTo>
                      <a:pt x="23" y="38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53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583240" y="4003560"/>
                <a:ext cx="59040" cy="12888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21" y="9"/>
                    </a:moveTo>
                    <a:lnTo>
                      <a:pt x="25" y="24"/>
                    </a:lnTo>
                    <a:lnTo>
                      <a:pt x="25" y="25"/>
                    </a:lnTo>
                    <a:lnTo>
                      <a:pt x="36" y="49"/>
                    </a:lnTo>
                    <a:lnTo>
                      <a:pt x="40" y="55"/>
                    </a:lnTo>
                    <a:lnTo>
                      <a:pt x="40" y="62"/>
                    </a:lnTo>
                    <a:lnTo>
                      <a:pt x="32" y="74"/>
                    </a:lnTo>
                    <a:lnTo>
                      <a:pt x="21" y="81"/>
                    </a:lnTo>
                    <a:lnTo>
                      <a:pt x="17" y="81"/>
                    </a:lnTo>
                    <a:lnTo>
                      <a:pt x="6" y="81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10" y="71"/>
                    </a:lnTo>
                    <a:lnTo>
                      <a:pt x="17" y="68"/>
                    </a:lnTo>
                    <a:lnTo>
                      <a:pt x="25" y="62"/>
                    </a:lnTo>
                    <a:lnTo>
                      <a:pt x="25" y="52"/>
                    </a:lnTo>
                    <a:lnTo>
                      <a:pt x="21" y="39"/>
                    </a:lnTo>
                    <a:lnTo>
                      <a:pt x="13" y="25"/>
                    </a:lnTo>
                    <a:lnTo>
                      <a:pt x="6" y="13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583240" y="4003560"/>
                <a:ext cx="59040" cy="12888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21" y="9"/>
                    </a:moveTo>
                    <a:lnTo>
                      <a:pt x="25" y="24"/>
                    </a:lnTo>
                    <a:lnTo>
                      <a:pt x="25" y="25"/>
                    </a:lnTo>
                    <a:lnTo>
                      <a:pt x="36" y="49"/>
                    </a:lnTo>
                    <a:lnTo>
                      <a:pt x="40" y="55"/>
                    </a:lnTo>
                    <a:lnTo>
                      <a:pt x="40" y="62"/>
                    </a:lnTo>
                    <a:lnTo>
                      <a:pt x="32" y="74"/>
                    </a:lnTo>
                    <a:lnTo>
                      <a:pt x="21" y="81"/>
                    </a:lnTo>
                    <a:lnTo>
                      <a:pt x="17" y="81"/>
                    </a:lnTo>
                    <a:lnTo>
                      <a:pt x="6" y="81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10" y="71"/>
                    </a:lnTo>
                    <a:lnTo>
                      <a:pt x="17" y="68"/>
                    </a:lnTo>
                    <a:lnTo>
                      <a:pt x="25" y="62"/>
                    </a:lnTo>
                    <a:lnTo>
                      <a:pt x="25" y="52"/>
                    </a:lnTo>
                    <a:lnTo>
                      <a:pt x="21" y="39"/>
                    </a:lnTo>
                    <a:lnTo>
                      <a:pt x="13" y="25"/>
                    </a:lnTo>
                    <a:lnTo>
                      <a:pt x="6" y="13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80000" y="4013280"/>
                <a:ext cx="922320" cy="506520"/>
              </a:xfrm>
              <a:custGeom>
                <a:avLst/>
                <a:gdLst/>
                <a:ahLst/>
                <a:rect l="l" t="t" r="r" b="b"/>
                <a:pathLst>
                  <a:path w="623" h="319">
                    <a:moveTo>
                      <a:pt x="146" y="84"/>
                    </a:moveTo>
                    <a:lnTo>
                      <a:pt x="175" y="117"/>
                    </a:lnTo>
                    <a:lnTo>
                      <a:pt x="217" y="158"/>
                    </a:lnTo>
                    <a:lnTo>
                      <a:pt x="236" y="174"/>
                    </a:lnTo>
                    <a:lnTo>
                      <a:pt x="243" y="183"/>
                    </a:lnTo>
                    <a:lnTo>
                      <a:pt x="291" y="204"/>
                    </a:lnTo>
                    <a:lnTo>
                      <a:pt x="314" y="210"/>
                    </a:lnTo>
                    <a:lnTo>
                      <a:pt x="363" y="223"/>
                    </a:lnTo>
                    <a:lnTo>
                      <a:pt x="418" y="232"/>
                    </a:lnTo>
                    <a:lnTo>
                      <a:pt x="426" y="236"/>
                    </a:lnTo>
                    <a:lnTo>
                      <a:pt x="452" y="236"/>
                    </a:lnTo>
                    <a:lnTo>
                      <a:pt x="475" y="236"/>
                    </a:lnTo>
                    <a:lnTo>
                      <a:pt x="498" y="226"/>
                    </a:lnTo>
                    <a:lnTo>
                      <a:pt x="519" y="220"/>
                    </a:lnTo>
                    <a:lnTo>
                      <a:pt x="534" y="217"/>
                    </a:lnTo>
                    <a:lnTo>
                      <a:pt x="620" y="190"/>
                    </a:lnTo>
                    <a:lnTo>
                      <a:pt x="623" y="190"/>
                    </a:lnTo>
                    <a:lnTo>
                      <a:pt x="623" y="204"/>
                    </a:lnTo>
                    <a:lnTo>
                      <a:pt x="616" y="229"/>
                    </a:lnTo>
                    <a:lnTo>
                      <a:pt x="608" y="254"/>
                    </a:lnTo>
                    <a:lnTo>
                      <a:pt x="591" y="261"/>
                    </a:lnTo>
                    <a:lnTo>
                      <a:pt x="576" y="264"/>
                    </a:lnTo>
                    <a:lnTo>
                      <a:pt x="549" y="273"/>
                    </a:lnTo>
                    <a:lnTo>
                      <a:pt x="498" y="286"/>
                    </a:lnTo>
                    <a:lnTo>
                      <a:pt x="399" y="299"/>
                    </a:lnTo>
                    <a:lnTo>
                      <a:pt x="317" y="310"/>
                    </a:lnTo>
                    <a:lnTo>
                      <a:pt x="268" y="316"/>
                    </a:lnTo>
                    <a:lnTo>
                      <a:pt x="213" y="319"/>
                    </a:lnTo>
                    <a:lnTo>
                      <a:pt x="158" y="316"/>
                    </a:lnTo>
                    <a:lnTo>
                      <a:pt x="156" y="313"/>
                    </a:lnTo>
                    <a:lnTo>
                      <a:pt x="139" y="316"/>
                    </a:lnTo>
                    <a:lnTo>
                      <a:pt x="70" y="313"/>
                    </a:lnTo>
                    <a:lnTo>
                      <a:pt x="27" y="313"/>
                    </a:lnTo>
                    <a:lnTo>
                      <a:pt x="0" y="307"/>
                    </a:lnTo>
                    <a:lnTo>
                      <a:pt x="0" y="303"/>
                    </a:lnTo>
                    <a:lnTo>
                      <a:pt x="27" y="245"/>
                    </a:lnTo>
                    <a:lnTo>
                      <a:pt x="34" y="226"/>
                    </a:lnTo>
                    <a:lnTo>
                      <a:pt x="44" y="210"/>
                    </a:lnTo>
                    <a:lnTo>
                      <a:pt x="46" y="190"/>
                    </a:lnTo>
                    <a:lnTo>
                      <a:pt x="59" y="152"/>
                    </a:lnTo>
                    <a:lnTo>
                      <a:pt x="74" y="75"/>
                    </a:lnTo>
                    <a:lnTo>
                      <a:pt x="82" y="0"/>
                    </a:lnTo>
                    <a:lnTo>
                      <a:pt x="112" y="46"/>
                    </a:lnTo>
                    <a:lnTo>
                      <a:pt x="146" y="84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80000" y="4013280"/>
                <a:ext cx="922320" cy="506520"/>
              </a:xfrm>
              <a:custGeom>
                <a:avLst/>
                <a:gdLst/>
                <a:ahLst/>
                <a:rect l="l" t="t" r="r" b="b"/>
                <a:pathLst>
                  <a:path w="623" h="319">
                    <a:moveTo>
                      <a:pt x="146" y="84"/>
                    </a:moveTo>
                    <a:lnTo>
                      <a:pt x="175" y="117"/>
                    </a:lnTo>
                    <a:lnTo>
                      <a:pt x="217" y="158"/>
                    </a:lnTo>
                    <a:lnTo>
                      <a:pt x="236" y="174"/>
                    </a:lnTo>
                    <a:lnTo>
                      <a:pt x="243" y="183"/>
                    </a:lnTo>
                    <a:lnTo>
                      <a:pt x="291" y="204"/>
                    </a:lnTo>
                    <a:lnTo>
                      <a:pt x="314" y="210"/>
                    </a:lnTo>
                    <a:lnTo>
                      <a:pt x="363" y="223"/>
                    </a:lnTo>
                    <a:lnTo>
                      <a:pt x="418" y="232"/>
                    </a:lnTo>
                    <a:lnTo>
                      <a:pt x="426" y="236"/>
                    </a:lnTo>
                    <a:lnTo>
                      <a:pt x="452" y="236"/>
                    </a:lnTo>
                    <a:lnTo>
                      <a:pt x="475" y="236"/>
                    </a:lnTo>
                    <a:lnTo>
                      <a:pt x="498" y="226"/>
                    </a:lnTo>
                    <a:lnTo>
                      <a:pt x="519" y="220"/>
                    </a:lnTo>
                    <a:lnTo>
                      <a:pt x="534" y="217"/>
                    </a:lnTo>
                    <a:lnTo>
                      <a:pt x="620" y="190"/>
                    </a:lnTo>
                    <a:lnTo>
                      <a:pt x="623" y="190"/>
                    </a:lnTo>
                    <a:lnTo>
                      <a:pt x="623" y="204"/>
                    </a:lnTo>
                    <a:lnTo>
                      <a:pt x="616" y="229"/>
                    </a:lnTo>
                    <a:lnTo>
                      <a:pt x="608" y="254"/>
                    </a:lnTo>
                    <a:lnTo>
                      <a:pt x="591" y="261"/>
                    </a:lnTo>
                    <a:lnTo>
                      <a:pt x="576" y="264"/>
                    </a:lnTo>
                    <a:lnTo>
                      <a:pt x="549" y="273"/>
                    </a:lnTo>
                    <a:lnTo>
                      <a:pt x="498" y="286"/>
                    </a:lnTo>
                    <a:lnTo>
                      <a:pt x="399" y="299"/>
                    </a:lnTo>
                    <a:lnTo>
                      <a:pt x="317" y="310"/>
                    </a:lnTo>
                    <a:lnTo>
                      <a:pt x="268" y="316"/>
                    </a:lnTo>
                    <a:lnTo>
                      <a:pt x="213" y="319"/>
                    </a:lnTo>
                    <a:lnTo>
                      <a:pt x="158" y="316"/>
                    </a:lnTo>
                    <a:lnTo>
                      <a:pt x="156" y="313"/>
                    </a:lnTo>
                    <a:lnTo>
                      <a:pt x="139" y="316"/>
                    </a:lnTo>
                    <a:lnTo>
                      <a:pt x="70" y="313"/>
                    </a:lnTo>
                    <a:lnTo>
                      <a:pt x="27" y="313"/>
                    </a:lnTo>
                    <a:lnTo>
                      <a:pt x="0" y="307"/>
                    </a:lnTo>
                    <a:lnTo>
                      <a:pt x="0" y="303"/>
                    </a:lnTo>
                    <a:lnTo>
                      <a:pt x="27" y="245"/>
                    </a:lnTo>
                    <a:lnTo>
                      <a:pt x="34" y="226"/>
                    </a:lnTo>
                    <a:lnTo>
                      <a:pt x="44" y="210"/>
                    </a:lnTo>
                    <a:lnTo>
                      <a:pt x="46" y="190"/>
                    </a:lnTo>
                    <a:lnTo>
                      <a:pt x="59" y="152"/>
                    </a:lnTo>
                    <a:lnTo>
                      <a:pt x="74" y="75"/>
                    </a:lnTo>
                    <a:lnTo>
                      <a:pt x="82" y="0"/>
                    </a:lnTo>
                    <a:lnTo>
                      <a:pt x="112" y="46"/>
                    </a:lnTo>
                    <a:lnTo>
                      <a:pt x="146" y="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55560" y="4203720"/>
                <a:ext cx="160920" cy="5544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78" y="10"/>
                    </a:moveTo>
                    <a:lnTo>
                      <a:pt x="97" y="19"/>
                    </a:lnTo>
                    <a:lnTo>
                      <a:pt x="109" y="29"/>
                    </a:lnTo>
                    <a:lnTo>
                      <a:pt x="109" y="35"/>
                    </a:lnTo>
                    <a:lnTo>
                      <a:pt x="101" y="32"/>
                    </a:lnTo>
                    <a:lnTo>
                      <a:pt x="74" y="19"/>
                    </a:lnTo>
                    <a:lnTo>
                      <a:pt x="50" y="13"/>
                    </a:lnTo>
                    <a:lnTo>
                      <a:pt x="15" y="10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6" y="3"/>
                    </a:lnTo>
                    <a:lnTo>
                      <a:pt x="7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155560" y="4203720"/>
                <a:ext cx="160920" cy="5544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78" y="10"/>
                    </a:moveTo>
                    <a:lnTo>
                      <a:pt x="97" y="19"/>
                    </a:lnTo>
                    <a:lnTo>
                      <a:pt x="109" y="29"/>
                    </a:lnTo>
                    <a:lnTo>
                      <a:pt x="109" y="35"/>
                    </a:lnTo>
                    <a:lnTo>
                      <a:pt x="101" y="32"/>
                    </a:lnTo>
                    <a:lnTo>
                      <a:pt x="74" y="19"/>
                    </a:lnTo>
                    <a:lnTo>
                      <a:pt x="50" y="13"/>
                    </a:lnTo>
                    <a:lnTo>
                      <a:pt x="15" y="10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6" y="3"/>
                    </a:lnTo>
                    <a:lnTo>
                      <a:pt x="78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579200" y="4371840"/>
                <a:ext cx="1051560" cy="243000"/>
              </a:xfrm>
              <a:custGeom>
                <a:avLst/>
                <a:gdLst/>
                <a:ahLst/>
                <a:rect l="l" t="t" r="r" b="b"/>
                <a:pathLst>
                  <a:path w="710" h="153">
                    <a:moveTo>
                      <a:pt x="83" y="3"/>
                    </a:moveTo>
                    <a:lnTo>
                      <a:pt x="72" y="22"/>
                    </a:lnTo>
                    <a:lnTo>
                      <a:pt x="64" y="35"/>
                    </a:lnTo>
                    <a:lnTo>
                      <a:pt x="34" y="51"/>
                    </a:lnTo>
                    <a:lnTo>
                      <a:pt x="30" y="57"/>
                    </a:lnTo>
                    <a:lnTo>
                      <a:pt x="30" y="73"/>
                    </a:lnTo>
                    <a:lnTo>
                      <a:pt x="38" y="81"/>
                    </a:lnTo>
                    <a:lnTo>
                      <a:pt x="45" y="84"/>
                    </a:lnTo>
                    <a:lnTo>
                      <a:pt x="64" y="87"/>
                    </a:lnTo>
                    <a:lnTo>
                      <a:pt x="87" y="93"/>
                    </a:lnTo>
                    <a:lnTo>
                      <a:pt x="150" y="96"/>
                    </a:lnTo>
                    <a:lnTo>
                      <a:pt x="195" y="100"/>
                    </a:lnTo>
                    <a:lnTo>
                      <a:pt x="224" y="100"/>
                    </a:lnTo>
                    <a:lnTo>
                      <a:pt x="285" y="103"/>
                    </a:lnTo>
                    <a:lnTo>
                      <a:pt x="304" y="103"/>
                    </a:lnTo>
                    <a:lnTo>
                      <a:pt x="336" y="100"/>
                    </a:lnTo>
                    <a:lnTo>
                      <a:pt x="397" y="93"/>
                    </a:lnTo>
                    <a:lnTo>
                      <a:pt x="412" y="90"/>
                    </a:lnTo>
                    <a:lnTo>
                      <a:pt x="448" y="87"/>
                    </a:lnTo>
                    <a:lnTo>
                      <a:pt x="505" y="81"/>
                    </a:lnTo>
                    <a:lnTo>
                      <a:pt x="539" y="73"/>
                    </a:lnTo>
                    <a:lnTo>
                      <a:pt x="613" y="60"/>
                    </a:lnTo>
                    <a:lnTo>
                      <a:pt x="648" y="51"/>
                    </a:lnTo>
                    <a:lnTo>
                      <a:pt x="678" y="44"/>
                    </a:lnTo>
                    <a:lnTo>
                      <a:pt x="688" y="35"/>
                    </a:lnTo>
                    <a:lnTo>
                      <a:pt x="688" y="32"/>
                    </a:lnTo>
                    <a:lnTo>
                      <a:pt x="695" y="35"/>
                    </a:lnTo>
                    <a:lnTo>
                      <a:pt x="699" y="38"/>
                    </a:lnTo>
                    <a:lnTo>
                      <a:pt x="703" y="51"/>
                    </a:lnTo>
                    <a:lnTo>
                      <a:pt x="699" y="54"/>
                    </a:lnTo>
                    <a:lnTo>
                      <a:pt x="703" y="54"/>
                    </a:lnTo>
                    <a:lnTo>
                      <a:pt x="710" y="63"/>
                    </a:lnTo>
                    <a:lnTo>
                      <a:pt x="707" y="77"/>
                    </a:lnTo>
                    <a:lnTo>
                      <a:pt x="684" y="87"/>
                    </a:lnTo>
                    <a:lnTo>
                      <a:pt x="617" y="103"/>
                    </a:lnTo>
                    <a:lnTo>
                      <a:pt x="560" y="118"/>
                    </a:lnTo>
                    <a:lnTo>
                      <a:pt x="513" y="128"/>
                    </a:lnTo>
                    <a:lnTo>
                      <a:pt x="454" y="134"/>
                    </a:lnTo>
                    <a:lnTo>
                      <a:pt x="342" y="150"/>
                    </a:lnTo>
                    <a:lnTo>
                      <a:pt x="226" y="153"/>
                    </a:lnTo>
                    <a:lnTo>
                      <a:pt x="150" y="147"/>
                    </a:lnTo>
                    <a:lnTo>
                      <a:pt x="87" y="137"/>
                    </a:lnTo>
                    <a:lnTo>
                      <a:pt x="83" y="134"/>
                    </a:lnTo>
                    <a:lnTo>
                      <a:pt x="57" y="128"/>
                    </a:lnTo>
                    <a:lnTo>
                      <a:pt x="38" y="118"/>
                    </a:lnTo>
                    <a:lnTo>
                      <a:pt x="11" y="96"/>
                    </a:lnTo>
                    <a:lnTo>
                      <a:pt x="2" y="81"/>
                    </a:lnTo>
                    <a:lnTo>
                      <a:pt x="0" y="68"/>
                    </a:lnTo>
                    <a:lnTo>
                      <a:pt x="0" y="51"/>
                    </a:lnTo>
                    <a:lnTo>
                      <a:pt x="11" y="35"/>
                    </a:lnTo>
                    <a:lnTo>
                      <a:pt x="22" y="25"/>
                    </a:lnTo>
                    <a:lnTo>
                      <a:pt x="38" y="19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3" y="3"/>
                    </a:lnTo>
                    <a:close/>
                  </a:path>
                </a:pathLst>
              </a:custGeom>
              <a:solidFill>
                <a:srgbClr val="3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579200" y="4371840"/>
                <a:ext cx="1051560" cy="243000"/>
              </a:xfrm>
              <a:custGeom>
                <a:avLst/>
                <a:gdLst/>
                <a:ahLst/>
                <a:rect l="l" t="t" r="r" b="b"/>
                <a:pathLst>
                  <a:path w="710" h="153">
                    <a:moveTo>
                      <a:pt x="83" y="3"/>
                    </a:moveTo>
                    <a:lnTo>
                      <a:pt x="72" y="22"/>
                    </a:lnTo>
                    <a:lnTo>
                      <a:pt x="64" y="35"/>
                    </a:lnTo>
                    <a:lnTo>
                      <a:pt x="34" y="51"/>
                    </a:lnTo>
                    <a:lnTo>
                      <a:pt x="30" y="57"/>
                    </a:lnTo>
                    <a:lnTo>
                      <a:pt x="30" y="73"/>
                    </a:lnTo>
                    <a:lnTo>
                      <a:pt x="38" y="81"/>
                    </a:lnTo>
                    <a:lnTo>
                      <a:pt x="45" y="84"/>
                    </a:lnTo>
                    <a:lnTo>
                      <a:pt x="64" y="87"/>
                    </a:lnTo>
                    <a:lnTo>
                      <a:pt x="87" y="93"/>
                    </a:lnTo>
                    <a:lnTo>
                      <a:pt x="150" y="96"/>
                    </a:lnTo>
                    <a:lnTo>
                      <a:pt x="195" y="100"/>
                    </a:lnTo>
                    <a:lnTo>
                      <a:pt x="224" y="100"/>
                    </a:lnTo>
                    <a:lnTo>
                      <a:pt x="285" y="103"/>
                    </a:lnTo>
                    <a:lnTo>
                      <a:pt x="304" y="103"/>
                    </a:lnTo>
                    <a:lnTo>
                      <a:pt x="336" y="100"/>
                    </a:lnTo>
                    <a:lnTo>
                      <a:pt x="397" y="93"/>
                    </a:lnTo>
                    <a:lnTo>
                      <a:pt x="412" y="90"/>
                    </a:lnTo>
                    <a:lnTo>
                      <a:pt x="448" y="87"/>
                    </a:lnTo>
                    <a:lnTo>
                      <a:pt x="505" y="81"/>
                    </a:lnTo>
                    <a:lnTo>
                      <a:pt x="539" y="73"/>
                    </a:lnTo>
                    <a:lnTo>
                      <a:pt x="613" y="60"/>
                    </a:lnTo>
                    <a:lnTo>
                      <a:pt x="648" y="51"/>
                    </a:lnTo>
                    <a:lnTo>
                      <a:pt x="678" y="44"/>
                    </a:lnTo>
                    <a:lnTo>
                      <a:pt x="688" y="35"/>
                    </a:lnTo>
                    <a:lnTo>
                      <a:pt x="688" y="32"/>
                    </a:lnTo>
                    <a:lnTo>
                      <a:pt x="695" y="35"/>
                    </a:lnTo>
                    <a:lnTo>
                      <a:pt x="699" y="38"/>
                    </a:lnTo>
                    <a:lnTo>
                      <a:pt x="703" y="51"/>
                    </a:lnTo>
                    <a:lnTo>
                      <a:pt x="699" y="54"/>
                    </a:lnTo>
                    <a:lnTo>
                      <a:pt x="703" y="54"/>
                    </a:lnTo>
                    <a:lnTo>
                      <a:pt x="710" y="63"/>
                    </a:lnTo>
                    <a:lnTo>
                      <a:pt x="707" y="77"/>
                    </a:lnTo>
                    <a:lnTo>
                      <a:pt x="684" y="87"/>
                    </a:lnTo>
                    <a:lnTo>
                      <a:pt x="617" y="103"/>
                    </a:lnTo>
                    <a:lnTo>
                      <a:pt x="560" y="118"/>
                    </a:lnTo>
                    <a:lnTo>
                      <a:pt x="513" y="128"/>
                    </a:lnTo>
                    <a:lnTo>
                      <a:pt x="454" y="134"/>
                    </a:lnTo>
                    <a:lnTo>
                      <a:pt x="342" y="150"/>
                    </a:lnTo>
                    <a:lnTo>
                      <a:pt x="226" y="153"/>
                    </a:lnTo>
                    <a:lnTo>
                      <a:pt x="150" y="147"/>
                    </a:lnTo>
                    <a:lnTo>
                      <a:pt x="87" y="137"/>
                    </a:lnTo>
                    <a:lnTo>
                      <a:pt x="83" y="134"/>
                    </a:lnTo>
                    <a:lnTo>
                      <a:pt x="57" y="128"/>
                    </a:lnTo>
                    <a:lnTo>
                      <a:pt x="38" y="118"/>
                    </a:lnTo>
                    <a:lnTo>
                      <a:pt x="11" y="96"/>
                    </a:lnTo>
                    <a:lnTo>
                      <a:pt x="2" y="81"/>
                    </a:lnTo>
                    <a:lnTo>
                      <a:pt x="0" y="68"/>
                    </a:lnTo>
                    <a:lnTo>
                      <a:pt x="0" y="51"/>
                    </a:lnTo>
                    <a:lnTo>
                      <a:pt x="11" y="35"/>
                    </a:lnTo>
                    <a:lnTo>
                      <a:pt x="22" y="25"/>
                    </a:lnTo>
                    <a:lnTo>
                      <a:pt x="38" y="19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"/>
          <p:cNvSpPr/>
          <p:nvPr/>
        </p:nvSpPr>
        <p:spPr>
          <a:xfrm>
            <a:off x="680760" y="1371600"/>
            <a:ext cx="8102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metr231 Hv BT"/>
              </a:rPr>
              <a:t>The perpetrator is usually someone very close that th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metr231 Hv BT"/>
              </a:rPr>
              <a:t>child knows and loves (relatives, authority figures, etc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670040" y="673200"/>
            <a:ext cx="611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02444"/>
                </a:solidFill>
                <a:latin typeface="Geometr231 Hv BT"/>
              </a:rPr>
              <a:t>WHO ARE SEXUAL ABUS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639880" y="5670720"/>
            <a:ext cx="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833400" y="1476360"/>
            <a:ext cx="7777080" cy="4165920"/>
            <a:chOff x="833400" y="1476360"/>
            <a:chExt cx="7777080" cy="4165920"/>
          </a:xfrm>
        </p:grpSpPr>
        <p:sp>
          <p:nvSpPr>
            <p:cNvPr id="596" name=""/>
            <p:cNvSpPr/>
            <p:nvPr/>
          </p:nvSpPr>
          <p:spPr>
            <a:xfrm>
              <a:off x="1143000" y="1476360"/>
              <a:ext cx="7467480" cy="41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Child molesters come from every class, profession, racial, and religious backgrou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Most are persons child knows and trus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Highest incidence happens within the family, extended family, including stepfami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90% of reported abusers are married m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Large proportion are married with children themsel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Most offenders lacked affection and physical contact when they were young (That is No Excuse!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High percentage were themselves abused as children (No Excuse!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Child molesters tend to gravitate towards places, professions, and activities which put them into easy contact with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833400" y="1476360"/>
              <a:ext cx="231840" cy="183960"/>
              <a:chOff x="833400" y="1476360"/>
              <a:chExt cx="231840" cy="183960"/>
            </a:xfrm>
          </p:grpSpPr>
          <p:sp>
            <p:nvSpPr>
              <p:cNvPr id="598" name=""/>
              <p:cNvSpPr/>
              <p:nvPr/>
            </p:nvSpPr>
            <p:spPr>
              <a:xfrm>
                <a:off x="833400" y="147636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33400" y="147636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833400" y="2127240"/>
              <a:ext cx="231840" cy="183960"/>
              <a:chOff x="833400" y="2127240"/>
              <a:chExt cx="231840" cy="183960"/>
            </a:xfrm>
          </p:grpSpPr>
          <p:sp>
            <p:nvSpPr>
              <p:cNvPr id="601" name=""/>
              <p:cNvSpPr/>
              <p:nvPr/>
            </p:nvSpPr>
            <p:spPr>
              <a:xfrm>
                <a:off x="833400" y="21272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33400" y="21272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833400" y="2560680"/>
              <a:ext cx="231840" cy="183960"/>
              <a:chOff x="833400" y="2560680"/>
              <a:chExt cx="231840" cy="183960"/>
            </a:xfrm>
          </p:grpSpPr>
          <p:sp>
            <p:nvSpPr>
              <p:cNvPr id="604" name=""/>
              <p:cNvSpPr/>
              <p:nvPr/>
            </p:nvSpPr>
            <p:spPr>
              <a:xfrm>
                <a:off x="833400" y="256068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33400" y="256068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833400" y="3193920"/>
              <a:ext cx="231840" cy="184320"/>
              <a:chOff x="833400" y="3193920"/>
              <a:chExt cx="231840" cy="184320"/>
            </a:xfrm>
          </p:grpSpPr>
          <p:sp>
            <p:nvSpPr>
              <p:cNvPr id="607" name=""/>
              <p:cNvSpPr/>
              <p:nvPr/>
            </p:nvSpPr>
            <p:spPr>
              <a:xfrm>
                <a:off x="833400" y="31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33400" y="31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833400" y="3633480"/>
              <a:ext cx="231840" cy="184320"/>
              <a:chOff x="833400" y="3633480"/>
              <a:chExt cx="231840" cy="184320"/>
            </a:xfrm>
          </p:grpSpPr>
          <p:sp>
            <p:nvSpPr>
              <p:cNvPr id="610" name=""/>
              <p:cNvSpPr/>
              <p:nvPr/>
            </p:nvSpPr>
            <p:spPr>
              <a:xfrm>
                <a:off x="833400" y="363348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33400" y="363348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833400" y="4093920"/>
              <a:ext cx="231840" cy="184320"/>
              <a:chOff x="833400" y="4093920"/>
              <a:chExt cx="231840" cy="184320"/>
            </a:xfrm>
          </p:grpSpPr>
          <p:sp>
            <p:nvSpPr>
              <p:cNvPr id="613" name=""/>
              <p:cNvSpPr/>
              <p:nvPr/>
            </p:nvSpPr>
            <p:spPr>
              <a:xfrm>
                <a:off x="833400" y="40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33400" y="40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833400" y="4755960"/>
              <a:ext cx="231840" cy="184320"/>
              <a:chOff x="833400" y="4755960"/>
              <a:chExt cx="231840" cy="184320"/>
            </a:xfrm>
          </p:grpSpPr>
          <p:sp>
            <p:nvSpPr>
              <p:cNvPr id="616" name=""/>
              <p:cNvSpPr/>
              <p:nvPr/>
            </p:nvSpPr>
            <p:spPr>
              <a:xfrm>
                <a:off x="833400" y="475596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33400" y="475596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833400" y="5192640"/>
              <a:ext cx="231840" cy="183960"/>
              <a:chOff x="833400" y="5192640"/>
              <a:chExt cx="231840" cy="183960"/>
            </a:xfrm>
          </p:grpSpPr>
          <p:sp>
            <p:nvSpPr>
              <p:cNvPr id="619" name=""/>
              <p:cNvSpPr/>
              <p:nvPr/>
            </p:nvSpPr>
            <p:spPr>
              <a:xfrm>
                <a:off x="833400" y="51926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33400" y="51926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943200" y="673200"/>
            <a:ext cx="757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02444"/>
                </a:solidFill>
                <a:latin typeface="Geometr231 Hv BT"/>
              </a:rPr>
              <a:t>WHO ARE SEXUAL ABUSERS?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19320" y="1717560"/>
            <a:ext cx="6939000" cy="3840840"/>
            <a:chOff x="1219320" y="1717560"/>
            <a:chExt cx="6939000" cy="3840840"/>
          </a:xfrm>
        </p:grpSpPr>
        <p:grpSp>
          <p:nvGrpSpPr>
            <p:cNvPr id="623" name=""/>
            <p:cNvGrpSpPr/>
            <p:nvPr/>
          </p:nvGrpSpPr>
          <p:grpSpPr>
            <a:xfrm>
              <a:off x="1219320" y="1746360"/>
              <a:ext cx="231480" cy="183960"/>
              <a:chOff x="1219320" y="1746360"/>
              <a:chExt cx="231480" cy="183960"/>
            </a:xfrm>
          </p:grpSpPr>
          <p:sp>
            <p:nvSpPr>
              <p:cNvPr id="624" name=""/>
              <p:cNvSpPr/>
              <p:nvPr/>
            </p:nvSpPr>
            <p:spPr>
              <a:xfrm>
                <a:off x="1219320" y="174636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219320" y="174636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1604880" y="1717560"/>
              <a:ext cx="6553440" cy="38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Abusers usually pick out their victims and plan their activ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Child molesters average 73 child victims before they are caught (USA Statisti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Offenders avoid detection, they are experts at hiding their deviant behavi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Sexual abusers are often persons who are perceived authority-figures to the child, therefore, the child tends to be easily coerced into silence because of f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Despite efforts to work with offenders, the risk of re-offending (committing this crime again) is 75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1219320" y="2313000"/>
              <a:ext cx="231480" cy="183960"/>
              <a:chOff x="1219320" y="2313000"/>
              <a:chExt cx="231480" cy="183960"/>
            </a:xfrm>
          </p:grpSpPr>
          <p:sp>
            <p:nvSpPr>
              <p:cNvPr id="628" name=""/>
              <p:cNvSpPr/>
              <p:nvPr/>
            </p:nvSpPr>
            <p:spPr>
              <a:xfrm>
                <a:off x="1219320" y="23130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219320" y="23130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1219320" y="3089160"/>
              <a:ext cx="231480" cy="184320"/>
              <a:chOff x="1219320" y="3089160"/>
              <a:chExt cx="231480" cy="184320"/>
            </a:xfrm>
          </p:grpSpPr>
          <p:sp>
            <p:nvSpPr>
              <p:cNvPr id="631" name=""/>
              <p:cNvSpPr/>
              <p:nvPr/>
            </p:nvSpPr>
            <p:spPr>
              <a:xfrm>
                <a:off x="1219320" y="3089160"/>
                <a:ext cx="23148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219320" y="3089160"/>
                <a:ext cx="23148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1219320" y="3927600"/>
              <a:ext cx="231480" cy="183960"/>
              <a:chOff x="1219320" y="3927600"/>
              <a:chExt cx="231480" cy="183960"/>
            </a:xfrm>
          </p:grpSpPr>
          <p:sp>
            <p:nvSpPr>
              <p:cNvPr id="634" name=""/>
              <p:cNvSpPr/>
              <p:nvPr/>
            </p:nvSpPr>
            <p:spPr>
              <a:xfrm>
                <a:off x="1219320" y="3927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219320" y="3927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1219320" y="5070600"/>
              <a:ext cx="231480" cy="183960"/>
              <a:chOff x="1219320" y="5070600"/>
              <a:chExt cx="231480" cy="183960"/>
            </a:xfrm>
          </p:grpSpPr>
          <p:sp>
            <p:nvSpPr>
              <p:cNvPr id="637" name=""/>
              <p:cNvSpPr/>
              <p:nvPr/>
            </p:nvSpPr>
            <p:spPr>
              <a:xfrm>
                <a:off x="1219320" y="5070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219320" y="5070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823760" y="838080"/>
            <a:ext cx="559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HOW TO NOT GET A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71600" y="1876320"/>
            <a:ext cx="69343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1. Treat your body as a special gift, don’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give it away to any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2. Wait for sex until you get marr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3. Don’t let anyone but “YOU” touch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private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4. Treat others with respect al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15240" y="2176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020680" y="604800"/>
            <a:ext cx="50695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902444"/>
                </a:solidFill>
                <a:latin typeface="Geometr231 Hv BT"/>
              </a:rPr>
              <a:t>GOOD TOUCHE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828800" y="1809720"/>
            <a:ext cx="6033600" cy="3823560"/>
            <a:chOff x="1828800" y="1809720"/>
            <a:chExt cx="6033600" cy="3823560"/>
          </a:xfrm>
        </p:grpSpPr>
        <p:sp>
          <p:nvSpPr>
            <p:cNvPr id="644" name=""/>
            <p:cNvSpPr/>
            <p:nvPr/>
          </p:nvSpPr>
          <p:spPr>
            <a:xfrm>
              <a:off x="1915200" y="1809720"/>
              <a:ext cx="5947200" cy="38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Pat on the hea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Hugging your family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Kissing your friend on the cheek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Holding your friend's han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Good playing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1828800" y="1903320"/>
              <a:ext cx="233280" cy="183960"/>
              <a:chOff x="1828800" y="1903320"/>
              <a:chExt cx="233280" cy="183960"/>
            </a:xfrm>
          </p:grpSpPr>
          <p:sp>
            <p:nvSpPr>
              <p:cNvPr id="646" name=""/>
              <p:cNvSpPr/>
              <p:nvPr/>
            </p:nvSpPr>
            <p:spPr>
              <a:xfrm>
                <a:off x="1828800" y="1903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28800" y="1903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1828800" y="2776320"/>
              <a:ext cx="233280" cy="183960"/>
              <a:chOff x="1828800" y="2776320"/>
              <a:chExt cx="233280" cy="183960"/>
            </a:xfrm>
          </p:grpSpPr>
          <p:sp>
            <p:nvSpPr>
              <p:cNvPr id="649" name=""/>
              <p:cNvSpPr/>
              <p:nvPr/>
            </p:nvSpPr>
            <p:spPr>
              <a:xfrm>
                <a:off x="1828800" y="2776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828800" y="2776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828800" y="3579840"/>
              <a:ext cx="233280" cy="183960"/>
              <a:chOff x="1828800" y="3579840"/>
              <a:chExt cx="233280" cy="183960"/>
            </a:xfrm>
          </p:grpSpPr>
          <p:sp>
            <p:nvSpPr>
              <p:cNvPr id="652" name=""/>
              <p:cNvSpPr/>
              <p:nvPr/>
            </p:nvSpPr>
            <p:spPr>
              <a:xfrm>
                <a:off x="1828800" y="35798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28800" y="35798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828800" y="4462200"/>
              <a:ext cx="233280" cy="183960"/>
              <a:chOff x="1828800" y="4462200"/>
              <a:chExt cx="233280" cy="183960"/>
            </a:xfrm>
          </p:grpSpPr>
          <p:sp>
            <p:nvSpPr>
              <p:cNvPr id="655" name=""/>
              <p:cNvSpPr/>
              <p:nvPr/>
            </p:nvSpPr>
            <p:spPr>
              <a:xfrm>
                <a:off x="1828800" y="44622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28800" y="44622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1828800" y="5300640"/>
              <a:ext cx="233280" cy="183960"/>
              <a:chOff x="1828800" y="5300640"/>
              <a:chExt cx="233280" cy="183960"/>
            </a:xfrm>
          </p:grpSpPr>
          <p:sp>
            <p:nvSpPr>
              <p:cNvPr id="658" name=""/>
              <p:cNvSpPr/>
              <p:nvPr/>
            </p:nvSpPr>
            <p:spPr>
              <a:xfrm>
                <a:off x="1828800" y="53006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828800" y="53006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344320" y="604800"/>
            <a:ext cx="44218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902444"/>
                </a:solidFill>
                <a:latin typeface="Geometr231 Hv BT"/>
              </a:rPr>
              <a:t>BAD TOUCHE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975240" y="1809720"/>
            <a:ext cx="7690680" cy="3636720"/>
            <a:chOff x="975240" y="1809720"/>
            <a:chExt cx="7690680" cy="3636720"/>
          </a:xfrm>
        </p:grpSpPr>
        <p:sp>
          <p:nvSpPr>
            <p:cNvPr id="662" name=""/>
            <p:cNvSpPr/>
            <p:nvPr/>
          </p:nvSpPr>
          <p:spPr>
            <a:xfrm>
              <a:off x="975240" y="1809720"/>
              <a:ext cx="7690680" cy="36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Anyone touching your private pa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Kissing girlfriend/boyfriend on the mouth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Playing games with your private pa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Having sex before you are marrie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990720" y="1990800"/>
              <a:ext cx="233280" cy="183960"/>
              <a:chOff x="990720" y="1990800"/>
              <a:chExt cx="233280" cy="183960"/>
            </a:xfrm>
          </p:grpSpPr>
          <p:sp>
            <p:nvSpPr>
              <p:cNvPr id="664" name=""/>
              <p:cNvSpPr/>
              <p:nvPr/>
            </p:nvSpPr>
            <p:spPr>
              <a:xfrm>
                <a:off x="990720" y="19908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90720" y="19908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990720" y="3024360"/>
              <a:ext cx="233280" cy="183960"/>
              <a:chOff x="990720" y="3024360"/>
              <a:chExt cx="233280" cy="183960"/>
            </a:xfrm>
          </p:grpSpPr>
          <p:sp>
            <p:nvSpPr>
              <p:cNvPr id="667" name=""/>
              <p:cNvSpPr/>
              <p:nvPr/>
            </p:nvSpPr>
            <p:spPr>
              <a:xfrm>
                <a:off x="990720" y="302436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90720" y="302436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990720" y="4073400"/>
              <a:ext cx="233280" cy="183960"/>
              <a:chOff x="990720" y="4073400"/>
              <a:chExt cx="233280" cy="183960"/>
            </a:xfrm>
          </p:grpSpPr>
          <p:sp>
            <p:nvSpPr>
              <p:cNvPr id="670" name=""/>
              <p:cNvSpPr/>
              <p:nvPr/>
            </p:nvSpPr>
            <p:spPr>
              <a:xfrm>
                <a:off x="990720" y="40734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990720" y="40734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990720" y="5087880"/>
              <a:ext cx="233280" cy="183960"/>
              <a:chOff x="990720" y="5087880"/>
              <a:chExt cx="233280" cy="183960"/>
            </a:xfrm>
          </p:grpSpPr>
          <p:sp>
            <p:nvSpPr>
              <p:cNvPr id="673" name=""/>
              <p:cNvSpPr/>
              <p:nvPr/>
            </p:nvSpPr>
            <p:spPr>
              <a:xfrm>
                <a:off x="990720" y="508788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990720" y="508788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36:53Z</dcterms:modified>
  <cp:revision>252</cp:revision>
  <dc:subject/>
  <dc:title>No Slide Title</dc:title>
</cp:coreProperties>
</file>