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2220-81C8-493F-BEFC-BCADD3A13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B485-3AC7-4876-A161-BB0EB8DB3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575A-58D1-45E8-8494-328BB1921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F807-DC5E-49E9-9639-DF62F4E8B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576F-BB5F-4AA8-9E2B-4444F45EF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729A-8A0A-4715-B262-2D8CC0F8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06F6-4534-4CC7-AAD8-2DB2DEAD2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4890-AD91-4C6A-AF74-ACAAEA185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766A-0A20-4D4D-B4EE-B24190AB5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9F6E-24EC-4D91-95AE-26F0C46E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394F-E256-4F05-8918-35FCC290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89BF-EC86-4C04-B83B-0107E925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52280"/>
            <a:ext cx="914400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Geometr231 Hv BT"/>
              </a:rPr>
              <a:t>B I B L I C A L,   M O R A L L Y - B A S E D   H O P E   I N   T H E   C R I S E S   O F   H U M A N   T R A G E D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40F1B-BD01-4EBE-9BD0-8C38A0681D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90720" y="6284880"/>
            <a:ext cx="3504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metr231 Hv BT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Geometr231 Hv BT"/>
              </a:rPr>
              <a:t>FRICA… Operation Wh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7924680" y="6494400"/>
            <a:ext cx="914040" cy="149040"/>
            <a:chOff x="7924680" y="6494400"/>
            <a:chExt cx="914040" cy="149040"/>
          </a:xfrm>
        </p:grpSpPr>
        <p:sp>
          <p:nvSpPr>
            <p:cNvPr id="8" name=""/>
            <p:cNvSpPr/>
            <p:nvPr/>
          </p:nvSpPr>
          <p:spPr>
            <a:xfrm>
              <a:off x="7924680" y="6495840"/>
              <a:ext cx="84960" cy="119160"/>
            </a:xfrm>
            <a:custGeom>
              <a:avLst/>
              <a:gdLst/>
              <a:ahLst/>
              <a:rect l="l" t="t" r="r" b="b"/>
              <a:pathLst>
                <a:path w="86" h="126">
                  <a:moveTo>
                    <a:pt x="84" y="124"/>
                  </a:moveTo>
                  <a:lnTo>
                    <a:pt x="82" y="124"/>
                  </a:lnTo>
                  <a:lnTo>
                    <a:pt x="80" y="126"/>
                  </a:lnTo>
                  <a:lnTo>
                    <a:pt x="78" y="126"/>
                  </a:lnTo>
                  <a:lnTo>
                    <a:pt x="76" y="126"/>
                  </a:lnTo>
                  <a:lnTo>
                    <a:pt x="74" y="126"/>
                  </a:lnTo>
                  <a:lnTo>
                    <a:pt x="72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6" y="126"/>
                  </a:lnTo>
                  <a:lnTo>
                    <a:pt x="58" y="126"/>
                  </a:lnTo>
                  <a:lnTo>
                    <a:pt x="52" y="124"/>
                  </a:lnTo>
                  <a:lnTo>
                    <a:pt x="46" y="124"/>
                  </a:lnTo>
                  <a:lnTo>
                    <a:pt x="40" y="122"/>
                  </a:lnTo>
                  <a:lnTo>
                    <a:pt x="34" y="118"/>
                  </a:lnTo>
                  <a:lnTo>
                    <a:pt x="28" y="116"/>
                  </a:lnTo>
                  <a:lnTo>
                    <a:pt x="22" y="112"/>
                  </a:lnTo>
                  <a:lnTo>
                    <a:pt x="18" y="108"/>
                  </a:lnTo>
                  <a:lnTo>
                    <a:pt x="14" y="104"/>
                  </a:lnTo>
                  <a:lnTo>
                    <a:pt x="10" y="98"/>
                  </a:lnTo>
                  <a:lnTo>
                    <a:pt x="8" y="94"/>
                  </a:lnTo>
                  <a:lnTo>
                    <a:pt x="4" y="88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0" y="70"/>
                  </a:lnTo>
                  <a:lnTo>
                    <a:pt x="0" y="62"/>
                  </a:lnTo>
                  <a:lnTo>
                    <a:pt x="0" y="56"/>
                  </a:lnTo>
                  <a:lnTo>
                    <a:pt x="2" y="48"/>
                  </a:lnTo>
                  <a:lnTo>
                    <a:pt x="2" y="42"/>
                  </a:lnTo>
                  <a:lnTo>
                    <a:pt x="4" y="36"/>
                  </a:lnTo>
                  <a:lnTo>
                    <a:pt x="8" y="32"/>
                  </a:lnTo>
                  <a:lnTo>
                    <a:pt x="10" y="26"/>
                  </a:lnTo>
                  <a:lnTo>
                    <a:pt x="16" y="20"/>
                  </a:lnTo>
                  <a:lnTo>
                    <a:pt x="20" y="16"/>
                  </a:lnTo>
                  <a:lnTo>
                    <a:pt x="24" y="12"/>
                  </a:lnTo>
                  <a:lnTo>
                    <a:pt x="30" y="10"/>
                  </a:lnTo>
                  <a:lnTo>
                    <a:pt x="36" y="6"/>
                  </a:lnTo>
                  <a:lnTo>
                    <a:pt x="42" y="4"/>
                  </a:lnTo>
                  <a:lnTo>
                    <a:pt x="48" y="2"/>
                  </a:lnTo>
                  <a:lnTo>
                    <a:pt x="54" y="2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4" y="0"/>
                  </a:lnTo>
                  <a:lnTo>
                    <a:pt x="76" y="0"/>
                  </a:lnTo>
                  <a:lnTo>
                    <a:pt x="78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4" y="32"/>
                  </a:lnTo>
                  <a:lnTo>
                    <a:pt x="82" y="30"/>
                  </a:lnTo>
                  <a:lnTo>
                    <a:pt x="80" y="30"/>
                  </a:lnTo>
                  <a:lnTo>
                    <a:pt x="78" y="30"/>
                  </a:lnTo>
                  <a:lnTo>
                    <a:pt x="76" y="30"/>
                  </a:lnTo>
                  <a:lnTo>
                    <a:pt x="74" y="30"/>
                  </a:lnTo>
                  <a:lnTo>
                    <a:pt x="74" y="28"/>
                  </a:lnTo>
                  <a:lnTo>
                    <a:pt x="72" y="28"/>
                  </a:lnTo>
                  <a:lnTo>
                    <a:pt x="70" y="28"/>
                  </a:lnTo>
                  <a:lnTo>
                    <a:pt x="68" y="28"/>
                  </a:lnTo>
                  <a:lnTo>
                    <a:pt x="64" y="28"/>
                  </a:lnTo>
                  <a:lnTo>
                    <a:pt x="60" y="28"/>
                  </a:lnTo>
                  <a:lnTo>
                    <a:pt x="58" y="30"/>
                  </a:lnTo>
                  <a:lnTo>
                    <a:pt x="54" y="30"/>
                  </a:lnTo>
                  <a:lnTo>
                    <a:pt x="52" y="32"/>
                  </a:lnTo>
                  <a:lnTo>
                    <a:pt x="48" y="34"/>
                  </a:lnTo>
                  <a:lnTo>
                    <a:pt x="46" y="36"/>
                  </a:lnTo>
                  <a:lnTo>
                    <a:pt x="44" y="38"/>
                  </a:lnTo>
                  <a:lnTo>
                    <a:pt x="42" y="40"/>
                  </a:lnTo>
                  <a:lnTo>
                    <a:pt x="40" y="42"/>
                  </a:lnTo>
                  <a:lnTo>
                    <a:pt x="38" y="46"/>
                  </a:lnTo>
                  <a:lnTo>
                    <a:pt x="36" y="48"/>
                  </a:lnTo>
                  <a:lnTo>
                    <a:pt x="36" y="52"/>
                  </a:lnTo>
                  <a:lnTo>
                    <a:pt x="34" y="54"/>
                  </a:lnTo>
                  <a:lnTo>
                    <a:pt x="34" y="58"/>
                  </a:lnTo>
                  <a:lnTo>
                    <a:pt x="34" y="62"/>
                  </a:lnTo>
                  <a:lnTo>
                    <a:pt x="34" y="66"/>
                  </a:lnTo>
                  <a:lnTo>
                    <a:pt x="34" y="70"/>
                  </a:lnTo>
                  <a:lnTo>
                    <a:pt x="36" y="72"/>
                  </a:lnTo>
                  <a:lnTo>
                    <a:pt x="36" y="76"/>
                  </a:lnTo>
                  <a:lnTo>
                    <a:pt x="38" y="78"/>
                  </a:lnTo>
                  <a:lnTo>
                    <a:pt x="40" y="82"/>
                  </a:lnTo>
                  <a:lnTo>
                    <a:pt x="42" y="84"/>
                  </a:lnTo>
                  <a:lnTo>
                    <a:pt x="44" y="86"/>
                  </a:lnTo>
                  <a:lnTo>
                    <a:pt x="46" y="88"/>
                  </a:lnTo>
                  <a:lnTo>
                    <a:pt x="48" y="90"/>
                  </a:lnTo>
                  <a:lnTo>
                    <a:pt x="52" y="92"/>
                  </a:lnTo>
                  <a:lnTo>
                    <a:pt x="54" y="94"/>
                  </a:lnTo>
                  <a:lnTo>
                    <a:pt x="58" y="94"/>
                  </a:lnTo>
                  <a:lnTo>
                    <a:pt x="60" y="96"/>
                  </a:lnTo>
                  <a:lnTo>
                    <a:pt x="64" y="96"/>
                  </a:lnTo>
                  <a:lnTo>
                    <a:pt x="66" y="96"/>
                  </a:lnTo>
                  <a:lnTo>
                    <a:pt x="68" y="96"/>
                  </a:lnTo>
                  <a:lnTo>
                    <a:pt x="70" y="96"/>
                  </a:lnTo>
                  <a:lnTo>
                    <a:pt x="72" y="96"/>
                  </a:lnTo>
                  <a:lnTo>
                    <a:pt x="74" y="96"/>
                  </a:lnTo>
                  <a:lnTo>
                    <a:pt x="76" y="94"/>
                  </a:lnTo>
                  <a:lnTo>
                    <a:pt x="78" y="94"/>
                  </a:lnTo>
                  <a:lnTo>
                    <a:pt x="80" y="94"/>
                  </a:lnTo>
                  <a:lnTo>
                    <a:pt x="82" y="92"/>
                  </a:lnTo>
                  <a:lnTo>
                    <a:pt x="84" y="92"/>
                  </a:lnTo>
                  <a:lnTo>
                    <a:pt x="84" y="90"/>
                  </a:lnTo>
                  <a:lnTo>
                    <a:pt x="86" y="90"/>
                  </a:lnTo>
                  <a:lnTo>
                    <a:pt x="84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021520" y="6526440"/>
              <a:ext cx="90360" cy="8892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46" y="30"/>
                  </a:move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50"/>
                  </a:lnTo>
                  <a:lnTo>
                    <a:pt x="30" y="52"/>
                  </a:lnTo>
                  <a:lnTo>
                    <a:pt x="32" y="54"/>
                  </a:lnTo>
                  <a:lnTo>
                    <a:pt x="32" y="56"/>
                  </a:lnTo>
                  <a:lnTo>
                    <a:pt x="34" y="58"/>
                  </a:lnTo>
                  <a:lnTo>
                    <a:pt x="34" y="60"/>
                  </a:lnTo>
                  <a:lnTo>
                    <a:pt x="36" y="60"/>
                  </a:lnTo>
                  <a:lnTo>
                    <a:pt x="38" y="62"/>
                  </a:lnTo>
                  <a:lnTo>
                    <a:pt x="40" y="62"/>
                  </a:lnTo>
                  <a:lnTo>
                    <a:pt x="42" y="64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lnTo>
                    <a:pt x="50" y="64"/>
                  </a:lnTo>
                  <a:lnTo>
                    <a:pt x="52" y="62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6" y="60"/>
                  </a:lnTo>
                  <a:lnTo>
                    <a:pt x="58" y="60"/>
                  </a:lnTo>
                  <a:lnTo>
                    <a:pt x="58" y="58"/>
                  </a:lnTo>
                  <a:lnTo>
                    <a:pt x="60" y="56"/>
                  </a:lnTo>
                  <a:lnTo>
                    <a:pt x="60" y="54"/>
                  </a:lnTo>
                  <a:lnTo>
                    <a:pt x="62" y="52"/>
                  </a:lnTo>
                  <a:lnTo>
                    <a:pt x="62" y="50"/>
                  </a:lnTo>
                  <a:lnTo>
                    <a:pt x="62" y="48"/>
                  </a:lnTo>
                  <a:lnTo>
                    <a:pt x="62" y="46"/>
                  </a:lnTo>
                  <a:lnTo>
                    <a:pt x="62" y="44"/>
                  </a:lnTo>
                  <a:lnTo>
                    <a:pt x="62" y="42"/>
                  </a:lnTo>
                  <a:lnTo>
                    <a:pt x="60" y="40"/>
                  </a:lnTo>
                  <a:lnTo>
                    <a:pt x="60" y="38"/>
                  </a:lnTo>
                  <a:lnTo>
                    <a:pt x="58" y="36"/>
                  </a:lnTo>
                  <a:lnTo>
                    <a:pt x="56" y="34"/>
                  </a:lnTo>
                  <a:lnTo>
                    <a:pt x="54" y="32"/>
                  </a:lnTo>
                  <a:lnTo>
                    <a:pt x="52" y="32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close/>
                  <a:moveTo>
                    <a:pt x="46" y="0"/>
                  </a:moveTo>
                  <a:lnTo>
                    <a:pt x="50" y="0"/>
                  </a:lnTo>
                  <a:lnTo>
                    <a:pt x="54" y="0"/>
                  </a:lnTo>
                  <a:lnTo>
                    <a:pt x="60" y="2"/>
                  </a:lnTo>
                  <a:lnTo>
                    <a:pt x="64" y="4"/>
                  </a:lnTo>
                  <a:lnTo>
                    <a:pt x="68" y="6"/>
                  </a:lnTo>
                  <a:lnTo>
                    <a:pt x="72" y="8"/>
                  </a:lnTo>
                  <a:lnTo>
                    <a:pt x="74" y="10"/>
                  </a:lnTo>
                  <a:lnTo>
                    <a:pt x="78" y="14"/>
                  </a:lnTo>
                  <a:lnTo>
                    <a:pt x="82" y="18"/>
                  </a:lnTo>
                  <a:lnTo>
                    <a:pt x="84" y="22"/>
                  </a:lnTo>
                  <a:lnTo>
                    <a:pt x="86" y="26"/>
                  </a:lnTo>
                  <a:lnTo>
                    <a:pt x="88" y="30"/>
                  </a:lnTo>
                  <a:lnTo>
                    <a:pt x="90" y="34"/>
                  </a:lnTo>
                  <a:lnTo>
                    <a:pt x="92" y="38"/>
                  </a:lnTo>
                  <a:lnTo>
                    <a:pt x="92" y="42"/>
                  </a:lnTo>
                  <a:lnTo>
                    <a:pt x="92" y="48"/>
                  </a:lnTo>
                  <a:lnTo>
                    <a:pt x="92" y="52"/>
                  </a:lnTo>
                  <a:lnTo>
                    <a:pt x="92" y="56"/>
                  </a:lnTo>
                  <a:lnTo>
                    <a:pt x="90" y="62"/>
                  </a:lnTo>
                  <a:lnTo>
                    <a:pt x="88" y="66"/>
                  </a:lnTo>
                  <a:lnTo>
                    <a:pt x="86" y="70"/>
                  </a:lnTo>
                  <a:lnTo>
                    <a:pt x="84" y="74"/>
                  </a:lnTo>
                  <a:lnTo>
                    <a:pt x="82" y="76"/>
                  </a:lnTo>
                  <a:lnTo>
                    <a:pt x="78" y="80"/>
                  </a:lnTo>
                  <a:lnTo>
                    <a:pt x="74" y="84"/>
                  </a:lnTo>
                  <a:lnTo>
                    <a:pt x="72" y="86"/>
                  </a:lnTo>
                  <a:lnTo>
                    <a:pt x="68" y="88"/>
                  </a:lnTo>
                  <a:lnTo>
                    <a:pt x="64" y="90"/>
                  </a:lnTo>
                  <a:lnTo>
                    <a:pt x="60" y="92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6" y="94"/>
                  </a:lnTo>
                  <a:lnTo>
                    <a:pt x="42" y="94"/>
                  </a:lnTo>
                  <a:lnTo>
                    <a:pt x="38" y="94"/>
                  </a:lnTo>
                  <a:lnTo>
                    <a:pt x="32" y="92"/>
                  </a:lnTo>
                  <a:lnTo>
                    <a:pt x="28" y="90"/>
                  </a:lnTo>
                  <a:lnTo>
                    <a:pt x="24" y="88"/>
                  </a:lnTo>
                  <a:lnTo>
                    <a:pt x="20" y="86"/>
                  </a:lnTo>
                  <a:lnTo>
                    <a:pt x="18" y="84"/>
                  </a:lnTo>
                  <a:lnTo>
                    <a:pt x="14" y="80"/>
                  </a:lnTo>
                  <a:lnTo>
                    <a:pt x="10" y="76"/>
                  </a:lnTo>
                  <a:lnTo>
                    <a:pt x="8" y="74"/>
                  </a:lnTo>
                  <a:lnTo>
                    <a:pt x="6" y="70"/>
                  </a:lnTo>
                  <a:lnTo>
                    <a:pt x="4" y="66"/>
                  </a:lnTo>
                  <a:lnTo>
                    <a:pt x="2" y="62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2" y="34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24" y="6"/>
                  </a:lnTo>
                  <a:lnTo>
                    <a:pt x="28" y="4"/>
                  </a:lnTo>
                  <a:lnTo>
                    <a:pt x="32" y="2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24120" y="6526440"/>
              <a:ext cx="92880" cy="115200"/>
            </a:xfrm>
            <a:custGeom>
              <a:avLst/>
              <a:gdLst/>
              <a:ahLst/>
              <a:rect l="l" t="t" r="r" b="b"/>
              <a:pathLst>
                <a:path w="94" h="122">
                  <a:moveTo>
                    <a:pt x="48" y="64"/>
                  </a:moveTo>
                  <a:lnTo>
                    <a:pt x="50" y="64"/>
                  </a:lnTo>
                  <a:lnTo>
                    <a:pt x="52" y="64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8" y="62"/>
                  </a:lnTo>
                  <a:lnTo>
                    <a:pt x="58" y="60"/>
                  </a:lnTo>
                  <a:lnTo>
                    <a:pt x="60" y="60"/>
                  </a:lnTo>
                  <a:lnTo>
                    <a:pt x="60" y="58"/>
                  </a:lnTo>
                  <a:lnTo>
                    <a:pt x="62" y="56"/>
                  </a:lnTo>
                  <a:lnTo>
                    <a:pt x="62" y="54"/>
                  </a:lnTo>
                  <a:lnTo>
                    <a:pt x="64" y="52"/>
                  </a:lnTo>
                  <a:lnTo>
                    <a:pt x="64" y="50"/>
                  </a:lnTo>
                  <a:lnTo>
                    <a:pt x="64" y="48"/>
                  </a:lnTo>
                  <a:lnTo>
                    <a:pt x="64" y="46"/>
                  </a:lnTo>
                  <a:lnTo>
                    <a:pt x="64" y="44"/>
                  </a:lnTo>
                  <a:lnTo>
                    <a:pt x="64" y="42"/>
                  </a:lnTo>
                  <a:lnTo>
                    <a:pt x="62" y="40"/>
                  </a:lnTo>
                  <a:lnTo>
                    <a:pt x="62" y="38"/>
                  </a:lnTo>
                  <a:lnTo>
                    <a:pt x="60" y="36"/>
                  </a:lnTo>
                  <a:lnTo>
                    <a:pt x="58" y="34"/>
                  </a:lnTo>
                  <a:lnTo>
                    <a:pt x="56" y="32"/>
                  </a:lnTo>
                  <a:lnTo>
                    <a:pt x="54" y="32"/>
                  </a:lnTo>
                  <a:lnTo>
                    <a:pt x="52" y="30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2"/>
                  </a:lnTo>
                  <a:lnTo>
                    <a:pt x="40" y="32"/>
                  </a:lnTo>
                  <a:lnTo>
                    <a:pt x="38" y="34"/>
                  </a:lnTo>
                  <a:lnTo>
                    <a:pt x="36" y="34"/>
                  </a:lnTo>
                  <a:lnTo>
                    <a:pt x="36" y="36"/>
                  </a:lnTo>
                  <a:lnTo>
                    <a:pt x="34" y="38"/>
                  </a:lnTo>
                  <a:lnTo>
                    <a:pt x="34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2" y="46"/>
                  </a:lnTo>
                  <a:lnTo>
                    <a:pt x="32" y="48"/>
                  </a:lnTo>
                  <a:lnTo>
                    <a:pt x="32" y="50"/>
                  </a:lnTo>
                  <a:lnTo>
                    <a:pt x="32" y="52"/>
                  </a:lnTo>
                  <a:lnTo>
                    <a:pt x="34" y="54"/>
                  </a:lnTo>
                  <a:lnTo>
                    <a:pt x="34" y="56"/>
                  </a:lnTo>
                  <a:lnTo>
                    <a:pt x="36" y="58"/>
                  </a:lnTo>
                  <a:lnTo>
                    <a:pt x="36" y="60"/>
                  </a:lnTo>
                  <a:lnTo>
                    <a:pt x="38" y="60"/>
                  </a:lnTo>
                  <a:lnTo>
                    <a:pt x="40" y="62"/>
                  </a:lnTo>
                  <a:lnTo>
                    <a:pt x="42" y="62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close/>
                  <a:moveTo>
                    <a:pt x="30" y="88"/>
                  </a:moveTo>
                  <a:lnTo>
                    <a:pt x="30" y="122"/>
                  </a:lnTo>
                  <a:lnTo>
                    <a:pt x="0" y="122"/>
                  </a:ln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6" y="4"/>
                  </a:lnTo>
                  <a:lnTo>
                    <a:pt x="38" y="4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6" y="2"/>
                  </a:lnTo>
                  <a:lnTo>
                    <a:pt x="68" y="4"/>
                  </a:lnTo>
                  <a:lnTo>
                    <a:pt x="72" y="6"/>
                  </a:lnTo>
                  <a:lnTo>
                    <a:pt x="76" y="8"/>
                  </a:lnTo>
                  <a:lnTo>
                    <a:pt x="78" y="10"/>
                  </a:lnTo>
                  <a:lnTo>
                    <a:pt x="82" y="14"/>
                  </a:lnTo>
                  <a:lnTo>
                    <a:pt x="84" y="18"/>
                  </a:lnTo>
                  <a:lnTo>
                    <a:pt x="88" y="20"/>
                  </a:lnTo>
                  <a:lnTo>
                    <a:pt x="90" y="24"/>
                  </a:lnTo>
                  <a:lnTo>
                    <a:pt x="92" y="28"/>
                  </a:lnTo>
                  <a:lnTo>
                    <a:pt x="92" y="32"/>
                  </a:lnTo>
                  <a:lnTo>
                    <a:pt x="94" y="38"/>
                  </a:lnTo>
                  <a:lnTo>
                    <a:pt x="94" y="42"/>
                  </a:lnTo>
                  <a:lnTo>
                    <a:pt x="94" y="46"/>
                  </a:lnTo>
                  <a:lnTo>
                    <a:pt x="94" y="52"/>
                  </a:lnTo>
                  <a:lnTo>
                    <a:pt x="94" y="56"/>
                  </a:lnTo>
                  <a:lnTo>
                    <a:pt x="92" y="60"/>
                  </a:lnTo>
                  <a:lnTo>
                    <a:pt x="92" y="66"/>
                  </a:lnTo>
                  <a:lnTo>
                    <a:pt x="90" y="70"/>
                  </a:lnTo>
                  <a:lnTo>
                    <a:pt x="88" y="74"/>
                  </a:lnTo>
                  <a:lnTo>
                    <a:pt x="84" y="76"/>
                  </a:lnTo>
                  <a:lnTo>
                    <a:pt x="82" y="80"/>
                  </a:lnTo>
                  <a:lnTo>
                    <a:pt x="78" y="84"/>
                  </a:lnTo>
                  <a:lnTo>
                    <a:pt x="76" y="86"/>
                  </a:lnTo>
                  <a:lnTo>
                    <a:pt x="72" y="88"/>
                  </a:lnTo>
                  <a:lnTo>
                    <a:pt x="68" y="90"/>
                  </a:lnTo>
                  <a:lnTo>
                    <a:pt x="64" y="92"/>
                  </a:lnTo>
                  <a:lnTo>
                    <a:pt x="58" y="94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8" y="94"/>
                  </a:lnTo>
                  <a:lnTo>
                    <a:pt x="46" y="94"/>
                  </a:lnTo>
                  <a:lnTo>
                    <a:pt x="44" y="94"/>
                  </a:lnTo>
                  <a:lnTo>
                    <a:pt x="42" y="94"/>
                  </a:lnTo>
                  <a:lnTo>
                    <a:pt x="40" y="92"/>
                  </a:lnTo>
                  <a:lnTo>
                    <a:pt x="38" y="92"/>
                  </a:lnTo>
                  <a:lnTo>
                    <a:pt x="36" y="92"/>
                  </a:lnTo>
                  <a:lnTo>
                    <a:pt x="34" y="90"/>
                  </a:lnTo>
                  <a:lnTo>
                    <a:pt x="32" y="90"/>
                  </a:lnTo>
                  <a:lnTo>
                    <a:pt x="30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220600" y="6528240"/>
              <a:ext cx="88560" cy="113400"/>
            </a:xfrm>
            <a:custGeom>
              <a:avLst/>
              <a:gdLst/>
              <a:ahLst/>
              <a:rect l="l" t="t" r="r" b="b"/>
              <a:pathLst>
                <a:path w="90" h="120">
                  <a:moveTo>
                    <a:pt x="20" y="120"/>
                  </a:moveTo>
                  <a:lnTo>
                    <a:pt x="32" y="86"/>
                  </a:lnTo>
                  <a:lnTo>
                    <a:pt x="0" y="0"/>
                  </a:lnTo>
                  <a:lnTo>
                    <a:pt x="34" y="0"/>
                  </a:lnTo>
                  <a:lnTo>
                    <a:pt x="46" y="44"/>
                  </a:lnTo>
                  <a:lnTo>
                    <a:pt x="58" y="0"/>
                  </a:lnTo>
                  <a:lnTo>
                    <a:pt x="90" y="0"/>
                  </a:lnTo>
                  <a:lnTo>
                    <a:pt x="54" y="120"/>
                  </a:lnTo>
                  <a:lnTo>
                    <a:pt x="2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315640" y="6526440"/>
              <a:ext cx="48960" cy="86760"/>
            </a:xfrm>
            <a:custGeom>
              <a:avLst/>
              <a:gdLst/>
              <a:ahLst/>
              <a:rect l="l" t="t" r="r" b="b"/>
              <a:pathLst>
                <a:path w="50" h="92">
                  <a:moveTo>
                    <a:pt x="0" y="92"/>
                  </a:move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4" y="4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0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376840" y="6495840"/>
              <a:ext cx="29520" cy="117360"/>
            </a:xfrm>
            <a:custGeom>
              <a:avLst/>
              <a:gdLst/>
              <a:ahLst/>
              <a:rect l="l" t="t" r="r" b="b"/>
              <a:pathLst>
                <a:path w="30" h="124">
                  <a:moveTo>
                    <a:pt x="0" y="124"/>
                  </a:moveTo>
                  <a:lnTo>
                    <a:pt x="0" y="34"/>
                  </a:lnTo>
                  <a:lnTo>
                    <a:pt x="30" y="34"/>
                  </a:lnTo>
                  <a:lnTo>
                    <a:pt x="30" y="124"/>
                  </a:lnTo>
                  <a:lnTo>
                    <a:pt x="0" y="124"/>
                  </a:lnTo>
                  <a:close/>
                  <a:moveTo>
                    <a:pt x="0" y="26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416440" y="6526440"/>
              <a:ext cx="82800" cy="117000"/>
            </a:xfrm>
            <a:custGeom>
              <a:avLst/>
              <a:gdLst/>
              <a:ahLst/>
              <a:rect l="l" t="t" r="r" b="b"/>
              <a:pathLst>
                <a:path w="84" h="124">
                  <a:moveTo>
                    <a:pt x="42" y="52"/>
                  </a:moveTo>
                  <a:lnTo>
                    <a:pt x="44" y="52"/>
                  </a:lnTo>
                  <a:lnTo>
                    <a:pt x="46" y="52"/>
                  </a:lnTo>
                  <a:lnTo>
                    <a:pt x="46" y="50"/>
                  </a:lnTo>
                  <a:lnTo>
                    <a:pt x="48" y="50"/>
                  </a:lnTo>
                  <a:lnTo>
                    <a:pt x="50" y="48"/>
                  </a:lnTo>
                  <a:lnTo>
                    <a:pt x="52" y="46"/>
                  </a:lnTo>
                  <a:lnTo>
                    <a:pt x="52" y="44"/>
                  </a:lnTo>
                  <a:lnTo>
                    <a:pt x="54" y="44"/>
                  </a:lnTo>
                  <a:lnTo>
                    <a:pt x="54" y="42"/>
                  </a:lnTo>
                  <a:lnTo>
                    <a:pt x="54" y="40"/>
                  </a:lnTo>
                  <a:lnTo>
                    <a:pt x="54" y="38"/>
                  </a:lnTo>
                  <a:lnTo>
                    <a:pt x="52" y="36"/>
                  </a:lnTo>
                  <a:lnTo>
                    <a:pt x="50" y="34"/>
                  </a:lnTo>
                  <a:lnTo>
                    <a:pt x="48" y="32"/>
                  </a:lnTo>
                  <a:lnTo>
                    <a:pt x="46" y="32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4" y="46"/>
                  </a:lnTo>
                  <a:lnTo>
                    <a:pt x="36" y="48"/>
                  </a:lnTo>
                  <a:lnTo>
                    <a:pt x="38" y="50"/>
                  </a:lnTo>
                  <a:lnTo>
                    <a:pt x="40" y="50"/>
                  </a:lnTo>
                  <a:lnTo>
                    <a:pt x="40" y="52"/>
                  </a:lnTo>
                  <a:lnTo>
                    <a:pt x="42" y="52"/>
                  </a:lnTo>
                  <a:close/>
                  <a:moveTo>
                    <a:pt x="52" y="78"/>
                  </a:moveTo>
                  <a:lnTo>
                    <a:pt x="50" y="80"/>
                  </a:lnTo>
                  <a:lnTo>
                    <a:pt x="48" y="80"/>
                  </a:lnTo>
                  <a:lnTo>
                    <a:pt x="46" y="80"/>
                  </a:lnTo>
                  <a:lnTo>
                    <a:pt x="44" y="80"/>
                  </a:lnTo>
                  <a:lnTo>
                    <a:pt x="42" y="80"/>
                  </a:lnTo>
                  <a:lnTo>
                    <a:pt x="40" y="80"/>
                  </a:lnTo>
                  <a:lnTo>
                    <a:pt x="36" y="80"/>
                  </a:lnTo>
                  <a:lnTo>
                    <a:pt x="32" y="80"/>
                  </a:lnTo>
                  <a:lnTo>
                    <a:pt x="28" y="78"/>
                  </a:lnTo>
                  <a:lnTo>
                    <a:pt x="26" y="76"/>
                  </a:lnTo>
                  <a:lnTo>
                    <a:pt x="22" y="76"/>
                  </a:lnTo>
                  <a:lnTo>
                    <a:pt x="18" y="74"/>
                  </a:lnTo>
                  <a:lnTo>
                    <a:pt x="16" y="70"/>
                  </a:lnTo>
                  <a:lnTo>
                    <a:pt x="12" y="68"/>
                  </a:lnTo>
                  <a:lnTo>
                    <a:pt x="10" y="66"/>
                  </a:lnTo>
                  <a:lnTo>
                    <a:pt x="8" y="62"/>
                  </a:lnTo>
                  <a:lnTo>
                    <a:pt x="6" y="60"/>
                  </a:lnTo>
                  <a:lnTo>
                    <a:pt x="4" y="56"/>
                  </a:lnTo>
                  <a:lnTo>
                    <a:pt x="4" y="52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40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8" y="10"/>
                  </a:lnTo>
                  <a:lnTo>
                    <a:pt x="20" y="6"/>
                  </a:lnTo>
                  <a:lnTo>
                    <a:pt x="24" y="4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4" y="2"/>
                  </a:lnTo>
                  <a:lnTo>
                    <a:pt x="56" y="2"/>
                  </a:lnTo>
                  <a:lnTo>
                    <a:pt x="84" y="2"/>
                  </a:lnTo>
                  <a:lnTo>
                    <a:pt x="76" y="16"/>
                  </a:lnTo>
                  <a:lnTo>
                    <a:pt x="76" y="18"/>
                  </a:lnTo>
                  <a:lnTo>
                    <a:pt x="78" y="18"/>
                  </a:lnTo>
                  <a:lnTo>
                    <a:pt x="78" y="20"/>
                  </a:lnTo>
                  <a:lnTo>
                    <a:pt x="80" y="22"/>
                  </a:lnTo>
                  <a:lnTo>
                    <a:pt x="80" y="24"/>
                  </a:lnTo>
                  <a:lnTo>
                    <a:pt x="82" y="26"/>
                  </a:lnTo>
                  <a:lnTo>
                    <a:pt x="82" y="28"/>
                  </a:lnTo>
                  <a:lnTo>
                    <a:pt x="82" y="30"/>
                  </a:lnTo>
                  <a:lnTo>
                    <a:pt x="84" y="32"/>
                  </a:lnTo>
                  <a:lnTo>
                    <a:pt x="84" y="34"/>
                  </a:lnTo>
                  <a:lnTo>
                    <a:pt x="84" y="36"/>
                  </a:lnTo>
                  <a:lnTo>
                    <a:pt x="84" y="38"/>
                  </a:lnTo>
                  <a:lnTo>
                    <a:pt x="84" y="40"/>
                  </a:lnTo>
                  <a:lnTo>
                    <a:pt x="84" y="42"/>
                  </a:lnTo>
                  <a:lnTo>
                    <a:pt x="84" y="44"/>
                  </a:lnTo>
                  <a:lnTo>
                    <a:pt x="84" y="46"/>
                  </a:lnTo>
                  <a:lnTo>
                    <a:pt x="84" y="48"/>
                  </a:lnTo>
                  <a:lnTo>
                    <a:pt x="84" y="50"/>
                  </a:lnTo>
                  <a:lnTo>
                    <a:pt x="82" y="52"/>
                  </a:lnTo>
                  <a:lnTo>
                    <a:pt x="82" y="54"/>
                  </a:lnTo>
                  <a:lnTo>
                    <a:pt x="82" y="56"/>
                  </a:lnTo>
                  <a:lnTo>
                    <a:pt x="80" y="56"/>
                  </a:lnTo>
                  <a:lnTo>
                    <a:pt x="80" y="58"/>
                  </a:lnTo>
                  <a:lnTo>
                    <a:pt x="78" y="60"/>
                  </a:lnTo>
                  <a:lnTo>
                    <a:pt x="78" y="62"/>
                  </a:lnTo>
                  <a:lnTo>
                    <a:pt x="76" y="62"/>
                  </a:lnTo>
                  <a:lnTo>
                    <a:pt x="76" y="64"/>
                  </a:lnTo>
                  <a:lnTo>
                    <a:pt x="74" y="64"/>
                  </a:lnTo>
                  <a:lnTo>
                    <a:pt x="76" y="66"/>
                  </a:lnTo>
                  <a:lnTo>
                    <a:pt x="78" y="68"/>
                  </a:lnTo>
                  <a:lnTo>
                    <a:pt x="78" y="70"/>
                  </a:lnTo>
                  <a:lnTo>
                    <a:pt x="80" y="72"/>
                  </a:lnTo>
                  <a:lnTo>
                    <a:pt x="80" y="74"/>
                  </a:lnTo>
                  <a:lnTo>
                    <a:pt x="80" y="76"/>
                  </a:lnTo>
                  <a:lnTo>
                    <a:pt x="80" y="78"/>
                  </a:lnTo>
                  <a:lnTo>
                    <a:pt x="82" y="78"/>
                  </a:lnTo>
                  <a:lnTo>
                    <a:pt x="82" y="80"/>
                  </a:lnTo>
                  <a:lnTo>
                    <a:pt x="82" y="82"/>
                  </a:lnTo>
                  <a:lnTo>
                    <a:pt x="82" y="84"/>
                  </a:lnTo>
                  <a:lnTo>
                    <a:pt x="82" y="86"/>
                  </a:lnTo>
                  <a:lnTo>
                    <a:pt x="82" y="90"/>
                  </a:lnTo>
                  <a:lnTo>
                    <a:pt x="82" y="94"/>
                  </a:lnTo>
                  <a:lnTo>
                    <a:pt x="80" y="98"/>
                  </a:lnTo>
                  <a:lnTo>
                    <a:pt x="80" y="102"/>
                  </a:lnTo>
                  <a:lnTo>
                    <a:pt x="78" y="104"/>
                  </a:lnTo>
                  <a:lnTo>
                    <a:pt x="76" y="108"/>
                  </a:lnTo>
                  <a:lnTo>
                    <a:pt x="72" y="110"/>
                  </a:lnTo>
                  <a:lnTo>
                    <a:pt x="70" y="114"/>
                  </a:lnTo>
                  <a:lnTo>
                    <a:pt x="68" y="116"/>
                  </a:lnTo>
                  <a:lnTo>
                    <a:pt x="64" y="118"/>
                  </a:lnTo>
                  <a:lnTo>
                    <a:pt x="62" y="120"/>
                  </a:lnTo>
                  <a:lnTo>
                    <a:pt x="58" y="122"/>
                  </a:lnTo>
                  <a:lnTo>
                    <a:pt x="54" y="122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2" y="124"/>
                  </a:lnTo>
                  <a:lnTo>
                    <a:pt x="40" y="124"/>
                  </a:lnTo>
                  <a:lnTo>
                    <a:pt x="36" y="124"/>
                  </a:lnTo>
                  <a:lnTo>
                    <a:pt x="34" y="124"/>
                  </a:lnTo>
                  <a:lnTo>
                    <a:pt x="30" y="122"/>
                  </a:lnTo>
                  <a:lnTo>
                    <a:pt x="28" y="122"/>
                  </a:lnTo>
                  <a:lnTo>
                    <a:pt x="24" y="122"/>
                  </a:lnTo>
                  <a:lnTo>
                    <a:pt x="22" y="120"/>
                  </a:lnTo>
                  <a:lnTo>
                    <a:pt x="18" y="120"/>
                  </a:lnTo>
                  <a:lnTo>
                    <a:pt x="16" y="118"/>
                  </a:lnTo>
                  <a:lnTo>
                    <a:pt x="14" y="116"/>
                  </a:lnTo>
                  <a:lnTo>
                    <a:pt x="12" y="116"/>
                  </a:lnTo>
                  <a:lnTo>
                    <a:pt x="10" y="114"/>
                  </a:lnTo>
                  <a:lnTo>
                    <a:pt x="6" y="112"/>
                  </a:lnTo>
                  <a:lnTo>
                    <a:pt x="4" y="110"/>
                  </a:lnTo>
                  <a:lnTo>
                    <a:pt x="2" y="108"/>
                  </a:lnTo>
                  <a:lnTo>
                    <a:pt x="0" y="106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6"/>
                  </a:lnTo>
                  <a:lnTo>
                    <a:pt x="20" y="88"/>
                  </a:lnTo>
                  <a:lnTo>
                    <a:pt x="22" y="90"/>
                  </a:lnTo>
                  <a:lnTo>
                    <a:pt x="24" y="92"/>
                  </a:lnTo>
                  <a:lnTo>
                    <a:pt x="26" y="92"/>
                  </a:lnTo>
                  <a:lnTo>
                    <a:pt x="26" y="94"/>
                  </a:lnTo>
                  <a:lnTo>
                    <a:pt x="28" y="94"/>
                  </a:lnTo>
                  <a:lnTo>
                    <a:pt x="30" y="94"/>
                  </a:lnTo>
                  <a:lnTo>
                    <a:pt x="32" y="96"/>
                  </a:lnTo>
                  <a:lnTo>
                    <a:pt x="34" y="96"/>
                  </a:lnTo>
                  <a:lnTo>
                    <a:pt x="36" y="96"/>
                  </a:lnTo>
                  <a:lnTo>
                    <a:pt x="38" y="96"/>
                  </a:lnTo>
                  <a:lnTo>
                    <a:pt x="40" y="96"/>
                  </a:lnTo>
                  <a:lnTo>
                    <a:pt x="42" y="96"/>
                  </a:lnTo>
                  <a:lnTo>
                    <a:pt x="44" y="96"/>
                  </a:lnTo>
                  <a:lnTo>
                    <a:pt x="44" y="94"/>
                  </a:lnTo>
                  <a:lnTo>
                    <a:pt x="46" y="94"/>
                  </a:lnTo>
                  <a:lnTo>
                    <a:pt x="48" y="92"/>
                  </a:lnTo>
                  <a:lnTo>
                    <a:pt x="50" y="90"/>
                  </a:lnTo>
                  <a:lnTo>
                    <a:pt x="50" y="88"/>
                  </a:lnTo>
                  <a:lnTo>
                    <a:pt x="52" y="88"/>
                  </a:lnTo>
                  <a:lnTo>
                    <a:pt x="52" y="86"/>
                  </a:lnTo>
                  <a:lnTo>
                    <a:pt x="52" y="84"/>
                  </a:lnTo>
                  <a:lnTo>
                    <a:pt x="52" y="82"/>
                  </a:lnTo>
                  <a:lnTo>
                    <a:pt x="52" y="80"/>
                  </a:lnTo>
                  <a:lnTo>
                    <a:pt x="5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13280" y="6495840"/>
              <a:ext cx="76680" cy="117360"/>
            </a:xfrm>
            <a:custGeom>
              <a:avLst/>
              <a:gdLst/>
              <a:ahLst/>
              <a:rect l="l" t="t" r="r" b="b"/>
              <a:pathLst>
                <a:path w="78" h="124">
                  <a:moveTo>
                    <a:pt x="0" y="124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42"/>
                  </a:lnTo>
                  <a:lnTo>
                    <a:pt x="30" y="40"/>
                  </a:lnTo>
                  <a:lnTo>
                    <a:pt x="32" y="40"/>
                  </a:lnTo>
                  <a:lnTo>
                    <a:pt x="32" y="38"/>
                  </a:lnTo>
                  <a:lnTo>
                    <a:pt x="34" y="38"/>
                  </a:lnTo>
                  <a:lnTo>
                    <a:pt x="36" y="36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40" y="34"/>
                  </a:lnTo>
                  <a:lnTo>
                    <a:pt x="42" y="34"/>
                  </a:lnTo>
                  <a:lnTo>
                    <a:pt x="44" y="32"/>
                  </a:lnTo>
                  <a:lnTo>
                    <a:pt x="46" y="32"/>
                  </a:lnTo>
                  <a:lnTo>
                    <a:pt x="48" y="32"/>
                  </a:lnTo>
                  <a:lnTo>
                    <a:pt x="50" y="32"/>
                  </a:lnTo>
                  <a:lnTo>
                    <a:pt x="52" y="32"/>
                  </a:lnTo>
                  <a:lnTo>
                    <a:pt x="54" y="32"/>
                  </a:lnTo>
                  <a:lnTo>
                    <a:pt x="58" y="32"/>
                  </a:lnTo>
                  <a:lnTo>
                    <a:pt x="60" y="32"/>
                  </a:lnTo>
                  <a:lnTo>
                    <a:pt x="62" y="34"/>
                  </a:lnTo>
                  <a:lnTo>
                    <a:pt x="66" y="34"/>
                  </a:lnTo>
                  <a:lnTo>
                    <a:pt x="68" y="36"/>
                  </a:lnTo>
                  <a:lnTo>
                    <a:pt x="70" y="38"/>
                  </a:lnTo>
                  <a:lnTo>
                    <a:pt x="72" y="40"/>
                  </a:lnTo>
                  <a:lnTo>
                    <a:pt x="74" y="42"/>
                  </a:lnTo>
                  <a:lnTo>
                    <a:pt x="74" y="44"/>
                  </a:lnTo>
                  <a:lnTo>
                    <a:pt x="76" y="46"/>
                  </a:lnTo>
                  <a:lnTo>
                    <a:pt x="76" y="48"/>
                  </a:lnTo>
                  <a:lnTo>
                    <a:pt x="78" y="52"/>
                  </a:lnTo>
                  <a:lnTo>
                    <a:pt x="78" y="54"/>
                  </a:lnTo>
                  <a:lnTo>
                    <a:pt x="78" y="58"/>
                  </a:lnTo>
                  <a:lnTo>
                    <a:pt x="78" y="62"/>
                  </a:lnTo>
                  <a:lnTo>
                    <a:pt x="78" y="124"/>
                  </a:lnTo>
                  <a:lnTo>
                    <a:pt x="48" y="124"/>
                  </a:lnTo>
                  <a:lnTo>
                    <a:pt x="48" y="76"/>
                  </a:lnTo>
                  <a:lnTo>
                    <a:pt x="48" y="74"/>
                  </a:lnTo>
                  <a:lnTo>
                    <a:pt x="48" y="72"/>
                  </a:lnTo>
                  <a:lnTo>
                    <a:pt x="48" y="70"/>
                  </a:lnTo>
                  <a:lnTo>
                    <a:pt x="48" y="68"/>
                  </a:lnTo>
                  <a:lnTo>
                    <a:pt x="46" y="66"/>
                  </a:lnTo>
                  <a:lnTo>
                    <a:pt x="44" y="64"/>
                  </a:lnTo>
                  <a:lnTo>
                    <a:pt x="42" y="62"/>
                  </a:lnTo>
                  <a:lnTo>
                    <a:pt x="40" y="62"/>
                  </a:lnTo>
                  <a:lnTo>
                    <a:pt x="38" y="62"/>
                  </a:lnTo>
                  <a:lnTo>
                    <a:pt x="36" y="62"/>
                  </a:lnTo>
                  <a:lnTo>
                    <a:pt x="36" y="64"/>
                  </a:lnTo>
                  <a:lnTo>
                    <a:pt x="34" y="64"/>
                  </a:lnTo>
                  <a:lnTo>
                    <a:pt x="32" y="66"/>
                  </a:lnTo>
                  <a:lnTo>
                    <a:pt x="30" y="68"/>
                  </a:lnTo>
                  <a:lnTo>
                    <a:pt x="30" y="70"/>
                  </a:lnTo>
                  <a:lnTo>
                    <a:pt x="30" y="72"/>
                  </a:lnTo>
                  <a:lnTo>
                    <a:pt x="30" y="74"/>
                  </a:lnTo>
                  <a:lnTo>
                    <a:pt x="30" y="76"/>
                  </a:lnTo>
                  <a:lnTo>
                    <a:pt x="3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02200" y="6503760"/>
              <a:ext cx="48960" cy="111600"/>
            </a:xfrm>
            <a:custGeom>
              <a:avLst/>
              <a:gdLst/>
              <a:ahLst/>
              <a:rect l="l" t="t" r="r" b="b"/>
              <a:pathLst>
                <a:path w="50" h="118">
                  <a:moveTo>
                    <a:pt x="44" y="116"/>
                  </a:moveTo>
                  <a:lnTo>
                    <a:pt x="42" y="116"/>
                  </a:lnTo>
                  <a:lnTo>
                    <a:pt x="42" y="118"/>
                  </a:lnTo>
                  <a:lnTo>
                    <a:pt x="40" y="118"/>
                  </a:lnTo>
                  <a:lnTo>
                    <a:pt x="38" y="118"/>
                  </a:lnTo>
                  <a:lnTo>
                    <a:pt x="36" y="118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8"/>
                  </a:lnTo>
                  <a:lnTo>
                    <a:pt x="26" y="118"/>
                  </a:lnTo>
                  <a:lnTo>
                    <a:pt x="22" y="118"/>
                  </a:lnTo>
                  <a:lnTo>
                    <a:pt x="20" y="116"/>
                  </a:lnTo>
                  <a:lnTo>
                    <a:pt x="18" y="116"/>
                  </a:lnTo>
                  <a:lnTo>
                    <a:pt x="16" y="114"/>
                  </a:lnTo>
                  <a:lnTo>
                    <a:pt x="14" y="114"/>
                  </a:lnTo>
                  <a:lnTo>
                    <a:pt x="12" y="112"/>
                  </a:lnTo>
                  <a:lnTo>
                    <a:pt x="10" y="110"/>
                  </a:lnTo>
                  <a:lnTo>
                    <a:pt x="10" y="108"/>
                  </a:lnTo>
                  <a:lnTo>
                    <a:pt x="8" y="106"/>
                  </a:lnTo>
                  <a:lnTo>
                    <a:pt x="8" y="102"/>
                  </a:lnTo>
                  <a:lnTo>
                    <a:pt x="6" y="100"/>
                  </a:lnTo>
                  <a:lnTo>
                    <a:pt x="6" y="96"/>
                  </a:lnTo>
                  <a:lnTo>
                    <a:pt x="6" y="90"/>
                  </a:lnTo>
                  <a:lnTo>
                    <a:pt x="6" y="86"/>
                  </a:lnTo>
                  <a:lnTo>
                    <a:pt x="6" y="54"/>
                  </a:lnTo>
                  <a:lnTo>
                    <a:pt x="0" y="54"/>
                  </a:lnTo>
                  <a:lnTo>
                    <a:pt x="0" y="26"/>
                  </a:lnTo>
                  <a:lnTo>
                    <a:pt x="6" y="26"/>
                  </a:lnTo>
                  <a:lnTo>
                    <a:pt x="6" y="16"/>
                  </a:lnTo>
                  <a:lnTo>
                    <a:pt x="36" y="0"/>
                  </a:lnTo>
                  <a:lnTo>
                    <a:pt x="36" y="26"/>
                  </a:lnTo>
                  <a:lnTo>
                    <a:pt x="48" y="26"/>
                  </a:lnTo>
                  <a:lnTo>
                    <a:pt x="48" y="54"/>
                  </a:lnTo>
                  <a:lnTo>
                    <a:pt x="36" y="54"/>
                  </a:lnTo>
                  <a:lnTo>
                    <a:pt x="36" y="74"/>
                  </a:lnTo>
                  <a:lnTo>
                    <a:pt x="36" y="76"/>
                  </a:lnTo>
                  <a:lnTo>
                    <a:pt x="36" y="78"/>
                  </a:lnTo>
                  <a:lnTo>
                    <a:pt x="36" y="80"/>
                  </a:lnTo>
                  <a:lnTo>
                    <a:pt x="36" y="82"/>
                  </a:lnTo>
                  <a:lnTo>
                    <a:pt x="38" y="84"/>
                  </a:lnTo>
                  <a:lnTo>
                    <a:pt x="40" y="86"/>
                  </a:lnTo>
                  <a:lnTo>
                    <a:pt x="42" y="86"/>
                  </a:lnTo>
                  <a:lnTo>
                    <a:pt x="44" y="86"/>
                  </a:lnTo>
                  <a:lnTo>
                    <a:pt x="46" y="86"/>
                  </a:lnTo>
                  <a:lnTo>
                    <a:pt x="48" y="86"/>
                  </a:lnTo>
                  <a:lnTo>
                    <a:pt x="50" y="86"/>
                  </a:lnTo>
                  <a:lnTo>
                    <a:pt x="4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712360" y="6494400"/>
              <a:ext cx="126360" cy="119160"/>
            </a:xfrm>
            <a:custGeom>
              <a:avLst/>
              <a:gdLst/>
              <a:ahLst/>
              <a:rect l="l" t="t" r="r" b="b"/>
              <a:pathLst>
                <a:path w="128" h="126">
                  <a:moveTo>
                    <a:pt x="96" y="50"/>
                  </a:moveTo>
                  <a:lnTo>
                    <a:pt x="76" y="50"/>
                  </a:lnTo>
                  <a:lnTo>
                    <a:pt x="76" y="48"/>
                  </a:lnTo>
                  <a:lnTo>
                    <a:pt x="76" y="46"/>
                  </a:lnTo>
                  <a:lnTo>
                    <a:pt x="74" y="46"/>
                  </a:lnTo>
                  <a:lnTo>
                    <a:pt x="74" y="44"/>
                  </a:lnTo>
                  <a:lnTo>
                    <a:pt x="72" y="42"/>
                  </a:lnTo>
                  <a:lnTo>
                    <a:pt x="70" y="40"/>
                  </a:lnTo>
                  <a:lnTo>
                    <a:pt x="68" y="40"/>
                  </a:lnTo>
                  <a:lnTo>
                    <a:pt x="68" y="38"/>
                  </a:lnTo>
                  <a:lnTo>
                    <a:pt x="66" y="38"/>
                  </a:lnTo>
                  <a:lnTo>
                    <a:pt x="64" y="38"/>
                  </a:lnTo>
                  <a:lnTo>
                    <a:pt x="62" y="38"/>
                  </a:lnTo>
                  <a:lnTo>
                    <a:pt x="60" y="38"/>
                  </a:lnTo>
                  <a:lnTo>
                    <a:pt x="58" y="40"/>
                  </a:lnTo>
                  <a:lnTo>
                    <a:pt x="56" y="40"/>
                  </a:lnTo>
                  <a:lnTo>
                    <a:pt x="56" y="42"/>
                  </a:lnTo>
                  <a:lnTo>
                    <a:pt x="54" y="42"/>
                  </a:lnTo>
                  <a:lnTo>
                    <a:pt x="54" y="44"/>
                  </a:lnTo>
                  <a:lnTo>
                    <a:pt x="54" y="46"/>
                  </a:lnTo>
                  <a:lnTo>
                    <a:pt x="52" y="48"/>
                  </a:lnTo>
                  <a:lnTo>
                    <a:pt x="52" y="50"/>
                  </a:lnTo>
                  <a:lnTo>
                    <a:pt x="52" y="52"/>
                  </a:lnTo>
                  <a:lnTo>
                    <a:pt x="50" y="54"/>
                  </a:lnTo>
                  <a:lnTo>
                    <a:pt x="50" y="56"/>
                  </a:lnTo>
                  <a:lnTo>
                    <a:pt x="50" y="60"/>
                  </a:lnTo>
                  <a:lnTo>
                    <a:pt x="50" y="62"/>
                  </a:lnTo>
                  <a:lnTo>
                    <a:pt x="50" y="64"/>
                  </a:lnTo>
                  <a:lnTo>
                    <a:pt x="50" y="68"/>
                  </a:lnTo>
                  <a:lnTo>
                    <a:pt x="50" y="70"/>
                  </a:lnTo>
                  <a:lnTo>
                    <a:pt x="52" y="72"/>
                  </a:lnTo>
                  <a:lnTo>
                    <a:pt x="52" y="74"/>
                  </a:lnTo>
                  <a:lnTo>
                    <a:pt x="52" y="76"/>
                  </a:lnTo>
                  <a:lnTo>
                    <a:pt x="54" y="78"/>
                  </a:lnTo>
                  <a:lnTo>
                    <a:pt x="54" y="80"/>
                  </a:lnTo>
                  <a:lnTo>
                    <a:pt x="54" y="82"/>
                  </a:lnTo>
                  <a:lnTo>
                    <a:pt x="56" y="82"/>
                  </a:lnTo>
                  <a:lnTo>
                    <a:pt x="56" y="84"/>
                  </a:lnTo>
                  <a:lnTo>
                    <a:pt x="58" y="84"/>
                  </a:lnTo>
                  <a:lnTo>
                    <a:pt x="60" y="86"/>
                  </a:lnTo>
                  <a:lnTo>
                    <a:pt x="62" y="86"/>
                  </a:lnTo>
                  <a:lnTo>
                    <a:pt x="64" y="86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68" y="84"/>
                  </a:lnTo>
                  <a:lnTo>
                    <a:pt x="70" y="84"/>
                  </a:lnTo>
                  <a:lnTo>
                    <a:pt x="72" y="82"/>
                  </a:lnTo>
                  <a:lnTo>
                    <a:pt x="74" y="80"/>
                  </a:lnTo>
                  <a:lnTo>
                    <a:pt x="74" y="78"/>
                  </a:lnTo>
                  <a:lnTo>
                    <a:pt x="76" y="78"/>
                  </a:lnTo>
                  <a:lnTo>
                    <a:pt x="76" y="76"/>
                  </a:lnTo>
                  <a:lnTo>
                    <a:pt x="76" y="74"/>
                  </a:lnTo>
                  <a:lnTo>
                    <a:pt x="96" y="74"/>
                  </a:lnTo>
                  <a:lnTo>
                    <a:pt x="96" y="76"/>
                  </a:lnTo>
                  <a:lnTo>
                    <a:pt x="96" y="80"/>
                  </a:lnTo>
                  <a:lnTo>
                    <a:pt x="94" y="82"/>
                  </a:lnTo>
                  <a:lnTo>
                    <a:pt x="94" y="84"/>
                  </a:lnTo>
                  <a:lnTo>
                    <a:pt x="92" y="86"/>
                  </a:lnTo>
                  <a:lnTo>
                    <a:pt x="90" y="88"/>
                  </a:lnTo>
                  <a:lnTo>
                    <a:pt x="88" y="90"/>
                  </a:lnTo>
                  <a:lnTo>
                    <a:pt x="86" y="92"/>
                  </a:lnTo>
                  <a:lnTo>
                    <a:pt x="84" y="94"/>
                  </a:lnTo>
                  <a:lnTo>
                    <a:pt x="82" y="96"/>
                  </a:lnTo>
                  <a:lnTo>
                    <a:pt x="80" y="98"/>
                  </a:lnTo>
                  <a:lnTo>
                    <a:pt x="78" y="98"/>
                  </a:lnTo>
                  <a:lnTo>
                    <a:pt x="74" y="100"/>
                  </a:lnTo>
                  <a:lnTo>
                    <a:pt x="72" y="100"/>
                  </a:lnTo>
                  <a:lnTo>
                    <a:pt x="68" y="100"/>
                  </a:lnTo>
                  <a:lnTo>
                    <a:pt x="64" y="100"/>
                  </a:lnTo>
                  <a:lnTo>
                    <a:pt x="60" y="100"/>
                  </a:lnTo>
                  <a:lnTo>
                    <a:pt x="56" y="100"/>
                  </a:lnTo>
                  <a:lnTo>
                    <a:pt x="54" y="98"/>
                  </a:lnTo>
                  <a:lnTo>
                    <a:pt x="50" y="98"/>
                  </a:lnTo>
                  <a:lnTo>
                    <a:pt x="48" y="96"/>
                  </a:lnTo>
                  <a:lnTo>
                    <a:pt x="44" y="94"/>
                  </a:lnTo>
                  <a:lnTo>
                    <a:pt x="42" y="92"/>
                  </a:lnTo>
                  <a:lnTo>
                    <a:pt x="40" y="90"/>
                  </a:lnTo>
                  <a:lnTo>
                    <a:pt x="38" y="88"/>
                  </a:lnTo>
                  <a:lnTo>
                    <a:pt x="36" y="84"/>
                  </a:lnTo>
                  <a:lnTo>
                    <a:pt x="34" y="82"/>
                  </a:lnTo>
                  <a:lnTo>
                    <a:pt x="32" y="78"/>
                  </a:lnTo>
                  <a:lnTo>
                    <a:pt x="32" y="74"/>
                  </a:lnTo>
                  <a:lnTo>
                    <a:pt x="30" y="70"/>
                  </a:lnTo>
                  <a:lnTo>
                    <a:pt x="30" y="66"/>
                  </a:lnTo>
                  <a:lnTo>
                    <a:pt x="30" y="62"/>
                  </a:lnTo>
                  <a:lnTo>
                    <a:pt x="30" y="58"/>
                  </a:lnTo>
                  <a:lnTo>
                    <a:pt x="30" y="54"/>
                  </a:lnTo>
                  <a:lnTo>
                    <a:pt x="32" y="50"/>
                  </a:lnTo>
                  <a:lnTo>
                    <a:pt x="32" y="46"/>
                  </a:lnTo>
                  <a:lnTo>
                    <a:pt x="34" y="44"/>
                  </a:lnTo>
                  <a:lnTo>
                    <a:pt x="36" y="40"/>
                  </a:lnTo>
                  <a:lnTo>
                    <a:pt x="38" y="38"/>
                  </a:lnTo>
                  <a:lnTo>
                    <a:pt x="40" y="34"/>
                  </a:lnTo>
                  <a:lnTo>
                    <a:pt x="42" y="32"/>
                  </a:lnTo>
                  <a:lnTo>
                    <a:pt x="44" y="30"/>
                  </a:lnTo>
                  <a:lnTo>
                    <a:pt x="48" y="28"/>
                  </a:lnTo>
                  <a:lnTo>
                    <a:pt x="50" y="26"/>
                  </a:lnTo>
                  <a:lnTo>
                    <a:pt x="54" y="26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64" y="24"/>
                  </a:lnTo>
                  <a:lnTo>
                    <a:pt x="68" y="24"/>
                  </a:lnTo>
                  <a:lnTo>
                    <a:pt x="70" y="24"/>
                  </a:lnTo>
                  <a:lnTo>
                    <a:pt x="74" y="24"/>
                  </a:lnTo>
                  <a:lnTo>
                    <a:pt x="76" y="26"/>
                  </a:lnTo>
                  <a:lnTo>
                    <a:pt x="80" y="26"/>
                  </a:lnTo>
                  <a:lnTo>
                    <a:pt x="82" y="28"/>
                  </a:lnTo>
                  <a:lnTo>
                    <a:pt x="84" y="30"/>
                  </a:lnTo>
                  <a:lnTo>
                    <a:pt x="86" y="32"/>
                  </a:lnTo>
                  <a:lnTo>
                    <a:pt x="88" y="34"/>
                  </a:lnTo>
                  <a:lnTo>
                    <a:pt x="90" y="36"/>
                  </a:lnTo>
                  <a:lnTo>
                    <a:pt x="92" y="38"/>
                  </a:lnTo>
                  <a:lnTo>
                    <a:pt x="92" y="40"/>
                  </a:lnTo>
                  <a:lnTo>
                    <a:pt x="94" y="42"/>
                  </a:lnTo>
                  <a:lnTo>
                    <a:pt x="94" y="44"/>
                  </a:lnTo>
                  <a:lnTo>
                    <a:pt x="96" y="48"/>
                  </a:lnTo>
                  <a:lnTo>
                    <a:pt x="96" y="50"/>
                  </a:lnTo>
                  <a:close/>
                  <a:moveTo>
                    <a:pt x="64" y="12"/>
                  </a:moveTo>
                  <a:lnTo>
                    <a:pt x="62" y="12"/>
                  </a:lnTo>
                  <a:lnTo>
                    <a:pt x="58" y="12"/>
                  </a:lnTo>
                  <a:lnTo>
                    <a:pt x="56" y="12"/>
                  </a:lnTo>
                  <a:lnTo>
                    <a:pt x="54" y="12"/>
                  </a:lnTo>
                  <a:lnTo>
                    <a:pt x="50" y="14"/>
                  </a:lnTo>
                  <a:lnTo>
                    <a:pt x="48" y="14"/>
                  </a:lnTo>
                  <a:lnTo>
                    <a:pt x="46" y="14"/>
                  </a:lnTo>
                  <a:lnTo>
                    <a:pt x="44" y="14"/>
                  </a:lnTo>
                  <a:lnTo>
                    <a:pt x="42" y="14"/>
                  </a:lnTo>
                  <a:lnTo>
                    <a:pt x="40" y="16"/>
                  </a:lnTo>
                  <a:lnTo>
                    <a:pt x="38" y="18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2" y="22"/>
                  </a:lnTo>
                  <a:lnTo>
                    <a:pt x="30" y="24"/>
                  </a:lnTo>
                  <a:lnTo>
                    <a:pt x="28" y="26"/>
                  </a:lnTo>
                  <a:lnTo>
                    <a:pt x="26" y="28"/>
                  </a:lnTo>
                  <a:lnTo>
                    <a:pt x="24" y="30"/>
                  </a:lnTo>
                  <a:lnTo>
                    <a:pt x="22" y="32"/>
                  </a:lnTo>
                  <a:lnTo>
                    <a:pt x="20" y="34"/>
                  </a:lnTo>
                  <a:lnTo>
                    <a:pt x="20" y="36"/>
                  </a:lnTo>
                  <a:lnTo>
                    <a:pt x="18" y="38"/>
                  </a:lnTo>
                  <a:lnTo>
                    <a:pt x="16" y="40"/>
                  </a:lnTo>
                  <a:lnTo>
                    <a:pt x="16" y="42"/>
                  </a:lnTo>
                  <a:lnTo>
                    <a:pt x="16" y="44"/>
                  </a:lnTo>
                  <a:lnTo>
                    <a:pt x="14" y="46"/>
                  </a:lnTo>
                  <a:lnTo>
                    <a:pt x="14" y="50"/>
                  </a:lnTo>
                  <a:lnTo>
                    <a:pt x="14" y="52"/>
                  </a:lnTo>
                  <a:lnTo>
                    <a:pt x="12" y="54"/>
                  </a:lnTo>
                  <a:lnTo>
                    <a:pt x="12" y="58"/>
                  </a:lnTo>
                  <a:lnTo>
                    <a:pt x="12" y="60"/>
                  </a:lnTo>
                  <a:lnTo>
                    <a:pt x="12" y="62"/>
                  </a:lnTo>
                  <a:lnTo>
                    <a:pt x="12" y="64"/>
                  </a:lnTo>
                  <a:lnTo>
                    <a:pt x="12" y="66"/>
                  </a:lnTo>
                  <a:lnTo>
                    <a:pt x="12" y="70"/>
                  </a:lnTo>
                  <a:lnTo>
                    <a:pt x="14" y="72"/>
                  </a:lnTo>
                  <a:lnTo>
                    <a:pt x="14" y="74"/>
                  </a:lnTo>
                  <a:lnTo>
                    <a:pt x="14" y="78"/>
                  </a:lnTo>
                  <a:lnTo>
                    <a:pt x="16" y="80"/>
                  </a:lnTo>
                  <a:lnTo>
                    <a:pt x="16" y="82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8"/>
                  </a:lnTo>
                  <a:lnTo>
                    <a:pt x="20" y="90"/>
                  </a:lnTo>
                  <a:lnTo>
                    <a:pt x="22" y="92"/>
                  </a:lnTo>
                  <a:lnTo>
                    <a:pt x="24" y="94"/>
                  </a:lnTo>
                  <a:lnTo>
                    <a:pt x="26" y="96"/>
                  </a:lnTo>
                  <a:lnTo>
                    <a:pt x="28" y="98"/>
                  </a:lnTo>
                  <a:lnTo>
                    <a:pt x="30" y="100"/>
                  </a:lnTo>
                  <a:lnTo>
                    <a:pt x="32" y="102"/>
                  </a:lnTo>
                  <a:lnTo>
                    <a:pt x="34" y="104"/>
                  </a:lnTo>
                  <a:lnTo>
                    <a:pt x="36" y="106"/>
                  </a:lnTo>
                  <a:lnTo>
                    <a:pt x="38" y="106"/>
                  </a:lnTo>
                  <a:lnTo>
                    <a:pt x="40" y="108"/>
                  </a:lnTo>
                  <a:lnTo>
                    <a:pt x="42" y="110"/>
                  </a:lnTo>
                  <a:lnTo>
                    <a:pt x="44" y="110"/>
                  </a:lnTo>
                  <a:lnTo>
                    <a:pt x="46" y="110"/>
                  </a:lnTo>
                  <a:lnTo>
                    <a:pt x="48" y="112"/>
                  </a:lnTo>
                  <a:lnTo>
                    <a:pt x="52" y="112"/>
                  </a:lnTo>
                  <a:lnTo>
                    <a:pt x="54" y="112"/>
                  </a:lnTo>
                  <a:lnTo>
                    <a:pt x="56" y="114"/>
                  </a:lnTo>
                  <a:lnTo>
                    <a:pt x="60" y="114"/>
                  </a:lnTo>
                  <a:lnTo>
                    <a:pt x="62" y="114"/>
                  </a:lnTo>
                  <a:lnTo>
                    <a:pt x="64" y="114"/>
                  </a:lnTo>
                  <a:lnTo>
                    <a:pt x="66" y="114"/>
                  </a:lnTo>
                  <a:lnTo>
                    <a:pt x="68" y="114"/>
                  </a:lnTo>
                  <a:lnTo>
                    <a:pt x="72" y="114"/>
                  </a:lnTo>
                  <a:lnTo>
                    <a:pt x="74" y="112"/>
                  </a:lnTo>
                  <a:lnTo>
                    <a:pt x="76" y="112"/>
                  </a:lnTo>
                  <a:lnTo>
                    <a:pt x="80" y="112"/>
                  </a:lnTo>
                  <a:lnTo>
                    <a:pt x="82" y="110"/>
                  </a:lnTo>
                  <a:lnTo>
                    <a:pt x="84" y="110"/>
                  </a:lnTo>
                  <a:lnTo>
                    <a:pt x="86" y="110"/>
                  </a:lnTo>
                  <a:lnTo>
                    <a:pt x="88" y="108"/>
                  </a:lnTo>
                  <a:lnTo>
                    <a:pt x="90" y="106"/>
                  </a:lnTo>
                  <a:lnTo>
                    <a:pt x="94" y="106"/>
                  </a:lnTo>
                  <a:lnTo>
                    <a:pt x="96" y="104"/>
                  </a:lnTo>
                  <a:lnTo>
                    <a:pt x="98" y="102"/>
                  </a:lnTo>
                  <a:lnTo>
                    <a:pt x="100" y="100"/>
                  </a:lnTo>
                  <a:lnTo>
                    <a:pt x="102" y="98"/>
                  </a:lnTo>
                  <a:lnTo>
                    <a:pt x="104" y="96"/>
                  </a:lnTo>
                  <a:lnTo>
                    <a:pt x="104" y="94"/>
                  </a:lnTo>
                  <a:lnTo>
                    <a:pt x="106" y="92"/>
                  </a:lnTo>
                  <a:lnTo>
                    <a:pt x="108" y="90"/>
                  </a:lnTo>
                  <a:lnTo>
                    <a:pt x="110" y="88"/>
                  </a:lnTo>
                  <a:lnTo>
                    <a:pt x="110" y="86"/>
                  </a:lnTo>
                  <a:lnTo>
                    <a:pt x="112" y="84"/>
                  </a:lnTo>
                  <a:lnTo>
                    <a:pt x="112" y="82"/>
                  </a:lnTo>
                  <a:lnTo>
                    <a:pt x="112" y="80"/>
                  </a:lnTo>
                  <a:lnTo>
                    <a:pt x="114" y="78"/>
                  </a:lnTo>
                  <a:lnTo>
                    <a:pt x="114" y="76"/>
                  </a:lnTo>
                  <a:lnTo>
                    <a:pt x="114" y="72"/>
                  </a:lnTo>
                  <a:lnTo>
                    <a:pt x="116" y="70"/>
                  </a:lnTo>
                  <a:lnTo>
                    <a:pt x="116" y="68"/>
                  </a:lnTo>
                  <a:lnTo>
                    <a:pt x="116" y="64"/>
                  </a:lnTo>
                  <a:lnTo>
                    <a:pt x="116" y="62"/>
                  </a:lnTo>
                  <a:lnTo>
                    <a:pt x="116" y="60"/>
                  </a:lnTo>
                  <a:lnTo>
                    <a:pt x="116" y="58"/>
                  </a:lnTo>
                  <a:lnTo>
                    <a:pt x="116" y="54"/>
                  </a:lnTo>
                  <a:lnTo>
                    <a:pt x="114" y="52"/>
                  </a:lnTo>
                  <a:lnTo>
                    <a:pt x="114" y="50"/>
                  </a:lnTo>
                  <a:lnTo>
                    <a:pt x="114" y="46"/>
                  </a:lnTo>
                  <a:lnTo>
                    <a:pt x="112" y="44"/>
                  </a:lnTo>
                  <a:lnTo>
                    <a:pt x="112" y="42"/>
                  </a:lnTo>
                  <a:lnTo>
                    <a:pt x="112" y="40"/>
                  </a:lnTo>
                  <a:lnTo>
                    <a:pt x="110" y="38"/>
                  </a:lnTo>
                  <a:lnTo>
                    <a:pt x="110" y="36"/>
                  </a:lnTo>
                  <a:lnTo>
                    <a:pt x="108" y="34"/>
                  </a:lnTo>
                  <a:lnTo>
                    <a:pt x="106" y="32"/>
                  </a:lnTo>
                  <a:lnTo>
                    <a:pt x="104" y="30"/>
                  </a:lnTo>
                  <a:lnTo>
                    <a:pt x="104" y="28"/>
                  </a:lnTo>
                  <a:lnTo>
                    <a:pt x="102" y="26"/>
                  </a:lnTo>
                  <a:lnTo>
                    <a:pt x="100" y="24"/>
                  </a:lnTo>
                  <a:lnTo>
                    <a:pt x="98" y="22"/>
                  </a:lnTo>
                  <a:lnTo>
                    <a:pt x="96" y="20"/>
                  </a:lnTo>
                  <a:lnTo>
                    <a:pt x="94" y="18"/>
                  </a:lnTo>
                  <a:lnTo>
                    <a:pt x="90" y="18"/>
                  </a:lnTo>
                  <a:lnTo>
                    <a:pt x="88" y="16"/>
                  </a:lnTo>
                  <a:lnTo>
                    <a:pt x="86" y="14"/>
                  </a:lnTo>
                  <a:lnTo>
                    <a:pt x="84" y="14"/>
                  </a:lnTo>
                  <a:lnTo>
                    <a:pt x="82" y="14"/>
                  </a:lnTo>
                  <a:lnTo>
                    <a:pt x="80" y="14"/>
                  </a:lnTo>
                  <a:lnTo>
                    <a:pt x="78" y="14"/>
                  </a:lnTo>
                  <a:lnTo>
                    <a:pt x="74" y="12"/>
                  </a:lnTo>
                  <a:lnTo>
                    <a:pt x="72" y="12"/>
                  </a:lnTo>
                  <a:lnTo>
                    <a:pt x="70" y="12"/>
                  </a:lnTo>
                  <a:lnTo>
                    <a:pt x="66" y="12"/>
                  </a:lnTo>
                  <a:lnTo>
                    <a:pt x="64" y="12"/>
                  </a:lnTo>
                  <a:close/>
                  <a:moveTo>
                    <a:pt x="64" y="0"/>
                  </a:moveTo>
                  <a:lnTo>
                    <a:pt x="68" y="0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76" y="2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6" y="4"/>
                  </a:lnTo>
                  <a:lnTo>
                    <a:pt x="88" y="4"/>
                  </a:lnTo>
                  <a:lnTo>
                    <a:pt x="90" y="6"/>
                  </a:lnTo>
                  <a:lnTo>
                    <a:pt x="94" y="6"/>
                  </a:lnTo>
                  <a:lnTo>
                    <a:pt x="96" y="8"/>
                  </a:lnTo>
                  <a:lnTo>
                    <a:pt x="100" y="10"/>
                  </a:lnTo>
                  <a:lnTo>
                    <a:pt x="102" y="12"/>
                  </a:lnTo>
                  <a:lnTo>
                    <a:pt x="106" y="12"/>
                  </a:lnTo>
                  <a:lnTo>
                    <a:pt x="108" y="14"/>
                  </a:lnTo>
                  <a:lnTo>
                    <a:pt x="110" y="16"/>
                  </a:lnTo>
                  <a:lnTo>
                    <a:pt x="112" y="18"/>
                  </a:lnTo>
                  <a:lnTo>
                    <a:pt x="114" y="20"/>
                  </a:lnTo>
                  <a:lnTo>
                    <a:pt x="116" y="24"/>
                  </a:lnTo>
                  <a:lnTo>
                    <a:pt x="118" y="26"/>
                  </a:lnTo>
                  <a:lnTo>
                    <a:pt x="120" y="30"/>
                  </a:lnTo>
                  <a:lnTo>
                    <a:pt x="120" y="32"/>
                  </a:lnTo>
                  <a:lnTo>
                    <a:pt x="122" y="36"/>
                  </a:lnTo>
                  <a:lnTo>
                    <a:pt x="124" y="38"/>
                  </a:lnTo>
                  <a:lnTo>
                    <a:pt x="124" y="40"/>
                  </a:lnTo>
                  <a:lnTo>
                    <a:pt x="126" y="44"/>
                  </a:lnTo>
                  <a:lnTo>
                    <a:pt x="126" y="46"/>
                  </a:lnTo>
                  <a:lnTo>
                    <a:pt x="126" y="50"/>
                  </a:lnTo>
                  <a:lnTo>
                    <a:pt x="128" y="52"/>
                  </a:lnTo>
                  <a:lnTo>
                    <a:pt x="128" y="56"/>
                  </a:lnTo>
                  <a:lnTo>
                    <a:pt x="128" y="58"/>
                  </a:lnTo>
                  <a:lnTo>
                    <a:pt x="128" y="62"/>
                  </a:lnTo>
                  <a:lnTo>
                    <a:pt x="128" y="64"/>
                  </a:lnTo>
                  <a:lnTo>
                    <a:pt x="128" y="68"/>
                  </a:lnTo>
                  <a:lnTo>
                    <a:pt x="128" y="70"/>
                  </a:lnTo>
                  <a:lnTo>
                    <a:pt x="126" y="74"/>
                  </a:lnTo>
                  <a:lnTo>
                    <a:pt x="126" y="76"/>
                  </a:lnTo>
                  <a:lnTo>
                    <a:pt x="126" y="80"/>
                  </a:lnTo>
                  <a:lnTo>
                    <a:pt x="124" y="82"/>
                  </a:lnTo>
                  <a:lnTo>
                    <a:pt x="124" y="86"/>
                  </a:lnTo>
                  <a:lnTo>
                    <a:pt x="122" y="88"/>
                  </a:lnTo>
                  <a:lnTo>
                    <a:pt x="120" y="92"/>
                  </a:lnTo>
                  <a:lnTo>
                    <a:pt x="120" y="94"/>
                  </a:lnTo>
                  <a:lnTo>
                    <a:pt x="118" y="98"/>
                  </a:lnTo>
                  <a:lnTo>
                    <a:pt x="116" y="100"/>
                  </a:lnTo>
                  <a:lnTo>
                    <a:pt x="114" y="102"/>
                  </a:lnTo>
                  <a:lnTo>
                    <a:pt x="112" y="104"/>
                  </a:lnTo>
                  <a:lnTo>
                    <a:pt x="110" y="106"/>
                  </a:lnTo>
                  <a:lnTo>
                    <a:pt x="108" y="108"/>
                  </a:lnTo>
                  <a:lnTo>
                    <a:pt x="106" y="112"/>
                  </a:lnTo>
                  <a:lnTo>
                    <a:pt x="102" y="114"/>
                  </a:lnTo>
                  <a:lnTo>
                    <a:pt x="100" y="116"/>
                  </a:lnTo>
                  <a:lnTo>
                    <a:pt x="96" y="118"/>
                  </a:lnTo>
                  <a:lnTo>
                    <a:pt x="94" y="118"/>
                  </a:lnTo>
                  <a:lnTo>
                    <a:pt x="90" y="120"/>
                  </a:lnTo>
                  <a:lnTo>
                    <a:pt x="88" y="122"/>
                  </a:lnTo>
                  <a:lnTo>
                    <a:pt x="86" y="122"/>
                  </a:lnTo>
                  <a:lnTo>
                    <a:pt x="82" y="124"/>
                  </a:lnTo>
                  <a:lnTo>
                    <a:pt x="80" y="124"/>
                  </a:lnTo>
                  <a:lnTo>
                    <a:pt x="76" y="124"/>
                  </a:lnTo>
                  <a:lnTo>
                    <a:pt x="74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4" y="126"/>
                  </a:lnTo>
                  <a:lnTo>
                    <a:pt x="62" y="126"/>
                  </a:lnTo>
                  <a:lnTo>
                    <a:pt x="58" y="126"/>
                  </a:lnTo>
                  <a:lnTo>
                    <a:pt x="56" y="126"/>
                  </a:lnTo>
                  <a:lnTo>
                    <a:pt x="52" y="124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4" y="122"/>
                  </a:lnTo>
                  <a:lnTo>
                    <a:pt x="40" y="122"/>
                  </a:lnTo>
                  <a:lnTo>
                    <a:pt x="38" y="120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6"/>
                  </a:lnTo>
                  <a:lnTo>
                    <a:pt x="26" y="114"/>
                  </a:lnTo>
                  <a:lnTo>
                    <a:pt x="22" y="112"/>
                  </a:lnTo>
                  <a:lnTo>
                    <a:pt x="20" y="110"/>
                  </a:lnTo>
                  <a:lnTo>
                    <a:pt x="18" y="108"/>
                  </a:lnTo>
                  <a:lnTo>
                    <a:pt x="16" y="106"/>
                  </a:lnTo>
                  <a:lnTo>
                    <a:pt x="14" y="102"/>
                  </a:lnTo>
                  <a:lnTo>
                    <a:pt x="12" y="100"/>
                  </a:lnTo>
                  <a:lnTo>
                    <a:pt x="10" y="96"/>
                  </a:lnTo>
                  <a:lnTo>
                    <a:pt x="8" y="94"/>
                  </a:lnTo>
                  <a:lnTo>
                    <a:pt x="8" y="92"/>
                  </a:lnTo>
                  <a:lnTo>
                    <a:pt x="6" y="88"/>
                  </a:lnTo>
                  <a:lnTo>
                    <a:pt x="4" y="86"/>
                  </a:lnTo>
                  <a:lnTo>
                    <a:pt x="4" y="82"/>
                  </a:lnTo>
                  <a:lnTo>
                    <a:pt x="2" y="80"/>
                  </a:lnTo>
                  <a:lnTo>
                    <a:pt x="2" y="76"/>
                  </a:lnTo>
                  <a:lnTo>
                    <a:pt x="2" y="74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6" y="36"/>
                  </a:lnTo>
                  <a:lnTo>
                    <a:pt x="8" y="32"/>
                  </a:lnTo>
                  <a:lnTo>
                    <a:pt x="8" y="30"/>
                  </a:lnTo>
                  <a:lnTo>
                    <a:pt x="10" y="26"/>
                  </a:lnTo>
                  <a:lnTo>
                    <a:pt x="12" y="24"/>
                  </a:lnTo>
                  <a:lnTo>
                    <a:pt x="14" y="20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2" y="14"/>
                  </a:lnTo>
                  <a:lnTo>
                    <a:pt x="24" y="12"/>
                  </a:lnTo>
                  <a:lnTo>
                    <a:pt x="26" y="1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8" y="6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6" y="2"/>
                  </a:lnTo>
                  <a:lnTo>
                    <a:pt x="50" y="2"/>
                  </a:lnTo>
                  <a:lnTo>
                    <a:pt x="52" y="2"/>
                  </a:lnTo>
                  <a:lnTo>
                    <a:pt x="56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" name=""/>
          <p:cNvGraphicFramePr/>
          <p:nvPr/>
        </p:nvGraphicFramePr>
        <p:xfrm>
          <a:off x="179280" y="5516640"/>
          <a:ext cx="990720" cy="113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5516640"/>
                    <a:ext cx="990720" cy="11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2050920" y="836640"/>
          <a:ext cx="5040360" cy="489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0920" y="836640"/>
                    <a:ext cx="504036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1065240" y="990720"/>
            <a:ext cx="7012080" cy="1501200"/>
            <a:chOff x="1065240" y="990720"/>
            <a:chExt cx="7012080" cy="1501200"/>
          </a:xfrm>
        </p:grpSpPr>
        <p:sp>
          <p:nvSpPr>
            <p:cNvPr id="59" name=""/>
            <p:cNvSpPr/>
            <p:nvPr/>
          </p:nvSpPr>
          <p:spPr>
            <a:xfrm>
              <a:off x="159696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6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30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8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9" y="96"/>
                  </a:lnTo>
                  <a:lnTo>
                    <a:pt x="412" y="107"/>
                  </a:lnTo>
                  <a:lnTo>
                    <a:pt x="413" y="117"/>
                  </a:lnTo>
                  <a:lnTo>
                    <a:pt x="412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80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9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80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69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5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7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4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10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78596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5" h="460">
                  <a:moveTo>
                    <a:pt x="237" y="0"/>
                  </a:moveTo>
                  <a:lnTo>
                    <a:pt x="249" y="1"/>
                  </a:lnTo>
                  <a:lnTo>
                    <a:pt x="260" y="1"/>
                  </a:lnTo>
                  <a:lnTo>
                    <a:pt x="271" y="3"/>
                  </a:lnTo>
                  <a:lnTo>
                    <a:pt x="281" y="6"/>
                  </a:lnTo>
                  <a:lnTo>
                    <a:pt x="291" y="8"/>
                  </a:lnTo>
                  <a:lnTo>
                    <a:pt x="300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3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3" y="45"/>
                  </a:lnTo>
                  <a:lnTo>
                    <a:pt x="344" y="49"/>
                  </a:lnTo>
                  <a:lnTo>
                    <a:pt x="345" y="52"/>
                  </a:lnTo>
                  <a:lnTo>
                    <a:pt x="344" y="55"/>
                  </a:lnTo>
                  <a:lnTo>
                    <a:pt x="342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4" y="65"/>
                  </a:lnTo>
                  <a:lnTo>
                    <a:pt x="314" y="67"/>
                  </a:lnTo>
                  <a:lnTo>
                    <a:pt x="304" y="70"/>
                  </a:lnTo>
                  <a:lnTo>
                    <a:pt x="291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7" y="78"/>
                  </a:lnTo>
                  <a:lnTo>
                    <a:pt x="201" y="80"/>
                  </a:lnTo>
                  <a:lnTo>
                    <a:pt x="184" y="80"/>
                  </a:lnTo>
                  <a:lnTo>
                    <a:pt x="166" y="80"/>
                  </a:lnTo>
                  <a:lnTo>
                    <a:pt x="145" y="80"/>
                  </a:lnTo>
                  <a:lnTo>
                    <a:pt x="142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1" y="187"/>
                  </a:lnTo>
                  <a:lnTo>
                    <a:pt x="123" y="187"/>
                  </a:lnTo>
                  <a:lnTo>
                    <a:pt x="131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5" y="184"/>
                  </a:lnTo>
                  <a:lnTo>
                    <a:pt x="164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8" y="182"/>
                  </a:lnTo>
                  <a:lnTo>
                    <a:pt x="207" y="182"/>
                  </a:lnTo>
                  <a:lnTo>
                    <a:pt x="215" y="181"/>
                  </a:lnTo>
                  <a:lnTo>
                    <a:pt x="223" y="181"/>
                  </a:lnTo>
                  <a:lnTo>
                    <a:pt x="229" y="181"/>
                  </a:lnTo>
                  <a:lnTo>
                    <a:pt x="236" y="181"/>
                  </a:lnTo>
                  <a:lnTo>
                    <a:pt x="243" y="181"/>
                  </a:lnTo>
                  <a:lnTo>
                    <a:pt x="248" y="181"/>
                  </a:lnTo>
                  <a:lnTo>
                    <a:pt x="257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1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2" y="186"/>
                  </a:lnTo>
                  <a:lnTo>
                    <a:pt x="308" y="188"/>
                  </a:lnTo>
                  <a:lnTo>
                    <a:pt x="313" y="190"/>
                  </a:lnTo>
                  <a:lnTo>
                    <a:pt x="319" y="191"/>
                  </a:lnTo>
                  <a:lnTo>
                    <a:pt x="323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2" y="199"/>
                  </a:lnTo>
                  <a:lnTo>
                    <a:pt x="334" y="200"/>
                  </a:lnTo>
                  <a:lnTo>
                    <a:pt x="335" y="202"/>
                  </a:lnTo>
                  <a:lnTo>
                    <a:pt x="336" y="204"/>
                  </a:lnTo>
                  <a:lnTo>
                    <a:pt x="336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2" y="219"/>
                  </a:lnTo>
                  <a:lnTo>
                    <a:pt x="343" y="220"/>
                  </a:lnTo>
                  <a:lnTo>
                    <a:pt x="343" y="222"/>
                  </a:lnTo>
                  <a:lnTo>
                    <a:pt x="344" y="224"/>
                  </a:lnTo>
                  <a:lnTo>
                    <a:pt x="344" y="225"/>
                  </a:lnTo>
                  <a:lnTo>
                    <a:pt x="344" y="226"/>
                  </a:lnTo>
                  <a:lnTo>
                    <a:pt x="345" y="227"/>
                  </a:lnTo>
                  <a:lnTo>
                    <a:pt x="345" y="229"/>
                  </a:lnTo>
                  <a:lnTo>
                    <a:pt x="345" y="229"/>
                  </a:lnTo>
                  <a:lnTo>
                    <a:pt x="345" y="231"/>
                  </a:lnTo>
                  <a:lnTo>
                    <a:pt x="344" y="232"/>
                  </a:lnTo>
                  <a:lnTo>
                    <a:pt x="343" y="234"/>
                  </a:lnTo>
                  <a:lnTo>
                    <a:pt x="342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6" y="240"/>
                  </a:lnTo>
                  <a:lnTo>
                    <a:pt x="334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4" y="244"/>
                  </a:lnTo>
                  <a:lnTo>
                    <a:pt x="321" y="245"/>
                  </a:lnTo>
                  <a:lnTo>
                    <a:pt x="317" y="245"/>
                  </a:lnTo>
                  <a:lnTo>
                    <a:pt x="312" y="246"/>
                  </a:lnTo>
                  <a:lnTo>
                    <a:pt x="308" y="246"/>
                  </a:lnTo>
                  <a:lnTo>
                    <a:pt x="303" y="246"/>
                  </a:lnTo>
                  <a:lnTo>
                    <a:pt x="293" y="247"/>
                  </a:lnTo>
                  <a:lnTo>
                    <a:pt x="282" y="248"/>
                  </a:lnTo>
                  <a:lnTo>
                    <a:pt x="272" y="250"/>
                  </a:lnTo>
                  <a:lnTo>
                    <a:pt x="261" y="250"/>
                  </a:lnTo>
                  <a:lnTo>
                    <a:pt x="250" y="251"/>
                  </a:lnTo>
                  <a:lnTo>
                    <a:pt x="239" y="252"/>
                  </a:lnTo>
                  <a:lnTo>
                    <a:pt x="228" y="253"/>
                  </a:lnTo>
                  <a:lnTo>
                    <a:pt x="217" y="253"/>
                  </a:lnTo>
                  <a:lnTo>
                    <a:pt x="206" y="254"/>
                  </a:lnTo>
                  <a:lnTo>
                    <a:pt x="196" y="255"/>
                  </a:lnTo>
                  <a:lnTo>
                    <a:pt x="185" y="255"/>
                  </a:lnTo>
                  <a:lnTo>
                    <a:pt x="176" y="255"/>
                  </a:lnTo>
                  <a:lnTo>
                    <a:pt x="168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2" y="256"/>
                  </a:lnTo>
                  <a:lnTo>
                    <a:pt x="137" y="256"/>
                  </a:lnTo>
                  <a:lnTo>
                    <a:pt x="132" y="256"/>
                  </a:lnTo>
                  <a:lnTo>
                    <a:pt x="128" y="257"/>
                  </a:lnTo>
                  <a:lnTo>
                    <a:pt x="123" y="257"/>
                  </a:lnTo>
                  <a:lnTo>
                    <a:pt x="120" y="258"/>
                  </a:lnTo>
                  <a:lnTo>
                    <a:pt x="117" y="258"/>
                  </a:lnTo>
                  <a:lnTo>
                    <a:pt x="113" y="259"/>
                  </a:lnTo>
                  <a:lnTo>
                    <a:pt x="111" y="261"/>
                  </a:lnTo>
                  <a:lnTo>
                    <a:pt x="110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8" y="374"/>
                  </a:lnTo>
                  <a:lnTo>
                    <a:pt x="99" y="378"/>
                  </a:lnTo>
                  <a:lnTo>
                    <a:pt x="99" y="380"/>
                  </a:lnTo>
                  <a:lnTo>
                    <a:pt x="101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0" y="387"/>
                  </a:lnTo>
                  <a:lnTo>
                    <a:pt x="122" y="387"/>
                  </a:lnTo>
                  <a:lnTo>
                    <a:pt x="126" y="387"/>
                  </a:lnTo>
                  <a:lnTo>
                    <a:pt x="130" y="386"/>
                  </a:lnTo>
                  <a:lnTo>
                    <a:pt x="137" y="386"/>
                  </a:lnTo>
                  <a:lnTo>
                    <a:pt x="145" y="385"/>
                  </a:lnTo>
                  <a:lnTo>
                    <a:pt x="155" y="384"/>
                  </a:lnTo>
                  <a:lnTo>
                    <a:pt x="168" y="383"/>
                  </a:lnTo>
                  <a:lnTo>
                    <a:pt x="181" y="382"/>
                  </a:lnTo>
                  <a:lnTo>
                    <a:pt x="194" y="381"/>
                  </a:lnTo>
                  <a:lnTo>
                    <a:pt x="206" y="380"/>
                  </a:lnTo>
                  <a:lnTo>
                    <a:pt x="217" y="379"/>
                  </a:lnTo>
                  <a:lnTo>
                    <a:pt x="226" y="378"/>
                  </a:lnTo>
                  <a:lnTo>
                    <a:pt x="234" y="376"/>
                  </a:lnTo>
                  <a:lnTo>
                    <a:pt x="240" y="376"/>
                  </a:lnTo>
                  <a:lnTo>
                    <a:pt x="246" y="376"/>
                  </a:lnTo>
                  <a:lnTo>
                    <a:pt x="249" y="376"/>
                  </a:lnTo>
                  <a:lnTo>
                    <a:pt x="257" y="376"/>
                  </a:lnTo>
                  <a:lnTo>
                    <a:pt x="265" y="378"/>
                  </a:lnTo>
                  <a:lnTo>
                    <a:pt x="272" y="379"/>
                  </a:lnTo>
                  <a:lnTo>
                    <a:pt x="280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2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2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4" y="412"/>
                  </a:lnTo>
                  <a:lnTo>
                    <a:pt x="336" y="415"/>
                  </a:lnTo>
                  <a:lnTo>
                    <a:pt x="339" y="418"/>
                  </a:lnTo>
                  <a:lnTo>
                    <a:pt x="339" y="422"/>
                  </a:lnTo>
                  <a:lnTo>
                    <a:pt x="339" y="426"/>
                  </a:lnTo>
                  <a:lnTo>
                    <a:pt x="336" y="429"/>
                  </a:lnTo>
                  <a:lnTo>
                    <a:pt x="334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1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7" y="447"/>
                  </a:lnTo>
                  <a:lnTo>
                    <a:pt x="219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1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0" y="459"/>
                  </a:lnTo>
                  <a:lnTo>
                    <a:pt x="95" y="459"/>
                  </a:lnTo>
                  <a:lnTo>
                    <a:pt x="90" y="460"/>
                  </a:lnTo>
                  <a:lnTo>
                    <a:pt x="87" y="460"/>
                  </a:lnTo>
                  <a:lnTo>
                    <a:pt x="80" y="460"/>
                  </a:lnTo>
                  <a:lnTo>
                    <a:pt x="75" y="459"/>
                  </a:lnTo>
                  <a:lnTo>
                    <a:pt x="67" y="458"/>
                  </a:lnTo>
                  <a:lnTo>
                    <a:pt x="60" y="457"/>
                  </a:lnTo>
                  <a:lnTo>
                    <a:pt x="54" y="456"/>
                  </a:lnTo>
                  <a:lnTo>
                    <a:pt x="46" y="455"/>
                  </a:lnTo>
                  <a:lnTo>
                    <a:pt x="38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7" y="444"/>
                  </a:lnTo>
                  <a:lnTo>
                    <a:pt x="12" y="440"/>
                  </a:lnTo>
                  <a:lnTo>
                    <a:pt x="7" y="437"/>
                  </a:lnTo>
                  <a:lnTo>
                    <a:pt x="4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3" y="257"/>
                  </a:lnTo>
                  <a:lnTo>
                    <a:pt x="4" y="243"/>
                  </a:lnTo>
                  <a:lnTo>
                    <a:pt x="4" y="229"/>
                  </a:lnTo>
                  <a:lnTo>
                    <a:pt x="5" y="215"/>
                  </a:lnTo>
                  <a:lnTo>
                    <a:pt x="6" y="202"/>
                  </a:lnTo>
                  <a:lnTo>
                    <a:pt x="7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3" y="138"/>
                  </a:lnTo>
                  <a:lnTo>
                    <a:pt x="14" y="126"/>
                  </a:lnTo>
                  <a:lnTo>
                    <a:pt x="16" y="113"/>
                  </a:lnTo>
                  <a:lnTo>
                    <a:pt x="17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4" y="63"/>
                  </a:lnTo>
                  <a:lnTo>
                    <a:pt x="26" y="52"/>
                  </a:lnTo>
                  <a:lnTo>
                    <a:pt x="28" y="42"/>
                  </a:lnTo>
                  <a:lnTo>
                    <a:pt x="31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5" y="19"/>
                  </a:lnTo>
                  <a:lnTo>
                    <a:pt x="37" y="16"/>
                  </a:lnTo>
                  <a:lnTo>
                    <a:pt x="38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5" y="10"/>
                  </a:lnTo>
                  <a:lnTo>
                    <a:pt x="47" y="9"/>
                  </a:lnTo>
                  <a:lnTo>
                    <a:pt x="51" y="9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6" y="8"/>
                  </a:lnTo>
                  <a:lnTo>
                    <a:pt x="68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7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8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0" y="8"/>
                  </a:lnTo>
                  <a:lnTo>
                    <a:pt x="105" y="8"/>
                  </a:lnTo>
                  <a:lnTo>
                    <a:pt x="111" y="8"/>
                  </a:lnTo>
                  <a:lnTo>
                    <a:pt x="119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1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7" y="0"/>
                  </a:lnTo>
                  <a:lnTo>
                    <a:pt x="233" y="0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40040" y="2298600"/>
              <a:ext cx="156960" cy="193320"/>
            </a:xfrm>
            <a:custGeom>
              <a:avLst/>
              <a:gdLst/>
              <a:ahLst/>
              <a:rect l="l" t="t" r="r" b="b"/>
              <a:pathLst>
                <a:path w="394" h="489">
                  <a:moveTo>
                    <a:pt x="156" y="145"/>
                  </a:moveTo>
                  <a:lnTo>
                    <a:pt x="157" y="152"/>
                  </a:lnTo>
                  <a:lnTo>
                    <a:pt x="159" y="161"/>
                  </a:lnTo>
                  <a:lnTo>
                    <a:pt x="164" y="169"/>
                  </a:lnTo>
                  <a:lnTo>
                    <a:pt x="170" y="177"/>
                  </a:lnTo>
                  <a:lnTo>
                    <a:pt x="178" y="185"/>
                  </a:lnTo>
                  <a:lnTo>
                    <a:pt x="188" y="194"/>
                  </a:lnTo>
                  <a:lnTo>
                    <a:pt x="199" y="203"/>
                  </a:lnTo>
                  <a:lnTo>
                    <a:pt x="213" y="212"/>
                  </a:lnTo>
                  <a:lnTo>
                    <a:pt x="227" y="221"/>
                  </a:lnTo>
                  <a:lnTo>
                    <a:pt x="241" y="230"/>
                  </a:lnTo>
                  <a:lnTo>
                    <a:pt x="255" y="238"/>
                  </a:lnTo>
                  <a:lnTo>
                    <a:pt x="269" y="247"/>
                  </a:lnTo>
                  <a:lnTo>
                    <a:pt x="283" y="256"/>
                  </a:lnTo>
                  <a:lnTo>
                    <a:pt x="297" y="265"/>
                  </a:lnTo>
                  <a:lnTo>
                    <a:pt x="310" y="274"/>
                  </a:lnTo>
                  <a:lnTo>
                    <a:pt x="324" y="281"/>
                  </a:lnTo>
                  <a:lnTo>
                    <a:pt x="338" y="294"/>
                  </a:lnTo>
                  <a:lnTo>
                    <a:pt x="350" y="305"/>
                  </a:lnTo>
                  <a:lnTo>
                    <a:pt x="361" y="317"/>
                  </a:lnTo>
                  <a:lnTo>
                    <a:pt x="369" y="329"/>
                  </a:lnTo>
                  <a:lnTo>
                    <a:pt x="376" y="341"/>
                  </a:lnTo>
                  <a:lnTo>
                    <a:pt x="380" y="352"/>
                  </a:lnTo>
                  <a:lnTo>
                    <a:pt x="383" y="364"/>
                  </a:lnTo>
                  <a:lnTo>
                    <a:pt x="384" y="376"/>
                  </a:lnTo>
                  <a:lnTo>
                    <a:pt x="383" y="384"/>
                  </a:lnTo>
                  <a:lnTo>
                    <a:pt x="381" y="392"/>
                  </a:lnTo>
                  <a:lnTo>
                    <a:pt x="378" y="401"/>
                  </a:lnTo>
                  <a:lnTo>
                    <a:pt x="373" y="408"/>
                  </a:lnTo>
                  <a:lnTo>
                    <a:pt x="368" y="418"/>
                  </a:lnTo>
                  <a:lnTo>
                    <a:pt x="360" y="427"/>
                  </a:lnTo>
                  <a:lnTo>
                    <a:pt x="352" y="437"/>
                  </a:lnTo>
                  <a:lnTo>
                    <a:pt x="343" y="447"/>
                  </a:lnTo>
                  <a:lnTo>
                    <a:pt x="331" y="457"/>
                  </a:lnTo>
                  <a:lnTo>
                    <a:pt x="319" y="466"/>
                  </a:lnTo>
                  <a:lnTo>
                    <a:pt x="307" y="473"/>
                  </a:lnTo>
                  <a:lnTo>
                    <a:pt x="295" y="479"/>
                  </a:lnTo>
                  <a:lnTo>
                    <a:pt x="281" y="483"/>
                  </a:lnTo>
                  <a:lnTo>
                    <a:pt x="266" y="487"/>
                  </a:lnTo>
                  <a:lnTo>
                    <a:pt x="251" y="489"/>
                  </a:lnTo>
                  <a:lnTo>
                    <a:pt x="235" y="489"/>
                  </a:lnTo>
                  <a:lnTo>
                    <a:pt x="216" y="489"/>
                  </a:lnTo>
                  <a:lnTo>
                    <a:pt x="196" y="487"/>
                  </a:lnTo>
                  <a:lnTo>
                    <a:pt x="176" y="483"/>
                  </a:lnTo>
                  <a:lnTo>
                    <a:pt x="156" y="478"/>
                  </a:lnTo>
                  <a:lnTo>
                    <a:pt x="137" y="471"/>
                  </a:lnTo>
                  <a:lnTo>
                    <a:pt x="117" y="464"/>
                  </a:lnTo>
                  <a:lnTo>
                    <a:pt x="97" y="455"/>
                  </a:lnTo>
                  <a:lnTo>
                    <a:pt x="79" y="444"/>
                  </a:lnTo>
                  <a:lnTo>
                    <a:pt x="60" y="433"/>
                  </a:lnTo>
                  <a:lnTo>
                    <a:pt x="44" y="422"/>
                  </a:lnTo>
                  <a:lnTo>
                    <a:pt x="31" y="412"/>
                  </a:lnTo>
                  <a:lnTo>
                    <a:pt x="20" y="402"/>
                  </a:lnTo>
                  <a:lnTo>
                    <a:pt x="11" y="394"/>
                  </a:lnTo>
                  <a:lnTo>
                    <a:pt x="6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1" y="364"/>
                  </a:lnTo>
                  <a:lnTo>
                    <a:pt x="1" y="361"/>
                  </a:lnTo>
                  <a:lnTo>
                    <a:pt x="1" y="359"/>
                  </a:lnTo>
                  <a:lnTo>
                    <a:pt x="2" y="355"/>
                  </a:lnTo>
                  <a:lnTo>
                    <a:pt x="2" y="352"/>
                  </a:lnTo>
                  <a:lnTo>
                    <a:pt x="4" y="349"/>
                  </a:lnTo>
                  <a:lnTo>
                    <a:pt x="5" y="345"/>
                  </a:lnTo>
                  <a:lnTo>
                    <a:pt x="6" y="343"/>
                  </a:lnTo>
                  <a:lnTo>
                    <a:pt x="7" y="340"/>
                  </a:lnTo>
                  <a:lnTo>
                    <a:pt x="9" y="338"/>
                  </a:lnTo>
                  <a:lnTo>
                    <a:pt x="11" y="337"/>
                  </a:lnTo>
                  <a:lnTo>
                    <a:pt x="15" y="334"/>
                  </a:lnTo>
                  <a:lnTo>
                    <a:pt x="18" y="333"/>
                  </a:lnTo>
                  <a:lnTo>
                    <a:pt x="21" y="333"/>
                  </a:lnTo>
                  <a:lnTo>
                    <a:pt x="26" y="333"/>
                  </a:lnTo>
                  <a:lnTo>
                    <a:pt x="31" y="333"/>
                  </a:lnTo>
                  <a:lnTo>
                    <a:pt x="38" y="336"/>
                  </a:lnTo>
                  <a:lnTo>
                    <a:pt x="46" y="339"/>
                  </a:lnTo>
                  <a:lnTo>
                    <a:pt x="55" y="342"/>
                  </a:lnTo>
                  <a:lnTo>
                    <a:pt x="65" y="348"/>
                  </a:lnTo>
                  <a:lnTo>
                    <a:pt x="78" y="354"/>
                  </a:lnTo>
                  <a:lnTo>
                    <a:pt x="90" y="362"/>
                  </a:lnTo>
                  <a:lnTo>
                    <a:pt x="104" y="370"/>
                  </a:lnTo>
                  <a:lnTo>
                    <a:pt x="118" y="379"/>
                  </a:lnTo>
                  <a:lnTo>
                    <a:pt x="133" y="386"/>
                  </a:lnTo>
                  <a:lnTo>
                    <a:pt x="146" y="393"/>
                  </a:lnTo>
                  <a:lnTo>
                    <a:pt x="159" y="398"/>
                  </a:lnTo>
                  <a:lnTo>
                    <a:pt x="172" y="402"/>
                  </a:lnTo>
                  <a:lnTo>
                    <a:pt x="184" y="405"/>
                  </a:lnTo>
                  <a:lnTo>
                    <a:pt x="196" y="407"/>
                  </a:lnTo>
                  <a:lnTo>
                    <a:pt x="207" y="407"/>
                  </a:lnTo>
                  <a:lnTo>
                    <a:pt x="217" y="407"/>
                  </a:lnTo>
                  <a:lnTo>
                    <a:pt x="225" y="405"/>
                  </a:lnTo>
                  <a:lnTo>
                    <a:pt x="233" y="403"/>
                  </a:lnTo>
                  <a:lnTo>
                    <a:pt x="239" y="400"/>
                  </a:lnTo>
                  <a:lnTo>
                    <a:pt x="243" y="395"/>
                  </a:lnTo>
                  <a:lnTo>
                    <a:pt x="246" y="388"/>
                  </a:lnTo>
                  <a:lnTo>
                    <a:pt x="249" y="382"/>
                  </a:lnTo>
                  <a:lnTo>
                    <a:pt x="250" y="374"/>
                  </a:lnTo>
                  <a:lnTo>
                    <a:pt x="249" y="365"/>
                  </a:lnTo>
                  <a:lnTo>
                    <a:pt x="246" y="355"/>
                  </a:lnTo>
                  <a:lnTo>
                    <a:pt x="242" y="345"/>
                  </a:lnTo>
                  <a:lnTo>
                    <a:pt x="237" y="337"/>
                  </a:lnTo>
                  <a:lnTo>
                    <a:pt x="229" y="327"/>
                  </a:lnTo>
                  <a:lnTo>
                    <a:pt x="220" y="318"/>
                  </a:lnTo>
                  <a:lnTo>
                    <a:pt x="209" y="308"/>
                  </a:lnTo>
                  <a:lnTo>
                    <a:pt x="197" y="299"/>
                  </a:lnTo>
                  <a:lnTo>
                    <a:pt x="185" y="291"/>
                  </a:lnTo>
                  <a:lnTo>
                    <a:pt x="171" y="284"/>
                  </a:lnTo>
                  <a:lnTo>
                    <a:pt x="159" y="275"/>
                  </a:lnTo>
                  <a:lnTo>
                    <a:pt x="147" y="267"/>
                  </a:lnTo>
                  <a:lnTo>
                    <a:pt x="135" y="259"/>
                  </a:lnTo>
                  <a:lnTo>
                    <a:pt x="122" y="252"/>
                  </a:lnTo>
                  <a:lnTo>
                    <a:pt x="110" y="243"/>
                  </a:lnTo>
                  <a:lnTo>
                    <a:pt x="97" y="235"/>
                  </a:lnTo>
                  <a:lnTo>
                    <a:pt x="85" y="225"/>
                  </a:lnTo>
                  <a:lnTo>
                    <a:pt x="74" y="214"/>
                  </a:lnTo>
                  <a:lnTo>
                    <a:pt x="65" y="203"/>
                  </a:lnTo>
                  <a:lnTo>
                    <a:pt x="58" y="191"/>
                  </a:lnTo>
                  <a:lnTo>
                    <a:pt x="52" y="180"/>
                  </a:lnTo>
                  <a:lnTo>
                    <a:pt x="48" y="168"/>
                  </a:lnTo>
                  <a:lnTo>
                    <a:pt x="44" y="156"/>
                  </a:lnTo>
                  <a:lnTo>
                    <a:pt x="44" y="143"/>
                  </a:lnTo>
                  <a:lnTo>
                    <a:pt x="44" y="132"/>
                  </a:lnTo>
                  <a:lnTo>
                    <a:pt x="48" y="120"/>
                  </a:lnTo>
                  <a:lnTo>
                    <a:pt x="52" y="109"/>
                  </a:lnTo>
                  <a:lnTo>
                    <a:pt x="58" y="97"/>
                  </a:lnTo>
                  <a:lnTo>
                    <a:pt x="65" y="86"/>
                  </a:lnTo>
                  <a:lnTo>
                    <a:pt x="74" y="74"/>
                  </a:lnTo>
                  <a:lnTo>
                    <a:pt x="85" y="62"/>
                  </a:lnTo>
                  <a:lnTo>
                    <a:pt x="97" y="50"/>
                  </a:lnTo>
                  <a:lnTo>
                    <a:pt x="112" y="38"/>
                  </a:lnTo>
                  <a:lnTo>
                    <a:pt x="125" y="28"/>
                  </a:lnTo>
                  <a:lnTo>
                    <a:pt x="140" y="19"/>
                  </a:lnTo>
                  <a:lnTo>
                    <a:pt x="155" y="12"/>
                  </a:lnTo>
                  <a:lnTo>
                    <a:pt x="170" y="7"/>
                  </a:lnTo>
                  <a:lnTo>
                    <a:pt x="187" y="3"/>
                  </a:lnTo>
                  <a:lnTo>
                    <a:pt x="203" y="1"/>
                  </a:lnTo>
                  <a:lnTo>
                    <a:pt x="220" y="0"/>
                  </a:lnTo>
                  <a:lnTo>
                    <a:pt x="225" y="0"/>
                  </a:lnTo>
                  <a:lnTo>
                    <a:pt x="232" y="0"/>
                  </a:lnTo>
                  <a:lnTo>
                    <a:pt x="237" y="1"/>
                  </a:lnTo>
                  <a:lnTo>
                    <a:pt x="242" y="2"/>
                  </a:lnTo>
                  <a:lnTo>
                    <a:pt x="246" y="2"/>
                  </a:lnTo>
                  <a:lnTo>
                    <a:pt x="252" y="4"/>
                  </a:lnTo>
                  <a:lnTo>
                    <a:pt x="255" y="6"/>
                  </a:lnTo>
                  <a:lnTo>
                    <a:pt x="260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3" y="12"/>
                  </a:lnTo>
                  <a:lnTo>
                    <a:pt x="278" y="15"/>
                  </a:lnTo>
                  <a:lnTo>
                    <a:pt x="284" y="18"/>
                  </a:lnTo>
                  <a:lnTo>
                    <a:pt x="291" y="20"/>
                  </a:lnTo>
                  <a:lnTo>
                    <a:pt x="297" y="23"/>
                  </a:lnTo>
                  <a:lnTo>
                    <a:pt x="305" y="25"/>
                  </a:lnTo>
                  <a:lnTo>
                    <a:pt x="313" y="29"/>
                  </a:lnTo>
                  <a:lnTo>
                    <a:pt x="320" y="33"/>
                  </a:lnTo>
                  <a:lnTo>
                    <a:pt x="327" y="36"/>
                  </a:lnTo>
                  <a:lnTo>
                    <a:pt x="335" y="41"/>
                  </a:lnTo>
                  <a:lnTo>
                    <a:pt x="343" y="46"/>
                  </a:lnTo>
                  <a:lnTo>
                    <a:pt x="350" y="52"/>
                  </a:lnTo>
                  <a:lnTo>
                    <a:pt x="358" y="57"/>
                  </a:lnTo>
                  <a:lnTo>
                    <a:pt x="365" y="63"/>
                  </a:lnTo>
                  <a:lnTo>
                    <a:pt x="372" y="70"/>
                  </a:lnTo>
                  <a:lnTo>
                    <a:pt x="378" y="76"/>
                  </a:lnTo>
                  <a:lnTo>
                    <a:pt x="383" y="83"/>
                  </a:lnTo>
                  <a:lnTo>
                    <a:pt x="387" y="91"/>
                  </a:lnTo>
                  <a:lnTo>
                    <a:pt x="390" y="97"/>
                  </a:lnTo>
                  <a:lnTo>
                    <a:pt x="392" y="105"/>
                  </a:lnTo>
                  <a:lnTo>
                    <a:pt x="394" y="111"/>
                  </a:lnTo>
                  <a:lnTo>
                    <a:pt x="394" y="119"/>
                  </a:lnTo>
                  <a:lnTo>
                    <a:pt x="394" y="126"/>
                  </a:lnTo>
                  <a:lnTo>
                    <a:pt x="393" y="131"/>
                  </a:lnTo>
                  <a:lnTo>
                    <a:pt x="393" y="137"/>
                  </a:lnTo>
                  <a:lnTo>
                    <a:pt x="392" y="142"/>
                  </a:lnTo>
                  <a:lnTo>
                    <a:pt x="390" y="148"/>
                  </a:lnTo>
                  <a:lnTo>
                    <a:pt x="388" y="152"/>
                  </a:lnTo>
                  <a:lnTo>
                    <a:pt x="386" y="158"/>
                  </a:lnTo>
                  <a:lnTo>
                    <a:pt x="383" y="162"/>
                  </a:lnTo>
                  <a:lnTo>
                    <a:pt x="380" y="166"/>
                  </a:lnTo>
                  <a:lnTo>
                    <a:pt x="378" y="169"/>
                  </a:lnTo>
                  <a:lnTo>
                    <a:pt x="375" y="172"/>
                  </a:lnTo>
                  <a:lnTo>
                    <a:pt x="370" y="174"/>
                  </a:lnTo>
                  <a:lnTo>
                    <a:pt x="367" y="177"/>
                  </a:lnTo>
                  <a:lnTo>
                    <a:pt x="363" y="178"/>
                  </a:lnTo>
                  <a:lnTo>
                    <a:pt x="359" y="179"/>
                  </a:lnTo>
                  <a:lnTo>
                    <a:pt x="355" y="179"/>
                  </a:lnTo>
                  <a:lnTo>
                    <a:pt x="352" y="179"/>
                  </a:lnTo>
                  <a:lnTo>
                    <a:pt x="350" y="179"/>
                  </a:lnTo>
                  <a:lnTo>
                    <a:pt x="348" y="178"/>
                  </a:lnTo>
                  <a:lnTo>
                    <a:pt x="345" y="178"/>
                  </a:lnTo>
                  <a:lnTo>
                    <a:pt x="343" y="177"/>
                  </a:lnTo>
                  <a:lnTo>
                    <a:pt x="339" y="175"/>
                  </a:lnTo>
                  <a:lnTo>
                    <a:pt x="336" y="175"/>
                  </a:lnTo>
                  <a:lnTo>
                    <a:pt x="333" y="174"/>
                  </a:lnTo>
                  <a:lnTo>
                    <a:pt x="329" y="173"/>
                  </a:lnTo>
                  <a:lnTo>
                    <a:pt x="326" y="172"/>
                  </a:lnTo>
                  <a:lnTo>
                    <a:pt x="323" y="171"/>
                  </a:lnTo>
                  <a:lnTo>
                    <a:pt x="318" y="170"/>
                  </a:lnTo>
                  <a:lnTo>
                    <a:pt x="315" y="169"/>
                  </a:lnTo>
                  <a:lnTo>
                    <a:pt x="310" y="169"/>
                  </a:lnTo>
                  <a:lnTo>
                    <a:pt x="307" y="168"/>
                  </a:lnTo>
                  <a:lnTo>
                    <a:pt x="303" y="167"/>
                  </a:lnTo>
                  <a:lnTo>
                    <a:pt x="298" y="167"/>
                  </a:lnTo>
                  <a:lnTo>
                    <a:pt x="295" y="166"/>
                  </a:lnTo>
                  <a:lnTo>
                    <a:pt x="291" y="166"/>
                  </a:lnTo>
                  <a:lnTo>
                    <a:pt x="288" y="164"/>
                  </a:lnTo>
                  <a:lnTo>
                    <a:pt x="285" y="164"/>
                  </a:lnTo>
                  <a:lnTo>
                    <a:pt x="283" y="163"/>
                  </a:lnTo>
                  <a:lnTo>
                    <a:pt x="281" y="162"/>
                  </a:lnTo>
                  <a:lnTo>
                    <a:pt x="278" y="162"/>
                  </a:lnTo>
                  <a:lnTo>
                    <a:pt x="276" y="161"/>
                  </a:lnTo>
                  <a:lnTo>
                    <a:pt x="275" y="160"/>
                  </a:lnTo>
                  <a:lnTo>
                    <a:pt x="273" y="159"/>
                  </a:lnTo>
                  <a:lnTo>
                    <a:pt x="271" y="157"/>
                  </a:lnTo>
                  <a:lnTo>
                    <a:pt x="269" y="155"/>
                  </a:lnTo>
                  <a:lnTo>
                    <a:pt x="266" y="153"/>
                  </a:lnTo>
                  <a:lnTo>
                    <a:pt x="263" y="150"/>
                  </a:lnTo>
                  <a:lnTo>
                    <a:pt x="261" y="148"/>
                  </a:lnTo>
                  <a:lnTo>
                    <a:pt x="259" y="145"/>
                  </a:lnTo>
                  <a:lnTo>
                    <a:pt x="256" y="142"/>
                  </a:lnTo>
                  <a:lnTo>
                    <a:pt x="254" y="139"/>
                  </a:lnTo>
                  <a:lnTo>
                    <a:pt x="252" y="136"/>
                  </a:lnTo>
                  <a:lnTo>
                    <a:pt x="251" y="132"/>
                  </a:lnTo>
                  <a:lnTo>
                    <a:pt x="250" y="129"/>
                  </a:lnTo>
                  <a:lnTo>
                    <a:pt x="249" y="125"/>
                  </a:lnTo>
                  <a:lnTo>
                    <a:pt x="248" y="121"/>
                  </a:lnTo>
                  <a:lnTo>
                    <a:pt x="248" y="117"/>
                  </a:lnTo>
                  <a:lnTo>
                    <a:pt x="246" y="114"/>
                  </a:lnTo>
                  <a:lnTo>
                    <a:pt x="246" y="109"/>
                  </a:lnTo>
                  <a:lnTo>
                    <a:pt x="246" y="106"/>
                  </a:lnTo>
                  <a:lnTo>
                    <a:pt x="245" y="103"/>
                  </a:lnTo>
                  <a:lnTo>
                    <a:pt x="245" y="99"/>
                  </a:lnTo>
                  <a:lnTo>
                    <a:pt x="245" y="95"/>
                  </a:lnTo>
                  <a:lnTo>
                    <a:pt x="244" y="92"/>
                  </a:lnTo>
                  <a:lnTo>
                    <a:pt x="245" y="91"/>
                  </a:lnTo>
                  <a:lnTo>
                    <a:pt x="245" y="89"/>
                  </a:lnTo>
                  <a:lnTo>
                    <a:pt x="244" y="88"/>
                  </a:lnTo>
                  <a:lnTo>
                    <a:pt x="244" y="87"/>
                  </a:lnTo>
                  <a:lnTo>
                    <a:pt x="244" y="86"/>
                  </a:lnTo>
                  <a:lnTo>
                    <a:pt x="243" y="85"/>
                  </a:lnTo>
                  <a:lnTo>
                    <a:pt x="242" y="84"/>
                  </a:lnTo>
                  <a:lnTo>
                    <a:pt x="241" y="83"/>
                  </a:lnTo>
                  <a:lnTo>
                    <a:pt x="240" y="82"/>
                  </a:lnTo>
                  <a:lnTo>
                    <a:pt x="239" y="82"/>
                  </a:lnTo>
                  <a:lnTo>
                    <a:pt x="238" y="81"/>
                  </a:lnTo>
                  <a:lnTo>
                    <a:pt x="237" y="81"/>
                  </a:lnTo>
                  <a:lnTo>
                    <a:pt x="235" y="79"/>
                  </a:lnTo>
                  <a:lnTo>
                    <a:pt x="234" y="79"/>
                  </a:lnTo>
                  <a:lnTo>
                    <a:pt x="232" y="79"/>
                  </a:lnTo>
                  <a:lnTo>
                    <a:pt x="231" y="79"/>
                  </a:lnTo>
                  <a:lnTo>
                    <a:pt x="228" y="79"/>
                  </a:lnTo>
                  <a:lnTo>
                    <a:pt x="224" y="81"/>
                  </a:lnTo>
                  <a:lnTo>
                    <a:pt x="221" y="82"/>
                  </a:lnTo>
                  <a:lnTo>
                    <a:pt x="216" y="84"/>
                  </a:lnTo>
                  <a:lnTo>
                    <a:pt x="210" y="86"/>
                  </a:lnTo>
                  <a:lnTo>
                    <a:pt x="203" y="89"/>
                  </a:lnTo>
                  <a:lnTo>
                    <a:pt x="197" y="93"/>
                  </a:lnTo>
                  <a:lnTo>
                    <a:pt x="189" y="96"/>
                  </a:lnTo>
                  <a:lnTo>
                    <a:pt x="181" y="102"/>
                  </a:lnTo>
                  <a:lnTo>
                    <a:pt x="175" y="106"/>
                  </a:lnTo>
                  <a:lnTo>
                    <a:pt x="169" y="111"/>
                  </a:lnTo>
                  <a:lnTo>
                    <a:pt x="164" y="117"/>
                  </a:lnTo>
                  <a:lnTo>
                    <a:pt x="160" y="124"/>
                  </a:lnTo>
                  <a:lnTo>
                    <a:pt x="158" y="130"/>
                  </a:lnTo>
                  <a:lnTo>
                    <a:pt x="156" y="138"/>
                  </a:lnTo>
                  <a:lnTo>
                    <a:pt x="156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1788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1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5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7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8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2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6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40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2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1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4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8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10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7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32236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7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2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8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3" y="418"/>
                  </a:lnTo>
                  <a:lnTo>
                    <a:pt x="49" y="416"/>
                  </a:lnTo>
                  <a:lnTo>
                    <a:pt x="45" y="413"/>
                  </a:lnTo>
                  <a:lnTo>
                    <a:pt x="41" y="409"/>
                  </a:lnTo>
                  <a:lnTo>
                    <a:pt x="36" y="406"/>
                  </a:lnTo>
                  <a:lnTo>
                    <a:pt x="33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9" y="377"/>
                  </a:lnTo>
                  <a:lnTo>
                    <a:pt x="15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4" y="331"/>
                  </a:lnTo>
                  <a:lnTo>
                    <a:pt x="3" y="320"/>
                  </a:lnTo>
                  <a:lnTo>
                    <a:pt x="2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1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4" y="189"/>
                  </a:lnTo>
                  <a:lnTo>
                    <a:pt x="5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5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1" y="30"/>
                  </a:lnTo>
                  <a:lnTo>
                    <a:pt x="22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6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6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7" y="8"/>
                  </a:lnTo>
                  <a:lnTo>
                    <a:pt x="65" y="9"/>
                  </a:lnTo>
                  <a:lnTo>
                    <a:pt x="72" y="9"/>
                  </a:lnTo>
                  <a:lnTo>
                    <a:pt x="79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6" y="17"/>
                  </a:lnTo>
                  <a:lnTo>
                    <a:pt x="111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3" y="214"/>
                  </a:lnTo>
                  <a:lnTo>
                    <a:pt x="111" y="217"/>
                  </a:lnTo>
                  <a:lnTo>
                    <a:pt x="111" y="217"/>
                  </a:lnTo>
                  <a:lnTo>
                    <a:pt x="111" y="218"/>
                  </a:lnTo>
                  <a:lnTo>
                    <a:pt x="111" y="221"/>
                  </a:lnTo>
                  <a:lnTo>
                    <a:pt x="111" y="223"/>
                  </a:lnTo>
                  <a:lnTo>
                    <a:pt x="111" y="226"/>
                  </a:lnTo>
                  <a:lnTo>
                    <a:pt x="111" y="229"/>
                  </a:lnTo>
                  <a:lnTo>
                    <a:pt x="111" y="234"/>
                  </a:lnTo>
                  <a:lnTo>
                    <a:pt x="111" y="238"/>
                  </a:lnTo>
                  <a:lnTo>
                    <a:pt x="111" y="244"/>
                  </a:lnTo>
                  <a:lnTo>
                    <a:pt x="111" y="248"/>
                  </a:lnTo>
                  <a:lnTo>
                    <a:pt x="111" y="253"/>
                  </a:lnTo>
                  <a:lnTo>
                    <a:pt x="111" y="257"/>
                  </a:lnTo>
                  <a:lnTo>
                    <a:pt x="111" y="262"/>
                  </a:lnTo>
                  <a:lnTo>
                    <a:pt x="111" y="266"/>
                  </a:lnTo>
                  <a:lnTo>
                    <a:pt x="111" y="270"/>
                  </a:lnTo>
                  <a:lnTo>
                    <a:pt x="111" y="275"/>
                  </a:lnTo>
                  <a:lnTo>
                    <a:pt x="113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2" y="380"/>
                  </a:lnTo>
                  <a:lnTo>
                    <a:pt x="137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5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8" y="349"/>
                  </a:lnTo>
                  <a:lnTo>
                    <a:pt x="234" y="337"/>
                  </a:lnTo>
                  <a:lnTo>
                    <a:pt x="238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49" y="257"/>
                  </a:lnTo>
                  <a:lnTo>
                    <a:pt x="252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5" y="18"/>
                  </a:lnTo>
                  <a:lnTo>
                    <a:pt x="255" y="14"/>
                  </a:lnTo>
                  <a:lnTo>
                    <a:pt x="257" y="11"/>
                  </a:lnTo>
                  <a:lnTo>
                    <a:pt x="258" y="9"/>
                  </a:lnTo>
                  <a:lnTo>
                    <a:pt x="259" y="7"/>
                  </a:lnTo>
                  <a:lnTo>
                    <a:pt x="263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0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2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6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7" y="9"/>
                  </a:lnTo>
                  <a:lnTo>
                    <a:pt x="360" y="10"/>
                  </a:lnTo>
                  <a:lnTo>
                    <a:pt x="364" y="12"/>
                  </a:lnTo>
                  <a:lnTo>
                    <a:pt x="366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3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6" y="21"/>
                  </a:lnTo>
                  <a:lnTo>
                    <a:pt x="376" y="23"/>
                  </a:lnTo>
                  <a:lnTo>
                    <a:pt x="376" y="25"/>
                  </a:lnTo>
                  <a:lnTo>
                    <a:pt x="378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4" y="403"/>
                  </a:lnTo>
                  <a:lnTo>
                    <a:pt x="329" y="410"/>
                  </a:lnTo>
                  <a:lnTo>
                    <a:pt x="323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1" y="445"/>
                  </a:lnTo>
                  <a:lnTo>
                    <a:pt x="284" y="448"/>
                  </a:lnTo>
                  <a:lnTo>
                    <a:pt x="276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49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200" y="463"/>
                  </a:lnTo>
                  <a:lnTo>
                    <a:pt x="195" y="462"/>
                  </a:lnTo>
                  <a:lnTo>
                    <a:pt x="192" y="462"/>
                  </a:lnTo>
                  <a:lnTo>
                    <a:pt x="189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5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4" y="458"/>
                  </a:lnTo>
                  <a:lnTo>
                    <a:pt x="162" y="457"/>
                  </a:lnTo>
                  <a:lnTo>
                    <a:pt x="159" y="456"/>
                  </a:lnTo>
                  <a:lnTo>
                    <a:pt x="157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50812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4" h="465">
                  <a:moveTo>
                    <a:pt x="102" y="394"/>
                  </a:moveTo>
                  <a:lnTo>
                    <a:pt x="102" y="443"/>
                  </a:lnTo>
                  <a:lnTo>
                    <a:pt x="101" y="448"/>
                  </a:lnTo>
                  <a:lnTo>
                    <a:pt x="100" y="452"/>
                  </a:lnTo>
                  <a:lnTo>
                    <a:pt x="99" y="456"/>
                  </a:lnTo>
                  <a:lnTo>
                    <a:pt x="96" y="459"/>
                  </a:lnTo>
                  <a:lnTo>
                    <a:pt x="93" y="461"/>
                  </a:lnTo>
                  <a:lnTo>
                    <a:pt x="90" y="462"/>
                  </a:lnTo>
                  <a:lnTo>
                    <a:pt x="85" y="464"/>
                  </a:lnTo>
                  <a:lnTo>
                    <a:pt x="80" y="465"/>
                  </a:lnTo>
                  <a:lnTo>
                    <a:pt x="79" y="465"/>
                  </a:lnTo>
                  <a:lnTo>
                    <a:pt x="78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70" y="462"/>
                  </a:lnTo>
                  <a:lnTo>
                    <a:pt x="67" y="462"/>
                  </a:lnTo>
                  <a:lnTo>
                    <a:pt x="63" y="461"/>
                  </a:lnTo>
                  <a:lnTo>
                    <a:pt x="59" y="461"/>
                  </a:lnTo>
                  <a:lnTo>
                    <a:pt x="55" y="460"/>
                  </a:lnTo>
                  <a:lnTo>
                    <a:pt x="51" y="459"/>
                  </a:lnTo>
                  <a:lnTo>
                    <a:pt x="47" y="459"/>
                  </a:lnTo>
                  <a:lnTo>
                    <a:pt x="42" y="458"/>
                  </a:lnTo>
                  <a:lnTo>
                    <a:pt x="39" y="457"/>
                  </a:lnTo>
                  <a:lnTo>
                    <a:pt x="34" y="456"/>
                  </a:lnTo>
                  <a:lnTo>
                    <a:pt x="30" y="456"/>
                  </a:lnTo>
                  <a:lnTo>
                    <a:pt x="27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6" y="451"/>
                  </a:lnTo>
                  <a:lnTo>
                    <a:pt x="14" y="450"/>
                  </a:lnTo>
                  <a:lnTo>
                    <a:pt x="11" y="449"/>
                  </a:lnTo>
                  <a:lnTo>
                    <a:pt x="9" y="448"/>
                  </a:lnTo>
                  <a:lnTo>
                    <a:pt x="7" y="447"/>
                  </a:lnTo>
                  <a:lnTo>
                    <a:pt x="6" y="445"/>
                  </a:lnTo>
                  <a:lnTo>
                    <a:pt x="5" y="443"/>
                  </a:lnTo>
                  <a:lnTo>
                    <a:pt x="4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1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1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2" y="51"/>
                  </a:lnTo>
                  <a:lnTo>
                    <a:pt x="2" y="45"/>
                  </a:lnTo>
                  <a:lnTo>
                    <a:pt x="4" y="41"/>
                  </a:lnTo>
                  <a:lnTo>
                    <a:pt x="4" y="38"/>
                  </a:lnTo>
                  <a:lnTo>
                    <a:pt x="5" y="34"/>
                  </a:lnTo>
                  <a:lnTo>
                    <a:pt x="7" y="31"/>
                  </a:lnTo>
                  <a:lnTo>
                    <a:pt x="8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6" y="21"/>
                  </a:lnTo>
                  <a:lnTo>
                    <a:pt x="18" y="20"/>
                  </a:lnTo>
                  <a:lnTo>
                    <a:pt x="20" y="19"/>
                  </a:lnTo>
                  <a:lnTo>
                    <a:pt x="23" y="18"/>
                  </a:lnTo>
                  <a:lnTo>
                    <a:pt x="26" y="17"/>
                  </a:lnTo>
                  <a:lnTo>
                    <a:pt x="28" y="15"/>
                  </a:lnTo>
                  <a:lnTo>
                    <a:pt x="30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9" y="10"/>
                  </a:lnTo>
                  <a:lnTo>
                    <a:pt x="40" y="10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8" y="9"/>
                  </a:lnTo>
                  <a:lnTo>
                    <a:pt x="51" y="9"/>
                  </a:lnTo>
                  <a:lnTo>
                    <a:pt x="53" y="10"/>
                  </a:lnTo>
                  <a:lnTo>
                    <a:pt x="57" y="10"/>
                  </a:lnTo>
                  <a:lnTo>
                    <a:pt x="59" y="11"/>
                  </a:lnTo>
                  <a:lnTo>
                    <a:pt x="63" y="12"/>
                  </a:lnTo>
                  <a:lnTo>
                    <a:pt x="67" y="13"/>
                  </a:lnTo>
                  <a:lnTo>
                    <a:pt x="70" y="14"/>
                  </a:lnTo>
                  <a:lnTo>
                    <a:pt x="74" y="15"/>
                  </a:lnTo>
                  <a:lnTo>
                    <a:pt x="78" y="17"/>
                  </a:lnTo>
                  <a:lnTo>
                    <a:pt x="80" y="17"/>
                  </a:lnTo>
                  <a:lnTo>
                    <a:pt x="82" y="18"/>
                  </a:lnTo>
                  <a:lnTo>
                    <a:pt x="84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3" y="15"/>
                  </a:lnTo>
                  <a:lnTo>
                    <a:pt x="110" y="14"/>
                  </a:lnTo>
                  <a:lnTo>
                    <a:pt x="118" y="13"/>
                  </a:lnTo>
                  <a:lnTo>
                    <a:pt x="126" y="11"/>
                  </a:lnTo>
                  <a:lnTo>
                    <a:pt x="134" y="10"/>
                  </a:lnTo>
                  <a:lnTo>
                    <a:pt x="143" y="8"/>
                  </a:lnTo>
                  <a:lnTo>
                    <a:pt x="152" y="7"/>
                  </a:lnTo>
                  <a:lnTo>
                    <a:pt x="159" y="4"/>
                  </a:lnTo>
                  <a:lnTo>
                    <a:pt x="168" y="3"/>
                  </a:lnTo>
                  <a:lnTo>
                    <a:pt x="176" y="2"/>
                  </a:lnTo>
                  <a:lnTo>
                    <a:pt x="184" y="2"/>
                  </a:lnTo>
                  <a:lnTo>
                    <a:pt x="191" y="1"/>
                  </a:lnTo>
                  <a:lnTo>
                    <a:pt x="198" y="0"/>
                  </a:lnTo>
                  <a:lnTo>
                    <a:pt x="205" y="0"/>
                  </a:lnTo>
                  <a:lnTo>
                    <a:pt x="211" y="0"/>
                  </a:lnTo>
                  <a:lnTo>
                    <a:pt x="231" y="1"/>
                  </a:lnTo>
                  <a:lnTo>
                    <a:pt x="251" y="2"/>
                  </a:lnTo>
                  <a:lnTo>
                    <a:pt x="270" y="6"/>
                  </a:lnTo>
                  <a:lnTo>
                    <a:pt x="287" y="9"/>
                  </a:lnTo>
                  <a:lnTo>
                    <a:pt x="305" y="14"/>
                  </a:lnTo>
                  <a:lnTo>
                    <a:pt x="323" y="21"/>
                  </a:lnTo>
                  <a:lnTo>
                    <a:pt x="338" y="29"/>
                  </a:lnTo>
                  <a:lnTo>
                    <a:pt x="354" y="38"/>
                  </a:lnTo>
                  <a:lnTo>
                    <a:pt x="368" y="46"/>
                  </a:lnTo>
                  <a:lnTo>
                    <a:pt x="380" y="56"/>
                  </a:lnTo>
                  <a:lnTo>
                    <a:pt x="390" y="65"/>
                  </a:lnTo>
                  <a:lnTo>
                    <a:pt x="399" y="75"/>
                  </a:lnTo>
                  <a:lnTo>
                    <a:pt x="405" y="86"/>
                  </a:lnTo>
                  <a:lnTo>
                    <a:pt x="410" y="96"/>
                  </a:lnTo>
                  <a:lnTo>
                    <a:pt x="413" y="107"/>
                  </a:lnTo>
                  <a:lnTo>
                    <a:pt x="414" y="117"/>
                  </a:lnTo>
                  <a:lnTo>
                    <a:pt x="413" y="127"/>
                  </a:lnTo>
                  <a:lnTo>
                    <a:pt x="411" y="136"/>
                  </a:lnTo>
                  <a:lnTo>
                    <a:pt x="409" y="146"/>
                  </a:lnTo>
                  <a:lnTo>
                    <a:pt x="404" y="155"/>
                  </a:lnTo>
                  <a:lnTo>
                    <a:pt x="399" y="164"/>
                  </a:lnTo>
                  <a:lnTo>
                    <a:pt x="391" y="173"/>
                  </a:lnTo>
                  <a:lnTo>
                    <a:pt x="383" y="183"/>
                  </a:lnTo>
                  <a:lnTo>
                    <a:pt x="375" y="192"/>
                  </a:lnTo>
                  <a:lnTo>
                    <a:pt x="365" y="201"/>
                  </a:lnTo>
                  <a:lnTo>
                    <a:pt x="354" y="210"/>
                  </a:lnTo>
                  <a:lnTo>
                    <a:pt x="344" y="217"/>
                  </a:lnTo>
                  <a:lnTo>
                    <a:pt x="333" y="225"/>
                  </a:lnTo>
                  <a:lnTo>
                    <a:pt x="323" y="232"/>
                  </a:lnTo>
                  <a:lnTo>
                    <a:pt x="312" y="237"/>
                  </a:lnTo>
                  <a:lnTo>
                    <a:pt x="301" y="243"/>
                  </a:lnTo>
                  <a:lnTo>
                    <a:pt x="290" y="247"/>
                  </a:lnTo>
                  <a:lnTo>
                    <a:pt x="278" y="252"/>
                  </a:lnTo>
                  <a:lnTo>
                    <a:pt x="270" y="256"/>
                  </a:lnTo>
                  <a:lnTo>
                    <a:pt x="262" y="259"/>
                  </a:lnTo>
                  <a:lnTo>
                    <a:pt x="256" y="263"/>
                  </a:lnTo>
                  <a:lnTo>
                    <a:pt x="251" y="265"/>
                  </a:lnTo>
                  <a:lnTo>
                    <a:pt x="248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1" y="296"/>
                  </a:lnTo>
                  <a:lnTo>
                    <a:pt x="284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3" y="347"/>
                  </a:lnTo>
                  <a:lnTo>
                    <a:pt x="336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2" y="394"/>
                  </a:lnTo>
                  <a:lnTo>
                    <a:pt x="381" y="404"/>
                  </a:lnTo>
                  <a:lnTo>
                    <a:pt x="388" y="412"/>
                  </a:lnTo>
                  <a:lnTo>
                    <a:pt x="393" y="419"/>
                  </a:lnTo>
                  <a:lnTo>
                    <a:pt x="398" y="425"/>
                  </a:lnTo>
                  <a:lnTo>
                    <a:pt x="400" y="430"/>
                  </a:lnTo>
                  <a:lnTo>
                    <a:pt x="401" y="434"/>
                  </a:lnTo>
                  <a:lnTo>
                    <a:pt x="401" y="435"/>
                  </a:lnTo>
                  <a:lnTo>
                    <a:pt x="401" y="436"/>
                  </a:lnTo>
                  <a:lnTo>
                    <a:pt x="400" y="437"/>
                  </a:lnTo>
                  <a:lnTo>
                    <a:pt x="400" y="439"/>
                  </a:lnTo>
                  <a:lnTo>
                    <a:pt x="399" y="440"/>
                  </a:lnTo>
                  <a:lnTo>
                    <a:pt x="398" y="441"/>
                  </a:lnTo>
                  <a:lnTo>
                    <a:pt x="397" y="443"/>
                  </a:lnTo>
                  <a:lnTo>
                    <a:pt x="395" y="444"/>
                  </a:lnTo>
                  <a:lnTo>
                    <a:pt x="394" y="445"/>
                  </a:lnTo>
                  <a:lnTo>
                    <a:pt x="392" y="446"/>
                  </a:lnTo>
                  <a:lnTo>
                    <a:pt x="391" y="448"/>
                  </a:lnTo>
                  <a:lnTo>
                    <a:pt x="389" y="449"/>
                  </a:lnTo>
                  <a:lnTo>
                    <a:pt x="387" y="450"/>
                  </a:lnTo>
                  <a:lnTo>
                    <a:pt x="384" y="452"/>
                  </a:lnTo>
                  <a:lnTo>
                    <a:pt x="383" y="455"/>
                  </a:lnTo>
                  <a:lnTo>
                    <a:pt x="380" y="456"/>
                  </a:lnTo>
                  <a:lnTo>
                    <a:pt x="378" y="458"/>
                  </a:lnTo>
                  <a:lnTo>
                    <a:pt x="376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7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7" y="465"/>
                  </a:lnTo>
                  <a:lnTo>
                    <a:pt x="350" y="464"/>
                  </a:lnTo>
                  <a:lnTo>
                    <a:pt x="343" y="464"/>
                  </a:lnTo>
                  <a:lnTo>
                    <a:pt x="336" y="461"/>
                  </a:lnTo>
                  <a:lnTo>
                    <a:pt x="328" y="460"/>
                  </a:lnTo>
                  <a:lnTo>
                    <a:pt x="322" y="457"/>
                  </a:lnTo>
                  <a:lnTo>
                    <a:pt x="315" y="454"/>
                  </a:lnTo>
                  <a:lnTo>
                    <a:pt x="308" y="450"/>
                  </a:lnTo>
                  <a:lnTo>
                    <a:pt x="302" y="446"/>
                  </a:lnTo>
                  <a:lnTo>
                    <a:pt x="293" y="440"/>
                  </a:lnTo>
                  <a:lnTo>
                    <a:pt x="281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9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4" y="301"/>
                  </a:lnTo>
                  <a:lnTo>
                    <a:pt x="107" y="288"/>
                  </a:lnTo>
                  <a:lnTo>
                    <a:pt x="102" y="394"/>
                  </a:lnTo>
                  <a:close/>
                  <a:moveTo>
                    <a:pt x="113" y="223"/>
                  </a:moveTo>
                  <a:lnTo>
                    <a:pt x="122" y="223"/>
                  </a:lnTo>
                  <a:lnTo>
                    <a:pt x="132" y="221"/>
                  </a:lnTo>
                  <a:lnTo>
                    <a:pt x="144" y="217"/>
                  </a:lnTo>
                  <a:lnTo>
                    <a:pt x="156" y="212"/>
                  </a:lnTo>
                  <a:lnTo>
                    <a:pt x="170" y="205"/>
                  </a:lnTo>
                  <a:lnTo>
                    <a:pt x="186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9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3" y="111"/>
                  </a:lnTo>
                  <a:lnTo>
                    <a:pt x="295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4" y="79"/>
                  </a:lnTo>
                  <a:lnTo>
                    <a:pt x="288" y="75"/>
                  </a:lnTo>
                  <a:lnTo>
                    <a:pt x="282" y="72"/>
                  </a:lnTo>
                  <a:lnTo>
                    <a:pt x="273" y="70"/>
                  </a:lnTo>
                  <a:lnTo>
                    <a:pt x="263" y="67"/>
                  </a:lnTo>
                  <a:lnTo>
                    <a:pt x="251" y="66"/>
                  </a:lnTo>
                  <a:lnTo>
                    <a:pt x="237" y="65"/>
                  </a:lnTo>
                  <a:lnTo>
                    <a:pt x="228" y="66"/>
                  </a:lnTo>
                  <a:lnTo>
                    <a:pt x="219" y="66"/>
                  </a:lnTo>
                  <a:lnTo>
                    <a:pt x="210" y="66"/>
                  </a:lnTo>
                  <a:lnTo>
                    <a:pt x="202" y="67"/>
                  </a:lnTo>
                  <a:lnTo>
                    <a:pt x="195" y="67"/>
                  </a:lnTo>
                  <a:lnTo>
                    <a:pt x="187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5" y="72"/>
                  </a:lnTo>
                  <a:lnTo>
                    <a:pt x="158" y="73"/>
                  </a:lnTo>
                  <a:lnTo>
                    <a:pt x="152" y="74"/>
                  </a:lnTo>
                  <a:lnTo>
                    <a:pt x="146" y="75"/>
                  </a:lnTo>
                  <a:lnTo>
                    <a:pt x="140" y="77"/>
                  </a:lnTo>
                  <a:lnTo>
                    <a:pt x="135" y="78"/>
                  </a:lnTo>
                  <a:lnTo>
                    <a:pt x="131" y="79"/>
                  </a:lnTo>
                  <a:lnTo>
                    <a:pt x="126" y="82"/>
                  </a:lnTo>
                  <a:lnTo>
                    <a:pt x="123" y="84"/>
                  </a:lnTo>
                  <a:lnTo>
                    <a:pt x="119" y="86"/>
                  </a:lnTo>
                  <a:lnTo>
                    <a:pt x="117" y="89"/>
                  </a:lnTo>
                  <a:lnTo>
                    <a:pt x="115" y="92"/>
                  </a:lnTo>
                  <a:lnTo>
                    <a:pt x="113" y="96"/>
                  </a:lnTo>
                  <a:lnTo>
                    <a:pt x="112" y="99"/>
                  </a:lnTo>
                  <a:lnTo>
                    <a:pt x="111" y="104"/>
                  </a:lnTo>
                  <a:lnTo>
                    <a:pt x="111" y="108"/>
                  </a:lnTo>
                  <a:lnTo>
                    <a:pt x="111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10" y="222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lnTo>
                    <a:pt x="113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90640" y="2293920"/>
              <a:ext cx="168480" cy="194760"/>
            </a:xfrm>
            <a:custGeom>
              <a:avLst/>
              <a:gdLst/>
              <a:ahLst/>
              <a:rect l="l" t="t" r="r" b="b"/>
              <a:pathLst>
                <a:path w="425" h="491">
                  <a:moveTo>
                    <a:pt x="247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2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4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3" y="10"/>
                  </a:lnTo>
                  <a:lnTo>
                    <a:pt x="297" y="11"/>
                  </a:lnTo>
                  <a:lnTo>
                    <a:pt x="302" y="13"/>
                  </a:lnTo>
                  <a:lnTo>
                    <a:pt x="306" y="15"/>
                  </a:lnTo>
                  <a:lnTo>
                    <a:pt x="311" y="16"/>
                  </a:lnTo>
                  <a:lnTo>
                    <a:pt x="315" y="18"/>
                  </a:lnTo>
                  <a:lnTo>
                    <a:pt x="324" y="20"/>
                  </a:lnTo>
                  <a:lnTo>
                    <a:pt x="334" y="23"/>
                  </a:lnTo>
                  <a:lnTo>
                    <a:pt x="341" y="28"/>
                  </a:lnTo>
                  <a:lnTo>
                    <a:pt x="349" y="32"/>
                  </a:lnTo>
                  <a:lnTo>
                    <a:pt x="357" y="37"/>
                  </a:lnTo>
                  <a:lnTo>
                    <a:pt x="364" y="42"/>
                  </a:lnTo>
                  <a:lnTo>
                    <a:pt x="369" y="48"/>
                  </a:lnTo>
                  <a:lnTo>
                    <a:pt x="375" y="54"/>
                  </a:lnTo>
                  <a:lnTo>
                    <a:pt x="379" y="61"/>
                  </a:lnTo>
                  <a:lnTo>
                    <a:pt x="383" y="69"/>
                  </a:lnTo>
                  <a:lnTo>
                    <a:pt x="387" y="76"/>
                  </a:lnTo>
                  <a:lnTo>
                    <a:pt x="389" y="85"/>
                  </a:lnTo>
                  <a:lnTo>
                    <a:pt x="391" y="94"/>
                  </a:lnTo>
                  <a:lnTo>
                    <a:pt x="393" y="104"/>
                  </a:lnTo>
                  <a:lnTo>
                    <a:pt x="393" y="115"/>
                  </a:lnTo>
                  <a:lnTo>
                    <a:pt x="394" y="126"/>
                  </a:lnTo>
                  <a:lnTo>
                    <a:pt x="393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1" y="155"/>
                  </a:lnTo>
                  <a:lnTo>
                    <a:pt x="389" y="160"/>
                  </a:lnTo>
                  <a:lnTo>
                    <a:pt x="387" y="166"/>
                  </a:lnTo>
                  <a:lnTo>
                    <a:pt x="383" y="170"/>
                  </a:lnTo>
                  <a:lnTo>
                    <a:pt x="380" y="175"/>
                  </a:lnTo>
                  <a:lnTo>
                    <a:pt x="377" y="178"/>
                  </a:lnTo>
                  <a:lnTo>
                    <a:pt x="372" y="181"/>
                  </a:lnTo>
                  <a:lnTo>
                    <a:pt x="368" y="183"/>
                  </a:lnTo>
                  <a:lnTo>
                    <a:pt x="362" y="186"/>
                  </a:lnTo>
                  <a:lnTo>
                    <a:pt x="357" y="188"/>
                  </a:lnTo>
                  <a:lnTo>
                    <a:pt x="350" y="189"/>
                  </a:lnTo>
                  <a:lnTo>
                    <a:pt x="344" y="189"/>
                  </a:lnTo>
                  <a:lnTo>
                    <a:pt x="336" y="189"/>
                  </a:lnTo>
                  <a:lnTo>
                    <a:pt x="323" y="189"/>
                  </a:lnTo>
                  <a:lnTo>
                    <a:pt x="311" y="187"/>
                  </a:lnTo>
                  <a:lnTo>
                    <a:pt x="300" y="184"/>
                  </a:lnTo>
                  <a:lnTo>
                    <a:pt x="291" y="180"/>
                  </a:lnTo>
                  <a:lnTo>
                    <a:pt x="283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4" y="146"/>
                  </a:lnTo>
                  <a:lnTo>
                    <a:pt x="262" y="137"/>
                  </a:lnTo>
                  <a:lnTo>
                    <a:pt x="259" y="129"/>
                  </a:lnTo>
                  <a:lnTo>
                    <a:pt x="256" y="122"/>
                  </a:lnTo>
                  <a:lnTo>
                    <a:pt x="254" y="115"/>
                  </a:lnTo>
                  <a:lnTo>
                    <a:pt x="252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6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4" y="139"/>
                  </a:lnTo>
                  <a:lnTo>
                    <a:pt x="180" y="156"/>
                  </a:lnTo>
                  <a:lnTo>
                    <a:pt x="167" y="175"/>
                  </a:lnTo>
                  <a:lnTo>
                    <a:pt x="154" y="194"/>
                  </a:lnTo>
                  <a:lnTo>
                    <a:pt x="142" y="214"/>
                  </a:lnTo>
                  <a:lnTo>
                    <a:pt x="132" y="233"/>
                  </a:lnTo>
                  <a:lnTo>
                    <a:pt x="124" y="252"/>
                  </a:lnTo>
                  <a:lnTo>
                    <a:pt x="117" y="271"/>
                  </a:lnTo>
                  <a:lnTo>
                    <a:pt x="113" y="289"/>
                  </a:lnTo>
                  <a:lnTo>
                    <a:pt x="111" y="308"/>
                  </a:lnTo>
                  <a:lnTo>
                    <a:pt x="110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3" y="357"/>
                  </a:lnTo>
                  <a:lnTo>
                    <a:pt x="116" y="365"/>
                  </a:lnTo>
                  <a:lnTo>
                    <a:pt x="120" y="374"/>
                  </a:lnTo>
                  <a:lnTo>
                    <a:pt x="124" y="382"/>
                  </a:lnTo>
                  <a:lnTo>
                    <a:pt x="128" y="391"/>
                  </a:lnTo>
                  <a:lnTo>
                    <a:pt x="135" y="397"/>
                  </a:lnTo>
                  <a:lnTo>
                    <a:pt x="142" y="404"/>
                  </a:lnTo>
                  <a:lnTo>
                    <a:pt x="148" y="411"/>
                  </a:lnTo>
                  <a:lnTo>
                    <a:pt x="156" y="415"/>
                  </a:lnTo>
                  <a:lnTo>
                    <a:pt x="164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9" y="426"/>
                  </a:lnTo>
                  <a:lnTo>
                    <a:pt x="198" y="426"/>
                  </a:lnTo>
                  <a:lnTo>
                    <a:pt x="211" y="426"/>
                  </a:lnTo>
                  <a:lnTo>
                    <a:pt x="224" y="424"/>
                  </a:lnTo>
                  <a:lnTo>
                    <a:pt x="238" y="421"/>
                  </a:lnTo>
                  <a:lnTo>
                    <a:pt x="251" y="416"/>
                  </a:lnTo>
                  <a:lnTo>
                    <a:pt x="263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8" y="388"/>
                  </a:lnTo>
                  <a:lnTo>
                    <a:pt x="309" y="377"/>
                  </a:lnTo>
                  <a:lnTo>
                    <a:pt x="319" y="367"/>
                  </a:lnTo>
                  <a:lnTo>
                    <a:pt x="330" y="356"/>
                  </a:lnTo>
                  <a:lnTo>
                    <a:pt x="340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1" y="313"/>
                  </a:lnTo>
                  <a:lnTo>
                    <a:pt x="382" y="303"/>
                  </a:lnTo>
                  <a:lnTo>
                    <a:pt x="386" y="303"/>
                  </a:lnTo>
                  <a:lnTo>
                    <a:pt x="388" y="304"/>
                  </a:lnTo>
                  <a:lnTo>
                    <a:pt x="391" y="305"/>
                  </a:lnTo>
                  <a:lnTo>
                    <a:pt x="396" y="306"/>
                  </a:lnTo>
                  <a:lnTo>
                    <a:pt x="399" y="308"/>
                  </a:lnTo>
                  <a:lnTo>
                    <a:pt x="402" y="310"/>
                  </a:lnTo>
                  <a:lnTo>
                    <a:pt x="405" y="314"/>
                  </a:lnTo>
                  <a:lnTo>
                    <a:pt x="410" y="317"/>
                  </a:lnTo>
                  <a:lnTo>
                    <a:pt x="413" y="320"/>
                  </a:lnTo>
                  <a:lnTo>
                    <a:pt x="417" y="324"/>
                  </a:lnTo>
                  <a:lnTo>
                    <a:pt x="420" y="327"/>
                  </a:lnTo>
                  <a:lnTo>
                    <a:pt x="422" y="330"/>
                  </a:lnTo>
                  <a:lnTo>
                    <a:pt x="423" y="333"/>
                  </a:lnTo>
                  <a:lnTo>
                    <a:pt x="424" y="336"/>
                  </a:lnTo>
                  <a:lnTo>
                    <a:pt x="425" y="338"/>
                  </a:lnTo>
                  <a:lnTo>
                    <a:pt x="425" y="341"/>
                  </a:lnTo>
                  <a:lnTo>
                    <a:pt x="424" y="353"/>
                  </a:lnTo>
                  <a:lnTo>
                    <a:pt x="422" y="367"/>
                  </a:lnTo>
                  <a:lnTo>
                    <a:pt x="418" y="379"/>
                  </a:lnTo>
                  <a:lnTo>
                    <a:pt x="411" y="392"/>
                  </a:lnTo>
                  <a:lnTo>
                    <a:pt x="403" y="404"/>
                  </a:lnTo>
                  <a:lnTo>
                    <a:pt x="392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2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6" y="479"/>
                  </a:lnTo>
                  <a:lnTo>
                    <a:pt x="291" y="485"/>
                  </a:lnTo>
                  <a:lnTo>
                    <a:pt x="274" y="488"/>
                  </a:lnTo>
                  <a:lnTo>
                    <a:pt x="256" y="490"/>
                  </a:lnTo>
                  <a:lnTo>
                    <a:pt x="240" y="491"/>
                  </a:lnTo>
                  <a:lnTo>
                    <a:pt x="220" y="490"/>
                  </a:lnTo>
                  <a:lnTo>
                    <a:pt x="200" y="488"/>
                  </a:lnTo>
                  <a:lnTo>
                    <a:pt x="180" y="485"/>
                  </a:lnTo>
                  <a:lnTo>
                    <a:pt x="160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1" y="454"/>
                  </a:lnTo>
                  <a:lnTo>
                    <a:pt x="81" y="443"/>
                  </a:lnTo>
                  <a:lnTo>
                    <a:pt x="71" y="436"/>
                  </a:lnTo>
                  <a:lnTo>
                    <a:pt x="62" y="429"/>
                  </a:lnTo>
                  <a:lnTo>
                    <a:pt x="53" y="423"/>
                  </a:lnTo>
                  <a:lnTo>
                    <a:pt x="46" y="415"/>
                  </a:lnTo>
                  <a:lnTo>
                    <a:pt x="38" y="409"/>
                  </a:lnTo>
                  <a:lnTo>
                    <a:pt x="31" y="401"/>
                  </a:lnTo>
                  <a:lnTo>
                    <a:pt x="26" y="393"/>
                  </a:lnTo>
                  <a:lnTo>
                    <a:pt x="20" y="385"/>
                  </a:lnTo>
                  <a:lnTo>
                    <a:pt x="16" y="377"/>
                  </a:lnTo>
                  <a:lnTo>
                    <a:pt x="11" y="369"/>
                  </a:lnTo>
                  <a:lnTo>
                    <a:pt x="8" y="360"/>
                  </a:lnTo>
                  <a:lnTo>
                    <a:pt x="6" y="350"/>
                  </a:lnTo>
                  <a:lnTo>
                    <a:pt x="4" y="341"/>
                  </a:lnTo>
                  <a:lnTo>
                    <a:pt x="1" y="331"/>
                  </a:lnTo>
                  <a:lnTo>
                    <a:pt x="0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4" y="275"/>
                  </a:lnTo>
                  <a:lnTo>
                    <a:pt x="7" y="256"/>
                  </a:lnTo>
                  <a:lnTo>
                    <a:pt x="11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6" y="183"/>
                  </a:lnTo>
                  <a:lnTo>
                    <a:pt x="46" y="166"/>
                  </a:lnTo>
                  <a:lnTo>
                    <a:pt x="58" y="148"/>
                  </a:lnTo>
                  <a:lnTo>
                    <a:pt x="70" y="132"/>
                  </a:lnTo>
                  <a:lnTo>
                    <a:pt x="82" y="115"/>
                  </a:lnTo>
                  <a:lnTo>
                    <a:pt x="95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7" y="60"/>
                  </a:lnTo>
                  <a:lnTo>
                    <a:pt x="153" y="48"/>
                  </a:lnTo>
                  <a:lnTo>
                    <a:pt x="167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8" y="7"/>
                  </a:lnTo>
                  <a:lnTo>
                    <a:pt x="228" y="4"/>
                  </a:lnTo>
                  <a:lnTo>
                    <a:pt x="238" y="1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8288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7" h="460">
                  <a:moveTo>
                    <a:pt x="239" y="0"/>
                  </a:moveTo>
                  <a:lnTo>
                    <a:pt x="251" y="1"/>
                  </a:lnTo>
                  <a:lnTo>
                    <a:pt x="262" y="1"/>
                  </a:lnTo>
                  <a:lnTo>
                    <a:pt x="273" y="3"/>
                  </a:lnTo>
                  <a:lnTo>
                    <a:pt x="283" y="6"/>
                  </a:lnTo>
                  <a:lnTo>
                    <a:pt x="293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7" y="20"/>
                  </a:lnTo>
                  <a:lnTo>
                    <a:pt x="324" y="24"/>
                  </a:lnTo>
                  <a:lnTo>
                    <a:pt x="330" y="29"/>
                  </a:lnTo>
                  <a:lnTo>
                    <a:pt x="335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5" y="45"/>
                  </a:lnTo>
                  <a:lnTo>
                    <a:pt x="346" y="49"/>
                  </a:lnTo>
                  <a:lnTo>
                    <a:pt x="347" y="52"/>
                  </a:lnTo>
                  <a:lnTo>
                    <a:pt x="346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2" y="63"/>
                  </a:lnTo>
                  <a:lnTo>
                    <a:pt x="326" y="65"/>
                  </a:lnTo>
                  <a:lnTo>
                    <a:pt x="316" y="67"/>
                  </a:lnTo>
                  <a:lnTo>
                    <a:pt x="305" y="70"/>
                  </a:lnTo>
                  <a:lnTo>
                    <a:pt x="293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50" y="76"/>
                  </a:lnTo>
                  <a:lnTo>
                    <a:pt x="234" y="77"/>
                  </a:lnTo>
                  <a:lnTo>
                    <a:pt x="219" y="78"/>
                  </a:lnTo>
                  <a:lnTo>
                    <a:pt x="202" y="80"/>
                  </a:lnTo>
                  <a:lnTo>
                    <a:pt x="186" y="80"/>
                  </a:lnTo>
                  <a:lnTo>
                    <a:pt x="168" y="80"/>
                  </a:lnTo>
                  <a:lnTo>
                    <a:pt x="147" y="80"/>
                  </a:lnTo>
                  <a:lnTo>
                    <a:pt x="144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5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6" y="86"/>
                  </a:lnTo>
                  <a:lnTo>
                    <a:pt x="126" y="87"/>
                  </a:lnTo>
                  <a:lnTo>
                    <a:pt x="126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3" y="187"/>
                  </a:lnTo>
                  <a:lnTo>
                    <a:pt x="125" y="187"/>
                  </a:lnTo>
                  <a:lnTo>
                    <a:pt x="133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7" y="184"/>
                  </a:lnTo>
                  <a:lnTo>
                    <a:pt x="166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200" y="182"/>
                  </a:lnTo>
                  <a:lnTo>
                    <a:pt x="209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1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50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3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4" y="186"/>
                  </a:lnTo>
                  <a:lnTo>
                    <a:pt x="309" y="188"/>
                  </a:lnTo>
                  <a:lnTo>
                    <a:pt x="315" y="190"/>
                  </a:lnTo>
                  <a:lnTo>
                    <a:pt x="320" y="191"/>
                  </a:lnTo>
                  <a:lnTo>
                    <a:pt x="325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6" y="200"/>
                  </a:lnTo>
                  <a:lnTo>
                    <a:pt x="337" y="202"/>
                  </a:lnTo>
                  <a:lnTo>
                    <a:pt x="338" y="204"/>
                  </a:lnTo>
                  <a:lnTo>
                    <a:pt x="338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5" y="222"/>
                  </a:lnTo>
                  <a:lnTo>
                    <a:pt x="345" y="224"/>
                  </a:lnTo>
                  <a:lnTo>
                    <a:pt x="346" y="225"/>
                  </a:lnTo>
                  <a:lnTo>
                    <a:pt x="346" y="226"/>
                  </a:lnTo>
                  <a:lnTo>
                    <a:pt x="346" y="227"/>
                  </a:lnTo>
                  <a:lnTo>
                    <a:pt x="347" y="229"/>
                  </a:lnTo>
                  <a:lnTo>
                    <a:pt x="347" y="229"/>
                  </a:lnTo>
                  <a:lnTo>
                    <a:pt x="346" y="231"/>
                  </a:lnTo>
                  <a:lnTo>
                    <a:pt x="346" y="232"/>
                  </a:lnTo>
                  <a:lnTo>
                    <a:pt x="345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8" y="240"/>
                  </a:lnTo>
                  <a:lnTo>
                    <a:pt x="336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6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4" y="246"/>
                  </a:lnTo>
                  <a:lnTo>
                    <a:pt x="309" y="246"/>
                  </a:lnTo>
                  <a:lnTo>
                    <a:pt x="305" y="246"/>
                  </a:lnTo>
                  <a:lnTo>
                    <a:pt x="295" y="247"/>
                  </a:lnTo>
                  <a:lnTo>
                    <a:pt x="284" y="248"/>
                  </a:lnTo>
                  <a:lnTo>
                    <a:pt x="274" y="250"/>
                  </a:lnTo>
                  <a:lnTo>
                    <a:pt x="263" y="250"/>
                  </a:lnTo>
                  <a:lnTo>
                    <a:pt x="252" y="251"/>
                  </a:lnTo>
                  <a:lnTo>
                    <a:pt x="241" y="252"/>
                  </a:lnTo>
                  <a:lnTo>
                    <a:pt x="230" y="253"/>
                  </a:lnTo>
                  <a:lnTo>
                    <a:pt x="219" y="253"/>
                  </a:lnTo>
                  <a:lnTo>
                    <a:pt x="208" y="254"/>
                  </a:lnTo>
                  <a:lnTo>
                    <a:pt x="197" y="255"/>
                  </a:lnTo>
                  <a:lnTo>
                    <a:pt x="187" y="255"/>
                  </a:lnTo>
                  <a:lnTo>
                    <a:pt x="178" y="255"/>
                  </a:lnTo>
                  <a:lnTo>
                    <a:pt x="168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4" y="256"/>
                  </a:lnTo>
                  <a:lnTo>
                    <a:pt x="138" y="256"/>
                  </a:lnTo>
                  <a:lnTo>
                    <a:pt x="134" y="256"/>
                  </a:lnTo>
                  <a:lnTo>
                    <a:pt x="128" y="257"/>
                  </a:lnTo>
                  <a:lnTo>
                    <a:pt x="125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5" y="259"/>
                  </a:lnTo>
                  <a:lnTo>
                    <a:pt x="113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5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1" y="380"/>
                  </a:lnTo>
                  <a:lnTo>
                    <a:pt x="103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2" y="386"/>
                  </a:lnTo>
                  <a:lnTo>
                    <a:pt x="116" y="387"/>
                  </a:lnTo>
                  <a:lnTo>
                    <a:pt x="122" y="387"/>
                  </a:lnTo>
                  <a:lnTo>
                    <a:pt x="124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7" y="385"/>
                  </a:lnTo>
                  <a:lnTo>
                    <a:pt x="157" y="384"/>
                  </a:lnTo>
                  <a:lnTo>
                    <a:pt x="168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8" y="380"/>
                  </a:lnTo>
                  <a:lnTo>
                    <a:pt x="219" y="379"/>
                  </a:lnTo>
                  <a:lnTo>
                    <a:pt x="228" y="378"/>
                  </a:lnTo>
                  <a:lnTo>
                    <a:pt x="235" y="376"/>
                  </a:lnTo>
                  <a:lnTo>
                    <a:pt x="242" y="376"/>
                  </a:lnTo>
                  <a:lnTo>
                    <a:pt x="246" y="376"/>
                  </a:lnTo>
                  <a:lnTo>
                    <a:pt x="251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4" y="379"/>
                  </a:lnTo>
                  <a:lnTo>
                    <a:pt x="282" y="381"/>
                  </a:lnTo>
                  <a:lnTo>
                    <a:pt x="288" y="383"/>
                  </a:lnTo>
                  <a:lnTo>
                    <a:pt x="296" y="386"/>
                  </a:lnTo>
                  <a:lnTo>
                    <a:pt x="304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4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6" y="412"/>
                  </a:lnTo>
                  <a:lnTo>
                    <a:pt x="338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8" y="429"/>
                  </a:lnTo>
                  <a:lnTo>
                    <a:pt x="336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7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9" y="447"/>
                  </a:lnTo>
                  <a:lnTo>
                    <a:pt x="221" y="448"/>
                  </a:lnTo>
                  <a:lnTo>
                    <a:pt x="212" y="449"/>
                  </a:lnTo>
                  <a:lnTo>
                    <a:pt x="201" y="450"/>
                  </a:lnTo>
                  <a:lnTo>
                    <a:pt x="191" y="451"/>
                  </a:lnTo>
                  <a:lnTo>
                    <a:pt x="179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2" y="459"/>
                  </a:lnTo>
                  <a:lnTo>
                    <a:pt x="95" y="459"/>
                  </a:lnTo>
                  <a:lnTo>
                    <a:pt x="92" y="460"/>
                  </a:lnTo>
                  <a:lnTo>
                    <a:pt x="88" y="460"/>
                  </a:lnTo>
                  <a:lnTo>
                    <a:pt x="82" y="460"/>
                  </a:lnTo>
                  <a:lnTo>
                    <a:pt x="75" y="459"/>
                  </a:lnTo>
                  <a:lnTo>
                    <a:pt x="69" y="458"/>
                  </a:lnTo>
                  <a:lnTo>
                    <a:pt x="62" y="457"/>
                  </a:lnTo>
                  <a:lnTo>
                    <a:pt x="54" y="456"/>
                  </a:lnTo>
                  <a:lnTo>
                    <a:pt x="48" y="455"/>
                  </a:lnTo>
                  <a:lnTo>
                    <a:pt x="40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8" y="444"/>
                  </a:lnTo>
                  <a:lnTo>
                    <a:pt x="13" y="440"/>
                  </a:lnTo>
                  <a:lnTo>
                    <a:pt x="9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6" y="229"/>
                  </a:lnTo>
                  <a:lnTo>
                    <a:pt x="7" y="215"/>
                  </a:lnTo>
                  <a:lnTo>
                    <a:pt x="8" y="202"/>
                  </a:lnTo>
                  <a:lnTo>
                    <a:pt x="9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6" y="126"/>
                  </a:lnTo>
                  <a:lnTo>
                    <a:pt x="17" y="113"/>
                  </a:lnTo>
                  <a:lnTo>
                    <a:pt x="19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8" y="52"/>
                  </a:lnTo>
                  <a:lnTo>
                    <a:pt x="30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7" y="19"/>
                  </a:lnTo>
                  <a:lnTo>
                    <a:pt x="39" y="16"/>
                  </a:lnTo>
                  <a:lnTo>
                    <a:pt x="40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9" y="9"/>
                  </a:lnTo>
                  <a:lnTo>
                    <a:pt x="51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70" y="8"/>
                  </a:lnTo>
                  <a:lnTo>
                    <a:pt x="73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2" y="8"/>
                  </a:lnTo>
                  <a:lnTo>
                    <a:pt x="86" y="8"/>
                  </a:lnTo>
                  <a:lnTo>
                    <a:pt x="90" y="8"/>
                  </a:lnTo>
                  <a:lnTo>
                    <a:pt x="94" y="8"/>
                  </a:lnTo>
                  <a:lnTo>
                    <a:pt x="98" y="8"/>
                  </a:lnTo>
                  <a:lnTo>
                    <a:pt x="102" y="8"/>
                  </a:lnTo>
                  <a:lnTo>
                    <a:pt x="106" y="8"/>
                  </a:lnTo>
                  <a:lnTo>
                    <a:pt x="113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6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9" y="0"/>
                  </a:lnTo>
                  <a:lnTo>
                    <a:pt x="234" y="0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14496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8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1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1" y="183"/>
                  </a:lnTo>
                  <a:lnTo>
                    <a:pt x="190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3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5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3" y="186"/>
                  </a:lnTo>
                  <a:lnTo>
                    <a:pt x="308" y="188"/>
                  </a:lnTo>
                  <a:lnTo>
                    <a:pt x="314" y="190"/>
                  </a:lnTo>
                  <a:lnTo>
                    <a:pt x="319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8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3" y="256"/>
                  </a:lnTo>
                  <a:lnTo>
                    <a:pt x="137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1" y="258"/>
                  </a:lnTo>
                  <a:lnTo>
                    <a:pt x="117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7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1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4" y="376"/>
                  </a:lnTo>
                  <a:lnTo>
                    <a:pt x="241" y="376"/>
                  </a:lnTo>
                  <a:lnTo>
                    <a:pt x="245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5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39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7" y="460"/>
                  </a:lnTo>
                  <a:lnTo>
                    <a:pt x="81" y="460"/>
                  </a:lnTo>
                  <a:lnTo>
                    <a:pt x="74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3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8" y="444"/>
                  </a:lnTo>
                  <a:lnTo>
                    <a:pt x="12" y="440"/>
                  </a:lnTo>
                  <a:lnTo>
                    <a:pt x="8" y="437"/>
                  </a:lnTo>
                  <a:lnTo>
                    <a:pt x="5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3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4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1" y="8"/>
                  </a:lnTo>
                  <a:lnTo>
                    <a:pt x="105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3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14880" y="2293920"/>
              <a:ext cx="153720" cy="188280"/>
            </a:xfrm>
            <a:custGeom>
              <a:avLst/>
              <a:gdLst/>
              <a:ahLst/>
              <a:rect l="l" t="t" r="r" b="b"/>
              <a:pathLst>
                <a:path w="390" h="477">
                  <a:moveTo>
                    <a:pt x="252" y="423"/>
                  </a:moveTo>
                  <a:lnTo>
                    <a:pt x="243" y="429"/>
                  </a:lnTo>
                  <a:lnTo>
                    <a:pt x="234" y="435"/>
                  </a:lnTo>
                  <a:lnTo>
                    <a:pt x="225" y="439"/>
                  </a:lnTo>
                  <a:lnTo>
                    <a:pt x="216" y="445"/>
                  </a:lnTo>
                  <a:lnTo>
                    <a:pt x="206" y="449"/>
                  </a:lnTo>
                  <a:lnTo>
                    <a:pt x="197" y="454"/>
                  </a:lnTo>
                  <a:lnTo>
                    <a:pt x="187" y="458"/>
                  </a:lnTo>
                  <a:lnTo>
                    <a:pt x="178" y="462"/>
                  </a:lnTo>
                  <a:lnTo>
                    <a:pt x="168" y="466"/>
                  </a:lnTo>
                  <a:lnTo>
                    <a:pt x="159" y="469"/>
                  </a:lnTo>
                  <a:lnTo>
                    <a:pt x="151" y="471"/>
                  </a:lnTo>
                  <a:lnTo>
                    <a:pt x="143" y="474"/>
                  </a:lnTo>
                  <a:lnTo>
                    <a:pt x="135" y="476"/>
                  </a:lnTo>
                  <a:lnTo>
                    <a:pt x="127" y="477"/>
                  </a:lnTo>
                  <a:lnTo>
                    <a:pt x="121" y="477"/>
                  </a:lnTo>
                  <a:lnTo>
                    <a:pt x="114" y="477"/>
                  </a:lnTo>
                  <a:lnTo>
                    <a:pt x="110" y="477"/>
                  </a:lnTo>
                  <a:lnTo>
                    <a:pt x="105" y="477"/>
                  </a:lnTo>
                  <a:lnTo>
                    <a:pt x="99" y="476"/>
                  </a:lnTo>
                  <a:lnTo>
                    <a:pt x="92" y="475"/>
                  </a:lnTo>
                  <a:lnTo>
                    <a:pt x="84" y="474"/>
                  </a:lnTo>
                  <a:lnTo>
                    <a:pt x="77" y="471"/>
                  </a:lnTo>
                  <a:lnTo>
                    <a:pt x="68" y="469"/>
                  </a:lnTo>
                  <a:lnTo>
                    <a:pt x="59" y="466"/>
                  </a:lnTo>
                  <a:lnTo>
                    <a:pt x="49" y="464"/>
                  </a:lnTo>
                  <a:lnTo>
                    <a:pt x="41" y="461"/>
                  </a:lnTo>
                  <a:lnTo>
                    <a:pt x="34" y="458"/>
                  </a:lnTo>
                  <a:lnTo>
                    <a:pt x="27" y="456"/>
                  </a:lnTo>
                  <a:lnTo>
                    <a:pt x="21" y="454"/>
                  </a:lnTo>
                  <a:lnTo>
                    <a:pt x="17" y="451"/>
                  </a:lnTo>
                  <a:lnTo>
                    <a:pt x="13" y="449"/>
                  </a:lnTo>
                  <a:lnTo>
                    <a:pt x="10" y="447"/>
                  </a:lnTo>
                  <a:lnTo>
                    <a:pt x="8" y="445"/>
                  </a:lnTo>
                  <a:lnTo>
                    <a:pt x="6" y="442"/>
                  </a:lnTo>
                  <a:lnTo>
                    <a:pt x="5" y="438"/>
                  </a:lnTo>
                  <a:lnTo>
                    <a:pt x="3" y="434"/>
                  </a:lnTo>
                  <a:lnTo>
                    <a:pt x="3" y="428"/>
                  </a:lnTo>
                  <a:lnTo>
                    <a:pt x="2" y="422"/>
                  </a:lnTo>
                  <a:lnTo>
                    <a:pt x="2" y="415"/>
                  </a:lnTo>
                  <a:lnTo>
                    <a:pt x="0" y="406"/>
                  </a:lnTo>
                  <a:lnTo>
                    <a:pt x="4" y="42"/>
                  </a:lnTo>
                  <a:lnTo>
                    <a:pt x="0" y="28"/>
                  </a:lnTo>
                  <a:lnTo>
                    <a:pt x="2" y="27"/>
                  </a:lnTo>
                  <a:lnTo>
                    <a:pt x="3" y="24"/>
                  </a:lnTo>
                  <a:lnTo>
                    <a:pt x="4" y="22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3" y="16"/>
                  </a:lnTo>
                  <a:lnTo>
                    <a:pt x="16" y="13"/>
                  </a:lnTo>
                  <a:lnTo>
                    <a:pt x="20" y="11"/>
                  </a:lnTo>
                  <a:lnTo>
                    <a:pt x="26" y="8"/>
                  </a:lnTo>
                  <a:lnTo>
                    <a:pt x="31" y="6"/>
                  </a:lnTo>
                  <a:lnTo>
                    <a:pt x="37" y="5"/>
                  </a:lnTo>
                  <a:lnTo>
                    <a:pt x="41" y="2"/>
                  </a:lnTo>
                  <a:lnTo>
                    <a:pt x="47" y="1"/>
                  </a:lnTo>
                  <a:lnTo>
                    <a:pt x="53" y="1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89" y="0"/>
                  </a:lnTo>
                  <a:lnTo>
                    <a:pt x="112" y="1"/>
                  </a:lnTo>
                  <a:lnTo>
                    <a:pt x="134" y="3"/>
                  </a:lnTo>
                  <a:lnTo>
                    <a:pt x="155" y="6"/>
                  </a:lnTo>
                  <a:lnTo>
                    <a:pt x="175" y="9"/>
                  </a:lnTo>
                  <a:lnTo>
                    <a:pt x="194" y="13"/>
                  </a:lnTo>
                  <a:lnTo>
                    <a:pt x="211" y="19"/>
                  </a:lnTo>
                  <a:lnTo>
                    <a:pt x="228" y="24"/>
                  </a:lnTo>
                  <a:lnTo>
                    <a:pt x="243" y="30"/>
                  </a:lnTo>
                  <a:lnTo>
                    <a:pt x="258" y="37"/>
                  </a:lnTo>
                  <a:lnTo>
                    <a:pt x="271" y="43"/>
                  </a:lnTo>
                  <a:lnTo>
                    <a:pt x="283" y="51"/>
                  </a:lnTo>
                  <a:lnTo>
                    <a:pt x="295" y="57"/>
                  </a:lnTo>
                  <a:lnTo>
                    <a:pt x="306" y="65"/>
                  </a:lnTo>
                  <a:lnTo>
                    <a:pt x="316" y="73"/>
                  </a:lnTo>
                  <a:lnTo>
                    <a:pt x="325" y="82"/>
                  </a:lnTo>
                  <a:lnTo>
                    <a:pt x="333" y="89"/>
                  </a:lnTo>
                  <a:lnTo>
                    <a:pt x="340" y="98"/>
                  </a:lnTo>
                  <a:lnTo>
                    <a:pt x="347" y="107"/>
                  </a:lnTo>
                  <a:lnTo>
                    <a:pt x="354" y="115"/>
                  </a:lnTo>
                  <a:lnTo>
                    <a:pt x="360" y="124"/>
                  </a:lnTo>
                  <a:lnTo>
                    <a:pt x="366" y="133"/>
                  </a:lnTo>
                  <a:lnTo>
                    <a:pt x="370" y="141"/>
                  </a:lnTo>
                  <a:lnTo>
                    <a:pt x="375" y="150"/>
                  </a:lnTo>
                  <a:lnTo>
                    <a:pt x="378" y="159"/>
                  </a:lnTo>
                  <a:lnTo>
                    <a:pt x="381" y="168"/>
                  </a:lnTo>
                  <a:lnTo>
                    <a:pt x="384" y="177"/>
                  </a:lnTo>
                  <a:lnTo>
                    <a:pt x="386" y="185"/>
                  </a:lnTo>
                  <a:lnTo>
                    <a:pt x="388" y="193"/>
                  </a:lnTo>
                  <a:lnTo>
                    <a:pt x="389" y="202"/>
                  </a:lnTo>
                  <a:lnTo>
                    <a:pt x="390" y="211"/>
                  </a:lnTo>
                  <a:lnTo>
                    <a:pt x="390" y="220"/>
                  </a:lnTo>
                  <a:lnTo>
                    <a:pt x="389" y="233"/>
                  </a:lnTo>
                  <a:lnTo>
                    <a:pt x="388" y="246"/>
                  </a:lnTo>
                  <a:lnTo>
                    <a:pt x="385" y="259"/>
                  </a:lnTo>
                  <a:lnTo>
                    <a:pt x="381" y="273"/>
                  </a:lnTo>
                  <a:lnTo>
                    <a:pt x="376" y="286"/>
                  </a:lnTo>
                  <a:lnTo>
                    <a:pt x="370" y="299"/>
                  </a:lnTo>
                  <a:lnTo>
                    <a:pt x="363" y="312"/>
                  </a:lnTo>
                  <a:lnTo>
                    <a:pt x="354" y="327"/>
                  </a:lnTo>
                  <a:lnTo>
                    <a:pt x="345" y="340"/>
                  </a:lnTo>
                  <a:lnTo>
                    <a:pt x="334" y="352"/>
                  </a:lnTo>
                  <a:lnTo>
                    <a:pt x="323" y="365"/>
                  </a:lnTo>
                  <a:lnTo>
                    <a:pt x="311" y="378"/>
                  </a:lnTo>
                  <a:lnTo>
                    <a:pt x="297" y="390"/>
                  </a:lnTo>
                  <a:lnTo>
                    <a:pt x="283" y="401"/>
                  </a:lnTo>
                  <a:lnTo>
                    <a:pt x="269" y="412"/>
                  </a:lnTo>
                  <a:lnTo>
                    <a:pt x="252" y="423"/>
                  </a:lnTo>
                  <a:close/>
                  <a:moveTo>
                    <a:pt x="136" y="59"/>
                  </a:moveTo>
                  <a:lnTo>
                    <a:pt x="133" y="59"/>
                  </a:lnTo>
                  <a:lnTo>
                    <a:pt x="131" y="59"/>
                  </a:lnTo>
                  <a:lnTo>
                    <a:pt x="127" y="60"/>
                  </a:lnTo>
                  <a:lnTo>
                    <a:pt x="125" y="60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0" y="63"/>
                  </a:lnTo>
                  <a:lnTo>
                    <a:pt x="119" y="64"/>
                  </a:lnTo>
                  <a:lnTo>
                    <a:pt x="117" y="65"/>
                  </a:lnTo>
                  <a:lnTo>
                    <a:pt x="117" y="67"/>
                  </a:lnTo>
                  <a:lnTo>
                    <a:pt x="116" y="70"/>
                  </a:lnTo>
                  <a:lnTo>
                    <a:pt x="115" y="73"/>
                  </a:lnTo>
                  <a:lnTo>
                    <a:pt x="115" y="76"/>
                  </a:lnTo>
                  <a:lnTo>
                    <a:pt x="115" y="80"/>
                  </a:lnTo>
                  <a:lnTo>
                    <a:pt x="114" y="84"/>
                  </a:lnTo>
                  <a:lnTo>
                    <a:pt x="114" y="88"/>
                  </a:lnTo>
                  <a:lnTo>
                    <a:pt x="114" y="97"/>
                  </a:lnTo>
                  <a:lnTo>
                    <a:pt x="114" y="107"/>
                  </a:lnTo>
                  <a:lnTo>
                    <a:pt x="114" y="116"/>
                  </a:lnTo>
                  <a:lnTo>
                    <a:pt x="113" y="126"/>
                  </a:lnTo>
                  <a:lnTo>
                    <a:pt x="113" y="136"/>
                  </a:lnTo>
                  <a:lnTo>
                    <a:pt x="113" y="146"/>
                  </a:lnTo>
                  <a:lnTo>
                    <a:pt x="113" y="157"/>
                  </a:lnTo>
                  <a:lnTo>
                    <a:pt x="113" y="167"/>
                  </a:lnTo>
                  <a:lnTo>
                    <a:pt x="112" y="178"/>
                  </a:lnTo>
                  <a:lnTo>
                    <a:pt x="112" y="189"/>
                  </a:lnTo>
                  <a:lnTo>
                    <a:pt x="112" y="200"/>
                  </a:lnTo>
                  <a:lnTo>
                    <a:pt x="112" y="212"/>
                  </a:lnTo>
                  <a:lnTo>
                    <a:pt x="112" y="223"/>
                  </a:lnTo>
                  <a:lnTo>
                    <a:pt x="112" y="234"/>
                  </a:lnTo>
                  <a:lnTo>
                    <a:pt x="112" y="246"/>
                  </a:lnTo>
                  <a:lnTo>
                    <a:pt x="112" y="258"/>
                  </a:lnTo>
                  <a:lnTo>
                    <a:pt x="112" y="265"/>
                  </a:lnTo>
                  <a:lnTo>
                    <a:pt x="112" y="273"/>
                  </a:lnTo>
                  <a:lnTo>
                    <a:pt x="112" y="280"/>
                  </a:lnTo>
                  <a:lnTo>
                    <a:pt x="112" y="287"/>
                  </a:lnTo>
                  <a:lnTo>
                    <a:pt x="112" y="295"/>
                  </a:lnTo>
                  <a:lnTo>
                    <a:pt x="112" y="301"/>
                  </a:lnTo>
                  <a:lnTo>
                    <a:pt x="112" y="308"/>
                  </a:lnTo>
                  <a:lnTo>
                    <a:pt x="112" y="315"/>
                  </a:lnTo>
                  <a:lnTo>
                    <a:pt x="112" y="321"/>
                  </a:lnTo>
                  <a:lnTo>
                    <a:pt x="113" y="327"/>
                  </a:lnTo>
                  <a:lnTo>
                    <a:pt x="113" y="332"/>
                  </a:lnTo>
                  <a:lnTo>
                    <a:pt x="113" y="337"/>
                  </a:lnTo>
                  <a:lnTo>
                    <a:pt x="113" y="341"/>
                  </a:lnTo>
                  <a:lnTo>
                    <a:pt x="114" y="346"/>
                  </a:lnTo>
                  <a:lnTo>
                    <a:pt x="114" y="349"/>
                  </a:lnTo>
                  <a:lnTo>
                    <a:pt x="114" y="352"/>
                  </a:lnTo>
                  <a:lnTo>
                    <a:pt x="114" y="353"/>
                  </a:lnTo>
                  <a:lnTo>
                    <a:pt x="114" y="354"/>
                  </a:lnTo>
                  <a:lnTo>
                    <a:pt x="114" y="355"/>
                  </a:lnTo>
                  <a:lnTo>
                    <a:pt x="114" y="357"/>
                  </a:lnTo>
                  <a:lnTo>
                    <a:pt x="114" y="358"/>
                  </a:lnTo>
                  <a:lnTo>
                    <a:pt x="114" y="358"/>
                  </a:lnTo>
                  <a:lnTo>
                    <a:pt x="114" y="359"/>
                  </a:lnTo>
                  <a:lnTo>
                    <a:pt x="114" y="360"/>
                  </a:lnTo>
                  <a:lnTo>
                    <a:pt x="114" y="364"/>
                  </a:lnTo>
                  <a:lnTo>
                    <a:pt x="114" y="369"/>
                  </a:lnTo>
                  <a:lnTo>
                    <a:pt x="115" y="372"/>
                  </a:lnTo>
                  <a:lnTo>
                    <a:pt x="115" y="376"/>
                  </a:lnTo>
                  <a:lnTo>
                    <a:pt x="115" y="380"/>
                  </a:lnTo>
                  <a:lnTo>
                    <a:pt x="115" y="383"/>
                  </a:lnTo>
                  <a:lnTo>
                    <a:pt x="116" y="386"/>
                  </a:lnTo>
                  <a:lnTo>
                    <a:pt x="116" y="389"/>
                  </a:lnTo>
                  <a:lnTo>
                    <a:pt x="117" y="391"/>
                  </a:lnTo>
                  <a:lnTo>
                    <a:pt x="117" y="393"/>
                  </a:lnTo>
                  <a:lnTo>
                    <a:pt x="119" y="395"/>
                  </a:lnTo>
                  <a:lnTo>
                    <a:pt x="120" y="396"/>
                  </a:lnTo>
                  <a:lnTo>
                    <a:pt x="121" y="397"/>
                  </a:lnTo>
                  <a:lnTo>
                    <a:pt x="122" y="398"/>
                  </a:lnTo>
                  <a:lnTo>
                    <a:pt x="123" y="398"/>
                  </a:lnTo>
                  <a:lnTo>
                    <a:pt x="125" y="400"/>
                  </a:lnTo>
                  <a:lnTo>
                    <a:pt x="126" y="398"/>
                  </a:lnTo>
                  <a:lnTo>
                    <a:pt x="128" y="398"/>
                  </a:lnTo>
                  <a:lnTo>
                    <a:pt x="131" y="397"/>
                  </a:lnTo>
                  <a:lnTo>
                    <a:pt x="133" y="396"/>
                  </a:lnTo>
                  <a:lnTo>
                    <a:pt x="136" y="394"/>
                  </a:lnTo>
                  <a:lnTo>
                    <a:pt x="140" y="392"/>
                  </a:lnTo>
                  <a:lnTo>
                    <a:pt x="144" y="389"/>
                  </a:lnTo>
                  <a:lnTo>
                    <a:pt x="148" y="386"/>
                  </a:lnTo>
                  <a:lnTo>
                    <a:pt x="153" y="382"/>
                  </a:lnTo>
                  <a:lnTo>
                    <a:pt x="157" y="379"/>
                  </a:lnTo>
                  <a:lnTo>
                    <a:pt x="163" y="374"/>
                  </a:lnTo>
                  <a:lnTo>
                    <a:pt x="168" y="370"/>
                  </a:lnTo>
                  <a:lnTo>
                    <a:pt x="174" y="364"/>
                  </a:lnTo>
                  <a:lnTo>
                    <a:pt x="179" y="359"/>
                  </a:lnTo>
                  <a:lnTo>
                    <a:pt x="186" y="352"/>
                  </a:lnTo>
                  <a:lnTo>
                    <a:pt x="193" y="346"/>
                  </a:lnTo>
                  <a:lnTo>
                    <a:pt x="199" y="339"/>
                  </a:lnTo>
                  <a:lnTo>
                    <a:pt x="206" y="332"/>
                  </a:lnTo>
                  <a:lnTo>
                    <a:pt x="211" y="326"/>
                  </a:lnTo>
                  <a:lnTo>
                    <a:pt x="218" y="318"/>
                  </a:lnTo>
                  <a:lnTo>
                    <a:pt x="223" y="310"/>
                  </a:lnTo>
                  <a:lnTo>
                    <a:pt x="229" y="304"/>
                  </a:lnTo>
                  <a:lnTo>
                    <a:pt x="234" y="296"/>
                  </a:lnTo>
                  <a:lnTo>
                    <a:pt x="240" y="288"/>
                  </a:lnTo>
                  <a:lnTo>
                    <a:pt x="246" y="279"/>
                  </a:lnTo>
                  <a:lnTo>
                    <a:pt x="250" y="272"/>
                  </a:lnTo>
                  <a:lnTo>
                    <a:pt x="253" y="262"/>
                  </a:lnTo>
                  <a:lnTo>
                    <a:pt x="257" y="252"/>
                  </a:lnTo>
                  <a:lnTo>
                    <a:pt x="259" y="242"/>
                  </a:lnTo>
                  <a:lnTo>
                    <a:pt x="260" y="231"/>
                  </a:lnTo>
                  <a:lnTo>
                    <a:pt x="261" y="220"/>
                  </a:lnTo>
                  <a:lnTo>
                    <a:pt x="262" y="208"/>
                  </a:lnTo>
                  <a:lnTo>
                    <a:pt x="261" y="195"/>
                  </a:lnTo>
                  <a:lnTo>
                    <a:pt x="260" y="183"/>
                  </a:lnTo>
                  <a:lnTo>
                    <a:pt x="257" y="171"/>
                  </a:lnTo>
                  <a:lnTo>
                    <a:pt x="253" y="159"/>
                  </a:lnTo>
                  <a:lnTo>
                    <a:pt x="249" y="147"/>
                  </a:lnTo>
                  <a:lnTo>
                    <a:pt x="243" y="135"/>
                  </a:lnTo>
                  <a:lnTo>
                    <a:pt x="237" y="123"/>
                  </a:lnTo>
                  <a:lnTo>
                    <a:pt x="229" y="109"/>
                  </a:lnTo>
                  <a:lnTo>
                    <a:pt x="221" y="97"/>
                  </a:lnTo>
                  <a:lnTo>
                    <a:pt x="211" y="87"/>
                  </a:lnTo>
                  <a:lnTo>
                    <a:pt x="201" y="78"/>
                  </a:lnTo>
                  <a:lnTo>
                    <a:pt x="190" y="72"/>
                  </a:lnTo>
                  <a:lnTo>
                    <a:pt x="178" y="66"/>
                  </a:lnTo>
                  <a:lnTo>
                    <a:pt x="165" y="62"/>
                  </a:lnTo>
                  <a:lnTo>
                    <a:pt x="152" y="60"/>
                  </a:lnTo>
                  <a:lnTo>
                    <a:pt x="136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49884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6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1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9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2" y="418"/>
                  </a:lnTo>
                  <a:lnTo>
                    <a:pt x="49" y="416"/>
                  </a:lnTo>
                  <a:lnTo>
                    <a:pt x="44" y="413"/>
                  </a:lnTo>
                  <a:lnTo>
                    <a:pt x="41" y="409"/>
                  </a:lnTo>
                  <a:lnTo>
                    <a:pt x="37" y="406"/>
                  </a:lnTo>
                  <a:lnTo>
                    <a:pt x="32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8" y="377"/>
                  </a:lnTo>
                  <a:lnTo>
                    <a:pt x="16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5" y="331"/>
                  </a:lnTo>
                  <a:lnTo>
                    <a:pt x="3" y="320"/>
                  </a:lnTo>
                  <a:lnTo>
                    <a:pt x="1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0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5" y="189"/>
                  </a:lnTo>
                  <a:lnTo>
                    <a:pt x="6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6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0" y="30"/>
                  </a:lnTo>
                  <a:lnTo>
                    <a:pt x="21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7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5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6" y="8"/>
                  </a:lnTo>
                  <a:lnTo>
                    <a:pt x="64" y="9"/>
                  </a:lnTo>
                  <a:lnTo>
                    <a:pt x="72" y="9"/>
                  </a:lnTo>
                  <a:lnTo>
                    <a:pt x="80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5" y="17"/>
                  </a:lnTo>
                  <a:lnTo>
                    <a:pt x="110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2" y="214"/>
                  </a:lnTo>
                  <a:lnTo>
                    <a:pt x="112" y="217"/>
                  </a:lnTo>
                  <a:lnTo>
                    <a:pt x="112" y="217"/>
                  </a:lnTo>
                  <a:lnTo>
                    <a:pt x="112" y="218"/>
                  </a:lnTo>
                  <a:lnTo>
                    <a:pt x="112" y="221"/>
                  </a:lnTo>
                  <a:lnTo>
                    <a:pt x="112" y="223"/>
                  </a:lnTo>
                  <a:lnTo>
                    <a:pt x="112" y="226"/>
                  </a:lnTo>
                  <a:lnTo>
                    <a:pt x="112" y="229"/>
                  </a:lnTo>
                  <a:lnTo>
                    <a:pt x="112" y="234"/>
                  </a:lnTo>
                  <a:lnTo>
                    <a:pt x="112" y="238"/>
                  </a:lnTo>
                  <a:lnTo>
                    <a:pt x="112" y="244"/>
                  </a:lnTo>
                  <a:lnTo>
                    <a:pt x="112" y="248"/>
                  </a:lnTo>
                  <a:lnTo>
                    <a:pt x="112" y="253"/>
                  </a:lnTo>
                  <a:lnTo>
                    <a:pt x="112" y="257"/>
                  </a:lnTo>
                  <a:lnTo>
                    <a:pt x="112" y="262"/>
                  </a:lnTo>
                  <a:lnTo>
                    <a:pt x="112" y="266"/>
                  </a:lnTo>
                  <a:lnTo>
                    <a:pt x="112" y="270"/>
                  </a:lnTo>
                  <a:lnTo>
                    <a:pt x="112" y="275"/>
                  </a:lnTo>
                  <a:lnTo>
                    <a:pt x="112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3" y="380"/>
                  </a:lnTo>
                  <a:lnTo>
                    <a:pt x="136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4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9" y="349"/>
                  </a:lnTo>
                  <a:lnTo>
                    <a:pt x="234" y="337"/>
                  </a:lnTo>
                  <a:lnTo>
                    <a:pt x="239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50" y="257"/>
                  </a:lnTo>
                  <a:lnTo>
                    <a:pt x="251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4" y="18"/>
                  </a:lnTo>
                  <a:lnTo>
                    <a:pt x="255" y="14"/>
                  </a:lnTo>
                  <a:lnTo>
                    <a:pt x="256" y="11"/>
                  </a:lnTo>
                  <a:lnTo>
                    <a:pt x="258" y="9"/>
                  </a:lnTo>
                  <a:lnTo>
                    <a:pt x="260" y="7"/>
                  </a:lnTo>
                  <a:lnTo>
                    <a:pt x="262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1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1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5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6" y="9"/>
                  </a:lnTo>
                  <a:lnTo>
                    <a:pt x="360" y="10"/>
                  </a:lnTo>
                  <a:lnTo>
                    <a:pt x="363" y="12"/>
                  </a:lnTo>
                  <a:lnTo>
                    <a:pt x="367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2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7" y="21"/>
                  </a:lnTo>
                  <a:lnTo>
                    <a:pt x="377" y="23"/>
                  </a:lnTo>
                  <a:lnTo>
                    <a:pt x="377" y="25"/>
                  </a:lnTo>
                  <a:lnTo>
                    <a:pt x="377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5" y="403"/>
                  </a:lnTo>
                  <a:lnTo>
                    <a:pt x="329" y="410"/>
                  </a:lnTo>
                  <a:lnTo>
                    <a:pt x="324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2" y="445"/>
                  </a:lnTo>
                  <a:lnTo>
                    <a:pt x="284" y="448"/>
                  </a:lnTo>
                  <a:lnTo>
                    <a:pt x="275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50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199" y="463"/>
                  </a:lnTo>
                  <a:lnTo>
                    <a:pt x="196" y="462"/>
                  </a:lnTo>
                  <a:lnTo>
                    <a:pt x="192" y="462"/>
                  </a:lnTo>
                  <a:lnTo>
                    <a:pt x="188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6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5" y="458"/>
                  </a:lnTo>
                  <a:lnTo>
                    <a:pt x="161" y="457"/>
                  </a:lnTo>
                  <a:lnTo>
                    <a:pt x="159" y="456"/>
                  </a:lnTo>
                  <a:lnTo>
                    <a:pt x="156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76680" y="2293920"/>
              <a:ext cx="169920" cy="194760"/>
            </a:xfrm>
            <a:custGeom>
              <a:avLst/>
              <a:gdLst/>
              <a:ahLst/>
              <a:rect l="l" t="t" r="r" b="b"/>
              <a:pathLst>
                <a:path w="426" h="491">
                  <a:moveTo>
                    <a:pt x="246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1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5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2" y="10"/>
                  </a:lnTo>
                  <a:lnTo>
                    <a:pt x="297" y="11"/>
                  </a:lnTo>
                  <a:lnTo>
                    <a:pt x="301" y="13"/>
                  </a:lnTo>
                  <a:lnTo>
                    <a:pt x="305" y="15"/>
                  </a:lnTo>
                  <a:lnTo>
                    <a:pt x="310" y="16"/>
                  </a:lnTo>
                  <a:lnTo>
                    <a:pt x="314" y="18"/>
                  </a:lnTo>
                  <a:lnTo>
                    <a:pt x="324" y="20"/>
                  </a:lnTo>
                  <a:lnTo>
                    <a:pt x="333" y="23"/>
                  </a:lnTo>
                  <a:lnTo>
                    <a:pt x="342" y="28"/>
                  </a:lnTo>
                  <a:lnTo>
                    <a:pt x="350" y="32"/>
                  </a:lnTo>
                  <a:lnTo>
                    <a:pt x="356" y="37"/>
                  </a:lnTo>
                  <a:lnTo>
                    <a:pt x="363" y="42"/>
                  </a:lnTo>
                  <a:lnTo>
                    <a:pt x="368" y="48"/>
                  </a:lnTo>
                  <a:lnTo>
                    <a:pt x="374" y="54"/>
                  </a:lnTo>
                  <a:lnTo>
                    <a:pt x="378" y="61"/>
                  </a:lnTo>
                  <a:lnTo>
                    <a:pt x="383" y="69"/>
                  </a:lnTo>
                  <a:lnTo>
                    <a:pt x="386" y="76"/>
                  </a:lnTo>
                  <a:lnTo>
                    <a:pt x="389" y="85"/>
                  </a:lnTo>
                  <a:lnTo>
                    <a:pt x="392" y="94"/>
                  </a:lnTo>
                  <a:lnTo>
                    <a:pt x="393" y="104"/>
                  </a:lnTo>
                  <a:lnTo>
                    <a:pt x="394" y="115"/>
                  </a:lnTo>
                  <a:lnTo>
                    <a:pt x="394" y="126"/>
                  </a:lnTo>
                  <a:lnTo>
                    <a:pt x="394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0" y="155"/>
                  </a:lnTo>
                  <a:lnTo>
                    <a:pt x="388" y="160"/>
                  </a:lnTo>
                  <a:lnTo>
                    <a:pt x="386" y="166"/>
                  </a:lnTo>
                  <a:lnTo>
                    <a:pt x="384" y="170"/>
                  </a:lnTo>
                  <a:lnTo>
                    <a:pt x="381" y="175"/>
                  </a:lnTo>
                  <a:lnTo>
                    <a:pt x="376" y="178"/>
                  </a:lnTo>
                  <a:lnTo>
                    <a:pt x="372" y="181"/>
                  </a:lnTo>
                  <a:lnTo>
                    <a:pt x="367" y="183"/>
                  </a:lnTo>
                  <a:lnTo>
                    <a:pt x="362" y="186"/>
                  </a:lnTo>
                  <a:lnTo>
                    <a:pt x="356" y="188"/>
                  </a:lnTo>
                  <a:lnTo>
                    <a:pt x="350" y="189"/>
                  </a:lnTo>
                  <a:lnTo>
                    <a:pt x="343" y="189"/>
                  </a:lnTo>
                  <a:lnTo>
                    <a:pt x="335" y="189"/>
                  </a:lnTo>
                  <a:lnTo>
                    <a:pt x="322" y="189"/>
                  </a:lnTo>
                  <a:lnTo>
                    <a:pt x="310" y="187"/>
                  </a:lnTo>
                  <a:lnTo>
                    <a:pt x="300" y="184"/>
                  </a:lnTo>
                  <a:lnTo>
                    <a:pt x="290" y="180"/>
                  </a:lnTo>
                  <a:lnTo>
                    <a:pt x="282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5" y="146"/>
                  </a:lnTo>
                  <a:lnTo>
                    <a:pt x="261" y="137"/>
                  </a:lnTo>
                  <a:lnTo>
                    <a:pt x="259" y="129"/>
                  </a:lnTo>
                  <a:lnTo>
                    <a:pt x="257" y="122"/>
                  </a:lnTo>
                  <a:lnTo>
                    <a:pt x="254" y="115"/>
                  </a:lnTo>
                  <a:lnTo>
                    <a:pt x="251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5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3" y="139"/>
                  </a:lnTo>
                  <a:lnTo>
                    <a:pt x="181" y="156"/>
                  </a:lnTo>
                  <a:lnTo>
                    <a:pt x="166" y="175"/>
                  </a:lnTo>
                  <a:lnTo>
                    <a:pt x="153" y="194"/>
                  </a:lnTo>
                  <a:lnTo>
                    <a:pt x="141" y="214"/>
                  </a:lnTo>
                  <a:lnTo>
                    <a:pt x="131" y="233"/>
                  </a:lnTo>
                  <a:lnTo>
                    <a:pt x="123" y="252"/>
                  </a:lnTo>
                  <a:lnTo>
                    <a:pt x="118" y="271"/>
                  </a:lnTo>
                  <a:lnTo>
                    <a:pt x="112" y="289"/>
                  </a:lnTo>
                  <a:lnTo>
                    <a:pt x="110" y="308"/>
                  </a:lnTo>
                  <a:lnTo>
                    <a:pt x="109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2" y="357"/>
                  </a:lnTo>
                  <a:lnTo>
                    <a:pt x="116" y="365"/>
                  </a:lnTo>
                  <a:lnTo>
                    <a:pt x="119" y="374"/>
                  </a:lnTo>
                  <a:lnTo>
                    <a:pt x="123" y="382"/>
                  </a:lnTo>
                  <a:lnTo>
                    <a:pt x="129" y="391"/>
                  </a:lnTo>
                  <a:lnTo>
                    <a:pt x="134" y="397"/>
                  </a:lnTo>
                  <a:lnTo>
                    <a:pt x="141" y="404"/>
                  </a:lnTo>
                  <a:lnTo>
                    <a:pt x="148" y="411"/>
                  </a:lnTo>
                  <a:lnTo>
                    <a:pt x="155" y="415"/>
                  </a:lnTo>
                  <a:lnTo>
                    <a:pt x="163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8" y="426"/>
                  </a:lnTo>
                  <a:lnTo>
                    <a:pt x="198" y="426"/>
                  </a:lnTo>
                  <a:lnTo>
                    <a:pt x="212" y="426"/>
                  </a:lnTo>
                  <a:lnTo>
                    <a:pt x="225" y="424"/>
                  </a:lnTo>
                  <a:lnTo>
                    <a:pt x="238" y="421"/>
                  </a:lnTo>
                  <a:lnTo>
                    <a:pt x="250" y="416"/>
                  </a:lnTo>
                  <a:lnTo>
                    <a:pt x="262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9" y="388"/>
                  </a:lnTo>
                  <a:lnTo>
                    <a:pt x="309" y="377"/>
                  </a:lnTo>
                  <a:lnTo>
                    <a:pt x="320" y="367"/>
                  </a:lnTo>
                  <a:lnTo>
                    <a:pt x="330" y="356"/>
                  </a:lnTo>
                  <a:lnTo>
                    <a:pt x="341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2" y="313"/>
                  </a:lnTo>
                  <a:lnTo>
                    <a:pt x="382" y="303"/>
                  </a:lnTo>
                  <a:lnTo>
                    <a:pt x="385" y="303"/>
                  </a:lnTo>
                  <a:lnTo>
                    <a:pt x="388" y="304"/>
                  </a:lnTo>
                  <a:lnTo>
                    <a:pt x="392" y="305"/>
                  </a:lnTo>
                  <a:lnTo>
                    <a:pt x="395" y="306"/>
                  </a:lnTo>
                  <a:lnTo>
                    <a:pt x="398" y="308"/>
                  </a:lnTo>
                  <a:lnTo>
                    <a:pt x="401" y="310"/>
                  </a:lnTo>
                  <a:lnTo>
                    <a:pt x="406" y="314"/>
                  </a:lnTo>
                  <a:lnTo>
                    <a:pt x="409" y="317"/>
                  </a:lnTo>
                  <a:lnTo>
                    <a:pt x="414" y="320"/>
                  </a:lnTo>
                  <a:lnTo>
                    <a:pt x="417" y="324"/>
                  </a:lnTo>
                  <a:lnTo>
                    <a:pt x="419" y="327"/>
                  </a:lnTo>
                  <a:lnTo>
                    <a:pt x="421" y="330"/>
                  </a:lnTo>
                  <a:lnTo>
                    <a:pt x="424" y="333"/>
                  </a:lnTo>
                  <a:lnTo>
                    <a:pt x="425" y="336"/>
                  </a:lnTo>
                  <a:lnTo>
                    <a:pt x="425" y="338"/>
                  </a:lnTo>
                  <a:lnTo>
                    <a:pt x="426" y="341"/>
                  </a:lnTo>
                  <a:lnTo>
                    <a:pt x="425" y="353"/>
                  </a:lnTo>
                  <a:lnTo>
                    <a:pt x="421" y="367"/>
                  </a:lnTo>
                  <a:lnTo>
                    <a:pt x="417" y="379"/>
                  </a:lnTo>
                  <a:lnTo>
                    <a:pt x="410" y="392"/>
                  </a:lnTo>
                  <a:lnTo>
                    <a:pt x="403" y="404"/>
                  </a:lnTo>
                  <a:lnTo>
                    <a:pt x="393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3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7" y="479"/>
                  </a:lnTo>
                  <a:lnTo>
                    <a:pt x="290" y="485"/>
                  </a:lnTo>
                  <a:lnTo>
                    <a:pt x="273" y="488"/>
                  </a:lnTo>
                  <a:lnTo>
                    <a:pt x="257" y="490"/>
                  </a:lnTo>
                  <a:lnTo>
                    <a:pt x="239" y="491"/>
                  </a:lnTo>
                  <a:lnTo>
                    <a:pt x="219" y="490"/>
                  </a:lnTo>
                  <a:lnTo>
                    <a:pt x="201" y="488"/>
                  </a:lnTo>
                  <a:lnTo>
                    <a:pt x="181" y="485"/>
                  </a:lnTo>
                  <a:lnTo>
                    <a:pt x="161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0" y="454"/>
                  </a:lnTo>
                  <a:lnTo>
                    <a:pt x="80" y="443"/>
                  </a:lnTo>
                  <a:lnTo>
                    <a:pt x="70" y="436"/>
                  </a:lnTo>
                  <a:lnTo>
                    <a:pt x="61" y="429"/>
                  </a:lnTo>
                  <a:lnTo>
                    <a:pt x="53" y="423"/>
                  </a:lnTo>
                  <a:lnTo>
                    <a:pt x="45" y="415"/>
                  </a:lnTo>
                  <a:lnTo>
                    <a:pt x="38" y="409"/>
                  </a:lnTo>
                  <a:lnTo>
                    <a:pt x="32" y="401"/>
                  </a:lnTo>
                  <a:lnTo>
                    <a:pt x="25" y="393"/>
                  </a:lnTo>
                  <a:lnTo>
                    <a:pt x="21" y="385"/>
                  </a:lnTo>
                  <a:lnTo>
                    <a:pt x="15" y="377"/>
                  </a:lnTo>
                  <a:lnTo>
                    <a:pt x="12" y="369"/>
                  </a:lnTo>
                  <a:lnTo>
                    <a:pt x="8" y="360"/>
                  </a:lnTo>
                  <a:lnTo>
                    <a:pt x="5" y="350"/>
                  </a:lnTo>
                  <a:lnTo>
                    <a:pt x="3" y="341"/>
                  </a:lnTo>
                  <a:lnTo>
                    <a:pt x="2" y="331"/>
                  </a:lnTo>
                  <a:lnTo>
                    <a:pt x="1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3" y="275"/>
                  </a:lnTo>
                  <a:lnTo>
                    <a:pt x="6" y="256"/>
                  </a:lnTo>
                  <a:lnTo>
                    <a:pt x="12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5" y="183"/>
                  </a:lnTo>
                  <a:lnTo>
                    <a:pt x="46" y="166"/>
                  </a:lnTo>
                  <a:lnTo>
                    <a:pt x="57" y="148"/>
                  </a:lnTo>
                  <a:lnTo>
                    <a:pt x="69" y="132"/>
                  </a:lnTo>
                  <a:lnTo>
                    <a:pt x="82" y="115"/>
                  </a:lnTo>
                  <a:lnTo>
                    <a:pt x="96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8" y="60"/>
                  </a:lnTo>
                  <a:lnTo>
                    <a:pt x="152" y="48"/>
                  </a:lnTo>
                  <a:lnTo>
                    <a:pt x="166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7" y="7"/>
                  </a:lnTo>
                  <a:lnTo>
                    <a:pt x="228" y="4"/>
                  </a:lnTo>
                  <a:lnTo>
                    <a:pt x="237" y="1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5452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5" h="487">
                  <a:moveTo>
                    <a:pt x="246" y="340"/>
                  </a:moveTo>
                  <a:lnTo>
                    <a:pt x="152" y="347"/>
                  </a:lnTo>
                  <a:lnTo>
                    <a:pt x="150" y="347"/>
                  </a:lnTo>
                  <a:lnTo>
                    <a:pt x="148" y="350"/>
                  </a:lnTo>
                  <a:lnTo>
                    <a:pt x="144" y="354"/>
                  </a:lnTo>
                  <a:lnTo>
                    <a:pt x="141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3" y="400"/>
                  </a:lnTo>
                  <a:lnTo>
                    <a:pt x="119" y="412"/>
                  </a:lnTo>
                  <a:lnTo>
                    <a:pt x="113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4" y="449"/>
                  </a:lnTo>
                  <a:lnTo>
                    <a:pt x="101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8" y="467"/>
                  </a:lnTo>
                  <a:lnTo>
                    <a:pt x="97" y="469"/>
                  </a:lnTo>
                  <a:lnTo>
                    <a:pt x="96" y="471"/>
                  </a:lnTo>
                  <a:lnTo>
                    <a:pt x="95" y="475"/>
                  </a:lnTo>
                  <a:lnTo>
                    <a:pt x="94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89" y="481"/>
                  </a:lnTo>
                  <a:lnTo>
                    <a:pt x="87" y="482"/>
                  </a:lnTo>
                  <a:lnTo>
                    <a:pt x="86" y="483"/>
                  </a:lnTo>
                  <a:lnTo>
                    <a:pt x="83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69" y="487"/>
                  </a:lnTo>
                  <a:lnTo>
                    <a:pt x="65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6" y="486"/>
                  </a:lnTo>
                  <a:lnTo>
                    <a:pt x="41" y="486"/>
                  </a:lnTo>
                  <a:lnTo>
                    <a:pt x="35" y="484"/>
                  </a:lnTo>
                  <a:lnTo>
                    <a:pt x="30" y="483"/>
                  </a:lnTo>
                  <a:lnTo>
                    <a:pt x="24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1" y="478"/>
                  </a:lnTo>
                  <a:lnTo>
                    <a:pt x="7" y="476"/>
                  </a:lnTo>
                  <a:lnTo>
                    <a:pt x="4" y="473"/>
                  </a:lnTo>
                  <a:lnTo>
                    <a:pt x="2" y="471"/>
                  </a:lnTo>
                  <a:lnTo>
                    <a:pt x="1" y="468"/>
                  </a:lnTo>
                  <a:lnTo>
                    <a:pt x="0" y="466"/>
                  </a:lnTo>
                  <a:lnTo>
                    <a:pt x="0" y="462"/>
                  </a:lnTo>
                  <a:lnTo>
                    <a:pt x="0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6" y="426"/>
                  </a:lnTo>
                  <a:lnTo>
                    <a:pt x="11" y="413"/>
                  </a:lnTo>
                  <a:lnTo>
                    <a:pt x="16" y="398"/>
                  </a:lnTo>
                  <a:lnTo>
                    <a:pt x="22" y="382"/>
                  </a:lnTo>
                  <a:lnTo>
                    <a:pt x="28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2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7" y="216"/>
                  </a:lnTo>
                  <a:lnTo>
                    <a:pt x="97" y="193"/>
                  </a:lnTo>
                  <a:lnTo>
                    <a:pt x="106" y="171"/>
                  </a:lnTo>
                  <a:lnTo>
                    <a:pt x="115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8" y="96"/>
                  </a:lnTo>
                  <a:lnTo>
                    <a:pt x="144" y="81"/>
                  </a:lnTo>
                  <a:lnTo>
                    <a:pt x="151" y="67"/>
                  </a:lnTo>
                  <a:lnTo>
                    <a:pt x="155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69" y="27"/>
                  </a:lnTo>
                  <a:lnTo>
                    <a:pt x="172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79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3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0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10" y="0"/>
                  </a:lnTo>
                  <a:lnTo>
                    <a:pt x="214" y="1"/>
                  </a:lnTo>
                  <a:lnTo>
                    <a:pt x="219" y="1"/>
                  </a:lnTo>
                  <a:lnTo>
                    <a:pt x="225" y="2"/>
                  </a:lnTo>
                  <a:lnTo>
                    <a:pt x="232" y="3"/>
                  </a:lnTo>
                  <a:lnTo>
                    <a:pt x="238" y="4"/>
                  </a:lnTo>
                  <a:lnTo>
                    <a:pt x="246" y="6"/>
                  </a:lnTo>
                  <a:lnTo>
                    <a:pt x="253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4" y="10"/>
                  </a:lnTo>
                  <a:lnTo>
                    <a:pt x="280" y="10"/>
                  </a:lnTo>
                  <a:lnTo>
                    <a:pt x="286" y="11"/>
                  </a:lnTo>
                  <a:lnTo>
                    <a:pt x="292" y="12"/>
                  </a:lnTo>
                  <a:lnTo>
                    <a:pt x="298" y="12"/>
                  </a:lnTo>
                  <a:lnTo>
                    <a:pt x="303" y="13"/>
                  </a:lnTo>
                  <a:lnTo>
                    <a:pt x="308" y="14"/>
                  </a:lnTo>
                  <a:lnTo>
                    <a:pt x="312" y="15"/>
                  </a:lnTo>
                  <a:lnTo>
                    <a:pt x="317" y="17"/>
                  </a:lnTo>
                  <a:lnTo>
                    <a:pt x="319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5" y="22"/>
                  </a:lnTo>
                  <a:lnTo>
                    <a:pt x="328" y="24"/>
                  </a:lnTo>
                  <a:lnTo>
                    <a:pt x="329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4" y="42"/>
                  </a:lnTo>
                  <a:lnTo>
                    <a:pt x="336" y="47"/>
                  </a:lnTo>
                  <a:lnTo>
                    <a:pt x="338" y="57"/>
                  </a:lnTo>
                  <a:lnTo>
                    <a:pt x="341" y="70"/>
                  </a:lnTo>
                  <a:lnTo>
                    <a:pt x="344" y="86"/>
                  </a:lnTo>
                  <a:lnTo>
                    <a:pt x="350" y="106"/>
                  </a:lnTo>
                  <a:lnTo>
                    <a:pt x="354" y="129"/>
                  </a:lnTo>
                  <a:lnTo>
                    <a:pt x="361" y="156"/>
                  </a:lnTo>
                  <a:lnTo>
                    <a:pt x="368" y="185"/>
                  </a:lnTo>
                  <a:lnTo>
                    <a:pt x="375" y="216"/>
                  </a:lnTo>
                  <a:lnTo>
                    <a:pt x="382" y="245"/>
                  </a:lnTo>
                  <a:lnTo>
                    <a:pt x="388" y="272"/>
                  </a:lnTo>
                  <a:lnTo>
                    <a:pt x="394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2" y="372"/>
                  </a:lnTo>
                  <a:lnTo>
                    <a:pt x="415" y="386"/>
                  </a:lnTo>
                  <a:lnTo>
                    <a:pt x="417" y="398"/>
                  </a:lnTo>
                  <a:lnTo>
                    <a:pt x="419" y="408"/>
                  </a:lnTo>
                  <a:lnTo>
                    <a:pt x="421" y="417"/>
                  </a:lnTo>
                  <a:lnTo>
                    <a:pt x="423" y="425"/>
                  </a:lnTo>
                  <a:lnTo>
                    <a:pt x="424" y="430"/>
                  </a:lnTo>
                  <a:lnTo>
                    <a:pt x="425" y="434"/>
                  </a:lnTo>
                  <a:lnTo>
                    <a:pt x="425" y="436"/>
                  </a:lnTo>
                  <a:lnTo>
                    <a:pt x="424" y="440"/>
                  </a:lnTo>
                  <a:lnTo>
                    <a:pt x="421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5" y="452"/>
                  </a:lnTo>
                  <a:lnTo>
                    <a:pt x="396" y="454"/>
                  </a:lnTo>
                  <a:lnTo>
                    <a:pt x="386" y="455"/>
                  </a:lnTo>
                  <a:lnTo>
                    <a:pt x="374" y="455"/>
                  </a:lnTo>
                  <a:lnTo>
                    <a:pt x="366" y="455"/>
                  </a:lnTo>
                  <a:lnTo>
                    <a:pt x="359" y="454"/>
                  </a:lnTo>
                  <a:lnTo>
                    <a:pt x="352" y="452"/>
                  </a:lnTo>
                  <a:lnTo>
                    <a:pt x="345" y="450"/>
                  </a:lnTo>
                  <a:lnTo>
                    <a:pt x="340" y="448"/>
                  </a:lnTo>
                  <a:lnTo>
                    <a:pt x="335" y="445"/>
                  </a:lnTo>
                  <a:lnTo>
                    <a:pt x="331" y="441"/>
                  </a:lnTo>
                  <a:lnTo>
                    <a:pt x="328" y="437"/>
                  </a:lnTo>
                  <a:lnTo>
                    <a:pt x="324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5" y="417"/>
                  </a:lnTo>
                  <a:lnTo>
                    <a:pt x="312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0" y="385"/>
                  </a:lnTo>
                  <a:lnTo>
                    <a:pt x="298" y="380"/>
                  </a:lnTo>
                  <a:lnTo>
                    <a:pt x="295" y="373"/>
                  </a:lnTo>
                  <a:lnTo>
                    <a:pt x="292" y="369"/>
                  </a:lnTo>
                  <a:lnTo>
                    <a:pt x="290" y="363"/>
                  </a:lnTo>
                  <a:lnTo>
                    <a:pt x="289" y="359"/>
                  </a:lnTo>
                  <a:lnTo>
                    <a:pt x="287" y="355"/>
                  </a:lnTo>
                  <a:lnTo>
                    <a:pt x="286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1" y="343"/>
                  </a:lnTo>
                  <a:lnTo>
                    <a:pt x="280" y="341"/>
                  </a:lnTo>
                  <a:lnTo>
                    <a:pt x="278" y="340"/>
                  </a:lnTo>
                  <a:lnTo>
                    <a:pt x="276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6" y="340"/>
                  </a:lnTo>
                  <a:close/>
                  <a:moveTo>
                    <a:pt x="181" y="268"/>
                  </a:moveTo>
                  <a:lnTo>
                    <a:pt x="181" y="269"/>
                  </a:lnTo>
                  <a:lnTo>
                    <a:pt x="180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79" y="275"/>
                  </a:lnTo>
                  <a:lnTo>
                    <a:pt x="179" y="276"/>
                  </a:lnTo>
                  <a:lnTo>
                    <a:pt x="179" y="276"/>
                  </a:lnTo>
                  <a:lnTo>
                    <a:pt x="179" y="277"/>
                  </a:lnTo>
                  <a:lnTo>
                    <a:pt x="180" y="277"/>
                  </a:lnTo>
                  <a:lnTo>
                    <a:pt x="180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5" y="280"/>
                  </a:lnTo>
                  <a:lnTo>
                    <a:pt x="246" y="267"/>
                  </a:lnTo>
                  <a:lnTo>
                    <a:pt x="250" y="267"/>
                  </a:lnTo>
                  <a:lnTo>
                    <a:pt x="254" y="267"/>
                  </a:lnTo>
                  <a:lnTo>
                    <a:pt x="257" y="267"/>
                  </a:lnTo>
                  <a:lnTo>
                    <a:pt x="260" y="267"/>
                  </a:lnTo>
                  <a:lnTo>
                    <a:pt x="263" y="267"/>
                  </a:lnTo>
                  <a:lnTo>
                    <a:pt x="265" y="266"/>
                  </a:lnTo>
                  <a:lnTo>
                    <a:pt x="266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0" y="265"/>
                  </a:lnTo>
                  <a:lnTo>
                    <a:pt x="271" y="265"/>
                  </a:lnTo>
                  <a:lnTo>
                    <a:pt x="271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3" y="225"/>
                  </a:lnTo>
                  <a:lnTo>
                    <a:pt x="259" y="213"/>
                  </a:lnTo>
                  <a:lnTo>
                    <a:pt x="255" y="199"/>
                  </a:lnTo>
                  <a:lnTo>
                    <a:pt x="250" y="184"/>
                  </a:lnTo>
                  <a:lnTo>
                    <a:pt x="247" y="171"/>
                  </a:lnTo>
                  <a:lnTo>
                    <a:pt x="244" y="160"/>
                  </a:lnTo>
                  <a:lnTo>
                    <a:pt x="242" y="150"/>
                  </a:lnTo>
                  <a:lnTo>
                    <a:pt x="239" y="143"/>
                  </a:lnTo>
                  <a:lnTo>
                    <a:pt x="238" y="137"/>
                  </a:lnTo>
                  <a:lnTo>
                    <a:pt x="237" y="134"/>
                  </a:lnTo>
                  <a:lnTo>
                    <a:pt x="237" y="130"/>
                  </a:lnTo>
                  <a:lnTo>
                    <a:pt x="235" y="134"/>
                  </a:lnTo>
                  <a:lnTo>
                    <a:pt x="233" y="139"/>
                  </a:lnTo>
                  <a:lnTo>
                    <a:pt x="229" y="146"/>
                  </a:lnTo>
                  <a:lnTo>
                    <a:pt x="226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6" y="226"/>
                  </a:lnTo>
                  <a:lnTo>
                    <a:pt x="193" y="237"/>
                  </a:lnTo>
                  <a:lnTo>
                    <a:pt x="189" y="246"/>
                  </a:lnTo>
                  <a:lnTo>
                    <a:pt x="186" y="254"/>
                  </a:lnTo>
                  <a:lnTo>
                    <a:pt x="183" y="260"/>
                  </a:lnTo>
                  <a:lnTo>
                    <a:pt x="182" y="265"/>
                  </a:lnTo>
                  <a:lnTo>
                    <a:pt x="181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03056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1" y="484"/>
                  </a:lnTo>
                  <a:lnTo>
                    <a:pt x="226" y="484"/>
                  </a:lnTo>
                  <a:lnTo>
                    <a:pt x="220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89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7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7" y="462"/>
                  </a:lnTo>
                  <a:lnTo>
                    <a:pt x="157" y="459"/>
                  </a:lnTo>
                  <a:lnTo>
                    <a:pt x="152" y="327"/>
                  </a:lnTo>
                  <a:lnTo>
                    <a:pt x="157" y="105"/>
                  </a:lnTo>
                  <a:lnTo>
                    <a:pt x="157" y="103"/>
                  </a:lnTo>
                  <a:lnTo>
                    <a:pt x="157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7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6" y="90"/>
                  </a:lnTo>
                  <a:lnTo>
                    <a:pt x="131" y="90"/>
                  </a:lnTo>
                  <a:lnTo>
                    <a:pt x="125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2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1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59" y="0"/>
                  </a:lnTo>
                  <a:lnTo>
                    <a:pt x="369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1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2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2" y="54"/>
                  </a:lnTo>
                  <a:lnTo>
                    <a:pt x="411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8" y="80"/>
                  </a:lnTo>
                  <a:lnTo>
                    <a:pt x="347" y="81"/>
                  </a:lnTo>
                  <a:lnTo>
                    <a:pt x="337" y="82"/>
                  </a:lnTo>
                  <a:lnTo>
                    <a:pt x="327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5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4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4" y="87"/>
                  </a:lnTo>
                  <a:lnTo>
                    <a:pt x="273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10200" y="2293920"/>
              <a:ext cx="4752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8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7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5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2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2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287960" y="2295360"/>
              <a:ext cx="1728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7" y="454"/>
                  </a:lnTo>
                  <a:lnTo>
                    <a:pt x="119" y="445"/>
                  </a:lnTo>
                  <a:lnTo>
                    <a:pt x="99" y="434"/>
                  </a:lnTo>
                  <a:lnTo>
                    <a:pt x="79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5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2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2" y="231"/>
                  </a:lnTo>
                  <a:lnTo>
                    <a:pt x="5" y="208"/>
                  </a:lnTo>
                  <a:lnTo>
                    <a:pt x="9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4" y="79"/>
                  </a:lnTo>
                  <a:lnTo>
                    <a:pt x="81" y="60"/>
                  </a:lnTo>
                  <a:lnTo>
                    <a:pt x="98" y="44"/>
                  </a:lnTo>
                  <a:lnTo>
                    <a:pt x="113" y="31"/>
                  </a:lnTo>
                  <a:lnTo>
                    <a:pt x="130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7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8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6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0" y="16"/>
                  </a:lnTo>
                  <a:lnTo>
                    <a:pt x="275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8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39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7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5" y="369"/>
                  </a:lnTo>
                  <a:lnTo>
                    <a:pt x="380" y="390"/>
                  </a:lnTo>
                  <a:lnTo>
                    <a:pt x="374" y="400"/>
                  </a:lnTo>
                  <a:lnTo>
                    <a:pt x="366" y="410"/>
                  </a:lnTo>
                  <a:lnTo>
                    <a:pt x="357" y="419"/>
                  </a:lnTo>
                  <a:lnTo>
                    <a:pt x="349" y="427"/>
                  </a:lnTo>
                  <a:lnTo>
                    <a:pt x="340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4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5" y="51"/>
                  </a:lnTo>
                  <a:lnTo>
                    <a:pt x="219" y="54"/>
                  </a:lnTo>
                  <a:lnTo>
                    <a:pt x="213" y="56"/>
                  </a:lnTo>
                  <a:lnTo>
                    <a:pt x="204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5" y="281"/>
                  </a:lnTo>
                  <a:lnTo>
                    <a:pt x="116" y="296"/>
                  </a:lnTo>
                  <a:lnTo>
                    <a:pt x="119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4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5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8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10" y="221"/>
                  </a:lnTo>
                  <a:lnTo>
                    <a:pt x="311" y="207"/>
                  </a:lnTo>
                  <a:lnTo>
                    <a:pt x="310" y="194"/>
                  </a:lnTo>
                  <a:lnTo>
                    <a:pt x="310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9" y="91"/>
                  </a:lnTo>
                  <a:lnTo>
                    <a:pt x="283" y="80"/>
                  </a:lnTo>
                  <a:lnTo>
                    <a:pt x="276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3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4910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1" y="21"/>
                  </a:lnTo>
                  <a:lnTo>
                    <a:pt x="282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6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7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2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1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0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49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4" y="322"/>
                  </a:lnTo>
                  <a:lnTo>
                    <a:pt x="154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2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1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59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7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7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6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6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8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69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1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2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29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72160" y="2295360"/>
              <a:ext cx="137880" cy="186840"/>
            </a:xfrm>
            <a:custGeom>
              <a:avLst/>
              <a:gdLst/>
              <a:ahLst/>
              <a:rect l="l" t="t" r="r" b="b"/>
              <a:pathLst>
                <a:path w="347" h="472">
                  <a:moveTo>
                    <a:pt x="108" y="148"/>
                  </a:moveTo>
                  <a:lnTo>
                    <a:pt x="108" y="181"/>
                  </a:lnTo>
                  <a:lnTo>
                    <a:pt x="108" y="184"/>
                  </a:lnTo>
                  <a:lnTo>
                    <a:pt x="108" y="185"/>
                  </a:lnTo>
                  <a:lnTo>
                    <a:pt x="109" y="187"/>
                  </a:lnTo>
                  <a:lnTo>
                    <a:pt x="110" y="187"/>
                  </a:lnTo>
                  <a:lnTo>
                    <a:pt x="112" y="188"/>
                  </a:lnTo>
                  <a:lnTo>
                    <a:pt x="113" y="189"/>
                  </a:lnTo>
                  <a:lnTo>
                    <a:pt x="115" y="189"/>
                  </a:lnTo>
                  <a:lnTo>
                    <a:pt x="119" y="189"/>
                  </a:lnTo>
                  <a:lnTo>
                    <a:pt x="120" y="189"/>
                  </a:lnTo>
                  <a:lnTo>
                    <a:pt x="121" y="189"/>
                  </a:lnTo>
                  <a:lnTo>
                    <a:pt x="122" y="189"/>
                  </a:lnTo>
                  <a:lnTo>
                    <a:pt x="123" y="189"/>
                  </a:lnTo>
                  <a:lnTo>
                    <a:pt x="124" y="189"/>
                  </a:lnTo>
                  <a:lnTo>
                    <a:pt x="126" y="189"/>
                  </a:lnTo>
                  <a:lnTo>
                    <a:pt x="127" y="189"/>
                  </a:lnTo>
                  <a:lnTo>
                    <a:pt x="128" y="189"/>
                  </a:lnTo>
                  <a:lnTo>
                    <a:pt x="131" y="189"/>
                  </a:lnTo>
                  <a:lnTo>
                    <a:pt x="133" y="189"/>
                  </a:lnTo>
                  <a:lnTo>
                    <a:pt x="134" y="189"/>
                  </a:lnTo>
                  <a:lnTo>
                    <a:pt x="136" y="189"/>
                  </a:lnTo>
                  <a:lnTo>
                    <a:pt x="138" y="189"/>
                  </a:lnTo>
                  <a:lnTo>
                    <a:pt x="140" y="189"/>
                  </a:lnTo>
                  <a:lnTo>
                    <a:pt x="142" y="189"/>
                  </a:lnTo>
                  <a:lnTo>
                    <a:pt x="144" y="189"/>
                  </a:lnTo>
                  <a:lnTo>
                    <a:pt x="149" y="189"/>
                  </a:lnTo>
                  <a:lnTo>
                    <a:pt x="155" y="189"/>
                  </a:lnTo>
                  <a:lnTo>
                    <a:pt x="161" y="189"/>
                  </a:lnTo>
                  <a:lnTo>
                    <a:pt x="166" y="189"/>
                  </a:lnTo>
                  <a:lnTo>
                    <a:pt x="172" y="189"/>
                  </a:lnTo>
                  <a:lnTo>
                    <a:pt x="178" y="189"/>
                  </a:lnTo>
                  <a:lnTo>
                    <a:pt x="184" y="189"/>
                  </a:lnTo>
                  <a:lnTo>
                    <a:pt x="189" y="189"/>
                  </a:lnTo>
                  <a:lnTo>
                    <a:pt x="196" y="190"/>
                  </a:lnTo>
                  <a:lnTo>
                    <a:pt x="202" y="190"/>
                  </a:lnTo>
                  <a:lnTo>
                    <a:pt x="209" y="190"/>
                  </a:lnTo>
                  <a:lnTo>
                    <a:pt x="216" y="190"/>
                  </a:lnTo>
                  <a:lnTo>
                    <a:pt x="222" y="191"/>
                  </a:lnTo>
                  <a:lnTo>
                    <a:pt x="230" y="191"/>
                  </a:lnTo>
                  <a:lnTo>
                    <a:pt x="238" y="192"/>
                  </a:lnTo>
                  <a:lnTo>
                    <a:pt x="246" y="192"/>
                  </a:lnTo>
                  <a:lnTo>
                    <a:pt x="254" y="194"/>
                  </a:lnTo>
                  <a:lnTo>
                    <a:pt x="262" y="195"/>
                  </a:lnTo>
                  <a:lnTo>
                    <a:pt x="270" y="197"/>
                  </a:lnTo>
                  <a:lnTo>
                    <a:pt x="278" y="199"/>
                  </a:lnTo>
                  <a:lnTo>
                    <a:pt x="284" y="201"/>
                  </a:lnTo>
                  <a:lnTo>
                    <a:pt x="292" y="203"/>
                  </a:lnTo>
                  <a:lnTo>
                    <a:pt x="299" y="207"/>
                  </a:lnTo>
                  <a:lnTo>
                    <a:pt x="305" y="211"/>
                  </a:lnTo>
                  <a:lnTo>
                    <a:pt x="311" y="214"/>
                  </a:lnTo>
                  <a:lnTo>
                    <a:pt x="316" y="218"/>
                  </a:lnTo>
                  <a:lnTo>
                    <a:pt x="321" y="222"/>
                  </a:lnTo>
                  <a:lnTo>
                    <a:pt x="324" y="226"/>
                  </a:lnTo>
                  <a:lnTo>
                    <a:pt x="327" y="230"/>
                  </a:lnTo>
                  <a:lnTo>
                    <a:pt x="329" y="233"/>
                  </a:lnTo>
                  <a:lnTo>
                    <a:pt x="331" y="237"/>
                  </a:lnTo>
                  <a:lnTo>
                    <a:pt x="331" y="240"/>
                  </a:lnTo>
                  <a:lnTo>
                    <a:pt x="331" y="243"/>
                  </a:lnTo>
                  <a:lnTo>
                    <a:pt x="329" y="245"/>
                  </a:lnTo>
                  <a:lnTo>
                    <a:pt x="326" y="246"/>
                  </a:lnTo>
                  <a:lnTo>
                    <a:pt x="323" y="249"/>
                  </a:lnTo>
                  <a:lnTo>
                    <a:pt x="318" y="251"/>
                  </a:lnTo>
                  <a:lnTo>
                    <a:pt x="313" y="252"/>
                  </a:lnTo>
                  <a:lnTo>
                    <a:pt x="306" y="254"/>
                  </a:lnTo>
                  <a:lnTo>
                    <a:pt x="300" y="255"/>
                  </a:lnTo>
                  <a:lnTo>
                    <a:pt x="291" y="256"/>
                  </a:lnTo>
                  <a:lnTo>
                    <a:pt x="283" y="259"/>
                  </a:lnTo>
                  <a:lnTo>
                    <a:pt x="274" y="260"/>
                  </a:lnTo>
                  <a:lnTo>
                    <a:pt x="265" y="260"/>
                  </a:lnTo>
                  <a:lnTo>
                    <a:pt x="255" y="261"/>
                  </a:lnTo>
                  <a:lnTo>
                    <a:pt x="246" y="262"/>
                  </a:lnTo>
                  <a:lnTo>
                    <a:pt x="236" y="262"/>
                  </a:lnTo>
                  <a:lnTo>
                    <a:pt x="226" y="263"/>
                  </a:lnTo>
                  <a:lnTo>
                    <a:pt x="215" y="263"/>
                  </a:lnTo>
                  <a:lnTo>
                    <a:pt x="205" y="263"/>
                  </a:lnTo>
                  <a:lnTo>
                    <a:pt x="194" y="264"/>
                  </a:lnTo>
                  <a:lnTo>
                    <a:pt x="184" y="264"/>
                  </a:lnTo>
                  <a:lnTo>
                    <a:pt x="173" y="264"/>
                  </a:lnTo>
                  <a:lnTo>
                    <a:pt x="163" y="264"/>
                  </a:lnTo>
                  <a:lnTo>
                    <a:pt x="152" y="264"/>
                  </a:lnTo>
                  <a:lnTo>
                    <a:pt x="142" y="264"/>
                  </a:lnTo>
                  <a:lnTo>
                    <a:pt x="140" y="264"/>
                  </a:lnTo>
                  <a:lnTo>
                    <a:pt x="137" y="264"/>
                  </a:lnTo>
                  <a:lnTo>
                    <a:pt x="135" y="264"/>
                  </a:lnTo>
                  <a:lnTo>
                    <a:pt x="133" y="264"/>
                  </a:lnTo>
                  <a:lnTo>
                    <a:pt x="132" y="264"/>
                  </a:lnTo>
                  <a:lnTo>
                    <a:pt x="131" y="264"/>
                  </a:lnTo>
                  <a:lnTo>
                    <a:pt x="130" y="264"/>
                  </a:lnTo>
                  <a:lnTo>
                    <a:pt x="128" y="264"/>
                  </a:lnTo>
                  <a:lnTo>
                    <a:pt x="128" y="264"/>
                  </a:lnTo>
                  <a:lnTo>
                    <a:pt x="127" y="264"/>
                  </a:lnTo>
                  <a:lnTo>
                    <a:pt x="127" y="264"/>
                  </a:lnTo>
                  <a:lnTo>
                    <a:pt x="126" y="264"/>
                  </a:lnTo>
                  <a:lnTo>
                    <a:pt x="126" y="264"/>
                  </a:lnTo>
                  <a:lnTo>
                    <a:pt x="125" y="264"/>
                  </a:lnTo>
                  <a:lnTo>
                    <a:pt x="124" y="264"/>
                  </a:lnTo>
                  <a:lnTo>
                    <a:pt x="124" y="264"/>
                  </a:lnTo>
                  <a:lnTo>
                    <a:pt x="119" y="264"/>
                  </a:lnTo>
                  <a:lnTo>
                    <a:pt x="115" y="265"/>
                  </a:lnTo>
                  <a:lnTo>
                    <a:pt x="112" y="267"/>
                  </a:lnTo>
                  <a:lnTo>
                    <a:pt x="109" y="270"/>
                  </a:lnTo>
                  <a:lnTo>
                    <a:pt x="106" y="272"/>
                  </a:lnTo>
                  <a:lnTo>
                    <a:pt x="104" y="275"/>
                  </a:lnTo>
                  <a:lnTo>
                    <a:pt x="104" y="280"/>
                  </a:lnTo>
                  <a:lnTo>
                    <a:pt x="103" y="284"/>
                  </a:lnTo>
                  <a:lnTo>
                    <a:pt x="103" y="435"/>
                  </a:lnTo>
                  <a:lnTo>
                    <a:pt x="103" y="440"/>
                  </a:lnTo>
                  <a:lnTo>
                    <a:pt x="103" y="444"/>
                  </a:lnTo>
                  <a:lnTo>
                    <a:pt x="102" y="448"/>
                  </a:lnTo>
                  <a:lnTo>
                    <a:pt x="102" y="453"/>
                  </a:lnTo>
                  <a:lnTo>
                    <a:pt x="101" y="456"/>
                  </a:lnTo>
                  <a:lnTo>
                    <a:pt x="100" y="458"/>
                  </a:lnTo>
                  <a:lnTo>
                    <a:pt x="99" y="462"/>
                  </a:lnTo>
                  <a:lnTo>
                    <a:pt x="96" y="464"/>
                  </a:lnTo>
                  <a:lnTo>
                    <a:pt x="95" y="465"/>
                  </a:lnTo>
                  <a:lnTo>
                    <a:pt x="93" y="467"/>
                  </a:lnTo>
                  <a:lnTo>
                    <a:pt x="91" y="468"/>
                  </a:lnTo>
                  <a:lnTo>
                    <a:pt x="88" y="469"/>
                  </a:lnTo>
                  <a:lnTo>
                    <a:pt x="85" y="471"/>
                  </a:lnTo>
                  <a:lnTo>
                    <a:pt x="82" y="472"/>
                  </a:lnTo>
                  <a:lnTo>
                    <a:pt x="78" y="472"/>
                  </a:lnTo>
                  <a:lnTo>
                    <a:pt x="74" y="472"/>
                  </a:lnTo>
                  <a:lnTo>
                    <a:pt x="70" y="472"/>
                  </a:lnTo>
                  <a:lnTo>
                    <a:pt x="64" y="472"/>
                  </a:lnTo>
                  <a:lnTo>
                    <a:pt x="60" y="471"/>
                  </a:lnTo>
                  <a:lnTo>
                    <a:pt x="56" y="471"/>
                  </a:lnTo>
                  <a:lnTo>
                    <a:pt x="51" y="469"/>
                  </a:lnTo>
                  <a:lnTo>
                    <a:pt x="47" y="468"/>
                  </a:lnTo>
                  <a:lnTo>
                    <a:pt x="42" y="466"/>
                  </a:lnTo>
                  <a:lnTo>
                    <a:pt x="38" y="465"/>
                  </a:lnTo>
                  <a:lnTo>
                    <a:pt x="34" y="463"/>
                  </a:lnTo>
                  <a:lnTo>
                    <a:pt x="29" y="462"/>
                  </a:lnTo>
                  <a:lnTo>
                    <a:pt x="25" y="459"/>
                  </a:lnTo>
                  <a:lnTo>
                    <a:pt x="21" y="458"/>
                  </a:lnTo>
                  <a:lnTo>
                    <a:pt x="18" y="456"/>
                  </a:lnTo>
                  <a:lnTo>
                    <a:pt x="15" y="455"/>
                  </a:lnTo>
                  <a:lnTo>
                    <a:pt x="13" y="453"/>
                  </a:lnTo>
                  <a:lnTo>
                    <a:pt x="10" y="452"/>
                  </a:lnTo>
                  <a:lnTo>
                    <a:pt x="8" y="450"/>
                  </a:lnTo>
                  <a:lnTo>
                    <a:pt x="6" y="448"/>
                  </a:lnTo>
                  <a:lnTo>
                    <a:pt x="5" y="447"/>
                  </a:lnTo>
                  <a:lnTo>
                    <a:pt x="3" y="446"/>
                  </a:lnTo>
                  <a:lnTo>
                    <a:pt x="3" y="445"/>
                  </a:lnTo>
                  <a:lnTo>
                    <a:pt x="2" y="444"/>
                  </a:lnTo>
                  <a:lnTo>
                    <a:pt x="0" y="443"/>
                  </a:lnTo>
                  <a:lnTo>
                    <a:pt x="0" y="442"/>
                  </a:lnTo>
                  <a:lnTo>
                    <a:pt x="0" y="274"/>
                  </a:lnTo>
                  <a:lnTo>
                    <a:pt x="6" y="45"/>
                  </a:lnTo>
                  <a:lnTo>
                    <a:pt x="6" y="38"/>
                  </a:lnTo>
                  <a:lnTo>
                    <a:pt x="6" y="31"/>
                  </a:lnTo>
                  <a:lnTo>
                    <a:pt x="7" y="26"/>
                  </a:lnTo>
                  <a:lnTo>
                    <a:pt x="8" y="20"/>
                  </a:lnTo>
                  <a:lnTo>
                    <a:pt x="10" y="16"/>
                  </a:lnTo>
                  <a:lnTo>
                    <a:pt x="13" y="13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21" y="6"/>
                  </a:lnTo>
                  <a:lnTo>
                    <a:pt x="27" y="5"/>
                  </a:lnTo>
                  <a:lnTo>
                    <a:pt x="34" y="4"/>
                  </a:lnTo>
                  <a:lnTo>
                    <a:pt x="42" y="3"/>
                  </a:lnTo>
                  <a:lnTo>
                    <a:pt x="52" y="3"/>
                  </a:lnTo>
                  <a:lnTo>
                    <a:pt x="63" y="2"/>
                  </a:lnTo>
                  <a:lnTo>
                    <a:pt x="77" y="2"/>
                  </a:lnTo>
                  <a:lnTo>
                    <a:pt x="91" y="2"/>
                  </a:lnTo>
                  <a:lnTo>
                    <a:pt x="240" y="0"/>
                  </a:lnTo>
                  <a:lnTo>
                    <a:pt x="252" y="2"/>
                  </a:lnTo>
                  <a:lnTo>
                    <a:pt x="264" y="3"/>
                  </a:lnTo>
                  <a:lnTo>
                    <a:pt x="274" y="4"/>
                  </a:lnTo>
                  <a:lnTo>
                    <a:pt x="285" y="6"/>
                  </a:lnTo>
                  <a:lnTo>
                    <a:pt x="294" y="9"/>
                  </a:lnTo>
                  <a:lnTo>
                    <a:pt x="303" y="13"/>
                  </a:lnTo>
                  <a:lnTo>
                    <a:pt x="311" y="16"/>
                  </a:lnTo>
                  <a:lnTo>
                    <a:pt x="318" y="21"/>
                  </a:lnTo>
                  <a:lnTo>
                    <a:pt x="325" y="26"/>
                  </a:lnTo>
                  <a:lnTo>
                    <a:pt x="331" y="31"/>
                  </a:lnTo>
                  <a:lnTo>
                    <a:pt x="336" y="36"/>
                  </a:lnTo>
                  <a:lnTo>
                    <a:pt x="339" y="41"/>
                  </a:lnTo>
                  <a:lnTo>
                    <a:pt x="343" y="46"/>
                  </a:lnTo>
                  <a:lnTo>
                    <a:pt x="345" y="50"/>
                  </a:lnTo>
                  <a:lnTo>
                    <a:pt x="346" y="54"/>
                  </a:lnTo>
                  <a:lnTo>
                    <a:pt x="347" y="60"/>
                  </a:lnTo>
                  <a:lnTo>
                    <a:pt x="346" y="63"/>
                  </a:lnTo>
                  <a:lnTo>
                    <a:pt x="344" y="67"/>
                  </a:lnTo>
                  <a:lnTo>
                    <a:pt x="339" y="69"/>
                  </a:lnTo>
                  <a:lnTo>
                    <a:pt x="334" y="71"/>
                  </a:lnTo>
                  <a:lnTo>
                    <a:pt x="326" y="73"/>
                  </a:lnTo>
                  <a:lnTo>
                    <a:pt x="317" y="74"/>
                  </a:lnTo>
                  <a:lnTo>
                    <a:pt x="307" y="75"/>
                  </a:lnTo>
                  <a:lnTo>
                    <a:pt x="295" y="75"/>
                  </a:lnTo>
                  <a:lnTo>
                    <a:pt x="126" y="75"/>
                  </a:lnTo>
                  <a:lnTo>
                    <a:pt x="124" y="75"/>
                  </a:lnTo>
                  <a:lnTo>
                    <a:pt x="121" y="75"/>
                  </a:lnTo>
                  <a:lnTo>
                    <a:pt x="119" y="77"/>
                  </a:lnTo>
                  <a:lnTo>
                    <a:pt x="116" y="77"/>
                  </a:lnTo>
                  <a:lnTo>
                    <a:pt x="115" y="78"/>
                  </a:lnTo>
                  <a:lnTo>
                    <a:pt x="113" y="79"/>
                  </a:lnTo>
                  <a:lnTo>
                    <a:pt x="112" y="80"/>
                  </a:lnTo>
                  <a:lnTo>
                    <a:pt x="111" y="82"/>
                  </a:lnTo>
                  <a:lnTo>
                    <a:pt x="110" y="83"/>
                  </a:lnTo>
                  <a:lnTo>
                    <a:pt x="110" y="85"/>
                  </a:lnTo>
                  <a:lnTo>
                    <a:pt x="109" y="89"/>
                  </a:lnTo>
                  <a:lnTo>
                    <a:pt x="108" y="92"/>
                  </a:lnTo>
                  <a:lnTo>
                    <a:pt x="108" y="95"/>
                  </a:lnTo>
                  <a:lnTo>
                    <a:pt x="108" y="100"/>
                  </a:lnTo>
                  <a:lnTo>
                    <a:pt x="108" y="104"/>
                  </a:lnTo>
                  <a:lnTo>
                    <a:pt x="108" y="109"/>
                  </a:lnTo>
                  <a:lnTo>
                    <a:pt x="108" y="1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92300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9" y="434"/>
                  </a:lnTo>
                  <a:lnTo>
                    <a:pt x="80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4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5" y="208"/>
                  </a:lnTo>
                  <a:lnTo>
                    <a:pt x="10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5" y="79"/>
                  </a:lnTo>
                  <a:lnTo>
                    <a:pt x="81" y="60"/>
                  </a:lnTo>
                  <a:lnTo>
                    <a:pt x="97" y="44"/>
                  </a:lnTo>
                  <a:lnTo>
                    <a:pt x="113" y="31"/>
                  </a:lnTo>
                  <a:lnTo>
                    <a:pt x="129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3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8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5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1" y="16"/>
                  </a:lnTo>
                  <a:lnTo>
                    <a:pt x="276" y="16"/>
                  </a:lnTo>
                  <a:lnTo>
                    <a:pt x="282" y="17"/>
                  </a:lnTo>
                  <a:lnTo>
                    <a:pt x="287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9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40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6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2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4" y="369"/>
                  </a:lnTo>
                  <a:lnTo>
                    <a:pt x="381" y="390"/>
                  </a:lnTo>
                  <a:lnTo>
                    <a:pt x="373" y="400"/>
                  </a:lnTo>
                  <a:lnTo>
                    <a:pt x="366" y="410"/>
                  </a:lnTo>
                  <a:lnTo>
                    <a:pt x="358" y="419"/>
                  </a:lnTo>
                  <a:lnTo>
                    <a:pt x="349" y="427"/>
                  </a:lnTo>
                  <a:lnTo>
                    <a:pt x="341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5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4" y="51"/>
                  </a:lnTo>
                  <a:lnTo>
                    <a:pt x="219" y="54"/>
                  </a:lnTo>
                  <a:lnTo>
                    <a:pt x="214" y="56"/>
                  </a:lnTo>
                  <a:lnTo>
                    <a:pt x="203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6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3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6" y="401"/>
                  </a:lnTo>
                  <a:lnTo>
                    <a:pt x="163" y="408"/>
                  </a:lnTo>
                  <a:lnTo>
                    <a:pt x="169" y="412"/>
                  </a:lnTo>
                  <a:lnTo>
                    <a:pt x="177" y="416"/>
                  </a:lnTo>
                  <a:lnTo>
                    <a:pt x="185" y="418"/>
                  </a:lnTo>
                  <a:lnTo>
                    <a:pt x="192" y="419"/>
                  </a:lnTo>
                  <a:lnTo>
                    <a:pt x="199" y="419"/>
                  </a:lnTo>
                  <a:lnTo>
                    <a:pt x="206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9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3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1" y="207"/>
                  </a:lnTo>
                  <a:lnTo>
                    <a:pt x="311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8" y="91"/>
                  </a:lnTo>
                  <a:lnTo>
                    <a:pt x="283" y="80"/>
                  </a:lnTo>
                  <a:lnTo>
                    <a:pt x="277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12604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8" y="456"/>
                  </a:lnTo>
                  <a:lnTo>
                    <a:pt x="96" y="459"/>
                  </a:lnTo>
                  <a:lnTo>
                    <a:pt x="92" y="461"/>
                  </a:lnTo>
                  <a:lnTo>
                    <a:pt x="89" y="462"/>
                  </a:lnTo>
                  <a:lnTo>
                    <a:pt x="85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7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50" y="459"/>
                  </a:lnTo>
                  <a:lnTo>
                    <a:pt x="46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4" y="456"/>
                  </a:lnTo>
                  <a:lnTo>
                    <a:pt x="29" y="456"/>
                  </a:lnTo>
                  <a:lnTo>
                    <a:pt x="26" y="455"/>
                  </a:lnTo>
                  <a:lnTo>
                    <a:pt x="22" y="454"/>
                  </a:lnTo>
                  <a:lnTo>
                    <a:pt x="18" y="452"/>
                  </a:lnTo>
                  <a:lnTo>
                    <a:pt x="15" y="451"/>
                  </a:lnTo>
                  <a:lnTo>
                    <a:pt x="13" y="450"/>
                  </a:lnTo>
                  <a:lnTo>
                    <a:pt x="11" y="449"/>
                  </a:lnTo>
                  <a:lnTo>
                    <a:pt x="8" y="448"/>
                  </a:lnTo>
                  <a:lnTo>
                    <a:pt x="6" y="447"/>
                  </a:lnTo>
                  <a:lnTo>
                    <a:pt x="5" y="445"/>
                  </a:lnTo>
                  <a:lnTo>
                    <a:pt x="4" y="443"/>
                  </a:lnTo>
                  <a:lnTo>
                    <a:pt x="3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6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5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5" y="17"/>
                  </a:lnTo>
                  <a:lnTo>
                    <a:pt x="27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3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1" y="12"/>
                  </a:lnTo>
                  <a:lnTo>
                    <a:pt x="66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6" y="11"/>
                  </a:lnTo>
                  <a:lnTo>
                    <a:pt x="133" y="10"/>
                  </a:lnTo>
                  <a:lnTo>
                    <a:pt x="142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7" y="3"/>
                  </a:lnTo>
                  <a:lnTo>
                    <a:pt x="175" y="2"/>
                  </a:lnTo>
                  <a:lnTo>
                    <a:pt x="183" y="2"/>
                  </a:lnTo>
                  <a:lnTo>
                    <a:pt x="190" y="1"/>
                  </a:lnTo>
                  <a:lnTo>
                    <a:pt x="197" y="0"/>
                  </a:lnTo>
                  <a:lnTo>
                    <a:pt x="204" y="0"/>
                  </a:lnTo>
                  <a:lnTo>
                    <a:pt x="211" y="0"/>
                  </a:lnTo>
                  <a:lnTo>
                    <a:pt x="230" y="1"/>
                  </a:lnTo>
                  <a:lnTo>
                    <a:pt x="250" y="2"/>
                  </a:lnTo>
                  <a:lnTo>
                    <a:pt x="269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7" y="29"/>
                  </a:lnTo>
                  <a:lnTo>
                    <a:pt x="353" y="38"/>
                  </a:lnTo>
                  <a:lnTo>
                    <a:pt x="367" y="46"/>
                  </a:lnTo>
                  <a:lnTo>
                    <a:pt x="379" y="56"/>
                  </a:lnTo>
                  <a:lnTo>
                    <a:pt x="389" y="65"/>
                  </a:lnTo>
                  <a:lnTo>
                    <a:pt x="398" y="75"/>
                  </a:lnTo>
                  <a:lnTo>
                    <a:pt x="405" y="86"/>
                  </a:lnTo>
                  <a:lnTo>
                    <a:pt x="409" y="96"/>
                  </a:lnTo>
                  <a:lnTo>
                    <a:pt x="413" y="107"/>
                  </a:lnTo>
                  <a:lnTo>
                    <a:pt x="413" y="117"/>
                  </a:lnTo>
                  <a:lnTo>
                    <a:pt x="413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0" y="173"/>
                  </a:lnTo>
                  <a:lnTo>
                    <a:pt x="383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3" y="217"/>
                  </a:lnTo>
                  <a:lnTo>
                    <a:pt x="332" y="225"/>
                  </a:lnTo>
                  <a:lnTo>
                    <a:pt x="322" y="232"/>
                  </a:lnTo>
                  <a:lnTo>
                    <a:pt x="311" y="237"/>
                  </a:lnTo>
                  <a:lnTo>
                    <a:pt x="300" y="243"/>
                  </a:lnTo>
                  <a:lnTo>
                    <a:pt x="289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50" y="265"/>
                  </a:lnTo>
                  <a:lnTo>
                    <a:pt x="247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3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7" y="425"/>
                  </a:lnTo>
                  <a:lnTo>
                    <a:pt x="399" y="430"/>
                  </a:lnTo>
                  <a:lnTo>
                    <a:pt x="400" y="434"/>
                  </a:lnTo>
                  <a:lnTo>
                    <a:pt x="400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8" y="440"/>
                  </a:lnTo>
                  <a:lnTo>
                    <a:pt x="397" y="441"/>
                  </a:lnTo>
                  <a:lnTo>
                    <a:pt x="396" y="443"/>
                  </a:lnTo>
                  <a:lnTo>
                    <a:pt x="395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8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5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50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1" y="457"/>
                  </a:lnTo>
                  <a:lnTo>
                    <a:pt x="314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2" y="440"/>
                  </a:lnTo>
                  <a:lnTo>
                    <a:pt x="279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70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0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2" y="111"/>
                  </a:lnTo>
                  <a:lnTo>
                    <a:pt x="293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2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8" y="66"/>
                  </a:lnTo>
                  <a:lnTo>
                    <a:pt x="209" y="66"/>
                  </a:lnTo>
                  <a:lnTo>
                    <a:pt x="202" y="67"/>
                  </a:lnTo>
                  <a:lnTo>
                    <a:pt x="194" y="67"/>
                  </a:lnTo>
                  <a:lnTo>
                    <a:pt x="185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1" y="74"/>
                  </a:lnTo>
                  <a:lnTo>
                    <a:pt x="144" y="75"/>
                  </a:lnTo>
                  <a:lnTo>
                    <a:pt x="140" y="77"/>
                  </a:lnTo>
                  <a:lnTo>
                    <a:pt x="134" y="78"/>
                  </a:lnTo>
                  <a:lnTo>
                    <a:pt x="130" y="79"/>
                  </a:lnTo>
                  <a:lnTo>
                    <a:pt x="126" y="82"/>
                  </a:lnTo>
                  <a:lnTo>
                    <a:pt x="122" y="84"/>
                  </a:lnTo>
                  <a:lnTo>
                    <a:pt x="119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2" y="96"/>
                  </a:lnTo>
                  <a:lnTo>
                    <a:pt x="111" y="99"/>
                  </a:lnTo>
                  <a:lnTo>
                    <a:pt x="110" y="104"/>
                  </a:lnTo>
                  <a:lnTo>
                    <a:pt x="110" y="108"/>
                  </a:lnTo>
                  <a:lnTo>
                    <a:pt x="110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39280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6" h="487">
                  <a:moveTo>
                    <a:pt x="247" y="340"/>
                  </a:moveTo>
                  <a:lnTo>
                    <a:pt x="153" y="347"/>
                  </a:lnTo>
                  <a:lnTo>
                    <a:pt x="151" y="347"/>
                  </a:lnTo>
                  <a:lnTo>
                    <a:pt x="148" y="350"/>
                  </a:lnTo>
                  <a:lnTo>
                    <a:pt x="145" y="354"/>
                  </a:lnTo>
                  <a:lnTo>
                    <a:pt x="142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4" y="400"/>
                  </a:lnTo>
                  <a:lnTo>
                    <a:pt x="119" y="412"/>
                  </a:lnTo>
                  <a:lnTo>
                    <a:pt x="115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5" y="449"/>
                  </a:lnTo>
                  <a:lnTo>
                    <a:pt x="102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9" y="467"/>
                  </a:lnTo>
                  <a:lnTo>
                    <a:pt x="98" y="469"/>
                  </a:lnTo>
                  <a:lnTo>
                    <a:pt x="97" y="471"/>
                  </a:lnTo>
                  <a:lnTo>
                    <a:pt x="96" y="475"/>
                  </a:lnTo>
                  <a:lnTo>
                    <a:pt x="95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90" y="481"/>
                  </a:lnTo>
                  <a:lnTo>
                    <a:pt x="88" y="482"/>
                  </a:lnTo>
                  <a:lnTo>
                    <a:pt x="86" y="483"/>
                  </a:lnTo>
                  <a:lnTo>
                    <a:pt x="84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70" y="487"/>
                  </a:lnTo>
                  <a:lnTo>
                    <a:pt x="66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7" y="486"/>
                  </a:lnTo>
                  <a:lnTo>
                    <a:pt x="42" y="486"/>
                  </a:lnTo>
                  <a:lnTo>
                    <a:pt x="36" y="484"/>
                  </a:lnTo>
                  <a:lnTo>
                    <a:pt x="31" y="483"/>
                  </a:lnTo>
                  <a:lnTo>
                    <a:pt x="25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2" y="478"/>
                  </a:lnTo>
                  <a:lnTo>
                    <a:pt x="7" y="476"/>
                  </a:lnTo>
                  <a:lnTo>
                    <a:pt x="5" y="473"/>
                  </a:lnTo>
                  <a:lnTo>
                    <a:pt x="3" y="471"/>
                  </a:lnTo>
                  <a:lnTo>
                    <a:pt x="2" y="468"/>
                  </a:lnTo>
                  <a:lnTo>
                    <a:pt x="1" y="466"/>
                  </a:lnTo>
                  <a:lnTo>
                    <a:pt x="0" y="462"/>
                  </a:lnTo>
                  <a:lnTo>
                    <a:pt x="1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7" y="426"/>
                  </a:lnTo>
                  <a:lnTo>
                    <a:pt x="12" y="413"/>
                  </a:lnTo>
                  <a:lnTo>
                    <a:pt x="16" y="398"/>
                  </a:lnTo>
                  <a:lnTo>
                    <a:pt x="23" y="382"/>
                  </a:lnTo>
                  <a:lnTo>
                    <a:pt x="29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3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8" y="216"/>
                  </a:lnTo>
                  <a:lnTo>
                    <a:pt x="97" y="193"/>
                  </a:lnTo>
                  <a:lnTo>
                    <a:pt x="107" y="171"/>
                  </a:lnTo>
                  <a:lnTo>
                    <a:pt x="116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9" y="96"/>
                  </a:lnTo>
                  <a:lnTo>
                    <a:pt x="145" y="81"/>
                  </a:lnTo>
                  <a:lnTo>
                    <a:pt x="151" y="67"/>
                  </a:lnTo>
                  <a:lnTo>
                    <a:pt x="156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70" y="27"/>
                  </a:lnTo>
                  <a:lnTo>
                    <a:pt x="173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80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4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1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3" y="0"/>
                  </a:lnTo>
                  <a:lnTo>
                    <a:pt x="206" y="0"/>
                  </a:lnTo>
                  <a:lnTo>
                    <a:pt x="211" y="0"/>
                  </a:lnTo>
                  <a:lnTo>
                    <a:pt x="215" y="1"/>
                  </a:lnTo>
                  <a:lnTo>
                    <a:pt x="219" y="1"/>
                  </a:lnTo>
                  <a:lnTo>
                    <a:pt x="226" y="2"/>
                  </a:lnTo>
                  <a:lnTo>
                    <a:pt x="233" y="3"/>
                  </a:lnTo>
                  <a:lnTo>
                    <a:pt x="239" y="4"/>
                  </a:lnTo>
                  <a:lnTo>
                    <a:pt x="246" y="6"/>
                  </a:lnTo>
                  <a:lnTo>
                    <a:pt x="254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3" y="10"/>
                  </a:lnTo>
                  <a:lnTo>
                    <a:pt x="280" y="10"/>
                  </a:lnTo>
                  <a:lnTo>
                    <a:pt x="287" y="11"/>
                  </a:lnTo>
                  <a:lnTo>
                    <a:pt x="292" y="12"/>
                  </a:lnTo>
                  <a:lnTo>
                    <a:pt x="299" y="12"/>
                  </a:lnTo>
                  <a:lnTo>
                    <a:pt x="304" y="13"/>
                  </a:lnTo>
                  <a:lnTo>
                    <a:pt x="309" y="14"/>
                  </a:lnTo>
                  <a:lnTo>
                    <a:pt x="313" y="15"/>
                  </a:lnTo>
                  <a:lnTo>
                    <a:pt x="317" y="17"/>
                  </a:lnTo>
                  <a:lnTo>
                    <a:pt x="320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6" y="22"/>
                  </a:lnTo>
                  <a:lnTo>
                    <a:pt x="328" y="24"/>
                  </a:lnTo>
                  <a:lnTo>
                    <a:pt x="330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5" y="42"/>
                  </a:lnTo>
                  <a:lnTo>
                    <a:pt x="336" y="47"/>
                  </a:lnTo>
                  <a:lnTo>
                    <a:pt x="339" y="57"/>
                  </a:lnTo>
                  <a:lnTo>
                    <a:pt x="342" y="70"/>
                  </a:lnTo>
                  <a:lnTo>
                    <a:pt x="345" y="86"/>
                  </a:lnTo>
                  <a:lnTo>
                    <a:pt x="350" y="106"/>
                  </a:lnTo>
                  <a:lnTo>
                    <a:pt x="355" y="129"/>
                  </a:lnTo>
                  <a:lnTo>
                    <a:pt x="362" y="156"/>
                  </a:lnTo>
                  <a:lnTo>
                    <a:pt x="368" y="185"/>
                  </a:lnTo>
                  <a:lnTo>
                    <a:pt x="376" y="216"/>
                  </a:lnTo>
                  <a:lnTo>
                    <a:pt x="383" y="245"/>
                  </a:lnTo>
                  <a:lnTo>
                    <a:pt x="388" y="272"/>
                  </a:lnTo>
                  <a:lnTo>
                    <a:pt x="395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1" y="372"/>
                  </a:lnTo>
                  <a:lnTo>
                    <a:pt x="415" y="386"/>
                  </a:lnTo>
                  <a:lnTo>
                    <a:pt x="418" y="398"/>
                  </a:lnTo>
                  <a:lnTo>
                    <a:pt x="420" y="408"/>
                  </a:lnTo>
                  <a:lnTo>
                    <a:pt x="423" y="417"/>
                  </a:lnTo>
                  <a:lnTo>
                    <a:pt x="424" y="425"/>
                  </a:lnTo>
                  <a:lnTo>
                    <a:pt x="425" y="430"/>
                  </a:lnTo>
                  <a:lnTo>
                    <a:pt x="425" y="434"/>
                  </a:lnTo>
                  <a:lnTo>
                    <a:pt x="426" y="436"/>
                  </a:lnTo>
                  <a:lnTo>
                    <a:pt x="425" y="440"/>
                  </a:lnTo>
                  <a:lnTo>
                    <a:pt x="423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6" y="452"/>
                  </a:lnTo>
                  <a:lnTo>
                    <a:pt x="397" y="454"/>
                  </a:lnTo>
                  <a:lnTo>
                    <a:pt x="386" y="455"/>
                  </a:lnTo>
                  <a:lnTo>
                    <a:pt x="375" y="455"/>
                  </a:lnTo>
                  <a:lnTo>
                    <a:pt x="366" y="455"/>
                  </a:lnTo>
                  <a:lnTo>
                    <a:pt x="358" y="454"/>
                  </a:lnTo>
                  <a:lnTo>
                    <a:pt x="352" y="452"/>
                  </a:lnTo>
                  <a:lnTo>
                    <a:pt x="346" y="450"/>
                  </a:lnTo>
                  <a:lnTo>
                    <a:pt x="341" y="448"/>
                  </a:lnTo>
                  <a:lnTo>
                    <a:pt x="335" y="445"/>
                  </a:lnTo>
                  <a:lnTo>
                    <a:pt x="332" y="441"/>
                  </a:lnTo>
                  <a:lnTo>
                    <a:pt x="329" y="437"/>
                  </a:lnTo>
                  <a:lnTo>
                    <a:pt x="325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7" y="417"/>
                  </a:lnTo>
                  <a:lnTo>
                    <a:pt x="313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1" y="385"/>
                  </a:lnTo>
                  <a:lnTo>
                    <a:pt x="298" y="380"/>
                  </a:lnTo>
                  <a:lnTo>
                    <a:pt x="296" y="373"/>
                  </a:lnTo>
                  <a:lnTo>
                    <a:pt x="293" y="369"/>
                  </a:lnTo>
                  <a:lnTo>
                    <a:pt x="291" y="363"/>
                  </a:lnTo>
                  <a:lnTo>
                    <a:pt x="289" y="359"/>
                  </a:lnTo>
                  <a:lnTo>
                    <a:pt x="288" y="355"/>
                  </a:lnTo>
                  <a:lnTo>
                    <a:pt x="287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2" y="343"/>
                  </a:lnTo>
                  <a:lnTo>
                    <a:pt x="280" y="341"/>
                  </a:lnTo>
                  <a:lnTo>
                    <a:pt x="279" y="340"/>
                  </a:lnTo>
                  <a:lnTo>
                    <a:pt x="277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7" y="340"/>
                  </a:lnTo>
                  <a:close/>
                  <a:moveTo>
                    <a:pt x="182" y="268"/>
                  </a:moveTo>
                  <a:lnTo>
                    <a:pt x="181" y="269"/>
                  </a:lnTo>
                  <a:lnTo>
                    <a:pt x="181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80" y="275"/>
                  </a:lnTo>
                  <a:lnTo>
                    <a:pt x="180" y="276"/>
                  </a:lnTo>
                  <a:lnTo>
                    <a:pt x="180" y="276"/>
                  </a:lnTo>
                  <a:lnTo>
                    <a:pt x="180" y="277"/>
                  </a:lnTo>
                  <a:lnTo>
                    <a:pt x="180" y="277"/>
                  </a:lnTo>
                  <a:lnTo>
                    <a:pt x="181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6" y="280"/>
                  </a:lnTo>
                  <a:lnTo>
                    <a:pt x="247" y="267"/>
                  </a:lnTo>
                  <a:lnTo>
                    <a:pt x="251" y="267"/>
                  </a:lnTo>
                  <a:lnTo>
                    <a:pt x="255" y="267"/>
                  </a:lnTo>
                  <a:lnTo>
                    <a:pt x="258" y="267"/>
                  </a:lnTo>
                  <a:lnTo>
                    <a:pt x="260" y="267"/>
                  </a:lnTo>
                  <a:lnTo>
                    <a:pt x="264" y="267"/>
                  </a:lnTo>
                  <a:lnTo>
                    <a:pt x="265" y="266"/>
                  </a:lnTo>
                  <a:lnTo>
                    <a:pt x="267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1" y="265"/>
                  </a:lnTo>
                  <a:lnTo>
                    <a:pt x="271" y="265"/>
                  </a:lnTo>
                  <a:lnTo>
                    <a:pt x="272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2" y="225"/>
                  </a:lnTo>
                  <a:lnTo>
                    <a:pt x="259" y="213"/>
                  </a:lnTo>
                  <a:lnTo>
                    <a:pt x="256" y="199"/>
                  </a:lnTo>
                  <a:lnTo>
                    <a:pt x="251" y="184"/>
                  </a:lnTo>
                  <a:lnTo>
                    <a:pt x="248" y="171"/>
                  </a:lnTo>
                  <a:lnTo>
                    <a:pt x="245" y="160"/>
                  </a:lnTo>
                  <a:lnTo>
                    <a:pt x="243" y="150"/>
                  </a:lnTo>
                  <a:lnTo>
                    <a:pt x="240" y="143"/>
                  </a:lnTo>
                  <a:lnTo>
                    <a:pt x="239" y="137"/>
                  </a:lnTo>
                  <a:lnTo>
                    <a:pt x="238" y="134"/>
                  </a:lnTo>
                  <a:lnTo>
                    <a:pt x="238" y="130"/>
                  </a:lnTo>
                  <a:lnTo>
                    <a:pt x="236" y="134"/>
                  </a:lnTo>
                  <a:lnTo>
                    <a:pt x="234" y="139"/>
                  </a:lnTo>
                  <a:lnTo>
                    <a:pt x="230" y="146"/>
                  </a:lnTo>
                  <a:lnTo>
                    <a:pt x="227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7" y="226"/>
                  </a:lnTo>
                  <a:lnTo>
                    <a:pt x="193" y="237"/>
                  </a:lnTo>
                  <a:lnTo>
                    <a:pt x="190" y="246"/>
                  </a:lnTo>
                  <a:lnTo>
                    <a:pt x="186" y="254"/>
                  </a:lnTo>
                  <a:lnTo>
                    <a:pt x="184" y="260"/>
                  </a:lnTo>
                  <a:lnTo>
                    <a:pt x="182" y="265"/>
                  </a:lnTo>
                  <a:lnTo>
                    <a:pt x="182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58972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9" h="475">
                  <a:moveTo>
                    <a:pt x="116" y="448"/>
                  </a:moveTo>
                  <a:lnTo>
                    <a:pt x="115" y="454"/>
                  </a:lnTo>
                  <a:lnTo>
                    <a:pt x="114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8" y="471"/>
                  </a:lnTo>
                  <a:lnTo>
                    <a:pt x="103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5" y="471"/>
                  </a:lnTo>
                  <a:lnTo>
                    <a:pt x="56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5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2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8" y="11"/>
                  </a:lnTo>
                  <a:lnTo>
                    <a:pt x="111" y="13"/>
                  </a:lnTo>
                  <a:lnTo>
                    <a:pt x="114" y="16"/>
                  </a:lnTo>
                  <a:lnTo>
                    <a:pt x="118" y="18"/>
                  </a:lnTo>
                  <a:lnTo>
                    <a:pt x="119" y="20"/>
                  </a:lnTo>
                  <a:lnTo>
                    <a:pt x="119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673600" y="2293920"/>
              <a:ext cx="155880" cy="188280"/>
            </a:xfrm>
            <a:custGeom>
              <a:avLst/>
              <a:gdLst/>
              <a:ahLst/>
              <a:rect l="l" t="t" r="r" b="b"/>
              <a:pathLst>
                <a:path w="388" h="477">
                  <a:moveTo>
                    <a:pt x="250" y="423"/>
                  </a:moveTo>
                  <a:lnTo>
                    <a:pt x="241" y="429"/>
                  </a:lnTo>
                  <a:lnTo>
                    <a:pt x="233" y="435"/>
                  </a:lnTo>
                  <a:lnTo>
                    <a:pt x="223" y="439"/>
                  </a:lnTo>
                  <a:lnTo>
                    <a:pt x="214" y="445"/>
                  </a:lnTo>
                  <a:lnTo>
                    <a:pt x="205" y="449"/>
                  </a:lnTo>
                  <a:lnTo>
                    <a:pt x="195" y="454"/>
                  </a:lnTo>
                  <a:lnTo>
                    <a:pt x="186" y="458"/>
                  </a:lnTo>
                  <a:lnTo>
                    <a:pt x="176" y="462"/>
                  </a:lnTo>
                  <a:lnTo>
                    <a:pt x="166" y="466"/>
                  </a:lnTo>
                  <a:lnTo>
                    <a:pt x="158" y="469"/>
                  </a:lnTo>
                  <a:lnTo>
                    <a:pt x="149" y="471"/>
                  </a:lnTo>
                  <a:lnTo>
                    <a:pt x="141" y="474"/>
                  </a:lnTo>
                  <a:lnTo>
                    <a:pt x="133" y="476"/>
                  </a:lnTo>
                  <a:lnTo>
                    <a:pt x="127" y="477"/>
                  </a:lnTo>
                  <a:lnTo>
                    <a:pt x="119" y="477"/>
                  </a:lnTo>
                  <a:lnTo>
                    <a:pt x="112" y="477"/>
                  </a:lnTo>
                  <a:lnTo>
                    <a:pt x="108" y="477"/>
                  </a:lnTo>
                  <a:lnTo>
                    <a:pt x="103" y="477"/>
                  </a:lnTo>
                  <a:lnTo>
                    <a:pt x="97" y="476"/>
                  </a:lnTo>
                  <a:lnTo>
                    <a:pt x="90" y="475"/>
                  </a:lnTo>
                  <a:lnTo>
                    <a:pt x="84" y="474"/>
                  </a:lnTo>
                  <a:lnTo>
                    <a:pt x="75" y="471"/>
                  </a:lnTo>
                  <a:lnTo>
                    <a:pt x="66" y="469"/>
                  </a:lnTo>
                  <a:lnTo>
                    <a:pt x="57" y="466"/>
                  </a:lnTo>
                  <a:lnTo>
                    <a:pt x="47" y="464"/>
                  </a:lnTo>
                  <a:lnTo>
                    <a:pt x="39" y="461"/>
                  </a:lnTo>
                  <a:lnTo>
                    <a:pt x="32" y="458"/>
                  </a:lnTo>
                  <a:lnTo>
                    <a:pt x="25" y="456"/>
                  </a:lnTo>
                  <a:lnTo>
                    <a:pt x="20" y="454"/>
                  </a:lnTo>
                  <a:lnTo>
                    <a:pt x="15" y="451"/>
                  </a:lnTo>
                  <a:lnTo>
                    <a:pt x="11" y="449"/>
                  </a:lnTo>
                  <a:lnTo>
                    <a:pt x="8" y="447"/>
                  </a:lnTo>
                  <a:lnTo>
                    <a:pt x="6" y="445"/>
                  </a:lnTo>
                  <a:lnTo>
                    <a:pt x="4" y="442"/>
                  </a:lnTo>
                  <a:lnTo>
                    <a:pt x="3" y="438"/>
                  </a:lnTo>
                  <a:lnTo>
                    <a:pt x="2" y="434"/>
                  </a:lnTo>
                  <a:lnTo>
                    <a:pt x="1" y="428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6"/>
                  </a:lnTo>
                  <a:lnTo>
                    <a:pt x="2" y="42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2" y="22"/>
                  </a:lnTo>
                  <a:lnTo>
                    <a:pt x="4" y="20"/>
                  </a:lnTo>
                  <a:lnTo>
                    <a:pt x="7" y="18"/>
                  </a:lnTo>
                  <a:lnTo>
                    <a:pt x="11" y="16"/>
                  </a:lnTo>
                  <a:lnTo>
                    <a:pt x="14" y="13"/>
                  </a:lnTo>
                  <a:lnTo>
                    <a:pt x="18" y="11"/>
                  </a:lnTo>
                  <a:lnTo>
                    <a:pt x="24" y="8"/>
                  </a:lnTo>
                  <a:lnTo>
                    <a:pt x="29" y="6"/>
                  </a:lnTo>
                  <a:lnTo>
                    <a:pt x="35" y="5"/>
                  </a:lnTo>
                  <a:lnTo>
                    <a:pt x="41" y="2"/>
                  </a:lnTo>
                  <a:lnTo>
                    <a:pt x="46" y="1"/>
                  </a:lnTo>
                  <a:lnTo>
                    <a:pt x="52" y="1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87" y="0"/>
                  </a:lnTo>
                  <a:lnTo>
                    <a:pt x="110" y="1"/>
                  </a:lnTo>
                  <a:lnTo>
                    <a:pt x="132" y="3"/>
                  </a:lnTo>
                  <a:lnTo>
                    <a:pt x="153" y="6"/>
                  </a:lnTo>
                  <a:lnTo>
                    <a:pt x="173" y="9"/>
                  </a:lnTo>
                  <a:lnTo>
                    <a:pt x="192" y="13"/>
                  </a:lnTo>
                  <a:lnTo>
                    <a:pt x="209" y="19"/>
                  </a:lnTo>
                  <a:lnTo>
                    <a:pt x="226" y="24"/>
                  </a:lnTo>
                  <a:lnTo>
                    <a:pt x="241" y="30"/>
                  </a:lnTo>
                  <a:lnTo>
                    <a:pt x="256" y="37"/>
                  </a:lnTo>
                  <a:lnTo>
                    <a:pt x="269" y="43"/>
                  </a:lnTo>
                  <a:lnTo>
                    <a:pt x="282" y="51"/>
                  </a:lnTo>
                  <a:lnTo>
                    <a:pt x="293" y="57"/>
                  </a:lnTo>
                  <a:lnTo>
                    <a:pt x="304" y="65"/>
                  </a:lnTo>
                  <a:lnTo>
                    <a:pt x="314" y="73"/>
                  </a:lnTo>
                  <a:lnTo>
                    <a:pt x="323" y="82"/>
                  </a:lnTo>
                  <a:lnTo>
                    <a:pt x="331" y="89"/>
                  </a:lnTo>
                  <a:lnTo>
                    <a:pt x="339" y="98"/>
                  </a:lnTo>
                  <a:lnTo>
                    <a:pt x="346" y="107"/>
                  </a:lnTo>
                  <a:lnTo>
                    <a:pt x="352" y="115"/>
                  </a:lnTo>
                  <a:lnTo>
                    <a:pt x="358" y="124"/>
                  </a:lnTo>
                  <a:lnTo>
                    <a:pt x="364" y="133"/>
                  </a:lnTo>
                  <a:lnTo>
                    <a:pt x="368" y="141"/>
                  </a:lnTo>
                  <a:lnTo>
                    <a:pt x="373" y="150"/>
                  </a:lnTo>
                  <a:lnTo>
                    <a:pt x="376" y="159"/>
                  </a:lnTo>
                  <a:lnTo>
                    <a:pt x="379" y="168"/>
                  </a:lnTo>
                  <a:lnTo>
                    <a:pt x="382" y="177"/>
                  </a:lnTo>
                  <a:lnTo>
                    <a:pt x="384" y="185"/>
                  </a:lnTo>
                  <a:lnTo>
                    <a:pt x="386" y="193"/>
                  </a:lnTo>
                  <a:lnTo>
                    <a:pt x="387" y="202"/>
                  </a:lnTo>
                  <a:lnTo>
                    <a:pt x="388" y="211"/>
                  </a:lnTo>
                  <a:lnTo>
                    <a:pt x="388" y="220"/>
                  </a:lnTo>
                  <a:lnTo>
                    <a:pt x="388" y="233"/>
                  </a:lnTo>
                  <a:lnTo>
                    <a:pt x="386" y="246"/>
                  </a:lnTo>
                  <a:lnTo>
                    <a:pt x="383" y="259"/>
                  </a:lnTo>
                  <a:lnTo>
                    <a:pt x="379" y="273"/>
                  </a:lnTo>
                  <a:lnTo>
                    <a:pt x="374" y="286"/>
                  </a:lnTo>
                  <a:lnTo>
                    <a:pt x="368" y="299"/>
                  </a:lnTo>
                  <a:lnTo>
                    <a:pt x="361" y="312"/>
                  </a:lnTo>
                  <a:lnTo>
                    <a:pt x="352" y="327"/>
                  </a:lnTo>
                  <a:lnTo>
                    <a:pt x="343" y="340"/>
                  </a:lnTo>
                  <a:lnTo>
                    <a:pt x="332" y="352"/>
                  </a:lnTo>
                  <a:lnTo>
                    <a:pt x="321" y="365"/>
                  </a:lnTo>
                  <a:lnTo>
                    <a:pt x="309" y="378"/>
                  </a:lnTo>
                  <a:lnTo>
                    <a:pt x="296" y="390"/>
                  </a:lnTo>
                  <a:lnTo>
                    <a:pt x="281" y="401"/>
                  </a:lnTo>
                  <a:lnTo>
                    <a:pt x="267" y="412"/>
                  </a:lnTo>
                  <a:lnTo>
                    <a:pt x="250" y="423"/>
                  </a:lnTo>
                  <a:close/>
                  <a:moveTo>
                    <a:pt x="134" y="59"/>
                  </a:moveTo>
                  <a:lnTo>
                    <a:pt x="131" y="59"/>
                  </a:lnTo>
                  <a:lnTo>
                    <a:pt x="129" y="59"/>
                  </a:lnTo>
                  <a:lnTo>
                    <a:pt x="126" y="60"/>
                  </a:lnTo>
                  <a:lnTo>
                    <a:pt x="123" y="60"/>
                  </a:lnTo>
                  <a:lnTo>
                    <a:pt x="121" y="61"/>
                  </a:lnTo>
                  <a:lnTo>
                    <a:pt x="120" y="62"/>
                  </a:lnTo>
                  <a:lnTo>
                    <a:pt x="118" y="63"/>
                  </a:lnTo>
                  <a:lnTo>
                    <a:pt x="117" y="64"/>
                  </a:lnTo>
                  <a:lnTo>
                    <a:pt x="116" y="65"/>
                  </a:lnTo>
                  <a:lnTo>
                    <a:pt x="116" y="67"/>
                  </a:lnTo>
                  <a:lnTo>
                    <a:pt x="114" y="70"/>
                  </a:lnTo>
                  <a:lnTo>
                    <a:pt x="113" y="73"/>
                  </a:lnTo>
                  <a:lnTo>
                    <a:pt x="113" y="76"/>
                  </a:lnTo>
                  <a:lnTo>
                    <a:pt x="113" y="80"/>
                  </a:lnTo>
                  <a:lnTo>
                    <a:pt x="113" y="84"/>
                  </a:lnTo>
                  <a:lnTo>
                    <a:pt x="112" y="88"/>
                  </a:lnTo>
                  <a:lnTo>
                    <a:pt x="112" y="97"/>
                  </a:lnTo>
                  <a:lnTo>
                    <a:pt x="112" y="107"/>
                  </a:lnTo>
                  <a:lnTo>
                    <a:pt x="112" y="116"/>
                  </a:lnTo>
                  <a:lnTo>
                    <a:pt x="111" y="126"/>
                  </a:lnTo>
                  <a:lnTo>
                    <a:pt x="111" y="136"/>
                  </a:lnTo>
                  <a:lnTo>
                    <a:pt x="111" y="146"/>
                  </a:lnTo>
                  <a:lnTo>
                    <a:pt x="111" y="157"/>
                  </a:lnTo>
                  <a:lnTo>
                    <a:pt x="111" y="167"/>
                  </a:lnTo>
                  <a:lnTo>
                    <a:pt x="111" y="178"/>
                  </a:lnTo>
                  <a:lnTo>
                    <a:pt x="110" y="189"/>
                  </a:lnTo>
                  <a:lnTo>
                    <a:pt x="110" y="200"/>
                  </a:lnTo>
                  <a:lnTo>
                    <a:pt x="110" y="212"/>
                  </a:lnTo>
                  <a:lnTo>
                    <a:pt x="110" y="223"/>
                  </a:lnTo>
                  <a:lnTo>
                    <a:pt x="110" y="234"/>
                  </a:lnTo>
                  <a:lnTo>
                    <a:pt x="110" y="246"/>
                  </a:lnTo>
                  <a:lnTo>
                    <a:pt x="110" y="258"/>
                  </a:lnTo>
                  <a:lnTo>
                    <a:pt x="110" y="265"/>
                  </a:lnTo>
                  <a:lnTo>
                    <a:pt x="110" y="273"/>
                  </a:lnTo>
                  <a:lnTo>
                    <a:pt x="110" y="280"/>
                  </a:lnTo>
                  <a:lnTo>
                    <a:pt x="110" y="287"/>
                  </a:lnTo>
                  <a:lnTo>
                    <a:pt x="110" y="295"/>
                  </a:lnTo>
                  <a:lnTo>
                    <a:pt x="110" y="301"/>
                  </a:lnTo>
                  <a:lnTo>
                    <a:pt x="110" y="308"/>
                  </a:lnTo>
                  <a:lnTo>
                    <a:pt x="110" y="315"/>
                  </a:lnTo>
                  <a:lnTo>
                    <a:pt x="111" y="321"/>
                  </a:lnTo>
                  <a:lnTo>
                    <a:pt x="111" y="327"/>
                  </a:lnTo>
                  <a:lnTo>
                    <a:pt x="111" y="332"/>
                  </a:lnTo>
                  <a:lnTo>
                    <a:pt x="111" y="337"/>
                  </a:lnTo>
                  <a:lnTo>
                    <a:pt x="111" y="341"/>
                  </a:lnTo>
                  <a:lnTo>
                    <a:pt x="112" y="346"/>
                  </a:lnTo>
                  <a:lnTo>
                    <a:pt x="112" y="349"/>
                  </a:lnTo>
                  <a:lnTo>
                    <a:pt x="112" y="352"/>
                  </a:lnTo>
                  <a:lnTo>
                    <a:pt x="112" y="353"/>
                  </a:lnTo>
                  <a:lnTo>
                    <a:pt x="112" y="354"/>
                  </a:lnTo>
                  <a:lnTo>
                    <a:pt x="112" y="355"/>
                  </a:lnTo>
                  <a:lnTo>
                    <a:pt x="112" y="357"/>
                  </a:lnTo>
                  <a:lnTo>
                    <a:pt x="112" y="358"/>
                  </a:lnTo>
                  <a:lnTo>
                    <a:pt x="112" y="358"/>
                  </a:lnTo>
                  <a:lnTo>
                    <a:pt x="112" y="359"/>
                  </a:lnTo>
                  <a:lnTo>
                    <a:pt x="112" y="360"/>
                  </a:lnTo>
                  <a:lnTo>
                    <a:pt x="113" y="364"/>
                  </a:lnTo>
                  <a:lnTo>
                    <a:pt x="113" y="369"/>
                  </a:lnTo>
                  <a:lnTo>
                    <a:pt x="113" y="372"/>
                  </a:lnTo>
                  <a:lnTo>
                    <a:pt x="113" y="376"/>
                  </a:lnTo>
                  <a:lnTo>
                    <a:pt x="113" y="380"/>
                  </a:lnTo>
                  <a:lnTo>
                    <a:pt x="113" y="383"/>
                  </a:lnTo>
                  <a:lnTo>
                    <a:pt x="114" y="386"/>
                  </a:lnTo>
                  <a:lnTo>
                    <a:pt x="114" y="389"/>
                  </a:lnTo>
                  <a:lnTo>
                    <a:pt x="116" y="391"/>
                  </a:lnTo>
                  <a:lnTo>
                    <a:pt x="116" y="393"/>
                  </a:lnTo>
                  <a:lnTo>
                    <a:pt x="117" y="395"/>
                  </a:lnTo>
                  <a:lnTo>
                    <a:pt x="118" y="396"/>
                  </a:lnTo>
                  <a:lnTo>
                    <a:pt x="119" y="397"/>
                  </a:lnTo>
                  <a:lnTo>
                    <a:pt x="120" y="398"/>
                  </a:lnTo>
                  <a:lnTo>
                    <a:pt x="121" y="398"/>
                  </a:lnTo>
                  <a:lnTo>
                    <a:pt x="123" y="400"/>
                  </a:lnTo>
                  <a:lnTo>
                    <a:pt x="124" y="398"/>
                  </a:lnTo>
                  <a:lnTo>
                    <a:pt x="127" y="398"/>
                  </a:lnTo>
                  <a:lnTo>
                    <a:pt x="129" y="397"/>
                  </a:lnTo>
                  <a:lnTo>
                    <a:pt x="131" y="396"/>
                  </a:lnTo>
                  <a:lnTo>
                    <a:pt x="134" y="394"/>
                  </a:lnTo>
                  <a:lnTo>
                    <a:pt x="138" y="392"/>
                  </a:lnTo>
                  <a:lnTo>
                    <a:pt x="142" y="389"/>
                  </a:lnTo>
                  <a:lnTo>
                    <a:pt x="146" y="386"/>
                  </a:lnTo>
                  <a:lnTo>
                    <a:pt x="151" y="382"/>
                  </a:lnTo>
                  <a:lnTo>
                    <a:pt x="155" y="379"/>
                  </a:lnTo>
                  <a:lnTo>
                    <a:pt x="161" y="374"/>
                  </a:lnTo>
                  <a:lnTo>
                    <a:pt x="166" y="370"/>
                  </a:lnTo>
                  <a:lnTo>
                    <a:pt x="172" y="364"/>
                  </a:lnTo>
                  <a:lnTo>
                    <a:pt x="177" y="359"/>
                  </a:lnTo>
                  <a:lnTo>
                    <a:pt x="184" y="352"/>
                  </a:lnTo>
                  <a:lnTo>
                    <a:pt x="191" y="346"/>
                  </a:lnTo>
                  <a:lnTo>
                    <a:pt x="197" y="339"/>
                  </a:lnTo>
                  <a:lnTo>
                    <a:pt x="204" y="332"/>
                  </a:lnTo>
                  <a:lnTo>
                    <a:pt x="209" y="326"/>
                  </a:lnTo>
                  <a:lnTo>
                    <a:pt x="216" y="318"/>
                  </a:lnTo>
                  <a:lnTo>
                    <a:pt x="222" y="310"/>
                  </a:lnTo>
                  <a:lnTo>
                    <a:pt x="227" y="304"/>
                  </a:lnTo>
                  <a:lnTo>
                    <a:pt x="233" y="296"/>
                  </a:lnTo>
                  <a:lnTo>
                    <a:pt x="238" y="288"/>
                  </a:lnTo>
                  <a:lnTo>
                    <a:pt x="244" y="279"/>
                  </a:lnTo>
                  <a:lnTo>
                    <a:pt x="248" y="272"/>
                  </a:lnTo>
                  <a:lnTo>
                    <a:pt x="251" y="262"/>
                  </a:lnTo>
                  <a:lnTo>
                    <a:pt x="255" y="252"/>
                  </a:lnTo>
                  <a:lnTo>
                    <a:pt x="257" y="242"/>
                  </a:lnTo>
                  <a:lnTo>
                    <a:pt x="258" y="231"/>
                  </a:lnTo>
                  <a:lnTo>
                    <a:pt x="259" y="220"/>
                  </a:lnTo>
                  <a:lnTo>
                    <a:pt x="260" y="208"/>
                  </a:lnTo>
                  <a:lnTo>
                    <a:pt x="259" y="195"/>
                  </a:lnTo>
                  <a:lnTo>
                    <a:pt x="258" y="183"/>
                  </a:lnTo>
                  <a:lnTo>
                    <a:pt x="256" y="171"/>
                  </a:lnTo>
                  <a:lnTo>
                    <a:pt x="251" y="159"/>
                  </a:lnTo>
                  <a:lnTo>
                    <a:pt x="247" y="147"/>
                  </a:lnTo>
                  <a:lnTo>
                    <a:pt x="241" y="135"/>
                  </a:lnTo>
                  <a:lnTo>
                    <a:pt x="235" y="123"/>
                  </a:lnTo>
                  <a:lnTo>
                    <a:pt x="227" y="109"/>
                  </a:lnTo>
                  <a:lnTo>
                    <a:pt x="219" y="97"/>
                  </a:lnTo>
                  <a:lnTo>
                    <a:pt x="209" y="87"/>
                  </a:lnTo>
                  <a:lnTo>
                    <a:pt x="199" y="78"/>
                  </a:lnTo>
                  <a:lnTo>
                    <a:pt x="188" y="72"/>
                  </a:lnTo>
                  <a:lnTo>
                    <a:pt x="176" y="66"/>
                  </a:lnTo>
                  <a:lnTo>
                    <a:pt x="163" y="62"/>
                  </a:lnTo>
                  <a:lnTo>
                    <a:pt x="150" y="60"/>
                  </a:lnTo>
                  <a:lnTo>
                    <a:pt x="134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43520" y="2298600"/>
              <a:ext cx="155520" cy="193320"/>
            </a:xfrm>
            <a:custGeom>
              <a:avLst/>
              <a:gdLst/>
              <a:ahLst/>
              <a:rect l="l" t="t" r="r" b="b"/>
              <a:pathLst>
                <a:path w="393" h="489">
                  <a:moveTo>
                    <a:pt x="154" y="145"/>
                  </a:moveTo>
                  <a:lnTo>
                    <a:pt x="155" y="152"/>
                  </a:lnTo>
                  <a:lnTo>
                    <a:pt x="158" y="161"/>
                  </a:lnTo>
                  <a:lnTo>
                    <a:pt x="162" y="169"/>
                  </a:lnTo>
                  <a:lnTo>
                    <a:pt x="169" y="177"/>
                  </a:lnTo>
                  <a:lnTo>
                    <a:pt x="176" y="185"/>
                  </a:lnTo>
                  <a:lnTo>
                    <a:pt x="186" y="194"/>
                  </a:lnTo>
                  <a:lnTo>
                    <a:pt x="199" y="203"/>
                  </a:lnTo>
                  <a:lnTo>
                    <a:pt x="212" y="212"/>
                  </a:lnTo>
                  <a:lnTo>
                    <a:pt x="226" y="221"/>
                  </a:lnTo>
                  <a:lnTo>
                    <a:pt x="239" y="230"/>
                  </a:lnTo>
                  <a:lnTo>
                    <a:pt x="254" y="238"/>
                  </a:lnTo>
                  <a:lnTo>
                    <a:pt x="268" y="247"/>
                  </a:lnTo>
                  <a:lnTo>
                    <a:pt x="281" y="256"/>
                  </a:lnTo>
                  <a:lnTo>
                    <a:pt x="296" y="265"/>
                  </a:lnTo>
                  <a:lnTo>
                    <a:pt x="309" y="274"/>
                  </a:lnTo>
                  <a:lnTo>
                    <a:pt x="323" y="281"/>
                  </a:lnTo>
                  <a:lnTo>
                    <a:pt x="337" y="294"/>
                  </a:lnTo>
                  <a:lnTo>
                    <a:pt x="349" y="305"/>
                  </a:lnTo>
                  <a:lnTo>
                    <a:pt x="360" y="317"/>
                  </a:lnTo>
                  <a:lnTo>
                    <a:pt x="367" y="329"/>
                  </a:lnTo>
                  <a:lnTo>
                    <a:pt x="374" y="341"/>
                  </a:lnTo>
                  <a:lnTo>
                    <a:pt x="380" y="352"/>
                  </a:lnTo>
                  <a:lnTo>
                    <a:pt x="382" y="364"/>
                  </a:lnTo>
                  <a:lnTo>
                    <a:pt x="383" y="376"/>
                  </a:lnTo>
                  <a:lnTo>
                    <a:pt x="382" y="384"/>
                  </a:lnTo>
                  <a:lnTo>
                    <a:pt x="381" y="392"/>
                  </a:lnTo>
                  <a:lnTo>
                    <a:pt x="377" y="401"/>
                  </a:lnTo>
                  <a:lnTo>
                    <a:pt x="373" y="408"/>
                  </a:lnTo>
                  <a:lnTo>
                    <a:pt x="366" y="418"/>
                  </a:lnTo>
                  <a:lnTo>
                    <a:pt x="360" y="427"/>
                  </a:lnTo>
                  <a:lnTo>
                    <a:pt x="351" y="437"/>
                  </a:lnTo>
                  <a:lnTo>
                    <a:pt x="341" y="447"/>
                  </a:lnTo>
                  <a:lnTo>
                    <a:pt x="330" y="457"/>
                  </a:lnTo>
                  <a:lnTo>
                    <a:pt x="319" y="466"/>
                  </a:lnTo>
                  <a:lnTo>
                    <a:pt x="306" y="473"/>
                  </a:lnTo>
                  <a:lnTo>
                    <a:pt x="293" y="479"/>
                  </a:lnTo>
                  <a:lnTo>
                    <a:pt x="279" y="483"/>
                  </a:lnTo>
                  <a:lnTo>
                    <a:pt x="265" y="487"/>
                  </a:lnTo>
                  <a:lnTo>
                    <a:pt x="250" y="489"/>
                  </a:lnTo>
                  <a:lnTo>
                    <a:pt x="234" y="489"/>
                  </a:lnTo>
                  <a:lnTo>
                    <a:pt x="214" y="489"/>
                  </a:lnTo>
                  <a:lnTo>
                    <a:pt x="194" y="487"/>
                  </a:lnTo>
                  <a:lnTo>
                    <a:pt x="174" y="483"/>
                  </a:lnTo>
                  <a:lnTo>
                    <a:pt x="155" y="478"/>
                  </a:lnTo>
                  <a:lnTo>
                    <a:pt x="136" y="471"/>
                  </a:lnTo>
                  <a:lnTo>
                    <a:pt x="116" y="464"/>
                  </a:lnTo>
                  <a:lnTo>
                    <a:pt x="96" y="455"/>
                  </a:lnTo>
                  <a:lnTo>
                    <a:pt x="77" y="444"/>
                  </a:lnTo>
                  <a:lnTo>
                    <a:pt x="58" y="433"/>
                  </a:lnTo>
                  <a:lnTo>
                    <a:pt x="43" y="422"/>
                  </a:lnTo>
                  <a:lnTo>
                    <a:pt x="30" y="412"/>
                  </a:lnTo>
                  <a:lnTo>
                    <a:pt x="19" y="402"/>
                  </a:lnTo>
                  <a:lnTo>
                    <a:pt x="10" y="394"/>
                  </a:lnTo>
                  <a:lnTo>
                    <a:pt x="4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0" y="364"/>
                  </a:lnTo>
                  <a:lnTo>
                    <a:pt x="0" y="361"/>
                  </a:lnTo>
                  <a:lnTo>
                    <a:pt x="0" y="359"/>
                  </a:lnTo>
                  <a:lnTo>
                    <a:pt x="1" y="355"/>
                  </a:lnTo>
                  <a:lnTo>
                    <a:pt x="1" y="352"/>
                  </a:lnTo>
                  <a:lnTo>
                    <a:pt x="2" y="349"/>
                  </a:lnTo>
                  <a:lnTo>
                    <a:pt x="3" y="345"/>
                  </a:lnTo>
                  <a:lnTo>
                    <a:pt x="4" y="343"/>
                  </a:lnTo>
                  <a:lnTo>
                    <a:pt x="5" y="340"/>
                  </a:lnTo>
                  <a:lnTo>
                    <a:pt x="8" y="338"/>
                  </a:lnTo>
                  <a:lnTo>
                    <a:pt x="10" y="337"/>
                  </a:lnTo>
                  <a:lnTo>
                    <a:pt x="13" y="334"/>
                  </a:lnTo>
                  <a:lnTo>
                    <a:pt x="16" y="333"/>
                  </a:lnTo>
                  <a:lnTo>
                    <a:pt x="20" y="333"/>
                  </a:lnTo>
                  <a:lnTo>
                    <a:pt x="24" y="333"/>
                  </a:lnTo>
                  <a:lnTo>
                    <a:pt x="30" y="333"/>
                  </a:lnTo>
                  <a:lnTo>
                    <a:pt x="36" y="336"/>
                  </a:lnTo>
                  <a:lnTo>
                    <a:pt x="44" y="339"/>
                  </a:lnTo>
                  <a:lnTo>
                    <a:pt x="54" y="342"/>
                  </a:lnTo>
                  <a:lnTo>
                    <a:pt x="64" y="348"/>
                  </a:lnTo>
                  <a:lnTo>
                    <a:pt x="76" y="354"/>
                  </a:lnTo>
                  <a:lnTo>
                    <a:pt x="88" y="362"/>
                  </a:lnTo>
                  <a:lnTo>
                    <a:pt x="102" y="370"/>
                  </a:lnTo>
                  <a:lnTo>
                    <a:pt x="118" y="379"/>
                  </a:lnTo>
                  <a:lnTo>
                    <a:pt x="131" y="386"/>
                  </a:lnTo>
                  <a:lnTo>
                    <a:pt x="146" y="393"/>
                  </a:lnTo>
                  <a:lnTo>
                    <a:pt x="158" y="398"/>
                  </a:lnTo>
                  <a:lnTo>
                    <a:pt x="171" y="402"/>
                  </a:lnTo>
                  <a:lnTo>
                    <a:pt x="183" y="405"/>
                  </a:lnTo>
                  <a:lnTo>
                    <a:pt x="194" y="407"/>
                  </a:lnTo>
                  <a:lnTo>
                    <a:pt x="205" y="407"/>
                  </a:lnTo>
                  <a:lnTo>
                    <a:pt x="215" y="407"/>
                  </a:lnTo>
                  <a:lnTo>
                    <a:pt x="224" y="405"/>
                  </a:lnTo>
                  <a:lnTo>
                    <a:pt x="232" y="403"/>
                  </a:lnTo>
                  <a:lnTo>
                    <a:pt x="237" y="400"/>
                  </a:lnTo>
                  <a:lnTo>
                    <a:pt x="242" y="395"/>
                  </a:lnTo>
                  <a:lnTo>
                    <a:pt x="245" y="388"/>
                  </a:lnTo>
                  <a:lnTo>
                    <a:pt x="247" y="382"/>
                  </a:lnTo>
                  <a:lnTo>
                    <a:pt x="248" y="374"/>
                  </a:lnTo>
                  <a:lnTo>
                    <a:pt x="247" y="365"/>
                  </a:lnTo>
                  <a:lnTo>
                    <a:pt x="245" y="355"/>
                  </a:lnTo>
                  <a:lnTo>
                    <a:pt x="240" y="345"/>
                  </a:lnTo>
                  <a:lnTo>
                    <a:pt x="235" y="337"/>
                  </a:lnTo>
                  <a:lnTo>
                    <a:pt x="227" y="327"/>
                  </a:lnTo>
                  <a:lnTo>
                    <a:pt x="218" y="318"/>
                  </a:lnTo>
                  <a:lnTo>
                    <a:pt x="207" y="308"/>
                  </a:lnTo>
                  <a:lnTo>
                    <a:pt x="195" y="299"/>
                  </a:lnTo>
                  <a:lnTo>
                    <a:pt x="183" y="291"/>
                  </a:lnTo>
                  <a:lnTo>
                    <a:pt x="170" y="284"/>
                  </a:lnTo>
                  <a:lnTo>
                    <a:pt x="158" y="275"/>
                  </a:lnTo>
                  <a:lnTo>
                    <a:pt x="146" y="267"/>
                  </a:lnTo>
                  <a:lnTo>
                    <a:pt x="133" y="259"/>
                  </a:lnTo>
                  <a:lnTo>
                    <a:pt x="121" y="252"/>
                  </a:lnTo>
                  <a:lnTo>
                    <a:pt x="109" y="243"/>
                  </a:lnTo>
                  <a:lnTo>
                    <a:pt x="96" y="235"/>
                  </a:lnTo>
                  <a:lnTo>
                    <a:pt x="84" y="225"/>
                  </a:lnTo>
                  <a:lnTo>
                    <a:pt x="73" y="214"/>
                  </a:lnTo>
                  <a:lnTo>
                    <a:pt x="64" y="203"/>
                  </a:lnTo>
                  <a:lnTo>
                    <a:pt x="56" y="191"/>
                  </a:lnTo>
                  <a:lnTo>
                    <a:pt x="51" y="180"/>
                  </a:lnTo>
                  <a:lnTo>
                    <a:pt x="46" y="168"/>
                  </a:lnTo>
                  <a:lnTo>
                    <a:pt x="44" y="156"/>
                  </a:lnTo>
                  <a:lnTo>
                    <a:pt x="43" y="143"/>
                  </a:lnTo>
                  <a:lnTo>
                    <a:pt x="44" y="132"/>
                  </a:lnTo>
                  <a:lnTo>
                    <a:pt x="46" y="120"/>
                  </a:lnTo>
                  <a:lnTo>
                    <a:pt x="51" y="109"/>
                  </a:lnTo>
                  <a:lnTo>
                    <a:pt x="56" y="97"/>
                  </a:lnTo>
                  <a:lnTo>
                    <a:pt x="64" y="86"/>
                  </a:lnTo>
                  <a:lnTo>
                    <a:pt x="73" y="74"/>
                  </a:lnTo>
                  <a:lnTo>
                    <a:pt x="84" y="62"/>
                  </a:lnTo>
                  <a:lnTo>
                    <a:pt x="96" y="50"/>
                  </a:lnTo>
                  <a:lnTo>
                    <a:pt x="110" y="38"/>
                  </a:lnTo>
                  <a:lnTo>
                    <a:pt x="125" y="28"/>
                  </a:lnTo>
                  <a:lnTo>
                    <a:pt x="139" y="19"/>
                  </a:lnTo>
                  <a:lnTo>
                    <a:pt x="153" y="12"/>
                  </a:lnTo>
                  <a:lnTo>
                    <a:pt x="169" y="7"/>
                  </a:lnTo>
                  <a:lnTo>
                    <a:pt x="185" y="3"/>
                  </a:lnTo>
                  <a:lnTo>
                    <a:pt x="202" y="1"/>
                  </a:lnTo>
                  <a:lnTo>
                    <a:pt x="218" y="0"/>
                  </a:lnTo>
                  <a:lnTo>
                    <a:pt x="225" y="0"/>
                  </a:lnTo>
                  <a:lnTo>
                    <a:pt x="231" y="0"/>
                  </a:lnTo>
                  <a:lnTo>
                    <a:pt x="236" y="1"/>
                  </a:lnTo>
                  <a:lnTo>
                    <a:pt x="240" y="2"/>
                  </a:lnTo>
                  <a:lnTo>
                    <a:pt x="246" y="2"/>
                  </a:lnTo>
                  <a:lnTo>
                    <a:pt x="250" y="4"/>
                  </a:lnTo>
                  <a:lnTo>
                    <a:pt x="255" y="6"/>
                  </a:lnTo>
                  <a:lnTo>
                    <a:pt x="258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1" y="12"/>
                  </a:lnTo>
                  <a:lnTo>
                    <a:pt x="277" y="15"/>
                  </a:lnTo>
                  <a:lnTo>
                    <a:pt x="282" y="18"/>
                  </a:lnTo>
                  <a:lnTo>
                    <a:pt x="289" y="20"/>
                  </a:lnTo>
                  <a:lnTo>
                    <a:pt x="296" y="23"/>
                  </a:lnTo>
                  <a:lnTo>
                    <a:pt x="303" y="25"/>
                  </a:lnTo>
                  <a:lnTo>
                    <a:pt x="311" y="29"/>
                  </a:lnTo>
                  <a:lnTo>
                    <a:pt x="319" y="33"/>
                  </a:lnTo>
                  <a:lnTo>
                    <a:pt x="327" y="36"/>
                  </a:lnTo>
                  <a:lnTo>
                    <a:pt x="333" y="41"/>
                  </a:lnTo>
                  <a:lnTo>
                    <a:pt x="341" y="46"/>
                  </a:lnTo>
                  <a:lnTo>
                    <a:pt x="349" y="52"/>
                  </a:lnTo>
                  <a:lnTo>
                    <a:pt x="356" y="57"/>
                  </a:lnTo>
                  <a:lnTo>
                    <a:pt x="363" y="63"/>
                  </a:lnTo>
                  <a:lnTo>
                    <a:pt x="371" y="70"/>
                  </a:lnTo>
                  <a:lnTo>
                    <a:pt x="376" y="76"/>
                  </a:lnTo>
                  <a:lnTo>
                    <a:pt x="382" y="83"/>
                  </a:lnTo>
                  <a:lnTo>
                    <a:pt x="386" y="91"/>
                  </a:lnTo>
                  <a:lnTo>
                    <a:pt x="388" y="97"/>
                  </a:lnTo>
                  <a:lnTo>
                    <a:pt x="392" y="105"/>
                  </a:lnTo>
                  <a:lnTo>
                    <a:pt x="393" y="111"/>
                  </a:lnTo>
                  <a:lnTo>
                    <a:pt x="393" y="119"/>
                  </a:lnTo>
                  <a:lnTo>
                    <a:pt x="393" y="126"/>
                  </a:lnTo>
                  <a:lnTo>
                    <a:pt x="393" y="131"/>
                  </a:lnTo>
                  <a:lnTo>
                    <a:pt x="392" y="137"/>
                  </a:lnTo>
                  <a:lnTo>
                    <a:pt x="391" y="142"/>
                  </a:lnTo>
                  <a:lnTo>
                    <a:pt x="388" y="148"/>
                  </a:lnTo>
                  <a:lnTo>
                    <a:pt x="387" y="152"/>
                  </a:lnTo>
                  <a:lnTo>
                    <a:pt x="385" y="158"/>
                  </a:lnTo>
                  <a:lnTo>
                    <a:pt x="382" y="162"/>
                  </a:lnTo>
                  <a:lnTo>
                    <a:pt x="380" y="166"/>
                  </a:lnTo>
                  <a:lnTo>
                    <a:pt x="376" y="169"/>
                  </a:lnTo>
                  <a:lnTo>
                    <a:pt x="373" y="172"/>
                  </a:lnTo>
                  <a:lnTo>
                    <a:pt x="370" y="174"/>
                  </a:lnTo>
                  <a:lnTo>
                    <a:pt x="365" y="177"/>
                  </a:lnTo>
                  <a:lnTo>
                    <a:pt x="362" y="178"/>
                  </a:lnTo>
                  <a:lnTo>
                    <a:pt x="358" y="179"/>
                  </a:lnTo>
                  <a:lnTo>
                    <a:pt x="353" y="179"/>
                  </a:lnTo>
                  <a:lnTo>
                    <a:pt x="351" y="179"/>
                  </a:lnTo>
                  <a:lnTo>
                    <a:pt x="349" y="179"/>
                  </a:lnTo>
                  <a:lnTo>
                    <a:pt x="346" y="178"/>
                  </a:lnTo>
                  <a:lnTo>
                    <a:pt x="344" y="178"/>
                  </a:lnTo>
                  <a:lnTo>
                    <a:pt x="341" y="177"/>
                  </a:lnTo>
                  <a:lnTo>
                    <a:pt x="338" y="175"/>
                  </a:lnTo>
                  <a:lnTo>
                    <a:pt x="335" y="175"/>
                  </a:lnTo>
                  <a:lnTo>
                    <a:pt x="332" y="174"/>
                  </a:lnTo>
                  <a:lnTo>
                    <a:pt x="328" y="173"/>
                  </a:lnTo>
                  <a:lnTo>
                    <a:pt x="324" y="172"/>
                  </a:lnTo>
                  <a:lnTo>
                    <a:pt x="321" y="171"/>
                  </a:lnTo>
                  <a:lnTo>
                    <a:pt x="318" y="170"/>
                  </a:lnTo>
                  <a:lnTo>
                    <a:pt x="313" y="169"/>
                  </a:lnTo>
                  <a:lnTo>
                    <a:pt x="309" y="169"/>
                  </a:lnTo>
                  <a:lnTo>
                    <a:pt x="306" y="168"/>
                  </a:lnTo>
                  <a:lnTo>
                    <a:pt x="301" y="167"/>
                  </a:lnTo>
                  <a:lnTo>
                    <a:pt x="297" y="167"/>
                  </a:lnTo>
                  <a:lnTo>
                    <a:pt x="293" y="166"/>
                  </a:lnTo>
                  <a:lnTo>
                    <a:pt x="290" y="166"/>
                  </a:lnTo>
                  <a:lnTo>
                    <a:pt x="287" y="164"/>
                  </a:lnTo>
                  <a:lnTo>
                    <a:pt x="284" y="164"/>
                  </a:lnTo>
                  <a:lnTo>
                    <a:pt x="281" y="163"/>
                  </a:lnTo>
                  <a:lnTo>
                    <a:pt x="279" y="162"/>
                  </a:lnTo>
                  <a:lnTo>
                    <a:pt x="277" y="162"/>
                  </a:lnTo>
                  <a:lnTo>
                    <a:pt x="276" y="161"/>
                  </a:lnTo>
                  <a:lnTo>
                    <a:pt x="274" y="160"/>
                  </a:lnTo>
                  <a:lnTo>
                    <a:pt x="271" y="159"/>
                  </a:lnTo>
                  <a:lnTo>
                    <a:pt x="269" y="157"/>
                  </a:lnTo>
                  <a:lnTo>
                    <a:pt x="267" y="155"/>
                  </a:lnTo>
                  <a:lnTo>
                    <a:pt x="265" y="153"/>
                  </a:lnTo>
                  <a:lnTo>
                    <a:pt x="263" y="150"/>
                  </a:lnTo>
                  <a:lnTo>
                    <a:pt x="259" y="148"/>
                  </a:lnTo>
                  <a:lnTo>
                    <a:pt x="257" y="145"/>
                  </a:lnTo>
                  <a:lnTo>
                    <a:pt x="255" y="142"/>
                  </a:lnTo>
                  <a:lnTo>
                    <a:pt x="253" y="139"/>
                  </a:lnTo>
                  <a:lnTo>
                    <a:pt x="252" y="136"/>
                  </a:lnTo>
                  <a:lnTo>
                    <a:pt x="249" y="132"/>
                  </a:lnTo>
                  <a:lnTo>
                    <a:pt x="248" y="129"/>
                  </a:lnTo>
                  <a:lnTo>
                    <a:pt x="247" y="125"/>
                  </a:lnTo>
                  <a:lnTo>
                    <a:pt x="247" y="121"/>
                  </a:lnTo>
                  <a:lnTo>
                    <a:pt x="246" y="117"/>
                  </a:lnTo>
                  <a:lnTo>
                    <a:pt x="246" y="114"/>
                  </a:lnTo>
                  <a:lnTo>
                    <a:pt x="245" y="109"/>
                  </a:lnTo>
                  <a:lnTo>
                    <a:pt x="245" y="106"/>
                  </a:lnTo>
                  <a:lnTo>
                    <a:pt x="244" y="103"/>
                  </a:lnTo>
                  <a:lnTo>
                    <a:pt x="244" y="99"/>
                  </a:lnTo>
                  <a:lnTo>
                    <a:pt x="244" y="95"/>
                  </a:lnTo>
                  <a:lnTo>
                    <a:pt x="244" y="92"/>
                  </a:lnTo>
                  <a:lnTo>
                    <a:pt x="244" y="91"/>
                  </a:lnTo>
                  <a:lnTo>
                    <a:pt x="244" y="89"/>
                  </a:lnTo>
                  <a:lnTo>
                    <a:pt x="244" y="88"/>
                  </a:lnTo>
                  <a:lnTo>
                    <a:pt x="243" y="87"/>
                  </a:lnTo>
                  <a:lnTo>
                    <a:pt x="243" y="86"/>
                  </a:lnTo>
                  <a:lnTo>
                    <a:pt x="242" y="85"/>
                  </a:lnTo>
                  <a:lnTo>
                    <a:pt x="242" y="84"/>
                  </a:lnTo>
                  <a:lnTo>
                    <a:pt x="240" y="83"/>
                  </a:lnTo>
                  <a:lnTo>
                    <a:pt x="239" y="82"/>
                  </a:lnTo>
                  <a:lnTo>
                    <a:pt x="238" y="82"/>
                  </a:lnTo>
                  <a:lnTo>
                    <a:pt x="237" y="81"/>
                  </a:lnTo>
                  <a:lnTo>
                    <a:pt x="235" y="81"/>
                  </a:lnTo>
                  <a:lnTo>
                    <a:pt x="234" y="79"/>
                  </a:lnTo>
                  <a:lnTo>
                    <a:pt x="233" y="79"/>
                  </a:lnTo>
                  <a:lnTo>
                    <a:pt x="231" y="79"/>
                  </a:lnTo>
                  <a:lnTo>
                    <a:pt x="229" y="79"/>
                  </a:lnTo>
                  <a:lnTo>
                    <a:pt x="227" y="79"/>
                  </a:lnTo>
                  <a:lnTo>
                    <a:pt x="224" y="81"/>
                  </a:lnTo>
                  <a:lnTo>
                    <a:pt x="220" y="82"/>
                  </a:lnTo>
                  <a:lnTo>
                    <a:pt x="214" y="84"/>
                  </a:lnTo>
                  <a:lnTo>
                    <a:pt x="208" y="86"/>
                  </a:lnTo>
                  <a:lnTo>
                    <a:pt x="202" y="89"/>
                  </a:lnTo>
                  <a:lnTo>
                    <a:pt x="195" y="93"/>
                  </a:lnTo>
                  <a:lnTo>
                    <a:pt x="187" y="96"/>
                  </a:lnTo>
                  <a:lnTo>
                    <a:pt x="180" y="102"/>
                  </a:lnTo>
                  <a:lnTo>
                    <a:pt x="173" y="106"/>
                  </a:lnTo>
                  <a:lnTo>
                    <a:pt x="168" y="111"/>
                  </a:lnTo>
                  <a:lnTo>
                    <a:pt x="163" y="117"/>
                  </a:lnTo>
                  <a:lnTo>
                    <a:pt x="159" y="124"/>
                  </a:lnTo>
                  <a:lnTo>
                    <a:pt x="157" y="130"/>
                  </a:lnTo>
                  <a:lnTo>
                    <a:pt x="155" y="138"/>
                  </a:lnTo>
                  <a:lnTo>
                    <a:pt x="154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121440" y="2293920"/>
              <a:ext cx="136440" cy="188280"/>
            </a:xfrm>
            <a:custGeom>
              <a:avLst/>
              <a:gdLst/>
              <a:ahLst/>
              <a:rect l="l" t="t" r="r" b="b"/>
              <a:pathLst>
                <a:path w="344" h="476">
                  <a:moveTo>
                    <a:pt x="0" y="44"/>
                  </a:moveTo>
                  <a:lnTo>
                    <a:pt x="0" y="41"/>
                  </a:lnTo>
                  <a:lnTo>
                    <a:pt x="1" y="38"/>
                  </a:lnTo>
                  <a:lnTo>
                    <a:pt x="1" y="36"/>
                  </a:lnTo>
                  <a:lnTo>
                    <a:pt x="1" y="33"/>
                  </a:lnTo>
                  <a:lnTo>
                    <a:pt x="1" y="30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4" y="19"/>
                  </a:lnTo>
                  <a:lnTo>
                    <a:pt x="5" y="17"/>
                  </a:lnTo>
                  <a:lnTo>
                    <a:pt x="6" y="15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4" y="7"/>
                  </a:lnTo>
                  <a:lnTo>
                    <a:pt x="17" y="5"/>
                  </a:lnTo>
                  <a:lnTo>
                    <a:pt x="22" y="4"/>
                  </a:lnTo>
                  <a:lnTo>
                    <a:pt x="26" y="2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6" y="0"/>
                  </a:lnTo>
                  <a:lnTo>
                    <a:pt x="67" y="0"/>
                  </a:lnTo>
                  <a:lnTo>
                    <a:pt x="92" y="0"/>
                  </a:lnTo>
                  <a:lnTo>
                    <a:pt x="118" y="2"/>
                  </a:lnTo>
                  <a:lnTo>
                    <a:pt x="142" y="5"/>
                  </a:lnTo>
                  <a:lnTo>
                    <a:pt x="166" y="9"/>
                  </a:lnTo>
                  <a:lnTo>
                    <a:pt x="190" y="13"/>
                  </a:lnTo>
                  <a:lnTo>
                    <a:pt x="213" y="20"/>
                  </a:lnTo>
                  <a:lnTo>
                    <a:pt x="236" y="28"/>
                  </a:lnTo>
                  <a:lnTo>
                    <a:pt x="258" y="37"/>
                  </a:lnTo>
                  <a:lnTo>
                    <a:pt x="278" y="45"/>
                  </a:lnTo>
                  <a:lnTo>
                    <a:pt x="296" y="55"/>
                  </a:lnTo>
                  <a:lnTo>
                    <a:pt x="303" y="61"/>
                  </a:lnTo>
                  <a:lnTo>
                    <a:pt x="310" y="66"/>
                  </a:lnTo>
                  <a:lnTo>
                    <a:pt x="316" y="72"/>
                  </a:lnTo>
                  <a:lnTo>
                    <a:pt x="322" y="79"/>
                  </a:lnTo>
                  <a:lnTo>
                    <a:pt x="328" y="84"/>
                  </a:lnTo>
                  <a:lnTo>
                    <a:pt x="332" y="91"/>
                  </a:lnTo>
                  <a:lnTo>
                    <a:pt x="335" y="97"/>
                  </a:lnTo>
                  <a:lnTo>
                    <a:pt x="339" y="103"/>
                  </a:lnTo>
                  <a:lnTo>
                    <a:pt x="341" y="109"/>
                  </a:lnTo>
                  <a:lnTo>
                    <a:pt x="343" y="117"/>
                  </a:lnTo>
                  <a:lnTo>
                    <a:pt x="344" y="124"/>
                  </a:lnTo>
                  <a:lnTo>
                    <a:pt x="344" y="132"/>
                  </a:lnTo>
                  <a:lnTo>
                    <a:pt x="343" y="148"/>
                  </a:lnTo>
                  <a:lnTo>
                    <a:pt x="341" y="164"/>
                  </a:lnTo>
                  <a:lnTo>
                    <a:pt x="335" y="178"/>
                  </a:lnTo>
                  <a:lnTo>
                    <a:pt x="330" y="191"/>
                  </a:lnTo>
                  <a:lnTo>
                    <a:pt x="321" y="203"/>
                  </a:lnTo>
                  <a:lnTo>
                    <a:pt x="311" y="214"/>
                  </a:lnTo>
                  <a:lnTo>
                    <a:pt x="299" y="225"/>
                  </a:lnTo>
                  <a:lnTo>
                    <a:pt x="284" y="234"/>
                  </a:lnTo>
                  <a:lnTo>
                    <a:pt x="270" y="242"/>
                  </a:lnTo>
                  <a:lnTo>
                    <a:pt x="257" y="250"/>
                  </a:lnTo>
                  <a:lnTo>
                    <a:pt x="245" y="256"/>
                  </a:lnTo>
                  <a:lnTo>
                    <a:pt x="234" y="263"/>
                  </a:lnTo>
                  <a:lnTo>
                    <a:pt x="223" y="268"/>
                  </a:lnTo>
                  <a:lnTo>
                    <a:pt x="213" y="273"/>
                  </a:lnTo>
                  <a:lnTo>
                    <a:pt x="204" y="276"/>
                  </a:lnTo>
                  <a:lnTo>
                    <a:pt x="196" y="279"/>
                  </a:lnTo>
                  <a:lnTo>
                    <a:pt x="190" y="282"/>
                  </a:lnTo>
                  <a:lnTo>
                    <a:pt x="182" y="285"/>
                  </a:lnTo>
                  <a:lnTo>
                    <a:pt x="175" y="287"/>
                  </a:lnTo>
                  <a:lnTo>
                    <a:pt x="167" y="289"/>
                  </a:lnTo>
                  <a:lnTo>
                    <a:pt x="161" y="292"/>
                  </a:lnTo>
                  <a:lnTo>
                    <a:pt x="154" y="293"/>
                  </a:lnTo>
                  <a:lnTo>
                    <a:pt x="148" y="295"/>
                  </a:lnTo>
                  <a:lnTo>
                    <a:pt x="140" y="296"/>
                  </a:lnTo>
                  <a:lnTo>
                    <a:pt x="133" y="298"/>
                  </a:lnTo>
                  <a:lnTo>
                    <a:pt x="128" y="299"/>
                  </a:lnTo>
                  <a:lnTo>
                    <a:pt x="123" y="300"/>
                  </a:lnTo>
                  <a:lnTo>
                    <a:pt x="119" y="303"/>
                  </a:lnTo>
                  <a:lnTo>
                    <a:pt x="116" y="304"/>
                  </a:lnTo>
                  <a:lnTo>
                    <a:pt x="113" y="305"/>
                  </a:lnTo>
                  <a:lnTo>
                    <a:pt x="112" y="307"/>
                  </a:lnTo>
                  <a:lnTo>
                    <a:pt x="111" y="308"/>
                  </a:lnTo>
                  <a:lnTo>
                    <a:pt x="111" y="310"/>
                  </a:lnTo>
                  <a:lnTo>
                    <a:pt x="110" y="313"/>
                  </a:lnTo>
                  <a:lnTo>
                    <a:pt x="110" y="316"/>
                  </a:lnTo>
                  <a:lnTo>
                    <a:pt x="110" y="320"/>
                  </a:lnTo>
                  <a:lnTo>
                    <a:pt x="109" y="326"/>
                  </a:lnTo>
                  <a:lnTo>
                    <a:pt x="109" y="331"/>
                  </a:lnTo>
                  <a:lnTo>
                    <a:pt x="109" y="338"/>
                  </a:lnTo>
                  <a:lnTo>
                    <a:pt x="109" y="346"/>
                  </a:lnTo>
                  <a:lnTo>
                    <a:pt x="109" y="420"/>
                  </a:lnTo>
                  <a:lnTo>
                    <a:pt x="109" y="454"/>
                  </a:lnTo>
                  <a:lnTo>
                    <a:pt x="109" y="459"/>
                  </a:lnTo>
                  <a:lnTo>
                    <a:pt x="108" y="464"/>
                  </a:lnTo>
                  <a:lnTo>
                    <a:pt x="105" y="467"/>
                  </a:lnTo>
                  <a:lnTo>
                    <a:pt x="101" y="470"/>
                  </a:lnTo>
                  <a:lnTo>
                    <a:pt x="97" y="473"/>
                  </a:lnTo>
                  <a:lnTo>
                    <a:pt x="91" y="475"/>
                  </a:lnTo>
                  <a:lnTo>
                    <a:pt x="86" y="476"/>
                  </a:lnTo>
                  <a:lnTo>
                    <a:pt x="78" y="476"/>
                  </a:lnTo>
                  <a:lnTo>
                    <a:pt x="75" y="476"/>
                  </a:lnTo>
                  <a:lnTo>
                    <a:pt x="70" y="475"/>
                  </a:lnTo>
                  <a:lnTo>
                    <a:pt x="66" y="475"/>
                  </a:lnTo>
                  <a:lnTo>
                    <a:pt x="60" y="474"/>
                  </a:lnTo>
                  <a:lnTo>
                    <a:pt x="55" y="471"/>
                  </a:lnTo>
                  <a:lnTo>
                    <a:pt x="49" y="470"/>
                  </a:lnTo>
                  <a:lnTo>
                    <a:pt x="43" y="468"/>
                  </a:lnTo>
                  <a:lnTo>
                    <a:pt x="36" y="466"/>
                  </a:lnTo>
                  <a:lnTo>
                    <a:pt x="29" y="464"/>
                  </a:lnTo>
                  <a:lnTo>
                    <a:pt x="23" y="460"/>
                  </a:lnTo>
                  <a:lnTo>
                    <a:pt x="18" y="458"/>
                  </a:lnTo>
                  <a:lnTo>
                    <a:pt x="14" y="456"/>
                  </a:lnTo>
                  <a:lnTo>
                    <a:pt x="11" y="454"/>
                  </a:lnTo>
                  <a:lnTo>
                    <a:pt x="8" y="453"/>
                  </a:lnTo>
                  <a:lnTo>
                    <a:pt x="6" y="450"/>
                  </a:lnTo>
                  <a:lnTo>
                    <a:pt x="5" y="448"/>
                  </a:lnTo>
                  <a:lnTo>
                    <a:pt x="5" y="447"/>
                  </a:lnTo>
                  <a:lnTo>
                    <a:pt x="5" y="445"/>
                  </a:lnTo>
                  <a:lnTo>
                    <a:pt x="4" y="442"/>
                  </a:lnTo>
                  <a:lnTo>
                    <a:pt x="4" y="439"/>
                  </a:lnTo>
                  <a:lnTo>
                    <a:pt x="3" y="436"/>
                  </a:lnTo>
                  <a:lnTo>
                    <a:pt x="3" y="432"/>
                  </a:lnTo>
                  <a:lnTo>
                    <a:pt x="3" y="428"/>
                  </a:lnTo>
                  <a:lnTo>
                    <a:pt x="2" y="424"/>
                  </a:lnTo>
                  <a:lnTo>
                    <a:pt x="2" y="420"/>
                  </a:lnTo>
                  <a:lnTo>
                    <a:pt x="1" y="416"/>
                  </a:lnTo>
                  <a:lnTo>
                    <a:pt x="1" y="413"/>
                  </a:lnTo>
                  <a:lnTo>
                    <a:pt x="1" y="410"/>
                  </a:lnTo>
                  <a:lnTo>
                    <a:pt x="1" y="407"/>
                  </a:lnTo>
                  <a:lnTo>
                    <a:pt x="1" y="405"/>
                  </a:lnTo>
                  <a:lnTo>
                    <a:pt x="0" y="404"/>
                  </a:lnTo>
                  <a:lnTo>
                    <a:pt x="0" y="403"/>
                  </a:lnTo>
                  <a:lnTo>
                    <a:pt x="0" y="44"/>
                  </a:lnTo>
                  <a:close/>
                  <a:moveTo>
                    <a:pt x="109" y="202"/>
                  </a:moveTo>
                  <a:lnTo>
                    <a:pt x="108" y="205"/>
                  </a:lnTo>
                  <a:lnTo>
                    <a:pt x="108" y="209"/>
                  </a:lnTo>
                  <a:lnTo>
                    <a:pt x="107" y="211"/>
                  </a:lnTo>
                  <a:lnTo>
                    <a:pt x="107" y="213"/>
                  </a:lnTo>
                  <a:lnTo>
                    <a:pt x="106" y="215"/>
                  </a:lnTo>
                  <a:lnTo>
                    <a:pt x="106" y="218"/>
                  </a:lnTo>
                  <a:lnTo>
                    <a:pt x="106" y="219"/>
                  </a:lnTo>
                  <a:lnTo>
                    <a:pt x="106" y="221"/>
                  </a:lnTo>
                  <a:lnTo>
                    <a:pt x="106" y="224"/>
                  </a:lnTo>
                  <a:lnTo>
                    <a:pt x="106" y="228"/>
                  </a:lnTo>
                  <a:lnTo>
                    <a:pt x="107" y="230"/>
                  </a:lnTo>
                  <a:lnTo>
                    <a:pt x="108" y="232"/>
                  </a:lnTo>
                  <a:lnTo>
                    <a:pt x="109" y="233"/>
                  </a:lnTo>
                  <a:lnTo>
                    <a:pt x="110" y="234"/>
                  </a:lnTo>
                  <a:lnTo>
                    <a:pt x="111" y="235"/>
                  </a:lnTo>
                  <a:lnTo>
                    <a:pt x="113" y="235"/>
                  </a:lnTo>
                  <a:lnTo>
                    <a:pt x="120" y="235"/>
                  </a:lnTo>
                  <a:lnTo>
                    <a:pt x="128" y="233"/>
                  </a:lnTo>
                  <a:lnTo>
                    <a:pt x="135" y="231"/>
                  </a:lnTo>
                  <a:lnTo>
                    <a:pt x="143" y="228"/>
                  </a:lnTo>
                  <a:lnTo>
                    <a:pt x="152" y="223"/>
                  </a:lnTo>
                  <a:lnTo>
                    <a:pt x="161" y="218"/>
                  </a:lnTo>
                  <a:lnTo>
                    <a:pt x="171" y="212"/>
                  </a:lnTo>
                  <a:lnTo>
                    <a:pt x="181" y="204"/>
                  </a:lnTo>
                  <a:lnTo>
                    <a:pt x="191" y="197"/>
                  </a:lnTo>
                  <a:lnTo>
                    <a:pt x="199" y="189"/>
                  </a:lnTo>
                  <a:lnTo>
                    <a:pt x="206" y="180"/>
                  </a:lnTo>
                  <a:lnTo>
                    <a:pt x="212" y="170"/>
                  </a:lnTo>
                  <a:lnTo>
                    <a:pt x="216" y="160"/>
                  </a:lnTo>
                  <a:lnTo>
                    <a:pt x="219" y="150"/>
                  </a:lnTo>
                  <a:lnTo>
                    <a:pt x="222" y="139"/>
                  </a:lnTo>
                  <a:lnTo>
                    <a:pt x="222" y="128"/>
                  </a:lnTo>
                  <a:lnTo>
                    <a:pt x="222" y="117"/>
                  </a:lnTo>
                  <a:lnTo>
                    <a:pt x="220" y="107"/>
                  </a:lnTo>
                  <a:lnTo>
                    <a:pt x="217" y="98"/>
                  </a:lnTo>
                  <a:lnTo>
                    <a:pt x="214" y="91"/>
                  </a:lnTo>
                  <a:lnTo>
                    <a:pt x="209" y="83"/>
                  </a:lnTo>
                  <a:lnTo>
                    <a:pt x="204" y="77"/>
                  </a:lnTo>
                  <a:lnTo>
                    <a:pt x="198" y="73"/>
                  </a:lnTo>
                  <a:lnTo>
                    <a:pt x="191" y="69"/>
                  </a:lnTo>
                  <a:lnTo>
                    <a:pt x="183" y="65"/>
                  </a:lnTo>
                  <a:lnTo>
                    <a:pt x="175" y="63"/>
                  </a:lnTo>
                  <a:lnTo>
                    <a:pt x="169" y="60"/>
                  </a:lnTo>
                  <a:lnTo>
                    <a:pt x="163" y="58"/>
                  </a:lnTo>
                  <a:lnTo>
                    <a:pt x="156" y="55"/>
                  </a:lnTo>
                  <a:lnTo>
                    <a:pt x="151" y="54"/>
                  </a:lnTo>
                  <a:lnTo>
                    <a:pt x="146" y="52"/>
                  </a:lnTo>
                  <a:lnTo>
                    <a:pt x="142" y="51"/>
                  </a:lnTo>
                  <a:lnTo>
                    <a:pt x="138" y="50"/>
                  </a:lnTo>
                  <a:lnTo>
                    <a:pt x="133" y="50"/>
                  </a:lnTo>
                  <a:lnTo>
                    <a:pt x="129" y="49"/>
                  </a:lnTo>
                  <a:lnTo>
                    <a:pt x="125" y="48"/>
                  </a:lnTo>
                  <a:lnTo>
                    <a:pt x="122" y="48"/>
                  </a:lnTo>
                  <a:lnTo>
                    <a:pt x="119" y="48"/>
                  </a:lnTo>
                  <a:lnTo>
                    <a:pt x="116" y="47"/>
                  </a:lnTo>
                  <a:lnTo>
                    <a:pt x="112" y="47"/>
                  </a:lnTo>
                  <a:lnTo>
                    <a:pt x="110" y="47"/>
                  </a:lnTo>
                  <a:lnTo>
                    <a:pt x="109" y="48"/>
                  </a:lnTo>
                  <a:lnTo>
                    <a:pt x="108" y="48"/>
                  </a:lnTo>
                  <a:lnTo>
                    <a:pt x="107" y="49"/>
                  </a:lnTo>
                  <a:lnTo>
                    <a:pt x="107" y="49"/>
                  </a:lnTo>
                  <a:lnTo>
                    <a:pt x="106" y="50"/>
                  </a:lnTo>
                  <a:lnTo>
                    <a:pt x="106" y="51"/>
                  </a:lnTo>
                  <a:lnTo>
                    <a:pt x="106" y="52"/>
                  </a:lnTo>
                  <a:lnTo>
                    <a:pt x="106" y="61"/>
                  </a:lnTo>
                  <a:lnTo>
                    <a:pt x="107" y="62"/>
                  </a:lnTo>
                  <a:lnTo>
                    <a:pt x="107" y="64"/>
                  </a:lnTo>
                  <a:lnTo>
                    <a:pt x="108" y="65"/>
                  </a:lnTo>
                  <a:lnTo>
                    <a:pt x="108" y="68"/>
                  </a:lnTo>
                  <a:lnTo>
                    <a:pt x="109" y="70"/>
                  </a:lnTo>
                  <a:lnTo>
                    <a:pt x="109" y="72"/>
                  </a:lnTo>
                  <a:lnTo>
                    <a:pt x="109" y="74"/>
                  </a:lnTo>
                  <a:lnTo>
                    <a:pt x="109" y="77"/>
                  </a:lnTo>
                  <a:lnTo>
                    <a:pt x="109" y="81"/>
                  </a:lnTo>
                  <a:lnTo>
                    <a:pt x="109" y="83"/>
                  </a:lnTo>
                  <a:lnTo>
                    <a:pt x="109" y="86"/>
                  </a:lnTo>
                  <a:lnTo>
                    <a:pt x="109" y="88"/>
                  </a:lnTo>
                  <a:lnTo>
                    <a:pt x="109" y="92"/>
                  </a:lnTo>
                  <a:lnTo>
                    <a:pt x="109" y="94"/>
                  </a:lnTo>
                  <a:lnTo>
                    <a:pt x="109" y="97"/>
                  </a:lnTo>
                  <a:lnTo>
                    <a:pt x="109" y="100"/>
                  </a:lnTo>
                  <a:lnTo>
                    <a:pt x="109" y="20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28164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2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7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5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0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9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6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5" y="11"/>
                  </a:lnTo>
                  <a:lnTo>
                    <a:pt x="37" y="10"/>
                  </a:lnTo>
                  <a:lnTo>
                    <a:pt x="38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8" y="17"/>
                  </a:lnTo>
                  <a:lnTo>
                    <a:pt x="81" y="18"/>
                  </a:lnTo>
                  <a:lnTo>
                    <a:pt x="83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6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29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6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8" y="96"/>
                  </a:lnTo>
                  <a:lnTo>
                    <a:pt x="411" y="107"/>
                  </a:lnTo>
                  <a:lnTo>
                    <a:pt x="413" y="117"/>
                  </a:lnTo>
                  <a:lnTo>
                    <a:pt x="411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8" y="256"/>
                  </a:lnTo>
                  <a:lnTo>
                    <a:pt x="260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69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6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8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8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1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5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1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8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4" y="212"/>
                  </a:lnTo>
                  <a:lnTo>
                    <a:pt x="169" y="205"/>
                  </a:lnTo>
                  <a:lnTo>
                    <a:pt x="184" y="198"/>
                  </a:lnTo>
                  <a:lnTo>
                    <a:pt x="202" y="189"/>
                  </a:lnTo>
                  <a:lnTo>
                    <a:pt x="219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6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4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4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0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3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09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7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7064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5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4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3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1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9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6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7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9" y="383"/>
                  </a:lnTo>
                  <a:lnTo>
                    <a:pt x="296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2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1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629400" y="2290680"/>
              <a:ext cx="162000" cy="199800"/>
            </a:xfrm>
            <a:custGeom>
              <a:avLst/>
              <a:gdLst/>
              <a:ahLst/>
              <a:rect l="l" t="t" r="r" b="b"/>
              <a:pathLst>
                <a:path w="409" h="505">
                  <a:moveTo>
                    <a:pt x="220" y="234"/>
                  </a:moveTo>
                  <a:lnTo>
                    <a:pt x="268" y="112"/>
                  </a:lnTo>
                  <a:lnTo>
                    <a:pt x="272" y="103"/>
                  </a:lnTo>
                  <a:lnTo>
                    <a:pt x="275" y="94"/>
                  </a:lnTo>
                  <a:lnTo>
                    <a:pt x="280" y="85"/>
                  </a:lnTo>
                  <a:lnTo>
                    <a:pt x="284" y="77"/>
                  </a:lnTo>
                  <a:lnTo>
                    <a:pt x="289" y="69"/>
                  </a:lnTo>
                  <a:lnTo>
                    <a:pt x="293" y="61"/>
                  </a:lnTo>
                  <a:lnTo>
                    <a:pt x="297" y="53"/>
                  </a:lnTo>
                  <a:lnTo>
                    <a:pt x="302" y="46"/>
                  </a:lnTo>
                  <a:lnTo>
                    <a:pt x="306" y="39"/>
                  </a:lnTo>
                  <a:lnTo>
                    <a:pt x="310" y="32"/>
                  </a:lnTo>
                  <a:lnTo>
                    <a:pt x="314" y="27"/>
                  </a:lnTo>
                  <a:lnTo>
                    <a:pt x="317" y="21"/>
                  </a:lnTo>
                  <a:lnTo>
                    <a:pt x="321" y="17"/>
                  </a:lnTo>
                  <a:lnTo>
                    <a:pt x="323" y="14"/>
                  </a:lnTo>
                  <a:lnTo>
                    <a:pt x="326" y="10"/>
                  </a:lnTo>
                  <a:lnTo>
                    <a:pt x="328" y="8"/>
                  </a:lnTo>
                  <a:lnTo>
                    <a:pt x="330" y="6"/>
                  </a:lnTo>
                  <a:lnTo>
                    <a:pt x="333" y="5"/>
                  </a:lnTo>
                  <a:lnTo>
                    <a:pt x="335" y="4"/>
                  </a:lnTo>
                  <a:lnTo>
                    <a:pt x="338" y="3"/>
                  </a:lnTo>
                  <a:lnTo>
                    <a:pt x="340" y="2"/>
                  </a:lnTo>
                  <a:lnTo>
                    <a:pt x="344" y="0"/>
                  </a:lnTo>
                  <a:lnTo>
                    <a:pt x="347" y="0"/>
                  </a:lnTo>
                  <a:lnTo>
                    <a:pt x="350" y="0"/>
                  </a:lnTo>
                  <a:lnTo>
                    <a:pt x="356" y="0"/>
                  </a:lnTo>
                  <a:lnTo>
                    <a:pt x="360" y="2"/>
                  </a:lnTo>
                  <a:lnTo>
                    <a:pt x="366" y="3"/>
                  </a:lnTo>
                  <a:lnTo>
                    <a:pt x="371" y="4"/>
                  </a:lnTo>
                  <a:lnTo>
                    <a:pt x="376" y="6"/>
                  </a:lnTo>
                  <a:lnTo>
                    <a:pt x="381" y="9"/>
                  </a:lnTo>
                  <a:lnTo>
                    <a:pt x="386" y="13"/>
                  </a:lnTo>
                  <a:lnTo>
                    <a:pt x="390" y="16"/>
                  </a:lnTo>
                  <a:lnTo>
                    <a:pt x="395" y="20"/>
                  </a:lnTo>
                  <a:lnTo>
                    <a:pt x="399" y="24"/>
                  </a:lnTo>
                  <a:lnTo>
                    <a:pt x="402" y="27"/>
                  </a:lnTo>
                  <a:lnTo>
                    <a:pt x="404" y="30"/>
                  </a:lnTo>
                  <a:lnTo>
                    <a:pt x="407" y="34"/>
                  </a:lnTo>
                  <a:lnTo>
                    <a:pt x="408" y="37"/>
                  </a:lnTo>
                  <a:lnTo>
                    <a:pt x="409" y="39"/>
                  </a:lnTo>
                  <a:lnTo>
                    <a:pt x="409" y="41"/>
                  </a:lnTo>
                  <a:lnTo>
                    <a:pt x="409" y="45"/>
                  </a:lnTo>
                  <a:lnTo>
                    <a:pt x="408" y="48"/>
                  </a:lnTo>
                  <a:lnTo>
                    <a:pt x="407" y="52"/>
                  </a:lnTo>
                  <a:lnTo>
                    <a:pt x="406" y="58"/>
                  </a:lnTo>
                  <a:lnTo>
                    <a:pt x="403" y="64"/>
                  </a:lnTo>
                  <a:lnTo>
                    <a:pt x="401" y="71"/>
                  </a:lnTo>
                  <a:lnTo>
                    <a:pt x="398" y="80"/>
                  </a:lnTo>
                  <a:lnTo>
                    <a:pt x="395" y="89"/>
                  </a:lnTo>
                  <a:lnTo>
                    <a:pt x="390" y="100"/>
                  </a:lnTo>
                  <a:lnTo>
                    <a:pt x="385" y="113"/>
                  </a:lnTo>
                  <a:lnTo>
                    <a:pt x="378" y="131"/>
                  </a:lnTo>
                  <a:lnTo>
                    <a:pt x="370" y="151"/>
                  </a:lnTo>
                  <a:lnTo>
                    <a:pt x="360" y="174"/>
                  </a:lnTo>
                  <a:lnTo>
                    <a:pt x="350" y="199"/>
                  </a:lnTo>
                  <a:lnTo>
                    <a:pt x="339" y="228"/>
                  </a:lnTo>
                  <a:lnTo>
                    <a:pt x="326" y="260"/>
                  </a:lnTo>
                  <a:lnTo>
                    <a:pt x="314" y="292"/>
                  </a:lnTo>
                  <a:lnTo>
                    <a:pt x="303" y="321"/>
                  </a:lnTo>
                  <a:lnTo>
                    <a:pt x="292" y="347"/>
                  </a:lnTo>
                  <a:lnTo>
                    <a:pt x="284" y="369"/>
                  </a:lnTo>
                  <a:lnTo>
                    <a:pt x="276" y="389"/>
                  </a:lnTo>
                  <a:lnTo>
                    <a:pt x="270" y="404"/>
                  </a:lnTo>
                  <a:lnTo>
                    <a:pt x="265" y="418"/>
                  </a:lnTo>
                  <a:lnTo>
                    <a:pt x="262" y="428"/>
                  </a:lnTo>
                  <a:lnTo>
                    <a:pt x="259" y="436"/>
                  </a:lnTo>
                  <a:lnTo>
                    <a:pt x="257" y="444"/>
                  </a:lnTo>
                  <a:lnTo>
                    <a:pt x="253" y="452"/>
                  </a:lnTo>
                  <a:lnTo>
                    <a:pt x="251" y="458"/>
                  </a:lnTo>
                  <a:lnTo>
                    <a:pt x="249" y="465"/>
                  </a:lnTo>
                  <a:lnTo>
                    <a:pt x="248" y="472"/>
                  </a:lnTo>
                  <a:lnTo>
                    <a:pt x="245" y="477"/>
                  </a:lnTo>
                  <a:lnTo>
                    <a:pt x="243" y="483"/>
                  </a:lnTo>
                  <a:lnTo>
                    <a:pt x="241" y="487"/>
                  </a:lnTo>
                  <a:lnTo>
                    <a:pt x="239" y="492"/>
                  </a:lnTo>
                  <a:lnTo>
                    <a:pt x="236" y="496"/>
                  </a:lnTo>
                  <a:lnTo>
                    <a:pt x="232" y="499"/>
                  </a:lnTo>
                  <a:lnTo>
                    <a:pt x="228" y="501"/>
                  </a:lnTo>
                  <a:lnTo>
                    <a:pt x="224" y="503"/>
                  </a:lnTo>
                  <a:lnTo>
                    <a:pt x="220" y="504"/>
                  </a:lnTo>
                  <a:lnTo>
                    <a:pt x="215" y="505"/>
                  </a:lnTo>
                  <a:lnTo>
                    <a:pt x="213" y="505"/>
                  </a:lnTo>
                  <a:lnTo>
                    <a:pt x="212" y="505"/>
                  </a:lnTo>
                  <a:lnTo>
                    <a:pt x="210" y="504"/>
                  </a:lnTo>
                  <a:lnTo>
                    <a:pt x="208" y="504"/>
                  </a:lnTo>
                  <a:lnTo>
                    <a:pt x="206" y="504"/>
                  </a:lnTo>
                  <a:lnTo>
                    <a:pt x="202" y="503"/>
                  </a:lnTo>
                  <a:lnTo>
                    <a:pt x="199" y="503"/>
                  </a:lnTo>
                  <a:lnTo>
                    <a:pt x="195" y="501"/>
                  </a:lnTo>
                  <a:lnTo>
                    <a:pt x="191" y="501"/>
                  </a:lnTo>
                  <a:lnTo>
                    <a:pt x="187" y="500"/>
                  </a:lnTo>
                  <a:lnTo>
                    <a:pt x="184" y="499"/>
                  </a:lnTo>
                  <a:lnTo>
                    <a:pt x="179" y="499"/>
                  </a:lnTo>
                  <a:lnTo>
                    <a:pt x="175" y="498"/>
                  </a:lnTo>
                  <a:lnTo>
                    <a:pt x="172" y="497"/>
                  </a:lnTo>
                  <a:lnTo>
                    <a:pt x="168" y="497"/>
                  </a:lnTo>
                  <a:lnTo>
                    <a:pt x="164" y="496"/>
                  </a:lnTo>
                  <a:lnTo>
                    <a:pt x="160" y="495"/>
                  </a:lnTo>
                  <a:lnTo>
                    <a:pt x="157" y="494"/>
                  </a:lnTo>
                  <a:lnTo>
                    <a:pt x="154" y="494"/>
                  </a:lnTo>
                  <a:lnTo>
                    <a:pt x="152" y="492"/>
                  </a:lnTo>
                  <a:lnTo>
                    <a:pt x="148" y="490"/>
                  </a:lnTo>
                  <a:lnTo>
                    <a:pt x="146" y="489"/>
                  </a:lnTo>
                  <a:lnTo>
                    <a:pt x="145" y="487"/>
                  </a:lnTo>
                  <a:lnTo>
                    <a:pt x="143" y="486"/>
                  </a:lnTo>
                  <a:lnTo>
                    <a:pt x="141" y="484"/>
                  </a:lnTo>
                  <a:lnTo>
                    <a:pt x="139" y="482"/>
                  </a:lnTo>
                  <a:lnTo>
                    <a:pt x="137" y="478"/>
                  </a:lnTo>
                  <a:lnTo>
                    <a:pt x="135" y="475"/>
                  </a:lnTo>
                  <a:lnTo>
                    <a:pt x="133" y="471"/>
                  </a:lnTo>
                  <a:lnTo>
                    <a:pt x="131" y="466"/>
                  </a:lnTo>
                  <a:lnTo>
                    <a:pt x="127" y="462"/>
                  </a:lnTo>
                  <a:lnTo>
                    <a:pt x="125" y="456"/>
                  </a:lnTo>
                  <a:lnTo>
                    <a:pt x="122" y="450"/>
                  </a:lnTo>
                  <a:lnTo>
                    <a:pt x="119" y="441"/>
                  </a:lnTo>
                  <a:lnTo>
                    <a:pt x="114" y="431"/>
                  </a:lnTo>
                  <a:lnTo>
                    <a:pt x="109" y="419"/>
                  </a:lnTo>
                  <a:lnTo>
                    <a:pt x="104" y="404"/>
                  </a:lnTo>
                  <a:lnTo>
                    <a:pt x="99" y="388"/>
                  </a:lnTo>
                  <a:lnTo>
                    <a:pt x="92" y="369"/>
                  </a:lnTo>
                  <a:lnTo>
                    <a:pt x="85" y="349"/>
                  </a:lnTo>
                  <a:lnTo>
                    <a:pt x="78" y="328"/>
                  </a:lnTo>
                  <a:lnTo>
                    <a:pt x="71" y="308"/>
                  </a:lnTo>
                  <a:lnTo>
                    <a:pt x="66" y="290"/>
                  </a:lnTo>
                  <a:lnTo>
                    <a:pt x="59" y="271"/>
                  </a:lnTo>
                  <a:lnTo>
                    <a:pt x="53" y="253"/>
                  </a:lnTo>
                  <a:lnTo>
                    <a:pt x="49" y="237"/>
                  </a:lnTo>
                  <a:lnTo>
                    <a:pt x="43" y="221"/>
                  </a:lnTo>
                  <a:lnTo>
                    <a:pt x="39" y="206"/>
                  </a:lnTo>
                  <a:lnTo>
                    <a:pt x="35" y="191"/>
                  </a:lnTo>
                  <a:lnTo>
                    <a:pt x="30" y="177"/>
                  </a:lnTo>
                  <a:lnTo>
                    <a:pt x="26" y="164"/>
                  </a:lnTo>
                  <a:lnTo>
                    <a:pt x="22" y="152"/>
                  </a:lnTo>
                  <a:lnTo>
                    <a:pt x="18" y="140"/>
                  </a:lnTo>
                  <a:lnTo>
                    <a:pt x="15" y="127"/>
                  </a:lnTo>
                  <a:lnTo>
                    <a:pt x="11" y="116"/>
                  </a:lnTo>
                  <a:lnTo>
                    <a:pt x="8" y="105"/>
                  </a:lnTo>
                  <a:lnTo>
                    <a:pt x="0" y="77"/>
                  </a:lnTo>
                  <a:lnTo>
                    <a:pt x="0" y="74"/>
                  </a:lnTo>
                  <a:lnTo>
                    <a:pt x="1" y="72"/>
                  </a:lnTo>
                  <a:lnTo>
                    <a:pt x="3" y="71"/>
                  </a:lnTo>
                  <a:lnTo>
                    <a:pt x="4" y="69"/>
                  </a:lnTo>
                  <a:lnTo>
                    <a:pt x="6" y="67"/>
                  </a:lnTo>
                  <a:lnTo>
                    <a:pt x="8" y="64"/>
                  </a:lnTo>
                  <a:lnTo>
                    <a:pt x="11" y="62"/>
                  </a:lnTo>
                  <a:lnTo>
                    <a:pt x="15" y="61"/>
                  </a:lnTo>
                  <a:lnTo>
                    <a:pt x="18" y="59"/>
                  </a:lnTo>
                  <a:lnTo>
                    <a:pt x="21" y="58"/>
                  </a:lnTo>
                  <a:lnTo>
                    <a:pt x="25" y="56"/>
                  </a:lnTo>
                  <a:lnTo>
                    <a:pt x="29" y="55"/>
                  </a:lnTo>
                  <a:lnTo>
                    <a:pt x="32" y="55"/>
                  </a:lnTo>
                  <a:lnTo>
                    <a:pt x="37" y="53"/>
                  </a:lnTo>
                  <a:lnTo>
                    <a:pt x="41" y="53"/>
                  </a:lnTo>
                  <a:lnTo>
                    <a:pt x="45" y="53"/>
                  </a:lnTo>
                  <a:lnTo>
                    <a:pt x="53" y="53"/>
                  </a:lnTo>
                  <a:lnTo>
                    <a:pt x="61" y="55"/>
                  </a:lnTo>
                  <a:lnTo>
                    <a:pt x="69" y="56"/>
                  </a:lnTo>
                  <a:lnTo>
                    <a:pt x="75" y="59"/>
                  </a:lnTo>
                  <a:lnTo>
                    <a:pt x="81" y="61"/>
                  </a:lnTo>
                  <a:lnTo>
                    <a:pt x="86" y="66"/>
                  </a:lnTo>
                  <a:lnTo>
                    <a:pt x="91" y="70"/>
                  </a:lnTo>
                  <a:lnTo>
                    <a:pt x="95" y="76"/>
                  </a:lnTo>
                  <a:lnTo>
                    <a:pt x="100" y="81"/>
                  </a:lnTo>
                  <a:lnTo>
                    <a:pt x="104" y="88"/>
                  </a:lnTo>
                  <a:lnTo>
                    <a:pt x="109" y="95"/>
                  </a:lnTo>
                  <a:lnTo>
                    <a:pt x="113" y="104"/>
                  </a:lnTo>
                  <a:lnTo>
                    <a:pt x="117" y="114"/>
                  </a:lnTo>
                  <a:lnTo>
                    <a:pt x="123" y="124"/>
                  </a:lnTo>
                  <a:lnTo>
                    <a:pt x="127" y="136"/>
                  </a:lnTo>
                  <a:lnTo>
                    <a:pt x="133" y="148"/>
                  </a:lnTo>
                  <a:lnTo>
                    <a:pt x="138" y="160"/>
                  </a:lnTo>
                  <a:lnTo>
                    <a:pt x="144" y="174"/>
                  </a:lnTo>
                  <a:lnTo>
                    <a:pt x="148" y="186"/>
                  </a:lnTo>
                  <a:lnTo>
                    <a:pt x="153" y="198"/>
                  </a:lnTo>
                  <a:lnTo>
                    <a:pt x="157" y="210"/>
                  </a:lnTo>
                  <a:lnTo>
                    <a:pt x="162" y="221"/>
                  </a:lnTo>
                  <a:lnTo>
                    <a:pt x="165" y="233"/>
                  </a:lnTo>
                  <a:lnTo>
                    <a:pt x="168" y="244"/>
                  </a:lnTo>
                  <a:lnTo>
                    <a:pt x="172" y="255"/>
                  </a:lnTo>
                  <a:lnTo>
                    <a:pt x="175" y="266"/>
                  </a:lnTo>
                  <a:lnTo>
                    <a:pt x="178" y="277"/>
                  </a:lnTo>
                  <a:lnTo>
                    <a:pt x="180" y="286"/>
                  </a:lnTo>
                  <a:lnTo>
                    <a:pt x="183" y="296"/>
                  </a:lnTo>
                  <a:lnTo>
                    <a:pt x="184" y="305"/>
                  </a:lnTo>
                  <a:lnTo>
                    <a:pt x="185" y="314"/>
                  </a:lnTo>
                  <a:lnTo>
                    <a:pt x="186" y="323"/>
                  </a:lnTo>
                  <a:lnTo>
                    <a:pt x="189" y="354"/>
                  </a:lnTo>
                  <a:lnTo>
                    <a:pt x="190" y="344"/>
                  </a:lnTo>
                  <a:lnTo>
                    <a:pt x="192" y="335"/>
                  </a:lnTo>
                  <a:lnTo>
                    <a:pt x="194" y="326"/>
                  </a:lnTo>
                  <a:lnTo>
                    <a:pt x="195" y="318"/>
                  </a:lnTo>
                  <a:lnTo>
                    <a:pt x="197" y="312"/>
                  </a:lnTo>
                  <a:lnTo>
                    <a:pt x="198" y="305"/>
                  </a:lnTo>
                  <a:lnTo>
                    <a:pt x="199" y="300"/>
                  </a:lnTo>
                  <a:lnTo>
                    <a:pt x="200" y="294"/>
                  </a:lnTo>
                  <a:lnTo>
                    <a:pt x="202" y="289"/>
                  </a:lnTo>
                  <a:lnTo>
                    <a:pt x="204" y="282"/>
                  </a:lnTo>
                  <a:lnTo>
                    <a:pt x="206" y="275"/>
                  </a:lnTo>
                  <a:lnTo>
                    <a:pt x="208" y="269"/>
                  </a:lnTo>
                  <a:lnTo>
                    <a:pt x="210" y="261"/>
                  </a:lnTo>
                  <a:lnTo>
                    <a:pt x="213" y="253"/>
                  </a:lnTo>
                  <a:lnTo>
                    <a:pt x="217" y="244"/>
                  </a:lnTo>
                  <a:lnTo>
                    <a:pt x="220" y="2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1192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4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2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2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4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5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4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5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40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0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4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5" y="126"/>
                  </a:lnTo>
                  <a:lnTo>
                    <a:pt x="16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804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3" h="500">
                  <a:moveTo>
                    <a:pt x="273" y="274"/>
                  </a:moveTo>
                  <a:lnTo>
                    <a:pt x="281" y="28"/>
                  </a:lnTo>
                  <a:lnTo>
                    <a:pt x="281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8" y="7"/>
                  </a:lnTo>
                  <a:lnTo>
                    <a:pt x="292" y="3"/>
                  </a:lnTo>
                  <a:lnTo>
                    <a:pt x="297" y="2"/>
                  </a:lnTo>
                  <a:lnTo>
                    <a:pt x="302" y="0"/>
                  </a:lnTo>
                  <a:lnTo>
                    <a:pt x="308" y="0"/>
                  </a:lnTo>
                  <a:lnTo>
                    <a:pt x="318" y="0"/>
                  </a:lnTo>
                  <a:lnTo>
                    <a:pt x="325" y="0"/>
                  </a:lnTo>
                  <a:lnTo>
                    <a:pt x="333" y="1"/>
                  </a:lnTo>
                  <a:lnTo>
                    <a:pt x="341" y="2"/>
                  </a:lnTo>
                  <a:lnTo>
                    <a:pt x="346" y="2"/>
                  </a:lnTo>
                  <a:lnTo>
                    <a:pt x="353" y="3"/>
                  </a:lnTo>
                  <a:lnTo>
                    <a:pt x="357" y="6"/>
                  </a:lnTo>
                  <a:lnTo>
                    <a:pt x="362" y="7"/>
                  </a:lnTo>
                  <a:lnTo>
                    <a:pt x="365" y="9"/>
                  </a:lnTo>
                  <a:lnTo>
                    <a:pt x="368" y="10"/>
                  </a:lnTo>
                  <a:lnTo>
                    <a:pt x="372" y="12"/>
                  </a:lnTo>
                  <a:lnTo>
                    <a:pt x="374" y="14"/>
                  </a:lnTo>
                  <a:lnTo>
                    <a:pt x="376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1" y="21"/>
                  </a:lnTo>
                  <a:lnTo>
                    <a:pt x="381" y="23"/>
                  </a:lnTo>
                  <a:lnTo>
                    <a:pt x="382" y="27"/>
                  </a:lnTo>
                  <a:lnTo>
                    <a:pt x="382" y="29"/>
                  </a:lnTo>
                  <a:lnTo>
                    <a:pt x="383" y="33"/>
                  </a:lnTo>
                  <a:lnTo>
                    <a:pt x="383" y="37"/>
                  </a:lnTo>
                  <a:lnTo>
                    <a:pt x="383" y="41"/>
                  </a:lnTo>
                  <a:lnTo>
                    <a:pt x="383" y="46"/>
                  </a:lnTo>
                  <a:lnTo>
                    <a:pt x="383" y="52"/>
                  </a:lnTo>
                  <a:lnTo>
                    <a:pt x="383" y="366"/>
                  </a:lnTo>
                  <a:lnTo>
                    <a:pt x="383" y="430"/>
                  </a:lnTo>
                  <a:lnTo>
                    <a:pt x="383" y="436"/>
                  </a:lnTo>
                  <a:lnTo>
                    <a:pt x="383" y="442"/>
                  </a:lnTo>
                  <a:lnTo>
                    <a:pt x="382" y="446"/>
                  </a:lnTo>
                  <a:lnTo>
                    <a:pt x="382" y="449"/>
                  </a:lnTo>
                  <a:lnTo>
                    <a:pt x="381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5" y="461"/>
                  </a:lnTo>
                  <a:lnTo>
                    <a:pt x="372" y="462"/>
                  </a:lnTo>
                  <a:lnTo>
                    <a:pt x="368" y="464"/>
                  </a:lnTo>
                  <a:lnTo>
                    <a:pt x="365" y="464"/>
                  </a:lnTo>
                  <a:lnTo>
                    <a:pt x="361" y="465"/>
                  </a:lnTo>
                  <a:lnTo>
                    <a:pt x="355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8" y="465"/>
                  </a:lnTo>
                  <a:lnTo>
                    <a:pt x="303" y="465"/>
                  </a:lnTo>
                  <a:lnTo>
                    <a:pt x="299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7" y="460"/>
                  </a:lnTo>
                  <a:lnTo>
                    <a:pt x="282" y="458"/>
                  </a:lnTo>
                  <a:lnTo>
                    <a:pt x="279" y="456"/>
                  </a:lnTo>
                  <a:lnTo>
                    <a:pt x="276" y="454"/>
                  </a:lnTo>
                  <a:lnTo>
                    <a:pt x="271" y="450"/>
                  </a:lnTo>
                  <a:lnTo>
                    <a:pt x="267" y="446"/>
                  </a:lnTo>
                  <a:lnTo>
                    <a:pt x="262" y="440"/>
                  </a:lnTo>
                  <a:lnTo>
                    <a:pt x="257" y="435"/>
                  </a:lnTo>
                  <a:lnTo>
                    <a:pt x="250" y="428"/>
                  </a:lnTo>
                  <a:lnTo>
                    <a:pt x="244" y="421"/>
                  </a:lnTo>
                  <a:lnTo>
                    <a:pt x="236" y="412"/>
                  </a:lnTo>
                  <a:lnTo>
                    <a:pt x="228" y="402"/>
                  </a:lnTo>
                  <a:lnTo>
                    <a:pt x="219" y="392"/>
                  </a:lnTo>
                  <a:lnTo>
                    <a:pt x="212" y="382"/>
                  </a:lnTo>
                  <a:lnTo>
                    <a:pt x="203" y="371"/>
                  </a:lnTo>
                  <a:lnTo>
                    <a:pt x="193" y="359"/>
                  </a:lnTo>
                  <a:lnTo>
                    <a:pt x="184" y="348"/>
                  </a:lnTo>
                  <a:lnTo>
                    <a:pt x="175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5" y="296"/>
                  </a:lnTo>
                  <a:lnTo>
                    <a:pt x="138" y="285"/>
                  </a:lnTo>
                  <a:lnTo>
                    <a:pt x="130" y="274"/>
                  </a:lnTo>
                  <a:lnTo>
                    <a:pt x="123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10" y="245"/>
                  </a:lnTo>
                  <a:lnTo>
                    <a:pt x="108" y="241"/>
                  </a:lnTo>
                  <a:lnTo>
                    <a:pt x="108" y="278"/>
                  </a:lnTo>
                  <a:lnTo>
                    <a:pt x="108" y="358"/>
                  </a:lnTo>
                  <a:lnTo>
                    <a:pt x="108" y="466"/>
                  </a:lnTo>
                  <a:lnTo>
                    <a:pt x="108" y="468"/>
                  </a:lnTo>
                  <a:lnTo>
                    <a:pt x="108" y="469"/>
                  </a:lnTo>
                  <a:lnTo>
                    <a:pt x="108" y="470"/>
                  </a:lnTo>
                  <a:lnTo>
                    <a:pt x="108" y="471"/>
                  </a:lnTo>
                  <a:lnTo>
                    <a:pt x="108" y="474"/>
                  </a:lnTo>
                  <a:lnTo>
                    <a:pt x="108" y="475"/>
                  </a:lnTo>
                  <a:lnTo>
                    <a:pt x="108" y="476"/>
                  </a:lnTo>
                  <a:lnTo>
                    <a:pt x="108" y="477"/>
                  </a:lnTo>
                  <a:lnTo>
                    <a:pt x="108" y="479"/>
                  </a:lnTo>
                  <a:lnTo>
                    <a:pt x="107" y="481"/>
                  </a:lnTo>
                  <a:lnTo>
                    <a:pt x="107" y="483"/>
                  </a:lnTo>
                  <a:lnTo>
                    <a:pt x="106" y="486"/>
                  </a:lnTo>
                  <a:lnTo>
                    <a:pt x="106" y="488"/>
                  </a:lnTo>
                  <a:lnTo>
                    <a:pt x="105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100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4" y="498"/>
                  </a:lnTo>
                  <a:lnTo>
                    <a:pt x="90" y="499"/>
                  </a:lnTo>
                  <a:lnTo>
                    <a:pt x="87" y="500"/>
                  </a:lnTo>
                  <a:lnTo>
                    <a:pt x="84" y="500"/>
                  </a:lnTo>
                  <a:lnTo>
                    <a:pt x="79" y="500"/>
                  </a:lnTo>
                  <a:lnTo>
                    <a:pt x="76" y="500"/>
                  </a:lnTo>
                  <a:lnTo>
                    <a:pt x="71" y="500"/>
                  </a:lnTo>
                  <a:lnTo>
                    <a:pt x="68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6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4" y="496"/>
                  </a:lnTo>
                  <a:lnTo>
                    <a:pt x="39" y="494"/>
                  </a:lnTo>
                  <a:lnTo>
                    <a:pt x="36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5" y="491"/>
                  </a:lnTo>
                  <a:lnTo>
                    <a:pt x="22" y="489"/>
                  </a:lnTo>
                  <a:lnTo>
                    <a:pt x="18" y="488"/>
                  </a:lnTo>
                  <a:lnTo>
                    <a:pt x="16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3" y="462"/>
                  </a:lnTo>
                  <a:lnTo>
                    <a:pt x="2" y="458"/>
                  </a:lnTo>
                  <a:lnTo>
                    <a:pt x="2" y="454"/>
                  </a:lnTo>
                  <a:lnTo>
                    <a:pt x="1" y="449"/>
                  </a:lnTo>
                  <a:lnTo>
                    <a:pt x="1" y="444"/>
                  </a:lnTo>
                  <a:lnTo>
                    <a:pt x="1" y="439"/>
                  </a:lnTo>
                  <a:lnTo>
                    <a:pt x="1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7" y="51"/>
                  </a:lnTo>
                  <a:lnTo>
                    <a:pt x="9" y="46"/>
                  </a:lnTo>
                  <a:lnTo>
                    <a:pt x="11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31" y="34"/>
                  </a:lnTo>
                  <a:lnTo>
                    <a:pt x="37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5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5" y="46"/>
                  </a:lnTo>
                  <a:lnTo>
                    <a:pt x="109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20" y="57"/>
                  </a:lnTo>
                  <a:lnTo>
                    <a:pt x="122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3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14852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2" y="484"/>
                  </a:lnTo>
                  <a:lnTo>
                    <a:pt x="226" y="484"/>
                  </a:lnTo>
                  <a:lnTo>
                    <a:pt x="221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90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8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8" y="462"/>
                  </a:lnTo>
                  <a:lnTo>
                    <a:pt x="158" y="459"/>
                  </a:lnTo>
                  <a:lnTo>
                    <a:pt x="152" y="327"/>
                  </a:lnTo>
                  <a:lnTo>
                    <a:pt x="158" y="105"/>
                  </a:lnTo>
                  <a:lnTo>
                    <a:pt x="158" y="103"/>
                  </a:lnTo>
                  <a:lnTo>
                    <a:pt x="158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8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7" y="90"/>
                  </a:lnTo>
                  <a:lnTo>
                    <a:pt x="131" y="90"/>
                  </a:lnTo>
                  <a:lnTo>
                    <a:pt x="126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3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2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60" y="0"/>
                  </a:lnTo>
                  <a:lnTo>
                    <a:pt x="370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2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3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3" y="54"/>
                  </a:lnTo>
                  <a:lnTo>
                    <a:pt x="412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9" y="80"/>
                  </a:lnTo>
                  <a:lnTo>
                    <a:pt x="347" y="81"/>
                  </a:lnTo>
                  <a:lnTo>
                    <a:pt x="338" y="82"/>
                  </a:lnTo>
                  <a:lnTo>
                    <a:pt x="328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6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5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5" y="87"/>
                  </a:lnTo>
                  <a:lnTo>
                    <a:pt x="274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32960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7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5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0556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6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0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4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1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6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1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4" y="16"/>
                  </a:lnTo>
                  <a:lnTo>
                    <a:pt x="280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38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1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0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0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3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5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5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1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4" y="401"/>
                  </a:lnTo>
                  <a:lnTo>
                    <a:pt x="161" y="408"/>
                  </a:lnTo>
                  <a:lnTo>
                    <a:pt x="168" y="412"/>
                  </a:lnTo>
                  <a:lnTo>
                    <a:pt x="175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7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7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1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09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6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2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610400" y="2293920"/>
              <a:ext cx="15084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2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7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3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2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1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50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6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7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486080" y="1023840"/>
              <a:ext cx="1338120" cy="815760"/>
            </a:xfrm>
            <a:custGeom>
              <a:avLst/>
              <a:gdLst/>
              <a:ahLst/>
              <a:rect l="l" t="t" r="r" b="b"/>
              <a:pathLst>
                <a:path w="3373" h="2057">
                  <a:moveTo>
                    <a:pt x="142" y="120"/>
                  </a:moveTo>
                  <a:lnTo>
                    <a:pt x="142" y="118"/>
                  </a:lnTo>
                  <a:lnTo>
                    <a:pt x="140" y="117"/>
                  </a:lnTo>
                  <a:lnTo>
                    <a:pt x="137" y="115"/>
                  </a:lnTo>
                  <a:lnTo>
                    <a:pt x="135" y="113"/>
                  </a:lnTo>
                  <a:lnTo>
                    <a:pt x="131" y="110"/>
                  </a:lnTo>
                  <a:lnTo>
                    <a:pt x="126" y="108"/>
                  </a:lnTo>
                  <a:lnTo>
                    <a:pt x="121" y="106"/>
                  </a:lnTo>
                  <a:lnTo>
                    <a:pt x="114" y="103"/>
                  </a:lnTo>
                  <a:lnTo>
                    <a:pt x="108" y="100"/>
                  </a:lnTo>
                  <a:lnTo>
                    <a:pt x="102" y="98"/>
                  </a:lnTo>
                  <a:lnTo>
                    <a:pt x="98" y="96"/>
                  </a:lnTo>
                  <a:lnTo>
                    <a:pt x="93" y="94"/>
                  </a:lnTo>
                  <a:lnTo>
                    <a:pt x="90" y="92"/>
                  </a:lnTo>
                  <a:lnTo>
                    <a:pt x="88" y="89"/>
                  </a:lnTo>
                  <a:lnTo>
                    <a:pt x="87" y="87"/>
                  </a:lnTo>
                  <a:lnTo>
                    <a:pt x="87" y="85"/>
                  </a:lnTo>
                  <a:lnTo>
                    <a:pt x="87" y="78"/>
                  </a:lnTo>
                  <a:lnTo>
                    <a:pt x="88" y="72"/>
                  </a:lnTo>
                  <a:lnTo>
                    <a:pt x="89" y="66"/>
                  </a:lnTo>
                  <a:lnTo>
                    <a:pt x="90" y="62"/>
                  </a:lnTo>
                  <a:lnTo>
                    <a:pt x="92" y="57"/>
                  </a:lnTo>
                  <a:lnTo>
                    <a:pt x="94" y="54"/>
                  </a:lnTo>
                  <a:lnTo>
                    <a:pt x="98" y="51"/>
                  </a:lnTo>
                  <a:lnTo>
                    <a:pt x="101" y="49"/>
                  </a:lnTo>
                  <a:lnTo>
                    <a:pt x="105" y="45"/>
                  </a:lnTo>
                  <a:lnTo>
                    <a:pt x="112" y="43"/>
                  </a:lnTo>
                  <a:lnTo>
                    <a:pt x="120" y="41"/>
                  </a:lnTo>
                  <a:lnTo>
                    <a:pt x="130" y="39"/>
                  </a:lnTo>
                  <a:lnTo>
                    <a:pt x="154" y="33"/>
                  </a:lnTo>
                  <a:lnTo>
                    <a:pt x="185" y="29"/>
                  </a:lnTo>
                  <a:lnTo>
                    <a:pt x="221" y="24"/>
                  </a:lnTo>
                  <a:lnTo>
                    <a:pt x="265" y="21"/>
                  </a:lnTo>
                  <a:lnTo>
                    <a:pt x="315" y="17"/>
                  </a:lnTo>
                  <a:lnTo>
                    <a:pt x="372" y="12"/>
                  </a:lnTo>
                  <a:lnTo>
                    <a:pt x="420" y="10"/>
                  </a:lnTo>
                  <a:lnTo>
                    <a:pt x="466" y="8"/>
                  </a:lnTo>
                  <a:lnTo>
                    <a:pt x="509" y="5"/>
                  </a:lnTo>
                  <a:lnTo>
                    <a:pt x="549" y="3"/>
                  </a:lnTo>
                  <a:lnTo>
                    <a:pt x="588" y="2"/>
                  </a:lnTo>
                  <a:lnTo>
                    <a:pt x="623" y="1"/>
                  </a:lnTo>
                  <a:lnTo>
                    <a:pt x="656" y="1"/>
                  </a:lnTo>
                  <a:lnTo>
                    <a:pt x="686" y="0"/>
                  </a:lnTo>
                  <a:lnTo>
                    <a:pt x="791" y="1"/>
                  </a:lnTo>
                  <a:lnTo>
                    <a:pt x="899" y="2"/>
                  </a:lnTo>
                  <a:lnTo>
                    <a:pt x="1012" y="4"/>
                  </a:lnTo>
                  <a:lnTo>
                    <a:pt x="1127" y="8"/>
                  </a:lnTo>
                  <a:lnTo>
                    <a:pt x="1246" y="12"/>
                  </a:lnTo>
                  <a:lnTo>
                    <a:pt x="1368" y="18"/>
                  </a:lnTo>
                  <a:lnTo>
                    <a:pt x="1494" y="24"/>
                  </a:lnTo>
                  <a:lnTo>
                    <a:pt x="1623" y="32"/>
                  </a:lnTo>
                  <a:lnTo>
                    <a:pt x="1658" y="35"/>
                  </a:lnTo>
                  <a:lnTo>
                    <a:pt x="1695" y="40"/>
                  </a:lnTo>
                  <a:lnTo>
                    <a:pt x="1737" y="45"/>
                  </a:lnTo>
                  <a:lnTo>
                    <a:pt x="1782" y="50"/>
                  </a:lnTo>
                  <a:lnTo>
                    <a:pt x="1832" y="56"/>
                  </a:lnTo>
                  <a:lnTo>
                    <a:pt x="1886" y="62"/>
                  </a:lnTo>
                  <a:lnTo>
                    <a:pt x="1943" y="68"/>
                  </a:lnTo>
                  <a:lnTo>
                    <a:pt x="2005" y="75"/>
                  </a:lnTo>
                  <a:lnTo>
                    <a:pt x="2032" y="78"/>
                  </a:lnTo>
                  <a:lnTo>
                    <a:pt x="2060" y="81"/>
                  </a:lnTo>
                  <a:lnTo>
                    <a:pt x="2091" y="85"/>
                  </a:lnTo>
                  <a:lnTo>
                    <a:pt x="2127" y="88"/>
                  </a:lnTo>
                  <a:lnTo>
                    <a:pt x="2164" y="93"/>
                  </a:lnTo>
                  <a:lnTo>
                    <a:pt x="2205" y="98"/>
                  </a:lnTo>
                  <a:lnTo>
                    <a:pt x="2248" y="104"/>
                  </a:lnTo>
                  <a:lnTo>
                    <a:pt x="2295" y="109"/>
                  </a:lnTo>
                  <a:lnTo>
                    <a:pt x="2341" y="118"/>
                  </a:lnTo>
                  <a:lnTo>
                    <a:pt x="2386" y="127"/>
                  </a:lnTo>
                  <a:lnTo>
                    <a:pt x="2433" y="137"/>
                  </a:lnTo>
                  <a:lnTo>
                    <a:pt x="2478" y="148"/>
                  </a:lnTo>
                  <a:lnTo>
                    <a:pt x="2522" y="159"/>
                  </a:lnTo>
                  <a:lnTo>
                    <a:pt x="2567" y="171"/>
                  </a:lnTo>
                  <a:lnTo>
                    <a:pt x="2612" y="184"/>
                  </a:lnTo>
                  <a:lnTo>
                    <a:pt x="2657" y="198"/>
                  </a:lnTo>
                  <a:lnTo>
                    <a:pt x="2701" y="212"/>
                  </a:lnTo>
                  <a:lnTo>
                    <a:pt x="2745" y="227"/>
                  </a:lnTo>
                  <a:lnTo>
                    <a:pt x="2789" y="243"/>
                  </a:lnTo>
                  <a:lnTo>
                    <a:pt x="2832" y="259"/>
                  </a:lnTo>
                  <a:lnTo>
                    <a:pt x="2876" y="277"/>
                  </a:lnTo>
                  <a:lnTo>
                    <a:pt x="2919" y="295"/>
                  </a:lnTo>
                  <a:lnTo>
                    <a:pt x="2962" y="313"/>
                  </a:lnTo>
                  <a:lnTo>
                    <a:pt x="3006" y="333"/>
                  </a:lnTo>
                  <a:lnTo>
                    <a:pt x="3050" y="354"/>
                  </a:lnTo>
                  <a:lnTo>
                    <a:pt x="3092" y="375"/>
                  </a:lnTo>
                  <a:lnTo>
                    <a:pt x="3130" y="396"/>
                  </a:lnTo>
                  <a:lnTo>
                    <a:pt x="3167" y="417"/>
                  </a:lnTo>
                  <a:lnTo>
                    <a:pt x="3200" y="438"/>
                  </a:lnTo>
                  <a:lnTo>
                    <a:pt x="3230" y="458"/>
                  </a:lnTo>
                  <a:lnTo>
                    <a:pt x="3257" y="479"/>
                  </a:lnTo>
                  <a:lnTo>
                    <a:pt x="3282" y="499"/>
                  </a:lnTo>
                  <a:lnTo>
                    <a:pt x="3302" y="519"/>
                  </a:lnTo>
                  <a:lnTo>
                    <a:pt x="3321" y="537"/>
                  </a:lnTo>
                  <a:lnTo>
                    <a:pt x="3338" y="557"/>
                  </a:lnTo>
                  <a:lnTo>
                    <a:pt x="3350" y="576"/>
                  </a:lnTo>
                  <a:lnTo>
                    <a:pt x="3355" y="585"/>
                  </a:lnTo>
                  <a:lnTo>
                    <a:pt x="3360" y="595"/>
                  </a:lnTo>
                  <a:lnTo>
                    <a:pt x="3364" y="604"/>
                  </a:lnTo>
                  <a:lnTo>
                    <a:pt x="3368" y="614"/>
                  </a:lnTo>
                  <a:lnTo>
                    <a:pt x="3370" y="622"/>
                  </a:lnTo>
                  <a:lnTo>
                    <a:pt x="3372" y="631"/>
                  </a:lnTo>
                  <a:lnTo>
                    <a:pt x="3373" y="641"/>
                  </a:lnTo>
                  <a:lnTo>
                    <a:pt x="3373" y="650"/>
                  </a:lnTo>
                  <a:lnTo>
                    <a:pt x="3373" y="661"/>
                  </a:lnTo>
                  <a:lnTo>
                    <a:pt x="3372" y="672"/>
                  </a:lnTo>
                  <a:lnTo>
                    <a:pt x="3371" y="683"/>
                  </a:lnTo>
                  <a:lnTo>
                    <a:pt x="3369" y="694"/>
                  </a:lnTo>
                  <a:lnTo>
                    <a:pt x="3365" y="705"/>
                  </a:lnTo>
                  <a:lnTo>
                    <a:pt x="3362" y="716"/>
                  </a:lnTo>
                  <a:lnTo>
                    <a:pt x="3359" y="727"/>
                  </a:lnTo>
                  <a:lnTo>
                    <a:pt x="3354" y="738"/>
                  </a:lnTo>
                  <a:lnTo>
                    <a:pt x="3349" y="748"/>
                  </a:lnTo>
                  <a:lnTo>
                    <a:pt x="3343" y="759"/>
                  </a:lnTo>
                  <a:lnTo>
                    <a:pt x="3337" y="769"/>
                  </a:lnTo>
                  <a:lnTo>
                    <a:pt x="3330" y="779"/>
                  </a:lnTo>
                  <a:lnTo>
                    <a:pt x="3315" y="800"/>
                  </a:lnTo>
                  <a:lnTo>
                    <a:pt x="3297" y="820"/>
                  </a:lnTo>
                  <a:lnTo>
                    <a:pt x="3276" y="840"/>
                  </a:lnTo>
                  <a:lnTo>
                    <a:pt x="3253" y="859"/>
                  </a:lnTo>
                  <a:lnTo>
                    <a:pt x="3229" y="878"/>
                  </a:lnTo>
                  <a:lnTo>
                    <a:pt x="3201" y="896"/>
                  </a:lnTo>
                  <a:lnTo>
                    <a:pt x="3170" y="915"/>
                  </a:lnTo>
                  <a:lnTo>
                    <a:pt x="3138" y="932"/>
                  </a:lnTo>
                  <a:lnTo>
                    <a:pt x="3104" y="950"/>
                  </a:lnTo>
                  <a:lnTo>
                    <a:pt x="3066" y="968"/>
                  </a:lnTo>
                  <a:lnTo>
                    <a:pt x="3018" y="988"/>
                  </a:lnTo>
                  <a:lnTo>
                    <a:pt x="2962" y="1009"/>
                  </a:lnTo>
                  <a:lnTo>
                    <a:pt x="2901" y="1031"/>
                  </a:lnTo>
                  <a:lnTo>
                    <a:pt x="2832" y="1052"/>
                  </a:lnTo>
                  <a:lnTo>
                    <a:pt x="2758" y="1074"/>
                  </a:lnTo>
                  <a:lnTo>
                    <a:pt x="2677" y="1097"/>
                  </a:lnTo>
                  <a:lnTo>
                    <a:pt x="2589" y="1120"/>
                  </a:lnTo>
                  <a:lnTo>
                    <a:pt x="2494" y="1143"/>
                  </a:lnTo>
                  <a:lnTo>
                    <a:pt x="2423" y="1161"/>
                  </a:lnTo>
                  <a:lnTo>
                    <a:pt x="2361" y="1177"/>
                  </a:lnTo>
                  <a:lnTo>
                    <a:pt x="2308" y="1193"/>
                  </a:lnTo>
                  <a:lnTo>
                    <a:pt x="2265" y="1206"/>
                  </a:lnTo>
                  <a:lnTo>
                    <a:pt x="2247" y="1213"/>
                  </a:lnTo>
                  <a:lnTo>
                    <a:pt x="2231" y="1218"/>
                  </a:lnTo>
                  <a:lnTo>
                    <a:pt x="2217" y="1224"/>
                  </a:lnTo>
                  <a:lnTo>
                    <a:pt x="2207" y="1229"/>
                  </a:lnTo>
                  <a:lnTo>
                    <a:pt x="2198" y="1234"/>
                  </a:lnTo>
                  <a:lnTo>
                    <a:pt x="2193" y="1238"/>
                  </a:lnTo>
                  <a:lnTo>
                    <a:pt x="2189" y="1243"/>
                  </a:lnTo>
                  <a:lnTo>
                    <a:pt x="2187" y="1246"/>
                  </a:lnTo>
                  <a:lnTo>
                    <a:pt x="2190" y="1250"/>
                  </a:lnTo>
                  <a:lnTo>
                    <a:pt x="2194" y="1257"/>
                  </a:lnTo>
                  <a:lnTo>
                    <a:pt x="2203" y="1264"/>
                  </a:lnTo>
                  <a:lnTo>
                    <a:pt x="2215" y="1272"/>
                  </a:lnTo>
                  <a:lnTo>
                    <a:pt x="2249" y="1296"/>
                  </a:lnTo>
                  <a:lnTo>
                    <a:pt x="2297" y="1323"/>
                  </a:lnTo>
                  <a:lnTo>
                    <a:pt x="2357" y="1358"/>
                  </a:lnTo>
                  <a:lnTo>
                    <a:pt x="2431" y="1399"/>
                  </a:lnTo>
                  <a:lnTo>
                    <a:pt x="2520" y="1446"/>
                  </a:lnTo>
                  <a:lnTo>
                    <a:pt x="2621" y="1499"/>
                  </a:lnTo>
                  <a:lnTo>
                    <a:pt x="2718" y="1547"/>
                  </a:lnTo>
                  <a:lnTo>
                    <a:pt x="2807" y="1591"/>
                  </a:lnTo>
                  <a:lnTo>
                    <a:pt x="2886" y="1631"/>
                  </a:lnTo>
                  <a:lnTo>
                    <a:pt x="2957" y="1666"/>
                  </a:lnTo>
                  <a:lnTo>
                    <a:pt x="3020" y="1696"/>
                  </a:lnTo>
                  <a:lnTo>
                    <a:pt x="3074" y="1721"/>
                  </a:lnTo>
                  <a:lnTo>
                    <a:pt x="3119" y="1741"/>
                  </a:lnTo>
                  <a:lnTo>
                    <a:pt x="3157" y="1757"/>
                  </a:lnTo>
                  <a:lnTo>
                    <a:pt x="3169" y="1762"/>
                  </a:lnTo>
                  <a:lnTo>
                    <a:pt x="3184" y="1767"/>
                  </a:lnTo>
                  <a:lnTo>
                    <a:pt x="3201" y="1770"/>
                  </a:lnTo>
                  <a:lnTo>
                    <a:pt x="3221" y="1774"/>
                  </a:lnTo>
                  <a:lnTo>
                    <a:pt x="3243" y="1778"/>
                  </a:lnTo>
                  <a:lnTo>
                    <a:pt x="3268" y="1782"/>
                  </a:lnTo>
                  <a:lnTo>
                    <a:pt x="3295" y="1785"/>
                  </a:lnTo>
                  <a:lnTo>
                    <a:pt x="3325" y="1789"/>
                  </a:lnTo>
                  <a:lnTo>
                    <a:pt x="3293" y="1802"/>
                  </a:lnTo>
                  <a:lnTo>
                    <a:pt x="3262" y="1815"/>
                  </a:lnTo>
                  <a:lnTo>
                    <a:pt x="3231" y="1827"/>
                  </a:lnTo>
                  <a:lnTo>
                    <a:pt x="3200" y="1838"/>
                  </a:lnTo>
                  <a:lnTo>
                    <a:pt x="3171" y="1848"/>
                  </a:lnTo>
                  <a:lnTo>
                    <a:pt x="3142" y="1858"/>
                  </a:lnTo>
                  <a:lnTo>
                    <a:pt x="3114" y="1866"/>
                  </a:lnTo>
                  <a:lnTo>
                    <a:pt x="3087" y="1874"/>
                  </a:lnTo>
                  <a:lnTo>
                    <a:pt x="3061" y="1880"/>
                  </a:lnTo>
                  <a:lnTo>
                    <a:pt x="3034" y="1887"/>
                  </a:lnTo>
                  <a:lnTo>
                    <a:pt x="3009" y="1891"/>
                  </a:lnTo>
                  <a:lnTo>
                    <a:pt x="2985" y="1896"/>
                  </a:lnTo>
                  <a:lnTo>
                    <a:pt x="2961" y="1899"/>
                  </a:lnTo>
                  <a:lnTo>
                    <a:pt x="2938" y="1901"/>
                  </a:lnTo>
                  <a:lnTo>
                    <a:pt x="2916" y="1902"/>
                  </a:lnTo>
                  <a:lnTo>
                    <a:pt x="2895" y="1902"/>
                  </a:lnTo>
                  <a:lnTo>
                    <a:pt x="2871" y="1902"/>
                  </a:lnTo>
                  <a:lnTo>
                    <a:pt x="2847" y="1900"/>
                  </a:lnTo>
                  <a:lnTo>
                    <a:pt x="2822" y="1898"/>
                  </a:lnTo>
                  <a:lnTo>
                    <a:pt x="2799" y="1894"/>
                  </a:lnTo>
                  <a:lnTo>
                    <a:pt x="2776" y="1888"/>
                  </a:lnTo>
                  <a:lnTo>
                    <a:pt x="2752" y="1883"/>
                  </a:lnTo>
                  <a:lnTo>
                    <a:pt x="2728" y="1875"/>
                  </a:lnTo>
                  <a:lnTo>
                    <a:pt x="2705" y="1866"/>
                  </a:lnTo>
                  <a:lnTo>
                    <a:pt x="2585" y="1819"/>
                  </a:lnTo>
                  <a:lnTo>
                    <a:pt x="2450" y="1766"/>
                  </a:lnTo>
                  <a:lnTo>
                    <a:pt x="2300" y="1708"/>
                  </a:lnTo>
                  <a:lnTo>
                    <a:pt x="2136" y="1645"/>
                  </a:lnTo>
                  <a:lnTo>
                    <a:pt x="1956" y="1576"/>
                  </a:lnTo>
                  <a:lnTo>
                    <a:pt x="1761" y="1503"/>
                  </a:lnTo>
                  <a:lnTo>
                    <a:pt x="1552" y="1424"/>
                  </a:lnTo>
                  <a:lnTo>
                    <a:pt x="1327" y="1339"/>
                  </a:lnTo>
                  <a:lnTo>
                    <a:pt x="1255" y="1347"/>
                  </a:lnTo>
                  <a:lnTo>
                    <a:pt x="1182" y="1354"/>
                  </a:lnTo>
                  <a:lnTo>
                    <a:pt x="1109" y="1361"/>
                  </a:lnTo>
                  <a:lnTo>
                    <a:pt x="1038" y="1366"/>
                  </a:lnTo>
                  <a:lnTo>
                    <a:pt x="966" y="1372"/>
                  </a:lnTo>
                  <a:lnTo>
                    <a:pt x="896" y="1375"/>
                  </a:lnTo>
                  <a:lnTo>
                    <a:pt x="825" y="1378"/>
                  </a:lnTo>
                  <a:lnTo>
                    <a:pt x="756" y="1382"/>
                  </a:lnTo>
                  <a:lnTo>
                    <a:pt x="758" y="1436"/>
                  </a:lnTo>
                  <a:lnTo>
                    <a:pt x="759" y="1490"/>
                  </a:lnTo>
                  <a:lnTo>
                    <a:pt x="761" y="1544"/>
                  </a:lnTo>
                  <a:lnTo>
                    <a:pt x="763" y="1597"/>
                  </a:lnTo>
                  <a:lnTo>
                    <a:pt x="764" y="1649"/>
                  </a:lnTo>
                  <a:lnTo>
                    <a:pt x="767" y="1699"/>
                  </a:lnTo>
                  <a:lnTo>
                    <a:pt x="770" y="1750"/>
                  </a:lnTo>
                  <a:lnTo>
                    <a:pt x="772" y="1800"/>
                  </a:lnTo>
                  <a:lnTo>
                    <a:pt x="771" y="1815"/>
                  </a:lnTo>
                  <a:lnTo>
                    <a:pt x="771" y="1832"/>
                  </a:lnTo>
                  <a:lnTo>
                    <a:pt x="772" y="1851"/>
                  </a:lnTo>
                  <a:lnTo>
                    <a:pt x="773" y="1870"/>
                  </a:lnTo>
                  <a:lnTo>
                    <a:pt x="774" y="1891"/>
                  </a:lnTo>
                  <a:lnTo>
                    <a:pt x="777" y="1913"/>
                  </a:lnTo>
                  <a:lnTo>
                    <a:pt x="780" y="1938"/>
                  </a:lnTo>
                  <a:lnTo>
                    <a:pt x="782" y="1964"/>
                  </a:lnTo>
                  <a:lnTo>
                    <a:pt x="783" y="1966"/>
                  </a:lnTo>
                  <a:lnTo>
                    <a:pt x="785" y="1969"/>
                  </a:lnTo>
                  <a:lnTo>
                    <a:pt x="788" y="1970"/>
                  </a:lnTo>
                  <a:lnTo>
                    <a:pt x="790" y="1972"/>
                  </a:lnTo>
                  <a:lnTo>
                    <a:pt x="792" y="1974"/>
                  </a:lnTo>
                  <a:lnTo>
                    <a:pt x="795" y="1976"/>
                  </a:lnTo>
                  <a:lnTo>
                    <a:pt x="799" y="1979"/>
                  </a:lnTo>
                  <a:lnTo>
                    <a:pt x="803" y="1981"/>
                  </a:lnTo>
                  <a:lnTo>
                    <a:pt x="806" y="1983"/>
                  </a:lnTo>
                  <a:lnTo>
                    <a:pt x="811" y="1985"/>
                  </a:lnTo>
                  <a:lnTo>
                    <a:pt x="813" y="1989"/>
                  </a:lnTo>
                  <a:lnTo>
                    <a:pt x="816" y="1992"/>
                  </a:lnTo>
                  <a:lnTo>
                    <a:pt x="817" y="1995"/>
                  </a:lnTo>
                  <a:lnTo>
                    <a:pt x="820" y="1998"/>
                  </a:lnTo>
                  <a:lnTo>
                    <a:pt x="820" y="2002"/>
                  </a:lnTo>
                  <a:lnTo>
                    <a:pt x="821" y="2006"/>
                  </a:lnTo>
                  <a:lnTo>
                    <a:pt x="820" y="2008"/>
                  </a:lnTo>
                  <a:lnTo>
                    <a:pt x="817" y="2011"/>
                  </a:lnTo>
                  <a:lnTo>
                    <a:pt x="813" y="2013"/>
                  </a:lnTo>
                  <a:lnTo>
                    <a:pt x="809" y="2014"/>
                  </a:lnTo>
                  <a:lnTo>
                    <a:pt x="793" y="2018"/>
                  </a:lnTo>
                  <a:lnTo>
                    <a:pt x="773" y="2023"/>
                  </a:lnTo>
                  <a:lnTo>
                    <a:pt x="746" y="2027"/>
                  </a:lnTo>
                  <a:lnTo>
                    <a:pt x="714" y="2032"/>
                  </a:lnTo>
                  <a:lnTo>
                    <a:pt x="675" y="2036"/>
                  </a:lnTo>
                  <a:lnTo>
                    <a:pt x="631" y="2040"/>
                  </a:lnTo>
                  <a:lnTo>
                    <a:pt x="592" y="2044"/>
                  </a:lnTo>
                  <a:lnTo>
                    <a:pt x="556" y="2047"/>
                  </a:lnTo>
                  <a:lnTo>
                    <a:pt x="522" y="2050"/>
                  </a:lnTo>
                  <a:lnTo>
                    <a:pt x="492" y="2053"/>
                  </a:lnTo>
                  <a:lnTo>
                    <a:pt x="463" y="2055"/>
                  </a:lnTo>
                  <a:lnTo>
                    <a:pt x="439" y="2056"/>
                  </a:lnTo>
                  <a:lnTo>
                    <a:pt x="417" y="2056"/>
                  </a:lnTo>
                  <a:lnTo>
                    <a:pt x="397" y="2057"/>
                  </a:lnTo>
                  <a:lnTo>
                    <a:pt x="375" y="2056"/>
                  </a:lnTo>
                  <a:lnTo>
                    <a:pt x="350" y="2056"/>
                  </a:lnTo>
                  <a:lnTo>
                    <a:pt x="325" y="2054"/>
                  </a:lnTo>
                  <a:lnTo>
                    <a:pt x="297" y="2051"/>
                  </a:lnTo>
                  <a:lnTo>
                    <a:pt x="268" y="2049"/>
                  </a:lnTo>
                  <a:lnTo>
                    <a:pt x="237" y="2046"/>
                  </a:lnTo>
                  <a:lnTo>
                    <a:pt x="205" y="2041"/>
                  </a:lnTo>
                  <a:lnTo>
                    <a:pt x="170" y="2037"/>
                  </a:lnTo>
                  <a:lnTo>
                    <a:pt x="131" y="2032"/>
                  </a:lnTo>
                  <a:lnTo>
                    <a:pt x="95" y="2025"/>
                  </a:lnTo>
                  <a:lnTo>
                    <a:pt x="67" y="2018"/>
                  </a:lnTo>
                  <a:lnTo>
                    <a:pt x="42" y="2013"/>
                  </a:lnTo>
                  <a:lnTo>
                    <a:pt x="25" y="2006"/>
                  </a:lnTo>
                  <a:lnTo>
                    <a:pt x="11" y="2000"/>
                  </a:lnTo>
                  <a:lnTo>
                    <a:pt x="7" y="1996"/>
                  </a:lnTo>
                  <a:lnTo>
                    <a:pt x="4" y="1993"/>
                  </a:lnTo>
                  <a:lnTo>
                    <a:pt x="2" y="1990"/>
                  </a:lnTo>
                  <a:lnTo>
                    <a:pt x="0" y="1986"/>
                  </a:lnTo>
                  <a:lnTo>
                    <a:pt x="0" y="1991"/>
                  </a:lnTo>
                  <a:lnTo>
                    <a:pt x="2" y="1992"/>
                  </a:lnTo>
                  <a:lnTo>
                    <a:pt x="3" y="1989"/>
                  </a:lnTo>
                  <a:lnTo>
                    <a:pt x="4" y="1983"/>
                  </a:lnTo>
                  <a:lnTo>
                    <a:pt x="7" y="1962"/>
                  </a:lnTo>
                  <a:lnTo>
                    <a:pt x="13" y="1927"/>
                  </a:lnTo>
                  <a:lnTo>
                    <a:pt x="19" y="1878"/>
                  </a:lnTo>
                  <a:lnTo>
                    <a:pt x="28" y="1815"/>
                  </a:lnTo>
                  <a:lnTo>
                    <a:pt x="38" y="1740"/>
                  </a:lnTo>
                  <a:lnTo>
                    <a:pt x="49" y="1651"/>
                  </a:lnTo>
                  <a:lnTo>
                    <a:pt x="58" y="1578"/>
                  </a:lnTo>
                  <a:lnTo>
                    <a:pt x="67" y="1503"/>
                  </a:lnTo>
                  <a:lnTo>
                    <a:pt x="75" y="1426"/>
                  </a:lnTo>
                  <a:lnTo>
                    <a:pt x="82" y="1347"/>
                  </a:lnTo>
                  <a:lnTo>
                    <a:pt x="90" y="1267"/>
                  </a:lnTo>
                  <a:lnTo>
                    <a:pt x="96" y="1184"/>
                  </a:lnTo>
                  <a:lnTo>
                    <a:pt x="102" y="1099"/>
                  </a:lnTo>
                  <a:lnTo>
                    <a:pt x="108" y="1013"/>
                  </a:lnTo>
                  <a:lnTo>
                    <a:pt x="115" y="868"/>
                  </a:lnTo>
                  <a:lnTo>
                    <a:pt x="122" y="733"/>
                  </a:lnTo>
                  <a:lnTo>
                    <a:pt x="128" y="607"/>
                  </a:lnTo>
                  <a:lnTo>
                    <a:pt x="133" y="490"/>
                  </a:lnTo>
                  <a:lnTo>
                    <a:pt x="136" y="383"/>
                  </a:lnTo>
                  <a:lnTo>
                    <a:pt x="140" y="286"/>
                  </a:lnTo>
                  <a:lnTo>
                    <a:pt x="141" y="199"/>
                  </a:lnTo>
                  <a:lnTo>
                    <a:pt x="142" y="120"/>
                  </a:lnTo>
                  <a:close/>
                  <a:moveTo>
                    <a:pt x="1079" y="221"/>
                  </a:moveTo>
                  <a:lnTo>
                    <a:pt x="1058" y="222"/>
                  </a:lnTo>
                  <a:lnTo>
                    <a:pt x="1038" y="223"/>
                  </a:lnTo>
                  <a:lnTo>
                    <a:pt x="1019" y="225"/>
                  </a:lnTo>
                  <a:lnTo>
                    <a:pt x="1001" y="227"/>
                  </a:lnTo>
                  <a:lnTo>
                    <a:pt x="984" y="231"/>
                  </a:lnTo>
                  <a:lnTo>
                    <a:pt x="968" y="235"/>
                  </a:lnTo>
                  <a:lnTo>
                    <a:pt x="953" y="239"/>
                  </a:lnTo>
                  <a:lnTo>
                    <a:pt x="939" y="245"/>
                  </a:lnTo>
                  <a:lnTo>
                    <a:pt x="926" y="252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4" y="284"/>
                  </a:lnTo>
                  <a:lnTo>
                    <a:pt x="876" y="295"/>
                  </a:lnTo>
                  <a:lnTo>
                    <a:pt x="868" y="305"/>
                  </a:lnTo>
                  <a:lnTo>
                    <a:pt x="863" y="317"/>
                  </a:lnTo>
                  <a:lnTo>
                    <a:pt x="848" y="351"/>
                  </a:lnTo>
                  <a:lnTo>
                    <a:pt x="834" y="386"/>
                  </a:lnTo>
                  <a:lnTo>
                    <a:pt x="822" y="425"/>
                  </a:lnTo>
                  <a:lnTo>
                    <a:pt x="811" y="466"/>
                  </a:lnTo>
                  <a:lnTo>
                    <a:pt x="800" y="509"/>
                  </a:lnTo>
                  <a:lnTo>
                    <a:pt x="791" y="554"/>
                  </a:lnTo>
                  <a:lnTo>
                    <a:pt x="782" y="601"/>
                  </a:lnTo>
                  <a:lnTo>
                    <a:pt x="775" y="651"/>
                  </a:lnTo>
                  <a:lnTo>
                    <a:pt x="769" y="703"/>
                  </a:lnTo>
                  <a:lnTo>
                    <a:pt x="763" y="757"/>
                  </a:lnTo>
                  <a:lnTo>
                    <a:pt x="760" y="813"/>
                  </a:lnTo>
                  <a:lnTo>
                    <a:pt x="757" y="872"/>
                  </a:lnTo>
                  <a:lnTo>
                    <a:pt x="754" y="932"/>
                  </a:lnTo>
                  <a:lnTo>
                    <a:pt x="754" y="995"/>
                  </a:lnTo>
                  <a:lnTo>
                    <a:pt x="754" y="1060"/>
                  </a:lnTo>
                  <a:lnTo>
                    <a:pt x="756" y="1128"/>
                  </a:lnTo>
                  <a:lnTo>
                    <a:pt x="756" y="1201"/>
                  </a:lnTo>
                  <a:lnTo>
                    <a:pt x="841" y="1197"/>
                  </a:lnTo>
                  <a:lnTo>
                    <a:pt x="926" y="1193"/>
                  </a:lnTo>
                  <a:lnTo>
                    <a:pt x="1011" y="1187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2" y="1163"/>
                  </a:lnTo>
                  <a:lnTo>
                    <a:pt x="1346" y="1152"/>
                  </a:lnTo>
                  <a:lnTo>
                    <a:pt x="1430" y="1141"/>
                  </a:lnTo>
                  <a:lnTo>
                    <a:pt x="1513" y="1128"/>
                  </a:lnTo>
                  <a:lnTo>
                    <a:pt x="1596" y="1113"/>
                  </a:lnTo>
                  <a:lnTo>
                    <a:pt x="1679" y="1099"/>
                  </a:lnTo>
                  <a:lnTo>
                    <a:pt x="1760" y="1083"/>
                  </a:lnTo>
                  <a:lnTo>
                    <a:pt x="1843" y="1065"/>
                  </a:lnTo>
                  <a:lnTo>
                    <a:pt x="1925" y="1046"/>
                  </a:lnTo>
                  <a:lnTo>
                    <a:pt x="2006" y="1025"/>
                  </a:lnTo>
                  <a:lnTo>
                    <a:pt x="2088" y="1004"/>
                  </a:lnTo>
                  <a:lnTo>
                    <a:pt x="2178" y="979"/>
                  </a:lnTo>
                  <a:lnTo>
                    <a:pt x="2261" y="953"/>
                  </a:lnTo>
                  <a:lnTo>
                    <a:pt x="2301" y="941"/>
                  </a:lnTo>
                  <a:lnTo>
                    <a:pt x="2340" y="928"/>
                  </a:lnTo>
                  <a:lnTo>
                    <a:pt x="2376" y="915"/>
                  </a:lnTo>
                  <a:lnTo>
                    <a:pt x="2412" y="902"/>
                  </a:lnTo>
                  <a:lnTo>
                    <a:pt x="2446" y="888"/>
                  </a:lnTo>
                  <a:lnTo>
                    <a:pt x="2479" y="875"/>
                  </a:lnTo>
                  <a:lnTo>
                    <a:pt x="2510" y="862"/>
                  </a:lnTo>
                  <a:lnTo>
                    <a:pt x="2540" y="849"/>
                  </a:lnTo>
                  <a:lnTo>
                    <a:pt x="2567" y="834"/>
                  </a:lnTo>
                  <a:lnTo>
                    <a:pt x="2595" y="821"/>
                  </a:lnTo>
                  <a:lnTo>
                    <a:pt x="2619" y="808"/>
                  </a:lnTo>
                  <a:lnTo>
                    <a:pt x="2643" y="793"/>
                  </a:lnTo>
                  <a:lnTo>
                    <a:pt x="2665" y="779"/>
                  </a:lnTo>
                  <a:lnTo>
                    <a:pt x="2686" y="766"/>
                  </a:lnTo>
                  <a:lnTo>
                    <a:pt x="2706" y="751"/>
                  </a:lnTo>
                  <a:lnTo>
                    <a:pt x="2724" y="737"/>
                  </a:lnTo>
                  <a:lnTo>
                    <a:pt x="2742" y="723"/>
                  </a:lnTo>
                  <a:lnTo>
                    <a:pt x="2756" y="708"/>
                  </a:lnTo>
                  <a:lnTo>
                    <a:pt x="2770" y="694"/>
                  </a:lnTo>
                  <a:lnTo>
                    <a:pt x="2783" y="679"/>
                  </a:lnTo>
                  <a:lnTo>
                    <a:pt x="2794" y="664"/>
                  </a:lnTo>
                  <a:lnTo>
                    <a:pt x="2802" y="650"/>
                  </a:lnTo>
                  <a:lnTo>
                    <a:pt x="2810" y="635"/>
                  </a:lnTo>
                  <a:lnTo>
                    <a:pt x="2817" y="620"/>
                  </a:lnTo>
                  <a:lnTo>
                    <a:pt x="2822" y="605"/>
                  </a:lnTo>
                  <a:lnTo>
                    <a:pt x="2826" y="589"/>
                  </a:lnTo>
                  <a:lnTo>
                    <a:pt x="2828" y="574"/>
                  </a:lnTo>
                  <a:lnTo>
                    <a:pt x="2829" y="558"/>
                  </a:lnTo>
                  <a:lnTo>
                    <a:pt x="2828" y="545"/>
                  </a:lnTo>
                  <a:lnTo>
                    <a:pt x="2827" y="532"/>
                  </a:lnTo>
                  <a:lnTo>
                    <a:pt x="2823" y="519"/>
                  </a:lnTo>
                  <a:lnTo>
                    <a:pt x="2819" y="505"/>
                  </a:lnTo>
                  <a:lnTo>
                    <a:pt x="2813" y="492"/>
                  </a:lnTo>
                  <a:lnTo>
                    <a:pt x="2806" y="480"/>
                  </a:lnTo>
                  <a:lnTo>
                    <a:pt x="2798" y="468"/>
                  </a:lnTo>
                  <a:lnTo>
                    <a:pt x="2788" y="457"/>
                  </a:lnTo>
                  <a:lnTo>
                    <a:pt x="2778" y="445"/>
                  </a:lnTo>
                  <a:lnTo>
                    <a:pt x="2766" y="434"/>
                  </a:lnTo>
                  <a:lnTo>
                    <a:pt x="2753" y="423"/>
                  </a:lnTo>
                  <a:lnTo>
                    <a:pt x="2738" y="413"/>
                  </a:lnTo>
                  <a:lnTo>
                    <a:pt x="2722" y="402"/>
                  </a:lnTo>
                  <a:lnTo>
                    <a:pt x="2705" y="392"/>
                  </a:lnTo>
                  <a:lnTo>
                    <a:pt x="2686" y="382"/>
                  </a:lnTo>
                  <a:lnTo>
                    <a:pt x="2668" y="373"/>
                  </a:lnTo>
                  <a:lnTo>
                    <a:pt x="2647" y="363"/>
                  </a:lnTo>
                  <a:lnTo>
                    <a:pt x="2625" y="354"/>
                  </a:lnTo>
                  <a:lnTo>
                    <a:pt x="2601" y="346"/>
                  </a:lnTo>
                  <a:lnTo>
                    <a:pt x="2577" y="338"/>
                  </a:lnTo>
                  <a:lnTo>
                    <a:pt x="2551" y="330"/>
                  </a:lnTo>
                  <a:lnTo>
                    <a:pt x="2524" y="322"/>
                  </a:lnTo>
                  <a:lnTo>
                    <a:pt x="2495" y="314"/>
                  </a:lnTo>
                  <a:lnTo>
                    <a:pt x="2466" y="308"/>
                  </a:lnTo>
                  <a:lnTo>
                    <a:pt x="2403" y="294"/>
                  </a:lnTo>
                  <a:lnTo>
                    <a:pt x="2335" y="281"/>
                  </a:lnTo>
                  <a:lnTo>
                    <a:pt x="2263" y="270"/>
                  </a:lnTo>
                  <a:lnTo>
                    <a:pt x="2184" y="260"/>
                  </a:lnTo>
                  <a:lnTo>
                    <a:pt x="2139" y="256"/>
                  </a:lnTo>
                  <a:lnTo>
                    <a:pt x="2091" y="252"/>
                  </a:lnTo>
                  <a:lnTo>
                    <a:pt x="2040" y="247"/>
                  </a:lnTo>
                  <a:lnTo>
                    <a:pt x="1985" y="244"/>
                  </a:lnTo>
                  <a:lnTo>
                    <a:pt x="1866" y="236"/>
                  </a:lnTo>
                  <a:lnTo>
                    <a:pt x="1735" y="231"/>
                  </a:lnTo>
                  <a:lnTo>
                    <a:pt x="1590" y="227"/>
                  </a:lnTo>
                  <a:lnTo>
                    <a:pt x="1432" y="224"/>
                  </a:lnTo>
                  <a:lnTo>
                    <a:pt x="1262" y="222"/>
                  </a:lnTo>
                  <a:lnTo>
                    <a:pt x="1079" y="2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60600" y="1049040"/>
              <a:ext cx="1140120" cy="828360"/>
            </a:xfrm>
            <a:custGeom>
              <a:avLst/>
              <a:gdLst/>
              <a:ahLst/>
              <a:rect l="l" t="t" r="r" b="b"/>
              <a:pathLst>
                <a:path w="2869" h="2089">
                  <a:moveTo>
                    <a:pt x="82" y="175"/>
                  </a:moveTo>
                  <a:lnTo>
                    <a:pt x="81" y="168"/>
                  </a:lnTo>
                  <a:lnTo>
                    <a:pt x="79" y="159"/>
                  </a:lnTo>
                  <a:lnTo>
                    <a:pt x="76" y="150"/>
                  </a:lnTo>
                  <a:lnTo>
                    <a:pt x="71" y="140"/>
                  </a:lnTo>
                  <a:lnTo>
                    <a:pt x="66" y="130"/>
                  </a:lnTo>
                  <a:lnTo>
                    <a:pt x="58" y="120"/>
                  </a:lnTo>
                  <a:lnTo>
                    <a:pt x="50" y="109"/>
                  </a:lnTo>
                  <a:lnTo>
                    <a:pt x="40" y="98"/>
                  </a:lnTo>
                  <a:lnTo>
                    <a:pt x="32" y="87"/>
                  </a:lnTo>
                  <a:lnTo>
                    <a:pt x="23" y="77"/>
                  </a:lnTo>
                  <a:lnTo>
                    <a:pt x="16" y="68"/>
                  </a:lnTo>
                  <a:lnTo>
                    <a:pt x="10" y="60"/>
                  </a:lnTo>
                  <a:lnTo>
                    <a:pt x="5" y="54"/>
                  </a:lnTo>
                  <a:lnTo>
                    <a:pt x="2" y="48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5"/>
                  </a:lnTo>
                  <a:lnTo>
                    <a:pt x="3" y="31"/>
                  </a:lnTo>
                  <a:lnTo>
                    <a:pt x="6" y="26"/>
                  </a:lnTo>
                  <a:lnTo>
                    <a:pt x="11" y="22"/>
                  </a:lnTo>
                  <a:lnTo>
                    <a:pt x="17" y="19"/>
                  </a:lnTo>
                  <a:lnTo>
                    <a:pt x="25" y="15"/>
                  </a:lnTo>
                  <a:lnTo>
                    <a:pt x="34" y="12"/>
                  </a:lnTo>
                  <a:lnTo>
                    <a:pt x="45" y="10"/>
                  </a:lnTo>
                  <a:lnTo>
                    <a:pt x="69" y="5"/>
                  </a:lnTo>
                  <a:lnTo>
                    <a:pt x="100" y="2"/>
                  </a:lnTo>
                  <a:lnTo>
                    <a:pt x="137" y="0"/>
                  </a:lnTo>
                  <a:lnTo>
                    <a:pt x="178" y="0"/>
                  </a:lnTo>
                  <a:lnTo>
                    <a:pt x="333" y="0"/>
                  </a:lnTo>
                  <a:lnTo>
                    <a:pt x="479" y="0"/>
                  </a:lnTo>
                  <a:lnTo>
                    <a:pt x="617" y="0"/>
                  </a:lnTo>
                  <a:lnTo>
                    <a:pt x="747" y="1"/>
                  </a:lnTo>
                  <a:lnTo>
                    <a:pt x="867" y="2"/>
                  </a:lnTo>
                  <a:lnTo>
                    <a:pt x="981" y="2"/>
                  </a:lnTo>
                  <a:lnTo>
                    <a:pt x="1085" y="3"/>
                  </a:lnTo>
                  <a:lnTo>
                    <a:pt x="1182" y="5"/>
                  </a:lnTo>
                  <a:lnTo>
                    <a:pt x="1309" y="6"/>
                  </a:lnTo>
                  <a:lnTo>
                    <a:pt x="1448" y="9"/>
                  </a:lnTo>
                  <a:lnTo>
                    <a:pt x="1598" y="12"/>
                  </a:lnTo>
                  <a:lnTo>
                    <a:pt x="1761" y="15"/>
                  </a:lnTo>
                  <a:lnTo>
                    <a:pt x="1935" y="20"/>
                  </a:lnTo>
                  <a:lnTo>
                    <a:pt x="2120" y="24"/>
                  </a:lnTo>
                  <a:lnTo>
                    <a:pt x="2319" y="30"/>
                  </a:lnTo>
                  <a:lnTo>
                    <a:pt x="2528" y="36"/>
                  </a:lnTo>
                  <a:lnTo>
                    <a:pt x="2549" y="37"/>
                  </a:lnTo>
                  <a:lnTo>
                    <a:pt x="2568" y="39"/>
                  </a:lnTo>
                  <a:lnTo>
                    <a:pt x="2585" y="42"/>
                  </a:lnTo>
                  <a:lnTo>
                    <a:pt x="2602" y="44"/>
                  </a:lnTo>
                  <a:lnTo>
                    <a:pt x="2617" y="47"/>
                  </a:lnTo>
                  <a:lnTo>
                    <a:pt x="2632" y="51"/>
                  </a:lnTo>
                  <a:lnTo>
                    <a:pt x="2644" y="55"/>
                  </a:lnTo>
                  <a:lnTo>
                    <a:pt x="2655" y="59"/>
                  </a:lnTo>
                  <a:lnTo>
                    <a:pt x="2665" y="64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0"/>
                  </a:lnTo>
                  <a:lnTo>
                    <a:pt x="2691" y="87"/>
                  </a:lnTo>
                  <a:lnTo>
                    <a:pt x="2695" y="94"/>
                  </a:lnTo>
                  <a:lnTo>
                    <a:pt x="2697" y="100"/>
                  </a:lnTo>
                  <a:lnTo>
                    <a:pt x="2698" y="108"/>
                  </a:lnTo>
                  <a:lnTo>
                    <a:pt x="2697" y="113"/>
                  </a:lnTo>
                  <a:lnTo>
                    <a:pt x="2695" y="120"/>
                  </a:lnTo>
                  <a:lnTo>
                    <a:pt x="2691" y="124"/>
                  </a:lnTo>
                  <a:lnTo>
                    <a:pt x="2687" y="130"/>
                  </a:lnTo>
                  <a:lnTo>
                    <a:pt x="2680" y="134"/>
                  </a:lnTo>
                  <a:lnTo>
                    <a:pt x="2672" y="139"/>
                  </a:lnTo>
                  <a:lnTo>
                    <a:pt x="2664" y="143"/>
                  </a:lnTo>
                  <a:lnTo>
                    <a:pt x="2654" y="147"/>
                  </a:lnTo>
                  <a:lnTo>
                    <a:pt x="2642" y="150"/>
                  </a:lnTo>
                  <a:lnTo>
                    <a:pt x="2628" y="153"/>
                  </a:lnTo>
                  <a:lnTo>
                    <a:pt x="2614" y="156"/>
                  </a:lnTo>
                  <a:lnTo>
                    <a:pt x="2598" y="159"/>
                  </a:lnTo>
                  <a:lnTo>
                    <a:pt x="2563" y="163"/>
                  </a:lnTo>
                  <a:lnTo>
                    <a:pt x="2522" y="166"/>
                  </a:lnTo>
                  <a:lnTo>
                    <a:pt x="2455" y="171"/>
                  </a:lnTo>
                  <a:lnTo>
                    <a:pt x="2382" y="174"/>
                  </a:lnTo>
                  <a:lnTo>
                    <a:pt x="2303" y="179"/>
                  </a:lnTo>
                  <a:lnTo>
                    <a:pt x="2216" y="182"/>
                  </a:lnTo>
                  <a:lnTo>
                    <a:pt x="2125" y="185"/>
                  </a:lnTo>
                  <a:lnTo>
                    <a:pt x="2027" y="188"/>
                  </a:lnTo>
                  <a:lnTo>
                    <a:pt x="1923" y="192"/>
                  </a:lnTo>
                  <a:lnTo>
                    <a:pt x="1811" y="194"/>
                  </a:lnTo>
                  <a:lnTo>
                    <a:pt x="1687" y="197"/>
                  </a:lnTo>
                  <a:lnTo>
                    <a:pt x="1572" y="200"/>
                  </a:lnTo>
                  <a:lnTo>
                    <a:pt x="1467" y="202"/>
                  </a:lnTo>
                  <a:lnTo>
                    <a:pt x="1372" y="205"/>
                  </a:lnTo>
                  <a:lnTo>
                    <a:pt x="1287" y="207"/>
                  </a:lnTo>
                  <a:lnTo>
                    <a:pt x="1212" y="209"/>
                  </a:lnTo>
                  <a:lnTo>
                    <a:pt x="1148" y="212"/>
                  </a:lnTo>
                  <a:lnTo>
                    <a:pt x="1094" y="215"/>
                  </a:lnTo>
                  <a:lnTo>
                    <a:pt x="1046" y="217"/>
                  </a:lnTo>
                  <a:lnTo>
                    <a:pt x="1005" y="222"/>
                  </a:lnTo>
                  <a:lnTo>
                    <a:pt x="988" y="225"/>
                  </a:lnTo>
                  <a:lnTo>
                    <a:pt x="970" y="227"/>
                  </a:lnTo>
                  <a:lnTo>
                    <a:pt x="955" y="230"/>
                  </a:lnTo>
                  <a:lnTo>
                    <a:pt x="940" y="234"/>
                  </a:lnTo>
                  <a:lnTo>
                    <a:pt x="928" y="238"/>
                  </a:lnTo>
                  <a:lnTo>
                    <a:pt x="917" y="243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1" y="256"/>
                  </a:lnTo>
                  <a:lnTo>
                    <a:pt x="885" y="261"/>
                  </a:lnTo>
                  <a:lnTo>
                    <a:pt x="881" y="267"/>
                  </a:lnTo>
                  <a:lnTo>
                    <a:pt x="878" y="273"/>
                  </a:lnTo>
                  <a:lnTo>
                    <a:pt x="876" y="280"/>
                  </a:lnTo>
                  <a:lnTo>
                    <a:pt x="874" y="296"/>
                  </a:lnTo>
                  <a:lnTo>
                    <a:pt x="871" y="321"/>
                  </a:lnTo>
                  <a:lnTo>
                    <a:pt x="866" y="355"/>
                  </a:lnTo>
                  <a:lnTo>
                    <a:pt x="862" y="399"/>
                  </a:lnTo>
                  <a:lnTo>
                    <a:pt x="855" y="452"/>
                  </a:lnTo>
                  <a:lnTo>
                    <a:pt x="849" y="515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4"/>
                  </a:lnTo>
                  <a:lnTo>
                    <a:pt x="2002" y="1224"/>
                  </a:lnTo>
                  <a:lnTo>
                    <a:pt x="2048" y="1222"/>
                  </a:lnTo>
                  <a:lnTo>
                    <a:pt x="2098" y="1222"/>
                  </a:lnTo>
                  <a:lnTo>
                    <a:pt x="2154" y="1224"/>
                  </a:lnTo>
                  <a:lnTo>
                    <a:pt x="2212" y="1224"/>
                  </a:lnTo>
                  <a:lnTo>
                    <a:pt x="2275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6" y="1229"/>
                  </a:lnTo>
                  <a:lnTo>
                    <a:pt x="2474" y="1234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7"/>
                  </a:lnTo>
                  <a:lnTo>
                    <a:pt x="2523" y="1251"/>
                  </a:lnTo>
                  <a:lnTo>
                    <a:pt x="2530" y="1257"/>
                  </a:lnTo>
                  <a:lnTo>
                    <a:pt x="2536" y="1261"/>
                  </a:lnTo>
                  <a:lnTo>
                    <a:pt x="2541" y="1267"/>
                  </a:lnTo>
                  <a:lnTo>
                    <a:pt x="2544" y="1273"/>
                  </a:lnTo>
                  <a:lnTo>
                    <a:pt x="2547" y="1279"/>
                  </a:lnTo>
                  <a:lnTo>
                    <a:pt x="2549" y="1285"/>
                  </a:lnTo>
                  <a:lnTo>
                    <a:pt x="2549" y="1293"/>
                  </a:lnTo>
                  <a:lnTo>
                    <a:pt x="2549" y="1301"/>
                  </a:lnTo>
                  <a:lnTo>
                    <a:pt x="2547" y="1309"/>
                  </a:lnTo>
                  <a:lnTo>
                    <a:pt x="2544" y="1315"/>
                  </a:lnTo>
                  <a:lnTo>
                    <a:pt x="2540" y="1323"/>
                  </a:lnTo>
                  <a:lnTo>
                    <a:pt x="2536" y="1328"/>
                  </a:lnTo>
                  <a:lnTo>
                    <a:pt x="2529" y="1335"/>
                  </a:lnTo>
                  <a:lnTo>
                    <a:pt x="2522" y="1339"/>
                  </a:lnTo>
                  <a:lnTo>
                    <a:pt x="2513" y="1345"/>
                  </a:lnTo>
                  <a:lnTo>
                    <a:pt x="2505" y="1349"/>
                  </a:lnTo>
                  <a:lnTo>
                    <a:pt x="2494" y="1354"/>
                  </a:lnTo>
                  <a:lnTo>
                    <a:pt x="2483" y="1357"/>
                  </a:lnTo>
                  <a:lnTo>
                    <a:pt x="2469" y="1360"/>
                  </a:lnTo>
                  <a:lnTo>
                    <a:pt x="2456" y="1364"/>
                  </a:lnTo>
                  <a:lnTo>
                    <a:pt x="2441" y="1366"/>
                  </a:lnTo>
                  <a:lnTo>
                    <a:pt x="2425" y="1368"/>
                  </a:lnTo>
                  <a:lnTo>
                    <a:pt x="2409" y="1369"/>
                  </a:lnTo>
                  <a:lnTo>
                    <a:pt x="2363" y="1373"/>
                  </a:lnTo>
                  <a:lnTo>
                    <a:pt x="2288" y="1376"/>
                  </a:lnTo>
                  <a:lnTo>
                    <a:pt x="2182" y="1381"/>
                  </a:lnTo>
                  <a:lnTo>
                    <a:pt x="2046" y="1387"/>
                  </a:lnTo>
                  <a:lnTo>
                    <a:pt x="1879" y="1394"/>
                  </a:lnTo>
                  <a:lnTo>
                    <a:pt x="1681" y="1401"/>
                  </a:lnTo>
                  <a:lnTo>
                    <a:pt x="1454" y="1410"/>
                  </a:lnTo>
                  <a:lnTo>
                    <a:pt x="1194" y="1420"/>
                  </a:lnTo>
                  <a:lnTo>
                    <a:pt x="1157" y="1422"/>
                  </a:lnTo>
                  <a:lnTo>
                    <a:pt x="1115" y="1423"/>
                  </a:lnTo>
                  <a:lnTo>
                    <a:pt x="1068" y="1426"/>
                  </a:lnTo>
                  <a:lnTo>
                    <a:pt x="1018" y="1428"/>
                  </a:lnTo>
                  <a:lnTo>
                    <a:pt x="963" y="1430"/>
                  </a:lnTo>
                  <a:lnTo>
                    <a:pt x="904" y="1431"/>
                  </a:lnTo>
                  <a:lnTo>
                    <a:pt x="840" y="1434"/>
                  </a:lnTo>
                  <a:lnTo>
                    <a:pt x="771" y="1437"/>
                  </a:lnTo>
                  <a:lnTo>
                    <a:pt x="768" y="1486"/>
                  </a:lnTo>
                  <a:lnTo>
                    <a:pt x="765" y="1534"/>
                  </a:lnTo>
                  <a:lnTo>
                    <a:pt x="763" y="1579"/>
                  </a:lnTo>
                  <a:lnTo>
                    <a:pt x="760" y="1621"/>
                  </a:lnTo>
                  <a:lnTo>
                    <a:pt x="759" y="1662"/>
                  </a:lnTo>
                  <a:lnTo>
                    <a:pt x="758" y="1700"/>
                  </a:lnTo>
                  <a:lnTo>
                    <a:pt x="757" y="1737"/>
                  </a:lnTo>
                  <a:lnTo>
                    <a:pt x="757" y="1771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4" y="1801"/>
                  </a:lnTo>
                  <a:lnTo>
                    <a:pt x="769" y="1808"/>
                  </a:lnTo>
                  <a:lnTo>
                    <a:pt x="777" y="1816"/>
                  </a:lnTo>
                  <a:lnTo>
                    <a:pt x="786" y="1824"/>
                  </a:lnTo>
                  <a:lnTo>
                    <a:pt x="796" y="1829"/>
                  </a:lnTo>
                  <a:lnTo>
                    <a:pt x="807" y="1836"/>
                  </a:lnTo>
                  <a:lnTo>
                    <a:pt x="820" y="1840"/>
                  </a:lnTo>
                  <a:lnTo>
                    <a:pt x="835" y="1845"/>
                  </a:lnTo>
                  <a:lnTo>
                    <a:pt x="852" y="1848"/>
                  </a:lnTo>
                  <a:lnTo>
                    <a:pt x="870" y="1851"/>
                  </a:lnTo>
                  <a:lnTo>
                    <a:pt x="889" y="1854"/>
                  </a:lnTo>
                  <a:lnTo>
                    <a:pt x="910" y="1856"/>
                  </a:lnTo>
                  <a:lnTo>
                    <a:pt x="933" y="1857"/>
                  </a:lnTo>
                  <a:lnTo>
                    <a:pt x="957" y="1857"/>
                  </a:lnTo>
                  <a:lnTo>
                    <a:pt x="1031" y="1857"/>
                  </a:lnTo>
                  <a:lnTo>
                    <a:pt x="1114" y="1857"/>
                  </a:lnTo>
                  <a:lnTo>
                    <a:pt x="1205" y="1857"/>
                  </a:lnTo>
                  <a:lnTo>
                    <a:pt x="1306" y="1857"/>
                  </a:lnTo>
                  <a:lnTo>
                    <a:pt x="1415" y="1857"/>
                  </a:lnTo>
                  <a:lnTo>
                    <a:pt x="1534" y="1857"/>
                  </a:lnTo>
                  <a:lnTo>
                    <a:pt x="1661" y="1856"/>
                  </a:lnTo>
                  <a:lnTo>
                    <a:pt x="1797" y="1856"/>
                  </a:lnTo>
                  <a:lnTo>
                    <a:pt x="1932" y="1856"/>
                  </a:lnTo>
                  <a:lnTo>
                    <a:pt x="2059" y="1856"/>
                  </a:lnTo>
                  <a:lnTo>
                    <a:pt x="2177" y="1855"/>
                  </a:lnTo>
                  <a:lnTo>
                    <a:pt x="2286" y="1855"/>
                  </a:lnTo>
                  <a:lnTo>
                    <a:pt x="2386" y="1855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8"/>
                  </a:lnTo>
                  <a:lnTo>
                    <a:pt x="2759" y="1860"/>
                  </a:lnTo>
                  <a:lnTo>
                    <a:pt x="2777" y="1863"/>
                  </a:lnTo>
                  <a:lnTo>
                    <a:pt x="2795" y="1866"/>
                  </a:lnTo>
                  <a:lnTo>
                    <a:pt x="2810" y="1869"/>
                  </a:lnTo>
                  <a:lnTo>
                    <a:pt x="2825" y="1874"/>
                  </a:lnTo>
                  <a:lnTo>
                    <a:pt x="2836" y="1878"/>
                  </a:lnTo>
                  <a:lnTo>
                    <a:pt x="2846" y="1882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899"/>
                  </a:lnTo>
                  <a:lnTo>
                    <a:pt x="2868" y="1906"/>
                  </a:lnTo>
                  <a:lnTo>
                    <a:pt x="2869" y="1913"/>
                  </a:lnTo>
                  <a:lnTo>
                    <a:pt x="2868" y="1919"/>
                  </a:lnTo>
                  <a:lnTo>
                    <a:pt x="2866" y="1924"/>
                  </a:lnTo>
                  <a:lnTo>
                    <a:pt x="2862" y="1930"/>
                  </a:lnTo>
                  <a:lnTo>
                    <a:pt x="2858" y="1935"/>
                  </a:lnTo>
                  <a:lnTo>
                    <a:pt x="2851" y="1940"/>
                  </a:lnTo>
                  <a:lnTo>
                    <a:pt x="2844" y="1944"/>
                  </a:lnTo>
                  <a:lnTo>
                    <a:pt x="2834" y="1949"/>
                  </a:lnTo>
                  <a:lnTo>
                    <a:pt x="2823" y="1953"/>
                  </a:lnTo>
                  <a:lnTo>
                    <a:pt x="2810" y="1956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7" y="1973"/>
                  </a:lnTo>
                  <a:lnTo>
                    <a:pt x="2683" y="1977"/>
                  </a:lnTo>
                  <a:lnTo>
                    <a:pt x="2591" y="1985"/>
                  </a:lnTo>
                  <a:lnTo>
                    <a:pt x="2485" y="1994"/>
                  </a:lnTo>
                  <a:lnTo>
                    <a:pt x="2366" y="2003"/>
                  </a:lnTo>
                  <a:lnTo>
                    <a:pt x="2234" y="2012"/>
                  </a:lnTo>
                  <a:lnTo>
                    <a:pt x="2088" y="2020"/>
                  </a:lnTo>
                  <a:lnTo>
                    <a:pt x="1931" y="2030"/>
                  </a:lnTo>
                  <a:lnTo>
                    <a:pt x="1758" y="2039"/>
                  </a:lnTo>
                  <a:lnTo>
                    <a:pt x="1574" y="2049"/>
                  </a:lnTo>
                  <a:lnTo>
                    <a:pt x="1386" y="2059"/>
                  </a:lnTo>
                  <a:lnTo>
                    <a:pt x="1212" y="2067"/>
                  </a:lnTo>
                  <a:lnTo>
                    <a:pt x="1052" y="2073"/>
                  </a:lnTo>
                  <a:lnTo>
                    <a:pt x="907" y="2079"/>
                  </a:lnTo>
                  <a:lnTo>
                    <a:pt x="777" y="2083"/>
                  </a:lnTo>
                  <a:lnTo>
                    <a:pt x="661" y="2087"/>
                  </a:lnTo>
                  <a:lnTo>
                    <a:pt x="558" y="2089"/>
                  </a:lnTo>
                  <a:lnTo>
                    <a:pt x="471" y="2089"/>
                  </a:lnTo>
                  <a:lnTo>
                    <a:pt x="417" y="2089"/>
                  </a:lnTo>
                  <a:lnTo>
                    <a:pt x="366" y="2087"/>
                  </a:lnTo>
                  <a:lnTo>
                    <a:pt x="319" y="2083"/>
                  </a:lnTo>
                  <a:lnTo>
                    <a:pt x="276" y="2079"/>
                  </a:lnTo>
                  <a:lnTo>
                    <a:pt x="236" y="2072"/>
                  </a:lnTo>
                  <a:lnTo>
                    <a:pt x="199" y="2066"/>
                  </a:lnTo>
                  <a:lnTo>
                    <a:pt x="182" y="2061"/>
                  </a:lnTo>
                  <a:lnTo>
                    <a:pt x="166" y="2057"/>
                  </a:lnTo>
                  <a:lnTo>
                    <a:pt x="151" y="2052"/>
                  </a:lnTo>
                  <a:lnTo>
                    <a:pt x="137" y="2048"/>
                  </a:lnTo>
                  <a:lnTo>
                    <a:pt x="123" y="2042"/>
                  </a:lnTo>
                  <a:lnTo>
                    <a:pt x="111" y="2037"/>
                  </a:lnTo>
                  <a:lnTo>
                    <a:pt x="100" y="2030"/>
                  </a:lnTo>
                  <a:lnTo>
                    <a:pt x="89" y="2024"/>
                  </a:lnTo>
                  <a:lnTo>
                    <a:pt x="79" y="2017"/>
                  </a:lnTo>
                  <a:lnTo>
                    <a:pt x="70" y="2010"/>
                  </a:lnTo>
                  <a:lnTo>
                    <a:pt x="63" y="2003"/>
                  </a:lnTo>
                  <a:lnTo>
                    <a:pt x="55" y="1996"/>
                  </a:lnTo>
                  <a:lnTo>
                    <a:pt x="49" y="1987"/>
                  </a:lnTo>
                  <a:lnTo>
                    <a:pt x="44" y="1979"/>
                  </a:lnTo>
                  <a:lnTo>
                    <a:pt x="39" y="1971"/>
                  </a:lnTo>
                  <a:lnTo>
                    <a:pt x="36" y="1962"/>
                  </a:lnTo>
                  <a:lnTo>
                    <a:pt x="33" y="1953"/>
                  </a:lnTo>
                  <a:lnTo>
                    <a:pt x="32" y="1943"/>
                  </a:lnTo>
                  <a:lnTo>
                    <a:pt x="31" y="1933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8"/>
                  </a:lnTo>
                  <a:lnTo>
                    <a:pt x="53" y="1435"/>
                  </a:lnTo>
                  <a:lnTo>
                    <a:pt x="61" y="1209"/>
                  </a:lnTo>
                  <a:lnTo>
                    <a:pt x="69" y="990"/>
                  </a:lnTo>
                  <a:lnTo>
                    <a:pt x="75" y="777"/>
                  </a:lnTo>
                  <a:lnTo>
                    <a:pt x="79" y="569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78360" y="1052280"/>
              <a:ext cx="1549440" cy="822240"/>
            </a:xfrm>
            <a:custGeom>
              <a:avLst/>
              <a:gdLst/>
              <a:ahLst/>
              <a:rect l="l" t="t" r="r" b="b"/>
              <a:pathLst>
                <a:path w="3902" h="2074">
                  <a:moveTo>
                    <a:pt x="1684" y="0"/>
                  </a:moveTo>
                  <a:lnTo>
                    <a:pt x="1702" y="0"/>
                  </a:lnTo>
                  <a:lnTo>
                    <a:pt x="1721" y="2"/>
                  </a:lnTo>
                  <a:lnTo>
                    <a:pt x="1743" y="2"/>
                  </a:lnTo>
                  <a:lnTo>
                    <a:pt x="1766" y="3"/>
                  </a:lnTo>
                  <a:lnTo>
                    <a:pt x="1791" y="4"/>
                  </a:lnTo>
                  <a:lnTo>
                    <a:pt x="1818" y="6"/>
                  </a:lnTo>
                  <a:lnTo>
                    <a:pt x="1848" y="7"/>
                  </a:lnTo>
                  <a:lnTo>
                    <a:pt x="1879" y="9"/>
                  </a:lnTo>
                  <a:lnTo>
                    <a:pt x="1910" y="12"/>
                  </a:lnTo>
                  <a:lnTo>
                    <a:pt x="1939" y="14"/>
                  </a:lnTo>
                  <a:lnTo>
                    <a:pt x="1967" y="15"/>
                  </a:lnTo>
                  <a:lnTo>
                    <a:pt x="1992" y="16"/>
                  </a:lnTo>
                  <a:lnTo>
                    <a:pt x="2016" y="17"/>
                  </a:lnTo>
                  <a:lnTo>
                    <a:pt x="2038" y="18"/>
                  </a:lnTo>
                  <a:lnTo>
                    <a:pt x="2056" y="18"/>
                  </a:lnTo>
                  <a:lnTo>
                    <a:pt x="2074" y="18"/>
                  </a:lnTo>
                  <a:lnTo>
                    <a:pt x="2085" y="18"/>
                  </a:lnTo>
                  <a:lnTo>
                    <a:pt x="2097" y="18"/>
                  </a:lnTo>
                  <a:lnTo>
                    <a:pt x="2111" y="17"/>
                  </a:lnTo>
                  <a:lnTo>
                    <a:pt x="2125" y="17"/>
                  </a:lnTo>
                  <a:lnTo>
                    <a:pt x="2140" y="16"/>
                  </a:lnTo>
                  <a:lnTo>
                    <a:pt x="2158" y="15"/>
                  </a:lnTo>
                  <a:lnTo>
                    <a:pt x="2177" y="14"/>
                  </a:lnTo>
                  <a:lnTo>
                    <a:pt x="2197" y="13"/>
                  </a:lnTo>
                  <a:lnTo>
                    <a:pt x="2215" y="10"/>
                  </a:lnTo>
                  <a:lnTo>
                    <a:pt x="2234" y="9"/>
                  </a:lnTo>
                  <a:lnTo>
                    <a:pt x="2252" y="8"/>
                  </a:lnTo>
                  <a:lnTo>
                    <a:pt x="2268" y="8"/>
                  </a:lnTo>
                  <a:lnTo>
                    <a:pt x="2283" y="7"/>
                  </a:lnTo>
                  <a:lnTo>
                    <a:pt x="2297" y="7"/>
                  </a:lnTo>
                  <a:lnTo>
                    <a:pt x="2310" y="6"/>
                  </a:lnTo>
                  <a:lnTo>
                    <a:pt x="2323" y="6"/>
                  </a:lnTo>
                  <a:lnTo>
                    <a:pt x="2360" y="7"/>
                  </a:lnTo>
                  <a:lnTo>
                    <a:pt x="2395" y="7"/>
                  </a:lnTo>
                  <a:lnTo>
                    <a:pt x="2430" y="9"/>
                  </a:lnTo>
                  <a:lnTo>
                    <a:pt x="2461" y="12"/>
                  </a:lnTo>
                  <a:lnTo>
                    <a:pt x="2490" y="15"/>
                  </a:lnTo>
                  <a:lnTo>
                    <a:pt x="2517" y="18"/>
                  </a:lnTo>
                  <a:lnTo>
                    <a:pt x="2542" y="21"/>
                  </a:lnTo>
                  <a:lnTo>
                    <a:pt x="2564" y="27"/>
                  </a:lnTo>
                  <a:lnTo>
                    <a:pt x="2585" y="32"/>
                  </a:lnTo>
                  <a:lnTo>
                    <a:pt x="2603" y="38"/>
                  </a:lnTo>
                  <a:lnTo>
                    <a:pt x="2619" y="45"/>
                  </a:lnTo>
                  <a:lnTo>
                    <a:pt x="2633" y="52"/>
                  </a:lnTo>
                  <a:lnTo>
                    <a:pt x="2645" y="60"/>
                  </a:lnTo>
                  <a:lnTo>
                    <a:pt x="2654" y="69"/>
                  </a:lnTo>
                  <a:lnTo>
                    <a:pt x="2661" y="78"/>
                  </a:lnTo>
                  <a:lnTo>
                    <a:pt x="2667" y="88"/>
                  </a:lnTo>
                  <a:lnTo>
                    <a:pt x="2674" y="112"/>
                  </a:lnTo>
                  <a:lnTo>
                    <a:pt x="2681" y="140"/>
                  </a:lnTo>
                  <a:lnTo>
                    <a:pt x="2690" y="169"/>
                  </a:lnTo>
                  <a:lnTo>
                    <a:pt x="2701" y="202"/>
                  </a:lnTo>
                  <a:lnTo>
                    <a:pt x="2714" y="239"/>
                  </a:lnTo>
                  <a:lnTo>
                    <a:pt x="2728" y="277"/>
                  </a:lnTo>
                  <a:lnTo>
                    <a:pt x="2743" y="319"/>
                  </a:lnTo>
                  <a:lnTo>
                    <a:pt x="2760" y="365"/>
                  </a:lnTo>
                  <a:lnTo>
                    <a:pt x="2786" y="420"/>
                  </a:lnTo>
                  <a:lnTo>
                    <a:pt x="2813" y="475"/>
                  </a:lnTo>
                  <a:lnTo>
                    <a:pt x="2840" y="529"/>
                  </a:lnTo>
                  <a:lnTo>
                    <a:pt x="2869" y="583"/>
                  </a:lnTo>
                  <a:lnTo>
                    <a:pt x="2898" y="637"/>
                  </a:lnTo>
                  <a:lnTo>
                    <a:pt x="2928" y="690"/>
                  </a:lnTo>
                  <a:lnTo>
                    <a:pt x="2957" y="743"/>
                  </a:lnTo>
                  <a:lnTo>
                    <a:pt x="2988" y="796"/>
                  </a:lnTo>
                  <a:lnTo>
                    <a:pt x="3019" y="848"/>
                  </a:lnTo>
                  <a:lnTo>
                    <a:pt x="3050" y="900"/>
                  </a:lnTo>
                  <a:lnTo>
                    <a:pt x="3083" y="951"/>
                  </a:lnTo>
                  <a:lnTo>
                    <a:pt x="3115" y="1002"/>
                  </a:lnTo>
                  <a:lnTo>
                    <a:pt x="3149" y="1052"/>
                  </a:lnTo>
                  <a:lnTo>
                    <a:pt x="3183" y="1102"/>
                  </a:lnTo>
                  <a:lnTo>
                    <a:pt x="3218" y="1151"/>
                  </a:lnTo>
                  <a:lnTo>
                    <a:pt x="3253" y="1201"/>
                  </a:lnTo>
                  <a:lnTo>
                    <a:pt x="3289" y="1250"/>
                  </a:lnTo>
                  <a:lnTo>
                    <a:pt x="3325" y="1298"/>
                  </a:lnTo>
                  <a:lnTo>
                    <a:pt x="3361" y="1346"/>
                  </a:lnTo>
                  <a:lnTo>
                    <a:pt x="3399" y="1393"/>
                  </a:lnTo>
                  <a:lnTo>
                    <a:pt x="3436" y="1441"/>
                  </a:lnTo>
                  <a:lnTo>
                    <a:pt x="3475" y="1487"/>
                  </a:lnTo>
                  <a:lnTo>
                    <a:pt x="3515" y="1533"/>
                  </a:lnTo>
                  <a:lnTo>
                    <a:pt x="3555" y="1579"/>
                  </a:lnTo>
                  <a:lnTo>
                    <a:pt x="3594" y="1624"/>
                  </a:lnTo>
                  <a:lnTo>
                    <a:pt x="3635" y="1669"/>
                  </a:lnTo>
                  <a:lnTo>
                    <a:pt x="3677" y="1713"/>
                  </a:lnTo>
                  <a:lnTo>
                    <a:pt x="3719" y="1757"/>
                  </a:lnTo>
                  <a:lnTo>
                    <a:pt x="3762" y="1800"/>
                  </a:lnTo>
                  <a:lnTo>
                    <a:pt x="3805" y="1843"/>
                  </a:lnTo>
                  <a:lnTo>
                    <a:pt x="3848" y="1886"/>
                  </a:lnTo>
                  <a:lnTo>
                    <a:pt x="3894" y="1929"/>
                  </a:lnTo>
                  <a:lnTo>
                    <a:pt x="3896" y="1931"/>
                  </a:lnTo>
                  <a:lnTo>
                    <a:pt x="3897" y="1933"/>
                  </a:lnTo>
                  <a:lnTo>
                    <a:pt x="3899" y="1934"/>
                  </a:lnTo>
                  <a:lnTo>
                    <a:pt x="3900" y="1936"/>
                  </a:lnTo>
                  <a:lnTo>
                    <a:pt x="3901" y="1937"/>
                  </a:lnTo>
                  <a:lnTo>
                    <a:pt x="3902" y="1939"/>
                  </a:lnTo>
                  <a:lnTo>
                    <a:pt x="3902" y="1942"/>
                  </a:lnTo>
                  <a:lnTo>
                    <a:pt x="3902" y="1943"/>
                  </a:lnTo>
                  <a:lnTo>
                    <a:pt x="3901" y="1948"/>
                  </a:lnTo>
                  <a:lnTo>
                    <a:pt x="3899" y="1954"/>
                  </a:lnTo>
                  <a:lnTo>
                    <a:pt x="3894" y="1958"/>
                  </a:lnTo>
                  <a:lnTo>
                    <a:pt x="3887" y="1961"/>
                  </a:lnTo>
                  <a:lnTo>
                    <a:pt x="3877" y="1964"/>
                  </a:lnTo>
                  <a:lnTo>
                    <a:pt x="3866" y="1966"/>
                  </a:lnTo>
                  <a:lnTo>
                    <a:pt x="3853" y="1967"/>
                  </a:lnTo>
                  <a:lnTo>
                    <a:pt x="3838" y="1967"/>
                  </a:lnTo>
                  <a:lnTo>
                    <a:pt x="3831" y="1967"/>
                  </a:lnTo>
                  <a:lnTo>
                    <a:pt x="3822" y="1967"/>
                  </a:lnTo>
                  <a:lnTo>
                    <a:pt x="3813" y="1967"/>
                  </a:lnTo>
                  <a:lnTo>
                    <a:pt x="3803" y="1966"/>
                  </a:lnTo>
                  <a:lnTo>
                    <a:pt x="3792" y="1966"/>
                  </a:lnTo>
                  <a:lnTo>
                    <a:pt x="3781" y="1965"/>
                  </a:lnTo>
                  <a:lnTo>
                    <a:pt x="3768" y="1965"/>
                  </a:lnTo>
                  <a:lnTo>
                    <a:pt x="3754" y="1964"/>
                  </a:lnTo>
                  <a:lnTo>
                    <a:pt x="3741" y="1963"/>
                  </a:lnTo>
                  <a:lnTo>
                    <a:pt x="3729" y="1961"/>
                  </a:lnTo>
                  <a:lnTo>
                    <a:pt x="3717" y="1960"/>
                  </a:lnTo>
                  <a:lnTo>
                    <a:pt x="3706" y="1960"/>
                  </a:lnTo>
                  <a:lnTo>
                    <a:pt x="3696" y="1959"/>
                  </a:lnTo>
                  <a:lnTo>
                    <a:pt x="3686" y="1959"/>
                  </a:lnTo>
                  <a:lnTo>
                    <a:pt x="3677" y="1959"/>
                  </a:lnTo>
                  <a:lnTo>
                    <a:pt x="3668" y="1959"/>
                  </a:lnTo>
                  <a:lnTo>
                    <a:pt x="3595" y="1968"/>
                  </a:lnTo>
                  <a:lnTo>
                    <a:pt x="3527" y="1976"/>
                  </a:lnTo>
                  <a:lnTo>
                    <a:pt x="3466" y="1981"/>
                  </a:lnTo>
                  <a:lnTo>
                    <a:pt x="3411" y="1987"/>
                  </a:lnTo>
                  <a:lnTo>
                    <a:pt x="3362" y="1991"/>
                  </a:lnTo>
                  <a:lnTo>
                    <a:pt x="3319" y="1993"/>
                  </a:lnTo>
                  <a:lnTo>
                    <a:pt x="3283" y="1996"/>
                  </a:lnTo>
                  <a:lnTo>
                    <a:pt x="3252" y="1996"/>
                  </a:lnTo>
                  <a:lnTo>
                    <a:pt x="3206" y="1995"/>
                  </a:lnTo>
                  <a:lnTo>
                    <a:pt x="3164" y="1992"/>
                  </a:lnTo>
                  <a:lnTo>
                    <a:pt x="3145" y="1990"/>
                  </a:lnTo>
                  <a:lnTo>
                    <a:pt x="3126" y="1987"/>
                  </a:lnTo>
                  <a:lnTo>
                    <a:pt x="3110" y="1985"/>
                  </a:lnTo>
                  <a:lnTo>
                    <a:pt x="3095" y="1980"/>
                  </a:lnTo>
                  <a:lnTo>
                    <a:pt x="3081" y="1977"/>
                  </a:lnTo>
                  <a:lnTo>
                    <a:pt x="3068" y="1971"/>
                  </a:lnTo>
                  <a:lnTo>
                    <a:pt x="3057" y="1967"/>
                  </a:lnTo>
                  <a:lnTo>
                    <a:pt x="3046" y="1961"/>
                  </a:lnTo>
                  <a:lnTo>
                    <a:pt x="3037" y="1956"/>
                  </a:lnTo>
                  <a:lnTo>
                    <a:pt x="3029" y="1949"/>
                  </a:lnTo>
                  <a:lnTo>
                    <a:pt x="3022" y="1942"/>
                  </a:lnTo>
                  <a:lnTo>
                    <a:pt x="3017" y="1935"/>
                  </a:lnTo>
                  <a:lnTo>
                    <a:pt x="2978" y="1869"/>
                  </a:lnTo>
                  <a:lnTo>
                    <a:pt x="2940" y="1804"/>
                  </a:lnTo>
                  <a:lnTo>
                    <a:pt x="2901" y="1740"/>
                  </a:lnTo>
                  <a:lnTo>
                    <a:pt x="2860" y="1677"/>
                  </a:lnTo>
                  <a:lnTo>
                    <a:pt x="2820" y="1615"/>
                  </a:lnTo>
                  <a:lnTo>
                    <a:pt x="2778" y="1553"/>
                  </a:lnTo>
                  <a:lnTo>
                    <a:pt x="2737" y="1492"/>
                  </a:lnTo>
                  <a:lnTo>
                    <a:pt x="2693" y="1432"/>
                  </a:lnTo>
                  <a:lnTo>
                    <a:pt x="1051" y="1480"/>
                  </a:lnTo>
                  <a:lnTo>
                    <a:pt x="1030" y="1504"/>
                  </a:lnTo>
                  <a:lnTo>
                    <a:pt x="1008" y="1530"/>
                  </a:lnTo>
                  <a:lnTo>
                    <a:pt x="987" y="1556"/>
                  </a:lnTo>
                  <a:lnTo>
                    <a:pt x="965" y="1585"/>
                  </a:lnTo>
                  <a:lnTo>
                    <a:pt x="943" y="1614"/>
                  </a:lnTo>
                  <a:lnTo>
                    <a:pt x="920" y="1646"/>
                  </a:lnTo>
                  <a:lnTo>
                    <a:pt x="898" y="1678"/>
                  </a:lnTo>
                  <a:lnTo>
                    <a:pt x="876" y="1712"/>
                  </a:lnTo>
                  <a:lnTo>
                    <a:pt x="854" y="1746"/>
                  </a:lnTo>
                  <a:lnTo>
                    <a:pt x="831" y="1784"/>
                  </a:lnTo>
                  <a:lnTo>
                    <a:pt x="808" y="1821"/>
                  </a:lnTo>
                  <a:lnTo>
                    <a:pt x="786" y="1860"/>
                  </a:lnTo>
                  <a:lnTo>
                    <a:pt x="739" y="1943"/>
                  </a:lnTo>
                  <a:lnTo>
                    <a:pt x="692" y="2031"/>
                  </a:lnTo>
                  <a:lnTo>
                    <a:pt x="689" y="2037"/>
                  </a:lnTo>
                  <a:lnTo>
                    <a:pt x="685" y="2041"/>
                  </a:lnTo>
                  <a:lnTo>
                    <a:pt x="681" y="2045"/>
                  </a:lnTo>
                  <a:lnTo>
                    <a:pt x="675" y="2050"/>
                  </a:lnTo>
                  <a:lnTo>
                    <a:pt x="664" y="2057"/>
                  </a:lnTo>
                  <a:lnTo>
                    <a:pt x="651" y="2063"/>
                  </a:lnTo>
                  <a:lnTo>
                    <a:pt x="637" y="2067"/>
                  </a:lnTo>
                  <a:lnTo>
                    <a:pt x="619" y="2071"/>
                  </a:lnTo>
                  <a:lnTo>
                    <a:pt x="599" y="2073"/>
                  </a:lnTo>
                  <a:lnTo>
                    <a:pt x="578" y="2074"/>
                  </a:lnTo>
                  <a:lnTo>
                    <a:pt x="527" y="2073"/>
                  </a:lnTo>
                  <a:lnTo>
                    <a:pt x="481" y="2073"/>
                  </a:lnTo>
                  <a:lnTo>
                    <a:pt x="438" y="2071"/>
                  </a:lnTo>
                  <a:lnTo>
                    <a:pt x="400" y="2069"/>
                  </a:lnTo>
                  <a:lnTo>
                    <a:pt x="365" y="2066"/>
                  </a:lnTo>
                  <a:lnTo>
                    <a:pt x="334" y="2063"/>
                  </a:lnTo>
                  <a:lnTo>
                    <a:pt x="308" y="2060"/>
                  </a:lnTo>
                  <a:lnTo>
                    <a:pt x="286" y="2056"/>
                  </a:lnTo>
                  <a:lnTo>
                    <a:pt x="257" y="2048"/>
                  </a:lnTo>
                  <a:lnTo>
                    <a:pt x="229" y="2039"/>
                  </a:lnTo>
                  <a:lnTo>
                    <a:pt x="201" y="2030"/>
                  </a:lnTo>
                  <a:lnTo>
                    <a:pt x="173" y="2022"/>
                  </a:lnTo>
                  <a:lnTo>
                    <a:pt x="144" y="2013"/>
                  </a:lnTo>
                  <a:lnTo>
                    <a:pt x="117" y="2005"/>
                  </a:lnTo>
                  <a:lnTo>
                    <a:pt x="89" y="1996"/>
                  </a:lnTo>
                  <a:lnTo>
                    <a:pt x="62" y="1988"/>
                  </a:lnTo>
                  <a:lnTo>
                    <a:pt x="47" y="1982"/>
                  </a:lnTo>
                  <a:lnTo>
                    <a:pt x="35" y="1977"/>
                  </a:lnTo>
                  <a:lnTo>
                    <a:pt x="24" y="1970"/>
                  </a:lnTo>
                  <a:lnTo>
                    <a:pt x="15" y="1964"/>
                  </a:lnTo>
                  <a:lnTo>
                    <a:pt x="9" y="1955"/>
                  </a:lnTo>
                  <a:lnTo>
                    <a:pt x="3" y="1947"/>
                  </a:lnTo>
                  <a:lnTo>
                    <a:pt x="1" y="1938"/>
                  </a:lnTo>
                  <a:lnTo>
                    <a:pt x="0" y="1928"/>
                  </a:lnTo>
                  <a:lnTo>
                    <a:pt x="1" y="1921"/>
                  </a:lnTo>
                  <a:lnTo>
                    <a:pt x="6" y="1910"/>
                  </a:lnTo>
                  <a:lnTo>
                    <a:pt x="15" y="1895"/>
                  </a:lnTo>
                  <a:lnTo>
                    <a:pt x="27" y="1878"/>
                  </a:lnTo>
                  <a:lnTo>
                    <a:pt x="43" y="1857"/>
                  </a:lnTo>
                  <a:lnTo>
                    <a:pt x="62" y="1832"/>
                  </a:lnTo>
                  <a:lnTo>
                    <a:pt x="84" y="1805"/>
                  </a:lnTo>
                  <a:lnTo>
                    <a:pt x="110" y="1773"/>
                  </a:lnTo>
                  <a:lnTo>
                    <a:pt x="172" y="1701"/>
                  </a:lnTo>
                  <a:lnTo>
                    <a:pt x="248" y="1615"/>
                  </a:lnTo>
                  <a:lnTo>
                    <a:pt x="338" y="1516"/>
                  </a:lnTo>
                  <a:lnTo>
                    <a:pt x="440" y="1402"/>
                  </a:lnTo>
                  <a:lnTo>
                    <a:pt x="508" y="1330"/>
                  </a:lnTo>
                  <a:lnTo>
                    <a:pt x="575" y="1257"/>
                  </a:lnTo>
                  <a:lnTo>
                    <a:pt x="642" y="1186"/>
                  </a:lnTo>
                  <a:lnTo>
                    <a:pt x="710" y="1114"/>
                  </a:lnTo>
                  <a:lnTo>
                    <a:pt x="777" y="1041"/>
                  </a:lnTo>
                  <a:lnTo>
                    <a:pt x="843" y="969"/>
                  </a:lnTo>
                  <a:lnTo>
                    <a:pt x="910" y="897"/>
                  </a:lnTo>
                  <a:lnTo>
                    <a:pt x="978" y="825"/>
                  </a:lnTo>
                  <a:lnTo>
                    <a:pt x="1042" y="753"/>
                  </a:lnTo>
                  <a:lnTo>
                    <a:pt x="1099" y="689"/>
                  </a:lnTo>
                  <a:lnTo>
                    <a:pt x="1150" y="633"/>
                  </a:lnTo>
                  <a:lnTo>
                    <a:pt x="1194" y="583"/>
                  </a:lnTo>
                  <a:lnTo>
                    <a:pt x="1233" y="540"/>
                  </a:lnTo>
                  <a:lnTo>
                    <a:pt x="1265" y="505"/>
                  </a:lnTo>
                  <a:lnTo>
                    <a:pt x="1289" y="476"/>
                  </a:lnTo>
                  <a:lnTo>
                    <a:pt x="1308" y="454"/>
                  </a:lnTo>
                  <a:lnTo>
                    <a:pt x="1352" y="401"/>
                  </a:lnTo>
                  <a:lnTo>
                    <a:pt x="1393" y="349"/>
                  </a:lnTo>
                  <a:lnTo>
                    <a:pt x="1430" y="300"/>
                  </a:lnTo>
                  <a:lnTo>
                    <a:pt x="1465" y="252"/>
                  </a:lnTo>
                  <a:lnTo>
                    <a:pt x="1497" y="206"/>
                  </a:lnTo>
                  <a:lnTo>
                    <a:pt x="1525" y="161"/>
                  </a:lnTo>
                  <a:lnTo>
                    <a:pt x="1551" y="119"/>
                  </a:lnTo>
                  <a:lnTo>
                    <a:pt x="1574" y="77"/>
                  </a:lnTo>
                  <a:lnTo>
                    <a:pt x="1576" y="70"/>
                  </a:lnTo>
                  <a:lnTo>
                    <a:pt x="1577" y="64"/>
                  </a:lnTo>
                  <a:lnTo>
                    <a:pt x="1580" y="58"/>
                  </a:lnTo>
                  <a:lnTo>
                    <a:pt x="1582" y="51"/>
                  </a:lnTo>
                  <a:lnTo>
                    <a:pt x="1583" y="46"/>
                  </a:lnTo>
                  <a:lnTo>
                    <a:pt x="1585" y="39"/>
                  </a:lnTo>
                  <a:lnTo>
                    <a:pt x="1586" y="32"/>
                  </a:lnTo>
                  <a:lnTo>
                    <a:pt x="1588" y="27"/>
                  </a:lnTo>
                  <a:lnTo>
                    <a:pt x="1594" y="20"/>
                  </a:lnTo>
                  <a:lnTo>
                    <a:pt x="1602" y="16"/>
                  </a:lnTo>
                  <a:lnTo>
                    <a:pt x="1612" y="10"/>
                  </a:lnTo>
                  <a:lnTo>
                    <a:pt x="1623" y="7"/>
                  </a:lnTo>
                  <a:lnTo>
                    <a:pt x="1636" y="5"/>
                  </a:lnTo>
                  <a:lnTo>
                    <a:pt x="1650" y="3"/>
                  </a:lnTo>
                  <a:lnTo>
                    <a:pt x="1667" y="2"/>
                  </a:lnTo>
                  <a:lnTo>
                    <a:pt x="1684" y="0"/>
                  </a:lnTo>
                  <a:close/>
                  <a:moveTo>
                    <a:pt x="2586" y="1281"/>
                  </a:moveTo>
                  <a:lnTo>
                    <a:pt x="2045" y="400"/>
                  </a:lnTo>
                  <a:lnTo>
                    <a:pt x="1185" y="1315"/>
                  </a:lnTo>
                  <a:lnTo>
                    <a:pt x="2586" y="12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80320" y="1028520"/>
              <a:ext cx="1103040" cy="815760"/>
            </a:xfrm>
            <a:custGeom>
              <a:avLst/>
              <a:gdLst/>
              <a:ahLst/>
              <a:rect l="l" t="t" r="r" b="b"/>
              <a:pathLst>
                <a:path w="2781" h="2056">
                  <a:moveTo>
                    <a:pt x="117" y="476"/>
                  </a:moveTo>
                  <a:lnTo>
                    <a:pt x="117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4" y="213"/>
                  </a:lnTo>
                  <a:lnTo>
                    <a:pt x="111" y="169"/>
                  </a:lnTo>
                  <a:lnTo>
                    <a:pt x="109" y="134"/>
                  </a:lnTo>
                  <a:lnTo>
                    <a:pt x="107" y="106"/>
                  </a:lnTo>
                  <a:lnTo>
                    <a:pt x="104" y="86"/>
                  </a:lnTo>
                  <a:lnTo>
                    <a:pt x="104" y="84"/>
                  </a:lnTo>
                  <a:lnTo>
                    <a:pt x="103" y="81"/>
                  </a:lnTo>
                  <a:lnTo>
                    <a:pt x="101" y="78"/>
                  </a:lnTo>
                  <a:lnTo>
                    <a:pt x="99" y="75"/>
                  </a:lnTo>
                  <a:lnTo>
                    <a:pt x="97" y="71"/>
                  </a:lnTo>
                  <a:lnTo>
                    <a:pt x="94" y="67"/>
                  </a:lnTo>
                  <a:lnTo>
                    <a:pt x="90" y="63"/>
                  </a:lnTo>
                  <a:lnTo>
                    <a:pt x="86" y="59"/>
                  </a:lnTo>
                  <a:lnTo>
                    <a:pt x="83" y="54"/>
                  </a:lnTo>
                  <a:lnTo>
                    <a:pt x="78" y="50"/>
                  </a:lnTo>
                  <a:lnTo>
                    <a:pt x="76" y="46"/>
                  </a:lnTo>
                  <a:lnTo>
                    <a:pt x="74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69" y="38"/>
                  </a:lnTo>
                  <a:lnTo>
                    <a:pt x="69" y="35"/>
                  </a:lnTo>
                  <a:lnTo>
                    <a:pt x="71" y="31"/>
                  </a:lnTo>
                  <a:lnTo>
                    <a:pt x="72" y="28"/>
                  </a:lnTo>
                  <a:lnTo>
                    <a:pt x="74" y="23"/>
                  </a:lnTo>
                  <a:lnTo>
                    <a:pt x="76" y="20"/>
                  </a:lnTo>
                  <a:lnTo>
                    <a:pt x="80" y="17"/>
                  </a:lnTo>
                  <a:lnTo>
                    <a:pt x="85" y="14"/>
                  </a:lnTo>
                  <a:lnTo>
                    <a:pt x="90" y="11"/>
                  </a:lnTo>
                  <a:lnTo>
                    <a:pt x="96" y="9"/>
                  </a:lnTo>
                  <a:lnTo>
                    <a:pt x="111" y="6"/>
                  </a:lnTo>
                  <a:lnTo>
                    <a:pt x="129" y="2"/>
                  </a:lnTo>
                  <a:lnTo>
                    <a:pt x="151" y="1"/>
                  </a:lnTo>
                  <a:lnTo>
                    <a:pt x="175" y="0"/>
                  </a:lnTo>
                  <a:lnTo>
                    <a:pt x="181" y="0"/>
                  </a:lnTo>
                  <a:lnTo>
                    <a:pt x="188" y="1"/>
                  </a:lnTo>
                  <a:lnTo>
                    <a:pt x="195" y="1"/>
                  </a:lnTo>
                  <a:lnTo>
                    <a:pt x="204" y="1"/>
                  </a:lnTo>
                  <a:lnTo>
                    <a:pt x="213" y="2"/>
                  </a:lnTo>
                  <a:lnTo>
                    <a:pt x="223" y="3"/>
                  </a:lnTo>
                  <a:lnTo>
                    <a:pt x="234" y="3"/>
                  </a:lnTo>
                  <a:lnTo>
                    <a:pt x="245" y="5"/>
                  </a:lnTo>
                  <a:lnTo>
                    <a:pt x="256" y="6"/>
                  </a:lnTo>
                  <a:lnTo>
                    <a:pt x="267" y="7"/>
                  </a:lnTo>
                  <a:lnTo>
                    <a:pt x="278" y="7"/>
                  </a:lnTo>
                  <a:lnTo>
                    <a:pt x="287" y="8"/>
                  </a:lnTo>
                  <a:lnTo>
                    <a:pt x="296" y="8"/>
                  </a:lnTo>
                  <a:lnTo>
                    <a:pt x="303" y="8"/>
                  </a:lnTo>
                  <a:lnTo>
                    <a:pt x="311" y="8"/>
                  </a:lnTo>
                  <a:lnTo>
                    <a:pt x="318" y="9"/>
                  </a:lnTo>
                  <a:lnTo>
                    <a:pt x="337" y="8"/>
                  </a:lnTo>
                  <a:lnTo>
                    <a:pt x="356" y="8"/>
                  </a:lnTo>
                  <a:lnTo>
                    <a:pt x="379" y="8"/>
                  </a:lnTo>
                  <a:lnTo>
                    <a:pt x="404" y="8"/>
                  </a:lnTo>
                  <a:lnTo>
                    <a:pt x="430" y="7"/>
                  </a:lnTo>
                  <a:lnTo>
                    <a:pt x="459" y="7"/>
                  </a:lnTo>
                  <a:lnTo>
                    <a:pt x="490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6" y="3"/>
                  </a:lnTo>
                  <a:lnTo>
                    <a:pt x="615" y="2"/>
                  </a:lnTo>
                  <a:lnTo>
                    <a:pt x="640" y="1"/>
                  </a:lnTo>
                  <a:lnTo>
                    <a:pt x="664" y="1"/>
                  </a:lnTo>
                  <a:lnTo>
                    <a:pt x="687" y="1"/>
                  </a:lnTo>
                  <a:lnTo>
                    <a:pt x="706" y="0"/>
                  </a:lnTo>
                  <a:lnTo>
                    <a:pt x="724" y="0"/>
                  </a:lnTo>
                  <a:lnTo>
                    <a:pt x="822" y="1"/>
                  </a:lnTo>
                  <a:lnTo>
                    <a:pt x="918" y="2"/>
                  </a:lnTo>
                  <a:lnTo>
                    <a:pt x="1014" y="6"/>
                  </a:lnTo>
                  <a:lnTo>
                    <a:pt x="1107" y="9"/>
                  </a:lnTo>
                  <a:lnTo>
                    <a:pt x="1199" y="13"/>
                  </a:lnTo>
                  <a:lnTo>
                    <a:pt x="1288" y="19"/>
                  </a:lnTo>
                  <a:lnTo>
                    <a:pt x="1377" y="25"/>
                  </a:lnTo>
                  <a:lnTo>
                    <a:pt x="1463" y="33"/>
                  </a:lnTo>
                  <a:lnTo>
                    <a:pt x="1547" y="42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9" y="73"/>
                  </a:lnTo>
                  <a:lnTo>
                    <a:pt x="1867" y="86"/>
                  </a:lnTo>
                  <a:lnTo>
                    <a:pt x="1942" y="99"/>
                  </a:lnTo>
                  <a:lnTo>
                    <a:pt x="2016" y="115"/>
                  </a:lnTo>
                  <a:lnTo>
                    <a:pt x="2088" y="130"/>
                  </a:lnTo>
                  <a:lnTo>
                    <a:pt x="2131" y="140"/>
                  </a:lnTo>
                  <a:lnTo>
                    <a:pt x="2171" y="150"/>
                  </a:lnTo>
                  <a:lnTo>
                    <a:pt x="2211" y="161"/>
                  </a:lnTo>
                  <a:lnTo>
                    <a:pt x="2250" y="171"/>
                  </a:lnTo>
                  <a:lnTo>
                    <a:pt x="2287" y="182"/>
                  </a:lnTo>
                  <a:lnTo>
                    <a:pt x="2323" y="194"/>
                  </a:lnTo>
                  <a:lnTo>
                    <a:pt x="2358" y="205"/>
                  </a:lnTo>
                  <a:lnTo>
                    <a:pt x="2391" y="218"/>
                  </a:lnTo>
                  <a:lnTo>
                    <a:pt x="2423" y="230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10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5" y="307"/>
                  </a:lnTo>
                  <a:lnTo>
                    <a:pt x="2608" y="321"/>
                  </a:lnTo>
                  <a:lnTo>
                    <a:pt x="2628" y="336"/>
                  </a:lnTo>
                  <a:lnTo>
                    <a:pt x="2648" y="350"/>
                  </a:lnTo>
                  <a:lnTo>
                    <a:pt x="2666" y="364"/>
                  </a:lnTo>
                  <a:lnTo>
                    <a:pt x="2683" y="380"/>
                  </a:lnTo>
                  <a:lnTo>
                    <a:pt x="2698" y="394"/>
                  </a:lnTo>
                  <a:lnTo>
                    <a:pt x="2712" y="410"/>
                  </a:lnTo>
                  <a:lnTo>
                    <a:pt x="2726" y="426"/>
                  </a:lnTo>
                  <a:lnTo>
                    <a:pt x="2737" y="442"/>
                  </a:lnTo>
                  <a:lnTo>
                    <a:pt x="2748" y="458"/>
                  </a:lnTo>
                  <a:lnTo>
                    <a:pt x="2755" y="475"/>
                  </a:lnTo>
                  <a:lnTo>
                    <a:pt x="2763" y="491"/>
                  </a:lnTo>
                  <a:lnTo>
                    <a:pt x="2770" y="508"/>
                  </a:lnTo>
                  <a:lnTo>
                    <a:pt x="2774" y="525"/>
                  </a:lnTo>
                  <a:lnTo>
                    <a:pt x="2778" y="543"/>
                  </a:lnTo>
                  <a:lnTo>
                    <a:pt x="2780" y="561"/>
                  </a:lnTo>
                  <a:lnTo>
                    <a:pt x="2781" y="578"/>
                  </a:lnTo>
                  <a:lnTo>
                    <a:pt x="2780" y="597"/>
                  </a:lnTo>
                  <a:lnTo>
                    <a:pt x="2778" y="616"/>
                  </a:lnTo>
                  <a:lnTo>
                    <a:pt x="2775" y="636"/>
                  </a:lnTo>
                  <a:lnTo>
                    <a:pt x="2771" y="653"/>
                  </a:lnTo>
                  <a:lnTo>
                    <a:pt x="2765" y="672"/>
                  </a:lnTo>
                  <a:lnTo>
                    <a:pt x="2759" y="691"/>
                  </a:lnTo>
                  <a:lnTo>
                    <a:pt x="2752" y="710"/>
                  </a:lnTo>
                  <a:lnTo>
                    <a:pt x="2743" y="727"/>
                  </a:lnTo>
                  <a:lnTo>
                    <a:pt x="2733" y="745"/>
                  </a:lnTo>
                  <a:lnTo>
                    <a:pt x="2721" y="764"/>
                  </a:lnTo>
                  <a:lnTo>
                    <a:pt x="2709" y="781"/>
                  </a:lnTo>
                  <a:lnTo>
                    <a:pt x="2696" y="799"/>
                  </a:lnTo>
                  <a:lnTo>
                    <a:pt x="2681" y="816"/>
                  </a:lnTo>
                  <a:lnTo>
                    <a:pt x="2666" y="833"/>
                  </a:lnTo>
                  <a:lnTo>
                    <a:pt x="2648" y="851"/>
                  </a:lnTo>
                  <a:lnTo>
                    <a:pt x="2631" y="867"/>
                  </a:lnTo>
                  <a:lnTo>
                    <a:pt x="2611" y="885"/>
                  </a:lnTo>
                  <a:lnTo>
                    <a:pt x="2591" y="902"/>
                  </a:lnTo>
                  <a:lnTo>
                    <a:pt x="2569" y="918"/>
                  </a:lnTo>
                  <a:lnTo>
                    <a:pt x="2546" y="935"/>
                  </a:lnTo>
                  <a:lnTo>
                    <a:pt x="2523" y="951"/>
                  </a:lnTo>
                  <a:lnTo>
                    <a:pt x="2497" y="968"/>
                  </a:lnTo>
                  <a:lnTo>
                    <a:pt x="2471" y="983"/>
                  </a:lnTo>
                  <a:lnTo>
                    <a:pt x="2443" y="1000"/>
                  </a:lnTo>
                  <a:lnTo>
                    <a:pt x="2414" y="1015"/>
                  </a:lnTo>
                  <a:lnTo>
                    <a:pt x="2385" y="1031"/>
                  </a:lnTo>
                  <a:lnTo>
                    <a:pt x="2354" y="1046"/>
                  </a:lnTo>
                  <a:lnTo>
                    <a:pt x="2322" y="1062"/>
                  </a:lnTo>
                  <a:lnTo>
                    <a:pt x="2287" y="1077"/>
                  </a:lnTo>
                  <a:lnTo>
                    <a:pt x="2253" y="1093"/>
                  </a:lnTo>
                  <a:lnTo>
                    <a:pt x="2218" y="1108"/>
                  </a:lnTo>
                  <a:lnTo>
                    <a:pt x="2180" y="1122"/>
                  </a:lnTo>
                  <a:lnTo>
                    <a:pt x="2143" y="1138"/>
                  </a:lnTo>
                  <a:lnTo>
                    <a:pt x="2105" y="1151"/>
                  </a:lnTo>
                  <a:lnTo>
                    <a:pt x="2067" y="1165"/>
                  </a:lnTo>
                  <a:lnTo>
                    <a:pt x="2028" y="1179"/>
                  </a:lnTo>
                  <a:lnTo>
                    <a:pt x="1950" y="1204"/>
                  </a:lnTo>
                  <a:lnTo>
                    <a:pt x="1870" y="1227"/>
                  </a:lnTo>
                  <a:lnTo>
                    <a:pt x="1788" y="1248"/>
                  </a:lnTo>
                  <a:lnTo>
                    <a:pt x="1707" y="1268"/>
                  </a:lnTo>
                  <a:lnTo>
                    <a:pt x="1623" y="1286"/>
                  </a:lnTo>
                  <a:lnTo>
                    <a:pt x="1538" y="1301"/>
                  </a:lnTo>
                  <a:lnTo>
                    <a:pt x="1452" y="1316"/>
                  </a:lnTo>
                  <a:lnTo>
                    <a:pt x="1363" y="1328"/>
                  </a:lnTo>
                  <a:lnTo>
                    <a:pt x="1275" y="1338"/>
                  </a:lnTo>
                  <a:lnTo>
                    <a:pt x="1184" y="1345"/>
                  </a:lnTo>
                  <a:lnTo>
                    <a:pt x="1093" y="1352"/>
                  </a:lnTo>
                  <a:lnTo>
                    <a:pt x="999" y="1357"/>
                  </a:lnTo>
                  <a:lnTo>
                    <a:pt x="905" y="1360"/>
                  </a:lnTo>
                  <a:lnTo>
                    <a:pt x="809" y="1361"/>
                  </a:lnTo>
                  <a:lnTo>
                    <a:pt x="806" y="1384"/>
                  </a:lnTo>
                  <a:lnTo>
                    <a:pt x="804" y="1406"/>
                  </a:lnTo>
                  <a:lnTo>
                    <a:pt x="800" y="1427"/>
                  </a:lnTo>
                  <a:lnTo>
                    <a:pt x="799" y="1447"/>
                  </a:lnTo>
                  <a:lnTo>
                    <a:pt x="797" y="1466"/>
                  </a:lnTo>
                  <a:lnTo>
                    <a:pt x="796" y="1483"/>
                  </a:lnTo>
                  <a:lnTo>
                    <a:pt x="796" y="1500"/>
                  </a:lnTo>
                  <a:lnTo>
                    <a:pt x="796" y="1516"/>
                  </a:lnTo>
                  <a:lnTo>
                    <a:pt x="796" y="1555"/>
                  </a:lnTo>
                  <a:lnTo>
                    <a:pt x="796" y="1593"/>
                  </a:lnTo>
                  <a:lnTo>
                    <a:pt x="798" y="1628"/>
                  </a:lnTo>
                  <a:lnTo>
                    <a:pt x="799" y="1663"/>
                  </a:lnTo>
                  <a:lnTo>
                    <a:pt x="801" y="1696"/>
                  </a:lnTo>
                  <a:lnTo>
                    <a:pt x="805" y="1728"/>
                  </a:lnTo>
                  <a:lnTo>
                    <a:pt x="808" y="1759"/>
                  </a:lnTo>
                  <a:lnTo>
                    <a:pt x="812" y="1788"/>
                  </a:lnTo>
                  <a:lnTo>
                    <a:pt x="817" y="1815"/>
                  </a:lnTo>
                  <a:lnTo>
                    <a:pt x="821" y="1842"/>
                  </a:lnTo>
                  <a:lnTo>
                    <a:pt x="827" y="1867"/>
                  </a:lnTo>
                  <a:lnTo>
                    <a:pt x="832" y="1890"/>
                  </a:lnTo>
                  <a:lnTo>
                    <a:pt x="839" y="1913"/>
                  </a:lnTo>
                  <a:lnTo>
                    <a:pt x="846" y="1933"/>
                  </a:lnTo>
                  <a:lnTo>
                    <a:pt x="853" y="1953"/>
                  </a:lnTo>
                  <a:lnTo>
                    <a:pt x="861" y="1971"/>
                  </a:lnTo>
                  <a:lnTo>
                    <a:pt x="867" y="1982"/>
                  </a:lnTo>
                  <a:lnTo>
                    <a:pt x="871" y="1991"/>
                  </a:lnTo>
                  <a:lnTo>
                    <a:pt x="874" y="1999"/>
                  </a:lnTo>
                  <a:lnTo>
                    <a:pt x="878" y="2004"/>
                  </a:lnTo>
                  <a:lnTo>
                    <a:pt x="880" y="2009"/>
                  </a:lnTo>
                  <a:lnTo>
                    <a:pt x="881" y="2011"/>
                  </a:lnTo>
                  <a:lnTo>
                    <a:pt x="882" y="2012"/>
                  </a:lnTo>
                  <a:lnTo>
                    <a:pt x="882" y="2011"/>
                  </a:lnTo>
                  <a:lnTo>
                    <a:pt x="882" y="2016"/>
                  </a:lnTo>
                  <a:lnTo>
                    <a:pt x="880" y="2021"/>
                  </a:lnTo>
                  <a:lnTo>
                    <a:pt x="878" y="2026"/>
                  </a:lnTo>
                  <a:lnTo>
                    <a:pt x="873" y="2031"/>
                  </a:lnTo>
                  <a:lnTo>
                    <a:pt x="868" y="2034"/>
                  </a:lnTo>
                  <a:lnTo>
                    <a:pt x="861" y="2038"/>
                  </a:lnTo>
                  <a:lnTo>
                    <a:pt x="853" y="2042"/>
                  </a:lnTo>
                  <a:lnTo>
                    <a:pt x="844" y="2045"/>
                  </a:lnTo>
                  <a:lnTo>
                    <a:pt x="834" y="2047"/>
                  </a:lnTo>
                  <a:lnTo>
                    <a:pt x="823" y="2049"/>
                  </a:lnTo>
                  <a:lnTo>
                    <a:pt x="810" y="2052"/>
                  </a:lnTo>
                  <a:lnTo>
                    <a:pt x="797" y="2053"/>
                  </a:lnTo>
                  <a:lnTo>
                    <a:pt x="766" y="2055"/>
                  </a:lnTo>
                  <a:lnTo>
                    <a:pt x="731" y="2056"/>
                  </a:lnTo>
                  <a:lnTo>
                    <a:pt x="720" y="2056"/>
                  </a:lnTo>
                  <a:lnTo>
                    <a:pt x="709" y="2055"/>
                  </a:lnTo>
                  <a:lnTo>
                    <a:pt x="698" y="2054"/>
                  </a:lnTo>
                  <a:lnTo>
                    <a:pt x="685" y="2053"/>
                  </a:lnTo>
                  <a:lnTo>
                    <a:pt x="672" y="2052"/>
                  </a:lnTo>
                  <a:lnTo>
                    <a:pt x="658" y="2050"/>
                  </a:lnTo>
                  <a:lnTo>
                    <a:pt x="645" y="2048"/>
                  </a:lnTo>
                  <a:lnTo>
                    <a:pt x="629" y="2045"/>
                  </a:lnTo>
                  <a:lnTo>
                    <a:pt x="615" y="2043"/>
                  </a:lnTo>
                  <a:lnTo>
                    <a:pt x="602" y="2041"/>
                  </a:lnTo>
                  <a:lnTo>
                    <a:pt x="588" y="2039"/>
                  </a:lnTo>
                  <a:lnTo>
                    <a:pt x="577" y="2037"/>
                  </a:lnTo>
                  <a:lnTo>
                    <a:pt x="566" y="2036"/>
                  </a:lnTo>
                  <a:lnTo>
                    <a:pt x="557" y="2036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30" y="2035"/>
                  </a:lnTo>
                  <a:lnTo>
                    <a:pt x="523" y="2036"/>
                  </a:lnTo>
                  <a:lnTo>
                    <a:pt x="515" y="2036"/>
                  </a:lnTo>
                  <a:lnTo>
                    <a:pt x="508" y="2037"/>
                  </a:lnTo>
                  <a:lnTo>
                    <a:pt x="499" y="2037"/>
                  </a:lnTo>
                  <a:lnTo>
                    <a:pt x="489" y="2038"/>
                  </a:lnTo>
                  <a:lnTo>
                    <a:pt x="479" y="2039"/>
                  </a:lnTo>
                  <a:lnTo>
                    <a:pt x="469" y="2041"/>
                  </a:lnTo>
                  <a:lnTo>
                    <a:pt x="460" y="2042"/>
                  </a:lnTo>
                  <a:lnTo>
                    <a:pt x="451" y="2043"/>
                  </a:lnTo>
                  <a:lnTo>
                    <a:pt x="443" y="2044"/>
                  </a:lnTo>
                  <a:lnTo>
                    <a:pt x="436" y="2044"/>
                  </a:lnTo>
                  <a:lnTo>
                    <a:pt x="429" y="2044"/>
                  </a:lnTo>
                  <a:lnTo>
                    <a:pt x="423" y="2045"/>
                  </a:lnTo>
                  <a:lnTo>
                    <a:pt x="418" y="2045"/>
                  </a:lnTo>
                  <a:lnTo>
                    <a:pt x="396" y="2044"/>
                  </a:lnTo>
                  <a:lnTo>
                    <a:pt x="372" y="2043"/>
                  </a:lnTo>
                  <a:lnTo>
                    <a:pt x="344" y="2041"/>
                  </a:lnTo>
                  <a:lnTo>
                    <a:pt x="316" y="2037"/>
                  </a:lnTo>
                  <a:lnTo>
                    <a:pt x="285" y="2033"/>
                  </a:lnTo>
                  <a:lnTo>
                    <a:pt x="250" y="2027"/>
                  </a:lnTo>
                  <a:lnTo>
                    <a:pt x="214" y="2021"/>
                  </a:lnTo>
                  <a:lnTo>
                    <a:pt x="175" y="2013"/>
                  </a:lnTo>
                  <a:lnTo>
                    <a:pt x="135" y="2005"/>
                  </a:lnTo>
                  <a:lnTo>
                    <a:pt x="99" y="1996"/>
                  </a:lnTo>
                  <a:lnTo>
                    <a:pt x="69" y="1989"/>
                  </a:lnTo>
                  <a:lnTo>
                    <a:pt x="44" y="1981"/>
                  </a:lnTo>
                  <a:lnTo>
                    <a:pt x="25" y="1973"/>
                  </a:lnTo>
                  <a:lnTo>
                    <a:pt x="11" y="1965"/>
                  </a:lnTo>
                  <a:lnTo>
                    <a:pt x="6" y="1961"/>
                  </a:lnTo>
                  <a:lnTo>
                    <a:pt x="3" y="1958"/>
                  </a:lnTo>
                  <a:lnTo>
                    <a:pt x="1" y="1954"/>
                  </a:lnTo>
                  <a:lnTo>
                    <a:pt x="0" y="1951"/>
                  </a:lnTo>
                  <a:lnTo>
                    <a:pt x="1" y="1948"/>
                  </a:lnTo>
                  <a:lnTo>
                    <a:pt x="1" y="1946"/>
                  </a:lnTo>
                  <a:lnTo>
                    <a:pt x="2" y="1942"/>
                  </a:lnTo>
                  <a:lnTo>
                    <a:pt x="4" y="1939"/>
                  </a:lnTo>
                  <a:lnTo>
                    <a:pt x="6" y="1936"/>
                  </a:lnTo>
                  <a:lnTo>
                    <a:pt x="9" y="1931"/>
                  </a:lnTo>
                  <a:lnTo>
                    <a:pt x="12" y="1927"/>
                  </a:lnTo>
                  <a:lnTo>
                    <a:pt x="15" y="1922"/>
                  </a:lnTo>
                  <a:lnTo>
                    <a:pt x="20" y="1918"/>
                  </a:lnTo>
                  <a:lnTo>
                    <a:pt x="23" y="1915"/>
                  </a:lnTo>
                  <a:lnTo>
                    <a:pt x="25" y="1910"/>
                  </a:lnTo>
                  <a:lnTo>
                    <a:pt x="29" y="1907"/>
                  </a:lnTo>
                  <a:lnTo>
                    <a:pt x="31" y="1904"/>
                  </a:lnTo>
                  <a:lnTo>
                    <a:pt x="32" y="1901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9" y="1876"/>
                  </a:lnTo>
                  <a:lnTo>
                    <a:pt x="42" y="1850"/>
                  </a:lnTo>
                  <a:lnTo>
                    <a:pt x="45" y="1819"/>
                  </a:lnTo>
                  <a:lnTo>
                    <a:pt x="50" y="1781"/>
                  </a:lnTo>
                  <a:lnTo>
                    <a:pt x="57" y="1691"/>
                  </a:lnTo>
                  <a:lnTo>
                    <a:pt x="65" y="1578"/>
                  </a:lnTo>
                  <a:lnTo>
                    <a:pt x="74" y="1444"/>
                  </a:lnTo>
                  <a:lnTo>
                    <a:pt x="84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1"/>
                  </a:lnTo>
                  <a:lnTo>
                    <a:pt x="109" y="778"/>
                  </a:lnTo>
                  <a:lnTo>
                    <a:pt x="111" y="720"/>
                  </a:lnTo>
                  <a:lnTo>
                    <a:pt x="114" y="664"/>
                  </a:lnTo>
                  <a:lnTo>
                    <a:pt x="115" y="613"/>
                  </a:lnTo>
                  <a:lnTo>
                    <a:pt x="116" y="563"/>
                  </a:lnTo>
                  <a:lnTo>
                    <a:pt x="117" y="518"/>
                  </a:lnTo>
                  <a:lnTo>
                    <a:pt x="117" y="476"/>
                  </a:lnTo>
                  <a:close/>
                  <a:moveTo>
                    <a:pt x="1382" y="212"/>
                  </a:moveTo>
                  <a:lnTo>
                    <a:pt x="1335" y="212"/>
                  </a:lnTo>
                  <a:lnTo>
                    <a:pt x="1289" y="212"/>
                  </a:lnTo>
                  <a:lnTo>
                    <a:pt x="1245" y="213"/>
                  </a:lnTo>
                  <a:lnTo>
                    <a:pt x="1204" y="213"/>
                  </a:lnTo>
                  <a:lnTo>
                    <a:pt x="1165" y="214"/>
                  </a:lnTo>
                  <a:lnTo>
                    <a:pt x="1127" y="215"/>
                  </a:lnTo>
                  <a:lnTo>
                    <a:pt x="1092" y="216"/>
                  </a:lnTo>
                  <a:lnTo>
                    <a:pt x="1058" y="219"/>
                  </a:lnTo>
                  <a:lnTo>
                    <a:pt x="1023" y="221"/>
                  </a:lnTo>
                  <a:lnTo>
                    <a:pt x="993" y="222"/>
                  </a:lnTo>
                  <a:lnTo>
                    <a:pt x="966" y="225"/>
                  </a:lnTo>
                  <a:lnTo>
                    <a:pt x="942" y="227"/>
                  </a:lnTo>
                  <a:lnTo>
                    <a:pt x="920" y="231"/>
                  </a:lnTo>
                  <a:lnTo>
                    <a:pt x="902" y="235"/>
                  </a:lnTo>
                  <a:lnTo>
                    <a:pt x="887" y="238"/>
                  </a:lnTo>
                  <a:lnTo>
                    <a:pt x="875" y="243"/>
                  </a:lnTo>
                  <a:lnTo>
                    <a:pt x="865" y="247"/>
                  </a:lnTo>
                  <a:lnTo>
                    <a:pt x="857" y="254"/>
                  </a:lnTo>
                  <a:lnTo>
                    <a:pt x="849" y="262"/>
                  </a:lnTo>
                  <a:lnTo>
                    <a:pt x="842" y="270"/>
                  </a:lnTo>
                  <a:lnTo>
                    <a:pt x="836" y="280"/>
                  </a:lnTo>
                  <a:lnTo>
                    <a:pt x="831" y="291"/>
                  </a:lnTo>
                  <a:lnTo>
                    <a:pt x="827" y="304"/>
                  </a:lnTo>
                  <a:lnTo>
                    <a:pt x="823" y="317"/>
                  </a:lnTo>
                  <a:lnTo>
                    <a:pt x="812" y="412"/>
                  </a:lnTo>
                  <a:lnTo>
                    <a:pt x="802" y="510"/>
                  </a:lnTo>
                  <a:lnTo>
                    <a:pt x="795" y="610"/>
                  </a:lnTo>
                  <a:lnTo>
                    <a:pt x="787" y="715"/>
                  </a:lnTo>
                  <a:lnTo>
                    <a:pt x="783" y="822"/>
                  </a:lnTo>
                  <a:lnTo>
                    <a:pt x="778" y="933"/>
                  </a:lnTo>
                  <a:lnTo>
                    <a:pt x="776" y="1046"/>
                  </a:lnTo>
                  <a:lnTo>
                    <a:pt x="775" y="1162"/>
                  </a:lnTo>
                  <a:lnTo>
                    <a:pt x="776" y="1168"/>
                  </a:lnTo>
                  <a:lnTo>
                    <a:pt x="777" y="1173"/>
                  </a:lnTo>
                  <a:lnTo>
                    <a:pt x="779" y="1179"/>
                  </a:lnTo>
                  <a:lnTo>
                    <a:pt x="782" y="1183"/>
                  </a:lnTo>
                  <a:lnTo>
                    <a:pt x="786" y="1188"/>
                  </a:lnTo>
                  <a:lnTo>
                    <a:pt x="790" y="1191"/>
                  </a:lnTo>
                  <a:lnTo>
                    <a:pt x="796" y="1194"/>
                  </a:lnTo>
                  <a:lnTo>
                    <a:pt x="802" y="1197"/>
                  </a:lnTo>
                  <a:lnTo>
                    <a:pt x="809" y="1201"/>
                  </a:lnTo>
                  <a:lnTo>
                    <a:pt x="817" y="1203"/>
                  </a:lnTo>
                  <a:lnTo>
                    <a:pt x="826" y="1205"/>
                  </a:lnTo>
                  <a:lnTo>
                    <a:pt x="836" y="1206"/>
                  </a:lnTo>
                  <a:lnTo>
                    <a:pt x="858" y="1208"/>
                  </a:lnTo>
                  <a:lnTo>
                    <a:pt x="882" y="1210"/>
                  </a:lnTo>
                  <a:lnTo>
                    <a:pt x="926" y="1208"/>
                  </a:lnTo>
                  <a:lnTo>
                    <a:pt x="971" y="1206"/>
                  </a:lnTo>
                  <a:lnTo>
                    <a:pt x="1020" y="1201"/>
                  </a:lnTo>
                  <a:lnTo>
                    <a:pt x="1070" y="1194"/>
                  </a:lnTo>
                  <a:lnTo>
                    <a:pt x="1123" y="1186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50"/>
                  </a:lnTo>
                  <a:lnTo>
                    <a:pt x="1342" y="1138"/>
                  </a:lnTo>
                  <a:lnTo>
                    <a:pt x="1390" y="1125"/>
                  </a:lnTo>
                  <a:lnTo>
                    <a:pt x="1435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5" y="1069"/>
                  </a:lnTo>
                  <a:lnTo>
                    <a:pt x="1606" y="1054"/>
                  </a:lnTo>
                  <a:lnTo>
                    <a:pt x="1646" y="1039"/>
                  </a:lnTo>
                  <a:lnTo>
                    <a:pt x="1685" y="1023"/>
                  </a:lnTo>
                  <a:lnTo>
                    <a:pt x="1722" y="1007"/>
                  </a:lnTo>
                  <a:lnTo>
                    <a:pt x="1760" y="989"/>
                  </a:lnTo>
                  <a:lnTo>
                    <a:pt x="1795" y="971"/>
                  </a:lnTo>
                  <a:lnTo>
                    <a:pt x="1829" y="954"/>
                  </a:lnTo>
                  <a:lnTo>
                    <a:pt x="1862" y="935"/>
                  </a:lnTo>
                  <a:lnTo>
                    <a:pt x="1894" y="916"/>
                  </a:lnTo>
                  <a:lnTo>
                    <a:pt x="1925" y="896"/>
                  </a:lnTo>
                  <a:lnTo>
                    <a:pt x="1955" y="876"/>
                  </a:lnTo>
                  <a:lnTo>
                    <a:pt x="1984" y="855"/>
                  </a:lnTo>
                  <a:lnTo>
                    <a:pt x="2010" y="834"/>
                  </a:lnTo>
                  <a:lnTo>
                    <a:pt x="2035" y="813"/>
                  </a:lnTo>
                  <a:lnTo>
                    <a:pt x="2058" y="792"/>
                  </a:lnTo>
                  <a:lnTo>
                    <a:pt x="2079" y="773"/>
                  </a:lnTo>
                  <a:lnTo>
                    <a:pt x="2097" y="752"/>
                  </a:lnTo>
                  <a:lnTo>
                    <a:pt x="2115" y="730"/>
                  </a:lnTo>
                  <a:lnTo>
                    <a:pt x="2131" y="709"/>
                  </a:lnTo>
                  <a:lnTo>
                    <a:pt x="2144" y="688"/>
                  </a:lnTo>
                  <a:lnTo>
                    <a:pt x="2156" y="667"/>
                  </a:lnTo>
                  <a:lnTo>
                    <a:pt x="2166" y="646"/>
                  </a:lnTo>
                  <a:lnTo>
                    <a:pt x="2174" y="624"/>
                  </a:lnTo>
                  <a:lnTo>
                    <a:pt x="2180" y="603"/>
                  </a:lnTo>
                  <a:lnTo>
                    <a:pt x="2185" y="581"/>
                  </a:lnTo>
                  <a:lnTo>
                    <a:pt x="2188" y="560"/>
                  </a:lnTo>
                  <a:lnTo>
                    <a:pt x="2188" y="533"/>
                  </a:lnTo>
                  <a:lnTo>
                    <a:pt x="2188" y="513"/>
                  </a:lnTo>
                  <a:lnTo>
                    <a:pt x="2187" y="494"/>
                  </a:lnTo>
                  <a:lnTo>
                    <a:pt x="2184" y="476"/>
                  </a:lnTo>
                  <a:lnTo>
                    <a:pt x="2179" y="458"/>
                  </a:lnTo>
                  <a:lnTo>
                    <a:pt x="2174" y="440"/>
                  </a:lnTo>
                  <a:lnTo>
                    <a:pt x="2166" y="424"/>
                  </a:lnTo>
                  <a:lnTo>
                    <a:pt x="2156" y="408"/>
                  </a:lnTo>
                  <a:lnTo>
                    <a:pt x="2145" y="393"/>
                  </a:lnTo>
                  <a:lnTo>
                    <a:pt x="2133" y="378"/>
                  </a:lnTo>
                  <a:lnTo>
                    <a:pt x="2117" y="363"/>
                  </a:lnTo>
                  <a:lnTo>
                    <a:pt x="2102" y="350"/>
                  </a:lnTo>
                  <a:lnTo>
                    <a:pt x="2084" y="338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1" y="302"/>
                  </a:lnTo>
                  <a:lnTo>
                    <a:pt x="1997" y="293"/>
                  </a:lnTo>
                  <a:lnTo>
                    <a:pt x="1971" y="283"/>
                  </a:lnTo>
                  <a:lnTo>
                    <a:pt x="1943" y="273"/>
                  </a:lnTo>
                  <a:lnTo>
                    <a:pt x="1913" y="265"/>
                  </a:lnTo>
                  <a:lnTo>
                    <a:pt x="1882" y="257"/>
                  </a:lnTo>
                  <a:lnTo>
                    <a:pt x="1850" y="250"/>
                  </a:lnTo>
                  <a:lnTo>
                    <a:pt x="1816" y="243"/>
                  </a:lnTo>
                  <a:lnTo>
                    <a:pt x="1780" y="237"/>
                  </a:lnTo>
                  <a:lnTo>
                    <a:pt x="1742" y="232"/>
                  </a:lnTo>
                  <a:lnTo>
                    <a:pt x="1703" y="227"/>
                  </a:lnTo>
                  <a:lnTo>
                    <a:pt x="1662" y="223"/>
                  </a:lnTo>
                  <a:lnTo>
                    <a:pt x="1619" y="220"/>
                  </a:lnTo>
                  <a:lnTo>
                    <a:pt x="1575" y="216"/>
                  </a:lnTo>
                  <a:lnTo>
                    <a:pt x="1530" y="214"/>
                  </a:lnTo>
                  <a:lnTo>
                    <a:pt x="1483" y="213"/>
                  </a:lnTo>
                  <a:lnTo>
                    <a:pt x="1433" y="212"/>
                  </a:lnTo>
                  <a:lnTo>
                    <a:pt x="1382" y="2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62440" y="1373040"/>
              <a:ext cx="172800" cy="172800"/>
            </a:xfrm>
            <a:custGeom>
              <a:avLst/>
              <a:gdLst/>
              <a:ahLst/>
              <a:rect l="l" t="t" r="r" b="b"/>
              <a:pathLst>
                <a:path w="438" h="438">
                  <a:moveTo>
                    <a:pt x="218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3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8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8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8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3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8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4" y="434"/>
                  </a:lnTo>
                  <a:lnTo>
                    <a:pt x="153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6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6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3" y="10"/>
                  </a:lnTo>
                  <a:lnTo>
                    <a:pt x="174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3000" y="1373040"/>
              <a:ext cx="17316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20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5" y="27"/>
                  </a:lnTo>
                  <a:lnTo>
                    <a:pt x="342" y="38"/>
                  </a:lnTo>
                  <a:lnTo>
                    <a:pt x="360" y="50"/>
                  </a:lnTo>
                  <a:lnTo>
                    <a:pt x="375" y="64"/>
                  </a:lnTo>
                  <a:lnTo>
                    <a:pt x="390" y="80"/>
                  </a:lnTo>
                  <a:lnTo>
                    <a:pt x="402" y="96"/>
                  </a:lnTo>
                  <a:lnTo>
                    <a:pt x="413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6"/>
                  </a:lnTo>
                  <a:lnTo>
                    <a:pt x="438" y="197"/>
                  </a:lnTo>
                  <a:lnTo>
                    <a:pt x="439" y="208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4"/>
                  </a:lnTo>
                  <a:lnTo>
                    <a:pt x="402" y="342"/>
                  </a:lnTo>
                  <a:lnTo>
                    <a:pt x="390" y="359"/>
                  </a:lnTo>
                  <a:lnTo>
                    <a:pt x="375" y="374"/>
                  </a:lnTo>
                  <a:lnTo>
                    <a:pt x="360" y="389"/>
                  </a:lnTo>
                  <a:lnTo>
                    <a:pt x="342" y="401"/>
                  </a:lnTo>
                  <a:lnTo>
                    <a:pt x="325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20" y="438"/>
                  </a:lnTo>
                  <a:lnTo>
                    <a:pt x="209" y="438"/>
                  </a:lnTo>
                  <a:lnTo>
                    <a:pt x="198" y="437"/>
                  </a:lnTo>
                  <a:lnTo>
                    <a:pt x="187" y="436"/>
                  </a:lnTo>
                  <a:lnTo>
                    <a:pt x="176" y="434"/>
                  </a:lnTo>
                  <a:lnTo>
                    <a:pt x="155" y="429"/>
                  </a:lnTo>
                  <a:lnTo>
                    <a:pt x="135" y="422"/>
                  </a:lnTo>
                  <a:lnTo>
                    <a:pt x="116" y="412"/>
                  </a:lnTo>
                  <a:lnTo>
                    <a:pt x="97" y="401"/>
                  </a:lnTo>
                  <a:lnTo>
                    <a:pt x="81" y="389"/>
                  </a:lnTo>
                  <a:lnTo>
                    <a:pt x="65" y="374"/>
                  </a:lnTo>
                  <a:lnTo>
                    <a:pt x="51" y="359"/>
                  </a:lnTo>
                  <a:lnTo>
                    <a:pt x="38" y="342"/>
                  </a:lnTo>
                  <a:lnTo>
                    <a:pt x="27" y="324"/>
                  </a:lnTo>
                  <a:lnTo>
                    <a:pt x="18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3" y="253"/>
                  </a:lnTo>
                  <a:lnTo>
                    <a:pt x="1" y="242"/>
                  </a:lnTo>
                  <a:lnTo>
                    <a:pt x="1" y="231"/>
                  </a:lnTo>
                  <a:lnTo>
                    <a:pt x="0" y="220"/>
                  </a:lnTo>
                  <a:lnTo>
                    <a:pt x="1" y="208"/>
                  </a:lnTo>
                  <a:lnTo>
                    <a:pt x="1" y="197"/>
                  </a:lnTo>
                  <a:lnTo>
                    <a:pt x="3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8" y="134"/>
                  </a:lnTo>
                  <a:lnTo>
                    <a:pt x="27" y="115"/>
                  </a:lnTo>
                  <a:lnTo>
                    <a:pt x="38" y="96"/>
                  </a:lnTo>
                  <a:lnTo>
                    <a:pt x="51" y="80"/>
                  </a:lnTo>
                  <a:lnTo>
                    <a:pt x="65" y="64"/>
                  </a:lnTo>
                  <a:lnTo>
                    <a:pt x="81" y="50"/>
                  </a:lnTo>
                  <a:lnTo>
                    <a:pt x="97" y="38"/>
                  </a:lnTo>
                  <a:lnTo>
                    <a:pt x="116" y="27"/>
                  </a:lnTo>
                  <a:lnTo>
                    <a:pt x="135" y="17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7" y="3"/>
                  </a:lnTo>
                  <a:lnTo>
                    <a:pt x="198" y="1"/>
                  </a:lnTo>
                  <a:lnTo>
                    <a:pt x="209" y="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454800" y="1373040"/>
              <a:ext cx="17460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19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9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4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9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5" y="434"/>
                  </a:lnTo>
                  <a:lnTo>
                    <a:pt x="154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7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19200" y="990720"/>
              <a:ext cx="1338480" cy="815760"/>
            </a:xfrm>
            <a:custGeom>
              <a:avLst/>
              <a:gdLst/>
              <a:ahLst/>
              <a:rect l="l" t="t" r="r" b="b"/>
              <a:pathLst>
                <a:path w="3371" h="2056">
                  <a:moveTo>
                    <a:pt x="140" y="120"/>
                  </a:moveTo>
                  <a:lnTo>
                    <a:pt x="140" y="118"/>
                  </a:lnTo>
                  <a:lnTo>
                    <a:pt x="139" y="116"/>
                  </a:lnTo>
                  <a:lnTo>
                    <a:pt x="136" y="115"/>
                  </a:lnTo>
                  <a:lnTo>
                    <a:pt x="133" y="113"/>
                  </a:lnTo>
                  <a:lnTo>
                    <a:pt x="130" y="110"/>
                  </a:lnTo>
                  <a:lnTo>
                    <a:pt x="124" y="108"/>
                  </a:lnTo>
                  <a:lnTo>
                    <a:pt x="119" y="105"/>
                  </a:lnTo>
                  <a:lnTo>
                    <a:pt x="113" y="103"/>
                  </a:lnTo>
                  <a:lnTo>
                    <a:pt x="107" y="100"/>
                  </a:lnTo>
                  <a:lnTo>
                    <a:pt x="101" y="98"/>
                  </a:lnTo>
                  <a:lnTo>
                    <a:pt x="96" y="96"/>
                  </a:lnTo>
                  <a:lnTo>
                    <a:pt x="92" y="93"/>
                  </a:lnTo>
                  <a:lnTo>
                    <a:pt x="89" y="90"/>
                  </a:lnTo>
                  <a:lnTo>
                    <a:pt x="87" y="88"/>
                  </a:lnTo>
                  <a:lnTo>
                    <a:pt x="86" y="86"/>
                  </a:lnTo>
                  <a:lnTo>
                    <a:pt x="85" y="85"/>
                  </a:lnTo>
                  <a:lnTo>
                    <a:pt x="85" y="77"/>
                  </a:lnTo>
                  <a:lnTo>
                    <a:pt x="86" y="72"/>
                  </a:lnTo>
                  <a:lnTo>
                    <a:pt x="87" y="66"/>
                  </a:lnTo>
                  <a:lnTo>
                    <a:pt x="88" y="61"/>
                  </a:lnTo>
                  <a:lnTo>
                    <a:pt x="90" y="56"/>
                  </a:lnTo>
                  <a:lnTo>
                    <a:pt x="92" y="53"/>
                  </a:lnTo>
                  <a:lnTo>
                    <a:pt x="96" y="50"/>
                  </a:lnTo>
                  <a:lnTo>
                    <a:pt x="99" y="47"/>
                  </a:lnTo>
                  <a:lnTo>
                    <a:pt x="103" y="45"/>
                  </a:lnTo>
                  <a:lnTo>
                    <a:pt x="110" y="43"/>
                  </a:lnTo>
                  <a:lnTo>
                    <a:pt x="118" y="41"/>
                  </a:lnTo>
                  <a:lnTo>
                    <a:pt x="128" y="38"/>
                  </a:lnTo>
                  <a:lnTo>
                    <a:pt x="152" y="33"/>
                  </a:lnTo>
                  <a:lnTo>
                    <a:pt x="183" y="29"/>
                  </a:lnTo>
                  <a:lnTo>
                    <a:pt x="220" y="24"/>
                  </a:lnTo>
                  <a:lnTo>
                    <a:pt x="263" y="20"/>
                  </a:lnTo>
                  <a:lnTo>
                    <a:pt x="314" y="17"/>
                  </a:lnTo>
                  <a:lnTo>
                    <a:pt x="370" y="12"/>
                  </a:lnTo>
                  <a:lnTo>
                    <a:pt x="419" y="9"/>
                  </a:lnTo>
                  <a:lnTo>
                    <a:pt x="464" y="7"/>
                  </a:lnTo>
                  <a:lnTo>
                    <a:pt x="507" y="4"/>
                  </a:lnTo>
                  <a:lnTo>
                    <a:pt x="548" y="3"/>
                  </a:lnTo>
                  <a:lnTo>
                    <a:pt x="586" y="2"/>
                  </a:lnTo>
                  <a:lnTo>
                    <a:pt x="621" y="1"/>
                  </a:lnTo>
                  <a:lnTo>
                    <a:pt x="654" y="0"/>
                  </a:lnTo>
                  <a:lnTo>
                    <a:pt x="685" y="0"/>
                  </a:lnTo>
                  <a:lnTo>
                    <a:pt x="790" y="0"/>
                  </a:lnTo>
                  <a:lnTo>
                    <a:pt x="898" y="2"/>
                  </a:lnTo>
                  <a:lnTo>
                    <a:pt x="1010" y="4"/>
                  </a:lnTo>
                  <a:lnTo>
                    <a:pt x="1126" y="8"/>
                  </a:lnTo>
                  <a:lnTo>
                    <a:pt x="1245" y="12"/>
                  </a:lnTo>
                  <a:lnTo>
                    <a:pt x="1366" y="18"/>
                  </a:lnTo>
                  <a:lnTo>
                    <a:pt x="1492" y="24"/>
                  </a:lnTo>
                  <a:lnTo>
                    <a:pt x="1621" y="31"/>
                  </a:lnTo>
                  <a:lnTo>
                    <a:pt x="1656" y="35"/>
                  </a:lnTo>
                  <a:lnTo>
                    <a:pt x="1693" y="40"/>
                  </a:lnTo>
                  <a:lnTo>
                    <a:pt x="1735" y="44"/>
                  </a:lnTo>
                  <a:lnTo>
                    <a:pt x="1780" y="50"/>
                  </a:lnTo>
                  <a:lnTo>
                    <a:pt x="1830" y="55"/>
                  </a:lnTo>
                  <a:lnTo>
                    <a:pt x="1884" y="62"/>
                  </a:lnTo>
                  <a:lnTo>
                    <a:pt x="1943" y="68"/>
                  </a:lnTo>
                  <a:lnTo>
                    <a:pt x="2004" y="75"/>
                  </a:lnTo>
                  <a:lnTo>
                    <a:pt x="2030" y="77"/>
                  </a:lnTo>
                  <a:lnTo>
                    <a:pt x="2058" y="81"/>
                  </a:lnTo>
                  <a:lnTo>
                    <a:pt x="2091" y="84"/>
                  </a:lnTo>
                  <a:lnTo>
                    <a:pt x="2125" y="88"/>
                  </a:lnTo>
                  <a:lnTo>
                    <a:pt x="2162" y="93"/>
                  </a:lnTo>
                  <a:lnTo>
                    <a:pt x="2203" y="97"/>
                  </a:lnTo>
                  <a:lnTo>
                    <a:pt x="2246" y="103"/>
                  </a:lnTo>
                  <a:lnTo>
                    <a:pt x="2294" y="109"/>
                  </a:lnTo>
                  <a:lnTo>
                    <a:pt x="2339" y="117"/>
                  </a:lnTo>
                  <a:lnTo>
                    <a:pt x="2385" y="127"/>
                  </a:lnTo>
                  <a:lnTo>
                    <a:pt x="2431" y="137"/>
                  </a:lnTo>
                  <a:lnTo>
                    <a:pt x="2476" y="148"/>
                  </a:lnTo>
                  <a:lnTo>
                    <a:pt x="2521" y="159"/>
                  </a:lnTo>
                  <a:lnTo>
                    <a:pt x="2566" y="171"/>
                  </a:lnTo>
                  <a:lnTo>
                    <a:pt x="2610" y="184"/>
                  </a:lnTo>
                  <a:lnTo>
                    <a:pt x="2655" y="198"/>
                  </a:lnTo>
                  <a:lnTo>
                    <a:pt x="2699" y="212"/>
                  </a:lnTo>
                  <a:lnTo>
                    <a:pt x="2743" y="227"/>
                  </a:lnTo>
                  <a:lnTo>
                    <a:pt x="2787" y="243"/>
                  </a:lnTo>
                  <a:lnTo>
                    <a:pt x="2831" y="259"/>
                  </a:lnTo>
                  <a:lnTo>
                    <a:pt x="2874" y="276"/>
                  </a:lnTo>
                  <a:lnTo>
                    <a:pt x="2917" y="295"/>
                  </a:lnTo>
                  <a:lnTo>
                    <a:pt x="2960" y="313"/>
                  </a:lnTo>
                  <a:lnTo>
                    <a:pt x="3004" y="332"/>
                  </a:lnTo>
                  <a:lnTo>
                    <a:pt x="3048" y="354"/>
                  </a:lnTo>
                  <a:lnTo>
                    <a:pt x="3090" y="375"/>
                  </a:lnTo>
                  <a:lnTo>
                    <a:pt x="3128" y="396"/>
                  </a:lnTo>
                  <a:lnTo>
                    <a:pt x="3165" y="417"/>
                  </a:lnTo>
                  <a:lnTo>
                    <a:pt x="3198" y="438"/>
                  </a:lnTo>
                  <a:lnTo>
                    <a:pt x="3228" y="458"/>
                  </a:lnTo>
                  <a:lnTo>
                    <a:pt x="3255" y="478"/>
                  </a:lnTo>
                  <a:lnTo>
                    <a:pt x="3280" y="498"/>
                  </a:lnTo>
                  <a:lnTo>
                    <a:pt x="3302" y="518"/>
                  </a:lnTo>
                  <a:lnTo>
                    <a:pt x="3320" y="537"/>
                  </a:lnTo>
                  <a:lnTo>
                    <a:pt x="3336" y="556"/>
                  </a:lnTo>
                  <a:lnTo>
                    <a:pt x="3349" y="576"/>
                  </a:lnTo>
                  <a:lnTo>
                    <a:pt x="3353" y="585"/>
                  </a:lnTo>
                  <a:lnTo>
                    <a:pt x="3359" y="595"/>
                  </a:lnTo>
                  <a:lnTo>
                    <a:pt x="3362" y="604"/>
                  </a:lnTo>
                  <a:lnTo>
                    <a:pt x="3366" y="612"/>
                  </a:lnTo>
                  <a:lnTo>
                    <a:pt x="3368" y="622"/>
                  </a:lnTo>
                  <a:lnTo>
                    <a:pt x="3370" y="631"/>
                  </a:lnTo>
                  <a:lnTo>
                    <a:pt x="3371" y="640"/>
                  </a:lnTo>
                  <a:lnTo>
                    <a:pt x="3371" y="649"/>
                  </a:lnTo>
                  <a:lnTo>
                    <a:pt x="3371" y="661"/>
                  </a:lnTo>
                  <a:lnTo>
                    <a:pt x="3370" y="672"/>
                  </a:lnTo>
                  <a:lnTo>
                    <a:pt x="3369" y="683"/>
                  </a:lnTo>
                  <a:lnTo>
                    <a:pt x="3367" y="694"/>
                  </a:lnTo>
                  <a:lnTo>
                    <a:pt x="3365" y="705"/>
                  </a:lnTo>
                  <a:lnTo>
                    <a:pt x="3361" y="716"/>
                  </a:lnTo>
                  <a:lnTo>
                    <a:pt x="3357" y="726"/>
                  </a:lnTo>
                  <a:lnTo>
                    <a:pt x="3352" y="737"/>
                  </a:lnTo>
                  <a:lnTo>
                    <a:pt x="3347" y="748"/>
                  </a:lnTo>
                  <a:lnTo>
                    <a:pt x="3341" y="758"/>
                  </a:lnTo>
                  <a:lnTo>
                    <a:pt x="3336" y="769"/>
                  </a:lnTo>
                  <a:lnTo>
                    <a:pt x="3328" y="779"/>
                  </a:lnTo>
                  <a:lnTo>
                    <a:pt x="3313" y="799"/>
                  </a:lnTo>
                  <a:lnTo>
                    <a:pt x="3295" y="820"/>
                  </a:lnTo>
                  <a:lnTo>
                    <a:pt x="3274" y="839"/>
                  </a:lnTo>
                  <a:lnTo>
                    <a:pt x="3252" y="859"/>
                  </a:lnTo>
                  <a:lnTo>
                    <a:pt x="3227" y="877"/>
                  </a:lnTo>
                  <a:lnTo>
                    <a:pt x="3199" y="896"/>
                  </a:lnTo>
                  <a:lnTo>
                    <a:pt x="3169" y="915"/>
                  </a:lnTo>
                  <a:lnTo>
                    <a:pt x="3137" y="932"/>
                  </a:lnTo>
                  <a:lnTo>
                    <a:pt x="3102" y="950"/>
                  </a:lnTo>
                  <a:lnTo>
                    <a:pt x="3064" y="967"/>
                  </a:lnTo>
                  <a:lnTo>
                    <a:pt x="3016" y="988"/>
                  </a:lnTo>
                  <a:lnTo>
                    <a:pt x="2960" y="1009"/>
                  </a:lnTo>
                  <a:lnTo>
                    <a:pt x="2899" y="1030"/>
                  </a:lnTo>
                  <a:lnTo>
                    <a:pt x="2831" y="1052"/>
                  </a:lnTo>
                  <a:lnTo>
                    <a:pt x="2756" y="1074"/>
                  </a:lnTo>
                  <a:lnTo>
                    <a:pt x="2676" y="1097"/>
                  </a:lnTo>
                  <a:lnTo>
                    <a:pt x="2587" y="1119"/>
                  </a:lnTo>
                  <a:lnTo>
                    <a:pt x="2493" y="1142"/>
                  </a:lnTo>
                  <a:lnTo>
                    <a:pt x="2422" y="1161"/>
                  </a:lnTo>
                  <a:lnTo>
                    <a:pt x="2359" y="1177"/>
                  </a:lnTo>
                  <a:lnTo>
                    <a:pt x="2306" y="1192"/>
                  </a:lnTo>
                  <a:lnTo>
                    <a:pt x="2263" y="1206"/>
                  </a:lnTo>
                  <a:lnTo>
                    <a:pt x="2245" y="1212"/>
                  </a:lnTo>
                  <a:lnTo>
                    <a:pt x="2230" y="1218"/>
                  </a:lnTo>
                  <a:lnTo>
                    <a:pt x="2216" y="1224"/>
                  </a:lnTo>
                  <a:lnTo>
                    <a:pt x="2205" y="1228"/>
                  </a:lnTo>
                  <a:lnTo>
                    <a:pt x="2198" y="1234"/>
                  </a:lnTo>
                  <a:lnTo>
                    <a:pt x="2191" y="1238"/>
                  </a:lnTo>
                  <a:lnTo>
                    <a:pt x="2188" y="1243"/>
                  </a:lnTo>
                  <a:lnTo>
                    <a:pt x="2187" y="1246"/>
                  </a:lnTo>
                  <a:lnTo>
                    <a:pt x="2188" y="1250"/>
                  </a:lnTo>
                  <a:lnTo>
                    <a:pt x="2193" y="1256"/>
                  </a:lnTo>
                  <a:lnTo>
                    <a:pt x="2202" y="1264"/>
                  </a:lnTo>
                  <a:lnTo>
                    <a:pt x="2213" y="1272"/>
                  </a:lnTo>
                  <a:lnTo>
                    <a:pt x="2247" y="1294"/>
                  </a:lnTo>
                  <a:lnTo>
                    <a:pt x="2295" y="1323"/>
                  </a:lnTo>
                  <a:lnTo>
                    <a:pt x="2355" y="1357"/>
                  </a:lnTo>
                  <a:lnTo>
                    <a:pt x="2431" y="1398"/>
                  </a:lnTo>
                  <a:lnTo>
                    <a:pt x="2519" y="1445"/>
                  </a:lnTo>
                  <a:lnTo>
                    <a:pt x="2620" y="1497"/>
                  </a:lnTo>
                  <a:lnTo>
                    <a:pt x="2716" y="1547"/>
                  </a:lnTo>
                  <a:lnTo>
                    <a:pt x="2805" y="1591"/>
                  </a:lnTo>
                  <a:lnTo>
                    <a:pt x="2884" y="1631"/>
                  </a:lnTo>
                  <a:lnTo>
                    <a:pt x="2956" y="1665"/>
                  </a:lnTo>
                  <a:lnTo>
                    <a:pt x="3018" y="1695"/>
                  </a:lnTo>
                  <a:lnTo>
                    <a:pt x="3072" y="1720"/>
                  </a:lnTo>
                  <a:lnTo>
                    <a:pt x="3118" y="1741"/>
                  </a:lnTo>
                  <a:lnTo>
                    <a:pt x="3155" y="1757"/>
                  </a:lnTo>
                  <a:lnTo>
                    <a:pt x="3168" y="1761"/>
                  </a:lnTo>
                  <a:lnTo>
                    <a:pt x="3182" y="1766"/>
                  </a:lnTo>
                  <a:lnTo>
                    <a:pt x="3200" y="1770"/>
                  </a:lnTo>
                  <a:lnTo>
                    <a:pt x="3220" y="1774"/>
                  </a:lnTo>
                  <a:lnTo>
                    <a:pt x="3242" y="1778"/>
                  </a:lnTo>
                  <a:lnTo>
                    <a:pt x="3266" y="1781"/>
                  </a:lnTo>
                  <a:lnTo>
                    <a:pt x="3294" y="1784"/>
                  </a:lnTo>
                  <a:lnTo>
                    <a:pt x="3324" y="1788"/>
                  </a:lnTo>
                  <a:lnTo>
                    <a:pt x="3292" y="1802"/>
                  </a:lnTo>
                  <a:lnTo>
                    <a:pt x="3260" y="1814"/>
                  </a:lnTo>
                  <a:lnTo>
                    <a:pt x="3229" y="1826"/>
                  </a:lnTo>
                  <a:lnTo>
                    <a:pt x="3199" y="1837"/>
                  </a:lnTo>
                  <a:lnTo>
                    <a:pt x="3169" y="1848"/>
                  </a:lnTo>
                  <a:lnTo>
                    <a:pt x="3140" y="1857"/>
                  </a:lnTo>
                  <a:lnTo>
                    <a:pt x="3113" y="1866"/>
                  </a:lnTo>
                  <a:lnTo>
                    <a:pt x="3085" y="1874"/>
                  </a:lnTo>
                  <a:lnTo>
                    <a:pt x="3059" y="1880"/>
                  </a:lnTo>
                  <a:lnTo>
                    <a:pt x="3033" y="1886"/>
                  </a:lnTo>
                  <a:lnTo>
                    <a:pt x="3008" y="1891"/>
                  </a:lnTo>
                  <a:lnTo>
                    <a:pt x="2984" y="1895"/>
                  </a:lnTo>
                  <a:lnTo>
                    <a:pt x="2959" y="1898"/>
                  </a:lnTo>
                  <a:lnTo>
                    <a:pt x="2937" y="1900"/>
                  </a:lnTo>
                  <a:lnTo>
                    <a:pt x="2914" y="1901"/>
                  </a:lnTo>
                  <a:lnTo>
                    <a:pt x="2893" y="1902"/>
                  </a:lnTo>
                  <a:lnTo>
                    <a:pt x="2869" y="1901"/>
                  </a:lnTo>
                  <a:lnTo>
                    <a:pt x="2845" y="1900"/>
                  </a:lnTo>
                  <a:lnTo>
                    <a:pt x="2821" y="1897"/>
                  </a:lnTo>
                  <a:lnTo>
                    <a:pt x="2797" y="1893"/>
                  </a:lnTo>
                  <a:lnTo>
                    <a:pt x="2774" y="1888"/>
                  </a:lnTo>
                  <a:lnTo>
                    <a:pt x="2751" y="1882"/>
                  </a:lnTo>
                  <a:lnTo>
                    <a:pt x="2728" y="1874"/>
                  </a:lnTo>
                  <a:lnTo>
                    <a:pt x="2703" y="1865"/>
                  </a:lnTo>
                  <a:lnTo>
                    <a:pt x="2583" y="1819"/>
                  </a:lnTo>
                  <a:lnTo>
                    <a:pt x="2448" y="1766"/>
                  </a:lnTo>
                  <a:lnTo>
                    <a:pt x="2298" y="1708"/>
                  </a:lnTo>
                  <a:lnTo>
                    <a:pt x="2134" y="1644"/>
                  </a:lnTo>
                  <a:lnTo>
                    <a:pt x="1954" y="1576"/>
                  </a:lnTo>
                  <a:lnTo>
                    <a:pt x="1759" y="1502"/>
                  </a:lnTo>
                  <a:lnTo>
                    <a:pt x="1550" y="1422"/>
                  </a:lnTo>
                  <a:lnTo>
                    <a:pt x="1325" y="1339"/>
                  </a:lnTo>
                  <a:lnTo>
                    <a:pt x="1253" y="1346"/>
                  </a:lnTo>
                  <a:lnTo>
                    <a:pt x="1180" y="1354"/>
                  </a:lnTo>
                  <a:lnTo>
                    <a:pt x="1108" y="1361"/>
                  </a:lnTo>
                  <a:lnTo>
                    <a:pt x="1036" y="1366"/>
                  </a:lnTo>
                  <a:lnTo>
                    <a:pt x="964" y="1371"/>
                  </a:lnTo>
                  <a:lnTo>
                    <a:pt x="894" y="1375"/>
                  </a:lnTo>
                  <a:lnTo>
                    <a:pt x="824" y="1378"/>
                  </a:lnTo>
                  <a:lnTo>
                    <a:pt x="754" y="1381"/>
                  </a:lnTo>
                  <a:lnTo>
                    <a:pt x="756" y="1436"/>
                  </a:lnTo>
                  <a:lnTo>
                    <a:pt x="758" y="1490"/>
                  </a:lnTo>
                  <a:lnTo>
                    <a:pt x="759" y="1543"/>
                  </a:lnTo>
                  <a:lnTo>
                    <a:pt x="761" y="1596"/>
                  </a:lnTo>
                  <a:lnTo>
                    <a:pt x="764" y="1648"/>
                  </a:lnTo>
                  <a:lnTo>
                    <a:pt x="766" y="1699"/>
                  </a:lnTo>
                  <a:lnTo>
                    <a:pt x="768" y="1750"/>
                  </a:lnTo>
                  <a:lnTo>
                    <a:pt x="770" y="1800"/>
                  </a:lnTo>
                  <a:lnTo>
                    <a:pt x="770" y="1815"/>
                  </a:lnTo>
                  <a:lnTo>
                    <a:pt x="770" y="1832"/>
                  </a:lnTo>
                  <a:lnTo>
                    <a:pt x="770" y="1850"/>
                  </a:lnTo>
                  <a:lnTo>
                    <a:pt x="771" y="1869"/>
                  </a:lnTo>
                  <a:lnTo>
                    <a:pt x="773" y="1890"/>
                  </a:lnTo>
                  <a:lnTo>
                    <a:pt x="775" y="1914"/>
                  </a:lnTo>
                  <a:lnTo>
                    <a:pt x="778" y="1938"/>
                  </a:lnTo>
                  <a:lnTo>
                    <a:pt x="781" y="1963"/>
                  </a:lnTo>
                  <a:lnTo>
                    <a:pt x="782" y="1965"/>
                  </a:lnTo>
                  <a:lnTo>
                    <a:pt x="783" y="1968"/>
                  </a:lnTo>
                  <a:lnTo>
                    <a:pt x="786" y="1970"/>
                  </a:lnTo>
                  <a:lnTo>
                    <a:pt x="788" y="1972"/>
                  </a:lnTo>
                  <a:lnTo>
                    <a:pt x="791" y="1974"/>
                  </a:lnTo>
                  <a:lnTo>
                    <a:pt x="793" y="1976"/>
                  </a:lnTo>
                  <a:lnTo>
                    <a:pt x="798" y="1979"/>
                  </a:lnTo>
                  <a:lnTo>
                    <a:pt x="801" y="1981"/>
                  </a:lnTo>
                  <a:lnTo>
                    <a:pt x="805" y="1983"/>
                  </a:lnTo>
                  <a:lnTo>
                    <a:pt x="809" y="1985"/>
                  </a:lnTo>
                  <a:lnTo>
                    <a:pt x="812" y="1989"/>
                  </a:lnTo>
                  <a:lnTo>
                    <a:pt x="814" y="1991"/>
                  </a:lnTo>
                  <a:lnTo>
                    <a:pt x="816" y="1994"/>
                  </a:lnTo>
                  <a:lnTo>
                    <a:pt x="818" y="1998"/>
                  </a:lnTo>
                  <a:lnTo>
                    <a:pt x="819" y="2002"/>
                  </a:lnTo>
                  <a:lnTo>
                    <a:pt x="819" y="2006"/>
                  </a:lnTo>
                  <a:lnTo>
                    <a:pt x="818" y="2008"/>
                  </a:lnTo>
                  <a:lnTo>
                    <a:pt x="815" y="2010"/>
                  </a:lnTo>
                  <a:lnTo>
                    <a:pt x="812" y="2012"/>
                  </a:lnTo>
                  <a:lnTo>
                    <a:pt x="807" y="2014"/>
                  </a:lnTo>
                  <a:lnTo>
                    <a:pt x="792" y="2018"/>
                  </a:lnTo>
                  <a:lnTo>
                    <a:pt x="771" y="2023"/>
                  </a:lnTo>
                  <a:lnTo>
                    <a:pt x="745" y="2026"/>
                  </a:lnTo>
                  <a:lnTo>
                    <a:pt x="712" y="2030"/>
                  </a:lnTo>
                  <a:lnTo>
                    <a:pt x="674" y="2035"/>
                  </a:lnTo>
                  <a:lnTo>
                    <a:pt x="629" y="2039"/>
                  </a:lnTo>
                  <a:lnTo>
                    <a:pt x="590" y="2044"/>
                  </a:lnTo>
                  <a:lnTo>
                    <a:pt x="554" y="2047"/>
                  </a:lnTo>
                  <a:lnTo>
                    <a:pt x="521" y="2049"/>
                  </a:lnTo>
                  <a:lnTo>
                    <a:pt x="490" y="2051"/>
                  </a:lnTo>
                  <a:lnTo>
                    <a:pt x="462" y="2054"/>
                  </a:lnTo>
                  <a:lnTo>
                    <a:pt x="437" y="2055"/>
                  </a:lnTo>
                  <a:lnTo>
                    <a:pt x="415" y="2056"/>
                  </a:lnTo>
                  <a:lnTo>
                    <a:pt x="395" y="2056"/>
                  </a:lnTo>
                  <a:lnTo>
                    <a:pt x="373" y="2056"/>
                  </a:lnTo>
                  <a:lnTo>
                    <a:pt x="348" y="2055"/>
                  </a:lnTo>
                  <a:lnTo>
                    <a:pt x="323" y="2054"/>
                  </a:lnTo>
                  <a:lnTo>
                    <a:pt x="295" y="2051"/>
                  </a:lnTo>
                  <a:lnTo>
                    <a:pt x="267" y="2048"/>
                  </a:lnTo>
                  <a:lnTo>
                    <a:pt x="236" y="2045"/>
                  </a:lnTo>
                  <a:lnTo>
                    <a:pt x="203" y="2042"/>
                  </a:lnTo>
                  <a:lnTo>
                    <a:pt x="168" y="2037"/>
                  </a:lnTo>
                  <a:lnTo>
                    <a:pt x="129" y="2030"/>
                  </a:lnTo>
                  <a:lnTo>
                    <a:pt x="94" y="2025"/>
                  </a:lnTo>
                  <a:lnTo>
                    <a:pt x="65" y="2018"/>
                  </a:lnTo>
                  <a:lnTo>
                    <a:pt x="41" y="2012"/>
                  </a:lnTo>
                  <a:lnTo>
                    <a:pt x="23" y="2005"/>
                  </a:lnTo>
                  <a:lnTo>
                    <a:pt x="9" y="1998"/>
                  </a:lnTo>
                  <a:lnTo>
                    <a:pt x="5" y="1995"/>
                  </a:lnTo>
                  <a:lnTo>
                    <a:pt x="2" y="1992"/>
                  </a:lnTo>
                  <a:lnTo>
                    <a:pt x="0" y="1989"/>
                  </a:lnTo>
                  <a:lnTo>
                    <a:pt x="0" y="1985"/>
                  </a:lnTo>
                  <a:lnTo>
                    <a:pt x="0" y="1990"/>
                  </a:lnTo>
                  <a:lnTo>
                    <a:pt x="0" y="1991"/>
                  </a:lnTo>
                  <a:lnTo>
                    <a:pt x="1" y="1989"/>
                  </a:lnTo>
                  <a:lnTo>
                    <a:pt x="2" y="1983"/>
                  </a:lnTo>
                  <a:lnTo>
                    <a:pt x="6" y="1961"/>
                  </a:lnTo>
                  <a:lnTo>
                    <a:pt x="12" y="1926"/>
                  </a:lnTo>
                  <a:lnTo>
                    <a:pt x="18" y="1877"/>
                  </a:lnTo>
                  <a:lnTo>
                    <a:pt x="26" y="1815"/>
                  </a:lnTo>
                  <a:lnTo>
                    <a:pt x="36" y="1739"/>
                  </a:lnTo>
                  <a:lnTo>
                    <a:pt x="47" y="1650"/>
                  </a:lnTo>
                  <a:lnTo>
                    <a:pt x="57" y="1577"/>
                  </a:lnTo>
                  <a:lnTo>
                    <a:pt x="66" y="1502"/>
                  </a:lnTo>
                  <a:lnTo>
                    <a:pt x="74" y="1426"/>
                  </a:lnTo>
                  <a:lnTo>
                    <a:pt x="81" y="1346"/>
                  </a:lnTo>
                  <a:lnTo>
                    <a:pt x="88" y="1266"/>
                  </a:lnTo>
                  <a:lnTo>
                    <a:pt x="94" y="1184"/>
                  </a:lnTo>
                  <a:lnTo>
                    <a:pt x="100" y="1099"/>
                  </a:lnTo>
                  <a:lnTo>
                    <a:pt x="106" y="1013"/>
                  </a:lnTo>
                  <a:lnTo>
                    <a:pt x="114" y="867"/>
                  </a:lnTo>
                  <a:lnTo>
                    <a:pt x="121" y="732"/>
                  </a:lnTo>
                  <a:lnTo>
                    <a:pt x="126" y="606"/>
                  </a:lnTo>
                  <a:lnTo>
                    <a:pt x="131" y="490"/>
                  </a:lnTo>
                  <a:lnTo>
                    <a:pt x="135" y="383"/>
                  </a:lnTo>
                  <a:lnTo>
                    <a:pt x="138" y="286"/>
                  </a:lnTo>
                  <a:lnTo>
                    <a:pt x="140" y="198"/>
                  </a:lnTo>
                  <a:lnTo>
                    <a:pt x="140" y="120"/>
                  </a:lnTo>
                  <a:close/>
                  <a:moveTo>
                    <a:pt x="1077" y="221"/>
                  </a:moveTo>
                  <a:lnTo>
                    <a:pt x="1056" y="221"/>
                  </a:lnTo>
                  <a:lnTo>
                    <a:pt x="1036" y="222"/>
                  </a:lnTo>
                  <a:lnTo>
                    <a:pt x="1017" y="224"/>
                  </a:lnTo>
                  <a:lnTo>
                    <a:pt x="1000" y="226"/>
                  </a:lnTo>
                  <a:lnTo>
                    <a:pt x="982" y="231"/>
                  </a:lnTo>
                  <a:lnTo>
                    <a:pt x="967" y="234"/>
                  </a:lnTo>
                  <a:lnTo>
                    <a:pt x="951" y="239"/>
                  </a:lnTo>
                  <a:lnTo>
                    <a:pt x="938" y="245"/>
                  </a:lnTo>
                  <a:lnTo>
                    <a:pt x="925" y="251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2" y="284"/>
                  </a:lnTo>
                  <a:lnTo>
                    <a:pt x="874" y="294"/>
                  </a:lnTo>
                  <a:lnTo>
                    <a:pt x="867" y="305"/>
                  </a:lnTo>
                  <a:lnTo>
                    <a:pt x="861" y="316"/>
                  </a:lnTo>
                  <a:lnTo>
                    <a:pt x="846" y="350"/>
                  </a:lnTo>
                  <a:lnTo>
                    <a:pt x="833" y="386"/>
                  </a:lnTo>
                  <a:lnTo>
                    <a:pt x="820" y="425"/>
                  </a:lnTo>
                  <a:lnTo>
                    <a:pt x="809" y="466"/>
                  </a:lnTo>
                  <a:lnTo>
                    <a:pt x="799" y="509"/>
                  </a:lnTo>
                  <a:lnTo>
                    <a:pt x="789" y="554"/>
                  </a:lnTo>
                  <a:lnTo>
                    <a:pt x="781" y="600"/>
                  </a:lnTo>
                  <a:lnTo>
                    <a:pt x="773" y="650"/>
                  </a:lnTo>
                  <a:lnTo>
                    <a:pt x="767" y="702"/>
                  </a:lnTo>
                  <a:lnTo>
                    <a:pt x="762" y="756"/>
                  </a:lnTo>
                  <a:lnTo>
                    <a:pt x="758" y="812"/>
                  </a:lnTo>
                  <a:lnTo>
                    <a:pt x="756" y="871"/>
                  </a:lnTo>
                  <a:lnTo>
                    <a:pt x="754" y="931"/>
                  </a:lnTo>
                  <a:lnTo>
                    <a:pt x="752" y="994"/>
                  </a:lnTo>
                  <a:lnTo>
                    <a:pt x="752" y="1059"/>
                  </a:lnTo>
                  <a:lnTo>
                    <a:pt x="754" y="1128"/>
                  </a:lnTo>
                  <a:lnTo>
                    <a:pt x="754" y="1200"/>
                  </a:lnTo>
                  <a:lnTo>
                    <a:pt x="840" y="1196"/>
                  </a:lnTo>
                  <a:lnTo>
                    <a:pt x="924" y="1192"/>
                  </a:lnTo>
                  <a:lnTo>
                    <a:pt x="1009" y="1186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1" y="1162"/>
                  </a:lnTo>
                  <a:lnTo>
                    <a:pt x="1344" y="1152"/>
                  </a:lnTo>
                  <a:lnTo>
                    <a:pt x="1428" y="1140"/>
                  </a:lnTo>
                  <a:lnTo>
                    <a:pt x="1511" y="1128"/>
                  </a:lnTo>
                  <a:lnTo>
                    <a:pt x="1594" y="1113"/>
                  </a:lnTo>
                  <a:lnTo>
                    <a:pt x="1677" y="1098"/>
                  </a:lnTo>
                  <a:lnTo>
                    <a:pt x="1759" y="1081"/>
                  </a:lnTo>
                  <a:lnTo>
                    <a:pt x="1841" y="1064"/>
                  </a:lnTo>
                  <a:lnTo>
                    <a:pt x="1923" y="1045"/>
                  </a:lnTo>
                  <a:lnTo>
                    <a:pt x="2004" y="1025"/>
                  </a:lnTo>
                  <a:lnTo>
                    <a:pt x="2086" y="1003"/>
                  </a:lnTo>
                  <a:lnTo>
                    <a:pt x="2176" y="979"/>
                  </a:lnTo>
                  <a:lnTo>
                    <a:pt x="2259" y="953"/>
                  </a:lnTo>
                  <a:lnTo>
                    <a:pt x="2299" y="940"/>
                  </a:lnTo>
                  <a:lnTo>
                    <a:pt x="2338" y="927"/>
                  </a:lnTo>
                  <a:lnTo>
                    <a:pt x="2375" y="915"/>
                  </a:lnTo>
                  <a:lnTo>
                    <a:pt x="2411" y="902"/>
                  </a:lnTo>
                  <a:lnTo>
                    <a:pt x="2445" y="888"/>
                  </a:lnTo>
                  <a:lnTo>
                    <a:pt x="2477" y="875"/>
                  </a:lnTo>
                  <a:lnTo>
                    <a:pt x="2508" y="862"/>
                  </a:lnTo>
                  <a:lnTo>
                    <a:pt x="2538" y="848"/>
                  </a:lnTo>
                  <a:lnTo>
                    <a:pt x="2566" y="834"/>
                  </a:lnTo>
                  <a:lnTo>
                    <a:pt x="2593" y="821"/>
                  </a:lnTo>
                  <a:lnTo>
                    <a:pt x="2618" y="807"/>
                  </a:lnTo>
                  <a:lnTo>
                    <a:pt x="2641" y="793"/>
                  </a:lnTo>
                  <a:lnTo>
                    <a:pt x="2665" y="779"/>
                  </a:lnTo>
                  <a:lnTo>
                    <a:pt x="2686" y="765"/>
                  </a:lnTo>
                  <a:lnTo>
                    <a:pt x="2704" y="750"/>
                  </a:lnTo>
                  <a:lnTo>
                    <a:pt x="2723" y="737"/>
                  </a:lnTo>
                  <a:lnTo>
                    <a:pt x="2740" y="723"/>
                  </a:lnTo>
                  <a:lnTo>
                    <a:pt x="2755" y="707"/>
                  </a:lnTo>
                  <a:lnTo>
                    <a:pt x="2768" y="693"/>
                  </a:lnTo>
                  <a:lnTo>
                    <a:pt x="2781" y="679"/>
                  </a:lnTo>
                  <a:lnTo>
                    <a:pt x="2792" y="664"/>
                  </a:lnTo>
                  <a:lnTo>
                    <a:pt x="2801" y="649"/>
                  </a:lnTo>
                  <a:lnTo>
                    <a:pt x="2809" y="635"/>
                  </a:lnTo>
                  <a:lnTo>
                    <a:pt x="2816" y="619"/>
                  </a:lnTo>
                  <a:lnTo>
                    <a:pt x="2820" y="604"/>
                  </a:lnTo>
                  <a:lnTo>
                    <a:pt x="2825" y="589"/>
                  </a:lnTo>
                  <a:lnTo>
                    <a:pt x="2827" y="574"/>
                  </a:lnTo>
                  <a:lnTo>
                    <a:pt x="2827" y="558"/>
                  </a:lnTo>
                  <a:lnTo>
                    <a:pt x="2827" y="544"/>
                  </a:lnTo>
                  <a:lnTo>
                    <a:pt x="2825" y="531"/>
                  </a:lnTo>
                  <a:lnTo>
                    <a:pt x="2821" y="518"/>
                  </a:lnTo>
                  <a:lnTo>
                    <a:pt x="2817" y="504"/>
                  </a:lnTo>
                  <a:lnTo>
                    <a:pt x="2811" y="492"/>
                  </a:lnTo>
                  <a:lnTo>
                    <a:pt x="2805" y="480"/>
                  </a:lnTo>
                  <a:lnTo>
                    <a:pt x="2796" y="468"/>
                  </a:lnTo>
                  <a:lnTo>
                    <a:pt x="2787" y="456"/>
                  </a:lnTo>
                  <a:lnTo>
                    <a:pt x="2776" y="445"/>
                  </a:lnTo>
                  <a:lnTo>
                    <a:pt x="2764" y="434"/>
                  </a:lnTo>
                  <a:lnTo>
                    <a:pt x="2751" y="423"/>
                  </a:lnTo>
                  <a:lnTo>
                    <a:pt x="2736" y="412"/>
                  </a:lnTo>
                  <a:lnTo>
                    <a:pt x="2721" y="402"/>
                  </a:lnTo>
                  <a:lnTo>
                    <a:pt x="2703" y="392"/>
                  </a:lnTo>
                  <a:lnTo>
                    <a:pt x="2686" y="382"/>
                  </a:lnTo>
                  <a:lnTo>
                    <a:pt x="2666" y="372"/>
                  </a:lnTo>
                  <a:lnTo>
                    <a:pt x="2645" y="363"/>
                  </a:lnTo>
                  <a:lnTo>
                    <a:pt x="2623" y="354"/>
                  </a:lnTo>
                  <a:lnTo>
                    <a:pt x="2599" y="345"/>
                  </a:lnTo>
                  <a:lnTo>
                    <a:pt x="2575" y="338"/>
                  </a:lnTo>
                  <a:lnTo>
                    <a:pt x="2550" y="329"/>
                  </a:lnTo>
                  <a:lnTo>
                    <a:pt x="2522" y="321"/>
                  </a:lnTo>
                  <a:lnTo>
                    <a:pt x="2495" y="315"/>
                  </a:lnTo>
                  <a:lnTo>
                    <a:pt x="2465" y="307"/>
                  </a:lnTo>
                  <a:lnTo>
                    <a:pt x="2402" y="294"/>
                  </a:lnTo>
                  <a:lnTo>
                    <a:pt x="2333" y="281"/>
                  </a:lnTo>
                  <a:lnTo>
                    <a:pt x="2261" y="270"/>
                  </a:lnTo>
                  <a:lnTo>
                    <a:pt x="2183" y="260"/>
                  </a:lnTo>
                  <a:lnTo>
                    <a:pt x="2138" y="256"/>
                  </a:lnTo>
                  <a:lnTo>
                    <a:pt x="2089" y="251"/>
                  </a:lnTo>
                  <a:lnTo>
                    <a:pt x="2038" y="247"/>
                  </a:lnTo>
                  <a:lnTo>
                    <a:pt x="1983" y="243"/>
                  </a:lnTo>
                  <a:lnTo>
                    <a:pt x="1864" y="236"/>
                  </a:lnTo>
                  <a:lnTo>
                    <a:pt x="1733" y="231"/>
                  </a:lnTo>
                  <a:lnTo>
                    <a:pt x="1588" y="226"/>
                  </a:lnTo>
                  <a:lnTo>
                    <a:pt x="1430" y="223"/>
                  </a:lnTo>
                  <a:lnTo>
                    <a:pt x="1260" y="222"/>
                  </a:lnTo>
                  <a:lnTo>
                    <a:pt x="1077" y="22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95520" y="1014120"/>
              <a:ext cx="1138320" cy="830160"/>
            </a:xfrm>
            <a:custGeom>
              <a:avLst/>
              <a:gdLst/>
              <a:ahLst/>
              <a:rect l="l" t="t" r="r" b="b"/>
              <a:pathLst>
                <a:path w="2869" h="2090">
                  <a:moveTo>
                    <a:pt x="82" y="175"/>
                  </a:moveTo>
                  <a:lnTo>
                    <a:pt x="81" y="167"/>
                  </a:lnTo>
                  <a:lnTo>
                    <a:pt x="80" y="159"/>
                  </a:lnTo>
                  <a:lnTo>
                    <a:pt x="77" y="150"/>
                  </a:lnTo>
                  <a:lnTo>
                    <a:pt x="73" y="141"/>
                  </a:lnTo>
                  <a:lnTo>
                    <a:pt x="66" y="131"/>
                  </a:lnTo>
                  <a:lnTo>
                    <a:pt x="59" y="120"/>
                  </a:lnTo>
                  <a:lnTo>
                    <a:pt x="50" y="110"/>
                  </a:lnTo>
                  <a:lnTo>
                    <a:pt x="42" y="98"/>
                  </a:lnTo>
                  <a:lnTo>
                    <a:pt x="32" y="88"/>
                  </a:lnTo>
                  <a:lnTo>
                    <a:pt x="24" y="78"/>
                  </a:lnTo>
                  <a:lnTo>
                    <a:pt x="16" y="69"/>
                  </a:lnTo>
                  <a:lnTo>
                    <a:pt x="11" y="61"/>
                  </a:lnTo>
                  <a:lnTo>
                    <a:pt x="6" y="55"/>
                  </a:lnTo>
                  <a:lnTo>
                    <a:pt x="3" y="49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6"/>
                  </a:lnTo>
                  <a:lnTo>
                    <a:pt x="3" y="32"/>
                  </a:lnTo>
                  <a:lnTo>
                    <a:pt x="6" y="27"/>
                  </a:lnTo>
                  <a:lnTo>
                    <a:pt x="12" y="23"/>
                  </a:lnTo>
                  <a:lnTo>
                    <a:pt x="17" y="20"/>
                  </a:lnTo>
                  <a:lnTo>
                    <a:pt x="25" y="16"/>
                  </a:lnTo>
                  <a:lnTo>
                    <a:pt x="35" y="13"/>
                  </a:lnTo>
                  <a:lnTo>
                    <a:pt x="45" y="10"/>
                  </a:lnTo>
                  <a:lnTo>
                    <a:pt x="70" y="5"/>
                  </a:lnTo>
                  <a:lnTo>
                    <a:pt x="101" y="2"/>
                  </a:lnTo>
                  <a:lnTo>
                    <a:pt x="138" y="1"/>
                  </a:lnTo>
                  <a:lnTo>
                    <a:pt x="179" y="0"/>
                  </a:lnTo>
                  <a:lnTo>
                    <a:pt x="333" y="0"/>
                  </a:lnTo>
                  <a:lnTo>
                    <a:pt x="480" y="1"/>
                  </a:lnTo>
                  <a:lnTo>
                    <a:pt x="618" y="1"/>
                  </a:lnTo>
                  <a:lnTo>
                    <a:pt x="747" y="1"/>
                  </a:lnTo>
                  <a:lnTo>
                    <a:pt x="869" y="2"/>
                  </a:lnTo>
                  <a:lnTo>
                    <a:pt x="981" y="3"/>
                  </a:lnTo>
                  <a:lnTo>
                    <a:pt x="1086" y="4"/>
                  </a:lnTo>
                  <a:lnTo>
                    <a:pt x="1182" y="5"/>
                  </a:lnTo>
                  <a:lnTo>
                    <a:pt x="1309" y="7"/>
                  </a:lnTo>
                  <a:lnTo>
                    <a:pt x="1448" y="10"/>
                  </a:lnTo>
                  <a:lnTo>
                    <a:pt x="1598" y="13"/>
                  </a:lnTo>
                  <a:lnTo>
                    <a:pt x="1762" y="16"/>
                  </a:lnTo>
                  <a:lnTo>
                    <a:pt x="1935" y="21"/>
                  </a:lnTo>
                  <a:lnTo>
                    <a:pt x="2122" y="25"/>
                  </a:lnTo>
                  <a:lnTo>
                    <a:pt x="2319" y="31"/>
                  </a:lnTo>
                  <a:lnTo>
                    <a:pt x="2529" y="36"/>
                  </a:lnTo>
                  <a:lnTo>
                    <a:pt x="2549" y="38"/>
                  </a:lnTo>
                  <a:lnTo>
                    <a:pt x="2569" y="39"/>
                  </a:lnTo>
                  <a:lnTo>
                    <a:pt x="2586" y="42"/>
                  </a:lnTo>
                  <a:lnTo>
                    <a:pt x="2603" y="45"/>
                  </a:lnTo>
                  <a:lnTo>
                    <a:pt x="2617" y="48"/>
                  </a:lnTo>
                  <a:lnTo>
                    <a:pt x="2632" y="52"/>
                  </a:lnTo>
                  <a:lnTo>
                    <a:pt x="2644" y="55"/>
                  </a:lnTo>
                  <a:lnTo>
                    <a:pt x="2656" y="59"/>
                  </a:lnTo>
                  <a:lnTo>
                    <a:pt x="2666" y="65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1"/>
                  </a:lnTo>
                  <a:lnTo>
                    <a:pt x="2692" y="87"/>
                  </a:lnTo>
                  <a:lnTo>
                    <a:pt x="2696" y="93"/>
                  </a:lnTo>
                  <a:lnTo>
                    <a:pt x="2697" y="101"/>
                  </a:lnTo>
                  <a:lnTo>
                    <a:pt x="2698" y="109"/>
                  </a:lnTo>
                  <a:lnTo>
                    <a:pt x="2697" y="114"/>
                  </a:lnTo>
                  <a:lnTo>
                    <a:pt x="2695" y="120"/>
                  </a:lnTo>
                  <a:lnTo>
                    <a:pt x="2691" y="125"/>
                  </a:lnTo>
                  <a:lnTo>
                    <a:pt x="2687" y="130"/>
                  </a:lnTo>
                  <a:lnTo>
                    <a:pt x="2680" y="135"/>
                  </a:lnTo>
                  <a:lnTo>
                    <a:pt x="2674" y="140"/>
                  </a:lnTo>
                  <a:lnTo>
                    <a:pt x="2664" y="143"/>
                  </a:lnTo>
                  <a:lnTo>
                    <a:pt x="2654" y="148"/>
                  </a:lnTo>
                  <a:lnTo>
                    <a:pt x="2643" y="151"/>
                  </a:lnTo>
                  <a:lnTo>
                    <a:pt x="2629" y="154"/>
                  </a:lnTo>
                  <a:lnTo>
                    <a:pt x="2615" y="157"/>
                  </a:lnTo>
                  <a:lnTo>
                    <a:pt x="2600" y="160"/>
                  </a:lnTo>
                  <a:lnTo>
                    <a:pt x="2563" y="164"/>
                  </a:lnTo>
                  <a:lnTo>
                    <a:pt x="2522" y="167"/>
                  </a:lnTo>
                  <a:lnTo>
                    <a:pt x="2456" y="172"/>
                  </a:lnTo>
                  <a:lnTo>
                    <a:pt x="2382" y="175"/>
                  </a:lnTo>
                  <a:lnTo>
                    <a:pt x="2303" y="178"/>
                  </a:lnTo>
                  <a:lnTo>
                    <a:pt x="2218" y="183"/>
                  </a:lnTo>
                  <a:lnTo>
                    <a:pt x="2125" y="186"/>
                  </a:lnTo>
                  <a:lnTo>
                    <a:pt x="2028" y="188"/>
                  </a:lnTo>
                  <a:lnTo>
                    <a:pt x="1923" y="192"/>
                  </a:lnTo>
                  <a:lnTo>
                    <a:pt x="1812" y="195"/>
                  </a:lnTo>
                  <a:lnTo>
                    <a:pt x="1688" y="197"/>
                  </a:lnTo>
                  <a:lnTo>
                    <a:pt x="1572" y="201"/>
                  </a:lnTo>
                  <a:lnTo>
                    <a:pt x="1467" y="203"/>
                  </a:lnTo>
                  <a:lnTo>
                    <a:pt x="1372" y="205"/>
                  </a:lnTo>
                  <a:lnTo>
                    <a:pt x="1288" y="208"/>
                  </a:lnTo>
                  <a:lnTo>
                    <a:pt x="1213" y="210"/>
                  </a:lnTo>
                  <a:lnTo>
                    <a:pt x="1148" y="213"/>
                  </a:lnTo>
                  <a:lnTo>
                    <a:pt x="1094" y="215"/>
                  </a:lnTo>
                  <a:lnTo>
                    <a:pt x="1047" y="218"/>
                  </a:lnTo>
                  <a:lnTo>
                    <a:pt x="1007" y="223"/>
                  </a:lnTo>
                  <a:lnTo>
                    <a:pt x="988" y="225"/>
                  </a:lnTo>
                  <a:lnTo>
                    <a:pt x="971" y="228"/>
                  </a:lnTo>
                  <a:lnTo>
                    <a:pt x="956" y="231"/>
                  </a:lnTo>
                  <a:lnTo>
                    <a:pt x="941" y="235"/>
                  </a:lnTo>
                  <a:lnTo>
                    <a:pt x="928" y="238"/>
                  </a:lnTo>
                  <a:lnTo>
                    <a:pt x="917" y="242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2" y="257"/>
                  </a:lnTo>
                  <a:lnTo>
                    <a:pt x="886" y="262"/>
                  </a:lnTo>
                  <a:lnTo>
                    <a:pt x="882" y="268"/>
                  </a:lnTo>
                  <a:lnTo>
                    <a:pt x="878" y="273"/>
                  </a:lnTo>
                  <a:lnTo>
                    <a:pt x="877" y="280"/>
                  </a:lnTo>
                  <a:lnTo>
                    <a:pt x="875" y="295"/>
                  </a:lnTo>
                  <a:lnTo>
                    <a:pt x="872" y="321"/>
                  </a:lnTo>
                  <a:lnTo>
                    <a:pt x="867" y="356"/>
                  </a:lnTo>
                  <a:lnTo>
                    <a:pt x="862" y="400"/>
                  </a:lnTo>
                  <a:lnTo>
                    <a:pt x="856" y="453"/>
                  </a:lnTo>
                  <a:lnTo>
                    <a:pt x="849" y="516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5"/>
                  </a:lnTo>
                  <a:lnTo>
                    <a:pt x="2002" y="1224"/>
                  </a:lnTo>
                  <a:lnTo>
                    <a:pt x="2049" y="1224"/>
                  </a:lnTo>
                  <a:lnTo>
                    <a:pt x="2098" y="1224"/>
                  </a:lnTo>
                  <a:lnTo>
                    <a:pt x="2154" y="1224"/>
                  </a:lnTo>
                  <a:lnTo>
                    <a:pt x="2213" y="1225"/>
                  </a:lnTo>
                  <a:lnTo>
                    <a:pt x="2276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7" y="1230"/>
                  </a:lnTo>
                  <a:lnTo>
                    <a:pt x="2474" y="1235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8"/>
                  </a:lnTo>
                  <a:lnTo>
                    <a:pt x="2523" y="1252"/>
                  </a:lnTo>
                  <a:lnTo>
                    <a:pt x="2531" y="1257"/>
                  </a:lnTo>
                  <a:lnTo>
                    <a:pt x="2537" y="1262"/>
                  </a:lnTo>
                  <a:lnTo>
                    <a:pt x="2541" y="1268"/>
                  </a:lnTo>
                  <a:lnTo>
                    <a:pt x="2544" y="1273"/>
                  </a:lnTo>
                  <a:lnTo>
                    <a:pt x="2548" y="1280"/>
                  </a:lnTo>
                  <a:lnTo>
                    <a:pt x="2549" y="1286"/>
                  </a:lnTo>
                  <a:lnTo>
                    <a:pt x="2550" y="1294"/>
                  </a:lnTo>
                  <a:lnTo>
                    <a:pt x="2549" y="1302"/>
                  </a:lnTo>
                  <a:lnTo>
                    <a:pt x="2548" y="1310"/>
                  </a:lnTo>
                  <a:lnTo>
                    <a:pt x="2544" y="1316"/>
                  </a:lnTo>
                  <a:lnTo>
                    <a:pt x="2541" y="1323"/>
                  </a:lnTo>
                  <a:lnTo>
                    <a:pt x="2536" y="1329"/>
                  </a:lnTo>
                  <a:lnTo>
                    <a:pt x="2530" y="1335"/>
                  </a:lnTo>
                  <a:lnTo>
                    <a:pt x="2522" y="1340"/>
                  </a:lnTo>
                  <a:lnTo>
                    <a:pt x="2515" y="1346"/>
                  </a:lnTo>
                  <a:lnTo>
                    <a:pt x="2505" y="1350"/>
                  </a:lnTo>
                  <a:lnTo>
                    <a:pt x="2495" y="1355"/>
                  </a:lnTo>
                  <a:lnTo>
                    <a:pt x="2483" y="1358"/>
                  </a:lnTo>
                  <a:lnTo>
                    <a:pt x="2470" y="1361"/>
                  </a:lnTo>
                  <a:lnTo>
                    <a:pt x="2456" y="1365"/>
                  </a:lnTo>
                  <a:lnTo>
                    <a:pt x="2442" y="1367"/>
                  </a:lnTo>
                  <a:lnTo>
                    <a:pt x="2425" y="1369"/>
                  </a:lnTo>
                  <a:lnTo>
                    <a:pt x="2409" y="1370"/>
                  </a:lnTo>
                  <a:lnTo>
                    <a:pt x="2363" y="1374"/>
                  </a:lnTo>
                  <a:lnTo>
                    <a:pt x="2288" y="1377"/>
                  </a:lnTo>
                  <a:lnTo>
                    <a:pt x="2182" y="1381"/>
                  </a:lnTo>
                  <a:lnTo>
                    <a:pt x="2046" y="1388"/>
                  </a:lnTo>
                  <a:lnTo>
                    <a:pt x="1880" y="1395"/>
                  </a:lnTo>
                  <a:lnTo>
                    <a:pt x="1682" y="1402"/>
                  </a:lnTo>
                  <a:lnTo>
                    <a:pt x="1454" y="1411"/>
                  </a:lnTo>
                  <a:lnTo>
                    <a:pt x="1195" y="1421"/>
                  </a:lnTo>
                  <a:lnTo>
                    <a:pt x="1158" y="1422"/>
                  </a:lnTo>
                  <a:lnTo>
                    <a:pt x="1116" y="1424"/>
                  </a:lnTo>
                  <a:lnTo>
                    <a:pt x="1069" y="1427"/>
                  </a:lnTo>
                  <a:lnTo>
                    <a:pt x="1019" y="1428"/>
                  </a:lnTo>
                  <a:lnTo>
                    <a:pt x="963" y="1430"/>
                  </a:lnTo>
                  <a:lnTo>
                    <a:pt x="904" y="1432"/>
                  </a:lnTo>
                  <a:lnTo>
                    <a:pt x="840" y="1434"/>
                  </a:lnTo>
                  <a:lnTo>
                    <a:pt x="771" y="1436"/>
                  </a:lnTo>
                  <a:lnTo>
                    <a:pt x="768" y="1486"/>
                  </a:lnTo>
                  <a:lnTo>
                    <a:pt x="766" y="1534"/>
                  </a:lnTo>
                  <a:lnTo>
                    <a:pt x="763" y="1579"/>
                  </a:lnTo>
                  <a:lnTo>
                    <a:pt x="761" y="1622"/>
                  </a:lnTo>
                  <a:lnTo>
                    <a:pt x="759" y="1663"/>
                  </a:lnTo>
                  <a:lnTo>
                    <a:pt x="758" y="1701"/>
                  </a:lnTo>
                  <a:lnTo>
                    <a:pt x="758" y="1738"/>
                  </a:lnTo>
                  <a:lnTo>
                    <a:pt x="757" y="1772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5" y="1801"/>
                  </a:lnTo>
                  <a:lnTo>
                    <a:pt x="770" y="1809"/>
                  </a:lnTo>
                  <a:lnTo>
                    <a:pt x="777" y="1817"/>
                  </a:lnTo>
                  <a:lnTo>
                    <a:pt x="786" y="1824"/>
                  </a:lnTo>
                  <a:lnTo>
                    <a:pt x="796" y="1830"/>
                  </a:lnTo>
                  <a:lnTo>
                    <a:pt x="808" y="1836"/>
                  </a:lnTo>
                  <a:lnTo>
                    <a:pt x="821" y="1841"/>
                  </a:lnTo>
                  <a:lnTo>
                    <a:pt x="835" y="1846"/>
                  </a:lnTo>
                  <a:lnTo>
                    <a:pt x="852" y="1849"/>
                  </a:lnTo>
                  <a:lnTo>
                    <a:pt x="870" y="1853"/>
                  </a:lnTo>
                  <a:lnTo>
                    <a:pt x="889" y="1855"/>
                  </a:lnTo>
                  <a:lnTo>
                    <a:pt x="910" y="1856"/>
                  </a:lnTo>
                  <a:lnTo>
                    <a:pt x="934" y="1857"/>
                  </a:lnTo>
                  <a:lnTo>
                    <a:pt x="958" y="1858"/>
                  </a:lnTo>
                  <a:lnTo>
                    <a:pt x="1032" y="1858"/>
                  </a:lnTo>
                  <a:lnTo>
                    <a:pt x="1115" y="1857"/>
                  </a:lnTo>
                  <a:lnTo>
                    <a:pt x="1206" y="1857"/>
                  </a:lnTo>
                  <a:lnTo>
                    <a:pt x="1307" y="1857"/>
                  </a:lnTo>
                  <a:lnTo>
                    <a:pt x="1416" y="1857"/>
                  </a:lnTo>
                  <a:lnTo>
                    <a:pt x="1534" y="1857"/>
                  </a:lnTo>
                  <a:lnTo>
                    <a:pt x="1661" y="1857"/>
                  </a:lnTo>
                  <a:lnTo>
                    <a:pt x="1797" y="1857"/>
                  </a:lnTo>
                  <a:lnTo>
                    <a:pt x="1933" y="1856"/>
                  </a:lnTo>
                  <a:lnTo>
                    <a:pt x="2059" y="1856"/>
                  </a:lnTo>
                  <a:lnTo>
                    <a:pt x="2177" y="1856"/>
                  </a:lnTo>
                  <a:lnTo>
                    <a:pt x="2286" y="1856"/>
                  </a:lnTo>
                  <a:lnTo>
                    <a:pt x="2387" y="1856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9"/>
                  </a:lnTo>
                  <a:lnTo>
                    <a:pt x="2759" y="1861"/>
                  </a:lnTo>
                  <a:lnTo>
                    <a:pt x="2778" y="1864"/>
                  </a:lnTo>
                  <a:lnTo>
                    <a:pt x="2796" y="1867"/>
                  </a:lnTo>
                  <a:lnTo>
                    <a:pt x="2812" y="1870"/>
                  </a:lnTo>
                  <a:lnTo>
                    <a:pt x="2825" y="1873"/>
                  </a:lnTo>
                  <a:lnTo>
                    <a:pt x="2837" y="1878"/>
                  </a:lnTo>
                  <a:lnTo>
                    <a:pt x="2847" y="1883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900"/>
                  </a:lnTo>
                  <a:lnTo>
                    <a:pt x="2869" y="1907"/>
                  </a:lnTo>
                  <a:lnTo>
                    <a:pt x="2869" y="1913"/>
                  </a:lnTo>
                  <a:lnTo>
                    <a:pt x="2869" y="1920"/>
                  </a:lnTo>
                  <a:lnTo>
                    <a:pt x="2867" y="1925"/>
                  </a:lnTo>
                  <a:lnTo>
                    <a:pt x="2863" y="1931"/>
                  </a:lnTo>
                  <a:lnTo>
                    <a:pt x="2858" y="1935"/>
                  </a:lnTo>
                  <a:lnTo>
                    <a:pt x="2851" y="1941"/>
                  </a:lnTo>
                  <a:lnTo>
                    <a:pt x="2844" y="1945"/>
                  </a:lnTo>
                  <a:lnTo>
                    <a:pt x="2834" y="1950"/>
                  </a:lnTo>
                  <a:lnTo>
                    <a:pt x="2824" y="1953"/>
                  </a:lnTo>
                  <a:lnTo>
                    <a:pt x="2812" y="1957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8" y="1973"/>
                  </a:lnTo>
                  <a:lnTo>
                    <a:pt x="2683" y="1978"/>
                  </a:lnTo>
                  <a:lnTo>
                    <a:pt x="2591" y="1986"/>
                  </a:lnTo>
                  <a:lnTo>
                    <a:pt x="2485" y="1995"/>
                  </a:lnTo>
                  <a:lnTo>
                    <a:pt x="2367" y="2003"/>
                  </a:lnTo>
                  <a:lnTo>
                    <a:pt x="2234" y="2013"/>
                  </a:lnTo>
                  <a:lnTo>
                    <a:pt x="2088" y="2021"/>
                  </a:lnTo>
                  <a:lnTo>
                    <a:pt x="1931" y="2030"/>
                  </a:lnTo>
                  <a:lnTo>
                    <a:pt x="1759" y="2040"/>
                  </a:lnTo>
                  <a:lnTo>
                    <a:pt x="1575" y="2050"/>
                  </a:lnTo>
                  <a:lnTo>
                    <a:pt x="1386" y="2059"/>
                  </a:lnTo>
                  <a:lnTo>
                    <a:pt x="1212" y="2068"/>
                  </a:lnTo>
                  <a:lnTo>
                    <a:pt x="1053" y="2074"/>
                  </a:lnTo>
                  <a:lnTo>
                    <a:pt x="908" y="2080"/>
                  </a:lnTo>
                  <a:lnTo>
                    <a:pt x="777" y="2084"/>
                  </a:lnTo>
                  <a:lnTo>
                    <a:pt x="661" y="2086"/>
                  </a:lnTo>
                  <a:lnTo>
                    <a:pt x="559" y="2089"/>
                  </a:lnTo>
                  <a:lnTo>
                    <a:pt x="472" y="2090"/>
                  </a:lnTo>
                  <a:lnTo>
                    <a:pt x="417" y="2089"/>
                  </a:lnTo>
                  <a:lnTo>
                    <a:pt x="367" y="2086"/>
                  </a:lnTo>
                  <a:lnTo>
                    <a:pt x="320" y="2083"/>
                  </a:lnTo>
                  <a:lnTo>
                    <a:pt x="276" y="2079"/>
                  </a:lnTo>
                  <a:lnTo>
                    <a:pt x="236" y="2073"/>
                  </a:lnTo>
                  <a:lnTo>
                    <a:pt x="199" y="2067"/>
                  </a:lnTo>
                  <a:lnTo>
                    <a:pt x="183" y="2062"/>
                  </a:lnTo>
                  <a:lnTo>
                    <a:pt x="166" y="2058"/>
                  </a:lnTo>
                  <a:lnTo>
                    <a:pt x="152" y="2053"/>
                  </a:lnTo>
                  <a:lnTo>
                    <a:pt x="138" y="2048"/>
                  </a:lnTo>
                  <a:lnTo>
                    <a:pt x="124" y="2042"/>
                  </a:lnTo>
                  <a:lnTo>
                    <a:pt x="111" y="2037"/>
                  </a:lnTo>
                  <a:lnTo>
                    <a:pt x="100" y="2031"/>
                  </a:lnTo>
                  <a:lnTo>
                    <a:pt x="89" y="2025"/>
                  </a:lnTo>
                  <a:lnTo>
                    <a:pt x="79" y="2018"/>
                  </a:lnTo>
                  <a:lnTo>
                    <a:pt x="70" y="2011"/>
                  </a:lnTo>
                  <a:lnTo>
                    <a:pt x="63" y="2004"/>
                  </a:lnTo>
                  <a:lnTo>
                    <a:pt x="56" y="1996"/>
                  </a:lnTo>
                  <a:lnTo>
                    <a:pt x="49" y="1988"/>
                  </a:lnTo>
                  <a:lnTo>
                    <a:pt x="44" y="1979"/>
                  </a:lnTo>
                  <a:lnTo>
                    <a:pt x="39" y="1972"/>
                  </a:lnTo>
                  <a:lnTo>
                    <a:pt x="36" y="1963"/>
                  </a:lnTo>
                  <a:lnTo>
                    <a:pt x="34" y="1953"/>
                  </a:lnTo>
                  <a:lnTo>
                    <a:pt x="32" y="1944"/>
                  </a:lnTo>
                  <a:lnTo>
                    <a:pt x="31" y="1934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9"/>
                  </a:lnTo>
                  <a:lnTo>
                    <a:pt x="53" y="1436"/>
                  </a:lnTo>
                  <a:lnTo>
                    <a:pt x="63" y="1210"/>
                  </a:lnTo>
                  <a:lnTo>
                    <a:pt x="69" y="991"/>
                  </a:lnTo>
                  <a:lnTo>
                    <a:pt x="75" y="777"/>
                  </a:lnTo>
                  <a:lnTo>
                    <a:pt x="79" y="570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11840" y="1017360"/>
              <a:ext cx="1549440" cy="822240"/>
            </a:xfrm>
            <a:custGeom>
              <a:avLst/>
              <a:gdLst/>
              <a:ahLst/>
              <a:rect l="l" t="t" r="r" b="b"/>
              <a:pathLst>
                <a:path w="3903" h="2072">
                  <a:moveTo>
                    <a:pt x="1686" y="0"/>
                  </a:moveTo>
                  <a:lnTo>
                    <a:pt x="1702" y="0"/>
                  </a:lnTo>
                  <a:lnTo>
                    <a:pt x="1722" y="0"/>
                  </a:lnTo>
                  <a:lnTo>
                    <a:pt x="1743" y="1"/>
                  </a:lnTo>
                  <a:lnTo>
                    <a:pt x="1766" y="2"/>
                  </a:lnTo>
                  <a:lnTo>
                    <a:pt x="1791" y="3"/>
                  </a:lnTo>
                  <a:lnTo>
                    <a:pt x="1819" y="4"/>
                  </a:lnTo>
                  <a:lnTo>
                    <a:pt x="1848" y="6"/>
                  </a:lnTo>
                  <a:lnTo>
                    <a:pt x="1879" y="8"/>
                  </a:lnTo>
                  <a:lnTo>
                    <a:pt x="1911" y="11"/>
                  </a:lnTo>
                  <a:lnTo>
                    <a:pt x="1939" y="12"/>
                  </a:lnTo>
                  <a:lnTo>
                    <a:pt x="1967" y="14"/>
                  </a:lnTo>
                  <a:lnTo>
                    <a:pt x="1992" y="15"/>
                  </a:lnTo>
                  <a:lnTo>
                    <a:pt x="2016" y="16"/>
                  </a:lnTo>
                  <a:lnTo>
                    <a:pt x="2038" y="16"/>
                  </a:lnTo>
                  <a:lnTo>
                    <a:pt x="2058" y="17"/>
                  </a:lnTo>
                  <a:lnTo>
                    <a:pt x="2074" y="17"/>
                  </a:lnTo>
                  <a:lnTo>
                    <a:pt x="2085" y="17"/>
                  </a:lnTo>
                  <a:lnTo>
                    <a:pt x="2097" y="16"/>
                  </a:lnTo>
                  <a:lnTo>
                    <a:pt x="2111" y="16"/>
                  </a:lnTo>
                  <a:lnTo>
                    <a:pt x="2125" y="15"/>
                  </a:lnTo>
                  <a:lnTo>
                    <a:pt x="2141" y="15"/>
                  </a:lnTo>
                  <a:lnTo>
                    <a:pt x="2158" y="14"/>
                  </a:lnTo>
                  <a:lnTo>
                    <a:pt x="2177" y="13"/>
                  </a:lnTo>
                  <a:lnTo>
                    <a:pt x="2197" y="11"/>
                  </a:lnTo>
                  <a:lnTo>
                    <a:pt x="2217" y="9"/>
                  </a:lnTo>
                  <a:lnTo>
                    <a:pt x="2235" y="8"/>
                  </a:lnTo>
                  <a:lnTo>
                    <a:pt x="2252" y="7"/>
                  </a:lnTo>
                  <a:lnTo>
                    <a:pt x="2268" y="6"/>
                  </a:lnTo>
                  <a:lnTo>
                    <a:pt x="2284" y="6"/>
                  </a:lnTo>
                  <a:lnTo>
                    <a:pt x="2297" y="5"/>
                  </a:lnTo>
                  <a:lnTo>
                    <a:pt x="2310" y="5"/>
                  </a:lnTo>
                  <a:lnTo>
                    <a:pt x="2323" y="5"/>
                  </a:lnTo>
                  <a:lnTo>
                    <a:pt x="2360" y="5"/>
                  </a:lnTo>
                  <a:lnTo>
                    <a:pt x="2396" y="6"/>
                  </a:lnTo>
                  <a:lnTo>
                    <a:pt x="2430" y="7"/>
                  </a:lnTo>
                  <a:lnTo>
                    <a:pt x="2462" y="9"/>
                  </a:lnTo>
                  <a:lnTo>
                    <a:pt x="2490" y="13"/>
                  </a:lnTo>
                  <a:lnTo>
                    <a:pt x="2518" y="16"/>
                  </a:lnTo>
                  <a:lnTo>
                    <a:pt x="2542" y="20"/>
                  </a:lnTo>
                  <a:lnTo>
                    <a:pt x="2565" y="25"/>
                  </a:lnTo>
                  <a:lnTo>
                    <a:pt x="2585" y="30"/>
                  </a:lnTo>
                  <a:lnTo>
                    <a:pt x="2604" y="37"/>
                  </a:lnTo>
                  <a:lnTo>
                    <a:pt x="2619" y="44"/>
                  </a:lnTo>
                  <a:lnTo>
                    <a:pt x="2634" y="51"/>
                  </a:lnTo>
                  <a:lnTo>
                    <a:pt x="2645" y="59"/>
                  </a:lnTo>
                  <a:lnTo>
                    <a:pt x="2655" y="68"/>
                  </a:lnTo>
                  <a:lnTo>
                    <a:pt x="2661" y="77"/>
                  </a:lnTo>
                  <a:lnTo>
                    <a:pt x="2667" y="87"/>
                  </a:lnTo>
                  <a:lnTo>
                    <a:pt x="2674" y="111"/>
                  </a:lnTo>
                  <a:lnTo>
                    <a:pt x="2681" y="139"/>
                  </a:lnTo>
                  <a:lnTo>
                    <a:pt x="2691" y="168"/>
                  </a:lnTo>
                  <a:lnTo>
                    <a:pt x="2702" y="201"/>
                  </a:lnTo>
                  <a:lnTo>
                    <a:pt x="2714" y="238"/>
                  </a:lnTo>
                  <a:lnTo>
                    <a:pt x="2728" y="277"/>
                  </a:lnTo>
                  <a:lnTo>
                    <a:pt x="2743" y="318"/>
                  </a:lnTo>
                  <a:lnTo>
                    <a:pt x="2760" y="363"/>
                  </a:lnTo>
                  <a:lnTo>
                    <a:pt x="2786" y="418"/>
                  </a:lnTo>
                  <a:lnTo>
                    <a:pt x="2814" y="473"/>
                  </a:lnTo>
                  <a:lnTo>
                    <a:pt x="2841" y="528"/>
                  </a:lnTo>
                  <a:lnTo>
                    <a:pt x="2869" y="582"/>
                  </a:lnTo>
                  <a:lnTo>
                    <a:pt x="2899" y="636"/>
                  </a:lnTo>
                  <a:lnTo>
                    <a:pt x="2928" y="689"/>
                  </a:lnTo>
                  <a:lnTo>
                    <a:pt x="2957" y="742"/>
                  </a:lnTo>
                  <a:lnTo>
                    <a:pt x="2988" y="795"/>
                  </a:lnTo>
                  <a:lnTo>
                    <a:pt x="3019" y="847"/>
                  </a:lnTo>
                  <a:lnTo>
                    <a:pt x="3051" y="899"/>
                  </a:lnTo>
                  <a:lnTo>
                    <a:pt x="3083" y="950"/>
                  </a:lnTo>
                  <a:lnTo>
                    <a:pt x="3116" y="1000"/>
                  </a:lnTo>
                  <a:lnTo>
                    <a:pt x="3149" y="1051"/>
                  </a:lnTo>
                  <a:lnTo>
                    <a:pt x="3184" y="1101"/>
                  </a:lnTo>
                  <a:lnTo>
                    <a:pt x="3218" y="1151"/>
                  </a:lnTo>
                  <a:lnTo>
                    <a:pt x="3253" y="1199"/>
                  </a:lnTo>
                  <a:lnTo>
                    <a:pt x="3289" y="1249"/>
                  </a:lnTo>
                  <a:lnTo>
                    <a:pt x="3325" y="1296"/>
                  </a:lnTo>
                  <a:lnTo>
                    <a:pt x="3362" y="1345"/>
                  </a:lnTo>
                  <a:lnTo>
                    <a:pt x="3399" y="1392"/>
                  </a:lnTo>
                  <a:lnTo>
                    <a:pt x="3438" y="1439"/>
                  </a:lnTo>
                  <a:lnTo>
                    <a:pt x="3476" y="1485"/>
                  </a:lnTo>
                  <a:lnTo>
                    <a:pt x="3515" y="1531"/>
                  </a:lnTo>
                  <a:lnTo>
                    <a:pt x="3555" y="1578"/>
                  </a:lnTo>
                  <a:lnTo>
                    <a:pt x="3595" y="1623"/>
                  </a:lnTo>
                  <a:lnTo>
                    <a:pt x="3636" y="1667"/>
                  </a:lnTo>
                  <a:lnTo>
                    <a:pt x="3677" y="1712"/>
                  </a:lnTo>
                  <a:lnTo>
                    <a:pt x="3719" y="1755"/>
                  </a:lnTo>
                  <a:lnTo>
                    <a:pt x="3762" y="1799"/>
                  </a:lnTo>
                  <a:lnTo>
                    <a:pt x="3805" y="1842"/>
                  </a:lnTo>
                  <a:lnTo>
                    <a:pt x="3849" y="1885"/>
                  </a:lnTo>
                  <a:lnTo>
                    <a:pt x="3894" y="1927"/>
                  </a:lnTo>
                  <a:lnTo>
                    <a:pt x="3896" y="1930"/>
                  </a:lnTo>
                  <a:lnTo>
                    <a:pt x="3898" y="1931"/>
                  </a:lnTo>
                  <a:lnTo>
                    <a:pt x="3899" y="1933"/>
                  </a:lnTo>
                  <a:lnTo>
                    <a:pt x="3900" y="1934"/>
                  </a:lnTo>
                  <a:lnTo>
                    <a:pt x="3901" y="1936"/>
                  </a:lnTo>
                  <a:lnTo>
                    <a:pt x="3902" y="1938"/>
                  </a:lnTo>
                  <a:lnTo>
                    <a:pt x="3902" y="1940"/>
                  </a:lnTo>
                  <a:lnTo>
                    <a:pt x="3903" y="1942"/>
                  </a:lnTo>
                  <a:lnTo>
                    <a:pt x="3902" y="1947"/>
                  </a:lnTo>
                  <a:lnTo>
                    <a:pt x="3899" y="1952"/>
                  </a:lnTo>
                  <a:lnTo>
                    <a:pt x="3894" y="1956"/>
                  </a:lnTo>
                  <a:lnTo>
                    <a:pt x="3887" y="1959"/>
                  </a:lnTo>
                  <a:lnTo>
                    <a:pt x="3878" y="1963"/>
                  </a:lnTo>
                  <a:lnTo>
                    <a:pt x="3867" y="1964"/>
                  </a:lnTo>
                  <a:lnTo>
                    <a:pt x="3854" y="1965"/>
                  </a:lnTo>
                  <a:lnTo>
                    <a:pt x="3838" y="1966"/>
                  </a:lnTo>
                  <a:lnTo>
                    <a:pt x="3831" y="1966"/>
                  </a:lnTo>
                  <a:lnTo>
                    <a:pt x="3823" y="1965"/>
                  </a:lnTo>
                  <a:lnTo>
                    <a:pt x="3814" y="1965"/>
                  </a:lnTo>
                  <a:lnTo>
                    <a:pt x="3804" y="1965"/>
                  </a:lnTo>
                  <a:lnTo>
                    <a:pt x="3793" y="1964"/>
                  </a:lnTo>
                  <a:lnTo>
                    <a:pt x="3781" y="1964"/>
                  </a:lnTo>
                  <a:lnTo>
                    <a:pt x="3769" y="1963"/>
                  </a:lnTo>
                  <a:lnTo>
                    <a:pt x="3754" y="1962"/>
                  </a:lnTo>
                  <a:lnTo>
                    <a:pt x="3741" y="1960"/>
                  </a:lnTo>
                  <a:lnTo>
                    <a:pt x="3729" y="1960"/>
                  </a:lnTo>
                  <a:lnTo>
                    <a:pt x="3717" y="1959"/>
                  </a:lnTo>
                  <a:lnTo>
                    <a:pt x="3706" y="1958"/>
                  </a:lnTo>
                  <a:lnTo>
                    <a:pt x="3696" y="1958"/>
                  </a:lnTo>
                  <a:lnTo>
                    <a:pt x="3686" y="1958"/>
                  </a:lnTo>
                  <a:lnTo>
                    <a:pt x="3677" y="1958"/>
                  </a:lnTo>
                  <a:lnTo>
                    <a:pt x="3669" y="1957"/>
                  </a:lnTo>
                  <a:lnTo>
                    <a:pt x="3595" y="1966"/>
                  </a:lnTo>
                  <a:lnTo>
                    <a:pt x="3528" y="1974"/>
                  </a:lnTo>
                  <a:lnTo>
                    <a:pt x="3466" y="1980"/>
                  </a:lnTo>
                  <a:lnTo>
                    <a:pt x="3411" y="1986"/>
                  </a:lnTo>
                  <a:lnTo>
                    <a:pt x="3362" y="1989"/>
                  </a:lnTo>
                  <a:lnTo>
                    <a:pt x="3319" y="1992"/>
                  </a:lnTo>
                  <a:lnTo>
                    <a:pt x="3283" y="1994"/>
                  </a:lnTo>
                  <a:lnTo>
                    <a:pt x="3253" y="1995"/>
                  </a:lnTo>
                  <a:lnTo>
                    <a:pt x="3206" y="1994"/>
                  </a:lnTo>
                  <a:lnTo>
                    <a:pt x="3164" y="1990"/>
                  </a:lnTo>
                  <a:lnTo>
                    <a:pt x="3145" y="1988"/>
                  </a:lnTo>
                  <a:lnTo>
                    <a:pt x="3127" y="1986"/>
                  </a:lnTo>
                  <a:lnTo>
                    <a:pt x="3111" y="1983"/>
                  </a:lnTo>
                  <a:lnTo>
                    <a:pt x="3095" y="1979"/>
                  </a:lnTo>
                  <a:lnTo>
                    <a:pt x="3081" y="1975"/>
                  </a:lnTo>
                  <a:lnTo>
                    <a:pt x="3069" y="1970"/>
                  </a:lnTo>
                  <a:lnTo>
                    <a:pt x="3057" y="1966"/>
                  </a:lnTo>
                  <a:lnTo>
                    <a:pt x="3047" y="1960"/>
                  </a:lnTo>
                  <a:lnTo>
                    <a:pt x="3038" y="1954"/>
                  </a:lnTo>
                  <a:lnTo>
                    <a:pt x="3029" y="1947"/>
                  </a:lnTo>
                  <a:lnTo>
                    <a:pt x="3022" y="1941"/>
                  </a:lnTo>
                  <a:lnTo>
                    <a:pt x="3018" y="1933"/>
                  </a:lnTo>
                  <a:lnTo>
                    <a:pt x="2979" y="1868"/>
                  </a:lnTo>
                  <a:lnTo>
                    <a:pt x="2941" y="1803"/>
                  </a:lnTo>
                  <a:lnTo>
                    <a:pt x="2901" y="1739"/>
                  </a:lnTo>
                  <a:lnTo>
                    <a:pt x="2861" y="1676"/>
                  </a:lnTo>
                  <a:lnTo>
                    <a:pt x="2820" y="1613"/>
                  </a:lnTo>
                  <a:lnTo>
                    <a:pt x="2778" y="1551"/>
                  </a:lnTo>
                  <a:lnTo>
                    <a:pt x="2737" y="1490"/>
                  </a:lnTo>
                  <a:lnTo>
                    <a:pt x="2695" y="1431"/>
                  </a:lnTo>
                  <a:lnTo>
                    <a:pt x="1052" y="1478"/>
                  </a:lnTo>
                  <a:lnTo>
                    <a:pt x="1030" y="1503"/>
                  </a:lnTo>
                  <a:lnTo>
                    <a:pt x="1009" y="1528"/>
                  </a:lnTo>
                  <a:lnTo>
                    <a:pt x="987" y="1555"/>
                  </a:lnTo>
                  <a:lnTo>
                    <a:pt x="966" y="1583"/>
                  </a:lnTo>
                  <a:lnTo>
                    <a:pt x="944" y="1613"/>
                  </a:lnTo>
                  <a:lnTo>
                    <a:pt x="922" y="1644"/>
                  </a:lnTo>
                  <a:lnTo>
                    <a:pt x="899" y="1677"/>
                  </a:lnTo>
                  <a:lnTo>
                    <a:pt x="876" y="1710"/>
                  </a:lnTo>
                  <a:lnTo>
                    <a:pt x="854" y="1745"/>
                  </a:lnTo>
                  <a:lnTo>
                    <a:pt x="832" y="1782"/>
                  </a:lnTo>
                  <a:lnTo>
                    <a:pt x="809" y="1820"/>
                  </a:lnTo>
                  <a:lnTo>
                    <a:pt x="786" y="1859"/>
                  </a:lnTo>
                  <a:lnTo>
                    <a:pt x="739" y="1942"/>
                  </a:lnTo>
                  <a:lnTo>
                    <a:pt x="693" y="2030"/>
                  </a:lnTo>
                  <a:lnTo>
                    <a:pt x="690" y="2034"/>
                  </a:lnTo>
                  <a:lnTo>
                    <a:pt x="685" y="2040"/>
                  </a:lnTo>
                  <a:lnTo>
                    <a:pt x="681" y="2044"/>
                  </a:lnTo>
                  <a:lnTo>
                    <a:pt x="676" y="2049"/>
                  </a:lnTo>
                  <a:lnTo>
                    <a:pt x="665" y="2055"/>
                  </a:lnTo>
                  <a:lnTo>
                    <a:pt x="652" y="2062"/>
                  </a:lnTo>
                  <a:lnTo>
                    <a:pt x="637" y="2066"/>
                  </a:lnTo>
                  <a:lnTo>
                    <a:pt x="619" y="2070"/>
                  </a:lnTo>
                  <a:lnTo>
                    <a:pt x="600" y="2072"/>
                  </a:lnTo>
                  <a:lnTo>
                    <a:pt x="578" y="2072"/>
                  </a:lnTo>
                  <a:lnTo>
                    <a:pt x="529" y="2072"/>
                  </a:lnTo>
                  <a:lnTo>
                    <a:pt x="481" y="2071"/>
                  </a:lnTo>
                  <a:lnTo>
                    <a:pt x="439" y="2070"/>
                  </a:lnTo>
                  <a:lnTo>
                    <a:pt x="400" y="2068"/>
                  </a:lnTo>
                  <a:lnTo>
                    <a:pt x="366" y="2065"/>
                  </a:lnTo>
                  <a:lnTo>
                    <a:pt x="335" y="2062"/>
                  </a:lnTo>
                  <a:lnTo>
                    <a:pt x="309" y="2059"/>
                  </a:lnTo>
                  <a:lnTo>
                    <a:pt x="286" y="2054"/>
                  </a:lnTo>
                  <a:lnTo>
                    <a:pt x="258" y="2045"/>
                  </a:lnTo>
                  <a:lnTo>
                    <a:pt x="229" y="2038"/>
                  </a:lnTo>
                  <a:lnTo>
                    <a:pt x="202" y="2029"/>
                  </a:lnTo>
                  <a:lnTo>
                    <a:pt x="173" y="2020"/>
                  </a:lnTo>
                  <a:lnTo>
                    <a:pt x="145" y="2011"/>
                  </a:lnTo>
                  <a:lnTo>
                    <a:pt x="118" y="2004"/>
                  </a:lnTo>
                  <a:lnTo>
                    <a:pt x="90" y="1995"/>
                  </a:lnTo>
                  <a:lnTo>
                    <a:pt x="63" y="1986"/>
                  </a:lnTo>
                  <a:lnTo>
                    <a:pt x="48" y="1981"/>
                  </a:lnTo>
                  <a:lnTo>
                    <a:pt x="35" y="1975"/>
                  </a:lnTo>
                  <a:lnTo>
                    <a:pt x="24" y="1969"/>
                  </a:lnTo>
                  <a:lnTo>
                    <a:pt x="16" y="1962"/>
                  </a:lnTo>
                  <a:lnTo>
                    <a:pt x="9" y="1954"/>
                  </a:lnTo>
                  <a:lnTo>
                    <a:pt x="4" y="1945"/>
                  </a:lnTo>
                  <a:lnTo>
                    <a:pt x="1" y="1936"/>
                  </a:lnTo>
                  <a:lnTo>
                    <a:pt x="0" y="1926"/>
                  </a:lnTo>
                  <a:lnTo>
                    <a:pt x="2" y="1919"/>
                  </a:lnTo>
                  <a:lnTo>
                    <a:pt x="7" y="1909"/>
                  </a:lnTo>
                  <a:lnTo>
                    <a:pt x="15" y="1894"/>
                  </a:lnTo>
                  <a:lnTo>
                    <a:pt x="27" y="1877"/>
                  </a:lnTo>
                  <a:lnTo>
                    <a:pt x="43" y="1856"/>
                  </a:lnTo>
                  <a:lnTo>
                    <a:pt x="62" y="1830"/>
                  </a:lnTo>
                  <a:lnTo>
                    <a:pt x="85" y="1803"/>
                  </a:lnTo>
                  <a:lnTo>
                    <a:pt x="110" y="1772"/>
                  </a:lnTo>
                  <a:lnTo>
                    <a:pt x="172" y="1699"/>
                  </a:lnTo>
                  <a:lnTo>
                    <a:pt x="248" y="1613"/>
                  </a:lnTo>
                  <a:lnTo>
                    <a:pt x="338" y="1514"/>
                  </a:lnTo>
                  <a:lnTo>
                    <a:pt x="441" y="1401"/>
                  </a:lnTo>
                  <a:lnTo>
                    <a:pt x="508" y="1328"/>
                  </a:lnTo>
                  <a:lnTo>
                    <a:pt x="575" y="1256"/>
                  </a:lnTo>
                  <a:lnTo>
                    <a:pt x="642" y="1185"/>
                  </a:lnTo>
                  <a:lnTo>
                    <a:pt x="710" y="1112"/>
                  </a:lnTo>
                  <a:lnTo>
                    <a:pt x="777" y="1040"/>
                  </a:lnTo>
                  <a:lnTo>
                    <a:pt x="844" y="967"/>
                  </a:lnTo>
                  <a:lnTo>
                    <a:pt x="912" y="896"/>
                  </a:lnTo>
                  <a:lnTo>
                    <a:pt x="978" y="823"/>
                  </a:lnTo>
                  <a:lnTo>
                    <a:pt x="1042" y="752"/>
                  </a:lnTo>
                  <a:lnTo>
                    <a:pt x="1099" y="688"/>
                  </a:lnTo>
                  <a:lnTo>
                    <a:pt x="1150" y="632"/>
                  </a:lnTo>
                  <a:lnTo>
                    <a:pt x="1195" y="581"/>
                  </a:lnTo>
                  <a:lnTo>
                    <a:pt x="1233" y="539"/>
                  </a:lnTo>
                  <a:lnTo>
                    <a:pt x="1265" y="503"/>
                  </a:lnTo>
                  <a:lnTo>
                    <a:pt x="1290" y="474"/>
                  </a:lnTo>
                  <a:lnTo>
                    <a:pt x="1309" y="453"/>
                  </a:lnTo>
                  <a:lnTo>
                    <a:pt x="1352" y="400"/>
                  </a:lnTo>
                  <a:lnTo>
                    <a:pt x="1393" y="348"/>
                  </a:lnTo>
                  <a:lnTo>
                    <a:pt x="1430" y="299"/>
                  </a:lnTo>
                  <a:lnTo>
                    <a:pt x="1465" y="250"/>
                  </a:lnTo>
                  <a:lnTo>
                    <a:pt x="1497" y="204"/>
                  </a:lnTo>
                  <a:lnTo>
                    <a:pt x="1525" y="160"/>
                  </a:lnTo>
                  <a:lnTo>
                    <a:pt x="1552" y="116"/>
                  </a:lnTo>
                  <a:lnTo>
                    <a:pt x="1575" y="76"/>
                  </a:lnTo>
                  <a:lnTo>
                    <a:pt x="1576" y="69"/>
                  </a:lnTo>
                  <a:lnTo>
                    <a:pt x="1578" y="62"/>
                  </a:lnTo>
                  <a:lnTo>
                    <a:pt x="1580" y="57"/>
                  </a:lnTo>
                  <a:lnTo>
                    <a:pt x="1582" y="50"/>
                  </a:lnTo>
                  <a:lnTo>
                    <a:pt x="1584" y="44"/>
                  </a:lnTo>
                  <a:lnTo>
                    <a:pt x="1585" y="38"/>
                  </a:lnTo>
                  <a:lnTo>
                    <a:pt x="1587" y="32"/>
                  </a:lnTo>
                  <a:lnTo>
                    <a:pt x="1588" y="25"/>
                  </a:lnTo>
                  <a:lnTo>
                    <a:pt x="1595" y="19"/>
                  </a:lnTo>
                  <a:lnTo>
                    <a:pt x="1602" y="14"/>
                  </a:lnTo>
                  <a:lnTo>
                    <a:pt x="1612" y="9"/>
                  </a:lnTo>
                  <a:lnTo>
                    <a:pt x="1623" y="6"/>
                  </a:lnTo>
                  <a:lnTo>
                    <a:pt x="1636" y="3"/>
                  </a:lnTo>
                  <a:lnTo>
                    <a:pt x="1650" y="1"/>
                  </a:lnTo>
                  <a:lnTo>
                    <a:pt x="1667" y="0"/>
                  </a:lnTo>
                  <a:lnTo>
                    <a:pt x="1686" y="0"/>
                  </a:lnTo>
                  <a:close/>
                  <a:moveTo>
                    <a:pt x="2587" y="1280"/>
                  </a:moveTo>
                  <a:lnTo>
                    <a:pt x="2047" y="398"/>
                  </a:lnTo>
                  <a:lnTo>
                    <a:pt x="1185" y="1314"/>
                  </a:lnTo>
                  <a:lnTo>
                    <a:pt x="2587" y="128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13440" y="995400"/>
              <a:ext cx="1103400" cy="815400"/>
            </a:xfrm>
            <a:custGeom>
              <a:avLst/>
              <a:gdLst/>
              <a:ahLst/>
              <a:rect l="l" t="t" r="r" b="b"/>
              <a:pathLst>
                <a:path w="2780" h="2055">
                  <a:moveTo>
                    <a:pt x="116" y="475"/>
                  </a:moveTo>
                  <a:lnTo>
                    <a:pt x="116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3" y="213"/>
                  </a:lnTo>
                  <a:lnTo>
                    <a:pt x="111" y="169"/>
                  </a:lnTo>
                  <a:lnTo>
                    <a:pt x="109" y="133"/>
                  </a:lnTo>
                  <a:lnTo>
                    <a:pt x="106" y="105"/>
                  </a:lnTo>
                  <a:lnTo>
                    <a:pt x="104" y="86"/>
                  </a:lnTo>
                  <a:lnTo>
                    <a:pt x="103" y="84"/>
                  </a:lnTo>
                  <a:lnTo>
                    <a:pt x="103" y="81"/>
                  </a:lnTo>
                  <a:lnTo>
                    <a:pt x="100" y="77"/>
                  </a:lnTo>
                  <a:lnTo>
                    <a:pt x="99" y="74"/>
                  </a:lnTo>
                  <a:lnTo>
                    <a:pt x="96" y="71"/>
                  </a:lnTo>
                  <a:lnTo>
                    <a:pt x="94" y="66"/>
                  </a:lnTo>
                  <a:lnTo>
                    <a:pt x="89" y="63"/>
                  </a:lnTo>
                  <a:lnTo>
                    <a:pt x="86" y="59"/>
                  </a:lnTo>
                  <a:lnTo>
                    <a:pt x="82" y="54"/>
                  </a:lnTo>
                  <a:lnTo>
                    <a:pt x="78" y="50"/>
                  </a:lnTo>
                  <a:lnTo>
                    <a:pt x="75" y="46"/>
                  </a:lnTo>
                  <a:lnTo>
                    <a:pt x="73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70" y="37"/>
                  </a:lnTo>
                  <a:lnTo>
                    <a:pt x="70" y="35"/>
                  </a:lnTo>
                  <a:lnTo>
                    <a:pt x="70" y="31"/>
                  </a:lnTo>
                  <a:lnTo>
                    <a:pt x="71" y="27"/>
                  </a:lnTo>
                  <a:lnTo>
                    <a:pt x="73" y="23"/>
                  </a:lnTo>
                  <a:lnTo>
                    <a:pt x="76" y="20"/>
                  </a:lnTo>
                  <a:lnTo>
                    <a:pt x="79" y="17"/>
                  </a:lnTo>
                  <a:lnTo>
                    <a:pt x="84" y="13"/>
                  </a:lnTo>
                  <a:lnTo>
                    <a:pt x="89" y="11"/>
                  </a:lnTo>
                  <a:lnTo>
                    <a:pt x="96" y="9"/>
                  </a:lnTo>
                  <a:lnTo>
                    <a:pt x="110" y="5"/>
                  </a:lnTo>
                  <a:lnTo>
                    <a:pt x="129" y="2"/>
                  </a:lnTo>
                  <a:lnTo>
                    <a:pt x="150" y="0"/>
                  </a:lnTo>
                  <a:lnTo>
                    <a:pt x="176" y="0"/>
                  </a:lnTo>
                  <a:lnTo>
                    <a:pt x="181" y="0"/>
                  </a:lnTo>
                  <a:lnTo>
                    <a:pt x="188" y="0"/>
                  </a:lnTo>
                  <a:lnTo>
                    <a:pt x="194" y="1"/>
                  </a:lnTo>
                  <a:lnTo>
                    <a:pt x="203" y="1"/>
                  </a:lnTo>
                  <a:lnTo>
                    <a:pt x="212" y="1"/>
                  </a:lnTo>
                  <a:lnTo>
                    <a:pt x="222" y="2"/>
                  </a:lnTo>
                  <a:lnTo>
                    <a:pt x="233" y="3"/>
                  </a:lnTo>
                  <a:lnTo>
                    <a:pt x="244" y="5"/>
                  </a:lnTo>
                  <a:lnTo>
                    <a:pt x="256" y="6"/>
                  </a:lnTo>
                  <a:lnTo>
                    <a:pt x="267" y="6"/>
                  </a:lnTo>
                  <a:lnTo>
                    <a:pt x="277" y="7"/>
                  </a:lnTo>
                  <a:lnTo>
                    <a:pt x="287" y="7"/>
                  </a:lnTo>
                  <a:lnTo>
                    <a:pt x="296" y="8"/>
                  </a:lnTo>
                  <a:lnTo>
                    <a:pt x="304" y="8"/>
                  </a:lnTo>
                  <a:lnTo>
                    <a:pt x="311" y="8"/>
                  </a:lnTo>
                  <a:lnTo>
                    <a:pt x="317" y="8"/>
                  </a:lnTo>
                  <a:lnTo>
                    <a:pt x="336" y="8"/>
                  </a:lnTo>
                  <a:lnTo>
                    <a:pt x="355" y="8"/>
                  </a:lnTo>
                  <a:lnTo>
                    <a:pt x="379" y="8"/>
                  </a:lnTo>
                  <a:lnTo>
                    <a:pt x="403" y="7"/>
                  </a:lnTo>
                  <a:lnTo>
                    <a:pt x="429" y="7"/>
                  </a:lnTo>
                  <a:lnTo>
                    <a:pt x="458" y="6"/>
                  </a:lnTo>
                  <a:lnTo>
                    <a:pt x="489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5" y="2"/>
                  </a:lnTo>
                  <a:lnTo>
                    <a:pt x="614" y="1"/>
                  </a:lnTo>
                  <a:lnTo>
                    <a:pt x="640" y="1"/>
                  </a:lnTo>
                  <a:lnTo>
                    <a:pt x="665" y="1"/>
                  </a:lnTo>
                  <a:lnTo>
                    <a:pt x="686" y="0"/>
                  </a:lnTo>
                  <a:lnTo>
                    <a:pt x="705" y="0"/>
                  </a:lnTo>
                  <a:lnTo>
                    <a:pt x="723" y="0"/>
                  </a:lnTo>
                  <a:lnTo>
                    <a:pt x="821" y="0"/>
                  </a:lnTo>
                  <a:lnTo>
                    <a:pt x="919" y="2"/>
                  </a:lnTo>
                  <a:lnTo>
                    <a:pt x="1013" y="5"/>
                  </a:lnTo>
                  <a:lnTo>
                    <a:pt x="1106" y="8"/>
                  </a:lnTo>
                  <a:lnTo>
                    <a:pt x="1198" y="12"/>
                  </a:lnTo>
                  <a:lnTo>
                    <a:pt x="1288" y="19"/>
                  </a:lnTo>
                  <a:lnTo>
                    <a:pt x="1376" y="24"/>
                  </a:lnTo>
                  <a:lnTo>
                    <a:pt x="1462" y="32"/>
                  </a:lnTo>
                  <a:lnTo>
                    <a:pt x="1547" y="41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8" y="73"/>
                  </a:lnTo>
                  <a:lnTo>
                    <a:pt x="1866" y="86"/>
                  </a:lnTo>
                  <a:lnTo>
                    <a:pt x="1942" y="99"/>
                  </a:lnTo>
                  <a:lnTo>
                    <a:pt x="2015" y="114"/>
                  </a:lnTo>
                  <a:lnTo>
                    <a:pt x="2088" y="129"/>
                  </a:lnTo>
                  <a:lnTo>
                    <a:pt x="2130" y="140"/>
                  </a:lnTo>
                  <a:lnTo>
                    <a:pt x="2172" y="150"/>
                  </a:lnTo>
                  <a:lnTo>
                    <a:pt x="2211" y="160"/>
                  </a:lnTo>
                  <a:lnTo>
                    <a:pt x="2250" y="171"/>
                  </a:lnTo>
                  <a:lnTo>
                    <a:pt x="2286" y="182"/>
                  </a:lnTo>
                  <a:lnTo>
                    <a:pt x="2323" y="193"/>
                  </a:lnTo>
                  <a:lnTo>
                    <a:pt x="2357" y="205"/>
                  </a:lnTo>
                  <a:lnTo>
                    <a:pt x="2390" y="216"/>
                  </a:lnTo>
                  <a:lnTo>
                    <a:pt x="2422" y="229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09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4" y="307"/>
                  </a:lnTo>
                  <a:lnTo>
                    <a:pt x="2607" y="321"/>
                  </a:lnTo>
                  <a:lnTo>
                    <a:pt x="2628" y="335"/>
                  </a:lnTo>
                  <a:lnTo>
                    <a:pt x="2647" y="349"/>
                  </a:lnTo>
                  <a:lnTo>
                    <a:pt x="2665" y="364"/>
                  </a:lnTo>
                  <a:lnTo>
                    <a:pt x="2683" y="379"/>
                  </a:lnTo>
                  <a:lnTo>
                    <a:pt x="2698" y="394"/>
                  </a:lnTo>
                  <a:lnTo>
                    <a:pt x="2713" y="410"/>
                  </a:lnTo>
                  <a:lnTo>
                    <a:pt x="2725" y="425"/>
                  </a:lnTo>
                  <a:lnTo>
                    <a:pt x="2737" y="442"/>
                  </a:lnTo>
                  <a:lnTo>
                    <a:pt x="2747" y="457"/>
                  </a:lnTo>
                  <a:lnTo>
                    <a:pt x="2756" y="474"/>
                  </a:lnTo>
                  <a:lnTo>
                    <a:pt x="2763" y="490"/>
                  </a:lnTo>
                  <a:lnTo>
                    <a:pt x="2769" y="508"/>
                  </a:lnTo>
                  <a:lnTo>
                    <a:pt x="2773" y="524"/>
                  </a:lnTo>
                  <a:lnTo>
                    <a:pt x="2777" y="542"/>
                  </a:lnTo>
                  <a:lnTo>
                    <a:pt x="2779" y="560"/>
                  </a:lnTo>
                  <a:lnTo>
                    <a:pt x="2780" y="578"/>
                  </a:lnTo>
                  <a:lnTo>
                    <a:pt x="2779" y="597"/>
                  </a:lnTo>
                  <a:lnTo>
                    <a:pt x="2778" y="616"/>
                  </a:lnTo>
                  <a:lnTo>
                    <a:pt x="2774" y="635"/>
                  </a:lnTo>
                  <a:lnTo>
                    <a:pt x="2770" y="653"/>
                  </a:lnTo>
                  <a:lnTo>
                    <a:pt x="2766" y="672"/>
                  </a:lnTo>
                  <a:lnTo>
                    <a:pt x="2759" y="691"/>
                  </a:lnTo>
                  <a:lnTo>
                    <a:pt x="2751" y="709"/>
                  </a:lnTo>
                  <a:lnTo>
                    <a:pt x="2742" y="727"/>
                  </a:lnTo>
                  <a:lnTo>
                    <a:pt x="2732" y="745"/>
                  </a:lnTo>
                  <a:lnTo>
                    <a:pt x="2721" y="763"/>
                  </a:lnTo>
                  <a:lnTo>
                    <a:pt x="2709" y="780"/>
                  </a:lnTo>
                  <a:lnTo>
                    <a:pt x="2696" y="798"/>
                  </a:lnTo>
                  <a:lnTo>
                    <a:pt x="2680" y="816"/>
                  </a:lnTo>
                  <a:lnTo>
                    <a:pt x="2665" y="833"/>
                  </a:lnTo>
                  <a:lnTo>
                    <a:pt x="2648" y="850"/>
                  </a:lnTo>
                  <a:lnTo>
                    <a:pt x="2630" y="868"/>
                  </a:lnTo>
                  <a:lnTo>
                    <a:pt x="2611" y="884"/>
                  </a:lnTo>
                  <a:lnTo>
                    <a:pt x="2590" y="901"/>
                  </a:lnTo>
                  <a:lnTo>
                    <a:pt x="2568" y="918"/>
                  </a:lnTo>
                  <a:lnTo>
                    <a:pt x="2546" y="935"/>
                  </a:lnTo>
                  <a:lnTo>
                    <a:pt x="2522" y="950"/>
                  </a:lnTo>
                  <a:lnTo>
                    <a:pt x="2496" y="967"/>
                  </a:lnTo>
                  <a:lnTo>
                    <a:pt x="2470" y="983"/>
                  </a:lnTo>
                  <a:lnTo>
                    <a:pt x="2442" y="999"/>
                  </a:lnTo>
                  <a:lnTo>
                    <a:pt x="2413" y="1015"/>
                  </a:lnTo>
                  <a:lnTo>
                    <a:pt x="2384" y="1031"/>
                  </a:lnTo>
                  <a:lnTo>
                    <a:pt x="2353" y="1046"/>
                  </a:lnTo>
                  <a:lnTo>
                    <a:pt x="2321" y="1062"/>
                  </a:lnTo>
                  <a:lnTo>
                    <a:pt x="2287" y="1077"/>
                  </a:lnTo>
                  <a:lnTo>
                    <a:pt x="2252" y="1093"/>
                  </a:lnTo>
                  <a:lnTo>
                    <a:pt x="2217" y="1107"/>
                  </a:lnTo>
                  <a:lnTo>
                    <a:pt x="2180" y="1122"/>
                  </a:lnTo>
                  <a:lnTo>
                    <a:pt x="2143" y="1137"/>
                  </a:lnTo>
                  <a:lnTo>
                    <a:pt x="2104" y="1151"/>
                  </a:lnTo>
                  <a:lnTo>
                    <a:pt x="2066" y="1164"/>
                  </a:lnTo>
                  <a:lnTo>
                    <a:pt x="2027" y="1178"/>
                  </a:lnTo>
                  <a:lnTo>
                    <a:pt x="1949" y="1203"/>
                  </a:lnTo>
                  <a:lnTo>
                    <a:pt x="1869" y="1226"/>
                  </a:lnTo>
                  <a:lnTo>
                    <a:pt x="1788" y="1248"/>
                  </a:lnTo>
                  <a:lnTo>
                    <a:pt x="1706" y="1267"/>
                  </a:lnTo>
                  <a:lnTo>
                    <a:pt x="1622" y="1285"/>
                  </a:lnTo>
                  <a:lnTo>
                    <a:pt x="1537" y="1301"/>
                  </a:lnTo>
                  <a:lnTo>
                    <a:pt x="1451" y="1314"/>
                  </a:lnTo>
                  <a:lnTo>
                    <a:pt x="1363" y="1327"/>
                  </a:lnTo>
                  <a:lnTo>
                    <a:pt x="1274" y="1337"/>
                  </a:lnTo>
                  <a:lnTo>
                    <a:pt x="1183" y="1345"/>
                  </a:lnTo>
                  <a:lnTo>
                    <a:pt x="1092" y="1352"/>
                  </a:lnTo>
                  <a:lnTo>
                    <a:pt x="999" y="1356"/>
                  </a:lnTo>
                  <a:lnTo>
                    <a:pt x="904" y="1360"/>
                  </a:lnTo>
                  <a:lnTo>
                    <a:pt x="809" y="1361"/>
                  </a:lnTo>
                  <a:lnTo>
                    <a:pt x="806" y="1383"/>
                  </a:lnTo>
                  <a:lnTo>
                    <a:pt x="803" y="1405"/>
                  </a:lnTo>
                  <a:lnTo>
                    <a:pt x="800" y="1426"/>
                  </a:lnTo>
                  <a:lnTo>
                    <a:pt x="798" y="1446"/>
                  </a:lnTo>
                  <a:lnTo>
                    <a:pt x="797" y="1465"/>
                  </a:lnTo>
                  <a:lnTo>
                    <a:pt x="796" y="1483"/>
                  </a:lnTo>
                  <a:lnTo>
                    <a:pt x="795" y="1500"/>
                  </a:lnTo>
                  <a:lnTo>
                    <a:pt x="795" y="1515"/>
                  </a:lnTo>
                  <a:lnTo>
                    <a:pt x="795" y="1554"/>
                  </a:lnTo>
                  <a:lnTo>
                    <a:pt x="796" y="1591"/>
                  </a:lnTo>
                  <a:lnTo>
                    <a:pt x="797" y="1628"/>
                  </a:lnTo>
                  <a:lnTo>
                    <a:pt x="799" y="1662"/>
                  </a:lnTo>
                  <a:lnTo>
                    <a:pt x="801" y="1696"/>
                  </a:lnTo>
                  <a:lnTo>
                    <a:pt x="804" y="1727"/>
                  </a:lnTo>
                  <a:lnTo>
                    <a:pt x="807" y="1758"/>
                  </a:lnTo>
                  <a:lnTo>
                    <a:pt x="811" y="1788"/>
                  </a:lnTo>
                  <a:lnTo>
                    <a:pt x="816" y="1815"/>
                  </a:lnTo>
                  <a:lnTo>
                    <a:pt x="820" y="1842"/>
                  </a:lnTo>
                  <a:lnTo>
                    <a:pt x="826" y="1866"/>
                  </a:lnTo>
                  <a:lnTo>
                    <a:pt x="832" y="1890"/>
                  </a:lnTo>
                  <a:lnTo>
                    <a:pt x="838" y="1913"/>
                  </a:lnTo>
                  <a:lnTo>
                    <a:pt x="846" y="1934"/>
                  </a:lnTo>
                  <a:lnTo>
                    <a:pt x="852" y="1952"/>
                  </a:lnTo>
                  <a:lnTo>
                    <a:pt x="861" y="1971"/>
                  </a:lnTo>
                  <a:lnTo>
                    <a:pt x="866" y="1981"/>
                  </a:lnTo>
                  <a:lnTo>
                    <a:pt x="870" y="1991"/>
                  </a:lnTo>
                  <a:lnTo>
                    <a:pt x="873" y="1998"/>
                  </a:lnTo>
                  <a:lnTo>
                    <a:pt x="877" y="2004"/>
                  </a:lnTo>
                  <a:lnTo>
                    <a:pt x="879" y="2007"/>
                  </a:lnTo>
                  <a:lnTo>
                    <a:pt x="881" y="2011"/>
                  </a:lnTo>
                  <a:lnTo>
                    <a:pt x="881" y="2011"/>
                  </a:lnTo>
                  <a:lnTo>
                    <a:pt x="882" y="2010"/>
                  </a:lnTo>
                  <a:lnTo>
                    <a:pt x="881" y="2015"/>
                  </a:lnTo>
                  <a:lnTo>
                    <a:pt x="880" y="2021"/>
                  </a:lnTo>
                  <a:lnTo>
                    <a:pt x="877" y="2025"/>
                  </a:lnTo>
                  <a:lnTo>
                    <a:pt x="872" y="2030"/>
                  </a:lnTo>
                  <a:lnTo>
                    <a:pt x="867" y="2034"/>
                  </a:lnTo>
                  <a:lnTo>
                    <a:pt x="860" y="2037"/>
                  </a:lnTo>
                  <a:lnTo>
                    <a:pt x="852" y="2041"/>
                  </a:lnTo>
                  <a:lnTo>
                    <a:pt x="843" y="2044"/>
                  </a:lnTo>
                  <a:lnTo>
                    <a:pt x="834" y="2047"/>
                  </a:lnTo>
                  <a:lnTo>
                    <a:pt x="822" y="2049"/>
                  </a:lnTo>
                  <a:lnTo>
                    <a:pt x="810" y="2050"/>
                  </a:lnTo>
                  <a:lnTo>
                    <a:pt x="796" y="2053"/>
                  </a:lnTo>
                  <a:lnTo>
                    <a:pt x="766" y="2055"/>
                  </a:lnTo>
                  <a:lnTo>
                    <a:pt x="730" y="2055"/>
                  </a:lnTo>
                  <a:lnTo>
                    <a:pt x="720" y="2055"/>
                  </a:lnTo>
                  <a:lnTo>
                    <a:pt x="709" y="2055"/>
                  </a:lnTo>
                  <a:lnTo>
                    <a:pt x="697" y="2054"/>
                  </a:lnTo>
                  <a:lnTo>
                    <a:pt x="684" y="2053"/>
                  </a:lnTo>
                  <a:lnTo>
                    <a:pt x="671" y="2052"/>
                  </a:lnTo>
                  <a:lnTo>
                    <a:pt x="658" y="2049"/>
                  </a:lnTo>
                  <a:lnTo>
                    <a:pt x="644" y="2047"/>
                  </a:lnTo>
                  <a:lnTo>
                    <a:pt x="629" y="2045"/>
                  </a:lnTo>
                  <a:lnTo>
                    <a:pt x="614" y="2043"/>
                  </a:lnTo>
                  <a:lnTo>
                    <a:pt x="601" y="2041"/>
                  </a:lnTo>
                  <a:lnTo>
                    <a:pt x="588" y="2038"/>
                  </a:lnTo>
                  <a:lnTo>
                    <a:pt x="576" y="2037"/>
                  </a:lnTo>
                  <a:lnTo>
                    <a:pt x="566" y="2036"/>
                  </a:lnTo>
                  <a:lnTo>
                    <a:pt x="556" y="2035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29" y="2035"/>
                  </a:lnTo>
                  <a:lnTo>
                    <a:pt x="522" y="2035"/>
                  </a:lnTo>
                  <a:lnTo>
                    <a:pt x="514" y="2036"/>
                  </a:lnTo>
                  <a:lnTo>
                    <a:pt x="507" y="2036"/>
                  </a:lnTo>
                  <a:lnTo>
                    <a:pt x="498" y="2037"/>
                  </a:lnTo>
                  <a:lnTo>
                    <a:pt x="489" y="2038"/>
                  </a:lnTo>
                  <a:lnTo>
                    <a:pt x="478" y="2039"/>
                  </a:lnTo>
                  <a:lnTo>
                    <a:pt x="468" y="2041"/>
                  </a:lnTo>
                  <a:lnTo>
                    <a:pt x="459" y="2042"/>
                  </a:lnTo>
                  <a:lnTo>
                    <a:pt x="450" y="2043"/>
                  </a:lnTo>
                  <a:lnTo>
                    <a:pt x="443" y="2043"/>
                  </a:lnTo>
                  <a:lnTo>
                    <a:pt x="435" y="2044"/>
                  </a:lnTo>
                  <a:lnTo>
                    <a:pt x="428" y="2044"/>
                  </a:lnTo>
                  <a:lnTo>
                    <a:pt x="423" y="2044"/>
                  </a:lnTo>
                  <a:lnTo>
                    <a:pt x="417" y="2044"/>
                  </a:lnTo>
                  <a:lnTo>
                    <a:pt x="395" y="2044"/>
                  </a:lnTo>
                  <a:lnTo>
                    <a:pt x="371" y="2042"/>
                  </a:lnTo>
                  <a:lnTo>
                    <a:pt x="344" y="2039"/>
                  </a:lnTo>
                  <a:lnTo>
                    <a:pt x="315" y="2036"/>
                  </a:lnTo>
                  <a:lnTo>
                    <a:pt x="284" y="2032"/>
                  </a:lnTo>
                  <a:lnTo>
                    <a:pt x="249" y="2026"/>
                  </a:lnTo>
                  <a:lnTo>
                    <a:pt x="213" y="2021"/>
                  </a:lnTo>
                  <a:lnTo>
                    <a:pt x="176" y="2013"/>
                  </a:lnTo>
                  <a:lnTo>
                    <a:pt x="134" y="2004"/>
                  </a:lnTo>
                  <a:lnTo>
                    <a:pt x="98" y="1996"/>
                  </a:lnTo>
                  <a:lnTo>
                    <a:pt x="68" y="1988"/>
                  </a:lnTo>
                  <a:lnTo>
                    <a:pt x="44" y="1980"/>
                  </a:lnTo>
                  <a:lnTo>
                    <a:pt x="24" y="1972"/>
                  </a:lnTo>
                  <a:lnTo>
                    <a:pt x="11" y="1964"/>
                  </a:lnTo>
                  <a:lnTo>
                    <a:pt x="6" y="1961"/>
                  </a:lnTo>
                  <a:lnTo>
                    <a:pt x="2" y="1958"/>
                  </a:lnTo>
                  <a:lnTo>
                    <a:pt x="0" y="1953"/>
                  </a:lnTo>
                  <a:lnTo>
                    <a:pt x="0" y="1950"/>
                  </a:lnTo>
                  <a:lnTo>
                    <a:pt x="0" y="1948"/>
                  </a:lnTo>
                  <a:lnTo>
                    <a:pt x="1" y="1945"/>
                  </a:lnTo>
                  <a:lnTo>
                    <a:pt x="2" y="1942"/>
                  </a:lnTo>
                  <a:lnTo>
                    <a:pt x="3" y="1939"/>
                  </a:lnTo>
                  <a:lnTo>
                    <a:pt x="6" y="1935"/>
                  </a:lnTo>
                  <a:lnTo>
                    <a:pt x="8" y="1931"/>
                  </a:lnTo>
                  <a:lnTo>
                    <a:pt x="11" y="1927"/>
                  </a:lnTo>
                  <a:lnTo>
                    <a:pt x="15" y="1922"/>
                  </a:lnTo>
                  <a:lnTo>
                    <a:pt x="19" y="1918"/>
                  </a:lnTo>
                  <a:lnTo>
                    <a:pt x="22" y="1914"/>
                  </a:lnTo>
                  <a:lnTo>
                    <a:pt x="25" y="1910"/>
                  </a:lnTo>
                  <a:lnTo>
                    <a:pt x="28" y="1907"/>
                  </a:lnTo>
                  <a:lnTo>
                    <a:pt x="30" y="1904"/>
                  </a:lnTo>
                  <a:lnTo>
                    <a:pt x="32" y="1900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8" y="1875"/>
                  </a:lnTo>
                  <a:lnTo>
                    <a:pt x="41" y="1850"/>
                  </a:lnTo>
                  <a:lnTo>
                    <a:pt x="45" y="1818"/>
                  </a:lnTo>
                  <a:lnTo>
                    <a:pt x="49" y="1781"/>
                  </a:lnTo>
                  <a:lnTo>
                    <a:pt x="56" y="1691"/>
                  </a:lnTo>
                  <a:lnTo>
                    <a:pt x="65" y="1577"/>
                  </a:lnTo>
                  <a:lnTo>
                    <a:pt x="74" y="1442"/>
                  </a:lnTo>
                  <a:lnTo>
                    <a:pt x="83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0"/>
                  </a:lnTo>
                  <a:lnTo>
                    <a:pt x="108" y="778"/>
                  </a:lnTo>
                  <a:lnTo>
                    <a:pt x="110" y="720"/>
                  </a:lnTo>
                  <a:lnTo>
                    <a:pt x="113" y="664"/>
                  </a:lnTo>
                  <a:lnTo>
                    <a:pt x="115" y="611"/>
                  </a:lnTo>
                  <a:lnTo>
                    <a:pt x="116" y="563"/>
                  </a:lnTo>
                  <a:lnTo>
                    <a:pt x="116" y="518"/>
                  </a:lnTo>
                  <a:lnTo>
                    <a:pt x="116" y="475"/>
                  </a:lnTo>
                  <a:close/>
                  <a:moveTo>
                    <a:pt x="1381" y="211"/>
                  </a:moveTo>
                  <a:lnTo>
                    <a:pt x="1334" y="211"/>
                  </a:lnTo>
                  <a:lnTo>
                    <a:pt x="1288" y="212"/>
                  </a:lnTo>
                  <a:lnTo>
                    <a:pt x="1245" y="212"/>
                  </a:lnTo>
                  <a:lnTo>
                    <a:pt x="1203" y="213"/>
                  </a:lnTo>
                  <a:lnTo>
                    <a:pt x="1164" y="214"/>
                  </a:lnTo>
                  <a:lnTo>
                    <a:pt x="1126" y="215"/>
                  </a:lnTo>
                  <a:lnTo>
                    <a:pt x="1091" y="216"/>
                  </a:lnTo>
                  <a:lnTo>
                    <a:pt x="1057" y="219"/>
                  </a:lnTo>
                  <a:lnTo>
                    <a:pt x="1023" y="220"/>
                  </a:lnTo>
                  <a:lnTo>
                    <a:pt x="992" y="222"/>
                  </a:lnTo>
                  <a:lnTo>
                    <a:pt x="965" y="224"/>
                  </a:lnTo>
                  <a:lnTo>
                    <a:pt x="941" y="227"/>
                  </a:lnTo>
                  <a:lnTo>
                    <a:pt x="920" y="231"/>
                  </a:lnTo>
                  <a:lnTo>
                    <a:pt x="901" y="234"/>
                  </a:lnTo>
                  <a:lnTo>
                    <a:pt x="886" y="239"/>
                  </a:lnTo>
                  <a:lnTo>
                    <a:pt x="874" y="242"/>
                  </a:lnTo>
                  <a:lnTo>
                    <a:pt x="866" y="247"/>
                  </a:lnTo>
                  <a:lnTo>
                    <a:pt x="857" y="254"/>
                  </a:lnTo>
                  <a:lnTo>
                    <a:pt x="848" y="262"/>
                  </a:lnTo>
                  <a:lnTo>
                    <a:pt x="841" y="269"/>
                  </a:lnTo>
                  <a:lnTo>
                    <a:pt x="836" y="279"/>
                  </a:lnTo>
                  <a:lnTo>
                    <a:pt x="830" y="290"/>
                  </a:lnTo>
                  <a:lnTo>
                    <a:pt x="826" y="303"/>
                  </a:lnTo>
                  <a:lnTo>
                    <a:pt x="822" y="316"/>
                  </a:lnTo>
                  <a:lnTo>
                    <a:pt x="811" y="411"/>
                  </a:lnTo>
                  <a:lnTo>
                    <a:pt x="803" y="509"/>
                  </a:lnTo>
                  <a:lnTo>
                    <a:pt x="794" y="610"/>
                  </a:lnTo>
                  <a:lnTo>
                    <a:pt x="787" y="714"/>
                  </a:lnTo>
                  <a:lnTo>
                    <a:pt x="782" y="821"/>
                  </a:lnTo>
                  <a:lnTo>
                    <a:pt x="778" y="932"/>
                  </a:lnTo>
                  <a:lnTo>
                    <a:pt x="776" y="1045"/>
                  </a:lnTo>
                  <a:lnTo>
                    <a:pt x="775" y="1162"/>
                  </a:lnTo>
                  <a:lnTo>
                    <a:pt x="775" y="1168"/>
                  </a:lnTo>
                  <a:lnTo>
                    <a:pt x="776" y="1173"/>
                  </a:lnTo>
                  <a:lnTo>
                    <a:pt x="778" y="1178"/>
                  </a:lnTo>
                  <a:lnTo>
                    <a:pt x="782" y="1182"/>
                  </a:lnTo>
                  <a:lnTo>
                    <a:pt x="785" y="1186"/>
                  </a:lnTo>
                  <a:lnTo>
                    <a:pt x="789" y="1191"/>
                  </a:lnTo>
                  <a:lnTo>
                    <a:pt x="795" y="1194"/>
                  </a:lnTo>
                  <a:lnTo>
                    <a:pt x="801" y="1197"/>
                  </a:lnTo>
                  <a:lnTo>
                    <a:pt x="808" y="1200"/>
                  </a:lnTo>
                  <a:lnTo>
                    <a:pt x="817" y="1203"/>
                  </a:lnTo>
                  <a:lnTo>
                    <a:pt x="825" y="1204"/>
                  </a:lnTo>
                  <a:lnTo>
                    <a:pt x="835" y="1206"/>
                  </a:lnTo>
                  <a:lnTo>
                    <a:pt x="857" y="1209"/>
                  </a:lnTo>
                  <a:lnTo>
                    <a:pt x="882" y="1210"/>
                  </a:lnTo>
                  <a:lnTo>
                    <a:pt x="925" y="1209"/>
                  </a:lnTo>
                  <a:lnTo>
                    <a:pt x="972" y="1205"/>
                  </a:lnTo>
                  <a:lnTo>
                    <a:pt x="1019" y="1201"/>
                  </a:lnTo>
                  <a:lnTo>
                    <a:pt x="1070" y="1194"/>
                  </a:lnTo>
                  <a:lnTo>
                    <a:pt x="1123" y="1185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49"/>
                  </a:lnTo>
                  <a:lnTo>
                    <a:pt x="1342" y="1137"/>
                  </a:lnTo>
                  <a:lnTo>
                    <a:pt x="1389" y="1125"/>
                  </a:lnTo>
                  <a:lnTo>
                    <a:pt x="1434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4" y="1069"/>
                  </a:lnTo>
                  <a:lnTo>
                    <a:pt x="1605" y="1054"/>
                  </a:lnTo>
                  <a:lnTo>
                    <a:pt x="1645" y="1039"/>
                  </a:lnTo>
                  <a:lnTo>
                    <a:pt x="1685" y="1022"/>
                  </a:lnTo>
                  <a:lnTo>
                    <a:pt x="1722" y="1005"/>
                  </a:lnTo>
                  <a:lnTo>
                    <a:pt x="1759" y="989"/>
                  </a:lnTo>
                  <a:lnTo>
                    <a:pt x="1794" y="971"/>
                  </a:lnTo>
                  <a:lnTo>
                    <a:pt x="1828" y="952"/>
                  </a:lnTo>
                  <a:lnTo>
                    <a:pt x="1861" y="935"/>
                  </a:lnTo>
                  <a:lnTo>
                    <a:pt x="1893" y="915"/>
                  </a:lnTo>
                  <a:lnTo>
                    <a:pt x="1925" y="896"/>
                  </a:lnTo>
                  <a:lnTo>
                    <a:pt x="1955" y="875"/>
                  </a:lnTo>
                  <a:lnTo>
                    <a:pt x="1984" y="854"/>
                  </a:lnTo>
                  <a:lnTo>
                    <a:pt x="2009" y="834"/>
                  </a:lnTo>
                  <a:lnTo>
                    <a:pt x="2035" y="813"/>
                  </a:lnTo>
                  <a:lnTo>
                    <a:pt x="2057" y="792"/>
                  </a:lnTo>
                  <a:lnTo>
                    <a:pt x="2078" y="772"/>
                  </a:lnTo>
                  <a:lnTo>
                    <a:pt x="2098" y="751"/>
                  </a:lnTo>
                  <a:lnTo>
                    <a:pt x="2114" y="730"/>
                  </a:lnTo>
                  <a:lnTo>
                    <a:pt x="2130" y="709"/>
                  </a:lnTo>
                  <a:lnTo>
                    <a:pt x="2144" y="688"/>
                  </a:lnTo>
                  <a:lnTo>
                    <a:pt x="2155" y="667"/>
                  </a:lnTo>
                  <a:lnTo>
                    <a:pt x="2165" y="645"/>
                  </a:lnTo>
                  <a:lnTo>
                    <a:pt x="2174" y="624"/>
                  </a:lnTo>
                  <a:lnTo>
                    <a:pt x="2180" y="602"/>
                  </a:lnTo>
                  <a:lnTo>
                    <a:pt x="2185" y="581"/>
                  </a:lnTo>
                  <a:lnTo>
                    <a:pt x="2187" y="559"/>
                  </a:lnTo>
                  <a:lnTo>
                    <a:pt x="2187" y="533"/>
                  </a:lnTo>
                  <a:lnTo>
                    <a:pt x="2188" y="513"/>
                  </a:lnTo>
                  <a:lnTo>
                    <a:pt x="2186" y="493"/>
                  </a:lnTo>
                  <a:lnTo>
                    <a:pt x="2184" y="476"/>
                  </a:lnTo>
                  <a:lnTo>
                    <a:pt x="2179" y="457"/>
                  </a:lnTo>
                  <a:lnTo>
                    <a:pt x="2173" y="440"/>
                  </a:lnTo>
                  <a:lnTo>
                    <a:pt x="2165" y="424"/>
                  </a:lnTo>
                  <a:lnTo>
                    <a:pt x="2156" y="407"/>
                  </a:lnTo>
                  <a:lnTo>
                    <a:pt x="2145" y="392"/>
                  </a:lnTo>
                  <a:lnTo>
                    <a:pt x="2132" y="378"/>
                  </a:lnTo>
                  <a:lnTo>
                    <a:pt x="2117" y="363"/>
                  </a:lnTo>
                  <a:lnTo>
                    <a:pt x="2101" y="350"/>
                  </a:lnTo>
                  <a:lnTo>
                    <a:pt x="2083" y="337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0" y="303"/>
                  </a:lnTo>
                  <a:lnTo>
                    <a:pt x="1996" y="291"/>
                  </a:lnTo>
                  <a:lnTo>
                    <a:pt x="1970" y="282"/>
                  </a:lnTo>
                  <a:lnTo>
                    <a:pt x="1942" y="273"/>
                  </a:lnTo>
                  <a:lnTo>
                    <a:pt x="1913" y="264"/>
                  </a:lnTo>
                  <a:lnTo>
                    <a:pt x="1882" y="256"/>
                  </a:lnTo>
                  <a:lnTo>
                    <a:pt x="1849" y="250"/>
                  </a:lnTo>
                  <a:lnTo>
                    <a:pt x="1815" y="243"/>
                  </a:lnTo>
                  <a:lnTo>
                    <a:pt x="1780" y="236"/>
                  </a:lnTo>
                  <a:lnTo>
                    <a:pt x="1742" y="231"/>
                  </a:lnTo>
                  <a:lnTo>
                    <a:pt x="1702" y="226"/>
                  </a:lnTo>
                  <a:lnTo>
                    <a:pt x="1662" y="222"/>
                  </a:lnTo>
                  <a:lnTo>
                    <a:pt x="1618" y="219"/>
                  </a:lnTo>
                  <a:lnTo>
                    <a:pt x="1574" y="216"/>
                  </a:lnTo>
                  <a:lnTo>
                    <a:pt x="1529" y="214"/>
                  </a:lnTo>
                  <a:lnTo>
                    <a:pt x="1482" y="212"/>
                  </a:lnTo>
                  <a:lnTo>
                    <a:pt x="1432" y="211"/>
                  </a:lnTo>
                  <a:lnTo>
                    <a:pt x="1381" y="21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9556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6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6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79" y="390"/>
                  </a:lnTo>
                  <a:lnTo>
                    <a:pt x="64" y="376"/>
                  </a:lnTo>
                  <a:lnTo>
                    <a:pt x="49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49" y="81"/>
                  </a:lnTo>
                  <a:lnTo>
                    <a:pt x="64" y="65"/>
                  </a:lnTo>
                  <a:lnTo>
                    <a:pt x="79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6864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40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9" y="81"/>
                  </a:lnTo>
                  <a:lnTo>
                    <a:pt x="401" y="97"/>
                  </a:lnTo>
                  <a:lnTo>
                    <a:pt x="412" y="115"/>
                  </a:lnTo>
                  <a:lnTo>
                    <a:pt x="422" y="135"/>
                  </a:lnTo>
                  <a:lnTo>
                    <a:pt x="430" y="155"/>
                  </a:lnTo>
                  <a:lnTo>
                    <a:pt x="434" y="176"/>
                  </a:lnTo>
                  <a:lnTo>
                    <a:pt x="436" y="187"/>
                  </a:lnTo>
                  <a:lnTo>
                    <a:pt x="437" y="198"/>
                  </a:lnTo>
                  <a:lnTo>
                    <a:pt x="438" y="209"/>
                  </a:lnTo>
                  <a:lnTo>
                    <a:pt x="440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30" y="285"/>
                  </a:lnTo>
                  <a:lnTo>
                    <a:pt x="422" y="305"/>
                  </a:lnTo>
                  <a:lnTo>
                    <a:pt x="412" y="325"/>
                  </a:lnTo>
                  <a:lnTo>
                    <a:pt x="401" y="342"/>
                  </a:lnTo>
                  <a:lnTo>
                    <a:pt x="389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6" y="435"/>
                  </a:lnTo>
                  <a:lnTo>
                    <a:pt x="155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0" y="360"/>
                  </a:lnTo>
                  <a:lnTo>
                    <a:pt x="38" y="342"/>
                  </a:lnTo>
                  <a:lnTo>
                    <a:pt x="27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5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5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7" y="115"/>
                  </a:lnTo>
                  <a:lnTo>
                    <a:pt x="38" y="97"/>
                  </a:lnTo>
                  <a:lnTo>
                    <a:pt x="50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4882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19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5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5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4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19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1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51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65240" y="191268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1">
                  <a:moveTo>
                    <a:pt x="918" y="269"/>
                  </a:moveTo>
                  <a:lnTo>
                    <a:pt x="1433" y="246"/>
                  </a:lnTo>
                  <a:lnTo>
                    <a:pt x="1947" y="225"/>
                  </a:lnTo>
                  <a:lnTo>
                    <a:pt x="2460" y="204"/>
                  </a:lnTo>
                  <a:lnTo>
                    <a:pt x="2975" y="185"/>
                  </a:lnTo>
                  <a:lnTo>
                    <a:pt x="3489" y="168"/>
                  </a:lnTo>
                  <a:lnTo>
                    <a:pt x="4004" y="151"/>
                  </a:lnTo>
                  <a:lnTo>
                    <a:pt x="4517" y="135"/>
                  </a:lnTo>
                  <a:lnTo>
                    <a:pt x="5032" y="120"/>
                  </a:lnTo>
                  <a:lnTo>
                    <a:pt x="5545" y="107"/>
                  </a:lnTo>
                  <a:lnTo>
                    <a:pt x="6059" y="94"/>
                  </a:lnTo>
                  <a:lnTo>
                    <a:pt x="6573" y="83"/>
                  </a:lnTo>
                  <a:lnTo>
                    <a:pt x="7085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2" y="45"/>
                  </a:lnTo>
                  <a:lnTo>
                    <a:pt x="9133" y="37"/>
                  </a:lnTo>
                  <a:lnTo>
                    <a:pt x="9644" y="31"/>
                  </a:lnTo>
                  <a:lnTo>
                    <a:pt x="10154" y="25"/>
                  </a:lnTo>
                  <a:lnTo>
                    <a:pt x="10664" y="20"/>
                  </a:lnTo>
                  <a:lnTo>
                    <a:pt x="11173" y="15"/>
                  </a:lnTo>
                  <a:lnTo>
                    <a:pt x="11682" y="12"/>
                  </a:lnTo>
                  <a:lnTo>
                    <a:pt x="12190" y="9"/>
                  </a:lnTo>
                  <a:lnTo>
                    <a:pt x="12697" y="5"/>
                  </a:lnTo>
                  <a:lnTo>
                    <a:pt x="13202" y="4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1"/>
                  </a:lnTo>
                  <a:lnTo>
                    <a:pt x="17218" y="2"/>
                  </a:lnTo>
                  <a:lnTo>
                    <a:pt x="17313" y="3"/>
                  </a:lnTo>
                  <a:lnTo>
                    <a:pt x="17391" y="5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5"/>
                  </a:lnTo>
                  <a:lnTo>
                    <a:pt x="17580" y="28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5"/>
                  </a:lnTo>
                  <a:lnTo>
                    <a:pt x="17583" y="37"/>
                  </a:lnTo>
                  <a:lnTo>
                    <a:pt x="17581" y="40"/>
                  </a:lnTo>
                  <a:lnTo>
                    <a:pt x="17575" y="44"/>
                  </a:lnTo>
                  <a:lnTo>
                    <a:pt x="17569" y="48"/>
                  </a:lnTo>
                  <a:lnTo>
                    <a:pt x="17562" y="52"/>
                  </a:lnTo>
                  <a:lnTo>
                    <a:pt x="17558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59" y="57"/>
                  </a:lnTo>
                  <a:lnTo>
                    <a:pt x="17562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5"/>
                  </a:lnTo>
                  <a:lnTo>
                    <a:pt x="14270" y="93"/>
                  </a:lnTo>
                  <a:lnTo>
                    <a:pt x="13721" y="101"/>
                  </a:lnTo>
                  <a:lnTo>
                    <a:pt x="13173" y="111"/>
                  </a:lnTo>
                  <a:lnTo>
                    <a:pt x="12623" y="121"/>
                  </a:lnTo>
                  <a:lnTo>
                    <a:pt x="12074" y="132"/>
                  </a:lnTo>
                  <a:lnTo>
                    <a:pt x="11525" y="144"/>
                  </a:lnTo>
                  <a:lnTo>
                    <a:pt x="10977" y="158"/>
                  </a:lnTo>
                  <a:lnTo>
                    <a:pt x="10427" y="171"/>
                  </a:lnTo>
                  <a:lnTo>
                    <a:pt x="9878" y="184"/>
                  </a:lnTo>
                  <a:lnTo>
                    <a:pt x="9331" y="200"/>
                  </a:lnTo>
                  <a:lnTo>
                    <a:pt x="8782" y="215"/>
                  </a:lnTo>
                  <a:lnTo>
                    <a:pt x="8233" y="231"/>
                  </a:lnTo>
                  <a:lnTo>
                    <a:pt x="7686" y="248"/>
                  </a:lnTo>
                  <a:lnTo>
                    <a:pt x="7138" y="265"/>
                  </a:lnTo>
                  <a:lnTo>
                    <a:pt x="6590" y="284"/>
                  </a:lnTo>
                  <a:lnTo>
                    <a:pt x="6044" y="301"/>
                  </a:lnTo>
                  <a:lnTo>
                    <a:pt x="5498" y="321"/>
                  </a:lnTo>
                  <a:lnTo>
                    <a:pt x="4951" y="341"/>
                  </a:lnTo>
                  <a:lnTo>
                    <a:pt x="4406" y="361"/>
                  </a:lnTo>
                  <a:lnTo>
                    <a:pt x="3315" y="403"/>
                  </a:lnTo>
                  <a:lnTo>
                    <a:pt x="2227" y="447"/>
                  </a:lnTo>
                  <a:lnTo>
                    <a:pt x="1141" y="493"/>
                  </a:lnTo>
                  <a:lnTo>
                    <a:pt x="57" y="541"/>
                  </a:lnTo>
                  <a:lnTo>
                    <a:pt x="38" y="541"/>
                  </a:lnTo>
                  <a:lnTo>
                    <a:pt x="23" y="538"/>
                  </a:lnTo>
                  <a:lnTo>
                    <a:pt x="12" y="535"/>
                  </a:lnTo>
                  <a:lnTo>
                    <a:pt x="4" y="531"/>
                  </a:lnTo>
                  <a:lnTo>
                    <a:pt x="0" y="524"/>
                  </a:lnTo>
                  <a:lnTo>
                    <a:pt x="0" y="517"/>
                  </a:lnTo>
                  <a:lnTo>
                    <a:pt x="2" y="510"/>
                  </a:lnTo>
                  <a:lnTo>
                    <a:pt x="8" y="501"/>
                  </a:lnTo>
                  <a:lnTo>
                    <a:pt x="17" y="491"/>
                  </a:lnTo>
                  <a:lnTo>
                    <a:pt x="30" y="480"/>
                  </a:lnTo>
                  <a:lnTo>
                    <a:pt x="46" y="469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3"/>
                  </a:lnTo>
                  <a:lnTo>
                    <a:pt x="136" y="419"/>
                  </a:lnTo>
                  <a:lnTo>
                    <a:pt x="166" y="407"/>
                  </a:lnTo>
                  <a:lnTo>
                    <a:pt x="198" y="394"/>
                  </a:lnTo>
                  <a:lnTo>
                    <a:pt x="233" y="381"/>
                  </a:lnTo>
                  <a:lnTo>
                    <a:pt x="270" y="369"/>
                  </a:lnTo>
                  <a:lnTo>
                    <a:pt x="309" y="356"/>
                  </a:lnTo>
                  <a:lnTo>
                    <a:pt x="350" y="344"/>
                  </a:lnTo>
                  <a:lnTo>
                    <a:pt x="393" y="333"/>
                  </a:lnTo>
                  <a:lnTo>
                    <a:pt x="438" y="322"/>
                  </a:lnTo>
                  <a:lnTo>
                    <a:pt x="485" y="312"/>
                  </a:lnTo>
                  <a:lnTo>
                    <a:pt x="534" y="302"/>
                  </a:lnTo>
                  <a:lnTo>
                    <a:pt x="585" y="295"/>
                  </a:lnTo>
                  <a:lnTo>
                    <a:pt x="637" y="287"/>
                  </a:lnTo>
                  <a:lnTo>
                    <a:pt x="691" y="281"/>
                  </a:lnTo>
                  <a:lnTo>
                    <a:pt x="746" y="276"/>
                  </a:lnTo>
                  <a:lnTo>
                    <a:pt x="802" y="272"/>
                  </a:lnTo>
                  <a:lnTo>
                    <a:pt x="860" y="270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98720" y="187776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0">
                  <a:moveTo>
                    <a:pt x="918" y="269"/>
                  </a:moveTo>
                  <a:lnTo>
                    <a:pt x="1433" y="246"/>
                  </a:lnTo>
                  <a:lnTo>
                    <a:pt x="1947" y="224"/>
                  </a:lnTo>
                  <a:lnTo>
                    <a:pt x="2462" y="204"/>
                  </a:lnTo>
                  <a:lnTo>
                    <a:pt x="2976" y="185"/>
                  </a:lnTo>
                  <a:lnTo>
                    <a:pt x="3489" y="167"/>
                  </a:lnTo>
                  <a:lnTo>
                    <a:pt x="4004" y="150"/>
                  </a:lnTo>
                  <a:lnTo>
                    <a:pt x="4518" y="135"/>
                  </a:lnTo>
                  <a:lnTo>
                    <a:pt x="5032" y="120"/>
                  </a:lnTo>
                  <a:lnTo>
                    <a:pt x="5546" y="106"/>
                  </a:lnTo>
                  <a:lnTo>
                    <a:pt x="6059" y="94"/>
                  </a:lnTo>
                  <a:lnTo>
                    <a:pt x="6573" y="82"/>
                  </a:lnTo>
                  <a:lnTo>
                    <a:pt x="7086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3" y="44"/>
                  </a:lnTo>
                  <a:lnTo>
                    <a:pt x="9134" y="37"/>
                  </a:lnTo>
                  <a:lnTo>
                    <a:pt x="9645" y="31"/>
                  </a:lnTo>
                  <a:lnTo>
                    <a:pt x="10155" y="24"/>
                  </a:lnTo>
                  <a:lnTo>
                    <a:pt x="10664" y="20"/>
                  </a:lnTo>
                  <a:lnTo>
                    <a:pt x="11174" y="15"/>
                  </a:lnTo>
                  <a:lnTo>
                    <a:pt x="11682" y="11"/>
                  </a:lnTo>
                  <a:lnTo>
                    <a:pt x="12190" y="8"/>
                  </a:lnTo>
                  <a:lnTo>
                    <a:pt x="12697" y="5"/>
                  </a:lnTo>
                  <a:lnTo>
                    <a:pt x="13203" y="3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0"/>
                  </a:lnTo>
                  <a:lnTo>
                    <a:pt x="17219" y="2"/>
                  </a:lnTo>
                  <a:lnTo>
                    <a:pt x="17314" y="3"/>
                  </a:lnTo>
                  <a:lnTo>
                    <a:pt x="17391" y="4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4"/>
                  </a:lnTo>
                  <a:lnTo>
                    <a:pt x="17580" y="26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4"/>
                  </a:lnTo>
                  <a:lnTo>
                    <a:pt x="17583" y="36"/>
                  </a:lnTo>
                  <a:lnTo>
                    <a:pt x="17582" y="40"/>
                  </a:lnTo>
                  <a:lnTo>
                    <a:pt x="17576" y="44"/>
                  </a:lnTo>
                  <a:lnTo>
                    <a:pt x="17569" y="47"/>
                  </a:lnTo>
                  <a:lnTo>
                    <a:pt x="17563" y="52"/>
                  </a:lnTo>
                  <a:lnTo>
                    <a:pt x="17559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60" y="56"/>
                  </a:lnTo>
                  <a:lnTo>
                    <a:pt x="17563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4"/>
                  </a:lnTo>
                  <a:lnTo>
                    <a:pt x="14271" y="93"/>
                  </a:lnTo>
                  <a:lnTo>
                    <a:pt x="13721" y="101"/>
                  </a:lnTo>
                  <a:lnTo>
                    <a:pt x="13173" y="110"/>
                  </a:lnTo>
                  <a:lnTo>
                    <a:pt x="12624" y="121"/>
                  </a:lnTo>
                  <a:lnTo>
                    <a:pt x="12074" y="132"/>
                  </a:lnTo>
                  <a:lnTo>
                    <a:pt x="11525" y="145"/>
                  </a:lnTo>
                  <a:lnTo>
                    <a:pt x="10977" y="157"/>
                  </a:lnTo>
                  <a:lnTo>
                    <a:pt x="10428" y="170"/>
                  </a:lnTo>
                  <a:lnTo>
                    <a:pt x="9879" y="184"/>
                  </a:lnTo>
                  <a:lnTo>
                    <a:pt x="9331" y="199"/>
                  </a:lnTo>
                  <a:lnTo>
                    <a:pt x="8782" y="214"/>
                  </a:lnTo>
                  <a:lnTo>
                    <a:pt x="8234" y="231"/>
                  </a:lnTo>
                  <a:lnTo>
                    <a:pt x="7687" y="247"/>
                  </a:lnTo>
                  <a:lnTo>
                    <a:pt x="7139" y="265"/>
                  </a:lnTo>
                  <a:lnTo>
                    <a:pt x="6592" y="282"/>
                  </a:lnTo>
                  <a:lnTo>
                    <a:pt x="6044" y="301"/>
                  </a:lnTo>
                  <a:lnTo>
                    <a:pt x="5498" y="320"/>
                  </a:lnTo>
                  <a:lnTo>
                    <a:pt x="4952" y="340"/>
                  </a:lnTo>
                  <a:lnTo>
                    <a:pt x="4406" y="361"/>
                  </a:lnTo>
                  <a:lnTo>
                    <a:pt x="3316" y="403"/>
                  </a:lnTo>
                  <a:lnTo>
                    <a:pt x="2227" y="447"/>
                  </a:lnTo>
                  <a:lnTo>
                    <a:pt x="1141" y="492"/>
                  </a:lnTo>
                  <a:lnTo>
                    <a:pt x="58" y="540"/>
                  </a:lnTo>
                  <a:lnTo>
                    <a:pt x="39" y="540"/>
                  </a:lnTo>
                  <a:lnTo>
                    <a:pt x="24" y="538"/>
                  </a:lnTo>
                  <a:lnTo>
                    <a:pt x="12" y="535"/>
                  </a:lnTo>
                  <a:lnTo>
                    <a:pt x="4" y="530"/>
                  </a:lnTo>
                  <a:lnTo>
                    <a:pt x="1" y="524"/>
                  </a:lnTo>
                  <a:lnTo>
                    <a:pt x="0" y="518"/>
                  </a:lnTo>
                  <a:lnTo>
                    <a:pt x="3" y="509"/>
                  </a:lnTo>
                  <a:lnTo>
                    <a:pt x="8" y="500"/>
                  </a:lnTo>
                  <a:lnTo>
                    <a:pt x="18" y="490"/>
                  </a:lnTo>
                  <a:lnTo>
                    <a:pt x="31" y="480"/>
                  </a:lnTo>
                  <a:lnTo>
                    <a:pt x="46" y="468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1"/>
                  </a:lnTo>
                  <a:lnTo>
                    <a:pt x="138" y="419"/>
                  </a:lnTo>
                  <a:lnTo>
                    <a:pt x="167" y="406"/>
                  </a:lnTo>
                  <a:lnTo>
                    <a:pt x="199" y="394"/>
                  </a:lnTo>
                  <a:lnTo>
                    <a:pt x="234" y="381"/>
                  </a:lnTo>
                  <a:lnTo>
                    <a:pt x="270" y="369"/>
                  </a:lnTo>
                  <a:lnTo>
                    <a:pt x="309" y="355"/>
                  </a:lnTo>
                  <a:lnTo>
                    <a:pt x="351" y="344"/>
                  </a:lnTo>
                  <a:lnTo>
                    <a:pt x="394" y="332"/>
                  </a:lnTo>
                  <a:lnTo>
                    <a:pt x="439" y="322"/>
                  </a:lnTo>
                  <a:lnTo>
                    <a:pt x="485" y="311"/>
                  </a:lnTo>
                  <a:lnTo>
                    <a:pt x="535" y="302"/>
                  </a:lnTo>
                  <a:lnTo>
                    <a:pt x="585" y="293"/>
                  </a:lnTo>
                  <a:lnTo>
                    <a:pt x="638" y="287"/>
                  </a:lnTo>
                  <a:lnTo>
                    <a:pt x="691" y="280"/>
                  </a:lnTo>
                  <a:lnTo>
                    <a:pt x="746" y="276"/>
                  </a:lnTo>
                  <a:lnTo>
                    <a:pt x="802" y="271"/>
                  </a:lnTo>
                  <a:lnTo>
                    <a:pt x="860" y="269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9" name="AFRICA" descr=""/>
          <p:cNvPicPr/>
          <p:nvPr/>
        </p:nvPicPr>
        <p:blipFill>
          <a:blip r:embed="rId2"/>
          <a:stretch/>
        </p:blipFill>
        <p:spPr>
          <a:xfrm>
            <a:off x="1295280" y="2895480"/>
            <a:ext cx="2936880" cy="3048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1981080" y="3581280"/>
            <a:ext cx="609624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5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ttitudes &amp; Prejudic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1981080" y="2968560"/>
            <a:ext cx="5639040" cy="2694600"/>
            <a:chOff x="1981080" y="2968560"/>
            <a:chExt cx="5639040" cy="2694600"/>
          </a:xfrm>
        </p:grpSpPr>
        <p:sp>
          <p:nvSpPr>
            <p:cNvPr id="112" name=""/>
            <p:cNvSpPr/>
            <p:nvPr/>
          </p:nvSpPr>
          <p:spPr>
            <a:xfrm>
              <a:off x="3977640" y="2968560"/>
              <a:ext cx="1579680" cy="533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500" spc="-1" strike="noStrike">
                  <a:solidFill>
                    <a:srgbClr val="902444"/>
                  </a:solidFill>
                  <a:latin typeface="Geometr231 Hv BT"/>
                </a:rPr>
                <a:t>DENIAL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030920" y="3510000"/>
              <a:ext cx="1472760" cy="533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500" spc="-1" strike="noStrike">
                  <a:solidFill>
                    <a:srgbClr val="902444"/>
                  </a:solidFill>
                  <a:latin typeface="Geometr231 Hv BT"/>
                </a:rPr>
                <a:t>ANGER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381840" y="4049640"/>
              <a:ext cx="2765160" cy="533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500" spc="-1" strike="noStrike">
                  <a:solidFill>
                    <a:srgbClr val="902444"/>
                  </a:solidFill>
                  <a:latin typeface="Geometr231 Hv BT"/>
                </a:rPr>
                <a:t>BARGAINING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422160" y="4589640"/>
              <a:ext cx="2690640" cy="533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500" spc="-1" strike="noStrike">
                  <a:solidFill>
                    <a:srgbClr val="902444"/>
                  </a:solidFill>
                  <a:latin typeface="Geometr231 Hv BT"/>
                </a:rPr>
                <a:t>DEPRESSION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93200" y="5129280"/>
              <a:ext cx="4973400" cy="533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500" spc="-1" strike="noStrike">
                  <a:solidFill>
                    <a:srgbClr val="902444"/>
                  </a:solidFill>
                  <a:latin typeface="Geometr231 Hv BT"/>
                </a:rPr>
                <a:t>ACCEPTANCE &amp; ACTION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446640" y="3081240"/>
              <a:ext cx="307800" cy="243000"/>
            </a:xfrm>
            <a:custGeom>
              <a:avLst/>
              <a:gdLst/>
              <a:ahLst/>
              <a:rect l="l" t="t" r="r" b="b"/>
              <a:pathLst>
                <a:path w="968" h="765">
                  <a:moveTo>
                    <a:pt x="0" y="765"/>
                  </a:moveTo>
                  <a:lnTo>
                    <a:pt x="0" y="0"/>
                  </a:lnTo>
                  <a:lnTo>
                    <a:pt x="968" y="383"/>
                  </a:lnTo>
                  <a:lnTo>
                    <a:pt x="0" y="76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578560" y="3081240"/>
              <a:ext cx="307800" cy="243000"/>
            </a:xfrm>
            <a:custGeom>
              <a:avLst/>
              <a:gdLst/>
              <a:ahLst/>
              <a:rect l="l" t="t" r="r" b="b"/>
              <a:pathLst>
                <a:path w="967" h="765">
                  <a:moveTo>
                    <a:pt x="967" y="765"/>
                  </a:moveTo>
                  <a:lnTo>
                    <a:pt x="967" y="0"/>
                  </a:lnTo>
                  <a:lnTo>
                    <a:pt x="0" y="383"/>
                  </a:lnTo>
                  <a:lnTo>
                    <a:pt x="967" y="76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465360" y="3657600"/>
              <a:ext cx="306720" cy="243000"/>
            </a:xfrm>
            <a:custGeom>
              <a:avLst/>
              <a:gdLst/>
              <a:ahLst/>
              <a:rect l="l" t="t" r="r" b="b"/>
              <a:pathLst>
                <a:path w="969" h="764">
                  <a:moveTo>
                    <a:pt x="0" y="764"/>
                  </a:moveTo>
                  <a:lnTo>
                    <a:pt x="0" y="0"/>
                  </a:lnTo>
                  <a:lnTo>
                    <a:pt x="969" y="382"/>
                  </a:lnTo>
                  <a:lnTo>
                    <a:pt x="0" y="76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60920" y="3657600"/>
              <a:ext cx="308160" cy="243000"/>
            </a:xfrm>
            <a:custGeom>
              <a:avLst/>
              <a:gdLst/>
              <a:ahLst/>
              <a:rect l="l" t="t" r="r" b="b"/>
              <a:pathLst>
                <a:path w="968" h="764">
                  <a:moveTo>
                    <a:pt x="968" y="764"/>
                  </a:moveTo>
                  <a:lnTo>
                    <a:pt x="968" y="0"/>
                  </a:lnTo>
                  <a:lnTo>
                    <a:pt x="0" y="382"/>
                  </a:lnTo>
                  <a:lnTo>
                    <a:pt x="968" y="76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830680" y="4187880"/>
              <a:ext cx="307800" cy="243000"/>
            </a:xfrm>
            <a:custGeom>
              <a:avLst/>
              <a:gdLst/>
              <a:ahLst/>
              <a:rect l="l" t="t" r="r" b="b"/>
              <a:pathLst>
                <a:path w="968" h="764">
                  <a:moveTo>
                    <a:pt x="0" y="764"/>
                  </a:moveTo>
                  <a:lnTo>
                    <a:pt x="0" y="0"/>
                  </a:lnTo>
                  <a:lnTo>
                    <a:pt x="968" y="382"/>
                  </a:lnTo>
                  <a:lnTo>
                    <a:pt x="0" y="76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46800" y="4187880"/>
              <a:ext cx="308160" cy="243000"/>
            </a:xfrm>
            <a:custGeom>
              <a:avLst/>
              <a:gdLst/>
              <a:ahLst/>
              <a:rect l="l" t="t" r="r" b="b"/>
              <a:pathLst>
                <a:path w="969" h="764">
                  <a:moveTo>
                    <a:pt x="969" y="764"/>
                  </a:moveTo>
                  <a:lnTo>
                    <a:pt x="969" y="0"/>
                  </a:lnTo>
                  <a:lnTo>
                    <a:pt x="0" y="382"/>
                  </a:lnTo>
                  <a:lnTo>
                    <a:pt x="969" y="76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997360" y="4703760"/>
              <a:ext cx="306360" cy="243000"/>
            </a:xfrm>
            <a:custGeom>
              <a:avLst/>
              <a:gdLst/>
              <a:ahLst/>
              <a:rect l="l" t="t" r="r" b="b"/>
              <a:pathLst>
                <a:path w="968" h="765">
                  <a:moveTo>
                    <a:pt x="0" y="765"/>
                  </a:moveTo>
                  <a:lnTo>
                    <a:pt x="0" y="0"/>
                  </a:lnTo>
                  <a:lnTo>
                    <a:pt x="968" y="383"/>
                  </a:lnTo>
                  <a:lnTo>
                    <a:pt x="0" y="76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181560" y="4703760"/>
              <a:ext cx="308160" cy="243000"/>
            </a:xfrm>
            <a:custGeom>
              <a:avLst/>
              <a:gdLst/>
              <a:ahLst/>
              <a:rect l="l" t="t" r="r" b="b"/>
              <a:pathLst>
                <a:path w="968" h="765">
                  <a:moveTo>
                    <a:pt x="968" y="765"/>
                  </a:moveTo>
                  <a:lnTo>
                    <a:pt x="968" y="0"/>
                  </a:lnTo>
                  <a:lnTo>
                    <a:pt x="0" y="383"/>
                  </a:lnTo>
                  <a:lnTo>
                    <a:pt x="968" y="76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81080" y="5246640"/>
              <a:ext cx="308160" cy="243000"/>
            </a:xfrm>
            <a:custGeom>
              <a:avLst/>
              <a:gdLst/>
              <a:ahLst/>
              <a:rect l="l" t="t" r="r" b="b"/>
              <a:pathLst>
                <a:path w="968" h="764">
                  <a:moveTo>
                    <a:pt x="0" y="764"/>
                  </a:moveTo>
                  <a:lnTo>
                    <a:pt x="0" y="0"/>
                  </a:lnTo>
                  <a:lnTo>
                    <a:pt x="968" y="382"/>
                  </a:lnTo>
                  <a:lnTo>
                    <a:pt x="0" y="76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13760" y="5246640"/>
              <a:ext cx="306360" cy="243000"/>
            </a:xfrm>
            <a:custGeom>
              <a:avLst/>
              <a:gdLst/>
              <a:ahLst/>
              <a:rect l="l" t="t" r="r" b="b"/>
              <a:pathLst>
                <a:path w="968" h="764">
                  <a:moveTo>
                    <a:pt x="968" y="764"/>
                  </a:moveTo>
                  <a:lnTo>
                    <a:pt x="968" y="0"/>
                  </a:lnTo>
                  <a:lnTo>
                    <a:pt x="0" y="382"/>
                  </a:lnTo>
                  <a:lnTo>
                    <a:pt x="968" y="76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725560" y="1787400"/>
            <a:ext cx="3884760" cy="758880"/>
            <a:chOff x="2725560" y="1787400"/>
            <a:chExt cx="3884760" cy="758880"/>
          </a:xfrm>
        </p:grpSpPr>
        <p:sp>
          <p:nvSpPr>
            <p:cNvPr id="128" name=""/>
            <p:cNvSpPr/>
            <p:nvPr/>
          </p:nvSpPr>
          <p:spPr>
            <a:xfrm>
              <a:off x="2725560" y="1859040"/>
              <a:ext cx="1624320" cy="687240"/>
            </a:xfrm>
            <a:custGeom>
              <a:avLst/>
              <a:gdLst/>
              <a:ahLst/>
              <a:rect l="l" t="t" r="r" b="b"/>
              <a:pathLst>
                <a:path w="5112" h="2166">
                  <a:moveTo>
                    <a:pt x="3185" y="2166"/>
                  </a:moveTo>
                  <a:lnTo>
                    <a:pt x="3234" y="2166"/>
                  </a:lnTo>
                  <a:lnTo>
                    <a:pt x="3269" y="2155"/>
                  </a:lnTo>
                  <a:lnTo>
                    <a:pt x="3305" y="2155"/>
                  </a:lnTo>
                  <a:lnTo>
                    <a:pt x="3353" y="2143"/>
                  </a:lnTo>
                  <a:lnTo>
                    <a:pt x="3388" y="2143"/>
                  </a:lnTo>
                  <a:lnTo>
                    <a:pt x="3424" y="2131"/>
                  </a:lnTo>
                  <a:lnTo>
                    <a:pt x="3460" y="2118"/>
                  </a:lnTo>
                  <a:lnTo>
                    <a:pt x="3508" y="2107"/>
                  </a:lnTo>
                  <a:lnTo>
                    <a:pt x="3543" y="2107"/>
                  </a:lnTo>
                  <a:lnTo>
                    <a:pt x="3580" y="2095"/>
                  </a:lnTo>
                  <a:lnTo>
                    <a:pt x="3616" y="2083"/>
                  </a:lnTo>
                  <a:lnTo>
                    <a:pt x="3651" y="2071"/>
                  </a:lnTo>
                  <a:lnTo>
                    <a:pt x="3687" y="2058"/>
                  </a:lnTo>
                  <a:lnTo>
                    <a:pt x="3724" y="2047"/>
                  </a:lnTo>
                  <a:lnTo>
                    <a:pt x="3760" y="2023"/>
                  </a:lnTo>
                  <a:lnTo>
                    <a:pt x="3795" y="2011"/>
                  </a:lnTo>
                  <a:lnTo>
                    <a:pt x="3831" y="1998"/>
                  </a:lnTo>
                  <a:lnTo>
                    <a:pt x="3867" y="1975"/>
                  </a:lnTo>
                  <a:lnTo>
                    <a:pt x="3903" y="1963"/>
                  </a:lnTo>
                  <a:lnTo>
                    <a:pt x="3927" y="1939"/>
                  </a:lnTo>
                  <a:lnTo>
                    <a:pt x="3963" y="1928"/>
                  </a:lnTo>
                  <a:lnTo>
                    <a:pt x="3988" y="1903"/>
                  </a:lnTo>
                  <a:lnTo>
                    <a:pt x="4024" y="1879"/>
                  </a:lnTo>
                  <a:lnTo>
                    <a:pt x="4047" y="1854"/>
                  </a:lnTo>
                  <a:lnTo>
                    <a:pt x="4083" y="1832"/>
                  </a:lnTo>
                  <a:lnTo>
                    <a:pt x="4107" y="1807"/>
                  </a:lnTo>
                  <a:lnTo>
                    <a:pt x="4131" y="1784"/>
                  </a:lnTo>
                  <a:lnTo>
                    <a:pt x="4154" y="1748"/>
                  </a:lnTo>
                  <a:lnTo>
                    <a:pt x="4178" y="1724"/>
                  </a:lnTo>
                  <a:lnTo>
                    <a:pt x="4203" y="1699"/>
                  </a:lnTo>
                  <a:lnTo>
                    <a:pt x="4226" y="1664"/>
                  </a:lnTo>
                  <a:lnTo>
                    <a:pt x="4239" y="1628"/>
                  </a:lnTo>
                  <a:lnTo>
                    <a:pt x="4262" y="1591"/>
                  </a:lnTo>
                  <a:lnTo>
                    <a:pt x="4274" y="1556"/>
                  </a:lnTo>
                  <a:lnTo>
                    <a:pt x="4287" y="1520"/>
                  </a:lnTo>
                  <a:lnTo>
                    <a:pt x="4298" y="1496"/>
                  </a:lnTo>
                  <a:lnTo>
                    <a:pt x="4311" y="1460"/>
                  </a:lnTo>
                  <a:lnTo>
                    <a:pt x="4333" y="1436"/>
                  </a:lnTo>
                  <a:lnTo>
                    <a:pt x="4358" y="1412"/>
                  </a:lnTo>
                  <a:lnTo>
                    <a:pt x="4394" y="1387"/>
                  </a:lnTo>
                  <a:lnTo>
                    <a:pt x="4645" y="694"/>
                  </a:lnTo>
                  <a:lnTo>
                    <a:pt x="4922" y="551"/>
                  </a:lnTo>
                  <a:lnTo>
                    <a:pt x="5112" y="191"/>
                  </a:lnTo>
                  <a:lnTo>
                    <a:pt x="5077" y="24"/>
                  </a:lnTo>
                  <a:lnTo>
                    <a:pt x="5064" y="11"/>
                  </a:lnTo>
                  <a:lnTo>
                    <a:pt x="5041" y="11"/>
                  </a:lnTo>
                  <a:lnTo>
                    <a:pt x="5029" y="0"/>
                  </a:lnTo>
                  <a:lnTo>
                    <a:pt x="5004" y="0"/>
                  </a:lnTo>
                  <a:lnTo>
                    <a:pt x="4993" y="0"/>
                  </a:lnTo>
                  <a:lnTo>
                    <a:pt x="4968" y="0"/>
                  </a:lnTo>
                  <a:lnTo>
                    <a:pt x="4944" y="0"/>
                  </a:lnTo>
                  <a:lnTo>
                    <a:pt x="4922" y="0"/>
                  </a:lnTo>
                  <a:lnTo>
                    <a:pt x="4909" y="11"/>
                  </a:lnTo>
                  <a:lnTo>
                    <a:pt x="4885" y="11"/>
                  </a:lnTo>
                  <a:lnTo>
                    <a:pt x="4860" y="24"/>
                  </a:lnTo>
                  <a:lnTo>
                    <a:pt x="4849" y="36"/>
                  </a:lnTo>
                  <a:lnTo>
                    <a:pt x="4825" y="36"/>
                  </a:lnTo>
                  <a:lnTo>
                    <a:pt x="4814" y="47"/>
                  </a:lnTo>
                  <a:lnTo>
                    <a:pt x="4800" y="59"/>
                  </a:lnTo>
                  <a:lnTo>
                    <a:pt x="4789" y="71"/>
                  </a:lnTo>
                  <a:lnTo>
                    <a:pt x="4765" y="119"/>
                  </a:lnTo>
                  <a:lnTo>
                    <a:pt x="4741" y="167"/>
                  </a:lnTo>
                  <a:lnTo>
                    <a:pt x="4705" y="203"/>
                  </a:lnTo>
                  <a:lnTo>
                    <a:pt x="4670" y="239"/>
                  </a:lnTo>
                  <a:lnTo>
                    <a:pt x="4634" y="288"/>
                  </a:lnTo>
                  <a:lnTo>
                    <a:pt x="4585" y="310"/>
                  </a:lnTo>
                  <a:lnTo>
                    <a:pt x="4537" y="347"/>
                  </a:lnTo>
                  <a:lnTo>
                    <a:pt x="4490" y="382"/>
                  </a:lnTo>
                  <a:lnTo>
                    <a:pt x="4441" y="407"/>
                  </a:lnTo>
                  <a:lnTo>
                    <a:pt x="4382" y="431"/>
                  </a:lnTo>
                  <a:lnTo>
                    <a:pt x="4322" y="454"/>
                  </a:lnTo>
                  <a:lnTo>
                    <a:pt x="4262" y="478"/>
                  </a:lnTo>
                  <a:lnTo>
                    <a:pt x="4203" y="490"/>
                  </a:lnTo>
                  <a:lnTo>
                    <a:pt x="4143" y="514"/>
                  </a:lnTo>
                  <a:lnTo>
                    <a:pt x="4083" y="526"/>
                  </a:lnTo>
                  <a:lnTo>
                    <a:pt x="4010" y="538"/>
                  </a:lnTo>
                  <a:lnTo>
                    <a:pt x="3975" y="538"/>
                  </a:lnTo>
                  <a:lnTo>
                    <a:pt x="3939" y="538"/>
                  </a:lnTo>
                  <a:lnTo>
                    <a:pt x="3903" y="538"/>
                  </a:lnTo>
                  <a:lnTo>
                    <a:pt x="3855" y="538"/>
                  </a:lnTo>
                  <a:lnTo>
                    <a:pt x="3820" y="538"/>
                  </a:lnTo>
                  <a:lnTo>
                    <a:pt x="3784" y="538"/>
                  </a:lnTo>
                  <a:lnTo>
                    <a:pt x="3736" y="538"/>
                  </a:lnTo>
                  <a:lnTo>
                    <a:pt x="3700" y="526"/>
                  </a:lnTo>
                  <a:lnTo>
                    <a:pt x="3664" y="526"/>
                  </a:lnTo>
                  <a:lnTo>
                    <a:pt x="3628" y="526"/>
                  </a:lnTo>
                  <a:lnTo>
                    <a:pt x="3580" y="526"/>
                  </a:lnTo>
                  <a:lnTo>
                    <a:pt x="3543" y="526"/>
                  </a:lnTo>
                  <a:lnTo>
                    <a:pt x="3508" y="526"/>
                  </a:lnTo>
                  <a:lnTo>
                    <a:pt x="3472" y="526"/>
                  </a:lnTo>
                  <a:lnTo>
                    <a:pt x="3436" y="514"/>
                  </a:lnTo>
                  <a:lnTo>
                    <a:pt x="3388" y="514"/>
                  </a:lnTo>
                  <a:lnTo>
                    <a:pt x="3353" y="514"/>
                  </a:lnTo>
                  <a:lnTo>
                    <a:pt x="3317" y="514"/>
                  </a:lnTo>
                  <a:lnTo>
                    <a:pt x="3280" y="503"/>
                  </a:lnTo>
                  <a:lnTo>
                    <a:pt x="3245" y="503"/>
                  </a:lnTo>
                  <a:lnTo>
                    <a:pt x="3197" y="503"/>
                  </a:lnTo>
                  <a:lnTo>
                    <a:pt x="3161" y="490"/>
                  </a:lnTo>
                  <a:lnTo>
                    <a:pt x="3125" y="490"/>
                  </a:lnTo>
                  <a:lnTo>
                    <a:pt x="3090" y="478"/>
                  </a:lnTo>
                  <a:lnTo>
                    <a:pt x="3054" y="478"/>
                  </a:lnTo>
                  <a:lnTo>
                    <a:pt x="3005" y="467"/>
                  </a:lnTo>
                  <a:lnTo>
                    <a:pt x="2970" y="467"/>
                  </a:lnTo>
                  <a:lnTo>
                    <a:pt x="2933" y="454"/>
                  </a:lnTo>
                  <a:lnTo>
                    <a:pt x="2897" y="454"/>
                  </a:lnTo>
                  <a:lnTo>
                    <a:pt x="2861" y="443"/>
                  </a:lnTo>
                  <a:lnTo>
                    <a:pt x="2826" y="443"/>
                  </a:lnTo>
                  <a:lnTo>
                    <a:pt x="2778" y="431"/>
                  </a:lnTo>
                  <a:lnTo>
                    <a:pt x="2729" y="418"/>
                  </a:lnTo>
                  <a:lnTo>
                    <a:pt x="2670" y="395"/>
                  </a:lnTo>
                  <a:lnTo>
                    <a:pt x="2610" y="382"/>
                  </a:lnTo>
                  <a:lnTo>
                    <a:pt x="2563" y="370"/>
                  </a:lnTo>
                  <a:lnTo>
                    <a:pt x="2503" y="347"/>
                  </a:lnTo>
                  <a:lnTo>
                    <a:pt x="2444" y="334"/>
                  </a:lnTo>
                  <a:lnTo>
                    <a:pt x="2395" y="323"/>
                  </a:lnTo>
                  <a:lnTo>
                    <a:pt x="2334" y="310"/>
                  </a:lnTo>
                  <a:lnTo>
                    <a:pt x="2287" y="288"/>
                  </a:lnTo>
                  <a:lnTo>
                    <a:pt x="2226" y="274"/>
                  </a:lnTo>
                  <a:lnTo>
                    <a:pt x="2167" y="263"/>
                  </a:lnTo>
                  <a:lnTo>
                    <a:pt x="2120" y="251"/>
                  </a:lnTo>
                  <a:lnTo>
                    <a:pt x="2060" y="239"/>
                  </a:lnTo>
                  <a:lnTo>
                    <a:pt x="2011" y="227"/>
                  </a:lnTo>
                  <a:lnTo>
                    <a:pt x="1952" y="215"/>
                  </a:lnTo>
                  <a:lnTo>
                    <a:pt x="1903" y="191"/>
                  </a:lnTo>
                  <a:lnTo>
                    <a:pt x="1844" y="180"/>
                  </a:lnTo>
                  <a:lnTo>
                    <a:pt x="1784" y="167"/>
                  </a:lnTo>
                  <a:lnTo>
                    <a:pt x="1736" y="167"/>
                  </a:lnTo>
                  <a:lnTo>
                    <a:pt x="1676" y="155"/>
                  </a:lnTo>
                  <a:lnTo>
                    <a:pt x="1629" y="144"/>
                  </a:lnTo>
                  <a:lnTo>
                    <a:pt x="1569" y="131"/>
                  </a:lnTo>
                  <a:lnTo>
                    <a:pt x="1521" y="119"/>
                  </a:lnTo>
                  <a:lnTo>
                    <a:pt x="1461" y="119"/>
                  </a:lnTo>
                  <a:lnTo>
                    <a:pt x="1413" y="107"/>
                  </a:lnTo>
                  <a:lnTo>
                    <a:pt x="1353" y="107"/>
                  </a:lnTo>
                  <a:lnTo>
                    <a:pt x="1306" y="95"/>
                  </a:lnTo>
                  <a:lnTo>
                    <a:pt x="1246" y="95"/>
                  </a:lnTo>
                  <a:lnTo>
                    <a:pt x="1198" y="95"/>
                  </a:lnTo>
                  <a:lnTo>
                    <a:pt x="1138" y="95"/>
                  </a:lnTo>
                  <a:lnTo>
                    <a:pt x="1090" y="95"/>
                  </a:lnTo>
                  <a:lnTo>
                    <a:pt x="1042" y="95"/>
                  </a:lnTo>
                  <a:lnTo>
                    <a:pt x="1005" y="95"/>
                  </a:lnTo>
                  <a:lnTo>
                    <a:pt x="970" y="95"/>
                  </a:lnTo>
                  <a:lnTo>
                    <a:pt x="934" y="95"/>
                  </a:lnTo>
                  <a:lnTo>
                    <a:pt x="910" y="95"/>
                  </a:lnTo>
                  <a:lnTo>
                    <a:pt x="875" y="95"/>
                  </a:lnTo>
                  <a:lnTo>
                    <a:pt x="839" y="95"/>
                  </a:lnTo>
                  <a:lnTo>
                    <a:pt x="802" y="95"/>
                  </a:lnTo>
                  <a:lnTo>
                    <a:pt x="779" y="95"/>
                  </a:lnTo>
                  <a:lnTo>
                    <a:pt x="742" y="95"/>
                  </a:lnTo>
                  <a:lnTo>
                    <a:pt x="707" y="107"/>
                  </a:lnTo>
                  <a:lnTo>
                    <a:pt x="671" y="107"/>
                  </a:lnTo>
                  <a:lnTo>
                    <a:pt x="646" y="107"/>
                  </a:lnTo>
                  <a:lnTo>
                    <a:pt x="611" y="107"/>
                  </a:lnTo>
                  <a:lnTo>
                    <a:pt x="575" y="107"/>
                  </a:lnTo>
                  <a:lnTo>
                    <a:pt x="538" y="107"/>
                  </a:lnTo>
                  <a:lnTo>
                    <a:pt x="516" y="107"/>
                  </a:lnTo>
                  <a:lnTo>
                    <a:pt x="478" y="119"/>
                  </a:lnTo>
                  <a:lnTo>
                    <a:pt x="444" y="119"/>
                  </a:lnTo>
                  <a:lnTo>
                    <a:pt x="419" y="119"/>
                  </a:lnTo>
                  <a:lnTo>
                    <a:pt x="383" y="131"/>
                  </a:lnTo>
                  <a:lnTo>
                    <a:pt x="348" y="131"/>
                  </a:lnTo>
                  <a:lnTo>
                    <a:pt x="323" y="131"/>
                  </a:lnTo>
                  <a:lnTo>
                    <a:pt x="288" y="144"/>
                  </a:lnTo>
                  <a:lnTo>
                    <a:pt x="264" y="144"/>
                  </a:lnTo>
                  <a:lnTo>
                    <a:pt x="229" y="155"/>
                  </a:lnTo>
                  <a:lnTo>
                    <a:pt x="204" y="167"/>
                  </a:lnTo>
                  <a:lnTo>
                    <a:pt x="168" y="167"/>
                  </a:lnTo>
                  <a:lnTo>
                    <a:pt x="144" y="180"/>
                  </a:lnTo>
                  <a:lnTo>
                    <a:pt x="108" y="191"/>
                  </a:lnTo>
                  <a:lnTo>
                    <a:pt x="85" y="203"/>
                  </a:lnTo>
                  <a:lnTo>
                    <a:pt x="60" y="215"/>
                  </a:lnTo>
                  <a:lnTo>
                    <a:pt x="25" y="227"/>
                  </a:lnTo>
                  <a:lnTo>
                    <a:pt x="11" y="251"/>
                  </a:lnTo>
                  <a:lnTo>
                    <a:pt x="0" y="274"/>
                  </a:lnTo>
                  <a:lnTo>
                    <a:pt x="0" y="288"/>
                  </a:lnTo>
                  <a:lnTo>
                    <a:pt x="0" y="299"/>
                  </a:lnTo>
                  <a:lnTo>
                    <a:pt x="0" y="323"/>
                  </a:lnTo>
                  <a:lnTo>
                    <a:pt x="0" y="347"/>
                  </a:lnTo>
                  <a:lnTo>
                    <a:pt x="0" y="370"/>
                  </a:lnTo>
                  <a:lnTo>
                    <a:pt x="0" y="395"/>
                  </a:lnTo>
                  <a:lnTo>
                    <a:pt x="11" y="418"/>
                  </a:lnTo>
                  <a:lnTo>
                    <a:pt x="25" y="431"/>
                  </a:lnTo>
                  <a:lnTo>
                    <a:pt x="36" y="443"/>
                  </a:lnTo>
                  <a:lnTo>
                    <a:pt x="49" y="454"/>
                  </a:lnTo>
                  <a:lnTo>
                    <a:pt x="60" y="467"/>
                  </a:lnTo>
                  <a:lnTo>
                    <a:pt x="72" y="478"/>
                  </a:lnTo>
                  <a:lnTo>
                    <a:pt x="96" y="490"/>
                  </a:lnTo>
                  <a:lnTo>
                    <a:pt x="108" y="503"/>
                  </a:lnTo>
                  <a:lnTo>
                    <a:pt x="119" y="503"/>
                  </a:lnTo>
                  <a:lnTo>
                    <a:pt x="133" y="514"/>
                  </a:lnTo>
                  <a:lnTo>
                    <a:pt x="155" y="526"/>
                  </a:lnTo>
                  <a:lnTo>
                    <a:pt x="168" y="538"/>
                  </a:lnTo>
                  <a:lnTo>
                    <a:pt x="180" y="538"/>
                  </a:lnTo>
                  <a:lnTo>
                    <a:pt x="204" y="551"/>
                  </a:lnTo>
                  <a:lnTo>
                    <a:pt x="215" y="562"/>
                  </a:lnTo>
                  <a:lnTo>
                    <a:pt x="229" y="574"/>
                  </a:lnTo>
                  <a:lnTo>
                    <a:pt x="275" y="574"/>
                  </a:lnTo>
                  <a:lnTo>
                    <a:pt x="312" y="574"/>
                  </a:lnTo>
                  <a:lnTo>
                    <a:pt x="359" y="586"/>
                  </a:lnTo>
                  <a:lnTo>
                    <a:pt x="396" y="586"/>
                  </a:lnTo>
                  <a:lnTo>
                    <a:pt x="431" y="597"/>
                  </a:lnTo>
                  <a:lnTo>
                    <a:pt x="467" y="611"/>
                  </a:lnTo>
                  <a:lnTo>
                    <a:pt x="516" y="611"/>
                  </a:lnTo>
                  <a:lnTo>
                    <a:pt x="552" y="622"/>
                  </a:lnTo>
                  <a:lnTo>
                    <a:pt x="587" y="634"/>
                  </a:lnTo>
                  <a:lnTo>
                    <a:pt x="623" y="658"/>
                  </a:lnTo>
                  <a:lnTo>
                    <a:pt x="660" y="670"/>
                  </a:lnTo>
                  <a:lnTo>
                    <a:pt x="695" y="694"/>
                  </a:lnTo>
                  <a:lnTo>
                    <a:pt x="731" y="706"/>
                  </a:lnTo>
                  <a:lnTo>
                    <a:pt x="767" y="730"/>
                  </a:lnTo>
                  <a:lnTo>
                    <a:pt x="802" y="754"/>
                  </a:lnTo>
                  <a:lnTo>
                    <a:pt x="826" y="766"/>
                  </a:lnTo>
                  <a:lnTo>
                    <a:pt x="863" y="790"/>
                  </a:lnTo>
                  <a:lnTo>
                    <a:pt x="898" y="814"/>
                  </a:lnTo>
                  <a:lnTo>
                    <a:pt x="923" y="837"/>
                  </a:lnTo>
                  <a:lnTo>
                    <a:pt x="958" y="874"/>
                  </a:lnTo>
                  <a:lnTo>
                    <a:pt x="994" y="898"/>
                  </a:lnTo>
                  <a:lnTo>
                    <a:pt x="1018" y="921"/>
                  </a:lnTo>
                  <a:lnTo>
                    <a:pt x="1054" y="957"/>
                  </a:lnTo>
                  <a:lnTo>
                    <a:pt x="1078" y="981"/>
                  </a:lnTo>
                  <a:lnTo>
                    <a:pt x="1113" y="1005"/>
                  </a:lnTo>
                  <a:lnTo>
                    <a:pt x="1149" y="1041"/>
                  </a:lnTo>
                  <a:lnTo>
                    <a:pt x="1173" y="1078"/>
                  </a:lnTo>
                  <a:lnTo>
                    <a:pt x="1209" y="1101"/>
                  </a:lnTo>
                  <a:lnTo>
                    <a:pt x="1234" y="1137"/>
                  </a:lnTo>
                  <a:lnTo>
                    <a:pt x="1269" y="1161"/>
                  </a:lnTo>
                  <a:lnTo>
                    <a:pt x="1293" y="1197"/>
                  </a:lnTo>
                  <a:lnTo>
                    <a:pt x="1317" y="1233"/>
                  </a:lnTo>
                  <a:lnTo>
                    <a:pt x="1329" y="1244"/>
                  </a:lnTo>
                  <a:lnTo>
                    <a:pt x="1342" y="1257"/>
                  </a:lnTo>
                  <a:lnTo>
                    <a:pt x="1342" y="1268"/>
                  </a:lnTo>
                  <a:lnTo>
                    <a:pt x="1353" y="1268"/>
                  </a:lnTo>
                  <a:lnTo>
                    <a:pt x="1353" y="1280"/>
                  </a:lnTo>
                  <a:lnTo>
                    <a:pt x="1365" y="1280"/>
                  </a:lnTo>
                  <a:lnTo>
                    <a:pt x="1365" y="1316"/>
                  </a:lnTo>
                  <a:lnTo>
                    <a:pt x="1377" y="1352"/>
                  </a:lnTo>
                  <a:lnTo>
                    <a:pt x="1401" y="1387"/>
                  </a:lnTo>
                  <a:lnTo>
                    <a:pt x="1425" y="1412"/>
                  </a:lnTo>
                  <a:lnTo>
                    <a:pt x="1450" y="1436"/>
                  </a:lnTo>
                  <a:lnTo>
                    <a:pt x="1472" y="1460"/>
                  </a:lnTo>
                  <a:lnTo>
                    <a:pt x="1497" y="1484"/>
                  </a:lnTo>
                  <a:lnTo>
                    <a:pt x="1532" y="1508"/>
                  </a:lnTo>
                  <a:lnTo>
                    <a:pt x="1557" y="1520"/>
                  </a:lnTo>
                  <a:lnTo>
                    <a:pt x="1593" y="1544"/>
                  </a:lnTo>
                  <a:lnTo>
                    <a:pt x="1629" y="1567"/>
                  </a:lnTo>
                  <a:lnTo>
                    <a:pt x="1653" y="1580"/>
                  </a:lnTo>
                  <a:lnTo>
                    <a:pt x="1688" y="1605"/>
                  </a:lnTo>
                  <a:lnTo>
                    <a:pt x="1713" y="1628"/>
                  </a:lnTo>
                  <a:lnTo>
                    <a:pt x="1736" y="1664"/>
                  </a:lnTo>
                  <a:lnTo>
                    <a:pt x="1760" y="1688"/>
                  </a:lnTo>
                  <a:lnTo>
                    <a:pt x="1795" y="1711"/>
                  </a:lnTo>
                  <a:lnTo>
                    <a:pt x="1832" y="1735"/>
                  </a:lnTo>
                  <a:lnTo>
                    <a:pt x="1880" y="1760"/>
                  </a:lnTo>
                  <a:lnTo>
                    <a:pt x="1917" y="1784"/>
                  </a:lnTo>
                  <a:lnTo>
                    <a:pt x="1963" y="1795"/>
                  </a:lnTo>
                  <a:lnTo>
                    <a:pt x="1999" y="1819"/>
                  </a:lnTo>
                  <a:lnTo>
                    <a:pt x="2047" y="1843"/>
                  </a:lnTo>
                  <a:lnTo>
                    <a:pt x="2083" y="1868"/>
                  </a:lnTo>
                  <a:lnTo>
                    <a:pt x="2132" y="1879"/>
                  </a:lnTo>
                  <a:lnTo>
                    <a:pt x="2167" y="1903"/>
                  </a:lnTo>
                  <a:lnTo>
                    <a:pt x="2215" y="1915"/>
                  </a:lnTo>
                  <a:lnTo>
                    <a:pt x="2262" y="1939"/>
                  </a:lnTo>
                  <a:lnTo>
                    <a:pt x="2300" y="1951"/>
                  </a:lnTo>
                  <a:lnTo>
                    <a:pt x="2347" y="1975"/>
                  </a:lnTo>
                  <a:lnTo>
                    <a:pt x="2395" y="1987"/>
                  </a:lnTo>
                  <a:lnTo>
                    <a:pt x="2430" y="1998"/>
                  </a:lnTo>
                  <a:lnTo>
                    <a:pt x="2479" y="2023"/>
                  </a:lnTo>
                  <a:lnTo>
                    <a:pt x="2527" y="2034"/>
                  </a:lnTo>
                  <a:lnTo>
                    <a:pt x="2574" y="2047"/>
                  </a:lnTo>
                  <a:lnTo>
                    <a:pt x="2623" y="2058"/>
                  </a:lnTo>
                  <a:lnTo>
                    <a:pt x="2659" y="2071"/>
                  </a:lnTo>
                  <a:lnTo>
                    <a:pt x="2707" y="2083"/>
                  </a:lnTo>
                  <a:lnTo>
                    <a:pt x="2753" y="2095"/>
                  </a:lnTo>
                  <a:lnTo>
                    <a:pt x="2802" y="2107"/>
                  </a:lnTo>
                  <a:lnTo>
                    <a:pt x="2850" y="2118"/>
                  </a:lnTo>
                  <a:lnTo>
                    <a:pt x="2897" y="2131"/>
                  </a:lnTo>
                  <a:lnTo>
                    <a:pt x="2946" y="2131"/>
                  </a:lnTo>
                  <a:lnTo>
                    <a:pt x="2993" y="2143"/>
                  </a:lnTo>
                  <a:lnTo>
                    <a:pt x="3041" y="2155"/>
                  </a:lnTo>
                  <a:lnTo>
                    <a:pt x="3090" y="2155"/>
                  </a:lnTo>
                  <a:lnTo>
                    <a:pt x="3137" y="2166"/>
                  </a:lnTo>
                  <a:lnTo>
                    <a:pt x="3185" y="216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892760" y="1787400"/>
              <a:ext cx="1717560" cy="714600"/>
            </a:xfrm>
            <a:custGeom>
              <a:avLst/>
              <a:gdLst/>
              <a:ahLst/>
              <a:rect l="l" t="t" r="r" b="b"/>
              <a:pathLst>
                <a:path w="5411" h="2251">
                  <a:moveTo>
                    <a:pt x="2346" y="2251"/>
                  </a:moveTo>
                  <a:lnTo>
                    <a:pt x="2370" y="2251"/>
                  </a:lnTo>
                  <a:lnTo>
                    <a:pt x="2394" y="2251"/>
                  </a:lnTo>
                  <a:lnTo>
                    <a:pt x="2430" y="2251"/>
                  </a:lnTo>
                  <a:lnTo>
                    <a:pt x="2454" y="2251"/>
                  </a:lnTo>
                  <a:lnTo>
                    <a:pt x="2479" y="2251"/>
                  </a:lnTo>
                  <a:lnTo>
                    <a:pt x="2514" y="2251"/>
                  </a:lnTo>
                  <a:lnTo>
                    <a:pt x="2538" y="2251"/>
                  </a:lnTo>
                  <a:lnTo>
                    <a:pt x="2561" y="2251"/>
                  </a:lnTo>
                  <a:lnTo>
                    <a:pt x="2598" y="2239"/>
                  </a:lnTo>
                  <a:lnTo>
                    <a:pt x="2620" y="2239"/>
                  </a:lnTo>
                  <a:lnTo>
                    <a:pt x="2658" y="2239"/>
                  </a:lnTo>
                  <a:lnTo>
                    <a:pt x="2682" y="2226"/>
                  </a:lnTo>
                  <a:lnTo>
                    <a:pt x="2717" y="2226"/>
                  </a:lnTo>
                  <a:lnTo>
                    <a:pt x="2742" y="2226"/>
                  </a:lnTo>
                  <a:lnTo>
                    <a:pt x="2777" y="2215"/>
                  </a:lnTo>
                  <a:lnTo>
                    <a:pt x="2802" y="2215"/>
                  </a:lnTo>
                  <a:lnTo>
                    <a:pt x="2838" y="2203"/>
                  </a:lnTo>
                  <a:lnTo>
                    <a:pt x="2861" y="2203"/>
                  </a:lnTo>
                  <a:lnTo>
                    <a:pt x="2897" y="2191"/>
                  </a:lnTo>
                  <a:lnTo>
                    <a:pt x="2921" y="2191"/>
                  </a:lnTo>
                  <a:lnTo>
                    <a:pt x="2957" y="2179"/>
                  </a:lnTo>
                  <a:lnTo>
                    <a:pt x="2981" y="2167"/>
                  </a:lnTo>
                  <a:lnTo>
                    <a:pt x="3017" y="2167"/>
                  </a:lnTo>
                  <a:lnTo>
                    <a:pt x="3040" y="2156"/>
                  </a:lnTo>
                  <a:lnTo>
                    <a:pt x="3065" y="2143"/>
                  </a:lnTo>
                  <a:lnTo>
                    <a:pt x="3101" y="2131"/>
                  </a:lnTo>
                  <a:lnTo>
                    <a:pt x="3125" y="2131"/>
                  </a:lnTo>
                  <a:lnTo>
                    <a:pt x="3148" y="2120"/>
                  </a:lnTo>
                  <a:lnTo>
                    <a:pt x="3184" y="2107"/>
                  </a:lnTo>
                  <a:lnTo>
                    <a:pt x="3209" y="2096"/>
                  </a:lnTo>
                  <a:lnTo>
                    <a:pt x="3232" y="2082"/>
                  </a:lnTo>
                  <a:lnTo>
                    <a:pt x="3255" y="2071"/>
                  </a:lnTo>
                  <a:lnTo>
                    <a:pt x="3269" y="2060"/>
                  </a:lnTo>
                  <a:lnTo>
                    <a:pt x="3291" y="2060"/>
                  </a:lnTo>
                  <a:lnTo>
                    <a:pt x="3304" y="2047"/>
                  </a:lnTo>
                  <a:lnTo>
                    <a:pt x="3316" y="2047"/>
                  </a:lnTo>
                  <a:lnTo>
                    <a:pt x="3328" y="2047"/>
                  </a:lnTo>
                  <a:lnTo>
                    <a:pt x="3532" y="1927"/>
                  </a:lnTo>
                  <a:lnTo>
                    <a:pt x="3543" y="1916"/>
                  </a:lnTo>
                  <a:lnTo>
                    <a:pt x="3555" y="1903"/>
                  </a:lnTo>
                  <a:lnTo>
                    <a:pt x="3567" y="1892"/>
                  </a:lnTo>
                  <a:lnTo>
                    <a:pt x="3579" y="1880"/>
                  </a:lnTo>
                  <a:lnTo>
                    <a:pt x="3592" y="1867"/>
                  </a:lnTo>
                  <a:lnTo>
                    <a:pt x="3603" y="1856"/>
                  </a:lnTo>
                  <a:lnTo>
                    <a:pt x="3615" y="1844"/>
                  </a:lnTo>
                  <a:lnTo>
                    <a:pt x="3628" y="1833"/>
                  </a:lnTo>
                  <a:lnTo>
                    <a:pt x="3639" y="1819"/>
                  </a:lnTo>
                  <a:lnTo>
                    <a:pt x="3663" y="1808"/>
                  </a:lnTo>
                  <a:lnTo>
                    <a:pt x="3675" y="1795"/>
                  </a:lnTo>
                  <a:lnTo>
                    <a:pt x="3699" y="1784"/>
                  </a:lnTo>
                  <a:lnTo>
                    <a:pt x="3711" y="1772"/>
                  </a:lnTo>
                  <a:lnTo>
                    <a:pt x="3722" y="1772"/>
                  </a:lnTo>
                  <a:lnTo>
                    <a:pt x="3747" y="1759"/>
                  </a:lnTo>
                  <a:lnTo>
                    <a:pt x="3758" y="1748"/>
                  </a:lnTo>
                  <a:lnTo>
                    <a:pt x="4262" y="1113"/>
                  </a:lnTo>
                  <a:lnTo>
                    <a:pt x="4285" y="1102"/>
                  </a:lnTo>
                  <a:lnTo>
                    <a:pt x="4297" y="1090"/>
                  </a:lnTo>
                  <a:lnTo>
                    <a:pt x="4322" y="1065"/>
                  </a:lnTo>
                  <a:lnTo>
                    <a:pt x="4333" y="1042"/>
                  </a:lnTo>
                  <a:lnTo>
                    <a:pt x="4357" y="1018"/>
                  </a:lnTo>
                  <a:lnTo>
                    <a:pt x="4369" y="994"/>
                  </a:lnTo>
                  <a:lnTo>
                    <a:pt x="4382" y="969"/>
                  </a:lnTo>
                  <a:lnTo>
                    <a:pt x="4393" y="946"/>
                  </a:lnTo>
                  <a:lnTo>
                    <a:pt x="4692" y="766"/>
                  </a:lnTo>
                  <a:lnTo>
                    <a:pt x="4992" y="706"/>
                  </a:lnTo>
                  <a:lnTo>
                    <a:pt x="5015" y="695"/>
                  </a:lnTo>
                  <a:lnTo>
                    <a:pt x="5028" y="682"/>
                  </a:lnTo>
                  <a:lnTo>
                    <a:pt x="5053" y="659"/>
                  </a:lnTo>
                  <a:lnTo>
                    <a:pt x="5064" y="635"/>
                  </a:lnTo>
                  <a:lnTo>
                    <a:pt x="5076" y="610"/>
                  </a:lnTo>
                  <a:lnTo>
                    <a:pt x="5099" y="587"/>
                  </a:lnTo>
                  <a:lnTo>
                    <a:pt x="5124" y="575"/>
                  </a:lnTo>
                  <a:lnTo>
                    <a:pt x="5159" y="562"/>
                  </a:lnTo>
                  <a:lnTo>
                    <a:pt x="5172" y="562"/>
                  </a:lnTo>
                  <a:lnTo>
                    <a:pt x="5183" y="562"/>
                  </a:lnTo>
                  <a:lnTo>
                    <a:pt x="5196" y="562"/>
                  </a:lnTo>
                  <a:lnTo>
                    <a:pt x="5208" y="562"/>
                  </a:lnTo>
                  <a:lnTo>
                    <a:pt x="5219" y="562"/>
                  </a:lnTo>
                  <a:lnTo>
                    <a:pt x="5243" y="562"/>
                  </a:lnTo>
                  <a:lnTo>
                    <a:pt x="5255" y="562"/>
                  </a:lnTo>
                  <a:lnTo>
                    <a:pt x="5411" y="383"/>
                  </a:lnTo>
                  <a:lnTo>
                    <a:pt x="5411" y="372"/>
                  </a:lnTo>
                  <a:lnTo>
                    <a:pt x="5411" y="359"/>
                  </a:lnTo>
                  <a:lnTo>
                    <a:pt x="5399" y="335"/>
                  </a:lnTo>
                  <a:lnTo>
                    <a:pt x="5387" y="323"/>
                  </a:lnTo>
                  <a:lnTo>
                    <a:pt x="4692" y="0"/>
                  </a:lnTo>
                  <a:lnTo>
                    <a:pt x="4322" y="0"/>
                  </a:lnTo>
                  <a:lnTo>
                    <a:pt x="4322" y="11"/>
                  </a:lnTo>
                  <a:lnTo>
                    <a:pt x="4309" y="24"/>
                  </a:lnTo>
                  <a:lnTo>
                    <a:pt x="4297" y="24"/>
                  </a:lnTo>
                  <a:lnTo>
                    <a:pt x="4297" y="35"/>
                  </a:lnTo>
                  <a:lnTo>
                    <a:pt x="4285" y="49"/>
                  </a:lnTo>
                  <a:lnTo>
                    <a:pt x="4274" y="60"/>
                  </a:lnTo>
                  <a:lnTo>
                    <a:pt x="4262" y="71"/>
                  </a:lnTo>
                  <a:lnTo>
                    <a:pt x="4225" y="84"/>
                  </a:lnTo>
                  <a:lnTo>
                    <a:pt x="4178" y="84"/>
                  </a:lnTo>
                  <a:lnTo>
                    <a:pt x="4142" y="96"/>
                  </a:lnTo>
                  <a:lnTo>
                    <a:pt x="4106" y="96"/>
                  </a:lnTo>
                  <a:lnTo>
                    <a:pt x="4070" y="108"/>
                  </a:lnTo>
                  <a:lnTo>
                    <a:pt x="4034" y="120"/>
                  </a:lnTo>
                  <a:lnTo>
                    <a:pt x="3986" y="120"/>
                  </a:lnTo>
                  <a:lnTo>
                    <a:pt x="3951" y="132"/>
                  </a:lnTo>
                  <a:lnTo>
                    <a:pt x="3902" y="132"/>
                  </a:lnTo>
                  <a:lnTo>
                    <a:pt x="3866" y="144"/>
                  </a:lnTo>
                  <a:lnTo>
                    <a:pt x="3830" y="144"/>
                  </a:lnTo>
                  <a:lnTo>
                    <a:pt x="3782" y="156"/>
                  </a:lnTo>
                  <a:lnTo>
                    <a:pt x="3747" y="168"/>
                  </a:lnTo>
                  <a:lnTo>
                    <a:pt x="3699" y="179"/>
                  </a:lnTo>
                  <a:lnTo>
                    <a:pt x="3663" y="192"/>
                  </a:lnTo>
                  <a:lnTo>
                    <a:pt x="3628" y="204"/>
                  </a:lnTo>
                  <a:lnTo>
                    <a:pt x="3532" y="215"/>
                  </a:lnTo>
                  <a:lnTo>
                    <a:pt x="3435" y="239"/>
                  </a:lnTo>
                  <a:lnTo>
                    <a:pt x="3328" y="264"/>
                  </a:lnTo>
                  <a:lnTo>
                    <a:pt x="3232" y="287"/>
                  </a:lnTo>
                  <a:lnTo>
                    <a:pt x="3136" y="323"/>
                  </a:lnTo>
                  <a:lnTo>
                    <a:pt x="3040" y="347"/>
                  </a:lnTo>
                  <a:lnTo>
                    <a:pt x="2946" y="383"/>
                  </a:lnTo>
                  <a:lnTo>
                    <a:pt x="2849" y="408"/>
                  </a:lnTo>
                  <a:lnTo>
                    <a:pt x="2753" y="443"/>
                  </a:lnTo>
                  <a:lnTo>
                    <a:pt x="2658" y="479"/>
                  </a:lnTo>
                  <a:lnTo>
                    <a:pt x="2549" y="516"/>
                  </a:lnTo>
                  <a:lnTo>
                    <a:pt x="2454" y="538"/>
                  </a:lnTo>
                  <a:lnTo>
                    <a:pt x="2357" y="575"/>
                  </a:lnTo>
                  <a:lnTo>
                    <a:pt x="2262" y="610"/>
                  </a:lnTo>
                  <a:lnTo>
                    <a:pt x="2167" y="635"/>
                  </a:lnTo>
                  <a:lnTo>
                    <a:pt x="2071" y="659"/>
                  </a:lnTo>
                  <a:lnTo>
                    <a:pt x="1974" y="682"/>
                  </a:lnTo>
                  <a:lnTo>
                    <a:pt x="1879" y="706"/>
                  </a:lnTo>
                  <a:lnTo>
                    <a:pt x="1784" y="731"/>
                  </a:lnTo>
                  <a:lnTo>
                    <a:pt x="1688" y="754"/>
                  </a:lnTo>
                  <a:lnTo>
                    <a:pt x="1592" y="766"/>
                  </a:lnTo>
                  <a:lnTo>
                    <a:pt x="1496" y="779"/>
                  </a:lnTo>
                  <a:lnTo>
                    <a:pt x="1400" y="790"/>
                  </a:lnTo>
                  <a:lnTo>
                    <a:pt x="1304" y="790"/>
                  </a:lnTo>
                  <a:lnTo>
                    <a:pt x="1209" y="790"/>
                  </a:lnTo>
                  <a:lnTo>
                    <a:pt x="1113" y="779"/>
                  </a:lnTo>
                  <a:lnTo>
                    <a:pt x="1029" y="766"/>
                  </a:lnTo>
                  <a:lnTo>
                    <a:pt x="933" y="754"/>
                  </a:lnTo>
                  <a:lnTo>
                    <a:pt x="838" y="731"/>
                  </a:lnTo>
                  <a:lnTo>
                    <a:pt x="742" y="706"/>
                  </a:lnTo>
                  <a:lnTo>
                    <a:pt x="658" y="671"/>
                  </a:lnTo>
                  <a:lnTo>
                    <a:pt x="562" y="623"/>
                  </a:lnTo>
                  <a:lnTo>
                    <a:pt x="551" y="598"/>
                  </a:lnTo>
                  <a:lnTo>
                    <a:pt x="551" y="575"/>
                  </a:lnTo>
                  <a:lnTo>
                    <a:pt x="551" y="562"/>
                  </a:lnTo>
                  <a:lnTo>
                    <a:pt x="334" y="252"/>
                  </a:lnTo>
                  <a:lnTo>
                    <a:pt x="323" y="239"/>
                  </a:lnTo>
                  <a:lnTo>
                    <a:pt x="299" y="239"/>
                  </a:lnTo>
                  <a:lnTo>
                    <a:pt x="287" y="228"/>
                  </a:lnTo>
                  <a:lnTo>
                    <a:pt x="264" y="228"/>
                  </a:lnTo>
                  <a:lnTo>
                    <a:pt x="239" y="228"/>
                  </a:lnTo>
                  <a:lnTo>
                    <a:pt x="226" y="228"/>
                  </a:lnTo>
                  <a:lnTo>
                    <a:pt x="204" y="228"/>
                  </a:lnTo>
                  <a:lnTo>
                    <a:pt x="179" y="228"/>
                  </a:lnTo>
                  <a:lnTo>
                    <a:pt x="167" y="239"/>
                  </a:lnTo>
                  <a:lnTo>
                    <a:pt x="143" y="239"/>
                  </a:lnTo>
                  <a:lnTo>
                    <a:pt x="120" y="252"/>
                  </a:lnTo>
                  <a:lnTo>
                    <a:pt x="107" y="264"/>
                  </a:lnTo>
                  <a:lnTo>
                    <a:pt x="84" y="264"/>
                  </a:lnTo>
                  <a:lnTo>
                    <a:pt x="71" y="275"/>
                  </a:lnTo>
                  <a:lnTo>
                    <a:pt x="47" y="287"/>
                  </a:lnTo>
                  <a:lnTo>
                    <a:pt x="35" y="299"/>
                  </a:lnTo>
                  <a:lnTo>
                    <a:pt x="24" y="323"/>
                  </a:lnTo>
                  <a:lnTo>
                    <a:pt x="11" y="347"/>
                  </a:lnTo>
                  <a:lnTo>
                    <a:pt x="11" y="372"/>
                  </a:lnTo>
                  <a:lnTo>
                    <a:pt x="11" y="408"/>
                  </a:lnTo>
                  <a:lnTo>
                    <a:pt x="11" y="431"/>
                  </a:lnTo>
                  <a:lnTo>
                    <a:pt x="11" y="467"/>
                  </a:lnTo>
                  <a:lnTo>
                    <a:pt x="11" y="491"/>
                  </a:lnTo>
                  <a:lnTo>
                    <a:pt x="0" y="527"/>
                  </a:lnTo>
                  <a:lnTo>
                    <a:pt x="11" y="551"/>
                  </a:lnTo>
                  <a:lnTo>
                    <a:pt x="35" y="551"/>
                  </a:lnTo>
                  <a:lnTo>
                    <a:pt x="47" y="562"/>
                  </a:lnTo>
                  <a:lnTo>
                    <a:pt x="71" y="562"/>
                  </a:lnTo>
                  <a:lnTo>
                    <a:pt x="84" y="562"/>
                  </a:lnTo>
                  <a:lnTo>
                    <a:pt x="107" y="575"/>
                  </a:lnTo>
                  <a:lnTo>
                    <a:pt x="131" y="587"/>
                  </a:lnTo>
                  <a:lnTo>
                    <a:pt x="143" y="598"/>
                  </a:lnTo>
                  <a:lnTo>
                    <a:pt x="167" y="635"/>
                  </a:lnTo>
                  <a:lnTo>
                    <a:pt x="190" y="671"/>
                  </a:lnTo>
                  <a:lnTo>
                    <a:pt x="215" y="695"/>
                  </a:lnTo>
                  <a:lnTo>
                    <a:pt x="239" y="731"/>
                  </a:lnTo>
                  <a:lnTo>
                    <a:pt x="264" y="766"/>
                  </a:lnTo>
                  <a:lnTo>
                    <a:pt x="287" y="802"/>
                  </a:lnTo>
                  <a:lnTo>
                    <a:pt x="311" y="839"/>
                  </a:lnTo>
                  <a:lnTo>
                    <a:pt x="347" y="874"/>
                  </a:lnTo>
                  <a:lnTo>
                    <a:pt x="370" y="898"/>
                  </a:lnTo>
                  <a:lnTo>
                    <a:pt x="394" y="934"/>
                  </a:lnTo>
                  <a:lnTo>
                    <a:pt x="430" y="958"/>
                  </a:lnTo>
                  <a:lnTo>
                    <a:pt x="467" y="994"/>
                  </a:lnTo>
                  <a:lnTo>
                    <a:pt x="502" y="1018"/>
                  </a:lnTo>
                  <a:lnTo>
                    <a:pt x="538" y="1042"/>
                  </a:lnTo>
                  <a:lnTo>
                    <a:pt x="574" y="1065"/>
                  </a:lnTo>
                  <a:lnTo>
                    <a:pt x="610" y="1077"/>
                  </a:lnTo>
                  <a:lnTo>
                    <a:pt x="634" y="1077"/>
                  </a:lnTo>
                  <a:lnTo>
                    <a:pt x="658" y="1077"/>
                  </a:lnTo>
                  <a:lnTo>
                    <a:pt x="682" y="1077"/>
                  </a:lnTo>
                  <a:lnTo>
                    <a:pt x="706" y="1077"/>
                  </a:lnTo>
                  <a:lnTo>
                    <a:pt x="731" y="1090"/>
                  </a:lnTo>
                  <a:lnTo>
                    <a:pt x="754" y="1090"/>
                  </a:lnTo>
                  <a:lnTo>
                    <a:pt x="777" y="1102"/>
                  </a:lnTo>
                  <a:lnTo>
                    <a:pt x="802" y="1113"/>
                  </a:lnTo>
                  <a:lnTo>
                    <a:pt x="1292" y="1819"/>
                  </a:lnTo>
                  <a:lnTo>
                    <a:pt x="1328" y="1833"/>
                  </a:lnTo>
                  <a:lnTo>
                    <a:pt x="1352" y="1856"/>
                  </a:lnTo>
                  <a:lnTo>
                    <a:pt x="1377" y="1867"/>
                  </a:lnTo>
                  <a:lnTo>
                    <a:pt x="1412" y="1892"/>
                  </a:lnTo>
                  <a:lnTo>
                    <a:pt x="1436" y="1903"/>
                  </a:lnTo>
                  <a:lnTo>
                    <a:pt x="1472" y="1927"/>
                  </a:lnTo>
                  <a:lnTo>
                    <a:pt x="1496" y="1939"/>
                  </a:lnTo>
                  <a:lnTo>
                    <a:pt x="1532" y="1952"/>
                  </a:lnTo>
                  <a:lnTo>
                    <a:pt x="1556" y="1976"/>
                  </a:lnTo>
                  <a:lnTo>
                    <a:pt x="1592" y="1988"/>
                  </a:lnTo>
                  <a:lnTo>
                    <a:pt x="1615" y="2012"/>
                  </a:lnTo>
                  <a:lnTo>
                    <a:pt x="1651" y="2023"/>
                  </a:lnTo>
                  <a:lnTo>
                    <a:pt x="1688" y="2047"/>
                  </a:lnTo>
                  <a:lnTo>
                    <a:pt x="1711" y="2060"/>
                  </a:lnTo>
                  <a:lnTo>
                    <a:pt x="1748" y="2071"/>
                  </a:lnTo>
                  <a:lnTo>
                    <a:pt x="1784" y="2096"/>
                  </a:lnTo>
                  <a:lnTo>
                    <a:pt x="1808" y="2107"/>
                  </a:lnTo>
                  <a:lnTo>
                    <a:pt x="1844" y="2120"/>
                  </a:lnTo>
                  <a:lnTo>
                    <a:pt x="1879" y="2143"/>
                  </a:lnTo>
                  <a:lnTo>
                    <a:pt x="1915" y="2156"/>
                  </a:lnTo>
                  <a:lnTo>
                    <a:pt x="1938" y="2167"/>
                  </a:lnTo>
                  <a:lnTo>
                    <a:pt x="1974" y="2179"/>
                  </a:lnTo>
                  <a:lnTo>
                    <a:pt x="2011" y="2191"/>
                  </a:lnTo>
                  <a:lnTo>
                    <a:pt x="2047" y="2203"/>
                  </a:lnTo>
                  <a:lnTo>
                    <a:pt x="2082" y="2215"/>
                  </a:lnTo>
                  <a:lnTo>
                    <a:pt x="2118" y="2215"/>
                  </a:lnTo>
                  <a:lnTo>
                    <a:pt x="2154" y="2226"/>
                  </a:lnTo>
                  <a:lnTo>
                    <a:pt x="2190" y="2239"/>
                  </a:lnTo>
                  <a:lnTo>
                    <a:pt x="2226" y="2239"/>
                  </a:lnTo>
                  <a:lnTo>
                    <a:pt x="2262" y="2251"/>
                  </a:lnTo>
                  <a:lnTo>
                    <a:pt x="2297" y="2251"/>
                  </a:lnTo>
                  <a:lnTo>
                    <a:pt x="2346" y="225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70240" y="2030400"/>
              <a:ext cx="717480" cy="384120"/>
            </a:xfrm>
            <a:custGeom>
              <a:avLst/>
              <a:gdLst/>
              <a:ahLst/>
              <a:rect l="l" t="t" r="r" b="b"/>
              <a:pathLst>
                <a:path w="2262" h="1210">
                  <a:moveTo>
                    <a:pt x="1209" y="1210"/>
                  </a:moveTo>
                  <a:lnTo>
                    <a:pt x="1867" y="1126"/>
                  </a:lnTo>
                  <a:lnTo>
                    <a:pt x="1903" y="1101"/>
                  </a:lnTo>
                  <a:lnTo>
                    <a:pt x="1938" y="1078"/>
                  </a:lnTo>
                  <a:lnTo>
                    <a:pt x="1974" y="1053"/>
                  </a:lnTo>
                  <a:lnTo>
                    <a:pt x="2011" y="1018"/>
                  </a:lnTo>
                  <a:lnTo>
                    <a:pt x="2034" y="993"/>
                  </a:lnTo>
                  <a:lnTo>
                    <a:pt x="2071" y="958"/>
                  </a:lnTo>
                  <a:lnTo>
                    <a:pt x="2094" y="934"/>
                  </a:lnTo>
                  <a:lnTo>
                    <a:pt x="2118" y="898"/>
                  </a:lnTo>
                  <a:lnTo>
                    <a:pt x="2142" y="863"/>
                  </a:lnTo>
                  <a:lnTo>
                    <a:pt x="2154" y="827"/>
                  </a:lnTo>
                  <a:lnTo>
                    <a:pt x="2178" y="790"/>
                  </a:lnTo>
                  <a:lnTo>
                    <a:pt x="2190" y="755"/>
                  </a:lnTo>
                  <a:lnTo>
                    <a:pt x="2202" y="706"/>
                  </a:lnTo>
                  <a:lnTo>
                    <a:pt x="2214" y="670"/>
                  </a:lnTo>
                  <a:lnTo>
                    <a:pt x="2226" y="623"/>
                  </a:lnTo>
                  <a:lnTo>
                    <a:pt x="2238" y="586"/>
                  </a:lnTo>
                  <a:lnTo>
                    <a:pt x="2238" y="540"/>
                  </a:lnTo>
                  <a:lnTo>
                    <a:pt x="2250" y="503"/>
                  </a:lnTo>
                  <a:lnTo>
                    <a:pt x="2250" y="467"/>
                  </a:lnTo>
                  <a:lnTo>
                    <a:pt x="2262" y="432"/>
                  </a:lnTo>
                  <a:lnTo>
                    <a:pt x="2262" y="396"/>
                  </a:lnTo>
                  <a:lnTo>
                    <a:pt x="2250" y="360"/>
                  </a:lnTo>
                  <a:lnTo>
                    <a:pt x="2238" y="324"/>
                  </a:lnTo>
                  <a:lnTo>
                    <a:pt x="2226" y="288"/>
                  </a:lnTo>
                  <a:lnTo>
                    <a:pt x="1233" y="239"/>
                  </a:lnTo>
                  <a:lnTo>
                    <a:pt x="1233" y="252"/>
                  </a:lnTo>
                  <a:lnTo>
                    <a:pt x="1220" y="263"/>
                  </a:lnTo>
                  <a:lnTo>
                    <a:pt x="1209" y="288"/>
                  </a:lnTo>
                  <a:lnTo>
                    <a:pt x="1209" y="311"/>
                  </a:lnTo>
                  <a:lnTo>
                    <a:pt x="1220" y="336"/>
                  </a:lnTo>
                  <a:lnTo>
                    <a:pt x="1233" y="360"/>
                  </a:lnTo>
                  <a:lnTo>
                    <a:pt x="1233" y="383"/>
                  </a:lnTo>
                  <a:lnTo>
                    <a:pt x="1257" y="407"/>
                  </a:lnTo>
                  <a:lnTo>
                    <a:pt x="1269" y="407"/>
                  </a:lnTo>
                  <a:lnTo>
                    <a:pt x="1292" y="407"/>
                  </a:lnTo>
                  <a:lnTo>
                    <a:pt x="1317" y="407"/>
                  </a:lnTo>
                  <a:lnTo>
                    <a:pt x="1341" y="407"/>
                  </a:lnTo>
                  <a:lnTo>
                    <a:pt x="1364" y="407"/>
                  </a:lnTo>
                  <a:lnTo>
                    <a:pt x="1388" y="407"/>
                  </a:lnTo>
                  <a:lnTo>
                    <a:pt x="1400" y="419"/>
                  </a:lnTo>
                  <a:lnTo>
                    <a:pt x="1424" y="432"/>
                  </a:lnTo>
                  <a:lnTo>
                    <a:pt x="1436" y="443"/>
                  </a:lnTo>
                  <a:lnTo>
                    <a:pt x="1448" y="455"/>
                  </a:lnTo>
                  <a:lnTo>
                    <a:pt x="1472" y="479"/>
                  </a:lnTo>
                  <a:lnTo>
                    <a:pt x="1484" y="491"/>
                  </a:lnTo>
                  <a:lnTo>
                    <a:pt x="1496" y="515"/>
                  </a:lnTo>
                  <a:lnTo>
                    <a:pt x="1507" y="526"/>
                  </a:lnTo>
                  <a:lnTo>
                    <a:pt x="1507" y="551"/>
                  </a:lnTo>
                  <a:lnTo>
                    <a:pt x="1507" y="611"/>
                  </a:lnTo>
                  <a:lnTo>
                    <a:pt x="1507" y="659"/>
                  </a:lnTo>
                  <a:lnTo>
                    <a:pt x="1484" y="706"/>
                  </a:lnTo>
                  <a:lnTo>
                    <a:pt x="1472" y="755"/>
                  </a:lnTo>
                  <a:lnTo>
                    <a:pt x="1448" y="803"/>
                  </a:lnTo>
                  <a:lnTo>
                    <a:pt x="1424" y="838"/>
                  </a:lnTo>
                  <a:lnTo>
                    <a:pt x="1388" y="886"/>
                  </a:lnTo>
                  <a:lnTo>
                    <a:pt x="1341" y="922"/>
                  </a:lnTo>
                  <a:lnTo>
                    <a:pt x="1304" y="946"/>
                  </a:lnTo>
                  <a:lnTo>
                    <a:pt x="1257" y="958"/>
                  </a:lnTo>
                  <a:lnTo>
                    <a:pt x="1220" y="958"/>
                  </a:lnTo>
                  <a:lnTo>
                    <a:pt x="1173" y="970"/>
                  </a:lnTo>
                  <a:lnTo>
                    <a:pt x="1125" y="970"/>
                  </a:lnTo>
                  <a:lnTo>
                    <a:pt x="1077" y="958"/>
                  </a:lnTo>
                  <a:lnTo>
                    <a:pt x="1040" y="958"/>
                  </a:lnTo>
                  <a:lnTo>
                    <a:pt x="994" y="946"/>
                  </a:lnTo>
                  <a:lnTo>
                    <a:pt x="946" y="934"/>
                  </a:lnTo>
                  <a:lnTo>
                    <a:pt x="910" y="922"/>
                  </a:lnTo>
                  <a:lnTo>
                    <a:pt x="874" y="910"/>
                  </a:lnTo>
                  <a:lnTo>
                    <a:pt x="825" y="886"/>
                  </a:lnTo>
                  <a:lnTo>
                    <a:pt x="790" y="874"/>
                  </a:lnTo>
                  <a:lnTo>
                    <a:pt x="753" y="849"/>
                  </a:lnTo>
                  <a:lnTo>
                    <a:pt x="717" y="838"/>
                  </a:lnTo>
                  <a:lnTo>
                    <a:pt x="682" y="814"/>
                  </a:lnTo>
                  <a:lnTo>
                    <a:pt x="646" y="755"/>
                  </a:lnTo>
                  <a:lnTo>
                    <a:pt x="610" y="683"/>
                  </a:lnTo>
                  <a:lnTo>
                    <a:pt x="587" y="611"/>
                  </a:lnTo>
                  <a:lnTo>
                    <a:pt x="574" y="526"/>
                  </a:lnTo>
                  <a:lnTo>
                    <a:pt x="562" y="455"/>
                  </a:lnTo>
                  <a:lnTo>
                    <a:pt x="562" y="371"/>
                  </a:lnTo>
                  <a:lnTo>
                    <a:pt x="587" y="299"/>
                  </a:lnTo>
                  <a:lnTo>
                    <a:pt x="621" y="216"/>
                  </a:lnTo>
                  <a:lnTo>
                    <a:pt x="621" y="203"/>
                  </a:lnTo>
                  <a:lnTo>
                    <a:pt x="634" y="192"/>
                  </a:lnTo>
                  <a:lnTo>
                    <a:pt x="646" y="180"/>
                  </a:lnTo>
                  <a:lnTo>
                    <a:pt x="657" y="168"/>
                  </a:lnTo>
                  <a:lnTo>
                    <a:pt x="657" y="156"/>
                  </a:lnTo>
                  <a:lnTo>
                    <a:pt x="670" y="144"/>
                  </a:lnTo>
                  <a:lnTo>
                    <a:pt x="670" y="120"/>
                  </a:lnTo>
                  <a:lnTo>
                    <a:pt x="670" y="108"/>
                  </a:lnTo>
                  <a:lnTo>
                    <a:pt x="646" y="96"/>
                  </a:lnTo>
                  <a:lnTo>
                    <a:pt x="610" y="84"/>
                  </a:lnTo>
                  <a:lnTo>
                    <a:pt x="574" y="73"/>
                  </a:lnTo>
                  <a:lnTo>
                    <a:pt x="538" y="59"/>
                  </a:lnTo>
                  <a:lnTo>
                    <a:pt x="502" y="48"/>
                  </a:lnTo>
                  <a:lnTo>
                    <a:pt x="467" y="36"/>
                  </a:lnTo>
                  <a:lnTo>
                    <a:pt x="430" y="24"/>
                  </a:lnTo>
                  <a:lnTo>
                    <a:pt x="394" y="13"/>
                  </a:lnTo>
                  <a:lnTo>
                    <a:pt x="358" y="13"/>
                  </a:lnTo>
                  <a:lnTo>
                    <a:pt x="323" y="0"/>
                  </a:lnTo>
                  <a:lnTo>
                    <a:pt x="286" y="0"/>
                  </a:lnTo>
                  <a:lnTo>
                    <a:pt x="250" y="0"/>
                  </a:lnTo>
                  <a:lnTo>
                    <a:pt x="204" y="0"/>
                  </a:lnTo>
                  <a:lnTo>
                    <a:pt x="167" y="0"/>
                  </a:lnTo>
                  <a:lnTo>
                    <a:pt x="131" y="0"/>
                  </a:lnTo>
                  <a:lnTo>
                    <a:pt x="82" y="0"/>
                  </a:lnTo>
                  <a:lnTo>
                    <a:pt x="60" y="73"/>
                  </a:lnTo>
                  <a:lnTo>
                    <a:pt x="35" y="144"/>
                  </a:lnTo>
                  <a:lnTo>
                    <a:pt x="11" y="228"/>
                  </a:lnTo>
                  <a:lnTo>
                    <a:pt x="0" y="311"/>
                  </a:lnTo>
                  <a:lnTo>
                    <a:pt x="0" y="396"/>
                  </a:lnTo>
                  <a:lnTo>
                    <a:pt x="11" y="479"/>
                  </a:lnTo>
                  <a:lnTo>
                    <a:pt x="35" y="563"/>
                  </a:lnTo>
                  <a:lnTo>
                    <a:pt x="71" y="659"/>
                  </a:lnTo>
                  <a:lnTo>
                    <a:pt x="95" y="683"/>
                  </a:lnTo>
                  <a:lnTo>
                    <a:pt x="131" y="719"/>
                  </a:lnTo>
                  <a:lnTo>
                    <a:pt x="155" y="755"/>
                  </a:lnTo>
                  <a:lnTo>
                    <a:pt x="179" y="778"/>
                  </a:lnTo>
                  <a:lnTo>
                    <a:pt x="215" y="814"/>
                  </a:lnTo>
                  <a:lnTo>
                    <a:pt x="239" y="838"/>
                  </a:lnTo>
                  <a:lnTo>
                    <a:pt x="275" y="863"/>
                  </a:lnTo>
                  <a:lnTo>
                    <a:pt x="311" y="886"/>
                  </a:lnTo>
                  <a:lnTo>
                    <a:pt x="334" y="910"/>
                  </a:lnTo>
                  <a:lnTo>
                    <a:pt x="370" y="934"/>
                  </a:lnTo>
                  <a:lnTo>
                    <a:pt x="407" y="958"/>
                  </a:lnTo>
                  <a:lnTo>
                    <a:pt x="442" y="982"/>
                  </a:lnTo>
                  <a:lnTo>
                    <a:pt x="478" y="993"/>
                  </a:lnTo>
                  <a:lnTo>
                    <a:pt x="513" y="1018"/>
                  </a:lnTo>
                  <a:lnTo>
                    <a:pt x="549" y="1029"/>
                  </a:lnTo>
                  <a:lnTo>
                    <a:pt x="587" y="1053"/>
                  </a:lnTo>
                  <a:lnTo>
                    <a:pt x="621" y="1067"/>
                  </a:lnTo>
                  <a:lnTo>
                    <a:pt x="657" y="1078"/>
                  </a:lnTo>
                  <a:lnTo>
                    <a:pt x="693" y="1090"/>
                  </a:lnTo>
                  <a:lnTo>
                    <a:pt x="731" y="1114"/>
                  </a:lnTo>
                  <a:lnTo>
                    <a:pt x="766" y="1126"/>
                  </a:lnTo>
                  <a:lnTo>
                    <a:pt x="814" y="1126"/>
                  </a:lnTo>
                  <a:lnTo>
                    <a:pt x="850" y="1137"/>
                  </a:lnTo>
                  <a:lnTo>
                    <a:pt x="885" y="1150"/>
                  </a:lnTo>
                  <a:lnTo>
                    <a:pt x="921" y="1161"/>
                  </a:lnTo>
                  <a:lnTo>
                    <a:pt x="969" y="1173"/>
                  </a:lnTo>
                  <a:lnTo>
                    <a:pt x="1005" y="1173"/>
                  </a:lnTo>
                  <a:lnTo>
                    <a:pt x="1040" y="1186"/>
                  </a:lnTo>
                  <a:lnTo>
                    <a:pt x="1089" y="1197"/>
                  </a:lnTo>
                  <a:lnTo>
                    <a:pt x="1125" y="1197"/>
                  </a:lnTo>
                  <a:lnTo>
                    <a:pt x="1173" y="1210"/>
                  </a:lnTo>
                  <a:lnTo>
                    <a:pt x="1209" y="12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416560" y="2008080"/>
              <a:ext cx="552600" cy="387360"/>
            </a:xfrm>
            <a:custGeom>
              <a:avLst/>
              <a:gdLst/>
              <a:ahLst/>
              <a:rect l="l" t="t" r="r" b="b"/>
              <a:pathLst>
                <a:path w="1737" h="1221">
                  <a:moveTo>
                    <a:pt x="706" y="1197"/>
                  </a:moveTo>
                  <a:lnTo>
                    <a:pt x="1402" y="993"/>
                  </a:lnTo>
                  <a:lnTo>
                    <a:pt x="1414" y="969"/>
                  </a:lnTo>
                  <a:lnTo>
                    <a:pt x="1414" y="945"/>
                  </a:lnTo>
                  <a:lnTo>
                    <a:pt x="1414" y="920"/>
                  </a:lnTo>
                  <a:lnTo>
                    <a:pt x="1425" y="885"/>
                  </a:lnTo>
                  <a:lnTo>
                    <a:pt x="1437" y="885"/>
                  </a:lnTo>
                  <a:lnTo>
                    <a:pt x="1437" y="874"/>
                  </a:lnTo>
                  <a:lnTo>
                    <a:pt x="1450" y="874"/>
                  </a:lnTo>
                  <a:lnTo>
                    <a:pt x="1461" y="874"/>
                  </a:lnTo>
                  <a:lnTo>
                    <a:pt x="1474" y="861"/>
                  </a:lnTo>
                  <a:lnTo>
                    <a:pt x="1485" y="861"/>
                  </a:lnTo>
                  <a:lnTo>
                    <a:pt x="1497" y="849"/>
                  </a:lnTo>
                  <a:lnTo>
                    <a:pt x="1510" y="849"/>
                  </a:lnTo>
                  <a:lnTo>
                    <a:pt x="1629" y="657"/>
                  </a:lnTo>
                  <a:lnTo>
                    <a:pt x="1629" y="646"/>
                  </a:lnTo>
                  <a:lnTo>
                    <a:pt x="1629" y="634"/>
                  </a:lnTo>
                  <a:lnTo>
                    <a:pt x="1629" y="622"/>
                  </a:lnTo>
                  <a:lnTo>
                    <a:pt x="1629" y="611"/>
                  </a:lnTo>
                  <a:lnTo>
                    <a:pt x="1618" y="597"/>
                  </a:lnTo>
                  <a:lnTo>
                    <a:pt x="1618" y="586"/>
                  </a:lnTo>
                  <a:lnTo>
                    <a:pt x="1618" y="574"/>
                  </a:lnTo>
                  <a:lnTo>
                    <a:pt x="1618" y="550"/>
                  </a:lnTo>
                  <a:lnTo>
                    <a:pt x="1629" y="550"/>
                  </a:lnTo>
                  <a:lnTo>
                    <a:pt x="1629" y="538"/>
                  </a:lnTo>
                  <a:lnTo>
                    <a:pt x="1640" y="526"/>
                  </a:lnTo>
                  <a:lnTo>
                    <a:pt x="1653" y="526"/>
                  </a:lnTo>
                  <a:lnTo>
                    <a:pt x="1665" y="514"/>
                  </a:lnTo>
                  <a:lnTo>
                    <a:pt x="1677" y="514"/>
                  </a:lnTo>
                  <a:lnTo>
                    <a:pt x="1689" y="503"/>
                  </a:lnTo>
                  <a:lnTo>
                    <a:pt x="1700" y="490"/>
                  </a:lnTo>
                  <a:lnTo>
                    <a:pt x="1725" y="431"/>
                  </a:lnTo>
                  <a:lnTo>
                    <a:pt x="1725" y="370"/>
                  </a:lnTo>
                  <a:lnTo>
                    <a:pt x="1737" y="310"/>
                  </a:lnTo>
                  <a:lnTo>
                    <a:pt x="1725" y="239"/>
                  </a:lnTo>
                  <a:lnTo>
                    <a:pt x="1713" y="179"/>
                  </a:lnTo>
                  <a:lnTo>
                    <a:pt x="1700" y="119"/>
                  </a:lnTo>
                  <a:lnTo>
                    <a:pt x="1677" y="59"/>
                  </a:lnTo>
                  <a:lnTo>
                    <a:pt x="1653" y="0"/>
                  </a:lnTo>
                  <a:lnTo>
                    <a:pt x="1018" y="179"/>
                  </a:lnTo>
                  <a:lnTo>
                    <a:pt x="994" y="191"/>
                  </a:lnTo>
                  <a:lnTo>
                    <a:pt x="969" y="203"/>
                  </a:lnTo>
                  <a:lnTo>
                    <a:pt x="958" y="215"/>
                  </a:lnTo>
                  <a:lnTo>
                    <a:pt x="934" y="227"/>
                  </a:lnTo>
                  <a:lnTo>
                    <a:pt x="923" y="251"/>
                  </a:lnTo>
                  <a:lnTo>
                    <a:pt x="898" y="274"/>
                  </a:lnTo>
                  <a:lnTo>
                    <a:pt x="887" y="299"/>
                  </a:lnTo>
                  <a:lnTo>
                    <a:pt x="875" y="323"/>
                  </a:lnTo>
                  <a:lnTo>
                    <a:pt x="875" y="334"/>
                  </a:lnTo>
                  <a:lnTo>
                    <a:pt x="875" y="347"/>
                  </a:lnTo>
                  <a:lnTo>
                    <a:pt x="887" y="370"/>
                  </a:lnTo>
                  <a:lnTo>
                    <a:pt x="887" y="382"/>
                  </a:lnTo>
                  <a:lnTo>
                    <a:pt x="910" y="407"/>
                  </a:lnTo>
                  <a:lnTo>
                    <a:pt x="923" y="407"/>
                  </a:lnTo>
                  <a:lnTo>
                    <a:pt x="947" y="418"/>
                  </a:lnTo>
                  <a:lnTo>
                    <a:pt x="969" y="418"/>
                  </a:lnTo>
                  <a:lnTo>
                    <a:pt x="994" y="418"/>
                  </a:lnTo>
                  <a:lnTo>
                    <a:pt x="1007" y="418"/>
                  </a:lnTo>
                  <a:lnTo>
                    <a:pt x="1031" y="407"/>
                  </a:lnTo>
                  <a:lnTo>
                    <a:pt x="1054" y="395"/>
                  </a:lnTo>
                  <a:lnTo>
                    <a:pt x="1077" y="382"/>
                  </a:lnTo>
                  <a:lnTo>
                    <a:pt x="1102" y="370"/>
                  </a:lnTo>
                  <a:lnTo>
                    <a:pt x="1113" y="359"/>
                  </a:lnTo>
                  <a:lnTo>
                    <a:pt x="1138" y="347"/>
                  </a:lnTo>
                  <a:lnTo>
                    <a:pt x="1151" y="334"/>
                  </a:lnTo>
                  <a:lnTo>
                    <a:pt x="1173" y="323"/>
                  </a:lnTo>
                  <a:lnTo>
                    <a:pt x="1187" y="323"/>
                  </a:lnTo>
                  <a:lnTo>
                    <a:pt x="1210" y="310"/>
                  </a:lnTo>
                  <a:lnTo>
                    <a:pt x="1222" y="310"/>
                  </a:lnTo>
                  <a:lnTo>
                    <a:pt x="1246" y="310"/>
                  </a:lnTo>
                  <a:lnTo>
                    <a:pt x="1258" y="310"/>
                  </a:lnTo>
                  <a:lnTo>
                    <a:pt x="1270" y="323"/>
                  </a:lnTo>
                  <a:lnTo>
                    <a:pt x="1295" y="323"/>
                  </a:lnTo>
                  <a:lnTo>
                    <a:pt x="1306" y="334"/>
                  </a:lnTo>
                  <a:lnTo>
                    <a:pt x="1317" y="334"/>
                  </a:lnTo>
                  <a:lnTo>
                    <a:pt x="1330" y="347"/>
                  </a:lnTo>
                  <a:lnTo>
                    <a:pt x="1341" y="359"/>
                  </a:lnTo>
                  <a:lnTo>
                    <a:pt x="1354" y="370"/>
                  </a:lnTo>
                  <a:lnTo>
                    <a:pt x="1366" y="382"/>
                  </a:lnTo>
                  <a:lnTo>
                    <a:pt x="1377" y="395"/>
                  </a:lnTo>
                  <a:lnTo>
                    <a:pt x="1389" y="407"/>
                  </a:lnTo>
                  <a:lnTo>
                    <a:pt x="1402" y="418"/>
                  </a:lnTo>
                  <a:lnTo>
                    <a:pt x="1402" y="442"/>
                  </a:lnTo>
                  <a:lnTo>
                    <a:pt x="1414" y="454"/>
                  </a:lnTo>
                  <a:lnTo>
                    <a:pt x="1414" y="467"/>
                  </a:lnTo>
                  <a:lnTo>
                    <a:pt x="1414" y="490"/>
                  </a:lnTo>
                  <a:lnTo>
                    <a:pt x="1414" y="503"/>
                  </a:lnTo>
                  <a:lnTo>
                    <a:pt x="1414" y="526"/>
                  </a:lnTo>
                  <a:lnTo>
                    <a:pt x="1402" y="562"/>
                  </a:lnTo>
                  <a:lnTo>
                    <a:pt x="1377" y="597"/>
                  </a:lnTo>
                  <a:lnTo>
                    <a:pt x="1354" y="634"/>
                  </a:lnTo>
                  <a:lnTo>
                    <a:pt x="1330" y="657"/>
                  </a:lnTo>
                  <a:lnTo>
                    <a:pt x="1306" y="682"/>
                  </a:lnTo>
                  <a:lnTo>
                    <a:pt x="1281" y="705"/>
                  </a:lnTo>
                  <a:lnTo>
                    <a:pt x="1246" y="730"/>
                  </a:lnTo>
                  <a:lnTo>
                    <a:pt x="1222" y="741"/>
                  </a:lnTo>
                  <a:lnTo>
                    <a:pt x="1187" y="766"/>
                  </a:lnTo>
                  <a:lnTo>
                    <a:pt x="1151" y="790"/>
                  </a:lnTo>
                  <a:lnTo>
                    <a:pt x="1113" y="801"/>
                  </a:lnTo>
                  <a:lnTo>
                    <a:pt x="1091" y="826"/>
                  </a:lnTo>
                  <a:lnTo>
                    <a:pt x="1054" y="849"/>
                  </a:lnTo>
                  <a:lnTo>
                    <a:pt x="1018" y="874"/>
                  </a:lnTo>
                  <a:lnTo>
                    <a:pt x="983" y="898"/>
                  </a:lnTo>
                  <a:lnTo>
                    <a:pt x="947" y="920"/>
                  </a:lnTo>
                  <a:lnTo>
                    <a:pt x="910" y="934"/>
                  </a:lnTo>
                  <a:lnTo>
                    <a:pt x="863" y="934"/>
                  </a:lnTo>
                  <a:lnTo>
                    <a:pt x="814" y="934"/>
                  </a:lnTo>
                  <a:lnTo>
                    <a:pt x="779" y="934"/>
                  </a:lnTo>
                  <a:lnTo>
                    <a:pt x="731" y="934"/>
                  </a:lnTo>
                  <a:lnTo>
                    <a:pt x="684" y="920"/>
                  </a:lnTo>
                  <a:lnTo>
                    <a:pt x="646" y="920"/>
                  </a:lnTo>
                  <a:lnTo>
                    <a:pt x="599" y="909"/>
                  </a:lnTo>
                  <a:lnTo>
                    <a:pt x="551" y="898"/>
                  </a:lnTo>
                  <a:lnTo>
                    <a:pt x="516" y="885"/>
                  </a:lnTo>
                  <a:lnTo>
                    <a:pt x="467" y="874"/>
                  </a:lnTo>
                  <a:lnTo>
                    <a:pt x="431" y="849"/>
                  </a:lnTo>
                  <a:lnTo>
                    <a:pt x="396" y="837"/>
                  </a:lnTo>
                  <a:lnTo>
                    <a:pt x="360" y="813"/>
                  </a:lnTo>
                  <a:lnTo>
                    <a:pt x="323" y="790"/>
                  </a:lnTo>
                  <a:lnTo>
                    <a:pt x="287" y="766"/>
                  </a:lnTo>
                  <a:lnTo>
                    <a:pt x="276" y="730"/>
                  </a:lnTo>
                  <a:lnTo>
                    <a:pt x="264" y="705"/>
                  </a:lnTo>
                  <a:lnTo>
                    <a:pt x="252" y="682"/>
                  </a:lnTo>
                  <a:lnTo>
                    <a:pt x="228" y="670"/>
                  </a:lnTo>
                  <a:lnTo>
                    <a:pt x="216" y="646"/>
                  </a:lnTo>
                  <a:lnTo>
                    <a:pt x="204" y="634"/>
                  </a:lnTo>
                  <a:lnTo>
                    <a:pt x="193" y="622"/>
                  </a:lnTo>
                  <a:lnTo>
                    <a:pt x="179" y="597"/>
                  </a:lnTo>
                  <a:lnTo>
                    <a:pt x="168" y="454"/>
                  </a:lnTo>
                  <a:lnTo>
                    <a:pt x="157" y="454"/>
                  </a:lnTo>
                  <a:lnTo>
                    <a:pt x="157" y="442"/>
                  </a:lnTo>
                  <a:lnTo>
                    <a:pt x="144" y="431"/>
                  </a:lnTo>
                  <a:lnTo>
                    <a:pt x="133" y="431"/>
                  </a:lnTo>
                  <a:lnTo>
                    <a:pt x="120" y="418"/>
                  </a:lnTo>
                  <a:lnTo>
                    <a:pt x="108" y="418"/>
                  </a:lnTo>
                  <a:lnTo>
                    <a:pt x="97" y="418"/>
                  </a:lnTo>
                  <a:lnTo>
                    <a:pt x="85" y="431"/>
                  </a:lnTo>
                  <a:lnTo>
                    <a:pt x="72" y="431"/>
                  </a:lnTo>
                  <a:lnTo>
                    <a:pt x="60" y="442"/>
                  </a:lnTo>
                  <a:lnTo>
                    <a:pt x="60" y="454"/>
                  </a:lnTo>
                  <a:lnTo>
                    <a:pt x="24" y="503"/>
                  </a:lnTo>
                  <a:lnTo>
                    <a:pt x="0" y="562"/>
                  </a:lnTo>
                  <a:lnTo>
                    <a:pt x="0" y="622"/>
                  </a:lnTo>
                  <a:lnTo>
                    <a:pt x="0" y="682"/>
                  </a:lnTo>
                  <a:lnTo>
                    <a:pt x="13" y="741"/>
                  </a:lnTo>
                  <a:lnTo>
                    <a:pt x="24" y="801"/>
                  </a:lnTo>
                  <a:lnTo>
                    <a:pt x="49" y="861"/>
                  </a:lnTo>
                  <a:lnTo>
                    <a:pt x="72" y="920"/>
                  </a:lnTo>
                  <a:lnTo>
                    <a:pt x="97" y="957"/>
                  </a:lnTo>
                  <a:lnTo>
                    <a:pt x="120" y="981"/>
                  </a:lnTo>
                  <a:lnTo>
                    <a:pt x="157" y="1005"/>
                  </a:lnTo>
                  <a:lnTo>
                    <a:pt x="179" y="1029"/>
                  </a:lnTo>
                  <a:lnTo>
                    <a:pt x="216" y="1053"/>
                  </a:lnTo>
                  <a:lnTo>
                    <a:pt x="252" y="1077"/>
                  </a:lnTo>
                  <a:lnTo>
                    <a:pt x="287" y="1089"/>
                  </a:lnTo>
                  <a:lnTo>
                    <a:pt x="323" y="1100"/>
                  </a:lnTo>
                  <a:lnTo>
                    <a:pt x="372" y="1124"/>
                  </a:lnTo>
                  <a:lnTo>
                    <a:pt x="408" y="1138"/>
                  </a:lnTo>
                  <a:lnTo>
                    <a:pt x="443" y="1149"/>
                  </a:lnTo>
                  <a:lnTo>
                    <a:pt x="491" y="1161"/>
                  </a:lnTo>
                  <a:lnTo>
                    <a:pt x="539" y="1172"/>
                  </a:lnTo>
                  <a:lnTo>
                    <a:pt x="575" y="1197"/>
                  </a:lnTo>
                  <a:lnTo>
                    <a:pt x="624" y="1208"/>
                  </a:lnTo>
                  <a:lnTo>
                    <a:pt x="671" y="1221"/>
                  </a:lnTo>
                  <a:lnTo>
                    <a:pt x="684" y="1221"/>
                  </a:lnTo>
                  <a:lnTo>
                    <a:pt x="695" y="1208"/>
                  </a:lnTo>
                  <a:lnTo>
                    <a:pt x="706" y="1208"/>
                  </a:lnTo>
                  <a:lnTo>
                    <a:pt x="706" y="11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1588320" y="736560"/>
            <a:ext cx="61804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1a17"/>
                </a:solidFill>
                <a:latin typeface="Geometr231 Hv BT"/>
              </a:rPr>
              <a:t>REACTION TO HIV/A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544480" y="1589040"/>
            <a:ext cx="423144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800" spc="-1" strike="noStrike">
                <a:solidFill>
                  <a:srgbClr val="902444"/>
                </a:solidFill>
                <a:latin typeface="Geometr231 Hv BT"/>
              </a:rPr>
              <a:t>...thrives on: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693880" y="2743200"/>
            <a:ext cx="2826720" cy="792360"/>
            <a:chOff x="2693880" y="2743200"/>
            <a:chExt cx="2826720" cy="792360"/>
          </a:xfrm>
        </p:grpSpPr>
        <p:sp>
          <p:nvSpPr>
            <p:cNvPr id="135" name=""/>
            <p:cNvSpPr/>
            <p:nvPr/>
          </p:nvSpPr>
          <p:spPr>
            <a:xfrm>
              <a:off x="2693880" y="3368520"/>
              <a:ext cx="460440" cy="14400"/>
            </a:xfrm>
            <a:custGeom>
              <a:avLst/>
              <a:gdLst/>
              <a:ahLst/>
              <a:rect l="l" t="t" r="r" b="b"/>
              <a:pathLst>
                <a:path w="1450" h="41">
                  <a:moveTo>
                    <a:pt x="15" y="0"/>
                  </a:moveTo>
                  <a:lnTo>
                    <a:pt x="416" y="0"/>
                  </a:lnTo>
                  <a:lnTo>
                    <a:pt x="402" y="41"/>
                  </a:lnTo>
                  <a:lnTo>
                    <a:pt x="0" y="41"/>
                  </a:lnTo>
                  <a:lnTo>
                    <a:pt x="15" y="0"/>
                  </a:lnTo>
                  <a:close/>
                  <a:moveTo>
                    <a:pt x="1026" y="0"/>
                  </a:moveTo>
                  <a:lnTo>
                    <a:pt x="1435" y="0"/>
                  </a:lnTo>
                  <a:lnTo>
                    <a:pt x="1450" y="41"/>
                  </a:lnTo>
                  <a:lnTo>
                    <a:pt x="1040" y="41"/>
                  </a:lnTo>
                  <a:lnTo>
                    <a:pt x="1026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695680" y="3359160"/>
              <a:ext cx="457200" cy="18720"/>
            </a:xfrm>
            <a:custGeom>
              <a:avLst/>
              <a:gdLst/>
              <a:ahLst/>
              <a:rect l="l" t="t" r="r" b="b"/>
              <a:pathLst>
                <a:path w="1441" h="61">
                  <a:moveTo>
                    <a:pt x="1441" y="61"/>
                  </a:moveTo>
                  <a:lnTo>
                    <a:pt x="1032" y="61"/>
                  </a:lnTo>
                  <a:lnTo>
                    <a:pt x="1013" y="0"/>
                  </a:lnTo>
                  <a:lnTo>
                    <a:pt x="1421" y="0"/>
                  </a:lnTo>
                  <a:lnTo>
                    <a:pt x="1441" y="61"/>
                  </a:lnTo>
                  <a:close/>
                  <a:moveTo>
                    <a:pt x="402" y="61"/>
                  </a:moveTo>
                  <a:lnTo>
                    <a:pt x="0" y="61"/>
                  </a:lnTo>
                  <a:lnTo>
                    <a:pt x="22" y="0"/>
                  </a:lnTo>
                  <a:lnTo>
                    <a:pt x="422" y="0"/>
                  </a:lnTo>
                  <a:lnTo>
                    <a:pt x="402" y="61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98560" y="3349440"/>
              <a:ext cx="451080" cy="19080"/>
            </a:xfrm>
            <a:custGeom>
              <a:avLst/>
              <a:gdLst/>
              <a:ahLst/>
              <a:rect l="l" t="t" r="r" b="b"/>
              <a:pathLst>
                <a:path w="1420" h="60">
                  <a:moveTo>
                    <a:pt x="1420" y="60"/>
                  </a:moveTo>
                  <a:lnTo>
                    <a:pt x="1011" y="60"/>
                  </a:lnTo>
                  <a:lnTo>
                    <a:pt x="992" y="0"/>
                  </a:lnTo>
                  <a:lnTo>
                    <a:pt x="1400" y="0"/>
                  </a:lnTo>
                  <a:lnTo>
                    <a:pt x="1420" y="60"/>
                  </a:lnTo>
                  <a:close/>
                  <a:moveTo>
                    <a:pt x="401" y="60"/>
                  </a:moveTo>
                  <a:lnTo>
                    <a:pt x="0" y="60"/>
                  </a:lnTo>
                  <a:lnTo>
                    <a:pt x="21" y="0"/>
                  </a:lnTo>
                  <a:lnTo>
                    <a:pt x="422" y="0"/>
                  </a:lnTo>
                  <a:lnTo>
                    <a:pt x="401" y="60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701800" y="3340080"/>
              <a:ext cx="444600" cy="19080"/>
            </a:xfrm>
            <a:custGeom>
              <a:avLst/>
              <a:gdLst/>
              <a:ahLst/>
              <a:rect l="l" t="t" r="r" b="b"/>
              <a:pathLst>
                <a:path w="1399" h="60">
                  <a:moveTo>
                    <a:pt x="1399" y="60"/>
                  </a:moveTo>
                  <a:lnTo>
                    <a:pt x="991" y="60"/>
                  </a:lnTo>
                  <a:lnTo>
                    <a:pt x="972" y="0"/>
                  </a:lnTo>
                  <a:lnTo>
                    <a:pt x="1380" y="0"/>
                  </a:lnTo>
                  <a:lnTo>
                    <a:pt x="1399" y="60"/>
                  </a:lnTo>
                  <a:close/>
                  <a:moveTo>
                    <a:pt x="400" y="60"/>
                  </a:moveTo>
                  <a:lnTo>
                    <a:pt x="0" y="60"/>
                  </a:lnTo>
                  <a:lnTo>
                    <a:pt x="21" y="0"/>
                  </a:lnTo>
                  <a:lnTo>
                    <a:pt x="421" y="0"/>
                  </a:lnTo>
                  <a:lnTo>
                    <a:pt x="400" y="60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705040" y="3330360"/>
              <a:ext cx="438120" cy="19080"/>
            </a:xfrm>
            <a:custGeom>
              <a:avLst/>
              <a:gdLst/>
              <a:ahLst/>
              <a:rect l="l" t="t" r="r" b="b"/>
              <a:pathLst>
                <a:path w="1379" h="61">
                  <a:moveTo>
                    <a:pt x="1379" y="61"/>
                  </a:moveTo>
                  <a:lnTo>
                    <a:pt x="971" y="61"/>
                  </a:lnTo>
                  <a:lnTo>
                    <a:pt x="951" y="0"/>
                  </a:lnTo>
                  <a:lnTo>
                    <a:pt x="1359" y="0"/>
                  </a:lnTo>
                  <a:lnTo>
                    <a:pt x="1379" y="61"/>
                  </a:lnTo>
                  <a:close/>
                  <a:moveTo>
                    <a:pt x="401" y="61"/>
                  </a:moveTo>
                  <a:lnTo>
                    <a:pt x="0" y="61"/>
                  </a:lnTo>
                  <a:lnTo>
                    <a:pt x="21" y="0"/>
                  </a:lnTo>
                  <a:lnTo>
                    <a:pt x="421" y="0"/>
                  </a:lnTo>
                  <a:lnTo>
                    <a:pt x="401" y="61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709720" y="3321000"/>
              <a:ext cx="430200" cy="19080"/>
            </a:xfrm>
            <a:custGeom>
              <a:avLst/>
              <a:gdLst/>
              <a:ahLst/>
              <a:rect l="l" t="t" r="r" b="b"/>
              <a:pathLst>
                <a:path w="1359" h="60">
                  <a:moveTo>
                    <a:pt x="1359" y="60"/>
                  </a:moveTo>
                  <a:lnTo>
                    <a:pt x="951" y="60"/>
                  </a:lnTo>
                  <a:lnTo>
                    <a:pt x="939" y="25"/>
                  </a:lnTo>
                  <a:lnTo>
                    <a:pt x="412" y="25"/>
                  </a:lnTo>
                  <a:lnTo>
                    <a:pt x="400" y="60"/>
                  </a:lnTo>
                  <a:lnTo>
                    <a:pt x="0" y="60"/>
                  </a:lnTo>
                  <a:lnTo>
                    <a:pt x="20" y="0"/>
                  </a:lnTo>
                  <a:lnTo>
                    <a:pt x="1338" y="0"/>
                  </a:lnTo>
                  <a:lnTo>
                    <a:pt x="1359" y="60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12960" y="3311280"/>
              <a:ext cx="424080" cy="19080"/>
            </a:xfrm>
            <a:custGeom>
              <a:avLst/>
              <a:gdLst/>
              <a:ahLst/>
              <a:rect l="l" t="t" r="r" b="b"/>
              <a:pathLst>
                <a:path w="1338" h="60">
                  <a:moveTo>
                    <a:pt x="1338" y="60"/>
                  </a:moveTo>
                  <a:lnTo>
                    <a:pt x="930" y="60"/>
                  </a:lnTo>
                  <a:lnTo>
                    <a:pt x="929" y="55"/>
                  </a:lnTo>
                  <a:lnTo>
                    <a:pt x="402" y="55"/>
                  </a:lnTo>
                  <a:lnTo>
                    <a:pt x="400" y="60"/>
                  </a:lnTo>
                  <a:lnTo>
                    <a:pt x="0" y="60"/>
                  </a:lnTo>
                  <a:lnTo>
                    <a:pt x="22" y="0"/>
                  </a:lnTo>
                  <a:lnTo>
                    <a:pt x="1318" y="0"/>
                  </a:lnTo>
                  <a:lnTo>
                    <a:pt x="1338" y="60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16200" y="3301920"/>
              <a:ext cx="417600" cy="19080"/>
            </a:xfrm>
            <a:custGeom>
              <a:avLst/>
              <a:gdLst/>
              <a:ahLst/>
              <a:rect l="l" t="t" r="r" b="b"/>
              <a:pathLst>
                <a:path w="1318" h="60">
                  <a:moveTo>
                    <a:pt x="1318" y="60"/>
                  </a:moveTo>
                  <a:lnTo>
                    <a:pt x="0" y="60"/>
                  </a:lnTo>
                  <a:lnTo>
                    <a:pt x="22" y="0"/>
                  </a:lnTo>
                  <a:lnTo>
                    <a:pt x="1299" y="0"/>
                  </a:lnTo>
                  <a:lnTo>
                    <a:pt x="1318" y="60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719440" y="3292200"/>
              <a:ext cx="411120" cy="19080"/>
            </a:xfrm>
            <a:custGeom>
              <a:avLst/>
              <a:gdLst/>
              <a:ahLst/>
              <a:rect l="l" t="t" r="r" b="b"/>
              <a:pathLst>
                <a:path w="1296" h="61">
                  <a:moveTo>
                    <a:pt x="1296" y="61"/>
                  </a:moveTo>
                  <a:lnTo>
                    <a:pt x="0" y="61"/>
                  </a:lnTo>
                  <a:lnTo>
                    <a:pt x="20" y="0"/>
                  </a:lnTo>
                  <a:lnTo>
                    <a:pt x="1277" y="0"/>
                  </a:lnTo>
                  <a:lnTo>
                    <a:pt x="1296" y="61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22680" y="3282840"/>
              <a:ext cx="404640" cy="19080"/>
            </a:xfrm>
            <a:custGeom>
              <a:avLst/>
              <a:gdLst/>
              <a:ahLst/>
              <a:rect l="l" t="t" r="r" b="b"/>
              <a:pathLst>
                <a:path w="1277" h="60">
                  <a:moveTo>
                    <a:pt x="1277" y="60"/>
                  </a:moveTo>
                  <a:lnTo>
                    <a:pt x="0" y="60"/>
                  </a:lnTo>
                  <a:lnTo>
                    <a:pt x="21" y="0"/>
                  </a:lnTo>
                  <a:lnTo>
                    <a:pt x="1257" y="0"/>
                  </a:lnTo>
                  <a:lnTo>
                    <a:pt x="1277" y="60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25560" y="3273120"/>
              <a:ext cx="398520" cy="19080"/>
            </a:xfrm>
            <a:custGeom>
              <a:avLst/>
              <a:gdLst/>
              <a:ahLst/>
              <a:rect l="l" t="t" r="r" b="b"/>
              <a:pathLst>
                <a:path w="1257" h="60">
                  <a:moveTo>
                    <a:pt x="1257" y="60"/>
                  </a:moveTo>
                  <a:lnTo>
                    <a:pt x="0" y="60"/>
                  </a:lnTo>
                  <a:lnTo>
                    <a:pt x="21" y="0"/>
                  </a:lnTo>
                  <a:lnTo>
                    <a:pt x="1236" y="0"/>
                  </a:lnTo>
                  <a:lnTo>
                    <a:pt x="1257" y="60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28800" y="3263760"/>
              <a:ext cx="392040" cy="19080"/>
            </a:xfrm>
            <a:custGeom>
              <a:avLst/>
              <a:gdLst/>
              <a:ahLst/>
              <a:rect l="l" t="t" r="r" b="b"/>
              <a:pathLst>
                <a:path w="1236" h="61">
                  <a:moveTo>
                    <a:pt x="1236" y="61"/>
                  </a:moveTo>
                  <a:lnTo>
                    <a:pt x="0" y="61"/>
                  </a:lnTo>
                  <a:lnTo>
                    <a:pt x="21" y="0"/>
                  </a:lnTo>
                  <a:lnTo>
                    <a:pt x="1215" y="0"/>
                  </a:lnTo>
                  <a:lnTo>
                    <a:pt x="1236" y="61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32040" y="3254400"/>
              <a:ext cx="385920" cy="18720"/>
            </a:xfrm>
            <a:custGeom>
              <a:avLst/>
              <a:gdLst/>
              <a:ahLst/>
              <a:rect l="l" t="t" r="r" b="b"/>
              <a:pathLst>
                <a:path w="1215" h="60">
                  <a:moveTo>
                    <a:pt x="1215" y="60"/>
                  </a:moveTo>
                  <a:lnTo>
                    <a:pt x="0" y="60"/>
                  </a:lnTo>
                  <a:lnTo>
                    <a:pt x="22" y="0"/>
                  </a:lnTo>
                  <a:lnTo>
                    <a:pt x="1196" y="0"/>
                  </a:lnTo>
                  <a:lnTo>
                    <a:pt x="1215" y="60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735280" y="3244680"/>
              <a:ext cx="379440" cy="19080"/>
            </a:xfrm>
            <a:custGeom>
              <a:avLst/>
              <a:gdLst/>
              <a:ahLst/>
              <a:rect l="l" t="t" r="r" b="b"/>
              <a:pathLst>
                <a:path w="1194" h="60">
                  <a:moveTo>
                    <a:pt x="1194" y="60"/>
                  </a:moveTo>
                  <a:lnTo>
                    <a:pt x="0" y="60"/>
                  </a:lnTo>
                  <a:lnTo>
                    <a:pt x="21" y="0"/>
                  </a:lnTo>
                  <a:lnTo>
                    <a:pt x="1175" y="0"/>
                  </a:lnTo>
                  <a:lnTo>
                    <a:pt x="1194" y="60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739960" y="3235320"/>
              <a:ext cx="371520" cy="19080"/>
            </a:xfrm>
            <a:custGeom>
              <a:avLst/>
              <a:gdLst/>
              <a:ahLst/>
              <a:rect l="l" t="t" r="r" b="b"/>
              <a:pathLst>
                <a:path w="1174" h="60">
                  <a:moveTo>
                    <a:pt x="1174" y="60"/>
                  </a:moveTo>
                  <a:lnTo>
                    <a:pt x="0" y="60"/>
                  </a:lnTo>
                  <a:lnTo>
                    <a:pt x="20" y="0"/>
                  </a:lnTo>
                  <a:lnTo>
                    <a:pt x="1154" y="0"/>
                  </a:lnTo>
                  <a:lnTo>
                    <a:pt x="1174" y="60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743200" y="3225600"/>
              <a:ext cx="365040" cy="19080"/>
            </a:xfrm>
            <a:custGeom>
              <a:avLst/>
              <a:gdLst/>
              <a:ahLst/>
              <a:rect l="l" t="t" r="r" b="b"/>
              <a:pathLst>
                <a:path w="1154" h="61">
                  <a:moveTo>
                    <a:pt x="1154" y="61"/>
                  </a:moveTo>
                  <a:lnTo>
                    <a:pt x="0" y="61"/>
                  </a:lnTo>
                  <a:lnTo>
                    <a:pt x="22" y="0"/>
                  </a:lnTo>
                  <a:lnTo>
                    <a:pt x="1133" y="0"/>
                  </a:lnTo>
                  <a:lnTo>
                    <a:pt x="1154" y="61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746440" y="3216240"/>
              <a:ext cx="358560" cy="19080"/>
            </a:xfrm>
            <a:custGeom>
              <a:avLst/>
              <a:gdLst/>
              <a:ahLst/>
              <a:rect l="l" t="t" r="r" b="b"/>
              <a:pathLst>
                <a:path w="1134" h="60">
                  <a:moveTo>
                    <a:pt x="1134" y="60"/>
                  </a:moveTo>
                  <a:lnTo>
                    <a:pt x="0" y="60"/>
                  </a:lnTo>
                  <a:lnTo>
                    <a:pt x="22" y="0"/>
                  </a:lnTo>
                  <a:lnTo>
                    <a:pt x="1114" y="0"/>
                  </a:lnTo>
                  <a:lnTo>
                    <a:pt x="1134" y="60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49680" y="3206520"/>
              <a:ext cx="352440" cy="19080"/>
            </a:xfrm>
            <a:custGeom>
              <a:avLst/>
              <a:gdLst/>
              <a:ahLst/>
              <a:rect l="l" t="t" r="r" b="b"/>
              <a:pathLst>
                <a:path w="1111" h="60">
                  <a:moveTo>
                    <a:pt x="1111" y="60"/>
                  </a:moveTo>
                  <a:lnTo>
                    <a:pt x="0" y="60"/>
                  </a:lnTo>
                  <a:lnTo>
                    <a:pt x="20" y="0"/>
                  </a:lnTo>
                  <a:lnTo>
                    <a:pt x="397" y="0"/>
                  </a:lnTo>
                  <a:lnTo>
                    <a:pt x="393" y="15"/>
                  </a:lnTo>
                  <a:lnTo>
                    <a:pt x="699" y="15"/>
                  </a:lnTo>
                  <a:lnTo>
                    <a:pt x="694" y="0"/>
                  </a:lnTo>
                  <a:lnTo>
                    <a:pt x="1092" y="0"/>
                  </a:lnTo>
                  <a:lnTo>
                    <a:pt x="1111" y="60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752560" y="3197160"/>
              <a:ext cx="346320" cy="19080"/>
            </a:xfrm>
            <a:custGeom>
              <a:avLst/>
              <a:gdLst/>
              <a:ahLst/>
              <a:rect l="l" t="t" r="r" b="b"/>
              <a:pathLst>
                <a:path w="1092" h="61">
                  <a:moveTo>
                    <a:pt x="1092" y="61"/>
                  </a:moveTo>
                  <a:lnTo>
                    <a:pt x="0" y="61"/>
                  </a:lnTo>
                  <a:lnTo>
                    <a:pt x="21" y="0"/>
                  </a:lnTo>
                  <a:lnTo>
                    <a:pt x="397" y="0"/>
                  </a:lnTo>
                  <a:lnTo>
                    <a:pt x="383" y="45"/>
                  </a:lnTo>
                  <a:lnTo>
                    <a:pt x="689" y="45"/>
                  </a:lnTo>
                  <a:lnTo>
                    <a:pt x="675" y="0"/>
                  </a:lnTo>
                  <a:lnTo>
                    <a:pt x="1072" y="0"/>
                  </a:lnTo>
                  <a:lnTo>
                    <a:pt x="1092" y="61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55800" y="3187440"/>
              <a:ext cx="339840" cy="19080"/>
            </a:xfrm>
            <a:custGeom>
              <a:avLst/>
              <a:gdLst/>
              <a:ahLst/>
              <a:rect l="l" t="t" r="r" b="b"/>
              <a:pathLst>
                <a:path w="1072" h="60">
                  <a:moveTo>
                    <a:pt x="1072" y="60"/>
                  </a:moveTo>
                  <a:lnTo>
                    <a:pt x="674" y="60"/>
                  </a:lnTo>
                  <a:lnTo>
                    <a:pt x="656" y="0"/>
                  </a:lnTo>
                  <a:lnTo>
                    <a:pt x="1052" y="0"/>
                  </a:lnTo>
                  <a:lnTo>
                    <a:pt x="1072" y="60"/>
                  </a:lnTo>
                  <a:close/>
                  <a:moveTo>
                    <a:pt x="377" y="60"/>
                  </a:moveTo>
                  <a:lnTo>
                    <a:pt x="0" y="60"/>
                  </a:lnTo>
                  <a:lnTo>
                    <a:pt x="21" y="0"/>
                  </a:lnTo>
                  <a:lnTo>
                    <a:pt x="396" y="0"/>
                  </a:lnTo>
                  <a:lnTo>
                    <a:pt x="377" y="60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759040" y="3178080"/>
              <a:ext cx="333360" cy="19080"/>
            </a:xfrm>
            <a:custGeom>
              <a:avLst/>
              <a:gdLst/>
              <a:ahLst/>
              <a:rect l="l" t="t" r="r" b="b"/>
              <a:pathLst>
                <a:path w="1051" h="60">
                  <a:moveTo>
                    <a:pt x="1051" y="60"/>
                  </a:moveTo>
                  <a:lnTo>
                    <a:pt x="654" y="60"/>
                  </a:lnTo>
                  <a:lnTo>
                    <a:pt x="636" y="0"/>
                  </a:lnTo>
                  <a:lnTo>
                    <a:pt x="1030" y="0"/>
                  </a:lnTo>
                  <a:lnTo>
                    <a:pt x="1051" y="60"/>
                  </a:lnTo>
                  <a:close/>
                  <a:moveTo>
                    <a:pt x="376" y="60"/>
                  </a:moveTo>
                  <a:lnTo>
                    <a:pt x="0" y="60"/>
                  </a:lnTo>
                  <a:lnTo>
                    <a:pt x="21" y="0"/>
                  </a:lnTo>
                  <a:lnTo>
                    <a:pt x="394" y="0"/>
                  </a:lnTo>
                  <a:lnTo>
                    <a:pt x="376" y="60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762280" y="3168360"/>
              <a:ext cx="326880" cy="19080"/>
            </a:xfrm>
            <a:custGeom>
              <a:avLst/>
              <a:gdLst/>
              <a:ahLst/>
              <a:rect l="l" t="t" r="r" b="b"/>
              <a:pathLst>
                <a:path w="1031" h="60">
                  <a:moveTo>
                    <a:pt x="1031" y="60"/>
                  </a:moveTo>
                  <a:lnTo>
                    <a:pt x="635" y="60"/>
                  </a:lnTo>
                  <a:lnTo>
                    <a:pt x="616" y="0"/>
                  </a:lnTo>
                  <a:lnTo>
                    <a:pt x="1011" y="0"/>
                  </a:lnTo>
                  <a:lnTo>
                    <a:pt x="1031" y="60"/>
                  </a:lnTo>
                  <a:close/>
                  <a:moveTo>
                    <a:pt x="375" y="60"/>
                  </a:moveTo>
                  <a:lnTo>
                    <a:pt x="0" y="60"/>
                  </a:lnTo>
                  <a:lnTo>
                    <a:pt x="22" y="0"/>
                  </a:lnTo>
                  <a:lnTo>
                    <a:pt x="393" y="0"/>
                  </a:lnTo>
                  <a:lnTo>
                    <a:pt x="375" y="60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765520" y="3159000"/>
              <a:ext cx="320400" cy="19080"/>
            </a:xfrm>
            <a:custGeom>
              <a:avLst/>
              <a:gdLst/>
              <a:ahLst/>
              <a:rect l="l" t="t" r="r" b="b"/>
              <a:pathLst>
                <a:path w="1009" h="61">
                  <a:moveTo>
                    <a:pt x="1009" y="61"/>
                  </a:moveTo>
                  <a:lnTo>
                    <a:pt x="615" y="61"/>
                  </a:lnTo>
                  <a:lnTo>
                    <a:pt x="596" y="0"/>
                  </a:lnTo>
                  <a:lnTo>
                    <a:pt x="990" y="0"/>
                  </a:lnTo>
                  <a:lnTo>
                    <a:pt x="1009" y="61"/>
                  </a:lnTo>
                  <a:close/>
                  <a:moveTo>
                    <a:pt x="373" y="61"/>
                  </a:moveTo>
                  <a:lnTo>
                    <a:pt x="0" y="61"/>
                  </a:lnTo>
                  <a:lnTo>
                    <a:pt x="21" y="0"/>
                  </a:lnTo>
                  <a:lnTo>
                    <a:pt x="391" y="0"/>
                  </a:lnTo>
                  <a:lnTo>
                    <a:pt x="373" y="61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770200" y="3149280"/>
              <a:ext cx="312840" cy="19080"/>
            </a:xfrm>
            <a:custGeom>
              <a:avLst/>
              <a:gdLst/>
              <a:ahLst/>
              <a:rect l="l" t="t" r="r" b="b"/>
              <a:pathLst>
                <a:path w="989" h="61">
                  <a:moveTo>
                    <a:pt x="989" y="61"/>
                  </a:moveTo>
                  <a:lnTo>
                    <a:pt x="594" y="61"/>
                  </a:lnTo>
                  <a:lnTo>
                    <a:pt x="576" y="0"/>
                  </a:lnTo>
                  <a:lnTo>
                    <a:pt x="969" y="0"/>
                  </a:lnTo>
                  <a:lnTo>
                    <a:pt x="989" y="61"/>
                  </a:lnTo>
                  <a:close/>
                  <a:moveTo>
                    <a:pt x="371" y="61"/>
                  </a:moveTo>
                  <a:lnTo>
                    <a:pt x="0" y="61"/>
                  </a:lnTo>
                  <a:lnTo>
                    <a:pt x="20" y="0"/>
                  </a:lnTo>
                  <a:lnTo>
                    <a:pt x="389" y="0"/>
                  </a:lnTo>
                  <a:lnTo>
                    <a:pt x="371" y="61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773440" y="3139920"/>
              <a:ext cx="306360" cy="19080"/>
            </a:xfrm>
            <a:custGeom>
              <a:avLst/>
              <a:gdLst/>
              <a:ahLst/>
              <a:rect l="l" t="t" r="r" b="b"/>
              <a:pathLst>
                <a:path w="969" h="60">
                  <a:moveTo>
                    <a:pt x="969" y="60"/>
                  </a:moveTo>
                  <a:lnTo>
                    <a:pt x="575" y="60"/>
                  </a:lnTo>
                  <a:lnTo>
                    <a:pt x="557" y="0"/>
                  </a:lnTo>
                  <a:lnTo>
                    <a:pt x="949" y="0"/>
                  </a:lnTo>
                  <a:lnTo>
                    <a:pt x="969" y="60"/>
                  </a:lnTo>
                  <a:close/>
                  <a:moveTo>
                    <a:pt x="370" y="60"/>
                  </a:moveTo>
                  <a:lnTo>
                    <a:pt x="0" y="60"/>
                  </a:lnTo>
                  <a:lnTo>
                    <a:pt x="21" y="0"/>
                  </a:lnTo>
                  <a:lnTo>
                    <a:pt x="389" y="0"/>
                  </a:lnTo>
                  <a:lnTo>
                    <a:pt x="370" y="60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76680" y="3130560"/>
              <a:ext cx="299880" cy="18720"/>
            </a:xfrm>
            <a:custGeom>
              <a:avLst/>
              <a:gdLst/>
              <a:ahLst/>
              <a:rect l="l" t="t" r="r" b="b"/>
              <a:pathLst>
                <a:path w="949" h="60">
                  <a:moveTo>
                    <a:pt x="949" y="60"/>
                  </a:moveTo>
                  <a:lnTo>
                    <a:pt x="556" y="60"/>
                  </a:lnTo>
                  <a:lnTo>
                    <a:pt x="538" y="0"/>
                  </a:lnTo>
                  <a:lnTo>
                    <a:pt x="929" y="0"/>
                  </a:lnTo>
                  <a:lnTo>
                    <a:pt x="949" y="60"/>
                  </a:lnTo>
                  <a:close/>
                  <a:moveTo>
                    <a:pt x="369" y="60"/>
                  </a:moveTo>
                  <a:lnTo>
                    <a:pt x="0" y="60"/>
                  </a:lnTo>
                  <a:lnTo>
                    <a:pt x="22" y="0"/>
                  </a:lnTo>
                  <a:lnTo>
                    <a:pt x="388" y="0"/>
                  </a:lnTo>
                  <a:lnTo>
                    <a:pt x="369" y="60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779560" y="3120840"/>
              <a:ext cx="293760" cy="19080"/>
            </a:xfrm>
            <a:custGeom>
              <a:avLst/>
              <a:gdLst/>
              <a:ahLst/>
              <a:rect l="l" t="t" r="r" b="b"/>
              <a:pathLst>
                <a:path w="928" h="60">
                  <a:moveTo>
                    <a:pt x="928" y="60"/>
                  </a:moveTo>
                  <a:lnTo>
                    <a:pt x="536" y="60"/>
                  </a:lnTo>
                  <a:lnTo>
                    <a:pt x="518" y="0"/>
                  </a:lnTo>
                  <a:lnTo>
                    <a:pt x="908" y="0"/>
                  </a:lnTo>
                  <a:lnTo>
                    <a:pt x="928" y="60"/>
                  </a:lnTo>
                  <a:close/>
                  <a:moveTo>
                    <a:pt x="368" y="60"/>
                  </a:moveTo>
                  <a:lnTo>
                    <a:pt x="0" y="60"/>
                  </a:lnTo>
                  <a:lnTo>
                    <a:pt x="21" y="0"/>
                  </a:lnTo>
                  <a:lnTo>
                    <a:pt x="386" y="0"/>
                  </a:lnTo>
                  <a:lnTo>
                    <a:pt x="368" y="60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82800" y="3111480"/>
              <a:ext cx="287280" cy="19080"/>
            </a:xfrm>
            <a:custGeom>
              <a:avLst/>
              <a:gdLst/>
              <a:ahLst/>
              <a:rect l="l" t="t" r="r" b="b"/>
              <a:pathLst>
                <a:path w="907" h="60">
                  <a:moveTo>
                    <a:pt x="907" y="60"/>
                  </a:moveTo>
                  <a:lnTo>
                    <a:pt x="516" y="60"/>
                  </a:lnTo>
                  <a:lnTo>
                    <a:pt x="497" y="0"/>
                  </a:lnTo>
                  <a:lnTo>
                    <a:pt x="887" y="0"/>
                  </a:lnTo>
                  <a:lnTo>
                    <a:pt x="907" y="60"/>
                  </a:lnTo>
                  <a:close/>
                  <a:moveTo>
                    <a:pt x="366" y="60"/>
                  </a:moveTo>
                  <a:lnTo>
                    <a:pt x="0" y="60"/>
                  </a:lnTo>
                  <a:lnTo>
                    <a:pt x="21" y="0"/>
                  </a:lnTo>
                  <a:lnTo>
                    <a:pt x="384" y="0"/>
                  </a:lnTo>
                  <a:lnTo>
                    <a:pt x="366" y="60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786040" y="3101760"/>
              <a:ext cx="281160" cy="19080"/>
            </a:xfrm>
            <a:custGeom>
              <a:avLst/>
              <a:gdLst/>
              <a:ahLst/>
              <a:rect l="l" t="t" r="r" b="b"/>
              <a:pathLst>
                <a:path w="887" h="60">
                  <a:moveTo>
                    <a:pt x="887" y="60"/>
                  </a:moveTo>
                  <a:lnTo>
                    <a:pt x="497" y="60"/>
                  </a:lnTo>
                  <a:lnTo>
                    <a:pt x="478" y="0"/>
                  </a:lnTo>
                  <a:lnTo>
                    <a:pt x="867" y="0"/>
                  </a:lnTo>
                  <a:lnTo>
                    <a:pt x="887" y="60"/>
                  </a:lnTo>
                  <a:close/>
                  <a:moveTo>
                    <a:pt x="365" y="60"/>
                  </a:moveTo>
                  <a:lnTo>
                    <a:pt x="0" y="60"/>
                  </a:lnTo>
                  <a:lnTo>
                    <a:pt x="21" y="0"/>
                  </a:lnTo>
                  <a:lnTo>
                    <a:pt x="383" y="0"/>
                  </a:lnTo>
                  <a:lnTo>
                    <a:pt x="365" y="60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789280" y="3090600"/>
              <a:ext cx="274680" cy="20880"/>
            </a:xfrm>
            <a:custGeom>
              <a:avLst/>
              <a:gdLst/>
              <a:ahLst/>
              <a:rect l="l" t="t" r="r" b="b"/>
              <a:pathLst>
                <a:path w="866" h="61">
                  <a:moveTo>
                    <a:pt x="866" y="61"/>
                  </a:moveTo>
                  <a:lnTo>
                    <a:pt x="476" y="61"/>
                  </a:lnTo>
                  <a:lnTo>
                    <a:pt x="458" y="0"/>
                  </a:lnTo>
                  <a:lnTo>
                    <a:pt x="846" y="0"/>
                  </a:lnTo>
                  <a:lnTo>
                    <a:pt x="866" y="61"/>
                  </a:lnTo>
                  <a:close/>
                  <a:moveTo>
                    <a:pt x="363" y="61"/>
                  </a:moveTo>
                  <a:lnTo>
                    <a:pt x="0" y="61"/>
                  </a:lnTo>
                  <a:lnTo>
                    <a:pt x="20" y="0"/>
                  </a:lnTo>
                  <a:lnTo>
                    <a:pt x="381" y="0"/>
                  </a:lnTo>
                  <a:lnTo>
                    <a:pt x="363" y="61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792520" y="3081240"/>
              <a:ext cx="268200" cy="20520"/>
            </a:xfrm>
            <a:custGeom>
              <a:avLst/>
              <a:gdLst/>
              <a:ahLst/>
              <a:rect l="l" t="t" r="r" b="b"/>
              <a:pathLst>
                <a:path w="846" h="61">
                  <a:moveTo>
                    <a:pt x="846" y="61"/>
                  </a:moveTo>
                  <a:lnTo>
                    <a:pt x="457" y="61"/>
                  </a:lnTo>
                  <a:lnTo>
                    <a:pt x="439" y="0"/>
                  </a:lnTo>
                  <a:lnTo>
                    <a:pt x="826" y="0"/>
                  </a:lnTo>
                  <a:lnTo>
                    <a:pt x="846" y="61"/>
                  </a:lnTo>
                  <a:close/>
                  <a:moveTo>
                    <a:pt x="362" y="61"/>
                  </a:moveTo>
                  <a:lnTo>
                    <a:pt x="0" y="61"/>
                  </a:lnTo>
                  <a:lnTo>
                    <a:pt x="22" y="0"/>
                  </a:lnTo>
                  <a:lnTo>
                    <a:pt x="381" y="0"/>
                  </a:lnTo>
                  <a:lnTo>
                    <a:pt x="362" y="61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795400" y="3071520"/>
              <a:ext cx="262080" cy="19080"/>
            </a:xfrm>
            <a:custGeom>
              <a:avLst/>
              <a:gdLst/>
              <a:ahLst/>
              <a:rect l="l" t="t" r="r" b="b"/>
              <a:pathLst>
                <a:path w="826" h="60">
                  <a:moveTo>
                    <a:pt x="826" y="60"/>
                  </a:moveTo>
                  <a:lnTo>
                    <a:pt x="438" y="60"/>
                  </a:lnTo>
                  <a:lnTo>
                    <a:pt x="420" y="0"/>
                  </a:lnTo>
                  <a:lnTo>
                    <a:pt x="806" y="0"/>
                  </a:lnTo>
                  <a:lnTo>
                    <a:pt x="826" y="60"/>
                  </a:lnTo>
                  <a:close/>
                  <a:moveTo>
                    <a:pt x="361" y="60"/>
                  </a:moveTo>
                  <a:lnTo>
                    <a:pt x="0" y="60"/>
                  </a:lnTo>
                  <a:lnTo>
                    <a:pt x="22" y="0"/>
                  </a:lnTo>
                  <a:lnTo>
                    <a:pt x="380" y="0"/>
                  </a:lnTo>
                  <a:lnTo>
                    <a:pt x="361" y="60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0440" y="3062160"/>
              <a:ext cx="253800" cy="19080"/>
            </a:xfrm>
            <a:custGeom>
              <a:avLst/>
              <a:gdLst/>
              <a:ahLst/>
              <a:rect l="l" t="t" r="r" b="b"/>
              <a:pathLst>
                <a:path w="804" h="60">
                  <a:moveTo>
                    <a:pt x="804" y="60"/>
                  </a:moveTo>
                  <a:lnTo>
                    <a:pt x="417" y="60"/>
                  </a:lnTo>
                  <a:lnTo>
                    <a:pt x="398" y="0"/>
                  </a:lnTo>
                  <a:lnTo>
                    <a:pt x="784" y="0"/>
                  </a:lnTo>
                  <a:lnTo>
                    <a:pt x="804" y="60"/>
                  </a:lnTo>
                  <a:close/>
                  <a:moveTo>
                    <a:pt x="359" y="60"/>
                  </a:moveTo>
                  <a:lnTo>
                    <a:pt x="0" y="60"/>
                  </a:lnTo>
                  <a:lnTo>
                    <a:pt x="20" y="0"/>
                  </a:lnTo>
                  <a:lnTo>
                    <a:pt x="377" y="0"/>
                  </a:lnTo>
                  <a:lnTo>
                    <a:pt x="359" y="60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03680" y="3052440"/>
              <a:ext cx="247320" cy="19080"/>
            </a:xfrm>
            <a:custGeom>
              <a:avLst/>
              <a:gdLst/>
              <a:ahLst/>
              <a:rect l="l" t="t" r="r" b="b"/>
              <a:pathLst>
                <a:path w="784" h="60">
                  <a:moveTo>
                    <a:pt x="784" y="60"/>
                  </a:moveTo>
                  <a:lnTo>
                    <a:pt x="398" y="60"/>
                  </a:lnTo>
                  <a:lnTo>
                    <a:pt x="379" y="0"/>
                  </a:lnTo>
                  <a:lnTo>
                    <a:pt x="764" y="0"/>
                  </a:lnTo>
                  <a:lnTo>
                    <a:pt x="784" y="60"/>
                  </a:lnTo>
                  <a:close/>
                  <a:moveTo>
                    <a:pt x="358" y="60"/>
                  </a:moveTo>
                  <a:lnTo>
                    <a:pt x="0" y="60"/>
                  </a:lnTo>
                  <a:lnTo>
                    <a:pt x="21" y="0"/>
                  </a:lnTo>
                  <a:lnTo>
                    <a:pt x="376" y="0"/>
                  </a:lnTo>
                  <a:lnTo>
                    <a:pt x="358" y="60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6560" y="3043080"/>
              <a:ext cx="241560" cy="19080"/>
            </a:xfrm>
            <a:custGeom>
              <a:avLst/>
              <a:gdLst/>
              <a:ahLst/>
              <a:rect l="l" t="t" r="r" b="b"/>
              <a:pathLst>
                <a:path w="764" h="60">
                  <a:moveTo>
                    <a:pt x="764" y="60"/>
                  </a:moveTo>
                  <a:lnTo>
                    <a:pt x="378" y="60"/>
                  </a:lnTo>
                  <a:lnTo>
                    <a:pt x="367" y="26"/>
                  </a:lnTo>
                  <a:lnTo>
                    <a:pt x="357" y="60"/>
                  </a:lnTo>
                  <a:lnTo>
                    <a:pt x="0" y="60"/>
                  </a:lnTo>
                  <a:lnTo>
                    <a:pt x="21" y="0"/>
                  </a:lnTo>
                  <a:lnTo>
                    <a:pt x="745" y="0"/>
                  </a:lnTo>
                  <a:lnTo>
                    <a:pt x="764" y="60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809800" y="3033720"/>
              <a:ext cx="235080" cy="18720"/>
            </a:xfrm>
            <a:custGeom>
              <a:avLst/>
              <a:gdLst/>
              <a:ahLst/>
              <a:rect l="l" t="t" r="r" b="b"/>
              <a:pathLst>
                <a:path w="743" h="60">
                  <a:moveTo>
                    <a:pt x="743" y="60"/>
                  </a:moveTo>
                  <a:lnTo>
                    <a:pt x="358" y="60"/>
                  </a:lnTo>
                  <a:lnTo>
                    <a:pt x="356" y="56"/>
                  </a:lnTo>
                  <a:lnTo>
                    <a:pt x="355" y="60"/>
                  </a:lnTo>
                  <a:lnTo>
                    <a:pt x="0" y="60"/>
                  </a:lnTo>
                  <a:lnTo>
                    <a:pt x="21" y="0"/>
                  </a:lnTo>
                  <a:lnTo>
                    <a:pt x="723" y="0"/>
                  </a:lnTo>
                  <a:lnTo>
                    <a:pt x="743" y="60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813040" y="3024000"/>
              <a:ext cx="230040" cy="19080"/>
            </a:xfrm>
            <a:custGeom>
              <a:avLst/>
              <a:gdLst/>
              <a:ahLst/>
              <a:rect l="l" t="t" r="r" b="b"/>
              <a:pathLst>
                <a:path w="724" h="61">
                  <a:moveTo>
                    <a:pt x="724" y="61"/>
                  </a:moveTo>
                  <a:lnTo>
                    <a:pt x="0" y="61"/>
                  </a:lnTo>
                  <a:lnTo>
                    <a:pt x="22" y="0"/>
                  </a:lnTo>
                  <a:lnTo>
                    <a:pt x="703" y="0"/>
                  </a:lnTo>
                  <a:lnTo>
                    <a:pt x="724" y="61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16280" y="3014640"/>
              <a:ext cx="222120" cy="19080"/>
            </a:xfrm>
            <a:custGeom>
              <a:avLst/>
              <a:gdLst/>
              <a:ahLst/>
              <a:rect l="l" t="t" r="r" b="b"/>
              <a:pathLst>
                <a:path w="702" h="61">
                  <a:moveTo>
                    <a:pt x="702" y="61"/>
                  </a:moveTo>
                  <a:lnTo>
                    <a:pt x="0" y="61"/>
                  </a:lnTo>
                  <a:lnTo>
                    <a:pt x="21" y="0"/>
                  </a:lnTo>
                  <a:lnTo>
                    <a:pt x="682" y="0"/>
                  </a:lnTo>
                  <a:lnTo>
                    <a:pt x="702" y="61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19520" y="3004920"/>
              <a:ext cx="215640" cy="19080"/>
            </a:xfrm>
            <a:custGeom>
              <a:avLst/>
              <a:gdLst/>
              <a:ahLst/>
              <a:rect l="l" t="t" r="r" b="b"/>
              <a:pathLst>
                <a:path w="681" h="60">
                  <a:moveTo>
                    <a:pt x="681" y="60"/>
                  </a:moveTo>
                  <a:lnTo>
                    <a:pt x="0" y="60"/>
                  </a:lnTo>
                  <a:lnTo>
                    <a:pt x="21" y="0"/>
                  </a:lnTo>
                  <a:lnTo>
                    <a:pt x="661" y="0"/>
                  </a:lnTo>
                  <a:lnTo>
                    <a:pt x="681" y="60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822400" y="2995560"/>
              <a:ext cx="209880" cy="19080"/>
            </a:xfrm>
            <a:custGeom>
              <a:avLst/>
              <a:gdLst/>
              <a:ahLst/>
              <a:rect l="l" t="t" r="r" b="b"/>
              <a:pathLst>
                <a:path w="661" h="60">
                  <a:moveTo>
                    <a:pt x="661" y="60"/>
                  </a:moveTo>
                  <a:lnTo>
                    <a:pt x="0" y="60"/>
                  </a:lnTo>
                  <a:lnTo>
                    <a:pt x="21" y="0"/>
                  </a:lnTo>
                  <a:lnTo>
                    <a:pt x="642" y="0"/>
                  </a:lnTo>
                  <a:lnTo>
                    <a:pt x="661" y="60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25640" y="2985840"/>
              <a:ext cx="203400" cy="19080"/>
            </a:xfrm>
            <a:custGeom>
              <a:avLst/>
              <a:gdLst/>
              <a:ahLst/>
              <a:rect l="l" t="t" r="r" b="b"/>
              <a:pathLst>
                <a:path w="640" h="60">
                  <a:moveTo>
                    <a:pt x="640" y="60"/>
                  </a:moveTo>
                  <a:lnTo>
                    <a:pt x="0" y="60"/>
                  </a:lnTo>
                  <a:lnTo>
                    <a:pt x="21" y="0"/>
                  </a:lnTo>
                  <a:lnTo>
                    <a:pt x="620" y="0"/>
                  </a:lnTo>
                  <a:lnTo>
                    <a:pt x="640" y="60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828880" y="2976480"/>
              <a:ext cx="198360" cy="19080"/>
            </a:xfrm>
            <a:custGeom>
              <a:avLst/>
              <a:gdLst/>
              <a:ahLst/>
              <a:rect l="l" t="t" r="r" b="b"/>
              <a:pathLst>
                <a:path w="621" h="60">
                  <a:moveTo>
                    <a:pt x="621" y="60"/>
                  </a:moveTo>
                  <a:lnTo>
                    <a:pt x="0" y="60"/>
                  </a:lnTo>
                  <a:lnTo>
                    <a:pt x="22" y="0"/>
                  </a:lnTo>
                  <a:lnTo>
                    <a:pt x="600" y="0"/>
                  </a:lnTo>
                  <a:lnTo>
                    <a:pt x="621" y="60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833560" y="2966760"/>
              <a:ext cx="189000" cy="19080"/>
            </a:xfrm>
            <a:custGeom>
              <a:avLst/>
              <a:gdLst/>
              <a:ahLst/>
              <a:rect l="l" t="t" r="r" b="b"/>
              <a:pathLst>
                <a:path w="599" h="60">
                  <a:moveTo>
                    <a:pt x="599" y="60"/>
                  </a:moveTo>
                  <a:lnTo>
                    <a:pt x="0" y="60"/>
                  </a:lnTo>
                  <a:lnTo>
                    <a:pt x="21" y="0"/>
                  </a:lnTo>
                  <a:lnTo>
                    <a:pt x="579" y="0"/>
                  </a:lnTo>
                  <a:lnTo>
                    <a:pt x="599" y="60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36800" y="2957400"/>
              <a:ext cx="182520" cy="19080"/>
            </a:xfrm>
            <a:custGeom>
              <a:avLst/>
              <a:gdLst/>
              <a:ahLst/>
              <a:rect l="l" t="t" r="r" b="b"/>
              <a:pathLst>
                <a:path w="578" h="61">
                  <a:moveTo>
                    <a:pt x="578" y="61"/>
                  </a:moveTo>
                  <a:lnTo>
                    <a:pt x="0" y="61"/>
                  </a:lnTo>
                  <a:lnTo>
                    <a:pt x="20" y="0"/>
                  </a:lnTo>
                  <a:lnTo>
                    <a:pt x="559" y="0"/>
                  </a:lnTo>
                  <a:lnTo>
                    <a:pt x="578" y="61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840040" y="2947680"/>
              <a:ext cx="176040" cy="19080"/>
            </a:xfrm>
            <a:custGeom>
              <a:avLst/>
              <a:gdLst/>
              <a:ahLst/>
              <a:rect l="l" t="t" r="r" b="b"/>
              <a:pathLst>
                <a:path w="558" h="61">
                  <a:moveTo>
                    <a:pt x="558" y="61"/>
                  </a:moveTo>
                  <a:lnTo>
                    <a:pt x="0" y="61"/>
                  </a:lnTo>
                  <a:lnTo>
                    <a:pt x="22" y="0"/>
                  </a:lnTo>
                  <a:lnTo>
                    <a:pt x="539" y="0"/>
                  </a:lnTo>
                  <a:lnTo>
                    <a:pt x="558" y="61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843280" y="2938320"/>
              <a:ext cx="171360" cy="19080"/>
            </a:xfrm>
            <a:custGeom>
              <a:avLst/>
              <a:gdLst/>
              <a:ahLst/>
              <a:rect l="l" t="t" r="r" b="b"/>
              <a:pathLst>
                <a:path w="539" h="60">
                  <a:moveTo>
                    <a:pt x="539" y="60"/>
                  </a:moveTo>
                  <a:lnTo>
                    <a:pt x="0" y="60"/>
                  </a:lnTo>
                  <a:lnTo>
                    <a:pt x="22" y="0"/>
                  </a:lnTo>
                  <a:lnTo>
                    <a:pt x="518" y="0"/>
                  </a:lnTo>
                  <a:lnTo>
                    <a:pt x="539" y="60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846520" y="2928960"/>
              <a:ext cx="164880" cy="18720"/>
            </a:xfrm>
            <a:custGeom>
              <a:avLst/>
              <a:gdLst/>
              <a:ahLst/>
              <a:rect l="l" t="t" r="r" b="b"/>
              <a:pathLst>
                <a:path w="517" h="60">
                  <a:moveTo>
                    <a:pt x="517" y="60"/>
                  </a:moveTo>
                  <a:lnTo>
                    <a:pt x="0" y="60"/>
                  </a:lnTo>
                  <a:lnTo>
                    <a:pt x="20" y="0"/>
                  </a:lnTo>
                  <a:lnTo>
                    <a:pt x="496" y="0"/>
                  </a:lnTo>
                  <a:lnTo>
                    <a:pt x="517" y="60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849400" y="2919240"/>
              <a:ext cx="157320" cy="19080"/>
            </a:xfrm>
            <a:custGeom>
              <a:avLst/>
              <a:gdLst/>
              <a:ahLst/>
              <a:rect l="l" t="t" r="r" b="b"/>
              <a:pathLst>
                <a:path w="496" h="60">
                  <a:moveTo>
                    <a:pt x="496" y="60"/>
                  </a:moveTo>
                  <a:lnTo>
                    <a:pt x="0" y="60"/>
                  </a:lnTo>
                  <a:lnTo>
                    <a:pt x="21" y="0"/>
                  </a:lnTo>
                  <a:lnTo>
                    <a:pt x="476" y="0"/>
                  </a:lnTo>
                  <a:lnTo>
                    <a:pt x="496" y="60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852640" y="2909880"/>
              <a:ext cx="150840" cy="19080"/>
            </a:xfrm>
            <a:custGeom>
              <a:avLst/>
              <a:gdLst/>
              <a:ahLst/>
              <a:rect l="l" t="t" r="r" b="b"/>
              <a:pathLst>
                <a:path w="476" h="60">
                  <a:moveTo>
                    <a:pt x="476" y="60"/>
                  </a:moveTo>
                  <a:lnTo>
                    <a:pt x="0" y="60"/>
                  </a:lnTo>
                  <a:lnTo>
                    <a:pt x="21" y="0"/>
                  </a:lnTo>
                  <a:lnTo>
                    <a:pt x="457" y="0"/>
                  </a:lnTo>
                  <a:lnTo>
                    <a:pt x="476" y="60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855880" y="2909880"/>
              <a:ext cx="144360" cy="9360"/>
            </a:xfrm>
            <a:custGeom>
              <a:avLst/>
              <a:gdLst/>
              <a:ahLst/>
              <a:rect l="l" t="t" r="r" b="b"/>
              <a:pathLst>
                <a:path w="455" h="30">
                  <a:moveTo>
                    <a:pt x="455" y="30"/>
                  </a:moveTo>
                  <a:lnTo>
                    <a:pt x="0" y="30"/>
                  </a:lnTo>
                  <a:lnTo>
                    <a:pt x="10" y="0"/>
                  </a:lnTo>
                  <a:lnTo>
                    <a:pt x="446" y="0"/>
                  </a:lnTo>
                  <a:lnTo>
                    <a:pt x="455" y="30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134880" y="2743200"/>
              <a:ext cx="238572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200" spc="-1" strike="noStrike">
                  <a:solidFill>
                    <a:srgbClr val="1f1a17"/>
                  </a:solidFill>
                  <a:latin typeface="Geometr231 Hv BT"/>
                </a:rPr>
                <a:t>ttitudes</a:t>
              </a:r>
              <a:endParaRPr b="0" lang="en-US" sz="5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874960" y="3052440"/>
              <a:ext cx="96840" cy="158760"/>
            </a:xfrm>
            <a:custGeom>
              <a:avLst/>
              <a:gdLst/>
              <a:ahLst/>
              <a:rect l="l" t="t" r="r" b="b"/>
              <a:pathLst>
                <a:path w="306" h="501">
                  <a:moveTo>
                    <a:pt x="0" y="501"/>
                  </a:moveTo>
                  <a:lnTo>
                    <a:pt x="306" y="501"/>
                  </a:lnTo>
                  <a:lnTo>
                    <a:pt x="152" y="0"/>
                  </a:lnTo>
                  <a:lnTo>
                    <a:pt x="0" y="501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693880" y="2909880"/>
              <a:ext cx="460440" cy="473040"/>
            </a:xfrm>
            <a:custGeom>
              <a:avLst/>
              <a:gdLst/>
              <a:ahLst/>
              <a:rect l="l" t="t" r="r" b="b"/>
              <a:pathLst>
                <a:path w="1450" h="1488">
                  <a:moveTo>
                    <a:pt x="0" y="1488"/>
                  </a:moveTo>
                  <a:lnTo>
                    <a:pt x="521" y="0"/>
                  </a:lnTo>
                  <a:lnTo>
                    <a:pt x="957" y="0"/>
                  </a:lnTo>
                  <a:lnTo>
                    <a:pt x="1450" y="1488"/>
                  </a:lnTo>
                  <a:lnTo>
                    <a:pt x="1040" y="1488"/>
                  </a:lnTo>
                  <a:lnTo>
                    <a:pt x="986" y="1321"/>
                  </a:lnTo>
                  <a:lnTo>
                    <a:pt x="459" y="1321"/>
                  </a:lnTo>
                  <a:lnTo>
                    <a:pt x="402" y="1488"/>
                  </a:lnTo>
                  <a:lnTo>
                    <a:pt x="0" y="1488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2835360" y="3538440"/>
            <a:ext cx="3046320" cy="792360"/>
            <a:chOff x="2835360" y="3538440"/>
            <a:chExt cx="3046320" cy="792360"/>
          </a:xfrm>
        </p:grpSpPr>
        <p:sp>
          <p:nvSpPr>
            <p:cNvPr id="189" name=""/>
            <p:cNvSpPr/>
            <p:nvPr/>
          </p:nvSpPr>
          <p:spPr>
            <a:xfrm>
              <a:off x="2835360" y="4155840"/>
              <a:ext cx="122040" cy="2232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835360" y="4144680"/>
              <a:ext cx="122040" cy="2232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35360" y="4132080"/>
              <a:ext cx="122040" cy="2376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835360" y="4120920"/>
              <a:ext cx="122040" cy="23760"/>
            </a:xfrm>
            <a:prstGeom prst="rect">
              <a:avLst/>
            </a:pr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835360" y="4108320"/>
              <a:ext cx="122040" cy="23760"/>
            </a:xfrm>
            <a:prstGeom prst="rect">
              <a:avLst/>
            </a:pr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835360" y="4097160"/>
              <a:ext cx="122040" cy="23760"/>
            </a:xfrm>
            <a:prstGeom prst="rect">
              <a:avLst/>
            </a:pr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835360" y="4084560"/>
              <a:ext cx="122040" cy="23760"/>
            </a:xfrm>
            <a:prstGeom prst="rect">
              <a:avLst/>
            </a:pr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835360" y="4073400"/>
              <a:ext cx="122040" cy="23760"/>
            </a:xfrm>
            <a:prstGeom prst="rect">
              <a:avLst/>
            </a:pr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835360" y="4060800"/>
              <a:ext cx="122040" cy="23760"/>
            </a:xfrm>
            <a:prstGeom prst="rect">
              <a:avLst/>
            </a:pr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35360" y="4049640"/>
              <a:ext cx="122040" cy="23760"/>
            </a:xfrm>
            <a:prstGeom prst="rect">
              <a:avLst/>
            </a:pr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835360" y="4038480"/>
              <a:ext cx="122040" cy="22320"/>
            </a:xfrm>
            <a:prstGeom prst="rect">
              <a:avLst/>
            </a:pr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835360" y="4025880"/>
              <a:ext cx="122040" cy="23760"/>
            </a:xfrm>
            <a:prstGeom prst="rect">
              <a:avLst/>
            </a:pr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835360" y="4012920"/>
              <a:ext cx="122040" cy="25560"/>
            </a:xfrm>
            <a:prstGeom prst="rect">
              <a:avLst/>
            </a:pr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835360" y="4002120"/>
              <a:ext cx="122040" cy="23760"/>
            </a:xfrm>
            <a:prstGeom prst="rect">
              <a:avLst/>
            </a:pr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835360" y="3990960"/>
              <a:ext cx="122040" cy="21960"/>
            </a:xfrm>
            <a:prstGeom prst="rect">
              <a:avLst/>
            </a:pr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835360" y="3978000"/>
              <a:ext cx="122040" cy="24120"/>
            </a:xfrm>
            <a:prstGeom prst="rect">
              <a:avLst/>
            </a:pr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835360" y="3966840"/>
              <a:ext cx="122040" cy="24120"/>
            </a:xfrm>
            <a:prstGeom prst="rect">
              <a:avLst/>
            </a:pr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835360" y="3954240"/>
              <a:ext cx="122040" cy="23760"/>
            </a:xfrm>
            <a:prstGeom prst="rect">
              <a:avLst/>
            </a:pr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835360" y="3943080"/>
              <a:ext cx="122040" cy="23760"/>
            </a:xfrm>
            <a:prstGeom prst="rect">
              <a:avLst/>
            </a:pr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835360" y="3930480"/>
              <a:ext cx="122040" cy="23760"/>
            </a:xfrm>
            <a:prstGeom prst="rect">
              <a:avLst/>
            </a:pr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835360" y="3919320"/>
              <a:ext cx="122040" cy="23760"/>
            </a:xfrm>
            <a:prstGeom prst="rect">
              <a:avLst/>
            </a:pr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835360" y="3906720"/>
              <a:ext cx="122040" cy="23760"/>
            </a:xfrm>
            <a:prstGeom prst="rect">
              <a:avLst/>
            </a:pr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835360" y="3895560"/>
              <a:ext cx="122040" cy="23760"/>
            </a:xfrm>
            <a:prstGeom prst="rect">
              <a:avLst/>
            </a:pr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835360" y="3882960"/>
              <a:ext cx="122040" cy="23760"/>
            </a:xfrm>
            <a:prstGeom prst="rect">
              <a:avLst/>
            </a:pr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835360" y="3871800"/>
              <a:ext cx="122040" cy="23760"/>
            </a:xfrm>
            <a:prstGeom prst="rect">
              <a:avLst/>
            </a:pr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35360" y="3860640"/>
              <a:ext cx="122040" cy="22320"/>
            </a:xfrm>
            <a:prstGeom prst="rect">
              <a:avLst/>
            </a:pr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35360" y="3848040"/>
              <a:ext cx="122040" cy="23760"/>
            </a:xfrm>
            <a:prstGeom prst="rect">
              <a:avLst/>
            </a:pr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835360" y="3836880"/>
              <a:ext cx="122040" cy="23760"/>
            </a:xfrm>
            <a:prstGeom prst="rect">
              <a:avLst/>
            </a:pr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35360" y="3824280"/>
              <a:ext cx="122040" cy="23760"/>
            </a:xfrm>
            <a:prstGeom prst="rect">
              <a:avLst/>
            </a:pr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835360" y="3813120"/>
              <a:ext cx="122040" cy="23760"/>
            </a:xfrm>
            <a:prstGeom prst="rect">
              <a:avLst/>
            </a:pr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835360" y="3800160"/>
              <a:ext cx="122040" cy="24120"/>
            </a:xfrm>
            <a:prstGeom prst="rect">
              <a:avLst/>
            </a:pr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35360" y="3789360"/>
              <a:ext cx="122040" cy="23760"/>
            </a:xfrm>
            <a:prstGeom prst="rect">
              <a:avLst/>
            </a:pr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35360" y="3776400"/>
              <a:ext cx="122040" cy="23760"/>
            </a:xfrm>
            <a:prstGeom prst="rect">
              <a:avLst/>
            </a:pr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35360" y="3765240"/>
              <a:ext cx="122040" cy="24120"/>
            </a:xfrm>
            <a:prstGeom prst="rect">
              <a:avLst/>
            </a:pr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835360" y="3754440"/>
              <a:ext cx="122040" cy="21960"/>
            </a:xfrm>
            <a:prstGeom prst="rect">
              <a:avLst/>
            </a:pr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835360" y="3741480"/>
              <a:ext cx="122040" cy="23760"/>
            </a:xfrm>
            <a:prstGeom prst="rect">
              <a:avLst/>
            </a:pr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835360" y="3730320"/>
              <a:ext cx="122040" cy="24120"/>
            </a:xfrm>
            <a:prstGeom prst="rect">
              <a:avLst/>
            </a:pr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835360" y="3717720"/>
              <a:ext cx="122040" cy="23760"/>
            </a:xfrm>
            <a:prstGeom prst="rect">
              <a:avLst/>
            </a:pr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835360" y="3706560"/>
              <a:ext cx="122040" cy="23760"/>
            </a:xfrm>
            <a:prstGeom prst="rect">
              <a:avLst/>
            </a:pr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835360" y="3706560"/>
              <a:ext cx="122040" cy="11160"/>
            </a:xfrm>
            <a:prstGeom prst="rect">
              <a:avLst/>
            </a:pr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927520" y="3538440"/>
              <a:ext cx="295416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200" spc="-1" strike="noStrike">
                  <a:solidFill>
                    <a:srgbClr val="1f1a17"/>
                  </a:solidFill>
                  <a:latin typeface="Geometr231 Hv BT"/>
                </a:rPr>
                <a:t>gnorance</a:t>
              </a:r>
              <a:endParaRPr b="0" lang="en-US" sz="5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835360" y="3706560"/>
              <a:ext cx="122040" cy="47160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2739960" y="4290840"/>
            <a:ext cx="4271760" cy="792360"/>
            <a:chOff x="2739960" y="4290840"/>
            <a:chExt cx="4271760" cy="792360"/>
          </a:xfrm>
        </p:grpSpPr>
        <p:sp>
          <p:nvSpPr>
            <p:cNvPr id="232" name=""/>
            <p:cNvSpPr/>
            <p:nvPr/>
          </p:nvSpPr>
          <p:spPr>
            <a:xfrm>
              <a:off x="2739960" y="4917960"/>
              <a:ext cx="185760" cy="12600"/>
            </a:xfrm>
            <a:custGeom>
              <a:avLst/>
              <a:gdLst/>
              <a:ahLst/>
              <a:rect l="l" t="t" r="r" b="b"/>
              <a:pathLst>
                <a:path w="584" h="42">
                  <a:moveTo>
                    <a:pt x="0" y="42"/>
                  </a:moveTo>
                  <a:lnTo>
                    <a:pt x="0" y="0"/>
                  </a:lnTo>
                  <a:lnTo>
                    <a:pt x="584" y="0"/>
                  </a:lnTo>
                  <a:lnTo>
                    <a:pt x="577" y="2"/>
                  </a:lnTo>
                  <a:lnTo>
                    <a:pt x="571" y="4"/>
                  </a:lnTo>
                  <a:lnTo>
                    <a:pt x="565" y="5"/>
                  </a:lnTo>
                  <a:lnTo>
                    <a:pt x="559" y="8"/>
                  </a:lnTo>
                  <a:lnTo>
                    <a:pt x="552" y="9"/>
                  </a:lnTo>
                  <a:lnTo>
                    <a:pt x="546" y="11"/>
                  </a:lnTo>
                  <a:lnTo>
                    <a:pt x="540" y="12"/>
                  </a:lnTo>
                  <a:lnTo>
                    <a:pt x="532" y="14"/>
                  </a:lnTo>
                  <a:lnTo>
                    <a:pt x="500" y="20"/>
                  </a:lnTo>
                  <a:lnTo>
                    <a:pt x="465" y="26"/>
                  </a:lnTo>
                  <a:lnTo>
                    <a:pt x="428" y="31"/>
                  </a:lnTo>
                  <a:lnTo>
                    <a:pt x="391" y="35"/>
                  </a:lnTo>
                  <a:lnTo>
                    <a:pt x="351" y="38"/>
                  </a:lnTo>
                  <a:lnTo>
                    <a:pt x="310" y="40"/>
                  </a:lnTo>
                  <a:lnTo>
                    <a:pt x="268" y="42"/>
                  </a:lnTo>
                  <a:lnTo>
                    <a:pt x="224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739960" y="4908240"/>
              <a:ext cx="212760" cy="19080"/>
            </a:xfrm>
            <a:custGeom>
              <a:avLst/>
              <a:gdLst/>
              <a:ahLst/>
              <a:rect l="l" t="t" r="r" b="b"/>
              <a:pathLst>
                <a:path w="670" h="61">
                  <a:moveTo>
                    <a:pt x="432" y="61"/>
                  </a:moveTo>
                  <a:lnTo>
                    <a:pt x="0" y="61"/>
                  </a:lnTo>
                  <a:lnTo>
                    <a:pt x="0" y="0"/>
                  </a:lnTo>
                  <a:lnTo>
                    <a:pt x="670" y="0"/>
                  </a:lnTo>
                  <a:lnTo>
                    <a:pt x="654" y="7"/>
                  </a:lnTo>
                  <a:lnTo>
                    <a:pt x="637" y="13"/>
                  </a:lnTo>
                  <a:lnTo>
                    <a:pt x="620" y="19"/>
                  </a:lnTo>
                  <a:lnTo>
                    <a:pt x="604" y="24"/>
                  </a:lnTo>
                  <a:lnTo>
                    <a:pt x="586" y="29"/>
                  </a:lnTo>
                  <a:lnTo>
                    <a:pt x="569" y="34"/>
                  </a:lnTo>
                  <a:lnTo>
                    <a:pt x="551" y="40"/>
                  </a:lnTo>
                  <a:lnTo>
                    <a:pt x="532" y="44"/>
                  </a:lnTo>
                  <a:lnTo>
                    <a:pt x="521" y="46"/>
                  </a:lnTo>
                  <a:lnTo>
                    <a:pt x="509" y="49"/>
                  </a:lnTo>
                  <a:lnTo>
                    <a:pt x="497" y="51"/>
                  </a:lnTo>
                  <a:lnTo>
                    <a:pt x="484" y="53"/>
                  </a:lnTo>
                  <a:lnTo>
                    <a:pt x="471" y="55"/>
                  </a:lnTo>
                  <a:lnTo>
                    <a:pt x="458" y="57"/>
                  </a:lnTo>
                  <a:lnTo>
                    <a:pt x="446" y="59"/>
                  </a:lnTo>
                  <a:lnTo>
                    <a:pt x="432" y="61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739960" y="4898880"/>
              <a:ext cx="231840" cy="19080"/>
            </a:xfrm>
            <a:custGeom>
              <a:avLst/>
              <a:gdLst/>
              <a:ahLst/>
              <a:rect l="l" t="t" r="r" b="b"/>
              <a:pathLst>
                <a:path w="733" h="60">
                  <a:moveTo>
                    <a:pt x="584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733" y="0"/>
                  </a:lnTo>
                  <a:lnTo>
                    <a:pt x="716" y="9"/>
                  </a:lnTo>
                  <a:lnTo>
                    <a:pt x="699" y="18"/>
                  </a:lnTo>
                  <a:lnTo>
                    <a:pt x="680" y="26"/>
                  </a:lnTo>
                  <a:lnTo>
                    <a:pt x="662" y="34"/>
                  </a:lnTo>
                  <a:lnTo>
                    <a:pt x="643" y="41"/>
                  </a:lnTo>
                  <a:lnTo>
                    <a:pt x="623" y="48"/>
                  </a:lnTo>
                  <a:lnTo>
                    <a:pt x="604" y="54"/>
                  </a:lnTo>
                  <a:lnTo>
                    <a:pt x="584" y="60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739960" y="4889520"/>
              <a:ext cx="249120" cy="18720"/>
            </a:xfrm>
            <a:custGeom>
              <a:avLst/>
              <a:gdLst/>
              <a:ahLst/>
              <a:rect l="l" t="t" r="r" b="b"/>
              <a:pathLst>
                <a:path w="784" h="60">
                  <a:moveTo>
                    <a:pt x="670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784" y="0"/>
                  </a:lnTo>
                  <a:lnTo>
                    <a:pt x="782" y="2"/>
                  </a:lnTo>
                  <a:lnTo>
                    <a:pt x="780" y="3"/>
                  </a:lnTo>
                  <a:lnTo>
                    <a:pt x="778" y="5"/>
                  </a:lnTo>
                  <a:lnTo>
                    <a:pt x="776" y="6"/>
                  </a:lnTo>
                  <a:lnTo>
                    <a:pt x="774" y="7"/>
                  </a:lnTo>
                  <a:lnTo>
                    <a:pt x="771" y="9"/>
                  </a:lnTo>
                  <a:lnTo>
                    <a:pt x="769" y="10"/>
                  </a:lnTo>
                  <a:lnTo>
                    <a:pt x="767" y="11"/>
                  </a:lnTo>
                  <a:lnTo>
                    <a:pt x="756" y="18"/>
                  </a:lnTo>
                  <a:lnTo>
                    <a:pt x="744" y="25"/>
                  </a:lnTo>
                  <a:lnTo>
                    <a:pt x="731" y="31"/>
                  </a:lnTo>
                  <a:lnTo>
                    <a:pt x="720" y="37"/>
                  </a:lnTo>
                  <a:lnTo>
                    <a:pt x="708" y="44"/>
                  </a:lnTo>
                  <a:lnTo>
                    <a:pt x="696" y="50"/>
                  </a:lnTo>
                  <a:lnTo>
                    <a:pt x="682" y="55"/>
                  </a:lnTo>
                  <a:lnTo>
                    <a:pt x="670" y="60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739960" y="4879800"/>
              <a:ext cx="262080" cy="19080"/>
            </a:xfrm>
            <a:custGeom>
              <a:avLst/>
              <a:gdLst/>
              <a:ahLst/>
              <a:rect l="l" t="t" r="r" b="b"/>
              <a:pathLst>
                <a:path w="828" h="60">
                  <a:moveTo>
                    <a:pt x="733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828" y="0"/>
                  </a:lnTo>
                  <a:lnTo>
                    <a:pt x="821" y="5"/>
                  </a:lnTo>
                  <a:lnTo>
                    <a:pt x="814" y="10"/>
                  </a:lnTo>
                  <a:lnTo>
                    <a:pt x="806" y="15"/>
                  </a:lnTo>
                  <a:lnTo>
                    <a:pt x="799" y="22"/>
                  </a:lnTo>
                  <a:lnTo>
                    <a:pt x="790" y="27"/>
                  </a:lnTo>
                  <a:lnTo>
                    <a:pt x="782" y="32"/>
                  </a:lnTo>
                  <a:lnTo>
                    <a:pt x="775" y="37"/>
                  </a:lnTo>
                  <a:lnTo>
                    <a:pt x="767" y="41"/>
                  </a:lnTo>
                  <a:lnTo>
                    <a:pt x="763" y="44"/>
                  </a:lnTo>
                  <a:lnTo>
                    <a:pt x="759" y="46"/>
                  </a:lnTo>
                  <a:lnTo>
                    <a:pt x="755" y="49"/>
                  </a:lnTo>
                  <a:lnTo>
                    <a:pt x="751" y="51"/>
                  </a:lnTo>
                  <a:lnTo>
                    <a:pt x="747" y="53"/>
                  </a:lnTo>
                  <a:lnTo>
                    <a:pt x="742" y="55"/>
                  </a:lnTo>
                  <a:lnTo>
                    <a:pt x="737" y="58"/>
                  </a:lnTo>
                  <a:lnTo>
                    <a:pt x="733" y="60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739960" y="4870440"/>
              <a:ext cx="274680" cy="19080"/>
            </a:xfrm>
            <a:custGeom>
              <a:avLst/>
              <a:gdLst/>
              <a:ahLst/>
              <a:rect l="l" t="t" r="r" b="b"/>
              <a:pathLst>
                <a:path w="867" h="60">
                  <a:moveTo>
                    <a:pt x="784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867" y="0"/>
                  </a:lnTo>
                  <a:lnTo>
                    <a:pt x="857" y="8"/>
                  </a:lnTo>
                  <a:lnTo>
                    <a:pt x="848" y="16"/>
                  </a:lnTo>
                  <a:lnTo>
                    <a:pt x="837" y="23"/>
                  </a:lnTo>
                  <a:lnTo>
                    <a:pt x="827" y="31"/>
                  </a:lnTo>
                  <a:lnTo>
                    <a:pt x="817" y="38"/>
                  </a:lnTo>
                  <a:lnTo>
                    <a:pt x="806" y="45"/>
                  </a:lnTo>
                  <a:lnTo>
                    <a:pt x="796" y="53"/>
                  </a:lnTo>
                  <a:lnTo>
                    <a:pt x="784" y="60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739960" y="4860720"/>
              <a:ext cx="285840" cy="19080"/>
            </a:xfrm>
            <a:custGeom>
              <a:avLst/>
              <a:gdLst/>
              <a:ahLst/>
              <a:rect l="l" t="t" r="r" b="b"/>
              <a:pathLst>
                <a:path w="900" h="60">
                  <a:moveTo>
                    <a:pt x="828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900" y="0"/>
                  </a:lnTo>
                  <a:lnTo>
                    <a:pt x="891" y="7"/>
                  </a:lnTo>
                  <a:lnTo>
                    <a:pt x="883" y="15"/>
                  </a:lnTo>
                  <a:lnTo>
                    <a:pt x="874" y="23"/>
                  </a:lnTo>
                  <a:lnTo>
                    <a:pt x="865" y="31"/>
                  </a:lnTo>
                  <a:lnTo>
                    <a:pt x="857" y="38"/>
                  </a:lnTo>
                  <a:lnTo>
                    <a:pt x="848" y="46"/>
                  </a:lnTo>
                  <a:lnTo>
                    <a:pt x="837" y="53"/>
                  </a:lnTo>
                  <a:lnTo>
                    <a:pt x="828" y="60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39960" y="4851360"/>
              <a:ext cx="295200" cy="19080"/>
            </a:xfrm>
            <a:custGeom>
              <a:avLst/>
              <a:gdLst/>
              <a:ahLst/>
              <a:rect l="l" t="t" r="r" b="b"/>
              <a:pathLst>
                <a:path w="930" h="61">
                  <a:moveTo>
                    <a:pt x="867" y="61"/>
                  </a:moveTo>
                  <a:lnTo>
                    <a:pt x="0" y="61"/>
                  </a:lnTo>
                  <a:lnTo>
                    <a:pt x="0" y="0"/>
                  </a:lnTo>
                  <a:lnTo>
                    <a:pt x="930" y="0"/>
                  </a:lnTo>
                  <a:lnTo>
                    <a:pt x="922" y="9"/>
                  </a:lnTo>
                  <a:lnTo>
                    <a:pt x="915" y="16"/>
                  </a:lnTo>
                  <a:lnTo>
                    <a:pt x="907" y="24"/>
                  </a:lnTo>
                  <a:lnTo>
                    <a:pt x="900" y="31"/>
                  </a:lnTo>
                  <a:lnTo>
                    <a:pt x="891" y="39"/>
                  </a:lnTo>
                  <a:lnTo>
                    <a:pt x="883" y="46"/>
                  </a:lnTo>
                  <a:lnTo>
                    <a:pt x="875" y="53"/>
                  </a:lnTo>
                  <a:lnTo>
                    <a:pt x="867" y="61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739960" y="4841640"/>
              <a:ext cx="303120" cy="19080"/>
            </a:xfrm>
            <a:custGeom>
              <a:avLst/>
              <a:gdLst/>
              <a:ahLst/>
              <a:rect l="l" t="t" r="r" b="b"/>
              <a:pathLst>
                <a:path w="957" h="61">
                  <a:moveTo>
                    <a:pt x="900" y="61"/>
                  </a:moveTo>
                  <a:lnTo>
                    <a:pt x="0" y="61"/>
                  </a:lnTo>
                  <a:lnTo>
                    <a:pt x="0" y="0"/>
                  </a:lnTo>
                  <a:lnTo>
                    <a:pt x="957" y="0"/>
                  </a:lnTo>
                  <a:lnTo>
                    <a:pt x="950" y="8"/>
                  </a:lnTo>
                  <a:lnTo>
                    <a:pt x="942" y="16"/>
                  </a:lnTo>
                  <a:lnTo>
                    <a:pt x="936" y="23"/>
                  </a:lnTo>
                  <a:lnTo>
                    <a:pt x="929" y="31"/>
                  </a:lnTo>
                  <a:lnTo>
                    <a:pt x="922" y="39"/>
                  </a:lnTo>
                  <a:lnTo>
                    <a:pt x="915" y="46"/>
                  </a:lnTo>
                  <a:lnTo>
                    <a:pt x="908" y="54"/>
                  </a:lnTo>
                  <a:lnTo>
                    <a:pt x="900" y="61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739960" y="4832280"/>
              <a:ext cx="311040" cy="19080"/>
            </a:xfrm>
            <a:custGeom>
              <a:avLst/>
              <a:gdLst/>
              <a:ahLst/>
              <a:rect l="l" t="t" r="r" b="b"/>
              <a:pathLst>
                <a:path w="980" h="60">
                  <a:moveTo>
                    <a:pt x="930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980" y="0"/>
                  </a:lnTo>
                  <a:lnTo>
                    <a:pt x="974" y="8"/>
                  </a:lnTo>
                  <a:lnTo>
                    <a:pt x="968" y="16"/>
                  </a:lnTo>
                  <a:lnTo>
                    <a:pt x="962" y="24"/>
                  </a:lnTo>
                  <a:lnTo>
                    <a:pt x="956" y="31"/>
                  </a:lnTo>
                  <a:lnTo>
                    <a:pt x="950" y="39"/>
                  </a:lnTo>
                  <a:lnTo>
                    <a:pt x="943" y="46"/>
                  </a:lnTo>
                  <a:lnTo>
                    <a:pt x="936" y="53"/>
                  </a:lnTo>
                  <a:lnTo>
                    <a:pt x="930" y="60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739960" y="4822560"/>
              <a:ext cx="317520" cy="19080"/>
            </a:xfrm>
            <a:custGeom>
              <a:avLst/>
              <a:gdLst/>
              <a:ahLst/>
              <a:rect l="l" t="t" r="r" b="b"/>
              <a:pathLst>
                <a:path w="1001" h="60">
                  <a:moveTo>
                    <a:pt x="957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1001" y="0"/>
                  </a:lnTo>
                  <a:lnTo>
                    <a:pt x="995" y="8"/>
                  </a:lnTo>
                  <a:lnTo>
                    <a:pt x="990" y="16"/>
                  </a:lnTo>
                  <a:lnTo>
                    <a:pt x="985" y="23"/>
                  </a:lnTo>
                  <a:lnTo>
                    <a:pt x="979" y="31"/>
                  </a:lnTo>
                  <a:lnTo>
                    <a:pt x="974" y="38"/>
                  </a:lnTo>
                  <a:lnTo>
                    <a:pt x="968" y="46"/>
                  </a:lnTo>
                  <a:lnTo>
                    <a:pt x="962" y="53"/>
                  </a:lnTo>
                  <a:lnTo>
                    <a:pt x="957" y="60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739960" y="4813200"/>
              <a:ext cx="324000" cy="19080"/>
            </a:xfrm>
            <a:custGeom>
              <a:avLst/>
              <a:gdLst/>
              <a:ahLst/>
              <a:rect l="l" t="t" r="r" b="b"/>
              <a:pathLst>
                <a:path w="1020" h="60">
                  <a:moveTo>
                    <a:pt x="980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1020" y="0"/>
                  </a:lnTo>
                  <a:lnTo>
                    <a:pt x="1015" y="7"/>
                  </a:lnTo>
                  <a:lnTo>
                    <a:pt x="1011" y="15"/>
                  </a:lnTo>
                  <a:lnTo>
                    <a:pt x="1006" y="23"/>
                  </a:lnTo>
                  <a:lnTo>
                    <a:pt x="1001" y="31"/>
                  </a:lnTo>
                  <a:lnTo>
                    <a:pt x="995" y="38"/>
                  </a:lnTo>
                  <a:lnTo>
                    <a:pt x="990" y="46"/>
                  </a:lnTo>
                  <a:lnTo>
                    <a:pt x="985" y="53"/>
                  </a:lnTo>
                  <a:lnTo>
                    <a:pt x="980" y="60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739960" y="4803480"/>
              <a:ext cx="328680" cy="19080"/>
            </a:xfrm>
            <a:custGeom>
              <a:avLst/>
              <a:gdLst/>
              <a:ahLst/>
              <a:rect l="l" t="t" r="r" b="b"/>
              <a:pathLst>
                <a:path w="1036" h="60">
                  <a:moveTo>
                    <a:pt x="1001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"/>
                  </a:lnTo>
                  <a:lnTo>
                    <a:pt x="391" y="5"/>
                  </a:lnTo>
                  <a:lnTo>
                    <a:pt x="396" y="5"/>
                  </a:lnTo>
                  <a:lnTo>
                    <a:pt x="401" y="4"/>
                  </a:lnTo>
                  <a:lnTo>
                    <a:pt x="406" y="3"/>
                  </a:lnTo>
                  <a:lnTo>
                    <a:pt x="411" y="3"/>
                  </a:lnTo>
                  <a:lnTo>
                    <a:pt x="416" y="2"/>
                  </a:lnTo>
                  <a:lnTo>
                    <a:pt x="421" y="1"/>
                  </a:lnTo>
                  <a:lnTo>
                    <a:pt x="426" y="0"/>
                  </a:lnTo>
                  <a:lnTo>
                    <a:pt x="1036" y="0"/>
                  </a:lnTo>
                  <a:lnTo>
                    <a:pt x="1035" y="3"/>
                  </a:lnTo>
                  <a:lnTo>
                    <a:pt x="1034" y="5"/>
                  </a:lnTo>
                  <a:lnTo>
                    <a:pt x="1032" y="8"/>
                  </a:lnTo>
                  <a:lnTo>
                    <a:pt x="1031" y="10"/>
                  </a:lnTo>
                  <a:lnTo>
                    <a:pt x="1029" y="13"/>
                  </a:lnTo>
                  <a:lnTo>
                    <a:pt x="1028" y="16"/>
                  </a:lnTo>
                  <a:lnTo>
                    <a:pt x="1027" y="18"/>
                  </a:lnTo>
                  <a:lnTo>
                    <a:pt x="1025" y="21"/>
                  </a:lnTo>
                  <a:lnTo>
                    <a:pt x="1022" y="26"/>
                  </a:lnTo>
                  <a:lnTo>
                    <a:pt x="1019" y="30"/>
                  </a:lnTo>
                  <a:lnTo>
                    <a:pt x="1017" y="35"/>
                  </a:lnTo>
                  <a:lnTo>
                    <a:pt x="1014" y="40"/>
                  </a:lnTo>
                  <a:lnTo>
                    <a:pt x="1011" y="45"/>
                  </a:lnTo>
                  <a:lnTo>
                    <a:pt x="1008" y="50"/>
                  </a:lnTo>
                  <a:lnTo>
                    <a:pt x="1004" y="56"/>
                  </a:lnTo>
                  <a:lnTo>
                    <a:pt x="1001" y="60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39960" y="4794120"/>
              <a:ext cx="333360" cy="19080"/>
            </a:xfrm>
            <a:custGeom>
              <a:avLst/>
              <a:gdLst/>
              <a:ahLst/>
              <a:rect l="l" t="t" r="r" b="b"/>
              <a:pathLst>
                <a:path w="1052" h="60">
                  <a:moveTo>
                    <a:pt x="1020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36"/>
                  </a:lnTo>
                  <a:lnTo>
                    <a:pt x="404" y="34"/>
                  </a:lnTo>
                  <a:lnTo>
                    <a:pt x="422" y="31"/>
                  </a:lnTo>
                  <a:lnTo>
                    <a:pt x="440" y="27"/>
                  </a:lnTo>
                  <a:lnTo>
                    <a:pt x="457" y="22"/>
                  </a:lnTo>
                  <a:lnTo>
                    <a:pt x="474" y="18"/>
                  </a:lnTo>
                  <a:lnTo>
                    <a:pt x="491" y="12"/>
                  </a:lnTo>
                  <a:lnTo>
                    <a:pt x="506" y="6"/>
                  </a:lnTo>
                  <a:lnTo>
                    <a:pt x="521" y="0"/>
                  </a:lnTo>
                  <a:lnTo>
                    <a:pt x="1052" y="0"/>
                  </a:lnTo>
                  <a:lnTo>
                    <a:pt x="1048" y="6"/>
                  </a:lnTo>
                  <a:lnTo>
                    <a:pt x="1045" y="12"/>
                  </a:lnTo>
                  <a:lnTo>
                    <a:pt x="1042" y="19"/>
                  </a:lnTo>
                  <a:lnTo>
                    <a:pt x="1039" y="25"/>
                  </a:lnTo>
                  <a:lnTo>
                    <a:pt x="1035" y="32"/>
                  </a:lnTo>
                  <a:lnTo>
                    <a:pt x="1032" y="38"/>
                  </a:lnTo>
                  <a:lnTo>
                    <a:pt x="1029" y="44"/>
                  </a:lnTo>
                  <a:lnTo>
                    <a:pt x="1025" y="51"/>
                  </a:lnTo>
                  <a:lnTo>
                    <a:pt x="1025" y="52"/>
                  </a:lnTo>
                  <a:lnTo>
                    <a:pt x="1024" y="53"/>
                  </a:lnTo>
                  <a:lnTo>
                    <a:pt x="1023" y="54"/>
                  </a:lnTo>
                  <a:lnTo>
                    <a:pt x="1023" y="55"/>
                  </a:lnTo>
                  <a:lnTo>
                    <a:pt x="1022" y="56"/>
                  </a:lnTo>
                  <a:lnTo>
                    <a:pt x="1021" y="57"/>
                  </a:lnTo>
                  <a:lnTo>
                    <a:pt x="1021" y="59"/>
                  </a:lnTo>
                  <a:lnTo>
                    <a:pt x="1020" y="60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739960" y="4784400"/>
              <a:ext cx="338040" cy="19080"/>
            </a:xfrm>
            <a:custGeom>
              <a:avLst/>
              <a:gdLst/>
              <a:ahLst/>
              <a:rect l="l" t="t" r="r" b="b"/>
              <a:pathLst>
                <a:path w="1065" h="61">
                  <a:moveTo>
                    <a:pt x="1036" y="61"/>
                  </a:moveTo>
                  <a:lnTo>
                    <a:pt x="426" y="61"/>
                  </a:lnTo>
                  <a:lnTo>
                    <a:pt x="447" y="56"/>
                  </a:lnTo>
                  <a:lnTo>
                    <a:pt x="467" y="51"/>
                  </a:lnTo>
                  <a:lnTo>
                    <a:pt x="486" y="45"/>
                  </a:lnTo>
                  <a:lnTo>
                    <a:pt x="505" y="38"/>
                  </a:lnTo>
                  <a:lnTo>
                    <a:pt x="523" y="30"/>
                  </a:lnTo>
                  <a:lnTo>
                    <a:pt x="541" y="21"/>
                  </a:lnTo>
                  <a:lnTo>
                    <a:pt x="557" y="12"/>
                  </a:lnTo>
                  <a:lnTo>
                    <a:pt x="573" y="0"/>
                  </a:lnTo>
                  <a:lnTo>
                    <a:pt x="1065" y="0"/>
                  </a:lnTo>
                  <a:lnTo>
                    <a:pt x="1062" y="9"/>
                  </a:lnTo>
                  <a:lnTo>
                    <a:pt x="1059" y="16"/>
                  </a:lnTo>
                  <a:lnTo>
                    <a:pt x="1055" y="23"/>
                  </a:lnTo>
                  <a:lnTo>
                    <a:pt x="1052" y="31"/>
                  </a:lnTo>
                  <a:lnTo>
                    <a:pt x="1048" y="38"/>
                  </a:lnTo>
                  <a:lnTo>
                    <a:pt x="1044" y="46"/>
                  </a:lnTo>
                  <a:lnTo>
                    <a:pt x="1040" y="53"/>
                  </a:lnTo>
                  <a:lnTo>
                    <a:pt x="1036" y="61"/>
                  </a:lnTo>
                  <a:close/>
                  <a:moveTo>
                    <a:pt x="385" y="61"/>
                  </a:moveTo>
                  <a:lnTo>
                    <a:pt x="0" y="61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1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739960" y="4775040"/>
              <a:ext cx="341280" cy="19080"/>
            </a:xfrm>
            <a:custGeom>
              <a:avLst/>
              <a:gdLst/>
              <a:ahLst/>
              <a:rect l="l" t="t" r="r" b="b"/>
              <a:pathLst>
                <a:path w="1076" h="61">
                  <a:moveTo>
                    <a:pt x="1052" y="61"/>
                  </a:moveTo>
                  <a:lnTo>
                    <a:pt x="521" y="61"/>
                  </a:lnTo>
                  <a:lnTo>
                    <a:pt x="533" y="55"/>
                  </a:lnTo>
                  <a:lnTo>
                    <a:pt x="546" y="48"/>
                  </a:lnTo>
                  <a:lnTo>
                    <a:pt x="557" y="42"/>
                  </a:lnTo>
                  <a:lnTo>
                    <a:pt x="568" y="33"/>
                  </a:lnTo>
                  <a:lnTo>
                    <a:pt x="579" y="26"/>
                  </a:lnTo>
                  <a:lnTo>
                    <a:pt x="589" y="18"/>
                  </a:lnTo>
                  <a:lnTo>
                    <a:pt x="600" y="9"/>
                  </a:lnTo>
                  <a:lnTo>
                    <a:pt x="610" y="0"/>
                  </a:lnTo>
                  <a:lnTo>
                    <a:pt x="1076" y="0"/>
                  </a:lnTo>
                  <a:lnTo>
                    <a:pt x="1074" y="8"/>
                  </a:lnTo>
                  <a:lnTo>
                    <a:pt x="1071" y="15"/>
                  </a:lnTo>
                  <a:lnTo>
                    <a:pt x="1068" y="23"/>
                  </a:lnTo>
                  <a:lnTo>
                    <a:pt x="1065" y="30"/>
                  </a:lnTo>
                  <a:lnTo>
                    <a:pt x="1062" y="39"/>
                  </a:lnTo>
                  <a:lnTo>
                    <a:pt x="1059" y="46"/>
                  </a:lnTo>
                  <a:lnTo>
                    <a:pt x="1056" y="53"/>
                  </a:lnTo>
                  <a:lnTo>
                    <a:pt x="1052" y="61"/>
                  </a:lnTo>
                  <a:close/>
                  <a:moveTo>
                    <a:pt x="385" y="61"/>
                  </a:moveTo>
                  <a:lnTo>
                    <a:pt x="0" y="61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1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739960" y="4765680"/>
              <a:ext cx="344520" cy="18720"/>
            </a:xfrm>
            <a:custGeom>
              <a:avLst/>
              <a:gdLst/>
              <a:ahLst/>
              <a:rect l="l" t="t" r="r" b="b"/>
              <a:pathLst>
                <a:path w="1086" h="60">
                  <a:moveTo>
                    <a:pt x="1065" y="60"/>
                  </a:moveTo>
                  <a:lnTo>
                    <a:pt x="573" y="60"/>
                  </a:lnTo>
                  <a:lnTo>
                    <a:pt x="580" y="55"/>
                  </a:lnTo>
                  <a:lnTo>
                    <a:pt x="586" y="50"/>
                  </a:lnTo>
                  <a:lnTo>
                    <a:pt x="594" y="45"/>
                  </a:lnTo>
                  <a:lnTo>
                    <a:pt x="600" y="40"/>
                  </a:lnTo>
                  <a:lnTo>
                    <a:pt x="606" y="34"/>
                  </a:lnTo>
                  <a:lnTo>
                    <a:pt x="613" y="28"/>
                  </a:lnTo>
                  <a:lnTo>
                    <a:pt x="618" y="22"/>
                  </a:lnTo>
                  <a:lnTo>
                    <a:pt x="624" y="16"/>
                  </a:lnTo>
                  <a:lnTo>
                    <a:pt x="626" y="13"/>
                  </a:lnTo>
                  <a:lnTo>
                    <a:pt x="628" y="12"/>
                  </a:lnTo>
                  <a:lnTo>
                    <a:pt x="630" y="10"/>
                  </a:lnTo>
                  <a:lnTo>
                    <a:pt x="631" y="8"/>
                  </a:lnTo>
                  <a:lnTo>
                    <a:pt x="633" y="6"/>
                  </a:lnTo>
                  <a:lnTo>
                    <a:pt x="635" y="4"/>
                  </a:lnTo>
                  <a:lnTo>
                    <a:pt x="636" y="2"/>
                  </a:lnTo>
                  <a:lnTo>
                    <a:pt x="638" y="0"/>
                  </a:lnTo>
                  <a:lnTo>
                    <a:pt x="1086" y="0"/>
                  </a:lnTo>
                  <a:lnTo>
                    <a:pt x="1084" y="7"/>
                  </a:lnTo>
                  <a:lnTo>
                    <a:pt x="1081" y="16"/>
                  </a:lnTo>
                  <a:lnTo>
                    <a:pt x="1079" y="23"/>
                  </a:lnTo>
                  <a:lnTo>
                    <a:pt x="1076" y="31"/>
                  </a:lnTo>
                  <a:lnTo>
                    <a:pt x="1074" y="38"/>
                  </a:lnTo>
                  <a:lnTo>
                    <a:pt x="1071" y="45"/>
                  </a:lnTo>
                  <a:lnTo>
                    <a:pt x="1068" y="53"/>
                  </a:lnTo>
                  <a:lnTo>
                    <a:pt x="1065" y="60"/>
                  </a:lnTo>
                  <a:close/>
                  <a:moveTo>
                    <a:pt x="385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0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739960" y="4755960"/>
              <a:ext cx="347760" cy="19080"/>
            </a:xfrm>
            <a:custGeom>
              <a:avLst/>
              <a:gdLst/>
              <a:ahLst/>
              <a:rect l="l" t="t" r="r" b="b"/>
              <a:pathLst>
                <a:path w="1094" h="60">
                  <a:moveTo>
                    <a:pt x="1076" y="60"/>
                  </a:moveTo>
                  <a:lnTo>
                    <a:pt x="610" y="60"/>
                  </a:lnTo>
                  <a:lnTo>
                    <a:pt x="612" y="59"/>
                  </a:lnTo>
                  <a:lnTo>
                    <a:pt x="614" y="57"/>
                  </a:lnTo>
                  <a:lnTo>
                    <a:pt x="616" y="55"/>
                  </a:lnTo>
                  <a:lnTo>
                    <a:pt x="617" y="54"/>
                  </a:lnTo>
                  <a:lnTo>
                    <a:pt x="619" y="52"/>
                  </a:lnTo>
                  <a:lnTo>
                    <a:pt x="621" y="50"/>
                  </a:lnTo>
                  <a:lnTo>
                    <a:pt x="623" y="48"/>
                  </a:lnTo>
                  <a:lnTo>
                    <a:pt x="624" y="46"/>
                  </a:lnTo>
                  <a:lnTo>
                    <a:pt x="629" y="40"/>
                  </a:lnTo>
                  <a:lnTo>
                    <a:pt x="634" y="35"/>
                  </a:lnTo>
                  <a:lnTo>
                    <a:pt x="639" y="29"/>
                  </a:lnTo>
                  <a:lnTo>
                    <a:pt x="644" y="23"/>
                  </a:lnTo>
                  <a:lnTo>
                    <a:pt x="648" y="18"/>
                  </a:lnTo>
                  <a:lnTo>
                    <a:pt x="653" y="12"/>
                  </a:lnTo>
                  <a:lnTo>
                    <a:pt x="657" y="6"/>
                  </a:lnTo>
                  <a:lnTo>
                    <a:pt x="661" y="0"/>
                  </a:lnTo>
                  <a:lnTo>
                    <a:pt x="1094" y="0"/>
                  </a:lnTo>
                  <a:lnTo>
                    <a:pt x="1093" y="8"/>
                  </a:lnTo>
                  <a:lnTo>
                    <a:pt x="1090" y="15"/>
                  </a:lnTo>
                  <a:lnTo>
                    <a:pt x="1088" y="23"/>
                  </a:lnTo>
                  <a:lnTo>
                    <a:pt x="1086" y="30"/>
                  </a:lnTo>
                  <a:lnTo>
                    <a:pt x="1084" y="38"/>
                  </a:lnTo>
                  <a:lnTo>
                    <a:pt x="1081" y="46"/>
                  </a:lnTo>
                  <a:lnTo>
                    <a:pt x="1079" y="53"/>
                  </a:lnTo>
                  <a:lnTo>
                    <a:pt x="1076" y="60"/>
                  </a:lnTo>
                  <a:close/>
                  <a:moveTo>
                    <a:pt x="385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0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739960" y="4746600"/>
              <a:ext cx="349200" cy="19080"/>
            </a:xfrm>
            <a:custGeom>
              <a:avLst/>
              <a:gdLst/>
              <a:ahLst/>
              <a:rect l="l" t="t" r="r" b="b"/>
              <a:pathLst>
                <a:path w="1102" h="60">
                  <a:moveTo>
                    <a:pt x="1086" y="60"/>
                  </a:moveTo>
                  <a:lnTo>
                    <a:pt x="638" y="60"/>
                  </a:lnTo>
                  <a:lnTo>
                    <a:pt x="645" y="53"/>
                  </a:lnTo>
                  <a:lnTo>
                    <a:pt x="650" y="46"/>
                  </a:lnTo>
                  <a:lnTo>
                    <a:pt x="655" y="39"/>
                  </a:lnTo>
                  <a:lnTo>
                    <a:pt x="660" y="31"/>
                  </a:lnTo>
                  <a:lnTo>
                    <a:pt x="665" y="24"/>
                  </a:lnTo>
                  <a:lnTo>
                    <a:pt x="669" y="15"/>
                  </a:lnTo>
                  <a:lnTo>
                    <a:pt x="674" y="8"/>
                  </a:lnTo>
                  <a:lnTo>
                    <a:pt x="678" y="0"/>
                  </a:lnTo>
                  <a:lnTo>
                    <a:pt x="1102" y="0"/>
                  </a:lnTo>
                  <a:lnTo>
                    <a:pt x="1101" y="7"/>
                  </a:lnTo>
                  <a:lnTo>
                    <a:pt x="1098" y="15"/>
                  </a:lnTo>
                  <a:lnTo>
                    <a:pt x="1096" y="23"/>
                  </a:lnTo>
                  <a:lnTo>
                    <a:pt x="1094" y="31"/>
                  </a:lnTo>
                  <a:lnTo>
                    <a:pt x="1092" y="38"/>
                  </a:lnTo>
                  <a:lnTo>
                    <a:pt x="1090" y="45"/>
                  </a:lnTo>
                  <a:lnTo>
                    <a:pt x="1088" y="53"/>
                  </a:lnTo>
                  <a:lnTo>
                    <a:pt x="1086" y="60"/>
                  </a:lnTo>
                  <a:close/>
                  <a:moveTo>
                    <a:pt x="385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0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739960" y="4736880"/>
              <a:ext cx="351000" cy="19080"/>
            </a:xfrm>
            <a:custGeom>
              <a:avLst/>
              <a:gdLst/>
              <a:ahLst/>
              <a:rect l="l" t="t" r="r" b="b"/>
              <a:pathLst>
                <a:path w="1108" h="60">
                  <a:moveTo>
                    <a:pt x="1094" y="60"/>
                  </a:moveTo>
                  <a:lnTo>
                    <a:pt x="661" y="60"/>
                  </a:lnTo>
                  <a:lnTo>
                    <a:pt x="665" y="53"/>
                  </a:lnTo>
                  <a:lnTo>
                    <a:pt x="669" y="45"/>
                  </a:lnTo>
                  <a:lnTo>
                    <a:pt x="673" y="38"/>
                  </a:lnTo>
                  <a:lnTo>
                    <a:pt x="677" y="31"/>
                  </a:lnTo>
                  <a:lnTo>
                    <a:pt x="681" y="23"/>
                  </a:lnTo>
                  <a:lnTo>
                    <a:pt x="684" y="16"/>
                  </a:lnTo>
                  <a:lnTo>
                    <a:pt x="688" y="8"/>
                  </a:lnTo>
                  <a:lnTo>
                    <a:pt x="691" y="0"/>
                  </a:lnTo>
                  <a:lnTo>
                    <a:pt x="1108" y="0"/>
                  </a:lnTo>
                  <a:lnTo>
                    <a:pt x="1107" y="8"/>
                  </a:lnTo>
                  <a:lnTo>
                    <a:pt x="1105" y="15"/>
                  </a:lnTo>
                  <a:lnTo>
                    <a:pt x="1104" y="23"/>
                  </a:lnTo>
                  <a:lnTo>
                    <a:pt x="1102" y="30"/>
                  </a:lnTo>
                  <a:lnTo>
                    <a:pt x="1101" y="37"/>
                  </a:lnTo>
                  <a:lnTo>
                    <a:pt x="1098" y="45"/>
                  </a:lnTo>
                  <a:lnTo>
                    <a:pt x="1096" y="53"/>
                  </a:lnTo>
                  <a:lnTo>
                    <a:pt x="1094" y="60"/>
                  </a:lnTo>
                  <a:close/>
                  <a:moveTo>
                    <a:pt x="385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0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739960" y="4727520"/>
              <a:ext cx="352440" cy="19080"/>
            </a:xfrm>
            <a:custGeom>
              <a:avLst/>
              <a:gdLst/>
              <a:ahLst/>
              <a:rect l="l" t="t" r="r" b="b"/>
              <a:pathLst>
                <a:path w="1112" h="60">
                  <a:moveTo>
                    <a:pt x="1102" y="60"/>
                  </a:moveTo>
                  <a:lnTo>
                    <a:pt x="678" y="60"/>
                  </a:lnTo>
                  <a:lnTo>
                    <a:pt x="681" y="53"/>
                  </a:lnTo>
                  <a:lnTo>
                    <a:pt x="684" y="46"/>
                  </a:lnTo>
                  <a:lnTo>
                    <a:pt x="687" y="38"/>
                  </a:lnTo>
                  <a:lnTo>
                    <a:pt x="690" y="31"/>
                  </a:lnTo>
                  <a:lnTo>
                    <a:pt x="694" y="23"/>
                  </a:lnTo>
                  <a:lnTo>
                    <a:pt x="697" y="15"/>
                  </a:lnTo>
                  <a:lnTo>
                    <a:pt x="699" y="7"/>
                  </a:lnTo>
                  <a:lnTo>
                    <a:pt x="701" y="0"/>
                  </a:lnTo>
                  <a:lnTo>
                    <a:pt x="1112" y="0"/>
                  </a:lnTo>
                  <a:lnTo>
                    <a:pt x="1111" y="7"/>
                  </a:lnTo>
                  <a:lnTo>
                    <a:pt x="1110" y="15"/>
                  </a:lnTo>
                  <a:lnTo>
                    <a:pt x="1109" y="22"/>
                  </a:lnTo>
                  <a:lnTo>
                    <a:pt x="1108" y="30"/>
                  </a:lnTo>
                  <a:lnTo>
                    <a:pt x="1106" y="38"/>
                  </a:lnTo>
                  <a:lnTo>
                    <a:pt x="1105" y="45"/>
                  </a:lnTo>
                  <a:lnTo>
                    <a:pt x="1104" y="52"/>
                  </a:lnTo>
                  <a:lnTo>
                    <a:pt x="1102" y="60"/>
                  </a:lnTo>
                  <a:close/>
                  <a:moveTo>
                    <a:pt x="385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0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39960" y="4716360"/>
              <a:ext cx="354240" cy="20520"/>
            </a:xfrm>
            <a:custGeom>
              <a:avLst/>
              <a:gdLst/>
              <a:ahLst/>
              <a:rect l="l" t="t" r="r" b="b"/>
              <a:pathLst>
                <a:path w="1115" h="61">
                  <a:moveTo>
                    <a:pt x="1108" y="61"/>
                  </a:moveTo>
                  <a:lnTo>
                    <a:pt x="691" y="61"/>
                  </a:lnTo>
                  <a:lnTo>
                    <a:pt x="694" y="53"/>
                  </a:lnTo>
                  <a:lnTo>
                    <a:pt x="697" y="46"/>
                  </a:lnTo>
                  <a:lnTo>
                    <a:pt x="699" y="39"/>
                  </a:lnTo>
                  <a:lnTo>
                    <a:pt x="701" y="31"/>
                  </a:lnTo>
                  <a:lnTo>
                    <a:pt x="703" y="24"/>
                  </a:lnTo>
                  <a:lnTo>
                    <a:pt x="705" y="16"/>
                  </a:lnTo>
                  <a:lnTo>
                    <a:pt x="707" y="9"/>
                  </a:lnTo>
                  <a:lnTo>
                    <a:pt x="708" y="0"/>
                  </a:lnTo>
                  <a:lnTo>
                    <a:pt x="1115" y="0"/>
                  </a:lnTo>
                  <a:lnTo>
                    <a:pt x="1114" y="9"/>
                  </a:lnTo>
                  <a:lnTo>
                    <a:pt x="1114" y="16"/>
                  </a:lnTo>
                  <a:lnTo>
                    <a:pt x="1113" y="23"/>
                  </a:lnTo>
                  <a:lnTo>
                    <a:pt x="1112" y="31"/>
                  </a:lnTo>
                  <a:lnTo>
                    <a:pt x="1111" y="38"/>
                  </a:lnTo>
                  <a:lnTo>
                    <a:pt x="1110" y="46"/>
                  </a:lnTo>
                  <a:lnTo>
                    <a:pt x="1109" y="53"/>
                  </a:lnTo>
                  <a:lnTo>
                    <a:pt x="1108" y="61"/>
                  </a:lnTo>
                  <a:close/>
                  <a:moveTo>
                    <a:pt x="385" y="61"/>
                  </a:moveTo>
                  <a:lnTo>
                    <a:pt x="0" y="61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1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739960" y="4706640"/>
              <a:ext cx="354240" cy="20880"/>
            </a:xfrm>
            <a:custGeom>
              <a:avLst/>
              <a:gdLst/>
              <a:ahLst/>
              <a:rect l="l" t="t" r="r" b="b"/>
              <a:pathLst>
                <a:path w="1117" h="61">
                  <a:moveTo>
                    <a:pt x="1112" y="61"/>
                  </a:moveTo>
                  <a:lnTo>
                    <a:pt x="701" y="61"/>
                  </a:lnTo>
                  <a:lnTo>
                    <a:pt x="703" y="54"/>
                  </a:lnTo>
                  <a:lnTo>
                    <a:pt x="705" y="46"/>
                  </a:lnTo>
                  <a:lnTo>
                    <a:pt x="706" y="39"/>
                  </a:lnTo>
                  <a:lnTo>
                    <a:pt x="708" y="31"/>
                  </a:lnTo>
                  <a:lnTo>
                    <a:pt x="709" y="23"/>
                  </a:lnTo>
                  <a:lnTo>
                    <a:pt x="710" y="16"/>
                  </a:lnTo>
                  <a:lnTo>
                    <a:pt x="711" y="8"/>
                  </a:lnTo>
                  <a:lnTo>
                    <a:pt x="712" y="0"/>
                  </a:lnTo>
                  <a:lnTo>
                    <a:pt x="1117" y="0"/>
                  </a:lnTo>
                  <a:lnTo>
                    <a:pt x="1116" y="8"/>
                  </a:lnTo>
                  <a:lnTo>
                    <a:pt x="1116" y="15"/>
                  </a:lnTo>
                  <a:lnTo>
                    <a:pt x="1115" y="23"/>
                  </a:lnTo>
                  <a:lnTo>
                    <a:pt x="1115" y="30"/>
                  </a:lnTo>
                  <a:lnTo>
                    <a:pt x="1114" y="39"/>
                  </a:lnTo>
                  <a:lnTo>
                    <a:pt x="1114" y="46"/>
                  </a:lnTo>
                  <a:lnTo>
                    <a:pt x="1113" y="53"/>
                  </a:lnTo>
                  <a:lnTo>
                    <a:pt x="1112" y="61"/>
                  </a:lnTo>
                  <a:close/>
                  <a:moveTo>
                    <a:pt x="385" y="61"/>
                  </a:moveTo>
                  <a:lnTo>
                    <a:pt x="0" y="61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1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739960" y="4697280"/>
              <a:ext cx="354240" cy="19080"/>
            </a:xfrm>
            <a:custGeom>
              <a:avLst/>
              <a:gdLst/>
              <a:ahLst/>
              <a:rect l="l" t="t" r="r" b="b"/>
              <a:pathLst>
                <a:path w="1117" h="60">
                  <a:moveTo>
                    <a:pt x="1115" y="60"/>
                  </a:moveTo>
                  <a:lnTo>
                    <a:pt x="708" y="60"/>
                  </a:lnTo>
                  <a:lnTo>
                    <a:pt x="709" y="53"/>
                  </a:lnTo>
                  <a:lnTo>
                    <a:pt x="710" y="46"/>
                  </a:lnTo>
                  <a:lnTo>
                    <a:pt x="711" y="38"/>
                  </a:lnTo>
                  <a:lnTo>
                    <a:pt x="712" y="31"/>
                  </a:lnTo>
                  <a:lnTo>
                    <a:pt x="713" y="24"/>
                  </a:lnTo>
                  <a:lnTo>
                    <a:pt x="713" y="16"/>
                  </a:lnTo>
                  <a:lnTo>
                    <a:pt x="714" y="8"/>
                  </a:lnTo>
                  <a:lnTo>
                    <a:pt x="714" y="0"/>
                  </a:lnTo>
                  <a:lnTo>
                    <a:pt x="1117" y="0"/>
                  </a:lnTo>
                  <a:lnTo>
                    <a:pt x="1117" y="0"/>
                  </a:lnTo>
                  <a:lnTo>
                    <a:pt x="1117" y="8"/>
                  </a:lnTo>
                  <a:lnTo>
                    <a:pt x="1117" y="16"/>
                  </a:lnTo>
                  <a:lnTo>
                    <a:pt x="1117" y="23"/>
                  </a:lnTo>
                  <a:lnTo>
                    <a:pt x="1117" y="31"/>
                  </a:lnTo>
                  <a:lnTo>
                    <a:pt x="1116" y="38"/>
                  </a:lnTo>
                  <a:lnTo>
                    <a:pt x="1116" y="45"/>
                  </a:lnTo>
                  <a:lnTo>
                    <a:pt x="1115" y="53"/>
                  </a:lnTo>
                  <a:lnTo>
                    <a:pt x="1115" y="60"/>
                  </a:lnTo>
                  <a:close/>
                  <a:moveTo>
                    <a:pt x="385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0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39960" y="4687920"/>
              <a:ext cx="354240" cy="18720"/>
            </a:xfrm>
            <a:custGeom>
              <a:avLst/>
              <a:gdLst/>
              <a:ahLst/>
              <a:rect l="l" t="t" r="r" b="b"/>
              <a:pathLst>
                <a:path w="1117" h="60">
                  <a:moveTo>
                    <a:pt x="1117" y="60"/>
                  </a:moveTo>
                  <a:lnTo>
                    <a:pt x="712" y="60"/>
                  </a:lnTo>
                  <a:lnTo>
                    <a:pt x="713" y="55"/>
                  </a:lnTo>
                  <a:lnTo>
                    <a:pt x="713" y="50"/>
                  </a:lnTo>
                  <a:lnTo>
                    <a:pt x="713" y="44"/>
                  </a:lnTo>
                  <a:lnTo>
                    <a:pt x="714" y="39"/>
                  </a:lnTo>
                  <a:lnTo>
                    <a:pt x="714" y="34"/>
                  </a:lnTo>
                  <a:lnTo>
                    <a:pt x="714" y="28"/>
                  </a:lnTo>
                  <a:lnTo>
                    <a:pt x="714" y="23"/>
                  </a:lnTo>
                  <a:lnTo>
                    <a:pt x="714" y="18"/>
                  </a:lnTo>
                  <a:lnTo>
                    <a:pt x="714" y="16"/>
                  </a:lnTo>
                  <a:lnTo>
                    <a:pt x="714" y="13"/>
                  </a:lnTo>
                  <a:lnTo>
                    <a:pt x="714" y="11"/>
                  </a:lnTo>
                  <a:lnTo>
                    <a:pt x="714" y="9"/>
                  </a:lnTo>
                  <a:lnTo>
                    <a:pt x="714" y="7"/>
                  </a:lnTo>
                  <a:lnTo>
                    <a:pt x="714" y="5"/>
                  </a:lnTo>
                  <a:lnTo>
                    <a:pt x="714" y="2"/>
                  </a:lnTo>
                  <a:lnTo>
                    <a:pt x="714" y="0"/>
                  </a:lnTo>
                  <a:lnTo>
                    <a:pt x="1117" y="0"/>
                  </a:lnTo>
                  <a:lnTo>
                    <a:pt x="1117" y="4"/>
                  </a:lnTo>
                  <a:lnTo>
                    <a:pt x="1117" y="8"/>
                  </a:lnTo>
                  <a:lnTo>
                    <a:pt x="1117" y="11"/>
                  </a:lnTo>
                  <a:lnTo>
                    <a:pt x="1117" y="15"/>
                  </a:lnTo>
                  <a:lnTo>
                    <a:pt x="1117" y="19"/>
                  </a:lnTo>
                  <a:lnTo>
                    <a:pt x="1117" y="23"/>
                  </a:lnTo>
                  <a:lnTo>
                    <a:pt x="1117" y="26"/>
                  </a:lnTo>
                  <a:lnTo>
                    <a:pt x="1117" y="30"/>
                  </a:lnTo>
                  <a:lnTo>
                    <a:pt x="1117" y="34"/>
                  </a:lnTo>
                  <a:lnTo>
                    <a:pt x="1117" y="37"/>
                  </a:lnTo>
                  <a:lnTo>
                    <a:pt x="1117" y="41"/>
                  </a:lnTo>
                  <a:lnTo>
                    <a:pt x="1117" y="46"/>
                  </a:lnTo>
                  <a:lnTo>
                    <a:pt x="1117" y="49"/>
                  </a:lnTo>
                  <a:lnTo>
                    <a:pt x="1117" y="53"/>
                  </a:lnTo>
                  <a:lnTo>
                    <a:pt x="1117" y="57"/>
                  </a:lnTo>
                  <a:lnTo>
                    <a:pt x="1117" y="60"/>
                  </a:lnTo>
                  <a:close/>
                  <a:moveTo>
                    <a:pt x="385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0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739960" y="4678200"/>
              <a:ext cx="354240" cy="19080"/>
            </a:xfrm>
            <a:custGeom>
              <a:avLst/>
              <a:gdLst/>
              <a:ahLst/>
              <a:rect l="l" t="t" r="r" b="b"/>
              <a:pathLst>
                <a:path w="1117" h="60">
                  <a:moveTo>
                    <a:pt x="1117" y="60"/>
                  </a:moveTo>
                  <a:lnTo>
                    <a:pt x="714" y="60"/>
                  </a:lnTo>
                  <a:lnTo>
                    <a:pt x="714" y="58"/>
                  </a:lnTo>
                  <a:lnTo>
                    <a:pt x="714" y="57"/>
                  </a:lnTo>
                  <a:lnTo>
                    <a:pt x="714" y="55"/>
                  </a:lnTo>
                  <a:lnTo>
                    <a:pt x="714" y="54"/>
                  </a:lnTo>
                  <a:lnTo>
                    <a:pt x="714" y="52"/>
                  </a:lnTo>
                  <a:lnTo>
                    <a:pt x="714" y="51"/>
                  </a:lnTo>
                  <a:lnTo>
                    <a:pt x="714" y="49"/>
                  </a:lnTo>
                  <a:lnTo>
                    <a:pt x="714" y="48"/>
                  </a:lnTo>
                  <a:lnTo>
                    <a:pt x="714" y="42"/>
                  </a:lnTo>
                  <a:lnTo>
                    <a:pt x="714" y="36"/>
                  </a:lnTo>
                  <a:lnTo>
                    <a:pt x="714" y="30"/>
                  </a:lnTo>
                  <a:lnTo>
                    <a:pt x="714" y="24"/>
                  </a:lnTo>
                  <a:lnTo>
                    <a:pt x="713" y="17"/>
                  </a:lnTo>
                  <a:lnTo>
                    <a:pt x="713" y="11"/>
                  </a:lnTo>
                  <a:lnTo>
                    <a:pt x="712" y="5"/>
                  </a:lnTo>
                  <a:lnTo>
                    <a:pt x="712" y="0"/>
                  </a:lnTo>
                  <a:lnTo>
                    <a:pt x="1115" y="0"/>
                  </a:lnTo>
                  <a:lnTo>
                    <a:pt x="1116" y="7"/>
                  </a:lnTo>
                  <a:lnTo>
                    <a:pt x="1116" y="14"/>
                  </a:lnTo>
                  <a:lnTo>
                    <a:pt x="1116" y="23"/>
                  </a:lnTo>
                  <a:lnTo>
                    <a:pt x="1117" y="30"/>
                  </a:lnTo>
                  <a:lnTo>
                    <a:pt x="1117" y="37"/>
                  </a:lnTo>
                  <a:lnTo>
                    <a:pt x="1117" y="45"/>
                  </a:lnTo>
                  <a:lnTo>
                    <a:pt x="1117" y="52"/>
                  </a:lnTo>
                  <a:lnTo>
                    <a:pt x="1117" y="60"/>
                  </a:lnTo>
                  <a:close/>
                  <a:moveTo>
                    <a:pt x="385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0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739960" y="4668840"/>
              <a:ext cx="354240" cy="19080"/>
            </a:xfrm>
            <a:custGeom>
              <a:avLst/>
              <a:gdLst/>
              <a:ahLst/>
              <a:rect l="l" t="t" r="r" b="b"/>
              <a:pathLst>
                <a:path w="1117" h="61">
                  <a:moveTo>
                    <a:pt x="1117" y="61"/>
                  </a:moveTo>
                  <a:lnTo>
                    <a:pt x="714" y="61"/>
                  </a:lnTo>
                  <a:lnTo>
                    <a:pt x="714" y="54"/>
                  </a:lnTo>
                  <a:lnTo>
                    <a:pt x="713" y="45"/>
                  </a:lnTo>
                  <a:lnTo>
                    <a:pt x="713" y="38"/>
                  </a:lnTo>
                  <a:lnTo>
                    <a:pt x="712" y="30"/>
                  </a:lnTo>
                  <a:lnTo>
                    <a:pt x="711" y="23"/>
                  </a:lnTo>
                  <a:lnTo>
                    <a:pt x="710" y="16"/>
                  </a:lnTo>
                  <a:lnTo>
                    <a:pt x="709" y="8"/>
                  </a:lnTo>
                  <a:lnTo>
                    <a:pt x="708" y="0"/>
                  </a:lnTo>
                  <a:lnTo>
                    <a:pt x="1113" y="0"/>
                  </a:lnTo>
                  <a:lnTo>
                    <a:pt x="1114" y="8"/>
                  </a:lnTo>
                  <a:lnTo>
                    <a:pt x="1114" y="16"/>
                  </a:lnTo>
                  <a:lnTo>
                    <a:pt x="1115" y="23"/>
                  </a:lnTo>
                  <a:lnTo>
                    <a:pt x="1115" y="30"/>
                  </a:lnTo>
                  <a:lnTo>
                    <a:pt x="1116" y="38"/>
                  </a:lnTo>
                  <a:lnTo>
                    <a:pt x="1116" y="45"/>
                  </a:lnTo>
                  <a:lnTo>
                    <a:pt x="1116" y="54"/>
                  </a:lnTo>
                  <a:lnTo>
                    <a:pt x="1117" y="61"/>
                  </a:lnTo>
                  <a:close/>
                  <a:moveTo>
                    <a:pt x="385" y="61"/>
                  </a:moveTo>
                  <a:lnTo>
                    <a:pt x="0" y="61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1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739960" y="4659120"/>
              <a:ext cx="354240" cy="19080"/>
            </a:xfrm>
            <a:custGeom>
              <a:avLst/>
              <a:gdLst/>
              <a:ahLst/>
              <a:rect l="l" t="t" r="r" b="b"/>
              <a:pathLst>
                <a:path w="1115" h="60">
                  <a:moveTo>
                    <a:pt x="1115" y="60"/>
                  </a:moveTo>
                  <a:lnTo>
                    <a:pt x="712" y="60"/>
                  </a:lnTo>
                  <a:lnTo>
                    <a:pt x="711" y="52"/>
                  </a:lnTo>
                  <a:lnTo>
                    <a:pt x="710" y="44"/>
                  </a:lnTo>
                  <a:lnTo>
                    <a:pt x="709" y="37"/>
                  </a:lnTo>
                  <a:lnTo>
                    <a:pt x="708" y="29"/>
                  </a:lnTo>
                  <a:lnTo>
                    <a:pt x="706" y="21"/>
                  </a:lnTo>
                  <a:lnTo>
                    <a:pt x="705" y="14"/>
                  </a:lnTo>
                  <a:lnTo>
                    <a:pt x="703" y="7"/>
                  </a:lnTo>
                  <a:lnTo>
                    <a:pt x="702" y="0"/>
                  </a:lnTo>
                  <a:lnTo>
                    <a:pt x="1110" y="0"/>
                  </a:lnTo>
                  <a:lnTo>
                    <a:pt x="1111" y="7"/>
                  </a:lnTo>
                  <a:lnTo>
                    <a:pt x="1112" y="14"/>
                  </a:lnTo>
                  <a:lnTo>
                    <a:pt x="1112" y="22"/>
                  </a:lnTo>
                  <a:lnTo>
                    <a:pt x="1113" y="29"/>
                  </a:lnTo>
                  <a:lnTo>
                    <a:pt x="1114" y="37"/>
                  </a:lnTo>
                  <a:lnTo>
                    <a:pt x="1114" y="45"/>
                  </a:lnTo>
                  <a:lnTo>
                    <a:pt x="1115" y="52"/>
                  </a:lnTo>
                  <a:lnTo>
                    <a:pt x="1115" y="60"/>
                  </a:lnTo>
                  <a:close/>
                  <a:moveTo>
                    <a:pt x="385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0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739960" y="4649760"/>
              <a:ext cx="352440" cy="19080"/>
            </a:xfrm>
            <a:custGeom>
              <a:avLst/>
              <a:gdLst/>
              <a:ahLst/>
              <a:rect l="l" t="t" r="r" b="b"/>
              <a:pathLst>
                <a:path w="1113" h="60">
                  <a:moveTo>
                    <a:pt x="1113" y="60"/>
                  </a:moveTo>
                  <a:lnTo>
                    <a:pt x="708" y="60"/>
                  </a:lnTo>
                  <a:lnTo>
                    <a:pt x="706" y="52"/>
                  </a:lnTo>
                  <a:lnTo>
                    <a:pt x="705" y="45"/>
                  </a:lnTo>
                  <a:lnTo>
                    <a:pt x="703" y="37"/>
                  </a:lnTo>
                  <a:lnTo>
                    <a:pt x="701" y="30"/>
                  </a:lnTo>
                  <a:lnTo>
                    <a:pt x="699" y="23"/>
                  </a:lnTo>
                  <a:lnTo>
                    <a:pt x="697" y="15"/>
                  </a:lnTo>
                  <a:lnTo>
                    <a:pt x="695" y="7"/>
                  </a:lnTo>
                  <a:lnTo>
                    <a:pt x="693" y="0"/>
                  </a:lnTo>
                  <a:lnTo>
                    <a:pt x="1106" y="0"/>
                  </a:lnTo>
                  <a:lnTo>
                    <a:pt x="1107" y="7"/>
                  </a:lnTo>
                  <a:lnTo>
                    <a:pt x="1108" y="16"/>
                  </a:lnTo>
                  <a:lnTo>
                    <a:pt x="1109" y="23"/>
                  </a:lnTo>
                  <a:lnTo>
                    <a:pt x="1110" y="30"/>
                  </a:lnTo>
                  <a:lnTo>
                    <a:pt x="1111" y="38"/>
                  </a:lnTo>
                  <a:lnTo>
                    <a:pt x="1112" y="45"/>
                  </a:lnTo>
                  <a:lnTo>
                    <a:pt x="1113" y="53"/>
                  </a:lnTo>
                  <a:lnTo>
                    <a:pt x="1113" y="60"/>
                  </a:lnTo>
                  <a:close/>
                  <a:moveTo>
                    <a:pt x="385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0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739960" y="4640040"/>
              <a:ext cx="352440" cy="19080"/>
            </a:xfrm>
            <a:custGeom>
              <a:avLst/>
              <a:gdLst/>
              <a:ahLst/>
              <a:rect l="l" t="t" r="r" b="b"/>
              <a:pathLst>
                <a:path w="1110" h="61">
                  <a:moveTo>
                    <a:pt x="1110" y="61"/>
                  </a:moveTo>
                  <a:lnTo>
                    <a:pt x="702" y="61"/>
                  </a:lnTo>
                  <a:lnTo>
                    <a:pt x="700" y="53"/>
                  </a:lnTo>
                  <a:lnTo>
                    <a:pt x="697" y="45"/>
                  </a:lnTo>
                  <a:lnTo>
                    <a:pt x="695" y="37"/>
                  </a:lnTo>
                  <a:lnTo>
                    <a:pt x="691" y="29"/>
                  </a:lnTo>
                  <a:lnTo>
                    <a:pt x="689" y="22"/>
                  </a:lnTo>
                  <a:lnTo>
                    <a:pt x="686" y="15"/>
                  </a:lnTo>
                  <a:lnTo>
                    <a:pt x="683" y="8"/>
                  </a:lnTo>
                  <a:lnTo>
                    <a:pt x="680" y="0"/>
                  </a:lnTo>
                  <a:lnTo>
                    <a:pt x="1101" y="0"/>
                  </a:lnTo>
                  <a:lnTo>
                    <a:pt x="1102" y="8"/>
                  </a:lnTo>
                  <a:lnTo>
                    <a:pt x="1103" y="15"/>
                  </a:lnTo>
                  <a:lnTo>
                    <a:pt x="1105" y="22"/>
                  </a:lnTo>
                  <a:lnTo>
                    <a:pt x="1106" y="30"/>
                  </a:lnTo>
                  <a:lnTo>
                    <a:pt x="1107" y="37"/>
                  </a:lnTo>
                  <a:lnTo>
                    <a:pt x="1108" y="46"/>
                  </a:lnTo>
                  <a:lnTo>
                    <a:pt x="1109" y="53"/>
                  </a:lnTo>
                  <a:lnTo>
                    <a:pt x="1110" y="61"/>
                  </a:lnTo>
                  <a:close/>
                  <a:moveTo>
                    <a:pt x="385" y="61"/>
                  </a:moveTo>
                  <a:lnTo>
                    <a:pt x="0" y="61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1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739960" y="4630680"/>
              <a:ext cx="351000" cy="19080"/>
            </a:xfrm>
            <a:custGeom>
              <a:avLst/>
              <a:gdLst/>
              <a:ahLst/>
              <a:rect l="l" t="t" r="r" b="b"/>
              <a:pathLst>
                <a:path w="1106" h="60">
                  <a:moveTo>
                    <a:pt x="1106" y="60"/>
                  </a:moveTo>
                  <a:lnTo>
                    <a:pt x="693" y="60"/>
                  </a:lnTo>
                  <a:lnTo>
                    <a:pt x="689" y="52"/>
                  </a:lnTo>
                  <a:lnTo>
                    <a:pt x="686" y="45"/>
                  </a:lnTo>
                  <a:lnTo>
                    <a:pt x="683" y="37"/>
                  </a:lnTo>
                  <a:lnTo>
                    <a:pt x="679" y="30"/>
                  </a:lnTo>
                  <a:lnTo>
                    <a:pt x="676" y="22"/>
                  </a:lnTo>
                  <a:lnTo>
                    <a:pt x="672" y="14"/>
                  </a:lnTo>
                  <a:lnTo>
                    <a:pt x="668" y="7"/>
                  </a:lnTo>
                  <a:lnTo>
                    <a:pt x="664" y="0"/>
                  </a:lnTo>
                  <a:lnTo>
                    <a:pt x="1093" y="0"/>
                  </a:lnTo>
                  <a:lnTo>
                    <a:pt x="1095" y="7"/>
                  </a:lnTo>
                  <a:lnTo>
                    <a:pt x="1097" y="14"/>
                  </a:lnTo>
                  <a:lnTo>
                    <a:pt x="1098" y="23"/>
                  </a:lnTo>
                  <a:lnTo>
                    <a:pt x="1101" y="30"/>
                  </a:lnTo>
                  <a:lnTo>
                    <a:pt x="1102" y="38"/>
                  </a:lnTo>
                  <a:lnTo>
                    <a:pt x="1103" y="45"/>
                  </a:lnTo>
                  <a:lnTo>
                    <a:pt x="1105" y="53"/>
                  </a:lnTo>
                  <a:lnTo>
                    <a:pt x="1106" y="60"/>
                  </a:lnTo>
                  <a:close/>
                  <a:moveTo>
                    <a:pt x="385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0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739960" y="4620960"/>
              <a:ext cx="349200" cy="19080"/>
            </a:xfrm>
            <a:custGeom>
              <a:avLst/>
              <a:gdLst/>
              <a:ahLst/>
              <a:rect l="l" t="t" r="r" b="b"/>
              <a:pathLst>
                <a:path w="1101" h="60">
                  <a:moveTo>
                    <a:pt x="1101" y="60"/>
                  </a:moveTo>
                  <a:lnTo>
                    <a:pt x="680" y="60"/>
                  </a:lnTo>
                  <a:lnTo>
                    <a:pt x="676" y="53"/>
                  </a:lnTo>
                  <a:lnTo>
                    <a:pt x="672" y="44"/>
                  </a:lnTo>
                  <a:lnTo>
                    <a:pt x="668" y="36"/>
                  </a:lnTo>
                  <a:lnTo>
                    <a:pt x="664" y="29"/>
                  </a:lnTo>
                  <a:lnTo>
                    <a:pt x="659" y="22"/>
                  </a:lnTo>
                  <a:lnTo>
                    <a:pt x="654" y="14"/>
                  </a:lnTo>
                  <a:lnTo>
                    <a:pt x="649" y="7"/>
                  </a:lnTo>
                  <a:lnTo>
                    <a:pt x="644" y="0"/>
                  </a:lnTo>
                  <a:lnTo>
                    <a:pt x="1086" y="0"/>
                  </a:lnTo>
                  <a:lnTo>
                    <a:pt x="1088" y="8"/>
                  </a:lnTo>
                  <a:lnTo>
                    <a:pt x="1090" y="15"/>
                  </a:lnTo>
                  <a:lnTo>
                    <a:pt x="1092" y="22"/>
                  </a:lnTo>
                  <a:lnTo>
                    <a:pt x="1093" y="30"/>
                  </a:lnTo>
                  <a:lnTo>
                    <a:pt x="1095" y="37"/>
                  </a:lnTo>
                  <a:lnTo>
                    <a:pt x="1097" y="44"/>
                  </a:lnTo>
                  <a:lnTo>
                    <a:pt x="1098" y="53"/>
                  </a:lnTo>
                  <a:lnTo>
                    <a:pt x="1101" y="60"/>
                  </a:lnTo>
                  <a:close/>
                  <a:moveTo>
                    <a:pt x="385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0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739960" y="4611600"/>
              <a:ext cx="345960" cy="19080"/>
            </a:xfrm>
            <a:custGeom>
              <a:avLst/>
              <a:gdLst/>
              <a:ahLst/>
              <a:rect l="l" t="t" r="r" b="b"/>
              <a:pathLst>
                <a:path w="1093" h="60">
                  <a:moveTo>
                    <a:pt x="1093" y="60"/>
                  </a:moveTo>
                  <a:lnTo>
                    <a:pt x="664" y="60"/>
                  </a:lnTo>
                  <a:lnTo>
                    <a:pt x="660" y="53"/>
                  </a:lnTo>
                  <a:lnTo>
                    <a:pt x="655" y="46"/>
                  </a:lnTo>
                  <a:lnTo>
                    <a:pt x="650" y="39"/>
                  </a:lnTo>
                  <a:lnTo>
                    <a:pt x="646" y="32"/>
                  </a:lnTo>
                  <a:lnTo>
                    <a:pt x="639" y="25"/>
                  </a:lnTo>
                  <a:lnTo>
                    <a:pt x="634" y="18"/>
                  </a:lnTo>
                  <a:lnTo>
                    <a:pt x="629" y="11"/>
                  </a:lnTo>
                  <a:lnTo>
                    <a:pt x="623" y="5"/>
                  </a:lnTo>
                  <a:lnTo>
                    <a:pt x="622" y="4"/>
                  </a:lnTo>
                  <a:lnTo>
                    <a:pt x="622" y="4"/>
                  </a:lnTo>
                  <a:lnTo>
                    <a:pt x="621" y="3"/>
                  </a:lnTo>
                  <a:lnTo>
                    <a:pt x="621" y="2"/>
                  </a:lnTo>
                  <a:lnTo>
                    <a:pt x="620" y="2"/>
                  </a:lnTo>
                  <a:lnTo>
                    <a:pt x="619" y="1"/>
                  </a:lnTo>
                  <a:lnTo>
                    <a:pt x="619" y="0"/>
                  </a:lnTo>
                  <a:lnTo>
                    <a:pt x="618" y="0"/>
                  </a:lnTo>
                  <a:lnTo>
                    <a:pt x="1077" y="0"/>
                  </a:lnTo>
                  <a:lnTo>
                    <a:pt x="1079" y="7"/>
                  </a:lnTo>
                  <a:lnTo>
                    <a:pt x="1081" y="14"/>
                  </a:lnTo>
                  <a:lnTo>
                    <a:pt x="1084" y="22"/>
                  </a:lnTo>
                  <a:lnTo>
                    <a:pt x="1086" y="30"/>
                  </a:lnTo>
                  <a:lnTo>
                    <a:pt x="1088" y="37"/>
                  </a:lnTo>
                  <a:lnTo>
                    <a:pt x="1090" y="45"/>
                  </a:lnTo>
                  <a:lnTo>
                    <a:pt x="1092" y="52"/>
                  </a:lnTo>
                  <a:lnTo>
                    <a:pt x="1093" y="60"/>
                  </a:lnTo>
                  <a:close/>
                  <a:moveTo>
                    <a:pt x="385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0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739960" y="4601880"/>
              <a:ext cx="344520" cy="19080"/>
            </a:xfrm>
            <a:custGeom>
              <a:avLst/>
              <a:gdLst/>
              <a:ahLst/>
              <a:rect l="l" t="t" r="r" b="b"/>
              <a:pathLst>
                <a:path w="1086" h="61">
                  <a:moveTo>
                    <a:pt x="1086" y="61"/>
                  </a:moveTo>
                  <a:lnTo>
                    <a:pt x="644" y="61"/>
                  </a:lnTo>
                  <a:lnTo>
                    <a:pt x="642" y="58"/>
                  </a:lnTo>
                  <a:lnTo>
                    <a:pt x="638" y="55"/>
                  </a:lnTo>
                  <a:lnTo>
                    <a:pt x="636" y="51"/>
                  </a:lnTo>
                  <a:lnTo>
                    <a:pt x="633" y="48"/>
                  </a:lnTo>
                  <a:lnTo>
                    <a:pt x="631" y="45"/>
                  </a:lnTo>
                  <a:lnTo>
                    <a:pt x="628" y="42"/>
                  </a:lnTo>
                  <a:lnTo>
                    <a:pt x="626" y="39"/>
                  </a:lnTo>
                  <a:lnTo>
                    <a:pt x="623" y="36"/>
                  </a:lnTo>
                  <a:lnTo>
                    <a:pt x="618" y="31"/>
                  </a:lnTo>
                  <a:lnTo>
                    <a:pt x="614" y="27"/>
                  </a:lnTo>
                  <a:lnTo>
                    <a:pt x="609" y="22"/>
                  </a:lnTo>
                  <a:lnTo>
                    <a:pt x="605" y="18"/>
                  </a:lnTo>
                  <a:lnTo>
                    <a:pt x="600" y="13"/>
                  </a:lnTo>
                  <a:lnTo>
                    <a:pt x="595" y="9"/>
                  </a:lnTo>
                  <a:lnTo>
                    <a:pt x="589" y="5"/>
                  </a:lnTo>
                  <a:lnTo>
                    <a:pt x="584" y="0"/>
                  </a:lnTo>
                  <a:lnTo>
                    <a:pt x="1067" y="0"/>
                  </a:lnTo>
                  <a:lnTo>
                    <a:pt x="1069" y="8"/>
                  </a:lnTo>
                  <a:lnTo>
                    <a:pt x="1072" y="16"/>
                  </a:lnTo>
                  <a:lnTo>
                    <a:pt x="1074" y="23"/>
                  </a:lnTo>
                  <a:lnTo>
                    <a:pt x="1077" y="30"/>
                  </a:lnTo>
                  <a:lnTo>
                    <a:pt x="1079" y="38"/>
                  </a:lnTo>
                  <a:lnTo>
                    <a:pt x="1081" y="45"/>
                  </a:lnTo>
                  <a:lnTo>
                    <a:pt x="1084" y="53"/>
                  </a:lnTo>
                  <a:lnTo>
                    <a:pt x="1086" y="61"/>
                  </a:lnTo>
                  <a:close/>
                  <a:moveTo>
                    <a:pt x="385" y="61"/>
                  </a:moveTo>
                  <a:lnTo>
                    <a:pt x="0" y="61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1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739960" y="4592520"/>
              <a:ext cx="341280" cy="19080"/>
            </a:xfrm>
            <a:custGeom>
              <a:avLst/>
              <a:gdLst/>
              <a:ahLst/>
              <a:rect l="l" t="t" r="r" b="b"/>
              <a:pathLst>
                <a:path w="1077" h="60">
                  <a:moveTo>
                    <a:pt x="1077" y="60"/>
                  </a:moveTo>
                  <a:lnTo>
                    <a:pt x="618" y="60"/>
                  </a:lnTo>
                  <a:lnTo>
                    <a:pt x="609" y="51"/>
                  </a:lnTo>
                  <a:lnTo>
                    <a:pt x="600" y="42"/>
                  </a:lnTo>
                  <a:lnTo>
                    <a:pt x="589" y="34"/>
                  </a:lnTo>
                  <a:lnTo>
                    <a:pt x="580" y="26"/>
                  </a:lnTo>
                  <a:lnTo>
                    <a:pt x="570" y="18"/>
                  </a:lnTo>
                  <a:lnTo>
                    <a:pt x="560" y="12"/>
                  </a:lnTo>
                  <a:lnTo>
                    <a:pt x="549" y="5"/>
                  </a:lnTo>
                  <a:lnTo>
                    <a:pt x="537" y="0"/>
                  </a:lnTo>
                  <a:lnTo>
                    <a:pt x="1055" y="0"/>
                  </a:lnTo>
                  <a:lnTo>
                    <a:pt x="1058" y="7"/>
                  </a:lnTo>
                  <a:lnTo>
                    <a:pt x="1061" y="14"/>
                  </a:lnTo>
                  <a:lnTo>
                    <a:pt x="1064" y="21"/>
                  </a:lnTo>
                  <a:lnTo>
                    <a:pt x="1066" y="29"/>
                  </a:lnTo>
                  <a:lnTo>
                    <a:pt x="1069" y="37"/>
                  </a:lnTo>
                  <a:lnTo>
                    <a:pt x="1072" y="45"/>
                  </a:lnTo>
                  <a:lnTo>
                    <a:pt x="1074" y="52"/>
                  </a:lnTo>
                  <a:lnTo>
                    <a:pt x="1077" y="60"/>
                  </a:lnTo>
                  <a:close/>
                  <a:moveTo>
                    <a:pt x="385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0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39960" y="4582800"/>
              <a:ext cx="338040" cy="19080"/>
            </a:xfrm>
            <a:custGeom>
              <a:avLst/>
              <a:gdLst/>
              <a:ahLst/>
              <a:rect l="l" t="t" r="r" b="b"/>
              <a:pathLst>
                <a:path w="1067" h="60">
                  <a:moveTo>
                    <a:pt x="1067" y="60"/>
                  </a:moveTo>
                  <a:lnTo>
                    <a:pt x="584" y="60"/>
                  </a:lnTo>
                  <a:lnTo>
                    <a:pt x="570" y="49"/>
                  </a:lnTo>
                  <a:lnTo>
                    <a:pt x="554" y="40"/>
                  </a:lnTo>
                  <a:lnTo>
                    <a:pt x="538" y="31"/>
                  </a:lnTo>
                  <a:lnTo>
                    <a:pt x="521" y="23"/>
                  </a:lnTo>
                  <a:lnTo>
                    <a:pt x="504" y="16"/>
                  </a:lnTo>
                  <a:lnTo>
                    <a:pt x="486" y="10"/>
                  </a:lnTo>
                  <a:lnTo>
                    <a:pt x="468" y="4"/>
                  </a:lnTo>
                  <a:lnTo>
                    <a:pt x="449" y="0"/>
                  </a:lnTo>
                  <a:lnTo>
                    <a:pt x="1041" y="0"/>
                  </a:lnTo>
                  <a:lnTo>
                    <a:pt x="1044" y="7"/>
                  </a:lnTo>
                  <a:lnTo>
                    <a:pt x="1047" y="16"/>
                  </a:lnTo>
                  <a:lnTo>
                    <a:pt x="1052" y="23"/>
                  </a:lnTo>
                  <a:lnTo>
                    <a:pt x="1055" y="30"/>
                  </a:lnTo>
                  <a:lnTo>
                    <a:pt x="1058" y="38"/>
                  </a:lnTo>
                  <a:lnTo>
                    <a:pt x="1061" y="45"/>
                  </a:lnTo>
                  <a:lnTo>
                    <a:pt x="1064" y="53"/>
                  </a:lnTo>
                  <a:lnTo>
                    <a:pt x="1067" y="60"/>
                  </a:lnTo>
                  <a:close/>
                  <a:moveTo>
                    <a:pt x="385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0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739960" y="4573440"/>
              <a:ext cx="335160" cy="19080"/>
            </a:xfrm>
            <a:custGeom>
              <a:avLst/>
              <a:gdLst/>
              <a:ahLst/>
              <a:rect l="l" t="t" r="r" b="b"/>
              <a:pathLst>
                <a:path w="1055" h="61">
                  <a:moveTo>
                    <a:pt x="1055" y="61"/>
                  </a:moveTo>
                  <a:lnTo>
                    <a:pt x="537" y="61"/>
                  </a:lnTo>
                  <a:lnTo>
                    <a:pt x="521" y="53"/>
                  </a:lnTo>
                  <a:lnTo>
                    <a:pt x="503" y="46"/>
                  </a:lnTo>
                  <a:lnTo>
                    <a:pt x="485" y="40"/>
                  </a:lnTo>
                  <a:lnTo>
                    <a:pt x="466" y="34"/>
                  </a:lnTo>
                  <a:lnTo>
                    <a:pt x="447" y="30"/>
                  </a:lnTo>
                  <a:lnTo>
                    <a:pt x="427" y="27"/>
                  </a:lnTo>
                  <a:lnTo>
                    <a:pt x="406" y="25"/>
                  </a:lnTo>
                  <a:lnTo>
                    <a:pt x="385" y="24"/>
                  </a:lnTo>
                  <a:lnTo>
                    <a:pt x="385" y="61"/>
                  </a:lnTo>
                  <a:lnTo>
                    <a:pt x="0" y="61"/>
                  </a:lnTo>
                  <a:lnTo>
                    <a:pt x="0" y="0"/>
                  </a:lnTo>
                  <a:lnTo>
                    <a:pt x="1025" y="0"/>
                  </a:lnTo>
                  <a:lnTo>
                    <a:pt x="1026" y="2"/>
                  </a:lnTo>
                  <a:lnTo>
                    <a:pt x="1027" y="4"/>
                  </a:lnTo>
                  <a:lnTo>
                    <a:pt x="1029" y="6"/>
                  </a:lnTo>
                  <a:lnTo>
                    <a:pt x="1030" y="8"/>
                  </a:lnTo>
                  <a:lnTo>
                    <a:pt x="1031" y="10"/>
                  </a:lnTo>
                  <a:lnTo>
                    <a:pt x="1032" y="12"/>
                  </a:lnTo>
                  <a:lnTo>
                    <a:pt x="1033" y="14"/>
                  </a:lnTo>
                  <a:lnTo>
                    <a:pt x="1034" y="16"/>
                  </a:lnTo>
                  <a:lnTo>
                    <a:pt x="1036" y="22"/>
                  </a:lnTo>
                  <a:lnTo>
                    <a:pt x="1039" y="27"/>
                  </a:lnTo>
                  <a:lnTo>
                    <a:pt x="1042" y="32"/>
                  </a:lnTo>
                  <a:lnTo>
                    <a:pt x="1044" y="38"/>
                  </a:lnTo>
                  <a:lnTo>
                    <a:pt x="1047" y="44"/>
                  </a:lnTo>
                  <a:lnTo>
                    <a:pt x="1050" y="50"/>
                  </a:lnTo>
                  <a:lnTo>
                    <a:pt x="1053" y="55"/>
                  </a:lnTo>
                  <a:lnTo>
                    <a:pt x="1055" y="61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739960" y="4564080"/>
              <a:ext cx="330120" cy="18720"/>
            </a:xfrm>
            <a:custGeom>
              <a:avLst/>
              <a:gdLst/>
              <a:ahLst/>
              <a:rect l="l" t="t" r="r" b="b"/>
              <a:pathLst>
                <a:path w="1041" h="60">
                  <a:moveTo>
                    <a:pt x="1041" y="60"/>
                  </a:moveTo>
                  <a:lnTo>
                    <a:pt x="449" y="60"/>
                  </a:lnTo>
                  <a:lnTo>
                    <a:pt x="441" y="59"/>
                  </a:lnTo>
                  <a:lnTo>
                    <a:pt x="433" y="58"/>
                  </a:lnTo>
                  <a:lnTo>
                    <a:pt x="425" y="57"/>
                  </a:lnTo>
                  <a:lnTo>
                    <a:pt x="418" y="56"/>
                  </a:lnTo>
                  <a:lnTo>
                    <a:pt x="410" y="55"/>
                  </a:lnTo>
                  <a:lnTo>
                    <a:pt x="402" y="54"/>
                  </a:lnTo>
                  <a:lnTo>
                    <a:pt x="394" y="54"/>
                  </a:lnTo>
                  <a:lnTo>
                    <a:pt x="385" y="54"/>
                  </a:lnTo>
                  <a:lnTo>
                    <a:pt x="385" y="60"/>
                  </a:lnTo>
                  <a:lnTo>
                    <a:pt x="0" y="60"/>
                  </a:lnTo>
                  <a:lnTo>
                    <a:pt x="0" y="0"/>
                  </a:lnTo>
                  <a:lnTo>
                    <a:pt x="1008" y="0"/>
                  </a:lnTo>
                  <a:lnTo>
                    <a:pt x="1012" y="5"/>
                  </a:lnTo>
                  <a:lnTo>
                    <a:pt x="1015" y="11"/>
                  </a:lnTo>
                  <a:lnTo>
                    <a:pt x="1018" y="18"/>
                  </a:lnTo>
                  <a:lnTo>
                    <a:pt x="1021" y="23"/>
                  </a:lnTo>
                  <a:lnTo>
                    <a:pt x="1024" y="29"/>
                  </a:lnTo>
                  <a:lnTo>
                    <a:pt x="1028" y="35"/>
                  </a:lnTo>
                  <a:lnTo>
                    <a:pt x="1031" y="41"/>
                  </a:lnTo>
                  <a:lnTo>
                    <a:pt x="1034" y="46"/>
                  </a:lnTo>
                  <a:lnTo>
                    <a:pt x="1035" y="48"/>
                  </a:lnTo>
                  <a:lnTo>
                    <a:pt x="1035" y="50"/>
                  </a:lnTo>
                  <a:lnTo>
                    <a:pt x="1036" y="51"/>
                  </a:lnTo>
                  <a:lnTo>
                    <a:pt x="1037" y="53"/>
                  </a:lnTo>
                  <a:lnTo>
                    <a:pt x="1038" y="55"/>
                  </a:lnTo>
                  <a:lnTo>
                    <a:pt x="1039" y="57"/>
                  </a:lnTo>
                  <a:lnTo>
                    <a:pt x="1040" y="58"/>
                  </a:lnTo>
                  <a:lnTo>
                    <a:pt x="1041" y="60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739960" y="4554360"/>
              <a:ext cx="325440" cy="19080"/>
            </a:xfrm>
            <a:custGeom>
              <a:avLst/>
              <a:gdLst/>
              <a:ahLst/>
              <a:rect l="l" t="t" r="r" b="b"/>
              <a:pathLst>
                <a:path w="1025" h="60">
                  <a:moveTo>
                    <a:pt x="1025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988" y="0"/>
                  </a:lnTo>
                  <a:lnTo>
                    <a:pt x="993" y="7"/>
                  </a:lnTo>
                  <a:lnTo>
                    <a:pt x="997" y="15"/>
                  </a:lnTo>
                  <a:lnTo>
                    <a:pt x="1003" y="22"/>
                  </a:lnTo>
                  <a:lnTo>
                    <a:pt x="1008" y="29"/>
                  </a:lnTo>
                  <a:lnTo>
                    <a:pt x="1012" y="37"/>
                  </a:lnTo>
                  <a:lnTo>
                    <a:pt x="1017" y="44"/>
                  </a:lnTo>
                  <a:lnTo>
                    <a:pt x="1021" y="53"/>
                  </a:lnTo>
                  <a:lnTo>
                    <a:pt x="1025" y="60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739960" y="4545000"/>
              <a:ext cx="319320" cy="19080"/>
            </a:xfrm>
            <a:custGeom>
              <a:avLst/>
              <a:gdLst/>
              <a:ahLst/>
              <a:rect l="l" t="t" r="r" b="b"/>
              <a:pathLst>
                <a:path w="1008" h="60">
                  <a:moveTo>
                    <a:pt x="1008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966" y="0"/>
                  </a:lnTo>
                  <a:lnTo>
                    <a:pt x="971" y="7"/>
                  </a:lnTo>
                  <a:lnTo>
                    <a:pt x="977" y="14"/>
                  </a:lnTo>
                  <a:lnTo>
                    <a:pt x="982" y="21"/>
                  </a:lnTo>
                  <a:lnTo>
                    <a:pt x="987" y="30"/>
                  </a:lnTo>
                  <a:lnTo>
                    <a:pt x="992" y="37"/>
                  </a:lnTo>
                  <a:lnTo>
                    <a:pt x="997" y="45"/>
                  </a:lnTo>
                  <a:lnTo>
                    <a:pt x="1003" y="52"/>
                  </a:lnTo>
                  <a:lnTo>
                    <a:pt x="1008" y="60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739960" y="4535280"/>
              <a:ext cx="312840" cy="19080"/>
            </a:xfrm>
            <a:custGeom>
              <a:avLst/>
              <a:gdLst/>
              <a:ahLst/>
              <a:rect l="l" t="t" r="r" b="b"/>
              <a:pathLst>
                <a:path w="988" h="61">
                  <a:moveTo>
                    <a:pt x="988" y="61"/>
                  </a:moveTo>
                  <a:lnTo>
                    <a:pt x="0" y="61"/>
                  </a:lnTo>
                  <a:lnTo>
                    <a:pt x="0" y="0"/>
                  </a:lnTo>
                  <a:lnTo>
                    <a:pt x="940" y="0"/>
                  </a:lnTo>
                  <a:lnTo>
                    <a:pt x="946" y="8"/>
                  </a:lnTo>
                  <a:lnTo>
                    <a:pt x="954" y="15"/>
                  </a:lnTo>
                  <a:lnTo>
                    <a:pt x="960" y="23"/>
                  </a:lnTo>
                  <a:lnTo>
                    <a:pt x="965" y="30"/>
                  </a:lnTo>
                  <a:lnTo>
                    <a:pt x="971" y="37"/>
                  </a:lnTo>
                  <a:lnTo>
                    <a:pt x="977" y="45"/>
                  </a:lnTo>
                  <a:lnTo>
                    <a:pt x="982" y="53"/>
                  </a:lnTo>
                  <a:lnTo>
                    <a:pt x="988" y="61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739960" y="4525920"/>
              <a:ext cx="306360" cy="19080"/>
            </a:xfrm>
            <a:custGeom>
              <a:avLst/>
              <a:gdLst/>
              <a:ahLst/>
              <a:rect l="l" t="t" r="r" b="b"/>
              <a:pathLst>
                <a:path w="966" h="60">
                  <a:moveTo>
                    <a:pt x="966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912" y="0"/>
                  </a:lnTo>
                  <a:lnTo>
                    <a:pt x="919" y="7"/>
                  </a:lnTo>
                  <a:lnTo>
                    <a:pt x="926" y="14"/>
                  </a:lnTo>
                  <a:lnTo>
                    <a:pt x="933" y="21"/>
                  </a:lnTo>
                  <a:lnTo>
                    <a:pt x="940" y="28"/>
                  </a:lnTo>
                  <a:lnTo>
                    <a:pt x="946" y="37"/>
                  </a:lnTo>
                  <a:lnTo>
                    <a:pt x="953" y="44"/>
                  </a:lnTo>
                  <a:lnTo>
                    <a:pt x="960" y="52"/>
                  </a:lnTo>
                  <a:lnTo>
                    <a:pt x="966" y="60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39960" y="4516200"/>
              <a:ext cx="298440" cy="19080"/>
            </a:xfrm>
            <a:custGeom>
              <a:avLst/>
              <a:gdLst/>
              <a:ahLst/>
              <a:rect l="l" t="t" r="r" b="b"/>
              <a:pathLst>
                <a:path w="940" h="60">
                  <a:moveTo>
                    <a:pt x="940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879" y="0"/>
                  </a:lnTo>
                  <a:lnTo>
                    <a:pt x="887" y="7"/>
                  </a:lnTo>
                  <a:lnTo>
                    <a:pt x="895" y="15"/>
                  </a:lnTo>
                  <a:lnTo>
                    <a:pt x="904" y="22"/>
                  </a:lnTo>
                  <a:lnTo>
                    <a:pt x="911" y="30"/>
                  </a:lnTo>
                  <a:lnTo>
                    <a:pt x="919" y="37"/>
                  </a:lnTo>
                  <a:lnTo>
                    <a:pt x="926" y="45"/>
                  </a:lnTo>
                  <a:lnTo>
                    <a:pt x="933" y="52"/>
                  </a:lnTo>
                  <a:lnTo>
                    <a:pt x="940" y="60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739960" y="4506840"/>
              <a:ext cx="289080" cy="19080"/>
            </a:xfrm>
            <a:custGeom>
              <a:avLst/>
              <a:gdLst/>
              <a:ahLst/>
              <a:rect l="l" t="t" r="r" b="b"/>
              <a:pathLst>
                <a:path w="912" h="61">
                  <a:moveTo>
                    <a:pt x="912" y="61"/>
                  </a:moveTo>
                  <a:lnTo>
                    <a:pt x="0" y="61"/>
                  </a:lnTo>
                  <a:lnTo>
                    <a:pt x="0" y="0"/>
                  </a:lnTo>
                  <a:lnTo>
                    <a:pt x="841" y="0"/>
                  </a:lnTo>
                  <a:lnTo>
                    <a:pt x="851" y="7"/>
                  </a:lnTo>
                  <a:lnTo>
                    <a:pt x="860" y="14"/>
                  </a:lnTo>
                  <a:lnTo>
                    <a:pt x="869" y="22"/>
                  </a:lnTo>
                  <a:lnTo>
                    <a:pt x="878" y="29"/>
                  </a:lnTo>
                  <a:lnTo>
                    <a:pt x="887" y="36"/>
                  </a:lnTo>
                  <a:lnTo>
                    <a:pt x="895" y="45"/>
                  </a:lnTo>
                  <a:lnTo>
                    <a:pt x="904" y="53"/>
                  </a:lnTo>
                  <a:lnTo>
                    <a:pt x="912" y="61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739960" y="4497120"/>
              <a:ext cx="279360" cy="19080"/>
            </a:xfrm>
            <a:custGeom>
              <a:avLst/>
              <a:gdLst/>
              <a:ahLst/>
              <a:rect l="l" t="t" r="r" b="b"/>
              <a:pathLst>
                <a:path w="879" h="60">
                  <a:moveTo>
                    <a:pt x="879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798" y="0"/>
                  </a:lnTo>
                  <a:lnTo>
                    <a:pt x="809" y="7"/>
                  </a:lnTo>
                  <a:lnTo>
                    <a:pt x="819" y="14"/>
                  </a:lnTo>
                  <a:lnTo>
                    <a:pt x="830" y="22"/>
                  </a:lnTo>
                  <a:lnTo>
                    <a:pt x="840" y="29"/>
                  </a:lnTo>
                  <a:lnTo>
                    <a:pt x="851" y="37"/>
                  </a:lnTo>
                  <a:lnTo>
                    <a:pt x="860" y="44"/>
                  </a:lnTo>
                  <a:lnTo>
                    <a:pt x="870" y="52"/>
                  </a:lnTo>
                  <a:lnTo>
                    <a:pt x="879" y="60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739960" y="4487760"/>
              <a:ext cx="266760" cy="19080"/>
            </a:xfrm>
            <a:custGeom>
              <a:avLst/>
              <a:gdLst/>
              <a:ahLst/>
              <a:rect l="l" t="t" r="r" b="b"/>
              <a:pathLst>
                <a:path w="841" h="60">
                  <a:moveTo>
                    <a:pt x="841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746" y="0"/>
                  </a:lnTo>
                  <a:lnTo>
                    <a:pt x="751" y="3"/>
                  </a:lnTo>
                  <a:lnTo>
                    <a:pt x="757" y="6"/>
                  </a:lnTo>
                  <a:lnTo>
                    <a:pt x="763" y="9"/>
                  </a:lnTo>
                  <a:lnTo>
                    <a:pt x="769" y="13"/>
                  </a:lnTo>
                  <a:lnTo>
                    <a:pt x="774" y="16"/>
                  </a:lnTo>
                  <a:lnTo>
                    <a:pt x="780" y="19"/>
                  </a:lnTo>
                  <a:lnTo>
                    <a:pt x="785" y="22"/>
                  </a:lnTo>
                  <a:lnTo>
                    <a:pt x="791" y="26"/>
                  </a:lnTo>
                  <a:lnTo>
                    <a:pt x="798" y="30"/>
                  </a:lnTo>
                  <a:lnTo>
                    <a:pt x="804" y="34"/>
                  </a:lnTo>
                  <a:lnTo>
                    <a:pt x="811" y="38"/>
                  </a:lnTo>
                  <a:lnTo>
                    <a:pt x="817" y="42"/>
                  </a:lnTo>
                  <a:lnTo>
                    <a:pt x="823" y="46"/>
                  </a:lnTo>
                  <a:lnTo>
                    <a:pt x="829" y="52"/>
                  </a:lnTo>
                  <a:lnTo>
                    <a:pt x="835" y="56"/>
                  </a:lnTo>
                  <a:lnTo>
                    <a:pt x="841" y="60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739960" y="4478040"/>
              <a:ext cx="252360" cy="19080"/>
            </a:xfrm>
            <a:custGeom>
              <a:avLst/>
              <a:gdLst/>
              <a:ahLst/>
              <a:rect l="l" t="t" r="r" b="b"/>
              <a:pathLst>
                <a:path w="798" h="60">
                  <a:moveTo>
                    <a:pt x="798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677" y="0"/>
                  </a:lnTo>
                  <a:lnTo>
                    <a:pt x="693" y="6"/>
                  </a:lnTo>
                  <a:lnTo>
                    <a:pt x="707" y="12"/>
                  </a:lnTo>
                  <a:lnTo>
                    <a:pt x="722" y="18"/>
                  </a:lnTo>
                  <a:lnTo>
                    <a:pt x="736" y="26"/>
                  </a:lnTo>
                  <a:lnTo>
                    <a:pt x="750" y="33"/>
                  </a:lnTo>
                  <a:lnTo>
                    <a:pt x="764" y="40"/>
                  </a:lnTo>
                  <a:lnTo>
                    <a:pt x="778" y="48"/>
                  </a:lnTo>
                  <a:lnTo>
                    <a:pt x="791" y="56"/>
                  </a:lnTo>
                  <a:lnTo>
                    <a:pt x="792" y="56"/>
                  </a:lnTo>
                  <a:lnTo>
                    <a:pt x="792" y="57"/>
                  </a:lnTo>
                  <a:lnTo>
                    <a:pt x="793" y="57"/>
                  </a:lnTo>
                  <a:lnTo>
                    <a:pt x="795" y="58"/>
                  </a:lnTo>
                  <a:lnTo>
                    <a:pt x="796" y="58"/>
                  </a:lnTo>
                  <a:lnTo>
                    <a:pt x="797" y="59"/>
                  </a:lnTo>
                  <a:lnTo>
                    <a:pt x="798" y="59"/>
                  </a:lnTo>
                  <a:lnTo>
                    <a:pt x="798" y="60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39960" y="4468680"/>
              <a:ext cx="236520" cy="19080"/>
            </a:xfrm>
            <a:custGeom>
              <a:avLst/>
              <a:gdLst/>
              <a:ahLst/>
              <a:rect l="l" t="t" r="r" b="b"/>
              <a:pathLst>
                <a:path w="746" h="61">
                  <a:moveTo>
                    <a:pt x="746" y="61"/>
                  </a:moveTo>
                  <a:lnTo>
                    <a:pt x="0" y="61"/>
                  </a:lnTo>
                  <a:lnTo>
                    <a:pt x="0" y="0"/>
                  </a:lnTo>
                  <a:lnTo>
                    <a:pt x="576" y="0"/>
                  </a:lnTo>
                  <a:lnTo>
                    <a:pt x="599" y="7"/>
                  </a:lnTo>
                  <a:lnTo>
                    <a:pt x="621" y="12"/>
                  </a:lnTo>
                  <a:lnTo>
                    <a:pt x="643" y="19"/>
                  </a:lnTo>
                  <a:lnTo>
                    <a:pt x="664" y="26"/>
                  </a:lnTo>
                  <a:lnTo>
                    <a:pt x="685" y="34"/>
                  </a:lnTo>
                  <a:lnTo>
                    <a:pt x="706" y="42"/>
                  </a:lnTo>
                  <a:lnTo>
                    <a:pt x="725" y="51"/>
                  </a:lnTo>
                  <a:lnTo>
                    <a:pt x="746" y="61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739960" y="4459320"/>
              <a:ext cx="214200" cy="18720"/>
            </a:xfrm>
            <a:custGeom>
              <a:avLst/>
              <a:gdLst/>
              <a:ahLst/>
              <a:rect l="l" t="t" r="r" b="b"/>
              <a:pathLst>
                <a:path w="677" h="60">
                  <a:moveTo>
                    <a:pt x="677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224" y="0"/>
                  </a:lnTo>
                  <a:lnTo>
                    <a:pt x="276" y="0"/>
                  </a:lnTo>
                  <a:lnTo>
                    <a:pt x="325" y="2"/>
                  </a:lnTo>
                  <a:lnTo>
                    <a:pt x="372" y="4"/>
                  </a:lnTo>
                  <a:lnTo>
                    <a:pt x="416" y="7"/>
                  </a:lnTo>
                  <a:lnTo>
                    <a:pt x="457" y="10"/>
                  </a:lnTo>
                  <a:lnTo>
                    <a:pt x="495" y="15"/>
                  </a:lnTo>
                  <a:lnTo>
                    <a:pt x="530" y="20"/>
                  </a:lnTo>
                  <a:lnTo>
                    <a:pt x="564" y="26"/>
                  </a:lnTo>
                  <a:lnTo>
                    <a:pt x="578" y="30"/>
                  </a:lnTo>
                  <a:lnTo>
                    <a:pt x="594" y="34"/>
                  </a:lnTo>
                  <a:lnTo>
                    <a:pt x="608" y="38"/>
                  </a:lnTo>
                  <a:lnTo>
                    <a:pt x="622" y="42"/>
                  </a:lnTo>
                  <a:lnTo>
                    <a:pt x="636" y="46"/>
                  </a:lnTo>
                  <a:lnTo>
                    <a:pt x="650" y="50"/>
                  </a:lnTo>
                  <a:lnTo>
                    <a:pt x="664" y="55"/>
                  </a:lnTo>
                  <a:lnTo>
                    <a:pt x="677" y="60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739960" y="4459320"/>
              <a:ext cx="182520" cy="9360"/>
            </a:xfrm>
            <a:custGeom>
              <a:avLst/>
              <a:gdLst/>
              <a:ahLst/>
              <a:rect l="l" t="t" r="r" b="b"/>
              <a:pathLst>
                <a:path w="576" h="29">
                  <a:moveTo>
                    <a:pt x="576" y="29"/>
                  </a:moveTo>
                  <a:lnTo>
                    <a:pt x="0" y="29"/>
                  </a:lnTo>
                  <a:lnTo>
                    <a:pt x="0" y="0"/>
                  </a:lnTo>
                  <a:lnTo>
                    <a:pt x="224" y="0"/>
                  </a:lnTo>
                  <a:lnTo>
                    <a:pt x="276" y="0"/>
                  </a:lnTo>
                  <a:lnTo>
                    <a:pt x="325" y="2"/>
                  </a:lnTo>
                  <a:lnTo>
                    <a:pt x="372" y="4"/>
                  </a:lnTo>
                  <a:lnTo>
                    <a:pt x="416" y="7"/>
                  </a:lnTo>
                  <a:lnTo>
                    <a:pt x="457" y="10"/>
                  </a:lnTo>
                  <a:lnTo>
                    <a:pt x="495" y="15"/>
                  </a:lnTo>
                  <a:lnTo>
                    <a:pt x="530" y="20"/>
                  </a:lnTo>
                  <a:lnTo>
                    <a:pt x="564" y="26"/>
                  </a:lnTo>
                  <a:lnTo>
                    <a:pt x="565" y="27"/>
                  </a:lnTo>
                  <a:lnTo>
                    <a:pt x="567" y="27"/>
                  </a:lnTo>
                  <a:lnTo>
                    <a:pt x="568" y="27"/>
                  </a:lnTo>
                  <a:lnTo>
                    <a:pt x="570" y="28"/>
                  </a:lnTo>
                  <a:lnTo>
                    <a:pt x="571" y="28"/>
                  </a:lnTo>
                  <a:lnTo>
                    <a:pt x="573" y="28"/>
                  </a:lnTo>
                  <a:lnTo>
                    <a:pt x="575" y="29"/>
                  </a:lnTo>
                  <a:lnTo>
                    <a:pt x="576" y="29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981520" y="4290840"/>
              <a:ext cx="40302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200" spc="-1" strike="noStrike">
                  <a:solidFill>
                    <a:srgbClr val="1f1a17"/>
                  </a:solidFill>
                  <a:latin typeface="Geometr231 Hv BT"/>
                </a:rPr>
                <a:t>iscrimination</a:t>
              </a:r>
              <a:endParaRPr b="0" lang="en-US" sz="5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62360" y="4581360"/>
              <a:ext cx="104760" cy="223920"/>
            </a:xfrm>
            <a:custGeom>
              <a:avLst/>
              <a:gdLst/>
              <a:ahLst/>
              <a:rect l="l" t="t" r="r" b="b"/>
              <a:pathLst>
                <a:path w="329" h="706">
                  <a:moveTo>
                    <a:pt x="0" y="706"/>
                  </a:moveTo>
                  <a:lnTo>
                    <a:pt x="19" y="704"/>
                  </a:lnTo>
                  <a:lnTo>
                    <a:pt x="36" y="701"/>
                  </a:lnTo>
                  <a:lnTo>
                    <a:pt x="55" y="697"/>
                  </a:lnTo>
                  <a:lnTo>
                    <a:pt x="71" y="693"/>
                  </a:lnTo>
                  <a:lnTo>
                    <a:pt x="88" y="688"/>
                  </a:lnTo>
                  <a:lnTo>
                    <a:pt x="104" y="683"/>
                  </a:lnTo>
                  <a:lnTo>
                    <a:pt x="120" y="677"/>
                  </a:lnTo>
                  <a:lnTo>
                    <a:pt x="135" y="670"/>
                  </a:lnTo>
                  <a:lnTo>
                    <a:pt x="149" y="663"/>
                  </a:lnTo>
                  <a:lnTo>
                    <a:pt x="164" y="656"/>
                  </a:lnTo>
                  <a:lnTo>
                    <a:pt x="178" y="647"/>
                  </a:lnTo>
                  <a:lnTo>
                    <a:pt x="191" y="637"/>
                  </a:lnTo>
                  <a:lnTo>
                    <a:pt x="203" y="628"/>
                  </a:lnTo>
                  <a:lnTo>
                    <a:pt x="216" y="618"/>
                  </a:lnTo>
                  <a:lnTo>
                    <a:pt x="228" y="607"/>
                  </a:lnTo>
                  <a:lnTo>
                    <a:pt x="239" y="595"/>
                  </a:lnTo>
                  <a:lnTo>
                    <a:pt x="250" y="582"/>
                  </a:lnTo>
                  <a:lnTo>
                    <a:pt x="261" y="570"/>
                  </a:lnTo>
                  <a:lnTo>
                    <a:pt x="270" y="558"/>
                  </a:lnTo>
                  <a:lnTo>
                    <a:pt x="279" y="545"/>
                  </a:lnTo>
                  <a:lnTo>
                    <a:pt x="287" y="530"/>
                  </a:lnTo>
                  <a:lnTo>
                    <a:pt x="294" y="516"/>
                  </a:lnTo>
                  <a:lnTo>
                    <a:pt x="300" y="502"/>
                  </a:lnTo>
                  <a:lnTo>
                    <a:pt x="306" y="487"/>
                  </a:lnTo>
                  <a:lnTo>
                    <a:pt x="312" y="472"/>
                  </a:lnTo>
                  <a:lnTo>
                    <a:pt x="317" y="457"/>
                  </a:lnTo>
                  <a:lnTo>
                    <a:pt x="321" y="441"/>
                  </a:lnTo>
                  <a:lnTo>
                    <a:pt x="324" y="424"/>
                  </a:lnTo>
                  <a:lnTo>
                    <a:pt x="326" y="408"/>
                  </a:lnTo>
                  <a:lnTo>
                    <a:pt x="328" y="391"/>
                  </a:lnTo>
                  <a:lnTo>
                    <a:pt x="329" y="373"/>
                  </a:lnTo>
                  <a:lnTo>
                    <a:pt x="329" y="356"/>
                  </a:lnTo>
                  <a:lnTo>
                    <a:pt x="329" y="337"/>
                  </a:lnTo>
                  <a:lnTo>
                    <a:pt x="328" y="318"/>
                  </a:lnTo>
                  <a:lnTo>
                    <a:pt x="326" y="300"/>
                  </a:lnTo>
                  <a:lnTo>
                    <a:pt x="324" y="282"/>
                  </a:lnTo>
                  <a:lnTo>
                    <a:pt x="320" y="264"/>
                  </a:lnTo>
                  <a:lnTo>
                    <a:pt x="317" y="248"/>
                  </a:lnTo>
                  <a:lnTo>
                    <a:pt x="312" y="232"/>
                  </a:lnTo>
                  <a:lnTo>
                    <a:pt x="306" y="215"/>
                  </a:lnTo>
                  <a:lnTo>
                    <a:pt x="300" y="200"/>
                  </a:lnTo>
                  <a:lnTo>
                    <a:pt x="293" y="185"/>
                  </a:lnTo>
                  <a:lnTo>
                    <a:pt x="286" y="169"/>
                  </a:lnTo>
                  <a:lnTo>
                    <a:pt x="278" y="155"/>
                  </a:lnTo>
                  <a:lnTo>
                    <a:pt x="269" y="141"/>
                  </a:lnTo>
                  <a:lnTo>
                    <a:pt x="260" y="128"/>
                  </a:lnTo>
                  <a:lnTo>
                    <a:pt x="249" y="114"/>
                  </a:lnTo>
                  <a:lnTo>
                    <a:pt x="238" y="102"/>
                  </a:lnTo>
                  <a:lnTo>
                    <a:pt x="227" y="90"/>
                  </a:lnTo>
                  <a:lnTo>
                    <a:pt x="215" y="79"/>
                  </a:lnTo>
                  <a:lnTo>
                    <a:pt x="201" y="69"/>
                  </a:lnTo>
                  <a:lnTo>
                    <a:pt x="189" y="58"/>
                  </a:lnTo>
                  <a:lnTo>
                    <a:pt x="176" y="49"/>
                  </a:lnTo>
                  <a:lnTo>
                    <a:pt x="162" y="41"/>
                  </a:lnTo>
                  <a:lnTo>
                    <a:pt x="147" y="34"/>
                  </a:lnTo>
                  <a:lnTo>
                    <a:pt x="133" y="27"/>
                  </a:lnTo>
                  <a:lnTo>
                    <a:pt x="118" y="22"/>
                  </a:lnTo>
                  <a:lnTo>
                    <a:pt x="102" y="16"/>
                  </a:lnTo>
                  <a:lnTo>
                    <a:pt x="86" y="11"/>
                  </a:lnTo>
                  <a:lnTo>
                    <a:pt x="70" y="7"/>
                  </a:lnTo>
                  <a:lnTo>
                    <a:pt x="54" y="4"/>
                  </a:lnTo>
                  <a:lnTo>
                    <a:pt x="36" y="2"/>
                  </a:lnTo>
                  <a:lnTo>
                    <a:pt x="18" y="1"/>
                  </a:lnTo>
                  <a:lnTo>
                    <a:pt x="0" y="0"/>
                  </a:lnTo>
                  <a:lnTo>
                    <a:pt x="0" y="706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739960" y="4459320"/>
              <a:ext cx="354240" cy="471240"/>
            </a:xfrm>
            <a:custGeom>
              <a:avLst/>
              <a:gdLst/>
              <a:ahLst/>
              <a:rect l="l" t="t" r="r" b="b"/>
              <a:pathLst>
                <a:path w="1117" h="1488">
                  <a:moveTo>
                    <a:pt x="224" y="0"/>
                  </a:moveTo>
                  <a:lnTo>
                    <a:pt x="276" y="0"/>
                  </a:lnTo>
                  <a:lnTo>
                    <a:pt x="325" y="2"/>
                  </a:lnTo>
                  <a:lnTo>
                    <a:pt x="372" y="4"/>
                  </a:lnTo>
                  <a:lnTo>
                    <a:pt x="416" y="7"/>
                  </a:lnTo>
                  <a:lnTo>
                    <a:pt x="457" y="10"/>
                  </a:lnTo>
                  <a:lnTo>
                    <a:pt x="495" y="15"/>
                  </a:lnTo>
                  <a:lnTo>
                    <a:pt x="530" y="20"/>
                  </a:lnTo>
                  <a:lnTo>
                    <a:pt x="564" y="26"/>
                  </a:lnTo>
                  <a:lnTo>
                    <a:pt x="595" y="35"/>
                  </a:lnTo>
                  <a:lnTo>
                    <a:pt x="625" y="43"/>
                  </a:lnTo>
                  <a:lnTo>
                    <a:pt x="655" y="52"/>
                  </a:lnTo>
                  <a:lnTo>
                    <a:pt x="684" y="62"/>
                  </a:lnTo>
                  <a:lnTo>
                    <a:pt x="712" y="74"/>
                  </a:lnTo>
                  <a:lnTo>
                    <a:pt x="739" y="87"/>
                  </a:lnTo>
                  <a:lnTo>
                    <a:pt x="766" y="101"/>
                  </a:lnTo>
                  <a:lnTo>
                    <a:pt x="791" y="116"/>
                  </a:lnTo>
                  <a:lnTo>
                    <a:pt x="811" y="128"/>
                  </a:lnTo>
                  <a:lnTo>
                    <a:pt x="830" y="142"/>
                  </a:lnTo>
                  <a:lnTo>
                    <a:pt x="849" y="155"/>
                  </a:lnTo>
                  <a:lnTo>
                    <a:pt x="866" y="169"/>
                  </a:lnTo>
                  <a:lnTo>
                    <a:pt x="883" y="184"/>
                  </a:lnTo>
                  <a:lnTo>
                    <a:pt x="901" y="200"/>
                  </a:lnTo>
                  <a:lnTo>
                    <a:pt x="916" y="215"/>
                  </a:lnTo>
                  <a:lnTo>
                    <a:pt x="932" y="231"/>
                  </a:lnTo>
                  <a:lnTo>
                    <a:pt x="946" y="248"/>
                  </a:lnTo>
                  <a:lnTo>
                    <a:pt x="961" y="265"/>
                  </a:lnTo>
                  <a:lnTo>
                    <a:pt x="975" y="282"/>
                  </a:lnTo>
                  <a:lnTo>
                    <a:pt x="987" y="301"/>
                  </a:lnTo>
                  <a:lnTo>
                    <a:pt x="1001" y="319"/>
                  </a:lnTo>
                  <a:lnTo>
                    <a:pt x="1012" y="338"/>
                  </a:lnTo>
                  <a:lnTo>
                    <a:pt x="1023" y="358"/>
                  </a:lnTo>
                  <a:lnTo>
                    <a:pt x="1034" y="377"/>
                  </a:lnTo>
                  <a:lnTo>
                    <a:pt x="1044" y="397"/>
                  </a:lnTo>
                  <a:lnTo>
                    <a:pt x="1054" y="419"/>
                  </a:lnTo>
                  <a:lnTo>
                    <a:pt x="1062" y="440"/>
                  </a:lnTo>
                  <a:lnTo>
                    <a:pt x="1070" y="462"/>
                  </a:lnTo>
                  <a:lnTo>
                    <a:pt x="1078" y="484"/>
                  </a:lnTo>
                  <a:lnTo>
                    <a:pt x="1084" y="507"/>
                  </a:lnTo>
                  <a:lnTo>
                    <a:pt x="1090" y="529"/>
                  </a:lnTo>
                  <a:lnTo>
                    <a:pt x="1096" y="552"/>
                  </a:lnTo>
                  <a:lnTo>
                    <a:pt x="1101" y="576"/>
                  </a:lnTo>
                  <a:lnTo>
                    <a:pt x="1106" y="600"/>
                  </a:lnTo>
                  <a:lnTo>
                    <a:pt x="1109" y="625"/>
                  </a:lnTo>
                  <a:lnTo>
                    <a:pt x="1112" y="650"/>
                  </a:lnTo>
                  <a:lnTo>
                    <a:pt x="1114" y="675"/>
                  </a:lnTo>
                  <a:lnTo>
                    <a:pt x="1116" y="701"/>
                  </a:lnTo>
                  <a:lnTo>
                    <a:pt x="1117" y="727"/>
                  </a:lnTo>
                  <a:lnTo>
                    <a:pt x="1117" y="753"/>
                  </a:lnTo>
                  <a:lnTo>
                    <a:pt x="1117" y="778"/>
                  </a:lnTo>
                  <a:lnTo>
                    <a:pt x="1116" y="801"/>
                  </a:lnTo>
                  <a:lnTo>
                    <a:pt x="1114" y="825"/>
                  </a:lnTo>
                  <a:lnTo>
                    <a:pt x="1111" y="847"/>
                  </a:lnTo>
                  <a:lnTo>
                    <a:pt x="1108" y="870"/>
                  </a:lnTo>
                  <a:lnTo>
                    <a:pt x="1104" y="893"/>
                  </a:lnTo>
                  <a:lnTo>
                    <a:pt x="1099" y="915"/>
                  </a:lnTo>
                  <a:lnTo>
                    <a:pt x="1094" y="938"/>
                  </a:lnTo>
                  <a:lnTo>
                    <a:pt x="1088" y="959"/>
                  </a:lnTo>
                  <a:lnTo>
                    <a:pt x="1081" y="981"/>
                  </a:lnTo>
                  <a:lnTo>
                    <a:pt x="1074" y="1002"/>
                  </a:lnTo>
                  <a:lnTo>
                    <a:pt x="1066" y="1023"/>
                  </a:lnTo>
                  <a:lnTo>
                    <a:pt x="1057" y="1045"/>
                  </a:lnTo>
                  <a:lnTo>
                    <a:pt x="1046" y="1065"/>
                  </a:lnTo>
                  <a:lnTo>
                    <a:pt x="1036" y="1086"/>
                  </a:lnTo>
                  <a:lnTo>
                    <a:pt x="1025" y="1106"/>
                  </a:lnTo>
                  <a:lnTo>
                    <a:pt x="1014" y="1125"/>
                  </a:lnTo>
                  <a:lnTo>
                    <a:pt x="1002" y="1145"/>
                  </a:lnTo>
                  <a:lnTo>
                    <a:pt x="988" y="1164"/>
                  </a:lnTo>
                  <a:lnTo>
                    <a:pt x="975" y="1182"/>
                  </a:lnTo>
                  <a:lnTo>
                    <a:pt x="961" y="1200"/>
                  </a:lnTo>
                  <a:lnTo>
                    <a:pt x="945" y="1217"/>
                  </a:lnTo>
                  <a:lnTo>
                    <a:pt x="930" y="1234"/>
                  </a:lnTo>
                  <a:lnTo>
                    <a:pt x="915" y="1251"/>
                  </a:lnTo>
                  <a:lnTo>
                    <a:pt x="899" y="1267"/>
                  </a:lnTo>
                  <a:lnTo>
                    <a:pt x="881" y="1283"/>
                  </a:lnTo>
                  <a:lnTo>
                    <a:pt x="864" y="1299"/>
                  </a:lnTo>
                  <a:lnTo>
                    <a:pt x="846" y="1313"/>
                  </a:lnTo>
                  <a:lnTo>
                    <a:pt x="827" y="1327"/>
                  </a:lnTo>
                  <a:lnTo>
                    <a:pt x="808" y="1341"/>
                  </a:lnTo>
                  <a:lnTo>
                    <a:pt x="787" y="1355"/>
                  </a:lnTo>
                  <a:lnTo>
                    <a:pt x="767" y="1367"/>
                  </a:lnTo>
                  <a:lnTo>
                    <a:pt x="740" y="1382"/>
                  </a:lnTo>
                  <a:lnTo>
                    <a:pt x="713" y="1396"/>
                  </a:lnTo>
                  <a:lnTo>
                    <a:pt x="685" y="1410"/>
                  </a:lnTo>
                  <a:lnTo>
                    <a:pt x="657" y="1422"/>
                  </a:lnTo>
                  <a:lnTo>
                    <a:pt x="627" y="1433"/>
                  </a:lnTo>
                  <a:lnTo>
                    <a:pt x="597" y="1443"/>
                  </a:lnTo>
                  <a:lnTo>
                    <a:pt x="565" y="1451"/>
                  </a:lnTo>
                  <a:lnTo>
                    <a:pt x="532" y="1460"/>
                  </a:lnTo>
                  <a:lnTo>
                    <a:pt x="500" y="1466"/>
                  </a:lnTo>
                  <a:lnTo>
                    <a:pt x="465" y="1472"/>
                  </a:lnTo>
                  <a:lnTo>
                    <a:pt x="428" y="1477"/>
                  </a:lnTo>
                  <a:lnTo>
                    <a:pt x="391" y="1481"/>
                  </a:lnTo>
                  <a:lnTo>
                    <a:pt x="351" y="1484"/>
                  </a:lnTo>
                  <a:lnTo>
                    <a:pt x="310" y="1486"/>
                  </a:lnTo>
                  <a:lnTo>
                    <a:pt x="268" y="1488"/>
                  </a:lnTo>
                  <a:lnTo>
                    <a:pt x="224" y="1488"/>
                  </a:lnTo>
                  <a:lnTo>
                    <a:pt x="0" y="1488"/>
                  </a:lnTo>
                  <a:lnTo>
                    <a:pt x="0" y="0"/>
                  </a:lnTo>
                  <a:lnTo>
                    <a:pt x="224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2768760" y="5065560"/>
            <a:ext cx="3893400" cy="792360"/>
            <a:chOff x="2768760" y="5065560"/>
            <a:chExt cx="3893400" cy="792360"/>
          </a:xfrm>
        </p:grpSpPr>
        <p:sp>
          <p:nvSpPr>
            <p:cNvPr id="286" name=""/>
            <p:cNvSpPr/>
            <p:nvPr/>
          </p:nvSpPr>
          <p:spPr>
            <a:xfrm>
              <a:off x="2776680" y="5703840"/>
              <a:ext cx="137880" cy="9360"/>
            </a:xfrm>
            <a:custGeom>
              <a:avLst/>
              <a:gdLst/>
              <a:ahLst/>
              <a:rect l="l" t="t" r="r" b="b"/>
              <a:pathLst>
                <a:path w="432" h="31">
                  <a:moveTo>
                    <a:pt x="0" y="0"/>
                  </a:moveTo>
                  <a:lnTo>
                    <a:pt x="432" y="0"/>
                  </a:lnTo>
                  <a:lnTo>
                    <a:pt x="406" y="8"/>
                  </a:lnTo>
                  <a:lnTo>
                    <a:pt x="380" y="14"/>
                  </a:lnTo>
                  <a:lnTo>
                    <a:pt x="352" y="19"/>
                  </a:lnTo>
                  <a:lnTo>
                    <a:pt x="324" y="23"/>
                  </a:lnTo>
                  <a:lnTo>
                    <a:pt x="294" y="27"/>
                  </a:lnTo>
                  <a:lnTo>
                    <a:pt x="263" y="29"/>
                  </a:lnTo>
                  <a:lnTo>
                    <a:pt x="233" y="31"/>
                  </a:lnTo>
                  <a:lnTo>
                    <a:pt x="201" y="31"/>
                  </a:lnTo>
                  <a:lnTo>
                    <a:pt x="188" y="31"/>
                  </a:lnTo>
                  <a:lnTo>
                    <a:pt x="175" y="30"/>
                  </a:lnTo>
                  <a:lnTo>
                    <a:pt x="161" y="30"/>
                  </a:lnTo>
                  <a:lnTo>
                    <a:pt x="148" y="29"/>
                  </a:lnTo>
                  <a:lnTo>
                    <a:pt x="135" y="28"/>
                  </a:lnTo>
                  <a:lnTo>
                    <a:pt x="123" y="28"/>
                  </a:lnTo>
                  <a:lnTo>
                    <a:pt x="109" y="27"/>
                  </a:lnTo>
                  <a:lnTo>
                    <a:pt x="97" y="26"/>
                  </a:lnTo>
                  <a:lnTo>
                    <a:pt x="85" y="24"/>
                  </a:lnTo>
                  <a:lnTo>
                    <a:pt x="73" y="23"/>
                  </a:lnTo>
                  <a:lnTo>
                    <a:pt x="60" y="22"/>
                  </a:lnTo>
                  <a:lnTo>
                    <a:pt x="48" y="20"/>
                  </a:lnTo>
                  <a:lnTo>
                    <a:pt x="36" y="18"/>
                  </a:lnTo>
                  <a:lnTo>
                    <a:pt x="24" y="16"/>
                  </a:lnTo>
                  <a:lnTo>
                    <a:pt x="12" y="14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776680" y="5694120"/>
              <a:ext cx="163440" cy="19080"/>
            </a:xfrm>
            <a:custGeom>
              <a:avLst/>
              <a:gdLst/>
              <a:ahLst/>
              <a:rect l="l" t="t" r="r" b="b"/>
              <a:pathLst>
                <a:path w="512" h="61">
                  <a:moveTo>
                    <a:pt x="0" y="0"/>
                  </a:moveTo>
                  <a:lnTo>
                    <a:pt x="512" y="0"/>
                  </a:lnTo>
                  <a:lnTo>
                    <a:pt x="496" y="7"/>
                  </a:lnTo>
                  <a:lnTo>
                    <a:pt x="480" y="14"/>
                  </a:lnTo>
                  <a:lnTo>
                    <a:pt x="462" y="20"/>
                  </a:lnTo>
                  <a:lnTo>
                    <a:pt x="445" y="26"/>
                  </a:lnTo>
                  <a:lnTo>
                    <a:pt x="427" y="31"/>
                  </a:lnTo>
                  <a:lnTo>
                    <a:pt x="409" y="37"/>
                  </a:lnTo>
                  <a:lnTo>
                    <a:pt x="390" y="42"/>
                  </a:lnTo>
                  <a:lnTo>
                    <a:pt x="370" y="46"/>
                  </a:lnTo>
                  <a:lnTo>
                    <a:pt x="351" y="49"/>
                  </a:lnTo>
                  <a:lnTo>
                    <a:pt x="332" y="53"/>
                  </a:lnTo>
                  <a:lnTo>
                    <a:pt x="310" y="55"/>
                  </a:lnTo>
                  <a:lnTo>
                    <a:pt x="290" y="57"/>
                  </a:lnTo>
                  <a:lnTo>
                    <a:pt x="247" y="60"/>
                  </a:lnTo>
                  <a:lnTo>
                    <a:pt x="202" y="61"/>
                  </a:lnTo>
                  <a:lnTo>
                    <a:pt x="189" y="61"/>
                  </a:lnTo>
                  <a:lnTo>
                    <a:pt x="176" y="60"/>
                  </a:lnTo>
                  <a:lnTo>
                    <a:pt x="162" y="60"/>
                  </a:lnTo>
                  <a:lnTo>
                    <a:pt x="149" y="59"/>
                  </a:lnTo>
                  <a:lnTo>
                    <a:pt x="136" y="58"/>
                  </a:lnTo>
                  <a:lnTo>
                    <a:pt x="124" y="58"/>
                  </a:lnTo>
                  <a:lnTo>
                    <a:pt x="110" y="57"/>
                  </a:lnTo>
                  <a:lnTo>
                    <a:pt x="98" y="56"/>
                  </a:lnTo>
                  <a:lnTo>
                    <a:pt x="86" y="54"/>
                  </a:lnTo>
                  <a:lnTo>
                    <a:pt x="74" y="53"/>
                  </a:lnTo>
                  <a:lnTo>
                    <a:pt x="61" y="52"/>
                  </a:lnTo>
                  <a:lnTo>
                    <a:pt x="49" y="50"/>
                  </a:lnTo>
                  <a:lnTo>
                    <a:pt x="37" y="48"/>
                  </a:lnTo>
                  <a:lnTo>
                    <a:pt x="25" y="46"/>
                  </a:lnTo>
                  <a:lnTo>
                    <a:pt x="13" y="44"/>
                  </a:lnTo>
                  <a:lnTo>
                    <a:pt x="1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776680" y="5682960"/>
              <a:ext cx="179280" cy="20880"/>
            </a:xfrm>
            <a:custGeom>
              <a:avLst/>
              <a:gdLst/>
              <a:ahLst/>
              <a:rect l="l" t="t" r="r" b="b"/>
              <a:pathLst>
                <a:path w="566" h="62">
                  <a:moveTo>
                    <a:pt x="433" y="62"/>
                  </a:moveTo>
                  <a:lnTo>
                    <a:pt x="1" y="62"/>
                  </a:lnTo>
                  <a:lnTo>
                    <a:pt x="0" y="0"/>
                  </a:lnTo>
                  <a:lnTo>
                    <a:pt x="566" y="0"/>
                  </a:lnTo>
                  <a:lnTo>
                    <a:pt x="551" y="10"/>
                  </a:lnTo>
                  <a:lnTo>
                    <a:pt x="536" y="19"/>
                  </a:lnTo>
                  <a:lnTo>
                    <a:pt x="519" y="28"/>
                  </a:lnTo>
                  <a:lnTo>
                    <a:pt x="503" y="36"/>
                  </a:lnTo>
                  <a:lnTo>
                    <a:pt x="487" y="43"/>
                  </a:lnTo>
                  <a:lnTo>
                    <a:pt x="469" y="50"/>
                  </a:lnTo>
                  <a:lnTo>
                    <a:pt x="451" y="56"/>
                  </a:lnTo>
                  <a:lnTo>
                    <a:pt x="433" y="62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776680" y="5673600"/>
              <a:ext cx="193680" cy="20520"/>
            </a:xfrm>
            <a:custGeom>
              <a:avLst/>
              <a:gdLst/>
              <a:ahLst/>
              <a:rect l="l" t="t" r="r" b="b"/>
              <a:pathLst>
                <a:path w="609" h="62">
                  <a:moveTo>
                    <a:pt x="513" y="62"/>
                  </a:moveTo>
                  <a:lnTo>
                    <a:pt x="1" y="62"/>
                  </a:lnTo>
                  <a:lnTo>
                    <a:pt x="0" y="0"/>
                  </a:lnTo>
                  <a:lnTo>
                    <a:pt x="609" y="0"/>
                  </a:lnTo>
                  <a:lnTo>
                    <a:pt x="598" y="9"/>
                  </a:lnTo>
                  <a:lnTo>
                    <a:pt x="587" y="17"/>
                  </a:lnTo>
                  <a:lnTo>
                    <a:pt x="575" y="25"/>
                  </a:lnTo>
                  <a:lnTo>
                    <a:pt x="563" y="33"/>
                  </a:lnTo>
                  <a:lnTo>
                    <a:pt x="551" y="40"/>
                  </a:lnTo>
                  <a:lnTo>
                    <a:pt x="539" y="48"/>
                  </a:lnTo>
                  <a:lnTo>
                    <a:pt x="527" y="55"/>
                  </a:lnTo>
                  <a:lnTo>
                    <a:pt x="513" y="62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76680" y="5663880"/>
              <a:ext cx="204480" cy="19080"/>
            </a:xfrm>
            <a:custGeom>
              <a:avLst/>
              <a:gdLst/>
              <a:ahLst/>
              <a:rect l="l" t="t" r="r" b="b"/>
              <a:pathLst>
                <a:path w="644" h="61">
                  <a:moveTo>
                    <a:pt x="568" y="61"/>
                  </a:moveTo>
                  <a:lnTo>
                    <a:pt x="2" y="61"/>
                  </a:lnTo>
                  <a:lnTo>
                    <a:pt x="0" y="0"/>
                  </a:lnTo>
                  <a:lnTo>
                    <a:pt x="644" y="0"/>
                  </a:lnTo>
                  <a:lnTo>
                    <a:pt x="640" y="3"/>
                  </a:lnTo>
                  <a:lnTo>
                    <a:pt x="637" y="7"/>
                  </a:lnTo>
                  <a:lnTo>
                    <a:pt x="633" y="10"/>
                  </a:lnTo>
                  <a:lnTo>
                    <a:pt x="630" y="13"/>
                  </a:lnTo>
                  <a:lnTo>
                    <a:pt x="625" y="17"/>
                  </a:lnTo>
                  <a:lnTo>
                    <a:pt x="622" y="20"/>
                  </a:lnTo>
                  <a:lnTo>
                    <a:pt x="618" y="24"/>
                  </a:lnTo>
                  <a:lnTo>
                    <a:pt x="614" y="27"/>
                  </a:lnTo>
                  <a:lnTo>
                    <a:pt x="609" y="32"/>
                  </a:lnTo>
                  <a:lnTo>
                    <a:pt x="604" y="36"/>
                  </a:lnTo>
                  <a:lnTo>
                    <a:pt x="598" y="41"/>
                  </a:lnTo>
                  <a:lnTo>
                    <a:pt x="592" y="45"/>
                  </a:lnTo>
                  <a:lnTo>
                    <a:pt x="587" y="49"/>
                  </a:lnTo>
                  <a:lnTo>
                    <a:pt x="581" y="53"/>
                  </a:lnTo>
                  <a:lnTo>
                    <a:pt x="574" y="57"/>
                  </a:lnTo>
                  <a:lnTo>
                    <a:pt x="568" y="61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776680" y="5654520"/>
              <a:ext cx="212400" cy="19080"/>
            </a:xfrm>
            <a:custGeom>
              <a:avLst/>
              <a:gdLst/>
              <a:ahLst/>
              <a:rect l="l" t="t" r="r" b="b"/>
              <a:pathLst>
                <a:path w="671" h="62">
                  <a:moveTo>
                    <a:pt x="611" y="62"/>
                  </a:moveTo>
                  <a:lnTo>
                    <a:pt x="2" y="62"/>
                  </a:lnTo>
                  <a:lnTo>
                    <a:pt x="0" y="0"/>
                  </a:lnTo>
                  <a:lnTo>
                    <a:pt x="671" y="0"/>
                  </a:lnTo>
                  <a:lnTo>
                    <a:pt x="665" y="8"/>
                  </a:lnTo>
                  <a:lnTo>
                    <a:pt x="659" y="16"/>
                  </a:lnTo>
                  <a:lnTo>
                    <a:pt x="652" y="23"/>
                  </a:lnTo>
                  <a:lnTo>
                    <a:pt x="645" y="30"/>
                  </a:lnTo>
                  <a:lnTo>
                    <a:pt x="639" y="37"/>
                  </a:lnTo>
                  <a:lnTo>
                    <a:pt x="631" y="44"/>
                  </a:lnTo>
                  <a:lnTo>
                    <a:pt x="623" y="51"/>
                  </a:lnTo>
                  <a:lnTo>
                    <a:pt x="615" y="58"/>
                  </a:lnTo>
                  <a:lnTo>
                    <a:pt x="615" y="59"/>
                  </a:lnTo>
                  <a:lnTo>
                    <a:pt x="614" y="59"/>
                  </a:lnTo>
                  <a:lnTo>
                    <a:pt x="614" y="60"/>
                  </a:lnTo>
                  <a:lnTo>
                    <a:pt x="613" y="60"/>
                  </a:lnTo>
                  <a:lnTo>
                    <a:pt x="613" y="61"/>
                  </a:lnTo>
                  <a:lnTo>
                    <a:pt x="612" y="61"/>
                  </a:lnTo>
                  <a:lnTo>
                    <a:pt x="612" y="62"/>
                  </a:lnTo>
                  <a:lnTo>
                    <a:pt x="611" y="62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776680" y="5645160"/>
              <a:ext cx="218880" cy="18720"/>
            </a:xfrm>
            <a:custGeom>
              <a:avLst/>
              <a:gdLst/>
              <a:ahLst/>
              <a:rect l="l" t="t" r="r" b="b"/>
              <a:pathLst>
                <a:path w="694" h="62">
                  <a:moveTo>
                    <a:pt x="645" y="62"/>
                  </a:moveTo>
                  <a:lnTo>
                    <a:pt x="1" y="62"/>
                  </a:lnTo>
                  <a:lnTo>
                    <a:pt x="0" y="0"/>
                  </a:lnTo>
                  <a:lnTo>
                    <a:pt x="694" y="0"/>
                  </a:lnTo>
                  <a:lnTo>
                    <a:pt x="689" y="8"/>
                  </a:lnTo>
                  <a:lnTo>
                    <a:pt x="683" y="16"/>
                  </a:lnTo>
                  <a:lnTo>
                    <a:pt x="676" y="24"/>
                  </a:lnTo>
                  <a:lnTo>
                    <a:pt x="670" y="33"/>
                  </a:lnTo>
                  <a:lnTo>
                    <a:pt x="664" y="40"/>
                  </a:lnTo>
                  <a:lnTo>
                    <a:pt x="658" y="47"/>
                  </a:lnTo>
                  <a:lnTo>
                    <a:pt x="651" y="55"/>
                  </a:lnTo>
                  <a:lnTo>
                    <a:pt x="645" y="62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774880" y="5635440"/>
              <a:ext cx="227160" cy="19080"/>
            </a:xfrm>
            <a:custGeom>
              <a:avLst/>
              <a:gdLst/>
              <a:ahLst/>
              <a:rect l="l" t="t" r="r" b="b"/>
              <a:pathLst>
                <a:path w="713" h="62">
                  <a:moveTo>
                    <a:pt x="672" y="62"/>
                  </a:moveTo>
                  <a:lnTo>
                    <a:pt x="1" y="62"/>
                  </a:lnTo>
                  <a:lnTo>
                    <a:pt x="0" y="0"/>
                  </a:lnTo>
                  <a:lnTo>
                    <a:pt x="713" y="0"/>
                  </a:lnTo>
                  <a:lnTo>
                    <a:pt x="708" y="8"/>
                  </a:lnTo>
                  <a:lnTo>
                    <a:pt x="704" y="17"/>
                  </a:lnTo>
                  <a:lnTo>
                    <a:pt x="699" y="25"/>
                  </a:lnTo>
                  <a:lnTo>
                    <a:pt x="694" y="32"/>
                  </a:lnTo>
                  <a:lnTo>
                    <a:pt x="689" y="40"/>
                  </a:lnTo>
                  <a:lnTo>
                    <a:pt x="684" y="47"/>
                  </a:lnTo>
                  <a:lnTo>
                    <a:pt x="678" y="54"/>
                  </a:lnTo>
                  <a:lnTo>
                    <a:pt x="672" y="62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774880" y="5626080"/>
              <a:ext cx="231840" cy="19080"/>
            </a:xfrm>
            <a:custGeom>
              <a:avLst/>
              <a:gdLst/>
              <a:ahLst/>
              <a:rect l="l" t="t" r="r" b="b"/>
              <a:pathLst>
                <a:path w="728" h="61">
                  <a:moveTo>
                    <a:pt x="696" y="61"/>
                  </a:moveTo>
                  <a:lnTo>
                    <a:pt x="2" y="61"/>
                  </a:lnTo>
                  <a:lnTo>
                    <a:pt x="0" y="0"/>
                  </a:lnTo>
                  <a:lnTo>
                    <a:pt x="728" y="0"/>
                  </a:lnTo>
                  <a:lnTo>
                    <a:pt x="725" y="8"/>
                  </a:lnTo>
                  <a:lnTo>
                    <a:pt x="721" y="16"/>
                  </a:lnTo>
                  <a:lnTo>
                    <a:pt x="717" y="23"/>
                  </a:lnTo>
                  <a:lnTo>
                    <a:pt x="713" y="31"/>
                  </a:lnTo>
                  <a:lnTo>
                    <a:pt x="709" y="38"/>
                  </a:lnTo>
                  <a:lnTo>
                    <a:pt x="705" y="47"/>
                  </a:lnTo>
                  <a:lnTo>
                    <a:pt x="701" y="54"/>
                  </a:lnTo>
                  <a:lnTo>
                    <a:pt x="696" y="61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774880" y="5614920"/>
              <a:ext cx="235080" cy="20520"/>
            </a:xfrm>
            <a:custGeom>
              <a:avLst/>
              <a:gdLst/>
              <a:ahLst/>
              <a:rect l="l" t="t" r="r" b="b"/>
              <a:pathLst>
                <a:path w="741" h="61">
                  <a:moveTo>
                    <a:pt x="715" y="61"/>
                  </a:moveTo>
                  <a:lnTo>
                    <a:pt x="2" y="61"/>
                  </a:lnTo>
                  <a:lnTo>
                    <a:pt x="0" y="0"/>
                  </a:lnTo>
                  <a:lnTo>
                    <a:pt x="741" y="0"/>
                  </a:lnTo>
                  <a:lnTo>
                    <a:pt x="739" y="7"/>
                  </a:lnTo>
                  <a:lnTo>
                    <a:pt x="736" y="15"/>
                  </a:lnTo>
                  <a:lnTo>
                    <a:pt x="732" y="24"/>
                  </a:lnTo>
                  <a:lnTo>
                    <a:pt x="729" y="32"/>
                  </a:lnTo>
                  <a:lnTo>
                    <a:pt x="725" y="39"/>
                  </a:lnTo>
                  <a:lnTo>
                    <a:pt x="722" y="47"/>
                  </a:lnTo>
                  <a:lnTo>
                    <a:pt x="718" y="54"/>
                  </a:lnTo>
                  <a:lnTo>
                    <a:pt x="715" y="61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774880" y="5605200"/>
              <a:ext cx="238320" cy="20880"/>
            </a:xfrm>
            <a:custGeom>
              <a:avLst/>
              <a:gdLst/>
              <a:ahLst/>
              <a:rect l="l" t="t" r="r" b="b"/>
              <a:pathLst>
                <a:path w="750" h="62">
                  <a:moveTo>
                    <a:pt x="729" y="62"/>
                  </a:moveTo>
                  <a:lnTo>
                    <a:pt x="1" y="62"/>
                  </a:lnTo>
                  <a:lnTo>
                    <a:pt x="0" y="0"/>
                  </a:lnTo>
                  <a:lnTo>
                    <a:pt x="750" y="0"/>
                  </a:lnTo>
                  <a:lnTo>
                    <a:pt x="748" y="8"/>
                  </a:lnTo>
                  <a:lnTo>
                    <a:pt x="746" y="16"/>
                  </a:lnTo>
                  <a:lnTo>
                    <a:pt x="744" y="24"/>
                  </a:lnTo>
                  <a:lnTo>
                    <a:pt x="741" y="31"/>
                  </a:lnTo>
                  <a:lnTo>
                    <a:pt x="739" y="39"/>
                  </a:lnTo>
                  <a:lnTo>
                    <a:pt x="736" y="46"/>
                  </a:lnTo>
                  <a:lnTo>
                    <a:pt x="732" y="55"/>
                  </a:lnTo>
                  <a:lnTo>
                    <a:pt x="729" y="62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774880" y="5595840"/>
              <a:ext cx="239760" cy="19080"/>
            </a:xfrm>
            <a:custGeom>
              <a:avLst/>
              <a:gdLst/>
              <a:ahLst/>
              <a:rect l="l" t="t" r="r" b="b"/>
              <a:pathLst>
                <a:path w="758" h="62">
                  <a:moveTo>
                    <a:pt x="742" y="62"/>
                  </a:moveTo>
                  <a:lnTo>
                    <a:pt x="1" y="62"/>
                  </a:lnTo>
                  <a:lnTo>
                    <a:pt x="0" y="0"/>
                  </a:lnTo>
                  <a:lnTo>
                    <a:pt x="758" y="0"/>
                  </a:lnTo>
                  <a:lnTo>
                    <a:pt x="757" y="8"/>
                  </a:lnTo>
                  <a:lnTo>
                    <a:pt x="755" y="16"/>
                  </a:lnTo>
                  <a:lnTo>
                    <a:pt x="753" y="23"/>
                  </a:lnTo>
                  <a:lnTo>
                    <a:pt x="751" y="32"/>
                  </a:lnTo>
                  <a:lnTo>
                    <a:pt x="749" y="40"/>
                  </a:lnTo>
                  <a:lnTo>
                    <a:pt x="747" y="47"/>
                  </a:lnTo>
                  <a:lnTo>
                    <a:pt x="745" y="54"/>
                  </a:lnTo>
                  <a:lnTo>
                    <a:pt x="742" y="62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774880" y="5586120"/>
              <a:ext cx="241200" cy="19080"/>
            </a:xfrm>
            <a:custGeom>
              <a:avLst/>
              <a:gdLst/>
              <a:ahLst/>
              <a:rect l="l" t="t" r="r" b="b"/>
              <a:pathLst>
                <a:path w="764" h="62">
                  <a:moveTo>
                    <a:pt x="752" y="62"/>
                  </a:moveTo>
                  <a:lnTo>
                    <a:pt x="2" y="62"/>
                  </a:lnTo>
                  <a:lnTo>
                    <a:pt x="0" y="0"/>
                  </a:lnTo>
                  <a:lnTo>
                    <a:pt x="85" y="0"/>
                  </a:lnTo>
                  <a:lnTo>
                    <a:pt x="94" y="2"/>
                  </a:lnTo>
                  <a:lnTo>
                    <a:pt x="104" y="4"/>
                  </a:lnTo>
                  <a:lnTo>
                    <a:pt x="113" y="5"/>
                  </a:lnTo>
                  <a:lnTo>
                    <a:pt x="122" y="8"/>
                  </a:lnTo>
                  <a:lnTo>
                    <a:pt x="132" y="9"/>
                  </a:lnTo>
                  <a:lnTo>
                    <a:pt x="141" y="9"/>
                  </a:lnTo>
                  <a:lnTo>
                    <a:pt x="149" y="10"/>
                  </a:lnTo>
                  <a:lnTo>
                    <a:pt x="158" y="10"/>
                  </a:lnTo>
                  <a:lnTo>
                    <a:pt x="166" y="10"/>
                  </a:lnTo>
                  <a:lnTo>
                    <a:pt x="174" y="9"/>
                  </a:lnTo>
                  <a:lnTo>
                    <a:pt x="183" y="9"/>
                  </a:lnTo>
                  <a:lnTo>
                    <a:pt x="190" y="8"/>
                  </a:lnTo>
                  <a:lnTo>
                    <a:pt x="198" y="5"/>
                  </a:lnTo>
                  <a:lnTo>
                    <a:pt x="205" y="4"/>
                  </a:lnTo>
                  <a:lnTo>
                    <a:pt x="212" y="2"/>
                  </a:lnTo>
                  <a:lnTo>
                    <a:pt x="219" y="0"/>
                  </a:lnTo>
                  <a:lnTo>
                    <a:pt x="764" y="0"/>
                  </a:lnTo>
                  <a:lnTo>
                    <a:pt x="763" y="9"/>
                  </a:lnTo>
                  <a:lnTo>
                    <a:pt x="762" y="16"/>
                  </a:lnTo>
                  <a:lnTo>
                    <a:pt x="760" y="24"/>
                  </a:lnTo>
                  <a:lnTo>
                    <a:pt x="759" y="32"/>
                  </a:lnTo>
                  <a:lnTo>
                    <a:pt x="758" y="39"/>
                  </a:lnTo>
                  <a:lnTo>
                    <a:pt x="756" y="47"/>
                  </a:lnTo>
                  <a:lnTo>
                    <a:pt x="754" y="54"/>
                  </a:lnTo>
                  <a:lnTo>
                    <a:pt x="752" y="62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73440" y="5576760"/>
              <a:ext cx="244440" cy="19080"/>
            </a:xfrm>
            <a:custGeom>
              <a:avLst/>
              <a:gdLst/>
              <a:ahLst/>
              <a:rect l="l" t="t" r="r" b="b"/>
              <a:pathLst>
                <a:path w="768" h="61">
                  <a:moveTo>
                    <a:pt x="760" y="61"/>
                  </a:moveTo>
                  <a:lnTo>
                    <a:pt x="2" y="61"/>
                  </a:lnTo>
                  <a:lnTo>
                    <a:pt x="0" y="2"/>
                  </a:lnTo>
                  <a:lnTo>
                    <a:pt x="11" y="7"/>
                  </a:lnTo>
                  <a:lnTo>
                    <a:pt x="22" y="11"/>
                  </a:lnTo>
                  <a:lnTo>
                    <a:pt x="33" y="14"/>
                  </a:lnTo>
                  <a:lnTo>
                    <a:pt x="43" y="18"/>
                  </a:lnTo>
                  <a:lnTo>
                    <a:pt x="53" y="21"/>
                  </a:lnTo>
                  <a:lnTo>
                    <a:pt x="63" y="24"/>
                  </a:lnTo>
                  <a:lnTo>
                    <a:pt x="73" y="27"/>
                  </a:lnTo>
                  <a:lnTo>
                    <a:pt x="84" y="29"/>
                  </a:lnTo>
                  <a:lnTo>
                    <a:pt x="94" y="32"/>
                  </a:lnTo>
                  <a:lnTo>
                    <a:pt x="103" y="34"/>
                  </a:lnTo>
                  <a:lnTo>
                    <a:pt x="113" y="35"/>
                  </a:lnTo>
                  <a:lnTo>
                    <a:pt x="122" y="38"/>
                  </a:lnTo>
                  <a:lnTo>
                    <a:pt x="132" y="39"/>
                  </a:lnTo>
                  <a:lnTo>
                    <a:pt x="141" y="39"/>
                  </a:lnTo>
                  <a:lnTo>
                    <a:pt x="150" y="40"/>
                  </a:lnTo>
                  <a:lnTo>
                    <a:pt x="159" y="40"/>
                  </a:lnTo>
                  <a:lnTo>
                    <a:pt x="174" y="39"/>
                  </a:lnTo>
                  <a:lnTo>
                    <a:pt x="190" y="38"/>
                  </a:lnTo>
                  <a:lnTo>
                    <a:pt x="204" y="34"/>
                  </a:lnTo>
                  <a:lnTo>
                    <a:pt x="217" y="31"/>
                  </a:lnTo>
                  <a:lnTo>
                    <a:pt x="231" y="26"/>
                  </a:lnTo>
                  <a:lnTo>
                    <a:pt x="242" y="20"/>
                  </a:lnTo>
                  <a:lnTo>
                    <a:pt x="253" y="14"/>
                  </a:lnTo>
                  <a:lnTo>
                    <a:pt x="264" y="6"/>
                  </a:lnTo>
                  <a:lnTo>
                    <a:pt x="265" y="5"/>
                  </a:lnTo>
                  <a:lnTo>
                    <a:pt x="266" y="4"/>
                  </a:lnTo>
                  <a:lnTo>
                    <a:pt x="267" y="4"/>
                  </a:lnTo>
                  <a:lnTo>
                    <a:pt x="267" y="3"/>
                  </a:lnTo>
                  <a:lnTo>
                    <a:pt x="268" y="2"/>
                  </a:lnTo>
                  <a:lnTo>
                    <a:pt x="269" y="1"/>
                  </a:lnTo>
                  <a:lnTo>
                    <a:pt x="270" y="0"/>
                  </a:lnTo>
                  <a:lnTo>
                    <a:pt x="271" y="0"/>
                  </a:lnTo>
                  <a:lnTo>
                    <a:pt x="768" y="0"/>
                  </a:lnTo>
                  <a:lnTo>
                    <a:pt x="767" y="7"/>
                  </a:lnTo>
                  <a:lnTo>
                    <a:pt x="767" y="15"/>
                  </a:lnTo>
                  <a:lnTo>
                    <a:pt x="766" y="23"/>
                  </a:lnTo>
                  <a:lnTo>
                    <a:pt x="765" y="30"/>
                  </a:lnTo>
                  <a:lnTo>
                    <a:pt x="764" y="39"/>
                  </a:lnTo>
                  <a:lnTo>
                    <a:pt x="763" y="46"/>
                  </a:lnTo>
                  <a:lnTo>
                    <a:pt x="761" y="54"/>
                  </a:lnTo>
                  <a:lnTo>
                    <a:pt x="760" y="61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773440" y="5565600"/>
              <a:ext cx="244440" cy="20520"/>
            </a:xfrm>
            <a:custGeom>
              <a:avLst/>
              <a:gdLst/>
              <a:ahLst/>
              <a:rect l="l" t="t" r="r" b="b"/>
              <a:pathLst>
                <a:path w="769" h="62">
                  <a:moveTo>
                    <a:pt x="765" y="62"/>
                  </a:moveTo>
                  <a:lnTo>
                    <a:pt x="220" y="62"/>
                  </a:lnTo>
                  <a:lnTo>
                    <a:pt x="226" y="60"/>
                  </a:lnTo>
                  <a:lnTo>
                    <a:pt x="232" y="57"/>
                  </a:lnTo>
                  <a:lnTo>
                    <a:pt x="238" y="55"/>
                  </a:lnTo>
                  <a:lnTo>
                    <a:pt x="244" y="52"/>
                  </a:lnTo>
                  <a:lnTo>
                    <a:pt x="249" y="49"/>
                  </a:lnTo>
                  <a:lnTo>
                    <a:pt x="254" y="45"/>
                  </a:lnTo>
                  <a:lnTo>
                    <a:pt x="259" y="42"/>
                  </a:lnTo>
                  <a:lnTo>
                    <a:pt x="264" y="38"/>
                  </a:lnTo>
                  <a:lnTo>
                    <a:pt x="269" y="34"/>
                  </a:lnTo>
                  <a:lnTo>
                    <a:pt x="273" y="30"/>
                  </a:lnTo>
                  <a:lnTo>
                    <a:pt x="277" y="25"/>
                  </a:lnTo>
                  <a:lnTo>
                    <a:pt x="282" y="21"/>
                  </a:lnTo>
                  <a:lnTo>
                    <a:pt x="286" y="15"/>
                  </a:lnTo>
                  <a:lnTo>
                    <a:pt x="289" y="10"/>
                  </a:lnTo>
                  <a:lnTo>
                    <a:pt x="292" y="5"/>
                  </a:lnTo>
                  <a:lnTo>
                    <a:pt x="295" y="0"/>
                  </a:lnTo>
                  <a:lnTo>
                    <a:pt x="769" y="0"/>
                  </a:lnTo>
                  <a:lnTo>
                    <a:pt x="769" y="8"/>
                  </a:lnTo>
                  <a:lnTo>
                    <a:pt x="769" y="17"/>
                  </a:lnTo>
                  <a:lnTo>
                    <a:pt x="768" y="25"/>
                  </a:lnTo>
                  <a:lnTo>
                    <a:pt x="768" y="32"/>
                  </a:lnTo>
                  <a:lnTo>
                    <a:pt x="767" y="40"/>
                  </a:lnTo>
                  <a:lnTo>
                    <a:pt x="767" y="47"/>
                  </a:lnTo>
                  <a:lnTo>
                    <a:pt x="766" y="55"/>
                  </a:lnTo>
                  <a:lnTo>
                    <a:pt x="765" y="62"/>
                  </a:lnTo>
                  <a:close/>
                  <a:moveTo>
                    <a:pt x="86" y="62"/>
                  </a:moveTo>
                  <a:lnTo>
                    <a:pt x="1" y="62"/>
                  </a:lnTo>
                  <a:lnTo>
                    <a:pt x="0" y="34"/>
                  </a:lnTo>
                  <a:lnTo>
                    <a:pt x="11" y="39"/>
                  </a:lnTo>
                  <a:lnTo>
                    <a:pt x="22" y="43"/>
                  </a:lnTo>
                  <a:lnTo>
                    <a:pt x="33" y="46"/>
                  </a:lnTo>
                  <a:lnTo>
                    <a:pt x="43" y="50"/>
                  </a:lnTo>
                  <a:lnTo>
                    <a:pt x="53" y="53"/>
                  </a:lnTo>
                  <a:lnTo>
                    <a:pt x="63" y="56"/>
                  </a:lnTo>
                  <a:lnTo>
                    <a:pt x="73" y="59"/>
                  </a:lnTo>
                  <a:lnTo>
                    <a:pt x="84" y="61"/>
                  </a:lnTo>
                  <a:lnTo>
                    <a:pt x="84" y="62"/>
                  </a:lnTo>
                  <a:lnTo>
                    <a:pt x="85" y="62"/>
                  </a:lnTo>
                  <a:lnTo>
                    <a:pt x="85" y="62"/>
                  </a:lnTo>
                  <a:lnTo>
                    <a:pt x="85" y="62"/>
                  </a:lnTo>
                  <a:lnTo>
                    <a:pt x="85" y="62"/>
                  </a:lnTo>
                  <a:lnTo>
                    <a:pt x="86" y="62"/>
                  </a:lnTo>
                  <a:lnTo>
                    <a:pt x="86" y="62"/>
                  </a:lnTo>
                  <a:lnTo>
                    <a:pt x="86" y="62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860560" y="5556240"/>
              <a:ext cx="157320" cy="20520"/>
            </a:xfrm>
            <a:custGeom>
              <a:avLst/>
              <a:gdLst/>
              <a:ahLst/>
              <a:rect l="l" t="t" r="r" b="b"/>
              <a:pathLst>
                <a:path w="499" h="62">
                  <a:moveTo>
                    <a:pt x="497" y="62"/>
                  </a:moveTo>
                  <a:lnTo>
                    <a:pt x="0" y="62"/>
                  </a:lnTo>
                  <a:lnTo>
                    <a:pt x="6" y="55"/>
                  </a:lnTo>
                  <a:lnTo>
                    <a:pt x="13" y="48"/>
                  </a:lnTo>
                  <a:lnTo>
                    <a:pt x="18" y="40"/>
                  </a:lnTo>
                  <a:lnTo>
                    <a:pt x="22" y="33"/>
                  </a:lnTo>
                  <a:lnTo>
                    <a:pt x="26" y="25"/>
                  </a:lnTo>
                  <a:lnTo>
                    <a:pt x="29" y="17"/>
                  </a:lnTo>
                  <a:lnTo>
                    <a:pt x="31" y="9"/>
                  </a:lnTo>
                  <a:lnTo>
                    <a:pt x="33" y="0"/>
                  </a:lnTo>
                  <a:lnTo>
                    <a:pt x="498" y="0"/>
                  </a:lnTo>
                  <a:lnTo>
                    <a:pt x="498" y="2"/>
                  </a:lnTo>
                  <a:lnTo>
                    <a:pt x="498" y="3"/>
                  </a:lnTo>
                  <a:lnTo>
                    <a:pt x="498" y="5"/>
                  </a:lnTo>
                  <a:lnTo>
                    <a:pt x="498" y="6"/>
                  </a:lnTo>
                  <a:lnTo>
                    <a:pt x="498" y="8"/>
                  </a:lnTo>
                  <a:lnTo>
                    <a:pt x="498" y="10"/>
                  </a:lnTo>
                  <a:lnTo>
                    <a:pt x="498" y="11"/>
                  </a:lnTo>
                  <a:lnTo>
                    <a:pt x="499" y="13"/>
                  </a:lnTo>
                  <a:lnTo>
                    <a:pt x="499" y="16"/>
                  </a:lnTo>
                  <a:lnTo>
                    <a:pt x="498" y="22"/>
                  </a:lnTo>
                  <a:lnTo>
                    <a:pt x="498" y="28"/>
                  </a:lnTo>
                  <a:lnTo>
                    <a:pt x="498" y="33"/>
                  </a:lnTo>
                  <a:lnTo>
                    <a:pt x="498" y="39"/>
                  </a:lnTo>
                  <a:lnTo>
                    <a:pt x="498" y="44"/>
                  </a:lnTo>
                  <a:lnTo>
                    <a:pt x="498" y="51"/>
                  </a:lnTo>
                  <a:lnTo>
                    <a:pt x="497" y="56"/>
                  </a:lnTo>
                  <a:lnTo>
                    <a:pt x="497" y="62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867040" y="5546520"/>
              <a:ext cx="150840" cy="19080"/>
            </a:xfrm>
            <a:custGeom>
              <a:avLst/>
              <a:gdLst/>
              <a:ahLst/>
              <a:rect l="l" t="t" r="r" b="b"/>
              <a:pathLst>
                <a:path w="475" h="61">
                  <a:moveTo>
                    <a:pt x="474" y="61"/>
                  </a:moveTo>
                  <a:lnTo>
                    <a:pt x="0" y="61"/>
                  </a:lnTo>
                  <a:lnTo>
                    <a:pt x="2" y="56"/>
                  </a:lnTo>
                  <a:lnTo>
                    <a:pt x="4" y="51"/>
                  </a:lnTo>
                  <a:lnTo>
                    <a:pt x="6" y="45"/>
                  </a:lnTo>
                  <a:lnTo>
                    <a:pt x="7" y="40"/>
                  </a:lnTo>
                  <a:lnTo>
                    <a:pt x="8" y="34"/>
                  </a:lnTo>
                  <a:lnTo>
                    <a:pt x="9" y="28"/>
                  </a:lnTo>
                  <a:lnTo>
                    <a:pt x="9" y="21"/>
                  </a:lnTo>
                  <a:lnTo>
                    <a:pt x="10" y="15"/>
                  </a:lnTo>
                  <a:lnTo>
                    <a:pt x="10" y="13"/>
                  </a:lnTo>
                  <a:lnTo>
                    <a:pt x="10" y="12"/>
                  </a:lnTo>
                  <a:lnTo>
                    <a:pt x="9" y="10"/>
                  </a:lnTo>
                  <a:lnTo>
                    <a:pt x="9" y="8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2"/>
                  </a:lnTo>
                  <a:lnTo>
                    <a:pt x="8" y="0"/>
                  </a:lnTo>
                  <a:lnTo>
                    <a:pt x="472" y="0"/>
                  </a:lnTo>
                  <a:lnTo>
                    <a:pt x="473" y="5"/>
                  </a:lnTo>
                  <a:lnTo>
                    <a:pt x="473" y="11"/>
                  </a:lnTo>
                  <a:lnTo>
                    <a:pt x="474" y="16"/>
                  </a:lnTo>
                  <a:lnTo>
                    <a:pt x="474" y="21"/>
                  </a:lnTo>
                  <a:lnTo>
                    <a:pt x="474" y="28"/>
                  </a:lnTo>
                  <a:lnTo>
                    <a:pt x="474" y="33"/>
                  </a:lnTo>
                  <a:lnTo>
                    <a:pt x="474" y="38"/>
                  </a:lnTo>
                  <a:lnTo>
                    <a:pt x="475" y="44"/>
                  </a:lnTo>
                  <a:lnTo>
                    <a:pt x="475" y="47"/>
                  </a:lnTo>
                  <a:lnTo>
                    <a:pt x="474" y="49"/>
                  </a:lnTo>
                  <a:lnTo>
                    <a:pt x="474" y="51"/>
                  </a:lnTo>
                  <a:lnTo>
                    <a:pt x="474" y="53"/>
                  </a:lnTo>
                  <a:lnTo>
                    <a:pt x="474" y="54"/>
                  </a:lnTo>
                  <a:lnTo>
                    <a:pt x="474" y="56"/>
                  </a:lnTo>
                  <a:lnTo>
                    <a:pt x="474" y="58"/>
                  </a:lnTo>
                  <a:lnTo>
                    <a:pt x="474" y="60"/>
                  </a:lnTo>
                  <a:lnTo>
                    <a:pt x="474" y="61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67040" y="5537160"/>
              <a:ext cx="150840" cy="19080"/>
            </a:xfrm>
            <a:custGeom>
              <a:avLst/>
              <a:gdLst/>
              <a:ahLst/>
              <a:rect l="l" t="t" r="r" b="b"/>
              <a:pathLst>
                <a:path w="476" h="62">
                  <a:moveTo>
                    <a:pt x="476" y="62"/>
                  </a:moveTo>
                  <a:lnTo>
                    <a:pt x="11" y="62"/>
                  </a:lnTo>
                  <a:lnTo>
                    <a:pt x="11" y="60"/>
                  </a:lnTo>
                  <a:lnTo>
                    <a:pt x="11" y="59"/>
                  </a:lnTo>
                  <a:lnTo>
                    <a:pt x="11" y="57"/>
                  </a:lnTo>
                  <a:lnTo>
                    <a:pt x="11" y="54"/>
                  </a:lnTo>
                  <a:lnTo>
                    <a:pt x="11" y="52"/>
                  </a:lnTo>
                  <a:lnTo>
                    <a:pt x="12" y="50"/>
                  </a:lnTo>
                  <a:lnTo>
                    <a:pt x="12" y="48"/>
                  </a:lnTo>
                  <a:lnTo>
                    <a:pt x="12" y="46"/>
                  </a:lnTo>
                  <a:lnTo>
                    <a:pt x="11" y="41"/>
                  </a:lnTo>
                  <a:lnTo>
                    <a:pt x="11" y="36"/>
                  </a:lnTo>
                  <a:lnTo>
                    <a:pt x="10" y="30"/>
                  </a:lnTo>
                  <a:lnTo>
                    <a:pt x="9" y="24"/>
                  </a:lnTo>
                  <a:lnTo>
                    <a:pt x="7" y="19"/>
                  </a:lnTo>
                  <a:lnTo>
                    <a:pt x="5" y="13"/>
                  </a:lnTo>
                  <a:lnTo>
                    <a:pt x="3" y="7"/>
                  </a:lnTo>
                  <a:lnTo>
                    <a:pt x="0" y="0"/>
                  </a:lnTo>
                  <a:lnTo>
                    <a:pt x="471" y="0"/>
                  </a:lnTo>
                  <a:lnTo>
                    <a:pt x="472" y="8"/>
                  </a:lnTo>
                  <a:lnTo>
                    <a:pt x="473" y="16"/>
                  </a:lnTo>
                  <a:lnTo>
                    <a:pt x="474" y="23"/>
                  </a:lnTo>
                  <a:lnTo>
                    <a:pt x="474" y="31"/>
                  </a:lnTo>
                  <a:lnTo>
                    <a:pt x="475" y="38"/>
                  </a:lnTo>
                  <a:lnTo>
                    <a:pt x="476" y="46"/>
                  </a:lnTo>
                  <a:lnTo>
                    <a:pt x="476" y="53"/>
                  </a:lnTo>
                  <a:lnTo>
                    <a:pt x="476" y="62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860560" y="5527440"/>
              <a:ext cx="157320" cy="19080"/>
            </a:xfrm>
            <a:custGeom>
              <a:avLst/>
              <a:gdLst/>
              <a:ahLst/>
              <a:rect l="l" t="t" r="r" b="b"/>
              <a:pathLst>
                <a:path w="492" h="62">
                  <a:moveTo>
                    <a:pt x="492" y="62"/>
                  </a:moveTo>
                  <a:lnTo>
                    <a:pt x="28" y="62"/>
                  </a:lnTo>
                  <a:lnTo>
                    <a:pt x="27" y="55"/>
                  </a:lnTo>
                  <a:lnTo>
                    <a:pt x="25" y="48"/>
                  </a:lnTo>
                  <a:lnTo>
                    <a:pt x="22" y="41"/>
                  </a:lnTo>
                  <a:lnTo>
                    <a:pt x="19" y="32"/>
                  </a:lnTo>
                  <a:lnTo>
                    <a:pt x="15" y="24"/>
                  </a:lnTo>
                  <a:lnTo>
                    <a:pt x="11" y="17"/>
                  </a:lnTo>
                  <a:lnTo>
                    <a:pt x="6" y="9"/>
                  </a:lnTo>
                  <a:lnTo>
                    <a:pt x="0" y="0"/>
                  </a:lnTo>
                  <a:lnTo>
                    <a:pt x="483" y="0"/>
                  </a:lnTo>
                  <a:lnTo>
                    <a:pt x="485" y="8"/>
                  </a:lnTo>
                  <a:lnTo>
                    <a:pt x="486" y="15"/>
                  </a:lnTo>
                  <a:lnTo>
                    <a:pt x="488" y="23"/>
                  </a:lnTo>
                  <a:lnTo>
                    <a:pt x="489" y="30"/>
                  </a:lnTo>
                  <a:lnTo>
                    <a:pt x="490" y="39"/>
                  </a:lnTo>
                  <a:lnTo>
                    <a:pt x="491" y="47"/>
                  </a:lnTo>
                  <a:lnTo>
                    <a:pt x="492" y="54"/>
                  </a:lnTo>
                  <a:lnTo>
                    <a:pt x="492" y="62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854440" y="5518080"/>
              <a:ext cx="161640" cy="19080"/>
            </a:xfrm>
            <a:custGeom>
              <a:avLst/>
              <a:gdLst/>
              <a:ahLst/>
              <a:rect l="l" t="t" r="r" b="b"/>
              <a:pathLst>
                <a:path w="512" h="62">
                  <a:moveTo>
                    <a:pt x="512" y="62"/>
                  </a:moveTo>
                  <a:lnTo>
                    <a:pt x="41" y="62"/>
                  </a:lnTo>
                  <a:lnTo>
                    <a:pt x="38" y="55"/>
                  </a:lnTo>
                  <a:lnTo>
                    <a:pt x="34" y="47"/>
                  </a:lnTo>
                  <a:lnTo>
                    <a:pt x="30" y="40"/>
                  </a:lnTo>
                  <a:lnTo>
                    <a:pt x="24" y="33"/>
                  </a:lnTo>
                  <a:lnTo>
                    <a:pt x="19" y="25"/>
                  </a:lnTo>
                  <a:lnTo>
                    <a:pt x="13" y="17"/>
                  </a:lnTo>
                  <a:lnTo>
                    <a:pt x="7" y="8"/>
                  </a:lnTo>
                  <a:lnTo>
                    <a:pt x="0" y="0"/>
                  </a:lnTo>
                  <a:lnTo>
                    <a:pt x="499" y="0"/>
                  </a:lnTo>
                  <a:lnTo>
                    <a:pt x="501" y="8"/>
                  </a:lnTo>
                  <a:lnTo>
                    <a:pt x="503" y="16"/>
                  </a:lnTo>
                  <a:lnTo>
                    <a:pt x="504" y="24"/>
                  </a:lnTo>
                  <a:lnTo>
                    <a:pt x="506" y="31"/>
                  </a:lnTo>
                  <a:lnTo>
                    <a:pt x="508" y="39"/>
                  </a:lnTo>
                  <a:lnTo>
                    <a:pt x="509" y="46"/>
                  </a:lnTo>
                  <a:lnTo>
                    <a:pt x="511" y="54"/>
                  </a:lnTo>
                  <a:lnTo>
                    <a:pt x="512" y="62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844720" y="5508360"/>
              <a:ext cx="169920" cy="19080"/>
            </a:xfrm>
            <a:custGeom>
              <a:avLst/>
              <a:gdLst/>
              <a:ahLst/>
              <a:rect l="l" t="t" r="r" b="b"/>
              <a:pathLst>
                <a:path w="535" h="61">
                  <a:moveTo>
                    <a:pt x="535" y="61"/>
                  </a:moveTo>
                  <a:lnTo>
                    <a:pt x="52" y="61"/>
                  </a:lnTo>
                  <a:lnTo>
                    <a:pt x="47" y="54"/>
                  </a:lnTo>
                  <a:lnTo>
                    <a:pt x="42" y="47"/>
                  </a:lnTo>
                  <a:lnTo>
                    <a:pt x="36" y="39"/>
                  </a:lnTo>
                  <a:lnTo>
                    <a:pt x="30" y="31"/>
                  </a:lnTo>
                  <a:lnTo>
                    <a:pt x="23" y="24"/>
                  </a:lnTo>
                  <a:lnTo>
                    <a:pt x="16" y="16"/>
                  </a:lnTo>
                  <a:lnTo>
                    <a:pt x="9" y="8"/>
                  </a:lnTo>
                  <a:lnTo>
                    <a:pt x="0" y="0"/>
                  </a:lnTo>
                  <a:lnTo>
                    <a:pt x="518" y="0"/>
                  </a:lnTo>
                  <a:lnTo>
                    <a:pt x="520" y="7"/>
                  </a:lnTo>
                  <a:lnTo>
                    <a:pt x="523" y="15"/>
                  </a:lnTo>
                  <a:lnTo>
                    <a:pt x="525" y="22"/>
                  </a:lnTo>
                  <a:lnTo>
                    <a:pt x="527" y="30"/>
                  </a:lnTo>
                  <a:lnTo>
                    <a:pt x="530" y="37"/>
                  </a:lnTo>
                  <a:lnTo>
                    <a:pt x="532" y="46"/>
                  </a:lnTo>
                  <a:lnTo>
                    <a:pt x="533" y="54"/>
                  </a:lnTo>
                  <a:lnTo>
                    <a:pt x="535" y="61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835360" y="5497200"/>
              <a:ext cx="177840" cy="20880"/>
            </a:xfrm>
            <a:custGeom>
              <a:avLst/>
              <a:gdLst/>
              <a:ahLst/>
              <a:rect l="l" t="t" r="r" b="b"/>
              <a:pathLst>
                <a:path w="559" h="61">
                  <a:moveTo>
                    <a:pt x="559" y="61"/>
                  </a:moveTo>
                  <a:lnTo>
                    <a:pt x="60" y="61"/>
                  </a:lnTo>
                  <a:lnTo>
                    <a:pt x="54" y="54"/>
                  </a:lnTo>
                  <a:lnTo>
                    <a:pt x="48" y="47"/>
                  </a:lnTo>
                  <a:lnTo>
                    <a:pt x="41" y="40"/>
                  </a:lnTo>
                  <a:lnTo>
                    <a:pt x="33" y="33"/>
                  </a:lnTo>
                  <a:lnTo>
                    <a:pt x="26" y="25"/>
                  </a:lnTo>
                  <a:lnTo>
                    <a:pt x="18" y="17"/>
                  </a:lnTo>
                  <a:lnTo>
                    <a:pt x="10" y="9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535" y="0"/>
                  </a:lnTo>
                  <a:lnTo>
                    <a:pt x="539" y="7"/>
                  </a:lnTo>
                  <a:lnTo>
                    <a:pt x="542" y="15"/>
                  </a:lnTo>
                  <a:lnTo>
                    <a:pt x="546" y="23"/>
                  </a:lnTo>
                  <a:lnTo>
                    <a:pt x="549" y="31"/>
                  </a:lnTo>
                  <a:lnTo>
                    <a:pt x="551" y="38"/>
                  </a:lnTo>
                  <a:lnTo>
                    <a:pt x="554" y="46"/>
                  </a:lnTo>
                  <a:lnTo>
                    <a:pt x="556" y="54"/>
                  </a:lnTo>
                  <a:lnTo>
                    <a:pt x="559" y="61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24200" y="5487840"/>
              <a:ext cx="185760" cy="20520"/>
            </a:xfrm>
            <a:custGeom>
              <a:avLst/>
              <a:gdLst/>
              <a:ahLst/>
              <a:rect l="l" t="t" r="r" b="b"/>
              <a:pathLst>
                <a:path w="583" h="62">
                  <a:moveTo>
                    <a:pt x="583" y="62"/>
                  </a:moveTo>
                  <a:lnTo>
                    <a:pt x="65" y="62"/>
                  </a:lnTo>
                  <a:lnTo>
                    <a:pt x="62" y="59"/>
                  </a:lnTo>
                  <a:lnTo>
                    <a:pt x="58" y="55"/>
                  </a:lnTo>
                  <a:lnTo>
                    <a:pt x="55" y="52"/>
                  </a:lnTo>
                  <a:lnTo>
                    <a:pt x="51" y="47"/>
                  </a:lnTo>
                  <a:lnTo>
                    <a:pt x="48" y="44"/>
                  </a:lnTo>
                  <a:lnTo>
                    <a:pt x="44" y="40"/>
                  </a:lnTo>
                  <a:lnTo>
                    <a:pt x="40" y="36"/>
                  </a:lnTo>
                  <a:lnTo>
                    <a:pt x="36" y="33"/>
                  </a:lnTo>
                  <a:lnTo>
                    <a:pt x="31" y="28"/>
                  </a:lnTo>
                  <a:lnTo>
                    <a:pt x="26" y="24"/>
                  </a:lnTo>
                  <a:lnTo>
                    <a:pt x="22" y="20"/>
                  </a:lnTo>
                  <a:lnTo>
                    <a:pt x="16" y="16"/>
                  </a:lnTo>
                  <a:lnTo>
                    <a:pt x="12" y="12"/>
                  </a:lnTo>
                  <a:lnTo>
                    <a:pt x="8" y="8"/>
                  </a:lnTo>
                  <a:lnTo>
                    <a:pt x="4" y="4"/>
                  </a:lnTo>
                  <a:lnTo>
                    <a:pt x="0" y="0"/>
                  </a:lnTo>
                  <a:lnTo>
                    <a:pt x="555" y="0"/>
                  </a:lnTo>
                  <a:lnTo>
                    <a:pt x="556" y="3"/>
                  </a:lnTo>
                  <a:lnTo>
                    <a:pt x="558" y="6"/>
                  </a:lnTo>
                  <a:lnTo>
                    <a:pt x="559" y="9"/>
                  </a:lnTo>
                  <a:lnTo>
                    <a:pt x="561" y="12"/>
                  </a:lnTo>
                  <a:lnTo>
                    <a:pt x="562" y="15"/>
                  </a:lnTo>
                  <a:lnTo>
                    <a:pt x="563" y="18"/>
                  </a:lnTo>
                  <a:lnTo>
                    <a:pt x="565" y="21"/>
                  </a:lnTo>
                  <a:lnTo>
                    <a:pt x="566" y="24"/>
                  </a:lnTo>
                  <a:lnTo>
                    <a:pt x="568" y="29"/>
                  </a:lnTo>
                  <a:lnTo>
                    <a:pt x="570" y="33"/>
                  </a:lnTo>
                  <a:lnTo>
                    <a:pt x="572" y="38"/>
                  </a:lnTo>
                  <a:lnTo>
                    <a:pt x="574" y="42"/>
                  </a:lnTo>
                  <a:lnTo>
                    <a:pt x="576" y="47"/>
                  </a:lnTo>
                  <a:lnTo>
                    <a:pt x="578" y="53"/>
                  </a:lnTo>
                  <a:lnTo>
                    <a:pt x="581" y="57"/>
                  </a:lnTo>
                  <a:lnTo>
                    <a:pt x="583" y="62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814480" y="5478480"/>
              <a:ext cx="190800" cy="18720"/>
            </a:xfrm>
            <a:custGeom>
              <a:avLst/>
              <a:gdLst/>
              <a:ahLst/>
              <a:rect l="l" t="t" r="r" b="b"/>
              <a:pathLst>
                <a:path w="599" h="62">
                  <a:moveTo>
                    <a:pt x="599" y="62"/>
                  </a:moveTo>
                  <a:lnTo>
                    <a:pt x="64" y="62"/>
                  </a:lnTo>
                  <a:lnTo>
                    <a:pt x="55" y="54"/>
                  </a:lnTo>
                  <a:lnTo>
                    <a:pt x="46" y="46"/>
                  </a:lnTo>
                  <a:lnTo>
                    <a:pt x="38" y="39"/>
                  </a:lnTo>
                  <a:lnTo>
                    <a:pt x="31" y="33"/>
                  </a:lnTo>
                  <a:lnTo>
                    <a:pt x="25" y="25"/>
                  </a:lnTo>
                  <a:lnTo>
                    <a:pt x="19" y="20"/>
                  </a:lnTo>
                  <a:lnTo>
                    <a:pt x="13" y="14"/>
                  </a:lnTo>
                  <a:lnTo>
                    <a:pt x="8" y="9"/>
                  </a:lnTo>
                  <a:lnTo>
                    <a:pt x="7" y="8"/>
                  </a:lnTo>
                  <a:lnTo>
                    <a:pt x="6" y="7"/>
                  </a:lnTo>
                  <a:lnTo>
                    <a:pt x="5" y="6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567" y="0"/>
                  </a:lnTo>
                  <a:lnTo>
                    <a:pt x="571" y="7"/>
                  </a:lnTo>
                  <a:lnTo>
                    <a:pt x="575" y="13"/>
                  </a:lnTo>
                  <a:lnTo>
                    <a:pt x="579" y="20"/>
                  </a:lnTo>
                  <a:lnTo>
                    <a:pt x="583" y="27"/>
                  </a:lnTo>
                  <a:lnTo>
                    <a:pt x="586" y="34"/>
                  </a:lnTo>
                  <a:lnTo>
                    <a:pt x="590" y="41"/>
                  </a:lnTo>
                  <a:lnTo>
                    <a:pt x="593" y="48"/>
                  </a:lnTo>
                  <a:lnTo>
                    <a:pt x="596" y="55"/>
                  </a:lnTo>
                  <a:lnTo>
                    <a:pt x="597" y="56"/>
                  </a:lnTo>
                  <a:lnTo>
                    <a:pt x="597" y="57"/>
                  </a:lnTo>
                  <a:lnTo>
                    <a:pt x="597" y="57"/>
                  </a:lnTo>
                  <a:lnTo>
                    <a:pt x="598" y="58"/>
                  </a:lnTo>
                  <a:lnTo>
                    <a:pt x="598" y="59"/>
                  </a:lnTo>
                  <a:lnTo>
                    <a:pt x="599" y="60"/>
                  </a:lnTo>
                  <a:lnTo>
                    <a:pt x="599" y="61"/>
                  </a:lnTo>
                  <a:lnTo>
                    <a:pt x="599" y="62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805120" y="5468760"/>
              <a:ext cx="195120" cy="19080"/>
            </a:xfrm>
            <a:custGeom>
              <a:avLst/>
              <a:gdLst/>
              <a:ahLst/>
              <a:rect l="l" t="t" r="r" b="b"/>
              <a:pathLst>
                <a:path w="614" h="62">
                  <a:moveTo>
                    <a:pt x="614" y="62"/>
                  </a:moveTo>
                  <a:lnTo>
                    <a:pt x="59" y="62"/>
                  </a:lnTo>
                  <a:lnTo>
                    <a:pt x="56" y="58"/>
                  </a:lnTo>
                  <a:lnTo>
                    <a:pt x="53" y="56"/>
                  </a:lnTo>
                  <a:lnTo>
                    <a:pt x="50" y="53"/>
                  </a:lnTo>
                  <a:lnTo>
                    <a:pt x="47" y="50"/>
                  </a:lnTo>
                  <a:lnTo>
                    <a:pt x="45" y="47"/>
                  </a:lnTo>
                  <a:lnTo>
                    <a:pt x="42" y="45"/>
                  </a:lnTo>
                  <a:lnTo>
                    <a:pt x="40" y="42"/>
                  </a:lnTo>
                  <a:lnTo>
                    <a:pt x="37" y="40"/>
                  </a:lnTo>
                  <a:lnTo>
                    <a:pt x="32" y="35"/>
                  </a:lnTo>
                  <a:lnTo>
                    <a:pt x="28" y="30"/>
                  </a:lnTo>
                  <a:lnTo>
                    <a:pt x="22" y="25"/>
                  </a:lnTo>
                  <a:lnTo>
                    <a:pt x="18" y="21"/>
                  </a:lnTo>
                  <a:lnTo>
                    <a:pt x="13" y="16"/>
                  </a:lnTo>
                  <a:lnTo>
                    <a:pt x="9" y="11"/>
                  </a:lnTo>
                  <a:lnTo>
                    <a:pt x="5" y="5"/>
                  </a:lnTo>
                  <a:lnTo>
                    <a:pt x="0" y="0"/>
                  </a:lnTo>
                  <a:lnTo>
                    <a:pt x="575" y="0"/>
                  </a:lnTo>
                  <a:lnTo>
                    <a:pt x="580" y="7"/>
                  </a:lnTo>
                  <a:lnTo>
                    <a:pt x="585" y="16"/>
                  </a:lnTo>
                  <a:lnTo>
                    <a:pt x="591" y="23"/>
                  </a:lnTo>
                  <a:lnTo>
                    <a:pt x="596" y="31"/>
                  </a:lnTo>
                  <a:lnTo>
                    <a:pt x="600" y="38"/>
                  </a:lnTo>
                  <a:lnTo>
                    <a:pt x="605" y="46"/>
                  </a:lnTo>
                  <a:lnTo>
                    <a:pt x="609" y="54"/>
                  </a:lnTo>
                  <a:lnTo>
                    <a:pt x="614" y="62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797200" y="5459400"/>
              <a:ext cx="196920" cy="19080"/>
            </a:xfrm>
            <a:custGeom>
              <a:avLst/>
              <a:gdLst/>
              <a:ahLst/>
              <a:rect l="l" t="t" r="r" b="b"/>
              <a:pathLst>
                <a:path w="620" h="61">
                  <a:moveTo>
                    <a:pt x="620" y="61"/>
                  </a:moveTo>
                  <a:lnTo>
                    <a:pt x="53" y="61"/>
                  </a:lnTo>
                  <a:lnTo>
                    <a:pt x="45" y="54"/>
                  </a:lnTo>
                  <a:lnTo>
                    <a:pt x="38" y="46"/>
                  </a:lnTo>
                  <a:lnTo>
                    <a:pt x="31" y="39"/>
                  </a:lnTo>
                  <a:lnTo>
                    <a:pt x="25" y="30"/>
                  </a:lnTo>
                  <a:lnTo>
                    <a:pt x="18" y="23"/>
                  </a:lnTo>
                  <a:lnTo>
                    <a:pt x="12" y="15"/>
                  </a:lnTo>
                  <a:lnTo>
                    <a:pt x="6" y="7"/>
                  </a:lnTo>
                  <a:lnTo>
                    <a:pt x="0" y="0"/>
                  </a:lnTo>
                  <a:lnTo>
                    <a:pt x="574" y="0"/>
                  </a:lnTo>
                  <a:lnTo>
                    <a:pt x="581" y="7"/>
                  </a:lnTo>
                  <a:lnTo>
                    <a:pt x="586" y="14"/>
                  </a:lnTo>
                  <a:lnTo>
                    <a:pt x="592" y="22"/>
                  </a:lnTo>
                  <a:lnTo>
                    <a:pt x="598" y="29"/>
                  </a:lnTo>
                  <a:lnTo>
                    <a:pt x="604" y="37"/>
                  </a:lnTo>
                  <a:lnTo>
                    <a:pt x="609" y="46"/>
                  </a:lnTo>
                  <a:lnTo>
                    <a:pt x="615" y="53"/>
                  </a:lnTo>
                  <a:lnTo>
                    <a:pt x="620" y="61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790720" y="5449680"/>
              <a:ext cx="196920" cy="19080"/>
            </a:xfrm>
            <a:custGeom>
              <a:avLst/>
              <a:gdLst/>
              <a:ahLst/>
              <a:rect l="l" t="t" r="r" b="b"/>
              <a:pathLst>
                <a:path w="620" h="61">
                  <a:moveTo>
                    <a:pt x="620" y="61"/>
                  </a:moveTo>
                  <a:lnTo>
                    <a:pt x="45" y="61"/>
                  </a:lnTo>
                  <a:lnTo>
                    <a:pt x="39" y="54"/>
                  </a:lnTo>
                  <a:lnTo>
                    <a:pt x="33" y="46"/>
                  </a:lnTo>
                  <a:lnTo>
                    <a:pt x="27" y="38"/>
                  </a:lnTo>
                  <a:lnTo>
                    <a:pt x="22" y="31"/>
                  </a:lnTo>
                  <a:lnTo>
                    <a:pt x="15" y="23"/>
                  </a:lnTo>
                  <a:lnTo>
                    <a:pt x="10" y="15"/>
                  </a:lnTo>
                  <a:lnTo>
                    <a:pt x="5" y="7"/>
                  </a:lnTo>
                  <a:lnTo>
                    <a:pt x="0" y="0"/>
                  </a:lnTo>
                  <a:lnTo>
                    <a:pt x="566" y="0"/>
                  </a:lnTo>
                  <a:lnTo>
                    <a:pt x="573" y="7"/>
                  </a:lnTo>
                  <a:lnTo>
                    <a:pt x="580" y="14"/>
                  </a:lnTo>
                  <a:lnTo>
                    <a:pt x="588" y="22"/>
                  </a:lnTo>
                  <a:lnTo>
                    <a:pt x="595" y="30"/>
                  </a:lnTo>
                  <a:lnTo>
                    <a:pt x="601" y="38"/>
                  </a:lnTo>
                  <a:lnTo>
                    <a:pt x="607" y="45"/>
                  </a:lnTo>
                  <a:lnTo>
                    <a:pt x="614" y="53"/>
                  </a:lnTo>
                  <a:lnTo>
                    <a:pt x="620" y="61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86040" y="5438520"/>
              <a:ext cx="193680" cy="20880"/>
            </a:xfrm>
            <a:custGeom>
              <a:avLst/>
              <a:gdLst/>
              <a:ahLst/>
              <a:rect l="l" t="t" r="r" b="b"/>
              <a:pathLst>
                <a:path w="613" h="62">
                  <a:moveTo>
                    <a:pt x="613" y="62"/>
                  </a:moveTo>
                  <a:lnTo>
                    <a:pt x="39" y="62"/>
                  </a:lnTo>
                  <a:lnTo>
                    <a:pt x="33" y="54"/>
                  </a:lnTo>
                  <a:lnTo>
                    <a:pt x="28" y="46"/>
                  </a:lnTo>
                  <a:lnTo>
                    <a:pt x="23" y="38"/>
                  </a:lnTo>
                  <a:lnTo>
                    <a:pt x="18" y="31"/>
                  </a:lnTo>
                  <a:lnTo>
                    <a:pt x="13" y="23"/>
                  </a:lnTo>
                  <a:lnTo>
                    <a:pt x="8" y="16"/>
                  </a:lnTo>
                  <a:lnTo>
                    <a:pt x="4" y="8"/>
                  </a:lnTo>
                  <a:lnTo>
                    <a:pt x="0" y="0"/>
                  </a:lnTo>
                  <a:lnTo>
                    <a:pt x="551" y="0"/>
                  </a:lnTo>
                  <a:lnTo>
                    <a:pt x="552" y="1"/>
                  </a:lnTo>
                  <a:lnTo>
                    <a:pt x="553" y="2"/>
                  </a:lnTo>
                  <a:lnTo>
                    <a:pt x="553" y="2"/>
                  </a:lnTo>
                  <a:lnTo>
                    <a:pt x="554" y="3"/>
                  </a:lnTo>
                  <a:lnTo>
                    <a:pt x="555" y="4"/>
                  </a:lnTo>
                  <a:lnTo>
                    <a:pt x="555" y="4"/>
                  </a:lnTo>
                  <a:lnTo>
                    <a:pt x="556" y="5"/>
                  </a:lnTo>
                  <a:lnTo>
                    <a:pt x="557" y="5"/>
                  </a:lnTo>
                  <a:lnTo>
                    <a:pt x="564" y="12"/>
                  </a:lnTo>
                  <a:lnTo>
                    <a:pt x="572" y="19"/>
                  </a:lnTo>
                  <a:lnTo>
                    <a:pt x="579" y="25"/>
                  </a:lnTo>
                  <a:lnTo>
                    <a:pt x="586" y="32"/>
                  </a:lnTo>
                  <a:lnTo>
                    <a:pt x="593" y="39"/>
                  </a:lnTo>
                  <a:lnTo>
                    <a:pt x="600" y="46"/>
                  </a:lnTo>
                  <a:lnTo>
                    <a:pt x="607" y="55"/>
                  </a:lnTo>
                  <a:lnTo>
                    <a:pt x="613" y="62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779560" y="5429160"/>
              <a:ext cx="190800" cy="20520"/>
            </a:xfrm>
            <a:custGeom>
              <a:avLst/>
              <a:gdLst/>
              <a:ahLst/>
              <a:rect l="l" t="t" r="r" b="b"/>
              <a:pathLst>
                <a:path w="601" h="62">
                  <a:moveTo>
                    <a:pt x="601" y="62"/>
                  </a:moveTo>
                  <a:lnTo>
                    <a:pt x="35" y="62"/>
                  </a:lnTo>
                  <a:lnTo>
                    <a:pt x="30" y="54"/>
                  </a:lnTo>
                  <a:lnTo>
                    <a:pt x="25" y="47"/>
                  </a:lnTo>
                  <a:lnTo>
                    <a:pt x="21" y="39"/>
                  </a:lnTo>
                  <a:lnTo>
                    <a:pt x="17" y="31"/>
                  </a:lnTo>
                  <a:lnTo>
                    <a:pt x="13" y="23"/>
                  </a:lnTo>
                  <a:lnTo>
                    <a:pt x="9" y="15"/>
                  </a:lnTo>
                  <a:lnTo>
                    <a:pt x="5" y="8"/>
                  </a:lnTo>
                  <a:lnTo>
                    <a:pt x="0" y="0"/>
                  </a:lnTo>
                  <a:lnTo>
                    <a:pt x="531" y="0"/>
                  </a:lnTo>
                  <a:lnTo>
                    <a:pt x="537" y="5"/>
                  </a:lnTo>
                  <a:lnTo>
                    <a:pt x="543" y="10"/>
                  </a:lnTo>
                  <a:lnTo>
                    <a:pt x="549" y="15"/>
                  </a:lnTo>
                  <a:lnTo>
                    <a:pt x="554" y="20"/>
                  </a:lnTo>
                  <a:lnTo>
                    <a:pt x="559" y="24"/>
                  </a:lnTo>
                  <a:lnTo>
                    <a:pt x="564" y="29"/>
                  </a:lnTo>
                  <a:lnTo>
                    <a:pt x="570" y="33"/>
                  </a:lnTo>
                  <a:lnTo>
                    <a:pt x="574" y="36"/>
                  </a:lnTo>
                  <a:lnTo>
                    <a:pt x="577" y="39"/>
                  </a:lnTo>
                  <a:lnTo>
                    <a:pt x="581" y="43"/>
                  </a:lnTo>
                  <a:lnTo>
                    <a:pt x="584" y="46"/>
                  </a:lnTo>
                  <a:lnTo>
                    <a:pt x="588" y="49"/>
                  </a:lnTo>
                  <a:lnTo>
                    <a:pt x="591" y="52"/>
                  </a:lnTo>
                  <a:lnTo>
                    <a:pt x="594" y="55"/>
                  </a:lnTo>
                  <a:lnTo>
                    <a:pt x="598" y="58"/>
                  </a:lnTo>
                  <a:lnTo>
                    <a:pt x="601" y="62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776680" y="5419440"/>
              <a:ext cx="183960" cy="19080"/>
            </a:xfrm>
            <a:custGeom>
              <a:avLst/>
              <a:gdLst/>
              <a:ahLst/>
              <a:rect l="l" t="t" r="r" b="b"/>
              <a:pathLst>
                <a:path w="580" h="62">
                  <a:moveTo>
                    <a:pt x="580" y="62"/>
                  </a:moveTo>
                  <a:lnTo>
                    <a:pt x="29" y="62"/>
                  </a:lnTo>
                  <a:lnTo>
                    <a:pt x="26" y="58"/>
                  </a:lnTo>
                  <a:lnTo>
                    <a:pt x="24" y="54"/>
                  </a:lnTo>
                  <a:lnTo>
                    <a:pt x="22" y="50"/>
                  </a:lnTo>
                  <a:lnTo>
                    <a:pt x="20" y="46"/>
                  </a:lnTo>
                  <a:lnTo>
                    <a:pt x="19" y="42"/>
                  </a:lnTo>
                  <a:lnTo>
                    <a:pt x="17" y="38"/>
                  </a:lnTo>
                  <a:lnTo>
                    <a:pt x="14" y="34"/>
                  </a:lnTo>
                  <a:lnTo>
                    <a:pt x="12" y="30"/>
                  </a:lnTo>
                  <a:lnTo>
                    <a:pt x="11" y="27"/>
                  </a:lnTo>
                  <a:lnTo>
                    <a:pt x="9" y="23"/>
                  </a:lnTo>
                  <a:lnTo>
                    <a:pt x="7" y="19"/>
                  </a:lnTo>
                  <a:lnTo>
                    <a:pt x="6" y="16"/>
                  </a:lnTo>
                  <a:lnTo>
                    <a:pt x="5" y="12"/>
                  </a:lnTo>
                  <a:lnTo>
                    <a:pt x="3" y="8"/>
                  </a:lnTo>
                  <a:lnTo>
                    <a:pt x="2" y="5"/>
                  </a:lnTo>
                  <a:lnTo>
                    <a:pt x="0" y="0"/>
                  </a:lnTo>
                  <a:lnTo>
                    <a:pt x="505" y="0"/>
                  </a:lnTo>
                  <a:lnTo>
                    <a:pt x="507" y="1"/>
                  </a:lnTo>
                  <a:lnTo>
                    <a:pt x="509" y="3"/>
                  </a:lnTo>
                  <a:lnTo>
                    <a:pt x="510" y="5"/>
                  </a:lnTo>
                  <a:lnTo>
                    <a:pt x="512" y="7"/>
                  </a:lnTo>
                  <a:lnTo>
                    <a:pt x="514" y="8"/>
                  </a:lnTo>
                  <a:lnTo>
                    <a:pt x="516" y="9"/>
                  </a:lnTo>
                  <a:lnTo>
                    <a:pt x="517" y="11"/>
                  </a:lnTo>
                  <a:lnTo>
                    <a:pt x="519" y="12"/>
                  </a:lnTo>
                  <a:lnTo>
                    <a:pt x="529" y="20"/>
                  </a:lnTo>
                  <a:lnTo>
                    <a:pt x="538" y="27"/>
                  </a:lnTo>
                  <a:lnTo>
                    <a:pt x="546" y="33"/>
                  </a:lnTo>
                  <a:lnTo>
                    <a:pt x="553" y="40"/>
                  </a:lnTo>
                  <a:lnTo>
                    <a:pt x="560" y="45"/>
                  </a:lnTo>
                  <a:lnTo>
                    <a:pt x="567" y="51"/>
                  </a:lnTo>
                  <a:lnTo>
                    <a:pt x="573" y="56"/>
                  </a:lnTo>
                  <a:lnTo>
                    <a:pt x="580" y="62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773440" y="5410080"/>
              <a:ext cx="174600" cy="19080"/>
            </a:xfrm>
            <a:custGeom>
              <a:avLst/>
              <a:gdLst/>
              <a:ahLst/>
              <a:rect l="l" t="t" r="r" b="b"/>
              <a:pathLst>
                <a:path w="552" h="61">
                  <a:moveTo>
                    <a:pt x="552" y="61"/>
                  </a:moveTo>
                  <a:lnTo>
                    <a:pt x="21" y="61"/>
                  </a:lnTo>
                  <a:lnTo>
                    <a:pt x="21" y="61"/>
                  </a:lnTo>
                  <a:lnTo>
                    <a:pt x="21" y="61"/>
                  </a:lnTo>
                  <a:lnTo>
                    <a:pt x="21" y="61"/>
                  </a:lnTo>
                  <a:lnTo>
                    <a:pt x="21" y="61"/>
                  </a:lnTo>
                  <a:lnTo>
                    <a:pt x="21" y="61"/>
                  </a:lnTo>
                  <a:lnTo>
                    <a:pt x="21" y="61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18" y="53"/>
                  </a:lnTo>
                  <a:lnTo>
                    <a:pt x="15" y="46"/>
                  </a:lnTo>
                  <a:lnTo>
                    <a:pt x="12" y="38"/>
                  </a:lnTo>
                  <a:lnTo>
                    <a:pt x="9" y="30"/>
                  </a:lnTo>
                  <a:lnTo>
                    <a:pt x="7" y="22"/>
                  </a:lnTo>
                  <a:lnTo>
                    <a:pt x="4" y="15"/>
                  </a:lnTo>
                  <a:lnTo>
                    <a:pt x="2" y="7"/>
                  </a:lnTo>
                  <a:lnTo>
                    <a:pt x="0" y="0"/>
                  </a:lnTo>
                  <a:lnTo>
                    <a:pt x="480" y="0"/>
                  </a:lnTo>
                  <a:lnTo>
                    <a:pt x="486" y="5"/>
                  </a:lnTo>
                  <a:lnTo>
                    <a:pt x="491" y="10"/>
                  </a:lnTo>
                  <a:lnTo>
                    <a:pt x="497" y="15"/>
                  </a:lnTo>
                  <a:lnTo>
                    <a:pt x="503" y="20"/>
                  </a:lnTo>
                  <a:lnTo>
                    <a:pt x="509" y="25"/>
                  </a:lnTo>
                  <a:lnTo>
                    <a:pt x="515" y="31"/>
                  </a:lnTo>
                  <a:lnTo>
                    <a:pt x="521" y="37"/>
                  </a:lnTo>
                  <a:lnTo>
                    <a:pt x="528" y="42"/>
                  </a:lnTo>
                  <a:lnTo>
                    <a:pt x="531" y="45"/>
                  </a:lnTo>
                  <a:lnTo>
                    <a:pt x="534" y="47"/>
                  </a:lnTo>
                  <a:lnTo>
                    <a:pt x="538" y="50"/>
                  </a:lnTo>
                  <a:lnTo>
                    <a:pt x="541" y="52"/>
                  </a:lnTo>
                  <a:lnTo>
                    <a:pt x="544" y="54"/>
                  </a:lnTo>
                  <a:lnTo>
                    <a:pt x="547" y="57"/>
                  </a:lnTo>
                  <a:lnTo>
                    <a:pt x="549" y="59"/>
                  </a:lnTo>
                  <a:lnTo>
                    <a:pt x="552" y="61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71640" y="5400360"/>
              <a:ext cx="165240" cy="19080"/>
            </a:xfrm>
            <a:custGeom>
              <a:avLst/>
              <a:gdLst/>
              <a:ahLst/>
              <a:rect l="l" t="t" r="r" b="b"/>
              <a:pathLst>
                <a:path w="521" h="62">
                  <a:moveTo>
                    <a:pt x="521" y="62"/>
                  </a:moveTo>
                  <a:lnTo>
                    <a:pt x="16" y="62"/>
                  </a:lnTo>
                  <a:lnTo>
                    <a:pt x="14" y="54"/>
                  </a:lnTo>
                  <a:lnTo>
                    <a:pt x="11" y="47"/>
                  </a:lnTo>
                  <a:lnTo>
                    <a:pt x="9" y="40"/>
                  </a:lnTo>
                  <a:lnTo>
                    <a:pt x="7" y="32"/>
                  </a:lnTo>
                  <a:lnTo>
                    <a:pt x="5" y="24"/>
                  </a:lnTo>
                  <a:lnTo>
                    <a:pt x="3" y="17"/>
                  </a:lnTo>
                  <a:lnTo>
                    <a:pt x="1" y="8"/>
                  </a:lnTo>
                  <a:lnTo>
                    <a:pt x="0" y="0"/>
                  </a:lnTo>
                  <a:lnTo>
                    <a:pt x="460" y="0"/>
                  </a:lnTo>
                  <a:lnTo>
                    <a:pt x="466" y="8"/>
                  </a:lnTo>
                  <a:lnTo>
                    <a:pt x="472" y="16"/>
                  </a:lnTo>
                  <a:lnTo>
                    <a:pt x="479" y="23"/>
                  </a:lnTo>
                  <a:lnTo>
                    <a:pt x="486" y="31"/>
                  </a:lnTo>
                  <a:lnTo>
                    <a:pt x="495" y="38"/>
                  </a:lnTo>
                  <a:lnTo>
                    <a:pt x="503" y="46"/>
                  </a:lnTo>
                  <a:lnTo>
                    <a:pt x="512" y="54"/>
                  </a:lnTo>
                  <a:lnTo>
                    <a:pt x="521" y="62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770200" y="5391000"/>
              <a:ext cx="155520" cy="19080"/>
            </a:xfrm>
            <a:custGeom>
              <a:avLst/>
              <a:gdLst/>
              <a:ahLst/>
              <a:rect l="l" t="t" r="r" b="b"/>
              <a:pathLst>
                <a:path w="492" h="62">
                  <a:moveTo>
                    <a:pt x="492" y="62"/>
                  </a:moveTo>
                  <a:lnTo>
                    <a:pt x="12" y="62"/>
                  </a:lnTo>
                  <a:lnTo>
                    <a:pt x="10" y="54"/>
                  </a:lnTo>
                  <a:lnTo>
                    <a:pt x="8" y="47"/>
                  </a:lnTo>
                  <a:lnTo>
                    <a:pt x="6" y="38"/>
                  </a:lnTo>
                  <a:lnTo>
                    <a:pt x="5" y="31"/>
                  </a:lnTo>
                  <a:lnTo>
                    <a:pt x="3" y="23"/>
                  </a:lnTo>
                  <a:lnTo>
                    <a:pt x="2" y="15"/>
                  </a:lnTo>
                  <a:lnTo>
                    <a:pt x="1" y="8"/>
                  </a:lnTo>
                  <a:lnTo>
                    <a:pt x="0" y="0"/>
                  </a:lnTo>
                  <a:lnTo>
                    <a:pt x="444" y="0"/>
                  </a:lnTo>
                  <a:lnTo>
                    <a:pt x="449" y="7"/>
                  </a:lnTo>
                  <a:lnTo>
                    <a:pt x="454" y="15"/>
                  </a:lnTo>
                  <a:lnTo>
                    <a:pt x="459" y="22"/>
                  </a:lnTo>
                  <a:lnTo>
                    <a:pt x="464" y="29"/>
                  </a:lnTo>
                  <a:lnTo>
                    <a:pt x="470" y="37"/>
                  </a:lnTo>
                  <a:lnTo>
                    <a:pt x="477" y="46"/>
                  </a:lnTo>
                  <a:lnTo>
                    <a:pt x="484" y="54"/>
                  </a:lnTo>
                  <a:lnTo>
                    <a:pt x="492" y="62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768760" y="5379840"/>
              <a:ext cx="149040" cy="20520"/>
            </a:xfrm>
            <a:custGeom>
              <a:avLst/>
              <a:gdLst/>
              <a:ahLst/>
              <a:rect l="l" t="t" r="r" b="b"/>
              <a:pathLst>
                <a:path w="468" h="61">
                  <a:moveTo>
                    <a:pt x="468" y="61"/>
                  </a:moveTo>
                  <a:lnTo>
                    <a:pt x="8" y="61"/>
                  </a:lnTo>
                  <a:lnTo>
                    <a:pt x="6" y="54"/>
                  </a:lnTo>
                  <a:lnTo>
                    <a:pt x="5" y="46"/>
                  </a:lnTo>
                  <a:lnTo>
                    <a:pt x="4" y="39"/>
                  </a:lnTo>
                  <a:lnTo>
                    <a:pt x="3" y="31"/>
                  </a:lnTo>
                  <a:lnTo>
                    <a:pt x="2" y="24"/>
                  </a:lnTo>
                  <a:lnTo>
                    <a:pt x="1" y="15"/>
                  </a:lnTo>
                  <a:lnTo>
                    <a:pt x="1" y="8"/>
                  </a:lnTo>
                  <a:lnTo>
                    <a:pt x="0" y="0"/>
                  </a:lnTo>
                  <a:lnTo>
                    <a:pt x="437" y="0"/>
                  </a:lnTo>
                  <a:lnTo>
                    <a:pt x="439" y="7"/>
                  </a:lnTo>
                  <a:lnTo>
                    <a:pt x="441" y="14"/>
                  </a:lnTo>
                  <a:lnTo>
                    <a:pt x="444" y="23"/>
                  </a:lnTo>
                  <a:lnTo>
                    <a:pt x="447" y="30"/>
                  </a:lnTo>
                  <a:lnTo>
                    <a:pt x="452" y="38"/>
                  </a:lnTo>
                  <a:lnTo>
                    <a:pt x="457" y="45"/>
                  </a:lnTo>
                  <a:lnTo>
                    <a:pt x="462" y="53"/>
                  </a:lnTo>
                  <a:lnTo>
                    <a:pt x="468" y="61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768760" y="5370480"/>
              <a:ext cx="141120" cy="20520"/>
            </a:xfrm>
            <a:custGeom>
              <a:avLst/>
              <a:gdLst/>
              <a:ahLst/>
              <a:rect l="l" t="t" r="r" b="b"/>
              <a:pathLst>
                <a:path w="448" h="61">
                  <a:moveTo>
                    <a:pt x="448" y="61"/>
                  </a:moveTo>
                  <a:lnTo>
                    <a:pt x="4" y="61"/>
                  </a:lnTo>
                  <a:lnTo>
                    <a:pt x="3" y="54"/>
                  </a:lnTo>
                  <a:lnTo>
                    <a:pt x="2" y="46"/>
                  </a:lnTo>
                  <a:lnTo>
                    <a:pt x="2" y="39"/>
                  </a:lnTo>
                  <a:lnTo>
                    <a:pt x="1" y="31"/>
                  </a:lnTo>
                  <a:lnTo>
                    <a:pt x="1" y="24"/>
                  </a:lnTo>
                  <a:lnTo>
                    <a:pt x="1" y="17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39" y="0"/>
                  </a:lnTo>
                  <a:lnTo>
                    <a:pt x="438" y="2"/>
                  </a:lnTo>
                  <a:lnTo>
                    <a:pt x="438" y="4"/>
                  </a:lnTo>
                  <a:lnTo>
                    <a:pt x="438" y="6"/>
                  </a:lnTo>
                  <a:lnTo>
                    <a:pt x="438" y="9"/>
                  </a:lnTo>
                  <a:lnTo>
                    <a:pt x="437" y="11"/>
                  </a:lnTo>
                  <a:lnTo>
                    <a:pt x="437" y="13"/>
                  </a:lnTo>
                  <a:lnTo>
                    <a:pt x="437" y="16"/>
                  </a:lnTo>
                  <a:lnTo>
                    <a:pt x="437" y="18"/>
                  </a:lnTo>
                  <a:lnTo>
                    <a:pt x="437" y="23"/>
                  </a:lnTo>
                  <a:lnTo>
                    <a:pt x="438" y="28"/>
                  </a:lnTo>
                  <a:lnTo>
                    <a:pt x="439" y="33"/>
                  </a:lnTo>
                  <a:lnTo>
                    <a:pt x="440" y="38"/>
                  </a:lnTo>
                  <a:lnTo>
                    <a:pt x="442" y="44"/>
                  </a:lnTo>
                  <a:lnTo>
                    <a:pt x="444" y="49"/>
                  </a:lnTo>
                  <a:lnTo>
                    <a:pt x="446" y="56"/>
                  </a:lnTo>
                  <a:lnTo>
                    <a:pt x="448" y="61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768760" y="5360760"/>
              <a:ext cx="141120" cy="19080"/>
            </a:xfrm>
            <a:custGeom>
              <a:avLst/>
              <a:gdLst/>
              <a:ahLst/>
              <a:rect l="l" t="t" r="r" b="b"/>
              <a:pathLst>
                <a:path w="447" h="62">
                  <a:moveTo>
                    <a:pt x="438" y="62"/>
                  </a:moveTo>
                  <a:lnTo>
                    <a:pt x="1" y="62"/>
                  </a:lnTo>
                  <a:lnTo>
                    <a:pt x="1" y="58"/>
                  </a:lnTo>
                  <a:lnTo>
                    <a:pt x="1" y="55"/>
                  </a:lnTo>
                  <a:lnTo>
                    <a:pt x="1" y="51"/>
                  </a:lnTo>
                  <a:lnTo>
                    <a:pt x="1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1" y="17"/>
                  </a:lnTo>
                  <a:lnTo>
                    <a:pt x="1" y="12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0"/>
                  </a:lnTo>
                  <a:lnTo>
                    <a:pt x="447" y="0"/>
                  </a:lnTo>
                  <a:lnTo>
                    <a:pt x="445" y="6"/>
                  </a:lnTo>
                  <a:lnTo>
                    <a:pt x="443" y="11"/>
                  </a:lnTo>
                  <a:lnTo>
                    <a:pt x="441" y="17"/>
                  </a:lnTo>
                  <a:lnTo>
                    <a:pt x="440" y="23"/>
                  </a:lnTo>
                  <a:lnTo>
                    <a:pt x="439" y="29"/>
                  </a:lnTo>
                  <a:lnTo>
                    <a:pt x="438" y="37"/>
                  </a:lnTo>
                  <a:lnTo>
                    <a:pt x="437" y="43"/>
                  </a:lnTo>
                  <a:lnTo>
                    <a:pt x="437" y="50"/>
                  </a:lnTo>
                  <a:lnTo>
                    <a:pt x="437" y="51"/>
                  </a:lnTo>
                  <a:lnTo>
                    <a:pt x="437" y="53"/>
                  </a:lnTo>
                  <a:lnTo>
                    <a:pt x="437" y="54"/>
                  </a:lnTo>
                  <a:lnTo>
                    <a:pt x="438" y="56"/>
                  </a:lnTo>
                  <a:lnTo>
                    <a:pt x="438" y="57"/>
                  </a:lnTo>
                  <a:lnTo>
                    <a:pt x="438" y="59"/>
                  </a:lnTo>
                  <a:lnTo>
                    <a:pt x="438" y="60"/>
                  </a:lnTo>
                  <a:lnTo>
                    <a:pt x="438" y="62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768760" y="5351400"/>
              <a:ext cx="237960" cy="19080"/>
            </a:xfrm>
            <a:custGeom>
              <a:avLst/>
              <a:gdLst/>
              <a:ahLst/>
              <a:rect l="l" t="t" r="r" b="b"/>
              <a:pathLst>
                <a:path w="753" h="63">
                  <a:moveTo>
                    <a:pt x="439" y="63"/>
                  </a:moveTo>
                  <a:lnTo>
                    <a:pt x="0" y="63"/>
                  </a:lnTo>
                  <a:lnTo>
                    <a:pt x="0" y="54"/>
                  </a:lnTo>
                  <a:lnTo>
                    <a:pt x="1" y="46"/>
                  </a:lnTo>
                  <a:lnTo>
                    <a:pt x="1" y="39"/>
                  </a:lnTo>
                  <a:lnTo>
                    <a:pt x="1" y="31"/>
                  </a:lnTo>
                  <a:lnTo>
                    <a:pt x="2" y="23"/>
                  </a:lnTo>
                  <a:lnTo>
                    <a:pt x="3" y="16"/>
                  </a:lnTo>
                  <a:lnTo>
                    <a:pt x="3" y="8"/>
                  </a:lnTo>
                  <a:lnTo>
                    <a:pt x="4" y="0"/>
                  </a:lnTo>
                  <a:lnTo>
                    <a:pt x="470" y="0"/>
                  </a:lnTo>
                  <a:lnTo>
                    <a:pt x="464" y="6"/>
                  </a:lnTo>
                  <a:lnTo>
                    <a:pt x="458" y="14"/>
                  </a:lnTo>
                  <a:lnTo>
                    <a:pt x="454" y="21"/>
                  </a:lnTo>
                  <a:lnTo>
                    <a:pt x="450" y="28"/>
                  </a:lnTo>
                  <a:lnTo>
                    <a:pt x="445" y="36"/>
                  </a:lnTo>
                  <a:lnTo>
                    <a:pt x="442" y="44"/>
                  </a:lnTo>
                  <a:lnTo>
                    <a:pt x="440" y="53"/>
                  </a:lnTo>
                  <a:lnTo>
                    <a:pt x="439" y="63"/>
                  </a:lnTo>
                  <a:close/>
                  <a:moveTo>
                    <a:pt x="728" y="0"/>
                  </a:moveTo>
                  <a:lnTo>
                    <a:pt x="753" y="0"/>
                  </a:lnTo>
                  <a:lnTo>
                    <a:pt x="753" y="13"/>
                  </a:lnTo>
                  <a:lnTo>
                    <a:pt x="750" y="12"/>
                  </a:lnTo>
                  <a:lnTo>
                    <a:pt x="747" y="9"/>
                  </a:lnTo>
                  <a:lnTo>
                    <a:pt x="744" y="7"/>
                  </a:lnTo>
                  <a:lnTo>
                    <a:pt x="741" y="6"/>
                  </a:lnTo>
                  <a:lnTo>
                    <a:pt x="738" y="4"/>
                  </a:lnTo>
                  <a:lnTo>
                    <a:pt x="735" y="3"/>
                  </a:lnTo>
                  <a:lnTo>
                    <a:pt x="732" y="2"/>
                  </a:lnTo>
                  <a:lnTo>
                    <a:pt x="728" y="0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768760" y="5341680"/>
              <a:ext cx="237960" cy="19080"/>
            </a:xfrm>
            <a:custGeom>
              <a:avLst/>
              <a:gdLst/>
              <a:ahLst/>
              <a:rect l="l" t="t" r="r" b="b"/>
              <a:pathLst>
                <a:path w="752" h="61">
                  <a:moveTo>
                    <a:pt x="446" y="61"/>
                  </a:moveTo>
                  <a:lnTo>
                    <a:pt x="0" y="61"/>
                  </a:lnTo>
                  <a:lnTo>
                    <a:pt x="1" y="54"/>
                  </a:lnTo>
                  <a:lnTo>
                    <a:pt x="2" y="46"/>
                  </a:lnTo>
                  <a:lnTo>
                    <a:pt x="2" y="37"/>
                  </a:lnTo>
                  <a:lnTo>
                    <a:pt x="3" y="30"/>
                  </a:lnTo>
                  <a:lnTo>
                    <a:pt x="4" y="22"/>
                  </a:lnTo>
                  <a:lnTo>
                    <a:pt x="5" y="15"/>
                  </a:lnTo>
                  <a:lnTo>
                    <a:pt x="6" y="7"/>
                  </a:lnTo>
                  <a:lnTo>
                    <a:pt x="8" y="0"/>
                  </a:lnTo>
                  <a:lnTo>
                    <a:pt x="530" y="0"/>
                  </a:lnTo>
                  <a:lnTo>
                    <a:pt x="522" y="2"/>
                  </a:lnTo>
                  <a:lnTo>
                    <a:pt x="515" y="4"/>
                  </a:lnTo>
                  <a:lnTo>
                    <a:pt x="508" y="7"/>
                  </a:lnTo>
                  <a:lnTo>
                    <a:pt x="501" y="10"/>
                  </a:lnTo>
                  <a:lnTo>
                    <a:pt x="493" y="13"/>
                  </a:lnTo>
                  <a:lnTo>
                    <a:pt x="487" y="16"/>
                  </a:lnTo>
                  <a:lnTo>
                    <a:pt x="481" y="20"/>
                  </a:lnTo>
                  <a:lnTo>
                    <a:pt x="476" y="24"/>
                  </a:lnTo>
                  <a:lnTo>
                    <a:pt x="471" y="28"/>
                  </a:lnTo>
                  <a:lnTo>
                    <a:pt x="467" y="32"/>
                  </a:lnTo>
                  <a:lnTo>
                    <a:pt x="463" y="36"/>
                  </a:lnTo>
                  <a:lnTo>
                    <a:pt x="459" y="42"/>
                  </a:lnTo>
                  <a:lnTo>
                    <a:pt x="455" y="46"/>
                  </a:lnTo>
                  <a:lnTo>
                    <a:pt x="452" y="51"/>
                  </a:lnTo>
                  <a:lnTo>
                    <a:pt x="449" y="56"/>
                  </a:lnTo>
                  <a:lnTo>
                    <a:pt x="446" y="61"/>
                  </a:lnTo>
                  <a:close/>
                  <a:moveTo>
                    <a:pt x="637" y="0"/>
                  </a:moveTo>
                  <a:lnTo>
                    <a:pt x="752" y="0"/>
                  </a:lnTo>
                  <a:lnTo>
                    <a:pt x="752" y="43"/>
                  </a:lnTo>
                  <a:lnTo>
                    <a:pt x="741" y="36"/>
                  </a:lnTo>
                  <a:lnTo>
                    <a:pt x="729" y="31"/>
                  </a:lnTo>
                  <a:lnTo>
                    <a:pt x="718" y="26"/>
                  </a:lnTo>
                  <a:lnTo>
                    <a:pt x="707" y="21"/>
                  </a:lnTo>
                  <a:lnTo>
                    <a:pt x="695" y="17"/>
                  </a:lnTo>
                  <a:lnTo>
                    <a:pt x="684" y="13"/>
                  </a:lnTo>
                  <a:lnTo>
                    <a:pt x="673" y="9"/>
                  </a:lnTo>
                  <a:lnTo>
                    <a:pt x="663" y="6"/>
                  </a:lnTo>
                  <a:lnTo>
                    <a:pt x="660" y="5"/>
                  </a:lnTo>
                  <a:lnTo>
                    <a:pt x="657" y="4"/>
                  </a:lnTo>
                  <a:lnTo>
                    <a:pt x="654" y="4"/>
                  </a:lnTo>
                  <a:lnTo>
                    <a:pt x="649" y="3"/>
                  </a:lnTo>
                  <a:lnTo>
                    <a:pt x="646" y="2"/>
                  </a:lnTo>
                  <a:lnTo>
                    <a:pt x="643" y="1"/>
                  </a:lnTo>
                  <a:lnTo>
                    <a:pt x="640" y="1"/>
                  </a:lnTo>
                  <a:lnTo>
                    <a:pt x="637" y="0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770200" y="5332320"/>
              <a:ext cx="236520" cy="19080"/>
            </a:xfrm>
            <a:custGeom>
              <a:avLst/>
              <a:gdLst/>
              <a:ahLst/>
              <a:rect l="l" t="t" r="r" b="b"/>
              <a:pathLst>
                <a:path w="749" h="61">
                  <a:moveTo>
                    <a:pt x="749" y="61"/>
                  </a:moveTo>
                  <a:lnTo>
                    <a:pt x="724" y="61"/>
                  </a:lnTo>
                  <a:lnTo>
                    <a:pt x="716" y="57"/>
                  </a:lnTo>
                  <a:lnTo>
                    <a:pt x="708" y="54"/>
                  </a:lnTo>
                  <a:lnTo>
                    <a:pt x="699" y="51"/>
                  </a:lnTo>
                  <a:lnTo>
                    <a:pt x="691" y="48"/>
                  </a:lnTo>
                  <a:lnTo>
                    <a:pt x="683" y="45"/>
                  </a:lnTo>
                  <a:lnTo>
                    <a:pt x="675" y="42"/>
                  </a:lnTo>
                  <a:lnTo>
                    <a:pt x="667" y="39"/>
                  </a:lnTo>
                  <a:lnTo>
                    <a:pt x="660" y="37"/>
                  </a:lnTo>
                  <a:lnTo>
                    <a:pt x="650" y="34"/>
                  </a:lnTo>
                  <a:lnTo>
                    <a:pt x="639" y="32"/>
                  </a:lnTo>
                  <a:lnTo>
                    <a:pt x="629" y="30"/>
                  </a:lnTo>
                  <a:lnTo>
                    <a:pt x="620" y="28"/>
                  </a:lnTo>
                  <a:lnTo>
                    <a:pt x="611" y="27"/>
                  </a:lnTo>
                  <a:lnTo>
                    <a:pt x="603" y="26"/>
                  </a:lnTo>
                  <a:lnTo>
                    <a:pt x="593" y="25"/>
                  </a:lnTo>
                  <a:lnTo>
                    <a:pt x="585" y="25"/>
                  </a:lnTo>
                  <a:lnTo>
                    <a:pt x="568" y="26"/>
                  </a:lnTo>
                  <a:lnTo>
                    <a:pt x="551" y="27"/>
                  </a:lnTo>
                  <a:lnTo>
                    <a:pt x="535" y="29"/>
                  </a:lnTo>
                  <a:lnTo>
                    <a:pt x="521" y="33"/>
                  </a:lnTo>
                  <a:lnTo>
                    <a:pt x="507" y="37"/>
                  </a:lnTo>
                  <a:lnTo>
                    <a:pt x="494" y="42"/>
                  </a:lnTo>
                  <a:lnTo>
                    <a:pt x="483" y="48"/>
                  </a:lnTo>
                  <a:lnTo>
                    <a:pt x="473" y="55"/>
                  </a:lnTo>
                  <a:lnTo>
                    <a:pt x="472" y="56"/>
                  </a:lnTo>
                  <a:lnTo>
                    <a:pt x="471" y="57"/>
                  </a:lnTo>
                  <a:lnTo>
                    <a:pt x="470" y="57"/>
                  </a:lnTo>
                  <a:lnTo>
                    <a:pt x="469" y="58"/>
                  </a:lnTo>
                  <a:lnTo>
                    <a:pt x="468" y="59"/>
                  </a:lnTo>
                  <a:lnTo>
                    <a:pt x="467" y="60"/>
                  </a:lnTo>
                  <a:lnTo>
                    <a:pt x="467" y="60"/>
                  </a:lnTo>
                  <a:lnTo>
                    <a:pt x="466" y="61"/>
                  </a:lnTo>
                  <a:lnTo>
                    <a:pt x="0" y="61"/>
                  </a:lnTo>
                  <a:lnTo>
                    <a:pt x="1" y="53"/>
                  </a:lnTo>
                  <a:lnTo>
                    <a:pt x="2" y="46"/>
                  </a:lnTo>
                  <a:lnTo>
                    <a:pt x="4" y="38"/>
                  </a:lnTo>
                  <a:lnTo>
                    <a:pt x="5" y="30"/>
                  </a:lnTo>
                  <a:lnTo>
                    <a:pt x="6" y="23"/>
                  </a:lnTo>
                  <a:lnTo>
                    <a:pt x="8" y="14"/>
                  </a:lnTo>
                  <a:lnTo>
                    <a:pt x="10" y="7"/>
                  </a:lnTo>
                  <a:lnTo>
                    <a:pt x="12" y="0"/>
                  </a:lnTo>
                  <a:lnTo>
                    <a:pt x="749" y="0"/>
                  </a:lnTo>
                  <a:lnTo>
                    <a:pt x="749" y="61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71640" y="5321160"/>
              <a:ext cx="235080" cy="20520"/>
            </a:xfrm>
            <a:custGeom>
              <a:avLst/>
              <a:gdLst/>
              <a:ahLst/>
              <a:rect l="l" t="t" r="r" b="b"/>
              <a:pathLst>
                <a:path w="744" h="62">
                  <a:moveTo>
                    <a:pt x="744" y="62"/>
                  </a:moveTo>
                  <a:lnTo>
                    <a:pt x="629" y="62"/>
                  </a:lnTo>
                  <a:lnTo>
                    <a:pt x="623" y="61"/>
                  </a:lnTo>
                  <a:lnTo>
                    <a:pt x="616" y="59"/>
                  </a:lnTo>
                  <a:lnTo>
                    <a:pt x="610" y="58"/>
                  </a:lnTo>
                  <a:lnTo>
                    <a:pt x="604" y="58"/>
                  </a:lnTo>
                  <a:lnTo>
                    <a:pt x="598" y="57"/>
                  </a:lnTo>
                  <a:lnTo>
                    <a:pt x="591" y="57"/>
                  </a:lnTo>
                  <a:lnTo>
                    <a:pt x="586" y="56"/>
                  </a:lnTo>
                  <a:lnTo>
                    <a:pt x="580" y="56"/>
                  </a:lnTo>
                  <a:lnTo>
                    <a:pt x="572" y="56"/>
                  </a:lnTo>
                  <a:lnTo>
                    <a:pt x="565" y="57"/>
                  </a:lnTo>
                  <a:lnTo>
                    <a:pt x="557" y="57"/>
                  </a:lnTo>
                  <a:lnTo>
                    <a:pt x="550" y="58"/>
                  </a:lnTo>
                  <a:lnTo>
                    <a:pt x="543" y="58"/>
                  </a:lnTo>
                  <a:lnTo>
                    <a:pt x="535" y="59"/>
                  </a:lnTo>
                  <a:lnTo>
                    <a:pt x="529" y="61"/>
                  </a:lnTo>
                  <a:lnTo>
                    <a:pt x="522" y="62"/>
                  </a:lnTo>
                  <a:lnTo>
                    <a:pt x="0" y="62"/>
                  </a:lnTo>
                  <a:lnTo>
                    <a:pt x="1" y="54"/>
                  </a:lnTo>
                  <a:lnTo>
                    <a:pt x="3" y="45"/>
                  </a:lnTo>
                  <a:lnTo>
                    <a:pt x="5" y="38"/>
                  </a:lnTo>
                  <a:lnTo>
                    <a:pt x="7" y="30"/>
                  </a:lnTo>
                  <a:lnTo>
                    <a:pt x="9" y="23"/>
                  </a:lnTo>
                  <a:lnTo>
                    <a:pt x="11" y="15"/>
                  </a:lnTo>
                  <a:lnTo>
                    <a:pt x="13" y="8"/>
                  </a:lnTo>
                  <a:lnTo>
                    <a:pt x="16" y="0"/>
                  </a:lnTo>
                  <a:lnTo>
                    <a:pt x="744" y="0"/>
                  </a:lnTo>
                  <a:lnTo>
                    <a:pt x="744" y="62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773440" y="5311800"/>
              <a:ext cx="233280" cy="20520"/>
            </a:xfrm>
            <a:custGeom>
              <a:avLst/>
              <a:gdLst/>
              <a:ahLst/>
              <a:rect l="l" t="t" r="r" b="b"/>
              <a:pathLst>
                <a:path w="737" h="62">
                  <a:moveTo>
                    <a:pt x="737" y="62"/>
                  </a:moveTo>
                  <a:lnTo>
                    <a:pt x="0" y="62"/>
                  </a:lnTo>
                  <a:lnTo>
                    <a:pt x="2" y="54"/>
                  </a:lnTo>
                  <a:lnTo>
                    <a:pt x="4" y="46"/>
                  </a:lnTo>
                  <a:lnTo>
                    <a:pt x="7" y="38"/>
                  </a:lnTo>
                  <a:lnTo>
                    <a:pt x="9" y="31"/>
                  </a:lnTo>
                  <a:lnTo>
                    <a:pt x="12" y="22"/>
                  </a:lnTo>
                  <a:lnTo>
                    <a:pt x="15" y="15"/>
                  </a:lnTo>
                  <a:lnTo>
                    <a:pt x="18" y="7"/>
                  </a:lnTo>
                  <a:lnTo>
                    <a:pt x="21" y="0"/>
                  </a:lnTo>
                  <a:lnTo>
                    <a:pt x="737" y="0"/>
                  </a:lnTo>
                  <a:lnTo>
                    <a:pt x="737" y="62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776680" y="5302080"/>
              <a:ext cx="230040" cy="19080"/>
            </a:xfrm>
            <a:custGeom>
              <a:avLst/>
              <a:gdLst/>
              <a:ahLst/>
              <a:rect l="l" t="t" r="r" b="b"/>
              <a:pathLst>
                <a:path w="728" h="62">
                  <a:moveTo>
                    <a:pt x="728" y="62"/>
                  </a:moveTo>
                  <a:lnTo>
                    <a:pt x="0" y="62"/>
                  </a:lnTo>
                  <a:lnTo>
                    <a:pt x="3" y="54"/>
                  </a:lnTo>
                  <a:lnTo>
                    <a:pt x="6" y="46"/>
                  </a:lnTo>
                  <a:lnTo>
                    <a:pt x="9" y="38"/>
                  </a:lnTo>
                  <a:lnTo>
                    <a:pt x="12" y="31"/>
                  </a:lnTo>
                  <a:lnTo>
                    <a:pt x="17" y="23"/>
                  </a:lnTo>
                  <a:lnTo>
                    <a:pt x="20" y="16"/>
                  </a:lnTo>
                  <a:lnTo>
                    <a:pt x="24" y="8"/>
                  </a:lnTo>
                  <a:lnTo>
                    <a:pt x="28" y="0"/>
                  </a:lnTo>
                  <a:lnTo>
                    <a:pt x="728" y="0"/>
                  </a:lnTo>
                  <a:lnTo>
                    <a:pt x="728" y="62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779560" y="5292720"/>
              <a:ext cx="227160" cy="19080"/>
            </a:xfrm>
            <a:custGeom>
              <a:avLst/>
              <a:gdLst/>
              <a:ahLst/>
              <a:rect l="l" t="t" r="r" b="b"/>
              <a:pathLst>
                <a:path w="716" h="61">
                  <a:moveTo>
                    <a:pt x="716" y="61"/>
                  </a:moveTo>
                  <a:lnTo>
                    <a:pt x="0" y="61"/>
                  </a:lnTo>
                  <a:lnTo>
                    <a:pt x="3" y="53"/>
                  </a:lnTo>
                  <a:lnTo>
                    <a:pt x="8" y="46"/>
                  </a:lnTo>
                  <a:lnTo>
                    <a:pt x="12" y="38"/>
                  </a:lnTo>
                  <a:lnTo>
                    <a:pt x="16" y="29"/>
                  </a:lnTo>
                  <a:lnTo>
                    <a:pt x="20" y="22"/>
                  </a:lnTo>
                  <a:lnTo>
                    <a:pt x="25" y="14"/>
                  </a:lnTo>
                  <a:lnTo>
                    <a:pt x="29" y="7"/>
                  </a:lnTo>
                  <a:lnTo>
                    <a:pt x="34" y="0"/>
                  </a:lnTo>
                  <a:lnTo>
                    <a:pt x="716" y="0"/>
                  </a:lnTo>
                  <a:lnTo>
                    <a:pt x="716" y="61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84600" y="5283000"/>
              <a:ext cx="222120" cy="19080"/>
            </a:xfrm>
            <a:custGeom>
              <a:avLst/>
              <a:gdLst/>
              <a:ahLst/>
              <a:rect l="l" t="t" r="r" b="b"/>
              <a:pathLst>
                <a:path w="700" h="62">
                  <a:moveTo>
                    <a:pt x="700" y="62"/>
                  </a:moveTo>
                  <a:lnTo>
                    <a:pt x="0" y="62"/>
                  </a:lnTo>
                  <a:lnTo>
                    <a:pt x="4" y="54"/>
                  </a:lnTo>
                  <a:lnTo>
                    <a:pt x="9" y="46"/>
                  </a:lnTo>
                  <a:lnTo>
                    <a:pt x="14" y="39"/>
                  </a:lnTo>
                  <a:lnTo>
                    <a:pt x="19" y="31"/>
                  </a:lnTo>
                  <a:lnTo>
                    <a:pt x="24" y="23"/>
                  </a:lnTo>
                  <a:lnTo>
                    <a:pt x="29" y="16"/>
                  </a:lnTo>
                  <a:lnTo>
                    <a:pt x="35" y="8"/>
                  </a:lnTo>
                  <a:lnTo>
                    <a:pt x="41" y="0"/>
                  </a:lnTo>
                  <a:lnTo>
                    <a:pt x="700" y="0"/>
                  </a:lnTo>
                  <a:lnTo>
                    <a:pt x="700" y="62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790720" y="5273640"/>
              <a:ext cx="216000" cy="19080"/>
            </a:xfrm>
            <a:custGeom>
              <a:avLst/>
              <a:gdLst/>
              <a:ahLst/>
              <a:rect l="l" t="t" r="r" b="b"/>
              <a:pathLst>
                <a:path w="682" h="62">
                  <a:moveTo>
                    <a:pt x="682" y="62"/>
                  </a:moveTo>
                  <a:lnTo>
                    <a:pt x="0" y="62"/>
                  </a:lnTo>
                  <a:lnTo>
                    <a:pt x="5" y="54"/>
                  </a:lnTo>
                  <a:lnTo>
                    <a:pt x="11" y="46"/>
                  </a:lnTo>
                  <a:lnTo>
                    <a:pt x="17" y="37"/>
                  </a:lnTo>
                  <a:lnTo>
                    <a:pt x="24" y="30"/>
                  </a:lnTo>
                  <a:lnTo>
                    <a:pt x="30" y="22"/>
                  </a:lnTo>
                  <a:lnTo>
                    <a:pt x="37" y="15"/>
                  </a:lnTo>
                  <a:lnTo>
                    <a:pt x="43" y="7"/>
                  </a:lnTo>
                  <a:lnTo>
                    <a:pt x="50" y="0"/>
                  </a:lnTo>
                  <a:lnTo>
                    <a:pt x="682" y="0"/>
                  </a:lnTo>
                  <a:lnTo>
                    <a:pt x="682" y="62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798640" y="5262480"/>
              <a:ext cx="208080" cy="20520"/>
            </a:xfrm>
            <a:custGeom>
              <a:avLst/>
              <a:gdLst/>
              <a:ahLst/>
              <a:rect l="l" t="t" r="r" b="b"/>
              <a:pathLst>
                <a:path w="659" h="61">
                  <a:moveTo>
                    <a:pt x="659" y="61"/>
                  </a:moveTo>
                  <a:lnTo>
                    <a:pt x="0" y="61"/>
                  </a:lnTo>
                  <a:lnTo>
                    <a:pt x="5" y="55"/>
                  </a:lnTo>
                  <a:lnTo>
                    <a:pt x="11" y="49"/>
                  </a:lnTo>
                  <a:lnTo>
                    <a:pt x="16" y="43"/>
                  </a:lnTo>
                  <a:lnTo>
                    <a:pt x="22" y="37"/>
                  </a:lnTo>
                  <a:lnTo>
                    <a:pt x="28" y="31"/>
                  </a:lnTo>
                  <a:lnTo>
                    <a:pt x="34" y="25"/>
                  </a:lnTo>
                  <a:lnTo>
                    <a:pt x="40" y="18"/>
                  </a:lnTo>
                  <a:lnTo>
                    <a:pt x="46" y="12"/>
                  </a:lnTo>
                  <a:lnTo>
                    <a:pt x="48" y="10"/>
                  </a:lnTo>
                  <a:lnTo>
                    <a:pt x="50" y="9"/>
                  </a:lnTo>
                  <a:lnTo>
                    <a:pt x="52" y="7"/>
                  </a:lnTo>
                  <a:lnTo>
                    <a:pt x="54" y="6"/>
                  </a:lnTo>
                  <a:lnTo>
                    <a:pt x="55" y="4"/>
                  </a:lnTo>
                  <a:lnTo>
                    <a:pt x="57" y="3"/>
                  </a:lnTo>
                  <a:lnTo>
                    <a:pt x="59" y="1"/>
                  </a:lnTo>
                  <a:lnTo>
                    <a:pt x="60" y="0"/>
                  </a:lnTo>
                  <a:lnTo>
                    <a:pt x="659" y="0"/>
                  </a:lnTo>
                  <a:lnTo>
                    <a:pt x="659" y="61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806560" y="5252760"/>
              <a:ext cx="200160" cy="20880"/>
            </a:xfrm>
            <a:custGeom>
              <a:avLst/>
              <a:gdLst/>
              <a:ahLst/>
              <a:rect l="l" t="t" r="r" b="b"/>
              <a:pathLst>
                <a:path w="632" h="62">
                  <a:moveTo>
                    <a:pt x="632" y="62"/>
                  </a:moveTo>
                  <a:lnTo>
                    <a:pt x="0" y="62"/>
                  </a:lnTo>
                  <a:lnTo>
                    <a:pt x="2" y="60"/>
                  </a:lnTo>
                  <a:lnTo>
                    <a:pt x="5" y="58"/>
                  </a:lnTo>
                  <a:lnTo>
                    <a:pt x="7" y="54"/>
                  </a:lnTo>
                  <a:lnTo>
                    <a:pt x="9" y="52"/>
                  </a:lnTo>
                  <a:lnTo>
                    <a:pt x="12" y="50"/>
                  </a:lnTo>
                  <a:lnTo>
                    <a:pt x="14" y="47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6" y="37"/>
                  </a:lnTo>
                  <a:lnTo>
                    <a:pt x="33" y="32"/>
                  </a:lnTo>
                  <a:lnTo>
                    <a:pt x="39" y="26"/>
                  </a:lnTo>
                  <a:lnTo>
                    <a:pt x="46" y="21"/>
                  </a:lnTo>
                  <a:lnTo>
                    <a:pt x="52" y="16"/>
                  </a:lnTo>
                  <a:lnTo>
                    <a:pt x="59" y="10"/>
                  </a:lnTo>
                  <a:lnTo>
                    <a:pt x="66" y="6"/>
                  </a:lnTo>
                  <a:lnTo>
                    <a:pt x="74" y="0"/>
                  </a:lnTo>
                  <a:lnTo>
                    <a:pt x="632" y="0"/>
                  </a:lnTo>
                  <a:lnTo>
                    <a:pt x="632" y="62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817720" y="5243400"/>
              <a:ext cx="189000" cy="19080"/>
            </a:xfrm>
            <a:custGeom>
              <a:avLst/>
              <a:gdLst/>
              <a:ahLst/>
              <a:rect l="l" t="t" r="r" b="b"/>
              <a:pathLst>
                <a:path w="599" h="61">
                  <a:moveTo>
                    <a:pt x="599" y="61"/>
                  </a:moveTo>
                  <a:lnTo>
                    <a:pt x="0" y="61"/>
                  </a:lnTo>
                  <a:lnTo>
                    <a:pt x="11" y="52"/>
                  </a:lnTo>
                  <a:lnTo>
                    <a:pt x="22" y="44"/>
                  </a:lnTo>
                  <a:lnTo>
                    <a:pt x="33" y="36"/>
                  </a:lnTo>
                  <a:lnTo>
                    <a:pt x="45" y="27"/>
                  </a:lnTo>
                  <a:lnTo>
                    <a:pt x="57" y="20"/>
                  </a:lnTo>
                  <a:lnTo>
                    <a:pt x="68" y="13"/>
                  </a:lnTo>
                  <a:lnTo>
                    <a:pt x="80" y="6"/>
                  </a:lnTo>
                  <a:lnTo>
                    <a:pt x="94" y="0"/>
                  </a:lnTo>
                  <a:lnTo>
                    <a:pt x="599" y="0"/>
                  </a:lnTo>
                  <a:lnTo>
                    <a:pt x="599" y="61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830680" y="5233680"/>
              <a:ext cx="176040" cy="19080"/>
            </a:xfrm>
            <a:custGeom>
              <a:avLst/>
              <a:gdLst/>
              <a:ahLst/>
              <a:rect l="l" t="t" r="r" b="b"/>
              <a:pathLst>
                <a:path w="558" h="62">
                  <a:moveTo>
                    <a:pt x="558" y="62"/>
                  </a:moveTo>
                  <a:lnTo>
                    <a:pt x="0" y="62"/>
                  </a:lnTo>
                  <a:lnTo>
                    <a:pt x="15" y="52"/>
                  </a:lnTo>
                  <a:lnTo>
                    <a:pt x="30" y="43"/>
                  </a:lnTo>
                  <a:lnTo>
                    <a:pt x="45" y="35"/>
                  </a:lnTo>
                  <a:lnTo>
                    <a:pt x="62" y="27"/>
                  </a:lnTo>
                  <a:lnTo>
                    <a:pt x="78" y="20"/>
                  </a:lnTo>
                  <a:lnTo>
                    <a:pt x="95" y="13"/>
                  </a:lnTo>
                  <a:lnTo>
                    <a:pt x="113" y="6"/>
                  </a:lnTo>
                  <a:lnTo>
                    <a:pt x="130" y="0"/>
                  </a:lnTo>
                  <a:lnTo>
                    <a:pt x="516" y="0"/>
                  </a:lnTo>
                  <a:lnTo>
                    <a:pt x="522" y="2"/>
                  </a:lnTo>
                  <a:lnTo>
                    <a:pt x="527" y="3"/>
                  </a:lnTo>
                  <a:lnTo>
                    <a:pt x="532" y="5"/>
                  </a:lnTo>
                  <a:lnTo>
                    <a:pt x="538" y="6"/>
                  </a:lnTo>
                  <a:lnTo>
                    <a:pt x="543" y="8"/>
                  </a:lnTo>
                  <a:lnTo>
                    <a:pt x="548" y="10"/>
                  </a:lnTo>
                  <a:lnTo>
                    <a:pt x="553" y="11"/>
                  </a:lnTo>
                  <a:lnTo>
                    <a:pt x="558" y="14"/>
                  </a:lnTo>
                  <a:lnTo>
                    <a:pt x="558" y="62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846520" y="5225760"/>
              <a:ext cx="160200" cy="17640"/>
            </a:xfrm>
            <a:custGeom>
              <a:avLst/>
              <a:gdLst/>
              <a:ahLst/>
              <a:rect l="l" t="t" r="r" b="b"/>
              <a:pathLst>
                <a:path w="505" h="56">
                  <a:moveTo>
                    <a:pt x="505" y="56"/>
                  </a:moveTo>
                  <a:lnTo>
                    <a:pt x="0" y="56"/>
                  </a:lnTo>
                  <a:lnTo>
                    <a:pt x="27" y="43"/>
                  </a:lnTo>
                  <a:lnTo>
                    <a:pt x="57" y="31"/>
                  </a:lnTo>
                  <a:lnTo>
                    <a:pt x="87" y="21"/>
                  </a:lnTo>
                  <a:lnTo>
                    <a:pt x="119" y="14"/>
                  </a:lnTo>
                  <a:lnTo>
                    <a:pt x="152" y="8"/>
                  </a:lnTo>
                  <a:lnTo>
                    <a:pt x="185" y="4"/>
                  </a:lnTo>
                  <a:lnTo>
                    <a:pt x="220" y="1"/>
                  </a:lnTo>
                  <a:lnTo>
                    <a:pt x="256" y="0"/>
                  </a:lnTo>
                  <a:lnTo>
                    <a:pt x="273" y="0"/>
                  </a:lnTo>
                  <a:lnTo>
                    <a:pt x="290" y="1"/>
                  </a:lnTo>
                  <a:lnTo>
                    <a:pt x="308" y="1"/>
                  </a:lnTo>
                  <a:lnTo>
                    <a:pt x="324" y="2"/>
                  </a:lnTo>
                  <a:lnTo>
                    <a:pt x="340" y="4"/>
                  </a:lnTo>
                  <a:lnTo>
                    <a:pt x="357" y="5"/>
                  </a:lnTo>
                  <a:lnTo>
                    <a:pt x="372" y="7"/>
                  </a:lnTo>
                  <a:lnTo>
                    <a:pt x="387" y="9"/>
                  </a:lnTo>
                  <a:lnTo>
                    <a:pt x="402" y="11"/>
                  </a:lnTo>
                  <a:lnTo>
                    <a:pt x="418" y="14"/>
                  </a:lnTo>
                  <a:lnTo>
                    <a:pt x="433" y="17"/>
                  </a:lnTo>
                  <a:lnTo>
                    <a:pt x="448" y="21"/>
                  </a:lnTo>
                  <a:lnTo>
                    <a:pt x="463" y="24"/>
                  </a:lnTo>
                  <a:lnTo>
                    <a:pt x="477" y="28"/>
                  </a:lnTo>
                  <a:lnTo>
                    <a:pt x="491" y="32"/>
                  </a:lnTo>
                  <a:lnTo>
                    <a:pt x="505" y="38"/>
                  </a:lnTo>
                  <a:lnTo>
                    <a:pt x="505" y="56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871720" y="5225760"/>
              <a:ext cx="122400" cy="7920"/>
            </a:xfrm>
            <a:custGeom>
              <a:avLst/>
              <a:gdLst/>
              <a:ahLst/>
              <a:rect l="l" t="t" r="r" b="b"/>
              <a:pathLst>
                <a:path w="386" h="24">
                  <a:moveTo>
                    <a:pt x="386" y="24"/>
                  </a:moveTo>
                  <a:lnTo>
                    <a:pt x="0" y="24"/>
                  </a:lnTo>
                  <a:lnTo>
                    <a:pt x="20" y="19"/>
                  </a:lnTo>
                  <a:lnTo>
                    <a:pt x="42" y="14"/>
                  </a:lnTo>
                  <a:lnTo>
                    <a:pt x="63" y="10"/>
                  </a:lnTo>
                  <a:lnTo>
                    <a:pt x="86" y="6"/>
                  </a:lnTo>
                  <a:lnTo>
                    <a:pt x="108" y="4"/>
                  </a:lnTo>
                  <a:lnTo>
                    <a:pt x="131" y="2"/>
                  </a:lnTo>
                  <a:lnTo>
                    <a:pt x="154" y="1"/>
                  </a:lnTo>
                  <a:lnTo>
                    <a:pt x="179" y="0"/>
                  </a:lnTo>
                  <a:lnTo>
                    <a:pt x="196" y="0"/>
                  </a:lnTo>
                  <a:lnTo>
                    <a:pt x="213" y="1"/>
                  </a:lnTo>
                  <a:lnTo>
                    <a:pt x="231" y="1"/>
                  </a:lnTo>
                  <a:lnTo>
                    <a:pt x="247" y="2"/>
                  </a:lnTo>
                  <a:lnTo>
                    <a:pt x="263" y="4"/>
                  </a:lnTo>
                  <a:lnTo>
                    <a:pt x="280" y="5"/>
                  </a:lnTo>
                  <a:lnTo>
                    <a:pt x="295" y="7"/>
                  </a:lnTo>
                  <a:lnTo>
                    <a:pt x="310" y="9"/>
                  </a:lnTo>
                  <a:lnTo>
                    <a:pt x="320" y="11"/>
                  </a:lnTo>
                  <a:lnTo>
                    <a:pt x="330" y="12"/>
                  </a:lnTo>
                  <a:lnTo>
                    <a:pt x="340" y="14"/>
                  </a:lnTo>
                  <a:lnTo>
                    <a:pt x="349" y="16"/>
                  </a:lnTo>
                  <a:lnTo>
                    <a:pt x="358" y="18"/>
                  </a:lnTo>
                  <a:lnTo>
                    <a:pt x="367" y="20"/>
                  </a:lnTo>
                  <a:lnTo>
                    <a:pt x="376" y="22"/>
                  </a:lnTo>
                  <a:lnTo>
                    <a:pt x="386" y="24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86920" y="5065560"/>
              <a:ext cx="367524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200" spc="-1" strike="noStrike">
                  <a:solidFill>
                    <a:srgbClr val="1f1a17"/>
                  </a:solidFill>
                  <a:latin typeface="Geometr231 Hv BT"/>
                </a:rPr>
                <a:t>ex &amp; silence</a:t>
              </a:r>
              <a:endParaRPr b="0" lang="en-US" sz="5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768760" y="5225760"/>
              <a:ext cx="249120" cy="487440"/>
            </a:xfrm>
            <a:custGeom>
              <a:avLst/>
              <a:gdLst/>
              <a:ahLst/>
              <a:rect l="l" t="t" r="r" b="b"/>
              <a:pathLst>
                <a:path w="788" h="1535">
                  <a:moveTo>
                    <a:pt x="28" y="1516"/>
                  </a:moveTo>
                  <a:lnTo>
                    <a:pt x="18" y="1106"/>
                  </a:lnTo>
                  <a:lnTo>
                    <a:pt x="29" y="1111"/>
                  </a:lnTo>
                  <a:lnTo>
                    <a:pt x="40" y="1115"/>
                  </a:lnTo>
                  <a:lnTo>
                    <a:pt x="51" y="1118"/>
                  </a:lnTo>
                  <a:lnTo>
                    <a:pt x="61" y="1122"/>
                  </a:lnTo>
                  <a:lnTo>
                    <a:pt x="71" y="1125"/>
                  </a:lnTo>
                  <a:lnTo>
                    <a:pt x="81" y="1128"/>
                  </a:lnTo>
                  <a:lnTo>
                    <a:pt x="91" y="1131"/>
                  </a:lnTo>
                  <a:lnTo>
                    <a:pt x="102" y="1133"/>
                  </a:lnTo>
                  <a:lnTo>
                    <a:pt x="112" y="1136"/>
                  </a:lnTo>
                  <a:lnTo>
                    <a:pt x="121" y="1138"/>
                  </a:lnTo>
                  <a:lnTo>
                    <a:pt x="131" y="1139"/>
                  </a:lnTo>
                  <a:lnTo>
                    <a:pt x="140" y="1142"/>
                  </a:lnTo>
                  <a:lnTo>
                    <a:pt x="150" y="1143"/>
                  </a:lnTo>
                  <a:lnTo>
                    <a:pt x="159" y="1143"/>
                  </a:lnTo>
                  <a:lnTo>
                    <a:pt x="168" y="1144"/>
                  </a:lnTo>
                  <a:lnTo>
                    <a:pt x="177" y="1144"/>
                  </a:lnTo>
                  <a:lnTo>
                    <a:pt x="192" y="1143"/>
                  </a:lnTo>
                  <a:lnTo>
                    <a:pt x="208" y="1142"/>
                  </a:lnTo>
                  <a:lnTo>
                    <a:pt x="222" y="1138"/>
                  </a:lnTo>
                  <a:lnTo>
                    <a:pt x="235" y="1135"/>
                  </a:lnTo>
                  <a:lnTo>
                    <a:pt x="249" y="1130"/>
                  </a:lnTo>
                  <a:lnTo>
                    <a:pt x="260" y="1124"/>
                  </a:lnTo>
                  <a:lnTo>
                    <a:pt x="271" y="1118"/>
                  </a:lnTo>
                  <a:lnTo>
                    <a:pt x="282" y="1110"/>
                  </a:lnTo>
                  <a:lnTo>
                    <a:pt x="291" y="1102"/>
                  </a:lnTo>
                  <a:lnTo>
                    <a:pt x="300" y="1093"/>
                  </a:lnTo>
                  <a:lnTo>
                    <a:pt x="307" y="1082"/>
                  </a:lnTo>
                  <a:lnTo>
                    <a:pt x="313" y="1072"/>
                  </a:lnTo>
                  <a:lnTo>
                    <a:pt x="317" y="1062"/>
                  </a:lnTo>
                  <a:lnTo>
                    <a:pt x="320" y="1051"/>
                  </a:lnTo>
                  <a:lnTo>
                    <a:pt x="322" y="1039"/>
                  </a:lnTo>
                  <a:lnTo>
                    <a:pt x="323" y="1026"/>
                  </a:lnTo>
                  <a:lnTo>
                    <a:pt x="322" y="1018"/>
                  </a:lnTo>
                  <a:lnTo>
                    <a:pt x="321" y="1009"/>
                  </a:lnTo>
                  <a:lnTo>
                    <a:pt x="319" y="1001"/>
                  </a:lnTo>
                  <a:lnTo>
                    <a:pt x="316" y="992"/>
                  </a:lnTo>
                  <a:lnTo>
                    <a:pt x="312" y="981"/>
                  </a:lnTo>
                  <a:lnTo>
                    <a:pt x="307" y="972"/>
                  </a:lnTo>
                  <a:lnTo>
                    <a:pt x="302" y="962"/>
                  </a:lnTo>
                  <a:lnTo>
                    <a:pt x="295" y="952"/>
                  </a:lnTo>
                  <a:lnTo>
                    <a:pt x="287" y="941"/>
                  </a:lnTo>
                  <a:lnTo>
                    <a:pt x="279" y="931"/>
                  </a:lnTo>
                  <a:lnTo>
                    <a:pt x="270" y="919"/>
                  </a:lnTo>
                  <a:lnTo>
                    <a:pt x="261" y="907"/>
                  </a:lnTo>
                  <a:lnTo>
                    <a:pt x="238" y="884"/>
                  </a:lnTo>
                  <a:lnTo>
                    <a:pt x="212" y="859"/>
                  </a:lnTo>
                  <a:lnTo>
                    <a:pt x="203" y="851"/>
                  </a:lnTo>
                  <a:lnTo>
                    <a:pt x="195" y="843"/>
                  </a:lnTo>
                  <a:lnTo>
                    <a:pt x="186" y="835"/>
                  </a:lnTo>
                  <a:lnTo>
                    <a:pt x="178" y="828"/>
                  </a:lnTo>
                  <a:lnTo>
                    <a:pt x="171" y="821"/>
                  </a:lnTo>
                  <a:lnTo>
                    <a:pt x="165" y="815"/>
                  </a:lnTo>
                  <a:lnTo>
                    <a:pt x="159" y="809"/>
                  </a:lnTo>
                  <a:lnTo>
                    <a:pt x="154" y="804"/>
                  </a:lnTo>
                  <a:lnTo>
                    <a:pt x="135" y="784"/>
                  </a:lnTo>
                  <a:lnTo>
                    <a:pt x="117" y="764"/>
                  </a:lnTo>
                  <a:lnTo>
                    <a:pt x="101" y="744"/>
                  </a:lnTo>
                  <a:lnTo>
                    <a:pt x="85" y="724"/>
                  </a:lnTo>
                  <a:lnTo>
                    <a:pt x="72" y="703"/>
                  </a:lnTo>
                  <a:lnTo>
                    <a:pt x="59" y="682"/>
                  </a:lnTo>
                  <a:lnTo>
                    <a:pt x="48" y="661"/>
                  </a:lnTo>
                  <a:lnTo>
                    <a:pt x="37" y="640"/>
                  </a:lnTo>
                  <a:lnTo>
                    <a:pt x="28" y="619"/>
                  </a:lnTo>
                  <a:lnTo>
                    <a:pt x="21" y="597"/>
                  </a:lnTo>
                  <a:lnTo>
                    <a:pt x="15" y="575"/>
                  </a:lnTo>
                  <a:lnTo>
                    <a:pt x="10" y="552"/>
                  </a:lnTo>
                  <a:lnTo>
                    <a:pt x="6" y="530"/>
                  </a:lnTo>
                  <a:lnTo>
                    <a:pt x="3" y="506"/>
                  </a:lnTo>
                  <a:lnTo>
                    <a:pt x="1" y="483"/>
                  </a:lnTo>
                  <a:lnTo>
                    <a:pt x="0" y="459"/>
                  </a:lnTo>
                  <a:lnTo>
                    <a:pt x="1" y="434"/>
                  </a:lnTo>
                  <a:lnTo>
                    <a:pt x="3" y="410"/>
                  </a:lnTo>
                  <a:lnTo>
                    <a:pt x="5" y="386"/>
                  </a:lnTo>
                  <a:lnTo>
                    <a:pt x="9" y="363"/>
                  </a:lnTo>
                  <a:lnTo>
                    <a:pt x="14" y="340"/>
                  </a:lnTo>
                  <a:lnTo>
                    <a:pt x="20" y="318"/>
                  </a:lnTo>
                  <a:lnTo>
                    <a:pt x="27" y="296"/>
                  </a:lnTo>
                  <a:lnTo>
                    <a:pt x="35" y="276"/>
                  </a:lnTo>
                  <a:lnTo>
                    <a:pt x="45" y="256"/>
                  </a:lnTo>
                  <a:lnTo>
                    <a:pt x="55" y="236"/>
                  </a:lnTo>
                  <a:lnTo>
                    <a:pt x="66" y="217"/>
                  </a:lnTo>
                  <a:lnTo>
                    <a:pt x="79" y="198"/>
                  </a:lnTo>
                  <a:lnTo>
                    <a:pt x="93" y="180"/>
                  </a:lnTo>
                  <a:lnTo>
                    <a:pt x="108" y="163"/>
                  </a:lnTo>
                  <a:lnTo>
                    <a:pt x="123" y="146"/>
                  </a:lnTo>
                  <a:lnTo>
                    <a:pt x="140" y="129"/>
                  </a:lnTo>
                  <a:lnTo>
                    <a:pt x="158" y="113"/>
                  </a:lnTo>
                  <a:lnTo>
                    <a:pt x="177" y="99"/>
                  </a:lnTo>
                  <a:lnTo>
                    <a:pt x="196" y="85"/>
                  </a:lnTo>
                  <a:lnTo>
                    <a:pt x="216" y="72"/>
                  </a:lnTo>
                  <a:lnTo>
                    <a:pt x="236" y="61"/>
                  </a:lnTo>
                  <a:lnTo>
                    <a:pt x="258" y="51"/>
                  </a:lnTo>
                  <a:lnTo>
                    <a:pt x="279" y="41"/>
                  </a:lnTo>
                  <a:lnTo>
                    <a:pt x="302" y="32"/>
                  </a:lnTo>
                  <a:lnTo>
                    <a:pt x="324" y="24"/>
                  </a:lnTo>
                  <a:lnTo>
                    <a:pt x="349" y="18"/>
                  </a:lnTo>
                  <a:lnTo>
                    <a:pt x="372" y="13"/>
                  </a:lnTo>
                  <a:lnTo>
                    <a:pt x="397" y="8"/>
                  </a:lnTo>
                  <a:lnTo>
                    <a:pt x="423" y="5"/>
                  </a:lnTo>
                  <a:lnTo>
                    <a:pt x="450" y="2"/>
                  </a:lnTo>
                  <a:lnTo>
                    <a:pt x="476" y="1"/>
                  </a:lnTo>
                  <a:lnTo>
                    <a:pt x="504" y="0"/>
                  </a:lnTo>
                  <a:lnTo>
                    <a:pt x="521" y="0"/>
                  </a:lnTo>
                  <a:lnTo>
                    <a:pt x="538" y="1"/>
                  </a:lnTo>
                  <a:lnTo>
                    <a:pt x="556" y="1"/>
                  </a:lnTo>
                  <a:lnTo>
                    <a:pt x="572" y="2"/>
                  </a:lnTo>
                  <a:lnTo>
                    <a:pt x="588" y="4"/>
                  </a:lnTo>
                  <a:lnTo>
                    <a:pt x="605" y="5"/>
                  </a:lnTo>
                  <a:lnTo>
                    <a:pt x="620" y="7"/>
                  </a:lnTo>
                  <a:lnTo>
                    <a:pt x="635" y="9"/>
                  </a:lnTo>
                  <a:lnTo>
                    <a:pt x="650" y="11"/>
                  </a:lnTo>
                  <a:lnTo>
                    <a:pt x="666" y="14"/>
                  </a:lnTo>
                  <a:lnTo>
                    <a:pt x="681" y="17"/>
                  </a:lnTo>
                  <a:lnTo>
                    <a:pt x="696" y="21"/>
                  </a:lnTo>
                  <a:lnTo>
                    <a:pt x="711" y="24"/>
                  </a:lnTo>
                  <a:lnTo>
                    <a:pt x="725" y="28"/>
                  </a:lnTo>
                  <a:lnTo>
                    <a:pt x="739" y="32"/>
                  </a:lnTo>
                  <a:lnTo>
                    <a:pt x="753" y="38"/>
                  </a:lnTo>
                  <a:lnTo>
                    <a:pt x="753" y="407"/>
                  </a:lnTo>
                  <a:lnTo>
                    <a:pt x="742" y="400"/>
                  </a:lnTo>
                  <a:lnTo>
                    <a:pt x="730" y="395"/>
                  </a:lnTo>
                  <a:lnTo>
                    <a:pt x="719" y="390"/>
                  </a:lnTo>
                  <a:lnTo>
                    <a:pt x="708" y="385"/>
                  </a:lnTo>
                  <a:lnTo>
                    <a:pt x="696" y="381"/>
                  </a:lnTo>
                  <a:lnTo>
                    <a:pt x="685" y="377"/>
                  </a:lnTo>
                  <a:lnTo>
                    <a:pt x="674" y="373"/>
                  </a:lnTo>
                  <a:lnTo>
                    <a:pt x="664" y="370"/>
                  </a:lnTo>
                  <a:lnTo>
                    <a:pt x="654" y="367"/>
                  </a:lnTo>
                  <a:lnTo>
                    <a:pt x="643" y="365"/>
                  </a:lnTo>
                  <a:lnTo>
                    <a:pt x="633" y="363"/>
                  </a:lnTo>
                  <a:lnTo>
                    <a:pt x="624" y="361"/>
                  </a:lnTo>
                  <a:lnTo>
                    <a:pt x="615" y="360"/>
                  </a:lnTo>
                  <a:lnTo>
                    <a:pt x="607" y="359"/>
                  </a:lnTo>
                  <a:lnTo>
                    <a:pt x="597" y="358"/>
                  </a:lnTo>
                  <a:lnTo>
                    <a:pt x="589" y="358"/>
                  </a:lnTo>
                  <a:lnTo>
                    <a:pt x="572" y="359"/>
                  </a:lnTo>
                  <a:lnTo>
                    <a:pt x="555" y="360"/>
                  </a:lnTo>
                  <a:lnTo>
                    <a:pt x="539" y="362"/>
                  </a:lnTo>
                  <a:lnTo>
                    <a:pt x="525" y="366"/>
                  </a:lnTo>
                  <a:lnTo>
                    <a:pt x="511" y="370"/>
                  </a:lnTo>
                  <a:lnTo>
                    <a:pt x="498" y="375"/>
                  </a:lnTo>
                  <a:lnTo>
                    <a:pt x="487" y="381"/>
                  </a:lnTo>
                  <a:lnTo>
                    <a:pt x="477" y="388"/>
                  </a:lnTo>
                  <a:lnTo>
                    <a:pt x="468" y="396"/>
                  </a:lnTo>
                  <a:lnTo>
                    <a:pt x="460" y="406"/>
                  </a:lnTo>
                  <a:lnTo>
                    <a:pt x="453" y="415"/>
                  </a:lnTo>
                  <a:lnTo>
                    <a:pt x="447" y="425"/>
                  </a:lnTo>
                  <a:lnTo>
                    <a:pt x="443" y="436"/>
                  </a:lnTo>
                  <a:lnTo>
                    <a:pt x="440" y="448"/>
                  </a:lnTo>
                  <a:lnTo>
                    <a:pt x="438" y="462"/>
                  </a:lnTo>
                  <a:lnTo>
                    <a:pt x="437" y="475"/>
                  </a:lnTo>
                  <a:lnTo>
                    <a:pt x="438" y="483"/>
                  </a:lnTo>
                  <a:lnTo>
                    <a:pt x="439" y="491"/>
                  </a:lnTo>
                  <a:lnTo>
                    <a:pt x="441" y="499"/>
                  </a:lnTo>
                  <a:lnTo>
                    <a:pt x="444" y="507"/>
                  </a:lnTo>
                  <a:lnTo>
                    <a:pt x="448" y="517"/>
                  </a:lnTo>
                  <a:lnTo>
                    <a:pt x="453" y="525"/>
                  </a:lnTo>
                  <a:lnTo>
                    <a:pt x="458" y="534"/>
                  </a:lnTo>
                  <a:lnTo>
                    <a:pt x="465" y="543"/>
                  </a:lnTo>
                  <a:lnTo>
                    <a:pt x="472" y="552"/>
                  </a:lnTo>
                  <a:lnTo>
                    <a:pt x="479" y="561"/>
                  </a:lnTo>
                  <a:lnTo>
                    <a:pt x="488" y="572"/>
                  </a:lnTo>
                  <a:lnTo>
                    <a:pt x="497" y="581"/>
                  </a:lnTo>
                  <a:lnTo>
                    <a:pt x="520" y="601"/>
                  </a:lnTo>
                  <a:lnTo>
                    <a:pt x="544" y="622"/>
                  </a:lnTo>
                  <a:lnTo>
                    <a:pt x="555" y="631"/>
                  </a:lnTo>
                  <a:lnTo>
                    <a:pt x="565" y="638"/>
                  </a:lnTo>
                  <a:lnTo>
                    <a:pt x="574" y="646"/>
                  </a:lnTo>
                  <a:lnTo>
                    <a:pt x="582" y="653"/>
                  </a:lnTo>
                  <a:lnTo>
                    <a:pt x="590" y="659"/>
                  </a:lnTo>
                  <a:lnTo>
                    <a:pt x="597" y="666"/>
                  </a:lnTo>
                  <a:lnTo>
                    <a:pt x="605" y="672"/>
                  </a:lnTo>
                  <a:lnTo>
                    <a:pt x="611" y="677"/>
                  </a:lnTo>
                  <a:lnTo>
                    <a:pt x="631" y="696"/>
                  </a:lnTo>
                  <a:lnTo>
                    <a:pt x="651" y="716"/>
                  </a:lnTo>
                  <a:lnTo>
                    <a:pt x="670" y="737"/>
                  </a:lnTo>
                  <a:lnTo>
                    <a:pt x="687" y="758"/>
                  </a:lnTo>
                  <a:lnTo>
                    <a:pt x="702" y="780"/>
                  </a:lnTo>
                  <a:lnTo>
                    <a:pt x="717" y="802"/>
                  </a:lnTo>
                  <a:lnTo>
                    <a:pt x="731" y="826"/>
                  </a:lnTo>
                  <a:lnTo>
                    <a:pt x="742" y="850"/>
                  </a:lnTo>
                  <a:lnTo>
                    <a:pt x="753" y="874"/>
                  </a:lnTo>
                  <a:lnTo>
                    <a:pt x="763" y="900"/>
                  </a:lnTo>
                  <a:lnTo>
                    <a:pt x="770" y="924"/>
                  </a:lnTo>
                  <a:lnTo>
                    <a:pt x="776" y="951"/>
                  </a:lnTo>
                  <a:lnTo>
                    <a:pt x="781" y="977"/>
                  </a:lnTo>
                  <a:lnTo>
                    <a:pt x="785" y="1004"/>
                  </a:lnTo>
                  <a:lnTo>
                    <a:pt x="787" y="1030"/>
                  </a:lnTo>
                  <a:lnTo>
                    <a:pt x="788" y="1058"/>
                  </a:lnTo>
                  <a:lnTo>
                    <a:pt x="787" y="1085"/>
                  </a:lnTo>
                  <a:lnTo>
                    <a:pt x="785" y="1112"/>
                  </a:lnTo>
                  <a:lnTo>
                    <a:pt x="782" y="1138"/>
                  </a:lnTo>
                  <a:lnTo>
                    <a:pt x="778" y="1164"/>
                  </a:lnTo>
                  <a:lnTo>
                    <a:pt x="773" y="1188"/>
                  </a:lnTo>
                  <a:lnTo>
                    <a:pt x="767" y="1212"/>
                  </a:lnTo>
                  <a:lnTo>
                    <a:pt x="760" y="1234"/>
                  </a:lnTo>
                  <a:lnTo>
                    <a:pt x="750" y="1257"/>
                  </a:lnTo>
                  <a:lnTo>
                    <a:pt x="741" y="1278"/>
                  </a:lnTo>
                  <a:lnTo>
                    <a:pt x="730" y="1300"/>
                  </a:lnTo>
                  <a:lnTo>
                    <a:pt x="718" y="1319"/>
                  </a:lnTo>
                  <a:lnTo>
                    <a:pt x="705" y="1338"/>
                  </a:lnTo>
                  <a:lnTo>
                    <a:pt x="690" y="1357"/>
                  </a:lnTo>
                  <a:lnTo>
                    <a:pt x="674" y="1375"/>
                  </a:lnTo>
                  <a:lnTo>
                    <a:pt x="658" y="1391"/>
                  </a:lnTo>
                  <a:lnTo>
                    <a:pt x="639" y="1408"/>
                  </a:lnTo>
                  <a:lnTo>
                    <a:pt x="621" y="1423"/>
                  </a:lnTo>
                  <a:lnTo>
                    <a:pt x="600" y="1438"/>
                  </a:lnTo>
                  <a:lnTo>
                    <a:pt x="580" y="1451"/>
                  </a:lnTo>
                  <a:lnTo>
                    <a:pt x="559" y="1464"/>
                  </a:lnTo>
                  <a:lnTo>
                    <a:pt x="536" y="1475"/>
                  </a:lnTo>
                  <a:lnTo>
                    <a:pt x="513" y="1485"/>
                  </a:lnTo>
                  <a:lnTo>
                    <a:pt x="488" y="1495"/>
                  </a:lnTo>
                  <a:lnTo>
                    <a:pt x="463" y="1503"/>
                  </a:lnTo>
                  <a:lnTo>
                    <a:pt x="436" y="1511"/>
                  </a:lnTo>
                  <a:lnTo>
                    <a:pt x="410" y="1517"/>
                  </a:lnTo>
                  <a:lnTo>
                    <a:pt x="382" y="1523"/>
                  </a:lnTo>
                  <a:lnTo>
                    <a:pt x="353" y="1527"/>
                  </a:lnTo>
                  <a:lnTo>
                    <a:pt x="323" y="1531"/>
                  </a:lnTo>
                  <a:lnTo>
                    <a:pt x="292" y="1533"/>
                  </a:lnTo>
                  <a:lnTo>
                    <a:pt x="261" y="1535"/>
                  </a:lnTo>
                  <a:lnTo>
                    <a:pt x="229" y="1535"/>
                  </a:lnTo>
                  <a:lnTo>
                    <a:pt x="216" y="1535"/>
                  </a:lnTo>
                  <a:lnTo>
                    <a:pt x="203" y="1534"/>
                  </a:lnTo>
                  <a:lnTo>
                    <a:pt x="189" y="1534"/>
                  </a:lnTo>
                  <a:lnTo>
                    <a:pt x="176" y="1533"/>
                  </a:lnTo>
                  <a:lnTo>
                    <a:pt x="163" y="1532"/>
                  </a:lnTo>
                  <a:lnTo>
                    <a:pt x="151" y="1532"/>
                  </a:lnTo>
                  <a:lnTo>
                    <a:pt x="137" y="1531"/>
                  </a:lnTo>
                  <a:lnTo>
                    <a:pt x="125" y="1530"/>
                  </a:lnTo>
                  <a:lnTo>
                    <a:pt x="113" y="1528"/>
                  </a:lnTo>
                  <a:lnTo>
                    <a:pt x="101" y="1527"/>
                  </a:lnTo>
                  <a:lnTo>
                    <a:pt x="88" y="1526"/>
                  </a:lnTo>
                  <a:lnTo>
                    <a:pt x="76" y="1524"/>
                  </a:lnTo>
                  <a:lnTo>
                    <a:pt x="64" y="1522"/>
                  </a:lnTo>
                  <a:lnTo>
                    <a:pt x="52" y="1520"/>
                  </a:lnTo>
                  <a:lnTo>
                    <a:pt x="40" y="1518"/>
                  </a:lnTo>
                  <a:lnTo>
                    <a:pt x="28" y="1516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4206960" y="773280"/>
            <a:ext cx="189000" cy="2880"/>
          </a:xfrm>
          <a:prstGeom prst="rect">
            <a:avLst/>
          </a:prstGeom>
          <a:solidFill>
            <a:srgbClr val="fef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3400560" y="762120"/>
            <a:ext cx="2116080" cy="777600"/>
            <a:chOff x="3400560" y="762120"/>
            <a:chExt cx="2116080" cy="777600"/>
          </a:xfrm>
        </p:grpSpPr>
        <p:sp>
          <p:nvSpPr>
            <p:cNvPr id="341" name=""/>
            <p:cNvSpPr/>
            <p:nvPr/>
          </p:nvSpPr>
          <p:spPr>
            <a:xfrm>
              <a:off x="3400560" y="804960"/>
              <a:ext cx="704880" cy="723960"/>
            </a:xfrm>
            <a:custGeom>
              <a:avLst/>
              <a:gdLst/>
              <a:ahLst/>
              <a:rect l="l" t="t" r="r" b="b"/>
              <a:pathLst>
                <a:path w="2223" h="2283">
                  <a:moveTo>
                    <a:pt x="870" y="1456"/>
                  </a:moveTo>
                  <a:lnTo>
                    <a:pt x="1339" y="1456"/>
                  </a:lnTo>
                  <a:lnTo>
                    <a:pt x="1104" y="687"/>
                  </a:lnTo>
                  <a:lnTo>
                    <a:pt x="870" y="1456"/>
                  </a:lnTo>
                  <a:close/>
                  <a:moveTo>
                    <a:pt x="0" y="2283"/>
                  </a:moveTo>
                  <a:lnTo>
                    <a:pt x="800" y="0"/>
                  </a:lnTo>
                  <a:lnTo>
                    <a:pt x="1468" y="0"/>
                  </a:lnTo>
                  <a:lnTo>
                    <a:pt x="2223" y="2283"/>
                  </a:lnTo>
                  <a:lnTo>
                    <a:pt x="1595" y="2283"/>
                  </a:lnTo>
                  <a:lnTo>
                    <a:pt x="1513" y="2027"/>
                  </a:lnTo>
                  <a:lnTo>
                    <a:pt x="704" y="2027"/>
                  </a:lnTo>
                  <a:lnTo>
                    <a:pt x="617" y="2283"/>
                  </a:lnTo>
                  <a:lnTo>
                    <a:pt x="0" y="228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176720" y="804960"/>
              <a:ext cx="189000" cy="72396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495680" y="804960"/>
              <a:ext cx="544680" cy="723960"/>
            </a:xfrm>
            <a:custGeom>
              <a:avLst/>
              <a:gdLst/>
              <a:ahLst/>
              <a:rect l="l" t="t" r="r" b="b"/>
              <a:pathLst>
                <a:path w="1714" h="2283">
                  <a:moveTo>
                    <a:pt x="590" y="1673"/>
                  </a:moveTo>
                  <a:lnTo>
                    <a:pt x="619" y="1669"/>
                  </a:lnTo>
                  <a:lnTo>
                    <a:pt x="647" y="1665"/>
                  </a:lnTo>
                  <a:lnTo>
                    <a:pt x="674" y="1660"/>
                  </a:lnTo>
                  <a:lnTo>
                    <a:pt x="700" y="1654"/>
                  </a:lnTo>
                  <a:lnTo>
                    <a:pt x="725" y="1647"/>
                  </a:lnTo>
                  <a:lnTo>
                    <a:pt x="750" y="1639"/>
                  </a:lnTo>
                  <a:lnTo>
                    <a:pt x="774" y="1629"/>
                  </a:lnTo>
                  <a:lnTo>
                    <a:pt x="798" y="1619"/>
                  </a:lnTo>
                  <a:lnTo>
                    <a:pt x="820" y="1608"/>
                  </a:lnTo>
                  <a:lnTo>
                    <a:pt x="841" y="1596"/>
                  </a:lnTo>
                  <a:lnTo>
                    <a:pt x="863" y="1583"/>
                  </a:lnTo>
                  <a:lnTo>
                    <a:pt x="883" y="1568"/>
                  </a:lnTo>
                  <a:lnTo>
                    <a:pt x="903" y="1554"/>
                  </a:lnTo>
                  <a:lnTo>
                    <a:pt x="922" y="1538"/>
                  </a:lnTo>
                  <a:lnTo>
                    <a:pt x="940" y="1521"/>
                  </a:lnTo>
                  <a:lnTo>
                    <a:pt x="958" y="1503"/>
                  </a:lnTo>
                  <a:lnTo>
                    <a:pt x="975" y="1485"/>
                  </a:lnTo>
                  <a:lnTo>
                    <a:pt x="990" y="1465"/>
                  </a:lnTo>
                  <a:lnTo>
                    <a:pt x="1005" y="1446"/>
                  </a:lnTo>
                  <a:lnTo>
                    <a:pt x="1018" y="1426"/>
                  </a:lnTo>
                  <a:lnTo>
                    <a:pt x="1030" y="1404"/>
                  </a:lnTo>
                  <a:lnTo>
                    <a:pt x="1041" y="1383"/>
                  </a:lnTo>
                  <a:lnTo>
                    <a:pt x="1052" y="1360"/>
                  </a:lnTo>
                  <a:lnTo>
                    <a:pt x="1061" y="1338"/>
                  </a:lnTo>
                  <a:lnTo>
                    <a:pt x="1069" y="1316"/>
                  </a:lnTo>
                  <a:lnTo>
                    <a:pt x="1076" y="1291"/>
                  </a:lnTo>
                  <a:lnTo>
                    <a:pt x="1082" y="1267"/>
                  </a:lnTo>
                  <a:lnTo>
                    <a:pt x="1087" y="1242"/>
                  </a:lnTo>
                  <a:lnTo>
                    <a:pt x="1090" y="1217"/>
                  </a:lnTo>
                  <a:lnTo>
                    <a:pt x="1093" y="1190"/>
                  </a:lnTo>
                  <a:lnTo>
                    <a:pt x="1094" y="1164"/>
                  </a:lnTo>
                  <a:lnTo>
                    <a:pt x="1095" y="1136"/>
                  </a:lnTo>
                  <a:lnTo>
                    <a:pt x="1094" y="1108"/>
                  </a:lnTo>
                  <a:lnTo>
                    <a:pt x="1093" y="1078"/>
                  </a:lnTo>
                  <a:lnTo>
                    <a:pt x="1090" y="1050"/>
                  </a:lnTo>
                  <a:lnTo>
                    <a:pt x="1086" y="1023"/>
                  </a:lnTo>
                  <a:lnTo>
                    <a:pt x="1082" y="996"/>
                  </a:lnTo>
                  <a:lnTo>
                    <a:pt x="1076" y="971"/>
                  </a:lnTo>
                  <a:lnTo>
                    <a:pt x="1069" y="945"/>
                  </a:lnTo>
                  <a:lnTo>
                    <a:pt x="1061" y="921"/>
                  </a:lnTo>
                  <a:lnTo>
                    <a:pt x="1052" y="897"/>
                  </a:lnTo>
                  <a:lnTo>
                    <a:pt x="1041" y="873"/>
                  </a:lnTo>
                  <a:lnTo>
                    <a:pt x="1029" y="851"/>
                  </a:lnTo>
                  <a:lnTo>
                    <a:pt x="1017" y="828"/>
                  </a:lnTo>
                  <a:lnTo>
                    <a:pt x="1004" y="808"/>
                  </a:lnTo>
                  <a:lnTo>
                    <a:pt x="988" y="786"/>
                  </a:lnTo>
                  <a:lnTo>
                    <a:pt x="973" y="767"/>
                  </a:lnTo>
                  <a:lnTo>
                    <a:pt x="956" y="748"/>
                  </a:lnTo>
                  <a:lnTo>
                    <a:pt x="938" y="729"/>
                  </a:lnTo>
                  <a:lnTo>
                    <a:pt x="920" y="712"/>
                  </a:lnTo>
                  <a:lnTo>
                    <a:pt x="901" y="696"/>
                  </a:lnTo>
                  <a:lnTo>
                    <a:pt x="880" y="680"/>
                  </a:lnTo>
                  <a:lnTo>
                    <a:pt x="860" y="667"/>
                  </a:lnTo>
                  <a:lnTo>
                    <a:pt x="838" y="654"/>
                  </a:lnTo>
                  <a:lnTo>
                    <a:pt x="817" y="643"/>
                  </a:lnTo>
                  <a:lnTo>
                    <a:pt x="794" y="633"/>
                  </a:lnTo>
                  <a:lnTo>
                    <a:pt x="771" y="623"/>
                  </a:lnTo>
                  <a:lnTo>
                    <a:pt x="748" y="615"/>
                  </a:lnTo>
                  <a:lnTo>
                    <a:pt x="723" y="608"/>
                  </a:lnTo>
                  <a:lnTo>
                    <a:pt x="698" y="602"/>
                  </a:lnTo>
                  <a:lnTo>
                    <a:pt x="672" y="598"/>
                  </a:lnTo>
                  <a:lnTo>
                    <a:pt x="646" y="594"/>
                  </a:lnTo>
                  <a:lnTo>
                    <a:pt x="619" y="592"/>
                  </a:lnTo>
                  <a:lnTo>
                    <a:pt x="590" y="591"/>
                  </a:lnTo>
                  <a:lnTo>
                    <a:pt x="590" y="1673"/>
                  </a:lnTo>
                  <a:close/>
                  <a:moveTo>
                    <a:pt x="345" y="0"/>
                  </a:moveTo>
                  <a:lnTo>
                    <a:pt x="424" y="1"/>
                  </a:lnTo>
                  <a:lnTo>
                    <a:pt x="500" y="3"/>
                  </a:lnTo>
                  <a:lnTo>
                    <a:pt x="570" y="6"/>
                  </a:lnTo>
                  <a:lnTo>
                    <a:pt x="637" y="10"/>
                  </a:lnTo>
                  <a:lnTo>
                    <a:pt x="701" y="16"/>
                  </a:lnTo>
                  <a:lnTo>
                    <a:pt x="760" y="23"/>
                  </a:lnTo>
                  <a:lnTo>
                    <a:pt x="814" y="32"/>
                  </a:lnTo>
                  <a:lnTo>
                    <a:pt x="865" y="41"/>
                  </a:lnTo>
                  <a:lnTo>
                    <a:pt x="913" y="53"/>
                  </a:lnTo>
                  <a:lnTo>
                    <a:pt x="960" y="65"/>
                  </a:lnTo>
                  <a:lnTo>
                    <a:pt x="1005" y="80"/>
                  </a:lnTo>
                  <a:lnTo>
                    <a:pt x="1049" y="96"/>
                  </a:lnTo>
                  <a:lnTo>
                    <a:pt x="1092" y="114"/>
                  </a:lnTo>
                  <a:lnTo>
                    <a:pt x="1134" y="133"/>
                  </a:lnTo>
                  <a:lnTo>
                    <a:pt x="1155" y="144"/>
                  </a:lnTo>
                  <a:lnTo>
                    <a:pt x="1174" y="154"/>
                  </a:lnTo>
                  <a:lnTo>
                    <a:pt x="1194" y="166"/>
                  </a:lnTo>
                  <a:lnTo>
                    <a:pt x="1214" y="178"/>
                  </a:lnTo>
                  <a:lnTo>
                    <a:pt x="1244" y="197"/>
                  </a:lnTo>
                  <a:lnTo>
                    <a:pt x="1273" y="218"/>
                  </a:lnTo>
                  <a:lnTo>
                    <a:pt x="1301" y="238"/>
                  </a:lnTo>
                  <a:lnTo>
                    <a:pt x="1329" y="260"/>
                  </a:lnTo>
                  <a:lnTo>
                    <a:pt x="1356" y="283"/>
                  </a:lnTo>
                  <a:lnTo>
                    <a:pt x="1381" y="305"/>
                  </a:lnTo>
                  <a:lnTo>
                    <a:pt x="1405" y="330"/>
                  </a:lnTo>
                  <a:lnTo>
                    <a:pt x="1429" y="354"/>
                  </a:lnTo>
                  <a:lnTo>
                    <a:pt x="1452" y="380"/>
                  </a:lnTo>
                  <a:lnTo>
                    <a:pt x="1474" y="406"/>
                  </a:lnTo>
                  <a:lnTo>
                    <a:pt x="1495" y="433"/>
                  </a:lnTo>
                  <a:lnTo>
                    <a:pt x="1515" y="461"/>
                  </a:lnTo>
                  <a:lnTo>
                    <a:pt x="1534" y="489"/>
                  </a:lnTo>
                  <a:lnTo>
                    <a:pt x="1552" y="518"/>
                  </a:lnTo>
                  <a:lnTo>
                    <a:pt x="1570" y="548"/>
                  </a:lnTo>
                  <a:lnTo>
                    <a:pt x="1586" y="580"/>
                  </a:lnTo>
                  <a:lnTo>
                    <a:pt x="1601" y="610"/>
                  </a:lnTo>
                  <a:lnTo>
                    <a:pt x="1616" y="643"/>
                  </a:lnTo>
                  <a:lnTo>
                    <a:pt x="1629" y="675"/>
                  </a:lnTo>
                  <a:lnTo>
                    <a:pt x="1642" y="709"/>
                  </a:lnTo>
                  <a:lnTo>
                    <a:pt x="1653" y="743"/>
                  </a:lnTo>
                  <a:lnTo>
                    <a:pt x="1664" y="777"/>
                  </a:lnTo>
                  <a:lnTo>
                    <a:pt x="1673" y="812"/>
                  </a:lnTo>
                  <a:lnTo>
                    <a:pt x="1682" y="848"/>
                  </a:lnTo>
                  <a:lnTo>
                    <a:pt x="1689" y="884"/>
                  </a:lnTo>
                  <a:lnTo>
                    <a:pt x="1695" y="921"/>
                  </a:lnTo>
                  <a:lnTo>
                    <a:pt x="1701" y="959"/>
                  </a:lnTo>
                  <a:lnTo>
                    <a:pt x="1705" y="996"/>
                  </a:lnTo>
                  <a:lnTo>
                    <a:pt x="1708" y="1035"/>
                  </a:lnTo>
                  <a:lnTo>
                    <a:pt x="1711" y="1075"/>
                  </a:lnTo>
                  <a:lnTo>
                    <a:pt x="1713" y="1115"/>
                  </a:lnTo>
                  <a:lnTo>
                    <a:pt x="1714" y="1155"/>
                  </a:lnTo>
                  <a:lnTo>
                    <a:pt x="1713" y="1192"/>
                  </a:lnTo>
                  <a:lnTo>
                    <a:pt x="1711" y="1229"/>
                  </a:lnTo>
                  <a:lnTo>
                    <a:pt x="1708" y="1265"/>
                  </a:lnTo>
                  <a:lnTo>
                    <a:pt x="1704" y="1300"/>
                  </a:lnTo>
                  <a:lnTo>
                    <a:pt x="1699" y="1335"/>
                  </a:lnTo>
                  <a:lnTo>
                    <a:pt x="1693" y="1370"/>
                  </a:lnTo>
                  <a:lnTo>
                    <a:pt x="1686" y="1404"/>
                  </a:lnTo>
                  <a:lnTo>
                    <a:pt x="1678" y="1438"/>
                  </a:lnTo>
                  <a:lnTo>
                    <a:pt x="1669" y="1471"/>
                  </a:lnTo>
                  <a:lnTo>
                    <a:pt x="1658" y="1505"/>
                  </a:lnTo>
                  <a:lnTo>
                    <a:pt x="1647" y="1538"/>
                  </a:lnTo>
                  <a:lnTo>
                    <a:pt x="1634" y="1570"/>
                  </a:lnTo>
                  <a:lnTo>
                    <a:pt x="1621" y="1602"/>
                  </a:lnTo>
                  <a:lnTo>
                    <a:pt x="1605" y="1634"/>
                  </a:lnTo>
                  <a:lnTo>
                    <a:pt x="1590" y="1665"/>
                  </a:lnTo>
                  <a:lnTo>
                    <a:pt x="1573" y="1696"/>
                  </a:lnTo>
                  <a:lnTo>
                    <a:pt x="1554" y="1726"/>
                  </a:lnTo>
                  <a:lnTo>
                    <a:pt x="1536" y="1756"/>
                  </a:lnTo>
                  <a:lnTo>
                    <a:pt x="1516" y="1785"/>
                  </a:lnTo>
                  <a:lnTo>
                    <a:pt x="1495" y="1813"/>
                  </a:lnTo>
                  <a:lnTo>
                    <a:pt x="1474" y="1841"/>
                  </a:lnTo>
                  <a:lnTo>
                    <a:pt x="1451" y="1868"/>
                  </a:lnTo>
                  <a:lnTo>
                    <a:pt x="1428" y="1894"/>
                  </a:lnTo>
                  <a:lnTo>
                    <a:pt x="1403" y="1919"/>
                  </a:lnTo>
                  <a:lnTo>
                    <a:pt x="1378" y="1944"/>
                  </a:lnTo>
                  <a:lnTo>
                    <a:pt x="1351" y="1968"/>
                  </a:lnTo>
                  <a:lnTo>
                    <a:pt x="1325" y="1991"/>
                  </a:lnTo>
                  <a:lnTo>
                    <a:pt x="1297" y="2014"/>
                  </a:lnTo>
                  <a:lnTo>
                    <a:pt x="1268" y="2036"/>
                  </a:lnTo>
                  <a:lnTo>
                    <a:pt x="1238" y="2057"/>
                  </a:lnTo>
                  <a:lnTo>
                    <a:pt x="1208" y="2078"/>
                  </a:lnTo>
                  <a:lnTo>
                    <a:pt x="1176" y="2097"/>
                  </a:lnTo>
                  <a:lnTo>
                    <a:pt x="1157" y="2110"/>
                  </a:lnTo>
                  <a:lnTo>
                    <a:pt x="1136" y="2121"/>
                  </a:lnTo>
                  <a:lnTo>
                    <a:pt x="1115" y="2132"/>
                  </a:lnTo>
                  <a:lnTo>
                    <a:pt x="1094" y="2142"/>
                  </a:lnTo>
                  <a:lnTo>
                    <a:pt x="1052" y="2163"/>
                  </a:lnTo>
                  <a:lnTo>
                    <a:pt x="1007" y="2181"/>
                  </a:lnTo>
                  <a:lnTo>
                    <a:pt x="962" y="2198"/>
                  </a:lnTo>
                  <a:lnTo>
                    <a:pt x="915" y="2214"/>
                  </a:lnTo>
                  <a:lnTo>
                    <a:pt x="867" y="2227"/>
                  </a:lnTo>
                  <a:lnTo>
                    <a:pt x="817" y="2239"/>
                  </a:lnTo>
                  <a:lnTo>
                    <a:pt x="766" y="2249"/>
                  </a:lnTo>
                  <a:lnTo>
                    <a:pt x="713" y="2258"/>
                  </a:lnTo>
                  <a:lnTo>
                    <a:pt x="657" y="2266"/>
                  </a:lnTo>
                  <a:lnTo>
                    <a:pt x="599" y="2272"/>
                  </a:lnTo>
                  <a:lnTo>
                    <a:pt x="538" y="2277"/>
                  </a:lnTo>
                  <a:lnTo>
                    <a:pt x="476" y="2281"/>
                  </a:lnTo>
                  <a:lnTo>
                    <a:pt x="411" y="2283"/>
                  </a:lnTo>
                  <a:lnTo>
                    <a:pt x="345" y="2283"/>
                  </a:lnTo>
                  <a:lnTo>
                    <a:pt x="0" y="2283"/>
                  </a:lnTo>
                  <a:lnTo>
                    <a:pt x="0" y="0"/>
                  </a:lnTo>
                  <a:lnTo>
                    <a:pt x="34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102280" y="792000"/>
              <a:ext cx="382680" cy="747720"/>
            </a:xfrm>
            <a:custGeom>
              <a:avLst/>
              <a:gdLst/>
              <a:ahLst/>
              <a:rect l="l" t="t" r="r" b="b"/>
              <a:pathLst>
                <a:path w="1208" h="2355">
                  <a:moveTo>
                    <a:pt x="44" y="2326"/>
                  </a:moveTo>
                  <a:lnTo>
                    <a:pt x="29" y="1697"/>
                  </a:lnTo>
                  <a:lnTo>
                    <a:pt x="45" y="1703"/>
                  </a:lnTo>
                  <a:lnTo>
                    <a:pt x="62" y="1710"/>
                  </a:lnTo>
                  <a:lnTo>
                    <a:pt x="78" y="1716"/>
                  </a:lnTo>
                  <a:lnTo>
                    <a:pt x="94" y="1722"/>
                  </a:lnTo>
                  <a:lnTo>
                    <a:pt x="109" y="1727"/>
                  </a:lnTo>
                  <a:lnTo>
                    <a:pt x="126" y="1732"/>
                  </a:lnTo>
                  <a:lnTo>
                    <a:pt x="141" y="1736"/>
                  </a:lnTo>
                  <a:lnTo>
                    <a:pt x="156" y="1740"/>
                  </a:lnTo>
                  <a:lnTo>
                    <a:pt x="172" y="1743"/>
                  </a:lnTo>
                  <a:lnTo>
                    <a:pt x="186" y="1746"/>
                  </a:lnTo>
                  <a:lnTo>
                    <a:pt x="201" y="1749"/>
                  </a:lnTo>
                  <a:lnTo>
                    <a:pt x="216" y="1751"/>
                  </a:lnTo>
                  <a:lnTo>
                    <a:pt x="230" y="1752"/>
                  </a:lnTo>
                  <a:lnTo>
                    <a:pt x="244" y="1753"/>
                  </a:lnTo>
                  <a:lnTo>
                    <a:pt x="258" y="1754"/>
                  </a:lnTo>
                  <a:lnTo>
                    <a:pt x="272" y="1754"/>
                  </a:lnTo>
                  <a:lnTo>
                    <a:pt x="296" y="1753"/>
                  </a:lnTo>
                  <a:lnTo>
                    <a:pt x="319" y="1751"/>
                  </a:lnTo>
                  <a:lnTo>
                    <a:pt x="341" y="1747"/>
                  </a:lnTo>
                  <a:lnTo>
                    <a:pt x="361" y="1742"/>
                  </a:lnTo>
                  <a:lnTo>
                    <a:pt x="381" y="1734"/>
                  </a:lnTo>
                  <a:lnTo>
                    <a:pt x="399" y="1726"/>
                  </a:lnTo>
                  <a:lnTo>
                    <a:pt x="417" y="1714"/>
                  </a:lnTo>
                  <a:lnTo>
                    <a:pt x="433" y="1703"/>
                  </a:lnTo>
                  <a:lnTo>
                    <a:pt x="447" y="1690"/>
                  </a:lnTo>
                  <a:lnTo>
                    <a:pt x="460" y="1676"/>
                  </a:lnTo>
                  <a:lnTo>
                    <a:pt x="465" y="1669"/>
                  </a:lnTo>
                  <a:lnTo>
                    <a:pt x="471" y="1660"/>
                  </a:lnTo>
                  <a:lnTo>
                    <a:pt x="476" y="1653"/>
                  </a:lnTo>
                  <a:lnTo>
                    <a:pt x="480" y="1645"/>
                  </a:lnTo>
                  <a:lnTo>
                    <a:pt x="483" y="1637"/>
                  </a:lnTo>
                  <a:lnTo>
                    <a:pt x="487" y="1629"/>
                  </a:lnTo>
                  <a:lnTo>
                    <a:pt x="489" y="1621"/>
                  </a:lnTo>
                  <a:lnTo>
                    <a:pt x="491" y="1611"/>
                  </a:lnTo>
                  <a:lnTo>
                    <a:pt x="494" y="1594"/>
                  </a:lnTo>
                  <a:lnTo>
                    <a:pt x="495" y="1575"/>
                  </a:lnTo>
                  <a:lnTo>
                    <a:pt x="494" y="1563"/>
                  </a:lnTo>
                  <a:lnTo>
                    <a:pt x="493" y="1548"/>
                  </a:lnTo>
                  <a:lnTo>
                    <a:pt x="489" y="1535"/>
                  </a:lnTo>
                  <a:lnTo>
                    <a:pt x="485" y="1521"/>
                  </a:lnTo>
                  <a:lnTo>
                    <a:pt x="479" y="1506"/>
                  </a:lnTo>
                  <a:lnTo>
                    <a:pt x="472" y="1491"/>
                  </a:lnTo>
                  <a:lnTo>
                    <a:pt x="462" y="1476"/>
                  </a:lnTo>
                  <a:lnTo>
                    <a:pt x="453" y="1460"/>
                  </a:lnTo>
                  <a:lnTo>
                    <a:pt x="441" y="1443"/>
                  </a:lnTo>
                  <a:lnTo>
                    <a:pt x="429" y="1427"/>
                  </a:lnTo>
                  <a:lnTo>
                    <a:pt x="414" y="1410"/>
                  </a:lnTo>
                  <a:lnTo>
                    <a:pt x="399" y="1392"/>
                  </a:lnTo>
                  <a:lnTo>
                    <a:pt x="383" y="1374"/>
                  </a:lnTo>
                  <a:lnTo>
                    <a:pt x="366" y="1356"/>
                  </a:lnTo>
                  <a:lnTo>
                    <a:pt x="346" y="1337"/>
                  </a:lnTo>
                  <a:lnTo>
                    <a:pt x="326" y="1318"/>
                  </a:lnTo>
                  <a:lnTo>
                    <a:pt x="311" y="1305"/>
                  </a:lnTo>
                  <a:lnTo>
                    <a:pt x="298" y="1292"/>
                  </a:lnTo>
                  <a:lnTo>
                    <a:pt x="286" y="1281"/>
                  </a:lnTo>
                  <a:lnTo>
                    <a:pt x="274" y="1270"/>
                  </a:lnTo>
                  <a:lnTo>
                    <a:pt x="264" y="1260"/>
                  </a:lnTo>
                  <a:lnTo>
                    <a:pt x="253" y="1251"/>
                  </a:lnTo>
                  <a:lnTo>
                    <a:pt x="244" y="1241"/>
                  </a:lnTo>
                  <a:lnTo>
                    <a:pt x="236" y="1233"/>
                  </a:lnTo>
                  <a:lnTo>
                    <a:pt x="207" y="1203"/>
                  </a:lnTo>
                  <a:lnTo>
                    <a:pt x="180" y="1172"/>
                  </a:lnTo>
                  <a:lnTo>
                    <a:pt x="154" y="1142"/>
                  </a:lnTo>
                  <a:lnTo>
                    <a:pt x="132" y="1110"/>
                  </a:lnTo>
                  <a:lnTo>
                    <a:pt x="111" y="1078"/>
                  </a:lnTo>
                  <a:lnTo>
                    <a:pt x="91" y="1047"/>
                  </a:lnTo>
                  <a:lnTo>
                    <a:pt x="74" y="1015"/>
                  </a:lnTo>
                  <a:lnTo>
                    <a:pt x="57" y="983"/>
                  </a:lnTo>
                  <a:lnTo>
                    <a:pt x="44" y="950"/>
                  </a:lnTo>
                  <a:lnTo>
                    <a:pt x="33" y="916"/>
                  </a:lnTo>
                  <a:lnTo>
                    <a:pt x="23" y="883"/>
                  </a:lnTo>
                  <a:lnTo>
                    <a:pt x="15" y="848"/>
                  </a:lnTo>
                  <a:lnTo>
                    <a:pt x="9" y="812"/>
                  </a:lnTo>
                  <a:lnTo>
                    <a:pt x="3" y="777"/>
                  </a:lnTo>
                  <a:lnTo>
                    <a:pt x="1" y="741"/>
                  </a:lnTo>
                  <a:lnTo>
                    <a:pt x="0" y="703"/>
                  </a:lnTo>
                  <a:lnTo>
                    <a:pt x="1" y="665"/>
                  </a:lnTo>
                  <a:lnTo>
                    <a:pt x="3" y="629"/>
                  </a:lnTo>
                  <a:lnTo>
                    <a:pt x="7" y="592"/>
                  </a:lnTo>
                  <a:lnTo>
                    <a:pt x="14" y="556"/>
                  </a:lnTo>
                  <a:lnTo>
                    <a:pt x="22" y="522"/>
                  </a:lnTo>
                  <a:lnTo>
                    <a:pt x="31" y="488"/>
                  </a:lnTo>
                  <a:lnTo>
                    <a:pt x="41" y="456"/>
                  </a:lnTo>
                  <a:lnTo>
                    <a:pt x="54" y="424"/>
                  </a:lnTo>
                  <a:lnTo>
                    <a:pt x="69" y="392"/>
                  </a:lnTo>
                  <a:lnTo>
                    <a:pt x="84" y="362"/>
                  </a:lnTo>
                  <a:lnTo>
                    <a:pt x="102" y="332"/>
                  </a:lnTo>
                  <a:lnTo>
                    <a:pt x="122" y="304"/>
                  </a:lnTo>
                  <a:lnTo>
                    <a:pt x="142" y="276"/>
                  </a:lnTo>
                  <a:lnTo>
                    <a:pt x="166" y="250"/>
                  </a:lnTo>
                  <a:lnTo>
                    <a:pt x="189" y="223"/>
                  </a:lnTo>
                  <a:lnTo>
                    <a:pt x="216" y="199"/>
                  </a:lnTo>
                  <a:lnTo>
                    <a:pt x="243" y="174"/>
                  </a:lnTo>
                  <a:lnTo>
                    <a:pt x="272" y="152"/>
                  </a:lnTo>
                  <a:lnTo>
                    <a:pt x="301" y="131"/>
                  </a:lnTo>
                  <a:lnTo>
                    <a:pt x="331" y="112"/>
                  </a:lnTo>
                  <a:lnTo>
                    <a:pt x="362" y="94"/>
                  </a:lnTo>
                  <a:lnTo>
                    <a:pt x="395" y="77"/>
                  </a:lnTo>
                  <a:lnTo>
                    <a:pt x="429" y="63"/>
                  </a:lnTo>
                  <a:lnTo>
                    <a:pt x="462" y="50"/>
                  </a:lnTo>
                  <a:lnTo>
                    <a:pt x="498" y="39"/>
                  </a:lnTo>
                  <a:lnTo>
                    <a:pt x="535" y="28"/>
                  </a:lnTo>
                  <a:lnTo>
                    <a:pt x="572" y="19"/>
                  </a:lnTo>
                  <a:lnTo>
                    <a:pt x="610" y="12"/>
                  </a:lnTo>
                  <a:lnTo>
                    <a:pt x="649" y="7"/>
                  </a:lnTo>
                  <a:lnTo>
                    <a:pt x="690" y="3"/>
                  </a:lnTo>
                  <a:lnTo>
                    <a:pt x="731" y="1"/>
                  </a:lnTo>
                  <a:lnTo>
                    <a:pt x="772" y="0"/>
                  </a:lnTo>
                  <a:lnTo>
                    <a:pt x="799" y="1"/>
                  </a:lnTo>
                  <a:lnTo>
                    <a:pt x="826" y="1"/>
                  </a:lnTo>
                  <a:lnTo>
                    <a:pt x="852" y="2"/>
                  </a:lnTo>
                  <a:lnTo>
                    <a:pt x="878" y="4"/>
                  </a:lnTo>
                  <a:lnTo>
                    <a:pt x="902" y="6"/>
                  </a:lnTo>
                  <a:lnTo>
                    <a:pt x="928" y="8"/>
                  </a:lnTo>
                  <a:lnTo>
                    <a:pt x="951" y="11"/>
                  </a:lnTo>
                  <a:lnTo>
                    <a:pt x="975" y="14"/>
                  </a:lnTo>
                  <a:lnTo>
                    <a:pt x="999" y="18"/>
                  </a:lnTo>
                  <a:lnTo>
                    <a:pt x="1022" y="22"/>
                  </a:lnTo>
                  <a:lnTo>
                    <a:pt x="1045" y="27"/>
                  </a:lnTo>
                  <a:lnTo>
                    <a:pt x="1067" y="32"/>
                  </a:lnTo>
                  <a:lnTo>
                    <a:pt x="1091" y="38"/>
                  </a:lnTo>
                  <a:lnTo>
                    <a:pt x="1113" y="44"/>
                  </a:lnTo>
                  <a:lnTo>
                    <a:pt x="1135" y="51"/>
                  </a:lnTo>
                  <a:lnTo>
                    <a:pt x="1157" y="58"/>
                  </a:lnTo>
                  <a:lnTo>
                    <a:pt x="1157" y="624"/>
                  </a:lnTo>
                  <a:lnTo>
                    <a:pt x="1139" y="616"/>
                  </a:lnTo>
                  <a:lnTo>
                    <a:pt x="1120" y="606"/>
                  </a:lnTo>
                  <a:lnTo>
                    <a:pt x="1102" y="598"/>
                  </a:lnTo>
                  <a:lnTo>
                    <a:pt x="1085" y="591"/>
                  </a:lnTo>
                  <a:lnTo>
                    <a:pt x="1068" y="585"/>
                  </a:lnTo>
                  <a:lnTo>
                    <a:pt x="1051" y="579"/>
                  </a:lnTo>
                  <a:lnTo>
                    <a:pt x="1035" y="573"/>
                  </a:lnTo>
                  <a:lnTo>
                    <a:pt x="1018" y="568"/>
                  </a:lnTo>
                  <a:lnTo>
                    <a:pt x="1002" y="564"/>
                  </a:lnTo>
                  <a:lnTo>
                    <a:pt x="987" y="559"/>
                  </a:lnTo>
                  <a:lnTo>
                    <a:pt x="972" y="556"/>
                  </a:lnTo>
                  <a:lnTo>
                    <a:pt x="957" y="553"/>
                  </a:lnTo>
                  <a:lnTo>
                    <a:pt x="944" y="551"/>
                  </a:lnTo>
                  <a:lnTo>
                    <a:pt x="930" y="550"/>
                  </a:lnTo>
                  <a:lnTo>
                    <a:pt x="917" y="549"/>
                  </a:lnTo>
                  <a:lnTo>
                    <a:pt x="904" y="549"/>
                  </a:lnTo>
                  <a:lnTo>
                    <a:pt x="877" y="549"/>
                  </a:lnTo>
                  <a:lnTo>
                    <a:pt x="851" y="552"/>
                  </a:lnTo>
                  <a:lnTo>
                    <a:pt x="828" y="555"/>
                  </a:lnTo>
                  <a:lnTo>
                    <a:pt x="805" y="560"/>
                  </a:lnTo>
                  <a:lnTo>
                    <a:pt x="784" y="568"/>
                  </a:lnTo>
                  <a:lnTo>
                    <a:pt x="765" y="576"/>
                  </a:lnTo>
                  <a:lnTo>
                    <a:pt x="756" y="580"/>
                  </a:lnTo>
                  <a:lnTo>
                    <a:pt x="747" y="585"/>
                  </a:lnTo>
                  <a:lnTo>
                    <a:pt x="740" y="590"/>
                  </a:lnTo>
                  <a:lnTo>
                    <a:pt x="732" y="596"/>
                  </a:lnTo>
                  <a:lnTo>
                    <a:pt x="725" y="602"/>
                  </a:lnTo>
                  <a:lnTo>
                    <a:pt x="717" y="608"/>
                  </a:lnTo>
                  <a:lnTo>
                    <a:pt x="711" y="615"/>
                  </a:lnTo>
                  <a:lnTo>
                    <a:pt x="705" y="622"/>
                  </a:lnTo>
                  <a:lnTo>
                    <a:pt x="700" y="629"/>
                  </a:lnTo>
                  <a:lnTo>
                    <a:pt x="695" y="636"/>
                  </a:lnTo>
                  <a:lnTo>
                    <a:pt x="691" y="644"/>
                  </a:lnTo>
                  <a:lnTo>
                    <a:pt x="687" y="652"/>
                  </a:lnTo>
                  <a:lnTo>
                    <a:pt x="683" y="660"/>
                  </a:lnTo>
                  <a:lnTo>
                    <a:pt x="680" y="670"/>
                  </a:lnTo>
                  <a:lnTo>
                    <a:pt x="678" y="679"/>
                  </a:lnTo>
                  <a:lnTo>
                    <a:pt x="676" y="688"/>
                  </a:lnTo>
                  <a:lnTo>
                    <a:pt x="673" y="707"/>
                  </a:lnTo>
                  <a:lnTo>
                    <a:pt x="672" y="729"/>
                  </a:lnTo>
                  <a:lnTo>
                    <a:pt x="673" y="741"/>
                  </a:lnTo>
                  <a:lnTo>
                    <a:pt x="675" y="753"/>
                  </a:lnTo>
                  <a:lnTo>
                    <a:pt x="678" y="765"/>
                  </a:lnTo>
                  <a:lnTo>
                    <a:pt x="682" y="779"/>
                  </a:lnTo>
                  <a:lnTo>
                    <a:pt x="688" y="792"/>
                  </a:lnTo>
                  <a:lnTo>
                    <a:pt x="695" y="805"/>
                  </a:lnTo>
                  <a:lnTo>
                    <a:pt x="703" y="819"/>
                  </a:lnTo>
                  <a:lnTo>
                    <a:pt x="712" y="833"/>
                  </a:lnTo>
                  <a:lnTo>
                    <a:pt x="724" y="847"/>
                  </a:lnTo>
                  <a:lnTo>
                    <a:pt x="736" y="862"/>
                  </a:lnTo>
                  <a:lnTo>
                    <a:pt x="749" y="877"/>
                  </a:lnTo>
                  <a:lnTo>
                    <a:pt x="764" y="892"/>
                  </a:lnTo>
                  <a:lnTo>
                    <a:pt x="780" y="907"/>
                  </a:lnTo>
                  <a:lnTo>
                    <a:pt x="797" y="922"/>
                  </a:lnTo>
                  <a:lnTo>
                    <a:pt x="815" y="938"/>
                  </a:lnTo>
                  <a:lnTo>
                    <a:pt x="836" y="954"/>
                  </a:lnTo>
                  <a:lnTo>
                    <a:pt x="851" y="967"/>
                  </a:lnTo>
                  <a:lnTo>
                    <a:pt x="866" y="979"/>
                  </a:lnTo>
                  <a:lnTo>
                    <a:pt x="881" y="992"/>
                  </a:lnTo>
                  <a:lnTo>
                    <a:pt x="894" y="1002"/>
                  </a:lnTo>
                  <a:lnTo>
                    <a:pt x="906" y="1012"/>
                  </a:lnTo>
                  <a:lnTo>
                    <a:pt x="917" y="1022"/>
                  </a:lnTo>
                  <a:lnTo>
                    <a:pt x="928" y="1030"/>
                  </a:lnTo>
                  <a:lnTo>
                    <a:pt x="937" y="1039"/>
                  </a:lnTo>
                  <a:lnTo>
                    <a:pt x="953" y="1054"/>
                  </a:lnTo>
                  <a:lnTo>
                    <a:pt x="969" y="1068"/>
                  </a:lnTo>
                  <a:lnTo>
                    <a:pt x="985" y="1083"/>
                  </a:lnTo>
                  <a:lnTo>
                    <a:pt x="999" y="1099"/>
                  </a:lnTo>
                  <a:lnTo>
                    <a:pt x="1013" y="1114"/>
                  </a:lnTo>
                  <a:lnTo>
                    <a:pt x="1027" y="1130"/>
                  </a:lnTo>
                  <a:lnTo>
                    <a:pt x="1041" y="1147"/>
                  </a:lnTo>
                  <a:lnTo>
                    <a:pt x="1054" y="1163"/>
                  </a:lnTo>
                  <a:lnTo>
                    <a:pt x="1066" y="1179"/>
                  </a:lnTo>
                  <a:lnTo>
                    <a:pt x="1078" y="1197"/>
                  </a:lnTo>
                  <a:lnTo>
                    <a:pt x="1090" y="1214"/>
                  </a:lnTo>
                  <a:lnTo>
                    <a:pt x="1101" y="1231"/>
                  </a:lnTo>
                  <a:lnTo>
                    <a:pt x="1111" y="1249"/>
                  </a:lnTo>
                  <a:lnTo>
                    <a:pt x="1121" y="1267"/>
                  </a:lnTo>
                  <a:lnTo>
                    <a:pt x="1131" y="1285"/>
                  </a:lnTo>
                  <a:lnTo>
                    <a:pt x="1140" y="1304"/>
                  </a:lnTo>
                  <a:lnTo>
                    <a:pt x="1148" y="1323"/>
                  </a:lnTo>
                  <a:lnTo>
                    <a:pt x="1156" y="1341"/>
                  </a:lnTo>
                  <a:lnTo>
                    <a:pt x="1163" y="1361"/>
                  </a:lnTo>
                  <a:lnTo>
                    <a:pt x="1169" y="1380"/>
                  </a:lnTo>
                  <a:lnTo>
                    <a:pt x="1175" y="1399"/>
                  </a:lnTo>
                  <a:lnTo>
                    <a:pt x="1182" y="1419"/>
                  </a:lnTo>
                  <a:lnTo>
                    <a:pt x="1187" y="1438"/>
                  </a:lnTo>
                  <a:lnTo>
                    <a:pt x="1192" y="1459"/>
                  </a:lnTo>
                  <a:lnTo>
                    <a:pt x="1195" y="1479"/>
                  </a:lnTo>
                  <a:lnTo>
                    <a:pt x="1199" y="1498"/>
                  </a:lnTo>
                  <a:lnTo>
                    <a:pt x="1202" y="1519"/>
                  </a:lnTo>
                  <a:lnTo>
                    <a:pt x="1204" y="1540"/>
                  </a:lnTo>
                  <a:lnTo>
                    <a:pt x="1206" y="1561"/>
                  </a:lnTo>
                  <a:lnTo>
                    <a:pt x="1207" y="1581"/>
                  </a:lnTo>
                  <a:lnTo>
                    <a:pt x="1208" y="1602"/>
                  </a:lnTo>
                  <a:lnTo>
                    <a:pt x="1208" y="1624"/>
                  </a:lnTo>
                  <a:lnTo>
                    <a:pt x="1208" y="1665"/>
                  </a:lnTo>
                  <a:lnTo>
                    <a:pt x="1205" y="1706"/>
                  </a:lnTo>
                  <a:lnTo>
                    <a:pt x="1201" y="1746"/>
                  </a:lnTo>
                  <a:lnTo>
                    <a:pt x="1195" y="1785"/>
                  </a:lnTo>
                  <a:lnTo>
                    <a:pt x="1187" y="1822"/>
                  </a:lnTo>
                  <a:lnTo>
                    <a:pt x="1176" y="1859"/>
                  </a:lnTo>
                  <a:lnTo>
                    <a:pt x="1171" y="1877"/>
                  </a:lnTo>
                  <a:lnTo>
                    <a:pt x="1165" y="1894"/>
                  </a:lnTo>
                  <a:lnTo>
                    <a:pt x="1159" y="1911"/>
                  </a:lnTo>
                  <a:lnTo>
                    <a:pt x="1152" y="1928"/>
                  </a:lnTo>
                  <a:lnTo>
                    <a:pt x="1145" y="1945"/>
                  </a:lnTo>
                  <a:lnTo>
                    <a:pt x="1137" y="1961"/>
                  </a:lnTo>
                  <a:lnTo>
                    <a:pt x="1128" y="1977"/>
                  </a:lnTo>
                  <a:lnTo>
                    <a:pt x="1120" y="1993"/>
                  </a:lnTo>
                  <a:lnTo>
                    <a:pt x="1111" y="2009"/>
                  </a:lnTo>
                  <a:lnTo>
                    <a:pt x="1101" y="2024"/>
                  </a:lnTo>
                  <a:lnTo>
                    <a:pt x="1091" y="2039"/>
                  </a:lnTo>
                  <a:lnTo>
                    <a:pt x="1081" y="2054"/>
                  </a:lnTo>
                  <a:lnTo>
                    <a:pt x="1070" y="2068"/>
                  </a:lnTo>
                  <a:lnTo>
                    <a:pt x="1059" y="2081"/>
                  </a:lnTo>
                  <a:lnTo>
                    <a:pt x="1047" y="2096"/>
                  </a:lnTo>
                  <a:lnTo>
                    <a:pt x="1035" y="2109"/>
                  </a:lnTo>
                  <a:lnTo>
                    <a:pt x="1022" y="2122"/>
                  </a:lnTo>
                  <a:lnTo>
                    <a:pt x="1009" y="2135"/>
                  </a:lnTo>
                  <a:lnTo>
                    <a:pt x="996" y="2148"/>
                  </a:lnTo>
                  <a:lnTo>
                    <a:pt x="982" y="2160"/>
                  </a:lnTo>
                  <a:lnTo>
                    <a:pt x="952" y="2183"/>
                  </a:lnTo>
                  <a:lnTo>
                    <a:pt x="921" y="2206"/>
                  </a:lnTo>
                  <a:lnTo>
                    <a:pt x="890" y="2226"/>
                  </a:lnTo>
                  <a:lnTo>
                    <a:pt x="857" y="2246"/>
                  </a:lnTo>
                  <a:lnTo>
                    <a:pt x="822" y="2263"/>
                  </a:lnTo>
                  <a:lnTo>
                    <a:pt x="786" y="2279"/>
                  </a:lnTo>
                  <a:lnTo>
                    <a:pt x="749" y="2293"/>
                  </a:lnTo>
                  <a:lnTo>
                    <a:pt x="710" y="2306"/>
                  </a:lnTo>
                  <a:lnTo>
                    <a:pt x="670" y="2318"/>
                  </a:lnTo>
                  <a:lnTo>
                    <a:pt x="629" y="2327"/>
                  </a:lnTo>
                  <a:lnTo>
                    <a:pt x="586" y="2336"/>
                  </a:lnTo>
                  <a:lnTo>
                    <a:pt x="542" y="2342"/>
                  </a:lnTo>
                  <a:lnTo>
                    <a:pt x="496" y="2348"/>
                  </a:lnTo>
                  <a:lnTo>
                    <a:pt x="449" y="2352"/>
                  </a:lnTo>
                  <a:lnTo>
                    <a:pt x="401" y="2355"/>
                  </a:lnTo>
                  <a:lnTo>
                    <a:pt x="351" y="2355"/>
                  </a:lnTo>
                  <a:lnTo>
                    <a:pt x="331" y="2355"/>
                  </a:lnTo>
                  <a:lnTo>
                    <a:pt x="310" y="2354"/>
                  </a:lnTo>
                  <a:lnTo>
                    <a:pt x="290" y="2353"/>
                  </a:lnTo>
                  <a:lnTo>
                    <a:pt x="271" y="2352"/>
                  </a:lnTo>
                  <a:lnTo>
                    <a:pt x="250" y="2351"/>
                  </a:lnTo>
                  <a:lnTo>
                    <a:pt x="231" y="2350"/>
                  </a:lnTo>
                  <a:lnTo>
                    <a:pt x="211" y="2348"/>
                  </a:lnTo>
                  <a:lnTo>
                    <a:pt x="192" y="2346"/>
                  </a:lnTo>
                  <a:lnTo>
                    <a:pt x="173" y="2344"/>
                  </a:lnTo>
                  <a:lnTo>
                    <a:pt x="154" y="2342"/>
                  </a:lnTo>
                  <a:lnTo>
                    <a:pt x="136" y="2340"/>
                  </a:lnTo>
                  <a:lnTo>
                    <a:pt x="117" y="2337"/>
                  </a:lnTo>
                  <a:lnTo>
                    <a:pt x="98" y="2335"/>
                  </a:lnTo>
                  <a:lnTo>
                    <a:pt x="80" y="2332"/>
                  </a:lnTo>
                  <a:lnTo>
                    <a:pt x="62" y="2329"/>
                  </a:lnTo>
                  <a:lnTo>
                    <a:pt x="44" y="23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676680" y="1022400"/>
              <a:ext cx="147600" cy="244440"/>
            </a:xfrm>
            <a:custGeom>
              <a:avLst/>
              <a:gdLst/>
              <a:ahLst/>
              <a:rect l="l" t="t" r="r" b="b"/>
              <a:pathLst>
                <a:path w="469" h="769">
                  <a:moveTo>
                    <a:pt x="0" y="769"/>
                  </a:moveTo>
                  <a:lnTo>
                    <a:pt x="469" y="769"/>
                  </a:lnTo>
                  <a:lnTo>
                    <a:pt x="234" y="0"/>
                  </a:lnTo>
                  <a:lnTo>
                    <a:pt x="0" y="769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400560" y="804960"/>
              <a:ext cx="704880" cy="723960"/>
            </a:xfrm>
            <a:custGeom>
              <a:avLst/>
              <a:gdLst/>
              <a:ahLst/>
              <a:rect l="l" t="t" r="r" b="b"/>
              <a:pathLst>
                <a:path w="2223" h="2283">
                  <a:moveTo>
                    <a:pt x="0" y="2283"/>
                  </a:moveTo>
                  <a:lnTo>
                    <a:pt x="800" y="0"/>
                  </a:lnTo>
                  <a:lnTo>
                    <a:pt x="1468" y="0"/>
                  </a:lnTo>
                  <a:lnTo>
                    <a:pt x="2223" y="2283"/>
                  </a:lnTo>
                  <a:lnTo>
                    <a:pt x="1595" y="2283"/>
                  </a:lnTo>
                  <a:lnTo>
                    <a:pt x="1513" y="2027"/>
                  </a:lnTo>
                  <a:lnTo>
                    <a:pt x="704" y="2027"/>
                  </a:lnTo>
                  <a:lnTo>
                    <a:pt x="617" y="2283"/>
                  </a:lnTo>
                  <a:lnTo>
                    <a:pt x="0" y="2283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176720" y="804960"/>
              <a:ext cx="189000" cy="723960"/>
            </a:xfrm>
            <a:prstGeom prst="rect">
              <a:avLst/>
            </a:prstGeom>
            <a:noFill/>
            <a:ln w="14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683240" y="992160"/>
              <a:ext cx="160200" cy="343080"/>
            </a:xfrm>
            <a:custGeom>
              <a:avLst/>
              <a:gdLst/>
              <a:ahLst/>
              <a:rect l="l" t="t" r="r" b="b"/>
              <a:pathLst>
                <a:path w="505" h="1082">
                  <a:moveTo>
                    <a:pt x="0" y="1082"/>
                  </a:moveTo>
                  <a:lnTo>
                    <a:pt x="29" y="1078"/>
                  </a:lnTo>
                  <a:lnTo>
                    <a:pt x="57" y="1074"/>
                  </a:lnTo>
                  <a:lnTo>
                    <a:pt x="84" y="1069"/>
                  </a:lnTo>
                  <a:lnTo>
                    <a:pt x="110" y="1063"/>
                  </a:lnTo>
                  <a:lnTo>
                    <a:pt x="135" y="1056"/>
                  </a:lnTo>
                  <a:lnTo>
                    <a:pt x="160" y="1048"/>
                  </a:lnTo>
                  <a:lnTo>
                    <a:pt x="184" y="1038"/>
                  </a:lnTo>
                  <a:lnTo>
                    <a:pt x="208" y="1028"/>
                  </a:lnTo>
                  <a:lnTo>
                    <a:pt x="230" y="1017"/>
                  </a:lnTo>
                  <a:lnTo>
                    <a:pt x="251" y="1005"/>
                  </a:lnTo>
                  <a:lnTo>
                    <a:pt x="273" y="992"/>
                  </a:lnTo>
                  <a:lnTo>
                    <a:pt x="293" y="977"/>
                  </a:lnTo>
                  <a:lnTo>
                    <a:pt x="313" y="963"/>
                  </a:lnTo>
                  <a:lnTo>
                    <a:pt x="332" y="947"/>
                  </a:lnTo>
                  <a:lnTo>
                    <a:pt x="350" y="930"/>
                  </a:lnTo>
                  <a:lnTo>
                    <a:pt x="368" y="912"/>
                  </a:lnTo>
                  <a:lnTo>
                    <a:pt x="385" y="894"/>
                  </a:lnTo>
                  <a:lnTo>
                    <a:pt x="400" y="874"/>
                  </a:lnTo>
                  <a:lnTo>
                    <a:pt x="415" y="855"/>
                  </a:lnTo>
                  <a:lnTo>
                    <a:pt x="428" y="835"/>
                  </a:lnTo>
                  <a:lnTo>
                    <a:pt x="440" y="813"/>
                  </a:lnTo>
                  <a:lnTo>
                    <a:pt x="451" y="792"/>
                  </a:lnTo>
                  <a:lnTo>
                    <a:pt x="462" y="769"/>
                  </a:lnTo>
                  <a:lnTo>
                    <a:pt x="471" y="747"/>
                  </a:lnTo>
                  <a:lnTo>
                    <a:pt x="479" y="725"/>
                  </a:lnTo>
                  <a:lnTo>
                    <a:pt x="486" y="700"/>
                  </a:lnTo>
                  <a:lnTo>
                    <a:pt x="492" y="676"/>
                  </a:lnTo>
                  <a:lnTo>
                    <a:pt x="497" y="651"/>
                  </a:lnTo>
                  <a:lnTo>
                    <a:pt x="500" y="626"/>
                  </a:lnTo>
                  <a:lnTo>
                    <a:pt x="503" y="599"/>
                  </a:lnTo>
                  <a:lnTo>
                    <a:pt x="504" y="573"/>
                  </a:lnTo>
                  <a:lnTo>
                    <a:pt x="505" y="545"/>
                  </a:lnTo>
                  <a:lnTo>
                    <a:pt x="504" y="517"/>
                  </a:lnTo>
                  <a:lnTo>
                    <a:pt x="503" y="487"/>
                  </a:lnTo>
                  <a:lnTo>
                    <a:pt x="500" y="459"/>
                  </a:lnTo>
                  <a:lnTo>
                    <a:pt x="496" y="432"/>
                  </a:lnTo>
                  <a:lnTo>
                    <a:pt x="492" y="405"/>
                  </a:lnTo>
                  <a:lnTo>
                    <a:pt x="486" y="380"/>
                  </a:lnTo>
                  <a:lnTo>
                    <a:pt x="479" y="354"/>
                  </a:lnTo>
                  <a:lnTo>
                    <a:pt x="471" y="330"/>
                  </a:lnTo>
                  <a:lnTo>
                    <a:pt x="462" y="306"/>
                  </a:lnTo>
                  <a:lnTo>
                    <a:pt x="451" y="282"/>
                  </a:lnTo>
                  <a:lnTo>
                    <a:pt x="439" y="260"/>
                  </a:lnTo>
                  <a:lnTo>
                    <a:pt x="427" y="237"/>
                  </a:lnTo>
                  <a:lnTo>
                    <a:pt x="414" y="217"/>
                  </a:lnTo>
                  <a:lnTo>
                    <a:pt x="398" y="195"/>
                  </a:lnTo>
                  <a:lnTo>
                    <a:pt x="383" y="176"/>
                  </a:lnTo>
                  <a:lnTo>
                    <a:pt x="366" y="157"/>
                  </a:lnTo>
                  <a:lnTo>
                    <a:pt x="348" y="138"/>
                  </a:lnTo>
                  <a:lnTo>
                    <a:pt x="330" y="121"/>
                  </a:lnTo>
                  <a:lnTo>
                    <a:pt x="311" y="105"/>
                  </a:lnTo>
                  <a:lnTo>
                    <a:pt x="290" y="89"/>
                  </a:lnTo>
                  <a:lnTo>
                    <a:pt x="270" y="76"/>
                  </a:lnTo>
                  <a:lnTo>
                    <a:pt x="248" y="63"/>
                  </a:lnTo>
                  <a:lnTo>
                    <a:pt x="227" y="52"/>
                  </a:lnTo>
                  <a:lnTo>
                    <a:pt x="204" y="42"/>
                  </a:lnTo>
                  <a:lnTo>
                    <a:pt x="181" y="32"/>
                  </a:lnTo>
                  <a:lnTo>
                    <a:pt x="158" y="24"/>
                  </a:lnTo>
                  <a:lnTo>
                    <a:pt x="133" y="17"/>
                  </a:lnTo>
                  <a:lnTo>
                    <a:pt x="108" y="11"/>
                  </a:lnTo>
                  <a:lnTo>
                    <a:pt x="82" y="7"/>
                  </a:lnTo>
                  <a:lnTo>
                    <a:pt x="56" y="3"/>
                  </a:lnTo>
                  <a:lnTo>
                    <a:pt x="29" y="1"/>
                  </a:lnTo>
                  <a:lnTo>
                    <a:pt x="0" y="0"/>
                  </a:lnTo>
                  <a:lnTo>
                    <a:pt x="0" y="1082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495680" y="804960"/>
              <a:ext cx="544680" cy="723960"/>
            </a:xfrm>
            <a:custGeom>
              <a:avLst/>
              <a:gdLst/>
              <a:ahLst/>
              <a:rect l="l" t="t" r="r" b="b"/>
              <a:pathLst>
                <a:path w="1714" h="2283">
                  <a:moveTo>
                    <a:pt x="345" y="0"/>
                  </a:moveTo>
                  <a:lnTo>
                    <a:pt x="424" y="1"/>
                  </a:lnTo>
                  <a:lnTo>
                    <a:pt x="500" y="3"/>
                  </a:lnTo>
                  <a:lnTo>
                    <a:pt x="570" y="6"/>
                  </a:lnTo>
                  <a:lnTo>
                    <a:pt x="637" y="10"/>
                  </a:lnTo>
                  <a:lnTo>
                    <a:pt x="701" y="16"/>
                  </a:lnTo>
                  <a:lnTo>
                    <a:pt x="760" y="23"/>
                  </a:lnTo>
                  <a:lnTo>
                    <a:pt x="814" y="32"/>
                  </a:lnTo>
                  <a:lnTo>
                    <a:pt x="865" y="41"/>
                  </a:lnTo>
                  <a:lnTo>
                    <a:pt x="913" y="53"/>
                  </a:lnTo>
                  <a:lnTo>
                    <a:pt x="960" y="65"/>
                  </a:lnTo>
                  <a:lnTo>
                    <a:pt x="1005" y="80"/>
                  </a:lnTo>
                  <a:lnTo>
                    <a:pt x="1049" y="96"/>
                  </a:lnTo>
                  <a:lnTo>
                    <a:pt x="1092" y="114"/>
                  </a:lnTo>
                  <a:lnTo>
                    <a:pt x="1134" y="133"/>
                  </a:lnTo>
                  <a:lnTo>
                    <a:pt x="1155" y="144"/>
                  </a:lnTo>
                  <a:lnTo>
                    <a:pt x="1174" y="154"/>
                  </a:lnTo>
                  <a:lnTo>
                    <a:pt x="1194" y="166"/>
                  </a:lnTo>
                  <a:lnTo>
                    <a:pt x="1214" y="178"/>
                  </a:lnTo>
                  <a:lnTo>
                    <a:pt x="1244" y="197"/>
                  </a:lnTo>
                  <a:lnTo>
                    <a:pt x="1273" y="218"/>
                  </a:lnTo>
                  <a:lnTo>
                    <a:pt x="1301" y="238"/>
                  </a:lnTo>
                  <a:lnTo>
                    <a:pt x="1329" y="260"/>
                  </a:lnTo>
                  <a:lnTo>
                    <a:pt x="1356" y="283"/>
                  </a:lnTo>
                  <a:lnTo>
                    <a:pt x="1381" y="305"/>
                  </a:lnTo>
                  <a:lnTo>
                    <a:pt x="1405" y="330"/>
                  </a:lnTo>
                  <a:lnTo>
                    <a:pt x="1429" y="354"/>
                  </a:lnTo>
                  <a:lnTo>
                    <a:pt x="1452" y="380"/>
                  </a:lnTo>
                  <a:lnTo>
                    <a:pt x="1474" y="406"/>
                  </a:lnTo>
                  <a:lnTo>
                    <a:pt x="1495" y="433"/>
                  </a:lnTo>
                  <a:lnTo>
                    <a:pt x="1515" y="461"/>
                  </a:lnTo>
                  <a:lnTo>
                    <a:pt x="1534" y="489"/>
                  </a:lnTo>
                  <a:lnTo>
                    <a:pt x="1552" y="518"/>
                  </a:lnTo>
                  <a:lnTo>
                    <a:pt x="1570" y="548"/>
                  </a:lnTo>
                  <a:lnTo>
                    <a:pt x="1586" y="580"/>
                  </a:lnTo>
                  <a:lnTo>
                    <a:pt x="1601" y="610"/>
                  </a:lnTo>
                  <a:lnTo>
                    <a:pt x="1616" y="643"/>
                  </a:lnTo>
                  <a:lnTo>
                    <a:pt x="1629" y="675"/>
                  </a:lnTo>
                  <a:lnTo>
                    <a:pt x="1642" y="709"/>
                  </a:lnTo>
                  <a:lnTo>
                    <a:pt x="1653" y="743"/>
                  </a:lnTo>
                  <a:lnTo>
                    <a:pt x="1664" y="777"/>
                  </a:lnTo>
                  <a:lnTo>
                    <a:pt x="1673" y="812"/>
                  </a:lnTo>
                  <a:lnTo>
                    <a:pt x="1682" y="848"/>
                  </a:lnTo>
                  <a:lnTo>
                    <a:pt x="1689" y="884"/>
                  </a:lnTo>
                  <a:lnTo>
                    <a:pt x="1695" y="921"/>
                  </a:lnTo>
                  <a:lnTo>
                    <a:pt x="1701" y="959"/>
                  </a:lnTo>
                  <a:lnTo>
                    <a:pt x="1705" y="996"/>
                  </a:lnTo>
                  <a:lnTo>
                    <a:pt x="1708" y="1035"/>
                  </a:lnTo>
                  <a:lnTo>
                    <a:pt x="1711" y="1075"/>
                  </a:lnTo>
                  <a:lnTo>
                    <a:pt x="1713" y="1115"/>
                  </a:lnTo>
                  <a:lnTo>
                    <a:pt x="1714" y="1155"/>
                  </a:lnTo>
                  <a:lnTo>
                    <a:pt x="1713" y="1192"/>
                  </a:lnTo>
                  <a:lnTo>
                    <a:pt x="1711" y="1229"/>
                  </a:lnTo>
                  <a:lnTo>
                    <a:pt x="1708" y="1265"/>
                  </a:lnTo>
                  <a:lnTo>
                    <a:pt x="1704" y="1300"/>
                  </a:lnTo>
                  <a:lnTo>
                    <a:pt x="1699" y="1335"/>
                  </a:lnTo>
                  <a:lnTo>
                    <a:pt x="1693" y="1370"/>
                  </a:lnTo>
                  <a:lnTo>
                    <a:pt x="1686" y="1404"/>
                  </a:lnTo>
                  <a:lnTo>
                    <a:pt x="1678" y="1438"/>
                  </a:lnTo>
                  <a:lnTo>
                    <a:pt x="1669" y="1471"/>
                  </a:lnTo>
                  <a:lnTo>
                    <a:pt x="1658" y="1505"/>
                  </a:lnTo>
                  <a:lnTo>
                    <a:pt x="1647" y="1538"/>
                  </a:lnTo>
                  <a:lnTo>
                    <a:pt x="1634" y="1570"/>
                  </a:lnTo>
                  <a:lnTo>
                    <a:pt x="1621" y="1602"/>
                  </a:lnTo>
                  <a:lnTo>
                    <a:pt x="1605" y="1634"/>
                  </a:lnTo>
                  <a:lnTo>
                    <a:pt x="1590" y="1665"/>
                  </a:lnTo>
                  <a:lnTo>
                    <a:pt x="1573" y="1696"/>
                  </a:lnTo>
                  <a:lnTo>
                    <a:pt x="1554" y="1726"/>
                  </a:lnTo>
                  <a:lnTo>
                    <a:pt x="1536" y="1756"/>
                  </a:lnTo>
                  <a:lnTo>
                    <a:pt x="1516" y="1785"/>
                  </a:lnTo>
                  <a:lnTo>
                    <a:pt x="1495" y="1813"/>
                  </a:lnTo>
                  <a:lnTo>
                    <a:pt x="1474" y="1841"/>
                  </a:lnTo>
                  <a:lnTo>
                    <a:pt x="1451" y="1868"/>
                  </a:lnTo>
                  <a:lnTo>
                    <a:pt x="1428" y="1894"/>
                  </a:lnTo>
                  <a:lnTo>
                    <a:pt x="1403" y="1919"/>
                  </a:lnTo>
                  <a:lnTo>
                    <a:pt x="1378" y="1944"/>
                  </a:lnTo>
                  <a:lnTo>
                    <a:pt x="1351" y="1968"/>
                  </a:lnTo>
                  <a:lnTo>
                    <a:pt x="1325" y="1991"/>
                  </a:lnTo>
                  <a:lnTo>
                    <a:pt x="1297" y="2014"/>
                  </a:lnTo>
                  <a:lnTo>
                    <a:pt x="1268" y="2036"/>
                  </a:lnTo>
                  <a:lnTo>
                    <a:pt x="1238" y="2057"/>
                  </a:lnTo>
                  <a:lnTo>
                    <a:pt x="1208" y="2078"/>
                  </a:lnTo>
                  <a:lnTo>
                    <a:pt x="1176" y="2097"/>
                  </a:lnTo>
                  <a:lnTo>
                    <a:pt x="1157" y="2110"/>
                  </a:lnTo>
                  <a:lnTo>
                    <a:pt x="1136" y="2121"/>
                  </a:lnTo>
                  <a:lnTo>
                    <a:pt x="1115" y="2132"/>
                  </a:lnTo>
                  <a:lnTo>
                    <a:pt x="1094" y="2142"/>
                  </a:lnTo>
                  <a:lnTo>
                    <a:pt x="1052" y="2163"/>
                  </a:lnTo>
                  <a:lnTo>
                    <a:pt x="1007" y="2181"/>
                  </a:lnTo>
                  <a:lnTo>
                    <a:pt x="962" y="2198"/>
                  </a:lnTo>
                  <a:lnTo>
                    <a:pt x="915" y="2214"/>
                  </a:lnTo>
                  <a:lnTo>
                    <a:pt x="867" y="2227"/>
                  </a:lnTo>
                  <a:lnTo>
                    <a:pt x="817" y="2239"/>
                  </a:lnTo>
                  <a:lnTo>
                    <a:pt x="766" y="2249"/>
                  </a:lnTo>
                  <a:lnTo>
                    <a:pt x="713" y="2258"/>
                  </a:lnTo>
                  <a:lnTo>
                    <a:pt x="657" y="2266"/>
                  </a:lnTo>
                  <a:lnTo>
                    <a:pt x="599" y="2272"/>
                  </a:lnTo>
                  <a:lnTo>
                    <a:pt x="538" y="2277"/>
                  </a:lnTo>
                  <a:lnTo>
                    <a:pt x="476" y="2281"/>
                  </a:lnTo>
                  <a:lnTo>
                    <a:pt x="411" y="2283"/>
                  </a:lnTo>
                  <a:lnTo>
                    <a:pt x="345" y="2283"/>
                  </a:lnTo>
                  <a:lnTo>
                    <a:pt x="0" y="2283"/>
                  </a:lnTo>
                  <a:lnTo>
                    <a:pt x="0" y="0"/>
                  </a:lnTo>
                  <a:lnTo>
                    <a:pt x="345" y="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102280" y="792000"/>
              <a:ext cx="382680" cy="747720"/>
            </a:xfrm>
            <a:custGeom>
              <a:avLst/>
              <a:gdLst/>
              <a:ahLst/>
              <a:rect l="l" t="t" r="r" b="b"/>
              <a:pathLst>
                <a:path w="1208" h="2355">
                  <a:moveTo>
                    <a:pt x="44" y="2326"/>
                  </a:moveTo>
                  <a:lnTo>
                    <a:pt x="29" y="1697"/>
                  </a:lnTo>
                  <a:lnTo>
                    <a:pt x="45" y="1703"/>
                  </a:lnTo>
                  <a:lnTo>
                    <a:pt x="62" y="1710"/>
                  </a:lnTo>
                  <a:lnTo>
                    <a:pt x="78" y="1716"/>
                  </a:lnTo>
                  <a:lnTo>
                    <a:pt x="94" y="1722"/>
                  </a:lnTo>
                  <a:lnTo>
                    <a:pt x="109" y="1727"/>
                  </a:lnTo>
                  <a:lnTo>
                    <a:pt x="126" y="1732"/>
                  </a:lnTo>
                  <a:lnTo>
                    <a:pt x="141" y="1736"/>
                  </a:lnTo>
                  <a:lnTo>
                    <a:pt x="156" y="1740"/>
                  </a:lnTo>
                  <a:lnTo>
                    <a:pt x="172" y="1743"/>
                  </a:lnTo>
                  <a:lnTo>
                    <a:pt x="186" y="1746"/>
                  </a:lnTo>
                  <a:lnTo>
                    <a:pt x="201" y="1749"/>
                  </a:lnTo>
                  <a:lnTo>
                    <a:pt x="216" y="1751"/>
                  </a:lnTo>
                  <a:lnTo>
                    <a:pt x="230" y="1752"/>
                  </a:lnTo>
                  <a:lnTo>
                    <a:pt x="244" y="1753"/>
                  </a:lnTo>
                  <a:lnTo>
                    <a:pt x="258" y="1754"/>
                  </a:lnTo>
                  <a:lnTo>
                    <a:pt x="272" y="1754"/>
                  </a:lnTo>
                  <a:lnTo>
                    <a:pt x="296" y="1753"/>
                  </a:lnTo>
                  <a:lnTo>
                    <a:pt x="319" y="1751"/>
                  </a:lnTo>
                  <a:lnTo>
                    <a:pt x="341" y="1747"/>
                  </a:lnTo>
                  <a:lnTo>
                    <a:pt x="361" y="1742"/>
                  </a:lnTo>
                  <a:lnTo>
                    <a:pt x="381" y="1734"/>
                  </a:lnTo>
                  <a:lnTo>
                    <a:pt x="399" y="1726"/>
                  </a:lnTo>
                  <a:lnTo>
                    <a:pt x="417" y="1714"/>
                  </a:lnTo>
                  <a:lnTo>
                    <a:pt x="433" y="1703"/>
                  </a:lnTo>
                  <a:lnTo>
                    <a:pt x="447" y="1690"/>
                  </a:lnTo>
                  <a:lnTo>
                    <a:pt x="460" y="1676"/>
                  </a:lnTo>
                  <a:lnTo>
                    <a:pt x="465" y="1669"/>
                  </a:lnTo>
                  <a:lnTo>
                    <a:pt x="471" y="1660"/>
                  </a:lnTo>
                  <a:lnTo>
                    <a:pt x="476" y="1653"/>
                  </a:lnTo>
                  <a:lnTo>
                    <a:pt x="480" y="1645"/>
                  </a:lnTo>
                  <a:lnTo>
                    <a:pt x="483" y="1637"/>
                  </a:lnTo>
                  <a:lnTo>
                    <a:pt x="487" y="1629"/>
                  </a:lnTo>
                  <a:lnTo>
                    <a:pt x="489" y="1621"/>
                  </a:lnTo>
                  <a:lnTo>
                    <a:pt x="491" y="1611"/>
                  </a:lnTo>
                  <a:lnTo>
                    <a:pt x="494" y="1594"/>
                  </a:lnTo>
                  <a:lnTo>
                    <a:pt x="495" y="1575"/>
                  </a:lnTo>
                  <a:lnTo>
                    <a:pt x="494" y="1563"/>
                  </a:lnTo>
                  <a:lnTo>
                    <a:pt x="493" y="1548"/>
                  </a:lnTo>
                  <a:lnTo>
                    <a:pt x="489" y="1535"/>
                  </a:lnTo>
                  <a:lnTo>
                    <a:pt x="485" y="1521"/>
                  </a:lnTo>
                  <a:lnTo>
                    <a:pt x="479" y="1506"/>
                  </a:lnTo>
                  <a:lnTo>
                    <a:pt x="472" y="1491"/>
                  </a:lnTo>
                  <a:lnTo>
                    <a:pt x="462" y="1476"/>
                  </a:lnTo>
                  <a:lnTo>
                    <a:pt x="453" y="1460"/>
                  </a:lnTo>
                  <a:lnTo>
                    <a:pt x="441" y="1443"/>
                  </a:lnTo>
                  <a:lnTo>
                    <a:pt x="429" y="1427"/>
                  </a:lnTo>
                  <a:lnTo>
                    <a:pt x="414" y="1410"/>
                  </a:lnTo>
                  <a:lnTo>
                    <a:pt x="399" y="1392"/>
                  </a:lnTo>
                  <a:lnTo>
                    <a:pt x="383" y="1374"/>
                  </a:lnTo>
                  <a:lnTo>
                    <a:pt x="366" y="1356"/>
                  </a:lnTo>
                  <a:lnTo>
                    <a:pt x="346" y="1337"/>
                  </a:lnTo>
                  <a:lnTo>
                    <a:pt x="326" y="1318"/>
                  </a:lnTo>
                  <a:lnTo>
                    <a:pt x="311" y="1305"/>
                  </a:lnTo>
                  <a:lnTo>
                    <a:pt x="298" y="1292"/>
                  </a:lnTo>
                  <a:lnTo>
                    <a:pt x="286" y="1281"/>
                  </a:lnTo>
                  <a:lnTo>
                    <a:pt x="274" y="1270"/>
                  </a:lnTo>
                  <a:lnTo>
                    <a:pt x="264" y="1260"/>
                  </a:lnTo>
                  <a:lnTo>
                    <a:pt x="253" y="1251"/>
                  </a:lnTo>
                  <a:lnTo>
                    <a:pt x="244" y="1241"/>
                  </a:lnTo>
                  <a:lnTo>
                    <a:pt x="236" y="1233"/>
                  </a:lnTo>
                  <a:lnTo>
                    <a:pt x="207" y="1203"/>
                  </a:lnTo>
                  <a:lnTo>
                    <a:pt x="180" y="1172"/>
                  </a:lnTo>
                  <a:lnTo>
                    <a:pt x="154" y="1142"/>
                  </a:lnTo>
                  <a:lnTo>
                    <a:pt x="132" y="1110"/>
                  </a:lnTo>
                  <a:lnTo>
                    <a:pt x="111" y="1078"/>
                  </a:lnTo>
                  <a:lnTo>
                    <a:pt x="91" y="1047"/>
                  </a:lnTo>
                  <a:lnTo>
                    <a:pt x="74" y="1015"/>
                  </a:lnTo>
                  <a:lnTo>
                    <a:pt x="57" y="983"/>
                  </a:lnTo>
                  <a:lnTo>
                    <a:pt x="44" y="950"/>
                  </a:lnTo>
                  <a:lnTo>
                    <a:pt x="33" y="916"/>
                  </a:lnTo>
                  <a:lnTo>
                    <a:pt x="23" y="883"/>
                  </a:lnTo>
                  <a:lnTo>
                    <a:pt x="15" y="848"/>
                  </a:lnTo>
                  <a:lnTo>
                    <a:pt x="9" y="812"/>
                  </a:lnTo>
                  <a:lnTo>
                    <a:pt x="3" y="777"/>
                  </a:lnTo>
                  <a:lnTo>
                    <a:pt x="1" y="741"/>
                  </a:lnTo>
                  <a:lnTo>
                    <a:pt x="0" y="703"/>
                  </a:lnTo>
                  <a:lnTo>
                    <a:pt x="1" y="665"/>
                  </a:lnTo>
                  <a:lnTo>
                    <a:pt x="3" y="629"/>
                  </a:lnTo>
                  <a:lnTo>
                    <a:pt x="7" y="592"/>
                  </a:lnTo>
                  <a:lnTo>
                    <a:pt x="14" y="556"/>
                  </a:lnTo>
                  <a:lnTo>
                    <a:pt x="22" y="522"/>
                  </a:lnTo>
                  <a:lnTo>
                    <a:pt x="31" y="488"/>
                  </a:lnTo>
                  <a:lnTo>
                    <a:pt x="41" y="456"/>
                  </a:lnTo>
                  <a:lnTo>
                    <a:pt x="54" y="424"/>
                  </a:lnTo>
                  <a:lnTo>
                    <a:pt x="69" y="392"/>
                  </a:lnTo>
                  <a:lnTo>
                    <a:pt x="84" y="362"/>
                  </a:lnTo>
                  <a:lnTo>
                    <a:pt x="102" y="332"/>
                  </a:lnTo>
                  <a:lnTo>
                    <a:pt x="122" y="304"/>
                  </a:lnTo>
                  <a:lnTo>
                    <a:pt x="142" y="276"/>
                  </a:lnTo>
                  <a:lnTo>
                    <a:pt x="166" y="250"/>
                  </a:lnTo>
                  <a:lnTo>
                    <a:pt x="189" y="223"/>
                  </a:lnTo>
                  <a:lnTo>
                    <a:pt x="216" y="199"/>
                  </a:lnTo>
                  <a:lnTo>
                    <a:pt x="243" y="174"/>
                  </a:lnTo>
                  <a:lnTo>
                    <a:pt x="272" y="152"/>
                  </a:lnTo>
                  <a:lnTo>
                    <a:pt x="301" y="131"/>
                  </a:lnTo>
                  <a:lnTo>
                    <a:pt x="331" y="112"/>
                  </a:lnTo>
                  <a:lnTo>
                    <a:pt x="362" y="94"/>
                  </a:lnTo>
                  <a:lnTo>
                    <a:pt x="395" y="77"/>
                  </a:lnTo>
                  <a:lnTo>
                    <a:pt x="429" y="63"/>
                  </a:lnTo>
                  <a:lnTo>
                    <a:pt x="462" y="50"/>
                  </a:lnTo>
                  <a:lnTo>
                    <a:pt x="498" y="39"/>
                  </a:lnTo>
                  <a:lnTo>
                    <a:pt x="535" y="28"/>
                  </a:lnTo>
                  <a:lnTo>
                    <a:pt x="572" y="19"/>
                  </a:lnTo>
                  <a:lnTo>
                    <a:pt x="610" y="12"/>
                  </a:lnTo>
                  <a:lnTo>
                    <a:pt x="649" y="7"/>
                  </a:lnTo>
                  <a:lnTo>
                    <a:pt x="690" y="3"/>
                  </a:lnTo>
                  <a:lnTo>
                    <a:pt x="731" y="1"/>
                  </a:lnTo>
                  <a:lnTo>
                    <a:pt x="772" y="0"/>
                  </a:lnTo>
                  <a:lnTo>
                    <a:pt x="799" y="1"/>
                  </a:lnTo>
                  <a:lnTo>
                    <a:pt x="826" y="1"/>
                  </a:lnTo>
                  <a:lnTo>
                    <a:pt x="852" y="2"/>
                  </a:lnTo>
                  <a:lnTo>
                    <a:pt x="878" y="4"/>
                  </a:lnTo>
                  <a:lnTo>
                    <a:pt x="902" y="6"/>
                  </a:lnTo>
                  <a:lnTo>
                    <a:pt x="928" y="8"/>
                  </a:lnTo>
                  <a:lnTo>
                    <a:pt x="951" y="11"/>
                  </a:lnTo>
                  <a:lnTo>
                    <a:pt x="975" y="14"/>
                  </a:lnTo>
                  <a:lnTo>
                    <a:pt x="999" y="18"/>
                  </a:lnTo>
                  <a:lnTo>
                    <a:pt x="1022" y="22"/>
                  </a:lnTo>
                  <a:lnTo>
                    <a:pt x="1045" y="27"/>
                  </a:lnTo>
                  <a:lnTo>
                    <a:pt x="1067" y="32"/>
                  </a:lnTo>
                  <a:lnTo>
                    <a:pt x="1091" y="38"/>
                  </a:lnTo>
                  <a:lnTo>
                    <a:pt x="1113" y="44"/>
                  </a:lnTo>
                  <a:lnTo>
                    <a:pt x="1135" y="51"/>
                  </a:lnTo>
                  <a:lnTo>
                    <a:pt x="1157" y="58"/>
                  </a:lnTo>
                  <a:lnTo>
                    <a:pt x="1157" y="624"/>
                  </a:lnTo>
                  <a:lnTo>
                    <a:pt x="1139" y="616"/>
                  </a:lnTo>
                  <a:lnTo>
                    <a:pt x="1120" y="606"/>
                  </a:lnTo>
                  <a:lnTo>
                    <a:pt x="1102" y="598"/>
                  </a:lnTo>
                  <a:lnTo>
                    <a:pt x="1085" y="591"/>
                  </a:lnTo>
                  <a:lnTo>
                    <a:pt x="1068" y="585"/>
                  </a:lnTo>
                  <a:lnTo>
                    <a:pt x="1051" y="579"/>
                  </a:lnTo>
                  <a:lnTo>
                    <a:pt x="1035" y="573"/>
                  </a:lnTo>
                  <a:lnTo>
                    <a:pt x="1018" y="568"/>
                  </a:lnTo>
                  <a:lnTo>
                    <a:pt x="1002" y="564"/>
                  </a:lnTo>
                  <a:lnTo>
                    <a:pt x="987" y="559"/>
                  </a:lnTo>
                  <a:lnTo>
                    <a:pt x="972" y="556"/>
                  </a:lnTo>
                  <a:lnTo>
                    <a:pt x="957" y="553"/>
                  </a:lnTo>
                  <a:lnTo>
                    <a:pt x="944" y="551"/>
                  </a:lnTo>
                  <a:lnTo>
                    <a:pt x="930" y="550"/>
                  </a:lnTo>
                  <a:lnTo>
                    <a:pt x="917" y="549"/>
                  </a:lnTo>
                  <a:lnTo>
                    <a:pt x="904" y="549"/>
                  </a:lnTo>
                  <a:lnTo>
                    <a:pt x="877" y="549"/>
                  </a:lnTo>
                  <a:lnTo>
                    <a:pt x="851" y="552"/>
                  </a:lnTo>
                  <a:lnTo>
                    <a:pt x="828" y="555"/>
                  </a:lnTo>
                  <a:lnTo>
                    <a:pt x="805" y="560"/>
                  </a:lnTo>
                  <a:lnTo>
                    <a:pt x="784" y="568"/>
                  </a:lnTo>
                  <a:lnTo>
                    <a:pt x="765" y="576"/>
                  </a:lnTo>
                  <a:lnTo>
                    <a:pt x="756" y="580"/>
                  </a:lnTo>
                  <a:lnTo>
                    <a:pt x="747" y="585"/>
                  </a:lnTo>
                  <a:lnTo>
                    <a:pt x="740" y="590"/>
                  </a:lnTo>
                  <a:lnTo>
                    <a:pt x="732" y="596"/>
                  </a:lnTo>
                  <a:lnTo>
                    <a:pt x="725" y="602"/>
                  </a:lnTo>
                  <a:lnTo>
                    <a:pt x="717" y="608"/>
                  </a:lnTo>
                  <a:lnTo>
                    <a:pt x="711" y="615"/>
                  </a:lnTo>
                  <a:lnTo>
                    <a:pt x="705" y="622"/>
                  </a:lnTo>
                  <a:lnTo>
                    <a:pt x="700" y="629"/>
                  </a:lnTo>
                  <a:lnTo>
                    <a:pt x="695" y="636"/>
                  </a:lnTo>
                  <a:lnTo>
                    <a:pt x="691" y="644"/>
                  </a:lnTo>
                  <a:lnTo>
                    <a:pt x="687" y="652"/>
                  </a:lnTo>
                  <a:lnTo>
                    <a:pt x="683" y="660"/>
                  </a:lnTo>
                  <a:lnTo>
                    <a:pt x="680" y="670"/>
                  </a:lnTo>
                  <a:lnTo>
                    <a:pt x="678" y="679"/>
                  </a:lnTo>
                  <a:lnTo>
                    <a:pt x="676" y="688"/>
                  </a:lnTo>
                  <a:lnTo>
                    <a:pt x="673" y="707"/>
                  </a:lnTo>
                  <a:lnTo>
                    <a:pt x="672" y="729"/>
                  </a:lnTo>
                  <a:lnTo>
                    <a:pt x="673" y="741"/>
                  </a:lnTo>
                  <a:lnTo>
                    <a:pt x="675" y="753"/>
                  </a:lnTo>
                  <a:lnTo>
                    <a:pt x="678" y="765"/>
                  </a:lnTo>
                  <a:lnTo>
                    <a:pt x="682" y="779"/>
                  </a:lnTo>
                  <a:lnTo>
                    <a:pt x="688" y="792"/>
                  </a:lnTo>
                  <a:lnTo>
                    <a:pt x="695" y="805"/>
                  </a:lnTo>
                  <a:lnTo>
                    <a:pt x="703" y="819"/>
                  </a:lnTo>
                  <a:lnTo>
                    <a:pt x="712" y="833"/>
                  </a:lnTo>
                  <a:lnTo>
                    <a:pt x="724" y="847"/>
                  </a:lnTo>
                  <a:lnTo>
                    <a:pt x="736" y="862"/>
                  </a:lnTo>
                  <a:lnTo>
                    <a:pt x="749" y="877"/>
                  </a:lnTo>
                  <a:lnTo>
                    <a:pt x="764" y="892"/>
                  </a:lnTo>
                  <a:lnTo>
                    <a:pt x="780" y="907"/>
                  </a:lnTo>
                  <a:lnTo>
                    <a:pt x="797" y="922"/>
                  </a:lnTo>
                  <a:lnTo>
                    <a:pt x="815" y="938"/>
                  </a:lnTo>
                  <a:lnTo>
                    <a:pt x="836" y="954"/>
                  </a:lnTo>
                  <a:lnTo>
                    <a:pt x="851" y="967"/>
                  </a:lnTo>
                  <a:lnTo>
                    <a:pt x="866" y="979"/>
                  </a:lnTo>
                  <a:lnTo>
                    <a:pt x="881" y="992"/>
                  </a:lnTo>
                  <a:lnTo>
                    <a:pt x="894" y="1002"/>
                  </a:lnTo>
                  <a:lnTo>
                    <a:pt x="906" y="1012"/>
                  </a:lnTo>
                  <a:lnTo>
                    <a:pt x="917" y="1022"/>
                  </a:lnTo>
                  <a:lnTo>
                    <a:pt x="928" y="1030"/>
                  </a:lnTo>
                  <a:lnTo>
                    <a:pt x="937" y="1039"/>
                  </a:lnTo>
                  <a:lnTo>
                    <a:pt x="953" y="1054"/>
                  </a:lnTo>
                  <a:lnTo>
                    <a:pt x="969" y="1068"/>
                  </a:lnTo>
                  <a:lnTo>
                    <a:pt x="985" y="1083"/>
                  </a:lnTo>
                  <a:lnTo>
                    <a:pt x="999" y="1099"/>
                  </a:lnTo>
                  <a:lnTo>
                    <a:pt x="1013" y="1114"/>
                  </a:lnTo>
                  <a:lnTo>
                    <a:pt x="1027" y="1130"/>
                  </a:lnTo>
                  <a:lnTo>
                    <a:pt x="1041" y="1147"/>
                  </a:lnTo>
                  <a:lnTo>
                    <a:pt x="1054" y="1163"/>
                  </a:lnTo>
                  <a:lnTo>
                    <a:pt x="1066" y="1179"/>
                  </a:lnTo>
                  <a:lnTo>
                    <a:pt x="1078" y="1197"/>
                  </a:lnTo>
                  <a:lnTo>
                    <a:pt x="1090" y="1214"/>
                  </a:lnTo>
                  <a:lnTo>
                    <a:pt x="1101" y="1231"/>
                  </a:lnTo>
                  <a:lnTo>
                    <a:pt x="1111" y="1249"/>
                  </a:lnTo>
                  <a:lnTo>
                    <a:pt x="1121" y="1267"/>
                  </a:lnTo>
                  <a:lnTo>
                    <a:pt x="1131" y="1285"/>
                  </a:lnTo>
                  <a:lnTo>
                    <a:pt x="1140" y="1304"/>
                  </a:lnTo>
                  <a:lnTo>
                    <a:pt x="1148" y="1323"/>
                  </a:lnTo>
                  <a:lnTo>
                    <a:pt x="1156" y="1341"/>
                  </a:lnTo>
                  <a:lnTo>
                    <a:pt x="1163" y="1361"/>
                  </a:lnTo>
                  <a:lnTo>
                    <a:pt x="1169" y="1380"/>
                  </a:lnTo>
                  <a:lnTo>
                    <a:pt x="1175" y="1399"/>
                  </a:lnTo>
                  <a:lnTo>
                    <a:pt x="1182" y="1419"/>
                  </a:lnTo>
                  <a:lnTo>
                    <a:pt x="1187" y="1438"/>
                  </a:lnTo>
                  <a:lnTo>
                    <a:pt x="1192" y="1459"/>
                  </a:lnTo>
                  <a:lnTo>
                    <a:pt x="1195" y="1479"/>
                  </a:lnTo>
                  <a:lnTo>
                    <a:pt x="1199" y="1498"/>
                  </a:lnTo>
                  <a:lnTo>
                    <a:pt x="1202" y="1519"/>
                  </a:lnTo>
                  <a:lnTo>
                    <a:pt x="1204" y="1540"/>
                  </a:lnTo>
                  <a:lnTo>
                    <a:pt x="1206" y="1561"/>
                  </a:lnTo>
                  <a:lnTo>
                    <a:pt x="1207" y="1581"/>
                  </a:lnTo>
                  <a:lnTo>
                    <a:pt x="1208" y="1602"/>
                  </a:lnTo>
                  <a:lnTo>
                    <a:pt x="1208" y="1624"/>
                  </a:lnTo>
                  <a:lnTo>
                    <a:pt x="1208" y="1665"/>
                  </a:lnTo>
                  <a:lnTo>
                    <a:pt x="1205" y="1706"/>
                  </a:lnTo>
                  <a:lnTo>
                    <a:pt x="1201" y="1746"/>
                  </a:lnTo>
                  <a:lnTo>
                    <a:pt x="1195" y="1785"/>
                  </a:lnTo>
                  <a:lnTo>
                    <a:pt x="1187" y="1822"/>
                  </a:lnTo>
                  <a:lnTo>
                    <a:pt x="1176" y="1859"/>
                  </a:lnTo>
                  <a:lnTo>
                    <a:pt x="1171" y="1877"/>
                  </a:lnTo>
                  <a:lnTo>
                    <a:pt x="1165" y="1894"/>
                  </a:lnTo>
                  <a:lnTo>
                    <a:pt x="1159" y="1911"/>
                  </a:lnTo>
                  <a:lnTo>
                    <a:pt x="1152" y="1928"/>
                  </a:lnTo>
                  <a:lnTo>
                    <a:pt x="1145" y="1945"/>
                  </a:lnTo>
                  <a:lnTo>
                    <a:pt x="1137" y="1961"/>
                  </a:lnTo>
                  <a:lnTo>
                    <a:pt x="1128" y="1977"/>
                  </a:lnTo>
                  <a:lnTo>
                    <a:pt x="1120" y="1993"/>
                  </a:lnTo>
                  <a:lnTo>
                    <a:pt x="1111" y="2009"/>
                  </a:lnTo>
                  <a:lnTo>
                    <a:pt x="1101" y="2024"/>
                  </a:lnTo>
                  <a:lnTo>
                    <a:pt x="1091" y="2039"/>
                  </a:lnTo>
                  <a:lnTo>
                    <a:pt x="1081" y="2054"/>
                  </a:lnTo>
                  <a:lnTo>
                    <a:pt x="1070" y="2068"/>
                  </a:lnTo>
                  <a:lnTo>
                    <a:pt x="1059" y="2081"/>
                  </a:lnTo>
                  <a:lnTo>
                    <a:pt x="1047" y="2096"/>
                  </a:lnTo>
                  <a:lnTo>
                    <a:pt x="1035" y="2109"/>
                  </a:lnTo>
                  <a:lnTo>
                    <a:pt x="1022" y="2122"/>
                  </a:lnTo>
                  <a:lnTo>
                    <a:pt x="1009" y="2135"/>
                  </a:lnTo>
                  <a:lnTo>
                    <a:pt x="996" y="2148"/>
                  </a:lnTo>
                  <a:lnTo>
                    <a:pt x="982" y="2160"/>
                  </a:lnTo>
                  <a:lnTo>
                    <a:pt x="952" y="2183"/>
                  </a:lnTo>
                  <a:lnTo>
                    <a:pt x="921" y="2206"/>
                  </a:lnTo>
                  <a:lnTo>
                    <a:pt x="890" y="2226"/>
                  </a:lnTo>
                  <a:lnTo>
                    <a:pt x="857" y="2246"/>
                  </a:lnTo>
                  <a:lnTo>
                    <a:pt x="822" y="2263"/>
                  </a:lnTo>
                  <a:lnTo>
                    <a:pt x="786" y="2279"/>
                  </a:lnTo>
                  <a:lnTo>
                    <a:pt x="749" y="2293"/>
                  </a:lnTo>
                  <a:lnTo>
                    <a:pt x="710" y="2306"/>
                  </a:lnTo>
                  <a:lnTo>
                    <a:pt x="670" y="2318"/>
                  </a:lnTo>
                  <a:lnTo>
                    <a:pt x="629" y="2327"/>
                  </a:lnTo>
                  <a:lnTo>
                    <a:pt x="586" y="2336"/>
                  </a:lnTo>
                  <a:lnTo>
                    <a:pt x="542" y="2342"/>
                  </a:lnTo>
                  <a:lnTo>
                    <a:pt x="496" y="2348"/>
                  </a:lnTo>
                  <a:lnTo>
                    <a:pt x="449" y="2352"/>
                  </a:lnTo>
                  <a:lnTo>
                    <a:pt x="401" y="2355"/>
                  </a:lnTo>
                  <a:lnTo>
                    <a:pt x="351" y="2355"/>
                  </a:lnTo>
                  <a:lnTo>
                    <a:pt x="331" y="2355"/>
                  </a:lnTo>
                  <a:lnTo>
                    <a:pt x="310" y="2354"/>
                  </a:lnTo>
                  <a:lnTo>
                    <a:pt x="290" y="2353"/>
                  </a:lnTo>
                  <a:lnTo>
                    <a:pt x="271" y="2352"/>
                  </a:lnTo>
                  <a:lnTo>
                    <a:pt x="250" y="2351"/>
                  </a:lnTo>
                  <a:lnTo>
                    <a:pt x="231" y="2350"/>
                  </a:lnTo>
                  <a:lnTo>
                    <a:pt x="211" y="2348"/>
                  </a:lnTo>
                  <a:lnTo>
                    <a:pt x="192" y="2346"/>
                  </a:lnTo>
                  <a:lnTo>
                    <a:pt x="173" y="2344"/>
                  </a:lnTo>
                  <a:lnTo>
                    <a:pt x="154" y="2342"/>
                  </a:lnTo>
                  <a:lnTo>
                    <a:pt x="136" y="2340"/>
                  </a:lnTo>
                  <a:lnTo>
                    <a:pt x="117" y="2337"/>
                  </a:lnTo>
                  <a:lnTo>
                    <a:pt x="98" y="2335"/>
                  </a:lnTo>
                  <a:lnTo>
                    <a:pt x="80" y="2332"/>
                  </a:lnTo>
                  <a:lnTo>
                    <a:pt x="62" y="2329"/>
                  </a:lnTo>
                  <a:lnTo>
                    <a:pt x="44" y="2326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30440" y="1479600"/>
              <a:ext cx="704880" cy="19080"/>
            </a:xfrm>
            <a:custGeom>
              <a:avLst/>
              <a:gdLst/>
              <a:ahLst/>
              <a:rect l="l" t="t" r="r" b="b"/>
              <a:pathLst>
                <a:path w="2222" h="58">
                  <a:moveTo>
                    <a:pt x="20" y="0"/>
                  </a:moveTo>
                  <a:lnTo>
                    <a:pt x="636" y="0"/>
                  </a:lnTo>
                  <a:lnTo>
                    <a:pt x="616" y="58"/>
                  </a:lnTo>
                  <a:lnTo>
                    <a:pt x="0" y="58"/>
                  </a:lnTo>
                  <a:lnTo>
                    <a:pt x="20" y="0"/>
                  </a:lnTo>
                  <a:close/>
                  <a:moveTo>
                    <a:pt x="1576" y="0"/>
                  </a:moveTo>
                  <a:lnTo>
                    <a:pt x="2202" y="0"/>
                  </a:lnTo>
                  <a:lnTo>
                    <a:pt x="2222" y="58"/>
                  </a:lnTo>
                  <a:lnTo>
                    <a:pt x="1594" y="58"/>
                  </a:lnTo>
                  <a:lnTo>
                    <a:pt x="1576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30440" y="1465200"/>
              <a:ext cx="704880" cy="30240"/>
            </a:xfrm>
            <a:custGeom>
              <a:avLst/>
              <a:gdLst/>
              <a:ahLst/>
              <a:rect l="l" t="t" r="r" b="b"/>
              <a:pathLst>
                <a:path w="2216" h="95">
                  <a:moveTo>
                    <a:pt x="2216" y="95"/>
                  </a:moveTo>
                  <a:lnTo>
                    <a:pt x="1588" y="95"/>
                  </a:lnTo>
                  <a:lnTo>
                    <a:pt x="1558" y="0"/>
                  </a:lnTo>
                  <a:lnTo>
                    <a:pt x="2184" y="0"/>
                  </a:lnTo>
                  <a:lnTo>
                    <a:pt x="2216" y="95"/>
                  </a:lnTo>
                  <a:close/>
                  <a:moveTo>
                    <a:pt x="617" y="95"/>
                  </a:moveTo>
                  <a:lnTo>
                    <a:pt x="0" y="95"/>
                  </a:lnTo>
                  <a:lnTo>
                    <a:pt x="34" y="0"/>
                  </a:lnTo>
                  <a:lnTo>
                    <a:pt x="649" y="0"/>
                  </a:lnTo>
                  <a:lnTo>
                    <a:pt x="617" y="95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36920" y="1449360"/>
              <a:ext cx="692280" cy="30240"/>
            </a:xfrm>
            <a:custGeom>
              <a:avLst/>
              <a:gdLst/>
              <a:ahLst/>
              <a:rect l="l" t="t" r="r" b="b"/>
              <a:pathLst>
                <a:path w="2182" h="95">
                  <a:moveTo>
                    <a:pt x="2182" y="95"/>
                  </a:moveTo>
                  <a:lnTo>
                    <a:pt x="1556" y="95"/>
                  </a:lnTo>
                  <a:lnTo>
                    <a:pt x="1525" y="0"/>
                  </a:lnTo>
                  <a:lnTo>
                    <a:pt x="2152" y="0"/>
                  </a:lnTo>
                  <a:lnTo>
                    <a:pt x="2182" y="95"/>
                  </a:lnTo>
                  <a:close/>
                  <a:moveTo>
                    <a:pt x="616" y="95"/>
                  </a:moveTo>
                  <a:lnTo>
                    <a:pt x="0" y="95"/>
                  </a:lnTo>
                  <a:lnTo>
                    <a:pt x="33" y="0"/>
                  </a:lnTo>
                  <a:lnTo>
                    <a:pt x="648" y="0"/>
                  </a:lnTo>
                  <a:lnTo>
                    <a:pt x="616" y="95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41600" y="1434960"/>
              <a:ext cx="682560" cy="30240"/>
            </a:xfrm>
            <a:custGeom>
              <a:avLst/>
              <a:gdLst/>
              <a:ahLst/>
              <a:rect l="l" t="t" r="r" b="b"/>
              <a:pathLst>
                <a:path w="2150" h="94">
                  <a:moveTo>
                    <a:pt x="2150" y="94"/>
                  </a:moveTo>
                  <a:lnTo>
                    <a:pt x="1524" y="94"/>
                  </a:lnTo>
                  <a:lnTo>
                    <a:pt x="1493" y="0"/>
                  </a:lnTo>
                  <a:lnTo>
                    <a:pt x="2119" y="0"/>
                  </a:lnTo>
                  <a:lnTo>
                    <a:pt x="2150" y="94"/>
                  </a:lnTo>
                  <a:close/>
                  <a:moveTo>
                    <a:pt x="615" y="94"/>
                  </a:moveTo>
                  <a:lnTo>
                    <a:pt x="0" y="94"/>
                  </a:lnTo>
                  <a:lnTo>
                    <a:pt x="32" y="0"/>
                  </a:lnTo>
                  <a:lnTo>
                    <a:pt x="647" y="0"/>
                  </a:lnTo>
                  <a:lnTo>
                    <a:pt x="615" y="94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46640" y="1419120"/>
              <a:ext cx="672840" cy="30240"/>
            </a:xfrm>
            <a:custGeom>
              <a:avLst/>
              <a:gdLst/>
              <a:ahLst/>
              <a:rect l="l" t="t" r="r" b="b"/>
              <a:pathLst>
                <a:path w="2119" h="94">
                  <a:moveTo>
                    <a:pt x="2119" y="94"/>
                  </a:moveTo>
                  <a:lnTo>
                    <a:pt x="1492" y="94"/>
                  </a:lnTo>
                  <a:lnTo>
                    <a:pt x="1462" y="0"/>
                  </a:lnTo>
                  <a:lnTo>
                    <a:pt x="2087" y="0"/>
                  </a:lnTo>
                  <a:lnTo>
                    <a:pt x="2119" y="94"/>
                  </a:lnTo>
                  <a:close/>
                  <a:moveTo>
                    <a:pt x="615" y="94"/>
                  </a:moveTo>
                  <a:lnTo>
                    <a:pt x="0" y="94"/>
                  </a:lnTo>
                  <a:lnTo>
                    <a:pt x="33" y="0"/>
                  </a:lnTo>
                  <a:lnTo>
                    <a:pt x="647" y="0"/>
                  </a:lnTo>
                  <a:lnTo>
                    <a:pt x="615" y="94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52760" y="1405080"/>
              <a:ext cx="662040" cy="29880"/>
            </a:xfrm>
            <a:custGeom>
              <a:avLst/>
              <a:gdLst/>
              <a:ahLst/>
              <a:rect l="l" t="t" r="r" b="b"/>
              <a:pathLst>
                <a:path w="2087" h="94">
                  <a:moveTo>
                    <a:pt x="2087" y="94"/>
                  </a:moveTo>
                  <a:lnTo>
                    <a:pt x="1461" y="94"/>
                  </a:lnTo>
                  <a:lnTo>
                    <a:pt x="1443" y="38"/>
                  </a:lnTo>
                  <a:lnTo>
                    <a:pt x="634" y="38"/>
                  </a:lnTo>
                  <a:lnTo>
                    <a:pt x="615" y="94"/>
                  </a:lnTo>
                  <a:lnTo>
                    <a:pt x="0" y="94"/>
                  </a:lnTo>
                  <a:lnTo>
                    <a:pt x="33" y="0"/>
                  </a:lnTo>
                  <a:lnTo>
                    <a:pt x="2056" y="0"/>
                  </a:lnTo>
                  <a:lnTo>
                    <a:pt x="2087" y="94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57440" y="1390680"/>
              <a:ext cx="652680" cy="28440"/>
            </a:xfrm>
            <a:custGeom>
              <a:avLst/>
              <a:gdLst/>
              <a:ahLst/>
              <a:rect l="l" t="t" r="r" b="b"/>
              <a:pathLst>
                <a:path w="2054" h="94">
                  <a:moveTo>
                    <a:pt x="2054" y="94"/>
                  </a:moveTo>
                  <a:lnTo>
                    <a:pt x="1429" y="94"/>
                  </a:lnTo>
                  <a:lnTo>
                    <a:pt x="1426" y="85"/>
                  </a:lnTo>
                  <a:lnTo>
                    <a:pt x="617" y="85"/>
                  </a:lnTo>
                  <a:lnTo>
                    <a:pt x="614" y="94"/>
                  </a:lnTo>
                  <a:lnTo>
                    <a:pt x="0" y="94"/>
                  </a:lnTo>
                  <a:lnTo>
                    <a:pt x="33" y="0"/>
                  </a:lnTo>
                  <a:lnTo>
                    <a:pt x="2023" y="0"/>
                  </a:lnTo>
                  <a:lnTo>
                    <a:pt x="2054" y="94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62480" y="1374840"/>
              <a:ext cx="642960" cy="30240"/>
            </a:xfrm>
            <a:custGeom>
              <a:avLst/>
              <a:gdLst/>
              <a:ahLst/>
              <a:rect l="l" t="t" r="r" b="b"/>
              <a:pathLst>
                <a:path w="2023" h="94">
                  <a:moveTo>
                    <a:pt x="2023" y="94"/>
                  </a:moveTo>
                  <a:lnTo>
                    <a:pt x="0" y="94"/>
                  </a:lnTo>
                  <a:lnTo>
                    <a:pt x="34" y="0"/>
                  </a:lnTo>
                  <a:lnTo>
                    <a:pt x="1992" y="0"/>
                  </a:lnTo>
                  <a:lnTo>
                    <a:pt x="2023" y="94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68600" y="1360440"/>
              <a:ext cx="631800" cy="30240"/>
            </a:xfrm>
            <a:custGeom>
              <a:avLst/>
              <a:gdLst/>
              <a:ahLst/>
              <a:rect l="l" t="t" r="r" b="b"/>
              <a:pathLst>
                <a:path w="1990" h="94">
                  <a:moveTo>
                    <a:pt x="1990" y="94"/>
                  </a:moveTo>
                  <a:lnTo>
                    <a:pt x="0" y="94"/>
                  </a:lnTo>
                  <a:lnTo>
                    <a:pt x="33" y="0"/>
                  </a:lnTo>
                  <a:lnTo>
                    <a:pt x="1959" y="0"/>
                  </a:lnTo>
                  <a:lnTo>
                    <a:pt x="1990" y="94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73280" y="1344600"/>
              <a:ext cx="622440" cy="30240"/>
            </a:xfrm>
            <a:custGeom>
              <a:avLst/>
              <a:gdLst/>
              <a:ahLst/>
              <a:rect l="l" t="t" r="r" b="b"/>
              <a:pathLst>
                <a:path w="1958" h="94">
                  <a:moveTo>
                    <a:pt x="1958" y="94"/>
                  </a:moveTo>
                  <a:lnTo>
                    <a:pt x="0" y="94"/>
                  </a:lnTo>
                  <a:lnTo>
                    <a:pt x="32" y="0"/>
                  </a:lnTo>
                  <a:lnTo>
                    <a:pt x="1927" y="0"/>
                  </a:lnTo>
                  <a:lnTo>
                    <a:pt x="1958" y="94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78320" y="1330200"/>
              <a:ext cx="610920" cy="30240"/>
            </a:xfrm>
            <a:custGeom>
              <a:avLst/>
              <a:gdLst/>
              <a:ahLst/>
              <a:rect l="l" t="t" r="r" b="b"/>
              <a:pathLst>
                <a:path w="1926" h="94">
                  <a:moveTo>
                    <a:pt x="1926" y="94"/>
                  </a:moveTo>
                  <a:lnTo>
                    <a:pt x="0" y="94"/>
                  </a:lnTo>
                  <a:lnTo>
                    <a:pt x="33" y="0"/>
                  </a:lnTo>
                  <a:lnTo>
                    <a:pt x="1895" y="0"/>
                  </a:lnTo>
                  <a:lnTo>
                    <a:pt x="1926" y="94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83000" y="1314360"/>
              <a:ext cx="601560" cy="30240"/>
            </a:xfrm>
            <a:custGeom>
              <a:avLst/>
              <a:gdLst/>
              <a:ahLst/>
              <a:rect l="l" t="t" r="r" b="b"/>
              <a:pathLst>
                <a:path w="1895" h="95">
                  <a:moveTo>
                    <a:pt x="1895" y="95"/>
                  </a:moveTo>
                  <a:lnTo>
                    <a:pt x="0" y="95"/>
                  </a:lnTo>
                  <a:lnTo>
                    <a:pt x="33" y="0"/>
                  </a:lnTo>
                  <a:lnTo>
                    <a:pt x="1863" y="0"/>
                  </a:lnTo>
                  <a:lnTo>
                    <a:pt x="1895" y="95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489480" y="1300320"/>
              <a:ext cx="590400" cy="29880"/>
            </a:xfrm>
            <a:custGeom>
              <a:avLst/>
              <a:gdLst/>
              <a:ahLst/>
              <a:rect l="l" t="t" r="r" b="b"/>
              <a:pathLst>
                <a:path w="1862" h="95">
                  <a:moveTo>
                    <a:pt x="1862" y="95"/>
                  </a:moveTo>
                  <a:lnTo>
                    <a:pt x="0" y="95"/>
                  </a:lnTo>
                  <a:lnTo>
                    <a:pt x="33" y="0"/>
                  </a:lnTo>
                  <a:lnTo>
                    <a:pt x="1831" y="0"/>
                  </a:lnTo>
                  <a:lnTo>
                    <a:pt x="1862" y="95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494160" y="1285920"/>
              <a:ext cx="581040" cy="28440"/>
            </a:xfrm>
            <a:custGeom>
              <a:avLst/>
              <a:gdLst/>
              <a:ahLst/>
              <a:rect l="l" t="t" r="r" b="b"/>
              <a:pathLst>
                <a:path w="1830" h="94">
                  <a:moveTo>
                    <a:pt x="1830" y="94"/>
                  </a:moveTo>
                  <a:lnTo>
                    <a:pt x="0" y="94"/>
                  </a:lnTo>
                  <a:lnTo>
                    <a:pt x="34" y="0"/>
                  </a:lnTo>
                  <a:lnTo>
                    <a:pt x="1799" y="0"/>
                  </a:lnTo>
                  <a:lnTo>
                    <a:pt x="1830" y="94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498840" y="1270080"/>
              <a:ext cx="571680" cy="30240"/>
            </a:xfrm>
            <a:custGeom>
              <a:avLst/>
              <a:gdLst/>
              <a:ahLst/>
              <a:rect l="l" t="t" r="r" b="b"/>
              <a:pathLst>
                <a:path w="1798" h="94">
                  <a:moveTo>
                    <a:pt x="1798" y="94"/>
                  </a:moveTo>
                  <a:lnTo>
                    <a:pt x="0" y="94"/>
                  </a:lnTo>
                  <a:lnTo>
                    <a:pt x="33" y="0"/>
                  </a:lnTo>
                  <a:lnTo>
                    <a:pt x="1767" y="0"/>
                  </a:lnTo>
                  <a:lnTo>
                    <a:pt x="1798" y="94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505320" y="1255680"/>
              <a:ext cx="560160" cy="30240"/>
            </a:xfrm>
            <a:custGeom>
              <a:avLst/>
              <a:gdLst/>
              <a:ahLst/>
              <a:rect l="l" t="t" r="r" b="b"/>
              <a:pathLst>
                <a:path w="1765" h="93">
                  <a:moveTo>
                    <a:pt x="1765" y="93"/>
                  </a:moveTo>
                  <a:lnTo>
                    <a:pt x="0" y="93"/>
                  </a:lnTo>
                  <a:lnTo>
                    <a:pt x="32" y="0"/>
                  </a:lnTo>
                  <a:lnTo>
                    <a:pt x="1734" y="0"/>
                  </a:lnTo>
                  <a:lnTo>
                    <a:pt x="1765" y="93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510000" y="1239840"/>
              <a:ext cx="550800" cy="30240"/>
            </a:xfrm>
            <a:custGeom>
              <a:avLst/>
              <a:gdLst/>
              <a:ahLst/>
              <a:rect l="l" t="t" r="r" b="b"/>
              <a:pathLst>
                <a:path w="1734" h="94">
                  <a:moveTo>
                    <a:pt x="1734" y="94"/>
                  </a:moveTo>
                  <a:lnTo>
                    <a:pt x="0" y="94"/>
                  </a:lnTo>
                  <a:lnTo>
                    <a:pt x="33" y="0"/>
                  </a:lnTo>
                  <a:lnTo>
                    <a:pt x="1702" y="0"/>
                  </a:lnTo>
                  <a:lnTo>
                    <a:pt x="1734" y="94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514680" y="1225440"/>
              <a:ext cx="541440" cy="30240"/>
            </a:xfrm>
            <a:custGeom>
              <a:avLst/>
              <a:gdLst/>
              <a:ahLst/>
              <a:rect l="l" t="t" r="r" b="b"/>
              <a:pathLst>
                <a:path w="1702" h="95">
                  <a:moveTo>
                    <a:pt x="1702" y="95"/>
                  </a:moveTo>
                  <a:lnTo>
                    <a:pt x="0" y="95"/>
                  </a:lnTo>
                  <a:lnTo>
                    <a:pt x="33" y="0"/>
                  </a:lnTo>
                  <a:lnTo>
                    <a:pt x="612" y="0"/>
                  </a:lnTo>
                  <a:lnTo>
                    <a:pt x="602" y="32"/>
                  </a:lnTo>
                  <a:lnTo>
                    <a:pt x="1072" y="32"/>
                  </a:lnTo>
                  <a:lnTo>
                    <a:pt x="1062" y="0"/>
                  </a:lnTo>
                  <a:lnTo>
                    <a:pt x="1671" y="0"/>
                  </a:lnTo>
                  <a:lnTo>
                    <a:pt x="1702" y="95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521160" y="1211400"/>
              <a:ext cx="528480" cy="28440"/>
            </a:xfrm>
            <a:custGeom>
              <a:avLst/>
              <a:gdLst/>
              <a:ahLst/>
              <a:rect l="l" t="t" r="r" b="b"/>
              <a:pathLst>
                <a:path w="1669" h="94">
                  <a:moveTo>
                    <a:pt x="1669" y="94"/>
                  </a:moveTo>
                  <a:lnTo>
                    <a:pt x="0" y="94"/>
                  </a:lnTo>
                  <a:lnTo>
                    <a:pt x="32" y="0"/>
                  </a:lnTo>
                  <a:lnTo>
                    <a:pt x="610" y="0"/>
                  </a:lnTo>
                  <a:lnTo>
                    <a:pt x="585" y="79"/>
                  </a:lnTo>
                  <a:lnTo>
                    <a:pt x="1055" y="79"/>
                  </a:lnTo>
                  <a:lnTo>
                    <a:pt x="1031" y="0"/>
                  </a:lnTo>
                  <a:lnTo>
                    <a:pt x="1639" y="0"/>
                  </a:lnTo>
                  <a:lnTo>
                    <a:pt x="1669" y="94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525840" y="1195560"/>
              <a:ext cx="519120" cy="29880"/>
            </a:xfrm>
            <a:custGeom>
              <a:avLst/>
              <a:gdLst/>
              <a:ahLst/>
              <a:rect l="l" t="t" r="r" b="b"/>
              <a:pathLst>
                <a:path w="1638" h="94">
                  <a:moveTo>
                    <a:pt x="1638" y="94"/>
                  </a:moveTo>
                  <a:lnTo>
                    <a:pt x="1029" y="94"/>
                  </a:lnTo>
                  <a:lnTo>
                    <a:pt x="1001" y="0"/>
                  </a:lnTo>
                  <a:lnTo>
                    <a:pt x="1606" y="0"/>
                  </a:lnTo>
                  <a:lnTo>
                    <a:pt x="1638" y="94"/>
                  </a:lnTo>
                  <a:close/>
                  <a:moveTo>
                    <a:pt x="579" y="94"/>
                  </a:moveTo>
                  <a:lnTo>
                    <a:pt x="0" y="94"/>
                  </a:lnTo>
                  <a:lnTo>
                    <a:pt x="34" y="0"/>
                  </a:lnTo>
                  <a:lnTo>
                    <a:pt x="608" y="0"/>
                  </a:lnTo>
                  <a:lnTo>
                    <a:pt x="579" y="94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530520" y="1181160"/>
              <a:ext cx="509760" cy="30240"/>
            </a:xfrm>
            <a:custGeom>
              <a:avLst/>
              <a:gdLst/>
              <a:ahLst/>
              <a:rect l="l" t="t" r="r" b="b"/>
              <a:pathLst>
                <a:path w="1607" h="94">
                  <a:moveTo>
                    <a:pt x="1607" y="94"/>
                  </a:moveTo>
                  <a:lnTo>
                    <a:pt x="999" y="94"/>
                  </a:lnTo>
                  <a:lnTo>
                    <a:pt x="969" y="0"/>
                  </a:lnTo>
                  <a:lnTo>
                    <a:pt x="1575" y="0"/>
                  </a:lnTo>
                  <a:lnTo>
                    <a:pt x="1607" y="94"/>
                  </a:lnTo>
                  <a:close/>
                  <a:moveTo>
                    <a:pt x="578" y="94"/>
                  </a:moveTo>
                  <a:lnTo>
                    <a:pt x="0" y="94"/>
                  </a:lnTo>
                  <a:lnTo>
                    <a:pt x="34" y="0"/>
                  </a:lnTo>
                  <a:lnTo>
                    <a:pt x="606" y="0"/>
                  </a:lnTo>
                  <a:lnTo>
                    <a:pt x="578" y="94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537000" y="1165320"/>
              <a:ext cx="498600" cy="30240"/>
            </a:xfrm>
            <a:custGeom>
              <a:avLst/>
              <a:gdLst/>
              <a:ahLst/>
              <a:rect l="l" t="t" r="r" b="b"/>
              <a:pathLst>
                <a:path w="1572" h="95">
                  <a:moveTo>
                    <a:pt x="1572" y="95"/>
                  </a:moveTo>
                  <a:lnTo>
                    <a:pt x="967" y="95"/>
                  </a:lnTo>
                  <a:lnTo>
                    <a:pt x="937" y="0"/>
                  </a:lnTo>
                  <a:lnTo>
                    <a:pt x="1542" y="0"/>
                  </a:lnTo>
                  <a:lnTo>
                    <a:pt x="1572" y="95"/>
                  </a:lnTo>
                  <a:close/>
                  <a:moveTo>
                    <a:pt x="574" y="95"/>
                  </a:moveTo>
                  <a:lnTo>
                    <a:pt x="0" y="95"/>
                  </a:lnTo>
                  <a:lnTo>
                    <a:pt x="32" y="0"/>
                  </a:lnTo>
                  <a:lnTo>
                    <a:pt x="602" y="0"/>
                  </a:lnTo>
                  <a:lnTo>
                    <a:pt x="574" y="95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41680" y="1150920"/>
              <a:ext cx="488880" cy="30240"/>
            </a:xfrm>
            <a:custGeom>
              <a:avLst/>
              <a:gdLst/>
              <a:ahLst/>
              <a:rect l="l" t="t" r="r" b="b"/>
              <a:pathLst>
                <a:path w="1541" h="95">
                  <a:moveTo>
                    <a:pt x="1541" y="95"/>
                  </a:moveTo>
                  <a:lnTo>
                    <a:pt x="935" y="95"/>
                  </a:lnTo>
                  <a:lnTo>
                    <a:pt x="907" y="0"/>
                  </a:lnTo>
                  <a:lnTo>
                    <a:pt x="1510" y="0"/>
                  </a:lnTo>
                  <a:lnTo>
                    <a:pt x="1541" y="95"/>
                  </a:lnTo>
                  <a:close/>
                  <a:moveTo>
                    <a:pt x="572" y="95"/>
                  </a:moveTo>
                  <a:lnTo>
                    <a:pt x="0" y="95"/>
                  </a:lnTo>
                  <a:lnTo>
                    <a:pt x="33" y="0"/>
                  </a:lnTo>
                  <a:lnTo>
                    <a:pt x="601" y="0"/>
                  </a:lnTo>
                  <a:lnTo>
                    <a:pt x="572" y="95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546360" y="1135080"/>
              <a:ext cx="479520" cy="30240"/>
            </a:xfrm>
            <a:custGeom>
              <a:avLst/>
              <a:gdLst/>
              <a:ahLst/>
              <a:rect l="l" t="t" r="r" b="b"/>
              <a:pathLst>
                <a:path w="1510" h="94">
                  <a:moveTo>
                    <a:pt x="1510" y="94"/>
                  </a:moveTo>
                  <a:lnTo>
                    <a:pt x="905" y="94"/>
                  </a:lnTo>
                  <a:lnTo>
                    <a:pt x="876" y="0"/>
                  </a:lnTo>
                  <a:lnTo>
                    <a:pt x="1478" y="0"/>
                  </a:lnTo>
                  <a:lnTo>
                    <a:pt x="1510" y="94"/>
                  </a:lnTo>
                  <a:close/>
                  <a:moveTo>
                    <a:pt x="570" y="94"/>
                  </a:moveTo>
                  <a:lnTo>
                    <a:pt x="0" y="94"/>
                  </a:lnTo>
                  <a:lnTo>
                    <a:pt x="33" y="0"/>
                  </a:lnTo>
                  <a:lnTo>
                    <a:pt x="599" y="0"/>
                  </a:lnTo>
                  <a:lnTo>
                    <a:pt x="570" y="94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551400" y="1120680"/>
              <a:ext cx="469800" cy="30240"/>
            </a:xfrm>
            <a:custGeom>
              <a:avLst/>
              <a:gdLst/>
              <a:ahLst/>
              <a:rect l="l" t="t" r="r" b="b"/>
              <a:pathLst>
                <a:path w="1477" h="94">
                  <a:moveTo>
                    <a:pt x="1477" y="94"/>
                  </a:moveTo>
                  <a:lnTo>
                    <a:pt x="874" y="94"/>
                  </a:lnTo>
                  <a:lnTo>
                    <a:pt x="845" y="0"/>
                  </a:lnTo>
                  <a:lnTo>
                    <a:pt x="1446" y="0"/>
                  </a:lnTo>
                  <a:lnTo>
                    <a:pt x="1477" y="94"/>
                  </a:lnTo>
                  <a:close/>
                  <a:moveTo>
                    <a:pt x="568" y="94"/>
                  </a:moveTo>
                  <a:lnTo>
                    <a:pt x="0" y="94"/>
                  </a:lnTo>
                  <a:lnTo>
                    <a:pt x="32" y="0"/>
                  </a:lnTo>
                  <a:lnTo>
                    <a:pt x="596" y="0"/>
                  </a:lnTo>
                  <a:lnTo>
                    <a:pt x="568" y="94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557520" y="1106640"/>
              <a:ext cx="459000" cy="28440"/>
            </a:xfrm>
            <a:custGeom>
              <a:avLst/>
              <a:gdLst/>
              <a:ahLst/>
              <a:rect l="l" t="t" r="r" b="b"/>
              <a:pathLst>
                <a:path w="1445" h="93">
                  <a:moveTo>
                    <a:pt x="1445" y="93"/>
                  </a:moveTo>
                  <a:lnTo>
                    <a:pt x="843" y="93"/>
                  </a:lnTo>
                  <a:lnTo>
                    <a:pt x="815" y="0"/>
                  </a:lnTo>
                  <a:lnTo>
                    <a:pt x="1415" y="0"/>
                  </a:lnTo>
                  <a:lnTo>
                    <a:pt x="1445" y="93"/>
                  </a:lnTo>
                  <a:close/>
                  <a:moveTo>
                    <a:pt x="566" y="93"/>
                  </a:moveTo>
                  <a:lnTo>
                    <a:pt x="0" y="93"/>
                  </a:lnTo>
                  <a:lnTo>
                    <a:pt x="34" y="0"/>
                  </a:lnTo>
                  <a:lnTo>
                    <a:pt x="595" y="0"/>
                  </a:lnTo>
                  <a:lnTo>
                    <a:pt x="566" y="93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562200" y="1090440"/>
              <a:ext cx="449280" cy="30240"/>
            </a:xfrm>
            <a:custGeom>
              <a:avLst/>
              <a:gdLst/>
              <a:ahLst/>
              <a:rect l="l" t="t" r="r" b="b"/>
              <a:pathLst>
                <a:path w="1414" h="94">
                  <a:moveTo>
                    <a:pt x="1414" y="94"/>
                  </a:moveTo>
                  <a:lnTo>
                    <a:pt x="813" y="94"/>
                  </a:lnTo>
                  <a:lnTo>
                    <a:pt x="785" y="0"/>
                  </a:lnTo>
                  <a:lnTo>
                    <a:pt x="1382" y="0"/>
                  </a:lnTo>
                  <a:lnTo>
                    <a:pt x="1414" y="94"/>
                  </a:lnTo>
                  <a:close/>
                  <a:moveTo>
                    <a:pt x="564" y="94"/>
                  </a:moveTo>
                  <a:lnTo>
                    <a:pt x="0" y="94"/>
                  </a:lnTo>
                  <a:lnTo>
                    <a:pt x="34" y="0"/>
                  </a:lnTo>
                  <a:lnTo>
                    <a:pt x="593" y="0"/>
                  </a:lnTo>
                  <a:lnTo>
                    <a:pt x="564" y="94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567240" y="1076400"/>
              <a:ext cx="439560" cy="30240"/>
            </a:xfrm>
            <a:custGeom>
              <a:avLst/>
              <a:gdLst/>
              <a:ahLst/>
              <a:rect l="l" t="t" r="r" b="b"/>
              <a:pathLst>
                <a:path w="1381" h="95">
                  <a:moveTo>
                    <a:pt x="1381" y="95"/>
                  </a:moveTo>
                  <a:lnTo>
                    <a:pt x="781" y="95"/>
                  </a:lnTo>
                  <a:lnTo>
                    <a:pt x="751" y="0"/>
                  </a:lnTo>
                  <a:lnTo>
                    <a:pt x="1349" y="0"/>
                  </a:lnTo>
                  <a:lnTo>
                    <a:pt x="1381" y="95"/>
                  </a:lnTo>
                  <a:close/>
                  <a:moveTo>
                    <a:pt x="561" y="95"/>
                  </a:moveTo>
                  <a:lnTo>
                    <a:pt x="0" y="95"/>
                  </a:lnTo>
                  <a:lnTo>
                    <a:pt x="32" y="0"/>
                  </a:lnTo>
                  <a:lnTo>
                    <a:pt x="589" y="0"/>
                  </a:lnTo>
                  <a:lnTo>
                    <a:pt x="561" y="95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573360" y="1060560"/>
              <a:ext cx="427320" cy="29880"/>
            </a:xfrm>
            <a:custGeom>
              <a:avLst/>
              <a:gdLst/>
              <a:ahLst/>
              <a:rect l="l" t="t" r="r" b="b"/>
              <a:pathLst>
                <a:path w="1348" h="94">
                  <a:moveTo>
                    <a:pt x="1348" y="94"/>
                  </a:moveTo>
                  <a:lnTo>
                    <a:pt x="751" y="94"/>
                  </a:lnTo>
                  <a:lnTo>
                    <a:pt x="721" y="0"/>
                  </a:lnTo>
                  <a:lnTo>
                    <a:pt x="1318" y="0"/>
                  </a:lnTo>
                  <a:lnTo>
                    <a:pt x="1348" y="94"/>
                  </a:lnTo>
                  <a:close/>
                  <a:moveTo>
                    <a:pt x="559" y="94"/>
                  </a:moveTo>
                  <a:lnTo>
                    <a:pt x="0" y="94"/>
                  </a:lnTo>
                  <a:lnTo>
                    <a:pt x="32" y="0"/>
                  </a:lnTo>
                  <a:lnTo>
                    <a:pt x="587" y="0"/>
                  </a:lnTo>
                  <a:lnTo>
                    <a:pt x="559" y="94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578400" y="1046160"/>
              <a:ext cx="417240" cy="30240"/>
            </a:xfrm>
            <a:custGeom>
              <a:avLst/>
              <a:gdLst/>
              <a:ahLst/>
              <a:rect l="l" t="t" r="r" b="b"/>
              <a:pathLst>
                <a:path w="1317" h="94">
                  <a:moveTo>
                    <a:pt x="1317" y="94"/>
                  </a:moveTo>
                  <a:lnTo>
                    <a:pt x="719" y="94"/>
                  </a:lnTo>
                  <a:lnTo>
                    <a:pt x="691" y="0"/>
                  </a:lnTo>
                  <a:lnTo>
                    <a:pt x="1286" y="0"/>
                  </a:lnTo>
                  <a:lnTo>
                    <a:pt x="1317" y="94"/>
                  </a:lnTo>
                  <a:close/>
                  <a:moveTo>
                    <a:pt x="557" y="94"/>
                  </a:moveTo>
                  <a:lnTo>
                    <a:pt x="0" y="94"/>
                  </a:lnTo>
                  <a:lnTo>
                    <a:pt x="33" y="0"/>
                  </a:lnTo>
                  <a:lnTo>
                    <a:pt x="586" y="0"/>
                  </a:lnTo>
                  <a:lnTo>
                    <a:pt x="557" y="94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583080" y="1031760"/>
              <a:ext cx="407880" cy="28800"/>
            </a:xfrm>
            <a:custGeom>
              <a:avLst/>
              <a:gdLst/>
              <a:ahLst/>
              <a:rect l="l" t="t" r="r" b="b"/>
              <a:pathLst>
                <a:path w="1286" h="94">
                  <a:moveTo>
                    <a:pt x="1286" y="94"/>
                  </a:moveTo>
                  <a:lnTo>
                    <a:pt x="689" y="94"/>
                  </a:lnTo>
                  <a:lnTo>
                    <a:pt x="660" y="0"/>
                  </a:lnTo>
                  <a:lnTo>
                    <a:pt x="1254" y="0"/>
                  </a:lnTo>
                  <a:lnTo>
                    <a:pt x="1286" y="94"/>
                  </a:lnTo>
                  <a:close/>
                  <a:moveTo>
                    <a:pt x="555" y="94"/>
                  </a:moveTo>
                  <a:lnTo>
                    <a:pt x="0" y="94"/>
                  </a:lnTo>
                  <a:lnTo>
                    <a:pt x="33" y="0"/>
                  </a:lnTo>
                  <a:lnTo>
                    <a:pt x="584" y="0"/>
                  </a:lnTo>
                  <a:lnTo>
                    <a:pt x="555" y="94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587760" y="1015920"/>
              <a:ext cx="398520" cy="30240"/>
            </a:xfrm>
            <a:custGeom>
              <a:avLst/>
              <a:gdLst/>
              <a:ahLst/>
              <a:rect l="l" t="t" r="r" b="b"/>
              <a:pathLst>
                <a:path w="1253" h="95">
                  <a:moveTo>
                    <a:pt x="1253" y="95"/>
                  </a:moveTo>
                  <a:lnTo>
                    <a:pt x="658" y="95"/>
                  </a:lnTo>
                  <a:lnTo>
                    <a:pt x="629" y="0"/>
                  </a:lnTo>
                  <a:lnTo>
                    <a:pt x="1222" y="0"/>
                  </a:lnTo>
                  <a:lnTo>
                    <a:pt x="1253" y="95"/>
                  </a:lnTo>
                  <a:close/>
                  <a:moveTo>
                    <a:pt x="553" y="95"/>
                  </a:moveTo>
                  <a:lnTo>
                    <a:pt x="0" y="95"/>
                  </a:lnTo>
                  <a:lnTo>
                    <a:pt x="33" y="0"/>
                  </a:lnTo>
                  <a:lnTo>
                    <a:pt x="581" y="0"/>
                  </a:lnTo>
                  <a:lnTo>
                    <a:pt x="553" y="95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594240" y="1001880"/>
              <a:ext cx="387360" cy="29880"/>
            </a:xfrm>
            <a:custGeom>
              <a:avLst/>
              <a:gdLst/>
              <a:ahLst/>
              <a:rect l="l" t="t" r="r" b="b"/>
              <a:pathLst>
                <a:path w="1221" h="95">
                  <a:moveTo>
                    <a:pt x="1221" y="95"/>
                  </a:moveTo>
                  <a:lnTo>
                    <a:pt x="627" y="95"/>
                  </a:lnTo>
                  <a:lnTo>
                    <a:pt x="599" y="0"/>
                  </a:lnTo>
                  <a:lnTo>
                    <a:pt x="1190" y="0"/>
                  </a:lnTo>
                  <a:lnTo>
                    <a:pt x="1221" y="95"/>
                  </a:lnTo>
                  <a:close/>
                  <a:moveTo>
                    <a:pt x="551" y="95"/>
                  </a:moveTo>
                  <a:lnTo>
                    <a:pt x="0" y="95"/>
                  </a:lnTo>
                  <a:lnTo>
                    <a:pt x="34" y="0"/>
                  </a:lnTo>
                  <a:lnTo>
                    <a:pt x="580" y="0"/>
                  </a:lnTo>
                  <a:lnTo>
                    <a:pt x="551" y="95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598920" y="985680"/>
              <a:ext cx="377640" cy="30240"/>
            </a:xfrm>
            <a:custGeom>
              <a:avLst/>
              <a:gdLst/>
              <a:ahLst/>
              <a:rect l="l" t="t" r="r" b="b"/>
              <a:pathLst>
                <a:path w="1189" h="94">
                  <a:moveTo>
                    <a:pt x="1189" y="94"/>
                  </a:moveTo>
                  <a:lnTo>
                    <a:pt x="596" y="94"/>
                  </a:lnTo>
                  <a:lnTo>
                    <a:pt x="572" y="16"/>
                  </a:lnTo>
                  <a:lnTo>
                    <a:pt x="548" y="94"/>
                  </a:lnTo>
                  <a:lnTo>
                    <a:pt x="0" y="94"/>
                  </a:lnTo>
                  <a:lnTo>
                    <a:pt x="33" y="0"/>
                  </a:lnTo>
                  <a:lnTo>
                    <a:pt x="1157" y="0"/>
                  </a:lnTo>
                  <a:lnTo>
                    <a:pt x="1189" y="94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603600" y="971640"/>
              <a:ext cx="368280" cy="30240"/>
            </a:xfrm>
            <a:custGeom>
              <a:avLst/>
              <a:gdLst/>
              <a:ahLst/>
              <a:rect l="l" t="t" r="r" b="b"/>
              <a:pathLst>
                <a:path w="1156" h="93">
                  <a:moveTo>
                    <a:pt x="1156" y="93"/>
                  </a:moveTo>
                  <a:lnTo>
                    <a:pt x="565" y="93"/>
                  </a:lnTo>
                  <a:lnTo>
                    <a:pt x="555" y="62"/>
                  </a:lnTo>
                  <a:lnTo>
                    <a:pt x="546" y="93"/>
                  </a:lnTo>
                  <a:lnTo>
                    <a:pt x="0" y="93"/>
                  </a:lnTo>
                  <a:lnTo>
                    <a:pt x="32" y="0"/>
                  </a:lnTo>
                  <a:lnTo>
                    <a:pt x="1125" y="0"/>
                  </a:lnTo>
                  <a:lnTo>
                    <a:pt x="1156" y="93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610080" y="957240"/>
              <a:ext cx="355320" cy="28440"/>
            </a:xfrm>
            <a:custGeom>
              <a:avLst/>
              <a:gdLst/>
              <a:ahLst/>
              <a:rect l="l" t="t" r="r" b="b"/>
              <a:pathLst>
                <a:path w="1124" h="93">
                  <a:moveTo>
                    <a:pt x="1124" y="93"/>
                  </a:moveTo>
                  <a:lnTo>
                    <a:pt x="0" y="93"/>
                  </a:lnTo>
                  <a:lnTo>
                    <a:pt x="33" y="0"/>
                  </a:lnTo>
                  <a:lnTo>
                    <a:pt x="1094" y="0"/>
                  </a:lnTo>
                  <a:lnTo>
                    <a:pt x="1124" y="93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614760" y="941400"/>
              <a:ext cx="345960" cy="30240"/>
            </a:xfrm>
            <a:custGeom>
              <a:avLst/>
              <a:gdLst/>
              <a:ahLst/>
              <a:rect l="l" t="t" r="r" b="b"/>
              <a:pathLst>
                <a:path w="1093" h="95">
                  <a:moveTo>
                    <a:pt x="1093" y="95"/>
                  </a:moveTo>
                  <a:lnTo>
                    <a:pt x="0" y="95"/>
                  </a:lnTo>
                  <a:lnTo>
                    <a:pt x="33" y="0"/>
                  </a:lnTo>
                  <a:lnTo>
                    <a:pt x="1062" y="0"/>
                  </a:lnTo>
                  <a:lnTo>
                    <a:pt x="1093" y="95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619440" y="927000"/>
              <a:ext cx="336600" cy="30240"/>
            </a:xfrm>
            <a:custGeom>
              <a:avLst/>
              <a:gdLst/>
              <a:ahLst/>
              <a:rect l="l" t="t" r="r" b="b"/>
              <a:pathLst>
                <a:path w="1061" h="95">
                  <a:moveTo>
                    <a:pt x="1061" y="95"/>
                  </a:moveTo>
                  <a:lnTo>
                    <a:pt x="0" y="95"/>
                  </a:lnTo>
                  <a:lnTo>
                    <a:pt x="32" y="0"/>
                  </a:lnTo>
                  <a:lnTo>
                    <a:pt x="1029" y="0"/>
                  </a:lnTo>
                  <a:lnTo>
                    <a:pt x="1061" y="95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624120" y="911160"/>
              <a:ext cx="327240" cy="30240"/>
            </a:xfrm>
            <a:custGeom>
              <a:avLst/>
              <a:gdLst/>
              <a:ahLst/>
              <a:rect l="l" t="t" r="r" b="b"/>
              <a:pathLst>
                <a:path w="1029" h="94">
                  <a:moveTo>
                    <a:pt x="1029" y="94"/>
                  </a:moveTo>
                  <a:lnTo>
                    <a:pt x="0" y="94"/>
                  </a:lnTo>
                  <a:lnTo>
                    <a:pt x="34" y="0"/>
                  </a:lnTo>
                  <a:lnTo>
                    <a:pt x="998" y="0"/>
                  </a:lnTo>
                  <a:lnTo>
                    <a:pt x="1029" y="94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630600" y="896760"/>
              <a:ext cx="316080" cy="30240"/>
            </a:xfrm>
            <a:custGeom>
              <a:avLst/>
              <a:gdLst/>
              <a:ahLst/>
              <a:rect l="l" t="t" r="r" b="b"/>
              <a:pathLst>
                <a:path w="997" h="94">
                  <a:moveTo>
                    <a:pt x="997" y="94"/>
                  </a:moveTo>
                  <a:lnTo>
                    <a:pt x="0" y="94"/>
                  </a:lnTo>
                  <a:lnTo>
                    <a:pt x="34" y="0"/>
                  </a:lnTo>
                  <a:lnTo>
                    <a:pt x="966" y="0"/>
                  </a:lnTo>
                  <a:lnTo>
                    <a:pt x="997" y="94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635280" y="880920"/>
              <a:ext cx="306360" cy="30240"/>
            </a:xfrm>
            <a:custGeom>
              <a:avLst/>
              <a:gdLst/>
              <a:ahLst/>
              <a:rect l="l" t="t" r="r" b="b"/>
              <a:pathLst>
                <a:path w="964" h="94">
                  <a:moveTo>
                    <a:pt x="964" y="94"/>
                  </a:moveTo>
                  <a:lnTo>
                    <a:pt x="0" y="94"/>
                  </a:lnTo>
                  <a:lnTo>
                    <a:pt x="32" y="0"/>
                  </a:lnTo>
                  <a:lnTo>
                    <a:pt x="933" y="0"/>
                  </a:lnTo>
                  <a:lnTo>
                    <a:pt x="964" y="94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639960" y="866880"/>
              <a:ext cx="297000" cy="29880"/>
            </a:xfrm>
            <a:custGeom>
              <a:avLst/>
              <a:gdLst/>
              <a:ahLst/>
              <a:rect l="l" t="t" r="r" b="b"/>
              <a:pathLst>
                <a:path w="932" h="95">
                  <a:moveTo>
                    <a:pt x="932" y="95"/>
                  </a:moveTo>
                  <a:lnTo>
                    <a:pt x="0" y="95"/>
                  </a:lnTo>
                  <a:lnTo>
                    <a:pt x="33" y="0"/>
                  </a:lnTo>
                  <a:lnTo>
                    <a:pt x="901" y="0"/>
                  </a:lnTo>
                  <a:lnTo>
                    <a:pt x="932" y="95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646440" y="851040"/>
              <a:ext cx="285840" cy="29880"/>
            </a:xfrm>
            <a:custGeom>
              <a:avLst/>
              <a:gdLst/>
              <a:ahLst/>
              <a:rect l="l" t="t" r="r" b="b"/>
              <a:pathLst>
                <a:path w="901" h="95">
                  <a:moveTo>
                    <a:pt x="901" y="95"/>
                  </a:moveTo>
                  <a:lnTo>
                    <a:pt x="0" y="95"/>
                  </a:lnTo>
                  <a:lnTo>
                    <a:pt x="33" y="0"/>
                  </a:lnTo>
                  <a:lnTo>
                    <a:pt x="869" y="0"/>
                  </a:lnTo>
                  <a:lnTo>
                    <a:pt x="901" y="95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651120" y="836640"/>
              <a:ext cx="276480" cy="30240"/>
            </a:xfrm>
            <a:custGeom>
              <a:avLst/>
              <a:gdLst/>
              <a:ahLst/>
              <a:rect l="l" t="t" r="r" b="b"/>
              <a:pathLst>
                <a:path w="868" h="94">
                  <a:moveTo>
                    <a:pt x="868" y="94"/>
                  </a:moveTo>
                  <a:lnTo>
                    <a:pt x="0" y="94"/>
                  </a:lnTo>
                  <a:lnTo>
                    <a:pt x="32" y="0"/>
                  </a:lnTo>
                  <a:lnTo>
                    <a:pt x="837" y="0"/>
                  </a:lnTo>
                  <a:lnTo>
                    <a:pt x="868" y="94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656160" y="822240"/>
              <a:ext cx="264960" cy="28800"/>
            </a:xfrm>
            <a:custGeom>
              <a:avLst/>
              <a:gdLst/>
              <a:ahLst/>
              <a:rect l="l" t="t" r="r" b="b"/>
              <a:pathLst>
                <a:path w="836" h="93">
                  <a:moveTo>
                    <a:pt x="836" y="93"/>
                  </a:moveTo>
                  <a:lnTo>
                    <a:pt x="0" y="93"/>
                  </a:lnTo>
                  <a:lnTo>
                    <a:pt x="34" y="0"/>
                  </a:lnTo>
                  <a:lnTo>
                    <a:pt x="805" y="0"/>
                  </a:lnTo>
                  <a:lnTo>
                    <a:pt x="836" y="93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660840" y="806400"/>
              <a:ext cx="255600" cy="30240"/>
            </a:xfrm>
            <a:custGeom>
              <a:avLst/>
              <a:gdLst/>
              <a:ahLst/>
              <a:rect l="l" t="t" r="r" b="b"/>
              <a:pathLst>
                <a:path w="805" h="93">
                  <a:moveTo>
                    <a:pt x="805" y="93"/>
                  </a:moveTo>
                  <a:lnTo>
                    <a:pt x="0" y="93"/>
                  </a:lnTo>
                  <a:lnTo>
                    <a:pt x="34" y="0"/>
                  </a:lnTo>
                  <a:lnTo>
                    <a:pt x="774" y="0"/>
                  </a:lnTo>
                  <a:lnTo>
                    <a:pt x="805" y="93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666960" y="792000"/>
              <a:ext cx="244800" cy="30240"/>
            </a:xfrm>
            <a:custGeom>
              <a:avLst/>
              <a:gdLst/>
              <a:ahLst/>
              <a:rect l="l" t="t" r="r" b="b"/>
              <a:pathLst>
                <a:path w="771" h="95">
                  <a:moveTo>
                    <a:pt x="771" y="95"/>
                  </a:moveTo>
                  <a:lnTo>
                    <a:pt x="0" y="95"/>
                  </a:lnTo>
                  <a:lnTo>
                    <a:pt x="32" y="0"/>
                  </a:lnTo>
                  <a:lnTo>
                    <a:pt x="740" y="0"/>
                  </a:lnTo>
                  <a:lnTo>
                    <a:pt x="771" y="95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2000" y="776160"/>
              <a:ext cx="234720" cy="30240"/>
            </a:xfrm>
            <a:custGeom>
              <a:avLst/>
              <a:gdLst/>
              <a:ahLst/>
              <a:rect l="l" t="t" r="r" b="b"/>
              <a:pathLst>
                <a:path w="740" h="95">
                  <a:moveTo>
                    <a:pt x="740" y="95"/>
                  </a:moveTo>
                  <a:lnTo>
                    <a:pt x="0" y="95"/>
                  </a:lnTo>
                  <a:lnTo>
                    <a:pt x="33" y="0"/>
                  </a:lnTo>
                  <a:lnTo>
                    <a:pt x="709" y="0"/>
                  </a:lnTo>
                  <a:lnTo>
                    <a:pt x="740" y="95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676680" y="773280"/>
              <a:ext cx="225360" cy="18720"/>
            </a:xfrm>
            <a:custGeom>
              <a:avLst/>
              <a:gdLst/>
              <a:ahLst/>
              <a:rect l="l" t="t" r="r" b="b"/>
              <a:pathLst>
                <a:path w="708" h="58">
                  <a:moveTo>
                    <a:pt x="708" y="58"/>
                  </a:moveTo>
                  <a:lnTo>
                    <a:pt x="0" y="58"/>
                  </a:lnTo>
                  <a:lnTo>
                    <a:pt x="21" y="0"/>
                  </a:lnTo>
                  <a:lnTo>
                    <a:pt x="689" y="0"/>
                  </a:lnTo>
                  <a:lnTo>
                    <a:pt x="708" y="58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683160" y="773280"/>
              <a:ext cx="214200" cy="2880"/>
            </a:xfrm>
            <a:custGeom>
              <a:avLst/>
              <a:gdLst/>
              <a:ahLst/>
              <a:rect l="l" t="t" r="r" b="b"/>
              <a:pathLst>
                <a:path w="676" h="11">
                  <a:moveTo>
                    <a:pt x="676" y="11"/>
                  </a:moveTo>
                  <a:lnTo>
                    <a:pt x="0" y="11"/>
                  </a:lnTo>
                  <a:lnTo>
                    <a:pt x="4" y="0"/>
                  </a:lnTo>
                  <a:lnTo>
                    <a:pt x="672" y="0"/>
                  </a:lnTo>
                  <a:lnTo>
                    <a:pt x="676" y="11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206960" y="1479600"/>
              <a:ext cx="189000" cy="1908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206960" y="1465200"/>
              <a:ext cx="18900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206960" y="1449360"/>
              <a:ext cx="18900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206960" y="1434960"/>
              <a:ext cx="189000" cy="3024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06960" y="1419120"/>
              <a:ext cx="189000" cy="3024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206960" y="1405080"/>
              <a:ext cx="189000" cy="2988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206960" y="1390680"/>
              <a:ext cx="189000" cy="284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206960" y="1374840"/>
              <a:ext cx="189000" cy="3024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206960" y="1360440"/>
              <a:ext cx="18900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206960" y="1344600"/>
              <a:ext cx="189000" cy="3024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206960" y="1330200"/>
              <a:ext cx="189000" cy="3024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206960" y="1314360"/>
              <a:ext cx="189000" cy="3024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206960" y="1300320"/>
              <a:ext cx="189000" cy="2988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206960" y="1285920"/>
              <a:ext cx="189000" cy="28440"/>
            </a:xfrm>
            <a:prstGeom prst="rect">
              <a:avLst/>
            </a:pr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206960" y="1270080"/>
              <a:ext cx="189000" cy="30240"/>
            </a:xfrm>
            <a:prstGeom prst="rect">
              <a:avLst/>
            </a:pr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206960" y="1255680"/>
              <a:ext cx="189000" cy="30240"/>
            </a:xfrm>
            <a:prstGeom prst="rect">
              <a:avLst/>
            </a:pr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206960" y="1239840"/>
              <a:ext cx="189000" cy="30240"/>
            </a:xfrm>
            <a:prstGeom prst="rect">
              <a:avLst/>
            </a:pr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06960" y="1225440"/>
              <a:ext cx="189000" cy="30240"/>
            </a:xfrm>
            <a:prstGeom prst="rect">
              <a:avLst/>
            </a:pr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206960" y="1211400"/>
              <a:ext cx="189000" cy="28440"/>
            </a:xfrm>
            <a:prstGeom prst="rect">
              <a:avLst/>
            </a:pr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206960" y="1195560"/>
              <a:ext cx="189000" cy="29880"/>
            </a:xfrm>
            <a:prstGeom prst="rect">
              <a:avLst/>
            </a:pr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206960" y="1181160"/>
              <a:ext cx="189000" cy="30240"/>
            </a:xfrm>
            <a:prstGeom prst="rect">
              <a:avLst/>
            </a:pr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206960" y="1165320"/>
              <a:ext cx="189000" cy="30240"/>
            </a:xfrm>
            <a:prstGeom prst="rect">
              <a:avLst/>
            </a:pr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206960" y="1150920"/>
              <a:ext cx="189000" cy="30240"/>
            </a:xfrm>
            <a:prstGeom prst="rect">
              <a:avLst/>
            </a:pr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206960" y="1135080"/>
              <a:ext cx="189000" cy="30240"/>
            </a:xfrm>
            <a:prstGeom prst="rect">
              <a:avLst/>
            </a:pr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206960" y="1120680"/>
              <a:ext cx="189000" cy="30240"/>
            </a:xfrm>
            <a:prstGeom prst="rect">
              <a:avLst/>
            </a:pr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206960" y="1106640"/>
              <a:ext cx="189000" cy="28440"/>
            </a:xfrm>
            <a:prstGeom prst="rect">
              <a:avLst/>
            </a:pr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206960" y="1090440"/>
              <a:ext cx="189000" cy="30240"/>
            </a:xfrm>
            <a:prstGeom prst="rect">
              <a:avLst/>
            </a:pr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206960" y="1076400"/>
              <a:ext cx="189000" cy="30240"/>
            </a:xfrm>
            <a:prstGeom prst="rect">
              <a:avLst/>
            </a:pr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206960" y="1060560"/>
              <a:ext cx="189000" cy="29880"/>
            </a:xfrm>
            <a:prstGeom prst="rect">
              <a:avLst/>
            </a:pr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206960" y="1046160"/>
              <a:ext cx="189000" cy="30240"/>
            </a:xfrm>
            <a:prstGeom prst="rect">
              <a:avLst/>
            </a:pr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206960" y="1031760"/>
              <a:ext cx="189000" cy="28800"/>
            </a:xfrm>
            <a:prstGeom prst="rect">
              <a:avLst/>
            </a:pr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206960" y="1015920"/>
              <a:ext cx="189000" cy="30240"/>
            </a:xfrm>
            <a:prstGeom prst="rect">
              <a:avLst/>
            </a:pr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206960" y="1001880"/>
              <a:ext cx="189000" cy="29880"/>
            </a:xfrm>
            <a:prstGeom prst="rect">
              <a:avLst/>
            </a:pr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206960" y="985680"/>
              <a:ext cx="189000" cy="30240"/>
            </a:xfrm>
            <a:prstGeom prst="rect">
              <a:avLst/>
            </a:pr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206960" y="971640"/>
              <a:ext cx="189000" cy="30240"/>
            </a:xfrm>
            <a:prstGeom prst="rect">
              <a:avLst/>
            </a:pr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206960" y="957240"/>
              <a:ext cx="189000" cy="28440"/>
            </a:xfrm>
            <a:prstGeom prst="rect">
              <a:avLst/>
            </a:pr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206960" y="941400"/>
              <a:ext cx="189000" cy="30240"/>
            </a:xfrm>
            <a:prstGeom prst="rect">
              <a:avLst/>
            </a:pr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206960" y="927000"/>
              <a:ext cx="189000" cy="30240"/>
            </a:xfrm>
            <a:prstGeom prst="rect">
              <a:avLst/>
            </a:pr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206960" y="911160"/>
              <a:ext cx="189000" cy="30240"/>
            </a:xfrm>
            <a:prstGeom prst="rect">
              <a:avLst/>
            </a:pr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206960" y="896760"/>
              <a:ext cx="189000" cy="30240"/>
            </a:xfrm>
            <a:prstGeom prst="rect">
              <a:avLst/>
            </a:pr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206960" y="880920"/>
              <a:ext cx="189000" cy="30240"/>
            </a:xfrm>
            <a:prstGeom prst="rect">
              <a:avLst/>
            </a:pr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206960" y="866880"/>
              <a:ext cx="189000" cy="29880"/>
            </a:xfrm>
            <a:prstGeom prst="rect">
              <a:avLst/>
            </a:pr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206960" y="851040"/>
              <a:ext cx="189000" cy="29880"/>
            </a:xfrm>
            <a:prstGeom prst="rect">
              <a:avLst/>
            </a:pr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206960" y="836640"/>
              <a:ext cx="189000" cy="30240"/>
            </a:xfrm>
            <a:prstGeom prst="rect">
              <a:avLst/>
            </a:pr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206960" y="822240"/>
              <a:ext cx="189000" cy="28800"/>
            </a:xfrm>
            <a:prstGeom prst="rect">
              <a:avLst/>
            </a:pr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206960" y="806400"/>
              <a:ext cx="189000" cy="30240"/>
            </a:xfrm>
            <a:prstGeom prst="rect">
              <a:avLst/>
            </a:pr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206960" y="792000"/>
              <a:ext cx="189000" cy="30240"/>
            </a:xfrm>
            <a:prstGeom prst="rect">
              <a:avLst/>
            </a:pr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206960" y="776160"/>
              <a:ext cx="189000" cy="30240"/>
            </a:xfrm>
            <a:prstGeom prst="rect">
              <a:avLst/>
            </a:pr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206960" y="773280"/>
              <a:ext cx="189000" cy="18720"/>
            </a:xfrm>
            <a:prstGeom prst="rect">
              <a:avLst/>
            </a:pr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525920" y="1479600"/>
              <a:ext cx="277920" cy="19080"/>
            </a:xfrm>
            <a:custGeom>
              <a:avLst/>
              <a:gdLst/>
              <a:ahLst/>
              <a:rect l="l" t="t" r="r" b="b"/>
              <a:pathLst>
                <a:path w="875" h="58">
                  <a:moveTo>
                    <a:pt x="0" y="58"/>
                  </a:moveTo>
                  <a:lnTo>
                    <a:pt x="0" y="0"/>
                  </a:lnTo>
                  <a:lnTo>
                    <a:pt x="875" y="0"/>
                  </a:lnTo>
                  <a:lnTo>
                    <a:pt x="868" y="1"/>
                  </a:lnTo>
                  <a:lnTo>
                    <a:pt x="861" y="3"/>
                  </a:lnTo>
                  <a:lnTo>
                    <a:pt x="854" y="5"/>
                  </a:lnTo>
                  <a:lnTo>
                    <a:pt x="846" y="7"/>
                  </a:lnTo>
                  <a:lnTo>
                    <a:pt x="839" y="9"/>
                  </a:lnTo>
                  <a:lnTo>
                    <a:pt x="832" y="10"/>
                  </a:lnTo>
                  <a:lnTo>
                    <a:pt x="825" y="12"/>
                  </a:lnTo>
                  <a:lnTo>
                    <a:pt x="818" y="14"/>
                  </a:lnTo>
                  <a:lnTo>
                    <a:pt x="766" y="24"/>
                  </a:lnTo>
                  <a:lnTo>
                    <a:pt x="713" y="34"/>
                  </a:lnTo>
                  <a:lnTo>
                    <a:pt x="657" y="41"/>
                  </a:lnTo>
                  <a:lnTo>
                    <a:pt x="600" y="47"/>
                  </a:lnTo>
                  <a:lnTo>
                    <a:pt x="539" y="52"/>
                  </a:lnTo>
                  <a:lnTo>
                    <a:pt x="476" y="55"/>
                  </a:lnTo>
                  <a:lnTo>
                    <a:pt x="412" y="57"/>
                  </a:lnTo>
                  <a:lnTo>
                    <a:pt x="345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525920" y="1465200"/>
              <a:ext cx="322200" cy="30240"/>
            </a:xfrm>
            <a:custGeom>
              <a:avLst/>
              <a:gdLst/>
              <a:ahLst/>
              <a:rect l="l" t="t" r="r" b="b"/>
              <a:pathLst>
                <a:path w="1016" h="95">
                  <a:moveTo>
                    <a:pt x="603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016" y="0"/>
                  </a:lnTo>
                  <a:lnTo>
                    <a:pt x="992" y="9"/>
                  </a:lnTo>
                  <a:lnTo>
                    <a:pt x="969" y="18"/>
                  </a:lnTo>
                  <a:lnTo>
                    <a:pt x="944" y="27"/>
                  </a:lnTo>
                  <a:lnTo>
                    <a:pt x="920" y="35"/>
                  </a:lnTo>
                  <a:lnTo>
                    <a:pt x="894" y="42"/>
                  </a:lnTo>
                  <a:lnTo>
                    <a:pt x="869" y="49"/>
                  </a:lnTo>
                  <a:lnTo>
                    <a:pt x="843" y="56"/>
                  </a:lnTo>
                  <a:lnTo>
                    <a:pt x="818" y="62"/>
                  </a:lnTo>
                  <a:lnTo>
                    <a:pt x="792" y="67"/>
                  </a:lnTo>
                  <a:lnTo>
                    <a:pt x="767" y="72"/>
                  </a:lnTo>
                  <a:lnTo>
                    <a:pt x="741" y="77"/>
                  </a:lnTo>
                  <a:lnTo>
                    <a:pt x="715" y="81"/>
                  </a:lnTo>
                  <a:lnTo>
                    <a:pt x="687" y="85"/>
                  </a:lnTo>
                  <a:lnTo>
                    <a:pt x="660" y="89"/>
                  </a:lnTo>
                  <a:lnTo>
                    <a:pt x="631" y="92"/>
                  </a:lnTo>
                  <a:lnTo>
                    <a:pt x="603" y="95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525920" y="1449360"/>
              <a:ext cx="355680" cy="30240"/>
            </a:xfrm>
            <a:custGeom>
              <a:avLst/>
              <a:gdLst/>
              <a:ahLst/>
              <a:rect l="l" t="t" r="r" b="b"/>
              <a:pathLst>
                <a:path w="1118" h="95">
                  <a:moveTo>
                    <a:pt x="875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118" y="0"/>
                  </a:lnTo>
                  <a:lnTo>
                    <a:pt x="1089" y="14"/>
                  </a:lnTo>
                  <a:lnTo>
                    <a:pt x="1061" y="29"/>
                  </a:lnTo>
                  <a:lnTo>
                    <a:pt x="1031" y="41"/>
                  </a:lnTo>
                  <a:lnTo>
                    <a:pt x="1001" y="53"/>
                  </a:lnTo>
                  <a:lnTo>
                    <a:pt x="971" y="64"/>
                  </a:lnTo>
                  <a:lnTo>
                    <a:pt x="939" y="76"/>
                  </a:lnTo>
                  <a:lnTo>
                    <a:pt x="908" y="86"/>
                  </a:lnTo>
                  <a:lnTo>
                    <a:pt x="875" y="95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525920" y="1434960"/>
              <a:ext cx="380880" cy="30240"/>
            </a:xfrm>
            <a:custGeom>
              <a:avLst/>
              <a:gdLst/>
              <a:ahLst/>
              <a:rect l="l" t="t" r="r" b="b"/>
              <a:pathLst>
                <a:path w="1199" h="94">
                  <a:moveTo>
                    <a:pt x="1016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1199" y="0"/>
                  </a:lnTo>
                  <a:lnTo>
                    <a:pt x="1196" y="2"/>
                  </a:lnTo>
                  <a:lnTo>
                    <a:pt x="1193" y="3"/>
                  </a:lnTo>
                  <a:lnTo>
                    <a:pt x="1190" y="5"/>
                  </a:lnTo>
                  <a:lnTo>
                    <a:pt x="1188" y="7"/>
                  </a:lnTo>
                  <a:lnTo>
                    <a:pt x="1185" y="9"/>
                  </a:lnTo>
                  <a:lnTo>
                    <a:pt x="1182" y="10"/>
                  </a:lnTo>
                  <a:lnTo>
                    <a:pt x="1179" y="13"/>
                  </a:lnTo>
                  <a:lnTo>
                    <a:pt x="1177" y="15"/>
                  </a:lnTo>
                  <a:lnTo>
                    <a:pt x="1157" y="26"/>
                  </a:lnTo>
                  <a:lnTo>
                    <a:pt x="1138" y="36"/>
                  </a:lnTo>
                  <a:lnTo>
                    <a:pt x="1119" y="47"/>
                  </a:lnTo>
                  <a:lnTo>
                    <a:pt x="1098" y="57"/>
                  </a:lnTo>
                  <a:lnTo>
                    <a:pt x="1078" y="68"/>
                  </a:lnTo>
                  <a:lnTo>
                    <a:pt x="1058" y="77"/>
                  </a:lnTo>
                  <a:lnTo>
                    <a:pt x="1037" y="86"/>
                  </a:lnTo>
                  <a:lnTo>
                    <a:pt x="1016" y="94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525920" y="1419120"/>
              <a:ext cx="403200" cy="30240"/>
            </a:xfrm>
            <a:custGeom>
              <a:avLst/>
              <a:gdLst/>
              <a:ahLst/>
              <a:rect l="l" t="t" r="r" b="b"/>
              <a:pathLst>
                <a:path w="1268" h="94">
                  <a:moveTo>
                    <a:pt x="1118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1268" y="0"/>
                  </a:lnTo>
                  <a:lnTo>
                    <a:pt x="1256" y="9"/>
                  </a:lnTo>
                  <a:lnTo>
                    <a:pt x="1245" y="16"/>
                  </a:lnTo>
                  <a:lnTo>
                    <a:pt x="1234" y="24"/>
                  </a:lnTo>
                  <a:lnTo>
                    <a:pt x="1223" y="31"/>
                  </a:lnTo>
                  <a:lnTo>
                    <a:pt x="1212" y="39"/>
                  </a:lnTo>
                  <a:lnTo>
                    <a:pt x="1200" y="46"/>
                  </a:lnTo>
                  <a:lnTo>
                    <a:pt x="1188" y="54"/>
                  </a:lnTo>
                  <a:lnTo>
                    <a:pt x="1177" y="62"/>
                  </a:lnTo>
                  <a:lnTo>
                    <a:pt x="1169" y="66"/>
                  </a:lnTo>
                  <a:lnTo>
                    <a:pt x="1162" y="70"/>
                  </a:lnTo>
                  <a:lnTo>
                    <a:pt x="1154" y="74"/>
                  </a:lnTo>
                  <a:lnTo>
                    <a:pt x="1147" y="78"/>
                  </a:lnTo>
                  <a:lnTo>
                    <a:pt x="1140" y="82"/>
                  </a:lnTo>
                  <a:lnTo>
                    <a:pt x="1133" y="86"/>
                  </a:lnTo>
                  <a:lnTo>
                    <a:pt x="1125" y="90"/>
                  </a:lnTo>
                  <a:lnTo>
                    <a:pt x="1118" y="94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25920" y="1405080"/>
              <a:ext cx="422280" cy="29880"/>
            </a:xfrm>
            <a:custGeom>
              <a:avLst/>
              <a:gdLst/>
              <a:ahLst/>
              <a:rect l="l" t="t" r="r" b="b"/>
              <a:pathLst>
                <a:path w="1328" h="94">
                  <a:moveTo>
                    <a:pt x="1199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1328" y="0"/>
                  </a:lnTo>
                  <a:lnTo>
                    <a:pt x="1313" y="13"/>
                  </a:lnTo>
                  <a:lnTo>
                    <a:pt x="1297" y="25"/>
                  </a:lnTo>
                  <a:lnTo>
                    <a:pt x="1281" y="37"/>
                  </a:lnTo>
                  <a:lnTo>
                    <a:pt x="1266" y="48"/>
                  </a:lnTo>
                  <a:lnTo>
                    <a:pt x="1249" y="61"/>
                  </a:lnTo>
                  <a:lnTo>
                    <a:pt x="1233" y="72"/>
                  </a:lnTo>
                  <a:lnTo>
                    <a:pt x="1216" y="83"/>
                  </a:lnTo>
                  <a:lnTo>
                    <a:pt x="1199" y="94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525920" y="1390680"/>
              <a:ext cx="438120" cy="28440"/>
            </a:xfrm>
            <a:custGeom>
              <a:avLst/>
              <a:gdLst/>
              <a:ahLst/>
              <a:rect l="l" t="t" r="r" b="b"/>
              <a:pathLst>
                <a:path w="1380" h="94">
                  <a:moveTo>
                    <a:pt x="1268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1380" y="0"/>
                  </a:lnTo>
                  <a:lnTo>
                    <a:pt x="1367" y="13"/>
                  </a:lnTo>
                  <a:lnTo>
                    <a:pt x="1353" y="25"/>
                  </a:lnTo>
                  <a:lnTo>
                    <a:pt x="1340" y="36"/>
                  </a:lnTo>
                  <a:lnTo>
                    <a:pt x="1326" y="49"/>
                  </a:lnTo>
                  <a:lnTo>
                    <a:pt x="1312" y="60"/>
                  </a:lnTo>
                  <a:lnTo>
                    <a:pt x="1297" y="72"/>
                  </a:lnTo>
                  <a:lnTo>
                    <a:pt x="1282" y="83"/>
                  </a:lnTo>
                  <a:lnTo>
                    <a:pt x="1268" y="94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525920" y="1374840"/>
              <a:ext cx="453960" cy="30240"/>
            </a:xfrm>
            <a:custGeom>
              <a:avLst/>
              <a:gdLst/>
              <a:ahLst/>
              <a:rect l="l" t="t" r="r" b="b"/>
              <a:pathLst>
                <a:path w="1427" h="94">
                  <a:moveTo>
                    <a:pt x="1328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1427" y="0"/>
                  </a:lnTo>
                  <a:lnTo>
                    <a:pt x="1415" y="12"/>
                  </a:lnTo>
                  <a:lnTo>
                    <a:pt x="1403" y="24"/>
                  </a:lnTo>
                  <a:lnTo>
                    <a:pt x="1391" y="36"/>
                  </a:lnTo>
                  <a:lnTo>
                    <a:pt x="1379" y="49"/>
                  </a:lnTo>
                  <a:lnTo>
                    <a:pt x="1367" y="60"/>
                  </a:lnTo>
                  <a:lnTo>
                    <a:pt x="1353" y="71"/>
                  </a:lnTo>
                  <a:lnTo>
                    <a:pt x="1340" y="83"/>
                  </a:lnTo>
                  <a:lnTo>
                    <a:pt x="1328" y="94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525920" y="1360440"/>
              <a:ext cx="466920" cy="30240"/>
            </a:xfrm>
            <a:custGeom>
              <a:avLst/>
              <a:gdLst/>
              <a:ahLst/>
              <a:rect l="l" t="t" r="r" b="b"/>
              <a:pathLst>
                <a:path w="1468" h="94">
                  <a:moveTo>
                    <a:pt x="1380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1468" y="0"/>
                  </a:lnTo>
                  <a:lnTo>
                    <a:pt x="1457" y="12"/>
                  </a:lnTo>
                  <a:lnTo>
                    <a:pt x="1447" y="24"/>
                  </a:lnTo>
                  <a:lnTo>
                    <a:pt x="1436" y="37"/>
                  </a:lnTo>
                  <a:lnTo>
                    <a:pt x="1426" y="48"/>
                  </a:lnTo>
                  <a:lnTo>
                    <a:pt x="1415" y="60"/>
                  </a:lnTo>
                  <a:lnTo>
                    <a:pt x="1403" y="71"/>
                  </a:lnTo>
                  <a:lnTo>
                    <a:pt x="1392" y="82"/>
                  </a:lnTo>
                  <a:lnTo>
                    <a:pt x="1380" y="94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525920" y="1344600"/>
              <a:ext cx="477720" cy="30240"/>
            </a:xfrm>
            <a:custGeom>
              <a:avLst/>
              <a:gdLst/>
              <a:ahLst/>
              <a:rect l="l" t="t" r="r" b="b"/>
              <a:pathLst>
                <a:path w="1504" h="94">
                  <a:moveTo>
                    <a:pt x="1427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1504" y="0"/>
                  </a:lnTo>
                  <a:lnTo>
                    <a:pt x="1495" y="12"/>
                  </a:lnTo>
                  <a:lnTo>
                    <a:pt x="1486" y="24"/>
                  </a:lnTo>
                  <a:lnTo>
                    <a:pt x="1477" y="36"/>
                  </a:lnTo>
                  <a:lnTo>
                    <a:pt x="1467" y="48"/>
                  </a:lnTo>
                  <a:lnTo>
                    <a:pt x="1457" y="60"/>
                  </a:lnTo>
                  <a:lnTo>
                    <a:pt x="1447" y="71"/>
                  </a:lnTo>
                  <a:lnTo>
                    <a:pt x="1437" y="82"/>
                  </a:lnTo>
                  <a:lnTo>
                    <a:pt x="1427" y="94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525920" y="1330200"/>
              <a:ext cx="488880" cy="30240"/>
            </a:xfrm>
            <a:custGeom>
              <a:avLst/>
              <a:gdLst/>
              <a:ahLst/>
              <a:rect l="l" t="t" r="r" b="b"/>
              <a:pathLst>
                <a:path w="1537" h="94">
                  <a:moveTo>
                    <a:pt x="1468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1537" y="0"/>
                  </a:lnTo>
                  <a:lnTo>
                    <a:pt x="1529" y="12"/>
                  </a:lnTo>
                  <a:lnTo>
                    <a:pt x="1521" y="23"/>
                  </a:lnTo>
                  <a:lnTo>
                    <a:pt x="1512" y="36"/>
                  </a:lnTo>
                  <a:lnTo>
                    <a:pt x="1503" y="48"/>
                  </a:lnTo>
                  <a:lnTo>
                    <a:pt x="1495" y="59"/>
                  </a:lnTo>
                  <a:lnTo>
                    <a:pt x="1486" y="71"/>
                  </a:lnTo>
                  <a:lnTo>
                    <a:pt x="1477" y="83"/>
                  </a:lnTo>
                  <a:lnTo>
                    <a:pt x="1468" y="94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525920" y="1314360"/>
              <a:ext cx="498600" cy="30240"/>
            </a:xfrm>
            <a:custGeom>
              <a:avLst/>
              <a:gdLst/>
              <a:ahLst/>
              <a:rect l="l" t="t" r="r" b="b"/>
              <a:pathLst>
                <a:path w="1567" h="95">
                  <a:moveTo>
                    <a:pt x="1504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567" y="0"/>
                  </a:lnTo>
                  <a:lnTo>
                    <a:pt x="1559" y="12"/>
                  </a:lnTo>
                  <a:lnTo>
                    <a:pt x="1552" y="25"/>
                  </a:lnTo>
                  <a:lnTo>
                    <a:pt x="1544" y="37"/>
                  </a:lnTo>
                  <a:lnTo>
                    <a:pt x="1537" y="48"/>
                  </a:lnTo>
                  <a:lnTo>
                    <a:pt x="1529" y="60"/>
                  </a:lnTo>
                  <a:lnTo>
                    <a:pt x="1521" y="71"/>
                  </a:lnTo>
                  <a:lnTo>
                    <a:pt x="1512" y="84"/>
                  </a:lnTo>
                  <a:lnTo>
                    <a:pt x="1504" y="95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525920" y="1300320"/>
              <a:ext cx="506520" cy="29880"/>
            </a:xfrm>
            <a:custGeom>
              <a:avLst/>
              <a:gdLst/>
              <a:ahLst/>
              <a:rect l="l" t="t" r="r" b="b"/>
              <a:pathLst>
                <a:path w="1593" h="95">
                  <a:moveTo>
                    <a:pt x="1537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13"/>
                  </a:lnTo>
                  <a:lnTo>
                    <a:pt x="602" y="12"/>
                  </a:lnTo>
                  <a:lnTo>
                    <a:pt x="613" y="11"/>
                  </a:lnTo>
                  <a:lnTo>
                    <a:pt x="624" y="10"/>
                  </a:lnTo>
                  <a:lnTo>
                    <a:pt x="634" y="8"/>
                  </a:lnTo>
                  <a:lnTo>
                    <a:pt x="644" y="6"/>
                  </a:lnTo>
                  <a:lnTo>
                    <a:pt x="656" y="4"/>
                  </a:lnTo>
                  <a:lnTo>
                    <a:pt x="666" y="2"/>
                  </a:lnTo>
                  <a:lnTo>
                    <a:pt x="676" y="0"/>
                  </a:lnTo>
                  <a:lnTo>
                    <a:pt x="1593" y="0"/>
                  </a:lnTo>
                  <a:lnTo>
                    <a:pt x="1590" y="5"/>
                  </a:lnTo>
                  <a:lnTo>
                    <a:pt x="1588" y="9"/>
                  </a:lnTo>
                  <a:lnTo>
                    <a:pt x="1585" y="14"/>
                  </a:lnTo>
                  <a:lnTo>
                    <a:pt x="1583" y="19"/>
                  </a:lnTo>
                  <a:lnTo>
                    <a:pt x="1581" y="24"/>
                  </a:lnTo>
                  <a:lnTo>
                    <a:pt x="1578" y="28"/>
                  </a:lnTo>
                  <a:lnTo>
                    <a:pt x="1576" y="32"/>
                  </a:lnTo>
                  <a:lnTo>
                    <a:pt x="1573" y="37"/>
                  </a:lnTo>
                  <a:lnTo>
                    <a:pt x="1569" y="44"/>
                  </a:lnTo>
                  <a:lnTo>
                    <a:pt x="1564" y="51"/>
                  </a:lnTo>
                  <a:lnTo>
                    <a:pt x="1559" y="58"/>
                  </a:lnTo>
                  <a:lnTo>
                    <a:pt x="1555" y="66"/>
                  </a:lnTo>
                  <a:lnTo>
                    <a:pt x="1551" y="74"/>
                  </a:lnTo>
                  <a:lnTo>
                    <a:pt x="1546" y="81"/>
                  </a:lnTo>
                  <a:lnTo>
                    <a:pt x="1542" y="88"/>
                  </a:lnTo>
                  <a:lnTo>
                    <a:pt x="1537" y="95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525920" y="1285920"/>
              <a:ext cx="512640" cy="28440"/>
            </a:xfrm>
            <a:custGeom>
              <a:avLst/>
              <a:gdLst/>
              <a:ahLst/>
              <a:rect l="l" t="t" r="r" b="b"/>
              <a:pathLst>
                <a:path w="1615" h="94">
                  <a:moveTo>
                    <a:pt x="1567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60"/>
                  </a:lnTo>
                  <a:lnTo>
                    <a:pt x="621" y="57"/>
                  </a:lnTo>
                  <a:lnTo>
                    <a:pt x="651" y="52"/>
                  </a:lnTo>
                  <a:lnTo>
                    <a:pt x="679" y="46"/>
                  </a:lnTo>
                  <a:lnTo>
                    <a:pt x="708" y="39"/>
                  </a:lnTo>
                  <a:lnTo>
                    <a:pt x="734" y="31"/>
                  </a:lnTo>
                  <a:lnTo>
                    <a:pt x="761" y="22"/>
                  </a:lnTo>
                  <a:lnTo>
                    <a:pt x="786" y="12"/>
                  </a:lnTo>
                  <a:lnTo>
                    <a:pt x="811" y="0"/>
                  </a:lnTo>
                  <a:lnTo>
                    <a:pt x="1615" y="0"/>
                  </a:lnTo>
                  <a:lnTo>
                    <a:pt x="1610" y="11"/>
                  </a:lnTo>
                  <a:lnTo>
                    <a:pt x="1605" y="22"/>
                  </a:lnTo>
                  <a:lnTo>
                    <a:pt x="1600" y="32"/>
                  </a:lnTo>
                  <a:lnTo>
                    <a:pt x="1595" y="42"/>
                  </a:lnTo>
                  <a:lnTo>
                    <a:pt x="1590" y="52"/>
                  </a:lnTo>
                  <a:lnTo>
                    <a:pt x="1584" y="64"/>
                  </a:lnTo>
                  <a:lnTo>
                    <a:pt x="1579" y="74"/>
                  </a:lnTo>
                  <a:lnTo>
                    <a:pt x="1573" y="84"/>
                  </a:lnTo>
                  <a:lnTo>
                    <a:pt x="1572" y="85"/>
                  </a:lnTo>
                  <a:lnTo>
                    <a:pt x="1572" y="87"/>
                  </a:lnTo>
                  <a:lnTo>
                    <a:pt x="1571" y="88"/>
                  </a:lnTo>
                  <a:lnTo>
                    <a:pt x="1570" y="89"/>
                  </a:lnTo>
                  <a:lnTo>
                    <a:pt x="1569" y="90"/>
                  </a:lnTo>
                  <a:lnTo>
                    <a:pt x="1569" y="92"/>
                  </a:lnTo>
                  <a:lnTo>
                    <a:pt x="1568" y="93"/>
                  </a:lnTo>
                  <a:lnTo>
                    <a:pt x="1567" y="94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525920" y="1270080"/>
              <a:ext cx="519120" cy="30240"/>
            </a:xfrm>
            <a:custGeom>
              <a:avLst/>
              <a:gdLst/>
              <a:ahLst/>
              <a:rect l="l" t="t" r="r" b="b"/>
              <a:pathLst>
                <a:path w="1636" h="94">
                  <a:moveTo>
                    <a:pt x="1593" y="94"/>
                  </a:moveTo>
                  <a:lnTo>
                    <a:pt x="676" y="94"/>
                  </a:lnTo>
                  <a:lnTo>
                    <a:pt x="706" y="87"/>
                  </a:lnTo>
                  <a:lnTo>
                    <a:pt x="734" y="78"/>
                  </a:lnTo>
                  <a:lnTo>
                    <a:pt x="763" y="69"/>
                  </a:lnTo>
                  <a:lnTo>
                    <a:pt x="789" y="58"/>
                  </a:lnTo>
                  <a:lnTo>
                    <a:pt x="816" y="45"/>
                  </a:lnTo>
                  <a:lnTo>
                    <a:pt x="840" y="31"/>
                  </a:lnTo>
                  <a:lnTo>
                    <a:pt x="865" y="17"/>
                  </a:lnTo>
                  <a:lnTo>
                    <a:pt x="888" y="0"/>
                  </a:lnTo>
                  <a:lnTo>
                    <a:pt x="1636" y="0"/>
                  </a:lnTo>
                  <a:lnTo>
                    <a:pt x="1631" y="13"/>
                  </a:lnTo>
                  <a:lnTo>
                    <a:pt x="1626" y="24"/>
                  </a:lnTo>
                  <a:lnTo>
                    <a:pt x="1621" y="36"/>
                  </a:lnTo>
                  <a:lnTo>
                    <a:pt x="1615" y="47"/>
                  </a:lnTo>
                  <a:lnTo>
                    <a:pt x="1610" y="60"/>
                  </a:lnTo>
                  <a:lnTo>
                    <a:pt x="1604" y="71"/>
                  </a:lnTo>
                  <a:lnTo>
                    <a:pt x="1598" y="83"/>
                  </a:lnTo>
                  <a:lnTo>
                    <a:pt x="1593" y="94"/>
                  </a:lnTo>
                  <a:close/>
                  <a:moveTo>
                    <a:pt x="591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4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525920" y="1255680"/>
              <a:ext cx="525600" cy="30240"/>
            </a:xfrm>
            <a:custGeom>
              <a:avLst/>
              <a:gdLst/>
              <a:ahLst/>
              <a:rect l="l" t="t" r="r" b="b"/>
              <a:pathLst>
                <a:path w="1654" h="93">
                  <a:moveTo>
                    <a:pt x="1615" y="93"/>
                  </a:moveTo>
                  <a:lnTo>
                    <a:pt x="811" y="93"/>
                  </a:lnTo>
                  <a:lnTo>
                    <a:pt x="829" y="84"/>
                  </a:lnTo>
                  <a:lnTo>
                    <a:pt x="846" y="74"/>
                  </a:lnTo>
                  <a:lnTo>
                    <a:pt x="864" y="63"/>
                  </a:lnTo>
                  <a:lnTo>
                    <a:pt x="881" y="52"/>
                  </a:lnTo>
                  <a:lnTo>
                    <a:pt x="897" y="39"/>
                  </a:lnTo>
                  <a:lnTo>
                    <a:pt x="913" y="26"/>
                  </a:lnTo>
                  <a:lnTo>
                    <a:pt x="928" y="13"/>
                  </a:lnTo>
                  <a:lnTo>
                    <a:pt x="943" y="0"/>
                  </a:lnTo>
                  <a:lnTo>
                    <a:pt x="1654" y="0"/>
                  </a:lnTo>
                  <a:lnTo>
                    <a:pt x="1649" y="11"/>
                  </a:lnTo>
                  <a:lnTo>
                    <a:pt x="1645" y="23"/>
                  </a:lnTo>
                  <a:lnTo>
                    <a:pt x="1641" y="35"/>
                  </a:lnTo>
                  <a:lnTo>
                    <a:pt x="1636" y="46"/>
                  </a:lnTo>
                  <a:lnTo>
                    <a:pt x="1631" y="59"/>
                  </a:lnTo>
                  <a:lnTo>
                    <a:pt x="1626" y="70"/>
                  </a:lnTo>
                  <a:lnTo>
                    <a:pt x="1621" y="82"/>
                  </a:lnTo>
                  <a:lnTo>
                    <a:pt x="1615" y="93"/>
                  </a:lnTo>
                  <a:close/>
                  <a:moveTo>
                    <a:pt x="591" y="93"/>
                  </a:moveTo>
                  <a:lnTo>
                    <a:pt x="0" y="93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3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525920" y="1239840"/>
              <a:ext cx="530280" cy="30240"/>
            </a:xfrm>
            <a:custGeom>
              <a:avLst/>
              <a:gdLst/>
              <a:ahLst/>
              <a:rect l="l" t="t" r="r" b="b"/>
              <a:pathLst>
                <a:path w="1669" h="94">
                  <a:moveTo>
                    <a:pt x="1636" y="94"/>
                  </a:moveTo>
                  <a:lnTo>
                    <a:pt x="888" y="94"/>
                  </a:lnTo>
                  <a:lnTo>
                    <a:pt x="897" y="87"/>
                  </a:lnTo>
                  <a:lnTo>
                    <a:pt x="907" y="80"/>
                  </a:lnTo>
                  <a:lnTo>
                    <a:pt x="916" y="72"/>
                  </a:lnTo>
                  <a:lnTo>
                    <a:pt x="924" y="65"/>
                  </a:lnTo>
                  <a:lnTo>
                    <a:pt x="933" y="57"/>
                  </a:lnTo>
                  <a:lnTo>
                    <a:pt x="941" y="49"/>
                  </a:lnTo>
                  <a:lnTo>
                    <a:pt x="949" y="40"/>
                  </a:lnTo>
                  <a:lnTo>
                    <a:pt x="958" y="32"/>
                  </a:lnTo>
                  <a:lnTo>
                    <a:pt x="962" y="28"/>
                  </a:lnTo>
                  <a:lnTo>
                    <a:pt x="965" y="24"/>
                  </a:lnTo>
                  <a:lnTo>
                    <a:pt x="969" y="20"/>
                  </a:lnTo>
                  <a:lnTo>
                    <a:pt x="972" y="16"/>
                  </a:lnTo>
                  <a:lnTo>
                    <a:pt x="976" y="12"/>
                  </a:lnTo>
                  <a:lnTo>
                    <a:pt x="979" y="8"/>
                  </a:lnTo>
                  <a:lnTo>
                    <a:pt x="982" y="4"/>
                  </a:lnTo>
                  <a:lnTo>
                    <a:pt x="986" y="0"/>
                  </a:lnTo>
                  <a:lnTo>
                    <a:pt x="1669" y="0"/>
                  </a:lnTo>
                  <a:lnTo>
                    <a:pt x="1665" y="12"/>
                  </a:lnTo>
                  <a:lnTo>
                    <a:pt x="1661" y="24"/>
                  </a:lnTo>
                  <a:lnTo>
                    <a:pt x="1657" y="35"/>
                  </a:lnTo>
                  <a:lnTo>
                    <a:pt x="1653" y="48"/>
                  </a:lnTo>
                  <a:lnTo>
                    <a:pt x="1649" y="60"/>
                  </a:lnTo>
                  <a:lnTo>
                    <a:pt x="1645" y="71"/>
                  </a:lnTo>
                  <a:lnTo>
                    <a:pt x="1641" y="82"/>
                  </a:lnTo>
                  <a:lnTo>
                    <a:pt x="1636" y="94"/>
                  </a:lnTo>
                  <a:close/>
                  <a:moveTo>
                    <a:pt x="591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4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525920" y="1225440"/>
              <a:ext cx="534960" cy="30240"/>
            </a:xfrm>
            <a:custGeom>
              <a:avLst/>
              <a:gdLst/>
              <a:ahLst/>
              <a:rect l="l" t="t" r="r" b="b"/>
              <a:pathLst>
                <a:path w="1682" h="95">
                  <a:moveTo>
                    <a:pt x="1654" y="95"/>
                  </a:moveTo>
                  <a:lnTo>
                    <a:pt x="943" y="95"/>
                  </a:lnTo>
                  <a:lnTo>
                    <a:pt x="945" y="93"/>
                  </a:lnTo>
                  <a:lnTo>
                    <a:pt x="947" y="90"/>
                  </a:lnTo>
                  <a:lnTo>
                    <a:pt x="948" y="88"/>
                  </a:lnTo>
                  <a:lnTo>
                    <a:pt x="950" y="86"/>
                  </a:lnTo>
                  <a:lnTo>
                    <a:pt x="952" y="84"/>
                  </a:lnTo>
                  <a:lnTo>
                    <a:pt x="954" y="83"/>
                  </a:lnTo>
                  <a:lnTo>
                    <a:pt x="957" y="81"/>
                  </a:lnTo>
                  <a:lnTo>
                    <a:pt x="958" y="79"/>
                  </a:lnTo>
                  <a:lnTo>
                    <a:pt x="967" y="70"/>
                  </a:lnTo>
                  <a:lnTo>
                    <a:pt x="975" y="60"/>
                  </a:lnTo>
                  <a:lnTo>
                    <a:pt x="983" y="51"/>
                  </a:lnTo>
                  <a:lnTo>
                    <a:pt x="990" y="41"/>
                  </a:lnTo>
                  <a:lnTo>
                    <a:pt x="998" y="30"/>
                  </a:lnTo>
                  <a:lnTo>
                    <a:pt x="1005" y="20"/>
                  </a:lnTo>
                  <a:lnTo>
                    <a:pt x="1013" y="10"/>
                  </a:lnTo>
                  <a:lnTo>
                    <a:pt x="1019" y="0"/>
                  </a:lnTo>
                  <a:lnTo>
                    <a:pt x="1682" y="0"/>
                  </a:lnTo>
                  <a:lnTo>
                    <a:pt x="1679" y="12"/>
                  </a:lnTo>
                  <a:lnTo>
                    <a:pt x="1676" y="24"/>
                  </a:lnTo>
                  <a:lnTo>
                    <a:pt x="1673" y="35"/>
                  </a:lnTo>
                  <a:lnTo>
                    <a:pt x="1669" y="48"/>
                  </a:lnTo>
                  <a:lnTo>
                    <a:pt x="1665" y="59"/>
                  </a:lnTo>
                  <a:lnTo>
                    <a:pt x="1661" y="71"/>
                  </a:lnTo>
                  <a:lnTo>
                    <a:pt x="1657" y="82"/>
                  </a:lnTo>
                  <a:lnTo>
                    <a:pt x="1654" y="95"/>
                  </a:lnTo>
                  <a:close/>
                  <a:moveTo>
                    <a:pt x="591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5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525920" y="1211400"/>
              <a:ext cx="538200" cy="28440"/>
            </a:xfrm>
            <a:custGeom>
              <a:avLst/>
              <a:gdLst/>
              <a:ahLst/>
              <a:rect l="l" t="t" r="r" b="b"/>
              <a:pathLst>
                <a:path w="1692" h="94">
                  <a:moveTo>
                    <a:pt x="1669" y="94"/>
                  </a:moveTo>
                  <a:lnTo>
                    <a:pt x="986" y="94"/>
                  </a:lnTo>
                  <a:lnTo>
                    <a:pt x="994" y="82"/>
                  </a:lnTo>
                  <a:lnTo>
                    <a:pt x="1002" y="71"/>
                  </a:lnTo>
                  <a:lnTo>
                    <a:pt x="1011" y="60"/>
                  </a:lnTo>
                  <a:lnTo>
                    <a:pt x="1018" y="49"/>
                  </a:lnTo>
                  <a:lnTo>
                    <a:pt x="1025" y="37"/>
                  </a:lnTo>
                  <a:lnTo>
                    <a:pt x="1032" y="24"/>
                  </a:lnTo>
                  <a:lnTo>
                    <a:pt x="1038" y="12"/>
                  </a:lnTo>
                  <a:lnTo>
                    <a:pt x="1044" y="0"/>
                  </a:lnTo>
                  <a:lnTo>
                    <a:pt x="1692" y="0"/>
                  </a:lnTo>
                  <a:lnTo>
                    <a:pt x="1690" y="12"/>
                  </a:lnTo>
                  <a:lnTo>
                    <a:pt x="1687" y="23"/>
                  </a:lnTo>
                  <a:lnTo>
                    <a:pt x="1685" y="36"/>
                  </a:lnTo>
                  <a:lnTo>
                    <a:pt x="1682" y="48"/>
                  </a:lnTo>
                  <a:lnTo>
                    <a:pt x="1679" y="59"/>
                  </a:lnTo>
                  <a:lnTo>
                    <a:pt x="1676" y="71"/>
                  </a:lnTo>
                  <a:lnTo>
                    <a:pt x="1673" y="82"/>
                  </a:lnTo>
                  <a:lnTo>
                    <a:pt x="1669" y="94"/>
                  </a:lnTo>
                  <a:close/>
                  <a:moveTo>
                    <a:pt x="591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4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525920" y="1195560"/>
              <a:ext cx="539640" cy="29880"/>
            </a:xfrm>
            <a:custGeom>
              <a:avLst/>
              <a:gdLst/>
              <a:ahLst/>
              <a:rect l="l" t="t" r="r" b="b"/>
              <a:pathLst>
                <a:path w="1700" h="94">
                  <a:moveTo>
                    <a:pt x="1682" y="94"/>
                  </a:moveTo>
                  <a:lnTo>
                    <a:pt x="1019" y="94"/>
                  </a:lnTo>
                  <a:lnTo>
                    <a:pt x="1026" y="83"/>
                  </a:lnTo>
                  <a:lnTo>
                    <a:pt x="1032" y="71"/>
                  </a:lnTo>
                  <a:lnTo>
                    <a:pt x="1038" y="60"/>
                  </a:lnTo>
                  <a:lnTo>
                    <a:pt x="1044" y="48"/>
                  </a:lnTo>
                  <a:lnTo>
                    <a:pt x="1049" y="37"/>
                  </a:lnTo>
                  <a:lnTo>
                    <a:pt x="1054" y="24"/>
                  </a:lnTo>
                  <a:lnTo>
                    <a:pt x="1060" y="12"/>
                  </a:lnTo>
                  <a:lnTo>
                    <a:pt x="1064" y="0"/>
                  </a:lnTo>
                  <a:lnTo>
                    <a:pt x="1700" y="0"/>
                  </a:lnTo>
                  <a:lnTo>
                    <a:pt x="1698" y="11"/>
                  </a:lnTo>
                  <a:lnTo>
                    <a:pt x="1696" y="23"/>
                  </a:lnTo>
                  <a:lnTo>
                    <a:pt x="1694" y="36"/>
                  </a:lnTo>
                  <a:lnTo>
                    <a:pt x="1692" y="47"/>
                  </a:lnTo>
                  <a:lnTo>
                    <a:pt x="1690" y="59"/>
                  </a:lnTo>
                  <a:lnTo>
                    <a:pt x="1687" y="70"/>
                  </a:lnTo>
                  <a:lnTo>
                    <a:pt x="1685" y="83"/>
                  </a:lnTo>
                  <a:lnTo>
                    <a:pt x="1682" y="94"/>
                  </a:lnTo>
                  <a:close/>
                  <a:moveTo>
                    <a:pt x="591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4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525920" y="1181160"/>
              <a:ext cx="541440" cy="30240"/>
            </a:xfrm>
            <a:custGeom>
              <a:avLst/>
              <a:gdLst/>
              <a:ahLst/>
              <a:rect l="l" t="t" r="r" b="b"/>
              <a:pathLst>
                <a:path w="1706" h="94">
                  <a:moveTo>
                    <a:pt x="1692" y="94"/>
                  </a:moveTo>
                  <a:lnTo>
                    <a:pt x="1044" y="94"/>
                  </a:lnTo>
                  <a:lnTo>
                    <a:pt x="1049" y="83"/>
                  </a:lnTo>
                  <a:lnTo>
                    <a:pt x="1054" y="71"/>
                  </a:lnTo>
                  <a:lnTo>
                    <a:pt x="1060" y="59"/>
                  </a:lnTo>
                  <a:lnTo>
                    <a:pt x="1064" y="48"/>
                  </a:lnTo>
                  <a:lnTo>
                    <a:pt x="1068" y="36"/>
                  </a:lnTo>
                  <a:lnTo>
                    <a:pt x="1072" y="25"/>
                  </a:lnTo>
                  <a:lnTo>
                    <a:pt x="1075" y="12"/>
                  </a:lnTo>
                  <a:lnTo>
                    <a:pt x="1078" y="0"/>
                  </a:lnTo>
                  <a:lnTo>
                    <a:pt x="1706" y="0"/>
                  </a:lnTo>
                  <a:lnTo>
                    <a:pt x="1705" y="11"/>
                  </a:lnTo>
                  <a:lnTo>
                    <a:pt x="1703" y="24"/>
                  </a:lnTo>
                  <a:lnTo>
                    <a:pt x="1702" y="36"/>
                  </a:lnTo>
                  <a:lnTo>
                    <a:pt x="1700" y="47"/>
                  </a:lnTo>
                  <a:lnTo>
                    <a:pt x="1698" y="59"/>
                  </a:lnTo>
                  <a:lnTo>
                    <a:pt x="1696" y="70"/>
                  </a:lnTo>
                  <a:lnTo>
                    <a:pt x="1694" y="83"/>
                  </a:lnTo>
                  <a:lnTo>
                    <a:pt x="1692" y="94"/>
                  </a:lnTo>
                  <a:close/>
                  <a:moveTo>
                    <a:pt x="591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4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525920" y="1165320"/>
              <a:ext cx="542880" cy="30240"/>
            </a:xfrm>
            <a:custGeom>
              <a:avLst/>
              <a:gdLst/>
              <a:ahLst/>
              <a:rect l="l" t="t" r="r" b="b"/>
              <a:pathLst>
                <a:path w="1710" h="95">
                  <a:moveTo>
                    <a:pt x="1700" y="95"/>
                  </a:moveTo>
                  <a:lnTo>
                    <a:pt x="1064" y="95"/>
                  </a:lnTo>
                  <a:lnTo>
                    <a:pt x="1068" y="84"/>
                  </a:lnTo>
                  <a:lnTo>
                    <a:pt x="1072" y="72"/>
                  </a:lnTo>
                  <a:lnTo>
                    <a:pt x="1075" y="60"/>
                  </a:lnTo>
                  <a:lnTo>
                    <a:pt x="1078" y="49"/>
                  </a:lnTo>
                  <a:lnTo>
                    <a:pt x="1081" y="37"/>
                  </a:lnTo>
                  <a:lnTo>
                    <a:pt x="1083" y="25"/>
                  </a:lnTo>
                  <a:lnTo>
                    <a:pt x="1086" y="12"/>
                  </a:lnTo>
                  <a:lnTo>
                    <a:pt x="1088" y="0"/>
                  </a:lnTo>
                  <a:lnTo>
                    <a:pt x="1710" y="0"/>
                  </a:lnTo>
                  <a:lnTo>
                    <a:pt x="1709" y="12"/>
                  </a:lnTo>
                  <a:lnTo>
                    <a:pt x="1708" y="25"/>
                  </a:lnTo>
                  <a:lnTo>
                    <a:pt x="1707" y="36"/>
                  </a:lnTo>
                  <a:lnTo>
                    <a:pt x="1706" y="48"/>
                  </a:lnTo>
                  <a:lnTo>
                    <a:pt x="1705" y="59"/>
                  </a:lnTo>
                  <a:lnTo>
                    <a:pt x="1703" y="72"/>
                  </a:lnTo>
                  <a:lnTo>
                    <a:pt x="1702" y="83"/>
                  </a:lnTo>
                  <a:lnTo>
                    <a:pt x="1700" y="95"/>
                  </a:lnTo>
                  <a:close/>
                  <a:moveTo>
                    <a:pt x="591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5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525920" y="1150920"/>
              <a:ext cx="544680" cy="30240"/>
            </a:xfrm>
            <a:custGeom>
              <a:avLst/>
              <a:gdLst/>
              <a:ahLst/>
              <a:rect l="l" t="t" r="r" b="b"/>
              <a:pathLst>
                <a:path w="1712" h="95">
                  <a:moveTo>
                    <a:pt x="1706" y="95"/>
                  </a:moveTo>
                  <a:lnTo>
                    <a:pt x="1078" y="95"/>
                  </a:lnTo>
                  <a:lnTo>
                    <a:pt x="1081" y="83"/>
                  </a:lnTo>
                  <a:lnTo>
                    <a:pt x="1083" y="72"/>
                  </a:lnTo>
                  <a:lnTo>
                    <a:pt x="1086" y="60"/>
                  </a:lnTo>
                  <a:lnTo>
                    <a:pt x="1088" y="48"/>
                  </a:lnTo>
                  <a:lnTo>
                    <a:pt x="1089" y="37"/>
                  </a:lnTo>
                  <a:lnTo>
                    <a:pt x="1091" y="25"/>
                  </a:lnTo>
                  <a:lnTo>
                    <a:pt x="1092" y="13"/>
                  </a:lnTo>
                  <a:lnTo>
                    <a:pt x="1093" y="0"/>
                  </a:lnTo>
                  <a:lnTo>
                    <a:pt x="1712" y="0"/>
                  </a:lnTo>
                  <a:lnTo>
                    <a:pt x="1712" y="13"/>
                  </a:lnTo>
                  <a:lnTo>
                    <a:pt x="1712" y="25"/>
                  </a:lnTo>
                  <a:lnTo>
                    <a:pt x="1711" y="36"/>
                  </a:lnTo>
                  <a:lnTo>
                    <a:pt x="1710" y="48"/>
                  </a:lnTo>
                  <a:lnTo>
                    <a:pt x="1709" y="59"/>
                  </a:lnTo>
                  <a:lnTo>
                    <a:pt x="1708" y="72"/>
                  </a:lnTo>
                  <a:lnTo>
                    <a:pt x="1707" y="83"/>
                  </a:lnTo>
                  <a:lnTo>
                    <a:pt x="1706" y="95"/>
                  </a:lnTo>
                  <a:close/>
                  <a:moveTo>
                    <a:pt x="591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5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525920" y="1135080"/>
              <a:ext cx="544680" cy="30240"/>
            </a:xfrm>
            <a:custGeom>
              <a:avLst/>
              <a:gdLst/>
              <a:ahLst/>
              <a:rect l="l" t="t" r="r" b="b"/>
              <a:pathLst>
                <a:path w="1713" h="94">
                  <a:moveTo>
                    <a:pt x="1710" y="94"/>
                  </a:moveTo>
                  <a:lnTo>
                    <a:pt x="1088" y="94"/>
                  </a:lnTo>
                  <a:lnTo>
                    <a:pt x="1089" y="83"/>
                  </a:lnTo>
                  <a:lnTo>
                    <a:pt x="1091" y="72"/>
                  </a:lnTo>
                  <a:lnTo>
                    <a:pt x="1092" y="61"/>
                  </a:lnTo>
                  <a:lnTo>
                    <a:pt x="1093" y="48"/>
                  </a:lnTo>
                  <a:lnTo>
                    <a:pt x="1094" y="36"/>
                  </a:lnTo>
                  <a:lnTo>
                    <a:pt x="1095" y="25"/>
                  </a:lnTo>
                  <a:lnTo>
                    <a:pt x="1095" y="13"/>
                  </a:lnTo>
                  <a:lnTo>
                    <a:pt x="1095" y="0"/>
                  </a:lnTo>
                  <a:lnTo>
                    <a:pt x="1713" y="0"/>
                  </a:lnTo>
                  <a:lnTo>
                    <a:pt x="1713" y="2"/>
                  </a:lnTo>
                  <a:lnTo>
                    <a:pt x="1713" y="3"/>
                  </a:lnTo>
                  <a:lnTo>
                    <a:pt x="1713" y="5"/>
                  </a:lnTo>
                  <a:lnTo>
                    <a:pt x="1713" y="8"/>
                  </a:lnTo>
                  <a:lnTo>
                    <a:pt x="1713" y="10"/>
                  </a:lnTo>
                  <a:lnTo>
                    <a:pt x="1713" y="11"/>
                  </a:lnTo>
                  <a:lnTo>
                    <a:pt x="1713" y="13"/>
                  </a:lnTo>
                  <a:lnTo>
                    <a:pt x="1713" y="15"/>
                  </a:lnTo>
                  <a:lnTo>
                    <a:pt x="1713" y="25"/>
                  </a:lnTo>
                  <a:lnTo>
                    <a:pt x="1713" y="35"/>
                  </a:lnTo>
                  <a:lnTo>
                    <a:pt x="1713" y="45"/>
                  </a:lnTo>
                  <a:lnTo>
                    <a:pt x="1712" y="54"/>
                  </a:lnTo>
                  <a:lnTo>
                    <a:pt x="1712" y="65"/>
                  </a:lnTo>
                  <a:lnTo>
                    <a:pt x="1711" y="75"/>
                  </a:lnTo>
                  <a:lnTo>
                    <a:pt x="1711" y="85"/>
                  </a:lnTo>
                  <a:lnTo>
                    <a:pt x="1710" y="94"/>
                  </a:lnTo>
                  <a:close/>
                  <a:moveTo>
                    <a:pt x="591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4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525920" y="1120680"/>
              <a:ext cx="544680" cy="30240"/>
            </a:xfrm>
            <a:custGeom>
              <a:avLst/>
              <a:gdLst/>
              <a:ahLst/>
              <a:rect l="l" t="t" r="r" b="b"/>
              <a:pathLst>
                <a:path w="1713" h="94">
                  <a:moveTo>
                    <a:pt x="1712" y="94"/>
                  </a:moveTo>
                  <a:lnTo>
                    <a:pt x="1093" y="94"/>
                  </a:lnTo>
                  <a:lnTo>
                    <a:pt x="1094" y="88"/>
                  </a:lnTo>
                  <a:lnTo>
                    <a:pt x="1094" y="82"/>
                  </a:lnTo>
                  <a:lnTo>
                    <a:pt x="1094" y="75"/>
                  </a:lnTo>
                  <a:lnTo>
                    <a:pt x="1095" y="69"/>
                  </a:lnTo>
                  <a:lnTo>
                    <a:pt x="1095" y="62"/>
                  </a:lnTo>
                  <a:lnTo>
                    <a:pt x="1095" y="56"/>
                  </a:lnTo>
                  <a:lnTo>
                    <a:pt x="1095" y="49"/>
                  </a:lnTo>
                  <a:lnTo>
                    <a:pt x="1095" y="42"/>
                  </a:lnTo>
                  <a:lnTo>
                    <a:pt x="1095" y="37"/>
                  </a:lnTo>
                  <a:lnTo>
                    <a:pt x="1095" y="32"/>
                  </a:lnTo>
                  <a:lnTo>
                    <a:pt x="1095" y="26"/>
                  </a:lnTo>
                  <a:lnTo>
                    <a:pt x="1095" y="21"/>
                  </a:lnTo>
                  <a:lnTo>
                    <a:pt x="1095" y="16"/>
                  </a:lnTo>
                  <a:lnTo>
                    <a:pt x="1094" y="11"/>
                  </a:lnTo>
                  <a:lnTo>
                    <a:pt x="1094" y="6"/>
                  </a:lnTo>
                  <a:lnTo>
                    <a:pt x="1094" y="0"/>
                  </a:lnTo>
                  <a:lnTo>
                    <a:pt x="1712" y="0"/>
                  </a:lnTo>
                  <a:lnTo>
                    <a:pt x="1712" y="8"/>
                  </a:lnTo>
                  <a:lnTo>
                    <a:pt x="1712" y="16"/>
                  </a:lnTo>
                  <a:lnTo>
                    <a:pt x="1712" y="23"/>
                  </a:lnTo>
                  <a:lnTo>
                    <a:pt x="1713" y="31"/>
                  </a:lnTo>
                  <a:lnTo>
                    <a:pt x="1713" y="38"/>
                  </a:lnTo>
                  <a:lnTo>
                    <a:pt x="1713" y="46"/>
                  </a:lnTo>
                  <a:lnTo>
                    <a:pt x="1713" y="53"/>
                  </a:lnTo>
                  <a:lnTo>
                    <a:pt x="1713" y="62"/>
                  </a:lnTo>
                  <a:lnTo>
                    <a:pt x="1713" y="66"/>
                  </a:lnTo>
                  <a:lnTo>
                    <a:pt x="1713" y="70"/>
                  </a:lnTo>
                  <a:lnTo>
                    <a:pt x="1713" y="74"/>
                  </a:lnTo>
                  <a:lnTo>
                    <a:pt x="1713" y="78"/>
                  </a:lnTo>
                  <a:lnTo>
                    <a:pt x="1713" y="82"/>
                  </a:lnTo>
                  <a:lnTo>
                    <a:pt x="1713" y="86"/>
                  </a:lnTo>
                  <a:lnTo>
                    <a:pt x="1713" y="90"/>
                  </a:lnTo>
                  <a:lnTo>
                    <a:pt x="1712" y="94"/>
                  </a:lnTo>
                  <a:close/>
                  <a:moveTo>
                    <a:pt x="591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4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525920" y="1106640"/>
              <a:ext cx="544680" cy="28440"/>
            </a:xfrm>
            <a:custGeom>
              <a:avLst/>
              <a:gdLst/>
              <a:ahLst/>
              <a:rect l="l" t="t" r="r" b="b"/>
              <a:pathLst>
                <a:path w="1713" h="93">
                  <a:moveTo>
                    <a:pt x="1713" y="93"/>
                  </a:moveTo>
                  <a:lnTo>
                    <a:pt x="1095" y="93"/>
                  </a:lnTo>
                  <a:lnTo>
                    <a:pt x="1095" y="92"/>
                  </a:lnTo>
                  <a:lnTo>
                    <a:pt x="1095" y="92"/>
                  </a:lnTo>
                  <a:lnTo>
                    <a:pt x="1095" y="91"/>
                  </a:lnTo>
                  <a:lnTo>
                    <a:pt x="1095" y="90"/>
                  </a:lnTo>
                  <a:lnTo>
                    <a:pt x="1095" y="90"/>
                  </a:lnTo>
                  <a:lnTo>
                    <a:pt x="1095" y="89"/>
                  </a:lnTo>
                  <a:lnTo>
                    <a:pt x="1095" y="89"/>
                  </a:lnTo>
                  <a:lnTo>
                    <a:pt x="1095" y="88"/>
                  </a:lnTo>
                  <a:lnTo>
                    <a:pt x="1095" y="77"/>
                  </a:lnTo>
                  <a:lnTo>
                    <a:pt x="1095" y="66"/>
                  </a:lnTo>
                  <a:lnTo>
                    <a:pt x="1094" y="54"/>
                  </a:lnTo>
                  <a:lnTo>
                    <a:pt x="1094" y="42"/>
                  </a:lnTo>
                  <a:lnTo>
                    <a:pt x="1093" y="32"/>
                  </a:lnTo>
                  <a:lnTo>
                    <a:pt x="1092" y="21"/>
                  </a:lnTo>
                  <a:lnTo>
                    <a:pt x="1091" y="10"/>
                  </a:lnTo>
                  <a:lnTo>
                    <a:pt x="1090" y="0"/>
                  </a:lnTo>
                  <a:lnTo>
                    <a:pt x="1709" y="0"/>
                  </a:lnTo>
                  <a:lnTo>
                    <a:pt x="1710" y="11"/>
                  </a:lnTo>
                  <a:lnTo>
                    <a:pt x="1711" y="22"/>
                  </a:lnTo>
                  <a:lnTo>
                    <a:pt x="1711" y="34"/>
                  </a:lnTo>
                  <a:lnTo>
                    <a:pt x="1712" y="45"/>
                  </a:lnTo>
                  <a:lnTo>
                    <a:pt x="1712" y="58"/>
                  </a:lnTo>
                  <a:lnTo>
                    <a:pt x="1712" y="70"/>
                  </a:lnTo>
                  <a:lnTo>
                    <a:pt x="1713" y="81"/>
                  </a:lnTo>
                  <a:lnTo>
                    <a:pt x="1713" y="93"/>
                  </a:lnTo>
                  <a:close/>
                  <a:moveTo>
                    <a:pt x="591" y="93"/>
                  </a:moveTo>
                  <a:lnTo>
                    <a:pt x="0" y="93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3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525920" y="1090440"/>
              <a:ext cx="544680" cy="30240"/>
            </a:xfrm>
            <a:custGeom>
              <a:avLst/>
              <a:gdLst/>
              <a:ahLst/>
              <a:rect l="l" t="t" r="r" b="b"/>
              <a:pathLst>
                <a:path w="1712" h="94">
                  <a:moveTo>
                    <a:pt x="1712" y="94"/>
                  </a:moveTo>
                  <a:lnTo>
                    <a:pt x="1094" y="94"/>
                  </a:lnTo>
                  <a:lnTo>
                    <a:pt x="1093" y="82"/>
                  </a:lnTo>
                  <a:lnTo>
                    <a:pt x="1092" y="70"/>
                  </a:lnTo>
                  <a:lnTo>
                    <a:pt x="1091" y="58"/>
                  </a:lnTo>
                  <a:lnTo>
                    <a:pt x="1090" y="47"/>
                  </a:lnTo>
                  <a:lnTo>
                    <a:pt x="1088" y="34"/>
                  </a:lnTo>
                  <a:lnTo>
                    <a:pt x="1087" y="23"/>
                  </a:lnTo>
                  <a:lnTo>
                    <a:pt x="1085" y="12"/>
                  </a:lnTo>
                  <a:lnTo>
                    <a:pt x="1083" y="0"/>
                  </a:lnTo>
                  <a:lnTo>
                    <a:pt x="1705" y="0"/>
                  </a:lnTo>
                  <a:lnTo>
                    <a:pt x="1707" y="12"/>
                  </a:lnTo>
                  <a:lnTo>
                    <a:pt x="1708" y="23"/>
                  </a:lnTo>
                  <a:lnTo>
                    <a:pt x="1708" y="35"/>
                  </a:lnTo>
                  <a:lnTo>
                    <a:pt x="1709" y="47"/>
                  </a:lnTo>
                  <a:lnTo>
                    <a:pt x="1710" y="59"/>
                  </a:lnTo>
                  <a:lnTo>
                    <a:pt x="1711" y="70"/>
                  </a:lnTo>
                  <a:lnTo>
                    <a:pt x="1711" y="82"/>
                  </a:lnTo>
                  <a:lnTo>
                    <a:pt x="1712" y="94"/>
                  </a:lnTo>
                  <a:close/>
                  <a:moveTo>
                    <a:pt x="591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4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525920" y="1076400"/>
              <a:ext cx="542880" cy="30240"/>
            </a:xfrm>
            <a:custGeom>
              <a:avLst/>
              <a:gdLst/>
              <a:ahLst/>
              <a:rect l="l" t="t" r="r" b="b"/>
              <a:pathLst>
                <a:path w="1709" h="95">
                  <a:moveTo>
                    <a:pt x="1709" y="95"/>
                  </a:moveTo>
                  <a:lnTo>
                    <a:pt x="1090" y="95"/>
                  </a:lnTo>
                  <a:lnTo>
                    <a:pt x="1088" y="82"/>
                  </a:lnTo>
                  <a:lnTo>
                    <a:pt x="1087" y="70"/>
                  </a:lnTo>
                  <a:lnTo>
                    <a:pt x="1085" y="58"/>
                  </a:lnTo>
                  <a:lnTo>
                    <a:pt x="1082" y="46"/>
                  </a:lnTo>
                  <a:lnTo>
                    <a:pt x="1080" y="34"/>
                  </a:lnTo>
                  <a:lnTo>
                    <a:pt x="1077" y="23"/>
                  </a:lnTo>
                  <a:lnTo>
                    <a:pt x="1074" y="11"/>
                  </a:lnTo>
                  <a:lnTo>
                    <a:pt x="1071" y="0"/>
                  </a:lnTo>
                  <a:lnTo>
                    <a:pt x="1700" y="0"/>
                  </a:lnTo>
                  <a:lnTo>
                    <a:pt x="1701" y="12"/>
                  </a:lnTo>
                  <a:lnTo>
                    <a:pt x="1703" y="23"/>
                  </a:lnTo>
                  <a:lnTo>
                    <a:pt x="1704" y="34"/>
                  </a:lnTo>
                  <a:lnTo>
                    <a:pt x="1705" y="47"/>
                  </a:lnTo>
                  <a:lnTo>
                    <a:pt x="1707" y="59"/>
                  </a:lnTo>
                  <a:lnTo>
                    <a:pt x="1708" y="70"/>
                  </a:lnTo>
                  <a:lnTo>
                    <a:pt x="1708" y="82"/>
                  </a:lnTo>
                  <a:lnTo>
                    <a:pt x="1709" y="95"/>
                  </a:lnTo>
                  <a:close/>
                  <a:moveTo>
                    <a:pt x="591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5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525920" y="1060560"/>
              <a:ext cx="541440" cy="29880"/>
            </a:xfrm>
            <a:custGeom>
              <a:avLst/>
              <a:gdLst/>
              <a:ahLst/>
              <a:rect l="l" t="t" r="r" b="b"/>
              <a:pathLst>
                <a:path w="1705" h="94">
                  <a:moveTo>
                    <a:pt x="1705" y="94"/>
                  </a:moveTo>
                  <a:lnTo>
                    <a:pt x="1083" y="94"/>
                  </a:lnTo>
                  <a:lnTo>
                    <a:pt x="1080" y="81"/>
                  </a:lnTo>
                  <a:lnTo>
                    <a:pt x="1077" y="69"/>
                  </a:lnTo>
                  <a:lnTo>
                    <a:pt x="1074" y="58"/>
                  </a:lnTo>
                  <a:lnTo>
                    <a:pt x="1071" y="46"/>
                  </a:lnTo>
                  <a:lnTo>
                    <a:pt x="1067" y="35"/>
                  </a:lnTo>
                  <a:lnTo>
                    <a:pt x="1064" y="22"/>
                  </a:lnTo>
                  <a:lnTo>
                    <a:pt x="1060" y="11"/>
                  </a:lnTo>
                  <a:lnTo>
                    <a:pt x="1055" y="0"/>
                  </a:lnTo>
                  <a:lnTo>
                    <a:pt x="1693" y="0"/>
                  </a:lnTo>
                  <a:lnTo>
                    <a:pt x="1695" y="11"/>
                  </a:lnTo>
                  <a:lnTo>
                    <a:pt x="1697" y="23"/>
                  </a:lnTo>
                  <a:lnTo>
                    <a:pt x="1698" y="35"/>
                  </a:lnTo>
                  <a:lnTo>
                    <a:pt x="1700" y="47"/>
                  </a:lnTo>
                  <a:lnTo>
                    <a:pt x="1701" y="58"/>
                  </a:lnTo>
                  <a:lnTo>
                    <a:pt x="1703" y="70"/>
                  </a:lnTo>
                  <a:lnTo>
                    <a:pt x="1704" y="82"/>
                  </a:lnTo>
                  <a:lnTo>
                    <a:pt x="1705" y="94"/>
                  </a:lnTo>
                  <a:close/>
                  <a:moveTo>
                    <a:pt x="591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4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525920" y="1046160"/>
              <a:ext cx="539640" cy="30240"/>
            </a:xfrm>
            <a:custGeom>
              <a:avLst/>
              <a:gdLst/>
              <a:ahLst/>
              <a:rect l="l" t="t" r="r" b="b"/>
              <a:pathLst>
                <a:path w="1700" h="94">
                  <a:moveTo>
                    <a:pt x="1700" y="94"/>
                  </a:moveTo>
                  <a:lnTo>
                    <a:pt x="1071" y="94"/>
                  </a:lnTo>
                  <a:lnTo>
                    <a:pt x="1068" y="82"/>
                  </a:lnTo>
                  <a:lnTo>
                    <a:pt x="1064" y="69"/>
                  </a:lnTo>
                  <a:lnTo>
                    <a:pt x="1059" y="57"/>
                  </a:lnTo>
                  <a:lnTo>
                    <a:pt x="1054" y="46"/>
                  </a:lnTo>
                  <a:lnTo>
                    <a:pt x="1049" y="34"/>
                  </a:lnTo>
                  <a:lnTo>
                    <a:pt x="1044" y="22"/>
                  </a:lnTo>
                  <a:lnTo>
                    <a:pt x="1039" y="11"/>
                  </a:lnTo>
                  <a:lnTo>
                    <a:pt x="1034" y="0"/>
                  </a:lnTo>
                  <a:lnTo>
                    <a:pt x="1684" y="0"/>
                  </a:lnTo>
                  <a:lnTo>
                    <a:pt x="1686" y="11"/>
                  </a:lnTo>
                  <a:lnTo>
                    <a:pt x="1689" y="23"/>
                  </a:lnTo>
                  <a:lnTo>
                    <a:pt x="1691" y="35"/>
                  </a:lnTo>
                  <a:lnTo>
                    <a:pt x="1693" y="47"/>
                  </a:lnTo>
                  <a:lnTo>
                    <a:pt x="1695" y="58"/>
                  </a:lnTo>
                  <a:lnTo>
                    <a:pt x="1697" y="70"/>
                  </a:lnTo>
                  <a:lnTo>
                    <a:pt x="1698" y="82"/>
                  </a:lnTo>
                  <a:lnTo>
                    <a:pt x="1700" y="94"/>
                  </a:lnTo>
                  <a:close/>
                  <a:moveTo>
                    <a:pt x="591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4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525920" y="1031760"/>
              <a:ext cx="538200" cy="28800"/>
            </a:xfrm>
            <a:custGeom>
              <a:avLst/>
              <a:gdLst/>
              <a:ahLst/>
              <a:rect l="l" t="t" r="r" b="b"/>
              <a:pathLst>
                <a:path w="1693" h="94">
                  <a:moveTo>
                    <a:pt x="1693" y="94"/>
                  </a:moveTo>
                  <a:lnTo>
                    <a:pt x="1055" y="94"/>
                  </a:lnTo>
                  <a:lnTo>
                    <a:pt x="1050" y="82"/>
                  </a:lnTo>
                  <a:lnTo>
                    <a:pt x="1044" y="69"/>
                  </a:lnTo>
                  <a:lnTo>
                    <a:pt x="1039" y="57"/>
                  </a:lnTo>
                  <a:lnTo>
                    <a:pt x="1033" y="45"/>
                  </a:lnTo>
                  <a:lnTo>
                    <a:pt x="1027" y="34"/>
                  </a:lnTo>
                  <a:lnTo>
                    <a:pt x="1020" y="23"/>
                  </a:lnTo>
                  <a:lnTo>
                    <a:pt x="1014" y="11"/>
                  </a:lnTo>
                  <a:lnTo>
                    <a:pt x="1007" y="0"/>
                  </a:lnTo>
                  <a:lnTo>
                    <a:pt x="1673" y="0"/>
                  </a:lnTo>
                  <a:lnTo>
                    <a:pt x="1676" y="11"/>
                  </a:lnTo>
                  <a:lnTo>
                    <a:pt x="1679" y="23"/>
                  </a:lnTo>
                  <a:lnTo>
                    <a:pt x="1681" y="35"/>
                  </a:lnTo>
                  <a:lnTo>
                    <a:pt x="1684" y="46"/>
                  </a:lnTo>
                  <a:lnTo>
                    <a:pt x="1686" y="58"/>
                  </a:lnTo>
                  <a:lnTo>
                    <a:pt x="1689" y="70"/>
                  </a:lnTo>
                  <a:lnTo>
                    <a:pt x="1691" y="82"/>
                  </a:lnTo>
                  <a:lnTo>
                    <a:pt x="1693" y="94"/>
                  </a:lnTo>
                  <a:close/>
                  <a:moveTo>
                    <a:pt x="591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4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525920" y="1015920"/>
              <a:ext cx="534960" cy="30240"/>
            </a:xfrm>
            <a:custGeom>
              <a:avLst/>
              <a:gdLst/>
              <a:ahLst/>
              <a:rect l="l" t="t" r="r" b="b"/>
              <a:pathLst>
                <a:path w="1684" h="95">
                  <a:moveTo>
                    <a:pt x="1684" y="95"/>
                  </a:moveTo>
                  <a:lnTo>
                    <a:pt x="1034" y="95"/>
                  </a:lnTo>
                  <a:lnTo>
                    <a:pt x="1027" y="83"/>
                  </a:lnTo>
                  <a:lnTo>
                    <a:pt x="1020" y="70"/>
                  </a:lnTo>
                  <a:lnTo>
                    <a:pt x="1013" y="58"/>
                  </a:lnTo>
                  <a:lnTo>
                    <a:pt x="1005" y="46"/>
                  </a:lnTo>
                  <a:lnTo>
                    <a:pt x="997" y="35"/>
                  </a:lnTo>
                  <a:lnTo>
                    <a:pt x="989" y="23"/>
                  </a:lnTo>
                  <a:lnTo>
                    <a:pt x="980" y="11"/>
                  </a:lnTo>
                  <a:lnTo>
                    <a:pt x="971" y="0"/>
                  </a:lnTo>
                  <a:lnTo>
                    <a:pt x="1660" y="0"/>
                  </a:lnTo>
                  <a:lnTo>
                    <a:pt x="1663" y="12"/>
                  </a:lnTo>
                  <a:lnTo>
                    <a:pt x="1666" y="24"/>
                  </a:lnTo>
                  <a:lnTo>
                    <a:pt x="1670" y="36"/>
                  </a:lnTo>
                  <a:lnTo>
                    <a:pt x="1673" y="47"/>
                  </a:lnTo>
                  <a:lnTo>
                    <a:pt x="1676" y="59"/>
                  </a:lnTo>
                  <a:lnTo>
                    <a:pt x="1679" y="71"/>
                  </a:lnTo>
                  <a:lnTo>
                    <a:pt x="1681" y="83"/>
                  </a:lnTo>
                  <a:lnTo>
                    <a:pt x="1684" y="95"/>
                  </a:lnTo>
                  <a:close/>
                  <a:moveTo>
                    <a:pt x="591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5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525920" y="1001880"/>
              <a:ext cx="531720" cy="29880"/>
            </a:xfrm>
            <a:custGeom>
              <a:avLst/>
              <a:gdLst/>
              <a:ahLst/>
              <a:rect l="l" t="t" r="r" b="b"/>
              <a:pathLst>
                <a:path w="1673" h="95">
                  <a:moveTo>
                    <a:pt x="1673" y="95"/>
                  </a:moveTo>
                  <a:lnTo>
                    <a:pt x="1007" y="95"/>
                  </a:lnTo>
                  <a:lnTo>
                    <a:pt x="1000" y="86"/>
                  </a:lnTo>
                  <a:lnTo>
                    <a:pt x="994" y="78"/>
                  </a:lnTo>
                  <a:lnTo>
                    <a:pt x="988" y="70"/>
                  </a:lnTo>
                  <a:lnTo>
                    <a:pt x="982" y="61"/>
                  </a:lnTo>
                  <a:lnTo>
                    <a:pt x="976" y="53"/>
                  </a:lnTo>
                  <a:lnTo>
                    <a:pt x="970" y="45"/>
                  </a:lnTo>
                  <a:lnTo>
                    <a:pt x="963" y="38"/>
                  </a:lnTo>
                  <a:lnTo>
                    <a:pt x="956" y="30"/>
                  </a:lnTo>
                  <a:lnTo>
                    <a:pt x="952" y="26"/>
                  </a:lnTo>
                  <a:lnTo>
                    <a:pt x="948" y="23"/>
                  </a:lnTo>
                  <a:lnTo>
                    <a:pt x="945" y="19"/>
                  </a:lnTo>
                  <a:lnTo>
                    <a:pt x="941" y="15"/>
                  </a:lnTo>
                  <a:lnTo>
                    <a:pt x="937" y="12"/>
                  </a:lnTo>
                  <a:lnTo>
                    <a:pt x="934" y="7"/>
                  </a:lnTo>
                  <a:lnTo>
                    <a:pt x="930" y="4"/>
                  </a:lnTo>
                  <a:lnTo>
                    <a:pt x="926" y="0"/>
                  </a:lnTo>
                  <a:lnTo>
                    <a:pt x="1645" y="0"/>
                  </a:lnTo>
                  <a:lnTo>
                    <a:pt x="1649" y="13"/>
                  </a:lnTo>
                  <a:lnTo>
                    <a:pt x="1652" y="24"/>
                  </a:lnTo>
                  <a:lnTo>
                    <a:pt x="1656" y="35"/>
                  </a:lnTo>
                  <a:lnTo>
                    <a:pt x="1659" y="47"/>
                  </a:lnTo>
                  <a:lnTo>
                    <a:pt x="1663" y="58"/>
                  </a:lnTo>
                  <a:lnTo>
                    <a:pt x="1666" y="71"/>
                  </a:lnTo>
                  <a:lnTo>
                    <a:pt x="1670" y="83"/>
                  </a:lnTo>
                  <a:lnTo>
                    <a:pt x="1673" y="95"/>
                  </a:lnTo>
                  <a:close/>
                  <a:moveTo>
                    <a:pt x="591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5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525920" y="985680"/>
              <a:ext cx="527040" cy="30240"/>
            </a:xfrm>
            <a:custGeom>
              <a:avLst/>
              <a:gdLst/>
              <a:ahLst/>
              <a:rect l="l" t="t" r="r" b="b"/>
              <a:pathLst>
                <a:path w="1660" h="94">
                  <a:moveTo>
                    <a:pt x="1660" y="94"/>
                  </a:moveTo>
                  <a:lnTo>
                    <a:pt x="971" y="94"/>
                  </a:lnTo>
                  <a:lnTo>
                    <a:pt x="969" y="92"/>
                  </a:lnTo>
                  <a:lnTo>
                    <a:pt x="968" y="90"/>
                  </a:lnTo>
                  <a:lnTo>
                    <a:pt x="966" y="88"/>
                  </a:lnTo>
                  <a:lnTo>
                    <a:pt x="964" y="86"/>
                  </a:lnTo>
                  <a:lnTo>
                    <a:pt x="962" y="84"/>
                  </a:lnTo>
                  <a:lnTo>
                    <a:pt x="960" y="81"/>
                  </a:lnTo>
                  <a:lnTo>
                    <a:pt x="958" y="79"/>
                  </a:lnTo>
                  <a:lnTo>
                    <a:pt x="956" y="77"/>
                  </a:lnTo>
                  <a:lnTo>
                    <a:pt x="945" y="66"/>
                  </a:lnTo>
                  <a:lnTo>
                    <a:pt x="935" y="55"/>
                  </a:lnTo>
                  <a:lnTo>
                    <a:pt x="924" y="45"/>
                  </a:lnTo>
                  <a:lnTo>
                    <a:pt x="913" y="35"/>
                  </a:lnTo>
                  <a:lnTo>
                    <a:pt x="901" y="26"/>
                  </a:lnTo>
                  <a:lnTo>
                    <a:pt x="889" y="17"/>
                  </a:lnTo>
                  <a:lnTo>
                    <a:pt x="878" y="9"/>
                  </a:lnTo>
                  <a:lnTo>
                    <a:pt x="866" y="0"/>
                  </a:lnTo>
                  <a:lnTo>
                    <a:pt x="1628" y="0"/>
                  </a:lnTo>
                  <a:lnTo>
                    <a:pt x="1632" y="12"/>
                  </a:lnTo>
                  <a:lnTo>
                    <a:pt x="1636" y="24"/>
                  </a:lnTo>
                  <a:lnTo>
                    <a:pt x="1641" y="35"/>
                  </a:lnTo>
                  <a:lnTo>
                    <a:pt x="1645" y="47"/>
                  </a:lnTo>
                  <a:lnTo>
                    <a:pt x="1648" y="59"/>
                  </a:lnTo>
                  <a:lnTo>
                    <a:pt x="1652" y="71"/>
                  </a:lnTo>
                  <a:lnTo>
                    <a:pt x="1656" y="83"/>
                  </a:lnTo>
                  <a:lnTo>
                    <a:pt x="1660" y="94"/>
                  </a:lnTo>
                  <a:close/>
                  <a:moveTo>
                    <a:pt x="591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4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525920" y="971640"/>
              <a:ext cx="522360" cy="30240"/>
            </a:xfrm>
            <a:custGeom>
              <a:avLst/>
              <a:gdLst/>
              <a:ahLst/>
              <a:rect l="l" t="t" r="r" b="b"/>
              <a:pathLst>
                <a:path w="1645" h="93">
                  <a:moveTo>
                    <a:pt x="1645" y="93"/>
                  </a:moveTo>
                  <a:lnTo>
                    <a:pt x="926" y="93"/>
                  </a:lnTo>
                  <a:lnTo>
                    <a:pt x="909" y="78"/>
                  </a:lnTo>
                  <a:lnTo>
                    <a:pt x="891" y="64"/>
                  </a:lnTo>
                  <a:lnTo>
                    <a:pt x="873" y="52"/>
                  </a:lnTo>
                  <a:lnTo>
                    <a:pt x="854" y="38"/>
                  </a:lnTo>
                  <a:lnTo>
                    <a:pt x="834" y="27"/>
                  </a:lnTo>
                  <a:lnTo>
                    <a:pt x="814" y="17"/>
                  </a:lnTo>
                  <a:lnTo>
                    <a:pt x="793" y="8"/>
                  </a:lnTo>
                  <a:lnTo>
                    <a:pt x="772" y="0"/>
                  </a:lnTo>
                  <a:lnTo>
                    <a:pt x="1607" y="0"/>
                  </a:lnTo>
                  <a:lnTo>
                    <a:pt x="1612" y="11"/>
                  </a:lnTo>
                  <a:lnTo>
                    <a:pt x="1618" y="22"/>
                  </a:lnTo>
                  <a:lnTo>
                    <a:pt x="1623" y="34"/>
                  </a:lnTo>
                  <a:lnTo>
                    <a:pt x="1627" y="45"/>
                  </a:lnTo>
                  <a:lnTo>
                    <a:pt x="1632" y="58"/>
                  </a:lnTo>
                  <a:lnTo>
                    <a:pt x="1636" y="70"/>
                  </a:lnTo>
                  <a:lnTo>
                    <a:pt x="1641" y="81"/>
                  </a:lnTo>
                  <a:lnTo>
                    <a:pt x="1645" y="93"/>
                  </a:lnTo>
                  <a:close/>
                  <a:moveTo>
                    <a:pt x="591" y="93"/>
                  </a:moveTo>
                  <a:lnTo>
                    <a:pt x="0" y="93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3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525920" y="957240"/>
              <a:ext cx="517680" cy="28440"/>
            </a:xfrm>
            <a:custGeom>
              <a:avLst/>
              <a:gdLst/>
              <a:ahLst/>
              <a:rect l="l" t="t" r="r" b="b"/>
              <a:pathLst>
                <a:path w="1628" h="93">
                  <a:moveTo>
                    <a:pt x="1628" y="93"/>
                  </a:moveTo>
                  <a:lnTo>
                    <a:pt x="866" y="93"/>
                  </a:lnTo>
                  <a:lnTo>
                    <a:pt x="851" y="84"/>
                  </a:lnTo>
                  <a:lnTo>
                    <a:pt x="836" y="75"/>
                  </a:lnTo>
                  <a:lnTo>
                    <a:pt x="821" y="67"/>
                  </a:lnTo>
                  <a:lnTo>
                    <a:pt x="805" y="60"/>
                  </a:lnTo>
                  <a:lnTo>
                    <a:pt x="789" y="53"/>
                  </a:lnTo>
                  <a:lnTo>
                    <a:pt x="773" y="47"/>
                  </a:lnTo>
                  <a:lnTo>
                    <a:pt x="756" y="40"/>
                  </a:lnTo>
                  <a:lnTo>
                    <a:pt x="739" y="35"/>
                  </a:lnTo>
                  <a:lnTo>
                    <a:pt x="722" y="30"/>
                  </a:lnTo>
                  <a:lnTo>
                    <a:pt x="704" y="26"/>
                  </a:lnTo>
                  <a:lnTo>
                    <a:pt x="686" y="23"/>
                  </a:lnTo>
                  <a:lnTo>
                    <a:pt x="668" y="20"/>
                  </a:lnTo>
                  <a:lnTo>
                    <a:pt x="648" y="17"/>
                  </a:lnTo>
                  <a:lnTo>
                    <a:pt x="630" y="16"/>
                  </a:lnTo>
                  <a:lnTo>
                    <a:pt x="611" y="14"/>
                  </a:lnTo>
                  <a:lnTo>
                    <a:pt x="591" y="14"/>
                  </a:lnTo>
                  <a:lnTo>
                    <a:pt x="591" y="93"/>
                  </a:lnTo>
                  <a:lnTo>
                    <a:pt x="0" y="93"/>
                  </a:lnTo>
                  <a:lnTo>
                    <a:pt x="0" y="0"/>
                  </a:lnTo>
                  <a:lnTo>
                    <a:pt x="1585" y="0"/>
                  </a:lnTo>
                  <a:lnTo>
                    <a:pt x="1585" y="0"/>
                  </a:lnTo>
                  <a:lnTo>
                    <a:pt x="1585" y="0"/>
                  </a:lnTo>
                  <a:lnTo>
                    <a:pt x="1585" y="1"/>
                  </a:lnTo>
                  <a:lnTo>
                    <a:pt x="1585" y="1"/>
                  </a:lnTo>
                  <a:lnTo>
                    <a:pt x="1586" y="1"/>
                  </a:lnTo>
                  <a:lnTo>
                    <a:pt x="1586" y="2"/>
                  </a:lnTo>
                  <a:lnTo>
                    <a:pt x="1586" y="2"/>
                  </a:lnTo>
                  <a:lnTo>
                    <a:pt x="1586" y="2"/>
                  </a:lnTo>
                  <a:lnTo>
                    <a:pt x="1592" y="13"/>
                  </a:lnTo>
                  <a:lnTo>
                    <a:pt x="1597" y="24"/>
                  </a:lnTo>
                  <a:lnTo>
                    <a:pt x="1602" y="35"/>
                  </a:lnTo>
                  <a:lnTo>
                    <a:pt x="1607" y="48"/>
                  </a:lnTo>
                  <a:lnTo>
                    <a:pt x="1612" y="59"/>
                  </a:lnTo>
                  <a:lnTo>
                    <a:pt x="1618" y="70"/>
                  </a:lnTo>
                  <a:lnTo>
                    <a:pt x="1623" y="82"/>
                  </a:lnTo>
                  <a:lnTo>
                    <a:pt x="1628" y="93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525920" y="941400"/>
              <a:ext cx="511200" cy="30240"/>
            </a:xfrm>
            <a:custGeom>
              <a:avLst/>
              <a:gdLst/>
              <a:ahLst/>
              <a:rect l="l" t="t" r="r" b="b"/>
              <a:pathLst>
                <a:path w="1607" h="95">
                  <a:moveTo>
                    <a:pt x="1607" y="95"/>
                  </a:moveTo>
                  <a:lnTo>
                    <a:pt x="772" y="95"/>
                  </a:lnTo>
                  <a:lnTo>
                    <a:pt x="752" y="87"/>
                  </a:lnTo>
                  <a:lnTo>
                    <a:pt x="730" y="81"/>
                  </a:lnTo>
                  <a:lnTo>
                    <a:pt x="708" y="75"/>
                  </a:lnTo>
                  <a:lnTo>
                    <a:pt x="685" y="71"/>
                  </a:lnTo>
                  <a:lnTo>
                    <a:pt x="663" y="67"/>
                  </a:lnTo>
                  <a:lnTo>
                    <a:pt x="639" y="64"/>
                  </a:lnTo>
                  <a:lnTo>
                    <a:pt x="615" y="63"/>
                  </a:lnTo>
                  <a:lnTo>
                    <a:pt x="591" y="62"/>
                  </a:lnTo>
                  <a:lnTo>
                    <a:pt x="591" y="95"/>
                  </a:lnTo>
                  <a:lnTo>
                    <a:pt x="0" y="95"/>
                  </a:lnTo>
                  <a:lnTo>
                    <a:pt x="0" y="0"/>
                  </a:lnTo>
                  <a:lnTo>
                    <a:pt x="1558" y="0"/>
                  </a:lnTo>
                  <a:lnTo>
                    <a:pt x="1562" y="6"/>
                  </a:lnTo>
                  <a:lnTo>
                    <a:pt x="1565" y="12"/>
                  </a:lnTo>
                  <a:lnTo>
                    <a:pt x="1570" y="18"/>
                  </a:lnTo>
                  <a:lnTo>
                    <a:pt x="1573" y="25"/>
                  </a:lnTo>
                  <a:lnTo>
                    <a:pt x="1576" y="31"/>
                  </a:lnTo>
                  <a:lnTo>
                    <a:pt x="1580" y="37"/>
                  </a:lnTo>
                  <a:lnTo>
                    <a:pt x="1583" y="44"/>
                  </a:lnTo>
                  <a:lnTo>
                    <a:pt x="1586" y="50"/>
                  </a:lnTo>
                  <a:lnTo>
                    <a:pt x="1589" y="56"/>
                  </a:lnTo>
                  <a:lnTo>
                    <a:pt x="1592" y="61"/>
                  </a:lnTo>
                  <a:lnTo>
                    <a:pt x="1594" y="66"/>
                  </a:lnTo>
                  <a:lnTo>
                    <a:pt x="1597" y="72"/>
                  </a:lnTo>
                  <a:lnTo>
                    <a:pt x="1599" y="77"/>
                  </a:lnTo>
                  <a:lnTo>
                    <a:pt x="1602" y="83"/>
                  </a:lnTo>
                  <a:lnTo>
                    <a:pt x="1605" y="88"/>
                  </a:lnTo>
                  <a:lnTo>
                    <a:pt x="1607" y="95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525920" y="927000"/>
              <a:ext cx="503280" cy="30240"/>
            </a:xfrm>
            <a:custGeom>
              <a:avLst/>
              <a:gdLst/>
              <a:ahLst/>
              <a:rect l="l" t="t" r="r" b="b"/>
              <a:pathLst>
                <a:path w="1585" h="95">
                  <a:moveTo>
                    <a:pt x="1585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530" y="0"/>
                  </a:lnTo>
                  <a:lnTo>
                    <a:pt x="1537" y="11"/>
                  </a:lnTo>
                  <a:lnTo>
                    <a:pt x="1544" y="23"/>
                  </a:lnTo>
                  <a:lnTo>
                    <a:pt x="1551" y="35"/>
                  </a:lnTo>
                  <a:lnTo>
                    <a:pt x="1558" y="46"/>
                  </a:lnTo>
                  <a:lnTo>
                    <a:pt x="1565" y="58"/>
                  </a:lnTo>
                  <a:lnTo>
                    <a:pt x="1572" y="70"/>
                  </a:lnTo>
                  <a:lnTo>
                    <a:pt x="1579" y="82"/>
                  </a:lnTo>
                  <a:lnTo>
                    <a:pt x="1585" y="95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525920" y="911160"/>
              <a:ext cx="495360" cy="30240"/>
            </a:xfrm>
            <a:custGeom>
              <a:avLst/>
              <a:gdLst/>
              <a:ahLst/>
              <a:rect l="l" t="t" r="r" b="b"/>
              <a:pathLst>
                <a:path w="1558" h="94">
                  <a:moveTo>
                    <a:pt x="1558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1496" y="0"/>
                  </a:lnTo>
                  <a:lnTo>
                    <a:pt x="1505" y="11"/>
                  </a:lnTo>
                  <a:lnTo>
                    <a:pt x="1513" y="22"/>
                  </a:lnTo>
                  <a:lnTo>
                    <a:pt x="1521" y="35"/>
                  </a:lnTo>
                  <a:lnTo>
                    <a:pt x="1529" y="46"/>
                  </a:lnTo>
                  <a:lnTo>
                    <a:pt x="1537" y="58"/>
                  </a:lnTo>
                  <a:lnTo>
                    <a:pt x="1544" y="70"/>
                  </a:lnTo>
                  <a:lnTo>
                    <a:pt x="1551" y="82"/>
                  </a:lnTo>
                  <a:lnTo>
                    <a:pt x="1558" y="94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525920" y="896760"/>
              <a:ext cx="485640" cy="30240"/>
            </a:xfrm>
            <a:custGeom>
              <a:avLst/>
              <a:gdLst/>
              <a:ahLst/>
              <a:rect l="l" t="t" r="r" b="b"/>
              <a:pathLst>
                <a:path w="1530" h="94">
                  <a:moveTo>
                    <a:pt x="1530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1459" y="0"/>
                  </a:lnTo>
                  <a:lnTo>
                    <a:pt x="1469" y="11"/>
                  </a:lnTo>
                  <a:lnTo>
                    <a:pt x="1478" y="22"/>
                  </a:lnTo>
                  <a:lnTo>
                    <a:pt x="1487" y="34"/>
                  </a:lnTo>
                  <a:lnTo>
                    <a:pt x="1496" y="46"/>
                  </a:lnTo>
                  <a:lnTo>
                    <a:pt x="1504" y="58"/>
                  </a:lnTo>
                  <a:lnTo>
                    <a:pt x="1513" y="69"/>
                  </a:lnTo>
                  <a:lnTo>
                    <a:pt x="1522" y="82"/>
                  </a:lnTo>
                  <a:lnTo>
                    <a:pt x="1530" y="94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525920" y="880920"/>
              <a:ext cx="474840" cy="30240"/>
            </a:xfrm>
            <a:custGeom>
              <a:avLst/>
              <a:gdLst/>
              <a:ahLst/>
              <a:rect l="l" t="t" r="r" b="b"/>
              <a:pathLst>
                <a:path w="1496" h="94">
                  <a:moveTo>
                    <a:pt x="1496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1417" y="0"/>
                  </a:lnTo>
                  <a:lnTo>
                    <a:pt x="1427" y="11"/>
                  </a:lnTo>
                  <a:lnTo>
                    <a:pt x="1438" y="23"/>
                  </a:lnTo>
                  <a:lnTo>
                    <a:pt x="1448" y="34"/>
                  </a:lnTo>
                  <a:lnTo>
                    <a:pt x="1458" y="46"/>
                  </a:lnTo>
                  <a:lnTo>
                    <a:pt x="1468" y="57"/>
                  </a:lnTo>
                  <a:lnTo>
                    <a:pt x="1478" y="69"/>
                  </a:lnTo>
                  <a:lnTo>
                    <a:pt x="1487" y="82"/>
                  </a:lnTo>
                  <a:lnTo>
                    <a:pt x="1496" y="94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525920" y="866880"/>
              <a:ext cx="463680" cy="29880"/>
            </a:xfrm>
            <a:custGeom>
              <a:avLst/>
              <a:gdLst/>
              <a:ahLst/>
              <a:rect l="l" t="t" r="r" b="b"/>
              <a:pathLst>
                <a:path w="1459" h="95">
                  <a:moveTo>
                    <a:pt x="1459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369" y="0"/>
                  </a:lnTo>
                  <a:lnTo>
                    <a:pt x="1380" y="11"/>
                  </a:lnTo>
                  <a:lnTo>
                    <a:pt x="1392" y="24"/>
                  </a:lnTo>
                  <a:lnTo>
                    <a:pt x="1403" y="35"/>
                  </a:lnTo>
                  <a:lnTo>
                    <a:pt x="1416" y="46"/>
                  </a:lnTo>
                  <a:lnTo>
                    <a:pt x="1427" y="58"/>
                  </a:lnTo>
                  <a:lnTo>
                    <a:pt x="1438" y="71"/>
                  </a:lnTo>
                  <a:lnTo>
                    <a:pt x="1448" y="83"/>
                  </a:lnTo>
                  <a:lnTo>
                    <a:pt x="1459" y="95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525920" y="851040"/>
              <a:ext cx="450720" cy="29880"/>
            </a:xfrm>
            <a:custGeom>
              <a:avLst/>
              <a:gdLst/>
              <a:ahLst/>
              <a:rect l="l" t="t" r="r" b="b"/>
              <a:pathLst>
                <a:path w="1417" h="95">
                  <a:moveTo>
                    <a:pt x="1417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313" y="0"/>
                  </a:lnTo>
                  <a:lnTo>
                    <a:pt x="1326" y="12"/>
                  </a:lnTo>
                  <a:lnTo>
                    <a:pt x="1340" y="23"/>
                  </a:lnTo>
                  <a:lnTo>
                    <a:pt x="1353" y="34"/>
                  </a:lnTo>
                  <a:lnTo>
                    <a:pt x="1367" y="46"/>
                  </a:lnTo>
                  <a:lnTo>
                    <a:pt x="1379" y="58"/>
                  </a:lnTo>
                  <a:lnTo>
                    <a:pt x="1392" y="70"/>
                  </a:lnTo>
                  <a:lnTo>
                    <a:pt x="1404" y="82"/>
                  </a:lnTo>
                  <a:lnTo>
                    <a:pt x="1417" y="95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525920" y="836640"/>
              <a:ext cx="434880" cy="30240"/>
            </a:xfrm>
            <a:custGeom>
              <a:avLst/>
              <a:gdLst/>
              <a:ahLst/>
              <a:rect l="l" t="t" r="r" b="b"/>
              <a:pathLst>
                <a:path w="1369" h="94">
                  <a:moveTo>
                    <a:pt x="1369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1247" y="0"/>
                  </a:lnTo>
                  <a:lnTo>
                    <a:pt x="1264" y="12"/>
                  </a:lnTo>
                  <a:lnTo>
                    <a:pt x="1279" y="23"/>
                  </a:lnTo>
                  <a:lnTo>
                    <a:pt x="1295" y="34"/>
                  </a:lnTo>
                  <a:lnTo>
                    <a:pt x="1310" y="45"/>
                  </a:lnTo>
                  <a:lnTo>
                    <a:pt x="1325" y="58"/>
                  </a:lnTo>
                  <a:lnTo>
                    <a:pt x="1340" y="70"/>
                  </a:lnTo>
                  <a:lnTo>
                    <a:pt x="1354" y="82"/>
                  </a:lnTo>
                  <a:lnTo>
                    <a:pt x="1369" y="94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525920" y="822240"/>
              <a:ext cx="417600" cy="28800"/>
            </a:xfrm>
            <a:custGeom>
              <a:avLst/>
              <a:gdLst/>
              <a:ahLst/>
              <a:rect l="l" t="t" r="r" b="b"/>
              <a:pathLst>
                <a:path w="1313" h="93">
                  <a:moveTo>
                    <a:pt x="1313" y="93"/>
                  </a:moveTo>
                  <a:lnTo>
                    <a:pt x="0" y="93"/>
                  </a:lnTo>
                  <a:lnTo>
                    <a:pt x="0" y="0"/>
                  </a:lnTo>
                  <a:lnTo>
                    <a:pt x="1171" y="0"/>
                  </a:lnTo>
                  <a:lnTo>
                    <a:pt x="1176" y="3"/>
                  </a:lnTo>
                  <a:lnTo>
                    <a:pt x="1181" y="6"/>
                  </a:lnTo>
                  <a:lnTo>
                    <a:pt x="1187" y="9"/>
                  </a:lnTo>
                  <a:lnTo>
                    <a:pt x="1192" y="12"/>
                  </a:lnTo>
                  <a:lnTo>
                    <a:pt x="1197" y="15"/>
                  </a:lnTo>
                  <a:lnTo>
                    <a:pt x="1203" y="18"/>
                  </a:lnTo>
                  <a:lnTo>
                    <a:pt x="1208" y="21"/>
                  </a:lnTo>
                  <a:lnTo>
                    <a:pt x="1214" y="24"/>
                  </a:lnTo>
                  <a:lnTo>
                    <a:pt x="1227" y="32"/>
                  </a:lnTo>
                  <a:lnTo>
                    <a:pt x="1239" y="41"/>
                  </a:lnTo>
                  <a:lnTo>
                    <a:pt x="1252" y="50"/>
                  </a:lnTo>
                  <a:lnTo>
                    <a:pt x="1265" y="58"/>
                  </a:lnTo>
                  <a:lnTo>
                    <a:pt x="1277" y="67"/>
                  </a:lnTo>
                  <a:lnTo>
                    <a:pt x="1289" y="75"/>
                  </a:lnTo>
                  <a:lnTo>
                    <a:pt x="1300" y="84"/>
                  </a:lnTo>
                  <a:lnTo>
                    <a:pt x="1313" y="93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525920" y="806400"/>
              <a:ext cx="397080" cy="30240"/>
            </a:xfrm>
            <a:custGeom>
              <a:avLst/>
              <a:gdLst/>
              <a:ahLst/>
              <a:rect l="l" t="t" r="r" b="b"/>
              <a:pathLst>
                <a:path w="1247" h="93">
                  <a:moveTo>
                    <a:pt x="1247" y="93"/>
                  </a:moveTo>
                  <a:lnTo>
                    <a:pt x="0" y="93"/>
                  </a:lnTo>
                  <a:lnTo>
                    <a:pt x="0" y="0"/>
                  </a:lnTo>
                  <a:lnTo>
                    <a:pt x="1073" y="0"/>
                  </a:lnTo>
                  <a:lnTo>
                    <a:pt x="1091" y="7"/>
                  </a:lnTo>
                  <a:lnTo>
                    <a:pt x="1110" y="15"/>
                  </a:lnTo>
                  <a:lnTo>
                    <a:pt x="1127" y="24"/>
                  </a:lnTo>
                  <a:lnTo>
                    <a:pt x="1145" y="33"/>
                  </a:lnTo>
                  <a:lnTo>
                    <a:pt x="1163" y="43"/>
                  </a:lnTo>
                  <a:lnTo>
                    <a:pt x="1180" y="52"/>
                  </a:lnTo>
                  <a:lnTo>
                    <a:pt x="1197" y="62"/>
                  </a:lnTo>
                  <a:lnTo>
                    <a:pt x="1214" y="71"/>
                  </a:lnTo>
                  <a:lnTo>
                    <a:pt x="1218" y="74"/>
                  </a:lnTo>
                  <a:lnTo>
                    <a:pt x="1222" y="77"/>
                  </a:lnTo>
                  <a:lnTo>
                    <a:pt x="1227" y="79"/>
                  </a:lnTo>
                  <a:lnTo>
                    <a:pt x="1231" y="82"/>
                  </a:lnTo>
                  <a:lnTo>
                    <a:pt x="1235" y="85"/>
                  </a:lnTo>
                  <a:lnTo>
                    <a:pt x="1239" y="88"/>
                  </a:lnTo>
                  <a:lnTo>
                    <a:pt x="1243" y="90"/>
                  </a:lnTo>
                  <a:lnTo>
                    <a:pt x="1247" y="93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525920" y="792000"/>
              <a:ext cx="371520" cy="30240"/>
            </a:xfrm>
            <a:custGeom>
              <a:avLst/>
              <a:gdLst/>
              <a:ahLst/>
              <a:rect l="l" t="t" r="r" b="b"/>
              <a:pathLst>
                <a:path w="1171" h="95">
                  <a:moveTo>
                    <a:pt x="1171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935" y="0"/>
                  </a:lnTo>
                  <a:lnTo>
                    <a:pt x="967" y="9"/>
                  </a:lnTo>
                  <a:lnTo>
                    <a:pt x="997" y="19"/>
                  </a:lnTo>
                  <a:lnTo>
                    <a:pt x="1028" y="29"/>
                  </a:lnTo>
                  <a:lnTo>
                    <a:pt x="1058" y="42"/>
                  </a:lnTo>
                  <a:lnTo>
                    <a:pt x="1087" y="53"/>
                  </a:lnTo>
                  <a:lnTo>
                    <a:pt x="1116" y="66"/>
                  </a:lnTo>
                  <a:lnTo>
                    <a:pt x="1143" y="80"/>
                  </a:lnTo>
                  <a:lnTo>
                    <a:pt x="1171" y="95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525920" y="776160"/>
              <a:ext cx="341280" cy="30240"/>
            </a:xfrm>
            <a:custGeom>
              <a:avLst/>
              <a:gdLst/>
              <a:ahLst/>
              <a:rect l="l" t="t" r="r" b="b"/>
              <a:pathLst>
                <a:path w="1073" h="95">
                  <a:moveTo>
                    <a:pt x="1073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651" y="0"/>
                  </a:lnTo>
                  <a:lnTo>
                    <a:pt x="680" y="3"/>
                  </a:lnTo>
                  <a:lnTo>
                    <a:pt x="710" y="6"/>
                  </a:lnTo>
                  <a:lnTo>
                    <a:pt x="737" y="9"/>
                  </a:lnTo>
                  <a:lnTo>
                    <a:pt x="765" y="13"/>
                  </a:lnTo>
                  <a:lnTo>
                    <a:pt x="791" y="17"/>
                  </a:lnTo>
                  <a:lnTo>
                    <a:pt x="817" y="21"/>
                  </a:lnTo>
                  <a:lnTo>
                    <a:pt x="841" y="25"/>
                  </a:lnTo>
                  <a:lnTo>
                    <a:pt x="865" y="30"/>
                  </a:lnTo>
                  <a:lnTo>
                    <a:pt x="892" y="37"/>
                  </a:lnTo>
                  <a:lnTo>
                    <a:pt x="919" y="43"/>
                  </a:lnTo>
                  <a:lnTo>
                    <a:pt x="946" y="50"/>
                  </a:lnTo>
                  <a:lnTo>
                    <a:pt x="972" y="58"/>
                  </a:lnTo>
                  <a:lnTo>
                    <a:pt x="997" y="66"/>
                  </a:lnTo>
                  <a:lnTo>
                    <a:pt x="1023" y="75"/>
                  </a:lnTo>
                  <a:lnTo>
                    <a:pt x="1048" y="84"/>
                  </a:lnTo>
                  <a:lnTo>
                    <a:pt x="1073" y="95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525920" y="773280"/>
              <a:ext cx="297000" cy="18720"/>
            </a:xfrm>
            <a:custGeom>
              <a:avLst/>
              <a:gdLst/>
              <a:ahLst/>
              <a:rect l="l" t="t" r="r" b="b"/>
              <a:pathLst>
                <a:path w="935" h="58">
                  <a:moveTo>
                    <a:pt x="935" y="58"/>
                  </a:moveTo>
                  <a:lnTo>
                    <a:pt x="0" y="58"/>
                  </a:lnTo>
                  <a:lnTo>
                    <a:pt x="0" y="0"/>
                  </a:lnTo>
                  <a:lnTo>
                    <a:pt x="345" y="0"/>
                  </a:lnTo>
                  <a:lnTo>
                    <a:pt x="424" y="1"/>
                  </a:lnTo>
                  <a:lnTo>
                    <a:pt x="500" y="3"/>
                  </a:lnTo>
                  <a:lnTo>
                    <a:pt x="571" y="6"/>
                  </a:lnTo>
                  <a:lnTo>
                    <a:pt x="637" y="10"/>
                  </a:lnTo>
                  <a:lnTo>
                    <a:pt x="701" y="16"/>
                  </a:lnTo>
                  <a:lnTo>
                    <a:pt x="760" y="23"/>
                  </a:lnTo>
                  <a:lnTo>
                    <a:pt x="814" y="31"/>
                  </a:lnTo>
                  <a:lnTo>
                    <a:pt x="865" y="41"/>
                  </a:lnTo>
                  <a:lnTo>
                    <a:pt x="874" y="44"/>
                  </a:lnTo>
                  <a:lnTo>
                    <a:pt x="883" y="46"/>
                  </a:lnTo>
                  <a:lnTo>
                    <a:pt x="891" y="48"/>
                  </a:lnTo>
                  <a:lnTo>
                    <a:pt x="900" y="50"/>
                  </a:lnTo>
                  <a:lnTo>
                    <a:pt x="910" y="52"/>
                  </a:lnTo>
                  <a:lnTo>
                    <a:pt x="918" y="54"/>
                  </a:lnTo>
                  <a:lnTo>
                    <a:pt x="927" y="56"/>
                  </a:lnTo>
                  <a:lnTo>
                    <a:pt x="935" y="58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525920" y="773280"/>
              <a:ext cx="206280" cy="2880"/>
            </a:xfrm>
            <a:custGeom>
              <a:avLst/>
              <a:gdLst/>
              <a:ahLst/>
              <a:rect l="l" t="t" r="r" b="b"/>
              <a:pathLst>
                <a:path w="651" h="11">
                  <a:moveTo>
                    <a:pt x="651" y="11"/>
                  </a:moveTo>
                  <a:lnTo>
                    <a:pt x="0" y="11"/>
                  </a:lnTo>
                  <a:lnTo>
                    <a:pt x="0" y="0"/>
                  </a:lnTo>
                  <a:lnTo>
                    <a:pt x="345" y="0"/>
                  </a:lnTo>
                  <a:lnTo>
                    <a:pt x="386" y="0"/>
                  </a:lnTo>
                  <a:lnTo>
                    <a:pt x="427" y="1"/>
                  </a:lnTo>
                  <a:lnTo>
                    <a:pt x="468" y="2"/>
                  </a:lnTo>
                  <a:lnTo>
                    <a:pt x="507" y="3"/>
                  </a:lnTo>
                  <a:lnTo>
                    <a:pt x="544" y="4"/>
                  </a:lnTo>
                  <a:lnTo>
                    <a:pt x="580" y="6"/>
                  </a:lnTo>
                  <a:lnTo>
                    <a:pt x="616" y="9"/>
                  </a:lnTo>
                  <a:lnTo>
                    <a:pt x="651" y="11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146560" y="1495440"/>
              <a:ext cx="209520" cy="14400"/>
            </a:xfrm>
            <a:custGeom>
              <a:avLst/>
              <a:gdLst/>
              <a:ahLst/>
              <a:rect l="l" t="t" r="r" b="b"/>
              <a:pathLst>
                <a:path w="661" h="47">
                  <a:moveTo>
                    <a:pt x="0" y="0"/>
                  </a:moveTo>
                  <a:lnTo>
                    <a:pt x="661" y="0"/>
                  </a:lnTo>
                  <a:lnTo>
                    <a:pt x="621" y="11"/>
                  </a:lnTo>
                  <a:lnTo>
                    <a:pt x="580" y="20"/>
                  </a:lnTo>
                  <a:lnTo>
                    <a:pt x="539" y="28"/>
                  </a:lnTo>
                  <a:lnTo>
                    <a:pt x="495" y="35"/>
                  </a:lnTo>
                  <a:lnTo>
                    <a:pt x="450" y="40"/>
                  </a:lnTo>
                  <a:lnTo>
                    <a:pt x="404" y="44"/>
                  </a:lnTo>
                  <a:lnTo>
                    <a:pt x="356" y="46"/>
                  </a:lnTo>
                  <a:lnTo>
                    <a:pt x="307" y="47"/>
                  </a:lnTo>
                  <a:lnTo>
                    <a:pt x="287" y="46"/>
                  </a:lnTo>
                  <a:lnTo>
                    <a:pt x="266" y="46"/>
                  </a:lnTo>
                  <a:lnTo>
                    <a:pt x="246" y="45"/>
                  </a:lnTo>
                  <a:lnTo>
                    <a:pt x="227" y="44"/>
                  </a:lnTo>
                  <a:lnTo>
                    <a:pt x="206" y="43"/>
                  </a:lnTo>
                  <a:lnTo>
                    <a:pt x="187" y="42"/>
                  </a:lnTo>
                  <a:lnTo>
                    <a:pt x="167" y="40"/>
                  </a:lnTo>
                  <a:lnTo>
                    <a:pt x="148" y="39"/>
                  </a:lnTo>
                  <a:lnTo>
                    <a:pt x="130" y="37"/>
                  </a:lnTo>
                  <a:lnTo>
                    <a:pt x="110" y="35"/>
                  </a:lnTo>
                  <a:lnTo>
                    <a:pt x="92" y="31"/>
                  </a:lnTo>
                  <a:lnTo>
                    <a:pt x="74" y="29"/>
                  </a:lnTo>
                  <a:lnTo>
                    <a:pt x="54" y="26"/>
                  </a:lnTo>
                  <a:lnTo>
                    <a:pt x="36" y="23"/>
                  </a:lnTo>
                  <a:lnTo>
                    <a:pt x="18" y="20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145120" y="1479600"/>
              <a:ext cx="249120" cy="30240"/>
            </a:xfrm>
            <a:custGeom>
              <a:avLst/>
              <a:gdLst/>
              <a:ahLst/>
              <a:rect l="l" t="t" r="r" b="b"/>
              <a:pathLst>
                <a:path w="784" h="94">
                  <a:moveTo>
                    <a:pt x="0" y="0"/>
                  </a:moveTo>
                  <a:lnTo>
                    <a:pt x="784" y="0"/>
                  </a:lnTo>
                  <a:lnTo>
                    <a:pt x="760" y="11"/>
                  </a:lnTo>
                  <a:lnTo>
                    <a:pt x="734" y="21"/>
                  </a:lnTo>
                  <a:lnTo>
                    <a:pt x="708" y="32"/>
                  </a:lnTo>
                  <a:lnTo>
                    <a:pt x="681" y="41"/>
                  </a:lnTo>
                  <a:lnTo>
                    <a:pt x="654" y="49"/>
                  </a:lnTo>
                  <a:lnTo>
                    <a:pt x="626" y="57"/>
                  </a:lnTo>
                  <a:lnTo>
                    <a:pt x="598" y="64"/>
                  </a:lnTo>
                  <a:lnTo>
                    <a:pt x="568" y="70"/>
                  </a:lnTo>
                  <a:lnTo>
                    <a:pt x="539" y="75"/>
                  </a:lnTo>
                  <a:lnTo>
                    <a:pt x="507" y="81"/>
                  </a:lnTo>
                  <a:lnTo>
                    <a:pt x="476" y="85"/>
                  </a:lnTo>
                  <a:lnTo>
                    <a:pt x="444" y="88"/>
                  </a:lnTo>
                  <a:lnTo>
                    <a:pt x="411" y="91"/>
                  </a:lnTo>
                  <a:lnTo>
                    <a:pt x="378" y="93"/>
                  </a:lnTo>
                  <a:lnTo>
                    <a:pt x="344" y="94"/>
                  </a:lnTo>
                  <a:lnTo>
                    <a:pt x="309" y="94"/>
                  </a:lnTo>
                  <a:lnTo>
                    <a:pt x="289" y="93"/>
                  </a:lnTo>
                  <a:lnTo>
                    <a:pt x="268" y="93"/>
                  </a:lnTo>
                  <a:lnTo>
                    <a:pt x="248" y="92"/>
                  </a:lnTo>
                  <a:lnTo>
                    <a:pt x="229" y="91"/>
                  </a:lnTo>
                  <a:lnTo>
                    <a:pt x="208" y="90"/>
                  </a:lnTo>
                  <a:lnTo>
                    <a:pt x="189" y="89"/>
                  </a:lnTo>
                  <a:lnTo>
                    <a:pt x="169" y="87"/>
                  </a:lnTo>
                  <a:lnTo>
                    <a:pt x="150" y="86"/>
                  </a:lnTo>
                  <a:lnTo>
                    <a:pt x="132" y="84"/>
                  </a:lnTo>
                  <a:lnTo>
                    <a:pt x="112" y="82"/>
                  </a:lnTo>
                  <a:lnTo>
                    <a:pt x="94" y="78"/>
                  </a:lnTo>
                  <a:lnTo>
                    <a:pt x="76" y="76"/>
                  </a:lnTo>
                  <a:lnTo>
                    <a:pt x="56" y="73"/>
                  </a:lnTo>
                  <a:lnTo>
                    <a:pt x="38" y="70"/>
                  </a:lnTo>
                  <a:lnTo>
                    <a:pt x="20" y="67"/>
                  </a:lnTo>
                  <a:lnTo>
                    <a:pt x="2" y="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145120" y="1465200"/>
              <a:ext cx="276120" cy="30240"/>
            </a:xfrm>
            <a:custGeom>
              <a:avLst/>
              <a:gdLst/>
              <a:ahLst/>
              <a:rect l="l" t="t" r="r" b="b"/>
              <a:pathLst>
                <a:path w="869" h="95">
                  <a:moveTo>
                    <a:pt x="664" y="95"/>
                  </a:moveTo>
                  <a:lnTo>
                    <a:pt x="3" y="95"/>
                  </a:lnTo>
                  <a:lnTo>
                    <a:pt x="0" y="0"/>
                  </a:lnTo>
                  <a:lnTo>
                    <a:pt x="869" y="0"/>
                  </a:lnTo>
                  <a:lnTo>
                    <a:pt x="846" y="15"/>
                  </a:lnTo>
                  <a:lnTo>
                    <a:pt x="822" y="29"/>
                  </a:lnTo>
                  <a:lnTo>
                    <a:pt x="798" y="42"/>
                  </a:lnTo>
                  <a:lnTo>
                    <a:pt x="772" y="54"/>
                  </a:lnTo>
                  <a:lnTo>
                    <a:pt x="746" y="65"/>
                  </a:lnTo>
                  <a:lnTo>
                    <a:pt x="719" y="75"/>
                  </a:lnTo>
                  <a:lnTo>
                    <a:pt x="692" y="86"/>
                  </a:lnTo>
                  <a:lnTo>
                    <a:pt x="664" y="95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145120" y="1449360"/>
              <a:ext cx="297000" cy="30240"/>
            </a:xfrm>
            <a:custGeom>
              <a:avLst/>
              <a:gdLst/>
              <a:ahLst/>
              <a:rect l="l" t="t" r="r" b="b"/>
              <a:pathLst>
                <a:path w="934" h="95">
                  <a:moveTo>
                    <a:pt x="786" y="95"/>
                  </a:moveTo>
                  <a:lnTo>
                    <a:pt x="2" y="95"/>
                  </a:lnTo>
                  <a:lnTo>
                    <a:pt x="0" y="0"/>
                  </a:lnTo>
                  <a:lnTo>
                    <a:pt x="934" y="0"/>
                  </a:lnTo>
                  <a:lnTo>
                    <a:pt x="917" y="13"/>
                  </a:lnTo>
                  <a:lnTo>
                    <a:pt x="900" y="27"/>
                  </a:lnTo>
                  <a:lnTo>
                    <a:pt x="882" y="40"/>
                  </a:lnTo>
                  <a:lnTo>
                    <a:pt x="864" y="51"/>
                  </a:lnTo>
                  <a:lnTo>
                    <a:pt x="846" y="63"/>
                  </a:lnTo>
                  <a:lnTo>
                    <a:pt x="826" y="74"/>
                  </a:lnTo>
                  <a:lnTo>
                    <a:pt x="807" y="85"/>
                  </a:lnTo>
                  <a:lnTo>
                    <a:pt x="786" y="95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145120" y="1434960"/>
              <a:ext cx="312840" cy="30240"/>
            </a:xfrm>
            <a:custGeom>
              <a:avLst/>
              <a:gdLst/>
              <a:ahLst/>
              <a:rect l="l" t="t" r="r" b="b"/>
              <a:pathLst>
                <a:path w="986" h="94">
                  <a:moveTo>
                    <a:pt x="871" y="94"/>
                  </a:moveTo>
                  <a:lnTo>
                    <a:pt x="2" y="94"/>
                  </a:lnTo>
                  <a:lnTo>
                    <a:pt x="0" y="0"/>
                  </a:lnTo>
                  <a:lnTo>
                    <a:pt x="986" y="0"/>
                  </a:lnTo>
                  <a:lnTo>
                    <a:pt x="980" y="5"/>
                  </a:lnTo>
                  <a:lnTo>
                    <a:pt x="975" y="10"/>
                  </a:lnTo>
                  <a:lnTo>
                    <a:pt x="970" y="16"/>
                  </a:lnTo>
                  <a:lnTo>
                    <a:pt x="965" y="21"/>
                  </a:lnTo>
                  <a:lnTo>
                    <a:pt x="960" y="26"/>
                  </a:lnTo>
                  <a:lnTo>
                    <a:pt x="954" y="31"/>
                  </a:lnTo>
                  <a:lnTo>
                    <a:pt x="949" y="36"/>
                  </a:lnTo>
                  <a:lnTo>
                    <a:pt x="942" y="41"/>
                  </a:lnTo>
                  <a:lnTo>
                    <a:pt x="934" y="48"/>
                  </a:lnTo>
                  <a:lnTo>
                    <a:pt x="925" y="55"/>
                  </a:lnTo>
                  <a:lnTo>
                    <a:pt x="917" y="62"/>
                  </a:lnTo>
                  <a:lnTo>
                    <a:pt x="908" y="69"/>
                  </a:lnTo>
                  <a:lnTo>
                    <a:pt x="899" y="76"/>
                  </a:lnTo>
                  <a:lnTo>
                    <a:pt x="889" y="82"/>
                  </a:lnTo>
                  <a:lnTo>
                    <a:pt x="880" y="88"/>
                  </a:lnTo>
                  <a:lnTo>
                    <a:pt x="871" y="94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143680" y="1419120"/>
              <a:ext cx="326880" cy="30240"/>
            </a:xfrm>
            <a:custGeom>
              <a:avLst/>
              <a:gdLst/>
              <a:ahLst/>
              <a:rect l="l" t="t" r="r" b="b"/>
              <a:pathLst>
                <a:path w="1028" h="94">
                  <a:moveTo>
                    <a:pt x="936" y="94"/>
                  </a:moveTo>
                  <a:lnTo>
                    <a:pt x="2" y="94"/>
                  </a:lnTo>
                  <a:lnTo>
                    <a:pt x="0" y="0"/>
                  </a:lnTo>
                  <a:lnTo>
                    <a:pt x="1028" y="0"/>
                  </a:lnTo>
                  <a:lnTo>
                    <a:pt x="1019" y="12"/>
                  </a:lnTo>
                  <a:lnTo>
                    <a:pt x="1009" y="23"/>
                  </a:lnTo>
                  <a:lnTo>
                    <a:pt x="999" y="35"/>
                  </a:lnTo>
                  <a:lnTo>
                    <a:pt x="988" y="45"/>
                  </a:lnTo>
                  <a:lnTo>
                    <a:pt x="978" y="56"/>
                  </a:lnTo>
                  <a:lnTo>
                    <a:pt x="967" y="67"/>
                  </a:lnTo>
                  <a:lnTo>
                    <a:pt x="956" y="78"/>
                  </a:lnTo>
                  <a:lnTo>
                    <a:pt x="943" y="88"/>
                  </a:lnTo>
                  <a:lnTo>
                    <a:pt x="942" y="89"/>
                  </a:lnTo>
                  <a:lnTo>
                    <a:pt x="941" y="89"/>
                  </a:lnTo>
                  <a:lnTo>
                    <a:pt x="940" y="90"/>
                  </a:lnTo>
                  <a:lnTo>
                    <a:pt x="939" y="91"/>
                  </a:lnTo>
                  <a:lnTo>
                    <a:pt x="938" y="92"/>
                  </a:lnTo>
                  <a:lnTo>
                    <a:pt x="937" y="93"/>
                  </a:lnTo>
                  <a:lnTo>
                    <a:pt x="937" y="93"/>
                  </a:lnTo>
                  <a:lnTo>
                    <a:pt x="936" y="94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143680" y="1405080"/>
              <a:ext cx="338040" cy="29880"/>
            </a:xfrm>
            <a:custGeom>
              <a:avLst/>
              <a:gdLst/>
              <a:ahLst/>
              <a:rect l="l" t="t" r="r" b="b"/>
              <a:pathLst>
                <a:path w="1064" h="94">
                  <a:moveTo>
                    <a:pt x="988" y="94"/>
                  </a:moveTo>
                  <a:lnTo>
                    <a:pt x="2" y="94"/>
                  </a:lnTo>
                  <a:lnTo>
                    <a:pt x="0" y="0"/>
                  </a:lnTo>
                  <a:lnTo>
                    <a:pt x="1064" y="0"/>
                  </a:lnTo>
                  <a:lnTo>
                    <a:pt x="1055" y="13"/>
                  </a:lnTo>
                  <a:lnTo>
                    <a:pt x="1046" y="25"/>
                  </a:lnTo>
                  <a:lnTo>
                    <a:pt x="1037" y="37"/>
                  </a:lnTo>
                  <a:lnTo>
                    <a:pt x="1028" y="48"/>
                  </a:lnTo>
                  <a:lnTo>
                    <a:pt x="1019" y="61"/>
                  </a:lnTo>
                  <a:lnTo>
                    <a:pt x="1009" y="72"/>
                  </a:lnTo>
                  <a:lnTo>
                    <a:pt x="999" y="83"/>
                  </a:lnTo>
                  <a:lnTo>
                    <a:pt x="988" y="94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143680" y="1390680"/>
              <a:ext cx="345960" cy="28440"/>
            </a:xfrm>
            <a:custGeom>
              <a:avLst/>
              <a:gdLst/>
              <a:ahLst/>
              <a:rect l="l" t="t" r="r" b="b"/>
              <a:pathLst>
                <a:path w="1092" h="94">
                  <a:moveTo>
                    <a:pt x="1030" y="94"/>
                  </a:moveTo>
                  <a:lnTo>
                    <a:pt x="2" y="94"/>
                  </a:lnTo>
                  <a:lnTo>
                    <a:pt x="0" y="0"/>
                  </a:lnTo>
                  <a:lnTo>
                    <a:pt x="1092" y="0"/>
                  </a:lnTo>
                  <a:lnTo>
                    <a:pt x="1085" y="13"/>
                  </a:lnTo>
                  <a:lnTo>
                    <a:pt x="1078" y="25"/>
                  </a:lnTo>
                  <a:lnTo>
                    <a:pt x="1071" y="36"/>
                  </a:lnTo>
                  <a:lnTo>
                    <a:pt x="1064" y="49"/>
                  </a:lnTo>
                  <a:lnTo>
                    <a:pt x="1056" y="60"/>
                  </a:lnTo>
                  <a:lnTo>
                    <a:pt x="1047" y="72"/>
                  </a:lnTo>
                  <a:lnTo>
                    <a:pt x="1039" y="83"/>
                  </a:lnTo>
                  <a:lnTo>
                    <a:pt x="1030" y="94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143680" y="1374840"/>
              <a:ext cx="353880" cy="30240"/>
            </a:xfrm>
            <a:custGeom>
              <a:avLst/>
              <a:gdLst/>
              <a:ahLst/>
              <a:rect l="l" t="t" r="r" b="b"/>
              <a:pathLst>
                <a:path w="1117" h="94">
                  <a:moveTo>
                    <a:pt x="1067" y="94"/>
                  </a:moveTo>
                  <a:lnTo>
                    <a:pt x="3" y="94"/>
                  </a:lnTo>
                  <a:lnTo>
                    <a:pt x="0" y="0"/>
                  </a:lnTo>
                  <a:lnTo>
                    <a:pt x="1117" y="0"/>
                  </a:lnTo>
                  <a:lnTo>
                    <a:pt x="1112" y="12"/>
                  </a:lnTo>
                  <a:lnTo>
                    <a:pt x="1106" y="24"/>
                  </a:lnTo>
                  <a:lnTo>
                    <a:pt x="1099" y="36"/>
                  </a:lnTo>
                  <a:lnTo>
                    <a:pt x="1093" y="49"/>
                  </a:lnTo>
                  <a:lnTo>
                    <a:pt x="1087" y="60"/>
                  </a:lnTo>
                  <a:lnTo>
                    <a:pt x="1080" y="71"/>
                  </a:lnTo>
                  <a:lnTo>
                    <a:pt x="1074" y="83"/>
                  </a:lnTo>
                  <a:lnTo>
                    <a:pt x="1067" y="94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141880" y="1360440"/>
              <a:ext cx="362160" cy="30240"/>
            </a:xfrm>
            <a:custGeom>
              <a:avLst/>
              <a:gdLst/>
              <a:ahLst/>
              <a:rect l="l" t="t" r="r" b="b"/>
              <a:pathLst>
                <a:path w="1136" h="94">
                  <a:moveTo>
                    <a:pt x="1095" y="94"/>
                  </a:moveTo>
                  <a:lnTo>
                    <a:pt x="3" y="94"/>
                  </a:lnTo>
                  <a:lnTo>
                    <a:pt x="0" y="0"/>
                  </a:lnTo>
                  <a:lnTo>
                    <a:pt x="1136" y="0"/>
                  </a:lnTo>
                  <a:lnTo>
                    <a:pt x="1131" y="12"/>
                  </a:lnTo>
                  <a:lnTo>
                    <a:pt x="1127" y="24"/>
                  </a:lnTo>
                  <a:lnTo>
                    <a:pt x="1122" y="37"/>
                  </a:lnTo>
                  <a:lnTo>
                    <a:pt x="1117" y="48"/>
                  </a:lnTo>
                  <a:lnTo>
                    <a:pt x="1112" y="60"/>
                  </a:lnTo>
                  <a:lnTo>
                    <a:pt x="1107" y="71"/>
                  </a:lnTo>
                  <a:lnTo>
                    <a:pt x="1100" y="82"/>
                  </a:lnTo>
                  <a:lnTo>
                    <a:pt x="1095" y="94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141880" y="1344600"/>
              <a:ext cx="365040" cy="30240"/>
            </a:xfrm>
            <a:custGeom>
              <a:avLst/>
              <a:gdLst/>
              <a:ahLst/>
              <a:rect l="l" t="t" r="r" b="b"/>
              <a:pathLst>
                <a:path w="1150" h="94">
                  <a:moveTo>
                    <a:pt x="1119" y="94"/>
                  </a:moveTo>
                  <a:lnTo>
                    <a:pt x="2" y="94"/>
                  </a:lnTo>
                  <a:lnTo>
                    <a:pt x="0" y="0"/>
                  </a:lnTo>
                  <a:lnTo>
                    <a:pt x="1150" y="0"/>
                  </a:lnTo>
                  <a:lnTo>
                    <a:pt x="1147" y="12"/>
                  </a:lnTo>
                  <a:lnTo>
                    <a:pt x="1144" y="24"/>
                  </a:lnTo>
                  <a:lnTo>
                    <a:pt x="1140" y="36"/>
                  </a:lnTo>
                  <a:lnTo>
                    <a:pt x="1136" y="48"/>
                  </a:lnTo>
                  <a:lnTo>
                    <a:pt x="1132" y="59"/>
                  </a:lnTo>
                  <a:lnTo>
                    <a:pt x="1128" y="71"/>
                  </a:lnTo>
                  <a:lnTo>
                    <a:pt x="1123" y="82"/>
                  </a:lnTo>
                  <a:lnTo>
                    <a:pt x="1119" y="94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141880" y="1330200"/>
              <a:ext cx="370080" cy="30240"/>
            </a:xfrm>
            <a:custGeom>
              <a:avLst/>
              <a:gdLst/>
              <a:ahLst/>
              <a:rect l="l" t="t" r="r" b="b"/>
              <a:pathLst>
                <a:path w="1163" h="94">
                  <a:moveTo>
                    <a:pt x="1138" y="94"/>
                  </a:moveTo>
                  <a:lnTo>
                    <a:pt x="2" y="94"/>
                  </a:lnTo>
                  <a:lnTo>
                    <a:pt x="0" y="0"/>
                  </a:lnTo>
                  <a:lnTo>
                    <a:pt x="1163" y="0"/>
                  </a:lnTo>
                  <a:lnTo>
                    <a:pt x="1160" y="12"/>
                  </a:lnTo>
                  <a:lnTo>
                    <a:pt x="1158" y="23"/>
                  </a:lnTo>
                  <a:lnTo>
                    <a:pt x="1154" y="36"/>
                  </a:lnTo>
                  <a:lnTo>
                    <a:pt x="1151" y="48"/>
                  </a:lnTo>
                  <a:lnTo>
                    <a:pt x="1148" y="59"/>
                  </a:lnTo>
                  <a:lnTo>
                    <a:pt x="1145" y="71"/>
                  </a:lnTo>
                  <a:lnTo>
                    <a:pt x="1141" y="83"/>
                  </a:lnTo>
                  <a:lnTo>
                    <a:pt x="1138" y="94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141880" y="1314360"/>
              <a:ext cx="371520" cy="30240"/>
            </a:xfrm>
            <a:custGeom>
              <a:avLst/>
              <a:gdLst/>
              <a:ahLst/>
              <a:rect l="l" t="t" r="r" b="b"/>
              <a:pathLst>
                <a:path w="1171" h="95">
                  <a:moveTo>
                    <a:pt x="1152" y="95"/>
                  </a:moveTo>
                  <a:lnTo>
                    <a:pt x="2" y="95"/>
                  </a:lnTo>
                  <a:lnTo>
                    <a:pt x="0" y="0"/>
                  </a:lnTo>
                  <a:lnTo>
                    <a:pt x="140" y="0"/>
                  </a:lnTo>
                  <a:lnTo>
                    <a:pt x="153" y="3"/>
                  </a:lnTo>
                  <a:lnTo>
                    <a:pt x="166" y="5"/>
                  </a:lnTo>
                  <a:lnTo>
                    <a:pt x="179" y="7"/>
                  </a:lnTo>
                  <a:lnTo>
                    <a:pt x="193" y="9"/>
                  </a:lnTo>
                  <a:lnTo>
                    <a:pt x="205" y="10"/>
                  </a:lnTo>
                  <a:lnTo>
                    <a:pt x="217" y="11"/>
                  </a:lnTo>
                  <a:lnTo>
                    <a:pt x="230" y="12"/>
                  </a:lnTo>
                  <a:lnTo>
                    <a:pt x="242" y="12"/>
                  </a:lnTo>
                  <a:lnTo>
                    <a:pt x="254" y="12"/>
                  </a:lnTo>
                  <a:lnTo>
                    <a:pt x="265" y="11"/>
                  </a:lnTo>
                  <a:lnTo>
                    <a:pt x="276" y="10"/>
                  </a:lnTo>
                  <a:lnTo>
                    <a:pt x="286" y="9"/>
                  </a:lnTo>
                  <a:lnTo>
                    <a:pt x="298" y="7"/>
                  </a:lnTo>
                  <a:lnTo>
                    <a:pt x="308" y="5"/>
                  </a:lnTo>
                  <a:lnTo>
                    <a:pt x="318" y="3"/>
                  </a:lnTo>
                  <a:lnTo>
                    <a:pt x="328" y="0"/>
                  </a:lnTo>
                  <a:lnTo>
                    <a:pt x="1171" y="0"/>
                  </a:lnTo>
                  <a:lnTo>
                    <a:pt x="1170" y="12"/>
                  </a:lnTo>
                  <a:lnTo>
                    <a:pt x="1168" y="25"/>
                  </a:lnTo>
                  <a:lnTo>
                    <a:pt x="1166" y="37"/>
                  </a:lnTo>
                  <a:lnTo>
                    <a:pt x="1164" y="48"/>
                  </a:lnTo>
                  <a:lnTo>
                    <a:pt x="1161" y="60"/>
                  </a:lnTo>
                  <a:lnTo>
                    <a:pt x="1159" y="71"/>
                  </a:lnTo>
                  <a:lnTo>
                    <a:pt x="1155" y="84"/>
                  </a:lnTo>
                  <a:lnTo>
                    <a:pt x="1152" y="95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141880" y="1300320"/>
              <a:ext cx="372960" cy="29880"/>
            </a:xfrm>
            <a:custGeom>
              <a:avLst/>
              <a:gdLst/>
              <a:ahLst/>
              <a:rect l="l" t="t" r="r" b="b"/>
              <a:pathLst>
                <a:path w="1177" h="95">
                  <a:moveTo>
                    <a:pt x="1165" y="95"/>
                  </a:moveTo>
                  <a:lnTo>
                    <a:pt x="2" y="95"/>
                  </a:lnTo>
                  <a:lnTo>
                    <a:pt x="0" y="1"/>
                  </a:lnTo>
                  <a:lnTo>
                    <a:pt x="16" y="8"/>
                  </a:lnTo>
                  <a:lnTo>
                    <a:pt x="32" y="14"/>
                  </a:lnTo>
                  <a:lnTo>
                    <a:pt x="49" y="21"/>
                  </a:lnTo>
                  <a:lnTo>
                    <a:pt x="65" y="27"/>
                  </a:lnTo>
                  <a:lnTo>
                    <a:pt x="81" y="32"/>
                  </a:lnTo>
                  <a:lnTo>
                    <a:pt x="97" y="36"/>
                  </a:lnTo>
                  <a:lnTo>
                    <a:pt x="112" y="40"/>
                  </a:lnTo>
                  <a:lnTo>
                    <a:pt x="127" y="44"/>
                  </a:lnTo>
                  <a:lnTo>
                    <a:pt x="143" y="48"/>
                  </a:lnTo>
                  <a:lnTo>
                    <a:pt x="158" y="51"/>
                  </a:lnTo>
                  <a:lnTo>
                    <a:pt x="172" y="53"/>
                  </a:lnTo>
                  <a:lnTo>
                    <a:pt x="186" y="55"/>
                  </a:lnTo>
                  <a:lnTo>
                    <a:pt x="201" y="57"/>
                  </a:lnTo>
                  <a:lnTo>
                    <a:pt x="215" y="58"/>
                  </a:lnTo>
                  <a:lnTo>
                    <a:pt x="229" y="59"/>
                  </a:lnTo>
                  <a:lnTo>
                    <a:pt x="243" y="59"/>
                  </a:lnTo>
                  <a:lnTo>
                    <a:pt x="267" y="58"/>
                  </a:lnTo>
                  <a:lnTo>
                    <a:pt x="289" y="56"/>
                  </a:lnTo>
                  <a:lnTo>
                    <a:pt x="312" y="52"/>
                  </a:lnTo>
                  <a:lnTo>
                    <a:pt x="332" y="46"/>
                  </a:lnTo>
                  <a:lnTo>
                    <a:pt x="352" y="39"/>
                  </a:lnTo>
                  <a:lnTo>
                    <a:pt x="370" y="30"/>
                  </a:lnTo>
                  <a:lnTo>
                    <a:pt x="387" y="20"/>
                  </a:lnTo>
                  <a:lnTo>
                    <a:pt x="404" y="7"/>
                  </a:lnTo>
                  <a:lnTo>
                    <a:pt x="405" y="6"/>
                  </a:lnTo>
                  <a:lnTo>
                    <a:pt x="406" y="5"/>
                  </a:lnTo>
                  <a:lnTo>
                    <a:pt x="407" y="5"/>
                  </a:lnTo>
                  <a:lnTo>
                    <a:pt x="408" y="4"/>
                  </a:lnTo>
                  <a:lnTo>
                    <a:pt x="409" y="3"/>
                  </a:lnTo>
                  <a:lnTo>
                    <a:pt x="410" y="2"/>
                  </a:lnTo>
                  <a:lnTo>
                    <a:pt x="411" y="1"/>
                  </a:lnTo>
                  <a:lnTo>
                    <a:pt x="412" y="0"/>
                  </a:lnTo>
                  <a:lnTo>
                    <a:pt x="1177" y="0"/>
                  </a:lnTo>
                  <a:lnTo>
                    <a:pt x="1176" y="12"/>
                  </a:lnTo>
                  <a:lnTo>
                    <a:pt x="1175" y="25"/>
                  </a:lnTo>
                  <a:lnTo>
                    <a:pt x="1174" y="37"/>
                  </a:lnTo>
                  <a:lnTo>
                    <a:pt x="1172" y="48"/>
                  </a:lnTo>
                  <a:lnTo>
                    <a:pt x="1170" y="60"/>
                  </a:lnTo>
                  <a:lnTo>
                    <a:pt x="1169" y="72"/>
                  </a:lnTo>
                  <a:lnTo>
                    <a:pt x="1167" y="83"/>
                  </a:lnTo>
                  <a:lnTo>
                    <a:pt x="1165" y="95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141880" y="1285920"/>
              <a:ext cx="372960" cy="28440"/>
            </a:xfrm>
            <a:custGeom>
              <a:avLst/>
              <a:gdLst/>
              <a:ahLst/>
              <a:rect l="l" t="t" r="r" b="b"/>
              <a:pathLst>
                <a:path w="1179" h="94">
                  <a:moveTo>
                    <a:pt x="1172" y="94"/>
                  </a:moveTo>
                  <a:lnTo>
                    <a:pt x="329" y="94"/>
                  </a:lnTo>
                  <a:lnTo>
                    <a:pt x="339" y="91"/>
                  </a:lnTo>
                  <a:lnTo>
                    <a:pt x="350" y="87"/>
                  </a:lnTo>
                  <a:lnTo>
                    <a:pt x="359" y="83"/>
                  </a:lnTo>
                  <a:lnTo>
                    <a:pt x="369" y="78"/>
                  </a:lnTo>
                  <a:lnTo>
                    <a:pt x="378" y="73"/>
                  </a:lnTo>
                  <a:lnTo>
                    <a:pt x="387" y="68"/>
                  </a:lnTo>
                  <a:lnTo>
                    <a:pt x="396" y="61"/>
                  </a:lnTo>
                  <a:lnTo>
                    <a:pt x="404" y="54"/>
                  </a:lnTo>
                  <a:lnTo>
                    <a:pt x="411" y="48"/>
                  </a:lnTo>
                  <a:lnTo>
                    <a:pt x="418" y="42"/>
                  </a:lnTo>
                  <a:lnTo>
                    <a:pt x="424" y="36"/>
                  </a:lnTo>
                  <a:lnTo>
                    <a:pt x="430" y="29"/>
                  </a:lnTo>
                  <a:lnTo>
                    <a:pt x="435" y="22"/>
                  </a:lnTo>
                  <a:lnTo>
                    <a:pt x="440" y="15"/>
                  </a:lnTo>
                  <a:lnTo>
                    <a:pt x="444" y="7"/>
                  </a:lnTo>
                  <a:lnTo>
                    <a:pt x="449" y="0"/>
                  </a:lnTo>
                  <a:lnTo>
                    <a:pt x="1179" y="0"/>
                  </a:lnTo>
                  <a:lnTo>
                    <a:pt x="1179" y="13"/>
                  </a:lnTo>
                  <a:lnTo>
                    <a:pt x="1178" y="25"/>
                  </a:lnTo>
                  <a:lnTo>
                    <a:pt x="1178" y="36"/>
                  </a:lnTo>
                  <a:lnTo>
                    <a:pt x="1177" y="48"/>
                  </a:lnTo>
                  <a:lnTo>
                    <a:pt x="1176" y="59"/>
                  </a:lnTo>
                  <a:lnTo>
                    <a:pt x="1175" y="72"/>
                  </a:lnTo>
                  <a:lnTo>
                    <a:pt x="1174" y="83"/>
                  </a:lnTo>
                  <a:lnTo>
                    <a:pt x="1172" y="94"/>
                  </a:lnTo>
                  <a:close/>
                  <a:moveTo>
                    <a:pt x="141" y="94"/>
                  </a:moveTo>
                  <a:lnTo>
                    <a:pt x="1" y="94"/>
                  </a:lnTo>
                  <a:lnTo>
                    <a:pt x="0" y="48"/>
                  </a:lnTo>
                  <a:lnTo>
                    <a:pt x="16" y="55"/>
                  </a:lnTo>
                  <a:lnTo>
                    <a:pt x="32" y="61"/>
                  </a:lnTo>
                  <a:lnTo>
                    <a:pt x="49" y="68"/>
                  </a:lnTo>
                  <a:lnTo>
                    <a:pt x="65" y="74"/>
                  </a:lnTo>
                  <a:lnTo>
                    <a:pt x="81" y="79"/>
                  </a:lnTo>
                  <a:lnTo>
                    <a:pt x="97" y="83"/>
                  </a:lnTo>
                  <a:lnTo>
                    <a:pt x="112" y="87"/>
                  </a:lnTo>
                  <a:lnTo>
                    <a:pt x="127" y="91"/>
                  </a:lnTo>
                  <a:lnTo>
                    <a:pt x="129" y="92"/>
                  </a:lnTo>
                  <a:lnTo>
                    <a:pt x="130" y="92"/>
                  </a:lnTo>
                  <a:lnTo>
                    <a:pt x="132" y="92"/>
                  </a:lnTo>
                  <a:lnTo>
                    <a:pt x="134" y="93"/>
                  </a:lnTo>
                  <a:lnTo>
                    <a:pt x="135" y="93"/>
                  </a:lnTo>
                  <a:lnTo>
                    <a:pt x="137" y="94"/>
                  </a:lnTo>
                  <a:lnTo>
                    <a:pt x="140" y="94"/>
                  </a:lnTo>
                  <a:lnTo>
                    <a:pt x="141" y="94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272200" y="1270080"/>
              <a:ext cx="244440" cy="30240"/>
            </a:xfrm>
            <a:custGeom>
              <a:avLst/>
              <a:gdLst/>
              <a:ahLst/>
              <a:rect l="l" t="t" r="r" b="b"/>
              <a:pathLst>
                <a:path w="768" h="94">
                  <a:moveTo>
                    <a:pt x="765" y="94"/>
                  </a:moveTo>
                  <a:lnTo>
                    <a:pt x="0" y="94"/>
                  </a:lnTo>
                  <a:lnTo>
                    <a:pt x="10" y="84"/>
                  </a:lnTo>
                  <a:lnTo>
                    <a:pt x="20" y="74"/>
                  </a:lnTo>
                  <a:lnTo>
                    <a:pt x="28" y="63"/>
                  </a:lnTo>
                  <a:lnTo>
                    <a:pt x="35" y="51"/>
                  </a:lnTo>
                  <a:lnTo>
                    <a:pt x="41" y="39"/>
                  </a:lnTo>
                  <a:lnTo>
                    <a:pt x="46" y="27"/>
                  </a:lnTo>
                  <a:lnTo>
                    <a:pt x="50" y="14"/>
                  </a:lnTo>
                  <a:lnTo>
                    <a:pt x="52" y="0"/>
                  </a:lnTo>
                  <a:lnTo>
                    <a:pt x="767" y="0"/>
                  </a:lnTo>
                  <a:lnTo>
                    <a:pt x="767" y="2"/>
                  </a:lnTo>
                  <a:lnTo>
                    <a:pt x="767" y="6"/>
                  </a:lnTo>
                  <a:lnTo>
                    <a:pt x="767" y="9"/>
                  </a:lnTo>
                  <a:lnTo>
                    <a:pt x="767" y="12"/>
                  </a:lnTo>
                  <a:lnTo>
                    <a:pt x="768" y="14"/>
                  </a:lnTo>
                  <a:lnTo>
                    <a:pt x="768" y="17"/>
                  </a:lnTo>
                  <a:lnTo>
                    <a:pt x="768" y="20"/>
                  </a:lnTo>
                  <a:lnTo>
                    <a:pt x="768" y="22"/>
                  </a:lnTo>
                  <a:lnTo>
                    <a:pt x="768" y="31"/>
                  </a:lnTo>
                  <a:lnTo>
                    <a:pt x="767" y="40"/>
                  </a:lnTo>
                  <a:lnTo>
                    <a:pt x="767" y="49"/>
                  </a:lnTo>
                  <a:lnTo>
                    <a:pt x="767" y="59"/>
                  </a:lnTo>
                  <a:lnTo>
                    <a:pt x="767" y="68"/>
                  </a:lnTo>
                  <a:lnTo>
                    <a:pt x="766" y="77"/>
                  </a:lnTo>
                  <a:lnTo>
                    <a:pt x="766" y="86"/>
                  </a:lnTo>
                  <a:lnTo>
                    <a:pt x="765" y="94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283360" y="1255680"/>
              <a:ext cx="233280" cy="30240"/>
            </a:xfrm>
            <a:custGeom>
              <a:avLst/>
              <a:gdLst/>
              <a:ahLst/>
              <a:rect l="l" t="t" r="r" b="b"/>
              <a:pathLst>
                <a:path w="731" h="93">
                  <a:moveTo>
                    <a:pt x="730" y="93"/>
                  </a:moveTo>
                  <a:lnTo>
                    <a:pt x="0" y="93"/>
                  </a:lnTo>
                  <a:lnTo>
                    <a:pt x="4" y="85"/>
                  </a:lnTo>
                  <a:lnTo>
                    <a:pt x="8" y="76"/>
                  </a:lnTo>
                  <a:lnTo>
                    <a:pt x="11" y="68"/>
                  </a:lnTo>
                  <a:lnTo>
                    <a:pt x="13" y="59"/>
                  </a:lnTo>
                  <a:lnTo>
                    <a:pt x="15" y="49"/>
                  </a:lnTo>
                  <a:lnTo>
                    <a:pt x="16" y="39"/>
                  </a:lnTo>
                  <a:lnTo>
                    <a:pt x="17" y="30"/>
                  </a:lnTo>
                  <a:lnTo>
                    <a:pt x="17" y="20"/>
                  </a:lnTo>
                  <a:lnTo>
                    <a:pt x="17" y="17"/>
                  </a:lnTo>
                  <a:lnTo>
                    <a:pt x="17" y="15"/>
                  </a:lnTo>
                  <a:lnTo>
                    <a:pt x="17" y="12"/>
                  </a:lnTo>
                  <a:lnTo>
                    <a:pt x="17" y="10"/>
                  </a:lnTo>
                  <a:lnTo>
                    <a:pt x="17" y="7"/>
                  </a:lnTo>
                  <a:lnTo>
                    <a:pt x="16" y="5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728" y="0"/>
                  </a:lnTo>
                  <a:lnTo>
                    <a:pt x="728" y="8"/>
                  </a:lnTo>
                  <a:lnTo>
                    <a:pt x="729" y="16"/>
                  </a:lnTo>
                  <a:lnTo>
                    <a:pt x="729" y="25"/>
                  </a:lnTo>
                  <a:lnTo>
                    <a:pt x="730" y="33"/>
                  </a:lnTo>
                  <a:lnTo>
                    <a:pt x="730" y="42"/>
                  </a:lnTo>
                  <a:lnTo>
                    <a:pt x="730" y="51"/>
                  </a:lnTo>
                  <a:lnTo>
                    <a:pt x="731" y="60"/>
                  </a:lnTo>
                  <a:lnTo>
                    <a:pt x="731" y="68"/>
                  </a:lnTo>
                  <a:lnTo>
                    <a:pt x="731" y="71"/>
                  </a:lnTo>
                  <a:lnTo>
                    <a:pt x="731" y="75"/>
                  </a:lnTo>
                  <a:lnTo>
                    <a:pt x="731" y="78"/>
                  </a:lnTo>
                  <a:lnTo>
                    <a:pt x="730" y="81"/>
                  </a:lnTo>
                  <a:lnTo>
                    <a:pt x="730" y="84"/>
                  </a:lnTo>
                  <a:lnTo>
                    <a:pt x="730" y="87"/>
                  </a:lnTo>
                  <a:lnTo>
                    <a:pt x="730" y="90"/>
                  </a:lnTo>
                  <a:lnTo>
                    <a:pt x="730" y="93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284800" y="1239840"/>
              <a:ext cx="230040" cy="30240"/>
            </a:xfrm>
            <a:custGeom>
              <a:avLst/>
              <a:gdLst/>
              <a:ahLst/>
              <a:rect l="l" t="t" r="r" b="b"/>
              <a:pathLst>
                <a:path w="729" h="94">
                  <a:moveTo>
                    <a:pt x="729" y="94"/>
                  </a:moveTo>
                  <a:lnTo>
                    <a:pt x="14" y="94"/>
                  </a:lnTo>
                  <a:lnTo>
                    <a:pt x="15" y="91"/>
                  </a:lnTo>
                  <a:lnTo>
                    <a:pt x="15" y="87"/>
                  </a:lnTo>
                  <a:lnTo>
                    <a:pt x="15" y="84"/>
                  </a:lnTo>
                  <a:lnTo>
                    <a:pt x="16" y="81"/>
                  </a:lnTo>
                  <a:lnTo>
                    <a:pt x="16" y="78"/>
                  </a:lnTo>
                  <a:lnTo>
                    <a:pt x="16" y="74"/>
                  </a:lnTo>
                  <a:lnTo>
                    <a:pt x="16" y="71"/>
                  </a:lnTo>
                  <a:lnTo>
                    <a:pt x="16" y="68"/>
                  </a:lnTo>
                  <a:lnTo>
                    <a:pt x="16" y="60"/>
                  </a:lnTo>
                  <a:lnTo>
                    <a:pt x="15" y="52"/>
                  </a:lnTo>
                  <a:lnTo>
                    <a:pt x="14" y="43"/>
                  </a:lnTo>
                  <a:lnTo>
                    <a:pt x="12" y="35"/>
                  </a:lnTo>
                  <a:lnTo>
                    <a:pt x="10" y="26"/>
                  </a:lnTo>
                  <a:lnTo>
                    <a:pt x="7" y="18"/>
                  </a:lnTo>
                  <a:lnTo>
                    <a:pt x="4" y="9"/>
                  </a:lnTo>
                  <a:lnTo>
                    <a:pt x="0" y="0"/>
                  </a:lnTo>
                  <a:lnTo>
                    <a:pt x="721" y="0"/>
                  </a:lnTo>
                  <a:lnTo>
                    <a:pt x="723" y="12"/>
                  </a:lnTo>
                  <a:lnTo>
                    <a:pt x="724" y="23"/>
                  </a:lnTo>
                  <a:lnTo>
                    <a:pt x="726" y="35"/>
                  </a:lnTo>
                  <a:lnTo>
                    <a:pt x="727" y="47"/>
                  </a:lnTo>
                  <a:lnTo>
                    <a:pt x="728" y="59"/>
                  </a:lnTo>
                  <a:lnTo>
                    <a:pt x="728" y="70"/>
                  </a:lnTo>
                  <a:lnTo>
                    <a:pt x="729" y="82"/>
                  </a:lnTo>
                  <a:lnTo>
                    <a:pt x="729" y="94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275440" y="1225440"/>
              <a:ext cx="239400" cy="30240"/>
            </a:xfrm>
            <a:custGeom>
              <a:avLst/>
              <a:gdLst/>
              <a:ahLst/>
              <a:rect l="l" t="t" r="r" b="b"/>
              <a:pathLst>
                <a:path w="753" h="95">
                  <a:moveTo>
                    <a:pt x="753" y="95"/>
                  </a:moveTo>
                  <a:lnTo>
                    <a:pt x="41" y="95"/>
                  </a:lnTo>
                  <a:lnTo>
                    <a:pt x="39" y="83"/>
                  </a:lnTo>
                  <a:lnTo>
                    <a:pt x="36" y="72"/>
                  </a:lnTo>
                  <a:lnTo>
                    <a:pt x="32" y="61"/>
                  </a:lnTo>
                  <a:lnTo>
                    <a:pt x="27" y="50"/>
                  </a:lnTo>
                  <a:lnTo>
                    <a:pt x="22" y="37"/>
                  </a:lnTo>
                  <a:lnTo>
                    <a:pt x="15" y="25"/>
                  </a:lnTo>
                  <a:lnTo>
                    <a:pt x="8" y="13"/>
                  </a:lnTo>
                  <a:lnTo>
                    <a:pt x="0" y="0"/>
                  </a:lnTo>
                  <a:lnTo>
                    <a:pt x="739" y="0"/>
                  </a:lnTo>
                  <a:lnTo>
                    <a:pt x="741" y="12"/>
                  </a:lnTo>
                  <a:lnTo>
                    <a:pt x="743" y="23"/>
                  </a:lnTo>
                  <a:lnTo>
                    <a:pt x="745" y="34"/>
                  </a:lnTo>
                  <a:lnTo>
                    <a:pt x="747" y="47"/>
                  </a:lnTo>
                  <a:lnTo>
                    <a:pt x="749" y="59"/>
                  </a:lnTo>
                  <a:lnTo>
                    <a:pt x="750" y="70"/>
                  </a:lnTo>
                  <a:lnTo>
                    <a:pt x="752" y="82"/>
                  </a:lnTo>
                  <a:lnTo>
                    <a:pt x="753" y="95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264280" y="1211400"/>
              <a:ext cx="249120" cy="28440"/>
            </a:xfrm>
            <a:custGeom>
              <a:avLst/>
              <a:gdLst/>
              <a:ahLst/>
              <a:rect l="l" t="t" r="r" b="b"/>
              <a:pathLst>
                <a:path w="783" h="94">
                  <a:moveTo>
                    <a:pt x="783" y="94"/>
                  </a:moveTo>
                  <a:lnTo>
                    <a:pt x="62" y="94"/>
                  </a:lnTo>
                  <a:lnTo>
                    <a:pt x="56" y="83"/>
                  </a:lnTo>
                  <a:lnTo>
                    <a:pt x="51" y="72"/>
                  </a:lnTo>
                  <a:lnTo>
                    <a:pt x="44" y="60"/>
                  </a:lnTo>
                  <a:lnTo>
                    <a:pt x="37" y="49"/>
                  </a:lnTo>
                  <a:lnTo>
                    <a:pt x="29" y="37"/>
                  </a:lnTo>
                  <a:lnTo>
                    <a:pt x="20" y="24"/>
                  </a:lnTo>
                  <a:lnTo>
                    <a:pt x="11" y="12"/>
                  </a:lnTo>
                  <a:lnTo>
                    <a:pt x="0" y="0"/>
                  </a:lnTo>
                  <a:lnTo>
                    <a:pt x="763" y="0"/>
                  </a:lnTo>
                  <a:lnTo>
                    <a:pt x="766" y="11"/>
                  </a:lnTo>
                  <a:lnTo>
                    <a:pt x="769" y="23"/>
                  </a:lnTo>
                  <a:lnTo>
                    <a:pt x="772" y="35"/>
                  </a:lnTo>
                  <a:lnTo>
                    <a:pt x="775" y="47"/>
                  </a:lnTo>
                  <a:lnTo>
                    <a:pt x="777" y="58"/>
                  </a:lnTo>
                  <a:lnTo>
                    <a:pt x="779" y="70"/>
                  </a:lnTo>
                  <a:lnTo>
                    <a:pt x="781" y="82"/>
                  </a:lnTo>
                  <a:lnTo>
                    <a:pt x="783" y="94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251320" y="1195560"/>
              <a:ext cx="258840" cy="29880"/>
            </a:xfrm>
            <a:custGeom>
              <a:avLst/>
              <a:gdLst/>
              <a:ahLst/>
              <a:rect l="l" t="t" r="r" b="b"/>
              <a:pathLst>
                <a:path w="817" h="94">
                  <a:moveTo>
                    <a:pt x="817" y="94"/>
                  </a:moveTo>
                  <a:lnTo>
                    <a:pt x="78" y="94"/>
                  </a:lnTo>
                  <a:lnTo>
                    <a:pt x="70" y="83"/>
                  </a:lnTo>
                  <a:lnTo>
                    <a:pt x="62" y="71"/>
                  </a:lnTo>
                  <a:lnTo>
                    <a:pt x="54" y="60"/>
                  </a:lnTo>
                  <a:lnTo>
                    <a:pt x="43" y="49"/>
                  </a:lnTo>
                  <a:lnTo>
                    <a:pt x="34" y="37"/>
                  </a:lnTo>
                  <a:lnTo>
                    <a:pt x="23" y="24"/>
                  </a:lnTo>
                  <a:lnTo>
                    <a:pt x="12" y="12"/>
                  </a:lnTo>
                  <a:lnTo>
                    <a:pt x="0" y="0"/>
                  </a:lnTo>
                  <a:lnTo>
                    <a:pt x="790" y="0"/>
                  </a:lnTo>
                  <a:lnTo>
                    <a:pt x="794" y="11"/>
                  </a:lnTo>
                  <a:lnTo>
                    <a:pt x="797" y="23"/>
                  </a:lnTo>
                  <a:lnTo>
                    <a:pt x="801" y="35"/>
                  </a:lnTo>
                  <a:lnTo>
                    <a:pt x="804" y="47"/>
                  </a:lnTo>
                  <a:lnTo>
                    <a:pt x="808" y="58"/>
                  </a:lnTo>
                  <a:lnTo>
                    <a:pt x="811" y="70"/>
                  </a:lnTo>
                  <a:lnTo>
                    <a:pt x="814" y="82"/>
                  </a:lnTo>
                  <a:lnTo>
                    <a:pt x="817" y="94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235480" y="1181160"/>
              <a:ext cx="271440" cy="30240"/>
            </a:xfrm>
            <a:custGeom>
              <a:avLst/>
              <a:gdLst/>
              <a:ahLst/>
              <a:rect l="l" t="t" r="r" b="b"/>
              <a:pathLst>
                <a:path w="853" h="94">
                  <a:moveTo>
                    <a:pt x="853" y="94"/>
                  </a:moveTo>
                  <a:lnTo>
                    <a:pt x="90" y="94"/>
                  </a:lnTo>
                  <a:lnTo>
                    <a:pt x="81" y="83"/>
                  </a:lnTo>
                  <a:lnTo>
                    <a:pt x="71" y="71"/>
                  </a:lnTo>
                  <a:lnTo>
                    <a:pt x="61" y="60"/>
                  </a:lnTo>
                  <a:lnTo>
                    <a:pt x="50" y="48"/>
                  </a:lnTo>
                  <a:lnTo>
                    <a:pt x="37" y="37"/>
                  </a:lnTo>
                  <a:lnTo>
                    <a:pt x="25" y="25"/>
                  </a:lnTo>
                  <a:lnTo>
                    <a:pt x="13" y="12"/>
                  </a:lnTo>
                  <a:lnTo>
                    <a:pt x="0" y="0"/>
                  </a:lnTo>
                  <a:lnTo>
                    <a:pt x="819" y="0"/>
                  </a:lnTo>
                  <a:lnTo>
                    <a:pt x="824" y="11"/>
                  </a:lnTo>
                  <a:lnTo>
                    <a:pt x="829" y="22"/>
                  </a:lnTo>
                  <a:lnTo>
                    <a:pt x="833" y="35"/>
                  </a:lnTo>
                  <a:lnTo>
                    <a:pt x="837" y="46"/>
                  </a:lnTo>
                  <a:lnTo>
                    <a:pt x="842" y="58"/>
                  </a:lnTo>
                  <a:lnTo>
                    <a:pt x="845" y="70"/>
                  </a:lnTo>
                  <a:lnTo>
                    <a:pt x="849" y="82"/>
                  </a:lnTo>
                  <a:lnTo>
                    <a:pt x="853" y="94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219640" y="1165320"/>
              <a:ext cx="282600" cy="30240"/>
            </a:xfrm>
            <a:custGeom>
              <a:avLst/>
              <a:gdLst/>
              <a:ahLst/>
              <a:rect l="l" t="t" r="r" b="b"/>
              <a:pathLst>
                <a:path w="889" h="95">
                  <a:moveTo>
                    <a:pt x="889" y="95"/>
                  </a:moveTo>
                  <a:lnTo>
                    <a:pt x="99" y="95"/>
                  </a:lnTo>
                  <a:lnTo>
                    <a:pt x="93" y="89"/>
                  </a:lnTo>
                  <a:lnTo>
                    <a:pt x="87" y="83"/>
                  </a:lnTo>
                  <a:lnTo>
                    <a:pt x="81" y="77"/>
                  </a:lnTo>
                  <a:lnTo>
                    <a:pt x="75" y="72"/>
                  </a:lnTo>
                  <a:lnTo>
                    <a:pt x="69" y="65"/>
                  </a:lnTo>
                  <a:lnTo>
                    <a:pt x="63" y="59"/>
                  </a:lnTo>
                  <a:lnTo>
                    <a:pt x="56" y="53"/>
                  </a:lnTo>
                  <a:lnTo>
                    <a:pt x="50" y="47"/>
                  </a:lnTo>
                  <a:lnTo>
                    <a:pt x="42" y="40"/>
                  </a:lnTo>
                  <a:lnTo>
                    <a:pt x="35" y="34"/>
                  </a:lnTo>
                  <a:lnTo>
                    <a:pt x="29" y="29"/>
                  </a:lnTo>
                  <a:lnTo>
                    <a:pt x="23" y="23"/>
                  </a:lnTo>
                  <a:lnTo>
                    <a:pt x="17" y="16"/>
                  </a:lnTo>
                  <a:lnTo>
                    <a:pt x="11" y="11"/>
                  </a:lnTo>
                  <a:lnTo>
                    <a:pt x="5" y="6"/>
                  </a:lnTo>
                  <a:lnTo>
                    <a:pt x="0" y="0"/>
                  </a:lnTo>
                  <a:lnTo>
                    <a:pt x="847" y="0"/>
                  </a:lnTo>
                  <a:lnTo>
                    <a:pt x="849" y="4"/>
                  </a:lnTo>
                  <a:lnTo>
                    <a:pt x="851" y="8"/>
                  </a:lnTo>
                  <a:lnTo>
                    <a:pt x="853" y="12"/>
                  </a:lnTo>
                  <a:lnTo>
                    <a:pt x="855" y="16"/>
                  </a:lnTo>
                  <a:lnTo>
                    <a:pt x="857" y="21"/>
                  </a:lnTo>
                  <a:lnTo>
                    <a:pt x="859" y="25"/>
                  </a:lnTo>
                  <a:lnTo>
                    <a:pt x="862" y="29"/>
                  </a:lnTo>
                  <a:lnTo>
                    <a:pt x="864" y="33"/>
                  </a:lnTo>
                  <a:lnTo>
                    <a:pt x="867" y="41"/>
                  </a:lnTo>
                  <a:lnTo>
                    <a:pt x="870" y="48"/>
                  </a:lnTo>
                  <a:lnTo>
                    <a:pt x="874" y="56"/>
                  </a:lnTo>
                  <a:lnTo>
                    <a:pt x="877" y="63"/>
                  </a:lnTo>
                  <a:lnTo>
                    <a:pt x="880" y="72"/>
                  </a:lnTo>
                  <a:lnTo>
                    <a:pt x="883" y="79"/>
                  </a:lnTo>
                  <a:lnTo>
                    <a:pt x="886" y="87"/>
                  </a:lnTo>
                  <a:lnTo>
                    <a:pt x="889" y="95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03800" y="1150920"/>
              <a:ext cx="291960" cy="30240"/>
            </a:xfrm>
            <a:custGeom>
              <a:avLst/>
              <a:gdLst/>
              <a:ahLst/>
              <a:rect l="l" t="t" r="r" b="b"/>
              <a:pathLst>
                <a:path w="918" h="95">
                  <a:moveTo>
                    <a:pt x="918" y="95"/>
                  </a:moveTo>
                  <a:lnTo>
                    <a:pt x="99" y="95"/>
                  </a:lnTo>
                  <a:lnTo>
                    <a:pt x="99" y="94"/>
                  </a:lnTo>
                  <a:lnTo>
                    <a:pt x="98" y="94"/>
                  </a:lnTo>
                  <a:lnTo>
                    <a:pt x="98" y="94"/>
                  </a:lnTo>
                  <a:lnTo>
                    <a:pt x="98" y="94"/>
                  </a:lnTo>
                  <a:lnTo>
                    <a:pt x="98" y="94"/>
                  </a:lnTo>
                  <a:lnTo>
                    <a:pt x="98" y="94"/>
                  </a:lnTo>
                  <a:lnTo>
                    <a:pt x="98" y="94"/>
                  </a:lnTo>
                  <a:lnTo>
                    <a:pt x="98" y="94"/>
                  </a:lnTo>
                  <a:lnTo>
                    <a:pt x="83" y="81"/>
                  </a:lnTo>
                  <a:lnTo>
                    <a:pt x="70" y="69"/>
                  </a:lnTo>
                  <a:lnTo>
                    <a:pt x="58" y="57"/>
                  </a:lnTo>
                  <a:lnTo>
                    <a:pt x="46" y="46"/>
                  </a:lnTo>
                  <a:lnTo>
                    <a:pt x="35" y="36"/>
                  </a:lnTo>
                  <a:lnTo>
                    <a:pt x="25" y="27"/>
                  </a:lnTo>
                  <a:lnTo>
                    <a:pt x="16" y="18"/>
                  </a:lnTo>
                  <a:lnTo>
                    <a:pt x="8" y="9"/>
                  </a:lnTo>
                  <a:lnTo>
                    <a:pt x="7" y="8"/>
                  </a:lnTo>
                  <a:lnTo>
                    <a:pt x="6" y="7"/>
                  </a:lnTo>
                  <a:lnTo>
                    <a:pt x="5" y="6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869" y="0"/>
                  </a:lnTo>
                  <a:lnTo>
                    <a:pt x="875" y="10"/>
                  </a:lnTo>
                  <a:lnTo>
                    <a:pt x="880" y="20"/>
                  </a:lnTo>
                  <a:lnTo>
                    <a:pt x="886" y="30"/>
                  </a:lnTo>
                  <a:lnTo>
                    <a:pt x="891" y="39"/>
                  </a:lnTo>
                  <a:lnTo>
                    <a:pt x="896" y="49"/>
                  </a:lnTo>
                  <a:lnTo>
                    <a:pt x="901" y="59"/>
                  </a:lnTo>
                  <a:lnTo>
                    <a:pt x="906" y="70"/>
                  </a:lnTo>
                  <a:lnTo>
                    <a:pt x="912" y="80"/>
                  </a:lnTo>
                  <a:lnTo>
                    <a:pt x="913" y="82"/>
                  </a:lnTo>
                  <a:lnTo>
                    <a:pt x="913" y="84"/>
                  </a:lnTo>
                  <a:lnTo>
                    <a:pt x="914" y="85"/>
                  </a:lnTo>
                  <a:lnTo>
                    <a:pt x="915" y="87"/>
                  </a:lnTo>
                  <a:lnTo>
                    <a:pt x="916" y="89"/>
                  </a:lnTo>
                  <a:lnTo>
                    <a:pt x="917" y="91"/>
                  </a:lnTo>
                  <a:lnTo>
                    <a:pt x="917" y="93"/>
                  </a:lnTo>
                  <a:lnTo>
                    <a:pt x="918" y="95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191200" y="1135080"/>
              <a:ext cx="296640" cy="30240"/>
            </a:xfrm>
            <a:custGeom>
              <a:avLst/>
              <a:gdLst/>
              <a:ahLst/>
              <a:rect l="l" t="t" r="r" b="b"/>
              <a:pathLst>
                <a:path w="938" h="94">
                  <a:moveTo>
                    <a:pt x="938" y="94"/>
                  </a:moveTo>
                  <a:lnTo>
                    <a:pt x="91" y="94"/>
                  </a:lnTo>
                  <a:lnTo>
                    <a:pt x="84" y="89"/>
                  </a:lnTo>
                  <a:lnTo>
                    <a:pt x="79" y="84"/>
                  </a:lnTo>
                  <a:lnTo>
                    <a:pt x="74" y="79"/>
                  </a:lnTo>
                  <a:lnTo>
                    <a:pt x="69" y="74"/>
                  </a:lnTo>
                  <a:lnTo>
                    <a:pt x="64" y="70"/>
                  </a:lnTo>
                  <a:lnTo>
                    <a:pt x="60" y="65"/>
                  </a:lnTo>
                  <a:lnTo>
                    <a:pt x="56" y="61"/>
                  </a:lnTo>
                  <a:lnTo>
                    <a:pt x="51" y="56"/>
                  </a:lnTo>
                  <a:lnTo>
                    <a:pt x="45" y="49"/>
                  </a:lnTo>
                  <a:lnTo>
                    <a:pt x="38" y="42"/>
                  </a:lnTo>
                  <a:lnTo>
                    <a:pt x="31" y="36"/>
                  </a:lnTo>
                  <a:lnTo>
                    <a:pt x="24" y="29"/>
                  </a:lnTo>
                  <a:lnTo>
                    <a:pt x="18" y="22"/>
                  </a:lnTo>
                  <a:lnTo>
                    <a:pt x="12" y="15"/>
                  </a:lnTo>
                  <a:lnTo>
                    <a:pt x="6" y="8"/>
                  </a:lnTo>
                  <a:lnTo>
                    <a:pt x="0" y="0"/>
                  </a:lnTo>
                  <a:lnTo>
                    <a:pt x="880" y="0"/>
                  </a:lnTo>
                  <a:lnTo>
                    <a:pt x="888" y="12"/>
                  </a:lnTo>
                  <a:lnTo>
                    <a:pt x="895" y="23"/>
                  </a:lnTo>
                  <a:lnTo>
                    <a:pt x="904" y="35"/>
                  </a:lnTo>
                  <a:lnTo>
                    <a:pt x="911" y="46"/>
                  </a:lnTo>
                  <a:lnTo>
                    <a:pt x="918" y="58"/>
                  </a:lnTo>
                  <a:lnTo>
                    <a:pt x="925" y="71"/>
                  </a:lnTo>
                  <a:lnTo>
                    <a:pt x="932" y="82"/>
                  </a:lnTo>
                  <a:lnTo>
                    <a:pt x="938" y="94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178600" y="1120680"/>
              <a:ext cx="301320" cy="30240"/>
            </a:xfrm>
            <a:custGeom>
              <a:avLst/>
              <a:gdLst/>
              <a:ahLst/>
              <a:rect l="l" t="t" r="r" b="b"/>
              <a:pathLst>
                <a:path w="951" h="94">
                  <a:moveTo>
                    <a:pt x="951" y="94"/>
                  </a:moveTo>
                  <a:lnTo>
                    <a:pt x="82" y="94"/>
                  </a:lnTo>
                  <a:lnTo>
                    <a:pt x="70" y="83"/>
                  </a:lnTo>
                  <a:lnTo>
                    <a:pt x="59" y="71"/>
                  </a:lnTo>
                  <a:lnTo>
                    <a:pt x="49" y="60"/>
                  </a:lnTo>
                  <a:lnTo>
                    <a:pt x="39" y="47"/>
                  </a:lnTo>
                  <a:lnTo>
                    <a:pt x="29" y="36"/>
                  </a:lnTo>
                  <a:lnTo>
                    <a:pt x="19" y="24"/>
                  </a:lnTo>
                  <a:lnTo>
                    <a:pt x="9" y="12"/>
                  </a:lnTo>
                  <a:lnTo>
                    <a:pt x="0" y="0"/>
                  </a:lnTo>
                  <a:lnTo>
                    <a:pt x="881" y="0"/>
                  </a:lnTo>
                  <a:lnTo>
                    <a:pt x="892" y="12"/>
                  </a:lnTo>
                  <a:lnTo>
                    <a:pt x="901" y="23"/>
                  </a:lnTo>
                  <a:lnTo>
                    <a:pt x="909" y="34"/>
                  </a:lnTo>
                  <a:lnTo>
                    <a:pt x="918" y="46"/>
                  </a:lnTo>
                  <a:lnTo>
                    <a:pt x="926" y="59"/>
                  </a:lnTo>
                  <a:lnTo>
                    <a:pt x="934" y="70"/>
                  </a:lnTo>
                  <a:lnTo>
                    <a:pt x="943" y="82"/>
                  </a:lnTo>
                  <a:lnTo>
                    <a:pt x="951" y="94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167440" y="1106640"/>
              <a:ext cx="303120" cy="28440"/>
            </a:xfrm>
            <a:custGeom>
              <a:avLst/>
              <a:gdLst/>
              <a:ahLst/>
              <a:rect l="l" t="t" r="r" b="b"/>
              <a:pathLst>
                <a:path w="952" h="93">
                  <a:moveTo>
                    <a:pt x="952" y="93"/>
                  </a:moveTo>
                  <a:lnTo>
                    <a:pt x="72" y="93"/>
                  </a:lnTo>
                  <a:lnTo>
                    <a:pt x="62" y="82"/>
                  </a:lnTo>
                  <a:lnTo>
                    <a:pt x="52" y="70"/>
                  </a:lnTo>
                  <a:lnTo>
                    <a:pt x="42" y="59"/>
                  </a:lnTo>
                  <a:lnTo>
                    <a:pt x="34" y="46"/>
                  </a:lnTo>
                  <a:lnTo>
                    <a:pt x="25" y="34"/>
                  </a:lnTo>
                  <a:lnTo>
                    <a:pt x="17" y="23"/>
                  </a:lnTo>
                  <a:lnTo>
                    <a:pt x="9" y="11"/>
                  </a:lnTo>
                  <a:lnTo>
                    <a:pt x="0" y="0"/>
                  </a:lnTo>
                  <a:lnTo>
                    <a:pt x="872" y="0"/>
                  </a:lnTo>
                  <a:lnTo>
                    <a:pt x="883" y="11"/>
                  </a:lnTo>
                  <a:lnTo>
                    <a:pt x="893" y="22"/>
                  </a:lnTo>
                  <a:lnTo>
                    <a:pt x="903" y="33"/>
                  </a:lnTo>
                  <a:lnTo>
                    <a:pt x="913" y="45"/>
                  </a:lnTo>
                  <a:lnTo>
                    <a:pt x="924" y="57"/>
                  </a:lnTo>
                  <a:lnTo>
                    <a:pt x="934" y="69"/>
                  </a:lnTo>
                  <a:lnTo>
                    <a:pt x="943" y="81"/>
                  </a:lnTo>
                  <a:lnTo>
                    <a:pt x="952" y="93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159520" y="1090440"/>
              <a:ext cx="298440" cy="30240"/>
            </a:xfrm>
            <a:custGeom>
              <a:avLst/>
              <a:gdLst/>
              <a:ahLst/>
              <a:rect l="l" t="t" r="r" b="b"/>
              <a:pathLst>
                <a:path w="942" h="94">
                  <a:moveTo>
                    <a:pt x="942" y="94"/>
                  </a:moveTo>
                  <a:lnTo>
                    <a:pt x="61" y="94"/>
                  </a:lnTo>
                  <a:lnTo>
                    <a:pt x="53" y="82"/>
                  </a:lnTo>
                  <a:lnTo>
                    <a:pt x="45" y="71"/>
                  </a:lnTo>
                  <a:lnTo>
                    <a:pt x="37" y="59"/>
                  </a:lnTo>
                  <a:lnTo>
                    <a:pt x="28" y="48"/>
                  </a:lnTo>
                  <a:lnTo>
                    <a:pt x="21" y="35"/>
                  </a:lnTo>
                  <a:lnTo>
                    <a:pt x="14" y="24"/>
                  </a:lnTo>
                  <a:lnTo>
                    <a:pt x="7" y="12"/>
                  </a:lnTo>
                  <a:lnTo>
                    <a:pt x="0" y="0"/>
                  </a:lnTo>
                  <a:lnTo>
                    <a:pt x="849" y="0"/>
                  </a:lnTo>
                  <a:lnTo>
                    <a:pt x="850" y="1"/>
                  </a:lnTo>
                  <a:lnTo>
                    <a:pt x="850" y="1"/>
                  </a:lnTo>
                  <a:lnTo>
                    <a:pt x="850" y="1"/>
                  </a:lnTo>
                  <a:lnTo>
                    <a:pt x="851" y="2"/>
                  </a:lnTo>
                  <a:lnTo>
                    <a:pt x="851" y="2"/>
                  </a:lnTo>
                  <a:lnTo>
                    <a:pt x="851" y="2"/>
                  </a:lnTo>
                  <a:lnTo>
                    <a:pt x="852" y="3"/>
                  </a:lnTo>
                  <a:lnTo>
                    <a:pt x="852" y="3"/>
                  </a:lnTo>
                  <a:lnTo>
                    <a:pt x="864" y="14"/>
                  </a:lnTo>
                  <a:lnTo>
                    <a:pt x="876" y="24"/>
                  </a:lnTo>
                  <a:lnTo>
                    <a:pt x="888" y="35"/>
                  </a:lnTo>
                  <a:lnTo>
                    <a:pt x="900" y="48"/>
                  </a:lnTo>
                  <a:lnTo>
                    <a:pt x="911" y="59"/>
                  </a:lnTo>
                  <a:lnTo>
                    <a:pt x="922" y="70"/>
                  </a:lnTo>
                  <a:lnTo>
                    <a:pt x="932" y="82"/>
                  </a:lnTo>
                  <a:lnTo>
                    <a:pt x="942" y="94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151600" y="1076400"/>
              <a:ext cx="293400" cy="30240"/>
            </a:xfrm>
            <a:custGeom>
              <a:avLst/>
              <a:gdLst/>
              <a:ahLst/>
              <a:rect l="l" t="t" r="r" b="b"/>
              <a:pathLst>
                <a:path w="924" h="95">
                  <a:moveTo>
                    <a:pt x="924" y="95"/>
                  </a:moveTo>
                  <a:lnTo>
                    <a:pt x="52" y="95"/>
                  </a:lnTo>
                  <a:lnTo>
                    <a:pt x="45" y="82"/>
                  </a:lnTo>
                  <a:lnTo>
                    <a:pt x="38" y="71"/>
                  </a:lnTo>
                  <a:lnTo>
                    <a:pt x="31" y="59"/>
                  </a:lnTo>
                  <a:lnTo>
                    <a:pt x="24" y="48"/>
                  </a:lnTo>
                  <a:lnTo>
                    <a:pt x="18" y="35"/>
                  </a:lnTo>
                  <a:lnTo>
                    <a:pt x="12" y="23"/>
                  </a:lnTo>
                  <a:lnTo>
                    <a:pt x="6" y="12"/>
                  </a:lnTo>
                  <a:lnTo>
                    <a:pt x="0" y="0"/>
                  </a:lnTo>
                  <a:lnTo>
                    <a:pt x="817" y="0"/>
                  </a:lnTo>
                  <a:lnTo>
                    <a:pt x="826" y="7"/>
                  </a:lnTo>
                  <a:lnTo>
                    <a:pt x="834" y="14"/>
                  </a:lnTo>
                  <a:lnTo>
                    <a:pt x="842" y="21"/>
                  </a:lnTo>
                  <a:lnTo>
                    <a:pt x="849" y="27"/>
                  </a:lnTo>
                  <a:lnTo>
                    <a:pt x="856" y="33"/>
                  </a:lnTo>
                  <a:lnTo>
                    <a:pt x="863" y="39"/>
                  </a:lnTo>
                  <a:lnTo>
                    <a:pt x="869" y="45"/>
                  </a:lnTo>
                  <a:lnTo>
                    <a:pt x="876" y="50"/>
                  </a:lnTo>
                  <a:lnTo>
                    <a:pt x="882" y="55"/>
                  </a:lnTo>
                  <a:lnTo>
                    <a:pt x="888" y="61"/>
                  </a:lnTo>
                  <a:lnTo>
                    <a:pt x="894" y="66"/>
                  </a:lnTo>
                  <a:lnTo>
                    <a:pt x="900" y="71"/>
                  </a:lnTo>
                  <a:lnTo>
                    <a:pt x="906" y="77"/>
                  </a:lnTo>
                  <a:lnTo>
                    <a:pt x="912" y="82"/>
                  </a:lnTo>
                  <a:lnTo>
                    <a:pt x="917" y="88"/>
                  </a:lnTo>
                  <a:lnTo>
                    <a:pt x="924" y="95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145120" y="1060560"/>
              <a:ext cx="284040" cy="29880"/>
            </a:xfrm>
            <a:custGeom>
              <a:avLst/>
              <a:gdLst/>
              <a:ahLst/>
              <a:rect l="l" t="t" r="r" b="b"/>
              <a:pathLst>
                <a:path w="893" h="94">
                  <a:moveTo>
                    <a:pt x="893" y="94"/>
                  </a:moveTo>
                  <a:lnTo>
                    <a:pt x="44" y="94"/>
                  </a:lnTo>
                  <a:lnTo>
                    <a:pt x="40" y="88"/>
                  </a:lnTo>
                  <a:lnTo>
                    <a:pt x="37" y="80"/>
                  </a:lnTo>
                  <a:lnTo>
                    <a:pt x="33" y="74"/>
                  </a:lnTo>
                  <a:lnTo>
                    <a:pt x="30" y="67"/>
                  </a:lnTo>
                  <a:lnTo>
                    <a:pt x="27" y="60"/>
                  </a:lnTo>
                  <a:lnTo>
                    <a:pt x="23" y="54"/>
                  </a:lnTo>
                  <a:lnTo>
                    <a:pt x="20" y="47"/>
                  </a:lnTo>
                  <a:lnTo>
                    <a:pt x="17" y="41"/>
                  </a:lnTo>
                  <a:lnTo>
                    <a:pt x="14" y="36"/>
                  </a:lnTo>
                  <a:lnTo>
                    <a:pt x="12" y="30"/>
                  </a:lnTo>
                  <a:lnTo>
                    <a:pt x="10" y="25"/>
                  </a:lnTo>
                  <a:lnTo>
                    <a:pt x="8" y="20"/>
                  </a:lnTo>
                  <a:lnTo>
                    <a:pt x="6" y="15"/>
                  </a:lnTo>
                  <a:lnTo>
                    <a:pt x="4" y="10"/>
                  </a:lnTo>
                  <a:lnTo>
                    <a:pt x="2" y="5"/>
                  </a:lnTo>
                  <a:lnTo>
                    <a:pt x="0" y="0"/>
                  </a:lnTo>
                  <a:lnTo>
                    <a:pt x="779" y="0"/>
                  </a:lnTo>
                  <a:lnTo>
                    <a:pt x="781" y="1"/>
                  </a:lnTo>
                  <a:lnTo>
                    <a:pt x="783" y="3"/>
                  </a:lnTo>
                  <a:lnTo>
                    <a:pt x="785" y="4"/>
                  </a:lnTo>
                  <a:lnTo>
                    <a:pt x="786" y="6"/>
                  </a:lnTo>
                  <a:lnTo>
                    <a:pt x="788" y="7"/>
                  </a:lnTo>
                  <a:lnTo>
                    <a:pt x="791" y="9"/>
                  </a:lnTo>
                  <a:lnTo>
                    <a:pt x="793" y="10"/>
                  </a:lnTo>
                  <a:lnTo>
                    <a:pt x="795" y="12"/>
                  </a:lnTo>
                  <a:lnTo>
                    <a:pt x="810" y="24"/>
                  </a:lnTo>
                  <a:lnTo>
                    <a:pt x="824" y="37"/>
                  </a:lnTo>
                  <a:lnTo>
                    <a:pt x="837" y="48"/>
                  </a:lnTo>
                  <a:lnTo>
                    <a:pt x="851" y="58"/>
                  </a:lnTo>
                  <a:lnTo>
                    <a:pt x="862" y="68"/>
                  </a:lnTo>
                  <a:lnTo>
                    <a:pt x="873" y="77"/>
                  </a:lnTo>
                  <a:lnTo>
                    <a:pt x="883" y="87"/>
                  </a:lnTo>
                  <a:lnTo>
                    <a:pt x="893" y="94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140440" y="1046160"/>
              <a:ext cx="269640" cy="30240"/>
            </a:xfrm>
            <a:custGeom>
              <a:avLst/>
              <a:gdLst/>
              <a:ahLst/>
              <a:rect l="l" t="t" r="r" b="b"/>
              <a:pathLst>
                <a:path w="852" h="94">
                  <a:moveTo>
                    <a:pt x="852" y="94"/>
                  </a:moveTo>
                  <a:lnTo>
                    <a:pt x="35" y="94"/>
                  </a:lnTo>
                  <a:lnTo>
                    <a:pt x="34" y="93"/>
                  </a:lnTo>
                  <a:lnTo>
                    <a:pt x="34" y="93"/>
                  </a:lnTo>
                  <a:lnTo>
                    <a:pt x="33" y="92"/>
                  </a:lnTo>
                  <a:lnTo>
                    <a:pt x="33" y="91"/>
                  </a:lnTo>
                  <a:lnTo>
                    <a:pt x="33" y="90"/>
                  </a:lnTo>
                  <a:lnTo>
                    <a:pt x="32" y="89"/>
                  </a:lnTo>
                  <a:lnTo>
                    <a:pt x="32" y="88"/>
                  </a:lnTo>
                  <a:lnTo>
                    <a:pt x="32" y="88"/>
                  </a:lnTo>
                  <a:lnTo>
                    <a:pt x="27" y="76"/>
                  </a:lnTo>
                  <a:lnTo>
                    <a:pt x="23" y="66"/>
                  </a:lnTo>
                  <a:lnTo>
                    <a:pt x="18" y="55"/>
                  </a:lnTo>
                  <a:lnTo>
                    <a:pt x="14" y="44"/>
                  </a:lnTo>
                  <a:lnTo>
                    <a:pt x="11" y="33"/>
                  </a:lnTo>
                  <a:lnTo>
                    <a:pt x="7" y="22"/>
                  </a:lnTo>
                  <a:lnTo>
                    <a:pt x="4" y="11"/>
                  </a:lnTo>
                  <a:lnTo>
                    <a:pt x="0" y="0"/>
                  </a:lnTo>
                  <a:lnTo>
                    <a:pt x="741" y="0"/>
                  </a:lnTo>
                  <a:lnTo>
                    <a:pt x="748" y="7"/>
                  </a:lnTo>
                  <a:lnTo>
                    <a:pt x="757" y="14"/>
                  </a:lnTo>
                  <a:lnTo>
                    <a:pt x="765" y="21"/>
                  </a:lnTo>
                  <a:lnTo>
                    <a:pt x="773" y="29"/>
                  </a:lnTo>
                  <a:lnTo>
                    <a:pt x="782" y="37"/>
                  </a:lnTo>
                  <a:lnTo>
                    <a:pt x="791" y="44"/>
                  </a:lnTo>
                  <a:lnTo>
                    <a:pt x="800" y="51"/>
                  </a:lnTo>
                  <a:lnTo>
                    <a:pt x="810" y="59"/>
                  </a:lnTo>
                  <a:lnTo>
                    <a:pt x="816" y="63"/>
                  </a:lnTo>
                  <a:lnTo>
                    <a:pt x="821" y="68"/>
                  </a:lnTo>
                  <a:lnTo>
                    <a:pt x="826" y="72"/>
                  </a:lnTo>
                  <a:lnTo>
                    <a:pt x="832" y="77"/>
                  </a:lnTo>
                  <a:lnTo>
                    <a:pt x="837" y="82"/>
                  </a:lnTo>
                  <a:lnTo>
                    <a:pt x="842" y="86"/>
                  </a:lnTo>
                  <a:lnTo>
                    <a:pt x="847" y="90"/>
                  </a:lnTo>
                  <a:lnTo>
                    <a:pt x="852" y="94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137200" y="1031760"/>
              <a:ext cx="255600" cy="28800"/>
            </a:xfrm>
            <a:custGeom>
              <a:avLst/>
              <a:gdLst/>
              <a:ahLst/>
              <a:rect l="l" t="t" r="r" b="b"/>
              <a:pathLst>
                <a:path w="806" h="94">
                  <a:moveTo>
                    <a:pt x="806" y="94"/>
                  </a:moveTo>
                  <a:lnTo>
                    <a:pt x="27" y="94"/>
                  </a:lnTo>
                  <a:lnTo>
                    <a:pt x="23" y="83"/>
                  </a:lnTo>
                  <a:lnTo>
                    <a:pt x="20" y="70"/>
                  </a:lnTo>
                  <a:lnTo>
                    <a:pt x="16" y="59"/>
                  </a:lnTo>
                  <a:lnTo>
                    <a:pt x="13" y="47"/>
                  </a:lnTo>
                  <a:lnTo>
                    <a:pt x="9" y="36"/>
                  </a:lnTo>
                  <a:lnTo>
                    <a:pt x="6" y="24"/>
                  </a:lnTo>
                  <a:lnTo>
                    <a:pt x="4" y="11"/>
                  </a:lnTo>
                  <a:lnTo>
                    <a:pt x="0" y="0"/>
                  </a:lnTo>
                  <a:lnTo>
                    <a:pt x="709" y="0"/>
                  </a:lnTo>
                  <a:lnTo>
                    <a:pt x="720" y="11"/>
                  </a:lnTo>
                  <a:lnTo>
                    <a:pt x="730" y="23"/>
                  </a:lnTo>
                  <a:lnTo>
                    <a:pt x="740" y="34"/>
                  </a:lnTo>
                  <a:lnTo>
                    <a:pt x="752" y="46"/>
                  </a:lnTo>
                  <a:lnTo>
                    <a:pt x="764" y="57"/>
                  </a:lnTo>
                  <a:lnTo>
                    <a:pt x="778" y="69"/>
                  </a:lnTo>
                  <a:lnTo>
                    <a:pt x="792" y="82"/>
                  </a:lnTo>
                  <a:lnTo>
                    <a:pt x="806" y="94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133960" y="1015920"/>
              <a:ext cx="241200" cy="30240"/>
            </a:xfrm>
            <a:custGeom>
              <a:avLst/>
              <a:gdLst/>
              <a:ahLst/>
              <a:rect l="l" t="t" r="r" b="b"/>
              <a:pathLst>
                <a:path w="761" h="95">
                  <a:moveTo>
                    <a:pt x="761" y="95"/>
                  </a:moveTo>
                  <a:lnTo>
                    <a:pt x="20" y="95"/>
                  </a:lnTo>
                  <a:lnTo>
                    <a:pt x="17" y="83"/>
                  </a:lnTo>
                  <a:lnTo>
                    <a:pt x="14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6" y="37"/>
                  </a:lnTo>
                  <a:lnTo>
                    <a:pt x="4" y="25"/>
                  </a:lnTo>
                  <a:lnTo>
                    <a:pt x="2" y="12"/>
                  </a:lnTo>
                  <a:lnTo>
                    <a:pt x="0" y="0"/>
                  </a:lnTo>
                  <a:lnTo>
                    <a:pt x="686" y="0"/>
                  </a:lnTo>
                  <a:lnTo>
                    <a:pt x="693" y="11"/>
                  </a:lnTo>
                  <a:lnTo>
                    <a:pt x="700" y="23"/>
                  </a:lnTo>
                  <a:lnTo>
                    <a:pt x="708" y="35"/>
                  </a:lnTo>
                  <a:lnTo>
                    <a:pt x="716" y="46"/>
                  </a:lnTo>
                  <a:lnTo>
                    <a:pt x="727" y="58"/>
                  </a:lnTo>
                  <a:lnTo>
                    <a:pt x="738" y="71"/>
                  </a:lnTo>
                  <a:lnTo>
                    <a:pt x="749" y="83"/>
                  </a:lnTo>
                  <a:lnTo>
                    <a:pt x="761" y="95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132520" y="1001880"/>
              <a:ext cx="228600" cy="29880"/>
            </a:xfrm>
            <a:custGeom>
              <a:avLst/>
              <a:gdLst/>
              <a:ahLst/>
              <a:rect l="l" t="t" r="r" b="b"/>
              <a:pathLst>
                <a:path w="721" h="95">
                  <a:moveTo>
                    <a:pt x="721" y="95"/>
                  </a:moveTo>
                  <a:lnTo>
                    <a:pt x="12" y="95"/>
                  </a:lnTo>
                  <a:lnTo>
                    <a:pt x="10" y="83"/>
                  </a:lnTo>
                  <a:lnTo>
                    <a:pt x="8" y="72"/>
                  </a:lnTo>
                  <a:lnTo>
                    <a:pt x="6" y="59"/>
                  </a:lnTo>
                  <a:lnTo>
                    <a:pt x="4" y="48"/>
                  </a:lnTo>
                  <a:lnTo>
                    <a:pt x="3" y="36"/>
                  </a:lnTo>
                  <a:lnTo>
                    <a:pt x="2" y="25"/>
                  </a:lnTo>
                  <a:lnTo>
                    <a:pt x="1" y="13"/>
                  </a:lnTo>
                  <a:lnTo>
                    <a:pt x="0" y="0"/>
                  </a:lnTo>
                  <a:lnTo>
                    <a:pt x="672" y="0"/>
                  </a:lnTo>
                  <a:lnTo>
                    <a:pt x="675" y="12"/>
                  </a:lnTo>
                  <a:lnTo>
                    <a:pt x="679" y="23"/>
                  </a:lnTo>
                  <a:lnTo>
                    <a:pt x="684" y="34"/>
                  </a:lnTo>
                  <a:lnTo>
                    <a:pt x="689" y="46"/>
                  </a:lnTo>
                  <a:lnTo>
                    <a:pt x="696" y="58"/>
                  </a:lnTo>
                  <a:lnTo>
                    <a:pt x="704" y="70"/>
                  </a:lnTo>
                  <a:lnTo>
                    <a:pt x="712" y="82"/>
                  </a:lnTo>
                  <a:lnTo>
                    <a:pt x="721" y="95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132520" y="985680"/>
              <a:ext cx="218880" cy="30240"/>
            </a:xfrm>
            <a:custGeom>
              <a:avLst/>
              <a:gdLst/>
              <a:ahLst/>
              <a:rect l="l" t="t" r="r" b="b"/>
              <a:pathLst>
                <a:path w="692" h="94">
                  <a:moveTo>
                    <a:pt x="692" y="94"/>
                  </a:moveTo>
                  <a:lnTo>
                    <a:pt x="6" y="94"/>
                  </a:lnTo>
                  <a:lnTo>
                    <a:pt x="5" y="83"/>
                  </a:lnTo>
                  <a:lnTo>
                    <a:pt x="4" y="72"/>
                  </a:lnTo>
                  <a:lnTo>
                    <a:pt x="3" y="60"/>
                  </a:lnTo>
                  <a:lnTo>
                    <a:pt x="2" y="48"/>
                  </a:lnTo>
                  <a:lnTo>
                    <a:pt x="1" y="36"/>
                  </a:lnTo>
                  <a:lnTo>
                    <a:pt x="1" y="24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72" y="0"/>
                  </a:lnTo>
                  <a:lnTo>
                    <a:pt x="672" y="3"/>
                  </a:lnTo>
                  <a:lnTo>
                    <a:pt x="672" y="6"/>
                  </a:lnTo>
                  <a:lnTo>
                    <a:pt x="672" y="9"/>
                  </a:lnTo>
                  <a:lnTo>
                    <a:pt x="671" y="12"/>
                  </a:lnTo>
                  <a:lnTo>
                    <a:pt x="671" y="14"/>
                  </a:lnTo>
                  <a:lnTo>
                    <a:pt x="671" y="17"/>
                  </a:lnTo>
                  <a:lnTo>
                    <a:pt x="671" y="20"/>
                  </a:lnTo>
                  <a:lnTo>
                    <a:pt x="671" y="22"/>
                  </a:lnTo>
                  <a:lnTo>
                    <a:pt x="671" y="31"/>
                  </a:lnTo>
                  <a:lnTo>
                    <a:pt x="672" y="39"/>
                  </a:lnTo>
                  <a:lnTo>
                    <a:pt x="674" y="48"/>
                  </a:lnTo>
                  <a:lnTo>
                    <a:pt x="676" y="58"/>
                  </a:lnTo>
                  <a:lnTo>
                    <a:pt x="680" y="67"/>
                  </a:lnTo>
                  <a:lnTo>
                    <a:pt x="683" y="76"/>
                  </a:lnTo>
                  <a:lnTo>
                    <a:pt x="688" y="85"/>
                  </a:lnTo>
                  <a:lnTo>
                    <a:pt x="692" y="94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132520" y="971640"/>
              <a:ext cx="217440" cy="30240"/>
            </a:xfrm>
            <a:custGeom>
              <a:avLst/>
              <a:gdLst/>
              <a:ahLst/>
              <a:rect l="l" t="t" r="r" b="b"/>
              <a:pathLst>
                <a:path w="684" h="93">
                  <a:moveTo>
                    <a:pt x="674" y="93"/>
                  </a:moveTo>
                  <a:lnTo>
                    <a:pt x="2" y="93"/>
                  </a:lnTo>
                  <a:lnTo>
                    <a:pt x="1" y="87"/>
                  </a:lnTo>
                  <a:lnTo>
                    <a:pt x="1" y="81"/>
                  </a:lnTo>
                  <a:lnTo>
                    <a:pt x="1" y="75"/>
                  </a:lnTo>
                  <a:lnTo>
                    <a:pt x="1" y="69"/>
                  </a:lnTo>
                  <a:lnTo>
                    <a:pt x="0" y="63"/>
                  </a:lnTo>
                  <a:lnTo>
                    <a:pt x="0" y="56"/>
                  </a:lnTo>
                  <a:lnTo>
                    <a:pt x="0" y="49"/>
                  </a:lnTo>
                  <a:lnTo>
                    <a:pt x="0" y="43"/>
                  </a:lnTo>
                  <a:lnTo>
                    <a:pt x="0" y="37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1" y="16"/>
                  </a:lnTo>
                  <a:lnTo>
                    <a:pt x="1" y="10"/>
                  </a:lnTo>
                  <a:lnTo>
                    <a:pt x="1" y="5"/>
                  </a:lnTo>
                  <a:lnTo>
                    <a:pt x="1" y="0"/>
                  </a:lnTo>
                  <a:lnTo>
                    <a:pt x="684" y="0"/>
                  </a:lnTo>
                  <a:lnTo>
                    <a:pt x="681" y="7"/>
                  </a:lnTo>
                  <a:lnTo>
                    <a:pt x="679" y="15"/>
                  </a:lnTo>
                  <a:lnTo>
                    <a:pt x="676" y="23"/>
                  </a:lnTo>
                  <a:lnTo>
                    <a:pt x="674" y="32"/>
                  </a:lnTo>
                  <a:lnTo>
                    <a:pt x="673" y="40"/>
                  </a:lnTo>
                  <a:lnTo>
                    <a:pt x="672" y="49"/>
                  </a:lnTo>
                  <a:lnTo>
                    <a:pt x="671" y="59"/>
                  </a:lnTo>
                  <a:lnTo>
                    <a:pt x="671" y="68"/>
                  </a:lnTo>
                  <a:lnTo>
                    <a:pt x="671" y="72"/>
                  </a:lnTo>
                  <a:lnTo>
                    <a:pt x="671" y="75"/>
                  </a:lnTo>
                  <a:lnTo>
                    <a:pt x="672" y="78"/>
                  </a:lnTo>
                  <a:lnTo>
                    <a:pt x="672" y="81"/>
                  </a:lnTo>
                  <a:lnTo>
                    <a:pt x="672" y="84"/>
                  </a:lnTo>
                  <a:lnTo>
                    <a:pt x="673" y="87"/>
                  </a:lnTo>
                  <a:lnTo>
                    <a:pt x="673" y="90"/>
                  </a:lnTo>
                  <a:lnTo>
                    <a:pt x="674" y="93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132520" y="957240"/>
              <a:ext cx="366480" cy="28440"/>
            </a:xfrm>
            <a:custGeom>
              <a:avLst/>
              <a:gdLst/>
              <a:ahLst/>
              <a:rect l="l" t="t" r="r" b="b"/>
              <a:pathLst>
                <a:path w="1157" h="93">
                  <a:moveTo>
                    <a:pt x="672" y="93"/>
                  </a:moveTo>
                  <a:lnTo>
                    <a:pt x="0" y="93"/>
                  </a:lnTo>
                  <a:lnTo>
                    <a:pt x="0" y="93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0" y="78"/>
                  </a:lnTo>
                  <a:lnTo>
                    <a:pt x="0" y="67"/>
                  </a:lnTo>
                  <a:lnTo>
                    <a:pt x="1" y="56"/>
                  </a:lnTo>
                  <a:lnTo>
                    <a:pt x="1" y="44"/>
                  </a:lnTo>
                  <a:lnTo>
                    <a:pt x="2" y="33"/>
                  </a:lnTo>
                  <a:lnTo>
                    <a:pt x="3" y="21"/>
                  </a:lnTo>
                  <a:lnTo>
                    <a:pt x="4" y="11"/>
                  </a:lnTo>
                  <a:lnTo>
                    <a:pt x="5" y="0"/>
                  </a:lnTo>
                  <a:lnTo>
                    <a:pt x="713" y="0"/>
                  </a:lnTo>
                  <a:lnTo>
                    <a:pt x="705" y="9"/>
                  </a:lnTo>
                  <a:lnTo>
                    <a:pt x="698" y="19"/>
                  </a:lnTo>
                  <a:lnTo>
                    <a:pt x="691" y="30"/>
                  </a:lnTo>
                  <a:lnTo>
                    <a:pt x="686" y="41"/>
                  </a:lnTo>
                  <a:lnTo>
                    <a:pt x="681" y="54"/>
                  </a:lnTo>
                  <a:lnTo>
                    <a:pt x="677" y="66"/>
                  </a:lnTo>
                  <a:lnTo>
                    <a:pt x="674" y="79"/>
                  </a:lnTo>
                  <a:lnTo>
                    <a:pt x="672" y="93"/>
                  </a:lnTo>
                  <a:close/>
                  <a:moveTo>
                    <a:pt x="1132" y="0"/>
                  </a:moveTo>
                  <a:lnTo>
                    <a:pt x="1157" y="0"/>
                  </a:lnTo>
                  <a:lnTo>
                    <a:pt x="1157" y="11"/>
                  </a:lnTo>
                  <a:lnTo>
                    <a:pt x="1154" y="10"/>
                  </a:lnTo>
                  <a:lnTo>
                    <a:pt x="1151" y="8"/>
                  </a:lnTo>
                  <a:lnTo>
                    <a:pt x="1148" y="7"/>
                  </a:lnTo>
                  <a:lnTo>
                    <a:pt x="1145" y="5"/>
                  </a:lnTo>
                  <a:lnTo>
                    <a:pt x="1142" y="4"/>
                  </a:lnTo>
                  <a:lnTo>
                    <a:pt x="1139" y="2"/>
                  </a:lnTo>
                  <a:lnTo>
                    <a:pt x="1135" y="1"/>
                  </a:lnTo>
                  <a:lnTo>
                    <a:pt x="1132" y="0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132520" y="941400"/>
              <a:ext cx="366480" cy="30240"/>
            </a:xfrm>
            <a:custGeom>
              <a:avLst/>
              <a:gdLst/>
              <a:ahLst/>
              <a:rect l="l" t="t" r="r" b="b"/>
              <a:pathLst>
                <a:path w="1156" h="95">
                  <a:moveTo>
                    <a:pt x="683" y="95"/>
                  </a:moveTo>
                  <a:lnTo>
                    <a:pt x="0" y="95"/>
                  </a:lnTo>
                  <a:lnTo>
                    <a:pt x="1" y="82"/>
                  </a:lnTo>
                  <a:lnTo>
                    <a:pt x="2" y="70"/>
                  </a:lnTo>
                  <a:lnTo>
                    <a:pt x="3" y="58"/>
                  </a:lnTo>
                  <a:lnTo>
                    <a:pt x="4" y="47"/>
                  </a:lnTo>
                  <a:lnTo>
                    <a:pt x="5" y="34"/>
                  </a:lnTo>
                  <a:lnTo>
                    <a:pt x="7" y="23"/>
                  </a:lnTo>
                  <a:lnTo>
                    <a:pt x="9" y="12"/>
                  </a:lnTo>
                  <a:lnTo>
                    <a:pt x="11" y="0"/>
                  </a:lnTo>
                  <a:lnTo>
                    <a:pt x="789" y="0"/>
                  </a:lnTo>
                  <a:lnTo>
                    <a:pt x="781" y="3"/>
                  </a:lnTo>
                  <a:lnTo>
                    <a:pt x="772" y="6"/>
                  </a:lnTo>
                  <a:lnTo>
                    <a:pt x="765" y="10"/>
                  </a:lnTo>
                  <a:lnTo>
                    <a:pt x="757" y="13"/>
                  </a:lnTo>
                  <a:lnTo>
                    <a:pt x="750" y="17"/>
                  </a:lnTo>
                  <a:lnTo>
                    <a:pt x="744" y="21"/>
                  </a:lnTo>
                  <a:lnTo>
                    <a:pt x="737" y="26"/>
                  </a:lnTo>
                  <a:lnTo>
                    <a:pt x="731" y="30"/>
                  </a:lnTo>
                  <a:lnTo>
                    <a:pt x="722" y="37"/>
                  </a:lnTo>
                  <a:lnTo>
                    <a:pt x="715" y="45"/>
                  </a:lnTo>
                  <a:lnTo>
                    <a:pt x="708" y="52"/>
                  </a:lnTo>
                  <a:lnTo>
                    <a:pt x="702" y="60"/>
                  </a:lnTo>
                  <a:lnTo>
                    <a:pt x="696" y="68"/>
                  </a:lnTo>
                  <a:lnTo>
                    <a:pt x="691" y="76"/>
                  </a:lnTo>
                  <a:lnTo>
                    <a:pt x="687" y="85"/>
                  </a:lnTo>
                  <a:lnTo>
                    <a:pt x="683" y="95"/>
                  </a:lnTo>
                  <a:close/>
                  <a:moveTo>
                    <a:pt x="1009" y="0"/>
                  </a:moveTo>
                  <a:lnTo>
                    <a:pt x="1156" y="0"/>
                  </a:lnTo>
                  <a:lnTo>
                    <a:pt x="1156" y="59"/>
                  </a:lnTo>
                  <a:lnTo>
                    <a:pt x="1138" y="50"/>
                  </a:lnTo>
                  <a:lnTo>
                    <a:pt x="1119" y="42"/>
                  </a:lnTo>
                  <a:lnTo>
                    <a:pt x="1102" y="33"/>
                  </a:lnTo>
                  <a:lnTo>
                    <a:pt x="1083" y="26"/>
                  </a:lnTo>
                  <a:lnTo>
                    <a:pt x="1067" y="19"/>
                  </a:lnTo>
                  <a:lnTo>
                    <a:pt x="1050" y="13"/>
                  </a:lnTo>
                  <a:lnTo>
                    <a:pt x="1033" y="8"/>
                  </a:lnTo>
                  <a:lnTo>
                    <a:pt x="1017" y="3"/>
                  </a:lnTo>
                  <a:lnTo>
                    <a:pt x="1016" y="2"/>
                  </a:lnTo>
                  <a:lnTo>
                    <a:pt x="1015" y="2"/>
                  </a:lnTo>
                  <a:lnTo>
                    <a:pt x="1014" y="2"/>
                  </a:lnTo>
                  <a:lnTo>
                    <a:pt x="1013" y="2"/>
                  </a:lnTo>
                  <a:lnTo>
                    <a:pt x="1012" y="1"/>
                  </a:lnTo>
                  <a:lnTo>
                    <a:pt x="1011" y="1"/>
                  </a:lnTo>
                  <a:lnTo>
                    <a:pt x="1010" y="1"/>
                  </a:lnTo>
                  <a:lnTo>
                    <a:pt x="1009" y="0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133960" y="927000"/>
              <a:ext cx="365040" cy="30240"/>
            </a:xfrm>
            <a:custGeom>
              <a:avLst/>
              <a:gdLst/>
              <a:ahLst/>
              <a:rect l="l" t="t" r="r" b="b"/>
              <a:pathLst>
                <a:path w="1152" h="95">
                  <a:moveTo>
                    <a:pt x="1152" y="95"/>
                  </a:moveTo>
                  <a:lnTo>
                    <a:pt x="1127" y="95"/>
                  </a:lnTo>
                  <a:lnTo>
                    <a:pt x="1113" y="88"/>
                  </a:lnTo>
                  <a:lnTo>
                    <a:pt x="1098" y="80"/>
                  </a:lnTo>
                  <a:lnTo>
                    <a:pt x="1084" y="74"/>
                  </a:lnTo>
                  <a:lnTo>
                    <a:pt x="1068" y="69"/>
                  </a:lnTo>
                  <a:lnTo>
                    <a:pt x="1055" y="63"/>
                  </a:lnTo>
                  <a:lnTo>
                    <a:pt x="1041" y="58"/>
                  </a:lnTo>
                  <a:lnTo>
                    <a:pt x="1026" y="54"/>
                  </a:lnTo>
                  <a:lnTo>
                    <a:pt x="1013" y="50"/>
                  </a:lnTo>
                  <a:lnTo>
                    <a:pt x="998" y="46"/>
                  </a:lnTo>
                  <a:lnTo>
                    <a:pt x="982" y="42"/>
                  </a:lnTo>
                  <a:lnTo>
                    <a:pt x="967" y="39"/>
                  </a:lnTo>
                  <a:lnTo>
                    <a:pt x="953" y="36"/>
                  </a:lnTo>
                  <a:lnTo>
                    <a:pt x="939" y="33"/>
                  </a:lnTo>
                  <a:lnTo>
                    <a:pt x="925" y="32"/>
                  </a:lnTo>
                  <a:lnTo>
                    <a:pt x="912" y="31"/>
                  </a:lnTo>
                  <a:lnTo>
                    <a:pt x="899" y="30"/>
                  </a:lnTo>
                  <a:lnTo>
                    <a:pt x="872" y="31"/>
                  </a:lnTo>
                  <a:lnTo>
                    <a:pt x="846" y="33"/>
                  </a:lnTo>
                  <a:lnTo>
                    <a:pt x="822" y="38"/>
                  </a:lnTo>
                  <a:lnTo>
                    <a:pt x="800" y="43"/>
                  </a:lnTo>
                  <a:lnTo>
                    <a:pt x="779" y="49"/>
                  </a:lnTo>
                  <a:lnTo>
                    <a:pt x="760" y="57"/>
                  </a:lnTo>
                  <a:lnTo>
                    <a:pt x="751" y="62"/>
                  </a:lnTo>
                  <a:lnTo>
                    <a:pt x="743" y="67"/>
                  </a:lnTo>
                  <a:lnTo>
                    <a:pt x="735" y="72"/>
                  </a:lnTo>
                  <a:lnTo>
                    <a:pt x="727" y="77"/>
                  </a:lnTo>
                  <a:lnTo>
                    <a:pt x="725" y="79"/>
                  </a:lnTo>
                  <a:lnTo>
                    <a:pt x="721" y="81"/>
                  </a:lnTo>
                  <a:lnTo>
                    <a:pt x="719" y="83"/>
                  </a:lnTo>
                  <a:lnTo>
                    <a:pt x="717" y="85"/>
                  </a:lnTo>
                  <a:lnTo>
                    <a:pt x="715" y="88"/>
                  </a:lnTo>
                  <a:lnTo>
                    <a:pt x="712" y="90"/>
                  </a:lnTo>
                  <a:lnTo>
                    <a:pt x="710" y="92"/>
                  </a:lnTo>
                  <a:lnTo>
                    <a:pt x="708" y="95"/>
                  </a:lnTo>
                  <a:lnTo>
                    <a:pt x="0" y="95"/>
                  </a:lnTo>
                  <a:lnTo>
                    <a:pt x="1" y="82"/>
                  </a:lnTo>
                  <a:lnTo>
                    <a:pt x="3" y="70"/>
                  </a:lnTo>
                  <a:lnTo>
                    <a:pt x="5" y="58"/>
                  </a:lnTo>
                  <a:lnTo>
                    <a:pt x="7" y="47"/>
                  </a:lnTo>
                  <a:lnTo>
                    <a:pt x="9" y="35"/>
                  </a:lnTo>
                  <a:lnTo>
                    <a:pt x="12" y="23"/>
                  </a:lnTo>
                  <a:lnTo>
                    <a:pt x="15" y="11"/>
                  </a:lnTo>
                  <a:lnTo>
                    <a:pt x="18" y="0"/>
                  </a:lnTo>
                  <a:lnTo>
                    <a:pt x="1152" y="0"/>
                  </a:lnTo>
                  <a:lnTo>
                    <a:pt x="1152" y="95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135400" y="911160"/>
              <a:ext cx="363600" cy="30240"/>
            </a:xfrm>
            <a:custGeom>
              <a:avLst/>
              <a:gdLst/>
              <a:ahLst/>
              <a:rect l="l" t="t" r="r" b="b"/>
              <a:pathLst>
                <a:path w="1145" h="94">
                  <a:moveTo>
                    <a:pt x="1145" y="94"/>
                  </a:moveTo>
                  <a:lnTo>
                    <a:pt x="998" y="94"/>
                  </a:lnTo>
                  <a:lnTo>
                    <a:pt x="983" y="91"/>
                  </a:lnTo>
                  <a:lnTo>
                    <a:pt x="968" y="88"/>
                  </a:lnTo>
                  <a:lnTo>
                    <a:pt x="955" y="85"/>
                  </a:lnTo>
                  <a:lnTo>
                    <a:pt x="942" y="83"/>
                  </a:lnTo>
                  <a:lnTo>
                    <a:pt x="929" y="80"/>
                  </a:lnTo>
                  <a:lnTo>
                    <a:pt x="916" y="78"/>
                  </a:lnTo>
                  <a:lnTo>
                    <a:pt x="904" y="78"/>
                  </a:lnTo>
                  <a:lnTo>
                    <a:pt x="892" y="77"/>
                  </a:lnTo>
                  <a:lnTo>
                    <a:pt x="876" y="78"/>
                  </a:lnTo>
                  <a:lnTo>
                    <a:pt x="860" y="78"/>
                  </a:lnTo>
                  <a:lnTo>
                    <a:pt x="845" y="80"/>
                  </a:lnTo>
                  <a:lnTo>
                    <a:pt x="831" y="82"/>
                  </a:lnTo>
                  <a:lnTo>
                    <a:pt x="816" y="85"/>
                  </a:lnTo>
                  <a:lnTo>
                    <a:pt x="803" y="87"/>
                  </a:lnTo>
                  <a:lnTo>
                    <a:pt x="790" y="91"/>
                  </a:lnTo>
                  <a:lnTo>
                    <a:pt x="778" y="94"/>
                  </a:lnTo>
                  <a:lnTo>
                    <a:pt x="0" y="94"/>
                  </a:lnTo>
                  <a:lnTo>
                    <a:pt x="2" y="82"/>
                  </a:lnTo>
                  <a:lnTo>
                    <a:pt x="5" y="70"/>
                  </a:lnTo>
                  <a:lnTo>
                    <a:pt x="8" y="58"/>
                  </a:lnTo>
                  <a:lnTo>
                    <a:pt x="11" y="46"/>
                  </a:lnTo>
                  <a:lnTo>
                    <a:pt x="14" y="35"/>
                  </a:lnTo>
                  <a:lnTo>
                    <a:pt x="17" y="23"/>
                  </a:lnTo>
                  <a:lnTo>
                    <a:pt x="21" y="11"/>
                  </a:lnTo>
                  <a:lnTo>
                    <a:pt x="24" y="0"/>
                  </a:lnTo>
                  <a:lnTo>
                    <a:pt x="1145" y="0"/>
                  </a:lnTo>
                  <a:lnTo>
                    <a:pt x="1145" y="94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138640" y="896760"/>
              <a:ext cx="360360" cy="30240"/>
            </a:xfrm>
            <a:custGeom>
              <a:avLst/>
              <a:gdLst/>
              <a:ahLst/>
              <a:rect l="l" t="t" r="r" b="b"/>
              <a:pathLst>
                <a:path w="1134" h="94">
                  <a:moveTo>
                    <a:pt x="1134" y="94"/>
                  </a:moveTo>
                  <a:lnTo>
                    <a:pt x="0" y="94"/>
                  </a:lnTo>
                  <a:lnTo>
                    <a:pt x="3" y="82"/>
                  </a:lnTo>
                  <a:lnTo>
                    <a:pt x="6" y="69"/>
                  </a:lnTo>
                  <a:lnTo>
                    <a:pt x="10" y="58"/>
                  </a:lnTo>
                  <a:lnTo>
                    <a:pt x="13" y="46"/>
                  </a:lnTo>
                  <a:lnTo>
                    <a:pt x="17" y="35"/>
                  </a:lnTo>
                  <a:lnTo>
                    <a:pt x="22" y="22"/>
                  </a:lnTo>
                  <a:lnTo>
                    <a:pt x="26" y="11"/>
                  </a:lnTo>
                  <a:lnTo>
                    <a:pt x="31" y="0"/>
                  </a:lnTo>
                  <a:lnTo>
                    <a:pt x="1134" y="0"/>
                  </a:lnTo>
                  <a:lnTo>
                    <a:pt x="1134" y="94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143680" y="880920"/>
              <a:ext cx="355320" cy="30240"/>
            </a:xfrm>
            <a:custGeom>
              <a:avLst/>
              <a:gdLst/>
              <a:ahLst/>
              <a:rect l="l" t="t" r="r" b="b"/>
              <a:pathLst>
                <a:path w="1121" h="94">
                  <a:moveTo>
                    <a:pt x="1121" y="94"/>
                  </a:moveTo>
                  <a:lnTo>
                    <a:pt x="0" y="94"/>
                  </a:lnTo>
                  <a:lnTo>
                    <a:pt x="4" y="82"/>
                  </a:lnTo>
                  <a:lnTo>
                    <a:pt x="9" y="69"/>
                  </a:lnTo>
                  <a:lnTo>
                    <a:pt x="13" y="57"/>
                  </a:lnTo>
                  <a:lnTo>
                    <a:pt x="18" y="46"/>
                  </a:lnTo>
                  <a:lnTo>
                    <a:pt x="23" y="34"/>
                  </a:lnTo>
                  <a:lnTo>
                    <a:pt x="28" y="23"/>
                  </a:lnTo>
                  <a:lnTo>
                    <a:pt x="35" y="11"/>
                  </a:lnTo>
                  <a:lnTo>
                    <a:pt x="41" y="0"/>
                  </a:lnTo>
                  <a:lnTo>
                    <a:pt x="1121" y="0"/>
                  </a:lnTo>
                  <a:lnTo>
                    <a:pt x="1121" y="94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149800" y="866880"/>
              <a:ext cx="349200" cy="29880"/>
            </a:xfrm>
            <a:custGeom>
              <a:avLst/>
              <a:gdLst/>
              <a:ahLst/>
              <a:rect l="l" t="t" r="r" b="b"/>
              <a:pathLst>
                <a:path w="1103" h="95">
                  <a:moveTo>
                    <a:pt x="1103" y="95"/>
                  </a:moveTo>
                  <a:lnTo>
                    <a:pt x="0" y="95"/>
                  </a:lnTo>
                  <a:lnTo>
                    <a:pt x="5" y="83"/>
                  </a:lnTo>
                  <a:lnTo>
                    <a:pt x="10" y="71"/>
                  </a:lnTo>
                  <a:lnTo>
                    <a:pt x="17" y="58"/>
                  </a:lnTo>
                  <a:lnTo>
                    <a:pt x="23" y="47"/>
                  </a:lnTo>
                  <a:lnTo>
                    <a:pt x="29" y="35"/>
                  </a:lnTo>
                  <a:lnTo>
                    <a:pt x="36" y="24"/>
                  </a:lnTo>
                  <a:lnTo>
                    <a:pt x="43" y="12"/>
                  </a:lnTo>
                  <a:lnTo>
                    <a:pt x="50" y="0"/>
                  </a:lnTo>
                  <a:lnTo>
                    <a:pt x="1103" y="0"/>
                  </a:lnTo>
                  <a:lnTo>
                    <a:pt x="1103" y="95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156280" y="851040"/>
              <a:ext cx="342720" cy="29880"/>
            </a:xfrm>
            <a:custGeom>
              <a:avLst/>
              <a:gdLst/>
              <a:ahLst/>
              <a:rect l="l" t="t" r="r" b="b"/>
              <a:pathLst>
                <a:path w="1080" h="95">
                  <a:moveTo>
                    <a:pt x="1080" y="95"/>
                  </a:moveTo>
                  <a:lnTo>
                    <a:pt x="0" y="95"/>
                  </a:lnTo>
                  <a:lnTo>
                    <a:pt x="6" y="83"/>
                  </a:lnTo>
                  <a:lnTo>
                    <a:pt x="13" y="71"/>
                  </a:lnTo>
                  <a:lnTo>
                    <a:pt x="20" y="58"/>
                  </a:lnTo>
                  <a:lnTo>
                    <a:pt x="27" y="46"/>
                  </a:lnTo>
                  <a:lnTo>
                    <a:pt x="35" y="35"/>
                  </a:lnTo>
                  <a:lnTo>
                    <a:pt x="44" y="23"/>
                  </a:lnTo>
                  <a:lnTo>
                    <a:pt x="52" y="12"/>
                  </a:lnTo>
                  <a:lnTo>
                    <a:pt x="60" y="0"/>
                  </a:lnTo>
                  <a:lnTo>
                    <a:pt x="1080" y="0"/>
                  </a:lnTo>
                  <a:lnTo>
                    <a:pt x="1080" y="95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165640" y="836640"/>
              <a:ext cx="333360" cy="30240"/>
            </a:xfrm>
            <a:custGeom>
              <a:avLst/>
              <a:gdLst/>
              <a:ahLst/>
              <a:rect l="l" t="t" r="r" b="b"/>
              <a:pathLst>
                <a:path w="1053" h="94">
                  <a:moveTo>
                    <a:pt x="1053" y="94"/>
                  </a:moveTo>
                  <a:lnTo>
                    <a:pt x="0" y="94"/>
                  </a:lnTo>
                  <a:lnTo>
                    <a:pt x="8" y="82"/>
                  </a:lnTo>
                  <a:lnTo>
                    <a:pt x="17" y="70"/>
                  </a:lnTo>
                  <a:lnTo>
                    <a:pt x="26" y="59"/>
                  </a:lnTo>
                  <a:lnTo>
                    <a:pt x="34" y="46"/>
                  </a:lnTo>
                  <a:lnTo>
                    <a:pt x="44" y="35"/>
                  </a:lnTo>
                  <a:lnTo>
                    <a:pt x="53" y="23"/>
                  </a:lnTo>
                  <a:lnTo>
                    <a:pt x="63" y="12"/>
                  </a:lnTo>
                  <a:lnTo>
                    <a:pt x="74" y="0"/>
                  </a:lnTo>
                  <a:lnTo>
                    <a:pt x="1053" y="0"/>
                  </a:lnTo>
                  <a:lnTo>
                    <a:pt x="1053" y="94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175360" y="822240"/>
              <a:ext cx="323640" cy="28800"/>
            </a:xfrm>
            <a:custGeom>
              <a:avLst/>
              <a:gdLst/>
              <a:ahLst/>
              <a:rect l="l" t="t" r="r" b="b"/>
              <a:pathLst>
                <a:path w="1020" h="93">
                  <a:moveTo>
                    <a:pt x="1020" y="93"/>
                  </a:moveTo>
                  <a:lnTo>
                    <a:pt x="0" y="93"/>
                  </a:lnTo>
                  <a:lnTo>
                    <a:pt x="9" y="82"/>
                  </a:lnTo>
                  <a:lnTo>
                    <a:pt x="18" y="72"/>
                  </a:lnTo>
                  <a:lnTo>
                    <a:pt x="27" y="61"/>
                  </a:lnTo>
                  <a:lnTo>
                    <a:pt x="38" y="51"/>
                  </a:lnTo>
                  <a:lnTo>
                    <a:pt x="47" y="39"/>
                  </a:lnTo>
                  <a:lnTo>
                    <a:pt x="57" y="29"/>
                  </a:lnTo>
                  <a:lnTo>
                    <a:pt x="68" y="19"/>
                  </a:lnTo>
                  <a:lnTo>
                    <a:pt x="78" y="9"/>
                  </a:lnTo>
                  <a:lnTo>
                    <a:pt x="79" y="8"/>
                  </a:lnTo>
                  <a:lnTo>
                    <a:pt x="81" y="7"/>
                  </a:lnTo>
                  <a:lnTo>
                    <a:pt x="83" y="6"/>
                  </a:lnTo>
                  <a:lnTo>
                    <a:pt x="84" y="5"/>
                  </a:lnTo>
                  <a:lnTo>
                    <a:pt x="86" y="3"/>
                  </a:lnTo>
                  <a:lnTo>
                    <a:pt x="87" y="2"/>
                  </a:lnTo>
                  <a:lnTo>
                    <a:pt x="88" y="1"/>
                  </a:lnTo>
                  <a:lnTo>
                    <a:pt x="90" y="0"/>
                  </a:lnTo>
                  <a:lnTo>
                    <a:pt x="1020" y="0"/>
                  </a:lnTo>
                  <a:lnTo>
                    <a:pt x="1020" y="93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187960" y="806400"/>
              <a:ext cx="311040" cy="30240"/>
            </a:xfrm>
            <a:custGeom>
              <a:avLst/>
              <a:gdLst/>
              <a:ahLst/>
              <a:rect l="l" t="t" r="r" b="b"/>
              <a:pathLst>
                <a:path w="979" h="93">
                  <a:moveTo>
                    <a:pt x="979" y="93"/>
                  </a:moveTo>
                  <a:lnTo>
                    <a:pt x="0" y="93"/>
                  </a:lnTo>
                  <a:lnTo>
                    <a:pt x="4" y="88"/>
                  </a:lnTo>
                  <a:lnTo>
                    <a:pt x="9" y="84"/>
                  </a:lnTo>
                  <a:lnTo>
                    <a:pt x="14" y="79"/>
                  </a:lnTo>
                  <a:lnTo>
                    <a:pt x="18" y="74"/>
                  </a:lnTo>
                  <a:lnTo>
                    <a:pt x="23" y="70"/>
                  </a:lnTo>
                  <a:lnTo>
                    <a:pt x="27" y="65"/>
                  </a:lnTo>
                  <a:lnTo>
                    <a:pt x="32" y="61"/>
                  </a:lnTo>
                  <a:lnTo>
                    <a:pt x="37" y="56"/>
                  </a:lnTo>
                  <a:lnTo>
                    <a:pt x="46" y="49"/>
                  </a:lnTo>
                  <a:lnTo>
                    <a:pt x="55" y="40"/>
                  </a:lnTo>
                  <a:lnTo>
                    <a:pt x="63" y="33"/>
                  </a:lnTo>
                  <a:lnTo>
                    <a:pt x="72" y="26"/>
                  </a:lnTo>
                  <a:lnTo>
                    <a:pt x="80" y="19"/>
                  </a:lnTo>
                  <a:lnTo>
                    <a:pt x="89" y="13"/>
                  </a:lnTo>
                  <a:lnTo>
                    <a:pt x="99" y="6"/>
                  </a:lnTo>
                  <a:lnTo>
                    <a:pt x="108" y="0"/>
                  </a:lnTo>
                  <a:lnTo>
                    <a:pt x="979" y="0"/>
                  </a:lnTo>
                  <a:lnTo>
                    <a:pt x="979" y="93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203800" y="792000"/>
              <a:ext cx="295200" cy="30240"/>
            </a:xfrm>
            <a:custGeom>
              <a:avLst/>
              <a:gdLst/>
              <a:ahLst/>
              <a:rect l="l" t="t" r="r" b="b"/>
              <a:pathLst>
                <a:path w="930" h="95">
                  <a:moveTo>
                    <a:pt x="930" y="95"/>
                  </a:moveTo>
                  <a:lnTo>
                    <a:pt x="0" y="95"/>
                  </a:lnTo>
                  <a:lnTo>
                    <a:pt x="15" y="81"/>
                  </a:lnTo>
                  <a:lnTo>
                    <a:pt x="31" y="68"/>
                  </a:lnTo>
                  <a:lnTo>
                    <a:pt x="48" y="55"/>
                  </a:lnTo>
                  <a:lnTo>
                    <a:pt x="64" y="44"/>
                  </a:lnTo>
                  <a:lnTo>
                    <a:pt x="81" y="31"/>
                  </a:lnTo>
                  <a:lnTo>
                    <a:pt x="99" y="21"/>
                  </a:lnTo>
                  <a:lnTo>
                    <a:pt x="117" y="10"/>
                  </a:lnTo>
                  <a:lnTo>
                    <a:pt x="134" y="0"/>
                  </a:lnTo>
                  <a:lnTo>
                    <a:pt x="930" y="0"/>
                  </a:lnTo>
                  <a:lnTo>
                    <a:pt x="930" y="95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222880" y="776160"/>
              <a:ext cx="276120" cy="30240"/>
            </a:xfrm>
            <a:custGeom>
              <a:avLst/>
              <a:gdLst/>
              <a:ahLst/>
              <a:rect l="l" t="t" r="r" b="b"/>
              <a:pathLst>
                <a:path w="871" h="95">
                  <a:moveTo>
                    <a:pt x="871" y="95"/>
                  </a:moveTo>
                  <a:lnTo>
                    <a:pt x="0" y="95"/>
                  </a:lnTo>
                  <a:lnTo>
                    <a:pt x="21" y="79"/>
                  </a:lnTo>
                  <a:lnTo>
                    <a:pt x="43" y="66"/>
                  </a:lnTo>
                  <a:lnTo>
                    <a:pt x="65" y="53"/>
                  </a:lnTo>
                  <a:lnTo>
                    <a:pt x="88" y="41"/>
                  </a:lnTo>
                  <a:lnTo>
                    <a:pt x="111" y="29"/>
                  </a:lnTo>
                  <a:lnTo>
                    <a:pt x="134" y="19"/>
                  </a:lnTo>
                  <a:lnTo>
                    <a:pt x="159" y="9"/>
                  </a:lnTo>
                  <a:lnTo>
                    <a:pt x="183" y="0"/>
                  </a:lnTo>
                  <a:lnTo>
                    <a:pt x="838" y="0"/>
                  </a:lnTo>
                  <a:lnTo>
                    <a:pt x="842" y="1"/>
                  </a:lnTo>
                  <a:lnTo>
                    <a:pt x="846" y="3"/>
                  </a:lnTo>
                  <a:lnTo>
                    <a:pt x="851" y="4"/>
                  </a:lnTo>
                  <a:lnTo>
                    <a:pt x="855" y="5"/>
                  </a:lnTo>
                  <a:lnTo>
                    <a:pt x="859" y="6"/>
                  </a:lnTo>
                  <a:lnTo>
                    <a:pt x="863" y="8"/>
                  </a:lnTo>
                  <a:lnTo>
                    <a:pt x="867" y="9"/>
                  </a:lnTo>
                  <a:lnTo>
                    <a:pt x="871" y="10"/>
                  </a:lnTo>
                  <a:lnTo>
                    <a:pt x="871" y="95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246640" y="762120"/>
              <a:ext cx="252360" cy="29880"/>
            </a:xfrm>
            <a:custGeom>
              <a:avLst/>
              <a:gdLst/>
              <a:ahLst/>
              <a:rect l="l" t="t" r="r" b="b"/>
              <a:pathLst>
                <a:path w="796" h="94">
                  <a:moveTo>
                    <a:pt x="796" y="94"/>
                  </a:moveTo>
                  <a:lnTo>
                    <a:pt x="0" y="94"/>
                  </a:lnTo>
                  <a:lnTo>
                    <a:pt x="23" y="83"/>
                  </a:lnTo>
                  <a:lnTo>
                    <a:pt x="45" y="72"/>
                  </a:lnTo>
                  <a:lnTo>
                    <a:pt x="69" y="62"/>
                  </a:lnTo>
                  <a:lnTo>
                    <a:pt x="92" y="53"/>
                  </a:lnTo>
                  <a:lnTo>
                    <a:pt x="117" y="45"/>
                  </a:lnTo>
                  <a:lnTo>
                    <a:pt x="141" y="37"/>
                  </a:lnTo>
                  <a:lnTo>
                    <a:pt x="166" y="30"/>
                  </a:lnTo>
                  <a:lnTo>
                    <a:pt x="191" y="23"/>
                  </a:lnTo>
                  <a:lnTo>
                    <a:pt x="218" y="18"/>
                  </a:lnTo>
                  <a:lnTo>
                    <a:pt x="244" y="13"/>
                  </a:lnTo>
                  <a:lnTo>
                    <a:pt x="271" y="9"/>
                  </a:lnTo>
                  <a:lnTo>
                    <a:pt x="298" y="6"/>
                  </a:lnTo>
                  <a:lnTo>
                    <a:pt x="326" y="3"/>
                  </a:lnTo>
                  <a:lnTo>
                    <a:pt x="354" y="1"/>
                  </a:lnTo>
                  <a:lnTo>
                    <a:pt x="383" y="0"/>
                  </a:lnTo>
                  <a:lnTo>
                    <a:pt x="411" y="0"/>
                  </a:lnTo>
                  <a:lnTo>
                    <a:pt x="439" y="0"/>
                  </a:lnTo>
                  <a:lnTo>
                    <a:pt x="464" y="1"/>
                  </a:lnTo>
                  <a:lnTo>
                    <a:pt x="491" y="2"/>
                  </a:lnTo>
                  <a:lnTo>
                    <a:pt x="516" y="3"/>
                  </a:lnTo>
                  <a:lnTo>
                    <a:pt x="542" y="5"/>
                  </a:lnTo>
                  <a:lnTo>
                    <a:pt x="566" y="8"/>
                  </a:lnTo>
                  <a:lnTo>
                    <a:pt x="591" y="10"/>
                  </a:lnTo>
                  <a:lnTo>
                    <a:pt x="614" y="14"/>
                  </a:lnTo>
                  <a:lnTo>
                    <a:pt x="638" y="17"/>
                  </a:lnTo>
                  <a:lnTo>
                    <a:pt x="661" y="22"/>
                  </a:lnTo>
                  <a:lnTo>
                    <a:pt x="684" y="27"/>
                  </a:lnTo>
                  <a:lnTo>
                    <a:pt x="707" y="32"/>
                  </a:lnTo>
                  <a:lnTo>
                    <a:pt x="730" y="38"/>
                  </a:lnTo>
                  <a:lnTo>
                    <a:pt x="752" y="44"/>
                  </a:lnTo>
                  <a:lnTo>
                    <a:pt x="773" y="50"/>
                  </a:lnTo>
                  <a:lnTo>
                    <a:pt x="796" y="57"/>
                  </a:lnTo>
                  <a:lnTo>
                    <a:pt x="796" y="94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281560" y="762120"/>
              <a:ext cx="208080" cy="14040"/>
            </a:xfrm>
            <a:custGeom>
              <a:avLst/>
              <a:gdLst/>
              <a:ahLst/>
              <a:rect l="l" t="t" r="r" b="b"/>
              <a:pathLst>
                <a:path w="655" h="47">
                  <a:moveTo>
                    <a:pt x="655" y="47"/>
                  </a:moveTo>
                  <a:lnTo>
                    <a:pt x="0" y="47"/>
                  </a:lnTo>
                  <a:lnTo>
                    <a:pt x="35" y="36"/>
                  </a:lnTo>
                  <a:lnTo>
                    <a:pt x="71" y="27"/>
                  </a:lnTo>
                  <a:lnTo>
                    <a:pt x="108" y="18"/>
                  </a:lnTo>
                  <a:lnTo>
                    <a:pt x="145" y="12"/>
                  </a:lnTo>
                  <a:lnTo>
                    <a:pt x="183" y="7"/>
                  </a:lnTo>
                  <a:lnTo>
                    <a:pt x="223" y="3"/>
                  </a:lnTo>
                  <a:lnTo>
                    <a:pt x="263" y="1"/>
                  </a:lnTo>
                  <a:lnTo>
                    <a:pt x="303" y="0"/>
                  </a:lnTo>
                  <a:lnTo>
                    <a:pt x="331" y="0"/>
                  </a:lnTo>
                  <a:lnTo>
                    <a:pt x="356" y="1"/>
                  </a:lnTo>
                  <a:lnTo>
                    <a:pt x="383" y="2"/>
                  </a:lnTo>
                  <a:lnTo>
                    <a:pt x="408" y="3"/>
                  </a:lnTo>
                  <a:lnTo>
                    <a:pt x="434" y="5"/>
                  </a:lnTo>
                  <a:lnTo>
                    <a:pt x="458" y="8"/>
                  </a:lnTo>
                  <a:lnTo>
                    <a:pt x="483" y="10"/>
                  </a:lnTo>
                  <a:lnTo>
                    <a:pt x="506" y="14"/>
                  </a:lnTo>
                  <a:lnTo>
                    <a:pt x="526" y="17"/>
                  </a:lnTo>
                  <a:lnTo>
                    <a:pt x="544" y="20"/>
                  </a:lnTo>
                  <a:lnTo>
                    <a:pt x="563" y="24"/>
                  </a:lnTo>
                  <a:lnTo>
                    <a:pt x="582" y="28"/>
                  </a:lnTo>
                  <a:lnTo>
                    <a:pt x="600" y="33"/>
                  </a:lnTo>
                  <a:lnTo>
                    <a:pt x="619" y="37"/>
                  </a:lnTo>
                  <a:lnTo>
                    <a:pt x="637" y="42"/>
                  </a:lnTo>
                  <a:lnTo>
                    <a:pt x="655" y="47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706920" y="990720"/>
              <a:ext cx="149040" cy="244440"/>
            </a:xfrm>
            <a:custGeom>
              <a:avLst/>
              <a:gdLst/>
              <a:ahLst/>
              <a:rect l="l" t="t" r="r" b="b"/>
              <a:pathLst>
                <a:path w="470" h="770">
                  <a:moveTo>
                    <a:pt x="0" y="770"/>
                  </a:moveTo>
                  <a:lnTo>
                    <a:pt x="470" y="770"/>
                  </a:lnTo>
                  <a:lnTo>
                    <a:pt x="234" y="0"/>
                  </a:lnTo>
                  <a:lnTo>
                    <a:pt x="0" y="77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430440" y="773280"/>
              <a:ext cx="704880" cy="725400"/>
            </a:xfrm>
            <a:custGeom>
              <a:avLst/>
              <a:gdLst/>
              <a:ahLst/>
              <a:rect l="l" t="t" r="r" b="b"/>
              <a:pathLst>
                <a:path w="2222" h="2283">
                  <a:moveTo>
                    <a:pt x="0" y="2283"/>
                  </a:moveTo>
                  <a:lnTo>
                    <a:pt x="799" y="0"/>
                  </a:lnTo>
                  <a:lnTo>
                    <a:pt x="1467" y="0"/>
                  </a:lnTo>
                  <a:lnTo>
                    <a:pt x="2222" y="2283"/>
                  </a:lnTo>
                  <a:lnTo>
                    <a:pt x="1594" y="2283"/>
                  </a:lnTo>
                  <a:lnTo>
                    <a:pt x="1512" y="2027"/>
                  </a:lnTo>
                  <a:lnTo>
                    <a:pt x="703" y="2027"/>
                  </a:lnTo>
                  <a:lnTo>
                    <a:pt x="616" y="2283"/>
                  </a:lnTo>
                  <a:lnTo>
                    <a:pt x="0" y="2283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206960" y="773280"/>
              <a:ext cx="189000" cy="725400"/>
            </a:xfrm>
            <a:prstGeom prst="rect">
              <a:avLst/>
            </a:prstGeom>
            <a:noFill/>
            <a:ln w="14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713120" y="960480"/>
              <a:ext cx="160560" cy="344520"/>
            </a:xfrm>
            <a:custGeom>
              <a:avLst/>
              <a:gdLst/>
              <a:ahLst/>
              <a:rect l="l" t="t" r="r" b="b"/>
              <a:pathLst>
                <a:path w="504" h="1081">
                  <a:moveTo>
                    <a:pt x="0" y="1081"/>
                  </a:moveTo>
                  <a:lnTo>
                    <a:pt x="28" y="1078"/>
                  </a:lnTo>
                  <a:lnTo>
                    <a:pt x="55" y="1074"/>
                  </a:lnTo>
                  <a:lnTo>
                    <a:pt x="83" y="1069"/>
                  </a:lnTo>
                  <a:lnTo>
                    <a:pt x="108" y="1062"/>
                  </a:lnTo>
                  <a:lnTo>
                    <a:pt x="134" y="1055"/>
                  </a:lnTo>
                  <a:lnTo>
                    <a:pt x="159" y="1047"/>
                  </a:lnTo>
                  <a:lnTo>
                    <a:pt x="183" y="1038"/>
                  </a:lnTo>
                  <a:lnTo>
                    <a:pt x="206" y="1027"/>
                  </a:lnTo>
                  <a:lnTo>
                    <a:pt x="229" y="1016"/>
                  </a:lnTo>
                  <a:lnTo>
                    <a:pt x="251" y="1005"/>
                  </a:lnTo>
                  <a:lnTo>
                    <a:pt x="272" y="992"/>
                  </a:lnTo>
                  <a:lnTo>
                    <a:pt x="292" y="977"/>
                  </a:lnTo>
                  <a:lnTo>
                    <a:pt x="312" y="962"/>
                  </a:lnTo>
                  <a:lnTo>
                    <a:pt x="331" y="947"/>
                  </a:lnTo>
                  <a:lnTo>
                    <a:pt x="349" y="930"/>
                  </a:lnTo>
                  <a:lnTo>
                    <a:pt x="367" y="912"/>
                  </a:lnTo>
                  <a:lnTo>
                    <a:pt x="384" y="894"/>
                  </a:lnTo>
                  <a:lnTo>
                    <a:pt x="399" y="875"/>
                  </a:lnTo>
                  <a:lnTo>
                    <a:pt x="413" y="854"/>
                  </a:lnTo>
                  <a:lnTo>
                    <a:pt x="427" y="834"/>
                  </a:lnTo>
                  <a:lnTo>
                    <a:pt x="439" y="813"/>
                  </a:lnTo>
                  <a:lnTo>
                    <a:pt x="450" y="792"/>
                  </a:lnTo>
                  <a:lnTo>
                    <a:pt x="460" y="770"/>
                  </a:lnTo>
                  <a:lnTo>
                    <a:pt x="470" y="747"/>
                  </a:lnTo>
                  <a:lnTo>
                    <a:pt x="478" y="724"/>
                  </a:lnTo>
                  <a:lnTo>
                    <a:pt x="485" y="700"/>
                  </a:lnTo>
                  <a:lnTo>
                    <a:pt x="491" y="676"/>
                  </a:lnTo>
                  <a:lnTo>
                    <a:pt x="496" y="651"/>
                  </a:lnTo>
                  <a:lnTo>
                    <a:pt x="499" y="626"/>
                  </a:lnTo>
                  <a:lnTo>
                    <a:pt x="502" y="599"/>
                  </a:lnTo>
                  <a:lnTo>
                    <a:pt x="504" y="573"/>
                  </a:lnTo>
                  <a:lnTo>
                    <a:pt x="504" y="545"/>
                  </a:lnTo>
                  <a:lnTo>
                    <a:pt x="504" y="516"/>
                  </a:lnTo>
                  <a:lnTo>
                    <a:pt x="502" y="487"/>
                  </a:lnTo>
                  <a:lnTo>
                    <a:pt x="499" y="460"/>
                  </a:lnTo>
                  <a:lnTo>
                    <a:pt x="496" y="432"/>
                  </a:lnTo>
                  <a:lnTo>
                    <a:pt x="491" y="406"/>
                  </a:lnTo>
                  <a:lnTo>
                    <a:pt x="485" y="379"/>
                  </a:lnTo>
                  <a:lnTo>
                    <a:pt x="478" y="355"/>
                  </a:lnTo>
                  <a:lnTo>
                    <a:pt x="470" y="329"/>
                  </a:lnTo>
                  <a:lnTo>
                    <a:pt x="460" y="306"/>
                  </a:lnTo>
                  <a:lnTo>
                    <a:pt x="450" y="282"/>
                  </a:lnTo>
                  <a:lnTo>
                    <a:pt x="439" y="260"/>
                  </a:lnTo>
                  <a:lnTo>
                    <a:pt x="426" y="237"/>
                  </a:lnTo>
                  <a:lnTo>
                    <a:pt x="412" y="216"/>
                  </a:lnTo>
                  <a:lnTo>
                    <a:pt x="397" y="196"/>
                  </a:lnTo>
                  <a:lnTo>
                    <a:pt x="382" y="175"/>
                  </a:lnTo>
                  <a:lnTo>
                    <a:pt x="365" y="156"/>
                  </a:lnTo>
                  <a:lnTo>
                    <a:pt x="347" y="138"/>
                  </a:lnTo>
                  <a:lnTo>
                    <a:pt x="329" y="120"/>
                  </a:lnTo>
                  <a:lnTo>
                    <a:pt x="309" y="105"/>
                  </a:lnTo>
                  <a:lnTo>
                    <a:pt x="289" y="90"/>
                  </a:lnTo>
                  <a:lnTo>
                    <a:pt x="269" y="75"/>
                  </a:lnTo>
                  <a:lnTo>
                    <a:pt x="248" y="63"/>
                  </a:lnTo>
                  <a:lnTo>
                    <a:pt x="226" y="52"/>
                  </a:lnTo>
                  <a:lnTo>
                    <a:pt x="203" y="41"/>
                  </a:lnTo>
                  <a:lnTo>
                    <a:pt x="180" y="32"/>
                  </a:lnTo>
                  <a:lnTo>
                    <a:pt x="156" y="24"/>
                  </a:lnTo>
                  <a:lnTo>
                    <a:pt x="132" y="17"/>
                  </a:lnTo>
                  <a:lnTo>
                    <a:pt x="106" y="11"/>
                  </a:lnTo>
                  <a:lnTo>
                    <a:pt x="81" y="7"/>
                  </a:lnTo>
                  <a:lnTo>
                    <a:pt x="54" y="3"/>
                  </a:lnTo>
                  <a:lnTo>
                    <a:pt x="28" y="1"/>
                  </a:lnTo>
                  <a:lnTo>
                    <a:pt x="0" y="0"/>
                  </a:lnTo>
                  <a:lnTo>
                    <a:pt x="0" y="1081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525920" y="773280"/>
              <a:ext cx="544680" cy="725400"/>
            </a:xfrm>
            <a:custGeom>
              <a:avLst/>
              <a:gdLst/>
              <a:ahLst/>
              <a:rect l="l" t="t" r="r" b="b"/>
              <a:pathLst>
                <a:path w="1713" h="2283">
                  <a:moveTo>
                    <a:pt x="345" y="0"/>
                  </a:moveTo>
                  <a:lnTo>
                    <a:pt x="424" y="1"/>
                  </a:lnTo>
                  <a:lnTo>
                    <a:pt x="500" y="3"/>
                  </a:lnTo>
                  <a:lnTo>
                    <a:pt x="571" y="6"/>
                  </a:lnTo>
                  <a:lnTo>
                    <a:pt x="637" y="10"/>
                  </a:lnTo>
                  <a:lnTo>
                    <a:pt x="701" y="16"/>
                  </a:lnTo>
                  <a:lnTo>
                    <a:pt x="760" y="23"/>
                  </a:lnTo>
                  <a:lnTo>
                    <a:pt x="814" y="31"/>
                  </a:lnTo>
                  <a:lnTo>
                    <a:pt x="865" y="41"/>
                  </a:lnTo>
                  <a:lnTo>
                    <a:pt x="913" y="53"/>
                  </a:lnTo>
                  <a:lnTo>
                    <a:pt x="960" y="65"/>
                  </a:lnTo>
                  <a:lnTo>
                    <a:pt x="1005" y="79"/>
                  </a:lnTo>
                  <a:lnTo>
                    <a:pt x="1049" y="95"/>
                  </a:lnTo>
                  <a:lnTo>
                    <a:pt x="1092" y="114"/>
                  </a:lnTo>
                  <a:lnTo>
                    <a:pt x="1134" y="133"/>
                  </a:lnTo>
                  <a:lnTo>
                    <a:pt x="1154" y="143"/>
                  </a:lnTo>
                  <a:lnTo>
                    <a:pt x="1175" y="155"/>
                  </a:lnTo>
                  <a:lnTo>
                    <a:pt x="1194" y="166"/>
                  </a:lnTo>
                  <a:lnTo>
                    <a:pt x="1214" y="177"/>
                  </a:lnTo>
                  <a:lnTo>
                    <a:pt x="1244" y="197"/>
                  </a:lnTo>
                  <a:lnTo>
                    <a:pt x="1273" y="217"/>
                  </a:lnTo>
                  <a:lnTo>
                    <a:pt x="1301" y="238"/>
                  </a:lnTo>
                  <a:lnTo>
                    <a:pt x="1329" y="260"/>
                  </a:lnTo>
                  <a:lnTo>
                    <a:pt x="1355" y="282"/>
                  </a:lnTo>
                  <a:lnTo>
                    <a:pt x="1381" y="305"/>
                  </a:lnTo>
                  <a:lnTo>
                    <a:pt x="1405" y="330"/>
                  </a:lnTo>
                  <a:lnTo>
                    <a:pt x="1430" y="354"/>
                  </a:lnTo>
                  <a:lnTo>
                    <a:pt x="1452" y="380"/>
                  </a:lnTo>
                  <a:lnTo>
                    <a:pt x="1474" y="406"/>
                  </a:lnTo>
                  <a:lnTo>
                    <a:pt x="1495" y="433"/>
                  </a:lnTo>
                  <a:lnTo>
                    <a:pt x="1516" y="460"/>
                  </a:lnTo>
                  <a:lnTo>
                    <a:pt x="1534" y="489"/>
                  </a:lnTo>
                  <a:lnTo>
                    <a:pt x="1552" y="519"/>
                  </a:lnTo>
                  <a:lnTo>
                    <a:pt x="1570" y="548"/>
                  </a:lnTo>
                  <a:lnTo>
                    <a:pt x="1586" y="579"/>
                  </a:lnTo>
                  <a:lnTo>
                    <a:pt x="1601" y="610"/>
                  </a:lnTo>
                  <a:lnTo>
                    <a:pt x="1615" y="643"/>
                  </a:lnTo>
                  <a:lnTo>
                    <a:pt x="1629" y="676"/>
                  </a:lnTo>
                  <a:lnTo>
                    <a:pt x="1642" y="708"/>
                  </a:lnTo>
                  <a:lnTo>
                    <a:pt x="1653" y="742"/>
                  </a:lnTo>
                  <a:lnTo>
                    <a:pt x="1663" y="776"/>
                  </a:lnTo>
                  <a:lnTo>
                    <a:pt x="1673" y="812"/>
                  </a:lnTo>
                  <a:lnTo>
                    <a:pt x="1682" y="848"/>
                  </a:lnTo>
                  <a:lnTo>
                    <a:pt x="1689" y="883"/>
                  </a:lnTo>
                  <a:lnTo>
                    <a:pt x="1695" y="921"/>
                  </a:lnTo>
                  <a:lnTo>
                    <a:pt x="1701" y="959"/>
                  </a:lnTo>
                  <a:lnTo>
                    <a:pt x="1705" y="997"/>
                  </a:lnTo>
                  <a:lnTo>
                    <a:pt x="1709" y="1035"/>
                  </a:lnTo>
                  <a:lnTo>
                    <a:pt x="1711" y="1075"/>
                  </a:lnTo>
                  <a:lnTo>
                    <a:pt x="1712" y="1115"/>
                  </a:lnTo>
                  <a:lnTo>
                    <a:pt x="1713" y="1156"/>
                  </a:lnTo>
                  <a:lnTo>
                    <a:pt x="1712" y="1192"/>
                  </a:lnTo>
                  <a:lnTo>
                    <a:pt x="1711" y="1228"/>
                  </a:lnTo>
                  <a:lnTo>
                    <a:pt x="1708" y="1265"/>
                  </a:lnTo>
                  <a:lnTo>
                    <a:pt x="1704" y="1299"/>
                  </a:lnTo>
                  <a:lnTo>
                    <a:pt x="1699" y="1335"/>
                  </a:lnTo>
                  <a:lnTo>
                    <a:pt x="1694" y="1370"/>
                  </a:lnTo>
                  <a:lnTo>
                    <a:pt x="1687" y="1404"/>
                  </a:lnTo>
                  <a:lnTo>
                    <a:pt x="1678" y="1438"/>
                  </a:lnTo>
                  <a:lnTo>
                    <a:pt x="1669" y="1472"/>
                  </a:lnTo>
                  <a:lnTo>
                    <a:pt x="1658" y="1504"/>
                  </a:lnTo>
                  <a:lnTo>
                    <a:pt x="1647" y="1538"/>
                  </a:lnTo>
                  <a:lnTo>
                    <a:pt x="1634" y="1570"/>
                  </a:lnTo>
                  <a:lnTo>
                    <a:pt x="1621" y="1602"/>
                  </a:lnTo>
                  <a:lnTo>
                    <a:pt x="1605" y="1634"/>
                  </a:lnTo>
                  <a:lnTo>
                    <a:pt x="1590" y="1665"/>
                  </a:lnTo>
                  <a:lnTo>
                    <a:pt x="1573" y="1696"/>
                  </a:lnTo>
                  <a:lnTo>
                    <a:pt x="1554" y="1726"/>
                  </a:lnTo>
                  <a:lnTo>
                    <a:pt x="1536" y="1756"/>
                  </a:lnTo>
                  <a:lnTo>
                    <a:pt x="1516" y="1785"/>
                  </a:lnTo>
                  <a:lnTo>
                    <a:pt x="1495" y="1813"/>
                  </a:lnTo>
                  <a:lnTo>
                    <a:pt x="1474" y="1841"/>
                  </a:lnTo>
                  <a:lnTo>
                    <a:pt x="1451" y="1867"/>
                  </a:lnTo>
                  <a:lnTo>
                    <a:pt x="1428" y="1894"/>
                  </a:lnTo>
                  <a:lnTo>
                    <a:pt x="1403" y="1919"/>
                  </a:lnTo>
                  <a:lnTo>
                    <a:pt x="1378" y="1944"/>
                  </a:lnTo>
                  <a:lnTo>
                    <a:pt x="1352" y="1968"/>
                  </a:lnTo>
                  <a:lnTo>
                    <a:pt x="1325" y="1992"/>
                  </a:lnTo>
                  <a:lnTo>
                    <a:pt x="1297" y="2014"/>
                  </a:lnTo>
                  <a:lnTo>
                    <a:pt x="1269" y="2035"/>
                  </a:lnTo>
                  <a:lnTo>
                    <a:pt x="1238" y="2057"/>
                  </a:lnTo>
                  <a:lnTo>
                    <a:pt x="1207" y="2077"/>
                  </a:lnTo>
                  <a:lnTo>
                    <a:pt x="1177" y="2098"/>
                  </a:lnTo>
                  <a:lnTo>
                    <a:pt x="1156" y="2109"/>
                  </a:lnTo>
                  <a:lnTo>
                    <a:pt x="1136" y="2121"/>
                  </a:lnTo>
                  <a:lnTo>
                    <a:pt x="1116" y="2131"/>
                  </a:lnTo>
                  <a:lnTo>
                    <a:pt x="1094" y="2142"/>
                  </a:lnTo>
                  <a:lnTo>
                    <a:pt x="1051" y="2163"/>
                  </a:lnTo>
                  <a:lnTo>
                    <a:pt x="1007" y="2181"/>
                  </a:lnTo>
                  <a:lnTo>
                    <a:pt x="962" y="2197"/>
                  </a:lnTo>
                  <a:lnTo>
                    <a:pt x="915" y="2213"/>
                  </a:lnTo>
                  <a:lnTo>
                    <a:pt x="867" y="2227"/>
                  </a:lnTo>
                  <a:lnTo>
                    <a:pt x="818" y="2239"/>
                  </a:lnTo>
                  <a:lnTo>
                    <a:pt x="766" y="2249"/>
                  </a:lnTo>
                  <a:lnTo>
                    <a:pt x="713" y="2259"/>
                  </a:lnTo>
                  <a:lnTo>
                    <a:pt x="657" y="2266"/>
                  </a:lnTo>
                  <a:lnTo>
                    <a:pt x="600" y="2272"/>
                  </a:lnTo>
                  <a:lnTo>
                    <a:pt x="539" y="2277"/>
                  </a:lnTo>
                  <a:lnTo>
                    <a:pt x="476" y="2280"/>
                  </a:lnTo>
                  <a:lnTo>
                    <a:pt x="412" y="2282"/>
                  </a:lnTo>
                  <a:lnTo>
                    <a:pt x="345" y="2283"/>
                  </a:lnTo>
                  <a:lnTo>
                    <a:pt x="0" y="2283"/>
                  </a:lnTo>
                  <a:lnTo>
                    <a:pt x="0" y="0"/>
                  </a:lnTo>
                  <a:lnTo>
                    <a:pt x="345" y="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132520" y="762120"/>
              <a:ext cx="384120" cy="747720"/>
            </a:xfrm>
            <a:custGeom>
              <a:avLst/>
              <a:gdLst/>
              <a:ahLst/>
              <a:rect l="l" t="t" r="r" b="b"/>
              <a:pathLst>
                <a:path w="1209" h="2355">
                  <a:moveTo>
                    <a:pt x="44" y="2325"/>
                  </a:moveTo>
                  <a:lnTo>
                    <a:pt x="29" y="1696"/>
                  </a:lnTo>
                  <a:lnTo>
                    <a:pt x="45" y="1703"/>
                  </a:lnTo>
                  <a:lnTo>
                    <a:pt x="61" y="1709"/>
                  </a:lnTo>
                  <a:lnTo>
                    <a:pt x="78" y="1716"/>
                  </a:lnTo>
                  <a:lnTo>
                    <a:pt x="94" y="1722"/>
                  </a:lnTo>
                  <a:lnTo>
                    <a:pt x="110" y="1727"/>
                  </a:lnTo>
                  <a:lnTo>
                    <a:pt x="126" y="1731"/>
                  </a:lnTo>
                  <a:lnTo>
                    <a:pt x="141" y="1735"/>
                  </a:lnTo>
                  <a:lnTo>
                    <a:pt x="156" y="1739"/>
                  </a:lnTo>
                  <a:lnTo>
                    <a:pt x="172" y="1743"/>
                  </a:lnTo>
                  <a:lnTo>
                    <a:pt x="187" y="1746"/>
                  </a:lnTo>
                  <a:lnTo>
                    <a:pt x="201" y="1748"/>
                  </a:lnTo>
                  <a:lnTo>
                    <a:pt x="215" y="1750"/>
                  </a:lnTo>
                  <a:lnTo>
                    <a:pt x="230" y="1752"/>
                  </a:lnTo>
                  <a:lnTo>
                    <a:pt x="244" y="1753"/>
                  </a:lnTo>
                  <a:lnTo>
                    <a:pt x="258" y="1754"/>
                  </a:lnTo>
                  <a:lnTo>
                    <a:pt x="272" y="1754"/>
                  </a:lnTo>
                  <a:lnTo>
                    <a:pt x="296" y="1753"/>
                  </a:lnTo>
                  <a:lnTo>
                    <a:pt x="318" y="1751"/>
                  </a:lnTo>
                  <a:lnTo>
                    <a:pt x="341" y="1747"/>
                  </a:lnTo>
                  <a:lnTo>
                    <a:pt x="361" y="1741"/>
                  </a:lnTo>
                  <a:lnTo>
                    <a:pt x="381" y="1734"/>
                  </a:lnTo>
                  <a:lnTo>
                    <a:pt x="399" y="1725"/>
                  </a:lnTo>
                  <a:lnTo>
                    <a:pt x="416" y="1715"/>
                  </a:lnTo>
                  <a:lnTo>
                    <a:pt x="433" y="1702"/>
                  </a:lnTo>
                  <a:lnTo>
                    <a:pt x="447" y="1689"/>
                  </a:lnTo>
                  <a:lnTo>
                    <a:pt x="460" y="1676"/>
                  </a:lnTo>
                  <a:lnTo>
                    <a:pt x="465" y="1668"/>
                  </a:lnTo>
                  <a:lnTo>
                    <a:pt x="470" y="1661"/>
                  </a:lnTo>
                  <a:lnTo>
                    <a:pt x="476" y="1653"/>
                  </a:lnTo>
                  <a:lnTo>
                    <a:pt x="480" y="1645"/>
                  </a:lnTo>
                  <a:lnTo>
                    <a:pt x="484" y="1637"/>
                  </a:lnTo>
                  <a:lnTo>
                    <a:pt x="487" y="1629"/>
                  </a:lnTo>
                  <a:lnTo>
                    <a:pt x="489" y="1620"/>
                  </a:lnTo>
                  <a:lnTo>
                    <a:pt x="491" y="1612"/>
                  </a:lnTo>
                  <a:lnTo>
                    <a:pt x="494" y="1593"/>
                  </a:lnTo>
                  <a:lnTo>
                    <a:pt x="495" y="1575"/>
                  </a:lnTo>
                  <a:lnTo>
                    <a:pt x="495" y="1562"/>
                  </a:lnTo>
                  <a:lnTo>
                    <a:pt x="493" y="1548"/>
                  </a:lnTo>
                  <a:lnTo>
                    <a:pt x="489" y="1535"/>
                  </a:lnTo>
                  <a:lnTo>
                    <a:pt x="485" y="1521"/>
                  </a:lnTo>
                  <a:lnTo>
                    <a:pt x="479" y="1506"/>
                  </a:lnTo>
                  <a:lnTo>
                    <a:pt x="471" y="1491"/>
                  </a:lnTo>
                  <a:lnTo>
                    <a:pt x="462" y="1476"/>
                  </a:lnTo>
                  <a:lnTo>
                    <a:pt x="453" y="1460"/>
                  </a:lnTo>
                  <a:lnTo>
                    <a:pt x="442" y="1443"/>
                  </a:lnTo>
                  <a:lnTo>
                    <a:pt x="429" y="1427"/>
                  </a:lnTo>
                  <a:lnTo>
                    <a:pt x="415" y="1410"/>
                  </a:lnTo>
                  <a:lnTo>
                    <a:pt x="400" y="1392"/>
                  </a:lnTo>
                  <a:lnTo>
                    <a:pt x="383" y="1374"/>
                  </a:lnTo>
                  <a:lnTo>
                    <a:pt x="365" y="1356"/>
                  </a:lnTo>
                  <a:lnTo>
                    <a:pt x="346" y="1336"/>
                  </a:lnTo>
                  <a:lnTo>
                    <a:pt x="326" y="1318"/>
                  </a:lnTo>
                  <a:lnTo>
                    <a:pt x="311" y="1305"/>
                  </a:lnTo>
                  <a:lnTo>
                    <a:pt x="298" y="1293"/>
                  </a:lnTo>
                  <a:lnTo>
                    <a:pt x="286" y="1281"/>
                  </a:lnTo>
                  <a:lnTo>
                    <a:pt x="274" y="1270"/>
                  </a:lnTo>
                  <a:lnTo>
                    <a:pt x="263" y="1260"/>
                  </a:lnTo>
                  <a:lnTo>
                    <a:pt x="253" y="1251"/>
                  </a:lnTo>
                  <a:lnTo>
                    <a:pt x="244" y="1242"/>
                  </a:lnTo>
                  <a:lnTo>
                    <a:pt x="236" y="1233"/>
                  </a:lnTo>
                  <a:lnTo>
                    <a:pt x="207" y="1203"/>
                  </a:lnTo>
                  <a:lnTo>
                    <a:pt x="180" y="1172"/>
                  </a:lnTo>
                  <a:lnTo>
                    <a:pt x="154" y="1141"/>
                  </a:lnTo>
                  <a:lnTo>
                    <a:pt x="132" y="1110"/>
                  </a:lnTo>
                  <a:lnTo>
                    <a:pt x="110" y="1078"/>
                  </a:lnTo>
                  <a:lnTo>
                    <a:pt x="91" y="1047"/>
                  </a:lnTo>
                  <a:lnTo>
                    <a:pt x="74" y="1014"/>
                  </a:lnTo>
                  <a:lnTo>
                    <a:pt x="58" y="983"/>
                  </a:lnTo>
                  <a:lnTo>
                    <a:pt x="44" y="950"/>
                  </a:lnTo>
                  <a:lnTo>
                    <a:pt x="33" y="916"/>
                  </a:lnTo>
                  <a:lnTo>
                    <a:pt x="23" y="883"/>
                  </a:lnTo>
                  <a:lnTo>
                    <a:pt x="14" y="848"/>
                  </a:lnTo>
                  <a:lnTo>
                    <a:pt x="8" y="812"/>
                  </a:lnTo>
                  <a:lnTo>
                    <a:pt x="4" y="777"/>
                  </a:lnTo>
                  <a:lnTo>
                    <a:pt x="1" y="740"/>
                  </a:lnTo>
                  <a:lnTo>
                    <a:pt x="0" y="703"/>
                  </a:lnTo>
                  <a:lnTo>
                    <a:pt x="1" y="666"/>
                  </a:lnTo>
                  <a:lnTo>
                    <a:pt x="3" y="628"/>
                  </a:lnTo>
                  <a:lnTo>
                    <a:pt x="8" y="592"/>
                  </a:lnTo>
                  <a:lnTo>
                    <a:pt x="13" y="557"/>
                  </a:lnTo>
                  <a:lnTo>
                    <a:pt x="22" y="522"/>
                  </a:lnTo>
                  <a:lnTo>
                    <a:pt x="31" y="488"/>
                  </a:lnTo>
                  <a:lnTo>
                    <a:pt x="42" y="456"/>
                  </a:lnTo>
                  <a:lnTo>
                    <a:pt x="54" y="423"/>
                  </a:lnTo>
                  <a:lnTo>
                    <a:pt x="69" y="392"/>
                  </a:lnTo>
                  <a:lnTo>
                    <a:pt x="85" y="362"/>
                  </a:lnTo>
                  <a:lnTo>
                    <a:pt x="102" y="332"/>
                  </a:lnTo>
                  <a:lnTo>
                    <a:pt x="122" y="304"/>
                  </a:lnTo>
                  <a:lnTo>
                    <a:pt x="142" y="276"/>
                  </a:lnTo>
                  <a:lnTo>
                    <a:pt x="165" y="250"/>
                  </a:lnTo>
                  <a:lnTo>
                    <a:pt x="190" y="223"/>
                  </a:lnTo>
                  <a:lnTo>
                    <a:pt x="215" y="198"/>
                  </a:lnTo>
                  <a:lnTo>
                    <a:pt x="243" y="174"/>
                  </a:lnTo>
                  <a:lnTo>
                    <a:pt x="272" y="152"/>
                  </a:lnTo>
                  <a:lnTo>
                    <a:pt x="301" y="130"/>
                  </a:lnTo>
                  <a:lnTo>
                    <a:pt x="332" y="111"/>
                  </a:lnTo>
                  <a:lnTo>
                    <a:pt x="362" y="94"/>
                  </a:lnTo>
                  <a:lnTo>
                    <a:pt x="395" y="77"/>
                  </a:lnTo>
                  <a:lnTo>
                    <a:pt x="429" y="62"/>
                  </a:lnTo>
                  <a:lnTo>
                    <a:pt x="462" y="50"/>
                  </a:lnTo>
                  <a:lnTo>
                    <a:pt x="498" y="38"/>
                  </a:lnTo>
                  <a:lnTo>
                    <a:pt x="535" y="28"/>
                  </a:lnTo>
                  <a:lnTo>
                    <a:pt x="571" y="19"/>
                  </a:lnTo>
                  <a:lnTo>
                    <a:pt x="610" y="12"/>
                  </a:lnTo>
                  <a:lnTo>
                    <a:pt x="649" y="7"/>
                  </a:lnTo>
                  <a:lnTo>
                    <a:pt x="690" y="3"/>
                  </a:lnTo>
                  <a:lnTo>
                    <a:pt x="731" y="1"/>
                  </a:lnTo>
                  <a:lnTo>
                    <a:pt x="772" y="0"/>
                  </a:lnTo>
                  <a:lnTo>
                    <a:pt x="800" y="0"/>
                  </a:lnTo>
                  <a:lnTo>
                    <a:pt x="825" y="1"/>
                  </a:lnTo>
                  <a:lnTo>
                    <a:pt x="852" y="2"/>
                  </a:lnTo>
                  <a:lnTo>
                    <a:pt x="877" y="3"/>
                  </a:lnTo>
                  <a:lnTo>
                    <a:pt x="903" y="5"/>
                  </a:lnTo>
                  <a:lnTo>
                    <a:pt x="927" y="8"/>
                  </a:lnTo>
                  <a:lnTo>
                    <a:pt x="952" y="10"/>
                  </a:lnTo>
                  <a:lnTo>
                    <a:pt x="975" y="14"/>
                  </a:lnTo>
                  <a:lnTo>
                    <a:pt x="999" y="17"/>
                  </a:lnTo>
                  <a:lnTo>
                    <a:pt x="1022" y="22"/>
                  </a:lnTo>
                  <a:lnTo>
                    <a:pt x="1045" y="27"/>
                  </a:lnTo>
                  <a:lnTo>
                    <a:pt x="1068" y="32"/>
                  </a:lnTo>
                  <a:lnTo>
                    <a:pt x="1091" y="38"/>
                  </a:lnTo>
                  <a:lnTo>
                    <a:pt x="1113" y="44"/>
                  </a:lnTo>
                  <a:lnTo>
                    <a:pt x="1134" y="50"/>
                  </a:lnTo>
                  <a:lnTo>
                    <a:pt x="1157" y="57"/>
                  </a:lnTo>
                  <a:lnTo>
                    <a:pt x="1157" y="624"/>
                  </a:lnTo>
                  <a:lnTo>
                    <a:pt x="1139" y="615"/>
                  </a:lnTo>
                  <a:lnTo>
                    <a:pt x="1120" y="607"/>
                  </a:lnTo>
                  <a:lnTo>
                    <a:pt x="1103" y="598"/>
                  </a:lnTo>
                  <a:lnTo>
                    <a:pt x="1084" y="591"/>
                  </a:lnTo>
                  <a:lnTo>
                    <a:pt x="1068" y="584"/>
                  </a:lnTo>
                  <a:lnTo>
                    <a:pt x="1051" y="578"/>
                  </a:lnTo>
                  <a:lnTo>
                    <a:pt x="1034" y="573"/>
                  </a:lnTo>
                  <a:lnTo>
                    <a:pt x="1018" y="568"/>
                  </a:lnTo>
                  <a:lnTo>
                    <a:pt x="1003" y="564"/>
                  </a:lnTo>
                  <a:lnTo>
                    <a:pt x="987" y="560"/>
                  </a:lnTo>
                  <a:lnTo>
                    <a:pt x="972" y="557"/>
                  </a:lnTo>
                  <a:lnTo>
                    <a:pt x="958" y="554"/>
                  </a:lnTo>
                  <a:lnTo>
                    <a:pt x="944" y="551"/>
                  </a:lnTo>
                  <a:lnTo>
                    <a:pt x="930" y="550"/>
                  </a:lnTo>
                  <a:lnTo>
                    <a:pt x="917" y="549"/>
                  </a:lnTo>
                  <a:lnTo>
                    <a:pt x="904" y="548"/>
                  </a:lnTo>
                  <a:lnTo>
                    <a:pt x="877" y="549"/>
                  </a:lnTo>
                  <a:lnTo>
                    <a:pt x="851" y="551"/>
                  </a:lnTo>
                  <a:lnTo>
                    <a:pt x="827" y="556"/>
                  </a:lnTo>
                  <a:lnTo>
                    <a:pt x="805" y="561"/>
                  </a:lnTo>
                  <a:lnTo>
                    <a:pt x="784" y="567"/>
                  </a:lnTo>
                  <a:lnTo>
                    <a:pt x="765" y="575"/>
                  </a:lnTo>
                  <a:lnTo>
                    <a:pt x="756" y="580"/>
                  </a:lnTo>
                  <a:lnTo>
                    <a:pt x="748" y="585"/>
                  </a:lnTo>
                  <a:lnTo>
                    <a:pt x="740" y="590"/>
                  </a:lnTo>
                  <a:lnTo>
                    <a:pt x="732" y="595"/>
                  </a:lnTo>
                  <a:lnTo>
                    <a:pt x="724" y="601"/>
                  </a:lnTo>
                  <a:lnTo>
                    <a:pt x="717" y="608"/>
                  </a:lnTo>
                  <a:lnTo>
                    <a:pt x="711" y="615"/>
                  </a:lnTo>
                  <a:lnTo>
                    <a:pt x="705" y="622"/>
                  </a:lnTo>
                  <a:lnTo>
                    <a:pt x="700" y="629"/>
                  </a:lnTo>
                  <a:lnTo>
                    <a:pt x="695" y="636"/>
                  </a:lnTo>
                  <a:lnTo>
                    <a:pt x="691" y="644"/>
                  </a:lnTo>
                  <a:lnTo>
                    <a:pt x="687" y="652"/>
                  </a:lnTo>
                  <a:lnTo>
                    <a:pt x="683" y="661"/>
                  </a:lnTo>
                  <a:lnTo>
                    <a:pt x="680" y="670"/>
                  </a:lnTo>
                  <a:lnTo>
                    <a:pt x="677" y="678"/>
                  </a:lnTo>
                  <a:lnTo>
                    <a:pt x="675" y="688"/>
                  </a:lnTo>
                  <a:lnTo>
                    <a:pt x="672" y="707"/>
                  </a:lnTo>
                  <a:lnTo>
                    <a:pt x="671" y="728"/>
                  </a:lnTo>
                  <a:lnTo>
                    <a:pt x="672" y="740"/>
                  </a:lnTo>
                  <a:lnTo>
                    <a:pt x="674" y="753"/>
                  </a:lnTo>
                  <a:lnTo>
                    <a:pt x="677" y="766"/>
                  </a:lnTo>
                  <a:lnTo>
                    <a:pt x="682" y="779"/>
                  </a:lnTo>
                  <a:lnTo>
                    <a:pt x="688" y="792"/>
                  </a:lnTo>
                  <a:lnTo>
                    <a:pt x="695" y="805"/>
                  </a:lnTo>
                  <a:lnTo>
                    <a:pt x="703" y="819"/>
                  </a:lnTo>
                  <a:lnTo>
                    <a:pt x="712" y="833"/>
                  </a:lnTo>
                  <a:lnTo>
                    <a:pt x="723" y="847"/>
                  </a:lnTo>
                  <a:lnTo>
                    <a:pt x="736" y="861"/>
                  </a:lnTo>
                  <a:lnTo>
                    <a:pt x="749" y="877"/>
                  </a:lnTo>
                  <a:lnTo>
                    <a:pt x="764" y="891"/>
                  </a:lnTo>
                  <a:lnTo>
                    <a:pt x="779" y="906"/>
                  </a:lnTo>
                  <a:lnTo>
                    <a:pt x="797" y="923"/>
                  </a:lnTo>
                  <a:lnTo>
                    <a:pt x="816" y="938"/>
                  </a:lnTo>
                  <a:lnTo>
                    <a:pt x="836" y="954"/>
                  </a:lnTo>
                  <a:lnTo>
                    <a:pt x="852" y="967"/>
                  </a:lnTo>
                  <a:lnTo>
                    <a:pt x="866" y="980"/>
                  </a:lnTo>
                  <a:lnTo>
                    <a:pt x="880" y="991"/>
                  </a:lnTo>
                  <a:lnTo>
                    <a:pt x="894" y="1002"/>
                  </a:lnTo>
                  <a:lnTo>
                    <a:pt x="906" y="1012"/>
                  </a:lnTo>
                  <a:lnTo>
                    <a:pt x="917" y="1021"/>
                  </a:lnTo>
                  <a:lnTo>
                    <a:pt x="927" y="1031"/>
                  </a:lnTo>
                  <a:lnTo>
                    <a:pt x="937" y="1039"/>
                  </a:lnTo>
                  <a:lnTo>
                    <a:pt x="953" y="1053"/>
                  </a:lnTo>
                  <a:lnTo>
                    <a:pt x="969" y="1068"/>
                  </a:lnTo>
                  <a:lnTo>
                    <a:pt x="985" y="1083"/>
                  </a:lnTo>
                  <a:lnTo>
                    <a:pt x="999" y="1099"/>
                  </a:lnTo>
                  <a:lnTo>
                    <a:pt x="1014" y="1114"/>
                  </a:lnTo>
                  <a:lnTo>
                    <a:pt x="1027" y="1129"/>
                  </a:lnTo>
                  <a:lnTo>
                    <a:pt x="1041" y="1146"/>
                  </a:lnTo>
                  <a:lnTo>
                    <a:pt x="1054" y="1162"/>
                  </a:lnTo>
                  <a:lnTo>
                    <a:pt x="1066" y="1179"/>
                  </a:lnTo>
                  <a:lnTo>
                    <a:pt x="1078" y="1196"/>
                  </a:lnTo>
                  <a:lnTo>
                    <a:pt x="1090" y="1213"/>
                  </a:lnTo>
                  <a:lnTo>
                    <a:pt x="1101" y="1231"/>
                  </a:lnTo>
                  <a:lnTo>
                    <a:pt x="1111" y="1249"/>
                  </a:lnTo>
                  <a:lnTo>
                    <a:pt x="1121" y="1267"/>
                  </a:lnTo>
                  <a:lnTo>
                    <a:pt x="1130" y="1285"/>
                  </a:lnTo>
                  <a:lnTo>
                    <a:pt x="1140" y="1304"/>
                  </a:lnTo>
                  <a:lnTo>
                    <a:pt x="1148" y="1322"/>
                  </a:lnTo>
                  <a:lnTo>
                    <a:pt x="1156" y="1341"/>
                  </a:lnTo>
                  <a:lnTo>
                    <a:pt x="1163" y="1361"/>
                  </a:lnTo>
                  <a:lnTo>
                    <a:pt x="1169" y="1380"/>
                  </a:lnTo>
                  <a:lnTo>
                    <a:pt x="1176" y="1400"/>
                  </a:lnTo>
                  <a:lnTo>
                    <a:pt x="1181" y="1419"/>
                  </a:lnTo>
                  <a:lnTo>
                    <a:pt x="1186" y="1438"/>
                  </a:lnTo>
                  <a:lnTo>
                    <a:pt x="1192" y="1459"/>
                  </a:lnTo>
                  <a:lnTo>
                    <a:pt x="1196" y="1478"/>
                  </a:lnTo>
                  <a:lnTo>
                    <a:pt x="1199" y="1498"/>
                  </a:lnTo>
                  <a:lnTo>
                    <a:pt x="1202" y="1519"/>
                  </a:lnTo>
                  <a:lnTo>
                    <a:pt x="1204" y="1539"/>
                  </a:lnTo>
                  <a:lnTo>
                    <a:pt x="1206" y="1561"/>
                  </a:lnTo>
                  <a:lnTo>
                    <a:pt x="1208" y="1581"/>
                  </a:lnTo>
                  <a:lnTo>
                    <a:pt x="1208" y="1602"/>
                  </a:lnTo>
                  <a:lnTo>
                    <a:pt x="1209" y="1623"/>
                  </a:lnTo>
                  <a:lnTo>
                    <a:pt x="1208" y="1666"/>
                  </a:lnTo>
                  <a:lnTo>
                    <a:pt x="1205" y="1706"/>
                  </a:lnTo>
                  <a:lnTo>
                    <a:pt x="1201" y="1746"/>
                  </a:lnTo>
                  <a:lnTo>
                    <a:pt x="1195" y="1785"/>
                  </a:lnTo>
                  <a:lnTo>
                    <a:pt x="1186" y="1823"/>
                  </a:lnTo>
                  <a:lnTo>
                    <a:pt x="1176" y="1859"/>
                  </a:lnTo>
                  <a:lnTo>
                    <a:pt x="1171" y="1877"/>
                  </a:lnTo>
                  <a:lnTo>
                    <a:pt x="1165" y="1894"/>
                  </a:lnTo>
                  <a:lnTo>
                    <a:pt x="1159" y="1911"/>
                  </a:lnTo>
                  <a:lnTo>
                    <a:pt x="1152" y="1929"/>
                  </a:lnTo>
                  <a:lnTo>
                    <a:pt x="1145" y="1945"/>
                  </a:lnTo>
                  <a:lnTo>
                    <a:pt x="1137" y="1961"/>
                  </a:lnTo>
                  <a:lnTo>
                    <a:pt x="1128" y="1978"/>
                  </a:lnTo>
                  <a:lnTo>
                    <a:pt x="1120" y="1993"/>
                  </a:lnTo>
                  <a:lnTo>
                    <a:pt x="1111" y="2008"/>
                  </a:lnTo>
                  <a:lnTo>
                    <a:pt x="1101" y="2023"/>
                  </a:lnTo>
                  <a:lnTo>
                    <a:pt x="1092" y="2039"/>
                  </a:lnTo>
                  <a:lnTo>
                    <a:pt x="1080" y="2053"/>
                  </a:lnTo>
                  <a:lnTo>
                    <a:pt x="1070" y="2067"/>
                  </a:lnTo>
                  <a:lnTo>
                    <a:pt x="1059" y="2082"/>
                  </a:lnTo>
                  <a:lnTo>
                    <a:pt x="1047" y="2096"/>
                  </a:lnTo>
                  <a:lnTo>
                    <a:pt x="1034" y="2109"/>
                  </a:lnTo>
                  <a:lnTo>
                    <a:pt x="1022" y="2122"/>
                  </a:lnTo>
                  <a:lnTo>
                    <a:pt x="1009" y="2135"/>
                  </a:lnTo>
                  <a:lnTo>
                    <a:pt x="996" y="2148"/>
                  </a:lnTo>
                  <a:lnTo>
                    <a:pt x="981" y="2160"/>
                  </a:lnTo>
                  <a:lnTo>
                    <a:pt x="953" y="2184"/>
                  </a:lnTo>
                  <a:lnTo>
                    <a:pt x="922" y="2206"/>
                  </a:lnTo>
                  <a:lnTo>
                    <a:pt x="890" y="2226"/>
                  </a:lnTo>
                  <a:lnTo>
                    <a:pt x="857" y="2245"/>
                  </a:lnTo>
                  <a:lnTo>
                    <a:pt x="822" y="2263"/>
                  </a:lnTo>
                  <a:lnTo>
                    <a:pt x="787" y="2278"/>
                  </a:lnTo>
                  <a:lnTo>
                    <a:pt x="749" y="2293"/>
                  </a:lnTo>
                  <a:lnTo>
                    <a:pt x="710" y="2306"/>
                  </a:lnTo>
                  <a:lnTo>
                    <a:pt x="670" y="2317"/>
                  </a:lnTo>
                  <a:lnTo>
                    <a:pt x="629" y="2327"/>
                  </a:lnTo>
                  <a:lnTo>
                    <a:pt x="586" y="2335"/>
                  </a:lnTo>
                  <a:lnTo>
                    <a:pt x="542" y="2343"/>
                  </a:lnTo>
                  <a:lnTo>
                    <a:pt x="496" y="2348"/>
                  </a:lnTo>
                  <a:lnTo>
                    <a:pt x="449" y="2352"/>
                  </a:lnTo>
                  <a:lnTo>
                    <a:pt x="401" y="2354"/>
                  </a:lnTo>
                  <a:lnTo>
                    <a:pt x="351" y="2355"/>
                  </a:lnTo>
                  <a:lnTo>
                    <a:pt x="331" y="2354"/>
                  </a:lnTo>
                  <a:lnTo>
                    <a:pt x="310" y="2354"/>
                  </a:lnTo>
                  <a:lnTo>
                    <a:pt x="290" y="2353"/>
                  </a:lnTo>
                  <a:lnTo>
                    <a:pt x="271" y="2352"/>
                  </a:lnTo>
                  <a:lnTo>
                    <a:pt x="250" y="2351"/>
                  </a:lnTo>
                  <a:lnTo>
                    <a:pt x="231" y="2350"/>
                  </a:lnTo>
                  <a:lnTo>
                    <a:pt x="211" y="2348"/>
                  </a:lnTo>
                  <a:lnTo>
                    <a:pt x="192" y="2347"/>
                  </a:lnTo>
                  <a:lnTo>
                    <a:pt x="174" y="2345"/>
                  </a:lnTo>
                  <a:lnTo>
                    <a:pt x="154" y="2343"/>
                  </a:lnTo>
                  <a:lnTo>
                    <a:pt x="136" y="2339"/>
                  </a:lnTo>
                  <a:lnTo>
                    <a:pt x="118" y="2337"/>
                  </a:lnTo>
                  <a:lnTo>
                    <a:pt x="98" y="2334"/>
                  </a:lnTo>
                  <a:lnTo>
                    <a:pt x="80" y="2331"/>
                  </a:lnTo>
                  <a:lnTo>
                    <a:pt x="62" y="2328"/>
                  </a:lnTo>
                  <a:lnTo>
                    <a:pt x="44" y="2325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1723320" y="569880"/>
            <a:ext cx="615456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3333cc"/>
                </a:solidFill>
                <a:latin typeface="Geometr231 Hv BT"/>
              </a:rPr>
              <a:t>THE HIV VIRUS HA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3333cc"/>
                </a:solidFill>
                <a:latin typeface="Geometr231 Hv BT"/>
              </a:rPr>
              <a:t>DIFFERENT STRAINS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1533960" y="2438280"/>
            <a:ext cx="6237000" cy="3449520"/>
            <a:chOff x="1533960" y="2438280"/>
            <a:chExt cx="6237000" cy="3449520"/>
          </a:xfrm>
        </p:grpSpPr>
        <p:sp>
          <p:nvSpPr>
            <p:cNvPr id="559" name=""/>
            <p:cNvSpPr/>
            <p:nvPr/>
          </p:nvSpPr>
          <p:spPr>
            <a:xfrm>
              <a:off x="1935360" y="2438280"/>
              <a:ext cx="56181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f1a17"/>
                  </a:solidFill>
                  <a:latin typeface="Geometr231 Hv BT"/>
                </a:rPr>
                <a:t>“</a:t>
              </a:r>
              <a:r>
                <a:rPr b="0" lang="en-GB" sz="2800" spc="-1" strike="noStrike">
                  <a:solidFill>
                    <a:srgbClr val="1f1a17"/>
                  </a:solidFill>
                  <a:latin typeface="Geometr231 Hv BT"/>
                </a:rPr>
                <a:t>A”&amp;“C” strain are most prevalen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975480" y="2773080"/>
              <a:ext cx="1361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f1a17"/>
                  </a:solidFill>
                  <a:latin typeface="Geometr231 Hv BT"/>
                </a:rPr>
                <a:t>in Afric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533960" y="3444840"/>
              <a:ext cx="62370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f1a17"/>
                  </a:solidFill>
                  <a:latin typeface="Geometr231 Hv BT"/>
                </a:rPr>
                <a:t>“</a:t>
              </a:r>
              <a:r>
                <a:rPr b="0" lang="en-GB" sz="2800" spc="-1" strike="noStrike">
                  <a:solidFill>
                    <a:srgbClr val="1f1a17"/>
                  </a:solidFill>
                  <a:latin typeface="Geometr231 Hv BT"/>
                </a:rPr>
                <a:t>C” strain is most common in S. Afric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254680" y="4117680"/>
              <a:ext cx="49035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f1a17"/>
                  </a:solidFill>
                  <a:latin typeface="Geometr231 Hv BT"/>
                </a:rPr>
                <a:t>“</a:t>
              </a:r>
              <a:r>
                <a:rPr b="0" lang="en-GB" sz="2800" spc="-1" strike="noStrike">
                  <a:solidFill>
                    <a:srgbClr val="1f1a17"/>
                  </a:solidFill>
                  <a:latin typeface="Geometr231 Hv BT"/>
                </a:rPr>
                <a:t>B” strain is most common in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166200" y="4452840"/>
              <a:ext cx="29739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f1a17"/>
                  </a:solidFill>
                  <a:latin typeface="Geometr231 Hv BT"/>
                </a:rPr>
                <a:t>USA and the Wes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784160" y="5124240"/>
              <a:ext cx="5833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f1a17"/>
                  </a:solidFill>
                  <a:latin typeface="Geometr231 Hv BT"/>
                </a:rPr>
                <a:t>Most available research and drugs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765880" y="5460840"/>
              <a:ext cx="37803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f1a17"/>
                  </a:solidFill>
                  <a:latin typeface="Geometr231 Hv BT"/>
                </a:rPr>
                <a:t>concerns the “B” strai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2143080" y="762120"/>
            <a:ext cx="51822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3333cc"/>
                </a:solidFill>
                <a:latin typeface="Geometr231 Hv BT"/>
              </a:rPr>
              <a:t>ATTITUDES QUIZ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09480" y="1839960"/>
            <a:ext cx="822960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1. A woman goes away on a job opportunity, away from her husband, and 2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years later she begins to get symptoms and finds out she is HIV positive. How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do you feel about her? Do you feel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- Sympathe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- Somewhat sympathe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- Not sympathetic (serves her right for getting infect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2. A pastor finds out he is HIV positive. Do you feel sympathetic, somewh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sympathetic or not sympathetic for this pasto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3. A doctor performs an operation on a patient that he doesn’t know is HIV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positive. He accidentally gets a needle prick and becomes HIV positive. 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you feel sympathetic, somewhat sympathetic or not sympathetic for this docto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1694880" y="762120"/>
            <a:ext cx="60800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3333cc"/>
                </a:solidFill>
                <a:latin typeface="Geometr231 Hv BT"/>
              </a:rPr>
              <a:t>ATTITUDES QUIZ - 2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85800" y="1981080"/>
            <a:ext cx="77724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4. A young man moves in with his gay lover only to find out that he too, h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become HIV positive. Do you feel sympathetic, somewhat sympathetic, or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not sympathetic for this young ma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5. A small baby has just been diagnosed with HIV because the mother was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HIV positive. Do you feel sympathetic, somewhat sympathetic, or not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sympathetic for this newly born bab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6. A married man takes a job in a city away from his wife and family. He find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out when called home to donate blood for his sick child, that he is HIV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positive. Do  you feel sympathetic, somewhat sympathetic, or no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sympathetic for this married ma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20:08:42Z</dcterms:created>
  <dc:creator>adriaan</dc:creator>
  <dc:description/>
  <dc:language>en-US</dc:language>
  <cp:lastModifiedBy>Vern Tisdalle</cp:lastModifiedBy>
  <dcterms:modified xsi:type="dcterms:W3CDTF">2005-11-28T13:23:08Z</dcterms:modified>
  <cp:revision>267</cp:revision>
  <dc:subject/>
  <dc:title>No Slide Title</dc:title>
</cp:coreProperties>
</file>