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EBF-AF63-45F8-8D1E-0936102E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7AE-6348-4735-B0EE-949B2EC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82A-AC8E-42D8-89CB-77B79ACF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531-1C05-4702-98D9-2D06570A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806-2412-49B9-ADC8-870A138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138-0F87-4D11-96DE-E314EE6F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90D-C625-4046-91E7-479F21F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C36-77C3-4594-ADE5-F119664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F05-FB5B-49D6-A428-6CC177B9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540-5D0C-495A-B1A5-6AAD8E1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53A-CAF9-4378-9E34-73CAE03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292-7F83-457B-83AF-390B8E2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62A6-A62B-4426-A5D2-AF9D52E50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2767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ggestion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urch Invol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9000" y="665280"/>
            <a:ext cx="81784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902444"/>
                </a:solidFill>
                <a:latin typeface="Geometr231 Hv BT"/>
              </a:rPr>
              <a:t>CHURCH INVOLVEMEN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6172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1. Preven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2. Education /Trai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3. Care-Giv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520" y="4584600"/>
            <a:ext cx="65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8200" y="5494320"/>
            <a:ext cx="16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8:10Z</dcterms:modified>
  <cp:revision>263</cp:revision>
  <dc:subject/>
  <dc:title>No Slide Title</dc:title>
</cp:coreProperties>
</file>