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Lst>
  <p:sldSz cx="9144000" cy="68580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90318E-949E-4319-9EB1-E5CC809B81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40D508-4BAF-4EB7-8C29-5F6099D668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0BEB00-66D2-4402-961F-7DC9C636E1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2C9BDF-B20B-4F01-A756-A34E758403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48A919-9C62-42A9-A50D-A69FFA902C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619BA0-9C31-42E2-9D84-FFBF1AE31F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DC5851-6615-46E6-A675-C7F3F87CCC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625E1A-D2EF-4261-8E2F-5046B8903E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6FA496-3FC9-4FF5-A519-6C3215DF90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D31AED-FC53-488B-9A29-21DC10379E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F4AA47-97AB-4D42-A473-FDB791BC5E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42B1BF-308A-4C32-A401-0B580549E5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9A04C7-19C6-40C4-93DD-176E84CAB5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A09C17-BA9B-482E-B875-6A4BB7A579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F299EF-50D1-4719-B75E-F2B59950D3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F3D790-7AF2-46D7-92BD-C4D4A6BE98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BBEFD9-1403-436E-AB81-F14660C325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F721D28-8648-4A44-82AC-FEC473EFD6F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987786-7948-4EEA-9FC7-E35A7EBADA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A1125F-D80F-4B6E-BFF8-6D53DFDC98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6A1147-C1E4-41A1-A371-6E1150F1F9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2442F7-9D46-42FA-A8FB-BD25740152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033585-7096-4D4F-A64E-3CDC81576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59BD9D-01F7-44F1-A8F2-4D20E6D29B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8BD311-9782-45DE-B39D-D6A32583D9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A9FF7E-6315-4BCC-A416-E4733B82E8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F65ADA-1380-4201-8DA7-A24534FEAC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A8BB35-2F14-4060-B0D2-6AA9D0D59A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2CAC44A-C5A2-424E-A730-526C237F575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6AD321B-70EC-4B4B-A44A-6A30B219E87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7049BBC-6141-46A9-B3E7-8240A543949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5ACFAE-7310-4E95-B8E6-3892B5EE52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E50229-10E8-4C0A-8D71-BAF0B611B9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02C4BC-4EC1-4CDD-98A3-026F396041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DD525C-3C62-4309-8572-FD4A32D079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60F61B-91B7-4513-8A65-BF6362916D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31367E-2BD5-48B7-8925-F4E75F6B6A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E25234-6042-4511-8EE7-292BF8E2E0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712286-B6B5-477B-B069-A1C653AD9A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4B63F5-5DBB-4BC8-B346-A106F25537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8D88F3-1405-4D94-9DB2-CCFD9595A4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9A54AB6-0CC1-40DB-A983-C4B1CFC8C13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0A6905B-A254-4886-B533-94007C4FEAC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3164A29-1C6D-4FFB-83AB-0C15B8D151A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9BA027-5A69-4626-90B4-4713BC72DD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757F93-1152-4994-92A9-13727DB1BE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605444-FCBA-4600-AEDF-87D124D12A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44AA42-E63F-4EF1-97C9-F66F853E55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73DF05-547D-491F-91F7-D755BDB37B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C0EDF0-FB8F-4BE7-A7DB-916F4CCB48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6CC7EE-C2B2-4A93-9F44-B53A41F3D4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53BFD3-5A18-40AD-ADB2-7F372EB63E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CF3A39-77A5-4376-8060-9FCBA5320A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2DFFBAA-93FE-4480-8AB7-84672B1E5B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BE31717-45DA-4CC0-B77A-FA0AA2BF9B5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FB72A3-AB9E-4ED6-89D8-316F870FF8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80D7628-AF48-409B-9557-E3E8768FAA0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301CBEB-8D12-4572-9456-9E1EE069561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5BA04C-803C-4427-96E1-E3703056442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1C79AF-1230-4A0D-9BCB-964FED1FBD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4F8B80-AC4D-4F9D-B07C-58AF6AD06A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C3B634-8EC7-49E9-83F9-271FEDDD82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FD386A5-4E66-474D-A856-CCFA45B0DC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B553B5-F2CF-4630-9C8F-624D1DC36A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3301A7-7412-4EAA-A23A-1E633B3B3E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EE44E0-F939-44DA-B539-50891C0D86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E3124-DD34-4151-9875-2B88259AFC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087CBFB-BFDD-49AD-A4B4-7A6DE4063C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32DCDC5-ADF5-467F-B73C-5D75631A054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199C290-E03A-4499-879E-B9C9390A173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EDFF64A-39EA-4CE7-A4D6-FF7A0865469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B765336-3DB2-4AD2-91FA-AE8F5AEE59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60B2F73-000C-4FAD-8DDF-553D78030E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FF6F337-809C-4215-88EB-C4DAD179A7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D026C1-119D-4563-B479-AEA60478CCB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59E2297-5BE2-4583-89D3-5533563AAB0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8DC4FF-830F-4319-AFA1-A7E163228A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A12DC-1236-4C63-82AE-91F6CB14D6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5EE669-3775-4402-8D00-011BAACE85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E8E6BF-EB69-44F1-897C-C3B8CF0718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5113B1A-4006-4A21-A785-BF8FA097CDD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976126F-18ED-4CE6-A535-8433FF188E1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9BDD076-216D-4065-B5CA-3974BC226A8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055A80B-58CC-4F0A-9E63-C21D54209C0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5ACED7-81A8-4757-B212-2C7DF0A25E9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2653D26-C14A-4923-8316-9E9772E8090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D5A1EDD-B760-48FB-B870-819C1203D7B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DF1D5AA-B645-477B-9203-C2FD76D1AEA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6F9693-FB46-4F10-83AF-E1BC6709A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FE0D0E2-54BB-4D63-83A0-85C36E35864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94EA1A-C546-419C-8185-191D0653DE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C9D615-7EDF-4D15-9DC0-56D21C5264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14C97D-0927-4E00-9D6D-6161564030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6026E82-AAF4-452D-9B06-B65C9F91B56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C4B389E-A51A-472F-AD1E-0C39827EAC6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DC23DC5-CF34-4073-A17C-6024C62A0F30}"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CAFC0-84B1-4069-BF3A-A07052E6D135}"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4"/>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5"/>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2BCF5-9FA5-4B82-A910-38C389B8C609}"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E88DD-99BB-427F-969B-59BD428BAE13}"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5B9B9-B570-4C4A-8081-2593D6F5CF90}"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2858E-A1AF-46CD-83E0-D3645B054AA7}"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Isosceles Triangle 14"/>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B8660-F7E5-46E5-AA2E-F83DBEA9AEF4}"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4"/>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8966F-067C-4551-9420-02A047EC9556}"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4"/>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E4565-5A9A-4BAD-A762-6292457736DC}"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219320" y="3886200"/>
            <a:ext cx="6858000" cy="990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Homiletics</a:t>
            </a:r>
            <a:r>
              <a:rPr b="0" lang="en-US" sz="3200" spc="-1" strike="noStrike">
                <a:solidFill>
                  <a:srgbClr val="000000"/>
                </a:solidFill>
                <a:latin typeface="Bookman Old Style"/>
              </a:rPr>
              <a:t>	</a:t>
            </a:r>
            <a:endParaRPr b="0" lang="en-US" sz="3200" spc="-1" strike="noStrike">
              <a:solidFill>
                <a:srgbClr val="464653"/>
              </a:solidFill>
              <a:latin typeface="Bookman Old Style"/>
            </a:endParaRPr>
          </a:p>
        </p:txBody>
      </p:sp>
      <p:sp>
        <p:nvSpPr>
          <p:cNvPr id="353" name="PlaceHolder 2"/>
          <p:cNvSpPr>
            <a:spLocks noGrp="1"/>
          </p:cNvSpPr>
          <p:nvPr>
            <p:ph type="subTitle"/>
          </p:nvPr>
        </p:nvSpPr>
        <p:spPr>
          <a:xfrm>
            <a:off x="1219320" y="5124240"/>
            <a:ext cx="6858000" cy="533160"/>
          </a:xfrm>
          <a:prstGeom prst="rect">
            <a:avLst/>
          </a:prstGeom>
          <a:noFill/>
          <a:ln w="0">
            <a:noFill/>
          </a:ln>
        </p:spPr>
        <p:txBody>
          <a:bodyPr lIns="90000" rIns="90000" tIns="46800" bIns="46800" anchor="t">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Bookman Old Style"/>
              </a:rPr>
              <a:t>Baby Dedications</a:t>
            </a:r>
            <a:endParaRPr b="0" lang="en-US" sz="1400" spc="-1" strike="noStrike">
              <a:solidFill>
                <a:srgbClr val="000000"/>
              </a:solidFill>
              <a:latin typeface="Gill Sans MT"/>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Bookman Old Style"/>
              </a:rPr>
              <a:t>Children’s &amp; Youth Ministry</a:t>
            </a:r>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Awareness &amp; Child Safety</a:t>
            </a:r>
            <a:endParaRPr b="0" lang="en-US" sz="3200" spc="-1" strike="noStrike">
              <a:solidFill>
                <a:srgbClr val="464653"/>
              </a:solidFill>
              <a:latin typeface="Bookman Old Style"/>
            </a:endParaRPr>
          </a:p>
        </p:txBody>
      </p:sp>
      <p:sp>
        <p:nvSpPr>
          <p:cNvPr id="371" name=""/>
          <p:cNvSpPr txBox="1"/>
          <p:nvPr/>
        </p:nvSpPr>
        <p:spPr>
          <a:xfrm>
            <a:off x="457200" y="1142640"/>
            <a:ext cx="8229600" cy="5181480"/>
          </a:xfrm>
          <a:prstGeom prst="rect">
            <a:avLst/>
          </a:prstGeom>
          <a:noFill/>
          <a:ln w="0">
            <a:noFill/>
          </a:ln>
        </p:spPr>
        <p:txBody>
          <a:bodyPr lIns="90000" rIns="90000" tIns="46800" bIns="46800" anchor="t">
            <a:normAutofit fontScale="97000"/>
          </a:bodyPr>
          <a:p>
            <a:pPr marL="264600" indent="-2646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Be aware of potential dangers that were probably not around when you were a child</a:t>
            </a:r>
            <a:endParaRPr b="0" lang="en-US" sz="2400" spc="-1" strike="noStrike">
              <a:solidFill>
                <a:srgbClr val="000000"/>
              </a:solidFill>
              <a:latin typeface="Gill Sans MT"/>
            </a:endParaRPr>
          </a:p>
          <a:p>
            <a:pPr marL="264600" indent="-2646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Drugs: both illegal and prescription drugs</a:t>
            </a:r>
            <a:endParaRPr b="0" lang="en-US" sz="2400" spc="-1" strike="noStrike">
              <a:solidFill>
                <a:srgbClr val="000000"/>
              </a:solidFill>
              <a:latin typeface="Gill Sans MT"/>
            </a:endParaRPr>
          </a:p>
          <a:p>
            <a:pPr marL="264600" indent="-2646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Glue sniffing (use child-safe glues)</a:t>
            </a:r>
            <a:endParaRPr b="0" lang="en-US" sz="2400" spc="-1" strike="noStrike">
              <a:solidFill>
                <a:srgbClr val="000000"/>
              </a:solidFill>
              <a:latin typeface="Gill Sans MT"/>
            </a:endParaRPr>
          </a:p>
          <a:p>
            <a:pPr marL="264600" indent="-2646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sbestos and lead paint hazards,  plastic bags, ropes, things small children may choke on.</a:t>
            </a:r>
            <a:endParaRPr b="0" lang="en-US" sz="2400" spc="-1" strike="noStrike">
              <a:solidFill>
                <a:srgbClr val="000000"/>
              </a:solidFill>
              <a:latin typeface="Gill Sans MT"/>
            </a:endParaRPr>
          </a:p>
          <a:p>
            <a:pPr marL="264600" indent="-2646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nternet chat-rooms, stranger danger,  “sexting” (even among pre-teens), use of cell-phone cameras</a:t>
            </a:r>
            <a:endParaRPr b="0" lang="en-US" sz="2400" spc="-1" strike="noStrike">
              <a:solidFill>
                <a:srgbClr val="000000"/>
              </a:solidFill>
              <a:latin typeface="Gill Sans MT"/>
            </a:endParaRPr>
          </a:p>
          <a:p>
            <a:pPr marL="264600" indent="-2646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olored ‘sex bracelets’, over-sexualized clothing</a:t>
            </a:r>
            <a:endParaRPr b="0" lang="en-US" sz="2400" spc="-1" strike="noStrike">
              <a:solidFill>
                <a:srgbClr val="000000"/>
              </a:solidFill>
              <a:latin typeface="Gill Sans MT"/>
            </a:endParaRPr>
          </a:p>
          <a:p>
            <a:pPr marL="264600" indent="-2646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ncest, child-abuse,  kids always bruised, etc.</a:t>
            </a:r>
            <a:endParaRPr b="0" lang="en-US" sz="2400" spc="-1" strike="noStrike">
              <a:solidFill>
                <a:srgbClr val="000000"/>
              </a:solidFill>
              <a:latin typeface="Gill Sans MT"/>
            </a:endParaRPr>
          </a:p>
          <a:p>
            <a:pPr marL="264600" indent="-2646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hild predators applying to be teachers</a:t>
            </a:r>
            <a:endParaRPr b="0" lang="en-US" sz="2400" spc="-1" strike="noStrike">
              <a:solidFill>
                <a:srgbClr val="000000"/>
              </a:solidFill>
              <a:latin typeface="Gill Sans MT"/>
            </a:endParaRPr>
          </a:p>
          <a:p>
            <a:pPr marL="264600" indent="-2646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Door height policy,  always two teachers in a room etc.</a:t>
            </a:r>
            <a:endParaRPr b="0" lang="en-US" sz="2400" spc="-1" strike="noStrike">
              <a:solidFill>
                <a:srgbClr val="000000"/>
              </a:solidFill>
              <a:latin typeface="Gill Sans MT"/>
            </a:endParaRPr>
          </a:p>
          <a:p>
            <a:pPr marL="264600" indent="-2646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Have police and fire-brigade instruct your teachers each year</a:t>
            </a:r>
            <a:endParaRPr b="0" lang="en-US" sz="2400" spc="-1" strike="noStrike">
              <a:solidFill>
                <a:srgbClr val="000000"/>
              </a:solidFill>
              <a:latin typeface="Gill Sans MT"/>
            </a:endParaRPr>
          </a:p>
          <a:p>
            <a:pPr marL="264600" indent="-2646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Have some teachers who are First-Aid certified</a:t>
            </a:r>
            <a:endParaRPr b="0" lang="en-US" sz="2400" spc="-1" strike="noStrike">
              <a:solidFill>
                <a:srgbClr val="000000"/>
              </a:solidFill>
              <a:latin typeface="Gill Sans MT"/>
            </a:endParaRPr>
          </a:p>
          <a:p>
            <a:pPr marL="264600" indent="-2646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Resources</a:t>
            </a:r>
            <a:endParaRPr b="0" lang="en-US" sz="3200" spc="-1" strike="noStrike">
              <a:solidFill>
                <a:srgbClr val="464653"/>
              </a:solidFill>
              <a:latin typeface="Bookman Old Style"/>
            </a:endParaRPr>
          </a:p>
        </p:txBody>
      </p:sp>
      <p:sp>
        <p:nvSpPr>
          <p:cNvPr id="373" name=""/>
          <p:cNvSpPr txBox="1"/>
          <p:nvPr/>
        </p:nvSpPr>
        <p:spPr>
          <a:xfrm>
            <a:off x="457200" y="1294920"/>
            <a:ext cx="8229600" cy="4830840"/>
          </a:xfrm>
          <a:prstGeom prst="rect">
            <a:avLst/>
          </a:prstGeom>
          <a:noFill/>
          <a:ln w="0">
            <a:noFill/>
          </a:ln>
        </p:spPr>
        <p:txBody>
          <a:bodyPr lIns="90000" rIns="90000" tIns="46800" bIns="46800" anchor="t">
            <a:normAutofit fontScale="97000"/>
          </a:bodyPr>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Bible translations suitable for children should be simple English but fairly literal e.g CEV, GNB, BBE and definitely not paraphrases.</a:t>
            </a:r>
            <a:endParaRPr b="0" lang="en-US" sz="24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Watch / monitor resources before using them as some teach very poor theology / social concepts</a:t>
            </a:r>
            <a:endParaRPr b="0" lang="en-US" sz="24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Have parents participate in selecting resources so there are no shocks / “inappropriate material” sent home etc.</a:t>
            </a:r>
            <a:endParaRPr b="0" lang="en-US" sz="24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Use high quality, age-appropriate curriculum that goes through the whole Bible /whole gospel in a systematic fashion e.g 3 year cycle.  Have a quality educator examine the material first.</a:t>
            </a:r>
            <a:endParaRPr b="0" lang="en-US" sz="24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Keep resource costs within the range of all families.</a:t>
            </a:r>
            <a:endParaRPr b="0" lang="en-US" sz="24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Music</a:t>
            </a:r>
            <a:endParaRPr b="0" lang="en-US" sz="3200" spc="-1" strike="noStrike">
              <a:solidFill>
                <a:srgbClr val="464653"/>
              </a:solidFill>
              <a:latin typeface="Bookman Old Style"/>
            </a:endParaRPr>
          </a:p>
        </p:txBody>
      </p:sp>
      <p:sp>
        <p:nvSpPr>
          <p:cNvPr id="375" name=""/>
          <p:cNvSpPr txBox="1"/>
          <p:nvPr/>
        </p:nvSpPr>
        <p:spPr>
          <a:xfrm>
            <a:off x="456840" y="1447920"/>
            <a:ext cx="8534520" cy="4876560"/>
          </a:xfrm>
          <a:prstGeom prst="rect">
            <a:avLst/>
          </a:prstGeom>
          <a:noFill/>
          <a:ln w="0">
            <a:noFill/>
          </a:ln>
        </p:spPr>
        <p:txBody>
          <a:bodyPr lIns="90000" rIns="90000" tIns="46800" bIns="46800" anchor="t">
            <a:normAutofit fontScale="93000"/>
          </a:bodyPr>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usic should teach (in a fun way) not just entertain</a:t>
            </a:r>
            <a:endParaRPr b="0" lang="en-US" sz="24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yrics  should be memorizable </a:t>
            </a:r>
            <a:endParaRPr b="0" lang="en-US" sz="24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unes should be “sing-able” even by average children</a:t>
            </a:r>
            <a:endParaRPr b="0" lang="en-US" sz="24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articipatory – everyone gets a simple instrument</a:t>
            </a:r>
            <a:endParaRPr b="0" lang="en-US" sz="24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et new kids have a lot of fun and use the singing time as a way to bring them into the group</a:t>
            </a:r>
            <a:endParaRPr b="0" lang="en-US" sz="24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Don’t use worship to “play favorites” or to select only the best looking as part of the worship team</a:t>
            </a:r>
            <a:endParaRPr b="0" lang="en-US" sz="24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emember copyright law!</a:t>
            </a:r>
            <a:endParaRPr b="0" lang="en-US" sz="24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nclude physical movement – many children learn as they move.</a:t>
            </a:r>
            <a:endParaRPr b="0" lang="en-US" sz="24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xhaust them! Then they will sit down and learn better later!</a:t>
            </a:r>
            <a:endParaRPr b="0" lang="en-US" sz="24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Bible Passages</a:t>
            </a:r>
            <a:endParaRPr b="0" lang="en-US" sz="3200" spc="-1" strike="noStrike">
              <a:solidFill>
                <a:srgbClr val="464653"/>
              </a:solidFill>
              <a:latin typeface="Bookman Old Style"/>
            </a:endParaRPr>
          </a:p>
        </p:txBody>
      </p:sp>
      <p:sp>
        <p:nvSpPr>
          <p:cNvPr id="355"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Deut 4:9,10;  6:4-11; 11:18-21;</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att  18:1-14</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att 19:13-15, Mk 9:33-37, Lk 9:46-48</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att 21:15-16; Mk 10:13-16, Lk 18:15-17</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uke 2:21-52</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cts 2:38,39</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 Cor 7:14</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ph 6:1-4, Col 3:20,21</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Baby Dedications</a:t>
            </a:r>
            <a:r>
              <a:rPr b="0" lang="en-US" sz="3200" spc="-1" strike="noStrike">
                <a:solidFill>
                  <a:srgbClr val="464653"/>
                </a:solidFill>
                <a:latin typeface="Bookman Old Style"/>
              </a:rPr>
              <a:t>	</a:t>
            </a:r>
            <a:endParaRPr b="0" lang="en-US" sz="3200" spc="-1" strike="noStrike">
              <a:solidFill>
                <a:srgbClr val="464653"/>
              </a:solidFill>
              <a:latin typeface="Bookman Old Style"/>
            </a:endParaRPr>
          </a:p>
        </p:txBody>
      </p:sp>
      <p:sp>
        <p:nvSpPr>
          <p:cNvPr id="357"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Make it personal</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Know the name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peak to the child directly</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sk God for direction, wisdom, knowledge and blessing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onnect with the parent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onnect with the congregation</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     </a:t>
            </a:r>
            <a:r>
              <a:rPr b="0" lang="en-US" sz="3600" spc="-1" strike="noStrike">
                <a:solidFill>
                  <a:srgbClr val="464653"/>
                </a:solidFill>
                <a:latin typeface="Bookman Old Style"/>
              </a:rPr>
              <a:t>Children’s Ministry</a:t>
            </a:r>
            <a:r>
              <a:rPr b="0" lang="en-US" sz="3600" spc="-1" strike="noStrike">
                <a:solidFill>
                  <a:srgbClr val="464653"/>
                </a:solidFill>
                <a:latin typeface="Bookman Old Style"/>
              </a:rPr>
              <a:t>	</a:t>
            </a:r>
            <a:br>
              <a:rPr sz="3600"/>
            </a:br>
            <a:r>
              <a:rPr b="0" lang="en-US" sz="3600" spc="-1" strike="noStrike">
                <a:solidFill>
                  <a:srgbClr val="464653"/>
                </a:solidFill>
                <a:latin typeface="Bookman Old Style"/>
              </a:rPr>
              <a:t> </a:t>
            </a:r>
            <a:r>
              <a:rPr b="0" lang="en-US" sz="3200" spc="-1" strike="noStrike">
                <a:solidFill>
                  <a:srgbClr val="464653"/>
                </a:solidFill>
                <a:latin typeface="Bookman Old Style"/>
              </a:rPr>
              <a:t>Kinder – 5</a:t>
            </a:r>
            <a:r>
              <a:rPr b="0" lang="en-US" sz="3200" spc="-1" strike="noStrike" baseline="30000">
                <a:solidFill>
                  <a:srgbClr val="464653"/>
                </a:solidFill>
                <a:latin typeface="Bookman Old Style"/>
              </a:rPr>
              <a:t>th</a:t>
            </a:r>
            <a:r>
              <a:rPr b="0" lang="en-US" sz="3200" spc="-1" strike="noStrike">
                <a:solidFill>
                  <a:srgbClr val="464653"/>
                </a:solidFill>
                <a:latin typeface="Bookman Old Style"/>
              </a:rPr>
              <a:t> Grade</a:t>
            </a:r>
            <a:endParaRPr b="0" lang="en-US" sz="3200" spc="-1" strike="noStrike">
              <a:solidFill>
                <a:srgbClr val="464653"/>
              </a:solidFill>
              <a:latin typeface="Bookman Old Style"/>
            </a:endParaRPr>
          </a:p>
        </p:txBody>
      </p:sp>
      <p:sp>
        <p:nvSpPr>
          <p:cNvPr id="359"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tudy Inductively</a:t>
            </a:r>
            <a:endParaRPr b="0" lang="en-US" sz="28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Consider the attention span of the age group</a:t>
            </a:r>
            <a:endParaRPr b="0" lang="en-US" sz="28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pply age appropriate Bible studies/concepts</a:t>
            </a:r>
            <a:endParaRPr b="0" lang="en-US" sz="28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Be yourself, don’t entertain</a:t>
            </a:r>
            <a:endParaRPr b="0" lang="en-US" sz="28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sk questions to keep them engaged</a:t>
            </a:r>
            <a:endParaRPr b="0" lang="en-US" sz="28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Have the students read scripture</a:t>
            </a:r>
            <a:endParaRPr b="0" lang="en-US" sz="28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Create crafts that compliment teaching</a:t>
            </a:r>
            <a:endParaRPr b="0" lang="en-US" sz="28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Do not preach</a:t>
            </a:r>
            <a:endParaRPr b="0" lang="en-US" sz="28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Keep it simple</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Youth Ministry</a:t>
            </a:r>
            <a:br>
              <a:rPr sz="3600"/>
            </a:br>
            <a:r>
              <a:rPr b="0" lang="en-US" sz="3600" spc="-1" strike="noStrike">
                <a:solidFill>
                  <a:srgbClr val="464653"/>
                </a:solidFill>
                <a:latin typeface="Bookman Old Style"/>
              </a:rPr>
              <a:t>6</a:t>
            </a:r>
            <a:r>
              <a:rPr b="0" lang="en-US" sz="3600" spc="-1" strike="noStrike" baseline="30000">
                <a:solidFill>
                  <a:srgbClr val="464653"/>
                </a:solidFill>
                <a:latin typeface="Bookman Old Style"/>
              </a:rPr>
              <a:t>th</a:t>
            </a:r>
            <a:r>
              <a:rPr b="0" lang="en-US" sz="3600" spc="-1" strike="noStrike">
                <a:solidFill>
                  <a:srgbClr val="464653"/>
                </a:solidFill>
                <a:latin typeface="Bookman Old Style"/>
              </a:rPr>
              <a:t>  - 12</a:t>
            </a:r>
            <a:r>
              <a:rPr b="0" lang="en-US" sz="3600" spc="-1" strike="noStrike" baseline="30000">
                <a:solidFill>
                  <a:srgbClr val="464653"/>
                </a:solidFill>
                <a:latin typeface="Bookman Old Style"/>
              </a:rPr>
              <a:t>th</a:t>
            </a:r>
            <a:r>
              <a:rPr b="0" lang="en-US" sz="3600" spc="-1" strike="noStrike">
                <a:solidFill>
                  <a:srgbClr val="464653"/>
                </a:solidFill>
                <a:latin typeface="Bookman Old Style"/>
              </a:rPr>
              <a:t> Grade</a:t>
            </a:r>
            <a:endParaRPr b="0" lang="en-US" sz="3600" spc="-1" strike="noStrike">
              <a:solidFill>
                <a:srgbClr val="464653"/>
              </a:solidFill>
              <a:latin typeface="Bookman Old Style"/>
            </a:endParaRPr>
          </a:p>
        </p:txBody>
      </p:sp>
      <p:sp>
        <p:nvSpPr>
          <p:cNvPr id="361"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tudy inductively</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Be yourself, be real</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Discuss age appropriate concepts</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Challenge the students to stretch their minds</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sk probing questions</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Relate to current events</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pply the study to the student’s daily lives</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Keep it simple</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ontroversies</a:t>
            </a:r>
            <a:endParaRPr b="0" lang="en-US" sz="3200" spc="-1" strike="noStrike">
              <a:solidFill>
                <a:srgbClr val="464653"/>
              </a:solidFill>
              <a:latin typeface="Bookman Old Style"/>
            </a:endParaRPr>
          </a:p>
        </p:txBody>
      </p:sp>
      <p:sp>
        <p:nvSpPr>
          <p:cNvPr id="363" name=""/>
          <p:cNvSpPr txBox="1"/>
          <p:nvPr/>
        </p:nvSpPr>
        <p:spPr>
          <a:xfrm>
            <a:off x="456840" y="1599840"/>
            <a:ext cx="8534520" cy="4876920"/>
          </a:xfrm>
          <a:prstGeom prst="rect">
            <a:avLst/>
          </a:prstGeom>
          <a:noFill/>
          <a:ln w="0">
            <a:noFill/>
          </a:ln>
        </p:spPr>
        <p:txBody>
          <a:bodyPr lIns="90000" rIns="90000" tIns="46800" bIns="46800" anchor="t">
            <a:normAutofit fontScale="96000"/>
          </a:bodyPr>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 difference between child dedication and child baptism</a:t>
            </a:r>
            <a:endParaRPr b="0" lang="en-US" sz="2400" spc="-1" strike="noStrike">
              <a:solidFill>
                <a:srgbClr val="000000"/>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nswer "what is going on here?", </a:t>
            </a:r>
            <a:endParaRPr b="0" lang="en-US" sz="2400" spc="-1" strike="noStrike">
              <a:solidFill>
                <a:srgbClr val="000000"/>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What is the role of the fellowship in raising the child?</a:t>
            </a:r>
            <a:endParaRPr b="0" lang="en-US" sz="2400" spc="-1" strike="noStrike">
              <a:solidFill>
                <a:srgbClr val="000000"/>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How does children's ministry have to take national culture, blended families etc into account?</a:t>
            </a:r>
            <a:endParaRPr b="0" lang="en-US" sz="2400" spc="-1" strike="noStrike">
              <a:solidFill>
                <a:srgbClr val="000000"/>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The role of parents in child instruction</a:t>
            </a:r>
            <a:endParaRPr b="0" lang="en-US" sz="2400" spc="-1" strike="noStrike">
              <a:solidFill>
                <a:srgbClr val="000000"/>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aws relating to child-care / incident reporting / sexual abuse</a:t>
            </a:r>
            <a:endParaRPr b="0" lang="en-US" sz="2400" spc="-1" strike="noStrike">
              <a:solidFill>
                <a:srgbClr val="000000"/>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are to be taken with evangelistic invitations</a:t>
            </a:r>
            <a:endParaRPr b="0" lang="en-US" sz="2400" spc="-1" strike="noStrike">
              <a:solidFill>
                <a:srgbClr val="000000"/>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nclusion of children in main worship ? Does exclusion further separate already disparate families? How can church reinforce family ties?</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Theology of the Child - 1</a:t>
            </a:r>
            <a:endParaRPr b="0" lang="en-US" sz="3200" spc="-1" strike="noStrike">
              <a:solidFill>
                <a:srgbClr val="464653"/>
              </a:solidFill>
              <a:latin typeface="Bookman Old Style"/>
            </a:endParaRPr>
          </a:p>
        </p:txBody>
      </p:sp>
      <p:sp>
        <p:nvSpPr>
          <p:cNvPr id="365" name=""/>
          <p:cNvSpPr txBox="1"/>
          <p:nvPr/>
        </p:nvSpPr>
        <p:spPr>
          <a:xfrm>
            <a:off x="151920" y="1294920"/>
            <a:ext cx="8915400" cy="5334120"/>
          </a:xfrm>
          <a:prstGeom prst="rect">
            <a:avLst/>
          </a:prstGeom>
          <a:noFill/>
          <a:ln w="0">
            <a:noFill/>
          </a:ln>
        </p:spPr>
        <p:txBody>
          <a:bodyPr lIns="90000" rIns="90000" tIns="46800" bIns="46800" anchor="t">
            <a:normAutofit fontScale="91000"/>
          </a:bodyPr>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hildren are to be taught the whole counsel o God:  “Teach all these commands to your children”</a:t>
            </a:r>
            <a:endParaRPr b="0" lang="en-US" sz="24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hildren’s ministry should not be legalistic (all rules about behavior) nor should it be anarchic (Jesus is just their friend) but should teach holiness through faith and should give solid reasons for belief.</a:t>
            </a:r>
            <a:endParaRPr b="0" lang="en-US" sz="24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hildren need to know how to pray, how to read the Bible, how to be truly born-again and develop their own growing, real and tested faith.  The faith should be “real” and help them cope.  A real living personal faith will not be thrown away when they enter college.</a:t>
            </a:r>
            <a:endParaRPr b="0" lang="en-US" sz="24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hildren need a deep biblical understanding of the practical outworking of the “one another” commands and the Sermon On the Mount and have the chance to practice them in a group setting.</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Theology Of The Child - 2</a:t>
            </a:r>
            <a:endParaRPr b="0" lang="en-US" sz="3200" spc="-1" strike="noStrike">
              <a:solidFill>
                <a:srgbClr val="464653"/>
              </a:solidFill>
              <a:latin typeface="Bookman Old Style"/>
            </a:endParaRPr>
          </a:p>
        </p:txBody>
      </p:sp>
      <p:sp>
        <p:nvSpPr>
          <p:cNvPr id="367" name=""/>
          <p:cNvSpPr txBox="1"/>
          <p:nvPr/>
        </p:nvSpPr>
        <p:spPr>
          <a:xfrm>
            <a:off x="456840" y="1219320"/>
            <a:ext cx="8534520" cy="4937040"/>
          </a:xfrm>
          <a:prstGeom prst="rect">
            <a:avLst/>
          </a:prstGeom>
          <a:noFill/>
          <a:ln w="0">
            <a:noFill/>
          </a:ln>
        </p:spPr>
        <p:txBody>
          <a:bodyPr lIns="90000" rIns="90000" tIns="46800" bIns="46800" anchor="t">
            <a:normAutofit fontScale="91000"/>
          </a:bodyPr>
          <a:p>
            <a:pPr marL="248040" indent="-24804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in is “scarlet” not black and race sensitivity is important</a:t>
            </a:r>
            <a:endParaRPr b="0" lang="en-US" sz="2400" spc="-1" strike="noStrike">
              <a:solidFill>
                <a:srgbClr val="000000"/>
              </a:solidFill>
              <a:latin typeface="Gill Sans MT"/>
            </a:endParaRPr>
          </a:p>
          <a:p>
            <a:pPr marL="248040" indent="-24804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Don’t use the phrase “bible story” as children associate “story” with fiction and fairy-tales – its is bible truth not bible story</a:t>
            </a:r>
            <a:endParaRPr b="0" lang="en-US" sz="2400" spc="-1" strike="noStrike">
              <a:solidFill>
                <a:srgbClr val="000000"/>
              </a:solidFill>
              <a:latin typeface="Gill Sans MT"/>
            </a:endParaRPr>
          </a:p>
          <a:p>
            <a:pPr marL="248040" indent="-24804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By all means use Scripture memorization as neuroscience tells us this greatly develops a child’s cognitive skills. Besides its biblical!</a:t>
            </a:r>
            <a:endParaRPr b="0" lang="en-US" sz="2400" spc="-1" strike="noStrike">
              <a:solidFill>
                <a:srgbClr val="000000"/>
              </a:solidFill>
              <a:latin typeface="Gill Sans MT"/>
            </a:endParaRPr>
          </a:p>
          <a:p>
            <a:pPr marL="248040" indent="-24804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dventurous faith is child-like faith so create opportunities for safe adventure, role-playing, field-trips etc.</a:t>
            </a:r>
            <a:endParaRPr b="0" lang="en-US" sz="2400" spc="-1" strike="noStrike">
              <a:solidFill>
                <a:srgbClr val="000000"/>
              </a:solidFill>
              <a:latin typeface="Gill Sans MT"/>
            </a:endParaRPr>
          </a:p>
          <a:p>
            <a:pPr marL="248040" indent="-24804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Do not create illusory expectations that will be shattered later on in life and lead to a crisis of faith. Be clear about the cost of following Jesus (but do spare the worst details)</a:t>
            </a:r>
            <a:endParaRPr b="0" lang="en-US" sz="2400" spc="-1" strike="noStrike">
              <a:solidFill>
                <a:srgbClr val="000000"/>
              </a:solidFill>
              <a:latin typeface="Gill Sans MT"/>
            </a:endParaRPr>
          </a:p>
          <a:p>
            <a:pPr marL="248040" indent="-24804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Do not use emotional manipulation or rewards in order to “get the right response” to an invitation as this makes kids feel “burned” later on in life.</a:t>
            </a:r>
            <a:endParaRPr b="0" lang="en-US" sz="2400" spc="-1" strike="noStrike">
              <a:solidFill>
                <a:srgbClr val="000000"/>
              </a:solidFill>
              <a:latin typeface="Gill Sans MT"/>
            </a:endParaRPr>
          </a:p>
          <a:p>
            <a:pPr marL="248040" indent="-24804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48040" indent="-24804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nclusion</a:t>
            </a:r>
            <a:endParaRPr b="0" lang="en-US" sz="3200" spc="-1" strike="noStrike">
              <a:solidFill>
                <a:srgbClr val="464653"/>
              </a:solidFill>
              <a:latin typeface="Bookman Old Style"/>
            </a:endParaRPr>
          </a:p>
        </p:txBody>
      </p:sp>
      <p:sp>
        <p:nvSpPr>
          <p:cNvPr id="369" name=""/>
          <p:cNvSpPr txBox="1"/>
          <p:nvPr/>
        </p:nvSpPr>
        <p:spPr>
          <a:xfrm>
            <a:off x="457200" y="1294920"/>
            <a:ext cx="8229600" cy="48308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hildren rapidly form cliques based on fashion, social status etc. This needs to be discouraged. (James 2)</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odel inclusion, acceptance, kindness and courtesy</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tomp out cruelty, bullying and teasing. Make it clear that Christians love one another and treat one another with respect. “God will treat you as you treat others”</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raise kindness,  be gentle with the disabled, include everyone, make shy children feel comfortable</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Use small crises (upset children, skinned knees etc) as teachable moments for Christ-like living.</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8T18:19:47Z</dcterms:created>
  <dc:creator>Brad Harte</dc:creator>
  <dc:description/>
  <dc:language>en-US</dc:language>
  <cp:lastModifiedBy>John Edmiston</cp:lastModifiedBy>
  <dcterms:modified xsi:type="dcterms:W3CDTF">2010-06-28T21:19:45Z</dcterms:modified>
  <cp:revision>56</cp:revision>
  <dc:subject/>
  <dc:title>Homiletics </dc:title>
</cp:coreProperties>
</file>