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62820-CFB4-41FD-8B60-195217EB0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547DE-3A58-419A-B128-FB1B9C194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0EDEF-8798-4EC8-9A06-F7BC2DE48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0B4E0-2E23-48ED-9AC4-20508E533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6E405-DAA2-49F4-BECE-DAAA8A5B0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70A2C-9637-45E2-AAC5-C4F35F7F7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6257C-F8C1-4E72-AD0B-BA0ACBB4F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59A7D-C48B-4D0B-82E2-5B4626596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2EBDD-6E0D-48E2-AA7B-AEEB14628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954FE-8228-42AF-A5DC-D2B8F6B12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F7A99-6B45-4B46-AFA0-5C9399386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0527A-F439-477F-A730-049533C49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81A73-5E60-487D-876C-7CDCE0A82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AC7BE-39CD-469F-989D-064185F3B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4054B-DB88-431D-8F2D-BB31DD3F1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02D3E-AF43-4529-82E0-108443A48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8A74E-31D1-46A5-AEF5-E400195C0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48B1E-CE78-48B9-BE1A-567F9199D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C981-704F-4E3F-BE8A-165539E20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9248-2DDC-42B7-947D-C4156BDE7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7B5C-A526-4E00-9E76-D25758A9D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DB1A-E8BF-4305-862B-3A3BB5E8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5877-AE1B-4331-AC2A-99AA425AB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4EDC1-7D31-407F-8F16-14DF27191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7B57-935C-4F75-9BF4-8B32FC81737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26E3-D498-4AC3-9F4A-6B01EF7A26F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br>
              <a:rPr sz="4000"/>
            </a:br>
            <a:endParaRPr b="0" lang="en-US" sz="1600" spc="-1" strike="noStrike">
              <a:solidFill>
                <a:srgbClr val="333399"/>
              </a:solidFill>
              <a:latin typeface="Tahoma"/>
            </a:endParaRPr>
          </a:p>
        </p:txBody>
      </p:sp>
      <p:sp>
        <p:nvSpPr>
          <p:cNvPr id="100" name="PlaceHolder 2"/>
          <p:cNvSpPr>
            <a:spLocks noGrp="1"/>
          </p:cNvSpPr>
          <p:nvPr>
            <p:ph type="subTitle"/>
          </p:nvPr>
        </p:nvSpPr>
        <p:spPr>
          <a:xfrm>
            <a:off x="762120" y="3733560"/>
            <a:ext cx="7549920" cy="1987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a:t>
            </a:r>
            <a:br>
              <a:rPr sz="3200"/>
            </a:br>
            <a:r>
              <a:rPr b="0" lang="en-US" sz="3200" spc="-1" strike="noStrike">
                <a:solidFill>
                  <a:srgbClr val="000000"/>
                </a:solidFill>
                <a:latin typeface="Univers"/>
              </a:rPr>
              <a:t>Emotional Transformation</a:t>
            </a:r>
            <a:endParaRPr b="0" lang="en-US" sz="32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ZapfChan Bd BT"/>
              </a:rPr>
              <a:t>Part 5 – The Thoughts And Intents Of The Heart</a:t>
            </a:r>
            <a:endParaRPr b="0" lang="en-US" sz="2400" spc="-1" strike="noStrike">
              <a:solidFill>
                <a:srgbClr val="000000"/>
              </a:solidFill>
              <a:latin typeface="Tahoma"/>
            </a:endParaRPr>
          </a:p>
        </p:txBody>
      </p:sp>
      <p:pic>
        <p:nvPicPr>
          <p:cNvPr id="101" name="alive%20woman" descr=""/>
          <p:cNvPicPr/>
          <p:nvPr/>
        </p:nvPicPr>
        <p:blipFill>
          <a:blip r:embed="rId1"/>
          <a:stretch/>
        </p:blipFill>
        <p:spPr>
          <a:xfrm>
            <a:off x="5486400" y="30492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HWH vs. Baal</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5720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Old Testament they even had two distinct religions worshipping Baal when it came to farming and fertility and Yahweh when it came to wa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al value systems such as this have been castigated by the prophets, Jesus and the apostles from one end of the Bible to the oth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Joshua's "choose which day who you will serve" (Joshua 24:15) --  to Elijah's "how long will you falter between two opinions" (1Kings 18:21) </a:t>
            </a:r>
            <a:br>
              <a:rPr sz="1800"/>
            </a:br>
            <a:r>
              <a:rPr b="0" lang="en-US" sz="1800" spc="-1" strike="noStrike">
                <a:solidFill>
                  <a:srgbClr val="000000"/>
                </a:solidFill>
                <a:latin typeface="Tahoma"/>
              </a:rPr>
              <a:t>-  to Jesus and "you cannot serve God and Mammon" (Matthew 6:21-24) </a:t>
            </a:r>
            <a:br>
              <a:rPr sz="1800"/>
            </a:br>
            <a:r>
              <a:rPr b="0" lang="en-US" sz="1800" spc="-1" strike="noStrike">
                <a:solidFill>
                  <a:srgbClr val="000000"/>
                </a:solidFill>
                <a:latin typeface="Tahoma"/>
              </a:rPr>
              <a:t>-  to James and his exhortations against double-mindedness and worldliness. (James 1:5-8, 4:1-7).</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ssed To And Fro….</a:t>
            </a:r>
            <a:endParaRPr b="0" lang="en-US" sz="4400" spc="-1" strike="noStrike">
              <a:solidFill>
                <a:srgbClr val="333399"/>
              </a:solidFill>
              <a:latin typeface="Tahoma"/>
            </a:endParaRPr>
          </a:p>
        </p:txBody>
      </p:sp>
      <p:sp>
        <p:nvSpPr>
          <p:cNvPr id="121" name="PlaceHolder 2"/>
          <p:cNvSpPr>
            <a:spLocks noGrp="1"/>
          </p:cNvSpPr>
          <p:nvPr>
            <p:ph/>
          </p:nvPr>
        </p:nvSpPr>
        <p:spPr>
          <a:xfrm>
            <a:off x="228600" y="2057400"/>
            <a:ext cx="84218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people have literally two belief systems and two minds - Scripture calls them "double-minded" and says that they are spiritually unstable. (James 1:5-8)</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is instability results from the fact that they are constantly choosing between two or more things they can believe at any one momen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minute they choose to operate from the biblical belief, the next minute they choose to operate from greed, superstition or expedienc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 and down, tossed here and there like the waves of the sea.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thology Within U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ddition to having multiple belief systems people can decide to hold evil and wicked beliefs or beliefs that are illogical and insan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people honestly and truly believe that the entire world should be organized around their happiness. Others truly believe that they can take what they like and do what they like.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few believe that flying jet planes into buildings will give glory to God and bring them eternal life in Paradise.</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Yet others believe that worshipping an idol will give them spiritual power and good fortune. </a:t>
            </a:r>
            <a:endParaRPr b="0" lang="en-US" sz="20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rds nest of human beliefs inside us can become very  toxic and result in pathological life choices.</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 It All Bad?</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eart of the natural man can go badly and seriously wrong through adoption of a self-centered and toxic world-view which incorporates ungodly and illogical beliefs.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not the total picture though. Even in the OT we find people described as being penitent in heart and having hearts set on the Lord.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earning Heart</a:t>
            </a:r>
            <a:endParaRPr b="0" lang="en-US" sz="4400" spc="-1" strike="noStrike">
              <a:solidFill>
                <a:srgbClr val="333399"/>
              </a:solidFill>
              <a:latin typeface="Tahoma"/>
            </a:endParaRPr>
          </a:p>
        </p:txBody>
      </p:sp>
      <p:sp>
        <p:nvSpPr>
          <p:cNvPr id="12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do not necessarily believe what they think they believ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ristians are generally still learning to believe that which they think they believe. This is the difference between believing something as a notion or as a doctrine and really believing it so that it is operational for you under stress and pressure.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est of this is "How much pressure does it take before you start to doubt that which you are sure you believ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anic Point….</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k yourself the following two quest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If I was out in a small boat on the Sea of Galilee and the waves were high and the boat was about to sink would I be calm or would I be afraid?" Would Jesus say to me "I have not seen such great faith in all Israel" or would He say to me "Why are you afraid O ye of little faith?"</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How low can the bank account go before I start getting anxious and doubting that God will provide? Where is the point at which I choose to panic?".</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ing To Believe</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42670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fference between the answers we put in the bible study booklet and the answer we give to the actual pressures of life can be startling.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notional beliefs and our operational beliefs under pressure are different.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ay not be due to double-mindedness but just to the need to mature, learn and grow.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 committed Christians we are continually learning to truly believe that which we think we already believe. </a:t>
            </a:r>
            <a:endParaRPr b="0" lang="en-US" sz="1800" spc="-1" strike="noStrike">
              <a:solidFill>
                <a:srgbClr val="000000"/>
              </a:solidFill>
              <a:latin typeface="Tahoma"/>
            </a:endParaRPr>
          </a:p>
          <a:p>
            <a:pPr marL="325800" indent="-3258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 we can see that the goal is to have a consistent and fully Christian belief system that is the sole one we operate from, and which is operating at the level of the thoughts and intentions of our heart and guiding our daily conduct and informing all our emotional responses. </a:t>
            </a:r>
            <a:endParaRPr b="0" lang="en-US" sz="18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lief system will fill us with joy and give us poise and calm in the middle of life's trials. It will be heart level, practical, biblical, strong and singular. Our lives will ring with faith and authenticity.</a:t>
            </a:r>
            <a:r>
              <a:rPr b="0" lang="en-US" sz="2200" spc="-1" strike="noStrike">
                <a:solidFill>
                  <a:srgbClr val="000000"/>
                </a:solidFill>
                <a:latin typeface="Tahoma"/>
              </a:rPr>
              <a:t> </a:t>
            </a:r>
            <a:endParaRPr b="0" lang="en-US" sz="22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ure Heart Of Jesus</a:t>
            </a:r>
            <a:endParaRPr b="0" lang="en-US" sz="4400" spc="-1" strike="noStrike">
              <a:solidFill>
                <a:srgbClr val="333399"/>
              </a:solidFill>
              <a:latin typeface="Tahoma"/>
            </a:endParaRPr>
          </a:p>
        </p:txBody>
      </p:sp>
      <p:sp>
        <p:nvSpPr>
          <p:cNvPr id="133" name="PlaceHolder 2"/>
          <p:cNvSpPr>
            <a:spLocks noGrp="1"/>
          </p:cNvSpPr>
          <p:nvPr>
            <p:ph/>
          </p:nvPr>
        </p:nvSpPr>
        <p:spPr>
          <a:xfrm>
            <a:off x="533520" y="2133360"/>
            <a:ext cx="777240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we look at the beliefs of Jesus we find there is no “birds nest”, but instead a purity and simplicity that is stunning. His thoughts were always pure and Scriptural and logical and righ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is never for a single second, fearful or anxious or halting between two opinions. When the Devil offers Him all the kingdoms of the world He does not say “Let me think about that for five minute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heart was so fixed on God and so pure in its intentions that He did not hesitate or waver even under strong tempt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sus was pure in heart and did not sin even in His thoughts and inten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The Pure In Heart</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we are to be like Jesus in all aspects then we must head towards purity of heart. At first this seems to be a long and impossible journe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ity of thoughts and intentions seems both unsafe in a wicked world (unless we lock ourselves away in a monastery) and impractical to achieve in one lifeti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et the promise of Jesus in the Beatitudes is that “The pure in heart will see God”. (Matthew 5:8) and He seems to be calling us to the impossible journey of sorting out and cleaning up our birds nest, changing our beliefs and coming into fellowship with Him.</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s On Purity of Heart</a:t>
            </a:r>
            <a:endParaRPr b="0" lang="en-US" sz="4400" spc="-1" strike="noStrike">
              <a:solidFill>
                <a:srgbClr val="333399"/>
              </a:solidFill>
              <a:latin typeface="Tahoma"/>
            </a:endParaRPr>
          </a:p>
        </p:txBody>
      </p:sp>
      <p:sp>
        <p:nvSpPr>
          <p:cNvPr id="137" name="PlaceHolder 2"/>
          <p:cNvSpPr>
            <a:spLocks noGrp="1"/>
          </p:cNvSpPr>
          <p:nvPr>
            <p:ph/>
          </p:nvPr>
        </p:nvSpPr>
        <p:spPr>
          <a:xfrm>
            <a:off x="228600" y="2017800"/>
            <a:ext cx="8726400" cy="46879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thew 5:8 NKJV) Blessed are the pure in heart, For they shall see Go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Timothy 1:5 NKJV) Now the purpose of the commandment is love from a pure heart, from a good conscience, and from sincere faith,</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Timothy 2:22 NKJV) Flee also youthful lusts; but pursue righteousness, faith, love, peace with those who call on the Lord out of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tus 1:15 NKJV) To the pure all things are pure, but to those who are defiled and unbelieving nothing is pure; but even their mind and conscience are defiled.</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Peter 1:22 NKJV) Since you have purified your souls in obeying the truth through the Spirit in sincere love of the brethren, love one another fervently with a pure heart,</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John 3:2-3 NKJV) Beloved, now we are children of God; and it has not yet been revealed what we shall be, but we know that when He is revealed, we shall be like Him, for we shall see Him as He is. {3} And everyone who has this hope in Him purifies himself, just as He is pure.</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Your Internal World</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3581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oughts and intentions of the heart" are our internalized belief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include formal beliefs (such as theological belief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informal and more personal beliefs such as "No-one could possibly love m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eliefs or thoughts of your heart are often reflected in what psychologists call your “self-talk” which is the “chatter” that goes on inside you as you are doing things “I wish Susan would call, I bet she won’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6 Good Reasons To Change</a:t>
            </a:r>
            <a:endParaRPr b="0" lang="en-US" sz="4400" spc="-1" strike="noStrike">
              <a:solidFill>
                <a:srgbClr val="333399"/>
              </a:solidFill>
              <a:latin typeface="Tahoma"/>
            </a:endParaRPr>
          </a:p>
        </p:txBody>
      </p:sp>
      <p:sp>
        <p:nvSpPr>
          <p:cNvPr id="139" name=""/>
          <p:cNvSpPr txBox="1"/>
          <p:nvPr/>
        </p:nvSpPr>
        <p:spPr>
          <a:xfrm>
            <a:off x="533520" y="2133720"/>
            <a:ext cx="815328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 God cares about your beliefs</a:t>
            </a:r>
            <a:r>
              <a:rPr b="0" lang="en-US" sz="1800" spc="-1" strike="noStrike">
                <a:solidFill>
                  <a:srgbClr val="000000"/>
                </a:solidFill>
                <a:latin typeface="Tahoma"/>
              </a:rPr>
              <a:t> and weighs them up. He judges the thoughts and intentions of your heart. (Romans 2:15,16; Jeremiah 11:20; Hebrews 4:12).</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 Jesus expects us to be increasing in our faith</a:t>
            </a:r>
            <a:r>
              <a:rPr b="0" lang="en-US" sz="1800" spc="-1" strike="noStrike">
                <a:solidFill>
                  <a:srgbClr val="000000"/>
                </a:solidFill>
                <a:latin typeface="Tahoma"/>
              </a:rPr>
              <a:t> and in fact is quite demanding about it! The expectations He had of his disciples included being calm in storms (Matthew 8:26), walking on water (Matthew 14:31), believing in miraculous provision (Matthew 6:30), being able to understand parables (Matthew 16:8), and being able to cast out demons, heal the sick and raise the dead (Matthew 10:8). When they failed to do any of the above they were rebuked (Matthew 17:20). The phrase "O ye of little faith" (see the references in Matthew above) shows that the disciples were expected to learn to believe Jesus with ever-increasing faith. Jesus does not call us to have a static level of faith. Rather we are called to develop a growing "mountain-moving faith" that starts from small "mustard-seed" beginnings. (Matthew 17:20).</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1" name="PlaceHolder 2"/>
          <p:cNvSpPr>
            <a:spLocks noGrp="1"/>
          </p:cNvSpPr>
          <p:nvPr>
            <p:ph/>
          </p:nvPr>
        </p:nvSpPr>
        <p:spPr>
          <a:xfrm>
            <a:off x="304560" y="2209680"/>
            <a:ext cx="8305560" cy="4267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 Theology interpenetrates reality. Every belief is theological</a:t>
            </a:r>
            <a:r>
              <a:rPr b="1" lang="en-US" sz="1800" spc="-1" strike="noStrike">
                <a:solidFill>
                  <a:srgbClr val="333399"/>
                </a:solidFill>
                <a:latin typeface="Arial Narrow"/>
              </a:rPr>
              <a:t>.</a:t>
            </a:r>
            <a:r>
              <a:rPr b="0" lang="en-US" sz="1800" spc="-1" strike="noStrike">
                <a:solidFill>
                  <a:srgbClr val="000000"/>
                </a:solidFill>
                <a:latin typeface="Arial Narrow"/>
              </a:rPr>
              <a:t> Carl Jung used to say that every human problem after the age of 35 was spiritual in nature. In a similar vein even the small voices, the dark mutterings of the human heart and the wretched small-minded beliefs that people have are a form of rebellion against God and a dwelling in darkness. For instance to believe in your heart that the world stinks is to malign the Creator. To vow that you will always play it safe and that you will never love again is to retreat into darkness and flee the love of God that He puts into people to reach you. Thus all your beliefs have a theological component and need to brought into the light of the Word of God.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4. How we believe determines what we receive</a:t>
            </a:r>
            <a:r>
              <a:rPr b="1" lang="en-US" sz="1800" spc="-1" strike="noStrike">
                <a:solidFill>
                  <a:srgbClr val="333399"/>
                </a:solidFill>
                <a:latin typeface="Arial Narrow"/>
              </a:rPr>
              <a:t>.</a:t>
            </a:r>
            <a:r>
              <a:rPr b="0" lang="en-US" sz="1800" spc="-1" strike="noStrike">
                <a:solidFill>
                  <a:srgbClr val="000000"/>
                </a:solidFill>
                <a:latin typeface="Arial Narrow"/>
              </a:rPr>
              <a:t> "According to your faith be it unto you". (Matthew 9:29, 15:28). Conversely having an unstable, worldly or double-minded faith means we will receive nothing from God (James 1:5-8, 4:1-8). Faith can bring healing (Matthew 9:22, James 5:15-18) is a prerequisite for receiving wisdom from God (James 1:5-8), for daily provision and reduction of anxiety (Matthew 6:30-34) and makes all things possible (Mark 9:23).</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400"/>
            <a:ext cx="7792920" cy="64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6 Reasons cont’d</a:t>
            </a:r>
            <a:endParaRPr b="0" lang="en-US" sz="3200" spc="-1" strike="noStrike">
              <a:solidFill>
                <a:srgbClr val="333399"/>
              </a:solidFill>
              <a:latin typeface="Tahoma"/>
            </a:endParaRPr>
          </a:p>
        </p:txBody>
      </p:sp>
      <p:sp>
        <p:nvSpPr>
          <p:cNvPr id="143" name="PlaceHolder 2"/>
          <p:cNvSpPr>
            <a:spLocks noGrp="1"/>
          </p:cNvSpPr>
          <p:nvPr>
            <p:ph/>
          </p:nvPr>
        </p:nvSpPr>
        <p:spPr>
          <a:xfrm>
            <a:off x="380880" y="213372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 Creedal faith is insufficient.</a:t>
            </a:r>
            <a:r>
              <a:rPr b="0" lang="en-US" sz="2000" spc="-1" strike="noStrike">
                <a:solidFill>
                  <a:srgbClr val="000000"/>
                </a:solidFill>
                <a:latin typeface="Tahoma"/>
              </a:rPr>
              <a:t> Even the demons have correct theology in the sense that they believe that God is one - and tremble (James 2:19). Thus merely creedal belief is insufficient for salvation. Belief must be authentic, loyal to God, of the heart and worked out in real life. (James chapter 2). The great men and women of God all had extraordinary personal belief systems that set them apart from their generation. (Hebrews 11)</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 Letting unbiblical and dysfunctional beliefs linger can cause them to become stronger, more dysfunctional and more painful.</a:t>
            </a:r>
            <a:r>
              <a:rPr b="0" lang="en-US" sz="2000" spc="-1" strike="noStrike">
                <a:solidFill>
                  <a:srgbClr val="000000"/>
                </a:solidFill>
                <a:latin typeface="Tahoma"/>
              </a:rPr>
              <a:t> Working on them now may take work, but leaving them will make it much worse later on. </a:t>
            </a:r>
            <a:r>
              <a:rPr b="0" i="1" lang="en-US" sz="2000" spc="-1" strike="noStrike">
                <a:solidFill>
                  <a:srgbClr val="000000"/>
                </a:solidFill>
                <a:latin typeface="Tahoma"/>
              </a:rPr>
              <a:t>(Proverbs 4:23 NKJV) Keep your heart with all diligence, For out of it spring the issues of life.</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761760"/>
            <a:ext cx="7495920" cy="86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church has miserable grumpy Christians alongside radiant faith-abounding Christians. Well what's the difference between the two group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th miserable and faith-abounding Christians have heard exactly the same sermons and been to exactly the same bible studies and mixed with exactly the same people in exactly the same neighborhood church and can tick exactly the same boxes theological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only the faith-abounding Christians have taken the time and effort to make sure their inner personal beliefs line up with God's Word.</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laining Or Believing?</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umpy cynical Christians have decided not to really believe. They would much prefer to complai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th-abounding Christians have decided that with God’s help they will interpret reality properly and have paid attention to their hear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have decided that they will "truly believe" and have put effort into their faith.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they reap joy and have much more successful Christian live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m The Marketplace</a:t>
            </a:r>
            <a:endParaRPr b="0" lang="en-US" sz="4400" spc="-1" strike="noStrike">
              <a:solidFill>
                <a:srgbClr val="333399"/>
              </a:solidFill>
              <a:latin typeface="Tahoma"/>
            </a:endParaRPr>
          </a:p>
        </p:txBody>
      </p:sp>
      <p:sp>
        <p:nvSpPr>
          <p:cNvPr id="14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the secular world has discovered the benefits of working on your belief system. The Dale Carnegie / Zig Ziglar "positive-thinking" movement with its affirmations and personal motivation demonstrated the power of working on personal beliefs.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turned lousy salesmen into better salesmen. It turned unhappy, unenthusiastic people into happy enthusiastic people. It caught a fragment of the Truth (taken incidentally from the founders' familiarity with the Bible) and applied it successfully to daily life.</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y were salesmen so keen to systematically adopt a new belief system? What motivated them to try? Why wasn't it left in the "too hard baske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They Changed</a:t>
            </a:r>
            <a:endParaRPr b="0" lang="en-US" sz="4400" spc="-1" strike="noStrike">
              <a:solidFill>
                <a:srgbClr val="333399"/>
              </a:solidFill>
              <a:latin typeface="Tahoma"/>
            </a:endParaRPr>
          </a:p>
        </p:txBody>
      </p:sp>
      <p:sp>
        <p:nvSpPr>
          <p:cNvPr id="15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met other people who seemed successful and who said positive thinking was the key to succ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se other people demonstrated an alive and enthusiastic personality they wanted to poss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compared their personality and results with that of the positive thinkers and decided to chang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Positive thinking made intuitive sense and the short sayings had a "ring of truth" to them.</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The system was skillfully presented.</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The system was simple and easy to apply.</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Initial success was swift and this reinforced the effort required to change their belief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ingdom Application</a:t>
            </a:r>
            <a:endParaRPr b="0" lang="en-US" sz="4400" spc="-1" strike="noStrike">
              <a:solidFill>
                <a:srgbClr val="333399"/>
              </a:solidFill>
              <a:latin typeface="Tahoma"/>
            </a:endParaRPr>
          </a:p>
        </p:txBody>
      </p:sp>
      <p:sp>
        <p:nvSpPr>
          <p:cNvPr id="15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alesmen can diligently work on their belief system in order to sell insurance then surely we can work on our belief system in order to grow in the Kingdom and become mature in Chris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target is more than just being happy, positive and motiva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goal is to have a sanctified and transformational set of beliefs that give us the emotions that make us whole Christians and empower service in the Kingdom.</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 Steps To Changed Beliefs</a:t>
            </a:r>
            <a:endParaRPr b="0" lang="en-US" sz="4400" spc="-1" strike="noStrike">
              <a:solidFill>
                <a:srgbClr val="333399"/>
              </a:solidFill>
              <a:latin typeface="Tahoma"/>
            </a:endParaRPr>
          </a:p>
        </p:txBody>
      </p:sp>
      <p:sp>
        <p:nvSpPr>
          <p:cNvPr id="155" name="PlaceHolder 2"/>
          <p:cNvSpPr>
            <a:spLocks noGrp="1"/>
          </p:cNvSpPr>
          <p:nvPr>
            <p:ph/>
          </p:nvPr>
        </p:nvSpPr>
        <p:spPr>
          <a:xfrm>
            <a:off x="304560" y="2133360"/>
            <a:ext cx="8305560" cy="434340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t>
            </a:r>
            <a:r>
              <a:rPr b="0" lang="en-US" sz="1800" spc="-1" strike="noStrike">
                <a:solidFill>
                  <a:srgbClr val="000000"/>
                </a:solidFill>
                <a:latin typeface="Tahoma"/>
              </a:rPr>
              <a:t>We enter into a situation where we do not function as well as we would like emotionally.</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We reflect and ask : "What beliefs are underlying these undesirable emotion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We probe further and ask: Are these beliefs true and biblical and in accord with the fact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We construct new better, more factual and more biblical beliefs about that situation.</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e reinforce those beliefs to ourselve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We then re-enter the situation and test our new beliefs to see if they help us function better.</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We look at the results scientifically and objectively and decide whether to keep the new beliefs, modify the new beliefs or to stick with the old belief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ozen In Fear</a:t>
            </a:r>
            <a:endParaRPr b="0" lang="en-US" sz="4400" spc="-1" strike="noStrike">
              <a:solidFill>
                <a:srgbClr val="333399"/>
              </a:solidFill>
              <a:latin typeface="Tahoma"/>
            </a:endParaRPr>
          </a:p>
        </p:txBody>
      </p:sp>
      <p:sp>
        <p:nvSpPr>
          <p:cNvPr id="15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beliefs can give rise to strong negative emotions such as fear, doubt and hesitancy. </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emotions can hinder or even paralyze our ability to obey God.</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th is supposed to be expressed in works which are to be done in lov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rrect  inner beliefs can make us freeze up, not do the works, and shrink from expressing love.</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Belief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3526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beliefs are our idea about what is true or untrue, possible or impossible, plausible or implausible.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ontain our conclusions about life and beliefs about God, others, and ourselves.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like perspectives, beliefs can generally be compressed into a single sentence such as “I believe that Jesus is God” or “I think I am totally unlov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d Works – Good Beliefs</a:t>
            </a:r>
            <a:endParaRPr b="0" lang="en-US" sz="4400" spc="-1" strike="noStrike">
              <a:solidFill>
                <a:srgbClr val="333399"/>
              </a:solidFill>
              <a:latin typeface="Tahoma"/>
            </a:endParaRPr>
          </a:p>
        </p:txBody>
      </p:sp>
      <p:sp>
        <p:nvSpPr>
          <p:cNvPr id="15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guide to us as to whether or not our faith is truly alive, saving, living and producti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indicate to the world which beliefs we hold that are strong enough for us to live by and act 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rks are a reliable guide to what we truly believe in our heart. In a sense our works are our true doctrin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works are the outworking of those beliefs, which we are prepared to act on, live by and stand for in daily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aul is very definite that we are not saved by works of the law. But he is also very definite that faith working through love (Galatians 5:6) should result in good works that God has prepared beforehand for us to do. (Ephesians 2:8-10).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Conflict</a:t>
            </a:r>
            <a:endParaRPr b="0" lang="en-US" sz="4400" spc="-1" strike="noStrike">
              <a:solidFill>
                <a:srgbClr val="333399"/>
              </a:solidFill>
              <a:latin typeface="Tahoma"/>
            </a:endParaRPr>
          </a:p>
        </p:txBody>
      </p:sp>
      <p:sp>
        <p:nvSpPr>
          <p:cNvPr id="161"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ner conflict can stop us doing the good that we want to d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conflict can be due to conflicting thoughts and intentions in the he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serve God vs. I must please my par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be pure vs. I want to be sex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ill go to seminary vs. I will never be po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want to forgive  vs.  I want justi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 childhood vows can even affect present actio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The Heart Works</a:t>
            </a:r>
            <a:endParaRPr b="0" lang="en-US" sz="4400" spc="-1" strike="noStrike">
              <a:solidFill>
                <a:srgbClr val="333399"/>
              </a:solidFill>
              <a:latin typeface="Tahoma"/>
            </a:endParaRPr>
          </a:p>
        </p:txBody>
      </p:sp>
      <p:sp>
        <p:nvSpPr>
          <p:cNvPr id="163" name="PlaceHolder 2"/>
          <p:cNvSpPr>
            <a:spLocks noGrp="1"/>
          </p:cNvSpPr>
          <p:nvPr>
            <p:ph/>
          </p:nvPr>
        </p:nvSpPr>
        <p:spPr>
          <a:xfrm>
            <a:off x="533520" y="22096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runs by “event time”. “After I grow up, then I will get married” . </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is binary – on/off,  and issues are either resolved or unresolved.</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often needs a signal to tell it that an issue is now resolved or no longer current. Issues remain “on” until they are switched “off”.</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little distinction between internal events and external events. A realistic fantasy can be “as real” as an event.</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eart works by associations and similarities. If something is “like A” it may elicit the same response/fear as “A”.</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Examples</a:t>
            </a:r>
            <a:endParaRPr b="0" lang="en-US" sz="4400" spc="-1" strike="noStrike">
              <a:solidFill>
                <a:srgbClr val="333399"/>
              </a:solidFill>
              <a:latin typeface="Tahoma"/>
            </a:endParaRPr>
          </a:p>
        </p:txBody>
      </p:sp>
      <p:sp>
        <p:nvSpPr>
          <p:cNvPr id="165" name="PlaceHolder 2"/>
          <p:cNvSpPr>
            <a:spLocks noGrp="1"/>
          </p:cNvSpPr>
          <p:nvPr>
            <p:ph/>
          </p:nvPr>
        </p:nvSpPr>
        <p:spPr>
          <a:xfrm>
            <a:off x="609480" y="2133360"/>
            <a:ext cx="7772400" cy="2971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ld embarrassing memory is “just as fresh” now as it was twenty years ago. (Unresolved memor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who “cannot relax” often over-use words like “always” e.g. “I must always study hard” rather than “I must start hard until the exams are over than I can relax”. (Needs to be “switched off”)</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person vaguely similar to your old headmaster can still scare you. (Associ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nightmare can have physical symptoms just like a real event. (Fantasy can be as real as realit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Inner Vows</a:t>
            </a:r>
            <a:endParaRPr b="0" lang="en-US" sz="4400" spc="-1" strike="noStrike">
              <a:solidFill>
                <a:srgbClr val="333399"/>
              </a:solidFill>
              <a:latin typeface="Tahoma"/>
            </a:endParaRPr>
          </a:p>
        </p:txBody>
      </p:sp>
      <p:sp>
        <p:nvSpPr>
          <p:cNvPr id="167" name="PlaceHolder 2"/>
          <p:cNvSpPr>
            <a:spLocks noGrp="1"/>
          </p:cNvSpPr>
          <p:nvPr>
            <p:ph/>
          </p:nvPr>
        </p:nvSpPr>
        <p:spPr>
          <a:xfrm>
            <a:off x="457200" y="2133720"/>
            <a:ext cx="7772400" cy="32004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ner heart vow, couched in absolute terms, such as “I will never let myself be hurt again” or “I will never be poor” can have amazing power.</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will remain current until they are “switched off”.</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can lead us into conflict with God’s will.</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vows often need to be altered or renounced. (On paper, with prayer)</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blo</a:t>
            </a:r>
            <a:endParaRPr b="0" lang="en-US" sz="4400" spc="-1" strike="noStrike">
              <a:solidFill>
                <a:srgbClr val="333399"/>
              </a:solidFill>
              <a:latin typeface="Tahoma"/>
            </a:endParaRPr>
          </a:p>
        </p:txBody>
      </p:sp>
      <p:sp>
        <p:nvSpPr>
          <p:cNvPr id="16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blo the programmer has a very high IQ.</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failed first year university due to personal problem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made an inner vow “I must never fail agai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he has always played safe and been employed in dull government jobs that are well below his ability leve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only uses his ability around friends in contexts where he cannot fai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cannot be convinced to complete his degree or aim for higher thing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s vow has caused him to live well below his potentia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oking Vows</a:t>
            </a:r>
            <a:endParaRPr b="0" lang="en-US" sz="4400" spc="-1" strike="noStrike">
              <a:solidFill>
                <a:srgbClr val="333399"/>
              </a:solidFill>
              <a:latin typeface="Tahoma"/>
            </a:endParaRPr>
          </a:p>
        </p:txBody>
      </p:sp>
      <p:sp>
        <p:nvSpPr>
          <p:cNvPr id="171"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oke Personal Vows:</a:t>
            </a:r>
            <a:r>
              <a:rPr b="0" lang="en-US" sz="2400" spc="-1" strike="noStrike">
                <a:solidFill>
                  <a:srgbClr val="000000"/>
                </a:solidFill>
                <a:latin typeface="Tahoma"/>
              </a:rPr>
              <a:t> Revoke old vows that are now contrary to the will of God. Your promises to yourself are not as important as Christian obedience. Even do something as formal as writing the old vow on a piece of paper and writing "revoked" across it and then burning the piece of paper. Sometimes you may have to revoke a foolish vow you made to God in which case you should tell Him the reason you are revoking it and ask His forgiveness. It is for good reason that oaths and vows are banned in the New Testament (Matthew 5:33-37, James 5:12).</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ver Say Never…</a:t>
            </a:r>
            <a:endParaRPr b="0" lang="en-US" sz="4400" spc="-1" strike="noStrike">
              <a:solidFill>
                <a:srgbClr val="333399"/>
              </a:solidFill>
              <a:latin typeface="Tahoma"/>
            </a:endParaRPr>
          </a:p>
        </p:txBody>
      </p:sp>
      <p:sp>
        <p:nvSpPr>
          <p:cNvPr id="17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hange Absolute Language</a:t>
            </a:r>
            <a:r>
              <a:rPr b="1" lang="en-US" sz="1800" spc="-1" strike="noStrike">
                <a:solidFill>
                  <a:srgbClr val="333399"/>
                </a:solidFill>
                <a:latin typeface="Tahoma"/>
              </a:rPr>
              <a:t>:</a:t>
            </a:r>
            <a:r>
              <a:rPr b="0" lang="en-US" sz="1800" spc="-1" strike="noStrike">
                <a:solidFill>
                  <a:srgbClr val="000000"/>
                </a:solidFill>
                <a:latin typeface="Tahoma"/>
              </a:rPr>
              <a:t> If you say to yourself "I have always got to.." then its like fixing a mental switch in the "always on" position. You have told your mind that you have always got to do X and it will receive and record that instruction as a permanent injunction, a law of the Medes and Persians.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mind is fairly literal:</a:t>
            </a:r>
            <a:r>
              <a:rPr b="0" lang="en-US" sz="1800" spc="-1" strike="noStrike">
                <a:solidFill>
                  <a:srgbClr val="000000"/>
                </a:solidFill>
                <a:latin typeface="Tahoma"/>
              </a:rPr>
              <a:t> It will take always to mean always and never to mean never. Words like "always", "never" "have to", "go to", "perfect" and "100%" jam our mental switches in the "on" position. </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th enough absolutes we feel stuck, anxious and stressed</a:t>
            </a:r>
            <a:r>
              <a:rPr b="0" lang="en-US" sz="1800" spc="-1" strike="noStrike">
                <a:solidFill>
                  <a:srgbClr val="000000"/>
                </a:solidFill>
                <a:latin typeface="Tahoma"/>
              </a:rPr>
              <a:t> as we receive multiple simultaneous urgent instructions that we have programmed into ourselves. . It is much better to give yourself an "out" by using language like "generally I should" and reserving the absolute language for situations that are truly absolut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king Yourself Ill</a:t>
            </a:r>
            <a:endParaRPr b="0" lang="en-US" sz="4400" spc="-1" strike="noStrike">
              <a:solidFill>
                <a:srgbClr val="333399"/>
              </a:solidFill>
              <a:latin typeface="Tahoma"/>
            </a:endParaRPr>
          </a:p>
        </p:txBody>
      </p:sp>
      <p:sp>
        <p:nvSpPr>
          <p:cNvPr id="17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oid Psychosomatic Language:</a:t>
            </a:r>
            <a:r>
              <a:rPr b="0" lang="en-US" sz="2000" spc="-1" strike="noStrike">
                <a:solidFill>
                  <a:srgbClr val="000000"/>
                </a:solidFill>
                <a:latin typeface="Tahoma"/>
              </a:rPr>
              <a:t> The repeated and emphatic-use of the language and metaphors of illness can sometimes make us ill.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instance men who often tell themselves that their wife is a "pain in the neck" tend to suffer from - you guessed it - a pain in the neck - and people who "can't stand it any more" get knee trou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termed psychosomatic language, somatic metaphors or "conversion" depending on your school of thought and was first noted by Sigmund Freu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extreme cases repeated self-talk such as "If that happened I would die.." can become like an internal vow.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nts – Games &amp; Life Scripts</a:t>
            </a:r>
            <a:endParaRPr b="0" lang="en-US" sz="4400" spc="-1" strike="noStrike">
              <a:solidFill>
                <a:srgbClr val="333399"/>
              </a:solidFill>
              <a:latin typeface="Tahoma"/>
            </a:endParaRPr>
          </a:p>
        </p:txBody>
      </p:sp>
      <p:sp>
        <p:nvSpPr>
          <p:cNvPr id="17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ic Berne’s best-seller “Games People Play” and transactional analysis explore the area of the intents of the hear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play often quite complex “games” with others to get a “payoff”.</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games are life-long and become “life-scrip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ywrights and novelists are keen observers of these games.</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oughts &amp; Intents</a:t>
            </a:r>
            <a:endParaRPr b="0" lang="en-US" sz="4400" spc="-1" strike="noStrike">
              <a:solidFill>
                <a:srgbClr val="333399"/>
              </a:solidFill>
              <a:latin typeface="Tahoma"/>
            </a:endParaRPr>
          </a:p>
        </p:txBody>
      </p:sp>
      <p:sp>
        <p:nvSpPr>
          <p:cNvPr id="107" name="PlaceHolder 2"/>
          <p:cNvSpPr>
            <a:spLocks noGrp="1"/>
          </p:cNvSpPr>
          <p:nvPr>
            <p:ph/>
          </p:nvPr>
        </p:nvSpPr>
        <p:spPr>
          <a:xfrm>
            <a:off x="533520" y="2017800"/>
            <a:ext cx="807696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ible has two categories here; </a:t>
            </a:r>
            <a:r>
              <a:rPr b="1" lang="en-US" sz="2000" spc="-1" strike="noStrike">
                <a:solidFill>
                  <a:srgbClr val="333399"/>
                </a:solidFill>
                <a:latin typeface="Tahoma"/>
              </a:rPr>
              <a:t>“thoughts’</a:t>
            </a:r>
            <a:r>
              <a:rPr b="0" lang="en-US" sz="2000" spc="-1" strike="noStrike">
                <a:solidFill>
                  <a:srgbClr val="000000"/>
                </a:solidFill>
                <a:latin typeface="Tahoma"/>
              </a:rPr>
              <a:t> which is fairly much all-embracing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a:t>
            </a:r>
            <a:r>
              <a:rPr b="1" lang="en-US" sz="2000" spc="-1" strike="noStrike">
                <a:solidFill>
                  <a:srgbClr val="333399"/>
                </a:solidFill>
                <a:latin typeface="Tahoma"/>
              </a:rPr>
              <a:t>“intentions”</a:t>
            </a:r>
            <a:r>
              <a:rPr b="0" lang="en-US" sz="2000" spc="-1" strike="noStrike">
                <a:solidFill>
                  <a:srgbClr val="000000"/>
                </a:solidFill>
                <a:latin typeface="Tahoma"/>
              </a:rPr>
              <a:t> which  are the movements of the will as we plan, vow and scheme our way through lif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icture we see in Scripture is that these thoughts and beliefs, desires, vows, and inner goals are </a:t>
            </a:r>
            <a:r>
              <a:rPr b="1" lang="en-US" sz="2000" spc="-1" strike="noStrike">
                <a:solidFill>
                  <a:srgbClr val="333399"/>
                </a:solidFill>
                <a:latin typeface="Tahoma"/>
              </a:rPr>
              <a:t>generally verbal</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wareness!</a:t>
            </a:r>
            <a:endParaRPr b="0" lang="en-US" sz="4400" spc="-1" strike="noStrike">
              <a:solidFill>
                <a:srgbClr val="333399"/>
              </a:solidFill>
              <a:latin typeface="Tahoma"/>
            </a:endParaRPr>
          </a:p>
        </p:txBody>
      </p:sp>
      <p:sp>
        <p:nvSpPr>
          <p:cNvPr id="179" name="PlaceHolder 2"/>
          <p:cNvSpPr>
            <a:spLocks noGrp="1"/>
          </p:cNvSpPr>
          <p:nvPr>
            <p:ph/>
          </p:nvPr>
        </p:nvSpPr>
        <p:spPr>
          <a:xfrm>
            <a:off x="60948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ce Up To And Become Aware Of The Intentions Of Your Heart:</a:t>
            </a:r>
            <a:r>
              <a:rPr b="0" lang="en-US" sz="2400" spc="-1" strike="noStrike">
                <a:solidFill>
                  <a:srgbClr val="000000"/>
                </a:solidFill>
                <a:latin typeface="Tahoma"/>
              </a:rPr>
              <a:t> It can be difficult for some people to admit that they are complex and full of conflicting motivations. To admit to sneaky, dishonest, crafty or manipulative intentions is not easy for Christians. Many people are completely blind to this darker side of their character. Pray and ask God to reveal the thoughts and intentions of your heart to you so that you can bring them into the light and deal with them.</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93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st Your Intentions</a:t>
            </a:r>
            <a:endParaRPr b="0" lang="en-US" sz="4400" spc="-1" strike="noStrike">
              <a:solidFill>
                <a:srgbClr val="333399"/>
              </a:solidFill>
              <a:latin typeface="Tahoma"/>
            </a:endParaRPr>
          </a:p>
        </p:txBody>
      </p:sp>
      <p:sp>
        <p:nvSpPr>
          <p:cNvPr id="181" name="PlaceHolder 2"/>
          <p:cNvSpPr>
            <a:spLocks noGrp="1"/>
          </p:cNvSpPr>
          <p:nvPr>
            <p:ph/>
          </p:nvPr>
        </p:nvSpPr>
        <p:spPr>
          <a:xfrm>
            <a:off x="533520" y="2133720"/>
            <a:ext cx="7772400" cy="39621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st The Various Conflicting Intentions:</a:t>
            </a:r>
            <a:r>
              <a:rPr b="0" lang="en-US" sz="2000" spc="-1" strike="noStrike">
                <a:solidFill>
                  <a:srgbClr val="000000"/>
                </a:solidFill>
                <a:latin typeface="Tahoma"/>
              </a:rPr>
              <a:t> This is sometimes all that is needed. For instance a teenager may find that he has two intentions:</a:t>
            </a:r>
            <a:br>
              <a:rPr sz="2000"/>
            </a:br>
            <a:r>
              <a:rPr b="0" lang="en-US" sz="2000" spc="-1" strike="noStrike">
                <a:solidFill>
                  <a:srgbClr val="000000"/>
                </a:solidFill>
                <a:latin typeface="Tahoma"/>
              </a:rPr>
              <a:t> 1. To be on fire for God and a powerful witness for Jesus .</a:t>
            </a:r>
            <a:br>
              <a:rPr sz="2000"/>
            </a:br>
            <a:r>
              <a:rPr b="0" lang="en-US" sz="2000" spc="-1" strike="noStrike">
                <a:solidFill>
                  <a:srgbClr val="000000"/>
                </a:solidFill>
                <a:latin typeface="Tahoma"/>
              </a:rPr>
              <a:t>2. To still be popular with the cool, tough, non-Christians he knows. </a:t>
            </a:r>
            <a:br>
              <a:rPr sz="2000"/>
            </a:br>
            <a:r>
              <a:rPr b="0" lang="en-US" sz="2000" spc="-1" strike="noStrike">
                <a:solidFill>
                  <a:srgbClr val="000000"/>
                </a:solidFill>
                <a:latin typeface="Tahoma"/>
              </a:rPr>
              <a:t>He can then work out what to do and resolve the tension. Perhaps he needs to accept that following Christ has a cost at times. Simply listing the various intentions of our heart then judging them biblically may be enough to resolve the dilemm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il Intentions</a:t>
            </a:r>
            <a:endParaRPr b="0" lang="en-US" sz="4400" spc="-1" strike="noStrike">
              <a:solidFill>
                <a:srgbClr val="333399"/>
              </a:solidFill>
              <a:latin typeface="Tahoma"/>
            </a:endParaRPr>
          </a:p>
        </p:txBody>
      </p:sp>
      <p:sp>
        <p:nvSpPr>
          <p:cNvPr id="183"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Confess Them to God:</a:t>
            </a:r>
            <a:r>
              <a:rPr b="0" lang="en-US" sz="1800" spc="-1" strike="noStrike">
                <a:solidFill>
                  <a:srgbClr val="000000"/>
                </a:solidFill>
                <a:latin typeface="Tahoma"/>
              </a:rPr>
              <a:t> Confess your wrong motives and intentions to God and ask His forgiveness and cleansing.</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ke No Provision For Evil Intentions:</a:t>
            </a:r>
            <a:r>
              <a:rPr b="0" lang="en-US" sz="1800" spc="-1" strike="noStrike">
                <a:solidFill>
                  <a:srgbClr val="000000"/>
                </a:solidFill>
                <a:latin typeface="Tahoma"/>
              </a:rPr>
              <a:t> Do not give yourself the means of carrying out your wrong intentions. Deny them what they need if they are to be implemented. If your wrong intention in your heart is murder - don't buy a gun. If the wrong intention in your heart is adultery - don't rent a hotel room. If the wrong intention is stealing from the church offering, make sure someone is with you when you count the money. This principle is what helped Augustine give up his loose living and become a Christian..</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omans 13:12-14 NASB) The night is almost gone, and the day is at hand. Let us therefore lay aside the deeds of darkness and put on the armor of light. {13} Let us behave properly as in the day, not in carousing and drunkenness, not in sexual promiscuity and sensuality, not in strife and jealousy. {14} But put on the Lord Jesus Christ, and make no provision for the flesh in regard to its lusts.</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Resistance</a:t>
            </a:r>
            <a:endParaRPr b="0" lang="en-US" sz="4400" spc="-1" strike="noStrike">
              <a:solidFill>
                <a:srgbClr val="333399"/>
              </a:solidFill>
              <a:latin typeface="Tahoma"/>
            </a:endParaRPr>
          </a:p>
        </p:txBody>
      </p:sp>
      <p:sp>
        <p:nvSpPr>
          <p:cNvPr id="18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externalizing our beliefs and intentions we sometimes can get a handle on them</a:t>
            </a:r>
            <a:r>
              <a:rPr b="0" lang="en-US" sz="2400" spc="-1" strike="noStrike">
                <a:solidFill>
                  <a:srgbClr val="000000"/>
                </a:solidFill>
                <a:latin typeface="Tahoma"/>
              </a:rPr>
              <a:t> and deal with them. This is often the real benefit of those management exercises such as setting priorities and doing mission statements. On a personal level if you start setting goals and priorities and coming up with a personal mission statement you will often run into </a:t>
            </a:r>
            <a:r>
              <a:rPr b="1" lang="en-US" sz="2400" spc="-1" strike="noStrike">
                <a:solidFill>
                  <a:srgbClr val="000000"/>
                </a:solidFill>
                <a:latin typeface="Tahoma"/>
              </a:rPr>
              <a:t>awkward uncomfortable feelings of resistance</a:t>
            </a:r>
            <a:r>
              <a:rPr b="0" lang="en-US" sz="2400" spc="-1" strike="noStrike">
                <a:solidFill>
                  <a:srgbClr val="000000"/>
                </a:solidFill>
                <a:latin typeface="Tahoma"/>
              </a:rPr>
              <a:t>. When you do get them try and identify them, and </a:t>
            </a:r>
            <a:r>
              <a:rPr b="1" lang="en-US" sz="2400" spc="-1" strike="noStrike">
                <a:solidFill>
                  <a:srgbClr val="000000"/>
                </a:solidFill>
                <a:latin typeface="Tahoma"/>
              </a:rPr>
              <a:t>write the feelings of resistance beside the goal or priority.</a:t>
            </a:r>
            <a:r>
              <a:rPr b="0" lang="en-US" sz="2400" spc="-1" strike="noStrike">
                <a:solidFill>
                  <a:srgbClr val="000000"/>
                </a:solidFill>
                <a:latin typeface="Tahoma"/>
              </a:rPr>
              <a:t> Bring the conflict to the surface and into the open.</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e Event Time When Planning</a:t>
            </a:r>
            <a:endParaRPr b="0" lang="en-US" sz="4400" spc="-1" strike="noStrike">
              <a:solidFill>
                <a:srgbClr val="333399"/>
              </a:solidFill>
              <a:latin typeface="Tahoma"/>
            </a:endParaRPr>
          </a:p>
        </p:txBody>
      </p:sp>
      <p:sp>
        <p:nvSpPr>
          <p:cNvPr id="187" name="PlaceHolder 2"/>
          <p:cNvSpPr>
            <a:spLocks noGrp="1"/>
          </p:cNvSpPr>
          <p:nvPr>
            <p:ph/>
          </p:nvPr>
        </p:nvSpPr>
        <p:spPr>
          <a:xfrm>
            <a:off x="457200" y="22096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itize and Schedule Good Intentions Using Event Time:</a:t>
            </a:r>
            <a:r>
              <a:rPr b="0" lang="en-US" sz="1800" spc="-1" strike="noStrike">
                <a:solidFill>
                  <a:srgbClr val="000000"/>
                </a:solidFill>
                <a:latin typeface="Tahoma"/>
              </a:rPr>
              <a:t> Sometimes the inner paralysis comes from a whole host of good intentions all wanting </a:t>
            </a:r>
            <a:r>
              <a:rPr b="1" i="1" lang="en-US" sz="1800" spc="-1" strike="noStrike">
                <a:solidFill>
                  <a:srgbClr val="000000"/>
                </a:solidFill>
                <a:latin typeface="Tahoma"/>
              </a:rPr>
              <a:t>urgent attention at once</a:t>
            </a:r>
            <a:r>
              <a:rPr b="0" lang="en-US" sz="1800" spc="-1" strike="noStrike">
                <a:solidFill>
                  <a:srgbClr val="000000"/>
                </a:solidFill>
                <a:latin typeface="Tahoma"/>
              </a:rPr>
              <a:t>. All having their "ON" lights flashing so to speak. . The resulting overload, confusion and stress can be stop us getting much done at all. Use the event time of the subconscious to prioritize them. First I will do A, then, after that's done I'll pay attention to B, then when that's completed to C and D. Jesus gives nearly all His instructions in event time "after you have" "when they" "wait in Jerusalem until" etc. This is the most peaceful and relaxing way to do things. So when you are clogged up mentally with a whole lot of competing good intentions in your heart write them all down on a sheet of paper and then group them first these, then after those then these here etc. Though the tasks are not done yet the issue of their urgency is resolved in terms your sub-conscious mind can understand and you will feel more at pea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sitive, Specific, &amp; Concrete</a:t>
            </a:r>
            <a:endParaRPr b="0" lang="en-US" sz="4400" spc="-1" strike="noStrike">
              <a:solidFill>
                <a:srgbClr val="333399"/>
              </a:solidFill>
              <a:latin typeface="Tahoma"/>
            </a:endParaRPr>
          </a:p>
        </p:txBody>
      </p:sp>
      <p:sp>
        <p:nvSpPr>
          <p:cNvPr id="189" name="PlaceHolder 2"/>
          <p:cNvSpPr>
            <a:spLocks noGrp="1"/>
          </p:cNvSpPr>
          <p:nvPr>
            <p:ph/>
          </p:nvPr>
        </p:nvSpPr>
        <p:spPr>
          <a:xfrm>
            <a:off x="533160" y="2133720"/>
            <a:ext cx="8381880" cy="449568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1600" spc="-1" strike="noStrike">
                <a:solidFill>
                  <a:srgbClr val="000000"/>
                </a:solidFill>
                <a:latin typeface="Tahoma"/>
              </a:rPr>
              <a:t>Frame Thoughts and Intentions Concretely And Positively:</a:t>
            </a:r>
            <a:r>
              <a:rPr b="0" lang="en-US" sz="1600" spc="-1" strike="noStrike">
                <a:solidFill>
                  <a:srgbClr val="000000"/>
                </a:solidFill>
                <a:latin typeface="Tahoma"/>
              </a:rPr>
              <a:t> When you rework your thoughts and intentions it helps if they develop into a </a:t>
            </a:r>
            <a:r>
              <a:rPr b="1" i="1" lang="en-US" sz="1600" spc="-1" strike="noStrike">
                <a:solidFill>
                  <a:srgbClr val="000000"/>
                </a:solidFill>
                <a:latin typeface="Tahoma"/>
              </a:rPr>
              <a:t>concrete specific picture of a positive desirable future.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 instance a struggling student should frame the goal “I will pass in Mathematics” rather than “I will not fail in Mathematic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n we see the biblical healing commands they are </a:t>
            </a:r>
            <a:r>
              <a:rPr b="1" i="1" lang="en-US" sz="1600" spc="-1" strike="noStrike">
                <a:solidFill>
                  <a:srgbClr val="000000"/>
                </a:solidFill>
                <a:latin typeface="Tahoma"/>
              </a:rPr>
              <a:t>faith-filled, positive and have the desired end state in view.</a:t>
            </a:r>
            <a:r>
              <a:rPr b="0" lang="en-US" sz="1600" spc="-1" strike="noStrike">
                <a:solidFill>
                  <a:srgbClr val="000000"/>
                </a:solidFill>
                <a:latin typeface="Tahoma"/>
              </a:rPr>
              <a:t> Jesus did not say to the lepers “Leprosy be rebuked” instead He said “Be clean” and Peter and John did not say to the lame man “Lameness be gone” instead it was “Rise up and walk”.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need to be solution-focused not problem focused. </a:t>
            </a:r>
            <a:r>
              <a:rPr b="1" i="1" lang="en-US" sz="1600" spc="-1" strike="noStrike">
                <a:solidFill>
                  <a:srgbClr val="000000"/>
                </a:solidFill>
                <a:latin typeface="Tahoma"/>
              </a:rPr>
              <a:t>The positive end result is what is to be put before the eyes of our hear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se positive end results in Scripture are also expressed in concrete terms. This seems to work better. “They will beat their swords into ploughshares” has more power in our being than “weapons will be recycled into agricultural implements”. </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do not know precisely why but when we state our goals and beliefs in concrete, positive, picture terms we seem to lay hold of them much more effectively.</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usibility Structures</a:t>
            </a:r>
            <a:endParaRPr b="0" lang="en-US" sz="4400" spc="-1" strike="noStrike">
              <a:solidFill>
                <a:srgbClr val="333399"/>
              </a:solidFill>
              <a:latin typeface="Tahoma"/>
            </a:endParaRPr>
          </a:p>
        </p:txBody>
      </p:sp>
      <p:sp>
        <p:nvSpPr>
          <p:cNvPr id="191" name="PlaceHolder 2"/>
          <p:cNvSpPr>
            <a:spLocks noGrp="1"/>
          </p:cNvSpPr>
          <p:nvPr>
            <p:ph/>
          </p:nvPr>
        </p:nvSpPr>
        <p:spPr>
          <a:xfrm>
            <a:off x="533160" y="2133360"/>
            <a:ext cx="8305560" cy="43434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Constantly Review Your “Plausibility Structures”:</a:t>
            </a:r>
            <a:r>
              <a:rPr b="0" lang="en-US" sz="2000" spc="-1" strike="noStrike">
                <a:solidFill>
                  <a:srgbClr val="000000"/>
                </a:solidFill>
                <a:latin typeface="Tahoma"/>
              </a:rPr>
              <a:t> We have limits to what we believe is possible and impossible, probable and improbable, plausible and implausible. The anthropologist Peter Berger calls these our “plausibility structures” and says they vary greatly from culture to cultur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hristians need to reworking their idea of limits </a:t>
            </a:r>
            <a:r>
              <a:rPr b="1" i="1" lang="en-US" sz="2000" spc="-1" strike="noStrike">
                <a:solidFill>
                  <a:srgbClr val="000000"/>
                </a:solidFill>
                <a:latin typeface="Tahoma"/>
              </a:rPr>
              <a:t>so that they line up with Scriptures view of what is possible and impossible, plausible and implausible.</a:t>
            </a:r>
            <a:r>
              <a:rPr b="0" lang="en-US" sz="2000" spc="-1" strike="noStrike">
                <a:solidFill>
                  <a:srgbClr val="000000"/>
                </a:solidFill>
                <a:latin typeface="Tahoma"/>
              </a:rPr>
              <a:t> Jesus says nine times in the gospels “nothing is impossible with God” or “all things are possible with God”. His life and miracles reflect His commitment to this belief.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imits we place on our life are often really limits we have placed on God through having plausibility structures inherited from the world rather than from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br>
              <a:rPr sz="1600"/>
            </a:br>
            <a:endParaRPr b="0" lang="en-US" sz="16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dissolv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ner Talk</a:t>
            </a:r>
            <a:endParaRPr b="0" lang="en-US" sz="4400" spc="-1" strike="noStrike">
              <a:solidFill>
                <a:srgbClr val="333399"/>
              </a:solidFill>
              <a:latin typeface="Tahoma"/>
            </a:endParaRPr>
          </a:p>
        </p:txBody>
      </p:sp>
      <p:sp>
        <p:nvSpPr>
          <p:cNvPr id="10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hought or intent can be summed up in a </a:t>
            </a:r>
            <a:r>
              <a:rPr b="1" lang="en-US" sz="2000" spc="-1" strike="noStrike">
                <a:solidFill>
                  <a:srgbClr val="333399"/>
                </a:solidFill>
                <a:latin typeface="Tahoma"/>
              </a:rPr>
              <a:t>single senten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prophets cry out “I know what you are thinking in your hearts it is X”  it is always a statement, a sentence that encapsulates the heart attitu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ner talk then becomes part of an inner story that the person is weaving about their lif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framework of thoughts, intents and inner stories forms a major part of the person’s belief syst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Unrenewed Belief System</a:t>
            </a:r>
            <a:endParaRPr b="0" lang="en-US" sz="4400" spc="-1" strike="noStrike">
              <a:solidFill>
                <a:srgbClr val="333399"/>
              </a:solidFill>
              <a:latin typeface="Tahoma"/>
            </a:endParaRPr>
          </a:p>
        </p:txBody>
      </p:sp>
      <p:sp>
        <p:nvSpPr>
          <p:cNvPr id="111"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time we weave these sentences into a sort of a bird’s nest of a structure inside us that we call our world-view.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most people it is a horrific jumble of things they learned at school, life lessons, Grandma’s sayings, the latest media opinions and a book they once read. </a:t>
            </a:r>
            <a:endParaRPr b="0" lang="en-US" sz="24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nternal belief structure is more or less functional and gets people by for the seventy or so years they are on this earth. However for some people it can go horribly wrong and cause them a great deal of confusion and emotional pain.</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Heart Is Not A Pretty Place</a:t>
            </a:r>
            <a:endParaRPr b="0" lang="en-US" sz="4000" spc="-1" strike="noStrike">
              <a:solidFill>
                <a:srgbClr val="333399"/>
              </a:solidFill>
              <a:latin typeface="Tahoma"/>
            </a:endParaRPr>
          </a:p>
        </p:txBody>
      </p:sp>
      <p:sp>
        <p:nvSpPr>
          <p:cNvPr id="113" name="PlaceHolder 2"/>
          <p:cNvSpPr>
            <a:spLocks noGrp="1"/>
          </p:cNvSpPr>
          <p:nvPr>
            <p:ph/>
          </p:nvPr>
        </p:nvSpPr>
        <p:spPr>
          <a:xfrm>
            <a:off x="457200" y="22096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sis 8:21 NKJV) …Then the LORD said in His heart, "I will never again curse the ground for man's sake, </a:t>
            </a:r>
            <a:r>
              <a:rPr b="1" lang="en-US" sz="2000" spc="-1" strike="noStrike">
                <a:solidFill>
                  <a:srgbClr val="333399"/>
                </a:solidFill>
                <a:latin typeface="Tahoma"/>
              </a:rPr>
              <a:t>although the imagination of man's heart is evil from his youth;</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eremiah 17:9 NKJV)  "The heart is </a:t>
            </a:r>
            <a:r>
              <a:rPr b="1" lang="en-US" sz="2000" spc="-1" strike="noStrike">
                <a:solidFill>
                  <a:srgbClr val="333399"/>
                </a:solidFill>
                <a:latin typeface="Tahoma"/>
              </a:rPr>
              <a:t>deceitful above all things, And desperately wicked</a:t>
            </a:r>
            <a:r>
              <a:rPr b="0" lang="en-US" sz="2000" spc="-1" strike="noStrike">
                <a:solidFill>
                  <a:srgbClr val="333399"/>
                </a:solidFill>
                <a:latin typeface="Tahoma"/>
              </a:rPr>
              <a:t>;</a:t>
            </a:r>
            <a:r>
              <a:rPr b="0" lang="en-US" sz="2000" spc="-1" strike="noStrike">
                <a:solidFill>
                  <a:srgbClr val="000000"/>
                </a:solidFill>
                <a:latin typeface="Tahoma"/>
              </a:rPr>
              <a:t> Who can know 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lesiastes 9:3 NKJV)  This is an evil in all that is done under the sun: that one thing happens to all. </a:t>
            </a:r>
            <a:r>
              <a:rPr b="1" lang="en-US" sz="2000" spc="-1" strike="noStrike">
                <a:solidFill>
                  <a:srgbClr val="333399"/>
                </a:solidFill>
                <a:latin typeface="Tahoma"/>
              </a:rPr>
              <a:t>Truly the hearts of the sons of men are full of evil; madness is in their hearts while they live</a:t>
            </a:r>
            <a:r>
              <a:rPr b="0" lang="en-US" sz="2000" spc="-1" strike="noStrike">
                <a:solidFill>
                  <a:srgbClr val="333399"/>
                </a:solidFill>
                <a:latin typeface="Tahoma"/>
              </a:rPr>
              <a:t>,</a:t>
            </a:r>
            <a:r>
              <a:rPr b="0" lang="en-US" sz="2000" spc="-1" strike="noStrike">
                <a:solidFill>
                  <a:srgbClr val="000000"/>
                </a:solidFill>
                <a:latin typeface="Tahoma"/>
              </a:rPr>
              <a:t> and after that they go to the dead.</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 7:21-23 NKJV) "</a:t>
            </a:r>
            <a:r>
              <a:rPr b="1" lang="en-US" sz="2000" spc="-1" strike="noStrike">
                <a:solidFill>
                  <a:srgbClr val="333399"/>
                </a:solidFill>
                <a:latin typeface="Tahoma"/>
              </a:rPr>
              <a:t>For from within, out of the heart of men, proceed evil thoughts</a:t>
            </a:r>
            <a:r>
              <a:rPr b="0" lang="en-US" sz="2000" spc="-1" strike="noStrike">
                <a:solidFill>
                  <a:srgbClr val="000000"/>
                </a:solidFill>
                <a:latin typeface="Tahoma"/>
              </a:rPr>
              <a:t>, adulteries, fornications, murders, {22} "thefts, covetousness, wickedness, deceit, lewdness, an evil eye, blasphemy, pride, foolishness. {23} "All these evil things come from within and defile a ma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eaning Up The Mes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more than just “healing”, we need repentance and cleans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istians have the blood of Jesus and the help of God the Holy Spirit to help them clean up the mess that is in their hear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start with some of the huge contradictions that we live with in our belief system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ithering Between Two Options</a:t>
            </a:r>
            <a:endParaRPr b="0" lang="en-US" sz="4000" spc="-1" strike="noStrike">
              <a:solidFill>
                <a:srgbClr val="333399"/>
              </a:solidFill>
              <a:latin typeface="Tahoma"/>
            </a:endParaRPr>
          </a:p>
        </p:txBody>
      </p:sp>
      <p:sp>
        <p:nvSpPr>
          <p:cNvPr id="11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is quite possible to hold conflicting beliefs or inconsistent beliefs or even two entirely different frameworks of belief.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day Christians are a prime example. At Church they seem to truly believe the Bible. At work they operate under an entirely different belief system and operate largely without reference to Go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are real belief systems for them. They choose which one to operate under depending on where they are and who they are with. </a:t>
            </a:r>
            <a:endParaRPr b="0" lang="en-US" sz="24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2:12:18Z</dcterms:created>
  <dc:creator>John Edmiston</dc:creator>
  <dc:description/>
  <dc:language>en-US</dc:language>
  <cp:lastModifiedBy>John Edmiston</cp:lastModifiedBy>
  <dcterms:modified xsi:type="dcterms:W3CDTF">2004-05-01T15:46:39Z</dcterms:modified>
  <cp:revision>39</cp:revision>
  <dc:subject/>
  <dc:title>Biblical EQ www.aibi.ph/beq/</dc:title>
</cp:coreProperties>
</file>