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056E8-CFD7-4397-A799-4182996CF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9E1C5-AA4F-408E-AE0B-467BE10C6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CF348-F217-4227-866D-95C724138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B715C-40D7-4950-A1F3-6E9C5258F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4EBB1-AA01-48D8-95CA-DE23BADB65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DF339-03A5-4789-ACE0-6ED630250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AEF11-75ED-4F84-97BC-792D5B37A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27425-9140-4721-923F-3AB6CD063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25BE5-790E-4B95-9453-42F754A19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A76E9-D621-478B-8FF4-E5C4AD22B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7C35F-1398-457F-AB0F-D3BDD619F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BBE49-F717-4930-8DFB-F492B3B7D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8C1DF-F336-43C3-AB5A-C6F9F7798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D40D8-A980-439C-8D5F-8066D428E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90F25-74AA-40D4-B5D8-CD09BE42D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C0948-8D69-4E32-856F-5CBC8AFD1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F1CBF-1FD3-45F6-BA36-E9DBB11C8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D23E1-9C90-4816-A2BB-2DD5E6072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6CCD8-2560-4BAA-B461-DD540EAFE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451A2-97B4-4058-8506-4161B592E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4602-31AC-4337-B0D2-9439BA541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725BD-22DE-4F5B-8DFD-43A6447B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612C9-CCB3-497C-9D46-D5867462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73AB-610C-4387-89D7-C6CFAA050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36C5-8C8B-4D38-8E04-2DF1A71C948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D78B-AF78-4EDC-B548-CD9B7C42A5A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br>
              <a:rPr sz="28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1219320" y="3962520"/>
            <a:ext cx="692784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7  – Emotions &amp; Our Physiology</a:t>
            </a:r>
            <a:endParaRPr b="0" lang="en-US" sz="2800" spc="-1" strike="noStrike">
              <a:solidFill>
                <a:srgbClr val="000000"/>
              </a:solidFill>
              <a:latin typeface="Tahoma"/>
            </a:endParaRPr>
          </a:p>
        </p:txBody>
      </p:sp>
      <p:pic>
        <p:nvPicPr>
          <p:cNvPr id="101" name="alive%20woman" descr=""/>
          <p:cNvPicPr/>
          <p:nvPr/>
        </p:nvPicPr>
        <p:blipFill>
          <a:blip r:embed="rId1"/>
          <a:stretch/>
        </p:blipFill>
        <p:spPr>
          <a:xfrm>
            <a:off x="556272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load</a:t>
            </a:r>
            <a:endParaRPr b="0" lang="en-US" sz="4400" spc="-1" strike="noStrike">
              <a:solidFill>
                <a:srgbClr val="333399"/>
              </a:solidFill>
              <a:latin typeface="Tahoma"/>
            </a:endParaRPr>
          </a:p>
        </p:txBody>
      </p:sp>
      <p:sp>
        <p:nvSpPr>
          <p:cNvPr id="119" name="PlaceHolder 2"/>
          <p:cNvSpPr>
            <a:spLocks noGrp="1"/>
          </p:cNvSpPr>
          <p:nvPr>
            <p:ph/>
          </p:nvPr>
        </p:nvSpPr>
        <p:spPr>
          <a:xfrm>
            <a:off x="533520" y="1980720"/>
            <a:ext cx="7772400" cy="38862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ree bicycles , a tractor and a deep ditch suddenly appear you cannot cope with them all at o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mind is overloaded and may either freeze up, or panic and make a rash choice.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only cope with “so much” before we run out of processing space and feel “clogged up” and anxiou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ing on too much or taking on things that are too complex places us under stress.</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1</a:t>
            </a:r>
            <a:endParaRPr b="0" lang="en-US" sz="4400" spc="-1" strike="noStrike">
              <a:solidFill>
                <a:srgbClr val="333399"/>
              </a:solidFill>
              <a:latin typeface="Tahoma"/>
            </a:endParaRPr>
          </a:p>
        </p:txBody>
      </p:sp>
      <p:sp>
        <p:nvSpPr>
          <p:cNvPr id="121" name="PlaceHolder 2"/>
          <p:cNvSpPr>
            <a:spLocks noGrp="1"/>
          </p:cNvSpPr>
          <p:nvPr>
            <p:ph/>
          </p:nvPr>
        </p:nvSpPr>
        <p:spPr>
          <a:xfrm>
            <a:off x="457200" y="2361960"/>
            <a:ext cx="7772400" cy="4267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ly our system fires warning bells about the overload we are experiencing and we feel stressed and anxious and uptight and tens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uncomfortable feelings are trying to tell us that we are doing too much and it would be a good idea if we slowed dow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saying “You are driving yourself too fast, back off.”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y people ignore these warning signals, they like “driving fast”, living on adrenalin and they have an image of wanting to do more than others. So they suppress the anxiety by an act of will and keep going.</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2</a:t>
            </a:r>
            <a:endParaRPr b="0" lang="en-US" sz="4400" spc="-1" strike="noStrike">
              <a:solidFill>
                <a:srgbClr val="333399"/>
              </a:solidFill>
              <a:latin typeface="Tahoma"/>
            </a:endParaRPr>
          </a:p>
        </p:txBody>
      </p:sp>
      <p:sp>
        <p:nvSpPr>
          <p:cNvPr id="123" name="PlaceHolder 2"/>
          <p:cNvSpPr>
            <a:spLocks noGrp="1"/>
          </p:cNvSpPr>
          <p:nvPr>
            <p:ph/>
          </p:nvPr>
        </p:nvSpPr>
        <p:spPr>
          <a:xfrm>
            <a:off x="228240" y="2017440"/>
            <a:ext cx="8077320" cy="43830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 stage two the person loses control of emotions and finds themselves getting angry or upset very easily. They can cry one minute and laugh the next. These sudden emotional changes are termed “emotional lability”.</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person in stage two stress breakdown also lose their ability to adjust to change and to motivate themselves to get started though once they have started they can work as hard as anyone els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ystem is beginning to crumble at this point and the person becomes subject to psychosomatic disorders as the body tries to slow the person down. These include migraines, headaches, asthma, dermatitis and hay fever. </a:t>
            </a:r>
            <a:endParaRPr b="0" lang="en-US" sz="1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immune system suffers and resistance bacteria and viruses already present in the person’s body may be able to cause disease. These include common infections such as colds and ‘flu, herpes virus infections, mouth ulcers, lobar pneumonia, boils and pimples, tonsillitis and urinary tract infection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Breakdown – Stage 3</a:t>
            </a:r>
            <a:endParaRPr b="0" lang="en-US" sz="4400" spc="-1" strike="noStrike">
              <a:solidFill>
                <a:srgbClr val="333399"/>
              </a:solidFill>
              <a:latin typeface="Tahoma"/>
            </a:endParaRPr>
          </a:p>
        </p:txBody>
      </p:sp>
      <p:sp>
        <p:nvSpPr>
          <p:cNvPr id="125" name="PlaceHolder 2"/>
          <p:cNvSpPr>
            <a:spLocks noGrp="1"/>
          </p:cNvSpPr>
          <p:nvPr>
            <p:ph/>
          </p:nvPr>
        </p:nvSpPr>
        <p:spPr>
          <a:xfrm>
            <a:off x="609480" y="2017800"/>
            <a:ext cx="7925040" cy="4114800"/>
          </a:xfrm>
          <a:prstGeom prst="rect">
            <a:avLst/>
          </a:prstGeom>
          <a:noFill/>
          <a:ln w="0">
            <a:noFill/>
          </a:ln>
        </p:spPr>
        <p:txBody>
          <a:bodyPr lIns="90000" rIns="90000" tIns="46800" bIns="46800" anchor="t">
            <a:normAutofit fontScale="98000"/>
          </a:bodyPr>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Avoidance of sensory stimulation</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Development of intolerance, and </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Apparent change in personality.</a:t>
            </a: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rain’s circuit breakers have cut in. Everything is being rapidly simplified to reduce the number of issues the person has to deal with. </a:t>
            </a: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order to </a:t>
            </a:r>
            <a:r>
              <a:rPr b="1" lang="en-US" sz="1800" spc="-1" strike="noStrike">
                <a:solidFill>
                  <a:srgbClr val="333399"/>
                </a:solidFill>
                <a:latin typeface="Tahoma"/>
              </a:rPr>
              <a:t>avoid sensory stimulation</a:t>
            </a:r>
            <a:r>
              <a:rPr b="0" lang="en-US" sz="1800" spc="-1" strike="noStrike">
                <a:solidFill>
                  <a:srgbClr val="000000"/>
                </a:solidFill>
                <a:latin typeface="Tahoma"/>
              </a:rPr>
              <a:t> the person may retreat to the countryside, separate from their partner, stop having sex, avoid loud music and stop going to shopping centres. Sounds will seem too loud, ice too cold, lights too bright. They will switch off the radio when others turn it on. They will go outside and walk around and just “space ou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olerance</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of intolerance is a mechanism for making life easy to classify, so the reticular formation can deal with the backlog. If the shades of grey and complex questions can be eliminated life becomes simple and things can be processed again.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verything can be reduced to the binary states the brain is most comfortable processing, then it can whiz through the decisions. As the decisions are made the clogged up feeling goes and some of the stress can be remov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rd stage stress breakdown people become totally intolerant of small things “If you leave your shaving hairs in the sink I will leave you”. Just a small thing, that was previously tolerated or laughed at, becomes a major drama. Things previously tolerated become unable to be tolerated in third stage stress breakdow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e In Personality</a:t>
            </a:r>
            <a:endParaRPr b="0" lang="en-US" sz="4400" spc="-1" strike="noStrike">
              <a:solidFill>
                <a:srgbClr val="333399"/>
              </a:solidFill>
              <a:latin typeface="Tahoma"/>
            </a:endParaRPr>
          </a:p>
        </p:txBody>
      </p:sp>
      <p:sp>
        <p:nvSpPr>
          <p:cNvPr id="129" name="PlaceHolder 2"/>
          <p:cNvSpPr>
            <a:spLocks noGrp="1"/>
          </p:cNvSpPr>
          <p:nvPr>
            <p:ph/>
          </p:nvPr>
        </p:nvSpPr>
        <p:spPr>
          <a:xfrm>
            <a:off x="533520" y="2057040"/>
            <a:ext cx="769608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astly the person in third stage stress breakdown may have an apparent change in personality and change their values. They may be unable to resist cult recruiters, they are easily brainwashed, they have sudden changes in beliefs and ideas and attitudes that required some will or effort to maintain are likely to be abandon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me talk of a strange feeling of peace and purity that comes with this process as everything gets radically simplified.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re is also a loss of the “law of strength”. Normally a slight tap on the knee elicits a slight movement and a large tap on the knee a large movement. The law that a small stimulus generally elicits a small response and a large stimulus a large response is known as “the law of strength” and is a sign of a normal functioning of the nervous syste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third stage stress breakdown the person ignores the electricity bill and major responsibilities while becoming preoccupied with trivia. When the electricity is cut off nobody in the house can understand why the bill was not paid. All the aspects of the personality change can be attributed to the person avoiding complexity in their lif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tting Rid Of Stress</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m I trying to do too muc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Is what I am doing too complica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Is what I am doing too urgent? Am I trying to do too many things in too short a space of ti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 what I am doing “too important”. Am I telling myself that virtually everything is importan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Language &amp; Self-Talk</a:t>
            </a:r>
            <a:endParaRPr b="0" lang="en-US" sz="4400" spc="-1" strike="noStrike">
              <a:solidFill>
                <a:srgbClr val="333399"/>
              </a:solidFill>
              <a:latin typeface="Tahoma"/>
            </a:endParaRPr>
          </a:p>
        </p:txBody>
      </p:sp>
      <p:sp>
        <p:nvSpPr>
          <p:cNvPr id="133" name="PlaceHolder 2"/>
          <p:cNvSpPr>
            <a:spLocks noGrp="1"/>
          </p:cNvSpPr>
          <p:nvPr>
            <p:ph/>
          </p:nvPr>
        </p:nvSpPr>
        <p:spPr>
          <a:xfrm>
            <a:off x="152280" y="2133720"/>
            <a:ext cx="876312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ds such as “should”, ‘must” ought” , “have to”, got to” create the feeling that the task is compulsory, urgent or importa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you have “got to” do everything and “have to” do it “right now” – you soon feel overloade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are telling your brain that EVERYTHING is important so it cannot prioritize inputs properl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iminate “should”, “must” and “have to” or use them very sparingl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ak to yourself in calm, controlled, positive , gentle term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st tasks in event order, not time order.</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deadlines create inner pressure, event order is more natural and relaxing.</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will do X after lunch” is more relaxing than “I must do X before 2 o’clock</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riving Forces – Control &amp; Ambition</a:t>
            </a:r>
            <a:endParaRPr b="0" lang="en-US" sz="3600" spc="-1" strike="noStrike">
              <a:solidFill>
                <a:srgbClr val="333399"/>
              </a:solidFill>
              <a:latin typeface="Tahoma"/>
            </a:endParaRPr>
          </a:p>
        </p:txBody>
      </p:sp>
      <p:sp>
        <p:nvSpPr>
          <p:cNvPr id="135" name="PlaceHolder 2"/>
          <p:cNvSpPr>
            <a:spLocks noGrp="1"/>
          </p:cNvSpPr>
          <p:nvPr>
            <p:ph/>
          </p:nvPr>
        </p:nvSpPr>
        <p:spPr>
          <a:xfrm>
            <a:off x="380880" y="2209320"/>
            <a:ext cx="8229600" cy="3962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people become stressed out and ill pursuing unrealistic inner drives and ambition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s strive to control everyone &amp; everything. This means they must attend to many things simultaneously - which is very stressful.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have a strong  urge to please others that makes them take on too much work.</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ying to reach an imaginary “top level” quickly can create a stressful  urgency in every ac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people imagine they are responsible for a large number of people or even “the whole world’.</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Quiet Life…</a:t>
            </a:r>
            <a:endParaRPr b="0" lang="en-US" sz="4400" spc="-1" strike="noStrike">
              <a:solidFill>
                <a:srgbClr val="333399"/>
              </a:solidFill>
              <a:latin typeface="Tahoma"/>
            </a:endParaRPr>
          </a:p>
        </p:txBody>
      </p:sp>
      <p:sp>
        <p:nvSpPr>
          <p:cNvPr id="13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ssalonians 4:11 NKJV) that you also aspire to lead a quiet life, to mind your own business, and to work with your own hands, as we commanded you,</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imothy 2:2 NKJV) (pray ) for kings and all who are in authority, that we may lead a quiet and peaceable life in all godliness and reverenc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Peter 3:4 NKJV) rather let it be the hidden person of the heart, with the incorruptible beauty of a gentle and quiet spirit, which is very precious in the sight of Go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ffect Us Physically</a:t>
            </a:r>
            <a:endParaRPr b="0" lang="en-US" sz="4400" spc="-1" strike="noStrike">
              <a:solidFill>
                <a:srgbClr val="333399"/>
              </a:solidFill>
              <a:latin typeface="Tahoma"/>
            </a:endParaRPr>
          </a:p>
        </p:txBody>
      </p:sp>
      <p:sp>
        <p:nvSpPr>
          <p:cNvPr id="103" name="PlaceHolder 2"/>
          <p:cNvSpPr>
            <a:spLocks noGrp="1"/>
          </p:cNvSpPr>
          <p:nvPr>
            <p:ph/>
          </p:nvPr>
        </p:nvSpPr>
        <p:spPr>
          <a:xfrm>
            <a:off x="533520" y="2133360"/>
            <a:ext cx="7772400" cy="34290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alms 31:9-10 NKJV) Have mercy on me, O LORD, for I am in trouble; </a:t>
            </a:r>
            <a:r>
              <a:rPr b="1" i="1" lang="en-US" sz="2400" spc="-1" strike="noStrike">
                <a:solidFill>
                  <a:srgbClr val="000000"/>
                </a:solidFill>
                <a:latin typeface="Tahoma"/>
              </a:rPr>
              <a:t>My eye wastes away with grief</a:t>
            </a:r>
            <a:r>
              <a:rPr b="0" lang="en-US" sz="2400" spc="-1" strike="noStrike">
                <a:solidFill>
                  <a:srgbClr val="000000"/>
                </a:solidFill>
                <a:latin typeface="Tahoma"/>
              </a:rPr>
              <a:t>, </a:t>
            </a:r>
            <a:r>
              <a:rPr b="1" lang="en-US" sz="2400" spc="-1" strike="noStrike">
                <a:solidFill>
                  <a:srgbClr val="333399"/>
                </a:solidFill>
                <a:latin typeface="Tahoma"/>
              </a:rPr>
              <a:t>Yes, my soul and my body!</a:t>
            </a:r>
            <a:r>
              <a:rPr b="0" lang="en-US" sz="2400" spc="-1" strike="noStrike">
                <a:solidFill>
                  <a:srgbClr val="000000"/>
                </a:solidFill>
                <a:latin typeface="Tahoma"/>
              </a:rPr>
              <a:t> {10} For my life is spent with grief, And my years with sighing; </a:t>
            </a:r>
            <a:r>
              <a:rPr b="1" i="1" lang="en-US" sz="2400" spc="-1" strike="noStrike">
                <a:solidFill>
                  <a:srgbClr val="000000"/>
                </a:solidFill>
                <a:latin typeface="Tahoma"/>
              </a:rPr>
              <a:t>My strength fails because of my iniquity, And my bones waste awa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incarnate, in the body, and our soul, spirit and body interact and communicat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ion Or Fruit?</a:t>
            </a:r>
            <a:endParaRPr b="0" lang="en-US" sz="4400" spc="-1" strike="noStrike">
              <a:solidFill>
                <a:srgbClr val="333399"/>
              </a:solidFill>
              <a:latin typeface="Tahoma"/>
            </a:endParaRPr>
          </a:p>
        </p:txBody>
      </p:sp>
      <p:sp>
        <p:nvSpPr>
          <p:cNvPr id="139"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people don’t care that much about your numerical outpu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do care about how you act and reac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do care about how you treat the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ruit falling off the tree? Are patience, kindness, and gentleness, being ditched because you are in a hurr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lowing down by 20% makes you 100% better in your relationships - then it is obviously worth i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lming Down</a:t>
            </a:r>
            <a:endParaRPr b="0" lang="en-US" sz="4400" spc="-1" strike="noStrike">
              <a:solidFill>
                <a:srgbClr val="333399"/>
              </a:solidFill>
              <a:latin typeface="Tahoma"/>
            </a:endParaRPr>
          </a:p>
        </p:txBody>
      </p:sp>
      <p:sp>
        <p:nvSpPr>
          <p:cNvPr id="141" name="PlaceHolder 2"/>
          <p:cNvSpPr>
            <a:spLocks noGrp="1"/>
          </p:cNvSpPr>
          <p:nvPr>
            <p:ph/>
          </p:nvPr>
        </p:nvSpPr>
        <p:spPr>
          <a:xfrm>
            <a:off x="837720" y="1828440"/>
            <a:ext cx="8001000" cy="4724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o-Do” list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edule tasks - then live one day at a tim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ve clear and conscious prioriti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ase making everything importa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ay some seemingly “urgent” task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egate simple jobs that take up brain-spa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tch trivial and unnecessary tasks and decision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t down on sensory overloa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ify life and keep it simp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a clear sense of order. Avoid clutte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crash diet” or expose your body to extreme physiological stres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mp; Healing….</a:t>
            </a:r>
            <a:endParaRPr b="0" lang="en-US" sz="4400" spc="-1" strike="noStrike">
              <a:solidFill>
                <a:srgbClr val="333399"/>
              </a:solidFill>
              <a:latin typeface="Tahoma"/>
            </a:endParaRPr>
          </a:p>
        </p:txBody>
      </p:sp>
      <p:sp>
        <p:nvSpPr>
          <p:cNvPr id="143" name="PlaceHolder 2"/>
          <p:cNvSpPr>
            <a:spLocks noGrp="1"/>
          </p:cNvSpPr>
          <p:nvPr>
            <p:ph/>
          </p:nvPr>
        </p:nvSpPr>
        <p:spPr>
          <a:xfrm>
            <a:off x="838080" y="1981080"/>
            <a:ext cx="7848720" cy="42674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physical heal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emotional healing</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y for deep spiritual healing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t good medical advice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heck-up</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ck your medications and their side-effect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diet that is healing and balanced rather than full of stimulants, salt, &amp; sugar.</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 pollution, allergens and unhealthy environments</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a:t>
            </a:r>
            <a:endParaRPr b="0" lang="en-US" sz="4400" spc="-1" strike="noStrike">
              <a:solidFill>
                <a:srgbClr val="333399"/>
              </a:solidFill>
              <a:latin typeface="Tahoma"/>
            </a:endParaRPr>
          </a:p>
        </p:txBody>
      </p:sp>
      <p:sp>
        <p:nvSpPr>
          <p:cNvPr id="145" name="PlaceHolder 2"/>
          <p:cNvSpPr>
            <a:spLocks noGrp="1"/>
          </p:cNvSpPr>
          <p:nvPr>
            <p:ph/>
          </p:nvPr>
        </p:nvSpPr>
        <p:spPr>
          <a:xfrm>
            <a:off x="457200" y="2057040"/>
            <a:ext cx="7772400" cy="4419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life to our mortal bodies (Romans 8:11)</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us victory over physical impulses, lusts and addictions. (Galatians 5:16-18)</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can give us wisdom in how to live peacefully and bear the fruit of the Spirit. (Galatians 5:22,23)</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and the Scriptures give us a balanced and eternal perspective on life so we are not as stressed ou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set our minds on the Spirit we will know life and peace. (Romans 8:4-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eace That Surpasses….</a:t>
            </a:r>
            <a:endParaRPr b="0" lang="en-US" sz="4400" spc="-1" strike="noStrike">
              <a:solidFill>
                <a:srgbClr val="333399"/>
              </a:solidFill>
              <a:latin typeface="Tahoma"/>
            </a:endParaRPr>
          </a:p>
        </p:txBody>
      </p:sp>
      <p:sp>
        <p:nvSpPr>
          <p:cNvPr id="147"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mans 8:5-6 NKJV) {5} For those who live according to the flesh set their minds on the things of the flesh, but those who live according to the Spirit, the things of the Spirit. {6} For to be carnally minded is death, but to be spiritually minded is life and peac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ilippians 4:6-7 NKJV)  Be anxious for nothing, but in everything by prayer and supplication, with thanksgiving, let your requests be made known to God; {7} and the peace of God, which surpasses all understanding, will guard your hearts and minds through Christ Jesu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a:rPr>
              <a:t>© Copyright, John Edmiston 2001</a:t>
            </a:r>
            <a:br>
              <a:rPr sz="1800"/>
            </a:b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ody &amp; His Emotions</a:t>
            </a:r>
            <a:endParaRPr b="0" lang="en-US" sz="4400" spc="-1" strike="noStrike">
              <a:solidFill>
                <a:srgbClr val="333399"/>
              </a:solidFill>
              <a:latin typeface="Tahoma"/>
            </a:endParaRPr>
          </a:p>
        </p:txBody>
      </p:sp>
      <p:sp>
        <p:nvSpPr>
          <p:cNvPr id="105" name="PlaceHolder 2"/>
          <p:cNvSpPr>
            <a:spLocks noGrp="1"/>
          </p:cNvSpPr>
          <p:nvPr>
            <p:ph/>
          </p:nvPr>
        </p:nvSpPr>
        <p:spPr>
          <a:xfrm>
            <a:off x="380520" y="2209680"/>
            <a:ext cx="8153640" cy="37339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nder duress Jesus wept, groaned deeply, and even sweated drops of blood. (Luke 22:44) So we see Jesus’ emotions affected His body.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is body also affected His emotions? Jesus felt His physical life just like we all do and even cried from the cross “I thirst”.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ever the physical life did not dictate His behavior or responses; even after fasting forty days in the wilderness Jesus was able to resist the temptation to turn the stones into bread.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esus was tempted in all points as we are including by emotions generated from within the human body and by the intense cravings of the flesh. Yet He was able to resist His physical desires when it would have been sinful to give in. </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the correct times He quite legitimately satisfied His physical needs with a drink of water from the well or a breakfast of fish on the beach.</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hristian’s Body</a:t>
            </a:r>
            <a:endParaRPr b="0" lang="en-US" sz="4400" spc="-1" strike="noStrike">
              <a:solidFill>
                <a:srgbClr val="333399"/>
              </a:solidFill>
              <a:latin typeface="Tahoma"/>
            </a:endParaRPr>
          </a:p>
        </p:txBody>
      </p:sp>
      <p:sp>
        <p:nvSpPr>
          <p:cNvPr id="107" name="PlaceHolder 2"/>
          <p:cNvSpPr>
            <a:spLocks noGrp="1"/>
          </p:cNvSpPr>
          <p:nvPr>
            <p:ph/>
          </p:nvPr>
        </p:nvSpPr>
        <p:spPr>
          <a:xfrm>
            <a:off x="457200" y="2133360"/>
            <a:ext cx="7772400" cy="3352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belief has it that the spirit and soul reside in a good body, which has unfortunately been tainted by the Fal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now has evil resident within it. (Romans 7)</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needs to be redeeme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st as the spirit and soul are redeemed so our body will be redeemed at the resurrection of the dea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you have now will be transformed, rise from the dead, become immortal and be glorious. ( 1 Corinthians 15)</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ody is for God and God is for the body. (1 Corinthians 6:13)</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he Body Affects Us….</a:t>
            </a:r>
            <a:endParaRPr b="0" lang="en-US" sz="4400" spc="-1" strike="noStrike">
              <a:solidFill>
                <a:srgbClr val="333399"/>
              </a:solidFill>
              <a:latin typeface="Tahoma"/>
            </a:endParaRPr>
          </a:p>
        </p:txBody>
      </p:sp>
      <p:sp>
        <p:nvSpPr>
          <p:cNvPr id="109"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nterface between the soul and the body is complex and poorly understood yet it is one of the main areas of problems in the Christian life.</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about people who have bouts of depression that are induced by the medication that keeps them aliv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the terror of a child with high fever and delirium?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the weariness of chronic arthritis or the sudden emotional swings that come to people with spinal damage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se emotions arise unbidden and unwanted from neurological damage and from chemical imbalances in the body. Yet they affect us deeply and are a large part of our spiritual struggle. </a:t>
            </a:r>
            <a:endParaRPr b="0" lang="en-US" sz="1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emotions have a physiological basis changing the underlying physical condition will often bring emotional relief.</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n Or Substance?</a:t>
            </a:r>
            <a:endParaRPr b="0" lang="en-US" sz="4400" spc="-1" strike="noStrike">
              <a:solidFill>
                <a:srgbClr val="333399"/>
              </a:solidFill>
              <a:latin typeface="Tahoma"/>
            </a:endParaRPr>
          </a:p>
        </p:txBody>
      </p:sp>
      <p:sp>
        <p:nvSpPr>
          <p:cNvPr id="11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xiety – can arise from too much caffein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ge – from alcohol, particularly rum &amp; spiri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olence &amp; Cruelty – met amphetamine addic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ression – can be a side-effect of barbiturat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llucinations – can be caused by eating the wrong mushroo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ivity – from over-use of marijuan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ust – is a side-effect of certain anti-depressa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od swings – hormones, Mysoline etc.</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amp; The Brain</a:t>
            </a:r>
            <a:endParaRPr b="0" lang="en-US" sz="4400" spc="-1" strike="noStrike">
              <a:solidFill>
                <a:srgbClr val="333399"/>
              </a:solidFill>
              <a:latin typeface="Tahoma"/>
            </a:endParaRPr>
          </a:p>
        </p:txBody>
      </p:sp>
      <p:sp>
        <p:nvSpPr>
          <p:cNvPr id="11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fight or flight” reactions tend to be based in the amygdal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control &amp; social skill seems mainly located in the higher regions of the brain such as the  pre-frontal cortex.</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non-intrusive imaging techniques are helping us locate areas of the brain associated with various emo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 damage can affect emotional control.</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ess &amp; The Brain</a:t>
            </a:r>
            <a:endParaRPr b="0" lang="en-US" sz="4400" spc="-1" strike="noStrike">
              <a:solidFill>
                <a:srgbClr val="333399"/>
              </a:solidFill>
              <a:latin typeface="Tahoma"/>
            </a:endParaRPr>
          </a:p>
        </p:txBody>
      </p:sp>
      <p:sp>
        <p:nvSpPr>
          <p:cNvPr id="11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rain is like a compute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 a computer it can clog up and “hang” when its ability to process instructions becomes overloaded.</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load comes when what we are trying to do i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much</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complex</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too urgent</a:t>
            </a:r>
            <a:endParaRPr b="0" lang="en-US" sz="24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cision about what we shall process and attend to is mainly made by the reticular formati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ive Attention</a:t>
            </a:r>
            <a:endParaRPr b="0" lang="en-US" sz="4400" spc="-1" strike="noStrike">
              <a:solidFill>
                <a:srgbClr val="333399"/>
              </a:solidFill>
              <a:latin typeface="Tahoma"/>
            </a:endParaRPr>
          </a:p>
        </p:txBody>
      </p:sp>
      <p:sp>
        <p:nvSpPr>
          <p:cNvPr id="11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y you are driving along listening to music.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suddenly a child on a bicycle swerves in front of you.</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mind moves attention from the music to the impending accident.</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witch in attention and processing is made very swiftly by the reticular formation. </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decides that the bicycle is more urgent and more important.</a:t>
            </a:r>
            <a:endParaRPr b="0" lang="en-US" sz="2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02:52:09Z</dcterms:created>
  <dc:creator>John Edmiston</dc:creator>
  <dc:description/>
  <dc:language>en-US</dc:language>
  <cp:lastModifiedBy>John Edmiston</cp:lastModifiedBy>
  <dcterms:modified xsi:type="dcterms:W3CDTF">2004-05-01T15:51:07Z</dcterms:modified>
  <cp:revision>42</cp:revision>
  <dc:subject/>
  <dc:title>Biblical EQ www.aibi.ph/beq/</dc:title>
</cp:coreProperties>
</file>